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3196-D3A4-4304-8CC6-F19FA8F5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901D-65F8-4009-B60D-3C6B28B9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E335-F5FD-4C2F-A720-59049482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3237-0BA5-45FE-A2A3-CFE76D4D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DD31-E770-481F-BFF7-E2AD71AD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7E25-09A3-473A-9D92-5A0F2D0E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45E8-1775-4891-9A92-A935B2C8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C022-6CA3-489A-B74A-75BEA09C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1F53-3B60-4902-AFE4-5361B847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046E-22AE-44EC-BA98-9D10E959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88BF-75C5-4D08-875A-B6639F21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DE23-B11F-4D44-8F69-5EB34B60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BBD8-B6A0-4E09-B355-91A6E4A3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57AA-1235-49DD-BE8F-62D9E837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C3F5-A619-4913-81E4-56246C05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08F6-6987-4934-B2FA-33DF8154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1586-AB48-490F-A5B5-ACD978AA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9A34-F9CC-4B26-B95B-F070313C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A944-08A1-4BF5-A551-48C57CE9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1EDC-D6A9-496B-9B78-43963958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8EBF-C5E4-472A-B7EB-F7767A09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058F-AEE4-4BDC-977B-B575B1F9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9D42-D910-4ABA-90B9-BC45BFF8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0868-064C-4C84-83F5-FB503954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1CD9-9E46-41EA-B605-4217F600BF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F823-655B-450D-B804-9B613233A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How DNS Misnaming Distorts Internet Topology Mapp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6840" y="42667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g Zhang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oping Ruan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BM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vek Pai, Jennifer Rexford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ving POP-level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dy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ll fishy 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IP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s most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appears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IP’s loops, report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ct location of a misnamed IP is decided by voting based on its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hang, Ruan, Pai, Rexford - USENIX 2006 AT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B96D-3EE2-476E-8C44-63071FA3B2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 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istics: 01/10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64832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4648320"/>
            <a:ext cx="60984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464832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4876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343400" y="42667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343400" y="5105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5029200"/>
            <a:ext cx="914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P1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8769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P3 x.x.x.149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 Lou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4876920"/>
            <a:ext cx="914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P2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4343400"/>
            <a:ext cx="175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P4 x.x.x.150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5438880"/>
            <a:ext cx="106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P5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733920"/>
            <a:ext cx="1218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P6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IP1, IP2, and IP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 IP4 from IP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Ps for IP4, IP2 disagr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 among interfaces on same router (IP4, IP5, and IP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hang, Ruan, Pai, Rexford - USENIX 2006 AT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5342-5C15-4C12-AD54-5D5DDBB117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 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ISP, 100+ P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957 POP-level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1, 2, 3,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level discrep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5,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7, 8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POPs with 1 neigh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267080" y="1219320"/>
          <a:ext cx="4415040" cy="43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19320"/>
                    <a:ext cx="4415040" cy="43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114800" y="3352680"/>
            <a:ext cx="48006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4191120"/>
            <a:ext cx="48769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hang, Ruan, Pai, Rexford - USENIX 2006 AT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6745-CFEB-40CE-8290-8FB9E9F917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 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523880" y="2959200"/>
          <a:ext cx="640080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959200"/>
                    <a:ext cx="640080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n Previou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topology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% of inferred edges are false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liable than speed-of-light only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path inflation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hang, Ruan, Pai, Rexford - USENIX 2006 AT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4AAA-BF8C-4290-952D-DDEF2EEA6E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 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misnaming can be serious for network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udy two heuristics to identify and fix the wrong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 confirms the effectiveness of our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hang, Ruan, Pai, Rexford - USENIX 2006 AT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C2D5-E50B-49D1-9125-1E475D5E87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 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Tracero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traceroute -n www.usenix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128.112.155.129  0.586 ms   0.408 ms    0.401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128.112.138.2    0.627 ms   0.454 ms    0.645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 128.112.139.193  2.833 ms   1.412 ms    1.61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 128.112.12.57    1.505 ms   1.115 ms    1.54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  128.112.12.22    2.073 ms   1.237 ms    1.054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  204.153.48.9     3.275 ms   3.041 ms    2.459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  12.119.12.109    7.863 ms   8.513 ms    5.343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  12.123.219.133  10.458 ms   8.224 ms    8.77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  12.123.0.101     6.547 ms   8.504 ms    5.736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204.255.168.1    8.536 ms   7.328 ms    6.912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  152.63.21.78     6.229 ms   6.215 ms    5.906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  152.63.145.241  71.186 ms  70.831 ms   71.415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3  152.63.55.58    71.049 ms  71.716 ms   70.714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4  152.63.48.73    73.591 ms  73.618 ms   73.887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  157.130.192.6   97.473 ms  94.833 ms  111.342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hang, Ruan, Pai, Rexford - USENIX 2006 AT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F0AE-1254-4B40-A0AC-4743F8AF5D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 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erse DNS Look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 traceroute www.usenix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 ignition                      (128.112.155.129)  0.542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 targe                         (128.112.138.2)    0.894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  csgate                        (128.112.139.193)  1.592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 gigagate1.Princeton.EDU       (128.112.12.57)    1.768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  vgate1.Princeton.EDU          (128.112.12.22)    1.240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  tcggate.Princeton.EDU         (204.153.48.9)     2.524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  12.119.12.109                 (12.119.12.109)    9.014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  tbr2-p012402.n54ny.ip.att.net (12.123.219.133)   6.708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9  ggr3-g90.n54ny.ip.att.net     (12.123.0.101)     6.510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  0.so-2-1-0.BR1.NYC4.ALTER.NET (204.255.168.1)    6.806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  0.so-6-0-0.XL1.NYC4.ALTER.NET (152.63.21.78)     7.242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  0.so-7-0-0.XL1.SFO4.ALTER.NET (152.63.145.241)  70.959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3  POS4-0.XR1.SFO4.ALTER.NET     (152.63.55.58)    72.075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4  191.ATM7-0.GW4.SFO4.ALTER.NET (152.63.48.73)    76.387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5  usenix-gw.customer.alter.net  (157.130.192.6)   95.806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2438280"/>
            <a:ext cx="3200400" cy="8384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54ny.ip.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3200400"/>
            <a:ext cx="4267440" cy="838080"/>
          </a:xfrm>
          <a:prstGeom prst="wedgeRoundRectCallout">
            <a:avLst>
              <a:gd name="adj1" fmla="val -45310"/>
              <a:gd name="adj2" fmla="val 70074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L1.SFO4.A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1143000"/>
            <a:ext cx="5181480" cy="1371600"/>
          </a:xfrm>
          <a:prstGeom prst="wedgeRoundRectCallout">
            <a:avLst>
              <a:gd name="adj1" fmla="val -34375"/>
              <a:gd name="adj2" fmla="val 9560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br2-p012402.n54ny.ip.att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gr3-g90.n54ny.ip.att.net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so-2-1-0.BR1.NYC4.ALTER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so-6-0-0.XL1.NYC4.ALTER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5257800"/>
            <a:ext cx="5181480" cy="1066680"/>
          </a:xfrm>
          <a:prstGeom prst="wedgeRoundRectCallout">
            <a:avLst>
              <a:gd name="adj1" fmla="val -41481"/>
              <a:gd name="adj2" fmla="val -8541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so-7-0-0.XL1.SFO4.ALTER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S4-0.XR1.SFO4.ALTER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1.ATM7-0.GW4.SFO4.ALTER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hang, Ruan, Pai, Rexford - USENIX 2006 AT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C0A9-1FC3-4FB2-953D-D156FFA35D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 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work Debugging &amp;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 now a critical tool, errors proble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uma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no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you can detec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pp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mal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co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erived da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gnifi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” problems can be fi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hang, Ruan, Pai, Rexford - USENIX 2006 AT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9218-C765-4680-8789-0818C06028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 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mating th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large number of trace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use PlanetLab and/or Script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geography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ns tool from Rocket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s conventions for tons of I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 cities into P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reverse-engineer paths, peering decisions, routing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hang, Ruan, Pai, Rexford - USENIX 2006 AT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401F-172C-43F2-8994-2F42FC533C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 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S Misnaming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DNS names not critical for 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routers – debugg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no forward DNS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misn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gets 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cards swapped (IP per linec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e old IP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ing ISPs share IP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hang, Ruan, Pai, Rexford - USENIX 2006 AT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4EAF-F67F-4699-8A88-4728526A5E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 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 Loops &amp; False Ed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647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3048120"/>
            <a:ext cx="746784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12952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hang, Ruan, Pai, Rexford - USENIX 2006 AT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BFBC-E5AD-4FA8-99A9-7EC592EE7F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 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a Inter-POP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6479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838080" y="3200400"/>
            <a:ext cx="7467840" cy="2286000"/>
            <a:chOff x="838080" y="3200400"/>
            <a:chExt cx="7467840" cy="2286000"/>
          </a:xfrm>
        </p:grpSpPr>
        <p:sp>
          <p:nvSpPr>
            <p:cNvPr id="131" name=""/>
            <p:cNvSpPr/>
            <p:nvPr/>
          </p:nvSpPr>
          <p:spPr>
            <a:xfrm>
              <a:off x="838080" y="3505320"/>
              <a:ext cx="746784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8080" y="3200400"/>
              <a:ext cx="182880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181480" y="114300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hang, Ruan, Pai, Rexford - USENIX 2006 AT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C40D-D9C6-49FB-BAE8-B54E38B377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 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9246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house vers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cero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2 nodes on Plane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9,343 routable address bl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ll prefixes in current BGP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hours on March 30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ar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95680" y="5149800"/>
            <a:ext cx="7298640" cy="937800"/>
            <a:chOff x="895680" y="5149800"/>
            <a:chExt cx="7298640" cy="937800"/>
          </a:xfrm>
        </p:grpSpPr>
        <p:sp>
          <p:nvSpPr>
            <p:cNvPr id="137" name=""/>
            <p:cNvSpPr/>
            <p:nvPr/>
          </p:nvSpPr>
          <p:spPr>
            <a:xfrm>
              <a:off x="1422360" y="55180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95680" y="5445000"/>
              <a:ext cx="10324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68560" y="5791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2600" y="5149800"/>
              <a:ext cx="98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ook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57840" y="5445000"/>
              <a:ext cx="9626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4440" y="5410080"/>
              <a:ext cx="9032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O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96320" y="5445000"/>
              <a:ext cx="10980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02280" y="58230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96800" y="5181480"/>
              <a:ext cx="86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undns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u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83360" y="5791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78600" y="5149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aho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hang, Ruan, Pai, Rexford - USENIX 2006 AT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E769-8ABE-44AD-8412-524E96085F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June 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3:19:41Z</dcterms:created>
  <dc:creator>Vivek Pai</dc:creator>
  <dc:description/>
  <dc:language>en-US</dc:language>
  <cp:lastModifiedBy>Jennifer Rexford</cp:lastModifiedBy>
  <dcterms:modified xsi:type="dcterms:W3CDTF">2008-11-13T03:58:57Z</dcterms:modified>
  <cp:revision>13</cp:revision>
  <dc:subject/>
  <dc:title>How DNS Misnaming Distorts Internet Topology Mapping</dc:title>
</cp:coreProperties>
</file>