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6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8E90D-0159-4314-AF64-86E3F1BCF7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3800" cy="34304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basic operatio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only valid pointers are derefen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only valid code is ex4ecu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functions are called with the correct number of arg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advantages: easier to understand (and therefore to verify that they imply desired semantic properties), debug, evolve security poli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the compiler and (to some extent) the policies can be reused for a variety of extensible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3800" cy="34304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automatic compilation uses run-time checks to establish precond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Note: point is to explain a couple of the things that make this language different from a high-level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Note: there will be run-time objects that represent states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describe dependencies between values:  eg: for resource bounds, we must reason about inte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Note: I'll explain in a few minutes what to do if P1 and P2 are not syntactically apparent from typing con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Note: only the arguments of  type tau-1 and tau-2 have any compile-time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main idea: function types control the propagation of information about the security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this is just one encoding, you could imagine oth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linear in the sense of linear 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3800" cy="34304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automatic compilation uses run-time checks to establish precond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3800" cy="343044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automatic compilation uses run-time checks to establish precond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3800" cy="34304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automatic compilation uses run-time checks to establish precond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even though the state sigma-next is "unknown", we have information about 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Note: ignoring C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language features: call/cc,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w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D596-0CCC-42F4-A1B9-34DA40A6B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7529-E494-4968-A713-C6D850FB3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404B-9690-4444-9514-056E71FEF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868B-03F5-444B-A8BC-F4547CC64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C093-42BD-4E2D-819C-07ABE964F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73E2-3D84-4D15-BC6E-288004FFA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9153-7D06-44D0-9DC3-7BF5FA6F8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E3A7-2640-473F-B2B2-BAD7F593E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1760" y="3805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0C3E-0D97-40AE-ADF3-857156C8F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62B9-2523-46D9-A744-58B6BF0A8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23B3-7793-402B-8AF6-6D8070720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BA3C-0B4D-455A-8107-10C9BCC27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pril 12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vid Walker, Cornell Univers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F1965-002F-4A25-80CD-364CDB83CF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1295280"/>
            <a:ext cx="7543800" cy="76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ure Certifying Compilation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Wal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tal-logo-small" descr=""/>
          <p:cNvPicPr/>
          <p:nvPr/>
        </p:nvPicPr>
        <p:blipFill>
          <a:blip r:embed="rId1"/>
          <a:stretch/>
        </p:blipFill>
        <p:spPr>
          <a:xfrm>
            <a:off x="5943600" y="2895480"/>
            <a:ext cx="2438280" cy="18288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066680" y="3200400"/>
            <a:ext cx="4648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ahoma"/>
              </a:rPr>
              <a:t>What do you want to type check tod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Answer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a type-safe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inference relieves the tedium of proof co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mers will rewrite programs so they type che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1D7E-CDA1-4CB5-87CF-8D5CE1B8B95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ertifying Compilation So Far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43000" y="5181480"/>
            <a:ext cx="1143000" cy="690840"/>
          </a:xfrm>
          <a:custGeom>
            <a:avLst/>
            <a:gdLst/>
            <a:ahLst/>
            <a:rect l="l" t="t" r="r" b="b"/>
            <a:pathLst>
              <a:path w="720" h="435">
                <a:moveTo>
                  <a:pt x="576" y="3"/>
                </a:moveTo>
                <a:lnTo>
                  <a:pt x="576" y="147"/>
                </a:lnTo>
                <a:lnTo>
                  <a:pt x="720" y="147"/>
                </a:lnTo>
                <a:lnTo>
                  <a:pt x="720" y="291"/>
                </a:lnTo>
                <a:lnTo>
                  <a:pt x="576" y="291"/>
                </a:lnTo>
                <a:lnTo>
                  <a:pt x="576" y="435"/>
                </a:lnTo>
                <a:lnTo>
                  <a:pt x="0" y="435"/>
                </a:lnTo>
                <a:lnTo>
                  <a:pt x="0" y="3"/>
                </a:lnTo>
                <a:cubicBezTo>
                  <a:pt x="192" y="3"/>
                  <a:pt x="384" y="3"/>
                  <a:pt x="576" y="3"/>
                </a:cubicBezTo>
                <a:lnTo>
                  <a:pt x="582" y="0"/>
                </a:lnTo>
                <a:cubicBezTo>
                  <a:pt x="566" y="0"/>
                  <a:pt x="592" y="3"/>
                  <a:pt x="576" y="3"/>
                </a:cubicBez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14600" y="5410080"/>
            <a:ext cx="838080" cy="228600"/>
          </a:xfrm>
          <a:custGeom>
            <a:avLst/>
            <a:gdLst>
              <a:gd name="textAreaLeft" fmla="*/ 130680 w 838080"/>
              <a:gd name="textAreaRight" fmla="*/ 733320 w 8380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5867280"/>
            <a:ext cx="91440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43000" y="1676520"/>
            <a:ext cx="1143000" cy="690480"/>
          </a:xfrm>
          <a:custGeom>
            <a:avLst/>
            <a:gdLst/>
            <a:ahLst/>
            <a:rect l="l" t="t" r="r" b="b"/>
            <a:pathLst>
              <a:path w="720" h="435">
                <a:moveTo>
                  <a:pt x="576" y="3"/>
                </a:moveTo>
                <a:lnTo>
                  <a:pt x="576" y="147"/>
                </a:lnTo>
                <a:lnTo>
                  <a:pt x="720" y="147"/>
                </a:lnTo>
                <a:lnTo>
                  <a:pt x="720" y="291"/>
                </a:lnTo>
                <a:lnTo>
                  <a:pt x="576" y="291"/>
                </a:lnTo>
                <a:lnTo>
                  <a:pt x="576" y="435"/>
                </a:lnTo>
                <a:lnTo>
                  <a:pt x="0" y="435"/>
                </a:lnTo>
                <a:lnTo>
                  <a:pt x="0" y="3"/>
                </a:lnTo>
                <a:cubicBezTo>
                  <a:pt x="192" y="3"/>
                  <a:pt x="384" y="3"/>
                  <a:pt x="576" y="3"/>
                </a:cubicBezTo>
                <a:lnTo>
                  <a:pt x="582" y="0"/>
                </a:lnTo>
                <a:cubicBezTo>
                  <a:pt x="566" y="0"/>
                  <a:pt x="592" y="3"/>
                  <a:pt x="576" y="3"/>
                </a:cubicBez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86720" y="1441440"/>
            <a:ext cx="1384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ype Saf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-lev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1370880" y="4647960"/>
            <a:ext cx="533520" cy="228600"/>
          </a:xfrm>
          <a:custGeom>
            <a:avLst/>
            <a:gdLst>
              <a:gd name="textAreaLeft" fmla="*/ 83160 w 533520"/>
              <a:gd name="textAreaRight" fmla="*/ 466920 w 5335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5400000">
            <a:off x="1371240" y="2971800"/>
            <a:ext cx="533160" cy="228600"/>
          </a:xfrm>
          <a:custGeom>
            <a:avLst/>
            <a:gdLst>
              <a:gd name="textAreaLeft" fmla="*/ 83160 w 533160"/>
              <a:gd name="textAreaRight" fmla="*/ 474480 w 533160"/>
              <a:gd name="textAreaTop" fmla="*/ 48960 h 228600"/>
              <a:gd name="textAreaBottom" fmla="*/ 17964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4650"/>
                </a:moveTo>
                <a:lnTo>
                  <a:pt x="17421" y="4650"/>
                </a:lnTo>
                <a:lnTo>
                  <a:pt x="17421" y="0"/>
                </a:lnTo>
                <a:lnTo>
                  <a:pt x="21600" y="10800"/>
                </a:lnTo>
                <a:lnTo>
                  <a:pt x="17421" y="21600"/>
                </a:lnTo>
                <a:lnTo>
                  <a:pt x="17421" y="16950"/>
                </a:lnTo>
                <a:lnTo>
                  <a:pt x="3375" y="16950"/>
                </a:lnTo>
                <a:close/>
              </a:path>
              <a:path w="21600" h="21600">
                <a:moveTo>
                  <a:pt x="0" y="4650"/>
                </a:moveTo>
                <a:lnTo>
                  <a:pt x="675" y="4650"/>
                </a:lnTo>
                <a:lnTo>
                  <a:pt x="675" y="16950"/>
                </a:lnTo>
                <a:lnTo>
                  <a:pt x="0" y="16950"/>
                </a:lnTo>
                <a:close/>
              </a:path>
              <a:path w="21600" h="21600">
                <a:moveTo>
                  <a:pt x="1350" y="4650"/>
                </a:moveTo>
                <a:lnTo>
                  <a:pt x="2700" y="4650"/>
                </a:lnTo>
                <a:lnTo>
                  <a:pt x="2700" y="16950"/>
                </a:lnTo>
                <a:lnTo>
                  <a:pt x="1350" y="1695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43000" y="3429000"/>
            <a:ext cx="1143000" cy="690480"/>
          </a:xfrm>
          <a:custGeom>
            <a:avLst/>
            <a:gdLst/>
            <a:ahLst/>
            <a:rect l="l" t="t" r="r" b="b"/>
            <a:pathLst>
              <a:path w="720" h="435">
                <a:moveTo>
                  <a:pt x="576" y="3"/>
                </a:moveTo>
                <a:lnTo>
                  <a:pt x="576" y="147"/>
                </a:lnTo>
                <a:lnTo>
                  <a:pt x="720" y="147"/>
                </a:lnTo>
                <a:lnTo>
                  <a:pt x="720" y="291"/>
                </a:lnTo>
                <a:lnTo>
                  <a:pt x="576" y="291"/>
                </a:lnTo>
                <a:lnTo>
                  <a:pt x="576" y="435"/>
                </a:lnTo>
                <a:lnTo>
                  <a:pt x="0" y="435"/>
                </a:lnTo>
                <a:lnTo>
                  <a:pt x="0" y="3"/>
                </a:lnTo>
                <a:cubicBezTo>
                  <a:pt x="192" y="3"/>
                  <a:pt x="384" y="3"/>
                  <a:pt x="576" y="3"/>
                </a:cubicBezTo>
                <a:lnTo>
                  <a:pt x="582" y="0"/>
                </a:lnTo>
                <a:cubicBezTo>
                  <a:pt x="566" y="0"/>
                  <a:pt x="592" y="3"/>
                  <a:pt x="576" y="3"/>
                </a:cubicBez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9680" y="288936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8960" y="456552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4114800"/>
            <a:ext cx="91440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0" y="3498840"/>
            <a:ext cx="115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yp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0" y="570852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733560" y="160020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a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strongly typ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ource-level programm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a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type-preserv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piler to compile and optimize sourc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a certificate language for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type-safe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43000" y="2362320"/>
            <a:ext cx="91440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666880" y="28656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2057400" y="25146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4880-95C9-4B07-9E2F-0462A271BE8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ertifying Compiler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of-Carrying Co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Necula &amp; Le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xpressive base logic that can encode many security poli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practice, logic is extended with a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typ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ilers produce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type safety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o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d Assembly Langu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Morrisett, Walker, et al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ype constructor language that can encode high-level abst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arantees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type safe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per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6FC0-8FFC-4662-80F7-3D1DA1F6BC6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609480"/>
            <a:ext cx="6618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onventional Type Safety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ntional types ensure basic safe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operations performed cor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traction/interfaces hide data representations and system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ntional types don't describe complex security poli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: policies that depend upon hist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lissa virus reads Outlook contacts list and then sends 50 em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3E11-F610-46D9-8397-104FBCDEE84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mework for improved reliability and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 I: certifying compi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Idea II: security via code instru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nstanc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popl '0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ty automaton spec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ependently-typed target language (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ed work &amp; research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E35C-E8CC-4789-9AB0-6E80AE5E088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Flexible Security Policie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419720" y="1981080"/>
            <a:ext cx="4419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y policies independently of extensibl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 instruments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ier to understand, debug, evolve poli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43720" y="1676520"/>
            <a:ext cx="131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-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5400000">
            <a:off x="2895120" y="2361960"/>
            <a:ext cx="380880" cy="228600"/>
          </a:xfrm>
          <a:custGeom>
            <a:avLst/>
            <a:gdLst>
              <a:gd name="textAreaLeft" fmla="*/ 59400 w 380880"/>
              <a:gd name="textAreaRight" fmla="*/ 339120 w 380880"/>
              <a:gd name="textAreaTop" fmla="*/ 48960 h 228600"/>
              <a:gd name="textAreaBottom" fmla="*/ 17964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4650"/>
                </a:moveTo>
                <a:lnTo>
                  <a:pt x="17421" y="4650"/>
                </a:lnTo>
                <a:lnTo>
                  <a:pt x="17421" y="0"/>
                </a:lnTo>
                <a:lnTo>
                  <a:pt x="21600" y="10800"/>
                </a:lnTo>
                <a:lnTo>
                  <a:pt x="17421" y="21600"/>
                </a:lnTo>
                <a:lnTo>
                  <a:pt x="17421" y="16950"/>
                </a:lnTo>
                <a:lnTo>
                  <a:pt x="3375" y="16950"/>
                </a:lnTo>
                <a:close/>
              </a:path>
              <a:path w="21600" h="21600">
                <a:moveTo>
                  <a:pt x="0" y="4650"/>
                </a:moveTo>
                <a:lnTo>
                  <a:pt x="675" y="4650"/>
                </a:lnTo>
                <a:lnTo>
                  <a:pt x="675" y="16950"/>
                </a:lnTo>
                <a:lnTo>
                  <a:pt x="0" y="16950"/>
                </a:lnTo>
                <a:close/>
              </a:path>
              <a:path w="21600" h="21600">
                <a:moveTo>
                  <a:pt x="1350" y="4650"/>
                </a:moveTo>
                <a:lnTo>
                  <a:pt x="2700" y="4650"/>
                </a:lnTo>
                <a:lnTo>
                  <a:pt x="2700" y="16950"/>
                </a:lnTo>
                <a:lnTo>
                  <a:pt x="1350" y="1695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753200" y="2819520"/>
            <a:ext cx="120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i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972880" y="4800600"/>
            <a:ext cx="132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ze 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2480" y="2743200"/>
            <a:ext cx="2590920" cy="33526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90920" y="1828800"/>
            <a:ext cx="990360" cy="3808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057400" y="3352680"/>
            <a:ext cx="990720" cy="3812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4419720"/>
            <a:ext cx="990720" cy="3808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057400" y="5486400"/>
            <a:ext cx="990720" cy="3808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2361600" y="3962160"/>
            <a:ext cx="380880" cy="228600"/>
          </a:xfrm>
          <a:custGeom>
            <a:avLst/>
            <a:gdLst>
              <a:gd name="textAreaLeft" fmla="*/ 59400 w 380880"/>
              <a:gd name="textAreaRight" fmla="*/ 339120 w 380880"/>
              <a:gd name="textAreaTop" fmla="*/ 48960 h 228600"/>
              <a:gd name="textAreaBottom" fmla="*/ 17964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4650"/>
                </a:moveTo>
                <a:lnTo>
                  <a:pt x="17421" y="4650"/>
                </a:lnTo>
                <a:lnTo>
                  <a:pt x="17421" y="0"/>
                </a:lnTo>
                <a:lnTo>
                  <a:pt x="21600" y="10800"/>
                </a:lnTo>
                <a:lnTo>
                  <a:pt x="17421" y="21600"/>
                </a:lnTo>
                <a:lnTo>
                  <a:pt x="17421" y="16950"/>
                </a:lnTo>
                <a:lnTo>
                  <a:pt x="3375" y="16950"/>
                </a:lnTo>
                <a:close/>
              </a:path>
              <a:path w="21600" h="21600">
                <a:moveTo>
                  <a:pt x="0" y="4650"/>
                </a:moveTo>
                <a:lnTo>
                  <a:pt x="675" y="4650"/>
                </a:lnTo>
                <a:lnTo>
                  <a:pt x="675" y="16950"/>
                </a:lnTo>
                <a:lnTo>
                  <a:pt x="0" y="16950"/>
                </a:lnTo>
                <a:close/>
              </a:path>
              <a:path w="21600" h="21600">
                <a:moveTo>
                  <a:pt x="1350" y="4650"/>
                </a:moveTo>
                <a:lnTo>
                  <a:pt x="2700" y="4650"/>
                </a:lnTo>
                <a:lnTo>
                  <a:pt x="2700" y="16950"/>
                </a:lnTo>
                <a:lnTo>
                  <a:pt x="1350" y="1695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2361600" y="5029200"/>
            <a:ext cx="381240" cy="228600"/>
          </a:xfrm>
          <a:custGeom>
            <a:avLst/>
            <a:gdLst>
              <a:gd name="textAreaLeft" fmla="*/ 59400 w 381240"/>
              <a:gd name="textAreaRight" fmla="*/ 339480 w 381240"/>
              <a:gd name="textAreaTop" fmla="*/ 48960 h 228600"/>
              <a:gd name="textAreaBottom" fmla="*/ 17964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4650"/>
                </a:moveTo>
                <a:lnTo>
                  <a:pt x="17421" y="4650"/>
                </a:lnTo>
                <a:lnTo>
                  <a:pt x="17421" y="0"/>
                </a:lnTo>
                <a:lnTo>
                  <a:pt x="21600" y="10800"/>
                </a:lnTo>
                <a:lnTo>
                  <a:pt x="17421" y="21600"/>
                </a:lnTo>
                <a:lnTo>
                  <a:pt x="17421" y="16950"/>
                </a:lnTo>
                <a:lnTo>
                  <a:pt x="3375" y="16950"/>
                </a:lnTo>
                <a:close/>
              </a:path>
              <a:path w="21600" h="21600">
                <a:moveTo>
                  <a:pt x="0" y="4650"/>
                </a:moveTo>
                <a:lnTo>
                  <a:pt x="675" y="4650"/>
                </a:lnTo>
                <a:lnTo>
                  <a:pt x="675" y="16950"/>
                </a:lnTo>
                <a:lnTo>
                  <a:pt x="0" y="16950"/>
                </a:lnTo>
                <a:close/>
              </a:path>
              <a:path w="21600" h="21600">
                <a:moveTo>
                  <a:pt x="1350" y="4650"/>
                </a:moveTo>
                <a:lnTo>
                  <a:pt x="2700" y="4650"/>
                </a:lnTo>
                <a:lnTo>
                  <a:pt x="2700" y="16950"/>
                </a:lnTo>
                <a:lnTo>
                  <a:pt x="1350" y="1695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16200000">
            <a:off x="457200" y="4419000"/>
            <a:ext cx="68580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380880" cy="228600"/>
          </a:xfrm>
          <a:custGeom>
            <a:avLst/>
            <a:gdLst>
              <a:gd name="textAreaLeft" fmla="*/ 59400 w 380880"/>
              <a:gd name="textAreaRight" fmla="*/ 339120 w 380880"/>
              <a:gd name="textAreaTop" fmla="*/ 48960 h 228600"/>
              <a:gd name="textAreaBottom" fmla="*/ 17964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4650"/>
                </a:moveTo>
                <a:lnTo>
                  <a:pt x="17421" y="4650"/>
                </a:lnTo>
                <a:lnTo>
                  <a:pt x="17421" y="0"/>
                </a:lnTo>
                <a:lnTo>
                  <a:pt x="21600" y="10800"/>
                </a:lnTo>
                <a:lnTo>
                  <a:pt x="17421" y="21600"/>
                </a:lnTo>
                <a:lnTo>
                  <a:pt x="17421" y="16950"/>
                </a:lnTo>
                <a:lnTo>
                  <a:pt x="3375" y="16950"/>
                </a:lnTo>
                <a:close/>
              </a:path>
              <a:path w="21600" h="21600">
                <a:moveTo>
                  <a:pt x="0" y="4650"/>
                </a:moveTo>
                <a:lnTo>
                  <a:pt x="675" y="4650"/>
                </a:lnTo>
                <a:lnTo>
                  <a:pt x="675" y="16950"/>
                </a:lnTo>
                <a:lnTo>
                  <a:pt x="0" y="16950"/>
                </a:lnTo>
                <a:close/>
              </a:path>
              <a:path w="21600" h="21600">
                <a:moveTo>
                  <a:pt x="1350" y="4650"/>
                </a:moveTo>
                <a:lnTo>
                  <a:pt x="2700" y="4650"/>
                </a:lnTo>
                <a:lnTo>
                  <a:pt x="2700" y="16950"/>
                </a:lnTo>
                <a:lnTo>
                  <a:pt x="1350" y="1695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4920" y="3581280"/>
            <a:ext cx="1101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970720" y="388620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0483-D7C9-4650-B9D0-8CE7366533C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Security Policy Specifica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ment: a language for specifying security poli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at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ation for specifying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ev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inte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network send" and "file read" are security-sens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ation for specifying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illegal behavi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ivacy policy: "no send after read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easible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compilation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be able to prevent programs from violating the policy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8129-6958-40B8-A646-2162D350FFB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F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Wahbe et al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ts are read, write, ju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 memory safety 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S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Erlingsson &amp; Schneider]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cci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Evans &amp; Twyman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xible policy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not certifying compi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02E2-C051-4351-B446-A8BCE41694A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Putting it Together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def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licies in a high-level, flexible and system-independent specification langu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instru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ystem extensions both with dynamic security checks and static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preser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of of security policy during compilation and optim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verif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ertified compiler output to reduce TC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9BB9-78F2-4BF1-9478-4DAD7B9A39F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mework for improved reliability and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 I: certifying compi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 II: security via code instru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An instance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[popl '0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ty automaton spec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ependently-typed target language (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ed work &amp; research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ABFC-5B2D-4EF1-B0AD-14A53766B9C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Extensible System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systems have programmable interfac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30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30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ers and editors (postscript printers, emacs, Wor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wsers and servers (applets, plugins, CGI-scrip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7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ng systems (virus scann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s (active networks, JIN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95880" y="3048120"/>
            <a:ext cx="990720" cy="685800"/>
          </a:xfrm>
          <a:custGeom>
            <a:avLst/>
            <a:gdLst/>
            <a:ahLst/>
            <a:rect l="l" t="t" r="r" b="b"/>
            <a:pathLst>
              <a:path w="624" h="432">
                <a:moveTo>
                  <a:pt x="0" y="0"/>
                </a:moveTo>
                <a:lnTo>
                  <a:pt x="0" y="144"/>
                </a:lnTo>
                <a:lnTo>
                  <a:pt x="144" y="144"/>
                </a:lnTo>
                <a:lnTo>
                  <a:pt x="144" y="288"/>
                </a:lnTo>
                <a:lnTo>
                  <a:pt x="0" y="288"/>
                </a:lnTo>
                <a:lnTo>
                  <a:pt x="0" y="432"/>
                </a:lnTo>
                <a:lnTo>
                  <a:pt x="624" y="432"/>
                </a:lnTo>
                <a:lnTo>
                  <a:pt x="624" y="0"/>
                </a:lnTo>
                <a:cubicBezTo>
                  <a:pt x="416" y="0"/>
                  <a:pt x="208" y="0"/>
                  <a:pt x="0" y="0"/>
                </a:cubicBez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048120"/>
            <a:ext cx="1143000" cy="690480"/>
          </a:xfrm>
          <a:custGeom>
            <a:avLst/>
            <a:gdLst/>
            <a:ahLst/>
            <a:rect l="l" t="t" r="r" b="b"/>
            <a:pathLst>
              <a:path w="720" h="435">
                <a:moveTo>
                  <a:pt x="576" y="3"/>
                </a:moveTo>
                <a:lnTo>
                  <a:pt x="576" y="147"/>
                </a:lnTo>
                <a:lnTo>
                  <a:pt x="720" y="147"/>
                </a:lnTo>
                <a:lnTo>
                  <a:pt x="720" y="291"/>
                </a:lnTo>
                <a:lnTo>
                  <a:pt x="576" y="291"/>
                </a:lnTo>
                <a:lnTo>
                  <a:pt x="576" y="435"/>
                </a:lnTo>
                <a:lnTo>
                  <a:pt x="0" y="435"/>
                </a:lnTo>
                <a:lnTo>
                  <a:pt x="0" y="3"/>
                </a:lnTo>
                <a:cubicBezTo>
                  <a:pt x="192" y="3"/>
                  <a:pt x="384" y="3"/>
                  <a:pt x="576" y="3"/>
                </a:cubicBezTo>
                <a:lnTo>
                  <a:pt x="582" y="0"/>
                </a:lnTo>
                <a:cubicBezTo>
                  <a:pt x="566" y="0"/>
                  <a:pt x="592" y="3"/>
                  <a:pt x="576" y="3"/>
                </a:cubicBez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920" y="31939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162200" y="3041640"/>
            <a:ext cx="117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276720"/>
            <a:ext cx="838080" cy="228600"/>
          </a:xfrm>
          <a:custGeom>
            <a:avLst/>
            <a:gdLst>
              <a:gd name="textAreaLeft" fmla="*/ 130680 w 838080"/>
              <a:gd name="textAreaRight" fmla="*/ 733320 w 8380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89480" y="3581280"/>
            <a:ext cx="31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wnload, Link &amp; Exec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3C89-5353-424E-A76E-CD439AABA0C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Secure Certified Cod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view of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 Automat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Erlingsson &amp; Schneider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specify security 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imple compilation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ependently-typed target language (TAL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rief introduction to 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ons for certifying security 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oretical core language proven s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express any security automaton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7F93-3ABA-43C0-BB25-4C41B22249F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Security Architectur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5181480"/>
            <a:ext cx="1143000" cy="690840"/>
          </a:xfrm>
          <a:custGeom>
            <a:avLst/>
            <a:gdLst/>
            <a:ahLst/>
            <a:rect l="l" t="t" r="r" b="b"/>
            <a:pathLst>
              <a:path w="720" h="435">
                <a:moveTo>
                  <a:pt x="576" y="3"/>
                </a:moveTo>
                <a:lnTo>
                  <a:pt x="576" y="147"/>
                </a:lnTo>
                <a:lnTo>
                  <a:pt x="720" y="147"/>
                </a:lnTo>
                <a:lnTo>
                  <a:pt x="720" y="291"/>
                </a:lnTo>
                <a:lnTo>
                  <a:pt x="576" y="291"/>
                </a:lnTo>
                <a:lnTo>
                  <a:pt x="576" y="435"/>
                </a:lnTo>
                <a:lnTo>
                  <a:pt x="0" y="435"/>
                </a:lnTo>
                <a:lnTo>
                  <a:pt x="0" y="3"/>
                </a:lnTo>
                <a:cubicBezTo>
                  <a:pt x="192" y="3"/>
                  <a:pt x="384" y="3"/>
                  <a:pt x="576" y="3"/>
                </a:cubicBezTo>
                <a:lnTo>
                  <a:pt x="582" y="0"/>
                </a:lnTo>
                <a:cubicBezTo>
                  <a:pt x="566" y="0"/>
                  <a:pt x="592" y="3"/>
                  <a:pt x="576" y="3"/>
                </a:cubicBez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95480" y="5410080"/>
            <a:ext cx="838440" cy="228600"/>
          </a:xfrm>
          <a:custGeom>
            <a:avLst/>
            <a:gdLst>
              <a:gd name="textAreaLeft" fmla="*/ 131040 w 838440"/>
              <a:gd name="textAreaRight" fmla="*/ 733680 w 83844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00200" y="5867280"/>
            <a:ext cx="91440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600200" y="1981080"/>
            <a:ext cx="1143000" cy="690840"/>
          </a:xfrm>
          <a:custGeom>
            <a:avLst/>
            <a:gdLst/>
            <a:ahLst/>
            <a:rect l="l" t="t" r="r" b="b"/>
            <a:pathLst>
              <a:path w="720" h="435">
                <a:moveTo>
                  <a:pt x="576" y="3"/>
                </a:moveTo>
                <a:lnTo>
                  <a:pt x="576" y="147"/>
                </a:lnTo>
                <a:lnTo>
                  <a:pt x="720" y="147"/>
                </a:lnTo>
                <a:lnTo>
                  <a:pt x="720" y="291"/>
                </a:lnTo>
                <a:lnTo>
                  <a:pt x="576" y="291"/>
                </a:lnTo>
                <a:lnTo>
                  <a:pt x="576" y="435"/>
                </a:lnTo>
                <a:lnTo>
                  <a:pt x="0" y="435"/>
                </a:lnTo>
                <a:lnTo>
                  <a:pt x="0" y="3"/>
                </a:lnTo>
                <a:cubicBezTo>
                  <a:pt x="192" y="3"/>
                  <a:pt x="384" y="3"/>
                  <a:pt x="576" y="3"/>
                </a:cubicBezTo>
                <a:lnTo>
                  <a:pt x="582" y="0"/>
                </a:lnTo>
                <a:cubicBezTo>
                  <a:pt x="566" y="0"/>
                  <a:pt x="592" y="3"/>
                  <a:pt x="576" y="3"/>
                </a:cubicBez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2280" y="197496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-lev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5400000">
            <a:off x="1828080" y="4647960"/>
            <a:ext cx="533520" cy="228600"/>
          </a:xfrm>
          <a:custGeom>
            <a:avLst/>
            <a:gdLst>
              <a:gd name="textAreaLeft" fmla="*/ 83160 w 533520"/>
              <a:gd name="textAreaRight" fmla="*/ 466920 w 5335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5400000">
            <a:off x="1828440" y="2971800"/>
            <a:ext cx="533160" cy="228600"/>
          </a:xfrm>
          <a:custGeom>
            <a:avLst/>
            <a:gdLst>
              <a:gd name="textAreaLeft" fmla="*/ 83160 w 533160"/>
              <a:gd name="textAreaRight" fmla="*/ 474480 w 533160"/>
              <a:gd name="textAreaTop" fmla="*/ 48960 h 228600"/>
              <a:gd name="textAreaBottom" fmla="*/ 17964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4650"/>
                </a:moveTo>
                <a:lnTo>
                  <a:pt x="17421" y="4650"/>
                </a:lnTo>
                <a:lnTo>
                  <a:pt x="17421" y="0"/>
                </a:lnTo>
                <a:lnTo>
                  <a:pt x="21600" y="10800"/>
                </a:lnTo>
                <a:lnTo>
                  <a:pt x="17421" y="21600"/>
                </a:lnTo>
                <a:lnTo>
                  <a:pt x="17421" y="16950"/>
                </a:lnTo>
                <a:lnTo>
                  <a:pt x="3375" y="16950"/>
                </a:lnTo>
                <a:close/>
              </a:path>
              <a:path w="21600" h="21600">
                <a:moveTo>
                  <a:pt x="0" y="4650"/>
                </a:moveTo>
                <a:lnTo>
                  <a:pt x="675" y="4650"/>
                </a:lnTo>
                <a:lnTo>
                  <a:pt x="675" y="16950"/>
                </a:lnTo>
                <a:lnTo>
                  <a:pt x="0" y="16950"/>
                </a:lnTo>
                <a:close/>
              </a:path>
              <a:path w="21600" h="21600">
                <a:moveTo>
                  <a:pt x="1350" y="4650"/>
                </a:moveTo>
                <a:lnTo>
                  <a:pt x="2700" y="4650"/>
                </a:lnTo>
                <a:lnTo>
                  <a:pt x="2700" y="16950"/>
                </a:lnTo>
                <a:lnTo>
                  <a:pt x="1350" y="1695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3429000"/>
            <a:ext cx="1143000" cy="690480"/>
          </a:xfrm>
          <a:custGeom>
            <a:avLst/>
            <a:gdLst/>
            <a:ahLst/>
            <a:rect l="l" t="t" r="r" b="b"/>
            <a:pathLst>
              <a:path w="720" h="435">
                <a:moveTo>
                  <a:pt x="576" y="3"/>
                </a:moveTo>
                <a:lnTo>
                  <a:pt x="576" y="147"/>
                </a:lnTo>
                <a:lnTo>
                  <a:pt x="720" y="147"/>
                </a:lnTo>
                <a:lnTo>
                  <a:pt x="720" y="291"/>
                </a:lnTo>
                <a:lnTo>
                  <a:pt x="576" y="291"/>
                </a:lnTo>
                <a:lnTo>
                  <a:pt x="576" y="435"/>
                </a:lnTo>
                <a:lnTo>
                  <a:pt x="0" y="435"/>
                </a:lnTo>
                <a:lnTo>
                  <a:pt x="0" y="3"/>
                </a:lnTo>
                <a:cubicBezTo>
                  <a:pt x="192" y="3"/>
                  <a:pt x="384" y="3"/>
                  <a:pt x="576" y="3"/>
                </a:cubicBezTo>
                <a:lnTo>
                  <a:pt x="582" y="0"/>
                </a:lnTo>
                <a:cubicBezTo>
                  <a:pt x="566" y="0"/>
                  <a:pt x="592" y="3"/>
                  <a:pt x="576" y="3"/>
                </a:cubicBez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6120" y="288936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6160" y="456552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00200" y="4114800"/>
            <a:ext cx="91440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52280" y="334656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666880" y="570852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2819520" y="2971800"/>
            <a:ext cx="838080" cy="228600"/>
          </a:xfrm>
          <a:custGeom>
            <a:avLst/>
            <a:gdLst>
              <a:gd name="textAreaLeft" fmla="*/ 130680 w 838080"/>
              <a:gd name="textAreaRight" fmla="*/ 733320 w 8380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62520" y="2743200"/>
            <a:ext cx="1066680" cy="685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658320" y="1752480"/>
            <a:ext cx="1623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962520" y="5181480"/>
            <a:ext cx="1143000" cy="690840"/>
          </a:xfrm>
          <a:custGeom>
            <a:avLst/>
            <a:gdLst/>
            <a:ahLst/>
            <a:rect l="l" t="t" r="r" b="b"/>
            <a:pathLst>
              <a:path w="720" h="435">
                <a:moveTo>
                  <a:pt x="576" y="3"/>
                </a:moveTo>
                <a:lnTo>
                  <a:pt x="576" y="147"/>
                </a:lnTo>
                <a:lnTo>
                  <a:pt x="720" y="147"/>
                </a:lnTo>
                <a:lnTo>
                  <a:pt x="720" y="291"/>
                </a:lnTo>
                <a:lnTo>
                  <a:pt x="576" y="291"/>
                </a:lnTo>
                <a:lnTo>
                  <a:pt x="576" y="435"/>
                </a:lnTo>
                <a:lnTo>
                  <a:pt x="0" y="435"/>
                </a:lnTo>
                <a:lnTo>
                  <a:pt x="0" y="3"/>
                </a:lnTo>
                <a:cubicBezTo>
                  <a:pt x="192" y="3"/>
                  <a:pt x="384" y="3"/>
                  <a:pt x="576" y="3"/>
                </a:cubicBezTo>
                <a:lnTo>
                  <a:pt x="582" y="0"/>
                </a:lnTo>
                <a:cubicBezTo>
                  <a:pt x="566" y="0"/>
                  <a:pt x="592" y="3"/>
                  <a:pt x="576" y="3"/>
                </a:cubicBez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867280"/>
            <a:ext cx="91440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248520" y="3429000"/>
            <a:ext cx="990360" cy="685800"/>
          </a:xfrm>
          <a:custGeom>
            <a:avLst/>
            <a:gdLst/>
            <a:ahLst/>
            <a:rect l="l" t="t" r="r" b="b"/>
            <a:pathLst>
              <a:path w="624" h="432">
                <a:moveTo>
                  <a:pt x="0" y="0"/>
                </a:moveTo>
                <a:lnTo>
                  <a:pt x="0" y="144"/>
                </a:lnTo>
                <a:lnTo>
                  <a:pt x="144" y="144"/>
                </a:lnTo>
                <a:lnTo>
                  <a:pt x="144" y="288"/>
                </a:lnTo>
                <a:lnTo>
                  <a:pt x="0" y="288"/>
                </a:lnTo>
                <a:lnTo>
                  <a:pt x="0" y="432"/>
                </a:lnTo>
                <a:lnTo>
                  <a:pt x="624" y="432"/>
                </a:lnTo>
                <a:lnTo>
                  <a:pt x="624" y="0"/>
                </a:lnTo>
                <a:cubicBezTo>
                  <a:pt x="416" y="0"/>
                  <a:pt x="208" y="0"/>
                  <a:pt x="0" y="0"/>
                </a:cubicBez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390800" y="3422520"/>
            <a:ext cx="1171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257800" y="5410080"/>
            <a:ext cx="838080" cy="228600"/>
          </a:xfrm>
          <a:custGeom>
            <a:avLst/>
            <a:gdLst>
              <a:gd name="textAreaLeft" fmla="*/ 130680 w 838080"/>
              <a:gd name="textAreaRight" fmla="*/ 733320 w 8380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4495680"/>
            <a:ext cx="106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248520" y="1981080"/>
            <a:ext cx="990360" cy="685800"/>
          </a:xfrm>
          <a:custGeom>
            <a:avLst/>
            <a:gdLst/>
            <a:ahLst/>
            <a:rect l="l" t="t" r="r" b="b"/>
            <a:pathLst>
              <a:path w="624" h="432">
                <a:moveTo>
                  <a:pt x="0" y="0"/>
                </a:moveTo>
                <a:lnTo>
                  <a:pt x="0" y="144"/>
                </a:lnTo>
                <a:lnTo>
                  <a:pt x="144" y="144"/>
                </a:lnTo>
                <a:lnTo>
                  <a:pt x="144" y="288"/>
                </a:lnTo>
                <a:lnTo>
                  <a:pt x="0" y="288"/>
                </a:lnTo>
                <a:lnTo>
                  <a:pt x="0" y="432"/>
                </a:lnTo>
                <a:lnTo>
                  <a:pt x="624" y="432"/>
                </a:lnTo>
                <a:lnTo>
                  <a:pt x="624" y="0"/>
                </a:lnTo>
                <a:cubicBezTo>
                  <a:pt x="416" y="0"/>
                  <a:pt x="208" y="0"/>
                  <a:pt x="0" y="0"/>
                </a:cubicBez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390800" y="1974960"/>
            <a:ext cx="117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rot="5400000">
            <a:off x="6476760" y="2971800"/>
            <a:ext cx="533160" cy="228600"/>
          </a:xfrm>
          <a:custGeom>
            <a:avLst/>
            <a:gdLst>
              <a:gd name="textAreaLeft" fmla="*/ 83160 w 533160"/>
              <a:gd name="textAreaRight" fmla="*/ 466560 w 53316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971800"/>
            <a:ext cx="838080" cy="228600"/>
          </a:xfrm>
          <a:custGeom>
            <a:avLst/>
            <a:gdLst>
              <a:gd name="textAreaLeft" fmla="*/ 130680 w 838080"/>
              <a:gd name="textAreaRight" fmla="*/ 733320 w 8380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087320" y="288936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o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400000">
            <a:off x="6476400" y="4647960"/>
            <a:ext cx="533520" cy="228600"/>
          </a:xfrm>
          <a:custGeom>
            <a:avLst/>
            <a:gdLst>
              <a:gd name="textAreaLeft" fmla="*/ 83160 w 533520"/>
              <a:gd name="textAreaRight" fmla="*/ 466920 w 5335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391520" y="5175360"/>
            <a:ext cx="144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248520" y="4114800"/>
            <a:ext cx="99036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705720" y="5257800"/>
            <a:ext cx="457200" cy="685800"/>
          </a:xfrm>
          <a:custGeom>
            <a:avLst/>
            <a:gdLst/>
            <a:ahLst/>
            <a:rect l="l" t="t" r="r" b="b"/>
            <a:pathLst>
              <a:path w="288" h="432">
                <a:moveTo>
                  <a:pt x="0" y="0"/>
                </a:moveTo>
                <a:lnTo>
                  <a:pt x="0" y="144"/>
                </a:lnTo>
                <a:lnTo>
                  <a:pt x="144" y="144"/>
                </a:lnTo>
                <a:lnTo>
                  <a:pt x="144" y="288"/>
                </a:lnTo>
                <a:lnTo>
                  <a:pt x="0" y="288"/>
                </a:lnTo>
                <a:lnTo>
                  <a:pt x="0" y="432"/>
                </a:lnTo>
                <a:lnTo>
                  <a:pt x="288" y="432"/>
                </a:lnTo>
                <a:lnTo>
                  <a:pt x="288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324480" y="5257800"/>
            <a:ext cx="609840" cy="685800"/>
          </a:xfrm>
          <a:custGeom>
            <a:avLst/>
            <a:gdLst/>
            <a:ahLst/>
            <a:rect l="l" t="t" r="r" b="b"/>
            <a:pathLst>
              <a:path w="384" h="432">
                <a:moveTo>
                  <a:pt x="240" y="0"/>
                </a:moveTo>
                <a:lnTo>
                  <a:pt x="240" y="144"/>
                </a:lnTo>
                <a:lnTo>
                  <a:pt x="384" y="144"/>
                </a:lnTo>
                <a:lnTo>
                  <a:pt x="384" y="288"/>
                </a:lnTo>
                <a:lnTo>
                  <a:pt x="240" y="288"/>
                </a:lnTo>
                <a:lnTo>
                  <a:pt x="240" y="432"/>
                </a:lnTo>
                <a:lnTo>
                  <a:pt x="0" y="432"/>
                </a:lnTo>
                <a:lnTo>
                  <a:pt x="0" y="0"/>
                </a:lnTo>
                <a:lnTo>
                  <a:pt x="240" y="0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F22D-5DC3-4508-836C-7E432AC7823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Security Automata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eneral mechanism for specifying security polic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y any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safety proper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 control policies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access file fo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 bound policies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cate no more than 1M of memor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elissa polic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twork send after file read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D021-C54E-4B40-AD8E-DD0D206825F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3520" y="3886200"/>
            <a:ext cx="8610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icy: No send operation after a read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s: start, has read, b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s (program operations): send,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tions (state x input -&gt; state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x read(f) -&gt; has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2057400"/>
            <a:ext cx="914400" cy="8380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105520" y="2057400"/>
            <a:ext cx="914400" cy="8380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733920" y="1905120"/>
            <a:ext cx="1447560" cy="304560"/>
          </a:xfrm>
          <a:custGeom>
            <a:avLst/>
            <a:gdLst/>
            <a:ahLst/>
            <a:rect l="l" t="t" r="r" b="b"/>
            <a:pathLst>
              <a:path w="912" h="192">
                <a:moveTo>
                  <a:pt x="0" y="192"/>
                </a:moveTo>
                <a:cubicBezTo>
                  <a:pt x="140" y="96"/>
                  <a:pt x="280" y="0"/>
                  <a:pt x="432" y="0"/>
                </a:cubicBezTo>
                <a:cubicBezTo>
                  <a:pt x="584" y="0"/>
                  <a:pt x="748" y="96"/>
                  <a:pt x="912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961800" y="1517760"/>
            <a:ext cx="93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(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044800" y="2031840"/>
            <a:ext cx="927000" cy="812880"/>
          </a:xfrm>
          <a:custGeom>
            <a:avLst/>
            <a:gdLst/>
            <a:ahLst/>
            <a:rect l="l" t="t" r="r" b="b"/>
            <a:pathLst>
              <a:path w="584" h="512">
                <a:moveTo>
                  <a:pt x="584" y="160"/>
                </a:moveTo>
                <a:cubicBezTo>
                  <a:pt x="464" y="80"/>
                  <a:pt x="344" y="0"/>
                  <a:pt x="248" y="16"/>
                </a:cubicBezTo>
                <a:cubicBezTo>
                  <a:pt x="152" y="32"/>
                  <a:pt x="0" y="176"/>
                  <a:pt x="8" y="256"/>
                </a:cubicBezTo>
                <a:cubicBezTo>
                  <a:pt x="16" y="336"/>
                  <a:pt x="208" y="480"/>
                  <a:pt x="296" y="496"/>
                </a:cubicBezTo>
                <a:cubicBezTo>
                  <a:pt x="384" y="512"/>
                  <a:pt x="496" y="376"/>
                  <a:pt x="536" y="35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95640" y="220356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5930280" y="2031840"/>
            <a:ext cx="927000" cy="812880"/>
          </a:xfrm>
          <a:custGeom>
            <a:avLst/>
            <a:gdLst/>
            <a:ahLst/>
            <a:rect l="l" t="t" r="r" b="b"/>
            <a:pathLst>
              <a:path w="584" h="512">
                <a:moveTo>
                  <a:pt x="584" y="160"/>
                </a:moveTo>
                <a:cubicBezTo>
                  <a:pt x="464" y="80"/>
                  <a:pt x="344" y="0"/>
                  <a:pt x="248" y="16"/>
                </a:cubicBezTo>
                <a:cubicBezTo>
                  <a:pt x="152" y="32"/>
                  <a:pt x="0" y="176"/>
                  <a:pt x="8" y="256"/>
                </a:cubicBezTo>
                <a:cubicBezTo>
                  <a:pt x="16" y="336"/>
                  <a:pt x="208" y="480"/>
                  <a:pt x="296" y="496"/>
                </a:cubicBezTo>
                <a:cubicBezTo>
                  <a:pt x="384" y="512"/>
                  <a:pt x="496" y="376"/>
                  <a:pt x="536" y="35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33600" y="2203560"/>
            <a:ext cx="93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(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962520" y="2971800"/>
            <a:ext cx="914400" cy="8380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876920" y="2895480"/>
            <a:ext cx="457200" cy="45720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288" y="0"/>
                </a:moveTo>
                <a:cubicBezTo>
                  <a:pt x="264" y="72"/>
                  <a:pt x="240" y="144"/>
                  <a:pt x="192" y="192"/>
                </a:cubicBezTo>
                <a:cubicBezTo>
                  <a:pt x="144" y="240"/>
                  <a:pt x="72" y="264"/>
                  <a:pt x="0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181840" y="304164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3A81-C036-4E58-A69B-2388B6302D6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Example Cont’d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590920" y="1981080"/>
            <a:ext cx="914400" cy="8384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800600" y="1981080"/>
            <a:ext cx="914400" cy="8384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429000" y="1828800"/>
            <a:ext cx="1447920" cy="304920"/>
          </a:xfrm>
          <a:custGeom>
            <a:avLst/>
            <a:gdLst/>
            <a:ahLst/>
            <a:rect l="l" t="t" r="r" b="b"/>
            <a:pathLst>
              <a:path w="912" h="192">
                <a:moveTo>
                  <a:pt x="0" y="192"/>
                </a:moveTo>
                <a:cubicBezTo>
                  <a:pt x="140" y="96"/>
                  <a:pt x="280" y="0"/>
                  <a:pt x="432" y="0"/>
                </a:cubicBezTo>
                <a:cubicBezTo>
                  <a:pt x="584" y="0"/>
                  <a:pt x="748" y="96"/>
                  <a:pt x="912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656880" y="1441440"/>
            <a:ext cx="93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(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739880" y="1955880"/>
            <a:ext cx="927000" cy="812880"/>
          </a:xfrm>
          <a:custGeom>
            <a:avLst/>
            <a:gdLst/>
            <a:ahLst/>
            <a:rect l="l" t="t" r="r" b="b"/>
            <a:pathLst>
              <a:path w="584" h="512">
                <a:moveTo>
                  <a:pt x="584" y="160"/>
                </a:moveTo>
                <a:cubicBezTo>
                  <a:pt x="464" y="80"/>
                  <a:pt x="344" y="0"/>
                  <a:pt x="248" y="16"/>
                </a:cubicBezTo>
                <a:cubicBezTo>
                  <a:pt x="152" y="32"/>
                  <a:pt x="0" y="176"/>
                  <a:pt x="8" y="256"/>
                </a:cubicBezTo>
                <a:cubicBezTo>
                  <a:pt x="16" y="336"/>
                  <a:pt x="208" y="480"/>
                  <a:pt x="296" y="496"/>
                </a:cubicBezTo>
                <a:cubicBezTo>
                  <a:pt x="384" y="512"/>
                  <a:pt x="496" y="376"/>
                  <a:pt x="536" y="35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91080" y="212724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5625360" y="1955880"/>
            <a:ext cx="927000" cy="812880"/>
          </a:xfrm>
          <a:custGeom>
            <a:avLst/>
            <a:gdLst/>
            <a:ahLst/>
            <a:rect l="l" t="t" r="r" b="b"/>
            <a:pathLst>
              <a:path w="584" h="512">
                <a:moveTo>
                  <a:pt x="584" y="160"/>
                </a:moveTo>
                <a:cubicBezTo>
                  <a:pt x="464" y="80"/>
                  <a:pt x="344" y="0"/>
                  <a:pt x="248" y="16"/>
                </a:cubicBezTo>
                <a:cubicBezTo>
                  <a:pt x="152" y="32"/>
                  <a:pt x="0" y="176"/>
                  <a:pt x="8" y="256"/>
                </a:cubicBezTo>
                <a:cubicBezTo>
                  <a:pt x="16" y="336"/>
                  <a:pt x="208" y="480"/>
                  <a:pt x="296" y="496"/>
                </a:cubicBezTo>
                <a:cubicBezTo>
                  <a:pt x="384" y="512"/>
                  <a:pt x="496" y="376"/>
                  <a:pt x="536" y="35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628680" y="2127240"/>
            <a:ext cx="93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(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57600" y="2895480"/>
            <a:ext cx="914400" cy="8384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0" y="2819520"/>
            <a:ext cx="457200" cy="45720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288" y="0"/>
                </a:moveTo>
                <a:cubicBezTo>
                  <a:pt x="264" y="72"/>
                  <a:pt x="240" y="144"/>
                  <a:pt x="192" y="192"/>
                </a:cubicBezTo>
                <a:cubicBezTo>
                  <a:pt x="144" y="240"/>
                  <a:pt x="72" y="264"/>
                  <a:pt x="0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877280" y="296532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993960" y="4724280"/>
            <a:ext cx="7124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untrusted progra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s.a.: start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(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ok -&gt; st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ok -&gt; has re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(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bad,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security vi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120" y="3581280"/>
            <a:ext cx="8153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.A. monitor program exec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ering the bad state = security vio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22C2-FCF1-4589-9199-36193399E85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Bounding Resource Us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914400" y="2438280"/>
            <a:ext cx="914400" cy="8384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600200" y="2057400"/>
            <a:ext cx="2438280" cy="380880"/>
          </a:xfrm>
          <a:custGeom>
            <a:avLst/>
            <a:gdLst/>
            <a:ahLst/>
            <a:rect l="l" t="t" r="r" b="b"/>
            <a:pathLst>
              <a:path w="912" h="192">
                <a:moveTo>
                  <a:pt x="0" y="192"/>
                </a:moveTo>
                <a:cubicBezTo>
                  <a:pt x="140" y="96"/>
                  <a:pt x="280" y="0"/>
                  <a:pt x="432" y="0"/>
                </a:cubicBezTo>
                <a:cubicBezTo>
                  <a:pt x="584" y="0"/>
                  <a:pt x="748" y="96"/>
                  <a:pt x="912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86000" y="1600200"/>
            <a:ext cx="121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lloc (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733920" y="2438280"/>
            <a:ext cx="914400" cy="8384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400800" y="2438280"/>
            <a:ext cx="914400" cy="8384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-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4647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cy: "allocate fewer than n bytes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4120" y="259092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91520" y="3809880"/>
            <a:ext cx="914400" cy="8384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7010280" y="3276720"/>
            <a:ext cx="533520" cy="68580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288" y="0"/>
                </a:moveTo>
                <a:cubicBezTo>
                  <a:pt x="264" y="72"/>
                  <a:pt x="240" y="144"/>
                  <a:pt x="192" y="192"/>
                </a:cubicBezTo>
                <a:cubicBezTo>
                  <a:pt x="144" y="240"/>
                  <a:pt x="72" y="264"/>
                  <a:pt x="0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19920" y="3657600"/>
            <a:ext cx="121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lloc (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4419720" y="2208960"/>
            <a:ext cx="1066680" cy="228600"/>
          </a:xfrm>
          <a:custGeom>
            <a:avLst/>
            <a:gdLst/>
            <a:ahLst/>
            <a:rect l="l" t="t" r="r" b="b"/>
            <a:pathLst>
              <a:path w="672" h="288">
                <a:moveTo>
                  <a:pt x="0" y="0"/>
                </a:moveTo>
                <a:cubicBezTo>
                  <a:pt x="64" y="96"/>
                  <a:pt x="128" y="192"/>
                  <a:pt x="240" y="240"/>
                </a:cubicBezTo>
                <a:cubicBezTo>
                  <a:pt x="352" y="288"/>
                  <a:pt x="512" y="288"/>
                  <a:pt x="672" y="28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514600" y="259092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C2FC-1F12-41AB-8847-5B09D457B01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7543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Enforcing S.A. Spec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security-relevant operation has an associated function: chec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sted, provided by policy wri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o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mplements the s. a. transition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64000" y="4191120"/>
            <a:ext cx="469368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e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tate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state = star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lt  %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terminates exec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7CA7-FF24-4698-99E5-64B720F4781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Enforcing S.A. Spec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, wrap all function calls in chec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 performance using program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703880" y="3352680"/>
            <a:ext cx="58302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next_state = chec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e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urrent_state)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end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297440" y="274320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end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438280" y="2901960"/>
            <a:ext cx="838440" cy="228600"/>
          </a:xfrm>
          <a:custGeom>
            <a:avLst/>
            <a:gdLst>
              <a:gd name="textAreaLeft" fmla="*/ 131040 w 838440"/>
              <a:gd name="textAreaRight" fmla="*/ 733680 w 83844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F262-02B4-496C-88D0-DE528862441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 for improved reliability and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 I: certifying compi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 II: security via code instru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e certifying compil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popl '0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ty automaton spec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A dependently-typed target language (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ed work &amp; research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66FB-F66E-4592-BDF6-A64F722E9CD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Brief TAL Overview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28600" y="3048120"/>
            <a:ext cx="8686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marL="212400" indent="-212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mbly or machine code with typing anno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 files checked separately and linked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s basic safety without run-time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1771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emory safe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can't read/write arbitrary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1771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ontrol-flow safe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can't execute arbitrar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1771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Type abstra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AL can encode and enforce high-level abstract data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143000" y="1752480"/>
            <a:ext cx="5335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76520" y="1752480"/>
            <a:ext cx="228600" cy="3049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143000" y="2438280"/>
            <a:ext cx="5335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76520" y="2438280"/>
            <a:ext cx="228600" cy="3049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133720" y="1752480"/>
            <a:ext cx="457200" cy="304920"/>
          </a:xfrm>
          <a:custGeom>
            <a:avLst/>
            <a:gdLst>
              <a:gd name="textAreaLeft" fmla="*/ 71280 w 457200"/>
              <a:gd name="textAreaRight" fmla="*/ 400320 w 4572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133720" y="2438280"/>
            <a:ext cx="457200" cy="304920"/>
          </a:xfrm>
          <a:custGeom>
            <a:avLst/>
            <a:gdLst>
              <a:gd name="textAreaLeft" fmla="*/ 71280 w 457200"/>
              <a:gd name="textAreaRight" fmla="*/ 400320 w 4572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822400" y="1981080"/>
            <a:ext cx="165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ch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724280" y="1752480"/>
            <a:ext cx="457200" cy="304920"/>
          </a:xfrm>
          <a:custGeom>
            <a:avLst/>
            <a:gdLst>
              <a:gd name="textAreaLeft" fmla="*/ 71280 w 457200"/>
              <a:gd name="textAreaRight" fmla="*/ 400320 w 4572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457200" cy="304920"/>
          </a:xfrm>
          <a:custGeom>
            <a:avLst/>
            <a:gdLst>
              <a:gd name="textAreaLeft" fmla="*/ 71280 w 457200"/>
              <a:gd name="textAreaRight" fmla="*/ 400320 w 4572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629400" y="2057400"/>
            <a:ext cx="457200" cy="304920"/>
          </a:xfrm>
          <a:custGeom>
            <a:avLst/>
            <a:gdLst>
              <a:gd name="textAreaLeft" fmla="*/ 71280 w 457200"/>
              <a:gd name="textAreaRight" fmla="*/ 400320 w 4572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467480" y="1905120"/>
            <a:ext cx="53352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467480" y="2209680"/>
            <a:ext cx="5335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489280" y="198108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3DC1-100C-415D-A116-E10B5726084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Extensible Systems: Pro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ent-side custom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ug in your own devices, 3rd-party ut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rvation of market-sh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ndors can add features, improve functionality eas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 maintenance and ev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subscri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F109-86BF-4859-A9F5-6DC19B6B967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A TAL Compiler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822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TAL is pract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ompile "safe C" (aka Popcor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pointer arithmetic, unsafe ca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L-style data types, polymorphism, exce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simple optimiz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ll-check elimination, inlining, register al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mpiler bootstra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compiler hacking by Grossman, Morrisett, Smi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F6F6-25B6-48E1-B4C9-5F6D20BD9FB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Other TAL Feature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management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ia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-based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Dave’s 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l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-time code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cs.cornell/ta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21D8-8454-457B-95BC-4AB5192E483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Typing Assembly Cod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s divided into labeled code bl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block has a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code typ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{eax: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,ebx: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,...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types specify expected register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 code type to check the 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e control transfers (jumps) meet the assum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62120" y="4267080"/>
            <a:ext cx="7696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o :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{eax: int, ecx: {eax: int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ebx, 3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{eax: int, ebx: int, ecx: {eax: int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eax, ebx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mp ecx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O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9EB1-4A98-40BD-8D2F-7BF8880D2AC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ncreasing Expressivenes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 types ensure standard type 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s and data used as intended and cannot be conf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ty checks can’t be circumv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 a logic into the type system to express security invari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logic to encode the s.a. 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logic to prove checks unnecess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E1BB-D7D4-4AD5-932C-5458F444DCF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Target Language Predicate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s (for compile-time reason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ants:  start, has read, bad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s: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ic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security sta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te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relationships between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e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dependencies between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ee the pap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B08F-D7CC-4F10-9AF1-E94217A5573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453960" y="4191120"/>
            <a:ext cx="2951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r: {...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% Known: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instate(star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mp foo [start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Precondi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types can specify precondi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ypical us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58560" y="2540160"/>
            <a:ext cx="618228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o: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, instate(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),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bad].{eax: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, ecx: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7200" y="4191120"/>
            <a:ext cx="2895480" cy="1676160"/>
          </a:xfrm>
          <a:prstGeom prst="rect">
            <a:avLst/>
          </a:prstGeom>
          <a:noFill/>
          <a:ln w="93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723840" y="4038480"/>
            <a:ext cx="5066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instantiate polymorphic variabl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prove residual precond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eg: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instate(start), start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b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hope proofs are easy (syntactic match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otherwise place explicit proof at call 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eg: jmp foo [start, Proof, Proo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87BD-E3EA-4B40-8BF6-1A6A97679BA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Postcondi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ressed as a precondition on the return address typ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: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{ eax: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, ecx: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instate(has read)].{eax: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} 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fore returning, bar proves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instate(has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urn, assume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instate(has read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862F-E248-4C69-8156-256040B6BA1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Encoding Security Automata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ecurity-relevant function has a type specifying 3 preconditions, 1 post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end fun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instate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ur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ran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e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ur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ex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ex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590480" y="5105520"/>
            <a:ext cx="5826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: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curr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next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,P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,P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,P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].{ ecx: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P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].{ }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212800" y="3809880"/>
            <a:ext cx="3071160" cy="14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instate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ex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: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B2F6-B34B-4237-9682-F519EF6EDE1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Technical Not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predicates behave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linear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in linear logic, each state predicate is used o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te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ur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is "consumed" at send call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't be used in future proo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't fool type system into thinking code continues to be in stat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ur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te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ex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is "produced" on re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be used when next calling a security-sensitive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B7C6-05E3-4CDE-801C-203FA9EBF2A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ompile-time &amp; Run-tim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Compile-ti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asoning depends on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run-ti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34120" y="2438280"/>
            <a:ext cx="759348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eax, state    %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should represent the current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ecx, ret1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mp chec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end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state argument, state result in e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71840" y="4114800"/>
            <a:ext cx="793188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1: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sh eax             %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save next state on the 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ecx, ret2            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mp send             %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ust establis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recondition for 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e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%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ostcond. == precond. for ret1, 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A311-1386-43D0-BED7-0A3AE519260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Extensible Systems: C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bility opens system to malicious atta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we prevent misuse of resourc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i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ility makes it hard to reason about system ev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we limit damage done by erroneous extens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34C0-CC3D-4D96-B132-41532DD0DB3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heck</a:t>
            </a:r>
            <a:r>
              <a:rPr b="0" lang="en-US" sz="4400" spc="-1" strike="noStrike" baseline="-25000">
                <a:solidFill>
                  <a:srgbClr val="3333cc"/>
                </a:solidFill>
                <a:latin typeface="Arial"/>
              </a:rPr>
              <a:t>send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ype for chec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se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irst t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94680" y="2209680"/>
            <a:ext cx="8601840" cy="24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e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curr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,P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].{eax:state, ecx: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next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,P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,P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,P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].{eax:state}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instate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ur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tran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e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ur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ex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ext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9AED-979F-40A0-8232-5CD32BA82AF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heck</a:t>
            </a:r>
            <a:r>
              <a:rPr b="0" lang="en-US" sz="4400" spc="-1" strike="noStrike" baseline="-25000">
                <a:solidFill>
                  <a:srgbClr val="3333cc"/>
                </a:solidFill>
                <a:latin typeface="Arial"/>
              </a:rPr>
              <a:t>send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ype for chec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se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irst t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correspondence between run-time argument and static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4680" y="2209680"/>
            <a:ext cx="8601840" cy="24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e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curr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,P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].{eax:state, ecx: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next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,P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,P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,P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].{eax:state}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instate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ur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tran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e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ur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ex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ext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168920" y="5791320"/>
            <a:ext cx="7143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eax,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wrong_st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mov ecx, next; jmp chec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743200" y="3124080"/>
            <a:ext cx="457200" cy="99072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1EA4-23B0-4969-BCF9-50E18AD2628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heck</a:t>
            </a:r>
            <a:r>
              <a:rPr b="0" lang="en-US" sz="4400" spc="-1" strike="noStrike" baseline="-25000">
                <a:solidFill>
                  <a:srgbClr val="3333cc"/>
                </a:solidFill>
                <a:latin typeface="Arial"/>
              </a:rPr>
              <a:t>send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: provide very precis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ton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ype containing one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x : state(start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s eax contains a data structure that represents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exact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start state and no other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x : state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x contains data representing the unknown stat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ful in many contex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ar to Dependent M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Xi &amp; Pfenning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6C32-1C07-41CE-A2CF-FDC0A4F1D12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2286000" y="4038480"/>
            <a:ext cx="1447920" cy="381240"/>
          </a:xfrm>
          <a:prstGeom prst="rect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238880" y="4038480"/>
            <a:ext cx="1447920" cy="381240"/>
          </a:xfrm>
          <a:prstGeom prst="rect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-191520" y="3962520"/>
            <a:ext cx="909036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cur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.{eax:state(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cur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ecx: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nex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.{eax:state(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nex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instate(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cur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tran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e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cur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nex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next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151920" y="167652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s the automaton transition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uitively has type state -&gt;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tons help relate run-time values to compile-time predic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Using Singlet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5790960" y="4495680"/>
            <a:ext cx="2361960" cy="914400"/>
          </a:xfrm>
          <a:prstGeom prst="line">
            <a:avLst/>
          </a:prstGeom>
          <a:ln w="284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2590560" y="4495680"/>
            <a:ext cx="685800" cy="91440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914400" y="4495680"/>
            <a:ext cx="1447920" cy="91440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876920" y="4495680"/>
            <a:ext cx="685800" cy="914400"/>
          </a:xfrm>
          <a:prstGeom prst="line">
            <a:avLst/>
          </a:prstGeom>
          <a:ln w="284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7338-200A-4B8F-B05A-1B7E7D8D68A3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Using Check</a:t>
            </a:r>
            <a:r>
              <a:rPr b="0" lang="en-US" sz="4400" spc="-1" strike="noStrike" baseline="-25000">
                <a:solidFill>
                  <a:srgbClr val="3333cc"/>
                </a:solidFill>
                <a:latin typeface="Arial"/>
              </a:rPr>
              <a:t>send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0880" y="1676520"/>
            <a:ext cx="8382240" cy="51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o: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{ …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ssume:  instate(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curr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), eax : state(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curr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ecx, re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mp check_send[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ur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1: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next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, instate(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curr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), tran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send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curr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next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),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next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bad]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{eax:state(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next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)}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sh ea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ecx, ret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mp send [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ur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ex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   %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&amp; P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&amp; P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==&gt; 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2: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4C4C-6D13-4E08-85C4-448C82DC0D9E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Optimization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sis of s.a. structure makes redundant check elimination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ran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e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tart,start) as valid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666880" y="3352680"/>
            <a:ext cx="914400" cy="8384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876920" y="3352680"/>
            <a:ext cx="914400" cy="8384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505320" y="3200400"/>
            <a:ext cx="1447560" cy="304920"/>
          </a:xfrm>
          <a:custGeom>
            <a:avLst/>
            <a:gdLst/>
            <a:ahLst/>
            <a:rect l="l" t="t" r="r" b="b"/>
            <a:pathLst>
              <a:path w="912" h="192">
                <a:moveTo>
                  <a:pt x="0" y="192"/>
                </a:moveTo>
                <a:cubicBezTo>
                  <a:pt x="140" y="96"/>
                  <a:pt x="280" y="0"/>
                  <a:pt x="432" y="0"/>
                </a:cubicBezTo>
                <a:cubicBezTo>
                  <a:pt x="584" y="0"/>
                  <a:pt x="748" y="96"/>
                  <a:pt x="912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733200" y="2813040"/>
            <a:ext cx="93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(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816200" y="3327480"/>
            <a:ext cx="927000" cy="812880"/>
          </a:xfrm>
          <a:custGeom>
            <a:avLst/>
            <a:gdLst/>
            <a:ahLst/>
            <a:rect l="l" t="t" r="r" b="b"/>
            <a:pathLst>
              <a:path w="584" h="512">
                <a:moveTo>
                  <a:pt x="584" y="160"/>
                </a:moveTo>
                <a:cubicBezTo>
                  <a:pt x="464" y="80"/>
                  <a:pt x="344" y="0"/>
                  <a:pt x="248" y="16"/>
                </a:cubicBezTo>
                <a:cubicBezTo>
                  <a:pt x="152" y="32"/>
                  <a:pt x="0" y="176"/>
                  <a:pt x="8" y="256"/>
                </a:cubicBezTo>
                <a:cubicBezTo>
                  <a:pt x="16" y="336"/>
                  <a:pt x="208" y="480"/>
                  <a:pt x="296" y="496"/>
                </a:cubicBezTo>
                <a:cubicBezTo>
                  <a:pt x="384" y="512"/>
                  <a:pt x="496" y="376"/>
                  <a:pt x="536" y="35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067040" y="349884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5701680" y="3327480"/>
            <a:ext cx="927000" cy="812880"/>
          </a:xfrm>
          <a:custGeom>
            <a:avLst/>
            <a:gdLst/>
            <a:ahLst/>
            <a:rect l="l" t="t" r="r" b="b"/>
            <a:pathLst>
              <a:path w="584" h="512">
                <a:moveTo>
                  <a:pt x="584" y="160"/>
                </a:moveTo>
                <a:cubicBezTo>
                  <a:pt x="464" y="80"/>
                  <a:pt x="344" y="0"/>
                  <a:pt x="248" y="16"/>
                </a:cubicBezTo>
                <a:cubicBezTo>
                  <a:pt x="152" y="32"/>
                  <a:pt x="0" y="176"/>
                  <a:pt x="8" y="256"/>
                </a:cubicBezTo>
                <a:cubicBezTo>
                  <a:pt x="16" y="336"/>
                  <a:pt x="208" y="480"/>
                  <a:pt x="296" y="496"/>
                </a:cubicBezTo>
                <a:cubicBezTo>
                  <a:pt x="384" y="512"/>
                  <a:pt x="496" y="376"/>
                  <a:pt x="536" y="35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705000" y="3498840"/>
            <a:ext cx="93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(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733920" y="4267080"/>
            <a:ext cx="914400" cy="8384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648320" y="4191120"/>
            <a:ext cx="457200" cy="45720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288" y="0"/>
                </a:moveTo>
                <a:cubicBezTo>
                  <a:pt x="264" y="72"/>
                  <a:pt x="240" y="144"/>
                  <a:pt x="192" y="192"/>
                </a:cubicBezTo>
                <a:cubicBezTo>
                  <a:pt x="144" y="240"/>
                  <a:pt x="72" y="264"/>
                  <a:pt x="0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953240" y="433692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E5C5-42CD-49AC-877B-8A5DF43378E5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Optimization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181480" y="2057400"/>
            <a:ext cx="3048120" cy="3657600"/>
          </a:xfrm>
          <a:prstGeom prst="rect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257800" y="2209680"/>
            <a:ext cx="3276720" cy="35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-level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e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xiom A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trans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send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(start,star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200400" y="2743200"/>
            <a:ext cx="1447920" cy="685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432600" y="281952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971800" y="4191120"/>
            <a:ext cx="2057400" cy="380880"/>
          </a:xfrm>
          <a:custGeom>
            <a:avLst/>
            <a:gdLst>
              <a:gd name="textAreaLeft" fmla="*/ 321480 w 2057400"/>
              <a:gd name="textAreaRight" fmla="*/ 1800360 w 2057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066680" y="4038480"/>
            <a:ext cx="17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-level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914400" y="3962520"/>
            <a:ext cx="1905120" cy="914400"/>
          </a:xfrm>
          <a:prstGeom prst="rect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 rot="5400000">
            <a:off x="3581280" y="3733920"/>
            <a:ext cx="609840" cy="304560"/>
          </a:xfrm>
          <a:custGeom>
            <a:avLst/>
            <a:gdLst>
              <a:gd name="textAreaLeft" fmla="*/ 95040 w 609840"/>
              <a:gd name="textAreaRight" fmla="*/ 533880 w 6098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84E0-8254-49E2-B66F-C25A9C2C48C2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Optimization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-checker is simple but gen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 optimiz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ndant check rem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p invariant rem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62120" y="1447920"/>
            <a:ext cx="7848360" cy="23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 :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instate(start)].{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ecx, loop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mp send [start,start,By A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: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curr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next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,instate(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curr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),tran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send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curr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next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next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bad].{ecx: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P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].{ }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C95B-DB77-46FA-BCB8-5288AE6D3B9A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x86 implementation is sufficient for these encod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s polymorphism, higher-order type constructors, logical connectives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 singleton types, 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Lo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re work to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xioms in module interf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cy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5B5E-2AA0-4199-A77E-B06D2C79BD7E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 for improved reliability and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 I: certifying compi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 II: security via code instru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e certifying compil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popl '0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ty automaton spec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ertifying target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Related work &amp; research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18F3-E2F8-456F-89E4-590766C70765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Extensible Systems: Reality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ng economic and engineering pr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bile code, systems with programmable interfaces will prolife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ecessity: practical technology for increasing the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secur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reliability</a:t>
            </a: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extensibl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1D87-0A02-4577-852A-4DB00C95182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search Direc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 of policy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kinds of logics can we compile &amp; certif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w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Sandholm &amp; Schwartzbach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Lr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Crary &amp; Weirich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 of safety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we "clean up" after halting a progra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mutually distrustful 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cy-directed optimiz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78D0-9FBD-4D31-B03A-40E7CCDB73B9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cipe for secure certified co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basic safety without run-time over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a logic to encode complex invari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cy-directed code instru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y security policies independently of the rest of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dynamic checking to enforce policies when they can’t be proven st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1652-226A-421B-B14F-DEEC45F4B12B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mework for improved reliability and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 I: certifying compi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 II: security via code instru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nstanc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popl '0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ty automaton spec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ependently-typed target language (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ed work &amp; research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B312-500C-42BA-A30F-100F2055A61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ertified Cod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3809520"/>
            <a:ext cx="8686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ach annotations/certificate (types, proofs, ...) to untrusted object code ext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ificates make verification fea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e away from trust-based security &amp; reli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162920" y="2438280"/>
            <a:ext cx="990360" cy="685800"/>
          </a:xfrm>
          <a:custGeom>
            <a:avLst/>
            <a:gdLst/>
            <a:ahLst/>
            <a:rect l="l" t="t" r="r" b="b"/>
            <a:pathLst>
              <a:path w="624" h="432">
                <a:moveTo>
                  <a:pt x="0" y="0"/>
                </a:moveTo>
                <a:lnTo>
                  <a:pt x="0" y="144"/>
                </a:lnTo>
                <a:lnTo>
                  <a:pt x="144" y="144"/>
                </a:lnTo>
                <a:lnTo>
                  <a:pt x="144" y="288"/>
                </a:lnTo>
                <a:lnTo>
                  <a:pt x="0" y="288"/>
                </a:lnTo>
                <a:lnTo>
                  <a:pt x="0" y="432"/>
                </a:lnTo>
                <a:lnTo>
                  <a:pt x="624" y="432"/>
                </a:lnTo>
                <a:lnTo>
                  <a:pt x="624" y="0"/>
                </a:lnTo>
                <a:cubicBezTo>
                  <a:pt x="416" y="0"/>
                  <a:pt x="208" y="0"/>
                  <a:pt x="0" y="0"/>
                </a:cubicBez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14400" y="2438280"/>
            <a:ext cx="1143000" cy="690840"/>
          </a:xfrm>
          <a:custGeom>
            <a:avLst/>
            <a:gdLst/>
            <a:ahLst/>
            <a:rect l="l" t="t" r="r" b="b"/>
            <a:pathLst>
              <a:path w="720" h="435">
                <a:moveTo>
                  <a:pt x="576" y="3"/>
                </a:moveTo>
                <a:lnTo>
                  <a:pt x="576" y="147"/>
                </a:lnTo>
                <a:lnTo>
                  <a:pt x="720" y="147"/>
                </a:lnTo>
                <a:lnTo>
                  <a:pt x="720" y="291"/>
                </a:lnTo>
                <a:lnTo>
                  <a:pt x="576" y="291"/>
                </a:lnTo>
                <a:lnTo>
                  <a:pt x="576" y="435"/>
                </a:lnTo>
                <a:lnTo>
                  <a:pt x="0" y="435"/>
                </a:lnTo>
                <a:lnTo>
                  <a:pt x="0" y="3"/>
                </a:lnTo>
                <a:cubicBezTo>
                  <a:pt x="192" y="3"/>
                  <a:pt x="384" y="3"/>
                  <a:pt x="576" y="3"/>
                </a:cubicBezTo>
                <a:lnTo>
                  <a:pt x="582" y="0"/>
                </a:lnTo>
                <a:cubicBezTo>
                  <a:pt x="566" y="0"/>
                  <a:pt x="592" y="3"/>
                  <a:pt x="576" y="3"/>
                </a:cubicBez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37720" y="1746360"/>
            <a:ext cx="128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trus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085880" y="1752480"/>
            <a:ext cx="117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0920" y="2666880"/>
            <a:ext cx="838080" cy="228600"/>
          </a:xfrm>
          <a:custGeom>
            <a:avLst/>
            <a:gdLst>
              <a:gd name="textAreaLeft" fmla="*/ 130680 w 838080"/>
              <a:gd name="textAreaRight" fmla="*/ 733320 w 8380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363040" y="2965320"/>
            <a:ext cx="1553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wnload 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91320" y="2666880"/>
            <a:ext cx="838080" cy="228600"/>
          </a:xfrm>
          <a:custGeom>
            <a:avLst/>
            <a:gdLst>
              <a:gd name="textAreaLeft" fmla="*/ 130680 w 838080"/>
              <a:gd name="textAreaRight" fmla="*/ 733320 w 8380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191120" y="2438280"/>
            <a:ext cx="1143000" cy="690840"/>
          </a:xfrm>
          <a:custGeom>
            <a:avLst/>
            <a:gdLst/>
            <a:ahLst/>
            <a:rect l="l" t="t" r="r" b="b"/>
            <a:pathLst>
              <a:path w="720" h="435">
                <a:moveTo>
                  <a:pt x="576" y="3"/>
                </a:moveTo>
                <a:lnTo>
                  <a:pt x="576" y="147"/>
                </a:lnTo>
                <a:lnTo>
                  <a:pt x="720" y="147"/>
                </a:lnTo>
                <a:lnTo>
                  <a:pt x="720" y="291"/>
                </a:lnTo>
                <a:lnTo>
                  <a:pt x="576" y="291"/>
                </a:lnTo>
                <a:lnTo>
                  <a:pt x="576" y="435"/>
                </a:lnTo>
                <a:lnTo>
                  <a:pt x="0" y="435"/>
                </a:lnTo>
                <a:lnTo>
                  <a:pt x="0" y="3"/>
                </a:lnTo>
                <a:cubicBezTo>
                  <a:pt x="192" y="3"/>
                  <a:pt x="384" y="3"/>
                  <a:pt x="576" y="3"/>
                </a:cubicBezTo>
                <a:lnTo>
                  <a:pt x="582" y="0"/>
                </a:lnTo>
                <a:cubicBezTo>
                  <a:pt x="566" y="0"/>
                  <a:pt x="592" y="3"/>
                  <a:pt x="576" y="3"/>
                </a:cubicBez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3124080"/>
            <a:ext cx="91440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6160" y="3322800"/>
            <a:ext cx="132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ific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3760" y="3124080"/>
            <a:ext cx="187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 &amp; Exec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114800" y="1746360"/>
            <a:ext cx="98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24E2-07F7-49E8-B415-8D05A838899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ertifying Compilation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43000" y="5181480"/>
            <a:ext cx="1143000" cy="690840"/>
          </a:xfrm>
          <a:custGeom>
            <a:avLst/>
            <a:gdLst/>
            <a:ahLst/>
            <a:rect l="l" t="t" r="r" b="b"/>
            <a:pathLst>
              <a:path w="720" h="435">
                <a:moveTo>
                  <a:pt x="576" y="3"/>
                </a:moveTo>
                <a:lnTo>
                  <a:pt x="576" y="147"/>
                </a:lnTo>
                <a:lnTo>
                  <a:pt x="720" y="147"/>
                </a:lnTo>
                <a:lnTo>
                  <a:pt x="720" y="291"/>
                </a:lnTo>
                <a:lnTo>
                  <a:pt x="576" y="291"/>
                </a:lnTo>
                <a:lnTo>
                  <a:pt x="576" y="435"/>
                </a:lnTo>
                <a:lnTo>
                  <a:pt x="0" y="435"/>
                </a:lnTo>
                <a:lnTo>
                  <a:pt x="0" y="3"/>
                </a:lnTo>
                <a:cubicBezTo>
                  <a:pt x="192" y="3"/>
                  <a:pt x="384" y="3"/>
                  <a:pt x="576" y="3"/>
                </a:cubicBezTo>
                <a:lnTo>
                  <a:pt x="582" y="0"/>
                </a:lnTo>
                <a:cubicBezTo>
                  <a:pt x="566" y="0"/>
                  <a:pt x="592" y="3"/>
                  <a:pt x="576" y="3"/>
                </a:cubicBez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514600" y="5410080"/>
            <a:ext cx="838080" cy="228600"/>
          </a:xfrm>
          <a:custGeom>
            <a:avLst/>
            <a:gdLst>
              <a:gd name="textAreaLeft" fmla="*/ 130680 w 838080"/>
              <a:gd name="textAreaRight" fmla="*/ 733320 w 8380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43000" y="5867280"/>
            <a:ext cx="91440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143000" cy="690480"/>
          </a:xfrm>
          <a:custGeom>
            <a:avLst/>
            <a:gdLst/>
            <a:ahLst/>
            <a:rect l="l" t="t" r="r" b="b"/>
            <a:pathLst>
              <a:path w="720" h="435">
                <a:moveTo>
                  <a:pt x="576" y="3"/>
                </a:moveTo>
                <a:lnTo>
                  <a:pt x="576" y="147"/>
                </a:lnTo>
                <a:lnTo>
                  <a:pt x="720" y="147"/>
                </a:lnTo>
                <a:lnTo>
                  <a:pt x="720" y="291"/>
                </a:lnTo>
                <a:lnTo>
                  <a:pt x="576" y="291"/>
                </a:lnTo>
                <a:lnTo>
                  <a:pt x="576" y="435"/>
                </a:lnTo>
                <a:lnTo>
                  <a:pt x="0" y="435"/>
                </a:lnTo>
                <a:lnTo>
                  <a:pt x="0" y="3"/>
                </a:lnTo>
                <a:cubicBezTo>
                  <a:pt x="192" y="3"/>
                  <a:pt x="384" y="3"/>
                  <a:pt x="576" y="3"/>
                </a:cubicBezTo>
                <a:lnTo>
                  <a:pt x="582" y="0"/>
                </a:lnTo>
                <a:cubicBezTo>
                  <a:pt x="566" y="0"/>
                  <a:pt x="592" y="3"/>
                  <a:pt x="576" y="3"/>
                </a:cubicBez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720" y="1670040"/>
            <a:ext cx="138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-lev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5400000">
            <a:off x="1370880" y="4647960"/>
            <a:ext cx="533520" cy="228600"/>
          </a:xfrm>
          <a:custGeom>
            <a:avLst/>
            <a:gdLst>
              <a:gd name="textAreaLeft" fmla="*/ 83160 w 533520"/>
              <a:gd name="textAreaRight" fmla="*/ 466920 w 5335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5400000">
            <a:off x="1371240" y="2971800"/>
            <a:ext cx="533160" cy="228600"/>
          </a:xfrm>
          <a:custGeom>
            <a:avLst/>
            <a:gdLst>
              <a:gd name="textAreaLeft" fmla="*/ 83160 w 533160"/>
              <a:gd name="textAreaRight" fmla="*/ 474480 w 533160"/>
              <a:gd name="textAreaTop" fmla="*/ 48960 h 228600"/>
              <a:gd name="textAreaBottom" fmla="*/ 17964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4650"/>
                </a:moveTo>
                <a:lnTo>
                  <a:pt x="17421" y="4650"/>
                </a:lnTo>
                <a:lnTo>
                  <a:pt x="17421" y="0"/>
                </a:lnTo>
                <a:lnTo>
                  <a:pt x="21600" y="10800"/>
                </a:lnTo>
                <a:lnTo>
                  <a:pt x="17421" y="21600"/>
                </a:lnTo>
                <a:lnTo>
                  <a:pt x="17421" y="16950"/>
                </a:lnTo>
                <a:lnTo>
                  <a:pt x="3375" y="16950"/>
                </a:lnTo>
                <a:close/>
              </a:path>
              <a:path w="21600" h="21600">
                <a:moveTo>
                  <a:pt x="0" y="4650"/>
                </a:moveTo>
                <a:lnTo>
                  <a:pt x="675" y="4650"/>
                </a:lnTo>
                <a:lnTo>
                  <a:pt x="675" y="16950"/>
                </a:lnTo>
                <a:lnTo>
                  <a:pt x="0" y="16950"/>
                </a:lnTo>
                <a:close/>
              </a:path>
              <a:path w="21600" h="21600">
                <a:moveTo>
                  <a:pt x="1350" y="4650"/>
                </a:moveTo>
                <a:lnTo>
                  <a:pt x="2700" y="4650"/>
                </a:lnTo>
                <a:lnTo>
                  <a:pt x="2700" y="16950"/>
                </a:lnTo>
                <a:lnTo>
                  <a:pt x="1350" y="1695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43000" y="3429000"/>
            <a:ext cx="1143000" cy="690480"/>
          </a:xfrm>
          <a:custGeom>
            <a:avLst/>
            <a:gdLst/>
            <a:ahLst/>
            <a:rect l="l" t="t" r="r" b="b"/>
            <a:pathLst>
              <a:path w="720" h="435">
                <a:moveTo>
                  <a:pt x="576" y="3"/>
                </a:moveTo>
                <a:lnTo>
                  <a:pt x="576" y="147"/>
                </a:lnTo>
                <a:lnTo>
                  <a:pt x="720" y="147"/>
                </a:lnTo>
                <a:lnTo>
                  <a:pt x="720" y="291"/>
                </a:lnTo>
                <a:lnTo>
                  <a:pt x="576" y="291"/>
                </a:lnTo>
                <a:lnTo>
                  <a:pt x="576" y="435"/>
                </a:lnTo>
                <a:lnTo>
                  <a:pt x="0" y="435"/>
                </a:lnTo>
                <a:lnTo>
                  <a:pt x="0" y="3"/>
                </a:lnTo>
                <a:cubicBezTo>
                  <a:pt x="192" y="3"/>
                  <a:pt x="384" y="3"/>
                  <a:pt x="576" y="3"/>
                </a:cubicBezTo>
                <a:lnTo>
                  <a:pt x="582" y="0"/>
                </a:lnTo>
                <a:cubicBezTo>
                  <a:pt x="566" y="0"/>
                  <a:pt x="592" y="3"/>
                  <a:pt x="576" y="3"/>
                </a:cubicBez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9680" y="288936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960" y="456552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43000" y="4114800"/>
            <a:ext cx="91440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362680" y="3505320"/>
            <a:ext cx="134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ot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86000" y="570852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86200" y="160020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-level certificate generation must be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cessary compon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a source-level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a compiler to compile and optimize source programs while preserving the certific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a certifying target languag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143000" y="2362320"/>
            <a:ext cx="91440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6000" y="2895480"/>
            <a:ext cx="127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ific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2057400" y="25146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5BDF-55EA-42D6-BDE4-C1190704A7B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3352680"/>
            <a:ext cx="794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should we obtain the initial certifica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2E79-624D-4A9C-846B-A5ABB01AB4E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5T16:16:52Z</dcterms:created>
  <dc:creator>walker</dc:creator>
  <dc:description/>
  <dc:language>en-US</dc:language>
  <cp:lastModifiedBy>walker</cp:lastModifiedBy>
  <dcterms:modified xsi:type="dcterms:W3CDTF">2000-05-02T23:17:57Z</dcterms:modified>
  <cp:revision>105</cp:revision>
  <dc:subject/>
  <dc:title>Security via  Inlined Reference Monitors and Strong Typing</dc:title>
</cp:coreProperties>
</file>