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B0A7-0AFA-44CA-A59F-2CCC7A478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basic oper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nly valid pointers are derefe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nly valid code is ex4ec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functions are called with the correct number of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vantages: easier to understand (and therefore to verify that they imply desired semantic properties), debug, evolve security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ompiler and (to some extent) the policies can be reused for a variety of extensibl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point is to explain a couple of the things that make this language different from a high-level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there will be run-time objects that represent state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scribe dependencies between values:  eg: for resource bounds, we must reason about 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I'll explain in a few minutes what to do if P1 and P2 are not syntactically apparent from typing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only the arguments of  type tau-1 and tau-2 have any compile-tim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in idea: function types control the propagation of information about the security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is is just one encoding, you could imagine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inear in the sense of linear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utomatic compilation uses run-time checks to establish pre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even though the state sigma-next is "unknown", we have information about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te: ignoring C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language features: call/cc,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23E-BE62-4E9F-B9FE-0AC531DD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B9D-F854-4B5E-A31B-6FBB681B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819-00BF-4E20-883A-2EF10B12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7972-97B4-4EEC-A54F-821EC0AD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34A-B33F-49D5-B617-7D9AE615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366-1F77-472A-9936-0F22793D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BD3-9B65-403B-8C58-544EAB31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C11-76CE-4BA1-A1A9-E7186893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17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219-2641-4C5D-84C8-26F22D39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5CC-0792-482A-9710-A6C90BD2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029-4A5E-4776-9B1A-94DB6EF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BB8-8BDF-436E-8FEC-93DAEC3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12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vid Walker, Cornell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59AE-293B-4828-954C-A4AF878EE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295280"/>
            <a:ext cx="754380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e Certifying Compi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al-logo-small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320040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What do you want to type check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type-saf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nference relieves the tedium of proof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s will rewrite programs so they type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9A2-09ED-41FE-8FAB-04EF4144D6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ying Compilation So Fa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54100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167652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720" y="1441440"/>
            <a:ext cx="138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ype 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13708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371240" y="2971800"/>
            <a:ext cx="533160" cy="228600"/>
          </a:xfrm>
          <a:custGeom>
            <a:avLst/>
            <a:gdLst>
              <a:gd name="textAreaLeft" fmla="*/ 83160 w 533160"/>
              <a:gd name="textAreaRight" fmla="*/ 474480 w 53316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342900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9680" y="28893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960" y="4565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411480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9884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y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7085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33560" y="16002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rongly ty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-level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-prese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r to compile and optimize sourc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 certificate language for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-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36232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865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057400" y="2514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A51-A00B-4D83-8235-AD9B0925CD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ying Compil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-Carrying C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Necula &amp; Le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ve base logic that can encode many security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ractice, logic is extended with 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yp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s produ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ype safet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d Assembly Langu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Morrisett, Walker, et a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ype constructor language that can encode high-level ab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ype saf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7A4-73CE-4A13-A6A2-F2CA96AD3B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6618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ventional Type Safe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ypes ensure basic safe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operations performed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ion/interfaces hide data representations and system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ntional types don't describe complex securit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policies that depend upon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issa virus reads Outlook contacts list and then sends 50 e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CE6-C45F-40A2-8131-B2617B12D0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D10-4DED-4ADA-BB6B-FBEF3246C7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lexible Security Polici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policies independently of extensib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 instruments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understand, debug, evolve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720" y="1676520"/>
            <a:ext cx="131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2895120" y="2361960"/>
            <a:ext cx="380880" cy="228600"/>
          </a:xfrm>
          <a:custGeom>
            <a:avLst/>
            <a:gdLst>
              <a:gd name="textAreaLeft" fmla="*/ 59400 w 380880"/>
              <a:gd name="textAreaRight" fmla="*/ 339120 w 38088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3200" y="28195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48006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743200"/>
            <a:ext cx="2590920" cy="335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1828800"/>
            <a:ext cx="99036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352680"/>
            <a:ext cx="990720" cy="3812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419720"/>
            <a:ext cx="99072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5486400"/>
            <a:ext cx="99072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361600" y="3962160"/>
            <a:ext cx="380880" cy="228600"/>
          </a:xfrm>
          <a:custGeom>
            <a:avLst/>
            <a:gdLst>
              <a:gd name="textAreaLeft" fmla="*/ 59400 w 380880"/>
              <a:gd name="textAreaRight" fmla="*/ 339120 w 38088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361600" y="5029200"/>
            <a:ext cx="381240" cy="228600"/>
          </a:xfrm>
          <a:custGeom>
            <a:avLst/>
            <a:gdLst>
              <a:gd name="textAreaLeft" fmla="*/ 59400 w 381240"/>
              <a:gd name="textAreaRight" fmla="*/ 339480 w 38124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457200" y="441900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380880" cy="228600"/>
          </a:xfrm>
          <a:custGeom>
            <a:avLst/>
            <a:gdLst>
              <a:gd name="textAreaLeft" fmla="*/ 59400 w 380880"/>
              <a:gd name="textAreaRight" fmla="*/ 339120 w 38088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58128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0720" y="3886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AA33-FC4D-4FA6-AC15-336C9B9508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ity Policy Specific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: a language for specifying securit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for specifying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v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network send" and "file read" are security-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for specifying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llegal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ivacy policy: "no send after rea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asibl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pil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able to prevent programs from violating the policy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B80F-1B84-4778-B7A8-77D2C0D818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F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Wahbe et al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 are read, write, j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 memory safet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rlingsson &amp; Schneider]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c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vans &amp; Twyma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policy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ot certifying comp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65A-52A6-4950-8F63-F928B58015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utting it Togeth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ef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licies in a high-level, flexible and system-independent specification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 extensions both with dynamic security checks and stat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ser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of of security policy during compil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verif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rtified compiler output to reduce T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939-F755-4AAA-A81F-8C692FCCCC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n instanc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073-6377-4508-ACF1-067F096FD5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ystems have programmable interf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rs and editors (postscript printers, emacs, 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s and servers (applets, plugins, CGI-scri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s (virus scan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 (active networks, JI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3048120"/>
            <a:ext cx="99072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04812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" y="319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62200" y="304164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27672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89480" y="358128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, Link &amp;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F24-D5A9-4F23-A78A-B66696A06F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e Certified Co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Autom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rlingsson &amp; Schneide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pecify securit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compilatio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pendently-typed target language (T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introduction to 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for certifying security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 core language proven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xpress any security automat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4BB-C7F0-4A63-A412-9CB9E2216D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ity Architectur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41008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19810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9749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18280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1828440" y="2971800"/>
            <a:ext cx="533160" cy="228600"/>
          </a:xfrm>
          <a:custGeom>
            <a:avLst/>
            <a:gdLst>
              <a:gd name="textAreaLeft" fmla="*/ 83160 w 533160"/>
              <a:gd name="textAreaRight" fmla="*/ 474480 w 53316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42900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6120" y="28893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6160" y="4565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411480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34656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57085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819520" y="297180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743200"/>
            <a:ext cx="10666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8320" y="1752480"/>
            <a:ext cx="16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429000"/>
            <a:ext cx="99036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0800" y="3422520"/>
            <a:ext cx="117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54100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4495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99036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0800" y="197496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400000">
            <a:off x="6476760" y="2971800"/>
            <a:ext cx="533160" cy="228600"/>
          </a:xfrm>
          <a:custGeom>
            <a:avLst/>
            <a:gdLst>
              <a:gd name="textAreaLeft" fmla="*/ 83160 w 533160"/>
              <a:gd name="textAreaRight" fmla="*/ 466560 w 5331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97180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7320" y="288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647640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5175360"/>
            <a:ext cx="14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4114800"/>
            <a:ext cx="9903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5257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288" y="432"/>
                </a:lnTo>
                <a:lnTo>
                  <a:pt x="28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5257800"/>
            <a:ext cx="609840" cy="685800"/>
          </a:xfrm>
          <a:custGeom>
            <a:avLst/>
            <a:gdLst/>
            <a:ahLst/>
            <a:rect l="l" t="t" r="r" b="b"/>
            <a:pathLst>
              <a:path w="384" h="432">
                <a:moveTo>
                  <a:pt x="240" y="0"/>
                </a:moveTo>
                <a:lnTo>
                  <a:pt x="240" y="144"/>
                </a:lnTo>
                <a:lnTo>
                  <a:pt x="384" y="144"/>
                </a:lnTo>
                <a:lnTo>
                  <a:pt x="384" y="288"/>
                </a:lnTo>
                <a:lnTo>
                  <a:pt x="240" y="288"/>
                </a:lnTo>
                <a:lnTo>
                  <a:pt x="240" y="432"/>
                </a:lnTo>
                <a:lnTo>
                  <a:pt x="0" y="432"/>
                </a:lnTo>
                <a:lnTo>
                  <a:pt x="0" y="0"/>
                </a:lnTo>
                <a:lnTo>
                  <a:pt x="240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9A0-F7C3-4E99-B7DB-1DFAD255CF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curity Autom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mechanism for specifying security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an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fety prop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ontrol polici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access file fo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bound polici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 no more than 1M of memo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lissa polic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twork send after file read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7F3-BB9C-4AD4-A4EA-125177295C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3886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: No send operation after a rea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: start, has read,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(program operations): send,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(state x input -&gt; sta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x read(f) -&gt; ha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2057400"/>
            <a:ext cx="91440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2057400"/>
            <a:ext cx="91440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1905120"/>
            <a:ext cx="1447560" cy="30456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1800" y="151776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44800" y="203184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640" y="2203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930280" y="203184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3600" y="220356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2971800"/>
            <a:ext cx="91440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289548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840" y="3041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55F-8E9D-424B-8C8F-2F6724994F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ample Cont’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19810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19810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1828800"/>
            <a:ext cx="1447920" cy="30492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6880" y="14414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39880" y="19558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1080" y="2127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625360" y="19558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8680" y="21272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28954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281952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7280" y="29653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3960" y="4724280"/>
            <a:ext cx="71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untrusted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s.a.: star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(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 -&gt;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 -&gt; has r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(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bad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curity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35812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A. monitor program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ing the bad state = security vi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47F1-C7E7-4149-A2A1-47F68D5B0C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ounding Resource U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24382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2057400"/>
            <a:ext cx="2438280" cy="38088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16002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4382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24382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: "allocate fewer than n bytes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259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38098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7010280" y="3276720"/>
            <a:ext cx="533520" cy="6858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6576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419720" y="2208960"/>
            <a:ext cx="1066680" cy="2286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cubicBezTo>
                  <a:pt x="64" y="96"/>
                  <a:pt x="128" y="192"/>
                  <a:pt x="240" y="240"/>
                </a:cubicBezTo>
                <a:cubicBezTo>
                  <a:pt x="352" y="288"/>
                  <a:pt x="512" y="288"/>
                  <a:pt x="672" y="2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259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561-A8FC-4B59-B98A-6240A719FD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nforcing S.A. Spec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ecurity-relevant operation has an associated function: 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ed, provided by policy wr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lements the s. a. transi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64000" y="4191120"/>
            <a:ext cx="46936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te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ate = star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rminates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F3D-D105-4B56-8A36-7A4D426217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nforcing S.A. Spec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, wrap all function calls in che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performance using program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03880" y="3352680"/>
            <a:ext cx="5830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next_state = 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urrent_state)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97440" y="2743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901960"/>
            <a:ext cx="838440" cy="228600"/>
          </a:xfrm>
          <a:custGeom>
            <a:avLst/>
            <a:gdLst>
              <a:gd name="textAreaLeft" fmla="*/ 131040 w 838440"/>
              <a:gd name="textAreaRight" fmla="*/ 733680 w 8384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B91-1237-4411-9126-B3F6298A07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certifying compi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7F9-3B7F-40FF-85D9-6D470081E2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rief TAL Overview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or machine code with typing ann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files checked separately and link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basic safety without run-time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mory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n't read/write arbitrar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rol-flow safe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an't execute arbitrar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 abst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AL can encode and enforce high-level abstract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1752480"/>
            <a:ext cx="533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752480"/>
            <a:ext cx="228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38280"/>
            <a:ext cx="533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2438280"/>
            <a:ext cx="228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3720" y="17524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24382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22400" y="19810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24280" y="17524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629400" y="20574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1905120"/>
            <a:ext cx="53352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09680"/>
            <a:ext cx="5335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9280" y="1981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2D7-65C5-4932-8570-D089A443EF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: Pro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side custo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 in your own devices, 3rd-part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tion of market-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s can add features, improve functionality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maintenance and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sub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FC8-B438-43B7-B638-F6D9CB34E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 TAL Compil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AL is prac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mpile "safe C" (aka Popco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er arithmetic, unsafe c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-style data types, polymorphism,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imple optim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-check elimination, inlining, register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bootstra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iler hacking by Grossman, Morrisett, Sm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0B2-D463-4229-A083-79B18DA118A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ther TAL Featur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management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-based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Dave’s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-time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s.cornell/ta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20F-C8A4-4550-A00B-FF241AE131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yping Assembly Co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 divided into labeled cod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lock has 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de 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eb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ypes specify expected register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code type to check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control transfers (jumps) meet the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42670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 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eax: int, ecx: {eax: int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bx, 3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eax: int, ebx: int, ecx: {eax: int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ax, ebx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ecx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6EB-FC63-4E6D-A9BD-9B2FFD2C10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creasing Expressivenes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types ensure standard type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and data used as intended and cannot be con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checks can’t be circumv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logic into the type system to express security invar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ogic to encode the s.a.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logic to prove checks un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AF8C-52AC-40B9-9723-1ACBA15602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arget Language Predicat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(for compile-time reaso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:  start, has read, bad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: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security st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relationships betwee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ependencies between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the pa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034-5601-48D5-85EF-CC4E7417BE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3960" y="4191120"/>
            <a:ext cx="295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: {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Known: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state(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mp foo [start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condi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types can specify precon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ical 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560" y="2540160"/>
            <a:ext cx="6182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d].{ea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91120"/>
            <a:ext cx="2895480" cy="167616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23840" y="4038480"/>
            <a:ext cx="5066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stantiate polymorphic varia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ve residual pre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g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state(start), start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pe proofs are easy (syntactic match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therwise place explicit proof at cal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g: jmp foo [start, Proof, Proo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FAC-233E-472C-AF4F-6F32240267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ostcondi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ed as a precondition on the return address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 ea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ec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instate(has read)].{ea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}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returning, bar prov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state(has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urn, assum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state(has rea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B33D-7EEB-4680-BFF0-F2F5CB7114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ncoding Security Autom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urity-relevant function has a type specifying 3 preconditions, 1 post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nd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90480" y="5105520"/>
            <a:ext cx="582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 ec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 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12800" y="3809880"/>
            <a:ext cx="307116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944-371F-4DD0-B6DC-E69D6A0331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echnical Not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predicates be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in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 linear logic, each state predicate is used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"consumed" at send cal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be used in future pro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't fool type system into thinking code continues to be in 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"produced" on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when next calling a security-sensitiv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B9C-0C9C-404D-A4A8-9B6BA14361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mpile-time &amp; Run-tim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mpile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soning depends o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un-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4120" y="2438280"/>
            <a:ext cx="7593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ax, state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hould represent the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1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ate argument, state result in 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71840" y="4114800"/>
            <a:ext cx="7931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1: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eax         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ave next state on th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2 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send         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ust establ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econdition for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stcond. == precond. for ret1,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459-DEF2-4302-9484-17DC5B252F7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: C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opens system to malicious at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prevent misuse of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makes it hard to reason about system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limit damage done by erroneous exten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F40-09DE-4D6F-A879-340F140190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e for 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rst 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4680" y="2209680"/>
            <a:ext cx="8601840" cy="24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566-A62B-4DA1-82D8-1E2CDE596E9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e for chec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irst 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respondence between run-time argument and stat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4680" y="2209680"/>
            <a:ext cx="8601840" cy="24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eax:state}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state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68920" y="5791320"/>
            <a:ext cx="714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ax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rong_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mov ecx, next; jmp 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743200" y="3124080"/>
            <a:ext cx="45720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278-83AB-467E-BFFD-8362A10C555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provide very precis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containing on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x : state(sta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eax contains a data structure that represent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xac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tart state and no oth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x : state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x contains data representing the unknown st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many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ependent 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Xi &amp; Pfenning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DDE-CB26-43F2-B6C3-64232DDF2E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0" y="4038480"/>
            <a:ext cx="1447920" cy="3812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8880" y="4038480"/>
            <a:ext cx="1447920" cy="3812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191520" y="3962520"/>
            <a:ext cx="90903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{eax: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ecx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{eax:state(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nex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s the automaton transi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vely has type state -&gt;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tons help relate run-time values to compile-time pre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Singlet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790960" y="4495680"/>
            <a:ext cx="2361960" cy="9144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590560" y="4495680"/>
            <a:ext cx="68580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4495680"/>
            <a:ext cx="14479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76920" y="4495680"/>
            <a:ext cx="685800" cy="9144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C6D-3B5D-47D6-A1D7-4F562701A9E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Check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676520"/>
            <a:ext cx="838224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ssume:  instate(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, eax : state(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check_send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1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 tra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d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{eax: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}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ea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ret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send 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  %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&amp; 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&amp; P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==&gt;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2: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5C9-5E91-4CC8-A5C9-353AE85F9A6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s.a. structure makes redundant check elimin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n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art,start) as vali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66880" y="33526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33526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3200400"/>
            <a:ext cx="1447560" cy="30492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140" y="96"/>
                  <a:pt x="280" y="0"/>
                  <a:pt x="432" y="0"/>
                </a:cubicBezTo>
                <a:cubicBezTo>
                  <a:pt x="584" y="0"/>
                  <a:pt x="748" y="96"/>
                  <a:pt x="912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33200" y="28130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16200" y="33274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7040" y="34988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701680" y="3327480"/>
            <a:ext cx="927000" cy="812880"/>
          </a:xfrm>
          <a:custGeom>
            <a:avLst/>
            <a:gdLst/>
            <a:ahLst/>
            <a:rect l="l" t="t" r="r" b="b"/>
            <a:pathLst>
              <a:path w="584" h="512">
                <a:moveTo>
                  <a:pt x="584" y="160"/>
                </a:moveTo>
                <a:cubicBezTo>
                  <a:pt x="464" y="80"/>
                  <a:pt x="344" y="0"/>
                  <a:pt x="248" y="16"/>
                </a:cubicBezTo>
                <a:cubicBezTo>
                  <a:pt x="152" y="32"/>
                  <a:pt x="0" y="176"/>
                  <a:pt x="8" y="256"/>
                </a:cubicBezTo>
                <a:cubicBezTo>
                  <a:pt x="16" y="336"/>
                  <a:pt x="208" y="480"/>
                  <a:pt x="296" y="496"/>
                </a:cubicBezTo>
                <a:cubicBezTo>
                  <a:pt x="384" y="512"/>
                  <a:pt x="496" y="376"/>
                  <a:pt x="536" y="3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000" y="34988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4267080"/>
            <a:ext cx="91440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419112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cubicBezTo>
                  <a:pt x="264" y="72"/>
                  <a:pt x="240" y="144"/>
                  <a:pt x="192" y="192"/>
                </a:cubicBezTo>
                <a:cubicBezTo>
                  <a:pt x="144" y="240"/>
                  <a:pt x="72" y="264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53240" y="4336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52D-9B1F-4910-AB15-CC736A39AA5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2057400"/>
            <a:ext cx="3048120" cy="36576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2209680"/>
            <a:ext cx="32767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xiom A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ans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(start,st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2743200"/>
            <a:ext cx="144792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32600" y="28195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71800" y="4191120"/>
            <a:ext cx="2057400" cy="380880"/>
          </a:xfrm>
          <a:custGeom>
            <a:avLst/>
            <a:gdLst>
              <a:gd name="textAreaLeft" fmla="*/ 321480 w 2057400"/>
              <a:gd name="textAreaRight" fmla="*/ 1800360 w 2057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038480"/>
            <a:ext cx="17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3962520"/>
            <a:ext cx="1905120" cy="914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 rot="5400000">
            <a:off x="3581280" y="37339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873-B4B9-4806-8312-6C6E4C70E27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-checker is simple but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t check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invariant rem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1447920"/>
            <a:ext cx="78483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instate(start)].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ecx, loop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mp send [start,start,By A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instate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trans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se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curr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d].{ecx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[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].{ }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2A1-B983-449E-A7E1-C591E5C989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x86 implementation is sufficient for these enco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polymorphism, higher-order type constructors, logical connectiv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 singleton types,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o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work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oms in modul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796-ECAD-49E0-87D6-45FCF8BB78A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certifying compi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rtifying target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009-B17D-40D2-AC30-5F804C237E8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tensible Systems: Real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economic and engineering p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e code, systems with programmable interfaces will prolif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cessity: practical technology for increasing th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ecur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liability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extensib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052-1377-41A7-B49B-3B804EA63C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search Dire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policy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s of logics can we compile &amp; certif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w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andholm &amp; Schwartzbac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Crary &amp; Weiric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of safety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"clean up" after halting a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utually distrustfu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-directed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BB5-2272-428A-A56C-AA2DDC303EB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ipe for secure certified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basic safety without run-tim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logic to encode complex in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-directed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security policies independently of the rest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ynamic checking to enforce policies when they can’t be proven st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6D7-BBFB-47FD-8BD2-8DA60900F76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work for improved reliability an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: certifying comp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II: security via code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pl '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utomaton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pendently-typed target language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work &amp; researc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B09-DBC3-489C-89AB-AC00A3C0F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ied Co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3809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 annotations/certificate (types, proofs, ...) to untrusted object code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es make verification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away from trust-based security &amp;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2438280"/>
            <a:ext cx="99036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0"/>
                </a:moveTo>
                <a:lnTo>
                  <a:pt x="0" y="144"/>
                </a:lnTo>
                <a:lnTo>
                  <a:pt x="144" y="144"/>
                </a:lnTo>
                <a:lnTo>
                  <a:pt x="144" y="288"/>
                </a:lnTo>
                <a:lnTo>
                  <a:pt x="0" y="288"/>
                </a:lnTo>
                <a:lnTo>
                  <a:pt x="0" y="432"/>
                </a:lnTo>
                <a:lnTo>
                  <a:pt x="624" y="432"/>
                </a:lnTo>
                <a:lnTo>
                  <a:pt x="624" y="0"/>
                </a:lnTo>
                <a:cubicBezTo>
                  <a:pt x="416" y="0"/>
                  <a:pt x="208" y="0"/>
                  <a:pt x="0" y="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4382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7720" y="174636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ru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5880" y="175248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26668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3040" y="2965320"/>
            <a:ext cx="155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6668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4382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1240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6160" y="33228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3760" y="312408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&amp; 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1746360"/>
            <a:ext cx="98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607-7F32-4CA7-B784-B4E41A8C16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rtifying Compi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5181480"/>
            <a:ext cx="1143000" cy="69084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410080"/>
            <a:ext cx="838080" cy="228600"/>
          </a:xfrm>
          <a:custGeom>
            <a:avLst/>
            <a:gdLst>
              <a:gd name="textAreaLeft" fmla="*/ 130680 w 838080"/>
              <a:gd name="textAreaRight" fmla="*/ 733320 w 8380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586728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720" y="1670040"/>
            <a:ext cx="138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1370880" y="4647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1371240" y="2971800"/>
            <a:ext cx="533160" cy="228600"/>
          </a:xfrm>
          <a:custGeom>
            <a:avLst/>
            <a:gdLst>
              <a:gd name="textAreaLeft" fmla="*/ 83160 w 533160"/>
              <a:gd name="textAreaRight" fmla="*/ 474480 w 533160"/>
              <a:gd name="textAreaTop" fmla="*/ 48960 h 228600"/>
              <a:gd name="textAreaBottom" fmla="*/ 17964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4650"/>
                </a:moveTo>
                <a:lnTo>
                  <a:pt x="17421" y="4650"/>
                </a:lnTo>
                <a:lnTo>
                  <a:pt x="17421" y="0"/>
                </a:lnTo>
                <a:lnTo>
                  <a:pt x="21600" y="10800"/>
                </a:lnTo>
                <a:lnTo>
                  <a:pt x="17421" y="21600"/>
                </a:lnTo>
                <a:lnTo>
                  <a:pt x="17421" y="16950"/>
                </a:lnTo>
                <a:lnTo>
                  <a:pt x="3375" y="16950"/>
                </a:lnTo>
                <a:close/>
              </a:path>
              <a:path w="21600" h="21600">
                <a:moveTo>
                  <a:pt x="0" y="4650"/>
                </a:moveTo>
                <a:lnTo>
                  <a:pt x="675" y="4650"/>
                </a:lnTo>
                <a:lnTo>
                  <a:pt x="675" y="16950"/>
                </a:lnTo>
                <a:lnTo>
                  <a:pt x="0" y="16950"/>
                </a:lnTo>
                <a:close/>
              </a:path>
              <a:path w="21600" h="21600">
                <a:moveTo>
                  <a:pt x="1350" y="4650"/>
                </a:moveTo>
                <a:lnTo>
                  <a:pt x="2700" y="4650"/>
                </a:lnTo>
                <a:lnTo>
                  <a:pt x="2700" y="16950"/>
                </a:lnTo>
                <a:lnTo>
                  <a:pt x="1350" y="1695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429000"/>
            <a:ext cx="1143000" cy="690480"/>
          </a:xfrm>
          <a:custGeom>
            <a:avLst/>
            <a:gdLst/>
            <a:ahLst/>
            <a:rect l="l" t="t" r="r" b="b"/>
            <a:pathLst>
              <a:path w="720" h="435">
                <a:moveTo>
                  <a:pt x="576" y="3"/>
                </a:moveTo>
                <a:lnTo>
                  <a:pt x="576" y="147"/>
                </a:lnTo>
                <a:lnTo>
                  <a:pt x="720" y="147"/>
                </a:lnTo>
                <a:lnTo>
                  <a:pt x="720" y="291"/>
                </a:lnTo>
                <a:lnTo>
                  <a:pt x="576" y="291"/>
                </a:lnTo>
                <a:lnTo>
                  <a:pt x="576" y="435"/>
                </a:lnTo>
                <a:lnTo>
                  <a:pt x="0" y="435"/>
                </a:lnTo>
                <a:lnTo>
                  <a:pt x="0" y="3"/>
                </a:lnTo>
                <a:cubicBezTo>
                  <a:pt x="192" y="3"/>
                  <a:pt x="384" y="3"/>
                  <a:pt x="576" y="3"/>
                </a:cubicBezTo>
                <a:lnTo>
                  <a:pt x="582" y="0"/>
                </a:lnTo>
                <a:cubicBezTo>
                  <a:pt x="566" y="0"/>
                  <a:pt x="592" y="3"/>
                  <a:pt x="576" y="3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9680" y="288936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960" y="45655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11480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680" y="3505320"/>
            <a:ext cx="134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7085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86200" y="16002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certificate generation must b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 source-level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a compiler to compile and optimize source programs while preserving the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a certifying target langua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362320"/>
            <a:ext cx="9144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8954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057400" y="2514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E4F-78CE-4E7C-9FAA-B7BD5646F8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352680"/>
            <a:ext cx="79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ould we obtain the initial certific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A82-04F7-4BC9-8E6F-7A95F70F03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16:52Z</dcterms:created>
  <dc:creator>walker</dc:creator>
  <dc:description/>
  <dc:language>en-US</dc:language>
  <cp:lastModifiedBy>walker</cp:lastModifiedBy>
  <dcterms:modified xsi:type="dcterms:W3CDTF">2000-05-02T23:17:57Z</dcterms:modified>
  <cp:revision>105</cp:revision>
  <dc:subject/>
  <dc:title>Security via  Inlined Reference Monitors and Strong Typing</dc:title>
</cp:coreProperties>
</file>