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072F-75DE-425A-B2CE-8A49EB2D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asic oper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nly valid pointers are derefe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nly valid code is ex4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unctions are called with the correct number of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vantages: easier to understand (and therefore to verify that they imply desired semantic properties), debug, evolve 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ompiler and (to some extent) the policies can be reused for a variety of extensibl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point is to explain a couple of the things that make this language different from a high-level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there will be run-time objects that represent state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scribe dependencies between values:  eg: for resource bounds, we must reason about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I'll explain in a few minutes what to do if P1 and P2 are not syntactically apparent from typing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only the arguments of  type tau-1 and tau-2 have any compile-tim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in idea: function types control the propagation of information about the security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is is just one encoding, you could imagine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inear in the sense of linear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ven though the state sigma-next is "unknown", we have information about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ignoring C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anguage features: call/cc,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8B4-E930-4F31-A038-ACB60398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F5B-E6EE-4EE4-83F9-E511C4BD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CFD-5334-4DEB-86F6-2067A571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2ED-8FFD-46AD-9CDE-CF7B06B7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DE5-4709-4B8C-B042-517DDD15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2D0-39F8-459C-87F2-5064EBD1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342-2731-4008-B1FB-EB5F4B03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5BD-8B54-4DBF-8C4F-831A332A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801-B07D-4E63-B093-E6D936C0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4B9-91BF-4442-BF42-5E494DF6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997-1238-4A92-B818-BFB0DCDD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F1F-FF1A-4059-873E-76426A1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12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vid Walker, Cornell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2239-9FDB-4984-8708-F833A0393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295280"/>
            <a:ext cx="7543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e Certifying Compi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al-logo-small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320040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What do you want to type check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type-saf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ference relieves the tedium of proof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s will rewrite programs so they typ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EF6-2925-4CE7-928C-86AEA69909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ying Compilation So Fa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4100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67652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720" y="1441440"/>
            <a:ext cx="138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ype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3708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371240" y="2971800"/>
            <a:ext cx="533160" cy="228600"/>
          </a:xfrm>
          <a:custGeom>
            <a:avLst/>
            <a:gdLst>
              <a:gd name="textAreaLeft" fmla="*/ 83160 w 533160"/>
              <a:gd name="textAreaRight" fmla="*/ 474480 w 53316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342900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9680" y="28893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960" y="4565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11480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9884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y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7085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33560" y="16002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rongly ty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-level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-prese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r to compile and optimize sourc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 certificate language for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-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865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057400" y="2514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F63-B33E-4C5B-ACC4-05CEB1F0D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ying Compil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-Carrying C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Necula &amp; Le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ve base logic that can encode many securit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, logic is extended with 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yp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s produ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ype safet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d Assembly 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rrisett, Walker, et a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ype constructor language that can encode high-level ab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ype saf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63D-1890-4D0C-93E3-2626D5779B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618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ventional Type Safe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ypes ensure basic safe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operations performed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/interfaces hide data representations and system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ypes don't describe complex securit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policies that depend upon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issa virus reads Outlook contacts list and then sends 50 e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1A4-B791-4142-95C3-1468D35D1F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694-C712-4CE7-87BA-B847106E71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lexible Security Polici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policies independently of extensib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 instruments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understand, debug, evolve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720" y="1676520"/>
            <a:ext cx="13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2895120" y="2361960"/>
            <a:ext cx="380880" cy="228600"/>
          </a:xfrm>
          <a:custGeom>
            <a:avLst/>
            <a:gdLst>
              <a:gd name="textAreaLeft" fmla="*/ 59400 w 380880"/>
              <a:gd name="textAreaRight" fmla="*/ 339120 w 38088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3200" y="28195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48006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743200"/>
            <a:ext cx="2590920" cy="335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1828800"/>
            <a:ext cx="99036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352680"/>
            <a:ext cx="990720" cy="3812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419720"/>
            <a:ext cx="99072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5486400"/>
            <a:ext cx="99072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361600" y="3962160"/>
            <a:ext cx="380880" cy="228600"/>
          </a:xfrm>
          <a:custGeom>
            <a:avLst/>
            <a:gdLst>
              <a:gd name="textAreaLeft" fmla="*/ 59400 w 380880"/>
              <a:gd name="textAreaRight" fmla="*/ 339120 w 38088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361600" y="5029200"/>
            <a:ext cx="381240" cy="228600"/>
          </a:xfrm>
          <a:custGeom>
            <a:avLst/>
            <a:gdLst>
              <a:gd name="textAreaLeft" fmla="*/ 59400 w 381240"/>
              <a:gd name="textAreaRight" fmla="*/ 339480 w 38124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457200" y="441900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380880" cy="228600"/>
          </a:xfrm>
          <a:custGeom>
            <a:avLst/>
            <a:gdLst>
              <a:gd name="textAreaLeft" fmla="*/ 59400 w 380880"/>
              <a:gd name="textAreaRight" fmla="*/ 339120 w 38088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58128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0720" y="3886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ABE-AEF1-443D-A254-A34DC96314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ity Policy Specific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: a language for specifying securit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for specifying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network send" and "file read" are security-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for specifying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llegal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ivacy policy: "no send after rea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a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pil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ble to prevent programs from violating the policy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1DB-FE86-44EA-8D3A-B8B8CFAE0A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Wahbe et 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re read, write, j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 memory safet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rlingsson &amp; Schneider]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c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vans &amp; Twyma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policy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ot certifying comp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BE2-FB01-42E2-B5D7-0A792F4FFD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utting it Togeth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e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icies in a high-level, flexible and system-independent specification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 extensions both with dynamic security checks and stat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ser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of of security policy during compil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rtified compiler output to reduce T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569-D969-4D65-8476-A76D9E278F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 instanc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4CB-EB45-4C62-838D-872AA7F785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ystems have programmable interf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rs and editors (postscript printers, emacs, 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s and servers (applets, plugins, CGI-scri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s (virus scan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 (active networks, JI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3048120"/>
            <a:ext cx="99072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04812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" y="319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200" y="304164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2767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89480" y="358128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, Link &amp;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A6D-897E-4205-AD21-9F9371C88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e Certified Co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Autom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rlingsson &amp; Schneide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pecify securit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compila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pendently-typed target language (T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introduction to 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for certifying securit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core language proven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press any security automat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F13-1815-43A3-B581-F9149C5E77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ity Architectur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41008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19810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9749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18280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1828440" y="2971800"/>
            <a:ext cx="533160" cy="228600"/>
          </a:xfrm>
          <a:custGeom>
            <a:avLst/>
            <a:gdLst>
              <a:gd name="textAreaLeft" fmla="*/ 83160 w 533160"/>
              <a:gd name="textAreaRight" fmla="*/ 474480 w 53316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42900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6120" y="28893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6160" y="4565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411480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34656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7085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819520" y="297180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743200"/>
            <a:ext cx="10666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8320" y="1752480"/>
            <a:ext cx="16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429000"/>
            <a:ext cx="99036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0800" y="3422520"/>
            <a:ext cx="117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54100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4495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99036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0800" y="197496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6476760" y="2971800"/>
            <a:ext cx="533160" cy="228600"/>
          </a:xfrm>
          <a:custGeom>
            <a:avLst/>
            <a:gdLst>
              <a:gd name="textAreaLeft" fmla="*/ 8316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97180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7320" y="288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647640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5175360"/>
            <a:ext cx="14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4114800"/>
            <a:ext cx="9903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5257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288" y="432"/>
                </a:lnTo>
                <a:lnTo>
                  <a:pt x="28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525780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240" y="0"/>
                </a:moveTo>
                <a:lnTo>
                  <a:pt x="240" y="144"/>
                </a:lnTo>
                <a:lnTo>
                  <a:pt x="384" y="144"/>
                </a:lnTo>
                <a:lnTo>
                  <a:pt x="384" y="288"/>
                </a:lnTo>
                <a:lnTo>
                  <a:pt x="240" y="288"/>
                </a:lnTo>
                <a:lnTo>
                  <a:pt x="240" y="432"/>
                </a:lnTo>
                <a:lnTo>
                  <a:pt x="0" y="432"/>
                </a:lnTo>
                <a:lnTo>
                  <a:pt x="0" y="0"/>
                </a:lnTo>
                <a:lnTo>
                  <a:pt x="240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368-7E3A-4A0C-BF50-F817A73AFA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ity Autom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mechanism for specifying security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n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fety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ontrol polici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access file fo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bound polici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no more than 1M of memo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lissa polic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twork send after file rea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198-AB15-4C55-AB5B-1764A52830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3886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: No send operation after a rea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: start, has read,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(program operations): send,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(state x input -&gt; sta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x read(f) -&gt; ha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2057400"/>
            <a:ext cx="91440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2057400"/>
            <a:ext cx="91440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905120"/>
            <a:ext cx="1447560" cy="30456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1800" y="151776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44800" y="203184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640" y="2203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30280" y="203184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3600" y="220356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2971800"/>
            <a:ext cx="91440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289548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840" y="3041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CB0-02E8-4647-B8E6-7B5C8BF615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ample Cont’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19810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19810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1828800"/>
            <a:ext cx="1447920" cy="30492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6880" y="14414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39880" y="19558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1080" y="2127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625360" y="19558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8680" y="21272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28954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81952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7280" y="29653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3960" y="4724280"/>
            <a:ext cx="71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untrusted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s.a.: star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(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 -&gt;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 -&gt; has 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(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bad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curity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35812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A. monitor program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ing the bad state = security vi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D27-0DA1-45C0-AF3E-59895FF5C8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ounding Resource U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24382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2057400"/>
            <a:ext cx="2438280" cy="38088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16002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4382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24382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: "allocate fewer than n byte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259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38098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010280" y="3276720"/>
            <a:ext cx="533520" cy="6858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6576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419720" y="2208960"/>
            <a:ext cx="1066680" cy="2286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cubicBezTo>
                  <a:pt x="64" y="96"/>
                  <a:pt x="128" y="192"/>
                  <a:pt x="240" y="240"/>
                </a:cubicBezTo>
                <a:cubicBezTo>
                  <a:pt x="352" y="288"/>
                  <a:pt x="512" y="288"/>
                  <a:pt x="672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59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00D-8A82-4C7A-B316-60AAE88C78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nforcing S.A. Spec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ecurity-relevant operation has an associated function: 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ed, provided by policy wr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lements the s. a. transi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4000" y="4191120"/>
            <a:ext cx="46936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te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ate = star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rminates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0D4-F173-4A1E-9F24-7697AD07E8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nforcing S.A. Spec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, wrap all function calls in che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performance using progra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03880" y="3352680"/>
            <a:ext cx="5830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ext_state = 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urrent_state)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7440" y="2743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90196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949-42D4-4383-B5E9-56D8A1B6E9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certifying compi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42A-CA84-4ABE-B4D8-C4FD72A311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rief TAL Overview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or machine code with typing ann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files checked separately and link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basic safety without run-time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mory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n't read/write arbitrar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rol-flow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n't execute arbitra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 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AL can encode and enforce high-level abstract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1752480"/>
            <a:ext cx="533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752480"/>
            <a:ext cx="228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38280"/>
            <a:ext cx="533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2438280"/>
            <a:ext cx="228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17524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4382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22400" y="19810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24280" y="17524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29400" y="20574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1905120"/>
            <a:ext cx="5335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09680"/>
            <a:ext cx="533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9280" y="1981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FA2-7738-4EED-9A00-46AE9EAE5A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: Pro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side 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 in your own devices, 3rd-part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tion of market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can add features, improve functionality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maintenance and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sub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2AB-0B7D-45FE-B4BA-990FF5C39D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 TAL Compil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AL i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ile "safe C" (aka Popco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er arithmetic, unsafe 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-style data types, polymorphism,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imple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-check elimination, inlining, register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bootstra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iler hacking by Grossman, Morrisett, Sm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EED-E08B-46C7-888B-35AC659F18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ther TAL Featur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management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-based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Dave’s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-time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s.cornell/ta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3D7-5B92-4CC8-8A8F-AF1FAF8FF7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yping Assembly Co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divided into labeled cod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lock has 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de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eb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ypes specify expected register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code type to check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control transfers (jumps) meet the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2670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eax: int, ecx: {eax: int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bx, 3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eax: int, ebx: int, ecx: {eax: int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ax, ebx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ecx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7F1-7431-42F3-BF7C-EA66C5DAA3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creasing Expressivenes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types ensure standard type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and data used as intended and cannot be con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checks can’t be circumv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logic into the type system to express security invar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ogic to encode the s.a.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ogic to prove checks un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1B9-E977-4D9D-B735-035A4F03E9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arget Language Predicat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(for compile-time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:  start, has read, bad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: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curity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lationships betwee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ependencies betwee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the pa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07C-3B40-4E6E-BA89-2FCEF917F7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3960" y="4191120"/>
            <a:ext cx="295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: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Known: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state(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mp foo [star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condi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types can specify pre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560" y="2540160"/>
            <a:ext cx="6182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d].{ea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91120"/>
            <a:ext cx="2895480" cy="167616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23840" y="4038480"/>
            <a:ext cx="5066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stantiate polymorphic varia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ve residual pre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g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state(start), start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pe proofs are easy (syntactic match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therwise place explicit proof at cal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g: jmp foo [start, Proof, Proo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FA0-3403-403A-8E8F-3140143730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ostcondi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d as a precondition on the return address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 ea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ec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instate(has read)].{ea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}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returning, bar prov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state(has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urn, assum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state(has rea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E76-70D8-424E-9037-EB9B0BBBE64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ncoding Security Autom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urity-relevant function has a type specifying 3 preconditions, 1 post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nd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90480" y="5105520"/>
            <a:ext cx="582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 ec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 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12800" y="3809880"/>
            <a:ext cx="307116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E14-04F5-455F-BAB0-38A452F862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echnical Not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predicates be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in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 linear logic, each state predicate is used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"consumed" at send cal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be used in future pro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fool type system into thinking code continues to be in 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"produced" on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when next calling a security-sensi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B88-B9F8-4289-8898-28BEDCBF13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pile-time &amp; Run-tim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mpile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soning depends o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un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4120" y="2438280"/>
            <a:ext cx="7593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ax, state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hould represent the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1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ate argument, state result in 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71840" y="4114800"/>
            <a:ext cx="7931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1: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eax         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ave next state on th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2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send         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ust establ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econdition for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stcond. == precond. for ret1,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0C1-C92C-4D8D-B3A4-9A836DA2EA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: C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opens system to malicious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prevent misuse of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makes it hard to reason about system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limit damage done by erroneous exten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099-0E4A-4810-9428-33360A4308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e for 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rst 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4680" y="2209680"/>
            <a:ext cx="8601840" cy="24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9E7-CECD-4773-AFFB-A216B41399F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e for 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rst 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respondence between run-time argument and stat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4680" y="2209680"/>
            <a:ext cx="8601840" cy="24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68920" y="5791320"/>
            <a:ext cx="714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ax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rong_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mov ecx, next; jmp 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743200" y="3124080"/>
            <a:ext cx="45720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910-692F-48BF-9266-FF6DF103542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provide very precis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containing on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x : state(sta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eax contains a data structure that represent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tart state and no oth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x : state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x contains data representing the unknown 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many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ependent 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i &amp; Pfennin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B0F-481B-4C24-95EE-122606AE529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0" y="4038480"/>
            <a:ext cx="1447920" cy="3812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8880" y="4038480"/>
            <a:ext cx="1447920" cy="3812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191520" y="3962520"/>
            <a:ext cx="9090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{eax: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ecx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{eax:state(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s the automaton transi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vely has type state -&gt;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tons help relate run-time values to compile-time pre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Singlet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790960" y="4495680"/>
            <a:ext cx="2361960" cy="9144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590560" y="4495680"/>
            <a:ext cx="68580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4495680"/>
            <a:ext cx="14479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76920" y="4495680"/>
            <a:ext cx="685800" cy="9144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F56-B17F-42FE-824D-03365E71FAD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76520"/>
            <a:ext cx="838224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ssume:  instate(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, eax : state(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check_send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1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 tra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d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eax: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}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ea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send 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&amp; 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&amp; 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==&gt;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2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B11-7472-4DB9-B4BC-26D1F4F604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s.a. structure makes redundant check elimin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rt,start) as vali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526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33526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3200400"/>
            <a:ext cx="1447560" cy="30492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200" y="28130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16200" y="33274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7040" y="34988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701680" y="33274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000" y="34988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42670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419112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3240" y="4336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65E-7E0B-4B28-92CD-D852F3004F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2057400"/>
            <a:ext cx="3048120" cy="36576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2209680"/>
            <a:ext cx="32767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xiom A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an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(start,st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2743200"/>
            <a:ext cx="144792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32600" y="28195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4191120"/>
            <a:ext cx="2057400" cy="380880"/>
          </a:xfrm>
          <a:custGeom>
            <a:avLst/>
            <a:gdLst>
              <a:gd name="textAreaLeft" fmla="*/ 321480 w 2057400"/>
              <a:gd name="textAreaRight" fmla="*/ 1800360 w 2057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038480"/>
            <a:ext cx="17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3962520"/>
            <a:ext cx="1905120" cy="914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5400000">
            <a:off x="3581280" y="37339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F1B-1DBD-42EE-9BA3-3EF63AEF51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-checker is simple but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t check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invariant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1447920"/>
            <a:ext cx="78483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instate(start)].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loop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send [start,start,By A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tra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d].{ec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 }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9B3-17CA-4D89-855C-07FFA0314F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x86 implementation is sufficient for these enco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polymorphism, higher-order type constructors, logical connectiv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 singleton types,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work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oms in modul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5E5-533B-47CF-87D4-BEC04C1EC2C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certifying compi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rtifying targe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502-D118-4E21-A742-D26C8EA671B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: Real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economic and engineering p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code, systems with programmable interfaces will prolif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cessity: practical technology for increasing th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liability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extensib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62D-DFF1-4E63-AC05-C29B7672BB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earch Dire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policy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logics can we compile &amp; certif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w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andholm &amp; Schwartzbac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Crary &amp; Weiric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safety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"clean up" after halting a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utually distrustfu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-directed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6E0-B26E-4763-82E0-AF42264786A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ipe for secure certified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basic safety without run-tim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logic to encode complex in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-directed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security policies independently of the rest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ynamic checking to enforce policies when they can’t be proven st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70C-E697-4B04-9FED-826E586889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9C9-0323-4BD6-A205-1A95175BB4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ied Co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3809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annotations/certificate (types, proofs, ...) to untrusted object cod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make verification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away from trust-based security &amp;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2438280"/>
            <a:ext cx="99036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4382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7720" y="174636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ru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5880" y="175248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26668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3040" y="296532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6668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4382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1240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6160" y="33228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3760" y="312408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&amp;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1746360"/>
            <a:ext cx="9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417-4A17-4E58-90CE-F3C85EF67B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ying Compi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4100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720" y="167004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708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1371240" y="2971800"/>
            <a:ext cx="533160" cy="228600"/>
          </a:xfrm>
          <a:custGeom>
            <a:avLst/>
            <a:gdLst>
              <a:gd name="textAreaLeft" fmla="*/ 83160 w 533160"/>
              <a:gd name="textAreaRight" fmla="*/ 474480 w 53316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42900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9680" y="28893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960" y="4565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11480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680" y="3505320"/>
            <a:ext cx="134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7085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6200" y="16002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certificate generation must b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 source-level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 compiler to compile and optimize source programs while preserving the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 certifying target langua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36232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8954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057400" y="2514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A47-1D0C-465D-BE7E-22CB4B43F1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352680"/>
            <a:ext cx="79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we obtain the initial certific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D6B-9F40-4A77-8E91-7DED0F309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16:52Z</dcterms:created>
  <dc:creator>walker</dc:creator>
  <dc:description/>
  <dc:language>en-US</dc:language>
  <cp:lastModifiedBy>walker</cp:lastModifiedBy>
  <dcterms:modified xsi:type="dcterms:W3CDTF">2000-05-02T23:17:57Z</dcterms:modified>
  <cp:revision>105</cp:revision>
  <dc:subject/>
  <dc:title>Security via  Inlined Reference Monitors and Strong Typing</dc:title>
</cp:coreProperties>
</file>