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91F-8A61-4A1A-87A3-386B742B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666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ADB-CD51-4DCA-83AB-0CA3196D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37666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D57-0C11-4DF0-967D-96D2AD2A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2193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2193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666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37666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7666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29A-2587-443A-9859-34959732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ECA-E777-4F50-BD45-781D725D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3EC-C487-47BE-82B4-12D5424B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2193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402-ECE2-49E0-A917-1EF43481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359-A185-48B2-830C-A98AA4BD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948-9657-4512-B793-2B788C60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2193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AE8-AA68-4E15-A246-5156AF59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53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37666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352-BECD-4080-818B-8613410F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2193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666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833-CE72-4F88-986A-F983115F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0ABC-FEDC-44B8-9253-42939392B3D4}" type="slidenum"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14400"/>
            <a:ext cx="8381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roofs, Types, and Safe Mobile Cod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S 598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305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ample: JVM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895480"/>
            <a:ext cx="2514600" cy="2667240"/>
          </a:xfrm>
          <a:prstGeom prst="rect">
            <a:avLst/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1676520"/>
            <a:ext cx="4114800" cy="441936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3124080"/>
            <a:ext cx="19051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343400"/>
            <a:ext cx="213336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41360" y="335268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v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3240" y="396252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v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25360" y="45720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VM byte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200400" y="2362320"/>
            <a:ext cx="1066680" cy="228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1905120"/>
            <a:ext cx="175248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39160" y="198108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VM ver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1981080"/>
            <a:ext cx="1828800" cy="838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81960" y="1981080"/>
            <a:ext cx="12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095520" y="2286000"/>
            <a:ext cx="304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5105520"/>
            <a:ext cx="14479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7440" y="53816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886200"/>
            <a:ext cx="190512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56960" y="40384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2771640"/>
            <a:ext cx="190512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44920" y="297180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514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6160" y="507672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92960" y="4906800"/>
            <a:ext cx="167616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5486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7280" y="3367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rn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F125-3113-48A5-AC7F-D7AEE17EC6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JVM Pros &amp; Con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r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ype: $, tools, libraries, books, trai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trusted computing 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s JVM interpreter/J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many run-time te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” casts, arrays, null pointer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suitable for Java (too high-leve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 then, there are mismatches with JV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formal spec (ye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3A4-3DC2-4C75-9483-618CD3F341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deally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1219320"/>
            <a:ext cx="2286000" cy="45720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92600" y="1523880"/>
            <a:ext cx="172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r favo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1371600"/>
            <a:ext cx="175284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1880" y="2666880"/>
            <a:ext cx="16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2514600"/>
            <a:ext cx="190476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75840" y="390384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3733920"/>
            <a:ext cx="175284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21680" y="510552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chin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876920"/>
            <a:ext cx="175284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295280"/>
            <a:ext cx="4114800" cy="251460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1371600"/>
            <a:ext cx="17528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38760" y="144792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1447920"/>
            <a:ext cx="182880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4600" y="1447920"/>
            <a:ext cx="12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248520" y="1752480"/>
            <a:ext cx="30456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8800" y="266688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45240" y="2496960"/>
            <a:ext cx="16765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1981080"/>
            <a:ext cx="685800" cy="838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895480" y="2057040"/>
            <a:ext cx="1600200" cy="3048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286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30760" y="27432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rn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6D61-4014-4641-B21B-D885DEF3371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roof Carrying Code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[Necula &amp; Lee]</a:t>
            </a:r>
            <a:endParaRPr b="0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ndamental ide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ing a proof is h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ifying a proof is ea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ot so apparent to systems peop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CC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ent = highly optimized code + proof th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de respects the host’s integrit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EF8F-93E8-42EB-B36B-A4FC27BA8A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ample: Packet Filter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124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S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user proces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048120" y="1523880"/>
            <a:ext cx="3047760" cy="4724280"/>
            <a:chOff x="3048120" y="1523880"/>
            <a:chExt cx="3047760" cy="4724280"/>
          </a:xfrm>
        </p:grpSpPr>
        <p:grpSp>
          <p:nvGrpSpPr>
            <p:cNvPr id="171" name=""/>
            <p:cNvGrpSpPr/>
            <p:nvPr/>
          </p:nvGrpSpPr>
          <p:grpSpPr>
            <a:xfrm>
              <a:off x="3048120" y="1523880"/>
              <a:ext cx="3047760" cy="1110600"/>
              <a:chOff x="3048120" y="1523880"/>
              <a:chExt cx="3047760" cy="1110600"/>
            </a:xfrm>
          </p:grpSpPr>
          <p:sp>
            <p:nvSpPr>
              <p:cNvPr id="172" name=""/>
              <p:cNvSpPr/>
              <p:nvPr/>
            </p:nvSpPr>
            <p:spPr>
              <a:xfrm>
                <a:off x="3048120" y="1523880"/>
                <a:ext cx="3047760" cy="990720"/>
              </a:xfrm>
              <a:prstGeom prst="flowChartMultidocumen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66920" y="1717560"/>
                <a:ext cx="2471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 monitoring 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505320" y="5715000"/>
              <a:ext cx="1981080" cy="533160"/>
              <a:chOff x="3505320" y="5715000"/>
              <a:chExt cx="1981080" cy="533160"/>
            </a:xfrm>
          </p:grpSpPr>
          <p:sp>
            <p:nvSpPr>
              <p:cNvPr id="175" name=""/>
              <p:cNvSpPr/>
              <p:nvPr/>
            </p:nvSpPr>
            <p:spPr>
              <a:xfrm>
                <a:off x="3505320" y="5715000"/>
                <a:ext cx="1981080" cy="533160"/>
              </a:xfrm>
              <a:prstGeom prst="upArrowCallout">
                <a:avLst>
                  <a:gd name="adj1" fmla="val 92902"/>
                  <a:gd name="adj2" fmla="val 92893"/>
                  <a:gd name="adj3" fmla="val 16667"/>
                  <a:gd name="adj4" fmla="val 66660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24360" y="5832360"/>
                <a:ext cx="114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3809880" y="4267080"/>
            <a:ext cx="1371600" cy="1371600"/>
            <a:chOff x="3809880" y="4267080"/>
            <a:chExt cx="1371600" cy="1371600"/>
          </a:xfrm>
        </p:grpSpPr>
        <p:sp>
          <p:nvSpPr>
            <p:cNvPr id="178" name=""/>
            <p:cNvSpPr/>
            <p:nvPr/>
          </p:nvSpPr>
          <p:spPr>
            <a:xfrm>
              <a:off x="4267080" y="44197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9720" y="4800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67080" y="5029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54864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956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95680" y="5181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67080" y="5410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9880" y="4267080"/>
              <a:ext cx="1371600" cy="1371600"/>
            </a:xfrm>
            <a:prstGeom prst="upArrow">
              <a:avLst>
                <a:gd name="adj1" fmla="val 50000"/>
                <a:gd name="adj2" fmla="val 25000"/>
              </a:avLst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CBA-D819-44D3-BC38-466613201D1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819520" y="2019240"/>
            <a:ext cx="2361960" cy="2247840"/>
            <a:chOff x="2819520" y="2019240"/>
            <a:chExt cx="2361960" cy="2247840"/>
          </a:xfrm>
        </p:grpSpPr>
        <p:grpSp>
          <p:nvGrpSpPr>
            <p:cNvPr id="189" name=""/>
            <p:cNvGrpSpPr/>
            <p:nvPr/>
          </p:nvGrpSpPr>
          <p:grpSpPr>
            <a:xfrm>
              <a:off x="3886200" y="3429000"/>
              <a:ext cx="1295280" cy="838080"/>
              <a:chOff x="3886200" y="3429000"/>
              <a:chExt cx="1295280" cy="838080"/>
            </a:xfrm>
          </p:grpSpPr>
          <p:sp>
            <p:nvSpPr>
              <p:cNvPr id="190" name=""/>
              <p:cNvSpPr/>
              <p:nvPr/>
            </p:nvSpPr>
            <p:spPr>
              <a:xfrm>
                <a:off x="3886200" y="3429000"/>
                <a:ext cx="1295280" cy="838080"/>
              </a:xfrm>
              <a:prstGeom prst="flowChartMultidocumen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006800" y="3546360"/>
                <a:ext cx="946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acket fil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2" name=""/>
            <p:cNvCxnSpPr>
              <a:endCxn id="190" idx="1"/>
            </p:cNvCxnSpPr>
            <p:nvPr/>
          </p:nvCxnSpPr>
          <p:spPr>
            <a:xfrm flipH="1" flipV="1" rot="10800000">
              <a:off x="3047760" y="2018880"/>
              <a:ext cx="838800" cy="1829520"/>
            </a:xfrm>
            <a:prstGeom prst="curvedConnector5">
              <a:avLst>
                <a:gd name="adj1" fmla="val -27264"/>
                <a:gd name="adj2" fmla="val 49990"/>
                <a:gd name="adj3" fmla="val -27264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3" name=""/>
          <p:cNvGrpSpPr/>
          <p:nvPr/>
        </p:nvGrpSpPr>
        <p:grpSpPr>
          <a:xfrm>
            <a:off x="3809880" y="2438280"/>
            <a:ext cx="1371600" cy="914400"/>
            <a:chOff x="3809880" y="2438280"/>
            <a:chExt cx="1371600" cy="914400"/>
          </a:xfrm>
        </p:grpSpPr>
        <p:sp>
          <p:nvSpPr>
            <p:cNvPr id="194" name=""/>
            <p:cNvSpPr/>
            <p:nvPr/>
          </p:nvSpPr>
          <p:spPr>
            <a:xfrm>
              <a:off x="3809880" y="2438280"/>
              <a:ext cx="1371600" cy="914400"/>
            </a:xfrm>
            <a:prstGeom prst="upArrow">
              <a:avLst>
                <a:gd name="adj1" fmla="val 50000"/>
                <a:gd name="adj2" fmla="val 25000"/>
              </a:avLst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43400" y="3124080"/>
              <a:ext cx="152280" cy="152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30481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67080" y="28195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0" y="27432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19720" y="2514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124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S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user process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048120" y="1523880"/>
            <a:ext cx="3047760" cy="4724280"/>
            <a:chOff x="3048120" y="1523880"/>
            <a:chExt cx="3047760" cy="4724280"/>
          </a:xfrm>
        </p:grpSpPr>
        <p:grpSp>
          <p:nvGrpSpPr>
            <p:cNvPr id="204" name=""/>
            <p:cNvGrpSpPr/>
            <p:nvPr/>
          </p:nvGrpSpPr>
          <p:grpSpPr>
            <a:xfrm>
              <a:off x="3048120" y="1523880"/>
              <a:ext cx="3047760" cy="1110600"/>
              <a:chOff x="3048120" y="1523880"/>
              <a:chExt cx="3047760" cy="1110600"/>
            </a:xfrm>
          </p:grpSpPr>
          <p:sp>
            <p:nvSpPr>
              <p:cNvPr id="205" name=""/>
              <p:cNvSpPr/>
              <p:nvPr/>
            </p:nvSpPr>
            <p:spPr>
              <a:xfrm>
                <a:off x="3048120" y="1523880"/>
                <a:ext cx="3047760" cy="990720"/>
              </a:xfrm>
              <a:prstGeom prst="flowChartMultidocumen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166920" y="1717560"/>
                <a:ext cx="2471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 monitoring 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505320" y="5715000"/>
              <a:ext cx="1981080" cy="533160"/>
              <a:chOff x="3505320" y="5715000"/>
              <a:chExt cx="1981080" cy="533160"/>
            </a:xfrm>
          </p:grpSpPr>
          <p:sp>
            <p:nvSpPr>
              <p:cNvPr id="208" name=""/>
              <p:cNvSpPr/>
              <p:nvPr/>
            </p:nvSpPr>
            <p:spPr>
              <a:xfrm>
                <a:off x="3505320" y="5715000"/>
                <a:ext cx="1981080" cy="533160"/>
              </a:xfrm>
              <a:prstGeom prst="upArrowCallout">
                <a:avLst>
                  <a:gd name="adj1" fmla="val 92902"/>
                  <a:gd name="adj2" fmla="val 92893"/>
                  <a:gd name="adj3" fmla="val 16667"/>
                  <a:gd name="adj4" fmla="val 66660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24360" y="5832360"/>
                <a:ext cx="114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3809880" y="4267080"/>
            <a:ext cx="1371600" cy="1371600"/>
            <a:chOff x="3809880" y="4267080"/>
            <a:chExt cx="1371600" cy="1371600"/>
          </a:xfrm>
        </p:grpSpPr>
        <p:sp>
          <p:nvSpPr>
            <p:cNvPr id="211" name=""/>
            <p:cNvSpPr/>
            <p:nvPr/>
          </p:nvSpPr>
          <p:spPr>
            <a:xfrm>
              <a:off x="4267080" y="44197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19720" y="48006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67080" y="5029200"/>
              <a:ext cx="15264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54864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5680" y="4343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0" y="45720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95680" y="5181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54100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4267080"/>
              <a:ext cx="1371600" cy="1371600"/>
            </a:xfrm>
            <a:prstGeom prst="upArrow">
              <a:avLst>
                <a:gd name="adj1" fmla="val 50000"/>
                <a:gd name="adj2" fmla="val 25000"/>
              </a:avLst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57200" y="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xample: Packet Fil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D53-FBFB-4652-B705-B54E5998D5A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n Experiment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fety Polic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a packet, returns yes/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et read only, small scratchp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loo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ment: [Necula &amp; Lee, OSDI’96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rkeley Packet Filter Interpre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ula-3 (SPI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ware Fault Isolation (sandbox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C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A9BC-F53C-40C5-8789-EC6F3C34449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acket Filters in PCC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281952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3124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9051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untrusted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010280" y="4387680"/>
            <a:ext cx="1295640" cy="1067040"/>
            <a:chOff x="7010280" y="4387680"/>
            <a:chExt cx="1295640" cy="1067040"/>
          </a:xfrm>
        </p:grpSpPr>
        <p:sp>
          <p:nvSpPr>
            <p:cNvPr id="229" name=""/>
            <p:cNvSpPr/>
            <p:nvPr/>
          </p:nvSpPr>
          <p:spPr>
            <a:xfrm>
              <a:off x="7010280" y="4387680"/>
              <a:ext cx="1295640" cy="1067040"/>
            </a:xfrm>
            <a:prstGeom prst="flowChartDocument">
              <a:avLst/>
            </a:prstGeom>
            <a:solidFill>
              <a:srgbClr val="8cf4ea"/>
            </a:solidFill>
            <a:ln w="1260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10280" y="43876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F safety poli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1" name=""/>
          <p:cNvCxnSpPr>
            <a:stCxn id="232" idx="3"/>
            <a:endCxn id="233" idx="1"/>
          </p:cNvCxnSpPr>
          <p:nvPr/>
        </p:nvCxnSpPr>
        <p:spPr>
          <a:xfrm>
            <a:off x="3962160" y="1943280"/>
            <a:ext cx="686520" cy="1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30" idx="0"/>
            <a:endCxn id="235" idx="3"/>
          </p:cNvCxnSpPr>
          <p:nvPr/>
        </p:nvCxnSpPr>
        <p:spPr>
          <a:xfrm flipV="1" rot="16200000">
            <a:off x="5864760" y="2593800"/>
            <a:ext cx="2481840" cy="1105920"/>
          </a:xfrm>
          <a:prstGeom prst="curvedConnector2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grpSp>
        <p:nvGrpSpPr>
          <p:cNvPr id="236" name=""/>
          <p:cNvGrpSpPr/>
          <p:nvPr/>
        </p:nvGrpSpPr>
        <p:grpSpPr>
          <a:xfrm>
            <a:off x="4495680" y="3769920"/>
            <a:ext cx="2514600" cy="1550880"/>
            <a:chOff x="4495680" y="3769920"/>
            <a:chExt cx="2514600" cy="1550880"/>
          </a:xfrm>
        </p:grpSpPr>
        <p:grpSp>
          <p:nvGrpSpPr>
            <p:cNvPr id="237" name=""/>
            <p:cNvGrpSpPr/>
            <p:nvPr/>
          </p:nvGrpSpPr>
          <p:grpSpPr>
            <a:xfrm>
              <a:off x="4495680" y="4616280"/>
              <a:ext cx="1752840" cy="704520"/>
              <a:chOff x="4495680" y="4616280"/>
              <a:chExt cx="1752840" cy="70452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2000" y="4616280"/>
                <a:ext cx="1600200" cy="488880"/>
              </a:xfrm>
              <a:prstGeom prst="rect">
                <a:avLst/>
              </a:prstGeom>
              <a:solidFill>
                <a:srgbClr val="8cf4ea"/>
              </a:solidFill>
              <a:ln w="25560">
                <a:solidFill>
                  <a:srgbClr val="8cf4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495680" y="4678200"/>
                <a:ext cx="17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roofcheck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0" name=""/>
            <p:cNvCxnSpPr>
              <a:stCxn id="241" idx="2"/>
              <a:endCxn id="238" idx="0"/>
            </p:cNvCxnSpPr>
            <p:nvPr/>
          </p:nvCxnSpPr>
          <p:spPr>
            <a:xfrm>
              <a:off x="4704840" y="4047840"/>
              <a:ext cx="667800" cy="556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43" idx="2"/>
              <a:endCxn id="238" idx="0"/>
            </p:cNvCxnSpPr>
            <p:nvPr/>
          </p:nvCxnSpPr>
          <p:spPr>
            <a:xfrm flipH="1">
              <a:off x="5371920" y="3769920"/>
              <a:ext cx="800640" cy="834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30" idx="1"/>
              <a:endCxn id="239" idx="3"/>
            </p:cNvCxnSpPr>
            <p:nvPr/>
          </p:nvCxnSpPr>
          <p:spPr>
            <a:xfrm flipH="1">
              <a:off x="6248160" y="4846680"/>
              <a:ext cx="762480" cy="16560"/>
            </a:xfrm>
            <a:prstGeom prst="straightConnector1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245" name=""/>
          <p:cNvGrpSpPr/>
          <p:nvPr/>
        </p:nvGrpSpPr>
        <p:grpSpPr>
          <a:xfrm>
            <a:off x="2190600" y="3717000"/>
            <a:ext cx="2305080" cy="1769400"/>
            <a:chOff x="2190600" y="3717000"/>
            <a:chExt cx="2305080" cy="1769400"/>
          </a:xfrm>
        </p:grpSpPr>
        <p:sp>
          <p:nvSpPr>
            <p:cNvPr id="246" name=""/>
            <p:cNvSpPr/>
            <p:nvPr/>
          </p:nvSpPr>
          <p:spPr>
            <a:xfrm>
              <a:off x="2190600" y="4680000"/>
              <a:ext cx="648000" cy="349200"/>
            </a:xfrm>
            <a:prstGeom prst="flowChartDecision">
              <a:avLst/>
            </a:prstGeom>
            <a:solidFill>
              <a:srgbClr val="8cf4ea"/>
            </a:solidFill>
            <a:ln w="2556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7" name=""/>
            <p:cNvCxnSpPr>
              <a:stCxn id="239" idx="1"/>
              <a:endCxn id="246" idx="3"/>
            </p:cNvCxnSpPr>
            <p:nvPr/>
          </p:nvCxnSpPr>
          <p:spPr>
            <a:xfrm flipH="1" flipV="1">
              <a:off x="2850840" y="4854240"/>
              <a:ext cx="1645200" cy="8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9" idx="1"/>
              <a:endCxn id="246" idx="0"/>
            </p:cNvCxnSpPr>
            <p:nvPr/>
          </p:nvCxnSpPr>
          <p:spPr>
            <a:xfrm flipV="1" rot="10800000">
              <a:off x="2513880" y="3717000"/>
              <a:ext cx="1296000" cy="95004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2"/>
              <a:endCxn id="251" idx="0"/>
            </p:cNvCxnSpPr>
            <p:nvPr/>
          </p:nvCxnSpPr>
          <p:spPr>
            <a:xfrm>
              <a:off x="2514600" y="5041440"/>
              <a:ext cx="16560" cy="4453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2" name=""/>
          <p:cNvGrpSpPr/>
          <p:nvPr/>
        </p:nvGrpSpPr>
        <p:grpSpPr>
          <a:xfrm>
            <a:off x="1981080" y="1523880"/>
            <a:ext cx="1981440" cy="4648320"/>
            <a:chOff x="1981080" y="1523880"/>
            <a:chExt cx="1981440" cy="4648320"/>
          </a:xfrm>
        </p:grpSpPr>
        <p:grpSp>
          <p:nvGrpSpPr>
            <p:cNvPr id="253" name=""/>
            <p:cNvGrpSpPr/>
            <p:nvPr/>
          </p:nvGrpSpPr>
          <p:grpSpPr>
            <a:xfrm>
              <a:off x="1981080" y="5486400"/>
              <a:ext cx="914400" cy="685800"/>
              <a:chOff x="1981080" y="5486400"/>
              <a:chExt cx="914400" cy="685800"/>
            </a:xfrm>
          </p:grpSpPr>
          <p:sp>
            <p:nvSpPr>
              <p:cNvPr id="251" name=""/>
              <p:cNvSpPr/>
              <p:nvPr/>
            </p:nvSpPr>
            <p:spPr>
              <a:xfrm>
                <a:off x="1981080" y="5486400"/>
                <a:ext cx="914400" cy="685800"/>
              </a:xfrm>
              <a:prstGeom prst="flowChartInputOutput">
                <a:avLst/>
              </a:prstGeom>
              <a:solidFill>
                <a:srgbClr val="8cf4ea"/>
              </a:solidFill>
              <a:ln w="12600">
                <a:solidFill>
                  <a:srgbClr val="8cf4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33360" y="568332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CP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209680" y="1523880"/>
              <a:ext cx="1752840" cy="838440"/>
              <a:chOff x="2209680" y="1523880"/>
              <a:chExt cx="1752840" cy="838440"/>
            </a:xfrm>
          </p:grpSpPr>
          <p:sp>
            <p:nvSpPr>
              <p:cNvPr id="232" name=""/>
              <p:cNvSpPr/>
              <p:nvPr/>
            </p:nvSpPr>
            <p:spPr>
              <a:xfrm>
                <a:off x="2324160" y="1523880"/>
                <a:ext cx="1638360" cy="838440"/>
              </a:xfrm>
              <a:prstGeom prst="flowChartMultidocument">
                <a:avLst/>
              </a:prstGeom>
              <a:solidFill>
                <a:srgbClr val="ffcc00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209680" y="1644480"/>
                <a:ext cx="163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ssembly co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3809880" y="2324160"/>
            <a:ext cx="2895840" cy="1790640"/>
            <a:chOff x="3809880" y="2324160"/>
            <a:chExt cx="2895840" cy="1790640"/>
          </a:xfrm>
        </p:grpSpPr>
        <p:grpSp>
          <p:nvGrpSpPr>
            <p:cNvPr id="258" name=""/>
            <p:cNvGrpSpPr/>
            <p:nvPr/>
          </p:nvGrpSpPr>
          <p:grpSpPr>
            <a:xfrm>
              <a:off x="3809880" y="3276720"/>
              <a:ext cx="1714680" cy="838080"/>
              <a:chOff x="3809880" y="3276720"/>
              <a:chExt cx="1714680" cy="838080"/>
            </a:xfrm>
          </p:grpSpPr>
          <p:sp>
            <p:nvSpPr>
              <p:cNvPr id="241" name=""/>
              <p:cNvSpPr/>
              <p:nvPr/>
            </p:nvSpPr>
            <p:spPr>
              <a:xfrm>
                <a:off x="3886200" y="3276720"/>
                <a:ext cx="1638360" cy="838080"/>
              </a:xfrm>
              <a:prstGeom prst="flowChartMultidocument">
                <a:avLst/>
              </a:prstGeom>
              <a:solidFill>
                <a:srgbClr val="ffcc00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09880" y="3397320"/>
                <a:ext cx="163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ecutable co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5638680" y="3276720"/>
              <a:ext cx="1067040" cy="533160"/>
              <a:chOff x="5638680" y="3276720"/>
              <a:chExt cx="1067040" cy="533160"/>
            </a:xfrm>
          </p:grpSpPr>
          <p:sp>
            <p:nvSpPr>
              <p:cNvPr id="243" name=""/>
              <p:cNvSpPr/>
              <p:nvPr/>
            </p:nvSpPr>
            <p:spPr>
              <a:xfrm>
                <a:off x="5715000" y="3276720"/>
                <a:ext cx="914400" cy="533160"/>
              </a:xfrm>
              <a:prstGeom prst="flowChartPunchedTape">
                <a:avLst/>
              </a:prstGeom>
              <a:solidFill>
                <a:srgbClr val="ffcc00"/>
              </a:solidFill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38680" y="3352680"/>
                <a:ext cx="106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roo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61" name=""/>
            <p:cNvCxnSpPr>
              <a:stCxn id="233" idx="2"/>
              <a:endCxn id="243" idx="0"/>
            </p:cNvCxnSpPr>
            <p:nvPr/>
          </p:nvCxnSpPr>
          <p:spPr>
            <a:xfrm>
              <a:off x="5447880" y="2324160"/>
              <a:ext cx="724680" cy="99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3" idx="2"/>
              <a:endCxn id="241" idx="0"/>
            </p:cNvCxnSpPr>
            <p:nvPr/>
          </p:nvCxnSpPr>
          <p:spPr>
            <a:xfrm flipH="1">
              <a:off x="4704840" y="2324160"/>
              <a:ext cx="743760" cy="953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3" name=""/>
          <p:cNvGrpSpPr/>
          <p:nvPr/>
        </p:nvGrpSpPr>
        <p:grpSpPr>
          <a:xfrm>
            <a:off x="4572000" y="1447920"/>
            <a:ext cx="1981080" cy="1191240"/>
            <a:chOff x="4572000" y="1447920"/>
            <a:chExt cx="1981080" cy="1191240"/>
          </a:xfrm>
        </p:grpSpPr>
        <p:sp>
          <p:nvSpPr>
            <p:cNvPr id="233" name=""/>
            <p:cNvSpPr/>
            <p:nvPr/>
          </p:nvSpPr>
          <p:spPr>
            <a:xfrm>
              <a:off x="4648320" y="1523880"/>
              <a:ext cx="1828800" cy="876600"/>
            </a:xfrm>
            <a:prstGeom prst="flowChartProcess">
              <a:avLst/>
            </a:prstGeom>
            <a:solidFill>
              <a:srgbClr val="8cf4ea"/>
            </a:solidFill>
            <a:ln w="12600">
              <a:solidFill>
                <a:srgbClr val="8cf4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0" y="1447920"/>
              <a:ext cx="19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witness-generating theorem pr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6A3-2239-464D-9A30-698E4118839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acket Filter Summary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CC packet filter worked extremely wel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PF safety policy was easy to verify automatical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0 is aligned address of network packet (read onl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1 is length of packet (&gt;=64 byte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2 is aligned address of writeable 16-byte arr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ed hand-optimized packet fil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“world’s fastest packet filters”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times faster than BPF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of sizes and checking times were smal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ut 1ms proof checking tim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%-300% overhead for attached proof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40B-37FC-40D8-8A38-E269A8610AF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Results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CC wi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905120"/>
          <a:ext cx="8305920" cy="49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30592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1EF-76DD-4D81-9ABC-0D2E7757F8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Quick Outlin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bile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-Carrying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traction-preserving compil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nchline:  Types, logics, &amp; proofs will play an increasingly visible role in high-performance, next-generation system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cknowledgment:  these slides come from a combination of Peter Lee, Greg Morrisett, George Necula, and mysel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C0A-4224-4A33-86FB-A49C3FDD0A8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Advantages of PCC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e, small, and fast trusted computing ba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external authentication or cryptograph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need to insert additional run-time chec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mper-proof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cise and expressive specification of code safety polic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11C-57B0-4465-86B6-C12FC3EB0EE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ne Approach to PCC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xiomatic semantic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fety policy: additional pre-condition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oyd/Hoare-style verification condition generator (VCgen) converts to first-order predic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p-invariants needed as anno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of VC implies code respects safety poli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DEA-910F-4588-B9E8-FE1098BE6E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hallenges with PCC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to put in the safety polic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safety properti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veness properti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automate proof construc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automate loop invariant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ineering issu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xity of proof check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where Andrew’s group &amp; FPCC comes in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 and time to check proof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702-A07C-4659-8AB4-131852B583A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Proof Representation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CC uses the Edinburgh Logical Framewor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F type checking adequate for proof chec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le framework for encoding security policies (i.e., logic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-checker is small (~6 pages of C cod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0BB-232A-4F6C-B16E-1AB6BEDED6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ertifying Compiler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g question is still:  how to get proof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cus on traditional type-safety as the security polic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urce is well-typed…just need to maintain the proof throughout compilation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FA7-300D-4E20-B65D-0872B7EA32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ype-Preserving Compiler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L compiler [PLDI’96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-performance 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s only to intermediat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chstone [PLDI’98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, low-level langu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its high-performance PC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LC [PoPL’98,TIC’98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 type system for assembly language(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iques for compiling high-level languag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9BD-0A5A-4707-8F6D-B073E02A6C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ompiling High-Level Languag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encoding constructs, we mus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rve typing (to emit invarian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rve abstra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s reason about security at the source lev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policy may be a source-level interface (e.g., an ML signatur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not afford for agent machine code to violate these abstra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how get to the mach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67D-76EE-4214-BCD7-52DB41B4E53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AL [PoPL’98, TIC’98]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system for assembly langua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a set of encodings for high-level language featu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rtifying compilers f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fe-C, Scheme, 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, ML2000 in the 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system based on System-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tional model (accurate machin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tactic” soundness resul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47EA-D66C-403F-A56F-6284FFDD54A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ALx86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-checker and tools for Intel x86 co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ightly different framework than PCC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ship explicit pro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’re very large due to encod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ead, ship code with invariant anno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st reconstructs &amp; verifies proo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smaller agents, potentially faster che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larger TCB, less flexible frame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400-7559-4EAF-97D1-9BE284AE35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AL Built-In Typ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tes:  int1, int2, int4, 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ples: 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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de: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 pre-cond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ymorphic types: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DD2-C8D5-429F-B732-CB07153F54C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562720" y="3276720"/>
            <a:ext cx="2286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2209680"/>
            <a:ext cx="2286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oday’s System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c, narrow interfaces &amp; protoco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must be copied to/from ho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functionality is performed at the cli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wasted when server cycles are che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175248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12640" y="2438280"/>
            <a:ext cx="21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ideo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057400"/>
            <a:ext cx="1828800" cy="63828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59480 h 638280"/>
              <a:gd name="textAreaBottom" fmla="*/ 478800 h 638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429000" y="3124080"/>
            <a:ext cx="1828800" cy="60984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75248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02480" y="2438280"/>
            <a:ext cx="11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il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209680"/>
            <a:ext cx="2286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3276720"/>
            <a:ext cx="2286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68160" y="168264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74280" y="373392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F68-BB49-4327-9913-969D972EB4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imple Loop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cx:int4, ebx:{eax:int4}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int sum(int x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0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int a = 0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int4, ecx:int4, ebx:{eax:int4}}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while(!x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ecx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  a += x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   x--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LTHR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int4, ecx:int4, ebx:{eax:int4}}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,0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return(a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bx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F2C-4E96-4BE3-ABF2-181559987EF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Other TAL Featur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ule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faces, implementations, AD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s and datatyp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rays/ve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Higher Order) Type constru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ck sup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iasing sup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F7B-E26D-4CDC-A945-B0EBC36128A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ome Open Issue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gic and Typing issu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 representation, provers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ics for encoding more interesting properties (e.g., resource mgmt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mantic issu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ll abstraction for compil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 issu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st management, access control, authentication, information flow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2A42-E001-4C45-97A3-959806FD0A1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hy you should take this course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dvent of mobile code &amp; the hype of Java have opened the door for u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stems people now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nee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mbination of performance, flexibility, and security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ofs &amp; types are the technology that will deliver bo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CCD-70C7-45A4-9A2F-DB5B9B422DE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omorrow’s Systems:  Agent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nds a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omputational ag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nt encapsulates data &amp;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nt runs locally with direct access to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nt returns to A with res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175248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88960" y="2362320"/>
            <a:ext cx="21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ideo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4640" y="173196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9800" y="24382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44920" y="2590920"/>
            <a:ext cx="990720" cy="53316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66160" y="25909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2590920"/>
            <a:ext cx="99072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42080" y="2592360"/>
            <a:ext cx="646200" cy="74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2590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25909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2590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189-4DBA-44CD-924E-7E81E1717C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Some Critical Issues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fety concer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protect from faulty/malicious age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xity concer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minimize trusted computing bas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formance concer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minimize overhead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concerns (not addressed here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ensure privacy and authenticit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to protect agent from hos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5BB-F74B-4798-BBE2-E1E01CC142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1066680"/>
            <a:ext cx="7086600" cy="30481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2133720"/>
            <a:ext cx="1600200" cy="175248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raditional OS-Approach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ce extension in separate address space and re-direct system cal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164840" y="12952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2590920"/>
            <a:ext cx="990360" cy="53316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22960" y="26668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133720"/>
            <a:ext cx="1600200" cy="17524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2133720"/>
            <a:ext cx="1600200" cy="17524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01040" y="259092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25720" y="26668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2362320"/>
            <a:ext cx="685800" cy="304560"/>
          </a:xfrm>
          <a:custGeom>
            <a:avLst/>
            <a:gdLst>
              <a:gd name="textAreaLeft" fmla="*/ 10692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438280"/>
            <a:ext cx="685800" cy="304920"/>
          </a:xfrm>
          <a:custGeom>
            <a:avLst/>
            <a:gdLst>
              <a:gd name="textAreaLeft" fmla="*/ 10692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3047760" y="3123720"/>
            <a:ext cx="685800" cy="304920"/>
          </a:xfrm>
          <a:custGeom>
            <a:avLst/>
            <a:gdLst>
              <a:gd name="textAreaLeft" fmla="*/ 10692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5409720" y="3276720"/>
            <a:ext cx="685800" cy="304560"/>
          </a:xfrm>
          <a:custGeom>
            <a:avLst/>
            <a:gdLst>
              <a:gd name="textAreaLeft" fmla="*/ 10692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B05-EAAD-4EE6-BDBE-838D18A2CB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It’s the same problem...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many of the same issu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, narrow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data sharing (must copy to/from Kerne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head of context switch, TLB-flush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3276720"/>
            <a:ext cx="2286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209680"/>
            <a:ext cx="2286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174132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63360" y="266688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2057400"/>
            <a:ext cx="1828800" cy="63828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59480 h 638280"/>
              <a:gd name="textAreaBottom" fmla="*/ 478800 h 638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3429000" y="3124080"/>
            <a:ext cx="1828800" cy="60984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752480"/>
            <a:ext cx="2286000" cy="236232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7920" y="2133720"/>
            <a:ext cx="178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2209680"/>
            <a:ext cx="2286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3276720"/>
            <a:ext cx="2286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72200" y="1676520"/>
            <a:ext cx="15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67760" y="373392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A57E-218F-44C6-8F9E-FA0535231A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veryone wants extensibility: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b brow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s, switches, “active” net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rs, reposito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face the same proble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to give agents direct access without compromising host integrit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0AC-39DD-4532-B50B-6870CC3423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oday’s Hot Topic: Type-Safety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ent is written in a “type-safe” languag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safe ~ respects host’s abstra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, Modula-3, ML, Sche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st ensures agent code is lega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c checks (e.g., type-check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ynamic checks (e.g., array-bound check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s interpreter or JIT compi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S 598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09E-29A7-47DA-B258-3D00EE9400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.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20:09:06Z</dcterms:created>
  <dc:creator>Greg Morrisett</dc:creator>
  <dc:description/>
  <dc:language>en-US</dc:language>
  <cp:lastModifiedBy>David Walker</cp:lastModifiedBy>
  <dcterms:modified xsi:type="dcterms:W3CDTF">2002-02-02T20:56:03Z</dcterms:modified>
  <cp:revision>30</cp:revision>
  <dc:subject/>
  <dc:title>Typed Assembly Language</dc:title>
</cp:coreProperties>
</file>