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AB0B-C387-46E0-97BB-3E3C234F9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66680"/>
            <a:ext cx="8305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A7EB-AC9C-4DA2-8819-7FA629F1B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3480" y="121932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6668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3480" y="376668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57AD-49A5-4B06-B57F-9C8480670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7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65920" y="1219320"/>
            <a:ext cx="267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4280" y="1219320"/>
            <a:ext cx="267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66680"/>
            <a:ext cx="267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65920" y="3766680"/>
            <a:ext cx="267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4280" y="3766680"/>
            <a:ext cx="267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261A-9DDE-4969-B0E5-3772DF462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663E-DA22-4328-B354-59648407D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5018-52C9-4833-B0FF-07115C630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53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3480" y="1219320"/>
            <a:ext cx="4053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31DF-B11B-461B-A822-20968A462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2822-C1E3-4EF2-9191-D0E034311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2CE4-0482-4A06-91E4-C8CF178E3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3480" y="1219320"/>
            <a:ext cx="4053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6668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8311-D803-481B-B941-36A2BA659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53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3480" y="121932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3480" y="376668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A14A-675E-4F82-8BFA-213EC452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3480" y="121932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66680"/>
            <a:ext cx="8305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5C7C-AE5B-4578-AD6B-4B727DC36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cc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cc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cc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F91CA-7C8F-4592-80C8-499FE828EDAD}" type="slidenum">
              <a:rPr b="0" lang="en-US" sz="1400" spc="-1" strike="noStrike">
                <a:solidFill>
                  <a:srgbClr val="3333cc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914400"/>
            <a:ext cx="83818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Proofs, Types, and Safe Mobile Code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4792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oS 598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avid Walk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6172200"/>
            <a:ext cx="830556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Example: JVM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2895480"/>
            <a:ext cx="2514600" cy="2667240"/>
          </a:xfrm>
          <a:prstGeom prst="rect">
            <a:avLst/>
          </a:prstGeom>
          <a:solidFill>
            <a:srgbClr val="66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91120" y="1676520"/>
            <a:ext cx="4114800" cy="4419360"/>
          </a:xfrm>
          <a:prstGeom prst="rect">
            <a:avLst/>
          </a:prstGeom>
          <a:solidFill>
            <a:srgbClr val="ff99cc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43000" y="3124080"/>
            <a:ext cx="1905120" cy="9144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4343400"/>
            <a:ext cx="2133360" cy="9144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41360" y="3352680"/>
            <a:ext cx="155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ava 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57400" y="40384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23240" y="3962520"/>
            <a:ext cx="78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av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25360" y="4572000"/>
            <a:ext cx="191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VM bytec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3200400" y="2362320"/>
            <a:ext cx="1066680" cy="22860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1905120"/>
            <a:ext cx="175248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439160" y="1981080"/>
            <a:ext cx="154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VM veri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400800" y="1981080"/>
            <a:ext cx="1828800" cy="8384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81960" y="1981080"/>
            <a:ext cx="12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yste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6095520" y="2286000"/>
            <a:ext cx="304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5105520"/>
            <a:ext cx="1447920" cy="9144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717440" y="5381640"/>
            <a:ext cx="94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in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43400" y="3886200"/>
            <a:ext cx="1905120" cy="7621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656960" y="4038480"/>
            <a:ext cx="136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ptimiz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343400" y="2771640"/>
            <a:ext cx="1905120" cy="7621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44920" y="2971800"/>
            <a:ext cx="16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w-Level 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257800" y="25146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34120" y="35053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46483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06160" y="5076720"/>
            <a:ext cx="10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in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492960" y="4906800"/>
            <a:ext cx="1676160" cy="1143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943600" y="548640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07280" y="336708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ernel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 598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67EC-D525-49C9-9BFF-42A9EF0B34C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.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JVM Pros &amp; Cons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rt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ype: $, tools, libraries, books, train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rge trusted computing ba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cludes JVM interpreter/JI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quires many run-time tes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wn” casts, arrays, null pointers, etc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ly suitable for Java (too high-level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ven then, there are mismatches with JV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formal spec (yet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 598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29E4-EB48-4A91-9160-B844349C6F4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.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Ideally: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1" name=""/>
          <p:cNvSpPr/>
          <p:nvPr/>
        </p:nvSpPr>
        <p:spPr>
          <a:xfrm>
            <a:off x="838080" y="1219320"/>
            <a:ext cx="2286000" cy="457200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92600" y="1523880"/>
            <a:ext cx="1726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our favor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angu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1371600"/>
            <a:ext cx="1752840" cy="9144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91880" y="2666880"/>
            <a:ext cx="165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w-Level 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S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90720" y="2514600"/>
            <a:ext cx="1904760" cy="9144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75840" y="3903840"/>
            <a:ext cx="13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ptimiz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3733920"/>
            <a:ext cx="1752840" cy="838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21680" y="5105520"/>
            <a:ext cx="184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chine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4876920"/>
            <a:ext cx="1752840" cy="838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343400" y="1295280"/>
            <a:ext cx="4114800" cy="2514600"/>
          </a:xfrm>
          <a:prstGeom prst="rect">
            <a:avLst/>
          </a:prstGeom>
          <a:solidFill>
            <a:srgbClr val="ff99cc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95680" y="1371600"/>
            <a:ext cx="175284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38760" y="1447920"/>
            <a:ext cx="102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eri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553080" y="1447920"/>
            <a:ext cx="1828800" cy="838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34600" y="1447920"/>
            <a:ext cx="12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yste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6248520" y="1752480"/>
            <a:ext cx="30456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958800" y="2666880"/>
            <a:ext cx="10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in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45240" y="2496960"/>
            <a:ext cx="1676520" cy="1143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1981080"/>
            <a:ext cx="685800" cy="8384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2895480" y="2057040"/>
            <a:ext cx="1600200" cy="30481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905120" y="22860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0512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730760" y="274320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ernel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 598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4C05-F781-4AD5-9A01-A88038046A3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.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Proof Carrying Code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[Necula &amp; Lee]</a:t>
            </a:r>
            <a:endParaRPr b="0" lang="en-US" sz="36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undamental idea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nding a proof is har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rifying a proof is eas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not so apparent to systems people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CC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gent = highly optimized code + proof th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de respects the host’s integrit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 598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0A61-A7AA-41B5-97C1-402ABBACA76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.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Example: Packet Filters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2819520"/>
            <a:ext cx="76197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31240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OS ker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user process 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048120" y="1523880"/>
            <a:ext cx="3047760" cy="4724280"/>
            <a:chOff x="3048120" y="1523880"/>
            <a:chExt cx="3047760" cy="4724280"/>
          </a:xfrm>
        </p:grpSpPr>
        <p:grpSp>
          <p:nvGrpSpPr>
            <p:cNvPr id="171" name=""/>
            <p:cNvGrpSpPr/>
            <p:nvPr/>
          </p:nvGrpSpPr>
          <p:grpSpPr>
            <a:xfrm>
              <a:off x="3048120" y="1523880"/>
              <a:ext cx="3047760" cy="1110600"/>
              <a:chOff x="3048120" y="1523880"/>
              <a:chExt cx="3047760" cy="1110600"/>
            </a:xfrm>
          </p:grpSpPr>
          <p:sp>
            <p:nvSpPr>
              <p:cNvPr id="172" name=""/>
              <p:cNvSpPr/>
              <p:nvPr/>
            </p:nvSpPr>
            <p:spPr>
              <a:xfrm>
                <a:off x="3048120" y="1523880"/>
                <a:ext cx="3047760" cy="990720"/>
              </a:xfrm>
              <a:prstGeom prst="flowChartMultidocumen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166920" y="1717560"/>
                <a:ext cx="24717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network monitoring applica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3505320" y="5715000"/>
              <a:ext cx="1981080" cy="533160"/>
              <a:chOff x="3505320" y="5715000"/>
              <a:chExt cx="1981080" cy="533160"/>
            </a:xfrm>
          </p:grpSpPr>
          <p:sp>
            <p:nvSpPr>
              <p:cNvPr id="175" name=""/>
              <p:cNvSpPr/>
              <p:nvPr/>
            </p:nvSpPr>
            <p:spPr>
              <a:xfrm>
                <a:off x="3505320" y="5715000"/>
                <a:ext cx="1981080" cy="533160"/>
              </a:xfrm>
              <a:prstGeom prst="upArrowCallout">
                <a:avLst>
                  <a:gd name="adj1" fmla="val 92902"/>
                  <a:gd name="adj2" fmla="val 92893"/>
                  <a:gd name="adj3" fmla="val 16667"/>
                  <a:gd name="adj4" fmla="val 66660"/>
                </a:avLst>
              </a:prstGeom>
              <a:solidFill>
                <a:srgbClr val="8cf4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924360" y="5832360"/>
                <a:ext cx="1148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networ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7" name=""/>
          <p:cNvGrpSpPr/>
          <p:nvPr/>
        </p:nvGrpSpPr>
        <p:grpSpPr>
          <a:xfrm>
            <a:off x="3809880" y="4267080"/>
            <a:ext cx="1371600" cy="1371600"/>
            <a:chOff x="3809880" y="4267080"/>
            <a:chExt cx="1371600" cy="1371600"/>
          </a:xfrm>
        </p:grpSpPr>
        <p:sp>
          <p:nvSpPr>
            <p:cNvPr id="178" name=""/>
            <p:cNvSpPr/>
            <p:nvPr/>
          </p:nvSpPr>
          <p:spPr>
            <a:xfrm>
              <a:off x="4267080" y="44197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419720" y="4800600"/>
              <a:ext cx="152280" cy="1522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267080" y="5029200"/>
              <a:ext cx="152640" cy="1522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2000" y="5486400"/>
              <a:ext cx="152280" cy="1522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495680" y="43434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72000" y="45720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495680" y="5181480"/>
              <a:ext cx="152640" cy="1526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267080" y="5410080"/>
              <a:ext cx="152640" cy="1526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09880" y="4267080"/>
              <a:ext cx="1371600" cy="1371600"/>
            </a:xfrm>
            <a:prstGeom prst="upArrow">
              <a:avLst>
                <a:gd name="adj1" fmla="val 50000"/>
                <a:gd name="adj2" fmla="val 25000"/>
              </a:avLst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 598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8A6C-A88D-4547-8631-7953A5D72A8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.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2819520" y="2019240"/>
            <a:ext cx="2361960" cy="2247840"/>
            <a:chOff x="2819520" y="2019240"/>
            <a:chExt cx="2361960" cy="2247840"/>
          </a:xfrm>
        </p:grpSpPr>
        <p:grpSp>
          <p:nvGrpSpPr>
            <p:cNvPr id="189" name=""/>
            <p:cNvGrpSpPr/>
            <p:nvPr/>
          </p:nvGrpSpPr>
          <p:grpSpPr>
            <a:xfrm>
              <a:off x="3886200" y="3429000"/>
              <a:ext cx="1295280" cy="838080"/>
              <a:chOff x="3886200" y="3429000"/>
              <a:chExt cx="1295280" cy="838080"/>
            </a:xfrm>
          </p:grpSpPr>
          <p:sp>
            <p:nvSpPr>
              <p:cNvPr id="190" name=""/>
              <p:cNvSpPr/>
              <p:nvPr/>
            </p:nvSpPr>
            <p:spPr>
              <a:xfrm>
                <a:off x="3886200" y="3429000"/>
                <a:ext cx="1295280" cy="838080"/>
              </a:xfrm>
              <a:prstGeom prst="flowChartMultidocumen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006800" y="3546360"/>
                <a:ext cx="946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packet filt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92" name=""/>
            <p:cNvCxnSpPr>
              <a:endCxn id="190" idx="1"/>
            </p:cNvCxnSpPr>
            <p:nvPr/>
          </p:nvCxnSpPr>
          <p:spPr>
            <a:xfrm flipH="1" flipV="1" rot="10800000">
              <a:off x="3047760" y="2018880"/>
              <a:ext cx="838800" cy="1829520"/>
            </a:xfrm>
            <a:prstGeom prst="curvedConnector5">
              <a:avLst>
                <a:gd name="adj1" fmla="val -27264"/>
                <a:gd name="adj2" fmla="val 49990"/>
                <a:gd name="adj3" fmla="val -27264"/>
              </a:avLst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93" name=""/>
          <p:cNvGrpSpPr/>
          <p:nvPr/>
        </p:nvGrpSpPr>
        <p:grpSpPr>
          <a:xfrm>
            <a:off x="3809880" y="2438280"/>
            <a:ext cx="1371600" cy="914400"/>
            <a:chOff x="3809880" y="2438280"/>
            <a:chExt cx="1371600" cy="914400"/>
          </a:xfrm>
        </p:grpSpPr>
        <p:sp>
          <p:nvSpPr>
            <p:cNvPr id="194" name=""/>
            <p:cNvSpPr/>
            <p:nvPr/>
          </p:nvSpPr>
          <p:spPr>
            <a:xfrm>
              <a:off x="3809880" y="2438280"/>
              <a:ext cx="1371600" cy="914400"/>
            </a:xfrm>
            <a:prstGeom prst="upArrow">
              <a:avLst>
                <a:gd name="adj1" fmla="val 50000"/>
                <a:gd name="adj2" fmla="val 25000"/>
              </a:avLst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343400" y="3124080"/>
              <a:ext cx="152280" cy="15264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572000" y="30481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267080" y="28195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72000" y="2743200"/>
              <a:ext cx="152280" cy="1522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419720" y="2514600"/>
              <a:ext cx="152280" cy="1522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762120" y="2819520"/>
            <a:ext cx="76197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3520" y="31240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OS ker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user process 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048120" y="1523880"/>
            <a:ext cx="3047760" cy="4724280"/>
            <a:chOff x="3048120" y="1523880"/>
            <a:chExt cx="3047760" cy="4724280"/>
          </a:xfrm>
        </p:grpSpPr>
        <p:grpSp>
          <p:nvGrpSpPr>
            <p:cNvPr id="204" name=""/>
            <p:cNvGrpSpPr/>
            <p:nvPr/>
          </p:nvGrpSpPr>
          <p:grpSpPr>
            <a:xfrm>
              <a:off x="3048120" y="1523880"/>
              <a:ext cx="3047760" cy="1110600"/>
              <a:chOff x="3048120" y="1523880"/>
              <a:chExt cx="3047760" cy="1110600"/>
            </a:xfrm>
          </p:grpSpPr>
          <p:sp>
            <p:nvSpPr>
              <p:cNvPr id="205" name=""/>
              <p:cNvSpPr/>
              <p:nvPr/>
            </p:nvSpPr>
            <p:spPr>
              <a:xfrm>
                <a:off x="3048120" y="1523880"/>
                <a:ext cx="3047760" cy="990720"/>
              </a:xfrm>
              <a:prstGeom prst="flowChartMultidocumen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166920" y="1717560"/>
                <a:ext cx="24717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network monitoring applica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505320" y="5715000"/>
              <a:ext cx="1981080" cy="533160"/>
              <a:chOff x="3505320" y="5715000"/>
              <a:chExt cx="1981080" cy="533160"/>
            </a:xfrm>
          </p:grpSpPr>
          <p:sp>
            <p:nvSpPr>
              <p:cNvPr id="208" name=""/>
              <p:cNvSpPr/>
              <p:nvPr/>
            </p:nvSpPr>
            <p:spPr>
              <a:xfrm>
                <a:off x="3505320" y="5715000"/>
                <a:ext cx="1981080" cy="533160"/>
              </a:xfrm>
              <a:prstGeom prst="upArrowCallout">
                <a:avLst>
                  <a:gd name="adj1" fmla="val 92902"/>
                  <a:gd name="adj2" fmla="val 92893"/>
                  <a:gd name="adj3" fmla="val 16667"/>
                  <a:gd name="adj4" fmla="val 66660"/>
                </a:avLst>
              </a:prstGeom>
              <a:solidFill>
                <a:srgbClr val="8cf4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924360" y="5832360"/>
                <a:ext cx="1148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networ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0" name=""/>
          <p:cNvGrpSpPr/>
          <p:nvPr/>
        </p:nvGrpSpPr>
        <p:grpSpPr>
          <a:xfrm>
            <a:off x="3809880" y="4267080"/>
            <a:ext cx="1371600" cy="1371600"/>
            <a:chOff x="3809880" y="4267080"/>
            <a:chExt cx="1371600" cy="1371600"/>
          </a:xfrm>
        </p:grpSpPr>
        <p:sp>
          <p:nvSpPr>
            <p:cNvPr id="211" name=""/>
            <p:cNvSpPr/>
            <p:nvPr/>
          </p:nvSpPr>
          <p:spPr>
            <a:xfrm>
              <a:off x="4267080" y="44197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419720" y="4800600"/>
              <a:ext cx="152280" cy="1522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267080" y="5029200"/>
              <a:ext cx="152640" cy="1522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572000" y="5486400"/>
              <a:ext cx="152280" cy="1522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495680" y="43434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572000" y="45720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495680" y="5181480"/>
              <a:ext cx="152640" cy="1526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5410080"/>
              <a:ext cx="152640" cy="1526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809880" y="4267080"/>
              <a:ext cx="1371600" cy="1371600"/>
            </a:xfrm>
            <a:prstGeom prst="upArrow">
              <a:avLst>
                <a:gd name="adj1" fmla="val 50000"/>
                <a:gd name="adj2" fmla="val 25000"/>
              </a:avLst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457200" y="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Example: Packet Filt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 598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33F1-D542-456B-8838-644A2A73A6D9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.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An Experiment: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afety Policy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iven a packet, returns yes/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cket read only, small scratchp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loop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periment: [Necula &amp; Lee, OSDI’96]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rkeley Packet Filter Interpre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ula-3 (SPIN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ftware Fault Isolation (sandboxing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C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 598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899C-26E2-4CBF-A9E0-9CB086A7294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.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Packet Filters in PCC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25" name=""/>
          <p:cNvSpPr/>
          <p:nvPr/>
        </p:nvSpPr>
        <p:spPr>
          <a:xfrm>
            <a:off x="762120" y="2819520"/>
            <a:ext cx="76197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33520" y="312408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h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" y="190512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untrusted 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7010280" y="4387680"/>
            <a:ext cx="1295640" cy="1067040"/>
            <a:chOff x="7010280" y="4387680"/>
            <a:chExt cx="1295640" cy="1067040"/>
          </a:xfrm>
        </p:grpSpPr>
        <p:sp>
          <p:nvSpPr>
            <p:cNvPr id="229" name=""/>
            <p:cNvSpPr/>
            <p:nvPr/>
          </p:nvSpPr>
          <p:spPr>
            <a:xfrm>
              <a:off x="7010280" y="4387680"/>
              <a:ext cx="1295640" cy="1067040"/>
            </a:xfrm>
            <a:prstGeom prst="flowChartDocument">
              <a:avLst/>
            </a:prstGeom>
            <a:solidFill>
              <a:srgbClr val="8cf4ea"/>
            </a:solidFill>
            <a:ln w="12600">
              <a:solidFill>
                <a:srgbClr val="8cf4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010280" y="4387680"/>
              <a:ext cx="12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PF safety polic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31" name=""/>
          <p:cNvCxnSpPr>
            <a:stCxn id="232" idx="3"/>
            <a:endCxn id="233" idx="1"/>
          </p:cNvCxnSpPr>
          <p:nvPr/>
        </p:nvCxnSpPr>
        <p:spPr>
          <a:xfrm>
            <a:off x="3962160" y="1943280"/>
            <a:ext cx="686520" cy="19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4" name=""/>
          <p:cNvCxnSpPr>
            <a:stCxn id="230" idx="0"/>
            <a:endCxn id="235" idx="3"/>
          </p:cNvCxnSpPr>
          <p:nvPr/>
        </p:nvCxnSpPr>
        <p:spPr>
          <a:xfrm flipV="1" rot="16200000">
            <a:off x="5864760" y="2593800"/>
            <a:ext cx="2481840" cy="1105920"/>
          </a:xfrm>
          <a:prstGeom prst="curvedConnector2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grpSp>
        <p:nvGrpSpPr>
          <p:cNvPr id="236" name=""/>
          <p:cNvGrpSpPr/>
          <p:nvPr/>
        </p:nvGrpSpPr>
        <p:grpSpPr>
          <a:xfrm>
            <a:off x="4495680" y="3769920"/>
            <a:ext cx="2514600" cy="1550880"/>
            <a:chOff x="4495680" y="3769920"/>
            <a:chExt cx="2514600" cy="1550880"/>
          </a:xfrm>
        </p:grpSpPr>
        <p:grpSp>
          <p:nvGrpSpPr>
            <p:cNvPr id="237" name=""/>
            <p:cNvGrpSpPr/>
            <p:nvPr/>
          </p:nvGrpSpPr>
          <p:grpSpPr>
            <a:xfrm>
              <a:off x="4495680" y="4616280"/>
              <a:ext cx="1752840" cy="704520"/>
              <a:chOff x="4495680" y="4616280"/>
              <a:chExt cx="1752840" cy="704520"/>
            </a:xfrm>
          </p:grpSpPr>
          <p:sp>
            <p:nvSpPr>
              <p:cNvPr id="238" name=""/>
              <p:cNvSpPr/>
              <p:nvPr/>
            </p:nvSpPr>
            <p:spPr>
              <a:xfrm>
                <a:off x="4572000" y="4616280"/>
                <a:ext cx="1600200" cy="488880"/>
              </a:xfrm>
              <a:prstGeom prst="rect">
                <a:avLst/>
              </a:prstGeom>
              <a:solidFill>
                <a:srgbClr val="8cf4ea"/>
              </a:solidFill>
              <a:ln w="25560">
                <a:solidFill>
                  <a:srgbClr val="8cf4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495680" y="4678200"/>
                <a:ext cx="1752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proofcheckin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40" name=""/>
            <p:cNvCxnSpPr>
              <a:stCxn id="241" idx="2"/>
              <a:endCxn id="238" idx="0"/>
            </p:cNvCxnSpPr>
            <p:nvPr/>
          </p:nvCxnSpPr>
          <p:spPr>
            <a:xfrm>
              <a:off x="4704840" y="4047840"/>
              <a:ext cx="667800" cy="556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2" name=""/>
            <p:cNvCxnSpPr>
              <a:stCxn id="243" idx="2"/>
              <a:endCxn id="238" idx="0"/>
            </p:cNvCxnSpPr>
            <p:nvPr/>
          </p:nvCxnSpPr>
          <p:spPr>
            <a:xfrm flipH="1">
              <a:off x="5371920" y="3769920"/>
              <a:ext cx="800640" cy="8341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4" name=""/>
            <p:cNvCxnSpPr>
              <a:stCxn id="230" idx="1"/>
              <a:endCxn id="239" idx="3"/>
            </p:cNvCxnSpPr>
            <p:nvPr/>
          </p:nvCxnSpPr>
          <p:spPr>
            <a:xfrm flipH="1">
              <a:off x="6248160" y="4846680"/>
              <a:ext cx="762480" cy="16560"/>
            </a:xfrm>
            <a:prstGeom prst="straightConnector1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med"/>
            </a:ln>
          </p:spPr>
        </p:cxnSp>
      </p:grpSp>
      <p:grpSp>
        <p:nvGrpSpPr>
          <p:cNvPr id="245" name=""/>
          <p:cNvGrpSpPr/>
          <p:nvPr/>
        </p:nvGrpSpPr>
        <p:grpSpPr>
          <a:xfrm>
            <a:off x="2190600" y="3717000"/>
            <a:ext cx="2305080" cy="1769400"/>
            <a:chOff x="2190600" y="3717000"/>
            <a:chExt cx="2305080" cy="1769400"/>
          </a:xfrm>
        </p:grpSpPr>
        <p:sp>
          <p:nvSpPr>
            <p:cNvPr id="246" name=""/>
            <p:cNvSpPr/>
            <p:nvPr/>
          </p:nvSpPr>
          <p:spPr>
            <a:xfrm>
              <a:off x="2190600" y="4680000"/>
              <a:ext cx="648000" cy="349200"/>
            </a:xfrm>
            <a:prstGeom prst="flowChartDecision">
              <a:avLst/>
            </a:prstGeom>
            <a:solidFill>
              <a:srgbClr val="8cf4ea"/>
            </a:solidFill>
            <a:ln w="25560">
              <a:solidFill>
                <a:srgbClr val="8cf4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7" name=""/>
            <p:cNvCxnSpPr>
              <a:stCxn id="239" idx="1"/>
              <a:endCxn id="246" idx="3"/>
            </p:cNvCxnSpPr>
            <p:nvPr/>
          </p:nvCxnSpPr>
          <p:spPr>
            <a:xfrm flipH="1" flipV="1">
              <a:off x="2850840" y="4854240"/>
              <a:ext cx="1645200" cy="86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9" idx="1"/>
              <a:endCxn id="246" idx="0"/>
            </p:cNvCxnSpPr>
            <p:nvPr/>
          </p:nvCxnSpPr>
          <p:spPr>
            <a:xfrm flipV="1" rot="10800000">
              <a:off x="2513880" y="3717000"/>
              <a:ext cx="1296000" cy="950040"/>
            </a:xfrm>
            <a:prstGeom prst="bentConnector2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0" name=""/>
            <p:cNvCxnSpPr>
              <a:stCxn id="246" idx="2"/>
              <a:endCxn id="251" idx="0"/>
            </p:cNvCxnSpPr>
            <p:nvPr/>
          </p:nvCxnSpPr>
          <p:spPr>
            <a:xfrm>
              <a:off x="2514600" y="5041440"/>
              <a:ext cx="16560" cy="4453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52" name=""/>
          <p:cNvGrpSpPr/>
          <p:nvPr/>
        </p:nvGrpSpPr>
        <p:grpSpPr>
          <a:xfrm>
            <a:off x="1981080" y="1523880"/>
            <a:ext cx="1981440" cy="4648320"/>
            <a:chOff x="1981080" y="1523880"/>
            <a:chExt cx="1981440" cy="4648320"/>
          </a:xfrm>
        </p:grpSpPr>
        <p:grpSp>
          <p:nvGrpSpPr>
            <p:cNvPr id="253" name=""/>
            <p:cNvGrpSpPr/>
            <p:nvPr/>
          </p:nvGrpSpPr>
          <p:grpSpPr>
            <a:xfrm>
              <a:off x="1981080" y="5486400"/>
              <a:ext cx="914400" cy="685800"/>
              <a:chOff x="1981080" y="5486400"/>
              <a:chExt cx="914400" cy="685800"/>
            </a:xfrm>
          </p:grpSpPr>
          <p:sp>
            <p:nvSpPr>
              <p:cNvPr id="251" name=""/>
              <p:cNvSpPr/>
              <p:nvPr/>
            </p:nvSpPr>
            <p:spPr>
              <a:xfrm>
                <a:off x="1981080" y="5486400"/>
                <a:ext cx="914400" cy="685800"/>
              </a:xfrm>
              <a:prstGeom prst="flowChartInputOutput">
                <a:avLst/>
              </a:prstGeom>
              <a:solidFill>
                <a:srgbClr val="8cf4ea"/>
              </a:solidFill>
              <a:ln w="12600">
                <a:solidFill>
                  <a:srgbClr val="8cf4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133360" y="5683320"/>
                <a:ext cx="685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CPU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2209680" y="1523880"/>
              <a:ext cx="1752840" cy="838440"/>
              <a:chOff x="2209680" y="1523880"/>
              <a:chExt cx="1752840" cy="838440"/>
            </a:xfrm>
          </p:grpSpPr>
          <p:sp>
            <p:nvSpPr>
              <p:cNvPr id="232" name=""/>
              <p:cNvSpPr/>
              <p:nvPr/>
            </p:nvSpPr>
            <p:spPr>
              <a:xfrm>
                <a:off x="2324160" y="1523880"/>
                <a:ext cx="1638360" cy="838440"/>
              </a:xfrm>
              <a:prstGeom prst="flowChartMultidocument">
                <a:avLst/>
              </a:prstGeom>
              <a:solidFill>
                <a:srgbClr val="ffcc00"/>
              </a:solidFill>
              <a:ln w="1260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209680" y="1644480"/>
                <a:ext cx="1638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assembly cod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7" name=""/>
          <p:cNvGrpSpPr/>
          <p:nvPr/>
        </p:nvGrpSpPr>
        <p:grpSpPr>
          <a:xfrm>
            <a:off x="3809880" y="2324160"/>
            <a:ext cx="2895840" cy="1790640"/>
            <a:chOff x="3809880" y="2324160"/>
            <a:chExt cx="2895840" cy="1790640"/>
          </a:xfrm>
        </p:grpSpPr>
        <p:grpSp>
          <p:nvGrpSpPr>
            <p:cNvPr id="258" name=""/>
            <p:cNvGrpSpPr/>
            <p:nvPr/>
          </p:nvGrpSpPr>
          <p:grpSpPr>
            <a:xfrm>
              <a:off x="3809880" y="3276720"/>
              <a:ext cx="1714680" cy="838080"/>
              <a:chOff x="3809880" y="3276720"/>
              <a:chExt cx="1714680" cy="838080"/>
            </a:xfrm>
          </p:grpSpPr>
          <p:sp>
            <p:nvSpPr>
              <p:cNvPr id="241" name=""/>
              <p:cNvSpPr/>
              <p:nvPr/>
            </p:nvSpPr>
            <p:spPr>
              <a:xfrm>
                <a:off x="3886200" y="3276720"/>
                <a:ext cx="1638360" cy="838080"/>
              </a:xfrm>
              <a:prstGeom prst="flowChartMultidocument">
                <a:avLst/>
              </a:prstGeom>
              <a:solidFill>
                <a:srgbClr val="ffcc00"/>
              </a:solidFill>
              <a:ln w="1260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809880" y="3397320"/>
                <a:ext cx="1638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executable cod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5638680" y="3276720"/>
              <a:ext cx="1067040" cy="533160"/>
              <a:chOff x="5638680" y="3276720"/>
              <a:chExt cx="1067040" cy="533160"/>
            </a:xfrm>
          </p:grpSpPr>
          <p:sp>
            <p:nvSpPr>
              <p:cNvPr id="243" name=""/>
              <p:cNvSpPr/>
              <p:nvPr/>
            </p:nvSpPr>
            <p:spPr>
              <a:xfrm>
                <a:off x="5715000" y="3276720"/>
                <a:ext cx="914400" cy="533160"/>
              </a:xfrm>
              <a:prstGeom prst="flowChartPunchedTape">
                <a:avLst/>
              </a:prstGeom>
              <a:solidFill>
                <a:srgbClr val="ffcc00"/>
              </a:solidFill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638680" y="3352680"/>
                <a:ext cx="106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proof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61" name=""/>
            <p:cNvCxnSpPr>
              <a:stCxn id="233" idx="2"/>
              <a:endCxn id="243" idx="0"/>
            </p:cNvCxnSpPr>
            <p:nvPr/>
          </p:nvCxnSpPr>
          <p:spPr>
            <a:xfrm>
              <a:off x="5447880" y="2324160"/>
              <a:ext cx="724680" cy="99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3" idx="2"/>
              <a:endCxn id="241" idx="0"/>
            </p:cNvCxnSpPr>
            <p:nvPr/>
          </p:nvCxnSpPr>
          <p:spPr>
            <a:xfrm flipH="1">
              <a:off x="4704840" y="2324160"/>
              <a:ext cx="743760" cy="953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63" name=""/>
          <p:cNvGrpSpPr/>
          <p:nvPr/>
        </p:nvGrpSpPr>
        <p:grpSpPr>
          <a:xfrm>
            <a:off x="4572000" y="1447920"/>
            <a:ext cx="1981080" cy="1191240"/>
            <a:chOff x="4572000" y="1447920"/>
            <a:chExt cx="1981080" cy="1191240"/>
          </a:xfrm>
        </p:grpSpPr>
        <p:sp>
          <p:nvSpPr>
            <p:cNvPr id="233" name=""/>
            <p:cNvSpPr/>
            <p:nvPr/>
          </p:nvSpPr>
          <p:spPr>
            <a:xfrm>
              <a:off x="4648320" y="1523880"/>
              <a:ext cx="1828800" cy="876600"/>
            </a:xfrm>
            <a:prstGeom prst="flowChartProcess">
              <a:avLst/>
            </a:prstGeom>
            <a:solidFill>
              <a:srgbClr val="8cf4ea"/>
            </a:solidFill>
            <a:ln w="12600">
              <a:solidFill>
                <a:srgbClr val="8cf4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572000" y="1447920"/>
              <a:ext cx="1981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witness-generating theorem pro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 598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F58A-255E-4CE6-BFDF-51E87DFFD97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.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Packet Filter Summary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CC packet filter worked extremely well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PF safety policy was easy to verify automaticall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0 is aligned address of network packet (read only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1 is length of packet (&gt;=64 byte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2 is aligned address of writeable 16-byte arra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owed hand-optimized packet filter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“world’s fastest packet filters”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 times faster than BPF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of sizes and checking times were small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bout 1ms proof checking tim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0%-300% overhead for attached proof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 598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B553-F0F7-401F-9C8B-1FC3EA19563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.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Results: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CC win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380880" y="1905120"/>
          <a:ext cx="8305920" cy="4951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05120"/>
                    <a:ext cx="8305920" cy="49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 598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F197-F52F-40CC-A9C0-F240F0C6781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.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Quick Outline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bile co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of-Carrying Co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bstraction-preserving compil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unchline:  Types, logics, &amp; proofs will play an increasingly visible role in high-performance, next-generation system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Acknowledgment:  these slides come from a combination of Peter Lee, Greg Morrisett, George Necula, and myself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 598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D64F-6BE4-4727-A794-E3F808633C2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.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Advantages of PCC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mple, small, and fast trusted computing bas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 external authentication or cryptograph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 need to insert additional run-time check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mper-proof”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cise and expressive specification of code safety polici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 598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C962-E867-4D8E-A3E4-0C4C9956093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.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One Approach to PCC: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xiomatic semantic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afety policy: additional pre-condition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loyd/Hoare-style verification condition generator (VCgen) converts to first-order predica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op-invariants needed as annota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of of VC implies code respects safety polic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 598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C467-3371-4CF2-A503-E6B7E076048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.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Challenges with PCC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to put in the safety polic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ich safety properties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veness properties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 to automate proof construction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to automate loop invariants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gineering issu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lexity of proof checker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17000" indent="-2034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s is where Andrew’s group &amp; FPCC comes in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ze and time to check proofs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 598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BCE3-C667-40AA-8356-1CD4F341A5F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.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Proof Representation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CC uses the Edinburgh Logical Framework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F type checking adequate for proof checkin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lexible framework for encoding security policies (i.e., logics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ype-checker is small (~6 pages of C code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 598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9AC7-E0E8-4212-8783-639D2D9452F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.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Certifying Compilers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ig question is still:  how to get proof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cus on traditional type-safety as the security polic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urce is well-typed…just need to maintain the proof throughout compilation..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 598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B051-845B-4800-A7B9-4C052EA564C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.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Type-Preserving Compilers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L compiler [PLDI’96]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igh-performance M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ypes only to intermediat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uchstone [PLDI’98]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mple, low-level langua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mits high-performance PC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LC [PoPL’98,TIC’98]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neral type system for assembly language(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chniques for compiling high-level language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 598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B072-910A-498E-9F8C-30756771117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.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Compiling High-Level Languages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encoding constructs, we must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serve typing (to emit invariant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serve abstrac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rs reason about security at the source level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urity policy may be a source-level interface (e.g., an ML signature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not afford for agent machine code to violate these abstraction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mehow get to the mach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 598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A50E-4DB5-4AEF-ADAC-9C4BBEB6660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.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TAL [PoPL’98, TIC’98]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ype system for assembly languag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d a set of encodings for high-level language featur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ertifying compilers for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040040" indent="-20772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fe-C, Scheme, M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040040" indent="-20772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ava, ML2000 in the work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ype system based on System-F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rational model (accurate machine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yntactic” soundness resul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 598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456B-A5FC-4E1E-9BE0-8AE15984A5B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.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TALx86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ype-checker and tools for Intel x86 cod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lightly different framework than PCC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n’t ship explicit proo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y’re very large due to encoding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stead, ship code with invariant annota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st reconstructs &amp; verifies proo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 smaller agents, potentially faster check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larger TCB, less flexible framewor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 598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EAFB-5DA3-41A9-AD8F-AB6509B4C9A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.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TAL Built-In Types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ytes:  int1, int2, int4, .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uples: 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…,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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de: {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…,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nk pre-condi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olymorphic types: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 598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6770-37E4-4891-B0CE-6480C3F6776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.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562720" y="3276720"/>
            <a:ext cx="22860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562720" y="2209680"/>
            <a:ext cx="22860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Today’s Systems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atic, narrow interfaces &amp; protoco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ata must be copied to/from hos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w functionality is performed at the cli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ndwidth wasted when server cycles are chea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"/>
          <p:cNvSpPr/>
          <p:nvPr/>
        </p:nvSpPr>
        <p:spPr>
          <a:xfrm>
            <a:off x="5791320" y="1752480"/>
            <a:ext cx="2286000" cy="2362320"/>
          </a:xfrm>
          <a:prstGeom prst="rect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912640" y="2438280"/>
            <a:ext cx="212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video serv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05320" y="2057400"/>
            <a:ext cx="1828800" cy="63828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59480 h 638280"/>
              <a:gd name="textAreaBottom" fmla="*/ 478800 h 638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3429000" y="3124080"/>
            <a:ext cx="1828800" cy="60984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1752480"/>
            <a:ext cx="2286000" cy="2362320"/>
          </a:xfrm>
          <a:prstGeom prst="rect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02480" y="2438280"/>
            <a:ext cx="112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fil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209680"/>
            <a:ext cx="22860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971800" y="3276720"/>
            <a:ext cx="22860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68160" y="1682640"/>
            <a:ext cx="178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Re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374280" y="3733920"/>
            <a:ext cx="19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 598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F3F7-9A79-4943-B817-EF087A77B78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.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Simple Loop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m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{ecx:int4, ebx:{eax:int4}}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; int sum(int x) {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v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x,0                                 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;    int a = 0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m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st                                   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op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{eax:int4, ecx:int4, ebx:{eax:int4}}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;    while(!x) {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x,ecx                              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;      a += x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cx                                    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;       x--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ALLTHRU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;    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st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{eax:int4, ecx:int4, ebx:{eax:int4}}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m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cx,0                                 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n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op                                    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;   return(a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m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bx                                    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;  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 598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68F0-417D-4E74-B09C-808837BD0C7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.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Other TAL Features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ule syste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faces, implementations, AD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cords and datatyp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rrays/vecto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Higher Order) Type constructo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ack suppor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iasing suppor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 598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E197-DFB8-4A8E-939B-60AC7DEF6AA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.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Some Open Issues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gic and Typing issue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of representation, provers, etc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gics for encoding more interesting properties (e.g., resource mgmt.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mantic issue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ull abstraction for compil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urity issue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ust management, access control, authentication, information flow, etc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 598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BE76-1639-4663-BFCE-DDA5BB7B07C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.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Why you should take this course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advent of mobile code &amp; the hype of Java have opened the door for us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ystems people now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need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combination of performance, flexibility, and security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ofs &amp; types are the technology that will deliver both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 598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91BF-74B0-4D45-B9A3-D438127077C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.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Tomorrow’s Systems:  Agents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4266720"/>
            <a:ext cx="83059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sends a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computational agen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gent encapsulates data &amp;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gent runs locally with direct access to da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gent returns to A with resul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"/>
          <p:cNvSpPr/>
          <p:nvPr/>
        </p:nvSpPr>
        <p:spPr>
          <a:xfrm>
            <a:off x="5791320" y="1752480"/>
            <a:ext cx="2286000" cy="2362320"/>
          </a:xfrm>
          <a:prstGeom prst="rect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988960" y="2362320"/>
            <a:ext cx="212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video serv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74640" y="1731960"/>
            <a:ext cx="2286000" cy="2362320"/>
          </a:xfrm>
          <a:prstGeom prst="rect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9800" y="2438280"/>
            <a:ext cx="11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44920" y="2590920"/>
            <a:ext cx="990720" cy="53316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66160" y="2590920"/>
            <a:ext cx="85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2590920"/>
            <a:ext cx="990720" cy="5331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42080" y="2592360"/>
            <a:ext cx="646200" cy="7452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791320" y="25909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77120" y="2590920"/>
            <a:ext cx="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91320" y="31240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352680" y="259092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 598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B147-9549-4D6B-86EB-38131EEC3E9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.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Some Critical Issues: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afety concern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 to protect from faulty/malicious agent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plexity concern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 to minimize trusted computing bas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erformance concern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 to minimize overheads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ther concerns (not addressed here)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 to ensure privacy and authenticit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 to protect agent from host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 598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BE0E-236B-4ECF-8F35-4FFA4D8B0AE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.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143000" y="1066680"/>
            <a:ext cx="7086600" cy="3048120"/>
          </a:xfrm>
          <a:prstGeom prst="rect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71600" y="2133720"/>
            <a:ext cx="1600200" cy="1752480"/>
          </a:xfrm>
          <a:prstGeom prst="rect">
            <a:avLst/>
          </a:prstGeom>
          <a:solidFill>
            <a:srgbClr val="ccccff"/>
          </a:solidFill>
          <a:ln w="7632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Traditional OS-Approach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4267080"/>
            <a:ext cx="83059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ace extension in separate address space and re-direct system call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"/>
          <p:cNvSpPr/>
          <p:nvPr/>
        </p:nvSpPr>
        <p:spPr>
          <a:xfrm>
            <a:off x="4164840" y="129528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676520" y="2590920"/>
            <a:ext cx="990360" cy="53316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22960" y="2666880"/>
            <a:ext cx="85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09880" y="2133720"/>
            <a:ext cx="1600200" cy="1752480"/>
          </a:xfrm>
          <a:prstGeom prst="rect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248520" y="2133720"/>
            <a:ext cx="1600200" cy="1752480"/>
          </a:xfrm>
          <a:prstGeom prst="rect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001040" y="2590920"/>
            <a:ext cx="11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525720" y="2666880"/>
            <a:ext cx="110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8120" y="2362320"/>
            <a:ext cx="685800" cy="304560"/>
          </a:xfrm>
          <a:custGeom>
            <a:avLst/>
            <a:gdLst>
              <a:gd name="textAreaLeft" fmla="*/ 106920 w 685800"/>
              <a:gd name="textAreaRight" fmla="*/ 600120 w 6858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438280"/>
            <a:ext cx="685800" cy="304920"/>
          </a:xfrm>
          <a:custGeom>
            <a:avLst/>
            <a:gdLst>
              <a:gd name="textAreaLeft" fmla="*/ 106920 w 685800"/>
              <a:gd name="textAreaRight" fmla="*/ 600120 w 6858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3047760" y="3123720"/>
            <a:ext cx="685800" cy="304920"/>
          </a:xfrm>
          <a:custGeom>
            <a:avLst/>
            <a:gdLst>
              <a:gd name="textAreaLeft" fmla="*/ 106920 w 685800"/>
              <a:gd name="textAreaRight" fmla="*/ 600120 w 6858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10800000">
            <a:off x="5409720" y="3276720"/>
            <a:ext cx="685800" cy="304560"/>
          </a:xfrm>
          <a:custGeom>
            <a:avLst/>
            <a:gdLst>
              <a:gd name="textAreaLeft" fmla="*/ 106920 w 685800"/>
              <a:gd name="textAreaRight" fmla="*/ 600120 w 6858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 598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4990-54D6-49BE-93E1-00AF57AC69F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.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It’s the same problem...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d many of the same issues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586800" indent="-225720">
              <a:spcBef>
                <a:spcPts val="601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ic, narrow interfa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586800" indent="-225720">
              <a:spcBef>
                <a:spcPts val="601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data sharing (must copy to/from Kernel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586800" indent="-225720">
              <a:spcBef>
                <a:spcPts val="601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verhead of context switch, TLB-flush, etc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"/>
          <p:cNvSpPr/>
          <p:nvPr/>
        </p:nvSpPr>
        <p:spPr>
          <a:xfrm>
            <a:off x="5562720" y="3276720"/>
            <a:ext cx="22860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2209680"/>
            <a:ext cx="22860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91320" y="1741320"/>
            <a:ext cx="2286000" cy="2362320"/>
          </a:xfrm>
          <a:prstGeom prst="rect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63360" y="2666880"/>
            <a:ext cx="11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05320" y="2057400"/>
            <a:ext cx="1828800" cy="63828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59480 h 638280"/>
              <a:gd name="textAreaBottom" fmla="*/ 478800 h 638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10800000">
            <a:off x="3429000" y="3124080"/>
            <a:ext cx="1828800" cy="60984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752480"/>
            <a:ext cx="2286000" cy="2362320"/>
          </a:xfrm>
          <a:prstGeom prst="rect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97920" y="2133720"/>
            <a:ext cx="178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71800" y="2209680"/>
            <a:ext cx="22860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971800" y="3276720"/>
            <a:ext cx="22860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72200" y="1676520"/>
            <a:ext cx="154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ystem C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767760" y="3733920"/>
            <a:ext cx="133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 598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2DEC-AD0F-4585-A5E8-4D973C32C61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.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Everyone wants extensibility: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S Kern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b brows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uters, switches, “active” network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rvers, repositor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 face the same problem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w to give agents direct access without compromising host integrity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 598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2D27-95F1-4711-8879-878DB0643B2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.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Today’s Hot Topic: Type-Safety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gent is written in a “type-safe” languag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ype safe ~ respects host’s abstrac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ava, Modula-3, ML, Schem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st ensures agent code is legal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atic checks (e.g., type-checking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ynamic checks (e.g., array-bound check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quires interpreter or JIT compil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 598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A634-522B-48F1-9D60-332A17BC36A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.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9T20:09:06Z</dcterms:created>
  <dc:creator>Greg Morrisett</dc:creator>
  <dc:description/>
  <dc:language>en-US</dc:language>
  <cp:lastModifiedBy>David Walker</cp:lastModifiedBy>
  <dcterms:modified xsi:type="dcterms:W3CDTF">2002-02-02T20:56:03Z</dcterms:modified>
  <cp:revision>30</cp:revision>
  <dc:subject/>
  <dc:title>Typed Assembly Language</dc:title>
</cp:coreProperties>
</file>