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086-0602-41E3-BB4D-91049544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582-60FE-4F12-8443-83DDE517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5F4-2EA0-4205-935C-16500FC5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42A-581E-4F4C-8C8F-85D29495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48D-3271-49C8-8B6E-6FE9CBB7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B7F-E584-4E7D-B95C-B5861D1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D4A-3E2D-45BA-A44A-76553C6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16B-6E65-4B4F-B45F-93561034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313-3760-4260-81FD-3FD49C3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1DC-5BD2-422B-BB74-4718469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AE3-8C09-4AFF-A994-95F07B4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F4C-2D01-4007-84FD-B492E50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19CC-8CFB-4F33-AE58-DF2EA438B044}" type="slidenum"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14400"/>
            <a:ext cx="8381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s, Types, and Safe Mobile Cod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S 598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JVM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895480"/>
            <a:ext cx="2514600" cy="26672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1676520"/>
            <a:ext cx="4114800" cy="4419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1240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343400"/>
            <a:ext cx="21333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41360" y="33526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3240" y="39625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5360" y="4572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byte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0400" y="2362320"/>
            <a:ext cx="1066680" cy="228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905120"/>
            <a:ext cx="17524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39160" y="1981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981080"/>
            <a:ext cx="1828800" cy="838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81960" y="198108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095520" y="228600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5105520"/>
            <a:ext cx="14479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7440" y="538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88620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56960" y="40384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77164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44920" y="29718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6160" y="50767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92960" y="4906800"/>
            <a:ext cx="167616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7280" y="3367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48C-2E73-4D8C-A356-76BD1F7A32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VM Pros &amp; C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pe: $, tools, libraries, books,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trusted computing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JVM interpreter/J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many run-time t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” casts, arrays, null poin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suitable for Java (too high-lev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hen, there are mismatches with J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ormal spec (y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5BE-BFBA-4DE5-8726-5F53CB5E94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219320"/>
            <a:ext cx="2286000" cy="457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92600" y="1523880"/>
            <a:ext cx="172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fav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37160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1880" y="266688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514600"/>
            <a:ext cx="19047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75840" y="390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733920"/>
            <a:ext cx="175284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1680" y="51055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876920"/>
            <a:ext cx="175284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295280"/>
            <a:ext cx="4114800" cy="25146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1371600"/>
            <a:ext cx="17528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38760" y="144792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1447920"/>
            <a:ext cx="18288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600" y="144792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248520" y="1752480"/>
            <a:ext cx="3045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8800" y="266688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45240" y="2496960"/>
            <a:ext cx="16765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981080"/>
            <a:ext cx="685800" cy="83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5480" y="2057040"/>
            <a:ext cx="160020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286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30760" y="27432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DBC-FFD9-43FB-B1E1-5D4C78CB89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 Carrying Cod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[Necula &amp; Lee]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damental ide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ing a proof is 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ying a proof is ea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ot so apparent to systems peo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nt = highly optimized code + proof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respects the host’s integr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E09-03D9-465E-9467-A7F85B3EB4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Packet Filt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ser proc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48120" y="1523880"/>
            <a:ext cx="3047760" cy="4724280"/>
            <a:chOff x="3048120" y="1523880"/>
            <a:chExt cx="3047760" cy="4724280"/>
          </a:xfrm>
        </p:grpSpPr>
        <p:grpSp>
          <p:nvGrpSpPr>
            <p:cNvPr id="171" name=""/>
            <p:cNvGrpSpPr/>
            <p:nvPr/>
          </p:nvGrpSpPr>
          <p:grpSpPr>
            <a:xfrm>
              <a:off x="3048120" y="1523880"/>
              <a:ext cx="3047760" cy="1110600"/>
              <a:chOff x="3048120" y="1523880"/>
              <a:chExt cx="3047760" cy="1110600"/>
            </a:xfrm>
          </p:grpSpPr>
          <p:sp>
            <p:nvSpPr>
              <p:cNvPr id="172" name=""/>
              <p:cNvSpPr/>
              <p:nvPr/>
            </p:nvSpPr>
            <p:spPr>
              <a:xfrm>
                <a:off x="3048120" y="1523880"/>
                <a:ext cx="3047760" cy="99072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66920" y="1717560"/>
                <a:ext cx="2471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 monitoring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505320" y="5715000"/>
              <a:ext cx="1981080" cy="533160"/>
              <a:chOff x="3505320" y="5715000"/>
              <a:chExt cx="198108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3505320" y="5715000"/>
                <a:ext cx="1981080" cy="533160"/>
              </a:xfrm>
              <a:prstGeom prst="upArrowCallout">
                <a:avLst>
                  <a:gd name="adj1" fmla="val 92902"/>
                  <a:gd name="adj2" fmla="val 92893"/>
                  <a:gd name="adj3" fmla="val 16667"/>
                  <a:gd name="adj4" fmla="val 66660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24360" y="5832360"/>
                <a:ext cx="11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3809880" y="4267080"/>
            <a:ext cx="1371600" cy="1371600"/>
            <a:chOff x="3809880" y="4267080"/>
            <a:chExt cx="1371600" cy="1371600"/>
          </a:xfrm>
        </p:grpSpPr>
        <p:sp>
          <p:nvSpPr>
            <p:cNvPr id="178" name=""/>
            <p:cNvSpPr/>
            <p:nvPr/>
          </p:nvSpPr>
          <p:spPr>
            <a:xfrm>
              <a:off x="4267080" y="4419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502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54864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5181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5410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4267080"/>
              <a:ext cx="1371600" cy="13716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DE1-7C24-4948-9AFF-61FBEFD26E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9520" y="2019240"/>
            <a:ext cx="2361960" cy="2247840"/>
            <a:chOff x="2819520" y="2019240"/>
            <a:chExt cx="2361960" cy="2247840"/>
          </a:xfrm>
        </p:grpSpPr>
        <p:grpSp>
          <p:nvGrpSpPr>
            <p:cNvPr id="189" name=""/>
            <p:cNvGrpSpPr/>
            <p:nvPr/>
          </p:nvGrpSpPr>
          <p:grpSpPr>
            <a:xfrm>
              <a:off x="3886200" y="3429000"/>
              <a:ext cx="1295280" cy="838080"/>
              <a:chOff x="3886200" y="3429000"/>
              <a:chExt cx="1295280" cy="83808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3429000"/>
                <a:ext cx="1295280" cy="83808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06800" y="3546360"/>
                <a:ext cx="94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acket fil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endCxn id="190" idx="1"/>
            </p:cNvCxnSpPr>
            <p:nvPr/>
          </p:nvCxnSpPr>
          <p:spPr>
            <a:xfrm flipH="1" flipV="1" rot="10800000">
              <a:off x="3047760" y="2018880"/>
              <a:ext cx="838800" cy="1829520"/>
            </a:xfrm>
            <a:prstGeom prst="curvedConnector5">
              <a:avLst>
                <a:gd name="adj1" fmla="val -27264"/>
                <a:gd name="adj2" fmla="val 49990"/>
                <a:gd name="adj3" fmla="val -2726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3809880" y="2438280"/>
            <a:ext cx="1371600" cy="914400"/>
            <a:chOff x="3809880" y="2438280"/>
            <a:chExt cx="1371600" cy="914400"/>
          </a:xfrm>
        </p:grpSpPr>
        <p:sp>
          <p:nvSpPr>
            <p:cNvPr id="194" name=""/>
            <p:cNvSpPr/>
            <p:nvPr/>
          </p:nvSpPr>
          <p:spPr>
            <a:xfrm>
              <a:off x="3809880" y="2438280"/>
              <a:ext cx="1371600" cy="9144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43400" y="3124080"/>
              <a:ext cx="152280" cy="152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0481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28195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2743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19720" y="2514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ser proc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048120" y="1523880"/>
            <a:ext cx="3047760" cy="4724280"/>
            <a:chOff x="3048120" y="1523880"/>
            <a:chExt cx="3047760" cy="4724280"/>
          </a:xfrm>
        </p:grpSpPr>
        <p:grpSp>
          <p:nvGrpSpPr>
            <p:cNvPr id="204" name=""/>
            <p:cNvGrpSpPr/>
            <p:nvPr/>
          </p:nvGrpSpPr>
          <p:grpSpPr>
            <a:xfrm>
              <a:off x="3048120" y="1523880"/>
              <a:ext cx="3047760" cy="1110600"/>
              <a:chOff x="3048120" y="1523880"/>
              <a:chExt cx="3047760" cy="111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048120" y="1523880"/>
                <a:ext cx="3047760" cy="99072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66920" y="1717560"/>
                <a:ext cx="2471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 monitoring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505320" y="5715000"/>
              <a:ext cx="1981080" cy="533160"/>
              <a:chOff x="3505320" y="5715000"/>
              <a:chExt cx="1981080" cy="533160"/>
            </a:xfrm>
          </p:grpSpPr>
          <p:sp>
            <p:nvSpPr>
              <p:cNvPr id="208" name=""/>
              <p:cNvSpPr/>
              <p:nvPr/>
            </p:nvSpPr>
            <p:spPr>
              <a:xfrm>
                <a:off x="3505320" y="5715000"/>
                <a:ext cx="1981080" cy="533160"/>
              </a:xfrm>
              <a:prstGeom prst="upArrowCallout">
                <a:avLst>
                  <a:gd name="adj1" fmla="val 92902"/>
                  <a:gd name="adj2" fmla="val 92893"/>
                  <a:gd name="adj3" fmla="val 16667"/>
                  <a:gd name="adj4" fmla="val 66660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24360" y="5832360"/>
                <a:ext cx="11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809880" y="4267080"/>
            <a:ext cx="1371600" cy="1371600"/>
            <a:chOff x="3809880" y="4267080"/>
            <a:chExt cx="1371600" cy="1371600"/>
          </a:xfrm>
        </p:grpSpPr>
        <p:sp>
          <p:nvSpPr>
            <p:cNvPr id="211" name=""/>
            <p:cNvSpPr/>
            <p:nvPr/>
          </p:nvSpPr>
          <p:spPr>
            <a:xfrm>
              <a:off x="4267080" y="4419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502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54864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5181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5410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267080"/>
              <a:ext cx="1371600" cy="13716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5720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Packet Fil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BD7-B151-4FA6-8DEC-9E94F12B2EB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n Experiment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Polic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packet, returns yes/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read only, small scrat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oo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: [Necula &amp; Lee, OSDI’96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rkeley Packet Filter Interpr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a-3 (SPI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Fault Isolation (sandbox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390-E860-470D-B84C-77033B53F3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acket Filters in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124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905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ntruste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010280" y="4387680"/>
            <a:ext cx="1295640" cy="1067040"/>
            <a:chOff x="7010280" y="4387680"/>
            <a:chExt cx="1295640" cy="1067040"/>
          </a:xfrm>
        </p:grpSpPr>
        <p:sp>
          <p:nvSpPr>
            <p:cNvPr id="229" name=""/>
            <p:cNvSpPr/>
            <p:nvPr/>
          </p:nvSpPr>
          <p:spPr>
            <a:xfrm>
              <a:off x="7010280" y="4387680"/>
              <a:ext cx="1295640" cy="1067040"/>
            </a:xfrm>
            <a:prstGeom prst="flowChartDocumen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43876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F safety 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1" name=""/>
          <p:cNvCxnSpPr>
            <a:stCxn id="232" idx="3"/>
            <a:endCxn id="233" idx="1"/>
          </p:cNvCxnSpPr>
          <p:nvPr/>
        </p:nvCxnSpPr>
        <p:spPr>
          <a:xfrm>
            <a:off x="3962160" y="1943280"/>
            <a:ext cx="686520" cy="1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0"/>
            <a:endCxn id="235" idx="3"/>
          </p:cNvCxnSpPr>
          <p:nvPr/>
        </p:nvCxnSpPr>
        <p:spPr>
          <a:xfrm flipV="1" rot="16200000">
            <a:off x="5864760" y="2593800"/>
            <a:ext cx="2481840" cy="1105920"/>
          </a:xfrm>
          <a:prstGeom prst="curvedConnector2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4495680" y="3769920"/>
            <a:ext cx="2514600" cy="1550880"/>
            <a:chOff x="4495680" y="3769920"/>
            <a:chExt cx="2514600" cy="1550880"/>
          </a:xfrm>
        </p:grpSpPr>
        <p:grpSp>
          <p:nvGrpSpPr>
            <p:cNvPr id="237" name=""/>
            <p:cNvGrpSpPr/>
            <p:nvPr/>
          </p:nvGrpSpPr>
          <p:grpSpPr>
            <a:xfrm>
              <a:off x="4495680" y="4616280"/>
              <a:ext cx="1752840" cy="704520"/>
              <a:chOff x="4495680" y="4616280"/>
              <a:chExt cx="1752840" cy="70452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0" y="4616280"/>
                <a:ext cx="1600200" cy="488880"/>
              </a:xfrm>
              <a:prstGeom prst="rect">
                <a:avLst/>
              </a:prstGeom>
              <a:solidFill>
                <a:srgbClr val="8cf4ea"/>
              </a:solidFill>
              <a:ln w="255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95680" y="4678200"/>
                <a:ext cx="17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ofcheck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41" idx="2"/>
              <a:endCxn id="238" idx="0"/>
            </p:cNvCxnSpPr>
            <p:nvPr/>
          </p:nvCxnSpPr>
          <p:spPr>
            <a:xfrm>
              <a:off x="4704840" y="4047840"/>
              <a:ext cx="667800" cy="556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43" idx="2"/>
              <a:endCxn id="238" idx="0"/>
            </p:cNvCxnSpPr>
            <p:nvPr/>
          </p:nvCxnSpPr>
          <p:spPr>
            <a:xfrm flipH="1">
              <a:off x="5371920" y="3769920"/>
              <a:ext cx="800640" cy="834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0" idx="1"/>
              <a:endCxn id="239" idx="3"/>
            </p:cNvCxnSpPr>
            <p:nvPr/>
          </p:nvCxnSpPr>
          <p:spPr>
            <a:xfrm flipH="1">
              <a:off x="6248160" y="4846680"/>
              <a:ext cx="762480" cy="165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45" name=""/>
          <p:cNvGrpSpPr/>
          <p:nvPr/>
        </p:nvGrpSpPr>
        <p:grpSpPr>
          <a:xfrm>
            <a:off x="2190600" y="3717000"/>
            <a:ext cx="2305080" cy="1769400"/>
            <a:chOff x="2190600" y="3717000"/>
            <a:chExt cx="2305080" cy="1769400"/>
          </a:xfrm>
        </p:grpSpPr>
        <p:sp>
          <p:nvSpPr>
            <p:cNvPr id="246" name=""/>
            <p:cNvSpPr/>
            <p:nvPr/>
          </p:nvSpPr>
          <p:spPr>
            <a:xfrm>
              <a:off x="2190600" y="4680000"/>
              <a:ext cx="648000" cy="349200"/>
            </a:xfrm>
            <a:prstGeom prst="flowChartDecision">
              <a:avLst/>
            </a:prstGeom>
            <a:solidFill>
              <a:srgbClr val="8cf4ea"/>
            </a:solidFill>
            <a:ln w="2556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39" idx="1"/>
              <a:endCxn id="246" idx="3"/>
            </p:cNvCxnSpPr>
            <p:nvPr/>
          </p:nvCxnSpPr>
          <p:spPr>
            <a:xfrm flipH="1" flipV="1">
              <a:off x="2850840" y="4854240"/>
              <a:ext cx="1645200" cy="8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9" idx="1"/>
              <a:endCxn id="246" idx="0"/>
            </p:cNvCxnSpPr>
            <p:nvPr/>
          </p:nvCxnSpPr>
          <p:spPr>
            <a:xfrm flipV="1" rot="10800000">
              <a:off x="2513880" y="3717000"/>
              <a:ext cx="1296000" cy="95004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2"/>
              <a:endCxn id="251" idx="0"/>
            </p:cNvCxnSpPr>
            <p:nvPr/>
          </p:nvCxnSpPr>
          <p:spPr>
            <a:xfrm>
              <a:off x="2514600" y="5041440"/>
              <a:ext cx="16560" cy="445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2" name=""/>
          <p:cNvGrpSpPr/>
          <p:nvPr/>
        </p:nvGrpSpPr>
        <p:grpSpPr>
          <a:xfrm>
            <a:off x="1981080" y="1523880"/>
            <a:ext cx="1981440" cy="4648320"/>
            <a:chOff x="1981080" y="1523880"/>
            <a:chExt cx="1981440" cy="4648320"/>
          </a:xfrm>
        </p:grpSpPr>
        <p:grpSp>
          <p:nvGrpSpPr>
            <p:cNvPr id="253" name=""/>
            <p:cNvGrpSpPr/>
            <p:nvPr/>
          </p:nvGrpSpPr>
          <p:grpSpPr>
            <a:xfrm>
              <a:off x="1981080" y="5486400"/>
              <a:ext cx="914400" cy="685800"/>
              <a:chOff x="1981080" y="5486400"/>
              <a:chExt cx="914400" cy="685800"/>
            </a:xfrm>
          </p:grpSpPr>
          <p:sp>
            <p:nvSpPr>
              <p:cNvPr id="251" name=""/>
              <p:cNvSpPr/>
              <p:nvPr/>
            </p:nvSpPr>
            <p:spPr>
              <a:xfrm>
                <a:off x="1981080" y="5486400"/>
                <a:ext cx="914400" cy="685800"/>
              </a:xfrm>
              <a:prstGeom prst="flowChartInputOutput">
                <a:avLst/>
              </a:prstGeom>
              <a:solidFill>
                <a:srgbClr val="8cf4ea"/>
              </a:solidFill>
              <a:ln w="1260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33360" y="568332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209680" y="1523880"/>
              <a:ext cx="1752840" cy="838440"/>
              <a:chOff x="2209680" y="1523880"/>
              <a:chExt cx="1752840" cy="838440"/>
            </a:xfrm>
          </p:grpSpPr>
          <p:sp>
            <p:nvSpPr>
              <p:cNvPr id="232" name=""/>
              <p:cNvSpPr/>
              <p:nvPr/>
            </p:nvSpPr>
            <p:spPr>
              <a:xfrm>
                <a:off x="2324160" y="1523880"/>
                <a:ext cx="1638360" cy="83844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09680" y="1644480"/>
                <a:ext cx="163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ssembly co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3809880" y="2324160"/>
            <a:ext cx="2895840" cy="1790640"/>
            <a:chOff x="3809880" y="2324160"/>
            <a:chExt cx="2895840" cy="1790640"/>
          </a:xfrm>
        </p:grpSpPr>
        <p:grpSp>
          <p:nvGrpSpPr>
            <p:cNvPr id="258" name=""/>
            <p:cNvGrpSpPr/>
            <p:nvPr/>
          </p:nvGrpSpPr>
          <p:grpSpPr>
            <a:xfrm>
              <a:off x="3809880" y="3276720"/>
              <a:ext cx="1714680" cy="838080"/>
              <a:chOff x="3809880" y="3276720"/>
              <a:chExt cx="1714680" cy="838080"/>
            </a:xfrm>
          </p:grpSpPr>
          <p:sp>
            <p:nvSpPr>
              <p:cNvPr id="241" name=""/>
              <p:cNvSpPr/>
              <p:nvPr/>
            </p:nvSpPr>
            <p:spPr>
              <a:xfrm>
                <a:off x="3886200" y="3276720"/>
                <a:ext cx="1638360" cy="83808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3397320"/>
                <a:ext cx="163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ecutable co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638680" y="3276720"/>
              <a:ext cx="1067040" cy="533160"/>
              <a:chOff x="5638680" y="3276720"/>
              <a:chExt cx="1067040" cy="533160"/>
            </a:xfrm>
          </p:grpSpPr>
          <p:sp>
            <p:nvSpPr>
              <p:cNvPr id="243" name=""/>
              <p:cNvSpPr/>
              <p:nvPr/>
            </p:nvSpPr>
            <p:spPr>
              <a:xfrm>
                <a:off x="5715000" y="3276720"/>
                <a:ext cx="914400" cy="533160"/>
              </a:xfrm>
              <a:prstGeom prst="flowChartPunchedTape">
                <a:avLst/>
              </a:prstGeom>
              <a:solidFill>
                <a:srgbClr val="ffcc00"/>
              </a:solidFill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38680" y="335268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1" name=""/>
            <p:cNvCxnSpPr>
              <a:stCxn id="233" idx="2"/>
              <a:endCxn id="243" idx="0"/>
            </p:cNvCxnSpPr>
            <p:nvPr/>
          </p:nvCxnSpPr>
          <p:spPr>
            <a:xfrm>
              <a:off x="5447880" y="2324160"/>
              <a:ext cx="724680" cy="99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3" idx="2"/>
              <a:endCxn id="241" idx="0"/>
            </p:cNvCxnSpPr>
            <p:nvPr/>
          </p:nvCxnSpPr>
          <p:spPr>
            <a:xfrm flipH="1">
              <a:off x="4704840" y="2324160"/>
              <a:ext cx="743760" cy="953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572000" y="1447920"/>
            <a:ext cx="1981080" cy="1191240"/>
            <a:chOff x="4572000" y="1447920"/>
            <a:chExt cx="1981080" cy="1191240"/>
          </a:xfrm>
        </p:grpSpPr>
        <p:sp>
          <p:nvSpPr>
            <p:cNvPr id="233" name=""/>
            <p:cNvSpPr/>
            <p:nvPr/>
          </p:nvSpPr>
          <p:spPr>
            <a:xfrm>
              <a:off x="4648320" y="1523880"/>
              <a:ext cx="1828800" cy="876600"/>
            </a:xfrm>
            <a:prstGeom prst="flowChartProcess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0" y="144792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itness-generating theorem pr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882-C2B0-4B45-932E-118C629ED8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acket Filter Summar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CC packet filter worked extremely wel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PF safety policy was easy to verify automatic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0 is aligned address of network packet (read onl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1 is length of packet (&gt;=64 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2 is aligned address of writeable 16-byte arr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ed hand-optimized packet fil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world’s fastest packet filters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times faster than BP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 sizes and checking times were sm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1ms proof checking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%-300% overhead for attached proo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05D-91D4-4943-BD83-7F9A810AFC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 wi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905120"/>
          <a:ext cx="8305920" cy="49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C9E-EFEC-4213-8693-75C2D5FE58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Quick Outlin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bile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-Carrying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ion-preserving comp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nchline:  Types, logics, &amp; proofs will play an increasingly visible role in high-performance, next-generation syst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cknowledgment:  these slides come from a combination of Peter Lee, Greg Morrisett, George Necula, and mysel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36B-D6F7-42C2-B9CB-427448C67A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vantages of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, small, and fast trusted computing ba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external authentication or cryptograph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need to insert additional run-time che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per-proof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e and expressive specification of code safety polic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02E-CE16-4688-9151-D058F21B8A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ne Approach to PCC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xiomatic semantic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policy: additional pre-condi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oyd/Hoare-style verification condition generator (VCgen) converts to first-order predic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-invariants needed as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VC implies code respects safety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647-D49A-420E-BA7D-1A27FA184C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allenges with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o put in the safety poli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afety propert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 propert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automate proof construc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automate loop invariant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ineering issu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 of proof check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ere Andrew’s group &amp; FPCC comes in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 and time to check proof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196-6BE3-4B16-AD51-E90839A600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 Representa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 uses the Edinburgh Logical Fra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F type checking adequate for proof chec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le framework for encoding security policies (i.e., logic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-checker is small (~6 pages of C co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2A0-9D62-4288-A797-EE1F83B7BA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ertifying Compil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question is still:  how to get proof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traditional type-safety as the security polic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 is well-typed…just need to maintain the proof throughout compilatio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A9E-197D-4FD0-9252-3417190865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ype-Preserving Compil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L compiler [PLDI’96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performance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nly to intermediat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stone [PLDI’98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, low-level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its high-performance PC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C [PoPL’98,TIC’98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type system for assembly language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ques for compiling high-level langu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795-E2F5-4CBA-A1B4-660BD5D089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iling High-Level Langu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encoding constructs, we mu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rve typing (to emit invaria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rve abst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 reason about security at the source lev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olicy may be a source-level interface (e.g., an ML signatur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afford for agent machine code to violate these abstr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how get to the mach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B14-F3F3-493B-85C2-E41F066932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 [PoPL’98, TIC’98]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 for assembly langu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a set of encodings for high-level language fea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tifying compilers f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-C, Scheme, 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, ML2000 in the 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 based on Syste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model (accurate machi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ctic” soundness resu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1A7-4A7F-4708-8E22-DFD0BC2FBA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x86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-checker and tools for Intel x86 co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ghtly different framework than PC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hip explicit pro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’re very large due to encod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ead, ship code with invariant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t reconstructs &amp; verifies pro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smaller agents, potentially faster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arger TCB, less flexible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236-10EC-4184-8C75-688660E65F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 Built-In Typ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tes:  int1, int2, int4, 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ples: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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: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pre-cond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c types: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D79-3978-4B5B-BE41-C4363D60B1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6272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day’s System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, narrow interfaces &amp; 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must be copied to/from 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functionality is performed at the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wasted when server cycles are che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12640" y="243828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deo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057400"/>
            <a:ext cx="1828800" cy="6382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9480 h 638280"/>
              <a:gd name="textAreaBottom" fmla="*/ 478800 h 63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429000" y="31240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2480" y="243828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8160" y="168264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74280" y="373392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531-4106-4BDD-9AEC-27F9B1DB6E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imple Loop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cx:int4, ebx:{eax:int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int sum(int 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int a = 0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int4, ecx:int4, ebx:{eax:int4}}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while(!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a +=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 x--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LTHR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int4, ecx:int4, ebx:{eax:int4}}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return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427-4202-4CA5-978D-F7F1527857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ther TAL Featur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s, implementation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s and data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ys/ve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gher Order) Type constru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ck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asing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3EC-85B7-4256-9FC9-CF6FCFED93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me Open Issu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ic and Typing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representation, prover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ics for encoding more interesting properties (e.g., resource mgm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mantic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bstraction for compil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 management, access control, authentication, information flow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DF1-11C8-49A9-8418-1373FF6BA7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hy you should take this cours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dvent of mobile code &amp; the hype of Java have opened the door for u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ems people now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bination of performance, flexibility, and securit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ofs &amp; types are the technology that will deliver bo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E50-8F29-4947-B985-692FF7A5C3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morrow’s Systems:  Ag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nds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mputational ag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encapsulates data &amp;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runs locally with direct access to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returns to A with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88960" y="2362320"/>
            <a:ext cx="21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deo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640" y="173196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2438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44920" y="2590920"/>
            <a:ext cx="990720" cy="5331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66160" y="25909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590920"/>
            <a:ext cx="99072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42080" y="2592360"/>
            <a:ext cx="646200" cy="74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590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5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5EF-99C9-46C6-B254-7E4A250DC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me Critical Issues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protect from faulty/malicious ag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xity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minimize trusted computing ba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minimize overhea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concerns (not addressed here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ensure privacy and authentic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protect agent from ho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38A-452F-4718-AE7B-8C199D5F4F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066680"/>
            <a:ext cx="7086600" cy="30481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133720"/>
            <a:ext cx="1600200" cy="17524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aditional OS-Approach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extension in separate address space and re-direct system ca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164840" y="12952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590920"/>
            <a:ext cx="990360" cy="5331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22960" y="26668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133720"/>
            <a:ext cx="1600200" cy="1752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133720"/>
            <a:ext cx="1600200" cy="1752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01040" y="259092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25720" y="2666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3623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43828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3047760" y="312372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409720" y="32767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4D6-041B-48BE-85E3-77FA48FB1A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t’s the same problem...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many of the same issu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, narrow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data sharing (must copy to/from Kern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head of context switch, TLB-flush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174132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63360" y="266688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057400"/>
            <a:ext cx="1828800" cy="6382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9480 h 638280"/>
              <a:gd name="textAreaBottom" fmla="*/ 478800 h 63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3429000" y="31240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7920" y="2133720"/>
            <a:ext cx="178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2200" y="167652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7760" y="37339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FC3-8052-4CAD-9298-71BA45F5E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ryone wants extensibility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row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, switches, “active”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s, reposi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face the same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give agents direct access without compromising host integ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18E-42FE-4AD6-ACD0-89FC02013B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day’s Hot Topic: Type-Safe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t is written in a “type-safe” languag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afe ~ respects host’s abstr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, Modula-3, ML, Sche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t ensures agent code is leg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checks (e.g., type-check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hecks (e.g., array-bound check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interpreter or JIT compi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291-AB01-41CF-8B41-C9E68C72AA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09:06Z</dcterms:created>
  <dc:creator>Greg Morrisett</dc:creator>
  <dc:description/>
  <dc:language>en-US</dc:language>
  <cp:lastModifiedBy>David Walker</cp:lastModifiedBy>
  <dcterms:modified xsi:type="dcterms:W3CDTF">2002-02-02T20:56:03Z</dcterms:modified>
  <cp:revision>30</cp:revision>
  <dc:subject/>
  <dc:title>Typed Assembly Language</dc:title>
</cp:coreProperties>
</file>