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83200" cy="91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9120" y="687240"/>
            <a:ext cx="4584600" cy="343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709120"/>
            <a:ext cx="29829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00240" y="8709120"/>
            <a:ext cx="298116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7495DFE-0ACF-4CD5-9D2C-5274AA843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84600" cy="343872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7640" y="4354200"/>
            <a:ext cx="5046480" cy="41259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te objects as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 invocations on remote objects are J-Kernel style R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: inconsistent notation alert! informal Java-like 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EA8-8933-468F-9795-5C133687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AC4-EF75-4C09-97E1-64753C7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486-22D6-44A8-BCE3-D4B23A00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951-2D6A-47C9-A6CC-66BE9F99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32C-9E2C-4AD1-9641-5DCD0C74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B7E9-7A68-4BB6-9438-9BA3171B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2E30-97CF-48A9-A92E-B8CE9A53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78C-4102-47F6-9F50-C6D8FB98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2929-673F-467B-AE9E-250BCA26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729F-5AA5-4F69-BF37-90AA7E63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1F4F-8AC3-469E-B1F0-465C32DB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B9A-E685-4A4F-9644-2DA0BCC6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6676-1B54-4D2C-9A4C-16AC08C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ECB7-5D71-408D-8D51-47D4D3A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15F9-FBEF-4212-AD38-776C2F6B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C93D-79EF-44E5-A7C0-B057FB20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6FEA-98DC-456E-93CA-B3EAA55D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0BB-C61A-4B09-9276-2219DE5A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CF1-C722-4522-A5A0-DC90B815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226-CB28-4343-A2F3-93DFED4C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462-7D70-4FAB-B2CE-3FEC96A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AB5-141F-4D19-9873-570EA85B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760-FCCA-43F8-8B88-88C8510E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E30-32D5-4AA5-98E0-AE162674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D8F5-3F72-4E7A-B317-65EBBC5B56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685800" y="1598760"/>
            <a:ext cx="77724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793B-7330-4839-8C25-6E2D8343C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Language-Based Prote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in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J-kernel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41972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 598E: Foundations of Language-Based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lides from Chris Hawblitzel, Dartmou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281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293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294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200400" y="3809880"/>
            <a:ext cx="608760" cy="1454400"/>
            <a:chOff x="3200400" y="3809880"/>
            <a:chExt cx="608760" cy="1454400"/>
          </a:xfrm>
        </p:grpSpPr>
        <p:grpSp>
          <p:nvGrpSpPr>
            <p:cNvPr id="305" name=""/>
            <p:cNvGrpSpPr/>
            <p:nvPr/>
          </p:nvGrpSpPr>
          <p:grpSpPr>
            <a:xfrm>
              <a:off x="3504960" y="3809880"/>
              <a:ext cx="304200" cy="1454400"/>
              <a:chOff x="3504960" y="3809880"/>
              <a:chExt cx="304200" cy="14544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517200" y="4648320"/>
                <a:ext cx="291960" cy="615960"/>
                <a:chOff x="3517200" y="4648320"/>
                <a:chExt cx="291960" cy="61596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3634200" y="4648320"/>
                  <a:ext cx="58320" cy="32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634200" y="4970880"/>
                  <a:ext cx="11664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3721680" y="5088240"/>
                  <a:ext cx="2916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722040" y="5235120"/>
                  <a:ext cx="5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3575880" y="4970880"/>
                  <a:ext cx="5832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575880" y="50882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75880" y="5235120"/>
                  <a:ext cx="5832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66336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351720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3504960" y="3809880"/>
                <a:ext cx="120600" cy="741600"/>
              </a:xfrm>
              <a:custGeom>
                <a:avLst/>
                <a:gdLst/>
                <a:ahLst/>
                <a:rect l="l" t="t" r="r" b="b"/>
                <a:pathLst>
                  <a:path w="76" h="467">
                    <a:moveTo>
                      <a:pt x="47" y="0"/>
                    </a:moveTo>
                    <a:cubicBezTo>
                      <a:pt x="17" y="7"/>
                      <a:pt x="76" y="26"/>
                      <a:pt x="58" y="52"/>
                    </a:cubicBezTo>
                    <a:cubicBezTo>
                      <a:pt x="60" y="63"/>
                      <a:pt x="13" y="83"/>
                      <a:pt x="21" y="91"/>
                    </a:cubicBezTo>
                    <a:cubicBezTo>
                      <a:pt x="17" y="105"/>
                      <a:pt x="60" y="124"/>
                      <a:pt x="60" y="124"/>
                    </a:cubicBezTo>
                    <a:cubicBezTo>
                      <a:pt x="53" y="156"/>
                      <a:pt x="41" y="145"/>
                      <a:pt x="11" y="156"/>
                    </a:cubicBezTo>
                    <a:cubicBezTo>
                      <a:pt x="0" y="187"/>
                      <a:pt x="32" y="200"/>
                      <a:pt x="59" y="217"/>
                    </a:cubicBezTo>
                    <a:cubicBezTo>
                      <a:pt x="60" y="236"/>
                      <a:pt x="9" y="259"/>
                      <a:pt x="11" y="276"/>
                    </a:cubicBezTo>
                    <a:cubicBezTo>
                      <a:pt x="13" y="293"/>
                      <a:pt x="70" y="304"/>
                      <a:pt x="69" y="318"/>
                    </a:cubicBezTo>
                    <a:cubicBezTo>
                      <a:pt x="68" y="332"/>
                      <a:pt x="7" y="336"/>
                      <a:pt x="5" y="361"/>
                    </a:cubicBezTo>
                    <a:cubicBezTo>
                      <a:pt x="3" y="386"/>
                      <a:pt x="48" y="445"/>
                      <a:pt x="59" y="467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18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3200400" y="3809880"/>
            <a:ext cx="609120" cy="1454040"/>
            <a:chOff x="3200400" y="3809880"/>
            <a:chExt cx="609120" cy="1454040"/>
          </a:xfrm>
        </p:grpSpPr>
        <p:grpSp>
          <p:nvGrpSpPr>
            <p:cNvPr id="321" name=""/>
            <p:cNvGrpSpPr/>
            <p:nvPr/>
          </p:nvGrpSpPr>
          <p:grpSpPr>
            <a:xfrm>
              <a:off x="3517560" y="4647960"/>
              <a:ext cx="291960" cy="615960"/>
              <a:chOff x="3517560" y="4647960"/>
              <a:chExt cx="291960" cy="61596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634560" y="464796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634560" y="497052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3722040" y="508788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22400" y="52347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3576240" y="497052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76240" y="508788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76240" y="523476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66372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351756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3200400" y="4419360"/>
              <a:ext cx="274680" cy="368280"/>
              <a:chOff x="3200400" y="4419360"/>
              <a:chExt cx="274680" cy="368280"/>
            </a:xfrm>
          </p:grpSpPr>
          <p:sp>
            <p:nvSpPr>
              <p:cNvPr id="332" name=""/>
              <p:cNvSpPr/>
              <p:nvPr/>
            </p:nvSpPr>
            <p:spPr>
              <a:xfrm>
                <a:off x="3200400" y="455904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60880" y="441936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3505320" y="3809880"/>
              <a:ext cx="120600" cy="94284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276720" y="3809880"/>
            <a:ext cx="1904760" cy="2057400"/>
            <a:chOff x="3276720" y="3809880"/>
            <a:chExt cx="1904760" cy="2057400"/>
          </a:xfrm>
        </p:grpSpPr>
        <p:sp>
          <p:nvSpPr>
            <p:cNvPr id="336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343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3200400" y="3809880"/>
            <a:ext cx="1295280" cy="1981440"/>
            <a:chOff x="3200400" y="3809880"/>
            <a:chExt cx="1295280" cy="1981440"/>
          </a:xfrm>
        </p:grpSpPr>
        <p:sp>
          <p:nvSpPr>
            <p:cNvPr id="35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809880" y="4565520"/>
              <a:ext cx="292320" cy="615960"/>
              <a:chOff x="3809880" y="4565520"/>
              <a:chExt cx="292320" cy="615960"/>
            </a:xfrm>
          </p:grpSpPr>
          <p:sp>
            <p:nvSpPr>
              <p:cNvPr id="357" name=""/>
              <p:cNvSpPr/>
              <p:nvPr/>
            </p:nvSpPr>
            <p:spPr>
              <a:xfrm flipH="1">
                <a:off x="392652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926520" y="4888080"/>
                <a:ext cx="11700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401400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1436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386820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6820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6820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395604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380988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67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00400" y="3809880"/>
            <a:ext cx="1981080" cy="1447920"/>
            <a:chOff x="3200400" y="3809880"/>
            <a:chExt cx="1981080" cy="1447920"/>
          </a:xfrm>
        </p:grpSpPr>
        <p:sp>
          <p:nvSpPr>
            <p:cNvPr id="37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4051080" y="4495680"/>
              <a:ext cx="291960" cy="615960"/>
              <a:chOff x="4051080" y="4495680"/>
              <a:chExt cx="291960" cy="615960"/>
            </a:xfrm>
          </p:grpSpPr>
          <p:sp>
            <p:nvSpPr>
              <p:cNvPr id="374" name=""/>
              <p:cNvSpPr/>
              <p:nvPr/>
            </p:nvSpPr>
            <p:spPr>
              <a:xfrm flipH="1">
                <a:off x="4168080" y="449568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168080" y="481824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4255560" y="493560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255920" y="508248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4109760" y="481824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93560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09760" y="508248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19724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405108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38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38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279680" y="4565520"/>
              <a:ext cx="291960" cy="615960"/>
              <a:chOff x="4279680" y="4565520"/>
              <a:chExt cx="291960" cy="61596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439668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96680" y="48880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448416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8452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433836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3836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3836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425840" y="47116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flipV="1">
                <a:off x="4279680" y="47116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0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40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4508280" y="4641840"/>
              <a:ext cx="291960" cy="615960"/>
              <a:chOff x="4508280" y="4641840"/>
              <a:chExt cx="291960" cy="615960"/>
            </a:xfrm>
          </p:grpSpPr>
          <p:sp>
            <p:nvSpPr>
              <p:cNvPr id="414" name=""/>
              <p:cNvSpPr/>
              <p:nvPr/>
            </p:nvSpPr>
            <p:spPr>
              <a:xfrm flipH="1"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62528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47127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1312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56696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6696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6696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6544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50828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2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200400" y="3809880"/>
            <a:ext cx="1981080" cy="2057400"/>
            <a:chOff x="3200400" y="3809880"/>
            <a:chExt cx="1981080" cy="2057400"/>
          </a:xfrm>
        </p:grpSpPr>
        <p:sp>
          <p:nvSpPr>
            <p:cNvPr id="428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435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445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3276720" y="3809880"/>
            <a:ext cx="1904760" cy="2057400"/>
            <a:chOff x="3276720" y="3809880"/>
            <a:chExt cx="1904760" cy="2057400"/>
          </a:xfrm>
        </p:grpSpPr>
        <p:sp>
          <p:nvSpPr>
            <p:cNvPr id="448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508640" y="4641840"/>
              <a:ext cx="291960" cy="615960"/>
              <a:chOff x="4508640" y="4641840"/>
              <a:chExt cx="291960" cy="615960"/>
            </a:xfrm>
          </p:grpSpPr>
          <p:sp>
            <p:nvSpPr>
              <p:cNvPr id="455" name=""/>
              <p:cNvSpPr/>
              <p:nvPr/>
            </p:nvSpPr>
            <p:spPr>
              <a:xfrm>
                <a:off x="4625280" y="464184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566960" y="496440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66960" y="508176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4537440" y="522864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83600" y="496440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741920" y="508176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683600" y="522864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450864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4654800" y="478800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465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488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505320" y="3809880"/>
              <a:ext cx="120600" cy="403200"/>
            </a:xfrm>
            <a:custGeom>
              <a:avLst/>
              <a:gdLst/>
              <a:ahLst/>
              <a:rect l="l" t="t" r="r" b="b"/>
              <a:pathLst>
                <a:path w="76" h="25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14" y="198"/>
                    <a:pt x="41" y="215"/>
                  </a:cubicBezTo>
                  <a:cubicBezTo>
                    <a:pt x="33" y="253"/>
                    <a:pt x="44" y="243"/>
                    <a:pt x="21" y="25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505320" y="3809880"/>
            <a:ext cx="304200" cy="1454400"/>
            <a:chOff x="3505320" y="3809880"/>
            <a:chExt cx="304200" cy="1454400"/>
          </a:xfrm>
        </p:grpSpPr>
        <p:grpSp>
          <p:nvGrpSpPr>
            <p:cNvPr id="500" name=""/>
            <p:cNvGrpSpPr/>
            <p:nvPr/>
          </p:nvGrpSpPr>
          <p:grpSpPr>
            <a:xfrm>
              <a:off x="3517560" y="4648320"/>
              <a:ext cx="291960" cy="615960"/>
              <a:chOff x="3517560" y="4648320"/>
              <a:chExt cx="291960" cy="615960"/>
            </a:xfrm>
          </p:grpSpPr>
          <p:sp>
            <p:nvSpPr>
              <p:cNvPr id="501" name=""/>
              <p:cNvSpPr/>
              <p:nvPr/>
            </p:nvSpPr>
            <p:spPr>
              <a:xfrm flipH="1">
                <a:off x="3634560" y="46483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634560" y="497088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722040" y="50882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22400" y="52351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576240" y="49708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76240" y="50882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576240" y="52351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366372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3517560" y="479448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3505320" y="3809880"/>
              <a:ext cx="120600" cy="741600"/>
            </a:xfrm>
            <a:custGeom>
              <a:avLst/>
              <a:gdLst/>
              <a:ahLst/>
              <a:rect l="l" t="t" r="r" b="b"/>
              <a:pathLst>
                <a:path w="76" h="467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36"/>
                    <a:pt x="5" y="361"/>
                  </a:cubicBezTo>
                  <a:cubicBezTo>
                    <a:pt x="3" y="386"/>
                    <a:pt x="48" y="445"/>
                    <a:pt x="59" y="467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200400" y="3809880"/>
            <a:ext cx="608760" cy="1454400"/>
            <a:chOff x="3200400" y="3809880"/>
            <a:chExt cx="608760" cy="1454400"/>
          </a:xfrm>
        </p:grpSpPr>
        <p:grpSp>
          <p:nvGrpSpPr>
            <p:cNvPr id="512" name=""/>
            <p:cNvGrpSpPr/>
            <p:nvPr/>
          </p:nvGrpSpPr>
          <p:grpSpPr>
            <a:xfrm>
              <a:off x="3504960" y="3809880"/>
              <a:ext cx="304200" cy="1454400"/>
              <a:chOff x="3504960" y="3809880"/>
              <a:chExt cx="304200" cy="145440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517200" y="4648320"/>
                <a:ext cx="291960" cy="615960"/>
                <a:chOff x="3517200" y="4648320"/>
                <a:chExt cx="291960" cy="615960"/>
              </a:xfrm>
            </p:grpSpPr>
            <p:sp>
              <p:nvSpPr>
                <p:cNvPr id="514" name=""/>
                <p:cNvSpPr/>
                <p:nvPr/>
              </p:nvSpPr>
              <p:spPr>
                <a:xfrm flipH="1">
                  <a:off x="3634200" y="4648320"/>
                  <a:ext cx="58320" cy="322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634200" y="4970880"/>
                  <a:ext cx="11664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3721680" y="5088240"/>
                  <a:ext cx="2916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722040" y="5235120"/>
                  <a:ext cx="58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3575880" y="4970880"/>
                  <a:ext cx="58320" cy="11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575880" y="5088240"/>
                  <a:ext cx="0" cy="146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575880" y="5235120"/>
                  <a:ext cx="5832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V="1">
                  <a:off x="366336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 flipV="1">
                  <a:off x="3517200" y="4794480"/>
                  <a:ext cx="145800" cy="29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3504960" y="3809880"/>
                <a:ext cx="120600" cy="741600"/>
              </a:xfrm>
              <a:custGeom>
                <a:avLst/>
                <a:gdLst/>
                <a:ahLst/>
                <a:rect l="l" t="t" r="r" b="b"/>
                <a:pathLst>
                  <a:path w="76" h="467">
                    <a:moveTo>
                      <a:pt x="47" y="0"/>
                    </a:moveTo>
                    <a:cubicBezTo>
                      <a:pt x="17" y="7"/>
                      <a:pt x="76" y="26"/>
                      <a:pt x="58" y="52"/>
                    </a:cubicBezTo>
                    <a:cubicBezTo>
                      <a:pt x="60" y="63"/>
                      <a:pt x="13" y="83"/>
                      <a:pt x="21" y="91"/>
                    </a:cubicBezTo>
                    <a:cubicBezTo>
                      <a:pt x="17" y="105"/>
                      <a:pt x="60" y="124"/>
                      <a:pt x="60" y="124"/>
                    </a:cubicBezTo>
                    <a:cubicBezTo>
                      <a:pt x="53" y="156"/>
                      <a:pt x="41" y="145"/>
                      <a:pt x="11" y="156"/>
                    </a:cubicBezTo>
                    <a:cubicBezTo>
                      <a:pt x="0" y="187"/>
                      <a:pt x="32" y="200"/>
                      <a:pt x="59" y="217"/>
                    </a:cubicBezTo>
                    <a:cubicBezTo>
                      <a:pt x="60" y="236"/>
                      <a:pt x="9" y="259"/>
                      <a:pt x="11" y="276"/>
                    </a:cubicBezTo>
                    <a:cubicBezTo>
                      <a:pt x="13" y="293"/>
                      <a:pt x="70" y="304"/>
                      <a:pt x="69" y="318"/>
                    </a:cubicBezTo>
                    <a:cubicBezTo>
                      <a:pt x="68" y="332"/>
                      <a:pt x="7" y="336"/>
                      <a:pt x="5" y="361"/>
                    </a:cubicBezTo>
                    <a:cubicBezTo>
                      <a:pt x="3" y="386"/>
                      <a:pt x="48" y="445"/>
                      <a:pt x="59" y="467"/>
                    </a:cubicBez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25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3200400" y="3809880"/>
            <a:ext cx="609120" cy="1454040"/>
            <a:chOff x="3200400" y="3809880"/>
            <a:chExt cx="609120" cy="1454040"/>
          </a:xfrm>
        </p:grpSpPr>
        <p:grpSp>
          <p:nvGrpSpPr>
            <p:cNvPr id="528" name=""/>
            <p:cNvGrpSpPr/>
            <p:nvPr/>
          </p:nvGrpSpPr>
          <p:grpSpPr>
            <a:xfrm>
              <a:off x="3517560" y="4647960"/>
              <a:ext cx="291960" cy="615960"/>
              <a:chOff x="3517560" y="4647960"/>
              <a:chExt cx="291960" cy="6159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3634560" y="464796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634560" y="497052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3722040" y="508788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22400" y="52347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576240" y="497052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576240" y="508788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576240" y="523476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366372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3517560" y="479412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3200400" y="4419360"/>
              <a:ext cx="274680" cy="368280"/>
              <a:chOff x="3200400" y="4419360"/>
              <a:chExt cx="274680" cy="368280"/>
            </a:xfrm>
          </p:grpSpPr>
          <p:sp>
            <p:nvSpPr>
              <p:cNvPr id="539" name=""/>
              <p:cNvSpPr/>
              <p:nvPr/>
            </p:nvSpPr>
            <p:spPr>
              <a:xfrm>
                <a:off x="3200400" y="455904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60880" y="441936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505320" y="3809880"/>
              <a:ext cx="120600" cy="94284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200400" y="3809880"/>
            <a:ext cx="1295280" cy="1981440"/>
            <a:chOff x="3200400" y="3809880"/>
            <a:chExt cx="1295280" cy="1981440"/>
          </a:xfrm>
        </p:grpSpPr>
        <p:sp>
          <p:nvSpPr>
            <p:cNvPr id="543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809880" y="4565520"/>
              <a:ext cx="292320" cy="615960"/>
              <a:chOff x="3809880" y="4565520"/>
              <a:chExt cx="292320" cy="61596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3926520" y="456552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26520" y="4888080"/>
                <a:ext cx="11700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4014000" y="500544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14360" y="515232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868200" y="488808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868200" y="500544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868200" y="515232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95604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3809880" y="4711680"/>
                <a:ext cx="14616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57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200400" y="3809880"/>
            <a:ext cx="1981080" cy="1447920"/>
            <a:chOff x="3200400" y="3809880"/>
            <a:chExt cx="1981080" cy="1447920"/>
          </a:xfrm>
        </p:grpSpPr>
        <p:sp>
          <p:nvSpPr>
            <p:cNvPr id="561" name=""/>
            <p:cNvSpPr/>
            <p:nvPr/>
          </p:nvSpPr>
          <p:spPr>
            <a:xfrm>
              <a:off x="4495680" y="5257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2680" y="52578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4051080" y="4495680"/>
              <a:ext cx="291960" cy="615960"/>
              <a:chOff x="4051080" y="4495680"/>
              <a:chExt cx="291960" cy="61596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4168080" y="4495680"/>
                <a:ext cx="58320" cy="322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68080" y="4818240"/>
                <a:ext cx="11664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4255560" y="4935600"/>
                <a:ext cx="2916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55920" y="508248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4109760" y="4818240"/>
                <a:ext cx="5832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109760" y="4935600"/>
                <a:ext cx="0" cy="14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09760" y="5082480"/>
                <a:ext cx="5832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19724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 flipV="1">
                <a:off x="4051080" y="4641840"/>
                <a:ext cx="145800" cy="29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200400" y="4419720"/>
              <a:ext cx="274680" cy="368280"/>
              <a:chOff x="3200400" y="4419720"/>
              <a:chExt cx="274680" cy="368280"/>
            </a:xfrm>
          </p:grpSpPr>
          <p:sp>
            <p:nvSpPr>
              <p:cNvPr id="574" name=""/>
              <p:cNvSpPr/>
              <p:nvPr/>
            </p:nvSpPr>
            <p:spPr>
              <a:xfrm>
                <a:off x="3200400" y="4559400"/>
                <a:ext cx="27468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260880" y="4419720"/>
                <a:ext cx="152280" cy="2286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505320" y="3809880"/>
              <a:ext cx="120600" cy="943200"/>
            </a:xfrm>
            <a:custGeom>
              <a:avLst/>
              <a:gdLst/>
              <a:ahLst/>
              <a:rect l="l" t="t" r="r" b="b"/>
              <a:pathLst>
                <a:path w="76" h="594">
                  <a:moveTo>
                    <a:pt x="47" y="0"/>
                  </a:moveTo>
                  <a:cubicBezTo>
                    <a:pt x="17" y="7"/>
                    <a:pt x="76" y="26"/>
                    <a:pt x="58" y="52"/>
                  </a:cubicBezTo>
                  <a:cubicBezTo>
                    <a:pt x="60" y="63"/>
                    <a:pt x="13" y="83"/>
                    <a:pt x="21" y="91"/>
                  </a:cubicBezTo>
                  <a:cubicBezTo>
                    <a:pt x="17" y="105"/>
                    <a:pt x="60" y="124"/>
                    <a:pt x="60" y="124"/>
                  </a:cubicBezTo>
                  <a:cubicBezTo>
                    <a:pt x="53" y="156"/>
                    <a:pt x="41" y="145"/>
                    <a:pt x="11" y="156"/>
                  </a:cubicBezTo>
                  <a:cubicBezTo>
                    <a:pt x="0" y="187"/>
                    <a:pt x="32" y="200"/>
                    <a:pt x="59" y="217"/>
                  </a:cubicBezTo>
                  <a:cubicBezTo>
                    <a:pt x="60" y="236"/>
                    <a:pt x="9" y="259"/>
                    <a:pt x="11" y="276"/>
                  </a:cubicBezTo>
                  <a:cubicBezTo>
                    <a:pt x="13" y="293"/>
                    <a:pt x="70" y="304"/>
                    <a:pt x="69" y="318"/>
                  </a:cubicBezTo>
                  <a:cubicBezTo>
                    <a:pt x="68" y="332"/>
                    <a:pt x="7" y="347"/>
                    <a:pt x="5" y="361"/>
                  </a:cubicBezTo>
                  <a:cubicBezTo>
                    <a:pt x="3" y="375"/>
                    <a:pt x="57" y="385"/>
                    <a:pt x="58" y="403"/>
                  </a:cubicBezTo>
                  <a:cubicBezTo>
                    <a:pt x="59" y="421"/>
                    <a:pt x="9" y="440"/>
                    <a:pt x="10" y="472"/>
                  </a:cubicBezTo>
                  <a:cubicBezTo>
                    <a:pt x="11" y="504"/>
                    <a:pt x="53" y="569"/>
                    <a:pt x="64" y="594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578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838080" y="2971800"/>
            <a:ext cx="60962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590920" y="3809880"/>
            <a:ext cx="3504960" cy="2438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0920" y="3809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81952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133720" y="5105160"/>
            <a:ext cx="1143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amag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526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4051080" y="4495680"/>
            <a:ext cx="291960" cy="615960"/>
            <a:chOff x="4051080" y="4495680"/>
            <a:chExt cx="291960" cy="615960"/>
          </a:xfrm>
        </p:grpSpPr>
        <p:sp>
          <p:nvSpPr>
            <p:cNvPr id="603" name=""/>
            <p:cNvSpPr/>
            <p:nvPr/>
          </p:nvSpPr>
          <p:spPr>
            <a:xfrm flipH="1">
              <a:off x="4168080" y="4495680"/>
              <a:ext cx="583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68080" y="4818240"/>
              <a:ext cx="11664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255560" y="4935600"/>
              <a:ext cx="29160" cy="14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55920" y="5082480"/>
              <a:ext cx="5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109760" y="4818240"/>
              <a:ext cx="58320" cy="1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09760" y="4935600"/>
              <a:ext cx="0" cy="14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09760" y="5082480"/>
              <a:ext cx="5832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4197240" y="4641840"/>
              <a:ext cx="1458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4051080" y="4641840"/>
              <a:ext cx="145800" cy="2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505320" y="3809880"/>
            <a:ext cx="120600" cy="943200"/>
          </a:xfrm>
          <a:custGeom>
            <a:avLst/>
            <a:gdLst/>
            <a:ahLst/>
            <a:rect l="l" t="t" r="r" b="b"/>
            <a:pathLst>
              <a:path w="76" h="59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32" y="200"/>
                  <a:pt x="59" y="217"/>
                </a:cubicBezTo>
                <a:cubicBezTo>
                  <a:pt x="60" y="236"/>
                  <a:pt x="9" y="259"/>
                  <a:pt x="11" y="276"/>
                </a:cubicBezTo>
                <a:cubicBezTo>
                  <a:pt x="13" y="293"/>
                  <a:pt x="70" y="304"/>
                  <a:pt x="69" y="318"/>
                </a:cubicBezTo>
                <a:cubicBezTo>
                  <a:pt x="68" y="332"/>
                  <a:pt x="7" y="347"/>
                  <a:pt x="5" y="361"/>
                </a:cubicBezTo>
                <a:cubicBezTo>
                  <a:pt x="3" y="375"/>
                  <a:pt x="57" y="385"/>
                  <a:pt x="58" y="403"/>
                </a:cubicBezTo>
                <a:cubicBezTo>
                  <a:pt x="59" y="421"/>
                  <a:pt x="9" y="440"/>
                  <a:pt x="10" y="472"/>
                </a:cubicBezTo>
                <a:cubicBezTo>
                  <a:pt x="11" y="504"/>
                  <a:pt x="53" y="569"/>
                  <a:pt x="64" y="59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3276720" y="4419720"/>
            <a:ext cx="1904760" cy="1447560"/>
            <a:chOff x="3276720" y="4419720"/>
            <a:chExt cx="1904760" cy="1447560"/>
          </a:xfrm>
        </p:grpSpPr>
        <p:sp>
          <p:nvSpPr>
            <p:cNvPr id="614" name=""/>
            <p:cNvSpPr/>
            <p:nvPr/>
          </p:nvSpPr>
          <p:spPr>
            <a:xfrm>
              <a:off x="3276720" y="4419720"/>
              <a:ext cx="1904760" cy="1447560"/>
            </a:xfrm>
            <a:prstGeom prst="ellipse">
              <a:avLst/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8620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4495680" y="52578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95680" y="5257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52680" y="52578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884760" y="5554800"/>
            <a:ext cx="618120" cy="291600"/>
            <a:chOff x="3884760" y="5554800"/>
            <a:chExt cx="618120" cy="291600"/>
          </a:xfrm>
        </p:grpSpPr>
        <p:sp>
          <p:nvSpPr>
            <p:cNvPr id="620" name=""/>
            <p:cNvSpPr/>
            <p:nvPr/>
          </p:nvSpPr>
          <p:spPr>
            <a:xfrm flipH="1" flipV="1">
              <a:off x="4177800" y="5680080"/>
              <a:ext cx="325080" cy="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066560" y="5680080"/>
              <a:ext cx="11124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3918240" y="5779800"/>
              <a:ext cx="147960" cy="2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18240" y="5780160"/>
              <a:ext cx="2520" cy="5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4058280" y="5627160"/>
              <a:ext cx="119520" cy="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911400" y="5627160"/>
              <a:ext cx="146520" cy="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84760" y="5634360"/>
              <a:ext cx="26280" cy="5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26480" y="5702400"/>
              <a:ext cx="36000" cy="14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4326480" y="5554800"/>
              <a:ext cx="21960" cy="14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838080" y="3581280"/>
            <a:ext cx="31244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3: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source account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2590920" y="4724280"/>
            <a:ext cx="12952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71800" y="5029200"/>
            <a:ext cx="380880" cy="3808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3718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TrojanHog extends V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byte[] mydata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byte[1000000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elementAt(int 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ackNetwork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per.elementA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495288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66688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VM does not know who to blame for denial of service atta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4: weak 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rbage collector won’t deallocate reachable data an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not reclai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icious code not remo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012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86600" y="4419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543800" y="3429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54380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7315200" y="4571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23888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5943240" y="3657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91320" y="34290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100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3868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5866920" y="46483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5638320" y="3276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09552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838080" y="3581280"/>
            <a:ext cx="31244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4: weak 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2590920" y="4724280"/>
            <a:ext cx="129528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472428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7468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3273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5029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663560" y="5486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71800" y="5029200"/>
            <a:ext cx="380880" cy="3808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1080" y="51055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3880" y="5181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6002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6668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5909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3718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337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705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038480" y="3352320"/>
            <a:ext cx="51055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TrojanHog extends V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byte[] mydata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byte[1000000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Object elementAt(int 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ackNetwork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per.elementA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3276720" y="4952880"/>
            <a:ext cx="76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1752480"/>
            <a:ext cx="7467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stopping threads leaves objects, c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not re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sired code may ge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66688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19520" y="523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sk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 = objects + threads +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’s threads only run task’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cross-task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724280" y="1981080"/>
            <a:ext cx="36576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528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102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9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25184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904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78500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943600" y="43434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4200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183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5160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0388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67480" y="31240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528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10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23888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172200" y="5105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8148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1007000">
            <a:off x="6248160" y="3272760"/>
            <a:ext cx="738000" cy="152280"/>
          </a:xfrm>
          <a:prstGeom prst="leftRightArrow">
            <a:avLst>
              <a:gd name="adj1" fmla="val 50000"/>
              <a:gd name="adj2" fmla="val 964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rot="14040000">
            <a:off x="568728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7560000">
            <a:off x="690732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Advantages of task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urce accou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ss control at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le-task”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724280" y="1981080"/>
            <a:ext cx="36576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010280" y="2743200"/>
            <a:ext cx="129564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099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25184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0904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78500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943600" y="43434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4200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83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03880" y="4626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31240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00800" y="4724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02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23888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51055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8148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1007000">
            <a:off x="6248160" y="3272760"/>
            <a:ext cx="738000" cy="152280"/>
          </a:xfrm>
          <a:prstGeom prst="leftRightArrow">
            <a:avLst>
              <a:gd name="adj1" fmla="val 50000"/>
              <a:gd name="adj2" fmla="val 96478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rot="14040000">
            <a:off x="568728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7560000">
            <a:off x="6907320" y="398880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totype implementation of the task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ritten in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 changes to VM,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invocation 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s for re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imulated) threa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15800" indent="-15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es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640080" indent="-12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bilities passed by re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640080" indent="-12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inary objects pass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y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4952880" y="4556160"/>
            <a:ext cx="17528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86400" y="49370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828800" y="455616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4861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53182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76720" y="5546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5288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00600" y="486108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181480" y="501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71800" y="493704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124080" y="56991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05520" y="53182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57800" y="554688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105520" y="569916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6720" y="53942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5622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76720" y="5775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84520" y="4349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5699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98108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13372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9588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4852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7560000">
            <a:off x="6984000" y="2692800"/>
            <a:ext cx="662040" cy="152640"/>
          </a:xfrm>
          <a:prstGeom prst="leftRightArrow">
            <a:avLst>
              <a:gd name="adj1" fmla="val 50000"/>
              <a:gd name="adj2" fmla="val 8634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1007000">
            <a:off x="6324120" y="2133360"/>
            <a:ext cx="662040" cy="152280"/>
          </a:xfrm>
          <a:prstGeom prst="leftRightArrow">
            <a:avLst>
              <a:gd name="adj1" fmla="val 50000"/>
              <a:gd name="adj2" fmla="val 8654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xtensible applications...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59436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.nee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895480"/>
            <a:ext cx="21337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3542760" y="262872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2324160" y="2628720"/>
            <a:ext cx="380880" cy="152640"/>
          </a:xfrm>
          <a:prstGeom prst="leftRightArrow">
            <a:avLst>
              <a:gd name="adj1" fmla="val 50000"/>
              <a:gd name="adj2" fmla="val 49675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5105520"/>
            <a:ext cx="213372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39976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1180800" y="4838400"/>
            <a:ext cx="381240" cy="152640"/>
          </a:xfrm>
          <a:prstGeom prst="leftRightArrow">
            <a:avLst>
              <a:gd name="adj1" fmla="val 50000"/>
              <a:gd name="adj2" fmla="val 49722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411480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05520"/>
            <a:ext cx="213336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/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567648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457160" y="4838760"/>
            <a:ext cx="381240" cy="152280"/>
          </a:xfrm>
          <a:prstGeom prst="leftRightArrow">
            <a:avLst>
              <a:gd name="adj1" fmla="val 50000"/>
              <a:gd name="adj2" fmla="val 49839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914400" cy="609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2895480"/>
            <a:ext cx="99072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4040000">
            <a:off x="5612400" y="2692800"/>
            <a:ext cx="662040" cy="152640"/>
          </a:xfrm>
          <a:prstGeom prst="leftRightArrow">
            <a:avLst>
              <a:gd name="adj1" fmla="val 50000"/>
              <a:gd name="adj2" fmla="val 8634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-Kernel restricts sharing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, arbitrary cross-task pointers violate task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isallowed by J-Ker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441936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81080" y="47242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rot="16011000">
            <a:off x="2784240" y="4733640"/>
            <a:ext cx="316080" cy="143676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2818800" y="4800600"/>
            <a:ext cx="533160" cy="457200"/>
          </a:xfrm>
          <a:prstGeom prst="noSmoking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-Kernel capabilitie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apa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bjects sh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objects not sh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 mediate cross-task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 invocations on capabilities a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ross-task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760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441936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733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Where are the boundaries?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49528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method calls switch domai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“owns” which object? (resource accounting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guarantees does programmer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1337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4120" y="17524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 run-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4120" y="3276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913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24480" y="33526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858000" y="28195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315200" y="24382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077320" y="25909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924680" y="327672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1008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485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5720" y="37339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48520" y="27432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53080" y="46483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8660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62920" y="38098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bar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05520" y="4114800"/>
            <a:ext cx="99036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91520" y="2895480"/>
            <a:ext cx="990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248520" y="228600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14400" y="17524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’s in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54280" y="2743200"/>
            <a:ext cx="9907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2743200"/>
            <a:ext cx="99072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914400" y="403848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430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743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89548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7400" y="4267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4267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374120" y="3505320"/>
            <a:ext cx="8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90920" y="22096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2120" y="22096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767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8954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28954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320040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1932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32004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02920" y="3505320"/>
            <a:ext cx="86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m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219320" y="35053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048120" y="350496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 invocation on remote pointer switches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s another task’s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s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s eith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itive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po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4724280" y="1981080"/>
            <a:ext cx="36576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6386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57800" y="27432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400800" y="28195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943600" y="312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2971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58000" y="2743200"/>
            <a:ext cx="12952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9343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56400" y="28954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720" y="32004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019920" y="2819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315200" y="31240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2578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086600" y="350532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6400" y="3505320"/>
            <a:ext cx="99072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477120" y="3200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oss-task calls: RMI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 similar to Jav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-Kernel uses RMI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Java interfaces (“remote interface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ability.create(…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-Kernel generates capability classes dynam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"/>
          <p:cNvSpPr/>
          <p:nvPr/>
        </p:nvSpPr>
        <p:spPr>
          <a:xfrm>
            <a:off x="4952880" y="4556160"/>
            <a:ext cx="175284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493704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828800" y="455616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19520" y="48610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95288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28800" y="45561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800600" y="486108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181480" y="5013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971800" y="493704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584520" y="434988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38680" y="4724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133720" y="5486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588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248520" y="5562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67080" y="5181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vo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sk can revoke any of its capabilities at any tim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privilege, changing trust,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52578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67080" y="495288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657600" y="4952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4114800" y="50292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267080" y="51055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3733920" y="51814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343400" y="5334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48765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8769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72428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5181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36960" y="5257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78360" y="4495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o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ermin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ds stop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abilities revo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, objects become eligible for G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amaged objects inacce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"/>
          <p:cNvSpPr/>
          <p:nvPr/>
        </p:nvSpPr>
        <p:spPr>
          <a:xfrm>
            <a:off x="3505320" y="43434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0060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952880" y="5410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343400" y="525780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324480" y="4343400"/>
            <a:ext cx="182880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94692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099200" y="5181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391520" y="46483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32720" y="5334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38080" y="4343400"/>
            <a:ext cx="175284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288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1337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4608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8720" y="50832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419720" y="4952880"/>
            <a:ext cx="152280" cy="152640"/>
          </a:xfrm>
          <a:prstGeom prst="ellipse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934320" y="480060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6765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05320" y="4343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80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086600" y="5638680"/>
            <a:ext cx="990720" cy="228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int mo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99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066680" y="55627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int foo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733920" y="5638680"/>
            <a:ext cx="990360" cy="2286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int sum(int x, int 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Courier New"/>
              </a:rPr>
              <a:t>{return x + y;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52680" y="46483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52680" y="51055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267080" y="5029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419360" y="51055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105520" y="4648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95880" y="51814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86000" y="51814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8108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981080" y="48006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752480" y="48006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49568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864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46748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7086240" y="47242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477120" y="49525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48765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876920" y="4876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2428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800600" y="5181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836960" y="52578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3734280" y="4800600"/>
            <a:ext cx="380520" cy="380880"/>
            <a:chOff x="3734280" y="4800600"/>
            <a:chExt cx="380520" cy="380880"/>
          </a:xfrm>
        </p:grpSpPr>
        <p:sp>
          <p:nvSpPr>
            <p:cNvPr id="1049" name=""/>
            <p:cNvSpPr/>
            <p:nvPr/>
          </p:nvSpPr>
          <p:spPr>
            <a:xfrm>
              <a:off x="3734280" y="48006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62520" y="48006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810240" y="50288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886200" y="51051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926160" y="518148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3734280" y="5257800"/>
            <a:ext cx="380520" cy="380880"/>
            <a:chOff x="3734280" y="5257800"/>
            <a:chExt cx="380520" cy="380880"/>
          </a:xfrm>
        </p:grpSpPr>
        <p:sp>
          <p:nvSpPr>
            <p:cNvPr id="1055" name=""/>
            <p:cNvSpPr/>
            <p:nvPr/>
          </p:nvSpPr>
          <p:spPr>
            <a:xfrm>
              <a:off x="3734280" y="525780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525780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3810240" y="54860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3886200" y="55623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926160" y="5638680"/>
              <a:ext cx="75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he J-Kernel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totype implementation of the task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ritten in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o changes to VM,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819520" y="449568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-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code re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365760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jav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495680" y="365760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j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0" y="563868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95680" y="5638680"/>
            <a:ext cx="14479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12408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571640" y="4114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3048120" y="52578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720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Web and Telephony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5486400" y="297180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990720" y="5029200"/>
            <a:ext cx="954000" cy="167652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3"/>
          <a:stretch/>
        </p:blipFill>
        <p:spPr>
          <a:xfrm>
            <a:off x="7848720" y="2909880"/>
            <a:ext cx="1081080" cy="10526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5722920" y="3246120"/>
            <a:ext cx="685800" cy="366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4"/>
          <a:stretch/>
        </p:blipFill>
        <p:spPr>
          <a:xfrm>
            <a:off x="533520" y="3276720"/>
            <a:ext cx="1066680" cy="96048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5"/>
          <a:stretch/>
        </p:blipFill>
        <p:spPr>
          <a:xfrm>
            <a:off x="1905120" y="2895480"/>
            <a:ext cx="861840" cy="83340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 rot="16200000">
            <a:off x="3714840" y="3257640"/>
            <a:ext cx="1714320" cy="4419360"/>
          </a:xfrm>
          <a:prstGeom prst="rect">
            <a:avLst/>
          </a:prstGeom>
          <a:solidFill>
            <a:srgbClr val="ff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-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72000" y="419112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24080" y="4191120"/>
            <a:ext cx="12193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124080" y="53341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52880" y="5334120"/>
            <a:ext cx="12956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4191120"/>
            <a:ext cx="990720" cy="380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46483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0" y="46483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7080" y="5867280"/>
            <a:ext cx="129564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ample Appli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88" name=""/>
          <p:cNvSpPr/>
          <p:nvPr/>
        </p:nvSpPr>
        <p:spPr>
          <a:xfrm>
            <a:off x="3733920" y="50292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43400" y="50292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4952520" y="563868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1320" y="5029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343400" y="563868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1523880" y="4572000"/>
            <a:ext cx="838440" cy="5335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523880" y="6324120"/>
            <a:ext cx="838440" cy="228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553080" y="3201840"/>
            <a:ext cx="1305000" cy="11772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43720" y="3214800"/>
            <a:ext cx="1457280" cy="11736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46960" y="3228840"/>
            <a:ext cx="1530360" cy="74880"/>
          </a:xfrm>
          <a:custGeom>
            <a:avLst/>
            <a:gdLst/>
            <a:ahLst/>
            <a:rect l="l" t="t" r="r" b="b"/>
            <a:pathLst>
              <a:path w="822" h="74">
                <a:moveTo>
                  <a:pt x="0" y="8"/>
                </a:moveTo>
                <a:cubicBezTo>
                  <a:pt x="88" y="4"/>
                  <a:pt x="176" y="0"/>
                  <a:pt x="240" y="8"/>
                </a:cubicBezTo>
                <a:cubicBezTo>
                  <a:pt x="304" y="16"/>
                  <a:pt x="287" y="45"/>
                  <a:pt x="384" y="56"/>
                </a:cubicBezTo>
                <a:cubicBezTo>
                  <a:pt x="481" y="67"/>
                  <a:pt x="651" y="70"/>
                  <a:pt x="822" y="74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867280" y="3352680"/>
            <a:ext cx="1524240" cy="851040"/>
            <a:chOff x="5867280" y="3352680"/>
            <a:chExt cx="1524240" cy="851040"/>
          </a:xfrm>
        </p:grpSpPr>
        <p:sp>
          <p:nvSpPr>
            <p:cNvPr id="1099" name=""/>
            <p:cNvSpPr/>
            <p:nvPr/>
          </p:nvSpPr>
          <p:spPr>
            <a:xfrm>
              <a:off x="5867280" y="3352680"/>
              <a:ext cx="1524240" cy="840960"/>
            </a:xfrm>
            <a:custGeom>
              <a:avLst/>
              <a:gdLst/>
              <a:ahLst/>
              <a:rect l="l" t="t" r="r" b="b"/>
              <a:pathLst>
                <a:path w="960" h="680">
                  <a:moveTo>
                    <a:pt x="432" y="8"/>
                  </a:moveTo>
                  <a:cubicBezTo>
                    <a:pt x="540" y="4"/>
                    <a:pt x="648" y="0"/>
                    <a:pt x="720" y="56"/>
                  </a:cubicBezTo>
                  <a:cubicBezTo>
                    <a:pt x="792" y="112"/>
                    <a:pt x="960" y="256"/>
                    <a:pt x="864" y="344"/>
                  </a:cubicBezTo>
                  <a:cubicBezTo>
                    <a:pt x="768" y="432"/>
                    <a:pt x="288" y="528"/>
                    <a:pt x="144" y="584"/>
                  </a:cubicBezTo>
                  <a:cubicBezTo>
                    <a:pt x="0" y="640"/>
                    <a:pt x="0" y="660"/>
                    <a:pt x="0" y="680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95880" y="3363840"/>
              <a:ext cx="1295640" cy="839880"/>
            </a:xfrm>
            <a:custGeom>
              <a:avLst/>
              <a:gdLst/>
              <a:ahLst/>
              <a:rect l="l" t="t" r="r" b="b"/>
              <a:pathLst>
                <a:path w="816" h="679">
                  <a:moveTo>
                    <a:pt x="288" y="11"/>
                  </a:moveTo>
                  <a:cubicBezTo>
                    <a:pt x="341" y="18"/>
                    <a:pt x="538" y="0"/>
                    <a:pt x="612" y="55"/>
                  </a:cubicBezTo>
                  <a:cubicBezTo>
                    <a:pt x="686" y="110"/>
                    <a:pt x="816" y="255"/>
                    <a:pt x="734" y="343"/>
                  </a:cubicBezTo>
                  <a:cubicBezTo>
                    <a:pt x="653" y="431"/>
                    <a:pt x="245" y="527"/>
                    <a:pt x="122" y="583"/>
                  </a:cubicBezTo>
                  <a:cubicBezTo>
                    <a:pt x="0" y="639"/>
                    <a:pt x="0" y="659"/>
                    <a:pt x="0" y="679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29240" y="3385800"/>
              <a:ext cx="943200" cy="792720"/>
            </a:xfrm>
            <a:custGeom>
              <a:avLst/>
              <a:gdLst/>
              <a:ahLst/>
              <a:rect l="l" t="t" r="r" b="b"/>
              <a:pathLst>
                <a:path w="594" h="641">
                  <a:moveTo>
                    <a:pt x="96" y="11"/>
                  </a:moveTo>
                  <a:cubicBezTo>
                    <a:pt x="149" y="18"/>
                    <a:pt x="346" y="0"/>
                    <a:pt x="420" y="55"/>
                  </a:cubicBezTo>
                  <a:cubicBezTo>
                    <a:pt x="494" y="110"/>
                    <a:pt x="594" y="261"/>
                    <a:pt x="542" y="343"/>
                  </a:cubicBezTo>
                  <a:cubicBezTo>
                    <a:pt x="490" y="425"/>
                    <a:pt x="198" y="495"/>
                    <a:pt x="108" y="545"/>
                  </a:cubicBezTo>
                  <a:cubicBezTo>
                    <a:pt x="18" y="595"/>
                    <a:pt x="22" y="621"/>
                    <a:pt x="0" y="641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743200" y="2800440"/>
            <a:ext cx="4465800" cy="371520"/>
          </a:xfrm>
          <a:custGeom>
            <a:avLst/>
            <a:gdLst/>
            <a:ahLst/>
            <a:rect l="l" t="t" r="r" b="b"/>
            <a:pathLst>
              <a:path w="2813" h="234">
                <a:moveTo>
                  <a:pt x="2406" y="234"/>
                </a:moveTo>
                <a:cubicBezTo>
                  <a:pt x="2472" y="221"/>
                  <a:pt x="2813" y="187"/>
                  <a:pt x="2796" y="150"/>
                </a:cubicBezTo>
                <a:cubicBezTo>
                  <a:pt x="2812" y="110"/>
                  <a:pt x="2676" y="0"/>
                  <a:pt x="2304" y="12"/>
                </a:cubicBezTo>
                <a:cubicBezTo>
                  <a:pt x="1932" y="24"/>
                  <a:pt x="480" y="88"/>
                  <a:pt x="0" y="108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52520" y="2838600"/>
            <a:ext cx="5889600" cy="1049040"/>
          </a:xfrm>
          <a:custGeom>
            <a:avLst/>
            <a:gdLst/>
            <a:ahLst/>
            <a:rect l="l" t="t" r="r" b="b"/>
            <a:pathLst>
              <a:path w="3710" h="661">
                <a:moveTo>
                  <a:pt x="3288" y="192"/>
                </a:moveTo>
                <a:cubicBezTo>
                  <a:pt x="3341" y="175"/>
                  <a:pt x="3710" y="123"/>
                  <a:pt x="3606" y="96"/>
                </a:cubicBezTo>
                <a:cubicBezTo>
                  <a:pt x="3606" y="6"/>
                  <a:pt x="2958" y="0"/>
                  <a:pt x="2664" y="30"/>
                </a:cubicBezTo>
                <a:cubicBezTo>
                  <a:pt x="2259" y="68"/>
                  <a:pt x="1374" y="491"/>
                  <a:pt x="930" y="576"/>
                </a:cubicBezTo>
                <a:cubicBezTo>
                  <a:pt x="486" y="661"/>
                  <a:pt x="194" y="548"/>
                  <a:pt x="0" y="54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3733920" y="32767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029200" y="32767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858000" y="4876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6858000" y="5486400"/>
            <a:ext cx="3808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858000" y="5562720"/>
            <a:ext cx="380880" cy="304560"/>
          </a:xfrm>
          <a:prstGeom prst="line">
            <a:avLst/>
          </a:prstGeom>
          <a:ln w="38160">
            <a:solidFill>
              <a:srgbClr val="33cc33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210080" y="46476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.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210440" y="53334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Network packet 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13" name=""/>
          <p:cNvSpPr/>
          <p:nvPr/>
        </p:nvSpPr>
        <p:spPr>
          <a:xfrm>
            <a:off x="1295280" y="4495680"/>
            <a:ext cx="701064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295280" y="44956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driver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97180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128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9112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52680" y="51814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295280" y="243828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9528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429000" y="2438280"/>
            <a:ext cx="14479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42900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562720" y="2438280"/>
            <a:ext cx="144756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562720" y="2438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410080" y="4876920"/>
            <a:ext cx="45720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14600" y="342900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343400" y="3429000"/>
            <a:ext cx="685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5638680" y="342900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809880" y="3429000"/>
            <a:ext cx="19814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43400" y="34290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0481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5760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48640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876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67080" y="480060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248520" y="4495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080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1: 20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40080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2:   8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40080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3: 300K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tec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C, threa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6002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286000"/>
            <a:ext cx="152388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480" y="22604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03848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73392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21840" y="38098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88620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21840" y="160020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7360" y="160020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3188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8452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040" y="31240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79600" y="31240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286000"/>
            <a:ext cx="1523880" cy="213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2160" y="22604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35268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304812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31520" y="3124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3200400"/>
            <a:ext cx="228600" cy="22860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0040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3520" y="382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7116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35053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520" y="327672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B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952880"/>
            <a:ext cx="3733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286000"/>
            <a:ext cx="38102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33676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799880" y="31240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05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70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99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0936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019920" y="3733920"/>
            <a:ext cx="30456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37960" y="4114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imilar to RMI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-Kerne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method invocation uses stubs to marshal, unmarshal argu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"/>
          <p:cNvSpPr/>
          <p:nvPr/>
        </p:nvSpPr>
        <p:spPr>
          <a:xfrm>
            <a:off x="6400800" y="23400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934320" y="27208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276720" y="234000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644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3102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24280" y="3330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00800" y="2340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2340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48520" y="2644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629400" y="2797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19720" y="272088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572000" y="3483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553080" y="3102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705720" y="33307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553080" y="34830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24280" y="3178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3406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724280" y="3559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032440" y="21337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029200" y="348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429000" y="32702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581280" y="32702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543800" y="33465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96080" y="33465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400800" y="4692600"/>
            <a:ext cx="1752480" cy="1600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934320" y="50734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276720" y="4692600"/>
            <a:ext cx="1752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267080" y="4997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72000" y="5454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724280" y="5683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0080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4692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248520" y="49975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629400" y="514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1480" y="5105520"/>
            <a:ext cx="1067040" cy="4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72000" y="5835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553080" y="54547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705720" y="568332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553080" y="583560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5530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76920" y="5759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724280" y="5911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411880" y="47242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029200" y="5835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by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429000" y="56228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562284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543800" y="56991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96080" y="569916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800600" y="49528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419720" y="5105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Sun’s RMI AP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implem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interfa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erface Servlet extends Remot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rvice(Request 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class MyServlet implements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rvice(Request req) {...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let ms = new MyServle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pability msCap = Capability.create(m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 implement remote interfac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Servlet) msCap).service(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533520" y="472428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erformanc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tium II @300M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 VM (MS-VM) &amp; Sun JDK w/Symantec JIT (Sun-V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method in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peration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MS-V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  Sun-V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 method invo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-Kernel “local RMI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5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tlenecks: thread lookup + 2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% of total time with MS-VM, 79% with Sun-V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NT LRPC: ~1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4 round-trip IPC on P5-133: 1.8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J-Kernel on P5-133: 3.7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okernel round-trip protected control transfer on DEC-5000: 2.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xtends Java typ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a: generalize J-Kernel sharing to all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uns on customized virtual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sed on Marmot optimizing V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28600" y="49528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= PrimitiveType | ReferenceType |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Type~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itiveType = int | float | long | double | byte | char | short | boole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Type = ClassType | InterfaceType | Type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1525680" y="213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297080" y="3276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39840" y="1905120"/>
            <a:ext cx="46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poin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n only point to task-local o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37960" y="342900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oin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n point to objects in other tas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3048120" y="232092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 flipV="1">
            <a:off x="3048120" y="365760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09" name=""/>
          <p:cNvSpPr/>
          <p:nvPr/>
        </p:nvSpPr>
        <p:spPr>
          <a:xfrm>
            <a:off x="1525680" y="2117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297080" y="3276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4131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48948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2096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124080" y="3276720"/>
            <a:ext cx="762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24080" y="38098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4495680" y="1981080"/>
            <a:ext cx="762120" cy="1371600"/>
            <a:chOff x="4495680" y="1981080"/>
            <a:chExt cx="762120" cy="1371600"/>
          </a:xfrm>
        </p:grpSpPr>
        <p:sp>
          <p:nvSpPr>
            <p:cNvPr id="1217" name=""/>
            <p:cNvSpPr/>
            <p:nvPr/>
          </p:nvSpPr>
          <p:spPr>
            <a:xfrm>
              <a:off x="4495680" y="228564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495680" y="281916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57308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5715000" y="1981080"/>
            <a:ext cx="762120" cy="1371600"/>
            <a:chOff x="5715000" y="1981080"/>
            <a:chExt cx="762120" cy="1371600"/>
          </a:xfrm>
        </p:grpSpPr>
        <p:sp>
          <p:nvSpPr>
            <p:cNvPr id="1221" name=""/>
            <p:cNvSpPr/>
            <p:nvPr/>
          </p:nvSpPr>
          <p:spPr>
            <a:xfrm>
              <a:off x="5715000" y="228564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2819160"/>
              <a:ext cx="7621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9240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6934320" y="1981080"/>
            <a:ext cx="761760" cy="1371600"/>
            <a:chOff x="6934320" y="1981080"/>
            <a:chExt cx="761760" cy="1371600"/>
          </a:xfrm>
        </p:grpSpPr>
        <p:sp>
          <p:nvSpPr>
            <p:cNvPr id="1225" name=""/>
            <p:cNvSpPr/>
            <p:nvPr/>
          </p:nvSpPr>
          <p:spPr>
            <a:xfrm>
              <a:off x="6934320" y="228564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934320" y="2819160"/>
              <a:ext cx="7617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011000" y="198108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5378400" y="3886200"/>
            <a:ext cx="102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378400" y="4419720"/>
            <a:ext cx="102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487120" y="3581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3886200" y="22856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5181480" y="22856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6400800" y="22856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3886200" y="2361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3809880" y="39621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4800600"/>
            <a:ext cx="84582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pointers are revoc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List {int i; List next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foo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list.i + list.next.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100760" y="62118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un-time revocation checks of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 flipV="1">
            <a:off x="2819520" y="6171840"/>
            <a:ext cx="1371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flipV="1">
            <a:off x="4038120" y="6171840"/>
            <a:ext cx="30492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4648320" y="617184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haring data structure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42" name=""/>
          <p:cNvSpPr/>
          <p:nvPr/>
        </p:nvSpPr>
        <p:spPr>
          <a:xfrm>
            <a:off x="4419720" y="4800600"/>
            <a:ext cx="45720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8089200" y="61722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a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334120" y="2743200"/>
            <a:ext cx="3124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544520" y="274320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57800" y="4114800"/>
            <a:ext cx="144792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6019560" y="4114800"/>
            <a:ext cx="6858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4114800"/>
            <a:ext cx="53316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86400" y="289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638680" y="28954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648320" y="5410080"/>
            <a:ext cx="76176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648320" y="5943600"/>
            <a:ext cx="76176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2536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867280" y="541008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67280" y="594360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4468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086600" y="541008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86600" y="5943600"/>
            <a:ext cx="762120" cy="5335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64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334120" y="5409720"/>
            <a:ext cx="533160" cy="762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6553080" y="5409720"/>
            <a:ext cx="533520" cy="762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153280" y="5105520"/>
            <a:ext cx="717840" cy="5331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78040" y="4800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00800" y="3657600"/>
            <a:ext cx="7621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162920" y="3657600"/>
            <a:ext cx="7617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34840" y="3657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848720" y="4114800"/>
            <a:ext cx="3045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ocation of enti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List {int i; List next;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+= list.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reating remote pointer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0" name=""/>
          <p:cNvSpPr/>
          <p:nvPr/>
        </p:nvSpPr>
        <p:spPr>
          <a:xfrm>
            <a:off x="3659040" y="1828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551400" y="297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List~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43200" y="2209680"/>
            <a:ext cx="685800" cy="1295640"/>
          </a:xfrm>
          <a:custGeom>
            <a:avLst/>
            <a:gdLst>
              <a:gd name="textAreaLeft" fmla="*/ 91800 w 685800"/>
              <a:gd name="textAreaRight" fmla="*/ 594000 w 685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rot="10800000">
            <a:off x="5333760" y="2057400"/>
            <a:ext cx="685800" cy="1295280"/>
          </a:xfrm>
          <a:custGeom>
            <a:avLst/>
            <a:gdLst>
              <a:gd name="textAreaLeft" fmla="*/ 91800 w 685800"/>
              <a:gd name="textAreaRight" fmla="*/ 594000 w 6858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982880" y="2438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@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171120" y="2209680"/>
            <a:ext cx="20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35600" y="3790800"/>
            <a:ext cx="419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l = new List(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List(2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w List(3, null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mit p1 = new Perm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mit p2 = new Permi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~ l1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@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~ l2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l@p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.revoke(); 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ive rev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17800" y="3809880"/>
            <a:ext cx="374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copy(List~ 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l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ew List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.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py(l.nex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648320" y="3657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list has type List~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"/>
          <p:cNvSpPr/>
          <p:nvPr/>
        </p:nvSpPr>
        <p:spPr>
          <a:xfrm>
            <a:off x="533520" y="472428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:  mov dword ptr [eax+8],0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.i 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eax,dword ptr [eax+12]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 = list.nex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p eax,0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f(list == 0) goto do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e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mp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09480" y="2057400"/>
            <a:ext cx="3429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200" y="4572000"/>
            <a:ext cx="8001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267080" y="1828800"/>
            <a:ext cx="4419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permit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/omit checks i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read with 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 revoked: roll-forward, raise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057400" y="39625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 on remote pointer, worst ca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quire lock, check flag, operation, release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hecks per loop iter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List~ l = ...; l != null; l =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l.n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sum += 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l.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ter: cache revocation flag in a “TLB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spend thread to invalidate cached val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afe language protec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mi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t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-grained 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T enfor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 B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C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void 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B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C {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2286000"/>
            <a:ext cx="381024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336760"/>
            <a:ext cx="19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99880" y="31240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8098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3962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05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0560" y="34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9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409360" y="36576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19920" y="3733920"/>
            <a:ext cx="30456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7960" y="411480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3048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38098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mote pointer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352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zer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List~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"/>
          <p:cNvSpPr/>
          <p:nvPr/>
        </p:nvSpPr>
        <p:spPr>
          <a:xfrm>
            <a:off x="5029200" y="2895480"/>
            <a:ext cx="3733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void zer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List{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}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cache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(list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i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 = list.n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uncache </a:t>
            </a:r>
            <a:r>
              <a:rPr b="0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480" y="2895480"/>
            <a:ext cx="34290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105520" y="2895480"/>
            <a:ext cx="3581280" cy="243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132920" y="1676520"/>
            <a:ext cx="67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r permit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 inferred reuse in typed intermediat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ode to cache/uncache per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038480" y="365760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7640" y="5334120"/>
            <a:ext cx="7008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op:  mov dword ptr [eax+8],0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.i = 0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eax,dword ptr [eax+12]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list = list.nex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mp eax,0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f(list == 0) goto do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e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mp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3240" y="48769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very fast inn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Servlet exampl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rvice(Request~ 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Request {String url; byte[] content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ServletBox {Servlet~ servlet;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DispatchServlet implements Servlet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shtable tabl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service(Request~ req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 = String.copy(req.ur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rvletBox forwardTo = (ServletBox) table.get(ur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wardTo.servlet.service(req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"/>
          <p:cNvSpPr/>
          <p:nvPr/>
        </p:nvSpPr>
        <p:spPr>
          <a:xfrm>
            <a:off x="617220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09804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16292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08876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153280" y="1981080"/>
            <a:ext cx="685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079480" y="2133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162920" y="312408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086600" y="3200400"/>
            <a:ext cx="10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7848720" y="26668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 flipV="1">
            <a:off x="7543800" y="2666880"/>
            <a:ext cx="7632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 flipV="1">
            <a:off x="6552720" y="2666880"/>
            <a:ext cx="83844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43800" y="4343400"/>
            <a:ext cx="9144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543800" y="44956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 flipV="1">
            <a:off x="7695720" y="380952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Whole-task optimiz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mot performs whole-program 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 dynamic loading: would invalidate o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na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ole-ta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ptim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loading of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"/>
          <p:cNvSpPr/>
          <p:nvPr/>
        </p:nvSpPr>
        <p:spPr>
          <a:xfrm>
            <a:off x="1828800" y="3886200"/>
            <a:ext cx="2438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828800" y="388620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861080" y="507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743200" y="4038480"/>
            <a:ext cx="10666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826640" y="45720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line Vector.elemen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5410080"/>
            <a:ext cx="24386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54100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267080" y="556272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50520" y="60958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line Vector.elemen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81480" y="3581280"/>
            <a:ext cx="24386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181480" y="35812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 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095880" y="3657600"/>
            <a:ext cx="10670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715000" y="4495680"/>
            <a:ext cx="16765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olor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477120" y="41148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631920" y="41148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1007000">
            <a:off x="4265640" y="4422240"/>
            <a:ext cx="914400" cy="15264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H="1" rot="14040000">
            <a:off x="3787560" y="5136120"/>
            <a:ext cx="655560" cy="152280"/>
          </a:xfrm>
          <a:prstGeom prst="leftRightArrow">
            <a:avLst>
              <a:gd name="adj1" fmla="val 50000"/>
              <a:gd name="adj2" fmla="val 85701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7560000">
            <a:off x="5004720" y="5133600"/>
            <a:ext cx="660600" cy="158760"/>
          </a:xfrm>
          <a:prstGeom prst="leftRightArrow">
            <a:avLst>
              <a:gd name="adj1" fmla="val 50000"/>
              <a:gd name="adj2" fmla="val 82834"/>
            </a:avLst>
          </a:prstGeom>
          <a:solidFill>
            <a:srgbClr val="00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533520" y="4724280"/>
            <a:ext cx="6324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erformance: JK &amp; Luna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tium II @300Mh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method inv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Operation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JK(MS-VM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   Lu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al method invo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02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task call, uniproces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3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task call, multiprocess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.7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i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NT LRPC: ~1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4 round-trip IPC on P5-133: 1.8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r" pos="5310360"/>
                <a:tab algn="r" pos="6568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okernel round-trip protected control transfer on DEC-5000: 2.4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Related work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Sc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eer-to-peer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model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flexibility, resource tr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ffe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data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Conclusion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 languag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term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-task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-Kernel: Capabilities + R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na: Remote poi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"/>
          <p:cNvSpPr/>
          <p:nvPr/>
        </p:nvSpPr>
        <p:spPr>
          <a:xfrm>
            <a:off x="4648320" y="2209680"/>
            <a:ext cx="41907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934320" y="27432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81480" y="2743200"/>
            <a:ext cx="11430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28948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421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0408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956720" y="32004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696080" y="2895480"/>
            <a:ext cx="15264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62720" y="3048120"/>
            <a:ext cx="15228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78360" y="3505320"/>
            <a:ext cx="152640" cy="152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315200" y="3048120"/>
            <a:ext cx="15228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95880" y="3124080"/>
            <a:ext cx="152640" cy="152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43800" y="3352680"/>
            <a:ext cx="152280" cy="152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638680" y="32004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715000" y="3124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391520" y="3200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467120" y="29718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7315200" y="32004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800600" y="5078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70560" y="4861080"/>
            <a:ext cx="33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800600" y="5459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468040" y="524196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y/remote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6248520" y="3124080"/>
            <a:ext cx="10666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5943600" y="3581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181480" y="2743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934320" y="2743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867280" y="220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095880" y="39625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794640" y="4114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7060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172200" y="4245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324480" y="42451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553080" y="43434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9588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6629040" y="41911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4419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Talk outline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ble applications,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nguage-bas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urren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-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209680"/>
            <a:ext cx="17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ava thread group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d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e group of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2209680"/>
            <a:ext cx="173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440" y="51814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thread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152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Java communication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et-to-brow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-to-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86600" y="3961800"/>
            <a:ext cx="76320" cy="6318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499520" y="333072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3581280"/>
            <a:ext cx="75960" cy="106704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162920" y="3733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7720" y="380988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840" y="380988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1: wrong code interrupted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t stops or suspends th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wser left in inconsistent or deadlocked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3581280"/>
            <a:ext cx="75960" cy="106704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40840" y="3809880"/>
            <a:ext cx="104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9480" y="449568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upt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921360" y="3048120"/>
            <a:ext cx="9907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25146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ppl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Problem 2: damaged objects</a:t>
            </a:r>
            <a:endParaRPr b="1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et stops or suspends th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T left in inconsistent or deadlocked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30481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251460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appl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4343400"/>
            <a:ext cx="2743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2760" y="5181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335268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3740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89680" y="4572000"/>
            <a:ext cx="120600" cy="403200"/>
          </a:xfrm>
          <a:custGeom>
            <a:avLst/>
            <a:gdLst/>
            <a:ahLst/>
            <a:rect l="l" t="t" r="r" b="b"/>
            <a:pathLst>
              <a:path w="76" h="254">
                <a:moveTo>
                  <a:pt x="47" y="0"/>
                </a:moveTo>
                <a:cubicBezTo>
                  <a:pt x="17" y="7"/>
                  <a:pt x="76" y="26"/>
                  <a:pt x="58" y="52"/>
                </a:cubicBezTo>
                <a:cubicBezTo>
                  <a:pt x="60" y="63"/>
                  <a:pt x="13" y="83"/>
                  <a:pt x="21" y="91"/>
                </a:cubicBezTo>
                <a:cubicBezTo>
                  <a:pt x="17" y="105"/>
                  <a:pt x="60" y="124"/>
                  <a:pt x="60" y="124"/>
                </a:cubicBezTo>
                <a:cubicBezTo>
                  <a:pt x="53" y="156"/>
                  <a:pt x="41" y="145"/>
                  <a:pt x="11" y="156"/>
                </a:cubicBezTo>
                <a:cubicBezTo>
                  <a:pt x="0" y="187"/>
                  <a:pt x="14" y="198"/>
                  <a:pt x="41" y="215"/>
                </a:cubicBezTo>
                <a:cubicBezTo>
                  <a:pt x="33" y="253"/>
                  <a:pt x="44" y="243"/>
                  <a:pt x="21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4419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42900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124080"/>
            <a:ext cx="228600" cy="2286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43800" y="3276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7315200" y="4571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943240" y="36576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342900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6120" y="3276720"/>
            <a:ext cx="91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m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429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715000" y="342900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31240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866920" y="46483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4T22:13:16Z</dcterms:created>
  <dc:creator>hawblitz</dc:creator>
  <dc:description/>
  <dc:language>en-US</dc:language>
  <cp:lastModifiedBy>David Walker</cp:lastModifiedBy>
  <cp:lastPrinted>1999-07-15T02:41:51Z</cp:lastPrinted>
  <dcterms:modified xsi:type="dcterms:W3CDTF">2002-04-22T16:50:31Z</dcterms:modified>
  <cp:revision>382</cp:revision>
  <dc:subject/>
  <dc:title>Applets: thread grou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Users\hawblitz\utah-7-99-html</vt:lpwstr>
  </property>
  <property fmtid="{D5CDD505-2E9C-101B-9397-08002B2CF9AE}" pid="14" name="ScreenSize">
    <vt:r8>4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