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21999C-A514-4AF2-8ABC-C03637E66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89C1D9-1814-44B1-BA67-4DED49D6F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0DDBB4-C987-4358-8F74-B9E085396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166476-1A5A-43AF-ACD2-59D398A8D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79B454-444E-4E7A-805B-94D8EF328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14F9D6-99EA-4683-85C0-98C4EE9C3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0EF677-B8AA-4857-A7F2-4460A5BB9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98E25A-5C8B-42E2-95DE-253E35D63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760212-AC35-4DCF-8F24-2849049C1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E020E5-CF29-42CA-885A-2DEDE2646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300518-2F1F-4218-8654-DA2768EAA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1035EE-A823-426E-8BE8-A6562C5F5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6FA67A-6F7B-4703-A95A-97A60858C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2BD2D3-22ED-4312-8757-72C9EEE84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310734-DAC4-4199-86FE-4ABBBF3CE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FADC00-B802-4DF6-8344-16B9E644A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D4934D-5072-4452-AF5A-F408E27F9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5D02064-227B-4130-AD78-DD40B3169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61366E-0E00-4F1F-9F74-514600B46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86A873-0856-42CB-BDE3-AE7675649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 why bluetooth use this approach of TDMA, rather than C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74C5B9-4C42-4FE0-ABAA-8C22C66A7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0ABABF5-C56F-4451-8D8F-7AA3A2F51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C65E81-A1BD-4420-9AB4-3B9843860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58333D-B8E2-48F1-826C-9D1ABDD73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75CEA54-97C2-497D-B624-9301ED557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802095-5555-4442-9E29-318B454FE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19C6615-1E10-48C4-88C9-158C3BE7D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EB1706-0F81-4A4F-80BB-2054FA407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6AA43C-04B5-4609-8EF4-7CE77353A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03F0-57AA-4F92-B82F-DE8A8E31D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DD59-D8DD-4D19-816C-DB1671AED0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BFDCA-B7E9-40D2-A521-9673C720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619D6-0BDB-478C-A5D1-75C0EE4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98D1F-BDB9-4F5E-9E15-471E82B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C3AE6-3784-4DB7-9402-6F710EB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E3AC0-A271-44DD-9A76-E8364F19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6A23F-6C7E-4A6D-83ED-6455482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CE45A-D4E8-423B-BCE0-A7741C10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4067D-6F13-479C-AC51-A76494DC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CE751-E6E2-4561-987E-53AB3636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627EC-B9C7-43FC-805B-C1A2E6EB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265C-833F-49B6-B709-058906590D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E16F3-8644-415F-99A3-1EB8B3E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87DAC-C3D8-46E1-9BF5-06B82D56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31B5-C720-440B-998D-841750B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B1927-F32F-4F8F-9481-D15491C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E77C2-F8FF-44C2-AAA7-1FA2BA8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EBBC0-1B9A-4B0C-A83A-7A1AE07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1B80E-7157-4B68-837E-11CE221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D992F-3C7F-4021-9D94-63126F4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3E4CF-3E65-4070-BC13-9B55C52B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E3884-6822-4ADB-815D-C4209A61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0E87-F81F-46E8-A81B-58B0A16BA94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13381-16E9-422E-B5C3-563594D0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36A2F5-A4FB-4EA4-9812-7E99190F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5900D8-5352-4A62-9D4B-0FA595C8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4E6F6-B356-4A18-8029-8448736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AAB3EF-90D3-415B-BE70-06998F23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4DA0EA-D3E0-45BE-B955-AFC2BB71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D096E1-15F5-479D-8D81-CBD8CE3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1B80B2-EC9D-4B9F-9BAE-13BC574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D32A6-4759-4455-AC62-04A8A2B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523014-54D5-4E3D-8A7D-BC4D11EB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3D21E-6E65-40E5-9283-FA87E4EB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E42C9D-58FE-4F61-ABA0-AF16573B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606C58-0C49-499F-90DD-B2BABAF9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13D563-EF96-4AF6-AF22-0862EAB1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90921-7527-420B-A275-46C62AF8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D2EC7-77E4-4D83-99A3-8C148A9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8747B-A909-4E12-BBA9-09C5C898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AA671-026C-4D44-90AA-6EB80217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3F2BA-21FD-4A30-8AD8-8FBA214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F6A7F-D242-4978-BB3D-103DB321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5B547-0597-474D-B0A2-F88313A1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33E9C-7EF6-44FD-BA09-D871652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C4E20-9EB1-4B6B-9EBB-6014FD0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B260-932F-4559-BDF7-CA5F7779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9BDC0-A019-49E6-A989-B77648D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74073-0916-4990-BE45-CA872F40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05A6E-F0A1-4230-9362-E757B774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4812B-60CA-40F9-8150-41FDDC5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B1C0-B505-4D56-9C93-371A42E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36DB3-2F27-41D9-BDAB-3FC2BFB4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03BBD-439C-4D73-B91B-305F24E6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DD431-745C-4A50-A191-63505B1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0ABC-61B3-4BB9-9B5A-CE74F345E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423C4-3756-44DE-A792-CCB7195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036F4-0AB1-4920-8AAB-4433FC5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62A75-E943-4F66-A134-5374044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47B11-B4F9-4D28-BF80-7FBC092F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E3777-AF96-45C3-AE6C-F78A82FF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4F4BF-F584-44CC-BEB0-86A1DC58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3AED9-A0E1-4FDC-8867-4CCBADB4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C0FE5-3EE4-4174-8386-48095DF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5C558-687E-4B9B-A21D-A3729D5E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EF73B-8E92-4BFF-915B-4BC9E68B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633B-ADA4-4DCD-A840-BECBBF649C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804BB-1DD5-46E8-9E78-F8D4B4AE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7D44E-7B13-4040-9A6E-E4352BB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EBDDB-0C88-41B2-937E-576D908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84306-4AD5-441B-87A0-FA87DB8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25D57-896C-4EAF-8724-8DF12B6E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CEC5F-1984-4EF4-B9D1-99AE2CC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CB564-DD24-4AB9-9025-D6D29556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82388-722F-4547-8FBC-B2F89543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0F317-8BFE-40C7-BDEB-9EAADD15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AA79B-F4AA-4092-ACF1-53ED4B41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9294-B7A3-4F3B-B25B-3DAB2EE197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03301-EA9D-46B5-A1B1-71C8E58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84357-067E-4487-AE17-FEF7332A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00369-ABE2-4122-9A57-50C5B3AD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6924E-32B4-4169-AE3F-81A2299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7BF86-2B07-4897-98E5-0D13CA5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BE412-3E70-4664-ADEC-DDB1916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4CA0E-C0A9-4F4F-96C7-2DA8585D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D0DFC-C992-412B-909F-0BC86F1E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D415A-D839-4AB2-8DD8-6F087A36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EAB6F-123A-4CA2-B8C4-A6208BF3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C1B0-1EF6-4B75-9623-473C394FAD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67F7B6-1D43-46F5-B2AC-3CD1E44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4452E8-15DB-495D-B57E-1BADA8A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F75D4-E86D-4F50-8BA6-8E74882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9E2FF-BD81-41C6-8ED8-801EF601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68C23-EEEA-4BD7-82FE-EFB72A3E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8B40C3-9645-4CD4-879C-BC460A9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62D8D6-2B2C-44F2-9E4E-F6FEC76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0730A8-D6A4-4098-941B-22704B4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AFAE1-16F2-4323-8512-3636005A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4F0E7-D54C-4D0F-AD55-97AE0739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422B-8FA7-4B10-AC6A-6C80B31F8F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7512E-5CEB-46F7-BBBA-2E72E9BE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BFD27-373C-42C7-A8EE-254A938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6E57B-0682-4440-A26D-42FC94E8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723C1C-C6E8-4BE4-804B-69AA4EC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C60E64-42FF-4FEA-A039-3BA765C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D6118-50D7-4D1C-95D8-A8CF638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C5461-9C7A-4A42-AE48-C7078304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9C464-1139-41DE-9EEB-CE3BBB6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54ECD-24A0-4B4B-A5CB-8A02BC0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62A99-4491-4D05-8864-4051BFF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B456-E588-4B3A-AF2B-A9EBB27127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10FEE-BAED-4F59-9325-C0DD868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C81285-D0BF-4382-B4FA-B7F841D7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30E90F-7D21-4040-A819-4292653B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B5516-AD87-4D55-ADBD-340AC5D5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4288A-F55B-44B6-8F28-50FA18B4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7283E7-68D9-47A3-B549-12F5F62B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5F90F4-8388-48FA-AA3F-59607F1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81F4F-CADB-49F5-9545-51D069B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4CB3E-7786-45E6-8D24-B537DED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33D1CE-2E5A-402C-903F-13394FE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E5D5-E511-42BB-B61C-828F50CBA6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00FBB-D9C1-4348-8373-9FD22A6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760AE3-F756-4956-9893-6ABB373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F3116-3958-4653-BF9D-6D12C9F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C46EE7-D0DB-4863-9F0A-99B0DC6C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6B7F56-CBB7-44A4-812C-CFE8064E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6EE54-EA4E-4D31-B170-3A6F3223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1E66DF-07E4-4441-877D-62E56CB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EB0040-1959-4152-A20F-0514BDD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6DC32-11AF-4B6D-A5B3-A2400155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8275E-CF84-4009-A106-E7666983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3679-F2A3-4AFF-98C1-14A4B5290E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ECD77E-E8BC-4295-894C-1887351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4A264A-4AE7-4904-832B-68A389A5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D420FE-B166-422E-83DE-AA437FD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E6963-BAB4-4577-AAD0-1A725C9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32D78A-65C2-4AC5-8089-75D17E9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90C01-BFFB-4092-898D-4A23E8DA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18F0C-6ADA-4ED3-A580-A7FB47A4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05590-9460-4654-A638-4277528C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AB9B4-B2B3-4129-8E06-BBAF118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DF506-17B9-40EC-A1B5-991C632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61D-DF10-465A-BB5D-2F7BF641F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722E-1BAB-42DD-B1DC-0EB2194164F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B305-D3CB-444E-B957-C29039C92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8B1A-4974-4E1D-90ED-FB3D5BB6AC4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21B-D476-4296-8BCC-2D6EECB3A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FA04-46C8-40D5-8C09-9C951534DFB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CD2-B77F-4582-8267-FD22155CF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9614-5B8E-45CA-B8A7-0026AD6F953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1D7-AE60-4EA5-856D-DCBD9FE41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66D-AC89-46B5-BA4F-14674652172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6C32-28CE-4592-A167-6DC37493F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F7A-6126-430B-B4AA-F885ADE0F09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6E6-431D-42CC-86B9-4384DB3EB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F31-9FEC-4D98-A234-5AED951D3C0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213-5DCA-47DB-80FA-8EC8B05BC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68B-F477-43C4-AF95-A1922F23E41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64D4-87F0-4386-A699-A3D5D3C46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6AA2-33D6-4E33-9D88-24BC447A09C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884-35A8-4306-9441-EAEBB6482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F732-6EEB-4FCB-96DE-FF38814CE8B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75BD-967E-4E90-8A16-5A3DF2ED3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5DB8-98F0-47CA-B687-8E72A6D31FC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ABA-D652-4A72-8A48-FA40328E5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slideLayout" Target="../slideLayouts/slideLayout73.xml"/><Relationship Id="rId3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73.xml"/><Relationship Id="rId3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12.png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73.xml"/><Relationship Id="rId1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.wmf"/><Relationship Id="rId19" Type="http://schemas.openxmlformats.org/officeDocument/2006/relationships/image" Target="../media/image2.wmf"/><Relationship Id="rId20" Type="http://schemas.openxmlformats.org/officeDocument/2006/relationships/image" Target="../media/image1.wmf"/><Relationship Id="rId21" Type="http://schemas.openxmlformats.org/officeDocument/2006/relationships/image" Target="../media/image2.wmf"/><Relationship Id="rId22" Type="http://schemas.openxmlformats.org/officeDocument/2006/relationships/slideLayout" Target="../slideLayouts/slideLayout73.xml"/><Relationship Id="rId2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1880" y="290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Wireless Networks</a:t>
            </a:r>
            <a:br>
              <a:rPr sz="3200"/>
            </a:b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Reading: Section 2.8</a:t>
            </a:r>
            <a:endParaRPr b="0" lang="en-US" sz="2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85960" y="4190760"/>
            <a:ext cx="768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S 461: Computer Networks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Spring 2012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702-7A53-4375-B234-871EE5BBCA3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620640" y="1035000"/>
          <a:ext cx="239544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035000"/>
                    <a:ext cx="239544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3"/>
          <p:cNvGraphicFramePr/>
          <p:nvPr/>
        </p:nvGraphicFramePr>
        <p:xfrm>
          <a:off x="6400800" y="1143000"/>
          <a:ext cx="21924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143000"/>
                    <a:ext cx="21924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Picture 14" descr="interWireless"/>
          <p:cNvPicPr/>
          <p:nvPr/>
        </p:nvPicPr>
        <p:blipFill>
          <a:blip r:embed="rId5"/>
          <a:stretch/>
        </p:blipFill>
        <p:spPr>
          <a:xfrm>
            <a:off x="3417840" y="361800"/>
            <a:ext cx="2297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Wireless Links: Broadcast Limitation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d broadcast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thernet bridging, in wired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receive transmissions from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less broadcast: fading over dist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7DFA-B7EB-4DF5-81A8-D5DFE4F5B14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21"/>
          <p:cNvGrpSpPr/>
          <p:nvPr/>
        </p:nvGrpSpPr>
        <p:grpSpPr>
          <a:xfrm>
            <a:off x="480600" y="3875040"/>
            <a:ext cx="4462560" cy="2756160"/>
            <a:chOff x="480600" y="3875040"/>
            <a:chExt cx="4462560" cy="2756160"/>
          </a:xfrm>
        </p:grpSpPr>
        <p:grpSp>
          <p:nvGrpSpPr>
            <p:cNvPr id="577" name="Group 22"/>
            <p:cNvGrpSpPr/>
            <p:nvPr/>
          </p:nvGrpSpPr>
          <p:grpSpPr>
            <a:xfrm>
              <a:off x="556200" y="3875040"/>
              <a:ext cx="4100400" cy="891000"/>
              <a:chOff x="556200" y="3875040"/>
              <a:chExt cx="4100400" cy="891000"/>
            </a:xfrm>
          </p:grpSpPr>
          <p:grpSp>
            <p:nvGrpSpPr>
              <p:cNvPr id="578" name="Group 23"/>
              <p:cNvGrpSpPr/>
              <p:nvPr/>
            </p:nvGrpSpPr>
            <p:grpSpPr>
              <a:xfrm>
                <a:off x="631080" y="3875040"/>
                <a:ext cx="939240" cy="860040"/>
                <a:chOff x="631080" y="3875040"/>
                <a:chExt cx="939240" cy="860040"/>
              </a:xfrm>
            </p:grpSpPr>
            <p:pic>
              <p:nvPicPr>
                <p:cNvPr id="579" name="Object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1080" y="3875040"/>
                  <a:ext cx="874440" cy="75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Object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9680" y="4100400"/>
                  <a:ext cx="800640" cy="63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1" name="Group 26"/>
              <p:cNvGrpSpPr/>
              <p:nvPr/>
            </p:nvGrpSpPr>
            <p:grpSpPr>
              <a:xfrm>
                <a:off x="2062440" y="3890520"/>
                <a:ext cx="939240" cy="860040"/>
                <a:chOff x="2062440" y="3890520"/>
                <a:chExt cx="939240" cy="860040"/>
              </a:xfrm>
            </p:grpSpPr>
            <p:pic>
              <p:nvPicPr>
                <p:cNvPr id="582" name="Object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2440" y="3890520"/>
                  <a:ext cx="874440" cy="75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Object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01040" y="4115880"/>
                  <a:ext cx="800640" cy="63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4" name="Text Box 29"/>
              <p:cNvSpPr/>
              <p:nvPr/>
            </p:nvSpPr>
            <p:spPr>
              <a:xfrm>
                <a:off x="556200" y="41061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30"/>
              <p:cNvSpPr/>
              <p:nvPr/>
            </p:nvSpPr>
            <p:spPr>
              <a:xfrm>
                <a:off x="2885040" y="410256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31"/>
              <p:cNvSpPr/>
              <p:nvPr/>
            </p:nvSpPr>
            <p:spPr>
              <a:xfrm>
                <a:off x="4338720" y="41554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2"/>
              <p:cNvGrpSpPr/>
              <p:nvPr/>
            </p:nvGrpSpPr>
            <p:grpSpPr>
              <a:xfrm>
                <a:off x="3405600" y="3906360"/>
                <a:ext cx="939240" cy="859680"/>
                <a:chOff x="3405600" y="3906360"/>
                <a:chExt cx="939240" cy="859680"/>
              </a:xfrm>
            </p:grpSpPr>
            <p:pic>
              <p:nvPicPr>
                <p:cNvPr id="588" name="Object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05600" y="3906360"/>
                  <a:ext cx="874440" cy="758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Object 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44200" y="4131720"/>
                  <a:ext cx="800640" cy="63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0" name="Text Box 35"/>
            <p:cNvSpPr/>
            <p:nvPr/>
          </p:nvSpPr>
          <p:spPr>
            <a:xfrm>
              <a:off x="480600" y="512856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0" lang="ja-JP" sz="1400" spc="-1" strike="noStrike">
                  <a:solidFill>
                    <a:srgbClr val="ff0000"/>
                  </a:solidFill>
                  <a:latin typeface="Comic Sans MS"/>
                </a:rPr>
                <a:t>’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s sig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str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>
              <a:off x="705240" y="6399720"/>
              <a:ext cx="40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639000" y="4942080"/>
              <a:ext cx="0" cy="14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8"/>
            <p:cNvSpPr/>
            <p:nvPr/>
          </p:nvSpPr>
          <p:spPr>
            <a:xfrm>
              <a:off x="740520" y="5010480"/>
              <a:ext cx="3679200" cy="1335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2253600" y="63547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a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0"/>
            <p:cNvSpPr/>
            <p:nvPr/>
          </p:nvSpPr>
          <p:spPr>
            <a:xfrm flipH="1">
              <a:off x="857520" y="4973400"/>
              <a:ext cx="3679200" cy="1335960"/>
            </a:xfrm>
            <a:prstGeom prst="pie">
              <a:avLst/>
            </a:pr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1"/>
            <p:cNvSpPr/>
            <p:nvPr/>
          </p:nvSpPr>
          <p:spPr>
            <a:xfrm>
              <a:off x="3695760" y="504000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C</a:t>
              </a:r>
              <a:r>
                <a:rPr b="0" lang="ja-JP" sz="1400" spc="-1" strike="noStrike">
                  <a:solidFill>
                    <a:srgbClr val="c0504d"/>
                  </a:solidFill>
                  <a:latin typeface="Comic Sans MS"/>
                </a:rPr>
                <a:t>’</a:t>
              </a: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s sig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str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1104840" y="4802760"/>
              <a:ext cx="33120" cy="1561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3"/>
            <p:cNvSpPr/>
            <p:nvPr/>
          </p:nvSpPr>
          <p:spPr>
            <a:xfrm>
              <a:off x="2604600" y="4887000"/>
              <a:ext cx="0" cy="149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>
              <a:off x="3932280" y="4867560"/>
              <a:ext cx="0" cy="145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21"/>
          <p:cNvSpPr/>
          <p:nvPr/>
        </p:nvSpPr>
        <p:spPr>
          <a:xfrm>
            <a:off x="5000760" y="4057560"/>
            <a:ext cx="3686040" cy="2288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and B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and C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But, A and C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, A and C are unaware of their interference a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Example Wireless Link Technologie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ata networ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5.1 (Bluetooth): 2.1 Mbps – 1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b (WiFi): 5-11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a and g (WiFi): 54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n (WiFi): 200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6 (WiMax): 70 Mbps  – 10 k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ellular networks, outdoor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G: 56 K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G: 384 K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G enhanced (“4G”): 4 M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635-B17C-4AE7-B300-042BC2FF910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Wireless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F824-F3EC-4A57-8819-9AF5DE6FF23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608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612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4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615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7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618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621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3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627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630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633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637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642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645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648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651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654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657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658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0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4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5"/>
          <p:cNvSpPr/>
          <p:nvPr/>
        </p:nvSpPr>
        <p:spPr>
          <a:xfrm>
            <a:off x="5265720" y="1508040"/>
            <a:ext cx="3649680" cy="22971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reless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used to connect mobile(s) to base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used as backbone lin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access protocol coordinates link acc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68"/>
          <p:cNvGrpSpPr/>
          <p:nvPr/>
        </p:nvGrpSpPr>
        <p:grpSpPr>
          <a:xfrm>
            <a:off x="7970760" y="1143000"/>
            <a:ext cx="722520" cy="303120"/>
            <a:chOff x="7970760" y="1143000"/>
            <a:chExt cx="722520" cy="303120"/>
          </a:xfrm>
        </p:grpSpPr>
        <p:sp>
          <p:nvSpPr>
            <p:cNvPr id="669" name="Freeform 69"/>
            <p:cNvSpPr/>
            <p:nvPr/>
          </p:nvSpPr>
          <p:spPr>
            <a:xfrm>
              <a:off x="8164440" y="1197000"/>
              <a:ext cx="130320" cy="1652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0"/>
            <p:cNvSpPr/>
            <p:nvPr/>
          </p:nvSpPr>
          <p:spPr>
            <a:xfrm>
              <a:off x="8386920" y="1195560"/>
              <a:ext cx="83880" cy="1285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082000" y="1165320"/>
              <a:ext cx="210960" cy="2682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8378640" y="1155600"/>
              <a:ext cx="185760" cy="179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3"/>
            <p:cNvSpPr/>
            <p:nvPr/>
          </p:nvSpPr>
          <p:spPr>
            <a:xfrm>
              <a:off x="8001000" y="1238400"/>
              <a:ext cx="76320" cy="169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4"/>
            <p:cNvSpPr/>
            <p:nvPr/>
          </p:nvSpPr>
          <p:spPr>
            <a:xfrm>
              <a:off x="8532720" y="1143000"/>
              <a:ext cx="160560" cy="220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5"/>
            <p:cNvSpPr/>
            <p:nvPr/>
          </p:nvSpPr>
          <p:spPr>
            <a:xfrm>
              <a:off x="8329680" y="1330560"/>
              <a:ext cx="2844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6"/>
            <p:cNvSpPr/>
            <p:nvPr/>
          </p:nvSpPr>
          <p:spPr>
            <a:xfrm>
              <a:off x="8307360" y="1281240"/>
              <a:ext cx="237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7"/>
            <p:cNvSpPr/>
            <p:nvPr/>
          </p:nvSpPr>
          <p:spPr>
            <a:xfrm>
              <a:off x="8286840" y="1249560"/>
              <a:ext cx="33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8"/>
            <p:cNvSpPr/>
            <p:nvPr/>
          </p:nvSpPr>
          <p:spPr>
            <a:xfrm>
              <a:off x="8128080" y="1206720"/>
              <a:ext cx="12996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9"/>
            <p:cNvSpPr/>
            <p:nvPr/>
          </p:nvSpPr>
          <p:spPr>
            <a:xfrm>
              <a:off x="8350200" y="1204920"/>
              <a:ext cx="8424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0"/>
            <p:cNvSpPr/>
            <p:nvPr/>
          </p:nvSpPr>
          <p:spPr>
            <a:xfrm>
              <a:off x="8043840" y="1176480"/>
              <a:ext cx="212760" cy="26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1"/>
            <p:cNvSpPr/>
            <p:nvPr/>
          </p:nvSpPr>
          <p:spPr>
            <a:xfrm>
              <a:off x="8342280" y="1166760"/>
              <a:ext cx="18576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2"/>
            <p:cNvSpPr/>
            <p:nvPr/>
          </p:nvSpPr>
          <p:spPr>
            <a:xfrm>
              <a:off x="7970760" y="1263600"/>
              <a:ext cx="7632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3"/>
            <p:cNvSpPr/>
            <p:nvPr/>
          </p:nvSpPr>
          <p:spPr>
            <a:xfrm>
              <a:off x="8496360" y="1155600"/>
              <a:ext cx="16020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Wireless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5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EE0-9752-45EA-A9EC-556ABBE109F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688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692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695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Object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698" name="Object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701" name="Object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Object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3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06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707" name="Object 22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Object 23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710" name="Object 20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Object 21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713" name="Object 18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Object 19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717" name="Object 16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Object 17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722" name="Object 14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Object 15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725" name="Object 12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13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728" name="Object 10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Object 11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731" name="Object 8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Object 9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734" name="Object 6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Object 7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737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738" name="Object 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Object 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4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5"/>
          <p:cNvSpPr/>
          <p:nvPr/>
        </p:nvSpPr>
        <p:spPr>
          <a:xfrm>
            <a:off x="5603760" y="1662120"/>
            <a:ext cx="3308400" cy="19591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reless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ptop, smartph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stationary (non-mobile) or mob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6"/>
          <p:cNvGrpSpPr/>
          <p:nvPr/>
        </p:nvGrpSpPr>
        <p:grpSpPr>
          <a:xfrm>
            <a:off x="7878600" y="1160640"/>
            <a:ext cx="807840" cy="667800"/>
            <a:chOff x="7878600" y="1160640"/>
            <a:chExt cx="807840" cy="667800"/>
          </a:xfrm>
        </p:grpSpPr>
        <p:pic>
          <p:nvPicPr>
            <p:cNvPr id="749" name="Object 2" descr=""/>
            <p:cNvPicPr/>
            <p:nvPr/>
          </p:nvPicPr>
          <p:blipFill>
            <a:blip r:embed="rId31"/>
            <a:stretch/>
          </p:blipFill>
          <p:spPr>
            <a:xfrm>
              <a:off x="7878600" y="1160640"/>
              <a:ext cx="7520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Object 3" descr=""/>
            <p:cNvPicPr/>
            <p:nvPr/>
          </p:nvPicPr>
          <p:blipFill>
            <a:blip r:embed="rId32"/>
            <a:stretch/>
          </p:blipFill>
          <p:spPr>
            <a:xfrm>
              <a:off x="7997760" y="1335600"/>
              <a:ext cx="688680" cy="4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Line 69"/>
          <p:cNvSpPr/>
          <p:nvPr/>
        </p:nvSpPr>
        <p:spPr>
          <a:xfrm flipH="1">
            <a:off x="5655960" y="3621240"/>
            <a:ext cx="609480" cy="217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0"/>
          <p:cNvSpPr/>
          <p:nvPr/>
        </p:nvSpPr>
        <p:spPr>
          <a:xfrm flipH="1">
            <a:off x="4724280" y="3621240"/>
            <a:ext cx="1541520" cy="163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Base St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4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4BA-5F41-44E9-9F13-07C2BD73D3B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757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9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761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764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6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767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8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9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770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72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776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779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782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4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786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791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794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6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797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800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2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803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5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806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807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9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6"/>
          <p:cNvSpPr/>
          <p:nvPr/>
        </p:nvSpPr>
        <p:spPr>
          <a:xfrm>
            <a:off x="5340240" y="1432080"/>
            <a:ext cx="3557520" cy="3071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se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connected 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y responsible for sending packets between wired network and wireless host(s) in its “are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.g., cell towers, 802.11 access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7" descr="31u_bnrz[1]"/>
          <p:cNvPicPr/>
          <p:nvPr/>
        </p:nvPicPr>
        <p:blipFill>
          <a:blip r:embed="rId31"/>
          <a:stretch/>
        </p:blipFill>
        <p:spPr>
          <a:xfrm>
            <a:off x="8182080" y="1163520"/>
            <a:ext cx="395280" cy="621000"/>
          </a:xfrm>
          <a:prstGeom prst="rect">
            <a:avLst/>
          </a:prstGeom>
          <a:ln w="0">
            <a:noFill/>
          </a:ln>
        </p:spPr>
      </p:pic>
      <p:sp>
        <p:nvSpPr>
          <p:cNvPr id="817" name="Line 68"/>
          <p:cNvSpPr/>
          <p:nvPr/>
        </p:nvSpPr>
        <p:spPr>
          <a:xfrm flipH="1">
            <a:off x="5410080" y="4503600"/>
            <a:ext cx="1387440" cy="103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Infra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9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A0D-80CA-4BF9-BBEF-A5931897CFE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822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826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829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1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832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4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835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7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841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844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847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851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856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859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862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865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7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868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0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871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872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4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64"/>
          <p:cNvSpPr/>
          <p:nvPr/>
        </p:nvSpPr>
        <p:spPr>
          <a:xfrm>
            <a:off x="5357880" y="1371600"/>
            <a:ext cx="3557520" cy="30718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r network with which a wireless host wants to communic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a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traditional network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not always ex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66"/>
          <p:cNvSpPr/>
          <p:nvPr/>
        </p:nvSpPr>
        <p:spPr>
          <a:xfrm flipH="1">
            <a:off x="4114800" y="2392200"/>
            <a:ext cx="1225440" cy="80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63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rastructure Mode (AP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3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71F-8C2F-453E-A2C5-45FB78D01A0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886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8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89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890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1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2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893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5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896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899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1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04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905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908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911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915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7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920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923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926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929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1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932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4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935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936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7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8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67"/>
          <p:cNvSpPr/>
          <p:nvPr/>
        </p:nvSpPr>
        <p:spPr>
          <a:xfrm flipH="1">
            <a:off x="4723920" y="4019400"/>
            <a:ext cx="1630440" cy="131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68"/>
          <p:cNvSpPr/>
          <p:nvPr/>
        </p:nvSpPr>
        <p:spPr>
          <a:xfrm flipH="1">
            <a:off x="5334120" y="4017960"/>
            <a:ext cx="1017360" cy="131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69"/>
          <p:cNvSpPr/>
          <p:nvPr/>
        </p:nvSpPr>
        <p:spPr>
          <a:xfrm flipH="1">
            <a:off x="4038480" y="4030560"/>
            <a:ext cx="2284560" cy="137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6"/>
          <p:cNvSpPr/>
          <p:nvPr/>
        </p:nvSpPr>
        <p:spPr>
          <a:xfrm>
            <a:off x="5257800" y="1351080"/>
            <a:ext cx="3648240" cy="27637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rastructur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 station connects mobiles in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provides services (addressing, routing, D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ff: mobile changes base station providing connection 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nels and Associ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channels at different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ministrator chooses frequency for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erence if channel is same as neighboring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B0D-A755-46BC-A326-6213742DE15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1076400" y="475920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7"/>
          <p:cNvSpPr/>
          <p:nvPr/>
        </p:nvSpPr>
        <p:spPr>
          <a:xfrm>
            <a:off x="2305080" y="472140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8"/>
          <p:cNvGrpSpPr/>
          <p:nvPr/>
        </p:nvGrpSpPr>
        <p:grpSpPr>
          <a:xfrm>
            <a:off x="2363760" y="5361120"/>
            <a:ext cx="730080" cy="881640"/>
            <a:chOff x="2363760" y="5361120"/>
            <a:chExt cx="730080" cy="881640"/>
          </a:xfrm>
        </p:grpSpPr>
        <p:pic>
          <p:nvPicPr>
            <p:cNvPr id="954" name="Object 2" descr=""/>
            <p:cNvPicPr/>
            <p:nvPr/>
          </p:nvPicPr>
          <p:blipFill>
            <a:blip r:embed="rId1"/>
            <a:stretch/>
          </p:blipFill>
          <p:spPr>
            <a:xfrm>
              <a:off x="2363760" y="5361120"/>
              <a:ext cx="6796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Object 3" descr=""/>
            <p:cNvPicPr/>
            <p:nvPr/>
          </p:nvPicPr>
          <p:blipFill>
            <a:blip r:embed="rId2"/>
            <a:stretch/>
          </p:blipFill>
          <p:spPr>
            <a:xfrm>
              <a:off x="2471400" y="5592240"/>
              <a:ext cx="622440" cy="65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6" name="Group 13"/>
          <p:cNvGrpSpPr/>
          <p:nvPr/>
        </p:nvGrpSpPr>
        <p:grpSpPr>
          <a:xfrm>
            <a:off x="3554280" y="5014800"/>
            <a:ext cx="827280" cy="831600"/>
            <a:chOff x="3554280" y="5014800"/>
            <a:chExt cx="827280" cy="831600"/>
          </a:xfrm>
        </p:grpSpPr>
        <p:pic>
          <p:nvPicPr>
            <p:cNvPr id="957" name="Picture 14" descr="31u_bnrz[1]"/>
            <p:cNvPicPr/>
            <p:nvPr/>
          </p:nvPicPr>
          <p:blipFill>
            <a:blip r:embed="rId3"/>
            <a:stretch/>
          </p:blipFill>
          <p:spPr>
            <a:xfrm rot="16200000">
              <a:off x="3767400" y="5551200"/>
              <a:ext cx="400320" cy="1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AutoShape 15"/>
            <p:cNvSpPr/>
            <p:nvPr/>
          </p:nvSpPr>
          <p:spPr>
            <a:xfrm>
              <a:off x="3554280" y="5014800"/>
              <a:ext cx="827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6"/>
            <p:cNvSpPr/>
            <p:nvPr/>
          </p:nvSpPr>
          <p:spPr>
            <a:xfrm>
              <a:off x="3727080" y="5088240"/>
              <a:ext cx="116280" cy="192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"/>
            <p:cNvSpPr/>
            <p:nvPr/>
          </p:nvSpPr>
          <p:spPr>
            <a:xfrm>
              <a:off x="3924720" y="5086800"/>
              <a:ext cx="73080" cy="149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8"/>
            <p:cNvSpPr/>
            <p:nvPr/>
          </p:nvSpPr>
          <p:spPr>
            <a:xfrm>
              <a:off x="3655440" y="5050800"/>
              <a:ext cx="186480" cy="3135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9"/>
            <p:cNvSpPr/>
            <p:nvPr/>
          </p:nvSpPr>
          <p:spPr>
            <a:xfrm>
              <a:off x="3917880" y="5041080"/>
              <a:ext cx="162720" cy="2077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0"/>
            <p:cNvSpPr/>
            <p:nvPr/>
          </p:nvSpPr>
          <p:spPr>
            <a:xfrm>
              <a:off x="3583800" y="5135400"/>
              <a:ext cx="67320" cy="198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1"/>
            <p:cNvSpPr/>
            <p:nvPr/>
          </p:nvSpPr>
          <p:spPr>
            <a:xfrm>
              <a:off x="4052880" y="5026320"/>
              <a:ext cx="141480" cy="256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2"/>
            <p:cNvSpPr/>
            <p:nvPr/>
          </p:nvSpPr>
          <p:spPr>
            <a:xfrm>
              <a:off x="3895560" y="5326920"/>
              <a:ext cx="475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3"/>
            <p:cNvSpPr/>
            <p:nvPr/>
          </p:nvSpPr>
          <p:spPr>
            <a:xfrm>
              <a:off x="3874320" y="5243760"/>
              <a:ext cx="248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4"/>
            <p:cNvSpPr/>
            <p:nvPr/>
          </p:nvSpPr>
          <p:spPr>
            <a:xfrm>
              <a:off x="3853440" y="5186520"/>
              <a:ext cx="219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5"/>
            <p:cNvSpPr/>
            <p:nvPr/>
          </p:nvSpPr>
          <p:spPr>
            <a:xfrm>
              <a:off x="3835080" y="5148720"/>
              <a:ext cx="29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6"/>
            <p:cNvSpPr/>
            <p:nvPr/>
          </p:nvSpPr>
          <p:spPr>
            <a:xfrm>
              <a:off x="3696120" y="5100120"/>
              <a:ext cx="11340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7"/>
            <p:cNvSpPr/>
            <p:nvPr/>
          </p:nvSpPr>
          <p:spPr>
            <a:xfrm>
              <a:off x="3892680" y="5097960"/>
              <a:ext cx="74160" cy="15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"/>
            <p:cNvSpPr/>
            <p:nvPr/>
          </p:nvSpPr>
          <p:spPr>
            <a:xfrm>
              <a:off x="3621600" y="5063760"/>
              <a:ext cx="18648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9"/>
            <p:cNvSpPr/>
            <p:nvPr/>
          </p:nvSpPr>
          <p:spPr>
            <a:xfrm>
              <a:off x="3885480" y="5054400"/>
              <a:ext cx="162720" cy="20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3556800" y="5167800"/>
              <a:ext cx="67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1"/>
            <p:cNvSpPr/>
            <p:nvPr/>
          </p:nvSpPr>
          <p:spPr>
            <a:xfrm>
              <a:off x="4020480" y="5041080"/>
              <a:ext cx="141840" cy="25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34"/>
          <p:cNvGrpSpPr/>
          <p:nvPr/>
        </p:nvGrpSpPr>
        <p:grpSpPr>
          <a:xfrm>
            <a:off x="1327320" y="5143680"/>
            <a:ext cx="839520" cy="755280"/>
            <a:chOff x="1327320" y="5143680"/>
            <a:chExt cx="839520" cy="755280"/>
          </a:xfrm>
        </p:grpSpPr>
        <p:pic>
          <p:nvPicPr>
            <p:cNvPr id="976" name="Picture 35" descr="31u_bnrz[1]"/>
            <p:cNvPicPr/>
            <p:nvPr/>
          </p:nvPicPr>
          <p:blipFill>
            <a:blip r:embed="rId4"/>
            <a:stretch/>
          </p:blipFill>
          <p:spPr>
            <a:xfrm flipH="1" rot="5400000">
              <a:off x="1565280" y="5620680"/>
              <a:ext cx="363600" cy="1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AutoShape 36"/>
            <p:cNvSpPr/>
            <p:nvPr/>
          </p:nvSpPr>
          <p:spPr>
            <a:xfrm flipH="1">
              <a:off x="1327320" y="5143680"/>
              <a:ext cx="839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7"/>
            <p:cNvSpPr/>
            <p:nvPr/>
          </p:nvSpPr>
          <p:spPr>
            <a:xfrm flipH="1">
              <a:off x="1873440" y="5210640"/>
              <a:ext cx="118080" cy="174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8"/>
            <p:cNvSpPr/>
            <p:nvPr/>
          </p:nvSpPr>
          <p:spPr>
            <a:xfrm flipH="1">
              <a:off x="1716840" y="5208840"/>
              <a:ext cx="74160" cy="135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9"/>
            <p:cNvSpPr/>
            <p:nvPr/>
          </p:nvSpPr>
          <p:spPr>
            <a:xfrm flipH="1">
              <a:off x="1874880" y="5176080"/>
              <a:ext cx="189360" cy="284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0"/>
            <p:cNvSpPr/>
            <p:nvPr/>
          </p:nvSpPr>
          <p:spPr>
            <a:xfrm flipH="1">
              <a:off x="1632240" y="5167800"/>
              <a:ext cx="165240" cy="188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1"/>
            <p:cNvSpPr/>
            <p:nvPr/>
          </p:nvSpPr>
          <p:spPr>
            <a:xfrm flipH="1">
              <a:off x="2068560" y="5253480"/>
              <a:ext cx="68400" cy="1800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2"/>
            <p:cNvSpPr/>
            <p:nvPr/>
          </p:nvSpPr>
          <p:spPr>
            <a:xfrm flipH="1">
              <a:off x="1517040" y="5154120"/>
              <a:ext cx="143640" cy="2332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3"/>
            <p:cNvSpPr/>
            <p:nvPr/>
          </p:nvSpPr>
          <p:spPr>
            <a:xfrm flipH="1">
              <a:off x="1772280" y="5427000"/>
              <a:ext cx="4824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"/>
            <p:cNvSpPr/>
            <p:nvPr/>
          </p:nvSpPr>
          <p:spPr>
            <a:xfrm flipH="1">
              <a:off x="1816560" y="5351400"/>
              <a:ext cx="252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5"/>
            <p:cNvSpPr/>
            <p:nvPr/>
          </p:nvSpPr>
          <p:spPr>
            <a:xfrm flipH="1">
              <a:off x="1841040" y="5299560"/>
              <a:ext cx="223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6"/>
            <p:cNvSpPr/>
            <p:nvPr/>
          </p:nvSpPr>
          <p:spPr>
            <a:xfrm flipH="1">
              <a:off x="1851840" y="5265360"/>
              <a:ext cx="2988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7"/>
            <p:cNvSpPr/>
            <p:nvPr/>
          </p:nvSpPr>
          <p:spPr>
            <a:xfrm flipH="1">
              <a:off x="1907640" y="5221080"/>
              <a:ext cx="115200" cy="17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8"/>
            <p:cNvSpPr/>
            <p:nvPr/>
          </p:nvSpPr>
          <p:spPr>
            <a:xfrm flipH="1">
              <a:off x="1747800" y="5218920"/>
              <a:ext cx="756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9"/>
            <p:cNvSpPr/>
            <p:nvPr/>
          </p:nvSpPr>
          <p:spPr>
            <a:xfrm flipH="1">
              <a:off x="1909080" y="5188320"/>
              <a:ext cx="18936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 flipH="1">
              <a:off x="1665000" y="5179680"/>
              <a:ext cx="165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1"/>
            <p:cNvSpPr/>
            <p:nvPr/>
          </p:nvSpPr>
          <p:spPr>
            <a:xfrm flipH="1">
              <a:off x="2095560" y="5282640"/>
              <a:ext cx="68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2"/>
            <p:cNvSpPr/>
            <p:nvPr/>
          </p:nvSpPr>
          <p:spPr>
            <a:xfrm flipH="1">
              <a:off x="1549800" y="5167800"/>
              <a:ext cx="144000" cy="23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Line 53"/>
          <p:cNvSpPr/>
          <p:nvPr/>
        </p:nvSpPr>
        <p:spPr>
          <a:xfrm>
            <a:off x="1787400" y="5707080"/>
            <a:ext cx="846360" cy="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4"/>
          <p:cNvSpPr/>
          <p:nvPr/>
        </p:nvSpPr>
        <p:spPr>
          <a:xfrm flipH="1">
            <a:off x="3056040" y="5668920"/>
            <a:ext cx="80640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5"/>
          <p:cNvSpPr/>
          <p:nvPr/>
        </p:nvSpPr>
        <p:spPr>
          <a:xfrm flipV="1">
            <a:off x="2978280" y="5745240"/>
            <a:ext cx="922320" cy="15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6"/>
          <p:cNvSpPr/>
          <p:nvPr/>
        </p:nvSpPr>
        <p:spPr>
          <a:xfrm flipH="1">
            <a:off x="3017520" y="5821200"/>
            <a:ext cx="958680" cy="27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57"/>
          <p:cNvSpPr/>
          <p:nvPr/>
        </p:nvSpPr>
        <p:spPr>
          <a:xfrm>
            <a:off x="4764240" y="5046840"/>
            <a:ext cx="3770280" cy="1099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acon frames from 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 request from ho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response from 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52" descr=""/>
          <p:cNvPicPr/>
          <p:nvPr/>
        </p:nvPicPr>
        <p:blipFill>
          <a:blip r:embed="rId5"/>
          <a:stretch/>
        </p:blipFill>
        <p:spPr>
          <a:xfrm>
            <a:off x="914400" y="2828880"/>
            <a:ext cx="7238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nels and Associ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channels at different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ministrator chooses frequency for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erence if channel is same as neighboring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ccess points send periodic beacon fram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ing A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name (SSID) and MAC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scans channels, listening for beacon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selects an access point to associat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FF3-1995-4DCF-9B41-8846D38A89A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6"/>
          <p:cNvSpPr/>
          <p:nvPr/>
        </p:nvSpPr>
        <p:spPr>
          <a:xfrm>
            <a:off x="1076400" y="475920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7"/>
          <p:cNvSpPr/>
          <p:nvPr/>
        </p:nvSpPr>
        <p:spPr>
          <a:xfrm>
            <a:off x="2305080" y="472140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2363760" y="5361120"/>
            <a:ext cx="730080" cy="881640"/>
            <a:chOff x="2363760" y="5361120"/>
            <a:chExt cx="730080" cy="881640"/>
          </a:xfrm>
        </p:grpSpPr>
        <p:pic>
          <p:nvPicPr>
            <p:cNvPr id="1006" name="Object 2" descr=""/>
            <p:cNvPicPr/>
            <p:nvPr/>
          </p:nvPicPr>
          <p:blipFill>
            <a:blip r:embed="rId1"/>
            <a:stretch/>
          </p:blipFill>
          <p:spPr>
            <a:xfrm>
              <a:off x="2363760" y="5361120"/>
              <a:ext cx="6796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Object 3" descr=""/>
            <p:cNvPicPr/>
            <p:nvPr/>
          </p:nvPicPr>
          <p:blipFill>
            <a:blip r:embed="rId2"/>
            <a:stretch/>
          </p:blipFill>
          <p:spPr>
            <a:xfrm>
              <a:off x="2471400" y="5592240"/>
              <a:ext cx="622440" cy="65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Group 13"/>
          <p:cNvGrpSpPr/>
          <p:nvPr/>
        </p:nvGrpSpPr>
        <p:grpSpPr>
          <a:xfrm>
            <a:off x="3554280" y="5014800"/>
            <a:ext cx="827280" cy="831600"/>
            <a:chOff x="3554280" y="5014800"/>
            <a:chExt cx="827280" cy="831600"/>
          </a:xfrm>
        </p:grpSpPr>
        <p:pic>
          <p:nvPicPr>
            <p:cNvPr id="1009" name="Picture 14" descr="31u_bnrz[1]"/>
            <p:cNvPicPr/>
            <p:nvPr/>
          </p:nvPicPr>
          <p:blipFill>
            <a:blip r:embed="rId3"/>
            <a:stretch/>
          </p:blipFill>
          <p:spPr>
            <a:xfrm rot="16200000">
              <a:off x="3767400" y="5551200"/>
              <a:ext cx="400320" cy="1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AutoShape 15"/>
            <p:cNvSpPr/>
            <p:nvPr/>
          </p:nvSpPr>
          <p:spPr>
            <a:xfrm>
              <a:off x="3554280" y="5014800"/>
              <a:ext cx="827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3727080" y="5088240"/>
              <a:ext cx="116280" cy="192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3924720" y="5086800"/>
              <a:ext cx="73080" cy="149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3655440" y="5050800"/>
              <a:ext cx="186480" cy="3135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3917880" y="5041080"/>
              <a:ext cx="162720" cy="2077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3583800" y="5135400"/>
              <a:ext cx="67320" cy="198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4052880" y="5026320"/>
              <a:ext cx="141480" cy="256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3895560" y="5326920"/>
              <a:ext cx="475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3"/>
            <p:cNvSpPr/>
            <p:nvPr/>
          </p:nvSpPr>
          <p:spPr>
            <a:xfrm>
              <a:off x="3874320" y="5243760"/>
              <a:ext cx="248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4"/>
            <p:cNvSpPr/>
            <p:nvPr/>
          </p:nvSpPr>
          <p:spPr>
            <a:xfrm>
              <a:off x="3853440" y="5186520"/>
              <a:ext cx="219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5"/>
            <p:cNvSpPr/>
            <p:nvPr/>
          </p:nvSpPr>
          <p:spPr>
            <a:xfrm>
              <a:off x="3835080" y="5148720"/>
              <a:ext cx="29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6"/>
            <p:cNvSpPr/>
            <p:nvPr/>
          </p:nvSpPr>
          <p:spPr>
            <a:xfrm>
              <a:off x="3696120" y="5100120"/>
              <a:ext cx="11340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7"/>
            <p:cNvSpPr/>
            <p:nvPr/>
          </p:nvSpPr>
          <p:spPr>
            <a:xfrm>
              <a:off x="3892680" y="5097960"/>
              <a:ext cx="74160" cy="15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3621600" y="5063760"/>
              <a:ext cx="18648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9"/>
            <p:cNvSpPr/>
            <p:nvPr/>
          </p:nvSpPr>
          <p:spPr>
            <a:xfrm>
              <a:off x="3885480" y="5054400"/>
              <a:ext cx="162720" cy="20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0"/>
            <p:cNvSpPr/>
            <p:nvPr/>
          </p:nvSpPr>
          <p:spPr>
            <a:xfrm>
              <a:off x="3556800" y="5167800"/>
              <a:ext cx="67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1"/>
            <p:cNvSpPr/>
            <p:nvPr/>
          </p:nvSpPr>
          <p:spPr>
            <a:xfrm>
              <a:off x="4020480" y="5041080"/>
              <a:ext cx="141840" cy="25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4"/>
          <p:cNvGrpSpPr/>
          <p:nvPr/>
        </p:nvGrpSpPr>
        <p:grpSpPr>
          <a:xfrm>
            <a:off x="1327320" y="5143680"/>
            <a:ext cx="839520" cy="755280"/>
            <a:chOff x="1327320" y="5143680"/>
            <a:chExt cx="839520" cy="755280"/>
          </a:xfrm>
        </p:grpSpPr>
        <p:pic>
          <p:nvPicPr>
            <p:cNvPr id="1028" name="Picture 35" descr="31u_bnrz[1]"/>
            <p:cNvPicPr/>
            <p:nvPr/>
          </p:nvPicPr>
          <p:blipFill>
            <a:blip r:embed="rId4"/>
            <a:stretch/>
          </p:blipFill>
          <p:spPr>
            <a:xfrm flipH="1" rot="5400000">
              <a:off x="1565280" y="5620680"/>
              <a:ext cx="363600" cy="1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AutoShape 36"/>
            <p:cNvSpPr/>
            <p:nvPr/>
          </p:nvSpPr>
          <p:spPr>
            <a:xfrm flipH="1">
              <a:off x="1327320" y="5143680"/>
              <a:ext cx="839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7"/>
            <p:cNvSpPr/>
            <p:nvPr/>
          </p:nvSpPr>
          <p:spPr>
            <a:xfrm flipH="1">
              <a:off x="1873440" y="5210640"/>
              <a:ext cx="118080" cy="174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"/>
            <p:cNvSpPr/>
            <p:nvPr/>
          </p:nvSpPr>
          <p:spPr>
            <a:xfrm flipH="1">
              <a:off x="1716840" y="5208840"/>
              <a:ext cx="74160" cy="135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9"/>
            <p:cNvSpPr/>
            <p:nvPr/>
          </p:nvSpPr>
          <p:spPr>
            <a:xfrm flipH="1">
              <a:off x="1874880" y="5176080"/>
              <a:ext cx="189360" cy="284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0"/>
            <p:cNvSpPr/>
            <p:nvPr/>
          </p:nvSpPr>
          <p:spPr>
            <a:xfrm flipH="1">
              <a:off x="1632240" y="5167800"/>
              <a:ext cx="165240" cy="188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41"/>
            <p:cNvSpPr/>
            <p:nvPr/>
          </p:nvSpPr>
          <p:spPr>
            <a:xfrm flipH="1">
              <a:off x="2068560" y="5253480"/>
              <a:ext cx="68400" cy="1800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2"/>
            <p:cNvSpPr/>
            <p:nvPr/>
          </p:nvSpPr>
          <p:spPr>
            <a:xfrm flipH="1">
              <a:off x="1517040" y="5154120"/>
              <a:ext cx="143640" cy="2332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3"/>
            <p:cNvSpPr/>
            <p:nvPr/>
          </p:nvSpPr>
          <p:spPr>
            <a:xfrm flipH="1">
              <a:off x="1772280" y="5427000"/>
              <a:ext cx="4824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4"/>
            <p:cNvSpPr/>
            <p:nvPr/>
          </p:nvSpPr>
          <p:spPr>
            <a:xfrm flipH="1">
              <a:off x="1816560" y="5351400"/>
              <a:ext cx="252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5"/>
            <p:cNvSpPr/>
            <p:nvPr/>
          </p:nvSpPr>
          <p:spPr>
            <a:xfrm flipH="1">
              <a:off x="1841040" y="5299560"/>
              <a:ext cx="223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6"/>
            <p:cNvSpPr/>
            <p:nvPr/>
          </p:nvSpPr>
          <p:spPr>
            <a:xfrm flipH="1">
              <a:off x="1851840" y="5265360"/>
              <a:ext cx="2988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7"/>
            <p:cNvSpPr/>
            <p:nvPr/>
          </p:nvSpPr>
          <p:spPr>
            <a:xfrm flipH="1">
              <a:off x="1907640" y="5221080"/>
              <a:ext cx="115200" cy="17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8"/>
            <p:cNvSpPr/>
            <p:nvPr/>
          </p:nvSpPr>
          <p:spPr>
            <a:xfrm flipH="1">
              <a:off x="1747800" y="5218920"/>
              <a:ext cx="756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9"/>
            <p:cNvSpPr/>
            <p:nvPr/>
          </p:nvSpPr>
          <p:spPr>
            <a:xfrm flipH="1">
              <a:off x="1909080" y="5188320"/>
              <a:ext cx="18936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0"/>
            <p:cNvSpPr/>
            <p:nvPr/>
          </p:nvSpPr>
          <p:spPr>
            <a:xfrm flipH="1">
              <a:off x="1665000" y="5179680"/>
              <a:ext cx="165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51"/>
            <p:cNvSpPr/>
            <p:nvPr/>
          </p:nvSpPr>
          <p:spPr>
            <a:xfrm flipH="1">
              <a:off x="2095560" y="5282640"/>
              <a:ext cx="68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2"/>
            <p:cNvSpPr/>
            <p:nvPr/>
          </p:nvSpPr>
          <p:spPr>
            <a:xfrm flipH="1">
              <a:off x="1549800" y="5167800"/>
              <a:ext cx="144000" cy="23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Line 53"/>
          <p:cNvSpPr/>
          <p:nvPr/>
        </p:nvSpPr>
        <p:spPr>
          <a:xfrm>
            <a:off x="1787400" y="5707080"/>
            <a:ext cx="846360" cy="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54"/>
          <p:cNvSpPr/>
          <p:nvPr/>
        </p:nvSpPr>
        <p:spPr>
          <a:xfrm flipH="1">
            <a:off x="3056040" y="5668920"/>
            <a:ext cx="80640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5"/>
          <p:cNvSpPr/>
          <p:nvPr/>
        </p:nvSpPr>
        <p:spPr>
          <a:xfrm flipV="1">
            <a:off x="2978280" y="5745240"/>
            <a:ext cx="922320" cy="15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56"/>
          <p:cNvSpPr/>
          <p:nvPr/>
        </p:nvSpPr>
        <p:spPr>
          <a:xfrm flipH="1">
            <a:off x="3017520" y="5821200"/>
            <a:ext cx="958680" cy="27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7"/>
          <p:cNvSpPr/>
          <p:nvPr/>
        </p:nvSpPr>
        <p:spPr>
          <a:xfrm>
            <a:off x="4764240" y="5046840"/>
            <a:ext cx="3770280" cy="1099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acon frames from 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 request from ho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response from 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Within the Same Sub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1 remains in same IP subnet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address of the host can remain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data transfers can continue uninterrup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1 recognizes the need to chang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1 detects a weakening sig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s scanning for strong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hanges APs with same SSI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1 disassociates from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ssociates with o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witch learns new locatio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learning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C39-6493-4739-8B7F-3A93955DE09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94"/>
          <p:cNvSpPr/>
          <p:nvPr/>
        </p:nvSpPr>
        <p:spPr>
          <a:xfrm>
            <a:off x="8604360" y="6348240"/>
            <a:ext cx="26964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2"/>
          <p:cNvSpPr/>
          <p:nvPr/>
        </p:nvSpPr>
        <p:spPr>
          <a:xfrm>
            <a:off x="6769080" y="4508640"/>
            <a:ext cx="2335320" cy="2224080"/>
          </a:xfrm>
          <a:prstGeom prst="ellipse">
            <a:avLst/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"/>
          <p:cNvSpPr/>
          <p:nvPr/>
        </p:nvSpPr>
        <p:spPr>
          <a:xfrm>
            <a:off x="4913280" y="4443480"/>
            <a:ext cx="2335320" cy="2224080"/>
          </a:xfrm>
          <a:prstGeom prst="ellipse">
            <a:avLst/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4"/>
          <p:cNvGrpSpPr/>
          <p:nvPr/>
        </p:nvGrpSpPr>
        <p:grpSpPr>
          <a:xfrm>
            <a:off x="5119560" y="5621400"/>
            <a:ext cx="617400" cy="653760"/>
            <a:chOff x="5119560" y="5621400"/>
            <a:chExt cx="617400" cy="653760"/>
          </a:xfrm>
        </p:grpSpPr>
        <p:pic>
          <p:nvPicPr>
            <p:cNvPr id="1058" name="Object 6" descr=""/>
            <p:cNvPicPr/>
            <p:nvPr/>
          </p:nvPicPr>
          <p:blipFill>
            <a:blip r:embed="rId1"/>
            <a:stretch/>
          </p:blipFill>
          <p:spPr>
            <a:xfrm>
              <a:off x="5119560" y="5621400"/>
              <a:ext cx="574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Object 7" descr=""/>
            <p:cNvPicPr/>
            <p:nvPr/>
          </p:nvPicPr>
          <p:blipFill>
            <a:blip r:embed="rId2"/>
            <a:stretch/>
          </p:blipFill>
          <p:spPr>
            <a:xfrm>
              <a:off x="5210640" y="5792760"/>
              <a:ext cx="526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7"/>
          <p:cNvGrpSpPr/>
          <p:nvPr/>
        </p:nvGrpSpPr>
        <p:grpSpPr>
          <a:xfrm>
            <a:off x="8142120" y="4672080"/>
            <a:ext cx="618480" cy="653760"/>
            <a:chOff x="8142120" y="4672080"/>
            <a:chExt cx="618480" cy="653760"/>
          </a:xfrm>
        </p:grpSpPr>
        <p:pic>
          <p:nvPicPr>
            <p:cNvPr id="1061" name="Object 4" descr=""/>
            <p:cNvPicPr/>
            <p:nvPr/>
          </p:nvPicPr>
          <p:blipFill>
            <a:blip r:embed="rId3"/>
            <a:stretch/>
          </p:blipFill>
          <p:spPr>
            <a:xfrm>
              <a:off x="8142120" y="46720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62" name="Object 5"/>
            <p:cNvGraphicFramePr/>
            <p:nvPr/>
          </p:nvGraphicFramePr>
          <p:xfrm>
            <a:off x="8233200" y="4843440"/>
            <a:ext cx="52740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3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33200" y="4843440"/>
                      <a:ext cx="5274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4" name="Text Box 10"/>
          <p:cNvSpPr/>
          <p:nvPr/>
        </p:nvSpPr>
        <p:spPr>
          <a:xfrm>
            <a:off x="6949080" y="3741840"/>
            <a:ext cx="1194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ub or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6149880" y="4640400"/>
            <a:ext cx="68760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>
            <a:off x="7112160" y="4508640"/>
            <a:ext cx="86976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"/>
          <p:cNvSpPr/>
          <p:nvPr/>
        </p:nvSpPr>
        <p:spPr>
          <a:xfrm flipV="1">
            <a:off x="6997680" y="365904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7696080" y="5651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5"/>
          <p:cNvSpPr/>
          <p:nvPr/>
        </p:nvSpPr>
        <p:spPr>
          <a:xfrm>
            <a:off x="6400800" y="5214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6180120" y="5183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7"/>
          <p:cNvSpPr/>
          <p:nvPr/>
        </p:nvSpPr>
        <p:spPr>
          <a:xfrm>
            <a:off x="6348960" y="6186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8"/>
          <p:cNvSpPr/>
          <p:nvPr/>
        </p:nvSpPr>
        <p:spPr>
          <a:xfrm>
            <a:off x="8407440" y="6033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7979760" y="6199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0"/>
          <p:cNvSpPr/>
          <p:nvPr/>
        </p:nvSpPr>
        <p:spPr>
          <a:xfrm>
            <a:off x="5488920" y="4695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1"/>
          <p:cNvGrpSpPr/>
          <p:nvPr/>
        </p:nvGrpSpPr>
        <p:grpSpPr>
          <a:xfrm>
            <a:off x="6699240" y="4378320"/>
            <a:ext cx="412920" cy="283680"/>
            <a:chOff x="6699240" y="4378320"/>
            <a:chExt cx="412920" cy="283680"/>
          </a:xfrm>
        </p:grpSpPr>
        <p:sp>
          <p:nvSpPr>
            <p:cNvPr id="1076" name="Line 22"/>
            <p:cNvSpPr/>
            <p:nvPr/>
          </p:nvSpPr>
          <p:spPr>
            <a:xfrm>
              <a:off x="7112160" y="4378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23"/>
            <p:cNvSpPr/>
            <p:nvPr/>
          </p:nvSpPr>
          <p:spPr>
            <a:xfrm>
              <a:off x="6699240" y="4573800"/>
              <a:ext cx="382680" cy="88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Group 24"/>
            <p:cNvGrpSpPr/>
            <p:nvPr/>
          </p:nvGrpSpPr>
          <p:grpSpPr>
            <a:xfrm>
              <a:off x="6905520" y="4443480"/>
              <a:ext cx="156240" cy="123480"/>
              <a:chOff x="6905520" y="4443480"/>
              <a:chExt cx="156240" cy="123480"/>
            </a:xfrm>
          </p:grpSpPr>
          <p:sp>
            <p:nvSpPr>
              <p:cNvPr id="1079" name="Line 25"/>
              <p:cNvSpPr/>
              <p:nvPr/>
            </p:nvSpPr>
            <p:spPr>
              <a:xfrm>
                <a:off x="6931440" y="4443480"/>
                <a:ext cx="1040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6"/>
              <p:cNvSpPr/>
              <p:nvPr/>
            </p:nvSpPr>
            <p:spPr>
              <a:xfrm flipH="1">
                <a:off x="6905520" y="4443480"/>
                <a:ext cx="1562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1" name="Group 27"/>
          <p:cNvGrpSpPr/>
          <p:nvPr/>
        </p:nvGrpSpPr>
        <p:grpSpPr>
          <a:xfrm>
            <a:off x="7615080" y="5064120"/>
            <a:ext cx="843120" cy="599760"/>
            <a:chOff x="7615080" y="5064120"/>
            <a:chExt cx="843120" cy="599760"/>
          </a:xfrm>
        </p:grpSpPr>
        <p:pic>
          <p:nvPicPr>
            <p:cNvPr id="1082" name="Picture 28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7891920" y="542268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AutoShape 29"/>
            <p:cNvSpPr/>
            <p:nvPr/>
          </p:nvSpPr>
          <p:spPr>
            <a:xfrm>
              <a:off x="7615080" y="5064120"/>
              <a:ext cx="843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30"/>
            <p:cNvSpPr/>
            <p:nvPr/>
          </p:nvSpPr>
          <p:spPr>
            <a:xfrm>
              <a:off x="7791120" y="5117040"/>
              <a:ext cx="118440" cy="138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1"/>
            <p:cNvSpPr/>
            <p:nvPr/>
          </p:nvSpPr>
          <p:spPr>
            <a:xfrm>
              <a:off x="7992720" y="5115960"/>
              <a:ext cx="74520" cy="107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2"/>
            <p:cNvSpPr/>
            <p:nvPr/>
          </p:nvSpPr>
          <p:spPr>
            <a:xfrm>
              <a:off x="7718040" y="5090040"/>
              <a:ext cx="190080" cy="2264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3"/>
            <p:cNvSpPr/>
            <p:nvPr/>
          </p:nvSpPr>
          <p:spPr>
            <a:xfrm>
              <a:off x="7985520" y="5083200"/>
              <a:ext cx="165960" cy="149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4"/>
            <p:cNvSpPr/>
            <p:nvPr/>
          </p:nvSpPr>
          <p:spPr>
            <a:xfrm>
              <a:off x="7644960" y="5151240"/>
              <a:ext cx="68760" cy="142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5"/>
            <p:cNvSpPr/>
            <p:nvPr/>
          </p:nvSpPr>
          <p:spPr>
            <a:xfrm>
              <a:off x="8123040" y="5072400"/>
              <a:ext cx="144360" cy="185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6"/>
            <p:cNvSpPr/>
            <p:nvPr/>
          </p:nvSpPr>
          <p:spPr>
            <a:xfrm>
              <a:off x="7962840" y="5289120"/>
              <a:ext cx="4860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7"/>
            <p:cNvSpPr/>
            <p:nvPr/>
          </p:nvSpPr>
          <p:spPr>
            <a:xfrm>
              <a:off x="7941240" y="5229000"/>
              <a:ext cx="255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8"/>
            <p:cNvSpPr/>
            <p:nvPr/>
          </p:nvSpPr>
          <p:spPr>
            <a:xfrm>
              <a:off x="7920000" y="5187960"/>
              <a:ext cx="2268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9"/>
            <p:cNvSpPr/>
            <p:nvPr/>
          </p:nvSpPr>
          <p:spPr>
            <a:xfrm>
              <a:off x="7901280" y="5160600"/>
              <a:ext cx="298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0"/>
            <p:cNvSpPr/>
            <p:nvPr/>
          </p:nvSpPr>
          <p:spPr>
            <a:xfrm>
              <a:off x="7759800" y="5125680"/>
              <a:ext cx="11556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1"/>
            <p:cNvSpPr/>
            <p:nvPr/>
          </p:nvSpPr>
          <p:spPr>
            <a:xfrm>
              <a:off x="7959960" y="5123880"/>
              <a:ext cx="75600" cy="10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2"/>
            <p:cNvSpPr/>
            <p:nvPr/>
          </p:nvSpPr>
          <p:spPr>
            <a:xfrm>
              <a:off x="7683840" y="5099400"/>
              <a:ext cx="190080" cy="22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3"/>
            <p:cNvSpPr/>
            <p:nvPr/>
          </p:nvSpPr>
          <p:spPr>
            <a:xfrm>
              <a:off x="7952760" y="5092560"/>
              <a:ext cx="16596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4"/>
            <p:cNvSpPr/>
            <p:nvPr/>
          </p:nvSpPr>
          <p:spPr>
            <a:xfrm>
              <a:off x="7617960" y="5174280"/>
              <a:ext cx="687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"/>
            <p:cNvSpPr/>
            <p:nvPr/>
          </p:nvSpPr>
          <p:spPr>
            <a:xfrm>
              <a:off x="8089920" y="5083200"/>
              <a:ext cx="14472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46"/>
          <p:cNvGrpSpPr/>
          <p:nvPr/>
        </p:nvGrpSpPr>
        <p:grpSpPr>
          <a:xfrm>
            <a:off x="5691240" y="5052960"/>
            <a:ext cx="844560" cy="599760"/>
            <a:chOff x="5691240" y="5052960"/>
            <a:chExt cx="844560" cy="599760"/>
          </a:xfrm>
        </p:grpSpPr>
        <p:pic>
          <p:nvPicPr>
            <p:cNvPr id="1101" name="Picture 47" descr="31u_bnrz[1]"/>
            <p:cNvPicPr/>
            <p:nvPr/>
          </p:nvPicPr>
          <p:blipFill>
            <a:blip r:embed="rId7"/>
            <a:stretch/>
          </p:blipFill>
          <p:spPr>
            <a:xfrm rot="16200000">
              <a:off x="5968800" y="54115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AutoShape 48"/>
            <p:cNvSpPr/>
            <p:nvPr/>
          </p:nvSpPr>
          <p:spPr>
            <a:xfrm>
              <a:off x="5691240" y="50529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5867640" y="5105880"/>
              <a:ext cx="118800" cy="138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50"/>
            <p:cNvSpPr/>
            <p:nvPr/>
          </p:nvSpPr>
          <p:spPr>
            <a:xfrm>
              <a:off x="6069600" y="5104800"/>
              <a:ext cx="74520" cy="107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5794560" y="5078880"/>
              <a:ext cx="190440" cy="2264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52"/>
            <p:cNvSpPr/>
            <p:nvPr/>
          </p:nvSpPr>
          <p:spPr>
            <a:xfrm>
              <a:off x="6062400" y="5072040"/>
              <a:ext cx="166320" cy="149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3"/>
            <p:cNvSpPr/>
            <p:nvPr/>
          </p:nvSpPr>
          <p:spPr>
            <a:xfrm>
              <a:off x="5721120" y="5140080"/>
              <a:ext cx="68760" cy="142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4"/>
            <p:cNvSpPr/>
            <p:nvPr/>
          </p:nvSpPr>
          <p:spPr>
            <a:xfrm>
              <a:off x="6200280" y="5061240"/>
              <a:ext cx="144360" cy="185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5"/>
            <p:cNvSpPr/>
            <p:nvPr/>
          </p:nvSpPr>
          <p:spPr>
            <a:xfrm>
              <a:off x="6039720" y="5277960"/>
              <a:ext cx="4860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6"/>
            <p:cNvSpPr/>
            <p:nvPr/>
          </p:nvSpPr>
          <p:spPr>
            <a:xfrm>
              <a:off x="6018120" y="5217840"/>
              <a:ext cx="255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7"/>
            <p:cNvSpPr/>
            <p:nvPr/>
          </p:nvSpPr>
          <p:spPr>
            <a:xfrm>
              <a:off x="5996520" y="5176800"/>
              <a:ext cx="2268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5977800" y="5149440"/>
              <a:ext cx="298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9"/>
            <p:cNvSpPr/>
            <p:nvPr/>
          </p:nvSpPr>
          <p:spPr>
            <a:xfrm>
              <a:off x="5835960" y="5114520"/>
              <a:ext cx="11592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0"/>
            <p:cNvSpPr/>
            <p:nvPr/>
          </p:nvSpPr>
          <p:spPr>
            <a:xfrm>
              <a:off x="6036480" y="5112720"/>
              <a:ext cx="75960" cy="10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1"/>
            <p:cNvSpPr/>
            <p:nvPr/>
          </p:nvSpPr>
          <p:spPr>
            <a:xfrm>
              <a:off x="5760000" y="5088240"/>
              <a:ext cx="190440" cy="22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2"/>
            <p:cNvSpPr/>
            <p:nvPr/>
          </p:nvSpPr>
          <p:spPr>
            <a:xfrm>
              <a:off x="6029640" y="5081400"/>
              <a:ext cx="16632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3"/>
            <p:cNvSpPr/>
            <p:nvPr/>
          </p:nvSpPr>
          <p:spPr>
            <a:xfrm>
              <a:off x="5694120" y="5163120"/>
              <a:ext cx="687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4"/>
            <p:cNvSpPr/>
            <p:nvPr/>
          </p:nvSpPr>
          <p:spPr>
            <a:xfrm>
              <a:off x="6167160" y="5072040"/>
              <a:ext cx="14472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65"/>
          <p:cNvGrpSpPr/>
          <p:nvPr/>
        </p:nvGrpSpPr>
        <p:grpSpPr>
          <a:xfrm>
            <a:off x="6230520" y="5619600"/>
            <a:ext cx="1325520" cy="588240"/>
            <a:chOff x="6230520" y="5619600"/>
            <a:chExt cx="1325520" cy="588240"/>
          </a:xfrm>
        </p:grpSpPr>
        <p:grpSp>
          <p:nvGrpSpPr>
            <p:cNvPr id="1120" name="Group 66"/>
            <p:cNvGrpSpPr/>
            <p:nvPr/>
          </p:nvGrpSpPr>
          <p:grpSpPr>
            <a:xfrm>
              <a:off x="6435360" y="5619600"/>
              <a:ext cx="635040" cy="588240"/>
              <a:chOff x="6435360" y="5619600"/>
              <a:chExt cx="635040" cy="588240"/>
            </a:xfrm>
          </p:grpSpPr>
          <p:pic>
            <p:nvPicPr>
              <p:cNvPr id="1121" name="Object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35360" y="5619600"/>
                <a:ext cx="59112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Object 3" descr=""/>
              <p:cNvPicPr/>
              <p:nvPr/>
            </p:nvPicPr>
            <p:blipFill>
              <a:blip r:embed="rId9"/>
              <a:stretch/>
            </p:blipFill>
            <p:spPr>
              <a:xfrm>
                <a:off x="6528960" y="5773680"/>
                <a:ext cx="541440" cy="43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3" name="Line 69"/>
            <p:cNvSpPr/>
            <p:nvPr/>
          </p:nvSpPr>
          <p:spPr>
            <a:xfrm>
              <a:off x="7072200" y="5955480"/>
              <a:ext cx="483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0"/>
            <p:cNvSpPr/>
            <p:nvPr/>
          </p:nvSpPr>
          <p:spPr>
            <a:xfrm flipH="1">
              <a:off x="6297840" y="583056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71"/>
            <p:cNvSpPr/>
            <p:nvPr/>
          </p:nvSpPr>
          <p:spPr>
            <a:xfrm flipH="1">
              <a:off x="6321960" y="5928120"/>
              <a:ext cx="3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72"/>
            <p:cNvSpPr/>
            <p:nvPr/>
          </p:nvSpPr>
          <p:spPr>
            <a:xfrm flipH="1">
              <a:off x="6230520" y="601452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74"/>
          <p:cNvGrpSpPr/>
          <p:nvPr/>
        </p:nvGrpSpPr>
        <p:grpSpPr>
          <a:xfrm>
            <a:off x="6607080" y="2971800"/>
            <a:ext cx="1003680" cy="704520"/>
            <a:chOff x="6607080" y="2971800"/>
            <a:chExt cx="1003680" cy="704520"/>
          </a:xfrm>
        </p:grpSpPr>
        <p:grpSp>
          <p:nvGrpSpPr>
            <p:cNvPr id="1128" name="Group 75"/>
            <p:cNvGrpSpPr/>
            <p:nvPr/>
          </p:nvGrpSpPr>
          <p:grpSpPr>
            <a:xfrm>
              <a:off x="6772320" y="3443400"/>
              <a:ext cx="500040" cy="232920"/>
              <a:chOff x="6772320" y="3443400"/>
              <a:chExt cx="500040" cy="232920"/>
            </a:xfrm>
          </p:grpSpPr>
          <p:sp>
            <p:nvSpPr>
              <p:cNvPr id="1129" name="Oval 76"/>
              <p:cNvSpPr/>
              <p:nvPr/>
            </p:nvSpPr>
            <p:spPr>
              <a:xfrm>
                <a:off x="6776280" y="3547440"/>
                <a:ext cx="495720" cy="1288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77"/>
              <p:cNvSpPr/>
              <p:nvPr/>
            </p:nvSpPr>
            <p:spPr>
              <a:xfrm>
                <a:off x="6776280" y="353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78"/>
              <p:cNvSpPr/>
              <p:nvPr/>
            </p:nvSpPr>
            <p:spPr>
              <a:xfrm>
                <a:off x="7272360" y="353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79"/>
              <p:cNvSpPr/>
              <p:nvPr/>
            </p:nvSpPr>
            <p:spPr>
              <a:xfrm>
                <a:off x="6776280" y="3536280"/>
                <a:ext cx="491400" cy="78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80"/>
              <p:cNvSpPr/>
              <p:nvPr/>
            </p:nvSpPr>
            <p:spPr>
              <a:xfrm>
                <a:off x="6772320" y="3443400"/>
                <a:ext cx="495360" cy="150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Group 81"/>
              <p:cNvGrpSpPr/>
              <p:nvPr/>
            </p:nvGrpSpPr>
            <p:grpSpPr>
              <a:xfrm>
                <a:off x="6891480" y="3476160"/>
                <a:ext cx="245520" cy="88200"/>
                <a:chOff x="6891480" y="3476160"/>
                <a:chExt cx="245520" cy="88200"/>
              </a:xfrm>
            </p:grpSpPr>
            <p:sp>
              <p:nvSpPr>
                <p:cNvPr id="1135" name="Line 82"/>
                <p:cNvSpPr/>
                <p:nvPr/>
              </p:nvSpPr>
              <p:spPr>
                <a:xfrm flipV="1">
                  <a:off x="6891480" y="3476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83"/>
                <p:cNvSpPr/>
                <p:nvPr/>
              </p:nvSpPr>
              <p:spPr>
                <a:xfrm>
                  <a:off x="7059960" y="3564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84"/>
                <p:cNvSpPr/>
                <p:nvPr/>
              </p:nvSpPr>
              <p:spPr>
                <a:xfrm>
                  <a:off x="6972120" y="3478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Group 85"/>
              <p:cNvGrpSpPr/>
              <p:nvPr/>
            </p:nvGrpSpPr>
            <p:grpSpPr>
              <a:xfrm>
                <a:off x="6891480" y="3475440"/>
                <a:ext cx="245520" cy="88200"/>
                <a:chOff x="6891480" y="3475440"/>
                <a:chExt cx="245520" cy="88200"/>
              </a:xfrm>
            </p:grpSpPr>
            <p:sp>
              <p:nvSpPr>
                <p:cNvPr id="1139" name="Line 86"/>
                <p:cNvSpPr/>
                <p:nvPr/>
              </p:nvSpPr>
              <p:spPr>
                <a:xfrm>
                  <a:off x="6891480" y="3561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87"/>
                <p:cNvSpPr/>
                <p:nvPr/>
              </p:nvSpPr>
              <p:spPr>
                <a:xfrm>
                  <a:off x="7059960" y="3475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88"/>
                <p:cNvSpPr/>
                <p:nvPr/>
              </p:nvSpPr>
              <p:spPr>
                <a:xfrm flipV="1">
                  <a:off x="6972120" y="347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2" name="Text Box 89"/>
            <p:cNvSpPr/>
            <p:nvPr/>
          </p:nvSpPr>
          <p:spPr>
            <a:xfrm>
              <a:off x="6607080" y="2971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spread Deploy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95280"/>
            <a:ext cx="4921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orldwide cellular subscriber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3:  34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5:  more than 2 b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9:  more than 4 b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 landline subscri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495320" y="3608280"/>
            <a:ext cx="441972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ireless local area network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reless adapters built into laptops, tablets, &amp; ph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than 220,000 known WiFi locations in 134 cou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ly many, many more (e.g., home networks, corporate network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DF57-8D4B-4DF1-939D-7098C6F3F14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8" descr="Mobile phone tower"/>
          <p:cNvPicPr/>
          <p:nvPr/>
        </p:nvPicPr>
        <p:blipFill>
          <a:blip r:embed="rId1"/>
          <a:stretch/>
        </p:blipFill>
        <p:spPr>
          <a:xfrm>
            <a:off x="687240" y="3657600"/>
            <a:ext cx="1619280" cy="2438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ell_phone"/>
          <p:cNvPicPr/>
          <p:nvPr/>
        </p:nvPicPr>
        <p:blipFill>
          <a:blip r:embed="rId2"/>
          <a:stretch/>
        </p:blipFill>
        <p:spPr>
          <a:xfrm>
            <a:off x="2805120" y="4581360"/>
            <a:ext cx="1281240" cy="2006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wireless-network-new-4"/>
          <p:cNvPicPr/>
          <p:nvPr/>
        </p:nvPicPr>
        <p:blipFill>
          <a:blip r:embed="rId3"/>
          <a:stretch/>
        </p:blipFill>
        <p:spPr>
          <a:xfrm>
            <a:off x="7337520" y="1163520"/>
            <a:ext cx="1574640" cy="1530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mini-Laptop-Sony-Vaio-Vgn"/>
          <p:cNvPicPr/>
          <p:nvPr/>
        </p:nvPicPr>
        <p:blipFill>
          <a:blip r:embed="rId4"/>
          <a:stretch/>
        </p:blipFill>
        <p:spPr>
          <a:xfrm>
            <a:off x="5416560" y="2122560"/>
            <a:ext cx="172872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: 802.11 Wireless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A82-16B9-4BD1-A05D-C8EFAA9122D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802.11 LAN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6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BF71-322E-42BF-8264-1BE28684A1B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5224320" y="1422360"/>
            <a:ext cx="3691080" cy="31496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Access Point (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 station that communicates with the wireless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Basic Service Set (B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age of one 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acts as the ma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d by an “network name” known as an SS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4"/>
          <p:cNvSpPr/>
          <p:nvPr/>
        </p:nvSpPr>
        <p:spPr>
          <a:xfrm>
            <a:off x="2516040" y="423072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5"/>
          <p:cNvSpPr/>
          <p:nvPr/>
        </p:nvSpPr>
        <p:spPr>
          <a:xfrm>
            <a:off x="474840" y="249228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6"/>
          <p:cNvGrpSpPr/>
          <p:nvPr/>
        </p:nvGrpSpPr>
        <p:grpSpPr>
          <a:xfrm>
            <a:off x="3154320" y="3606840"/>
            <a:ext cx="417600" cy="191520"/>
            <a:chOff x="3154320" y="3606840"/>
            <a:chExt cx="417600" cy="191520"/>
          </a:xfrm>
        </p:grpSpPr>
        <p:sp>
          <p:nvSpPr>
            <p:cNvPr id="1151" name="Oval 7"/>
            <p:cNvSpPr/>
            <p:nvPr/>
          </p:nvSpPr>
          <p:spPr>
            <a:xfrm>
              <a:off x="3157560" y="3692160"/>
              <a:ext cx="414000" cy="106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8"/>
            <p:cNvSpPr/>
            <p:nvPr/>
          </p:nvSpPr>
          <p:spPr>
            <a:xfrm>
              <a:off x="315756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9"/>
            <p:cNvSpPr/>
            <p:nvPr/>
          </p:nvSpPr>
          <p:spPr>
            <a:xfrm>
              <a:off x="357192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"/>
            <p:cNvSpPr/>
            <p:nvPr/>
          </p:nvSpPr>
          <p:spPr>
            <a:xfrm>
              <a:off x="3157560" y="3683520"/>
              <a:ext cx="410400" cy="64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1"/>
            <p:cNvSpPr/>
            <p:nvPr/>
          </p:nvSpPr>
          <p:spPr>
            <a:xfrm>
              <a:off x="3154320" y="3606840"/>
              <a:ext cx="414000" cy="123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12"/>
            <p:cNvGrpSpPr/>
            <p:nvPr/>
          </p:nvGrpSpPr>
          <p:grpSpPr>
            <a:xfrm>
              <a:off x="3253680" y="3634200"/>
              <a:ext cx="204840" cy="72360"/>
              <a:chOff x="3253680" y="3634200"/>
              <a:chExt cx="204840" cy="72360"/>
            </a:xfrm>
          </p:grpSpPr>
          <p:sp>
            <p:nvSpPr>
              <p:cNvPr id="1157" name="Line 13"/>
              <p:cNvSpPr/>
              <p:nvPr/>
            </p:nvSpPr>
            <p:spPr>
              <a:xfrm flipV="1">
                <a:off x="3253680" y="363420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4"/>
              <p:cNvSpPr/>
              <p:nvPr/>
            </p:nvSpPr>
            <p:spPr>
              <a:xfrm>
                <a:off x="3394080" y="37065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5"/>
              <p:cNvSpPr/>
              <p:nvPr/>
            </p:nvSpPr>
            <p:spPr>
              <a:xfrm>
                <a:off x="3321000" y="363564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3253680" y="3632760"/>
              <a:ext cx="204840" cy="72360"/>
              <a:chOff x="3253680" y="3632760"/>
              <a:chExt cx="204840" cy="72360"/>
            </a:xfrm>
          </p:grpSpPr>
          <p:sp>
            <p:nvSpPr>
              <p:cNvPr id="1161" name="Line 17"/>
              <p:cNvSpPr/>
              <p:nvPr/>
            </p:nvSpPr>
            <p:spPr>
              <a:xfrm>
                <a:off x="3253680" y="370368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18"/>
              <p:cNvSpPr/>
              <p:nvPr/>
            </p:nvSpPr>
            <p:spPr>
              <a:xfrm>
                <a:off x="3394080" y="36327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19"/>
              <p:cNvSpPr/>
              <p:nvPr/>
            </p:nvSpPr>
            <p:spPr>
              <a:xfrm flipV="1">
                <a:off x="3321000" y="363276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4" name="Group 20"/>
          <p:cNvGrpSpPr/>
          <p:nvPr/>
        </p:nvGrpSpPr>
        <p:grpSpPr>
          <a:xfrm>
            <a:off x="1036800" y="3576600"/>
            <a:ext cx="415440" cy="509400"/>
            <a:chOff x="1036800" y="3576600"/>
            <a:chExt cx="415440" cy="509400"/>
          </a:xfrm>
        </p:grpSpPr>
        <p:pic>
          <p:nvPicPr>
            <p:cNvPr id="1165" name="Object 14" descr=""/>
            <p:cNvPicPr/>
            <p:nvPr/>
          </p:nvPicPr>
          <p:blipFill>
            <a:blip r:embed="rId1"/>
            <a:stretch/>
          </p:blipFill>
          <p:spPr>
            <a:xfrm>
              <a:off x="1036800" y="357660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Object 15" descr=""/>
            <p:cNvPicPr/>
            <p:nvPr/>
          </p:nvPicPr>
          <p:blipFill>
            <a:blip r:embed="rId2"/>
            <a:stretch/>
          </p:blipFill>
          <p:spPr>
            <a:xfrm>
              <a:off x="1098000" y="371016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Text Box 23"/>
          <p:cNvSpPr/>
          <p:nvPr/>
        </p:nvSpPr>
        <p:spPr>
          <a:xfrm>
            <a:off x="1058760" y="44085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S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4"/>
          <p:cNvSpPr/>
          <p:nvPr/>
        </p:nvSpPr>
        <p:spPr>
          <a:xfrm>
            <a:off x="3344760" y="3794040"/>
            <a:ext cx="19224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25"/>
          <p:cNvSpPr/>
          <p:nvPr/>
        </p:nvSpPr>
        <p:spPr>
          <a:xfrm>
            <a:off x="213192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6"/>
          <p:cNvSpPr/>
          <p:nvPr/>
        </p:nvSpPr>
        <p:spPr>
          <a:xfrm>
            <a:off x="3254760" y="6188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S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7"/>
          <p:cNvSpPr/>
          <p:nvPr/>
        </p:nvSpPr>
        <p:spPr>
          <a:xfrm flipV="1">
            <a:off x="3317760" y="2684520"/>
            <a:ext cx="21456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28"/>
          <p:cNvGrpSpPr/>
          <p:nvPr/>
        </p:nvGrpSpPr>
        <p:grpSpPr>
          <a:xfrm>
            <a:off x="2589120" y="1503360"/>
            <a:ext cx="1978200" cy="1444680"/>
            <a:chOff x="2589120" y="1503360"/>
            <a:chExt cx="1978200" cy="1444680"/>
          </a:xfrm>
        </p:grpSpPr>
        <p:sp>
          <p:nvSpPr>
            <p:cNvPr id="1173" name="Freeform 29"/>
            <p:cNvSpPr/>
            <p:nvPr/>
          </p:nvSpPr>
          <p:spPr>
            <a:xfrm>
              <a:off x="2589120" y="1503360"/>
              <a:ext cx="1978200" cy="1444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30"/>
            <p:cNvSpPr/>
            <p:nvPr/>
          </p:nvSpPr>
          <p:spPr>
            <a:xfrm>
              <a:off x="3023280" y="20030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31"/>
          <p:cNvSpPr/>
          <p:nvPr/>
        </p:nvSpPr>
        <p:spPr>
          <a:xfrm>
            <a:off x="3489120" y="3429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,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32"/>
          <p:cNvGrpSpPr/>
          <p:nvPr/>
        </p:nvGrpSpPr>
        <p:grpSpPr>
          <a:xfrm>
            <a:off x="1665360" y="3263760"/>
            <a:ext cx="782640" cy="919440"/>
            <a:chOff x="1665360" y="3263760"/>
            <a:chExt cx="782640" cy="919440"/>
          </a:xfrm>
        </p:grpSpPr>
        <p:sp>
          <p:nvSpPr>
            <p:cNvPr id="1177" name="Text Box 33"/>
            <p:cNvSpPr/>
            <p:nvPr/>
          </p:nvSpPr>
          <p:spPr>
            <a:xfrm>
              <a:off x="1842120" y="3814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34"/>
            <p:cNvGrpSpPr/>
            <p:nvPr/>
          </p:nvGrpSpPr>
          <p:grpSpPr>
            <a:xfrm>
              <a:off x="1665360" y="3263760"/>
              <a:ext cx="782640" cy="571320"/>
              <a:chOff x="1665360" y="3263760"/>
              <a:chExt cx="782640" cy="571320"/>
            </a:xfrm>
          </p:grpSpPr>
          <p:pic>
            <p:nvPicPr>
              <p:cNvPr id="1179" name="Picture 35" descr="31u_bnrz[1]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1918800" y="36079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AutoShape 36"/>
              <p:cNvSpPr/>
              <p:nvPr/>
            </p:nvSpPr>
            <p:spPr>
              <a:xfrm>
                <a:off x="1665360" y="32637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37"/>
              <p:cNvSpPr/>
              <p:nvPr/>
            </p:nvSpPr>
            <p:spPr>
              <a:xfrm>
                <a:off x="1828800" y="3314160"/>
                <a:ext cx="110160" cy="1324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38"/>
              <p:cNvSpPr/>
              <p:nvPr/>
            </p:nvSpPr>
            <p:spPr>
              <a:xfrm>
                <a:off x="2016000" y="3313080"/>
                <a:ext cx="69120" cy="1022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39"/>
              <p:cNvSpPr/>
              <p:nvPr/>
            </p:nvSpPr>
            <p:spPr>
              <a:xfrm>
                <a:off x="1761120" y="3288240"/>
                <a:ext cx="176400" cy="215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0"/>
              <p:cNvSpPr/>
              <p:nvPr/>
            </p:nvSpPr>
            <p:spPr>
              <a:xfrm>
                <a:off x="2009160" y="3281760"/>
                <a:ext cx="154080" cy="1429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1"/>
              <p:cNvSpPr/>
              <p:nvPr/>
            </p:nvSpPr>
            <p:spPr>
              <a:xfrm>
                <a:off x="1693080" y="3346560"/>
                <a:ext cx="63720" cy="1364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2"/>
              <p:cNvSpPr/>
              <p:nvPr/>
            </p:nvSpPr>
            <p:spPr>
              <a:xfrm>
                <a:off x="2136960" y="3271680"/>
                <a:ext cx="133920" cy="1764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3"/>
              <p:cNvSpPr/>
              <p:nvPr/>
            </p:nvSpPr>
            <p:spPr>
              <a:xfrm>
                <a:off x="1988280" y="3477960"/>
                <a:ext cx="450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44"/>
              <p:cNvSpPr/>
              <p:nvPr/>
            </p:nvSpPr>
            <p:spPr>
              <a:xfrm>
                <a:off x="1968120" y="3421080"/>
                <a:ext cx="237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5"/>
              <p:cNvSpPr/>
              <p:nvPr/>
            </p:nvSpPr>
            <p:spPr>
              <a:xfrm>
                <a:off x="1948320" y="3381840"/>
                <a:ext cx="208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6"/>
              <p:cNvSpPr/>
              <p:nvPr/>
            </p:nvSpPr>
            <p:spPr>
              <a:xfrm>
                <a:off x="1931040" y="3355920"/>
                <a:ext cx="277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47"/>
              <p:cNvSpPr/>
              <p:nvPr/>
            </p:nvSpPr>
            <p:spPr>
              <a:xfrm>
                <a:off x="1799640" y="3322080"/>
                <a:ext cx="10728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8"/>
              <p:cNvSpPr/>
              <p:nvPr/>
            </p:nvSpPr>
            <p:spPr>
              <a:xfrm>
                <a:off x="1985400" y="3320640"/>
                <a:ext cx="70200" cy="10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9"/>
              <p:cNvSpPr/>
              <p:nvPr/>
            </p:nvSpPr>
            <p:spPr>
              <a:xfrm>
                <a:off x="1729080" y="3297600"/>
                <a:ext cx="17640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50"/>
              <p:cNvSpPr/>
              <p:nvPr/>
            </p:nvSpPr>
            <p:spPr>
              <a:xfrm>
                <a:off x="1978920" y="3291120"/>
                <a:ext cx="1540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51"/>
              <p:cNvSpPr/>
              <p:nvPr/>
            </p:nvSpPr>
            <p:spPr>
              <a:xfrm>
                <a:off x="1667880" y="3368880"/>
                <a:ext cx="637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52"/>
              <p:cNvSpPr/>
              <p:nvPr/>
            </p:nvSpPr>
            <p:spPr>
              <a:xfrm>
                <a:off x="2106360" y="3281760"/>
                <a:ext cx="134280" cy="17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53"/>
          <p:cNvGrpSpPr/>
          <p:nvPr/>
        </p:nvGrpSpPr>
        <p:grpSpPr>
          <a:xfrm>
            <a:off x="760320" y="2992320"/>
            <a:ext cx="414000" cy="510840"/>
            <a:chOff x="760320" y="2992320"/>
            <a:chExt cx="414000" cy="510840"/>
          </a:xfrm>
        </p:grpSpPr>
        <p:pic>
          <p:nvPicPr>
            <p:cNvPr id="1198" name="Object 12" descr=""/>
            <p:cNvPicPr/>
            <p:nvPr/>
          </p:nvPicPr>
          <p:blipFill>
            <a:blip r:embed="rId4"/>
            <a:stretch/>
          </p:blipFill>
          <p:spPr>
            <a:xfrm>
              <a:off x="760320" y="2992320"/>
              <a:ext cx="3855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13" descr=""/>
            <p:cNvPicPr/>
            <p:nvPr/>
          </p:nvPicPr>
          <p:blipFill>
            <a:blip r:embed="rId5"/>
            <a:stretch/>
          </p:blipFill>
          <p:spPr>
            <a:xfrm>
              <a:off x="821160" y="3126240"/>
              <a:ext cx="35316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0" name="Group 56"/>
          <p:cNvGrpSpPr/>
          <p:nvPr/>
        </p:nvGrpSpPr>
        <p:grpSpPr>
          <a:xfrm>
            <a:off x="1312920" y="2774880"/>
            <a:ext cx="415440" cy="509400"/>
            <a:chOff x="1312920" y="2774880"/>
            <a:chExt cx="415440" cy="509400"/>
          </a:xfrm>
        </p:grpSpPr>
        <p:pic>
          <p:nvPicPr>
            <p:cNvPr id="1201" name="Object 10" descr=""/>
            <p:cNvPicPr/>
            <p:nvPr/>
          </p:nvPicPr>
          <p:blipFill>
            <a:blip r:embed="rId6"/>
            <a:stretch/>
          </p:blipFill>
          <p:spPr>
            <a:xfrm>
              <a:off x="1312920" y="277488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Object 11" descr=""/>
            <p:cNvPicPr/>
            <p:nvPr/>
          </p:nvPicPr>
          <p:blipFill>
            <a:blip r:embed="rId7"/>
            <a:stretch/>
          </p:blipFill>
          <p:spPr>
            <a:xfrm>
              <a:off x="1374120" y="290844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3" name="Group 59"/>
          <p:cNvGrpSpPr/>
          <p:nvPr/>
        </p:nvGrpSpPr>
        <p:grpSpPr>
          <a:xfrm>
            <a:off x="3218040" y="4232160"/>
            <a:ext cx="782640" cy="919440"/>
            <a:chOff x="3218040" y="4232160"/>
            <a:chExt cx="782640" cy="919440"/>
          </a:xfrm>
        </p:grpSpPr>
        <p:sp>
          <p:nvSpPr>
            <p:cNvPr id="1204" name="Text Box 60"/>
            <p:cNvSpPr/>
            <p:nvPr/>
          </p:nvSpPr>
          <p:spPr>
            <a:xfrm>
              <a:off x="3394800" y="4783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5" name="Group 61"/>
            <p:cNvGrpSpPr/>
            <p:nvPr/>
          </p:nvGrpSpPr>
          <p:grpSpPr>
            <a:xfrm>
              <a:off x="3218040" y="4232160"/>
              <a:ext cx="782640" cy="571320"/>
              <a:chOff x="3218040" y="4232160"/>
              <a:chExt cx="782640" cy="571320"/>
            </a:xfrm>
          </p:grpSpPr>
          <p:pic>
            <p:nvPicPr>
              <p:cNvPr id="1206" name="Picture 62" descr="31u_bnrz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3471480" y="45763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AutoShape 63"/>
              <p:cNvSpPr/>
              <p:nvPr/>
            </p:nvSpPr>
            <p:spPr>
              <a:xfrm>
                <a:off x="3218040" y="42321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64"/>
              <p:cNvSpPr/>
              <p:nvPr/>
            </p:nvSpPr>
            <p:spPr>
              <a:xfrm>
                <a:off x="3381480" y="4282560"/>
                <a:ext cx="110160" cy="1324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5"/>
              <p:cNvSpPr/>
              <p:nvPr/>
            </p:nvSpPr>
            <p:spPr>
              <a:xfrm>
                <a:off x="3568680" y="4281480"/>
                <a:ext cx="69120" cy="1022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66"/>
              <p:cNvSpPr/>
              <p:nvPr/>
            </p:nvSpPr>
            <p:spPr>
              <a:xfrm>
                <a:off x="3313800" y="4256640"/>
                <a:ext cx="176400" cy="215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7"/>
              <p:cNvSpPr/>
              <p:nvPr/>
            </p:nvSpPr>
            <p:spPr>
              <a:xfrm>
                <a:off x="3561840" y="4250160"/>
                <a:ext cx="154080" cy="1429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68"/>
              <p:cNvSpPr/>
              <p:nvPr/>
            </p:nvSpPr>
            <p:spPr>
              <a:xfrm>
                <a:off x="3245760" y="4314960"/>
                <a:ext cx="63720" cy="1364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9"/>
              <p:cNvSpPr/>
              <p:nvPr/>
            </p:nvSpPr>
            <p:spPr>
              <a:xfrm>
                <a:off x="3689640" y="4240080"/>
                <a:ext cx="133920" cy="1764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0"/>
              <p:cNvSpPr/>
              <p:nvPr/>
            </p:nvSpPr>
            <p:spPr>
              <a:xfrm>
                <a:off x="3540960" y="4446360"/>
                <a:ext cx="450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1"/>
              <p:cNvSpPr/>
              <p:nvPr/>
            </p:nvSpPr>
            <p:spPr>
              <a:xfrm>
                <a:off x="3520800" y="4389480"/>
                <a:ext cx="237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2"/>
              <p:cNvSpPr/>
              <p:nvPr/>
            </p:nvSpPr>
            <p:spPr>
              <a:xfrm>
                <a:off x="3501000" y="4350240"/>
                <a:ext cx="208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3"/>
              <p:cNvSpPr/>
              <p:nvPr/>
            </p:nvSpPr>
            <p:spPr>
              <a:xfrm>
                <a:off x="3483720" y="4324320"/>
                <a:ext cx="277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4"/>
              <p:cNvSpPr/>
              <p:nvPr/>
            </p:nvSpPr>
            <p:spPr>
              <a:xfrm>
                <a:off x="3352320" y="4290480"/>
                <a:ext cx="10728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5"/>
              <p:cNvSpPr/>
              <p:nvPr/>
            </p:nvSpPr>
            <p:spPr>
              <a:xfrm>
                <a:off x="3538080" y="4289040"/>
                <a:ext cx="70200" cy="10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6"/>
              <p:cNvSpPr/>
              <p:nvPr/>
            </p:nvSpPr>
            <p:spPr>
              <a:xfrm>
                <a:off x="3281760" y="4266000"/>
                <a:ext cx="17640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7"/>
              <p:cNvSpPr/>
              <p:nvPr/>
            </p:nvSpPr>
            <p:spPr>
              <a:xfrm>
                <a:off x="3531600" y="4259520"/>
                <a:ext cx="1540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8"/>
              <p:cNvSpPr/>
              <p:nvPr/>
            </p:nvSpPr>
            <p:spPr>
              <a:xfrm>
                <a:off x="3220560" y="4337280"/>
                <a:ext cx="637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9"/>
              <p:cNvSpPr/>
              <p:nvPr/>
            </p:nvSpPr>
            <p:spPr>
              <a:xfrm>
                <a:off x="3659040" y="4250160"/>
                <a:ext cx="134280" cy="17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80"/>
          <p:cNvGrpSpPr/>
          <p:nvPr/>
        </p:nvGrpSpPr>
        <p:grpSpPr>
          <a:xfrm>
            <a:off x="2728800" y="4762440"/>
            <a:ext cx="414000" cy="509400"/>
            <a:chOff x="2728800" y="4762440"/>
            <a:chExt cx="414000" cy="509400"/>
          </a:xfrm>
        </p:grpSpPr>
        <p:pic>
          <p:nvPicPr>
            <p:cNvPr id="1225" name="Object 8" descr=""/>
            <p:cNvPicPr/>
            <p:nvPr/>
          </p:nvPicPr>
          <p:blipFill>
            <a:blip r:embed="rId9"/>
            <a:stretch/>
          </p:blipFill>
          <p:spPr>
            <a:xfrm>
              <a:off x="2728800" y="47624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Object 9" descr=""/>
            <p:cNvPicPr/>
            <p:nvPr/>
          </p:nvPicPr>
          <p:blipFill>
            <a:blip r:embed="rId10"/>
            <a:stretch/>
          </p:blipFill>
          <p:spPr>
            <a:xfrm>
              <a:off x="2789640" y="48960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7" name="Group 83"/>
          <p:cNvGrpSpPr/>
          <p:nvPr/>
        </p:nvGrpSpPr>
        <p:grpSpPr>
          <a:xfrm>
            <a:off x="2908440" y="5303880"/>
            <a:ext cx="415440" cy="509040"/>
            <a:chOff x="2908440" y="5303880"/>
            <a:chExt cx="415440" cy="509040"/>
          </a:xfrm>
        </p:grpSpPr>
        <p:pic>
          <p:nvPicPr>
            <p:cNvPr id="1228" name="Object 6" descr=""/>
            <p:cNvPicPr/>
            <p:nvPr/>
          </p:nvPicPr>
          <p:blipFill>
            <a:blip r:embed="rId11"/>
            <a:stretch/>
          </p:blipFill>
          <p:spPr>
            <a:xfrm>
              <a:off x="2908440" y="5303880"/>
              <a:ext cx="38700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Object 7" descr=""/>
            <p:cNvPicPr/>
            <p:nvPr/>
          </p:nvPicPr>
          <p:blipFill>
            <a:blip r:embed="rId12"/>
            <a:stretch/>
          </p:blipFill>
          <p:spPr>
            <a:xfrm>
              <a:off x="2969640" y="5437440"/>
              <a:ext cx="35424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0" name="Group 86"/>
          <p:cNvGrpSpPr/>
          <p:nvPr/>
        </p:nvGrpSpPr>
        <p:grpSpPr>
          <a:xfrm>
            <a:off x="3940200" y="4772160"/>
            <a:ext cx="415440" cy="510840"/>
            <a:chOff x="3940200" y="4772160"/>
            <a:chExt cx="415440" cy="510840"/>
          </a:xfrm>
        </p:grpSpPr>
        <p:pic>
          <p:nvPicPr>
            <p:cNvPr id="1231" name="Object 4" descr=""/>
            <p:cNvPicPr/>
            <p:nvPr/>
          </p:nvPicPr>
          <p:blipFill>
            <a:blip r:embed="rId13"/>
            <a:stretch/>
          </p:blipFill>
          <p:spPr>
            <a:xfrm>
              <a:off x="3940200" y="4772160"/>
              <a:ext cx="38700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Object 5" descr=""/>
            <p:cNvPicPr/>
            <p:nvPr/>
          </p:nvPicPr>
          <p:blipFill>
            <a:blip r:embed="rId14"/>
            <a:stretch/>
          </p:blipFill>
          <p:spPr>
            <a:xfrm>
              <a:off x="4001400" y="4906080"/>
              <a:ext cx="35424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3" name="Group 89"/>
          <p:cNvGrpSpPr/>
          <p:nvPr/>
        </p:nvGrpSpPr>
        <p:grpSpPr>
          <a:xfrm>
            <a:off x="3494160" y="5313240"/>
            <a:ext cx="414000" cy="509400"/>
            <a:chOff x="3494160" y="5313240"/>
            <a:chExt cx="414000" cy="509400"/>
          </a:xfrm>
        </p:grpSpPr>
        <p:pic>
          <p:nvPicPr>
            <p:cNvPr id="1234" name="Object 2" descr=""/>
            <p:cNvPicPr/>
            <p:nvPr/>
          </p:nvPicPr>
          <p:blipFill>
            <a:blip r:embed="rId15"/>
            <a:stretch/>
          </p:blipFill>
          <p:spPr>
            <a:xfrm>
              <a:off x="3494160" y="53132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Object 3" descr=""/>
            <p:cNvPicPr/>
            <p:nvPr/>
          </p:nvPicPr>
          <p:blipFill>
            <a:blip r:embed="rId16"/>
            <a:stretch/>
          </p:blipFill>
          <p:spPr>
            <a:xfrm>
              <a:off x="3555000" y="54468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6" name="Text Box 93"/>
          <p:cNvSpPr/>
          <p:nvPr/>
        </p:nvSpPr>
        <p:spPr>
          <a:xfrm>
            <a:off x="4565880" y="62326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ID: Service Set Ident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SMA: Carrier Sense, Multiple Acces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access: channel is shared mediu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: wireless host or access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stations may want to transmit at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arrier sense: sense channel before sending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send when channel is bu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vent collisions with ongoing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, detecting ongoing transfers i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always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1B55-4990-41EE-9856-22C21F4E458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25"/>
          <p:cNvGrpSpPr/>
          <p:nvPr/>
        </p:nvGrpSpPr>
        <p:grpSpPr>
          <a:xfrm>
            <a:off x="1676520" y="4775040"/>
            <a:ext cx="6216120" cy="2008800"/>
            <a:chOff x="1676520" y="4775040"/>
            <a:chExt cx="6216120" cy="2008800"/>
          </a:xfrm>
        </p:grpSpPr>
        <p:grpSp>
          <p:nvGrpSpPr>
            <p:cNvPr id="1241" name="Group 26"/>
            <p:cNvGrpSpPr/>
            <p:nvPr/>
          </p:nvGrpSpPr>
          <p:grpSpPr>
            <a:xfrm>
              <a:off x="1676520" y="5041080"/>
              <a:ext cx="2440440" cy="1394280"/>
              <a:chOff x="1676520" y="5041080"/>
              <a:chExt cx="2440440" cy="1394280"/>
            </a:xfrm>
          </p:grpSpPr>
          <p:grpSp>
            <p:nvGrpSpPr>
              <p:cNvPr id="1242" name="Group 27"/>
              <p:cNvGrpSpPr/>
              <p:nvPr/>
            </p:nvGrpSpPr>
            <p:grpSpPr>
              <a:xfrm>
                <a:off x="2579040" y="5054400"/>
                <a:ext cx="627120" cy="637560"/>
                <a:chOff x="2579040" y="5054400"/>
                <a:chExt cx="627120" cy="637560"/>
              </a:xfrm>
            </p:grpSpPr>
            <p:pic>
              <p:nvPicPr>
                <p:cNvPr id="1243" name="Object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79040" y="5054400"/>
                  <a:ext cx="583920" cy="56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Object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71560" y="5221440"/>
                  <a:ext cx="534600" cy="47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5" name="Freeform 30"/>
              <p:cNvSpPr/>
              <p:nvPr/>
            </p:nvSpPr>
            <p:spPr>
              <a:xfrm>
                <a:off x="1676520" y="5041080"/>
                <a:ext cx="149292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6" name="Group 31"/>
              <p:cNvGrpSpPr/>
              <p:nvPr/>
            </p:nvGrpSpPr>
            <p:grpSpPr>
              <a:xfrm>
                <a:off x="2021040" y="5834160"/>
                <a:ext cx="564840" cy="601200"/>
                <a:chOff x="2021040" y="5834160"/>
                <a:chExt cx="564840" cy="601200"/>
              </a:xfrm>
            </p:grpSpPr>
            <p:pic>
              <p:nvPicPr>
                <p:cNvPr id="1247" name="Object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21040" y="58341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Object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04200" y="59918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9" name="Group 34"/>
              <p:cNvGrpSpPr/>
              <p:nvPr/>
            </p:nvGrpSpPr>
            <p:grpSpPr>
              <a:xfrm>
                <a:off x="3277080" y="5565960"/>
                <a:ext cx="564840" cy="601200"/>
                <a:chOff x="3277080" y="5565960"/>
                <a:chExt cx="564840" cy="601200"/>
              </a:xfrm>
            </p:grpSpPr>
            <p:pic>
              <p:nvPicPr>
                <p:cNvPr id="1250" name="Object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77080" y="55659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1" name="Object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60240" y="57236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52" name="Line 37"/>
              <p:cNvSpPr/>
              <p:nvPr/>
            </p:nvSpPr>
            <p:spPr>
              <a:xfrm flipV="1">
                <a:off x="2616840" y="6088680"/>
                <a:ext cx="737280" cy="1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38"/>
              <p:cNvSpPr/>
              <p:nvPr/>
            </p:nvSpPr>
            <p:spPr>
              <a:xfrm>
                <a:off x="3114000" y="5675040"/>
                <a:ext cx="30132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Text Box 39"/>
              <p:cNvSpPr/>
              <p:nvPr/>
            </p:nvSpPr>
            <p:spPr>
              <a:xfrm>
                <a:off x="1981800" y="59958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40"/>
              <p:cNvSpPr/>
              <p:nvPr/>
            </p:nvSpPr>
            <p:spPr>
              <a:xfrm>
                <a:off x="3799080" y="57999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41"/>
              <p:cNvSpPr/>
              <p:nvPr/>
            </p:nvSpPr>
            <p:spPr>
              <a:xfrm>
                <a:off x="3149280" y="51915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Group 42"/>
            <p:cNvGrpSpPr/>
            <p:nvPr/>
          </p:nvGrpSpPr>
          <p:grpSpPr>
            <a:xfrm>
              <a:off x="4716720" y="4775040"/>
              <a:ext cx="3175920" cy="2008800"/>
              <a:chOff x="4716720" y="4775040"/>
              <a:chExt cx="3175920" cy="2008800"/>
            </a:xfrm>
          </p:grpSpPr>
          <p:grpSp>
            <p:nvGrpSpPr>
              <p:cNvPr id="1258" name="Group 43"/>
              <p:cNvGrpSpPr/>
              <p:nvPr/>
            </p:nvGrpSpPr>
            <p:grpSpPr>
              <a:xfrm>
                <a:off x="4828680" y="4775040"/>
                <a:ext cx="2585880" cy="622440"/>
                <a:chOff x="4828680" y="4775040"/>
                <a:chExt cx="2585880" cy="622440"/>
              </a:xfrm>
            </p:grpSpPr>
            <p:grpSp>
              <p:nvGrpSpPr>
                <p:cNvPr id="1259" name="Group 44"/>
                <p:cNvGrpSpPr/>
                <p:nvPr/>
              </p:nvGrpSpPr>
              <p:grpSpPr>
                <a:xfrm>
                  <a:off x="4867200" y="4775040"/>
                  <a:ext cx="564840" cy="600480"/>
                  <a:chOff x="4867200" y="4775040"/>
                  <a:chExt cx="564840" cy="600480"/>
                </a:xfrm>
              </p:grpSpPr>
              <p:pic>
                <p:nvPicPr>
                  <p:cNvPr id="126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7200" y="47750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0360" y="49323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62" name="Group 47"/>
                <p:cNvGrpSpPr/>
                <p:nvPr/>
              </p:nvGrpSpPr>
              <p:grpSpPr>
                <a:xfrm>
                  <a:off x="5727960" y="4785840"/>
                  <a:ext cx="564840" cy="600480"/>
                  <a:chOff x="5727960" y="4785840"/>
                  <a:chExt cx="564840" cy="600480"/>
                </a:xfrm>
              </p:grpSpPr>
              <p:pic>
                <p:nvPicPr>
                  <p:cNvPr id="126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7960" y="47858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4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11120" y="49431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265" name="Text Box 50"/>
                <p:cNvSpPr/>
                <p:nvPr/>
              </p:nvSpPr>
              <p:spPr>
                <a:xfrm>
                  <a:off x="4828680" y="493812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Comic Sans MS"/>
                    </a:rPr>
                    <a:t>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Text Box 51"/>
                <p:cNvSpPr/>
                <p:nvPr/>
              </p:nvSpPr>
              <p:spPr>
                <a:xfrm>
                  <a:off x="6222960" y="4933800"/>
                  <a:ext cx="2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Text Box 52"/>
                <p:cNvSpPr/>
                <p:nvPr/>
              </p:nvSpPr>
              <p:spPr>
                <a:xfrm>
                  <a:off x="7096680" y="496944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8" name="Group 53"/>
                <p:cNvGrpSpPr/>
                <p:nvPr/>
              </p:nvGrpSpPr>
              <p:grpSpPr>
                <a:xfrm>
                  <a:off x="6535800" y="4797000"/>
                  <a:ext cx="564840" cy="600480"/>
                  <a:chOff x="6535800" y="4797000"/>
                  <a:chExt cx="564840" cy="600480"/>
                </a:xfrm>
              </p:grpSpPr>
              <p:pic>
                <p:nvPicPr>
                  <p:cNvPr id="1269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35800" y="4797000"/>
                    <a:ext cx="525960" cy="5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0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18960" y="495432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271" name="Text Box 56"/>
              <p:cNvSpPr/>
              <p:nvPr/>
            </p:nvSpPr>
            <p:spPr>
              <a:xfrm>
                <a:off x="4716720" y="5653080"/>
                <a:ext cx="124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Comic Sans MS"/>
                  </a:rPr>
                  <a:t>’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s signal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strengt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57"/>
              <p:cNvSpPr/>
              <p:nvPr/>
            </p:nvSpPr>
            <p:spPr>
              <a:xfrm>
                <a:off x="4911840" y="6538680"/>
                <a:ext cx="24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8"/>
              <p:cNvSpPr/>
              <p:nvPr/>
            </p:nvSpPr>
            <p:spPr>
              <a:xfrm>
                <a:off x="4872240" y="5520600"/>
                <a:ext cx="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59"/>
              <p:cNvSpPr/>
              <p:nvPr/>
            </p:nvSpPr>
            <p:spPr>
              <a:xfrm>
                <a:off x="4933440" y="5568480"/>
                <a:ext cx="2212560" cy="93312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Text Box 60"/>
              <p:cNvSpPr/>
              <p:nvPr/>
            </p:nvSpPr>
            <p:spPr>
              <a:xfrm>
                <a:off x="5832000" y="6507360"/>
                <a:ext cx="63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spac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61"/>
              <p:cNvSpPr/>
              <p:nvPr/>
            </p:nvSpPr>
            <p:spPr>
              <a:xfrm flipH="1">
                <a:off x="5003640" y="5542200"/>
                <a:ext cx="2212560" cy="933120"/>
              </a:xfrm>
              <a:prstGeom prst="pie">
                <a:avLst/>
              </a:pr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Text Box 62"/>
              <p:cNvSpPr/>
              <p:nvPr/>
            </p:nvSpPr>
            <p:spPr>
              <a:xfrm>
                <a:off x="6645240" y="5590080"/>
                <a:ext cx="124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C</a:t>
                </a:r>
                <a:r>
                  <a:rPr b="0" lang="ja-JP" sz="1400" spc="-1" strike="noStrike">
                    <a:solidFill>
                      <a:srgbClr val="c0504d"/>
                    </a:solidFill>
                    <a:latin typeface="Comic Sans MS"/>
                  </a:rPr>
                  <a:t>’</a:t>
                </a: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s signal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strengt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63"/>
              <p:cNvSpPr/>
              <p:nvPr/>
            </p:nvSpPr>
            <p:spPr>
              <a:xfrm flipH="1">
                <a:off x="5151960" y="5423400"/>
                <a:ext cx="1980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64"/>
              <p:cNvSpPr/>
              <p:nvPr/>
            </p:nvSpPr>
            <p:spPr>
              <a:xfrm>
                <a:off x="6054120" y="54820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65"/>
              <p:cNvSpPr/>
              <p:nvPr/>
            </p:nvSpPr>
            <p:spPr>
              <a:xfrm>
                <a:off x="6852600" y="5468400"/>
                <a:ext cx="0" cy="10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A: Collision Avoidance, Not Detection 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llision detection in wired Ethern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on listens while transmi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s collision with other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orts transmission and tries sending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1: cannot detect all collision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dden termin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0CEA-F948-46EA-A31B-8DF68F40840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A: Collision Avoidance, Not Detection 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llision detection in wired Ethern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on listens while transmi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s collision with other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orts transmission and tries sending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1: cannot detect all collision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dden termin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2: listening while send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received signal is much sma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nsive to build hardware that detects colli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o, 802.11 does collision avoidance, not det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5ED-5029-43E6-B6E8-7DA4C3C68C2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dden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6840" y="3657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 and C ca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ee each other, both send to B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Occurs b/c 802.11 relies on physical carrier sensing, which is susceptible to hidden terminal proble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43B-D4E5-4A4C-BC24-EDCB902C4C3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4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5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6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Straight Arrow Connector 7"/>
          <p:cNvCxnSpPr/>
          <p:nvPr/>
        </p:nvCxnSpPr>
        <p:spPr>
          <a:xfrm flipH="1" flipV="1">
            <a:off x="4650480" y="2208960"/>
            <a:ext cx="53100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94" name="Straight Arrow Connector 9"/>
          <p:cNvCxnSpPr/>
          <p:nvPr/>
        </p:nvCxnSpPr>
        <p:spPr>
          <a:xfrm>
            <a:off x="3733560" y="2209320"/>
            <a:ext cx="5310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carrier sens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irst exchange control frames before transmitting dat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issue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to Se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RTS), incl. length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iver responds with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to Se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sender sees CTS, transmits data (of specified length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other node sees CTS, will idle for specified perio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other node sees RTS but not CTS, free to sen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A71-EE6C-42BE-89F4-6DEC9E51D04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dden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56840" y="3657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 and C ca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ee each other, both send to B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TS/CTS can help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A and C would send RTS that B would see fir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 only responds with one CTS (say, echo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g A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RTS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detects that CTS does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match and w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s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4787-D4B2-4560-A66C-3BD0A7A46AB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4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5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6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Straight Arrow Connector 7"/>
          <p:cNvCxnSpPr/>
          <p:nvPr/>
        </p:nvCxnSpPr>
        <p:spPr>
          <a:xfrm flipH="1" flipV="1">
            <a:off x="4650480" y="2208960"/>
            <a:ext cx="53100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05" name="Straight Arrow Connector 9"/>
          <p:cNvCxnSpPr/>
          <p:nvPr/>
        </p:nvCxnSpPr>
        <p:spPr>
          <a:xfrm>
            <a:off x="3733560" y="2209320"/>
            <a:ext cx="5310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sed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456840" y="32767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 sending to A, C wants to send to 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s C receives B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 packets, carrier sense would prevent it from sending to D, even though would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interfer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TS/CTS can help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hears RTS from B, but not CTS from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knows it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transmission will not interfere with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is safe to transmit to 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156-E9AA-4352-BC00-CF719C5F81D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6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7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8"/>
          <p:cNvSpPr/>
          <p:nvPr/>
        </p:nvSpPr>
        <p:spPr>
          <a:xfrm>
            <a:off x="5029200" y="1219320"/>
            <a:ext cx="2209680" cy="1981080"/>
          </a:xfrm>
          <a:prstGeom prst="ellipse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Straight Arrow Connector 10"/>
          <p:cNvCxnSpPr/>
          <p:nvPr/>
        </p:nvCxnSpPr>
        <p:spPr>
          <a:xfrm flipH="1" flipV="1">
            <a:off x="3812400" y="2208960"/>
            <a:ext cx="531000" cy="25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1314" name="Straight Arrow Connector 11"/>
          <p:cNvCxnSpPr/>
          <p:nvPr/>
        </p:nvCxnSpPr>
        <p:spPr>
          <a:xfrm flipV="1">
            <a:off x="5410080" y="2208960"/>
            <a:ext cx="53424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act on Higher-Layer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ireless and mobility change path propert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reless: higher packet loss, not from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ity: transient disruptions, and changes in R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ogically, impact should be minimal …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st-effort service model remains unchan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and UDP can (and do) run over wireless, mo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ut, performance definitely </a:t>
            </a:r>
            <a:r>
              <a:rPr b="0" i="1" lang="en-US" sz="2800" spc="-1" strike="noStrike">
                <a:solidFill>
                  <a:srgbClr val="800000"/>
                </a:solidFill>
                <a:latin typeface="Calibri"/>
              </a:rPr>
              <a:t>is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 affecte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treats packet loss as a sign of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tries to estimate the RTT to drive retransmi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does not perform well under out-of-order p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ternet not designed with these issues in min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5F1-42C5-4427-81F5-E28ED182B47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7F9-0912-467F-A2BC-49998655C6D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luetooth:  802.15.1 </a:t>
            </a:r>
            <a:br>
              <a:rPr sz="4400"/>
            </a:br>
            <a:r>
              <a:rPr b="0" lang="ja-JP" sz="4400" spc="-1" strike="noStrike">
                <a:solidFill>
                  <a:srgbClr val="00009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sonal-area-networks</a:t>
            </a:r>
            <a:r>
              <a:rPr b="0" lang="ja-JP" sz="4400" spc="-1" strike="noStrike">
                <a:solidFill>
                  <a:srgbClr val="00009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B6B3-F39D-46AF-98AD-97EE23E9384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luetooth picone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57200" y="454320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 to 7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ave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devices and 225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rked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de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erates on unlicensed wireless spectr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event interferen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2789-1B3D-404B-B2E7-A7065EC7E92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" descr=""/>
          <p:cNvPicPr/>
          <p:nvPr/>
        </p:nvPicPr>
        <p:blipFill>
          <a:blip r:embed="rId1"/>
          <a:srcRect l="0" t="1870" r="0" b="0"/>
          <a:stretch/>
        </p:blipFill>
        <p:spPr>
          <a:xfrm>
            <a:off x="2286000" y="971640"/>
            <a:ext cx="45226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90"/>
                </a:solidFill>
                <a:latin typeface="Calibri"/>
              </a:rPr>
              <a:t>PHY:  Spread Spectrum – Frequency Hopping</a:t>
            </a:r>
            <a:endParaRPr b="0" lang="en-US" sz="37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Nodes rapidly jump between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ender and receiver coordinated in jump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ordinate? Pseudorandom number generator, with shared input known to sender/rece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spcAft>
                <a:spcPts val="29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randomly collide with other transmitted, only for short period before jump agai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luetooth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9 frequencies, on each frequency for 625 microsec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hannel also uses TDMA, with each frame taking 1/3/5 consecutive slo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aster can start in odd slot, slave only in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F2D-4F65-48E2-854B-34638A71784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C658-97DD-41CA-8FCD-3CA2E05BF1C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3"/>
          <p:cNvSpPr/>
          <p:nvPr/>
        </p:nvSpPr>
        <p:spPr>
          <a:xfrm>
            <a:off x="5562720" y="138420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Group 4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1330" name="Oval 5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6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1332" name="Object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Object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4" name="Rectangle 10"/>
          <p:cNvSpPr/>
          <p:nvPr/>
        </p:nvSpPr>
        <p:spPr>
          <a:xfrm>
            <a:off x="4726080" y="1436760"/>
            <a:ext cx="4114800" cy="34891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 hoc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s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s can only transmit to other nodes within link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s self-organize and route among themsel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create multi-hop wireless networks, instead of a wired back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Group 11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1336" name="Oval 12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13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1338" name="Object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9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0" name="Group 16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1341" name="Oval 17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2" name="Group 18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1343" name="Object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Object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5" name="Group 21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1346" name="Oval 22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Group 23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1348" name="Object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9" name="Object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50" name="Group 26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1351" name="Oval 27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8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1353" name="Object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4" name="Object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5" name="Rectangle 32"/>
          <p:cNvSpPr/>
          <p:nvPr/>
        </p:nvSpPr>
        <p:spPr>
          <a:xfrm>
            <a:off x="2693880" y="1468440"/>
            <a:ext cx="1728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33"/>
          <p:cNvSpPr/>
          <p:nvPr/>
        </p:nvSpPr>
        <p:spPr>
          <a:xfrm>
            <a:off x="879480" y="167652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4"/>
          <p:cNvSpPr/>
          <p:nvPr/>
        </p:nvSpPr>
        <p:spPr>
          <a:xfrm>
            <a:off x="2184480" y="3000240"/>
            <a:ext cx="1755720" cy="1625760"/>
          </a:xfrm>
          <a:prstGeom prst="ellipse">
            <a:avLst/>
          </a:prstGeom>
          <a:solidFill>
            <a:srgbClr val="bc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35"/>
          <p:cNvSpPr/>
          <p:nvPr/>
        </p:nvSpPr>
        <p:spPr>
          <a:xfrm>
            <a:off x="1050840" y="227664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36"/>
          <p:cNvSpPr/>
          <p:nvPr/>
        </p:nvSpPr>
        <p:spPr>
          <a:xfrm>
            <a:off x="1623960" y="270036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37"/>
          <p:cNvSpPr/>
          <p:nvPr/>
        </p:nvSpPr>
        <p:spPr>
          <a:xfrm>
            <a:off x="1936800" y="4724280"/>
            <a:ext cx="1755720" cy="162576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38"/>
          <p:cNvGrpSpPr/>
          <p:nvPr/>
        </p:nvGrpSpPr>
        <p:grpSpPr>
          <a:xfrm>
            <a:off x="2540160" y="5349960"/>
            <a:ext cx="399600" cy="457200"/>
            <a:chOff x="2540160" y="5349960"/>
            <a:chExt cx="399600" cy="457200"/>
          </a:xfrm>
        </p:grpSpPr>
        <p:pic>
          <p:nvPicPr>
            <p:cNvPr id="1362" name="Object 10" descr=""/>
            <p:cNvPicPr/>
            <p:nvPr/>
          </p:nvPicPr>
          <p:blipFill>
            <a:blip r:embed="rId11"/>
            <a:stretch/>
          </p:blipFill>
          <p:spPr>
            <a:xfrm>
              <a:off x="2540160" y="53499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Object 11" descr=""/>
            <p:cNvPicPr/>
            <p:nvPr/>
          </p:nvPicPr>
          <p:blipFill>
            <a:blip r:embed="rId12"/>
            <a:stretch/>
          </p:blipFill>
          <p:spPr>
            <a:xfrm>
              <a:off x="2598840" y="54698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41"/>
          <p:cNvGrpSpPr/>
          <p:nvPr/>
        </p:nvGrpSpPr>
        <p:grpSpPr>
          <a:xfrm>
            <a:off x="2227320" y="3325680"/>
            <a:ext cx="399600" cy="457200"/>
            <a:chOff x="2227320" y="3325680"/>
            <a:chExt cx="399600" cy="457200"/>
          </a:xfrm>
        </p:grpSpPr>
        <p:graphicFrame>
          <p:nvGraphicFramePr>
            <p:cNvPr id="1365" name="Object 8"/>
            <p:cNvGraphicFramePr/>
            <p:nvPr/>
          </p:nvGraphicFramePr>
          <p:xfrm>
            <a:off x="2227320" y="3325680"/>
            <a:ext cx="372240" cy="402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6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7320" y="3325680"/>
                      <a:ext cx="37224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7" name="Object 9" descr=""/>
            <p:cNvPicPr/>
            <p:nvPr/>
          </p:nvPicPr>
          <p:blipFill>
            <a:blip r:embed="rId15"/>
            <a:stretch/>
          </p:blipFill>
          <p:spPr>
            <a:xfrm>
              <a:off x="2286000" y="344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8" name="Group 44"/>
          <p:cNvGrpSpPr/>
          <p:nvPr/>
        </p:nvGrpSpPr>
        <p:grpSpPr>
          <a:xfrm>
            <a:off x="2787480" y="3625920"/>
            <a:ext cx="400320" cy="457200"/>
            <a:chOff x="2787480" y="3625920"/>
            <a:chExt cx="400320" cy="457200"/>
          </a:xfrm>
        </p:grpSpPr>
        <p:pic>
          <p:nvPicPr>
            <p:cNvPr id="1369" name="Object 6" descr=""/>
            <p:cNvPicPr/>
            <p:nvPr/>
          </p:nvPicPr>
          <p:blipFill>
            <a:blip r:embed="rId16"/>
            <a:stretch/>
          </p:blipFill>
          <p:spPr>
            <a:xfrm>
              <a:off x="2787480" y="36259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Object 7" descr=""/>
            <p:cNvPicPr/>
            <p:nvPr/>
          </p:nvPicPr>
          <p:blipFill>
            <a:blip r:embed="rId17"/>
            <a:stretch/>
          </p:blipFill>
          <p:spPr>
            <a:xfrm>
              <a:off x="2846520" y="37458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1" name="Group 47"/>
          <p:cNvGrpSpPr/>
          <p:nvPr/>
        </p:nvGrpSpPr>
        <p:grpSpPr>
          <a:xfrm>
            <a:off x="1482840" y="2301840"/>
            <a:ext cx="399600" cy="457200"/>
            <a:chOff x="1482840" y="2301840"/>
            <a:chExt cx="399600" cy="457200"/>
          </a:xfrm>
        </p:grpSpPr>
        <p:pic>
          <p:nvPicPr>
            <p:cNvPr id="1372" name="Object 4" descr=""/>
            <p:cNvPicPr/>
            <p:nvPr/>
          </p:nvPicPr>
          <p:blipFill>
            <a:blip r:embed="rId18"/>
            <a:stretch/>
          </p:blipFill>
          <p:spPr>
            <a:xfrm>
              <a:off x="1482840" y="2301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Object 5" descr=""/>
            <p:cNvPicPr/>
            <p:nvPr/>
          </p:nvPicPr>
          <p:blipFill>
            <a:blip r:embed="rId19"/>
            <a:stretch/>
          </p:blipFill>
          <p:spPr>
            <a:xfrm>
              <a:off x="1541520" y="2421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4" name="Group 50"/>
          <p:cNvGrpSpPr/>
          <p:nvPr/>
        </p:nvGrpSpPr>
        <p:grpSpPr>
          <a:xfrm>
            <a:off x="1654200" y="2901960"/>
            <a:ext cx="399600" cy="457200"/>
            <a:chOff x="1654200" y="2901960"/>
            <a:chExt cx="399600" cy="457200"/>
          </a:xfrm>
        </p:grpSpPr>
        <p:pic>
          <p:nvPicPr>
            <p:cNvPr id="1375" name="Object 2" descr=""/>
            <p:cNvPicPr/>
            <p:nvPr/>
          </p:nvPicPr>
          <p:blipFill>
            <a:blip r:embed="rId20"/>
            <a:stretch/>
          </p:blipFill>
          <p:spPr>
            <a:xfrm>
              <a:off x="1654200" y="29019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Object 3" descr=""/>
            <p:cNvPicPr/>
            <p:nvPr/>
          </p:nvPicPr>
          <p:blipFill>
            <a:blip r:embed="rId21"/>
            <a:stretch/>
          </p:blipFill>
          <p:spPr>
            <a:xfrm>
              <a:off x="1712880" y="30218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7" name="Rectangle 84"/>
          <p:cNvSpPr/>
          <p:nvPr/>
        </p:nvSpPr>
        <p:spPr>
          <a:xfrm>
            <a:off x="2527200" y="0"/>
            <a:ext cx="43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-Hoc Netwo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rastructure vs. Ad Ho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Infrastructure mod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hosts are associated with a base s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services provided by the connected 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, address assignment, routing, and DNS res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d hoc networ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hosts have no infrastructure to connect 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s themselves must provide network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imilar in spirit to the difference betwee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ent-server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-to-peer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54B-1955-43EB-B7F8-2AFA24AB834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lay Tolerant Networ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s can both route and st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hop is available,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stor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ful for data collection with no time limi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nsors in the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alogous to e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onto packets until another hop can take it from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reach its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0AA-AFC6-4B74-8F29-680EE906DCE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Upside to Inter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 systems leverage interfere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packets collide once, likely will ag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both collisions to construct origina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effective error rate signific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wo hosts send to each other through an AP, and they collide, AP can broadcast collision to bo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know what they sent, can “subtract” that from collision to get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s throughput of syste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9C6A-C481-401C-9872-E007EAADC96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irel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ready a major way people connect to the 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dually becoming more than just an access 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obility (not discussed)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day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users tolerate disruptions as they m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pplications try to hide the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morrow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users expect seamless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hallenges the design of network protocol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breaks the abstraction of a link, and the assumption that packet loss implies cong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bility breaks association of address and 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er-layer protocols d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perform as w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39E-25C2-4B1E-BA9E-EA28E9EFE70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erence / bit errors_x001a_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ources of corruption compared to w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ath propag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 does not travel in a straight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medi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raffic to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wer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power constrained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691A-C244-418F-ADA8-759B9A76527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218960"/>
            <a:ext cx="845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ecreasing signal strength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erses as it travels greater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uates as it passes through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1FA-5346-495C-8AFE-42480401B9A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8"/>
          <p:cNvGrpSpPr/>
          <p:nvPr/>
        </p:nvGrpSpPr>
        <p:grpSpPr>
          <a:xfrm>
            <a:off x="1268280" y="3121200"/>
            <a:ext cx="6298920" cy="3571200"/>
            <a:chOff x="1268280" y="3121200"/>
            <a:chExt cx="6298920" cy="3571200"/>
          </a:xfrm>
        </p:grpSpPr>
        <p:pic>
          <p:nvPicPr>
            <p:cNvPr id="523" name="Picture 5" descr="fig1"/>
            <p:cNvPicPr/>
            <p:nvPr/>
          </p:nvPicPr>
          <p:blipFill>
            <a:blip r:embed="rId1"/>
            <a:stretch/>
          </p:blipFill>
          <p:spPr>
            <a:xfrm>
              <a:off x="1547640" y="3208320"/>
              <a:ext cx="5693760" cy="34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1268280" y="5711040"/>
              <a:ext cx="6298920" cy="9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1314360" y="3121200"/>
              <a:ext cx="653760" cy="31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2189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erence from other 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o sources in same frequency 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2.4 GHz wireless phone interferes with 802.11b wireless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agnetic noise (e.g., microwave ov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E86-2E5F-4E0B-B053-87A5D3A819C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microwave-interference"/>
          <p:cNvPicPr/>
          <p:nvPr/>
        </p:nvPicPr>
        <p:blipFill>
          <a:blip r:embed="rId1"/>
          <a:stretch/>
        </p:blipFill>
        <p:spPr>
          <a:xfrm>
            <a:off x="808200" y="3889440"/>
            <a:ext cx="7758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6840" y="12189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path propag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agnetic waves reflect of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many paths of different l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blurring of signal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5427-19B5-4BDB-A20E-357A7F4B4ED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3"/>
          <p:cNvGrpSpPr/>
          <p:nvPr/>
        </p:nvGrpSpPr>
        <p:grpSpPr>
          <a:xfrm>
            <a:off x="961920" y="3533760"/>
            <a:ext cx="8134560" cy="3324240"/>
            <a:chOff x="961920" y="3533760"/>
            <a:chExt cx="8134560" cy="3324240"/>
          </a:xfrm>
        </p:grpSpPr>
        <p:pic>
          <p:nvPicPr>
            <p:cNvPr id="534" name="Picture 6" descr="multipath_propagation"/>
            <p:cNvPicPr/>
            <p:nvPr/>
          </p:nvPicPr>
          <p:blipFill>
            <a:blip r:embed="rId1"/>
            <a:stretch/>
          </p:blipFill>
          <p:spPr>
            <a:xfrm>
              <a:off x="961920" y="3533760"/>
              <a:ext cx="741204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Rectangle 7"/>
            <p:cNvSpPr/>
            <p:nvPr/>
          </p:nvSpPr>
          <p:spPr>
            <a:xfrm>
              <a:off x="5072040" y="3583080"/>
              <a:ext cx="72864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8"/>
            <p:cNvSpPr/>
            <p:nvPr/>
          </p:nvSpPr>
          <p:spPr>
            <a:xfrm>
              <a:off x="5378400" y="4081320"/>
              <a:ext cx="384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"/>
            <p:cNvSpPr/>
            <p:nvPr/>
          </p:nvSpPr>
          <p:spPr>
            <a:xfrm>
              <a:off x="5802480" y="4197240"/>
              <a:ext cx="268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>
              <a:off x="1576440" y="4273560"/>
              <a:ext cx="61416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2"/>
            <p:cNvSpPr/>
            <p:nvPr/>
          </p:nvSpPr>
          <p:spPr>
            <a:xfrm>
              <a:off x="7491240" y="5388120"/>
              <a:ext cx="882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3"/>
            <p:cNvSpPr/>
            <p:nvPr/>
          </p:nvSpPr>
          <p:spPr>
            <a:xfrm>
              <a:off x="5878440" y="4619520"/>
              <a:ext cx="8064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4"/>
            <p:cNvSpPr/>
            <p:nvPr/>
          </p:nvSpPr>
          <p:spPr>
            <a:xfrm>
              <a:off x="6645240" y="4657680"/>
              <a:ext cx="11592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>
              <a:off x="5686560" y="4159080"/>
              <a:ext cx="23004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6"/>
            <p:cNvSpPr/>
            <p:nvPr/>
          </p:nvSpPr>
          <p:spPr>
            <a:xfrm>
              <a:off x="5992920" y="5425920"/>
              <a:ext cx="730080" cy="192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7"/>
            <p:cNvSpPr/>
            <p:nvPr/>
          </p:nvSpPr>
          <p:spPr>
            <a:xfrm>
              <a:off x="6031080" y="6424560"/>
              <a:ext cx="653760" cy="192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8"/>
            <p:cNvSpPr/>
            <p:nvPr/>
          </p:nvSpPr>
          <p:spPr>
            <a:xfrm>
              <a:off x="2498760" y="5772240"/>
              <a:ext cx="614160" cy="191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9"/>
            <p:cNvSpPr/>
            <p:nvPr/>
          </p:nvSpPr>
          <p:spPr>
            <a:xfrm>
              <a:off x="2421000" y="5810400"/>
              <a:ext cx="154080" cy="115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0"/>
            <p:cNvSpPr/>
            <p:nvPr/>
          </p:nvSpPr>
          <p:spPr>
            <a:xfrm>
              <a:off x="1184400" y="39290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7239240" y="4235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2"/>
            <p:cNvSpPr/>
            <p:nvPr/>
          </p:nvSpPr>
          <p:spPr>
            <a:xfrm flipH="1" flipV="1">
              <a:off x="2612520" y="4581360"/>
              <a:ext cx="5146920" cy="23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aling With Bit Err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ireless vs. wired lin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d: most loss is due to cong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: higher, time-varying bit-error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ealing with high bit-error rat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er could increase transmission pow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ore energy (bad for battery-powered ho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more interference with other se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error detection and recov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powerful error detection/correction c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-layer retransmission of corrupted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3ED7-8DDA-44FD-81D2-51877EC3200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Wireless Links: Broadcast Limitation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d broadcast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thernet bridging, in wired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receive transmissions from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less broadcast: hidden terminal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5B1A-3D2C-458F-85B4-B9AE826E8F3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577800" y="3886200"/>
            <a:ext cx="4092120" cy="2802240"/>
            <a:chOff x="577800" y="3886200"/>
            <a:chExt cx="4092120" cy="2802240"/>
          </a:xfrm>
        </p:grpSpPr>
        <p:grpSp>
          <p:nvGrpSpPr>
            <p:cNvPr id="557" name="Group 5"/>
            <p:cNvGrpSpPr/>
            <p:nvPr/>
          </p:nvGrpSpPr>
          <p:grpSpPr>
            <a:xfrm>
              <a:off x="2185560" y="3913560"/>
              <a:ext cx="1116360" cy="1282320"/>
              <a:chOff x="2185560" y="3913560"/>
              <a:chExt cx="1116360" cy="1282320"/>
            </a:xfrm>
          </p:grpSpPr>
          <p:pic>
            <p:nvPicPr>
              <p:cNvPr id="558" name="Objec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3913560"/>
                <a:ext cx="103968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0080" y="4249800"/>
                <a:ext cx="951840" cy="94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Freeform 8"/>
            <p:cNvSpPr/>
            <p:nvPr/>
          </p:nvSpPr>
          <p:spPr>
            <a:xfrm>
              <a:off x="577800" y="3886200"/>
              <a:ext cx="2658600" cy="188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9"/>
            <p:cNvGrpSpPr/>
            <p:nvPr/>
          </p:nvGrpSpPr>
          <p:grpSpPr>
            <a:xfrm>
              <a:off x="1191240" y="5480280"/>
              <a:ext cx="1005840" cy="1208160"/>
              <a:chOff x="1191240" y="5480280"/>
              <a:chExt cx="1005840" cy="1208160"/>
            </a:xfrm>
          </p:grpSpPr>
          <p:pic>
            <p:nvPicPr>
              <p:cNvPr id="562" name="Object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1240" y="5480280"/>
                <a:ext cx="93636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Object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9560" y="5797080"/>
                <a:ext cx="857520" cy="89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4" name="Group 12"/>
            <p:cNvGrpSpPr/>
            <p:nvPr/>
          </p:nvGrpSpPr>
          <p:grpSpPr>
            <a:xfrm>
              <a:off x="3427920" y="4940640"/>
              <a:ext cx="1005840" cy="1208160"/>
              <a:chOff x="3427920" y="4940640"/>
              <a:chExt cx="1005840" cy="1208160"/>
            </a:xfrm>
          </p:grpSpPr>
          <p:pic>
            <p:nvPicPr>
              <p:cNvPr id="565" name="Object 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7920" y="4940640"/>
                <a:ext cx="93636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Object 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6240" y="5257440"/>
                <a:ext cx="857520" cy="89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7" name="Line 15"/>
            <p:cNvSpPr/>
            <p:nvPr/>
          </p:nvSpPr>
          <p:spPr>
            <a:xfrm flipV="1">
              <a:off x="2252520" y="5992560"/>
              <a:ext cx="1312920" cy="294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>
              <a:off x="3137760" y="5160600"/>
              <a:ext cx="536760" cy="55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1109520" y="5805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352040" y="5411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3200040" y="4188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21"/>
          <p:cNvSpPr/>
          <p:nvPr/>
        </p:nvSpPr>
        <p:spPr>
          <a:xfrm>
            <a:off x="5000760" y="4057560"/>
            <a:ext cx="3686040" cy="2288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and B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and C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But, A and C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, A and C are unaware of their interference a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56:01Z</dcterms:created>
  <dc:creator>Kai Li</dc:creator>
  <dc:description/>
  <cp:keywords/>
  <dc:language>en-US</dc:language>
  <cp:lastModifiedBy>Jennifer Rexford</cp:lastModifiedBy>
  <cp:lastPrinted>2012-04-13T02:48:02Z</cp:lastPrinted>
  <dcterms:modified xsi:type="dcterms:W3CDTF">2012-04-13T02:51:48Z</dcterms:modified>
  <cp:revision>3884</cp:revision>
  <dc:subject/>
  <dc:title>Communication</dc:title>
</cp:coreProperties>
</file>