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32FF7ED-E544-47A6-8DDF-D67BE4670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B7A238C-417E-43C7-97EC-60FAB040F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6A2423E-52A9-4005-BD84-303C6EADB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41637F9-EB02-4312-9AE9-03DFC408B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E28-5EF5-4563-9E86-9DB0268E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3E4-BA83-4E51-9FB2-1A65B201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B09-C77F-41EF-854F-946EC918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6D5-3960-4E9D-B005-F6EAD2B9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FF269-25B5-46F0-AC4E-B4BA4FD64B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FBA8E-6B7F-48B5-9C30-4197D1214F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F4550-836F-4FF2-8B1A-277B2AD761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3EA2D-A91E-483E-A516-BE24E5B44B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6E01C-3C20-4D39-BA6D-1713DFA4C5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72CED-0311-4D29-A72C-6CAFC83575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B07A5-5CAA-4C4F-973F-CAB9D6D1D6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ADD-686B-4018-B106-5598F91B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8C474-F6B4-445E-86FE-F3EDA4DE56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A9465-6B64-4E67-97D0-EB2C850263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3B5B4-EA95-45E2-BACE-A5AA367C3B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6BEDB-4CC7-49E2-B00B-4854D64A96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D6B52-12F1-4D5E-97F7-C52B8B1565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8F28C-8979-4E62-8BA1-976C602E2E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C5919-0395-40FA-8B2B-715E23D4AD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53849-2C73-4FA2-81E8-AA47C03770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ED1A4-EB77-49B9-A203-8D3BD3C9C0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13654-487D-4E92-98BC-BB78F15806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F6F-57B9-45A0-B1CD-0D583EA8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42189-9C43-4B15-9EA6-FC69D6BD42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1E1E6-CB55-4CC1-AFA5-95D211E167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9B25B-98CA-4EB3-9E77-CA57777E00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9C41F-4DEE-4B72-AE3B-6320BA5910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211C4-2641-4FE4-B902-4712740995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9D538-DE38-4233-855F-EBFE2D4673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42E8B-D3FE-492C-B132-A8C2E31DA9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0489-A074-45F8-A67B-1834A14CB1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4127-5FAA-4848-8446-6C64FDDFE4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D63E-CCB5-4CF8-8BFB-968232DF1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64F-BB75-4026-BF31-7FD5CD0F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7520-1B03-4947-AE95-79FE6519C7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B954-F559-45DB-A68E-C00E3A2272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28A5-BE0C-49EE-B54F-F5543B133E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1B41-6972-4C6E-B518-81B539F0B8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E300-1BD7-4F65-8F14-31AF7D35C2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9D8D-E55F-4443-998E-27FE4F0F21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F3FA-B51F-41AE-9A7A-7DC8CA7198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3902-052B-4D49-B284-C2EB1934AC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28D2-CB9A-426A-BA88-E6271DFCE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B26-4887-4665-A60D-DA8E4663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CB8-D721-46F1-94A2-61114831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42B-6C08-485A-A755-C4609AE8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62B-8816-4547-916C-B1C25540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D3C-7025-4864-B3F3-FB5847BB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6E21-D173-4D51-B75E-39E6E0248211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61D2-E3AC-47A2-AB52-02112BCFA8F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EDE3-860B-4EF7-9BD8-8E90FA691BD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B8F7-558B-4756-86BD-ED54BBE929F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0B10-631B-47E0-B9F0-21C420107F4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dos.csail.mit.edu/chor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969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90"/>
                </a:solidFill>
                <a:latin typeface="Calibri"/>
              </a:rPr>
              <a:t>Chord: A Scalable Peer-to-peer Lookup Protocol</a:t>
            </a:r>
            <a:br>
              <a:rPr sz="3600"/>
            </a:br>
            <a:r>
              <a:rPr b="0" lang="en-US" sz="3600" spc="-1" strike="noStrike">
                <a:solidFill>
                  <a:srgbClr val="000090"/>
                </a:solidFill>
                <a:latin typeface="Calibri"/>
              </a:rPr>
              <a:t>for Internet Applications</a:t>
            </a:r>
            <a:endParaRPr b="0" lang="en-US" sz="36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889440"/>
            <a:ext cx="9144000" cy="15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iaozhou Li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 461: Computer Networks (precept 04/06/12)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ceton Universit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ord overvie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vides peer-to-peer hash lookup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up(key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tur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rd does not store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does Chord route lookup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does Chord maintain routing tables?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7512-1877-4B7B-818A-DA5AF145AD6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ord ID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y identifier = SHA-1(key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 identifier = SHA-1(IP addres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th are uniformly distribu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th exist in the same ID sp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map key IDs to node ID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eart of Chord protocol is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istent hash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C77B-C521-4534-A0DA-2DA6A261F6C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3720" y="9000"/>
            <a:ext cx="8229600" cy="10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view: consistent hashing </a:t>
            </a:r>
            <a:br>
              <a:rPr sz="3800"/>
            </a:br>
            <a:r>
              <a:rPr b="0" lang="en-US" sz="3000" spc="-1" strike="noStrike">
                <a:solidFill>
                  <a:srgbClr val="000090"/>
                </a:solidFill>
                <a:latin typeface="Calibri"/>
              </a:rPr>
              <a:t>for data partitioning and replication</a:t>
            </a:r>
            <a:endParaRPr b="0" lang="en-US" sz="30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278" name="Base Chord Ring"/>
          <p:cNvGrpSpPr/>
          <p:nvPr/>
        </p:nvGrpSpPr>
        <p:grpSpPr>
          <a:xfrm>
            <a:off x="2417760" y="1009800"/>
            <a:ext cx="4498920" cy="5361480"/>
            <a:chOff x="2417760" y="1009800"/>
            <a:chExt cx="4498920" cy="5361480"/>
          </a:xfrm>
        </p:grpSpPr>
        <p:sp>
          <p:nvSpPr>
            <p:cNvPr id="279" name="Circle"/>
            <p:cNvSpPr/>
            <p:nvPr/>
          </p:nvSpPr>
          <p:spPr>
            <a:xfrm>
              <a:off x="2417760" y="1438200"/>
              <a:ext cx="4498920" cy="4429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0" name="Min/Max Point"/>
            <p:cNvSpPr/>
            <p:nvPr/>
          </p:nvSpPr>
          <p:spPr>
            <a:xfrm flipH="1">
              <a:off x="4664880" y="1224000"/>
              <a:ext cx="1800" cy="42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1" name="0"/>
            <p:cNvSpPr/>
            <p:nvPr/>
          </p:nvSpPr>
          <p:spPr>
            <a:xfrm>
              <a:off x="4674600" y="1009800"/>
              <a:ext cx="32148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alibri"/>
                  <a:ea typeface="Courier New"/>
                </a:rPr>
                <a:t>0</a:t>
              </a:r>
              <a:endParaRPr b="1" lang="en-US" sz="2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2" name="2^128"/>
            <p:cNvSpPr/>
            <p:nvPr/>
          </p:nvSpPr>
          <p:spPr>
            <a:xfrm>
              <a:off x="3506760" y="1009800"/>
              <a:ext cx="116028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alibri"/>
                  <a:ea typeface="Courier New"/>
                </a:rPr>
                <a:t>1</a:t>
              </a:r>
              <a:endParaRPr b="1" lang="en-US" sz="2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3" name="2^127"/>
            <p:cNvSpPr/>
            <p:nvPr/>
          </p:nvSpPr>
          <p:spPr>
            <a:xfrm>
              <a:off x="4086000" y="5934240"/>
              <a:ext cx="116208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alibri"/>
                  <a:ea typeface="Courier New"/>
                </a:rPr>
                <a:t>1/2</a:t>
              </a:r>
              <a:endParaRPr b="1" lang="en-US" sz="2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84" name="F's Segment (with repl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176760 w 4498920"/>
              <a:gd name="textAreaRight" fmla="*/ 4498920 w 4498920"/>
              <a:gd name="textAreaTop" fmla="*/ 0 h 4429080"/>
              <a:gd name="textAreaBottom" fmla="*/ 217908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185955" y="1443536"/>
                </a:moveTo>
                <a:lnTo>
                  <a:pt x="185954" y="1443535"/>
                </a:lnTo>
                <a:cubicBezTo>
                  <a:pt x="555266" y="568663"/>
                  <a:pt x="1412572" y="-1"/>
                  <a:pt x="2362200" y="0"/>
                </a:cubicBezTo>
                <a:cubicBezTo>
                  <a:pt x="3652030" y="0"/>
                  <a:pt x="4703401" y="1034636"/>
                  <a:pt x="4724095" y="2324300"/>
                </a:cubicBezTo>
                <a:lnTo>
                  <a:pt x="2362200" y="2362200"/>
                </a:lnTo>
                <a:lnTo>
                  <a:pt x="185955" y="1443536"/>
                </a:lnTo>
                <a:close/>
              </a:path>
              <a:path fill="none" w="4724400" h="4724400">
                <a:moveTo>
                  <a:pt x="185955" y="1443536"/>
                </a:moveTo>
                <a:lnTo>
                  <a:pt x="185954" y="1443535"/>
                </a:lnTo>
                <a:cubicBezTo>
                  <a:pt x="555266" y="568663"/>
                  <a:pt x="1412572" y="-1"/>
                  <a:pt x="2362200" y="0"/>
                </a:cubicBezTo>
                <a:cubicBezTo>
                  <a:pt x="3652030" y="0"/>
                  <a:pt x="4703401" y="1034636"/>
                  <a:pt x="4724095" y="2324300"/>
                </a:cubicBezTo>
              </a:path>
            </a:pathLst>
          </a:custGeom>
          <a:noFill/>
          <a:ln w="10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F's Segment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4050360 w 4498920"/>
              <a:gd name="textAreaRight" fmla="*/ 4498920 w 4498920"/>
              <a:gd name="textAreaTop" fmla="*/ 887400 h 4429080"/>
              <a:gd name="textAreaBottom" fmla="*/ 217908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4253322" y="946698"/>
                </a:moveTo>
                <a:lnTo>
                  <a:pt x="4253322" y="946697"/>
                </a:lnTo>
                <a:cubicBezTo>
                  <a:pt x="4551364" y="1344884"/>
                  <a:pt x="4716115" y="1826987"/>
                  <a:pt x="4724095" y="2324299"/>
                </a:cubicBezTo>
                <a:lnTo>
                  <a:pt x="2362200" y="2362200"/>
                </a:lnTo>
                <a:lnTo>
                  <a:pt x="4253322" y="946698"/>
                </a:lnTo>
                <a:close/>
              </a:path>
              <a:path fill="none" w="4724400" h="4724400">
                <a:moveTo>
                  <a:pt x="4253322" y="946698"/>
                </a:moveTo>
                <a:lnTo>
                  <a:pt x="4253322" y="946697"/>
                </a:lnTo>
                <a:cubicBezTo>
                  <a:pt x="4551364" y="1344884"/>
                  <a:pt x="4716115" y="1826987"/>
                  <a:pt x="4724095" y="2324299"/>
                </a:cubicBezTo>
              </a:path>
            </a:pathLst>
          </a:custGeom>
          <a:noFill/>
          <a:ln w="10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E's Segment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157680 w 4498920"/>
              <a:gd name="textAreaRight" fmla="*/ 1102680 w 4498920"/>
              <a:gd name="textAreaTop" fmla="*/ 309240 h 4429080"/>
              <a:gd name="textAreaBottom" fmla="*/ 139932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165798" y="1492828"/>
                </a:moveTo>
                <a:lnTo>
                  <a:pt x="165798" y="1492828"/>
                </a:lnTo>
                <a:cubicBezTo>
                  <a:pt x="358517" y="1005937"/>
                  <a:pt x="707555" y="596883"/>
                  <a:pt x="1158056" y="329953"/>
                </a:cubicBezTo>
                <a:lnTo>
                  <a:pt x="2362200" y="2362200"/>
                </a:lnTo>
                <a:lnTo>
                  <a:pt x="165798" y="1492828"/>
                </a:lnTo>
                <a:close/>
              </a:path>
              <a:path fill="none" w="4724400" h="4724400">
                <a:moveTo>
                  <a:pt x="165798" y="1492828"/>
                </a:moveTo>
                <a:lnTo>
                  <a:pt x="165798" y="1492828"/>
                </a:lnTo>
                <a:cubicBezTo>
                  <a:pt x="358517" y="1005937"/>
                  <a:pt x="707555" y="596883"/>
                  <a:pt x="1158056" y="329953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D's Segment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795600 w 4498920"/>
              <a:gd name="textAreaRight" fmla="*/ 3881880 w 4498920"/>
              <a:gd name="textAreaTop" fmla="*/ 3738240 h 4429080"/>
              <a:gd name="textAreaBottom" fmla="*/ 442944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4076434" y="3987436"/>
                </a:moveTo>
                <a:lnTo>
                  <a:pt x="4076433" y="3987435"/>
                </a:lnTo>
                <a:cubicBezTo>
                  <a:pt x="3630368" y="4457927"/>
                  <a:pt x="3010533" y="4724399"/>
                  <a:pt x="2362200" y="4724400"/>
                </a:cubicBezTo>
                <a:cubicBezTo>
                  <a:pt x="1803155" y="4724400"/>
                  <a:pt x="1262228" y="4526127"/>
                  <a:pt x="835610" y="4164840"/>
                </a:cubicBezTo>
                <a:lnTo>
                  <a:pt x="2362200" y="2362200"/>
                </a:lnTo>
                <a:lnTo>
                  <a:pt x="4076434" y="3987436"/>
                </a:lnTo>
                <a:close/>
              </a:path>
              <a:path fill="none" w="4724400" h="4724400">
                <a:moveTo>
                  <a:pt x="4076434" y="3987436"/>
                </a:moveTo>
                <a:lnTo>
                  <a:pt x="4076433" y="3987435"/>
                </a:lnTo>
                <a:cubicBezTo>
                  <a:pt x="3630368" y="4457927"/>
                  <a:pt x="3010533" y="4724399"/>
                  <a:pt x="2362200" y="4724400"/>
                </a:cubicBezTo>
                <a:cubicBezTo>
                  <a:pt x="1803155" y="4724400"/>
                  <a:pt x="1262228" y="4526127"/>
                  <a:pt x="835610" y="4164840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C's Segment (with D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0 w 4498920"/>
              <a:gd name="textAreaRight" fmla="*/ 487440 w 4498920"/>
              <a:gd name="textAreaTop" fmla="*/ 1780920 h 4429080"/>
              <a:gd name="textAreaBottom" fmla="*/ 359136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511986" y="3830769"/>
                </a:moveTo>
                <a:lnTo>
                  <a:pt x="511985" y="3830769"/>
                </a:lnTo>
                <a:cubicBezTo>
                  <a:pt x="180447" y="3413071"/>
                  <a:pt x="0" y="2895481"/>
                  <a:pt x="0" y="2362200"/>
                </a:cubicBezTo>
                <a:cubicBezTo>
                  <a:pt x="-1" y="2206890"/>
                  <a:pt x="15316" y="2051959"/>
                  <a:pt x="45728" y="1899656"/>
                </a:cubicBezTo>
                <a:lnTo>
                  <a:pt x="2362200" y="2362200"/>
                </a:lnTo>
                <a:lnTo>
                  <a:pt x="511986" y="3830769"/>
                </a:lnTo>
                <a:close/>
              </a:path>
              <a:path fill="none" w="4724400" h="4724400">
                <a:moveTo>
                  <a:pt x="511986" y="3830769"/>
                </a:moveTo>
                <a:lnTo>
                  <a:pt x="511985" y="3830769"/>
                </a:lnTo>
                <a:cubicBezTo>
                  <a:pt x="180447" y="3413071"/>
                  <a:pt x="0" y="2895481"/>
                  <a:pt x="0" y="2362200"/>
                </a:cubicBezTo>
                <a:cubicBezTo>
                  <a:pt x="-1" y="2206890"/>
                  <a:pt x="15316" y="2051959"/>
                  <a:pt x="45728" y="1899656"/>
                </a:cubicBezTo>
              </a:path>
            </a:pathLst>
          </a:custGeom>
          <a:noFill/>
          <a:ln w="1015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C's Segment (without D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0 w 4498920"/>
              <a:gd name="textAreaRight" fmla="*/ 3883680 w 4498920"/>
              <a:gd name="textAreaTop" fmla="*/ 1780920 h 4429080"/>
              <a:gd name="textAreaBottom" fmla="*/ 442944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4078097" y="3985680"/>
                </a:moveTo>
                <a:lnTo>
                  <a:pt x="4078096" y="3985679"/>
                </a:lnTo>
                <a:cubicBezTo>
                  <a:pt x="3631936" y="4457238"/>
                  <a:pt x="3011373" y="4724399"/>
                  <a:pt x="2362200" y="4724400"/>
                </a:cubicBezTo>
                <a:cubicBezTo>
                  <a:pt x="1057592" y="4724400"/>
                  <a:pt x="0" y="3666807"/>
                  <a:pt x="0" y="2362200"/>
                </a:cubicBezTo>
                <a:cubicBezTo>
                  <a:pt x="-1" y="2206890"/>
                  <a:pt x="15316" y="2051959"/>
                  <a:pt x="45727" y="1899656"/>
                </a:cubicBezTo>
                <a:lnTo>
                  <a:pt x="2362200" y="2362200"/>
                </a:lnTo>
                <a:lnTo>
                  <a:pt x="4078097" y="3985680"/>
                </a:lnTo>
                <a:close/>
              </a:path>
              <a:path fill="none" w="4724400" h="4724400">
                <a:moveTo>
                  <a:pt x="4078097" y="3985680"/>
                </a:moveTo>
                <a:lnTo>
                  <a:pt x="4078096" y="3985679"/>
                </a:lnTo>
                <a:cubicBezTo>
                  <a:pt x="3631936" y="4457238"/>
                  <a:pt x="3011373" y="4724399"/>
                  <a:pt x="2362200" y="4724400"/>
                </a:cubicBezTo>
                <a:cubicBezTo>
                  <a:pt x="1057592" y="4724400"/>
                  <a:pt x="0" y="3666807"/>
                  <a:pt x="0" y="2362200"/>
                </a:cubicBezTo>
                <a:cubicBezTo>
                  <a:pt x="-1" y="2206890"/>
                  <a:pt x="15316" y="2051959"/>
                  <a:pt x="45727" y="1899656"/>
                </a:cubicBezTo>
              </a:path>
            </a:pathLst>
          </a:custGeom>
          <a:noFill/>
          <a:ln w="1015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B's Segment (with repl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1482480 w 4498920"/>
              <a:gd name="textAreaRight" fmla="*/ 4499280 w 4498920"/>
              <a:gd name="textAreaTop" fmla="*/ 0 h 4429080"/>
              <a:gd name="textAreaBottom" fmla="*/ 334980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1556659" y="141594"/>
                </a:moveTo>
                <a:lnTo>
                  <a:pt x="1556658" y="141593"/>
                </a:lnTo>
                <a:cubicBezTo>
                  <a:pt x="1814896" y="47915"/>
                  <a:pt x="2087495" y="-1"/>
                  <a:pt x="2362200" y="0"/>
                </a:cubicBezTo>
                <a:cubicBezTo>
                  <a:pt x="3666807" y="0"/>
                  <a:pt x="4724400" y="1057592"/>
                  <a:pt x="4724400" y="2362200"/>
                </a:cubicBezTo>
                <a:cubicBezTo>
                  <a:pt x="4724400" y="2788599"/>
                  <a:pt x="4608983" y="3207047"/>
                  <a:pt x="4390394" y="3573155"/>
                </a:cubicBezTo>
                <a:lnTo>
                  <a:pt x="2362200" y="2362200"/>
                </a:lnTo>
                <a:lnTo>
                  <a:pt x="1556659" y="141594"/>
                </a:lnTo>
                <a:close/>
              </a:path>
              <a:path fill="none" w="4724400" h="4724400">
                <a:moveTo>
                  <a:pt x="1556659" y="141594"/>
                </a:moveTo>
                <a:lnTo>
                  <a:pt x="1556658" y="141593"/>
                </a:lnTo>
                <a:cubicBezTo>
                  <a:pt x="1814896" y="47915"/>
                  <a:pt x="2087495" y="-1"/>
                  <a:pt x="2362200" y="0"/>
                </a:cubicBezTo>
                <a:cubicBezTo>
                  <a:pt x="3666807" y="0"/>
                  <a:pt x="4724400" y="1057592"/>
                  <a:pt x="4724400" y="2362200"/>
                </a:cubicBezTo>
                <a:cubicBezTo>
                  <a:pt x="4724400" y="2788599"/>
                  <a:pt x="4608983" y="3207047"/>
                  <a:pt x="4390394" y="3573155"/>
                </a:cubicBezTo>
              </a:path>
            </a:pathLst>
          </a:custGeom>
          <a:noFill/>
          <a:ln w="10152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B's Segment (with F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4181040 w 4498920"/>
              <a:gd name="textAreaRight" fmla="*/ 4466160 w 4498920"/>
              <a:gd name="textAreaTop" fmla="*/ 2591640 h 4429080"/>
              <a:gd name="textAreaBottom" fmla="*/ 334980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4689907" y="2764407"/>
                </a:moveTo>
                <a:lnTo>
                  <a:pt x="4689906" y="2764406"/>
                </a:lnTo>
                <a:cubicBezTo>
                  <a:pt x="4640544" y="3050083"/>
                  <a:pt x="4539016" y="3324232"/>
                  <a:pt x="4390397" y="3573150"/>
                </a:cubicBezTo>
                <a:lnTo>
                  <a:pt x="2362200" y="2362200"/>
                </a:lnTo>
                <a:lnTo>
                  <a:pt x="4689907" y="2764407"/>
                </a:lnTo>
                <a:close/>
              </a:path>
              <a:path fill="none" w="4724400" h="4724400">
                <a:moveTo>
                  <a:pt x="4689907" y="2764407"/>
                </a:moveTo>
                <a:lnTo>
                  <a:pt x="4689906" y="2764406"/>
                </a:lnTo>
                <a:cubicBezTo>
                  <a:pt x="4640544" y="3050083"/>
                  <a:pt x="4539016" y="3324232"/>
                  <a:pt x="4390397" y="3573150"/>
                </a:cubicBezTo>
              </a:path>
            </a:pathLst>
          </a:custGeom>
          <a:noFill/>
          <a:ln w="10152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B's Segment (without F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4050360 w 4498920"/>
              <a:gd name="textAreaRight" fmla="*/ 4499280 w 4498920"/>
              <a:gd name="textAreaTop" fmla="*/ 887400 h 4429080"/>
              <a:gd name="textAreaBottom" fmla="*/ 334980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4253322" y="946698"/>
                </a:moveTo>
                <a:lnTo>
                  <a:pt x="4253322" y="946697"/>
                </a:lnTo>
                <a:cubicBezTo>
                  <a:pt x="4559128" y="1355258"/>
                  <a:pt x="4724400" y="1851867"/>
                  <a:pt x="4724400" y="2362200"/>
                </a:cubicBezTo>
                <a:cubicBezTo>
                  <a:pt x="4724400" y="2788599"/>
                  <a:pt x="4608983" y="3207047"/>
                  <a:pt x="4390394" y="3573155"/>
                </a:cubicBezTo>
                <a:lnTo>
                  <a:pt x="2362200" y="2362200"/>
                </a:lnTo>
                <a:lnTo>
                  <a:pt x="4253322" y="946698"/>
                </a:lnTo>
                <a:close/>
              </a:path>
              <a:path fill="none" w="4724400" h="4724400">
                <a:moveTo>
                  <a:pt x="4253322" y="946698"/>
                </a:moveTo>
                <a:lnTo>
                  <a:pt x="4253322" y="946697"/>
                </a:lnTo>
                <a:cubicBezTo>
                  <a:pt x="4559128" y="1355258"/>
                  <a:pt x="4724400" y="1851867"/>
                  <a:pt x="4724400" y="2362200"/>
                </a:cubicBezTo>
                <a:cubicBezTo>
                  <a:pt x="4724400" y="2788599"/>
                  <a:pt x="4608983" y="3207047"/>
                  <a:pt x="4390394" y="3573155"/>
                </a:cubicBezTo>
              </a:path>
            </a:pathLst>
          </a:custGeom>
          <a:noFill/>
          <a:ln w="10152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A's Segment (with repl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0 w 4498920"/>
              <a:gd name="textAreaRight" fmla="*/ 3770280 w 4498920"/>
              <a:gd name="textAreaTop" fmla="*/ 0 h 4429080"/>
              <a:gd name="textAreaBottom" fmla="*/ 358884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509715" y="3827904"/>
                </a:moveTo>
                <a:lnTo>
                  <a:pt x="509715" y="3827903"/>
                </a:lnTo>
                <a:cubicBezTo>
                  <a:pt x="179601" y="3410677"/>
                  <a:pt x="0" y="2894227"/>
                  <a:pt x="0" y="2362200"/>
                </a:cubicBezTo>
                <a:cubicBezTo>
                  <a:pt x="0" y="1057592"/>
                  <a:pt x="1057592" y="0"/>
                  <a:pt x="2362200" y="0"/>
                </a:cubicBezTo>
                <a:cubicBezTo>
                  <a:pt x="2953503" y="-1"/>
                  <a:pt x="3523304" y="221764"/>
                  <a:pt x="3959038" y="621483"/>
                </a:cubicBezTo>
                <a:lnTo>
                  <a:pt x="2362200" y="2362200"/>
                </a:lnTo>
                <a:lnTo>
                  <a:pt x="509715" y="3827904"/>
                </a:lnTo>
                <a:close/>
              </a:path>
              <a:path fill="none" w="4724400" h="4724400">
                <a:moveTo>
                  <a:pt x="509715" y="3827904"/>
                </a:moveTo>
                <a:lnTo>
                  <a:pt x="509715" y="3827903"/>
                </a:lnTo>
                <a:cubicBezTo>
                  <a:pt x="179601" y="3410677"/>
                  <a:pt x="0" y="2894227"/>
                  <a:pt x="0" y="2362200"/>
                </a:cubicBezTo>
                <a:cubicBezTo>
                  <a:pt x="0" y="1057592"/>
                  <a:pt x="1057592" y="0"/>
                  <a:pt x="2362200" y="0"/>
                </a:cubicBezTo>
                <a:cubicBezTo>
                  <a:pt x="2953503" y="-1"/>
                  <a:pt x="3523304" y="221764"/>
                  <a:pt x="3959038" y="621483"/>
                </a:cubicBezTo>
              </a:path>
            </a:pathLst>
          </a:custGeom>
          <a:noFill/>
          <a:ln w="1015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A's Segment (with E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1486080 w 4498920"/>
              <a:gd name="textAreaRight" fmla="*/ 3770280 w 4498920"/>
              <a:gd name="textAreaTop" fmla="*/ 0 h 4429080"/>
              <a:gd name="textAreaBottom" fmla="*/ 58248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1560495" y="140206"/>
                </a:moveTo>
                <a:lnTo>
                  <a:pt x="1560494" y="140205"/>
                </a:lnTo>
                <a:cubicBezTo>
                  <a:pt x="1817605" y="47439"/>
                  <a:pt x="2088865" y="-1"/>
                  <a:pt x="2362200" y="0"/>
                </a:cubicBezTo>
                <a:cubicBezTo>
                  <a:pt x="2953503" y="0"/>
                  <a:pt x="3523305" y="221764"/>
                  <a:pt x="3959039" y="621484"/>
                </a:cubicBezTo>
                <a:lnTo>
                  <a:pt x="2362200" y="2362200"/>
                </a:lnTo>
                <a:lnTo>
                  <a:pt x="1560495" y="140206"/>
                </a:lnTo>
                <a:close/>
              </a:path>
              <a:path fill="none" w="4724400" h="4724400">
                <a:moveTo>
                  <a:pt x="1560495" y="140206"/>
                </a:moveTo>
                <a:lnTo>
                  <a:pt x="1560494" y="140205"/>
                </a:lnTo>
                <a:cubicBezTo>
                  <a:pt x="1817605" y="47439"/>
                  <a:pt x="2088865" y="-1"/>
                  <a:pt x="2362200" y="0"/>
                </a:cubicBezTo>
                <a:cubicBezTo>
                  <a:pt x="2953503" y="0"/>
                  <a:pt x="3523305" y="221764"/>
                  <a:pt x="3959039" y="621484"/>
                </a:cubicBezTo>
              </a:path>
            </a:pathLst>
          </a:custGeom>
          <a:noFill/>
          <a:ln w="1015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A's Segment (without E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196920 w 4498920"/>
              <a:gd name="textAreaRight" fmla="*/ 3770280 w 4498920"/>
              <a:gd name="textAreaTop" fmla="*/ 0 h 4429080"/>
              <a:gd name="textAreaBottom" fmla="*/ 130788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207060" y="1395061"/>
                </a:moveTo>
                <a:lnTo>
                  <a:pt x="207059" y="1395060"/>
                </a:lnTo>
                <a:cubicBezTo>
                  <a:pt x="588000" y="546184"/>
                  <a:pt x="1431765" y="-1"/>
                  <a:pt x="2362200" y="0"/>
                </a:cubicBezTo>
                <a:cubicBezTo>
                  <a:pt x="2953503" y="0"/>
                  <a:pt x="3523305" y="221764"/>
                  <a:pt x="3959039" y="621484"/>
                </a:cubicBezTo>
                <a:lnTo>
                  <a:pt x="2362200" y="2362200"/>
                </a:lnTo>
                <a:lnTo>
                  <a:pt x="207060" y="1395061"/>
                </a:lnTo>
                <a:close/>
              </a:path>
              <a:path fill="none" w="4724400" h="4724400">
                <a:moveTo>
                  <a:pt x="207060" y="1395061"/>
                </a:moveTo>
                <a:lnTo>
                  <a:pt x="207059" y="1395060"/>
                </a:lnTo>
                <a:cubicBezTo>
                  <a:pt x="588000" y="546184"/>
                  <a:pt x="1431765" y="-1"/>
                  <a:pt x="2362200" y="0"/>
                </a:cubicBezTo>
                <a:cubicBezTo>
                  <a:pt x="2953503" y="0"/>
                  <a:pt x="3523305" y="221764"/>
                  <a:pt x="3959039" y="621484"/>
                </a:cubicBezTo>
              </a:path>
            </a:pathLst>
          </a:custGeom>
          <a:noFill/>
          <a:ln w="1015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6" name="Node F"/>
          <p:cNvGrpSpPr/>
          <p:nvPr/>
        </p:nvGrpSpPr>
        <p:grpSpPr>
          <a:xfrm>
            <a:off x="6626160" y="3581280"/>
            <a:ext cx="507960" cy="500040"/>
            <a:chOff x="6626160" y="3581280"/>
            <a:chExt cx="507960" cy="500040"/>
          </a:xfrm>
        </p:grpSpPr>
        <p:sp>
          <p:nvSpPr>
            <p:cNvPr id="297" name="F Circle"/>
            <p:cNvSpPr/>
            <p:nvPr/>
          </p:nvSpPr>
          <p:spPr>
            <a:xfrm>
              <a:off x="6626160" y="3581280"/>
              <a:ext cx="507960" cy="500040"/>
            </a:xfrm>
            <a:prstGeom prst="ellipse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8" name="&quot;F&quot;"/>
            <p:cNvSpPr/>
            <p:nvPr/>
          </p:nvSpPr>
          <p:spPr>
            <a:xfrm>
              <a:off x="6626160" y="3581280"/>
              <a:ext cx="5079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endParaRPr b="1" lang="en-US" sz="2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99" name="Node E"/>
          <p:cNvGrpSpPr/>
          <p:nvPr/>
        </p:nvGrpSpPr>
        <p:grpSpPr>
          <a:xfrm>
            <a:off x="3433680" y="1366920"/>
            <a:ext cx="507960" cy="500040"/>
            <a:chOff x="3433680" y="1366920"/>
            <a:chExt cx="507960" cy="500040"/>
          </a:xfrm>
        </p:grpSpPr>
        <p:sp>
          <p:nvSpPr>
            <p:cNvPr id="300" name="E Circle"/>
            <p:cNvSpPr/>
            <p:nvPr/>
          </p:nvSpPr>
          <p:spPr>
            <a:xfrm>
              <a:off x="3433680" y="1366920"/>
              <a:ext cx="507960" cy="500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&quot;E&quot;"/>
            <p:cNvSpPr/>
            <p:nvPr/>
          </p:nvSpPr>
          <p:spPr>
            <a:xfrm>
              <a:off x="3433680" y="1366920"/>
              <a:ext cx="5079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1" lang="en-US" sz="2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2" name="Node D"/>
          <p:cNvGrpSpPr/>
          <p:nvPr/>
        </p:nvGrpSpPr>
        <p:grpSpPr>
          <a:xfrm>
            <a:off x="2779560" y="4938840"/>
            <a:ext cx="508320" cy="500040"/>
            <a:chOff x="2779560" y="4938840"/>
            <a:chExt cx="508320" cy="500040"/>
          </a:xfrm>
        </p:grpSpPr>
        <p:sp>
          <p:nvSpPr>
            <p:cNvPr id="303" name="Oval 28"/>
            <p:cNvSpPr/>
            <p:nvPr/>
          </p:nvSpPr>
          <p:spPr>
            <a:xfrm>
              <a:off x="2779560" y="4938840"/>
              <a:ext cx="508320" cy="500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TextBox 29"/>
            <p:cNvSpPr/>
            <p:nvPr/>
          </p:nvSpPr>
          <p:spPr>
            <a:xfrm>
              <a:off x="2779560" y="4938840"/>
              <a:ext cx="508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1" lang="en-US" sz="2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5" name="Node C"/>
          <p:cNvGrpSpPr/>
          <p:nvPr/>
        </p:nvGrpSpPr>
        <p:grpSpPr>
          <a:xfrm>
            <a:off x="2271600" y="2724120"/>
            <a:ext cx="507960" cy="500040"/>
            <a:chOff x="2271600" y="2724120"/>
            <a:chExt cx="507960" cy="500040"/>
          </a:xfrm>
        </p:grpSpPr>
        <p:sp>
          <p:nvSpPr>
            <p:cNvPr id="306" name="Oval 24"/>
            <p:cNvSpPr/>
            <p:nvPr/>
          </p:nvSpPr>
          <p:spPr>
            <a:xfrm>
              <a:off x="2271600" y="2724120"/>
              <a:ext cx="507960" cy="500040"/>
            </a:xfrm>
            <a:prstGeom prst="ellipse">
              <a:avLst/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7" name="TextBox 25"/>
            <p:cNvSpPr/>
            <p:nvPr/>
          </p:nvSpPr>
          <p:spPr>
            <a:xfrm>
              <a:off x="2271600" y="2724120"/>
              <a:ext cx="5079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1" lang="en-US" sz="2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8" name="Node B"/>
          <p:cNvGrpSpPr/>
          <p:nvPr/>
        </p:nvGrpSpPr>
        <p:grpSpPr>
          <a:xfrm>
            <a:off x="6191280" y="4724280"/>
            <a:ext cx="507960" cy="500040"/>
            <a:chOff x="6191280" y="4724280"/>
            <a:chExt cx="507960" cy="500040"/>
          </a:xfrm>
        </p:grpSpPr>
        <p:sp>
          <p:nvSpPr>
            <p:cNvPr id="309" name="Oval 20"/>
            <p:cNvSpPr/>
            <p:nvPr/>
          </p:nvSpPr>
          <p:spPr>
            <a:xfrm>
              <a:off x="6191280" y="4724280"/>
              <a:ext cx="507960" cy="50004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TextBox 21"/>
            <p:cNvSpPr/>
            <p:nvPr/>
          </p:nvSpPr>
          <p:spPr>
            <a:xfrm>
              <a:off x="6191280" y="4724280"/>
              <a:ext cx="5079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1" lang="en-US" sz="2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11" name="Node A"/>
          <p:cNvGrpSpPr/>
          <p:nvPr/>
        </p:nvGrpSpPr>
        <p:grpSpPr>
          <a:xfrm>
            <a:off x="6118200" y="1938240"/>
            <a:ext cx="507960" cy="500040"/>
            <a:chOff x="6118200" y="1938240"/>
            <a:chExt cx="507960" cy="500040"/>
          </a:xfrm>
        </p:grpSpPr>
        <p:sp>
          <p:nvSpPr>
            <p:cNvPr id="312" name="Oval 22"/>
            <p:cNvSpPr/>
            <p:nvPr/>
          </p:nvSpPr>
          <p:spPr>
            <a:xfrm>
              <a:off x="6118200" y="1938240"/>
              <a:ext cx="507960" cy="500040"/>
            </a:xfrm>
            <a:prstGeom prst="ellipse">
              <a:avLst/>
            </a:prstGeom>
            <a:solidFill>
              <a:srgbClr val="c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3" name="TextBox 23"/>
            <p:cNvSpPr/>
            <p:nvPr/>
          </p:nvSpPr>
          <p:spPr>
            <a:xfrm>
              <a:off x="6118200" y="1938240"/>
              <a:ext cx="5079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2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14" name="h(k2) -&gt; C arrow"/>
          <p:cNvSpPr/>
          <p:nvPr/>
        </p:nvSpPr>
        <p:spPr>
          <a:xfrm>
            <a:off x="2211480" y="3189240"/>
            <a:ext cx="125280" cy="592200"/>
          </a:xfrm>
          <a:custGeom>
            <a:avLst/>
            <a:gdLst>
              <a:gd name="textAreaLeft" fmla="*/ 0 w 125280"/>
              <a:gd name="textAreaRight" fmla="*/ 125640 w 12528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132169" h="631178">
                <a:moveTo>
                  <a:pt x="132169" y="631178"/>
                </a:moveTo>
                <a:cubicBezTo>
                  <a:pt x="68781" y="530027"/>
                  <a:pt x="5394" y="428877"/>
                  <a:pt x="2697" y="323681"/>
                </a:cubicBezTo>
                <a:cubicBezTo>
                  <a:pt x="0" y="218485"/>
                  <a:pt x="57992" y="109242"/>
                  <a:pt x="11598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N=3"/>
          <p:cNvSpPr/>
          <p:nvPr/>
        </p:nvSpPr>
        <p:spPr>
          <a:xfrm>
            <a:off x="129960" y="1433520"/>
            <a:ext cx="28162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Courier New"/>
              </a:rPr>
              <a:t>replication factor N=3</a:t>
            </a:r>
            <a:endParaRPr b="1" lang="en-US" sz="2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h(k1) -&gt; B arrow"/>
          <p:cNvSpPr/>
          <p:nvPr/>
        </p:nvSpPr>
        <p:spPr>
          <a:xfrm>
            <a:off x="5583240" y="1430280"/>
            <a:ext cx="1909800" cy="34020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3402000"/>
              <a:gd name="textAreaBottom" fmla="*/ 3402360 h 3402000"/>
            </a:gdLst>
            <a:ahLst/>
            <a:rect l="textAreaLeft" t="textAreaTop" r="textAreaRight" b="textAreaBottom"/>
            <a:pathLst>
              <a:path w="2005012" h="3627437">
                <a:moveTo>
                  <a:pt x="0" y="122237"/>
                </a:moveTo>
                <a:cubicBezTo>
                  <a:pt x="354806" y="61118"/>
                  <a:pt x="709613" y="0"/>
                  <a:pt x="971550" y="65087"/>
                </a:cubicBezTo>
                <a:cubicBezTo>
                  <a:pt x="1233487" y="130174"/>
                  <a:pt x="1404938" y="301625"/>
                  <a:pt x="1571625" y="512762"/>
                </a:cubicBezTo>
                <a:cubicBezTo>
                  <a:pt x="1738313" y="723900"/>
                  <a:pt x="1938338" y="960437"/>
                  <a:pt x="1971675" y="1331912"/>
                </a:cubicBezTo>
                <a:cubicBezTo>
                  <a:pt x="2005012" y="1703387"/>
                  <a:pt x="1897062" y="2359025"/>
                  <a:pt x="1771650" y="2741612"/>
                </a:cubicBezTo>
                <a:cubicBezTo>
                  <a:pt x="1646238" y="3124199"/>
                  <a:pt x="1432719" y="3375818"/>
                  <a:pt x="1219200" y="36274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h(k1) -&gt; F arrow"/>
          <p:cNvSpPr/>
          <p:nvPr/>
        </p:nvSpPr>
        <p:spPr>
          <a:xfrm>
            <a:off x="5583240" y="1511280"/>
            <a:ext cx="1603440" cy="2043000"/>
          </a:xfrm>
          <a:custGeom>
            <a:avLst/>
            <a:gdLst>
              <a:gd name="textAreaLeft" fmla="*/ 0 w 1603440"/>
              <a:gd name="textAreaRight" fmla="*/ 1603800 w 1603440"/>
              <a:gd name="textAreaTop" fmla="*/ 0 h 2043000"/>
              <a:gd name="textAreaBottom" fmla="*/ 2043000 h 2043000"/>
            </a:gdLst>
            <a:ahLst/>
            <a:rect l="textAreaLeft" t="textAreaTop" r="textAreaRight" b="textAreaBottom"/>
            <a:pathLst>
              <a:path w="1682750" h="2179637">
                <a:moveTo>
                  <a:pt x="0" y="36512"/>
                </a:moveTo>
                <a:cubicBezTo>
                  <a:pt x="232569" y="18256"/>
                  <a:pt x="465138" y="0"/>
                  <a:pt x="657225" y="55562"/>
                </a:cubicBezTo>
                <a:cubicBezTo>
                  <a:pt x="849312" y="111124"/>
                  <a:pt x="1011238" y="228600"/>
                  <a:pt x="1152525" y="369887"/>
                </a:cubicBezTo>
                <a:cubicBezTo>
                  <a:pt x="1293812" y="511174"/>
                  <a:pt x="1417638" y="723900"/>
                  <a:pt x="1504950" y="903287"/>
                </a:cubicBezTo>
                <a:cubicBezTo>
                  <a:pt x="1592262" y="1082674"/>
                  <a:pt x="1670050" y="1233487"/>
                  <a:pt x="1676400" y="1446212"/>
                </a:cubicBezTo>
                <a:cubicBezTo>
                  <a:pt x="1682750" y="1658937"/>
                  <a:pt x="1612900" y="1919287"/>
                  <a:pt x="1543050" y="21796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h(k1) -&gt; A arrow"/>
          <p:cNvSpPr/>
          <p:nvPr/>
        </p:nvSpPr>
        <p:spPr>
          <a:xfrm>
            <a:off x="5573880" y="1546200"/>
            <a:ext cx="726840" cy="357120"/>
          </a:xfrm>
          <a:custGeom>
            <a:avLst/>
            <a:gdLst>
              <a:gd name="textAreaLeft" fmla="*/ 0 w 726840"/>
              <a:gd name="textAreaRight" fmla="*/ 727200 w 7268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762000" h="381000">
                <a:moveTo>
                  <a:pt x="0" y="0"/>
                </a:moveTo>
                <a:cubicBezTo>
                  <a:pt x="142081" y="794"/>
                  <a:pt x="284163" y="1588"/>
                  <a:pt x="390525" y="28575"/>
                </a:cubicBezTo>
                <a:cubicBezTo>
                  <a:pt x="496888" y="55563"/>
                  <a:pt x="576263" y="103188"/>
                  <a:pt x="638175" y="161925"/>
                </a:cubicBezTo>
                <a:cubicBezTo>
                  <a:pt x="700087" y="220662"/>
                  <a:pt x="731043" y="300831"/>
                  <a:pt x="762000" y="3810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h(k2) arrow"/>
          <p:cNvSpPr/>
          <p:nvPr/>
        </p:nvSpPr>
        <p:spPr>
          <a:xfrm>
            <a:off x="1474920" y="3581280"/>
            <a:ext cx="1233360" cy="285840"/>
          </a:xfrm>
          <a:custGeom>
            <a:avLst/>
            <a:gdLst>
              <a:gd name="textAreaLeft" fmla="*/ 203760 w 1233360"/>
              <a:gd name="textAreaRight" fmla="*/ 931680 w 1233360"/>
              <a:gd name="textAreaTop" fmla="*/ 249120 h 285840"/>
              <a:gd name="textAreaBottom" fmla="*/ 286200 h 285840"/>
            </a:gdLst>
            <a:ahLst/>
            <a:rect l="textAreaLeft" t="textAreaTop" r="textAreaRight" b="textAreaBottom"/>
            <a:pathLst>
              <a:path stroke="0" w="1295400" h="304800">
                <a:moveTo>
                  <a:pt x="978371" y="283443"/>
                </a:moveTo>
                <a:lnTo>
                  <a:pt x="978370" y="283442"/>
                </a:lnTo>
                <a:cubicBezTo>
                  <a:pt x="878302" y="297422"/>
                  <a:pt x="764076" y="304799"/>
                  <a:pt x="647700" y="304800"/>
                </a:cubicBezTo>
                <a:cubicBezTo>
                  <a:pt x="487585" y="304800"/>
                  <a:pt x="333145" y="290845"/>
                  <a:pt x="214183" y="265629"/>
                </a:cubicBezTo>
                <a:lnTo>
                  <a:pt x="647700" y="152400"/>
                </a:lnTo>
                <a:lnTo>
                  <a:pt x="978371" y="283443"/>
                </a:lnTo>
                <a:close/>
              </a:path>
              <a:path fill="none" w="1295400" h="304800">
                <a:moveTo>
                  <a:pt x="978371" y="283443"/>
                </a:moveTo>
                <a:lnTo>
                  <a:pt x="978370" y="283442"/>
                </a:lnTo>
                <a:cubicBezTo>
                  <a:pt x="878302" y="297422"/>
                  <a:pt x="764076" y="304799"/>
                  <a:pt x="647700" y="304800"/>
                </a:cubicBezTo>
                <a:cubicBezTo>
                  <a:pt x="487585" y="304800"/>
                  <a:pt x="333145" y="290845"/>
                  <a:pt x="214183" y="2656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h(k2) label"/>
          <p:cNvSpPr/>
          <p:nvPr/>
        </p:nvSpPr>
        <p:spPr>
          <a:xfrm>
            <a:off x="218160" y="3581280"/>
            <a:ext cx="15069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Courier New"/>
              </a:rPr>
              <a:t>hash(key2)</a:t>
            </a:r>
            <a:endParaRPr b="1" lang="en-US" sz="23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1" name="h(k1)"/>
          <p:cNvGrpSpPr/>
          <p:nvPr/>
        </p:nvGrpSpPr>
        <p:grpSpPr>
          <a:xfrm>
            <a:off x="5416560" y="1030320"/>
            <a:ext cx="2413800" cy="749160"/>
            <a:chOff x="5416560" y="1030320"/>
            <a:chExt cx="2413800" cy="749160"/>
          </a:xfrm>
        </p:grpSpPr>
        <p:sp>
          <p:nvSpPr>
            <p:cNvPr id="322" name="h(k1) arrow"/>
            <p:cNvSpPr/>
            <p:nvPr/>
          </p:nvSpPr>
          <p:spPr>
            <a:xfrm>
              <a:off x="5416560" y="1241280"/>
              <a:ext cx="1936800" cy="538200"/>
            </a:xfrm>
            <a:custGeom>
              <a:avLst/>
              <a:gdLst>
                <a:gd name="textAreaLeft" fmla="*/ 14400 w 1936800"/>
                <a:gd name="textAreaRight" fmla="*/ 942840 w 1936800"/>
                <a:gd name="textAreaTop" fmla="*/ 0 h 538200"/>
                <a:gd name="textAreaBottom" fmla="*/ 222480 h 538200"/>
              </a:gdLst>
              <a:ahLst/>
              <a:rect l="textAreaLeft" t="textAreaTop" r="textAreaRight" b="textAreaBottom"/>
              <a:pathLst>
                <a:path stroke="0" w="1981208" h="1219200">
                  <a:moveTo>
                    <a:pt x="14891" y="504299"/>
                  </a:moveTo>
                  <a:lnTo>
                    <a:pt x="14890" y="504298"/>
                  </a:lnTo>
                  <a:cubicBezTo>
                    <a:pt x="96286" y="218684"/>
                    <a:pt x="493355" y="7884"/>
                    <a:pt x="964398" y="213"/>
                  </a:cubicBezTo>
                  <a:lnTo>
                    <a:pt x="990604" y="609600"/>
                  </a:lnTo>
                  <a:lnTo>
                    <a:pt x="14891" y="504299"/>
                  </a:lnTo>
                  <a:close/>
                </a:path>
                <a:path fill="none" w="1981208" h="1219200">
                  <a:moveTo>
                    <a:pt x="14891" y="504299"/>
                  </a:moveTo>
                  <a:lnTo>
                    <a:pt x="14890" y="504298"/>
                  </a:lnTo>
                  <a:cubicBezTo>
                    <a:pt x="96286" y="218684"/>
                    <a:pt x="493355" y="7884"/>
                    <a:pt x="964398" y="2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3" name="h(k1) label"/>
            <p:cNvSpPr/>
            <p:nvPr/>
          </p:nvSpPr>
          <p:spPr>
            <a:xfrm>
              <a:off x="6323400" y="1030320"/>
              <a:ext cx="15069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alibri"/>
                  <a:ea typeface="Courier New"/>
                </a:rPr>
                <a:t>hash(key1)</a:t>
              </a:r>
              <a:endParaRPr b="1" lang="en-US" sz="2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70B9-954F-4428-9F7B-2606FF8EBBD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Rectangle 54"/>
          <p:cNvSpPr/>
          <p:nvPr/>
        </p:nvSpPr>
        <p:spPr>
          <a:xfrm>
            <a:off x="1000080" y="6270480"/>
            <a:ext cx="74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key is stored at it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uccess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node with next higher I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dentifier to node mapping 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F213-B17E-47A5-9831-93EDA4D4C7F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320" y="1701720"/>
            <a:ext cx="3276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Node  8 maps [5,8]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Node 15 maps [9,15]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Node 20 maps [16, 20]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Node 4 maps [59, 4]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Each node maintains a pointer to its successo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Oval 4"/>
          <p:cNvSpPr/>
          <p:nvPr/>
        </p:nvSpPr>
        <p:spPr>
          <a:xfrm>
            <a:off x="3714840" y="154944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561000" y="171612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31" name="Picture 6" descr="j0230337"/>
          <p:cNvPicPr/>
          <p:nvPr/>
        </p:nvPicPr>
        <p:blipFill>
          <a:blip r:embed="rId1"/>
          <a:stretch/>
        </p:blipFill>
        <p:spPr>
          <a:xfrm>
            <a:off x="6829560" y="1168560"/>
            <a:ext cx="266400" cy="438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j0230337"/>
          <p:cNvPicPr/>
          <p:nvPr/>
        </p:nvPicPr>
        <p:blipFill>
          <a:blip r:embed="rId2"/>
          <a:stretch/>
        </p:blipFill>
        <p:spPr>
          <a:xfrm>
            <a:off x="8325000" y="4692600"/>
            <a:ext cx="266400" cy="438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8"/>
          <p:cNvSpPr/>
          <p:nvPr/>
        </p:nvSpPr>
        <p:spPr>
          <a:xfrm>
            <a:off x="7635600" y="45212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34" name="Picture 9" descr="j0230337"/>
          <p:cNvPicPr/>
          <p:nvPr/>
        </p:nvPicPr>
        <p:blipFill>
          <a:blip r:embed="rId3"/>
          <a:stretch/>
        </p:blipFill>
        <p:spPr>
          <a:xfrm>
            <a:off x="5924520" y="6216480"/>
            <a:ext cx="266760" cy="4384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0"/>
          <p:cNvSpPr/>
          <p:nvPr/>
        </p:nvSpPr>
        <p:spPr>
          <a:xfrm>
            <a:off x="5788800" y="56642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4779000" y="552600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37" name="Picture 12" descr="j0230337"/>
          <p:cNvPicPr/>
          <p:nvPr/>
        </p:nvPicPr>
        <p:blipFill>
          <a:blip r:embed="rId4"/>
          <a:stretch/>
        </p:blipFill>
        <p:spPr>
          <a:xfrm>
            <a:off x="4933800" y="606420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3"/>
          <p:cNvSpPr/>
          <p:nvPr/>
        </p:nvSpPr>
        <p:spPr>
          <a:xfrm>
            <a:off x="7294320" y="217332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7903440" y="35449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3940200" y="44449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4722120" y="20066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2" name="Picture 17" descr="j0230337"/>
          <p:cNvPicPr/>
          <p:nvPr/>
        </p:nvPicPr>
        <p:blipFill>
          <a:blip r:embed="rId5"/>
          <a:stretch/>
        </p:blipFill>
        <p:spPr>
          <a:xfrm>
            <a:off x="3524400" y="4597560"/>
            <a:ext cx="266400" cy="438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8" descr="j0230337"/>
          <p:cNvPicPr/>
          <p:nvPr/>
        </p:nvPicPr>
        <p:blipFill>
          <a:blip r:embed="rId6"/>
          <a:stretch/>
        </p:blipFill>
        <p:spPr>
          <a:xfrm>
            <a:off x="4438800" y="1473120"/>
            <a:ext cx="266400" cy="438120"/>
          </a:xfrm>
          <a:prstGeom prst="rect">
            <a:avLst/>
          </a:prstGeom>
          <a:ln w="0">
            <a:noFill/>
          </a:ln>
        </p:spPr>
      </p:pic>
      <p:sp>
        <p:nvSpPr>
          <p:cNvPr id="344" name="Line 19"/>
          <p:cNvSpPr/>
          <p:nvPr/>
        </p:nvSpPr>
        <p:spPr>
          <a:xfrm flipV="1">
            <a:off x="3867120" y="467352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4695840" y="1913040"/>
            <a:ext cx="9216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6" name="Picture 21" descr="j0230337"/>
          <p:cNvPicPr/>
          <p:nvPr/>
        </p:nvPicPr>
        <p:blipFill>
          <a:blip r:embed="rId7"/>
          <a:stretch/>
        </p:blipFill>
        <p:spPr>
          <a:xfrm>
            <a:off x="8439120" y="345456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47" name="Line 22"/>
          <p:cNvSpPr/>
          <p:nvPr/>
        </p:nvSpPr>
        <p:spPr>
          <a:xfrm flipV="1">
            <a:off x="5086440" y="5816520"/>
            <a:ext cx="7596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Line 23"/>
          <p:cNvSpPr/>
          <p:nvPr/>
        </p:nvSpPr>
        <p:spPr>
          <a:xfrm flipV="1">
            <a:off x="6000840" y="604512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Line 24"/>
          <p:cNvSpPr/>
          <p:nvPr/>
        </p:nvSpPr>
        <p:spPr>
          <a:xfrm flipH="1" flipV="1">
            <a:off x="8057880" y="474984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Line 25"/>
          <p:cNvSpPr/>
          <p:nvPr/>
        </p:nvSpPr>
        <p:spPr>
          <a:xfrm flipH="1">
            <a:off x="8286480" y="36831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Line 26"/>
          <p:cNvSpPr/>
          <p:nvPr/>
        </p:nvSpPr>
        <p:spPr>
          <a:xfrm flipV="1">
            <a:off x="7572240" y="2149200"/>
            <a:ext cx="11268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52" name="Picture 27" descr="j0230337"/>
          <p:cNvPicPr/>
          <p:nvPr/>
        </p:nvPicPr>
        <p:blipFill>
          <a:blip r:embed="rId8"/>
          <a:stretch/>
        </p:blipFill>
        <p:spPr>
          <a:xfrm>
            <a:off x="7751880" y="1854360"/>
            <a:ext cx="268200" cy="438120"/>
          </a:xfrm>
          <a:prstGeom prst="rect">
            <a:avLst/>
          </a:prstGeom>
          <a:ln w="0">
            <a:noFill/>
          </a:ln>
        </p:spPr>
      </p:pic>
      <p:sp>
        <p:nvSpPr>
          <p:cNvPr id="353" name="Line 28"/>
          <p:cNvSpPr/>
          <p:nvPr/>
        </p:nvSpPr>
        <p:spPr>
          <a:xfrm flipH="1">
            <a:off x="6778080" y="1601640"/>
            <a:ext cx="57600" cy="14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4" name="Group 29"/>
          <p:cNvGrpSpPr/>
          <p:nvPr/>
        </p:nvGrpSpPr>
        <p:grpSpPr>
          <a:xfrm>
            <a:off x="3449520" y="1285920"/>
            <a:ext cx="5089320" cy="5133600"/>
            <a:chOff x="3449520" y="1285920"/>
            <a:chExt cx="5089320" cy="5133600"/>
          </a:xfrm>
        </p:grpSpPr>
        <p:sp>
          <p:nvSpPr>
            <p:cNvPr id="355" name="Freeform 30"/>
            <p:cNvSpPr/>
            <p:nvPr/>
          </p:nvSpPr>
          <p:spPr>
            <a:xfrm>
              <a:off x="4809600" y="1285920"/>
              <a:ext cx="1899360" cy="266040"/>
            </a:xfrm>
            <a:custGeom>
              <a:avLst/>
              <a:gdLst/>
              <a:ahLst/>
              <a:rect l="l" t="t" r="r" b="b"/>
              <a:pathLst>
                <a:path w="1200" h="168">
                  <a:moveTo>
                    <a:pt x="0" y="168"/>
                  </a:moveTo>
                  <a:cubicBezTo>
                    <a:pt x="136" y="108"/>
                    <a:pt x="272" y="48"/>
                    <a:pt x="432" y="24"/>
                  </a:cubicBezTo>
                  <a:cubicBezTo>
                    <a:pt x="592" y="0"/>
                    <a:pt x="832" y="16"/>
                    <a:pt x="960" y="24"/>
                  </a:cubicBezTo>
                  <a:cubicBezTo>
                    <a:pt x="1088" y="32"/>
                    <a:pt x="1144" y="52"/>
                    <a:pt x="1200" y="7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>
              <a:off x="7169040" y="1476000"/>
              <a:ext cx="532800" cy="3769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cubicBezTo>
                    <a:pt x="68" y="28"/>
                    <a:pt x="136" y="56"/>
                    <a:pt x="192" y="96"/>
                  </a:cubicBezTo>
                  <a:cubicBezTo>
                    <a:pt x="248" y="136"/>
                    <a:pt x="292" y="188"/>
                    <a:pt x="336" y="2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7" name="Freeform 32"/>
            <p:cNvSpPr/>
            <p:nvPr/>
          </p:nvSpPr>
          <p:spPr>
            <a:xfrm>
              <a:off x="8082360" y="2312280"/>
              <a:ext cx="456480" cy="98856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cubicBezTo>
                    <a:pt x="72" y="68"/>
                    <a:pt x="144" y="136"/>
                    <a:pt x="192" y="240"/>
                  </a:cubicBezTo>
                  <a:cubicBezTo>
                    <a:pt x="240" y="344"/>
                    <a:pt x="264" y="484"/>
                    <a:pt x="288" y="6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8" name="Freeform 33"/>
            <p:cNvSpPr/>
            <p:nvPr/>
          </p:nvSpPr>
          <p:spPr>
            <a:xfrm>
              <a:off x="8431200" y="4061880"/>
              <a:ext cx="107640" cy="538560"/>
            </a:xfrm>
            <a:custGeom>
              <a:avLst/>
              <a:gdLst/>
              <a:ahLst/>
              <a:rect l="l" t="t" r="r" b="b"/>
              <a:pathLst>
                <a:path w="68" h="340">
                  <a:moveTo>
                    <a:pt x="68" y="0"/>
                  </a:moveTo>
                  <a:cubicBezTo>
                    <a:pt x="59" y="73"/>
                    <a:pt x="51" y="147"/>
                    <a:pt x="40" y="204"/>
                  </a:cubicBezTo>
                  <a:cubicBezTo>
                    <a:pt x="29" y="261"/>
                    <a:pt x="14" y="300"/>
                    <a:pt x="0" y="3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9" name="Freeform 34"/>
            <p:cNvSpPr/>
            <p:nvPr/>
          </p:nvSpPr>
          <p:spPr>
            <a:xfrm>
              <a:off x="6351120" y="5126760"/>
              <a:ext cx="1879920" cy="1211760"/>
            </a:xfrm>
            <a:custGeom>
              <a:avLst/>
              <a:gdLst/>
              <a:ahLst/>
              <a:rect l="l" t="t" r="r" b="b"/>
              <a:pathLst>
                <a:path w="1188" h="767">
                  <a:moveTo>
                    <a:pt x="1188" y="0"/>
                  </a:moveTo>
                  <a:cubicBezTo>
                    <a:pt x="1078" y="170"/>
                    <a:pt x="969" y="341"/>
                    <a:pt x="824" y="460"/>
                  </a:cubicBezTo>
                  <a:cubicBezTo>
                    <a:pt x="679" y="579"/>
                    <a:pt x="457" y="665"/>
                    <a:pt x="320" y="716"/>
                  </a:cubicBezTo>
                  <a:cubicBezTo>
                    <a:pt x="183" y="767"/>
                    <a:pt x="91" y="765"/>
                    <a:pt x="0" y="7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0" name="Freeform 35"/>
            <p:cNvSpPr/>
            <p:nvPr/>
          </p:nvSpPr>
          <p:spPr>
            <a:xfrm>
              <a:off x="3449520" y="1875240"/>
              <a:ext cx="859320" cy="2567160"/>
            </a:xfrm>
            <a:custGeom>
              <a:avLst/>
              <a:gdLst/>
              <a:ahLst/>
              <a:rect l="l" t="t" r="r" b="b"/>
              <a:pathLst>
                <a:path w="542" h="1620">
                  <a:moveTo>
                    <a:pt x="90" y="1620"/>
                  </a:moveTo>
                  <a:cubicBezTo>
                    <a:pt x="45" y="1469"/>
                    <a:pt x="0" y="1319"/>
                    <a:pt x="6" y="1136"/>
                  </a:cubicBezTo>
                  <a:cubicBezTo>
                    <a:pt x="12" y="953"/>
                    <a:pt x="37" y="709"/>
                    <a:pt x="126" y="520"/>
                  </a:cubicBezTo>
                  <a:cubicBezTo>
                    <a:pt x="215" y="331"/>
                    <a:pt x="378" y="165"/>
                    <a:pt x="54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1" name="Freeform 36"/>
            <p:cNvSpPr/>
            <p:nvPr/>
          </p:nvSpPr>
          <p:spPr>
            <a:xfrm>
              <a:off x="3820320" y="5126760"/>
              <a:ext cx="988920" cy="985680"/>
            </a:xfrm>
            <a:custGeom>
              <a:avLst/>
              <a:gdLst/>
              <a:ahLst/>
              <a:rect l="l" t="t" r="r" b="b"/>
              <a:pathLst>
                <a:path w="624" h="624">
                  <a:moveTo>
                    <a:pt x="624" y="624"/>
                  </a:moveTo>
                  <a:cubicBezTo>
                    <a:pt x="508" y="556"/>
                    <a:pt x="392" y="488"/>
                    <a:pt x="288" y="384"/>
                  </a:cubicBezTo>
                  <a:cubicBezTo>
                    <a:pt x="184" y="280"/>
                    <a:pt x="92" y="14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2" name="Line 37"/>
            <p:cNvSpPr/>
            <p:nvPr/>
          </p:nvSpPr>
          <p:spPr>
            <a:xfrm flipH="1" flipV="1">
              <a:off x="5266080" y="6267600"/>
              <a:ext cx="605520" cy="151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oku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76320" y="1968480"/>
            <a:ext cx="3689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Each node maintains its successor </a:t>
            </a:r>
            <a:endParaRPr b="1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Route packet (ID, data) to the node responsible for ID using successor pointers</a:t>
            </a:r>
            <a:endParaRPr b="1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Oval 4"/>
          <p:cNvSpPr/>
          <p:nvPr/>
        </p:nvSpPr>
        <p:spPr>
          <a:xfrm>
            <a:off x="4113360" y="159876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7106040" y="168912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7" name="Picture 6" descr="j0230337"/>
          <p:cNvPicPr/>
          <p:nvPr/>
        </p:nvPicPr>
        <p:blipFill>
          <a:blip r:embed="rId1"/>
          <a:stretch/>
        </p:blipFill>
        <p:spPr>
          <a:xfrm>
            <a:off x="7227720" y="121752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j0230337"/>
          <p:cNvPicPr/>
          <p:nvPr/>
        </p:nvPicPr>
        <p:blipFill>
          <a:blip r:embed="rId2"/>
          <a:stretch/>
        </p:blipFill>
        <p:spPr>
          <a:xfrm>
            <a:off x="8723160" y="47419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8"/>
          <p:cNvSpPr/>
          <p:nvPr/>
        </p:nvSpPr>
        <p:spPr>
          <a:xfrm>
            <a:off x="8035200" y="45705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70" name="Picture 9" descr="j0230337"/>
          <p:cNvPicPr/>
          <p:nvPr/>
        </p:nvPicPr>
        <p:blipFill>
          <a:blip r:embed="rId3"/>
          <a:stretch/>
        </p:blipFill>
        <p:spPr>
          <a:xfrm>
            <a:off x="6323040" y="626580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0"/>
          <p:cNvSpPr/>
          <p:nvPr/>
        </p:nvSpPr>
        <p:spPr>
          <a:xfrm>
            <a:off x="6187320" y="57135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5177520" y="55753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73" name="Picture 12" descr="j0230337"/>
          <p:cNvPicPr/>
          <p:nvPr/>
        </p:nvPicPr>
        <p:blipFill>
          <a:blip r:embed="rId4"/>
          <a:stretch/>
        </p:blipFill>
        <p:spPr>
          <a:xfrm>
            <a:off x="5332320" y="61135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13"/>
          <p:cNvSpPr/>
          <p:nvPr/>
        </p:nvSpPr>
        <p:spPr>
          <a:xfrm>
            <a:off x="7693560" y="222264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8301600" y="35942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4339440" y="44942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5120280" y="20559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78" name="Picture 17" descr="j0230337"/>
          <p:cNvPicPr/>
          <p:nvPr/>
        </p:nvPicPr>
        <p:blipFill>
          <a:blip r:embed="rId5"/>
          <a:stretch/>
        </p:blipFill>
        <p:spPr>
          <a:xfrm>
            <a:off x="3741840" y="48182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8" descr="j0230337"/>
          <p:cNvPicPr/>
          <p:nvPr/>
        </p:nvPicPr>
        <p:blipFill>
          <a:blip r:embed="rId6"/>
          <a:stretch/>
        </p:blipFill>
        <p:spPr>
          <a:xfrm>
            <a:off x="4836960" y="15224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80" name="Line 19"/>
          <p:cNvSpPr/>
          <p:nvPr/>
        </p:nvSpPr>
        <p:spPr>
          <a:xfrm flipV="1">
            <a:off x="4265640" y="472284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5094360" y="1962000"/>
            <a:ext cx="92160" cy="12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2" name="Picture 21" descr="j0230337"/>
          <p:cNvPicPr/>
          <p:nvPr/>
        </p:nvPicPr>
        <p:blipFill>
          <a:blip r:embed="rId7"/>
          <a:stretch/>
        </p:blipFill>
        <p:spPr>
          <a:xfrm>
            <a:off x="8837640" y="35035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83" name="Line 22"/>
          <p:cNvSpPr/>
          <p:nvPr/>
        </p:nvSpPr>
        <p:spPr>
          <a:xfrm flipV="1">
            <a:off x="5484960" y="5865480"/>
            <a:ext cx="759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Line 23"/>
          <p:cNvSpPr/>
          <p:nvPr/>
        </p:nvSpPr>
        <p:spPr>
          <a:xfrm flipV="1">
            <a:off x="6399360" y="609408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Line 24"/>
          <p:cNvSpPr/>
          <p:nvPr/>
        </p:nvSpPr>
        <p:spPr>
          <a:xfrm flipH="1" flipV="1">
            <a:off x="8456400" y="4798800"/>
            <a:ext cx="15228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Line 25"/>
          <p:cNvSpPr/>
          <p:nvPr/>
        </p:nvSpPr>
        <p:spPr>
          <a:xfrm flipH="1">
            <a:off x="8685000" y="373212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Line 26"/>
          <p:cNvSpPr/>
          <p:nvPr/>
        </p:nvSpPr>
        <p:spPr>
          <a:xfrm flipV="1">
            <a:off x="7970760" y="2198520"/>
            <a:ext cx="114480" cy="10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8" name="Picture 27" descr="j0230337"/>
          <p:cNvPicPr/>
          <p:nvPr/>
        </p:nvPicPr>
        <p:blipFill>
          <a:blip r:embed="rId8"/>
          <a:stretch/>
        </p:blipFill>
        <p:spPr>
          <a:xfrm>
            <a:off x="8151840" y="19033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89" name="Line 28"/>
          <p:cNvSpPr/>
          <p:nvPr/>
        </p:nvSpPr>
        <p:spPr>
          <a:xfrm flipH="1">
            <a:off x="7396200" y="1712880"/>
            <a:ext cx="2232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0" name="Text Box 29"/>
          <p:cNvSpPr/>
          <p:nvPr/>
        </p:nvSpPr>
        <p:spPr>
          <a:xfrm>
            <a:off x="7568280" y="1274760"/>
            <a:ext cx="133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okup(37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Freeform 30"/>
          <p:cNvSpPr/>
          <p:nvPr/>
        </p:nvSpPr>
        <p:spPr>
          <a:xfrm>
            <a:off x="7421400" y="1825560"/>
            <a:ext cx="613080" cy="447840"/>
          </a:xfrm>
          <a:custGeom>
            <a:avLst/>
            <a:gdLst/>
            <a:ahLst/>
            <a:rect l="l" t="t" r="r" b="b"/>
            <a:pathLst>
              <a:path w="384" h="280">
                <a:moveTo>
                  <a:pt x="0" y="0"/>
                </a:moveTo>
                <a:cubicBezTo>
                  <a:pt x="16" y="100"/>
                  <a:pt x="32" y="200"/>
                  <a:pt x="96" y="240"/>
                </a:cubicBezTo>
                <a:cubicBezTo>
                  <a:pt x="160" y="280"/>
                  <a:pt x="272" y="260"/>
                  <a:pt x="384" y="24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Freeform 31"/>
          <p:cNvSpPr/>
          <p:nvPr/>
        </p:nvSpPr>
        <p:spPr>
          <a:xfrm>
            <a:off x="7989840" y="2208240"/>
            <a:ext cx="723960" cy="1523880"/>
          </a:xfrm>
          <a:custGeom>
            <a:avLst/>
            <a:gdLst/>
            <a:ahLst/>
            <a:rect l="l" t="t" r="r" b="b"/>
            <a:pathLst>
              <a:path w="456" h="960">
                <a:moveTo>
                  <a:pt x="24" y="0"/>
                </a:moveTo>
                <a:cubicBezTo>
                  <a:pt x="12" y="184"/>
                  <a:pt x="0" y="368"/>
                  <a:pt x="72" y="528"/>
                </a:cubicBezTo>
                <a:cubicBezTo>
                  <a:pt x="144" y="688"/>
                  <a:pt x="300" y="824"/>
                  <a:pt x="456" y="9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Freeform 32"/>
          <p:cNvSpPr/>
          <p:nvPr/>
        </p:nvSpPr>
        <p:spPr>
          <a:xfrm>
            <a:off x="8459640" y="3732120"/>
            <a:ext cx="254160" cy="1143000"/>
          </a:xfrm>
          <a:custGeom>
            <a:avLst/>
            <a:gdLst/>
            <a:ahLst/>
            <a:rect l="l" t="t" r="r" b="b"/>
            <a:pathLst>
              <a:path w="160" h="720">
                <a:moveTo>
                  <a:pt x="160" y="0"/>
                </a:moveTo>
                <a:cubicBezTo>
                  <a:pt x="96" y="84"/>
                  <a:pt x="32" y="168"/>
                  <a:pt x="16" y="288"/>
                </a:cubicBezTo>
                <a:cubicBezTo>
                  <a:pt x="0" y="408"/>
                  <a:pt x="32" y="564"/>
                  <a:pt x="64" y="72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Freeform 33"/>
          <p:cNvSpPr/>
          <p:nvPr/>
        </p:nvSpPr>
        <p:spPr>
          <a:xfrm>
            <a:off x="6427800" y="4875120"/>
            <a:ext cx="2133720" cy="1295640"/>
          </a:xfrm>
          <a:custGeom>
            <a:avLst/>
            <a:gdLst/>
            <a:ahLst/>
            <a:rect l="l" t="t" r="r" b="b"/>
            <a:pathLst>
              <a:path w="1344" h="816">
                <a:moveTo>
                  <a:pt x="1344" y="0"/>
                </a:moveTo>
                <a:cubicBezTo>
                  <a:pt x="1120" y="28"/>
                  <a:pt x="896" y="56"/>
                  <a:pt x="672" y="192"/>
                </a:cubicBezTo>
                <a:cubicBezTo>
                  <a:pt x="448" y="328"/>
                  <a:pt x="224" y="572"/>
                  <a:pt x="0" y="81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Freeform 34"/>
          <p:cNvSpPr/>
          <p:nvPr/>
        </p:nvSpPr>
        <p:spPr>
          <a:xfrm>
            <a:off x="5513400" y="5827680"/>
            <a:ext cx="914400" cy="343080"/>
          </a:xfrm>
          <a:custGeom>
            <a:avLst/>
            <a:gdLst/>
            <a:ahLst/>
            <a:rect l="l" t="t" r="r" b="b"/>
            <a:pathLst>
              <a:path w="576" h="216">
                <a:moveTo>
                  <a:pt x="576" y="216"/>
                </a:moveTo>
                <a:cubicBezTo>
                  <a:pt x="504" y="132"/>
                  <a:pt x="432" y="48"/>
                  <a:pt x="336" y="24"/>
                </a:cubicBezTo>
                <a:cubicBezTo>
                  <a:pt x="240" y="0"/>
                  <a:pt x="120" y="36"/>
                  <a:pt x="0" y="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Freeform 35"/>
          <p:cNvSpPr/>
          <p:nvPr/>
        </p:nvSpPr>
        <p:spPr>
          <a:xfrm>
            <a:off x="5589720" y="1830240"/>
            <a:ext cx="1520640" cy="4030920"/>
          </a:xfrm>
          <a:custGeom>
            <a:avLst/>
            <a:gdLst/>
            <a:ahLst/>
            <a:rect l="l" t="t" r="r" b="b"/>
            <a:pathLst>
              <a:path w="960" h="2544">
                <a:moveTo>
                  <a:pt x="0" y="2544"/>
                </a:moveTo>
                <a:cubicBezTo>
                  <a:pt x="64" y="2108"/>
                  <a:pt x="128" y="1672"/>
                  <a:pt x="288" y="1248"/>
                </a:cubicBezTo>
                <a:cubicBezTo>
                  <a:pt x="448" y="824"/>
                  <a:pt x="704" y="412"/>
                  <a:pt x="96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4819680" y="3279600"/>
            <a:ext cx="1225440" cy="393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=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F0B6-FF2F-43CA-9254-CC339F04F63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Join Ope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4113360" y="161136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7106040" y="170172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2" name="Picture 5" descr="j0230337"/>
          <p:cNvPicPr/>
          <p:nvPr/>
        </p:nvPicPr>
        <p:blipFill>
          <a:blip r:embed="rId1"/>
          <a:stretch/>
        </p:blipFill>
        <p:spPr>
          <a:xfrm>
            <a:off x="7227720" y="123048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j0230337"/>
          <p:cNvPicPr/>
          <p:nvPr/>
        </p:nvPicPr>
        <p:blipFill>
          <a:blip r:embed="rId2"/>
          <a:stretch/>
        </p:blipFill>
        <p:spPr>
          <a:xfrm>
            <a:off x="8723160" y="47545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7"/>
          <p:cNvSpPr/>
          <p:nvPr/>
        </p:nvSpPr>
        <p:spPr>
          <a:xfrm>
            <a:off x="8035200" y="45831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5" name="Picture 8" descr="j0230337"/>
          <p:cNvPicPr/>
          <p:nvPr/>
        </p:nvPicPr>
        <p:blipFill>
          <a:blip r:embed="rId3"/>
          <a:stretch/>
        </p:blipFill>
        <p:spPr>
          <a:xfrm>
            <a:off x="6132600" y="625968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9"/>
          <p:cNvSpPr/>
          <p:nvPr/>
        </p:nvSpPr>
        <p:spPr>
          <a:xfrm>
            <a:off x="6187320" y="57261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5434560" y="55879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8" name="Picture 11" descr="j0230337"/>
          <p:cNvPicPr/>
          <p:nvPr/>
        </p:nvPicPr>
        <p:blipFill>
          <a:blip r:embed="rId4"/>
          <a:stretch/>
        </p:blipFill>
        <p:spPr>
          <a:xfrm>
            <a:off x="5141880" y="61070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12"/>
          <p:cNvSpPr/>
          <p:nvPr/>
        </p:nvSpPr>
        <p:spPr>
          <a:xfrm>
            <a:off x="7693560" y="223524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8301600" y="36068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4367880" y="443088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5120280" y="20685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3" name="Picture 16" descr="j0230337"/>
          <p:cNvPicPr/>
          <p:nvPr/>
        </p:nvPicPr>
        <p:blipFill>
          <a:blip r:embed="rId5"/>
          <a:stretch/>
        </p:blipFill>
        <p:spPr>
          <a:xfrm>
            <a:off x="3922560" y="465948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7" descr="j0230337"/>
          <p:cNvPicPr/>
          <p:nvPr/>
        </p:nvPicPr>
        <p:blipFill>
          <a:blip r:embed="rId6"/>
          <a:stretch/>
        </p:blipFill>
        <p:spPr>
          <a:xfrm>
            <a:off x="4836960" y="15350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15" name="Line 18"/>
          <p:cNvSpPr/>
          <p:nvPr/>
        </p:nvSpPr>
        <p:spPr>
          <a:xfrm flipV="1">
            <a:off x="4265640" y="473544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Line 19"/>
          <p:cNvSpPr/>
          <p:nvPr/>
        </p:nvSpPr>
        <p:spPr>
          <a:xfrm>
            <a:off x="5094360" y="1974960"/>
            <a:ext cx="9216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7" name="Picture 20" descr="j0230337"/>
          <p:cNvPicPr/>
          <p:nvPr/>
        </p:nvPicPr>
        <p:blipFill>
          <a:blip r:embed="rId7"/>
          <a:stretch/>
        </p:blipFill>
        <p:spPr>
          <a:xfrm>
            <a:off x="8837640" y="351648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18" name="Line 21"/>
          <p:cNvSpPr/>
          <p:nvPr/>
        </p:nvSpPr>
        <p:spPr>
          <a:xfrm flipV="1">
            <a:off x="5484960" y="5878440"/>
            <a:ext cx="7596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Line 22"/>
          <p:cNvSpPr/>
          <p:nvPr/>
        </p:nvSpPr>
        <p:spPr>
          <a:xfrm flipV="1">
            <a:off x="6399360" y="610704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Line 23"/>
          <p:cNvSpPr/>
          <p:nvPr/>
        </p:nvSpPr>
        <p:spPr>
          <a:xfrm flipH="1" flipV="1">
            <a:off x="8456400" y="481176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Line 24"/>
          <p:cNvSpPr/>
          <p:nvPr/>
        </p:nvSpPr>
        <p:spPr>
          <a:xfrm flipH="1">
            <a:off x="8685000" y="374508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Line 25"/>
          <p:cNvSpPr/>
          <p:nvPr/>
        </p:nvSpPr>
        <p:spPr>
          <a:xfrm flipV="1">
            <a:off x="7970760" y="2211120"/>
            <a:ext cx="11448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3" name="Picture 26" descr="j0230337"/>
          <p:cNvPicPr/>
          <p:nvPr/>
        </p:nvPicPr>
        <p:blipFill>
          <a:blip r:embed="rId8"/>
          <a:stretch/>
        </p:blipFill>
        <p:spPr>
          <a:xfrm>
            <a:off x="8151840" y="191628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7" descr="j0230337"/>
          <p:cNvPicPr/>
          <p:nvPr/>
        </p:nvPicPr>
        <p:blipFill>
          <a:blip r:embed="rId9"/>
          <a:stretch/>
        </p:blipFill>
        <p:spPr>
          <a:xfrm>
            <a:off x="3311640" y="3314880"/>
            <a:ext cx="306360" cy="4651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8"/>
          <p:cNvSpPr/>
          <p:nvPr/>
        </p:nvSpPr>
        <p:spPr>
          <a:xfrm>
            <a:off x="3305880" y="37749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117360" y="1066680"/>
            <a:ext cx="342756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with id=50 joins the ring via node 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50: send join(50) to node 15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44: returns node 58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50 updates its successor to 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Freeform 30"/>
          <p:cNvSpPr/>
          <p:nvPr/>
        </p:nvSpPr>
        <p:spPr>
          <a:xfrm>
            <a:off x="6427800" y="4888080"/>
            <a:ext cx="2133720" cy="1295280"/>
          </a:xfrm>
          <a:custGeom>
            <a:avLst/>
            <a:gdLst/>
            <a:ahLst/>
            <a:rect l="l" t="t" r="r" b="b"/>
            <a:pathLst>
              <a:path w="1344" h="816">
                <a:moveTo>
                  <a:pt x="1344" y="0"/>
                </a:moveTo>
                <a:cubicBezTo>
                  <a:pt x="1120" y="28"/>
                  <a:pt x="896" y="56"/>
                  <a:pt x="672" y="192"/>
                </a:cubicBezTo>
                <a:cubicBezTo>
                  <a:pt x="448" y="328"/>
                  <a:pt x="224" y="572"/>
                  <a:pt x="0" y="81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Freeform 31"/>
          <p:cNvSpPr/>
          <p:nvPr/>
        </p:nvSpPr>
        <p:spPr>
          <a:xfrm>
            <a:off x="8459640" y="3745080"/>
            <a:ext cx="254160" cy="1143000"/>
          </a:xfrm>
          <a:custGeom>
            <a:avLst/>
            <a:gdLst/>
            <a:ahLst/>
            <a:rect l="l" t="t" r="r" b="b"/>
            <a:pathLst>
              <a:path w="160" h="720">
                <a:moveTo>
                  <a:pt x="160" y="0"/>
                </a:moveTo>
                <a:cubicBezTo>
                  <a:pt x="96" y="84"/>
                  <a:pt x="32" y="168"/>
                  <a:pt x="16" y="288"/>
                </a:cubicBezTo>
                <a:cubicBezTo>
                  <a:pt x="0" y="408"/>
                  <a:pt x="32" y="564"/>
                  <a:pt x="64" y="72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Freeform 32"/>
          <p:cNvSpPr/>
          <p:nvPr/>
        </p:nvSpPr>
        <p:spPr>
          <a:xfrm>
            <a:off x="5513400" y="5840280"/>
            <a:ext cx="914400" cy="343080"/>
          </a:xfrm>
          <a:custGeom>
            <a:avLst/>
            <a:gdLst/>
            <a:ahLst/>
            <a:rect l="l" t="t" r="r" b="b"/>
            <a:pathLst>
              <a:path w="576" h="216">
                <a:moveTo>
                  <a:pt x="576" y="216"/>
                </a:moveTo>
                <a:cubicBezTo>
                  <a:pt x="504" y="132"/>
                  <a:pt x="432" y="48"/>
                  <a:pt x="336" y="24"/>
                </a:cubicBezTo>
                <a:cubicBezTo>
                  <a:pt x="240" y="0"/>
                  <a:pt x="120" y="36"/>
                  <a:pt x="0" y="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Freeform 33"/>
          <p:cNvSpPr/>
          <p:nvPr/>
        </p:nvSpPr>
        <p:spPr>
          <a:xfrm>
            <a:off x="4370400" y="4811760"/>
            <a:ext cx="1143000" cy="114300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720" y="720"/>
                </a:moveTo>
                <a:cubicBezTo>
                  <a:pt x="660" y="516"/>
                  <a:pt x="600" y="312"/>
                  <a:pt x="480" y="192"/>
                </a:cubicBezTo>
                <a:cubicBezTo>
                  <a:pt x="360" y="72"/>
                  <a:pt x="180" y="36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1" name="Group 34"/>
          <p:cNvGrpSpPr/>
          <p:nvPr/>
        </p:nvGrpSpPr>
        <p:grpSpPr>
          <a:xfrm>
            <a:off x="3608280" y="2919240"/>
            <a:ext cx="5257800" cy="749520"/>
            <a:chOff x="3608280" y="2919240"/>
            <a:chExt cx="5257800" cy="749520"/>
          </a:xfrm>
        </p:grpSpPr>
        <p:sp>
          <p:nvSpPr>
            <p:cNvPr id="432" name="Freeform 35"/>
            <p:cNvSpPr/>
            <p:nvPr/>
          </p:nvSpPr>
          <p:spPr>
            <a:xfrm>
              <a:off x="3608280" y="3262320"/>
              <a:ext cx="5257800" cy="406440"/>
            </a:xfrm>
            <a:custGeom>
              <a:avLst/>
              <a:gdLst/>
              <a:ahLst/>
              <a:rect l="l" t="t" r="r" b="b"/>
              <a:pathLst>
                <a:path w="3496" h="256">
                  <a:moveTo>
                    <a:pt x="232" y="160"/>
                  </a:moveTo>
                  <a:cubicBezTo>
                    <a:pt x="116" y="172"/>
                    <a:pt x="0" y="184"/>
                    <a:pt x="280" y="160"/>
                  </a:cubicBezTo>
                  <a:cubicBezTo>
                    <a:pt x="560" y="136"/>
                    <a:pt x="1376" y="0"/>
                    <a:pt x="1912" y="16"/>
                  </a:cubicBezTo>
                  <a:cubicBezTo>
                    <a:pt x="2448" y="32"/>
                    <a:pt x="2972" y="144"/>
                    <a:pt x="3496" y="256"/>
                  </a:cubicBezTo>
                </a:path>
              </a:pathLst>
            </a:custGeom>
            <a:noFill/>
            <a:ln w="25560">
              <a:solidFill>
                <a:srgbClr val="4f81b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3" name="Text Box 36"/>
            <p:cNvSpPr/>
            <p:nvPr/>
          </p:nvSpPr>
          <p:spPr>
            <a:xfrm>
              <a:off x="5286240" y="2919240"/>
              <a:ext cx="739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join(50)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34" name="Text Box 37"/>
          <p:cNvSpPr/>
          <p:nvPr/>
        </p:nvSpPr>
        <p:spPr>
          <a:xfrm>
            <a:off x="2516760" y="328788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Text Box 38"/>
          <p:cNvSpPr/>
          <p:nvPr/>
        </p:nvSpPr>
        <p:spPr>
          <a:xfrm>
            <a:off x="4104000" y="1309680"/>
            <a:ext cx="67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Text Box 39"/>
          <p:cNvSpPr/>
          <p:nvPr/>
        </p:nvSpPr>
        <p:spPr>
          <a:xfrm>
            <a:off x="4093560" y="154152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4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Text Box 40"/>
          <p:cNvSpPr/>
          <p:nvPr/>
        </p:nvSpPr>
        <p:spPr>
          <a:xfrm>
            <a:off x="2508840" y="3287880"/>
            <a:ext cx="757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nil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Text Box 41"/>
          <p:cNvSpPr/>
          <p:nvPr/>
        </p:nvSpPr>
        <p:spPr>
          <a:xfrm>
            <a:off x="2491200" y="3516480"/>
            <a:ext cx="781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nil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Text Box 42"/>
          <p:cNvSpPr/>
          <p:nvPr/>
        </p:nvSpPr>
        <p:spPr>
          <a:xfrm>
            <a:off x="3186720" y="458136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Text Box 43"/>
          <p:cNvSpPr/>
          <p:nvPr/>
        </p:nvSpPr>
        <p:spPr>
          <a:xfrm>
            <a:off x="3176280" y="481176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35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1" name="Group 44"/>
          <p:cNvGrpSpPr/>
          <p:nvPr/>
        </p:nvGrpSpPr>
        <p:grpSpPr>
          <a:xfrm>
            <a:off x="3685680" y="3718080"/>
            <a:ext cx="608040" cy="1017000"/>
            <a:chOff x="3685680" y="3718080"/>
            <a:chExt cx="608040" cy="1017000"/>
          </a:xfrm>
        </p:grpSpPr>
        <p:sp>
          <p:nvSpPr>
            <p:cNvPr id="442" name="Freeform 45"/>
            <p:cNvSpPr/>
            <p:nvPr/>
          </p:nvSpPr>
          <p:spPr>
            <a:xfrm flipH="1">
              <a:off x="3685320" y="3744720"/>
              <a:ext cx="608040" cy="990360"/>
            </a:xfrm>
            <a:custGeom>
              <a:avLst/>
              <a:gdLst/>
              <a:ahLst/>
              <a:rect l="l" t="t" r="r" b="b"/>
              <a:pathLst>
                <a:path w="528" h="1680">
                  <a:moveTo>
                    <a:pt x="0" y="1680"/>
                  </a:moveTo>
                  <a:cubicBezTo>
                    <a:pt x="100" y="1436"/>
                    <a:pt x="200" y="1192"/>
                    <a:pt x="288" y="912"/>
                  </a:cubicBezTo>
                  <a:cubicBezTo>
                    <a:pt x="376" y="632"/>
                    <a:pt x="452" y="316"/>
                    <a:pt x="528" y="0"/>
                  </a:cubicBezTo>
                </a:path>
              </a:pathLst>
            </a:custGeom>
            <a:noFill/>
            <a:ln w="25560">
              <a:solidFill>
                <a:srgbClr val="4f81b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Text Box 46"/>
            <p:cNvSpPr/>
            <p:nvPr/>
          </p:nvSpPr>
          <p:spPr>
            <a:xfrm>
              <a:off x="3758040" y="3718080"/>
              <a:ext cx="385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4f81bd"/>
                  </a:solidFill>
                  <a:latin typeface="Calibri"/>
                </a:rPr>
                <a:t>58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97BA-3DD5-4A56-ABDD-F443414B6F6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riodic Stabiliz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6" name="Oval 3"/>
          <p:cNvSpPr/>
          <p:nvPr/>
        </p:nvSpPr>
        <p:spPr>
          <a:xfrm>
            <a:off x="4113360" y="162072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7106040" y="171144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48" name="Picture 5" descr="j0230337"/>
          <p:cNvPicPr/>
          <p:nvPr/>
        </p:nvPicPr>
        <p:blipFill>
          <a:blip r:embed="rId1"/>
          <a:stretch/>
        </p:blipFill>
        <p:spPr>
          <a:xfrm>
            <a:off x="7227720" y="12398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j0230337"/>
          <p:cNvPicPr/>
          <p:nvPr/>
        </p:nvPicPr>
        <p:blipFill>
          <a:blip r:embed="rId2"/>
          <a:stretch/>
        </p:blipFill>
        <p:spPr>
          <a:xfrm>
            <a:off x="8723160" y="47642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7"/>
          <p:cNvSpPr/>
          <p:nvPr/>
        </p:nvSpPr>
        <p:spPr>
          <a:xfrm>
            <a:off x="8035200" y="4592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1" name="Picture 8" descr="j0230337"/>
          <p:cNvPicPr/>
          <p:nvPr/>
        </p:nvPicPr>
        <p:blipFill>
          <a:blip r:embed="rId3"/>
          <a:stretch/>
        </p:blipFill>
        <p:spPr>
          <a:xfrm>
            <a:off x="6323040" y="62881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9"/>
          <p:cNvSpPr/>
          <p:nvPr/>
        </p:nvSpPr>
        <p:spPr>
          <a:xfrm>
            <a:off x="6187320" y="5735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5434560" y="55976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4" name="Picture 11" descr="j0230337"/>
          <p:cNvPicPr/>
          <p:nvPr/>
        </p:nvPicPr>
        <p:blipFill>
          <a:blip r:embed="rId4"/>
          <a:stretch/>
        </p:blipFill>
        <p:spPr>
          <a:xfrm>
            <a:off x="5332320" y="61358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12"/>
          <p:cNvSpPr/>
          <p:nvPr/>
        </p:nvSpPr>
        <p:spPr>
          <a:xfrm>
            <a:off x="7693560" y="224460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Text Box 13"/>
          <p:cNvSpPr/>
          <p:nvPr/>
        </p:nvSpPr>
        <p:spPr>
          <a:xfrm>
            <a:off x="8301600" y="361620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Text Box 14"/>
          <p:cNvSpPr/>
          <p:nvPr/>
        </p:nvSpPr>
        <p:spPr>
          <a:xfrm>
            <a:off x="4367880" y="44402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Text Box 15"/>
          <p:cNvSpPr/>
          <p:nvPr/>
        </p:nvSpPr>
        <p:spPr>
          <a:xfrm>
            <a:off x="5120280" y="20779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9" name="Picture 16" descr="j0230337"/>
          <p:cNvPicPr/>
          <p:nvPr/>
        </p:nvPicPr>
        <p:blipFill>
          <a:blip r:embed="rId5"/>
          <a:stretch/>
        </p:blipFill>
        <p:spPr>
          <a:xfrm>
            <a:off x="3922560" y="46688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7" descr="j0230337"/>
          <p:cNvPicPr/>
          <p:nvPr/>
        </p:nvPicPr>
        <p:blipFill>
          <a:blip r:embed="rId6"/>
          <a:stretch/>
        </p:blipFill>
        <p:spPr>
          <a:xfrm>
            <a:off x="4836960" y="154476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61" name="Line 18"/>
          <p:cNvSpPr/>
          <p:nvPr/>
        </p:nvSpPr>
        <p:spPr>
          <a:xfrm flipV="1">
            <a:off x="4265640" y="4744800"/>
            <a:ext cx="15228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2" name="Line 19"/>
          <p:cNvSpPr/>
          <p:nvPr/>
        </p:nvSpPr>
        <p:spPr>
          <a:xfrm>
            <a:off x="5094360" y="1984320"/>
            <a:ext cx="9216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3" name="Picture 20" descr="j0230337"/>
          <p:cNvPicPr/>
          <p:nvPr/>
        </p:nvPicPr>
        <p:blipFill>
          <a:blip r:embed="rId7"/>
          <a:stretch/>
        </p:blipFill>
        <p:spPr>
          <a:xfrm>
            <a:off x="8837640" y="35258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64" name="Line 21"/>
          <p:cNvSpPr/>
          <p:nvPr/>
        </p:nvSpPr>
        <p:spPr>
          <a:xfrm flipV="1">
            <a:off x="5484960" y="5887800"/>
            <a:ext cx="759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5" name="Line 22"/>
          <p:cNvSpPr/>
          <p:nvPr/>
        </p:nvSpPr>
        <p:spPr>
          <a:xfrm flipV="1">
            <a:off x="6399360" y="611640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6" name="Line 23"/>
          <p:cNvSpPr/>
          <p:nvPr/>
        </p:nvSpPr>
        <p:spPr>
          <a:xfrm flipH="1" flipV="1">
            <a:off x="8456400" y="482112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7" name="Line 24"/>
          <p:cNvSpPr/>
          <p:nvPr/>
        </p:nvSpPr>
        <p:spPr>
          <a:xfrm flipH="1">
            <a:off x="8685000" y="375444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8" name="Line 25"/>
          <p:cNvSpPr/>
          <p:nvPr/>
        </p:nvSpPr>
        <p:spPr>
          <a:xfrm flipV="1">
            <a:off x="7970760" y="2220480"/>
            <a:ext cx="11448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9" name="Picture 26" descr="j0230337"/>
          <p:cNvPicPr/>
          <p:nvPr/>
        </p:nvPicPr>
        <p:blipFill>
          <a:blip r:embed="rId8"/>
          <a:stretch/>
        </p:blipFill>
        <p:spPr>
          <a:xfrm>
            <a:off x="8151840" y="19256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7" descr="j0230337"/>
          <p:cNvPicPr/>
          <p:nvPr/>
        </p:nvPicPr>
        <p:blipFill>
          <a:blip r:embed="rId9"/>
          <a:stretch/>
        </p:blipFill>
        <p:spPr>
          <a:xfrm>
            <a:off x="3301920" y="3324240"/>
            <a:ext cx="306360" cy="4651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28"/>
          <p:cNvSpPr/>
          <p:nvPr/>
        </p:nvSpPr>
        <p:spPr>
          <a:xfrm>
            <a:off x="3398040" y="37544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2" name="Rectangle 29"/>
          <p:cNvSpPr/>
          <p:nvPr/>
        </p:nvSpPr>
        <p:spPr>
          <a:xfrm>
            <a:off x="0" y="1523880"/>
            <a:ext cx="2819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50: periodic stabiliz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nds stabilize message to 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50: send notify message to 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838080" indent="-3808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pred=4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3" name="Text Box 30"/>
          <p:cNvSpPr/>
          <p:nvPr/>
        </p:nvSpPr>
        <p:spPr>
          <a:xfrm>
            <a:off x="2589840" y="329724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Text Box 31"/>
          <p:cNvSpPr/>
          <p:nvPr/>
        </p:nvSpPr>
        <p:spPr>
          <a:xfrm>
            <a:off x="2561040" y="3525840"/>
            <a:ext cx="781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nil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5" name="Text Box 32"/>
          <p:cNvSpPr/>
          <p:nvPr/>
        </p:nvSpPr>
        <p:spPr>
          <a:xfrm>
            <a:off x="3186720" y="459108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6" name="Text Box 33"/>
          <p:cNvSpPr/>
          <p:nvPr/>
        </p:nvSpPr>
        <p:spPr>
          <a:xfrm>
            <a:off x="3176280" y="482112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35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7" name="Freeform 35"/>
          <p:cNvSpPr/>
          <p:nvPr/>
        </p:nvSpPr>
        <p:spPr>
          <a:xfrm rot="11214000">
            <a:off x="3933720" y="2214360"/>
            <a:ext cx="1092240" cy="1523880"/>
          </a:xfrm>
          <a:custGeom>
            <a:avLst/>
            <a:gdLst/>
            <a:ahLst/>
            <a:rect l="l" t="t" r="r" b="b"/>
            <a:pathLst>
              <a:path w="576" h="1728">
                <a:moveTo>
                  <a:pt x="0" y="1728"/>
                </a:moveTo>
                <a:cubicBezTo>
                  <a:pt x="0" y="1440"/>
                  <a:pt x="0" y="1152"/>
                  <a:pt x="96" y="864"/>
                </a:cubicBezTo>
                <a:cubicBezTo>
                  <a:pt x="192" y="576"/>
                  <a:pt x="384" y="288"/>
                  <a:pt x="576" y="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8" name="Text Box 36"/>
          <p:cNvSpPr/>
          <p:nvPr/>
        </p:nvSpPr>
        <p:spPr>
          <a:xfrm>
            <a:off x="4532400" y="3144960"/>
            <a:ext cx="1866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.pred=4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4092120" y="154476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red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0" name="Text Box 41"/>
          <p:cNvSpPr/>
          <p:nvPr/>
        </p:nvSpPr>
        <p:spPr>
          <a:xfrm>
            <a:off x="4104000" y="1319040"/>
            <a:ext cx="67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1" name="Text Box 42"/>
          <p:cNvSpPr/>
          <p:nvPr/>
        </p:nvSpPr>
        <p:spPr>
          <a:xfrm>
            <a:off x="4103280" y="153504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4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Freeform 35"/>
          <p:cNvSpPr/>
          <p:nvPr/>
        </p:nvSpPr>
        <p:spPr>
          <a:xfrm>
            <a:off x="3686040" y="2077920"/>
            <a:ext cx="1092240" cy="1524240"/>
          </a:xfrm>
          <a:custGeom>
            <a:avLst/>
            <a:gdLst/>
            <a:ahLst/>
            <a:rect l="l" t="t" r="r" b="b"/>
            <a:pathLst>
              <a:path w="576" h="1728">
                <a:moveTo>
                  <a:pt x="0" y="1728"/>
                </a:moveTo>
                <a:cubicBezTo>
                  <a:pt x="0" y="1440"/>
                  <a:pt x="0" y="1152"/>
                  <a:pt x="96" y="864"/>
                </a:cubicBezTo>
                <a:cubicBezTo>
                  <a:pt x="192" y="576"/>
                  <a:pt x="384" y="288"/>
                  <a:pt x="576" y="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Text Box 36"/>
          <p:cNvSpPr/>
          <p:nvPr/>
        </p:nvSpPr>
        <p:spPr>
          <a:xfrm>
            <a:off x="2779560" y="2077920"/>
            <a:ext cx="1866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tabilize(node=50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notify(node=50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1EE9-B4F3-4A36-BBE7-04CECD1CFA1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riodic Stabiliz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6" name="Oval 3"/>
          <p:cNvSpPr/>
          <p:nvPr/>
        </p:nvSpPr>
        <p:spPr>
          <a:xfrm>
            <a:off x="4113360" y="161604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7106040" y="170640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88" name="Picture 5" descr="j0230337"/>
          <p:cNvPicPr/>
          <p:nvPr/>
        </p:nvPicPr>
        <p:blipFill>
          <a:blip r:embed="rId1"/>
          <a:stretch/>
        </p:blipFill>
        <p:spPr>
          <a:xfrm>
            <a:off x="7227720" y="123516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j0230337"/>
          <p:cNvPicPr/>
          <p:nvPr/>
        </p:nvPicPr>
        <p:blipFill>
          <a:blip r:embed="rId2"/>
          <a:stretch/>
        </p:blipFill>
        <p:spPr>
          <a:xfrm>
            <a:off x="8723160" y="475920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7"/>
          <p:cNvSpPr/>
          <p:nvPr/>
        </p:nvSpPr>
        <p:spPr>
          <a:xfrm>
            <a:off x="8035200" y="45878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91" name="Picture 8" descr="j0230337"/>
          <p:cNvPicPr/>
          <p:nvPr/>
        </p:nvPicPr>
        <p:blipFill>
          <a:blip r:embed="rId3"/>
          <a:stretch/>
        </p:blipFill>
        <p:spPr>
          <a:xfrm>
            <a:off x="6323040" y="62834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9"/>
          <p:cNvSpPr/>
          <p:nvPr/>
        </p:nvSpPr>
        <p:spPr>
          <a:xfrm>
            <a:off x="6187320" y="57308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5434560" y="559260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94" name="Picture 11" descr="j0230337"/>
          <p:cNvPicPr/>
          <p:nvPr/>
        </p:nvPicPr>
        <p:blipFill>
          <a:blip r:embed="rId4"/>
          <a:stretch/>
        </p:blipFill>
        <p:spPr>
          <a:xfrm>
            <a:off x="5332320" y="613080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12"/>
          <p:cNvSpPr/>
          <p:nvPr/>
        </p:nvSpPr>
        <p:spPr>
          <a:xfrm>
            <a:off x="7693560" y="223992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8301600" y="3611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4444200" y="4511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Text Box 15"/>
          <p:cNvSpPr/>
          <p:nvPr/>
        </p:nvSpPr>
        <p:spPr>
          <a:xfrm>
            <a:off x="5130000" y="19969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99" name="Picture 16" descr="j0230337"/>
          <p:cNvPicPr/>
          <p:nvPr/>
        </p:nvPicPr>
        <p:blipFill>
          <a:blip r:embed="rId5"/>
          <a:stretch/>
        </p:blipFill>
        <p:spPr>
          <a:xfrm>
            <a:off x="3922560" y="466416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7" descr="j0230337"/>
          <p:cNvPicPr/>
          <p:nvPr/>
        </p:nvPicPr>
        <p:blipFill>
          <a:blip r:embed="rId6"/>
          <a:stretch/>
        </p:blipFill>
        <p:spPr>
          <a:xfrm>
            <a:off x="4836960" y="1539720"/>
            <a:ext cx="266760" cy="438480"/>
          </a:xfrm>
          <a:prstGeom prst="rect">
            <a:avLst/>
          </a:prstGeom>
          <a:ln w="0">
            <a:noFill/>
          </a:ln>
        </p:spPr>
      </p:pic>
      <p:sp>
        <p:nvSpPr>
          <p:cNvPr id="501" name="Line 18"/>
          <p:cNvSpPr/>
          <p:nvPr/>
        </p:nvSpPr>
        <p:spPr>
          <a:xfrm flipV="1">
            <a:off x="4265640" y="474012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Line 19"/>
          <p:cNvSpPr/>
          <p:nvPr/>
        </p:nvSpPr>
        <p:spPr>
          <a:xfrm>
            <a:off x="5056200" y="1996920"/>
            <a:ext cx="92160" cy="12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3" name="Picture 20" descr="j0230337"/>
          <p:cNvPicPr/>
          <p:nvPr/>
        </p:nvPicPr>
        <p:blipFill>
          <a:blip r:embed="rId7"/>
          <a:stretch/>
        </p:blipFill>
        <p:spPr>
          <a:xfrm>
            <a:off x="8837640" y="352116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04" name="Line 21"/>
          <p:cNvSpPr/>
          <p:nvPr/>
        </p:nvSpPr>
        <p:spPr>
          <a:xfrm flipV="1">
            <a:off x="5484960" y="5883120"/>
            <a:ext cx="7596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Line 22"/>
          <p:cNvSpPr/>
          <p:nvPr/>
        </p:nvSpPr>
        <p:spPr>
          <a:xfrm flipV="1">
            <a:off x="6399360" y="611172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6" name="Line 23"/>
          <p:cNvSpPr/>
          <p:nvPr/>
        </p:nvSpPr>
        <p:spPr>
          <a:xfrm flipH="1" flipV="1">
            <a:off x="8456400" y="481644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7" name="Line 24"/>
          <p:cNvSpPr/>
          <p:nvPr/>
        </p:nvSpPr>
        <p:spPr>
          <a:xfrm flipH="1">
            <a:off x="8685000" y="37497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8" name="Line 25"/>
          <p:cNvSpPr/>
          <p:nvPr/>
        </p:nvSpPr>
        <p:spPr>
          <a:xfrm flipV="1">
            <a:off x="7970760" y="2215800"/>
            <a:ext cx="11448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9" name="Picture 26" descr="j0230337"/>
          <p:cNvPicPr/>
          <p:nvPr/>
        </p:nvPicPr>
        <p:blipFill>
          <a:blip r:embed="rId8"/>
          <a:stretch/>
        </p:blipFill>
        <p:spPr>
          <a:xfrm>
            <a:off x="8151840" y="192096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7" descr="j0230337"/>
          <p:cNvPicPr/>
          <p:nvPr/>
        </p:nvPicPr>
        <p:blipFill>
          <a:blip r:embed="rId9"/>
          <a:stretch/>
        </p:blipFill>
        <p:spPr>
          <a:xfrm>
            <a:off x="3273480" y="3319560"/>
            <a:ext cx="306360" cy="4651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28"/>
          <p:cNvSpPr/>
          <p:nvPr/>
        </p:nvSpPr>
        <p:spPr>
          <a:xfrm>
            <a:off x="3301200" y="37497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2" name="Rectangle 29"/>
          <p:cNvSpPr/>
          <p:nvPr/>
        </p:nvSpPr>
        <p:spPr>
          <a:xfrm>
            <a:off x="0" y="1447920"/>
            <a:ext cx="3809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44: periodic stabiliz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s 58 for pred (50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44 updates its successor to 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3" name="Text Box 30"/>
          <p:cNvSpPr/>
          <p:nvPr/>
        </p:nvSpPr>
        <p:spPr>
          <a:xfrm>
            <a:off x="2510640" y="329580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4" name="Group 31"/>
          <p:cNvGrpSpPr/>
          <p:nvPr/>
        </p:nvGrpSpPr>
        <p:grpSpPr>
          <a:xfrm>
            <a:off x="4370400" y="2149560"/>
            <a:ext cx="1789200" cy="2590560"/>
            <a:chOff x="4370400" y="2149560"/>
            <a:chExt cx="1789200" cy="2590560"/>
          </a:xfrm>
        </p:grpSpPr>
        <p:sp>
          <p:nvSpPr>
            <p:cNvPr id="515" name="Freeform 32"/>
            <p:cNvSpPr/>
            <p:nvPr/>
          </p:nvSpPr>
          <p:spPr>
            <a:xfrm>
              <a:off x="4370400" y="2149560"/>
              <a:ext cx="685800" cy="2590560"/>
            </a:xfrm>
            <a:custGeom>
              <a:avLst/>
              <a:gdLst/>
              <a:ahLst/>
              <a:rect l="l" t="t" r="r" b="b"/>
              <a:pathLst>
                <a:path w="576" h="1728">
                  <a:moveTo>
                    <a:pt x="0" y="1728"/>
                  </a:moveTo>
                  <a:cubicBezTo>
                    <a:pt x="0" y="1440"/>
                    <a:pt x="0" y="1152"/>
                    <a:pt x="96" y="864"/>
                  </a:cubicBezTo>
                  <a:cubicBezTo>
                    <a:pt x="192" y="576"/>
                    <a:pt x="384" y="288"/>
                    <a:pt x="576" y="0"/>
                  </a:cubicBezTo>
                </a:path>
              </a:pathLst>
            </a:custGeom>
            <a:noFill/>
            <a:ln w="25560">
              <a:solidFill>
                <a:srgbClr val="4f81b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6" name="Text Box 33"/>
            <p:cNvSpPr/>
            <p:nvPr/>
          </p:nvSpPr>
          <p:spPr>
            <a:xfrm>
              <a:off x="4644720" y="3076560"/>
              <a:ext cx="1514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stabilize(node=44)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17" name="Group 34"/>
          <p:cNvGrpSpPr/>
          <p:nvPr/>
        </p:nvGrpSpPr>
        <p:grpSpPr>
          <a:xfrm>
            <a:off x="3549240" y="2073240"/>
            <a:ext cx="1354320" cy="2590560"/>
            <a:chOff x="3549240" y="2073240"/>
            <a:chExt cx="1354320" cy="2590560"/>
          </a:xfrm>
        </p:grpSpPr>
        <p:sp>
          <p:nvSpPr>
            <p:cNvPr id="518" name="Freeform 35"/>
            <p:cNvSpPr/>
            <p:nvPr/>
          </p:nvSpPr>
          <p:spPr>
            <a:xfrm>
              <a:off x="3862080" y="2073240"/>
              <a:ext cx="1041480" cy="2590560"/>
            </a:xfrm>
            <a:custGeom>
              <a:avLst/>
              <a:gdLst/>
              <a:ahLst/>
              <a:rect l="l" t="t" r="r" b="b"/>
              <a:pathLst>
                <a:path w="656" h="1632">
                  <a:moveTo>
                    <a:pt x="656" y="0"/>
                  </a:moveTo>
                  <a:cubicBezTo>
                    <a:pt x="564" y="28"/>
                    <a:pt x="472" y="56"/>
                    <a:pt x="368" y="192"/>
                  </a:cubicBezTo>
                  <a:cubicBezTo>
                    <a:pt x="264" y="328"/>
                    <a:pt x="64" y="576"/>
                    <a:pt x="32" y="816"/>
                  </a:cubicBezTo>
                  <a:cubicBezTo>
                    <a:pt x="0" y="1056"/>
                    <a:pt x="88" y="1344"/>
                    <a:pt x="176" y="1632"/>
                  </a:cubicBezTo>
                </a:path>
              </a:pathLst>
            </a:custGeom>
            <a:noFill/>
            <a:ln w="25560">
              <a:solidFill>
                <a:srgbClr val="4f81b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9" name="Text Box 36"/>
            <p:cNvSpPr/>
            <p:nvPr/>
          </p:nvSpPr>
          <p:spPr>
            <a:xfrm rot="17712000">
              <a:off x="3357000" y="2667960"/>
              <a:ext cx="1144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succ.pred=50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20" name="Text Box 37"/>
          <p:cNvSpPr/>
          <p:nvPr/>
        </p:nvSpPr>
        <p:spPr>
          <a:xfrm>
            <a:off x="3186720" y="458640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Text Box 38"/>
          <p:cNvSpPr/>
          <p:nvPr/>
        </p:nvSpPr>
        <p:spPr>
          <a:xfrm>
            <a:off x="4092120" y="138744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red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Text Box 39"/>
          <p:cNvSpPr/>
          <p:nvPr/>
        </p:nvSpPr>
        <p:spPr>
          <a:xfrm>
            <a:off x="4104000" y="1163520"/>
            <a:ext cx="67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Text Box 40"/>
          <p:cNvSpPr/>
          <p:nvPr/>
        </p:nvSpPr>
        <p:spPr>
          <a:xfrm>
            <a:off x="2484720" y="3524400"/>
            <a:ext cx="781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nil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Text Box 41"/>
          <p:cNvSpPr/>
          <p:nvPr/>
        </p:nvSpPr>
        <p:spPr>
          <a:xfrm>
            <a:off x="3186720" y="458640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Text Box 42"/>
          <p:cNvSpPr/>
          <p:nvPr/>
        </p:nvSpPr>
        <p:spPr>
          <a:xfrm>
            <a:off x="3176280" y="481644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35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3ED2-CB05-4EAB-9C46-EC8F8042D96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riodic Stabiliz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8" name="Oval 3"/>
          <p:cNvSpPr/>
          <p:nvPr/>
        </p:nvSpPr>
        <p:spPr>
          <a:xfrm>
            <a:off x="4113360" y="161604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07480" y="170640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30" name="Picture 5" descr="j0230337"/>
          <p:cNvPicPr/>
          <p:nvPr/>
        </p:nvPicPr>
        <p:blipFill>
          <a:blip r:embed="rId1"/>
          <a:stretch/>
        </p:blipFill>
        <p:spPr>
          <a:xfrm>
            <a:off x="7227720" y="123516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j0230337"/>
          <p:cNvPicPr/>
          <p:nvPr/>
        </p:nvPicPr>
        <p:blipFill>
          <a:blip r:embed="rId2"/>
          <a:stretch/>
        </p:blipFill>
        <p:spPr>
          <a:xfrm>
            <a:off x="8723160" y="475920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7"/>
          <p:cNvSpPr/>
          <p:nvPr/>
        </p:nvSpPr>
        <p:spPr>
          <a:xfrm>
            <a:off x="8038080" y="45878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33" name="Picture 8" descr="j0230337"/>
          <p:cNvPicPr/>
          <p:nvPr/>
        </p:nvPicPr>
        <p:blipFill>
          <a:blip r:embed="rId3"/>
          <a:stretch/>
        </p:blipFill>
        <p:spPr>
          <a:xfrm>
            <a:off x="6323040" y="62834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9"/>
          <p:cNvSpPr/>
          <p:nvPr/>
        </p:nvSpPr>
        <p:spPr>
          <a:xfrm>
            <a:off x="6190560" y="57308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437800" y="559260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36" name="Picture 11" descr="j0230337"/>
          <p:cNvPicPr/>
          <p:nvPr/>
        </p:nvPicPr>
        <p:blipFill>
          <a:blip r:embed="rId4"/>
          <a:stretch/>
        </p:blipFill>
        <p:spPr>
          <a:xfrm>
            <a:off x="5332320" y="613080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2"/>
          <p:cNvSpPr/>
          <p:nvPr/>
        </p:nvSpPr>
        <p:spPr>
          <a:xfrm>
            <a:off x="7695000" y="223992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8304840" y="3611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4447440" y="4511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5133240" y="19969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41" name="Picture 16" descr="j0230337"/>
          <p:cNvPicPr/>
          <p:nvPr/>
        </p:nvPicPr>
        <p:blipFill>
          <a:blip r:embed="rId5"/>
          <a:stretch/>
        </p:blipFill>
        <p:spPr>
          <a:xfrm>
            <a:off x="3922560" y="466416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7" descr="j0230337"/>
          <p:cNvPicPr/>
          <p:nvPr/>
        </p:nvPicPr>
        <p:blipFill>
          <a:blip r:embed="rId6"/>
          <a:stretch/>
        </p:blipFill>
        <p:spPr>
          <a:xfrm>
            <a:off x="4836960" y="1539720"/>
            <a:ext cx="266760" cy="438480"/>
          </a:xfrm>
          <a:prstGeom prst="rect">
            <a:avLst/>
          </a:prstGeom>
          <a:ln w="0">
            <a:noFill/>
          </a:ln>
        </p:spPr>
      </p:pic>
      <p:sp>
        <p:nvSpPr>
          <p:cNvPr id="543" name="Line 18"/>
          <p:cNvSpPr/>
          <p:nvPr/>
        </p:nvSpPr>
        <p:spPr>
          <a:xfrm flipV="1">
            <a:off x="4265640" y="474012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056200" y="1996920"/>
            <a:ext cx="92160" cy="12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45" name="Picture 20" descr="j0230337"/>
          <p:cNvPicPr/>
          <p:nvPr/>
        </p:nvPicPr>
        <p:blipFill>
          <a:blip r:embed="rId7"/>
          <a:stretch/>
        </p:blipFill>
        <p:spPr>
          <a:xfrm>
            <a:off x="8837640" y="352116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46" name="Line 21"/>
          <p:cNvSpPr/>
          <p:nvPr/>
        </p:nvSpPr>
        <p:spPr>
          <a:xfrm flipV="1">
            <a:off x="5484960" y="5883120"/>
            <a:ext cx="7596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Line 22"/>
          <p:cNvSpPr/>
          <p:nvPr/>
        </p:nvSpPr>
        <p:spPr>
          <a:xfrm flipV="1">
            <a:off x="6399360" y="611172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Line 23"/>
          <p:cNvSpPr/>
          <p:nvPr/>
        </p:nvSpPr>
        <p:spPr>
          <a:xfrm flipH="1" flipV="1">
            <a:off x="8456400" y="481644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Line 24"/>
          <p:cNvSpPr/>
          <p:nvPr/>
        </p:nvSpPr>
        <p:spPr>
          <a:xfrm flipH="1">
            <a:off x="8685000" y="37497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Line 25"/>
          <p:cNvSpPr/>
          <p:nvPr/>
        </p:nvSpPr>
        <p:spPr>
          <a:xfrm flipV="1">
            <a:off x="7970760" y="2215800"/>
            <a:ext cx="11448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51" name="Picture 26" descr="j0230337"/>
          <p:cNvPicPr/>
          <p:nvPr/>
        </p:nvPicPr>
        <p:blipFill>
          <a:blip r:embed="rId8"/>
          <a:stretch/>
        </p:blipFill>
        <p:spPr>
          <a:xfrm>
            <a:off x="8151840" y="192096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7" descr="j0230337"/>
          <p:cNvPicPr/>
          <p:nvPr/>
        </p:nvPicPr>
        <p:blipFill>
          <a:blip r:embed="rId9"/>
          <a:stretch/>
        </p:blipFill>
        <p:spPr>
          <a:xfrm>
            <a:off x="3273480" y="3319560"/>
            <a:ext cx="306360" cy="4651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28"/>
          <p:cNvSpPr/>
          <p:nvPr/>
        </p:nvSpPr>
        <p:spPr>
          <a:xfrm>
            <a:off x="3380400" y="37497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0" y="1447920"/>
            <a:ext cx="3809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44 has a new successor (50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44 sends a notify message to node 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Text Box 30"/>
          <p:cNvSpPr/>
          <p:nvPr/>
        </p:nvSpPr>
        <p:spPr>
          <a:xfrm>
            <a:off x="2473200" y="329256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Text Box 31"/>
          <p:cNvSpPr/>
          <p:nvPr/>
        </p:nvSpPr>
        <p:spPr>
          <a:xfrm>
            <a:off x="3149640" y="458640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7" name="Group 32"/>
          <p:cNvGrpSpPr/>
          <p:nvPr/>
        </p:nvGrpSpPr>
        <p:grpSpPr>
          <a:xfrm>
            <a:off x="3836880" y="3521160"/>
            <a:ext cx="1845720" cy="1218960"/>
            <a:chOff x="3836880" y="3521160"/>
            <a:chExt cx="1845720" cy="1218960"/>
          </a:xfrm>
        </p:grpSpPr>
        <p:sp>
          <p:nvSpPr>
            <p:cNvPr id="558" name="Freeform 33"/>
            <p:cNvSpPr/>
            <p:nvPr/>
          </p:nvSpPr>
          <p:spPr>
            <a:xfrm>
              <a:off x="3836880" y="3521160"/>
              <a:ext cx="514080" cy="1218960"/>
            </a:xfrm>
            <a:custGeom>
              <a:avLst/>
              <a:gdLst/>
              <a:ahLst/>
              <a:rect l="l" t="t" r="r" b="b"/>
              <a:pathLst>
                <a:path w="392" h="816">
                  <a:moveTo>
                    <a:pt x="336" y="816"/>
                  </a:moveTo>
                  <a:cubicBezTo>
                    <a:pt x="364" y="596"/>
                    <a:pt x="392" y="376"/>
                    <a:pt x="336" y="240"/>
                  </a:cubicBezTo>
                  <a:cubicBezTo>
                    <a:pt x="280" y="104"/>
                    <a:pt x="140" y="52"/>
                    <a:pt x="0" y="0"/>
                  </a:cubicBezTo>
                </a:path>
              </a:pathLst>
            </a:custGeom>
            <a:noFill/>
            <a:ln w="25560">
              <a:solidFill>
                <a:srgbClr val="4f81b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9" name="Text Box 34"/>
            <p:cNvSpPr/>
            <p:nvPr/>
          </p:nvSpPr>
          <p:spPr>
            <a:xfrm>
              <a:off x="4335120" y="3676320"/>
              <a:ext cx="134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notify(node=44)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60" name="Text Box 35"/>
          <p:cNvSpPr/>
          <p:nvPr/>
        </p:nvSpPr>
        <p:spPr>
          <a:xfrm>
            <a:off x="2474280" y="352116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red=4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4074480" y="138744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red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Text Box 37"/>
          <p:cNvSpPr/>
          <p:nvPr/>
        </p:nvSpPr>
        <p:spPr>
          <a:xfrm>
            <a:off x="3156480" y="481644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35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Text Box 38"/>
          <p:cNvSpPr/>
          <p:nvPr/>
        </p:nvSpPr>
        <p:spPr>
          <a:xfrm>
            <a:off x="4072320" y="1163520"/>
            <a:ext cx="67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Text Box 39"/>
          <p:cNvSpPr/>
          <p:nvPr/>
        </p:nvSpPr>
        <p:spPr>
          <a:xfrm>
            <a:off x="2468880" y="3521160"/>
            <a:ext cx="781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nil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E045-A73E-4452-939C-38A3BA44620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riodic Stabilize Converges!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7" name="Oval 3"/>
          <p:cNvSpPr/>
          <p:nvPr/>
        </p:nvSpPr>
        <p:spPr>
          <a:xfrm>
            <a:off x="4113360" y="162072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7106040" y="171144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9" name="Picture 5" descr="j0230337"/>
          <p:cNvPicPr/>
          <p:nvPr/>
        </p:nvPicPr>
        <p:blipFill>
          <a:blip r:embed="rId1"/>
          <a:stretch/>
        </p:blipFill>
        <p:spPr>
          <a:xfrm>
            <a:off x="7227720" y="12398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j0230337"/>
          <p:cNvPicPr/>
          <p:nvPr/>
        </p:nvPicPr>
        <p:blipFill>
          <a:blip r:embed="rId2"/>
          <a:stretch/>
        </p:blipFill>
        <p:spPr>
          <a:xfrm>
            <a:off x="8723160" y="47642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8035200" y="4592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2" name="Picture 8" descr="j0230337"/>
          <p:cNvPicPr/>
          <p:nvPr/>
        </p:nvPicPr>
        <p:blipFill>
          <a:blip r:embed="rId3"/>
          <a:stretch/>
        </p:blipFill>
        <p:spPr>
          <a:xfrm>
            <a:off x="6323040" y="62881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9"/>
          <p:cNvSpPr/>
          <p:nvPr/>
        </p:nvSpPr>
        <p:spPr>
          <a:xfrm>
            <a:off x="6187320" y="5735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5434560" y="55976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5" name="Picture 11" descr="j0230337"/>
          <p:cNvPicPr/>
          <p:nvPr/>
        </p:nvPicPr>
        <p:blipFill>
          <a:blip r:embed="rId4"/>
          <a:stretch/>
        </p:blipFill>
        <p:spPr>
          <a:xfrm>
            <a:off x="5332320" y="61358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12"/>
          <p:cNvSpPr/>
          <p:nvPr/>
        </p:nvSpPr>
        <p:spPr>
          <a:xfrm>
            <a:off x="7693560" y="224460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8301600" y="361620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4444200" y="45165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5130000" y="20019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0" name="Picture 16" descr="j0230337"/>
          <p:cNvPicPr/>
          <p:nvPr/>
        </p:nvPicPr>
        <p:blipFill>
          <a:blip r:embed="rId5"/>
          <a:stretch/>
        </p:blipFill>
        <p:spPr>
          <a:xfrm>
            <a:off x="3922560" y="46688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7" descr="j0230337"/>
          <p:cNvPicPr/>
          <p:nvPr/>
        </p:nvPicPr>
        <p:blipFill>
          <a:blip r:embed="rId6"/>
          <a:stretch/>
        </p:blipFill>
        <p:spPr>
          <a:xfrm>
            <a:off x="4836960" y="154476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82" name="Line 18"/>
          <p:cNvSpPr/>
          <p:nvPr/>
        </p:nvSpPr>
        <p:spPr>
          <a:xfrm flipV="1">
            <a:off x="4265640" y="4744800"/>
            <a:ext cx="15228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Line 19"/>
          <p:cNvSpPr/>
          <p:nvPr/>
        </p:nvSpPr>
        <p:spPr>
          <a:xfrm>
            <a:off x="5056200" y="2001960"/>
            <a:ext cx="9216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4" name="Picture 20" descr="j0230337"/>
          <p:cNvPicPr/>
          <p:nvPr/>
        </p:nvPicPr>
        <p:blipFill>
          <a:blip r:embed="rId7"/>
          <a:stretch/>
        </p:blipFill>
        <p:spPr>
          <a:xfrm>
            <a:off x="8837640" y="35258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85" name="Line 21"/>
          <p:cNvSpPr/>
          <p:nvPr/>
        </p:nvSpPr>
        <p:spPr>
          <a:xfrm flipV="1">
            <a:off x="5484960" y="5887800"/>
            <a:ext cx="759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Line 22"/>
          <p:cNvSpPr/>
          <p:nvPr/>
        </p:nvSpPr>
        <p:spPr>
          <a:xfrm flipV="1">
            <a:off x="6399360" y="611640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7" name="Line 23"/>
          <p:cNvSpPr/>
          <p:nvPr/>
        </p:nvSpPr>
        <p:spPr>
          <a:xfrm flipH="1" flipV="1">
            <a:off x="8456400" y="482112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8" name="Line 24"/>
          <p:cNvSpPr/>
          <p:nvPr/>
        </p:nvSpPr>
        <p:spPr>
          <a:xfrm flipH="1">
            <a:off x="8685000" y="375444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9" name="Line 25"/>
          <p:cNvSpPr/>
          <p:nvPr/>
        </p:nvSpPr>
        <p:spPr>
          <a:xfrm flipV="1">
            <a:off x="7970760" y="2220480"/>
            <a:ext cx="11448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0" name="Picture 26" descr="j0230337"/>
          <p:cNvPicPr/>
          <p:nvPr/>
        </p:nvPicPr>
        <p:blipFill>
          <a:blip r:embed="rId8"/>
          <a:stretch/>
        </p:blipFill>
        <p:spPr>
          <a:xfrm>
            <a:off x="8151840" y="19256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7" descr="j0230337"/>
          <p:cNvPicPr/>
          <p:nvPr/>
        </p:nvPicPr>
        <p:blipFill>
          <a:blip r:embed="rId9"/>
          <a:stretch/>
        </p:blipFill>
        <p:spPr>
          <a:xfrm>
            <a:off x="3635280" y="3395520"/>
            <a:ext cx="301680" cy="4636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8"/>
          <p:cNvSpPr/>
          <p:nvPr/>
        </p:nvSpPr>
        <p:spPr>
          <a:xfrm>
            <a:off x="4158360" y="3449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Rectangle 29"/>
          <p:cNvSpPr/>
          <p:nvPr/>
        </p:nvSpPr>
        <p:spPr>
          <a:xfrm>
            <a:off x="0" y="1447920"/>
            <a:ext cx="3809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completes the joining operation!</a:t>
            </a:r>
            <a:endParaRPr b="1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Text Box 30"/>
          <p:cNvSpPr/>
          <p:nvPr/>
        </p:nvSpPr>
        <p:spPr>
          <a:xfrm>
            <a:off x="2804040" y="328788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Text Box 31"/>
          <p:cNvSpPr/>
          <p:nvPr/>
        </p:nvSpPr>
        <p:spPr>
          <a:xfrm>
            <a:off x="3116880" y="467208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Text Box 32"/>
          <p:cNvSpPr/>
          <p:nvPr/>
        </p:nvSpPr>
        <p:spPr>
          <a:xfrm>
            <a:off x="2793600" y="360216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red=4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Text Box 33"/>
          <p:cNvSpPr/>
          <p:nvPr/>
        </p:nvSpPr>
        <p:spPr>
          <a:xfrm>
            <a:off x="4092120" y="139212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red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8" name="Line 34"/>
          <p:cNvSpPr/>
          <p:nvPr/>
        </p:nvSpPr>
        <p:spPr>
          <a:xfrm flipH="1">
            <a:off x="4065480" y="367812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A567-7449-4ED5-ADE2-5873DD282AD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 studied P2P file sharing in cla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p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nut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Za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tTor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day, let’s learn more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o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calable P2P lookup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F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distributed file system built on top of Ch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pdos.csail.mit.edu/ch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A0C8-812C-465F-994F-8E1A0079E98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chieving Efficiency: </a:t>
            </a:r>
            <a:r>
              <a:rPr b="0" i="1" lang="en-US" sz="4400" spc="-1" strike="noStrike">
                <a:solidFill>
                  <a:srgbClr val="000090"/>
                </a:solidFill>
                <a:latin typeface="Calibri"/>
              </a:rPr>
              <a:t>finger tabl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F0F6-8C1F-4C17-B9FB-F2F65A2417CD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Oval 3"/>
          <p:cNvSpPr/>
          <p:nvPr/>
        </p:nvSpPr>
        <p:spPr>
          <a:xfrm>
            <a:off x="3125880" y="1673280"/>
            <a:ext cx="3427200" cy="342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2849400" y="4338720"/>
            <a:ext cx="723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Freeform 5"/>
          <p:cNvSpPr/>
          <p:nvPr/>
        </p:nvSpPr>
        <p:spPr>
          <a:xfrm>
            <a:off x="3425760" y="4213080"/>
            <a:ext cx="223920" cy="347760"/>
          </a:xfrm>
          <a:custGeom>
            <a:avLst/>
            <a:gdLst/>
            <a:ahLst/>
            <a:rect l="l" t="t" r="r" b="b"/>
            <a:pathLst>
              <a:path w="112" h="224">
                <a:moveTo>
                  <a:pt x="96" y="224"/>
                </a:moveTo>
                <a:cubicBezTo>
                  <a:pt x="104" y="144"/>
                  <a:pt x="112" y="64"/>
                  <a:pt x="96" y="32"/>
                </a:cubicBezTo>
                <a:cubicBezTo>
                  <a:pt x="80" y="0"/>
                  <a:pt x="40" y="16"/>
                  <a:pt x="0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Freeform 6"/>
          <p:cNvSpPr/>
          <p:nvPr/>
        </p:nvSpPr>
        <p:spPr>
          <a:xfrm>
            <a:off x="3265560" y="4022640"/>
            <a:ext cx="615960" cy="576360"/>
          </a:xfrm>
          <a:custGeom>
            <a:avLst/>
            <a:gdLst/>
            <a:ahLst/>
            <a:rect l="l" t="t" r="r" b="b"/>
            <a:pathLst>
              <a:path w="264" h="280">
                <a:moveTo>
                  <a:pt x="144" y="280"/>
                </a:moveTo>
                <a:cubicBezTo>
                  <a:pt x="204" y="180"/>
                  <a:pt x="264" y="80"/>
                  <a:pt x="240" y="40"/>
                </a:cubicBezTo>
                <a:cubicBezTo>
                  <a:pt x="216" y="0"/>
                  <a:pt x="108" y="20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Freeform 7"/>
          <p:cNvSpPr/>
          <p:nvPr/>
        </p:nvSpPr>
        <p:spPr>
          <a:xfrm>
            <a:off x="3200400" y="3727440"/>
            <a:ext cx="987480" cy="871560"/>
          </a:xfrm>
          <a:custGeom>
            <a:avLst/>
            <a:gdLst/>
            <a:ahLst/>
            <a:rect l="l" t="t" r="r" b="b"/>
            <a:pathLst>
              <a:path w="464" h="392">
                <a:moveTo>
                  <a:pt x="192" y="392"/>
                </a:moveTo>
                <a:cubicBezTo>
                  <a:pt x="328" y="252"/>
                  <a:pt x="464" y="112"/>
                  <a:pt x="432" y="56"/>
                </a:cubicBezTo>
                <a:cubicBezTo>
                  <a:pt x="400" y="0"/>
                  <a:pt x="200" y="28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Freeform 8"/>
          <p:cNvSpPr/>
          <p:nvPr/>
        </p:nvSpPr>
        <p:spPr>
          <a:xfrm>
            <a:off x="3112920" y="3254400"/>
            <a:ext cx="1575000" cy="13446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288" y="720"/>
                </a:moveTo>
                <a:cubicBezTo>
                  <a:pt x="600" y="492"/>
                  <a:pt x="912" y="264"/>
                  <a:pt x="864" y="144"/>
                </a:cubicBezTo>
                <a:cubicBezTo>
                  <a:pt x="816" y="24"/>
                  <a:pt x="408" y="1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Freeform 9"/>
          <p:cNvSpPr/>
          <p:nvPr/>
        </p:nvSpPr>
        <p:spPr>
          <a:xfrm>
            <a:off x="3573360" y="2293920"/>
            <a:ext cx="1152720" cy="2305080"/>
          </a:xfrm>
          <a:custGeom>
            <a:avLst/>
            <a:gdLst/>
            <a:ahLst/>
            <a:rect l="l" t="t" r="r" b="b"/>
            <a:pathLst>
              <a:path w="776" h="1440">
                <a:moveTo>
                  <a:pt x="0" y="1440"/>
                </a:moveTo>
                <a:cubicBezTo>
                  <a:pt x="380" y="1272"/>
                  <a:pt x="760" y="1104"/>
                  <a:pt x="768" y="864"/>
                </a:cubicBezTo>
                <a:cubicBezTo>
                  <a:pt x="776" y="624"/>
                  <a:pt x="412" y="312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Freeform 10"/>
          <p:cNvSpPr/>
          <p:nvPr/>
        </p:nvSpPr>
        <p:spPr>
          <a:xfrm>
            <a:off x="3611520" y="2101680"/>
            <a:ext cx="2343240" cy="2459160"/>
          </a:xfrm>
          <a:custGeom>
            <a:avLst/>
            <a:gdLst/>
            <a:ahLst/>
            <a:rect l="l" t="t" r="r" b="b"/>
            <a:pathLst>
              <a:path w="1584" h="1392">
                <a:moveTo>
                  <a:pt x="0" y="1392"/>
                </a:moveTo>
                <a:cubicBezTo>
                  <a:pt x="300" y="1292"/>
                  <a:pt x="600" y="1192"/>
                  <a:pt x="864" y="960"/>
                </a:cubicBezTo>
                <a:cubicBezTo>
                  <a:pt x="1128" y="728"/>
                  <a:pt x="1356" y="364"/>
                  <a:pt x="15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2709360" y="4186080"/>
            <a:ext cx="680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2629800" y="3957480"/>
            <a:ext cx="680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2477520" y="3727440"/>
            <a:ext cx="680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2404440" y="3195720"/>
            <a:ext cx="680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2791440" y="2050920"/>
            <a:ext cx="741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5969160" y="1778040"/>
            <a:ext cx="1898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(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mod 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= 1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Line 17"/>
          <p:cNvSpPr/>
          <p:nvPr/>
        </p:nvSpPr>
        <p:spPr>
          <a:xfrm>
            <a:off x="4844880" y="161604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4691880" y="1234080"/>
            <a:ext cx="337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7351200" y="971640"/>
            <a:ext cx="12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=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Text Box 20"/>
          <p:cNvSpPr/>
          <p:nvPr/>
        </p:nvSpPr>
        <p:spPr>
          <a:xfrm>
            <a:off x="731880" y="5175360"/>
            <a:ext cx="8026200" cy="45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 entry at peer with i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first peer with id &gt;=                        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21"/>
              <p:cNvSpPr txBox="1"/>
              <p:nvPr/>
            </p:nvSpPr>
            <p:spPr>
              <a:xfrm>
                <a:off x="6811920" y="5159520"/>
                <a:ext cx="19461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Text Box 22"/>
          <p:cNvSpPr/>
          <p:nvPr/>
        </p:nvSpPr>
        <p:spPr>
          <a:xfrm>
            <a:off x="457200" y="226836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Text Box 23"/>
          <p:cNvSpPr/>
          <p:nvPr/>
        </p:nvSpPr>
        <p:spPr>
          <a:xfrm>
            <a:off x="649440" y="1735200"/>
            <a:ext cx="936360" cy="3017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   ft[i]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  96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96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96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 96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96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 11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 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Line 24"/>
          <p:cNvSpPr/>
          <p:nvPr/>
        </p:nvSpPr>
        <p:spPr>
          <a:xfrm flipH="1" flipV="1">
            <a:off x="1523520" y="3561840"/>
            <a:ext cx="145116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Text Box 25"/>
          <p:cNvSpPr/>
          <p:nvPr/>
        </p:nvSpPr>
        <p:spPr>
          <a:xfrm>
            <a:off x="263520" y="1165320"/>
            <a:ext cx="239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ger Table at 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25" name="Picture 26" descr="j0230337"/>
          <p:cNvPicPr/>
          <p:nvPr/>
        </p:nvPicPr>
        <p:blipFill>
          <a:blip r:embed="rId1"/>
          <a:stretch/>
        </p:blipFill>
        <p:spPr>
          <a:xfrm>
            <a:off x="6664320" y="3197160"/>
            <a:ext cx="266760" cy="436680"/>
          </a:xfrm>
          <a:prstGeom prst="rect">
            <a:avLst/>
          </a:prstGeom>
          <a:ln w="0">
            <a:noFill/>
          </a:ln>
        </p:spPr>
      </p:pic>
      <p:sp>
        <p:nvSpPr>
          <p:cNvPr id="626" name="Line 27"/>
          <p:cNvSpPr/>
          <p:nvPr/>
        </p:nvSpPr>
        <p:spPr>
          <a:xfrm>
            <a:off x="6475320" y="3406680"/>
            <a:ext cx="15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7" name="Text Box 28"/>
          <p:cNvSpPr/>
          <p:nvPr/>
        </p:nvSpPr>
        <p:spPr>
          <a:xfrm>
            <a:off x="6091200" y="319248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Line 29"/>
          <p:cNvSpPr/>
          <p:nvPr/>
        </p:nvSpPr>
        <p:spPr>
          <a:xfrm>
            <a:off x="6018120" y="4470480"/>
            <a:ext cx="15264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Text Box 30"/>
          <p:cNvSpPr/>
          <p:nvPr/>
        </p:nvSpPr>
        <p:spPr>
          <a:xfrm>
            <a:off x="5577480" y="42577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0" name="Text Box 31"/>
          <p:cNvSpPr/>
          <p:nvPr/>
        </p:nvSpPr>
        <p:spPr>
          <a:xfrm>
            <a:off x="3656880" y="43941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1" name="Line 32"/>
          <p:cNvSpPr/>
          <p:nvPr/>
        </p:nvSpPr>
        <p:spPr>
          <a:xfrm flipV="1">
            <a:off x="6113520" y="2316240"/>
            <a:ext cx="17136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2" name="Text Box 33"/>
          <p:cNvSpPr/>
          <p:nvPr/>
        </p:nvSpPr>
        <p:spPr>
          <a:xfrm>
            <a:off x="5711040" y="226548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3" name="Line 34"/>
          <p:cNvSpPr/>
          <p:nvPr/>
        </p:nvSpPr>
        <p:spPr>
          <a:xfrm flipH="1" flipV="1">
            <a:off x="3583080" y="2099880"/>
            <a:ext cx="108000" cy="165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4" name="Text Box 35"/>
          <p:cNvSpPr/>
          <p:nvPr/>
        </p:nvSpPr>
        <p:spPr>
          <a:xfrm>
            <a:off x="3655440" y="1974960"/>
            <a:ext cx="5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1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5" name="Text Box 36"/>
          <p:cNvSpPr/>
          <p:nvPr/>
        </p:nvSpPr>
        <p:spPr>
          <a:xfrm>
            <a:off x="3123360" y="28875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9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6" name="Line 37"/>
          <p:cNvSpPr/>
          <p:nvPr/>
        </p:nvSpPr>
        <p:spPr>
          <a:xfrm flipH="1">
            <a:off x="3050640" y="3102120"/>
            <a:ext cx="15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37" name="Picture 38" descr="j0230337"/>
          <p:cNvPicPr/>
          <p:nvPr/>
        </p:nvPicPr>
        <p:blipFill>
          <a:blip r:embed="rId2"/>
          <a:stretch/>
        </p:blipFill>
        <p:spPr>
          <a:xfrm>
            <a:off x="6323040" y="4413240"/>
            <a:ext cx="264960" cy="4381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9" descr="j0230337"/>
          <p:cNvPicPr/>
          <p:nvPr/>
        </p:nvPicPr>
        <p:blipFill>
          <a:blip r:embed="rId3"/>
          <a:stretch/>
        </p:blipFill>
        <p:spPr>
          <a:xfrm>
            <a:off x="3201840" y="46418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0" descr="j0230337"/>
          <p:cNvPicPr/>
          <p:nvPr/>
        </p:nvPicPr>
        <p:blipFill>
          <a:blip r:embed="rId4"/>
          <a:stretch/>
        </p:blipFill>
        <p:spPr>
          <a:xfrm>
            <a:off x="2708280" y="281628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1" descr="j0230337"/>
          <p:cNvPicPr/>
          <p:nvPr/>
        </p:nvPicPr>
        <p:blipFill>
          <a:blip r:embed="rId5"/>
          <a:stretch/>
        </p:blipFill>
        <p:spPr>
          <a:xfrm>
            <a:off x="3354480" y="1600200"/>
            <a:ext cx="266760" cy="4366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42" descr="j0230337"/>
          <p:cNvPicPr/>
          <p:nvPr/>
        </p:nvPicPr>
        <p:blipFill>
          <a:blip r:embed="rId6"/>
          <a:stretch/>
        </p:blipFill>
        <p:spPr>
          <a:xfrm>
            <a:off x="6399360" y="2112840"/>
            <a:ext cx="264960" cy="43812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45"/>
          <p:cNvSpPr/>
          <p:nvPr/>
        </p:nvSpPr>
        <p:spPr>
          <a:xfrm>
            <a:off x="731880" y="5773680"/>
            <a:ext cx="7988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Each node only stores 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(log 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) entri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Each look up takes at most 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(log 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) hop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chieving Robustn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What if nodes FAIL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Ring robustness: each node maintains the k (&gt; 1) immediate successors instead of only one successor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smallest successor does no respond, substitute the second entry in its successor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ly all successors fail simultaneous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Modifications to stabilize protocol (see paper!)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2637-3321-401A-B13B-750A3BD01A2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70000" y="759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90"/>
                </a:solidFill>
                <a:latin typeface="Arial"/>
                <a:ea typeface="Arial"/>
              </a:rPr>
              <a:t>Example of Chord-based storage system</a:t>
            </a:r>
            <a:endParaRPr b="0" lang="en-US" sz="36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5923-81DA-4DDA-A476-365275F8867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8" name="AutoShape 16"/>
          <p:cNvSpPr/>
          <p:nvPr/>
        </p:nvSpPr>
        <p:spPr>
          <a:xfrm>
            <a:off x="6248520" y="1498680"/>
            <a:ext cx="2209680" cy="38098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809880"/>
              <a:gd name="textAreaBottom" fmla="*/ 3702240 h 3809880"/>
            </a:gdLst>
            <a:ahLst/>
            <a:rect l="textAreaLeft" t="textAreaTop" r="textAreaRight" b="textAreaBottom"/>
            <a:pathLst>
              <a:path w="21600" h="37240">
                <a:moveTo>
                  <a:pt x="3600" y="0"/>
                </a:moveTo>
                <a:arcTo wR="3600" hR="3600" stAng="16200000" swAng="-5400000"/>
                <a:lnTo>
                  <a:pt x="0" y="33640"/>
                </a:lnTo>
                <a:arcTo wR="3600" hR="3600" stAng="10800000" swAng="-5400000"/>
                <a:lnTo>
                  <a:pt x="18000" y="37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AutoShape 12"/>
          <p:cNvSpPr/>
          <p:nvPr/>
        </p:nvSpPr>
        <p:spPr>
          <a:xfrm>
            <a:off x="3505320" y="1498680"/>
            <a:ext cx="2209680" cy="38098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809880"/>
              <a:gd name="textAreaBottom" fmla="*/ 3702240 h 3809880"/>
            </a:gdLst>
            <a:ahLst/>
            <a:rect l="textAreaLeft" t="textAreaTop" r="textAreaRight" b="textAreaBottom"/>
            <a:pathLst>
              <a:path w="21600" h="37240">
                <a:moveTo>
                  <a:pt x="3600" y="0"/>
                </a:moveTo>
                <a:arcTo wR="3600" hR="3600" stAng="16200000" swAng="-5400000"/>
                <a:lnTo>
                  <a:pt x="0" y="33640"/>
                </a:lnTo>
                <a:arcTo wR="3600" hR="3600" stAng="10800000" swAng="-5400000"/>
                <a:lnTo>
                  <a:pt x="18000" y="37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0" name="AutoShape 7"/>
          <p:cNvSpPr/>
          <p:nvPr/>
        </p:nvSpPr>
        <p:spPr>
          <a:xfrm>
            <a:off x="762120" y="1498680"/>
            <a:ext cx="2209680" cy="38098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809880"/>
              <a:gd name="textAreaBottom" fmla="*/ 3702240 h 3809880"/>
            </a:gdLst>
            <a:ahLst/>
            <a:rect l="textAreaLeft" t="textAreaTop" r="textAreaRight" b="textAreaBottom"/>
            <a:pathLst>
              <a:path w="21600" h="37240">
                <a:moveTo>
                  <a:pt x="3600" y="0"/>
                </a:moveTo>
                <a:arcTo wR="3600" hR="3600" stAng="16200000" swAng="-5400000"/>
                <a:lnTo>
                  <a:pt x="0" y="33640"/>
                </a:lnTo>
                <a:arcTo wR="3600" hR="3600" stAng="10800000" swAng="-5400000"/>
                <a:lnTo>
                  <a:pt x="18000" y="37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1143000" y="1803240"/>
            <a:ext cx="14479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orage Ap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1143000" y="3022560"/>
            <a:ext cx="14479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stributed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shtabl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1143000" y="4241880"/>
            <a:ext cx="1447920" cy="76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3886200" y="1803240"/>
            <a:ext cx="14479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orage Ap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5" name="Rectangle 10"/>
          <p:cNvSpPr/>
          <p:nvPr/>
        </p:nvSpPr>
        <p:spPr>
          <a:xfrm>
            <a:off x="3886200" y="3022560"/>
            <a:ext cx="14479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stributed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shtabl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3886200" y="4241880"/>
            <a:ext cx="1447920" cy="76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6629400" y="1803240"/>
            <a:ext cx="14479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orage Ap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6629400" y="3022560"/>
            <a:ext cx="14479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stributed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shtabl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6629400" y="4241880"/>
            <a:ext cx="1447920" cy="76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Line 17"/>
          <p:cNvSpPr/>
          <p:nvPr/>
        </p:nvSpPr>
        <p:spPr>
          <a:xfrm>
            <a:off x="2590920" y="34034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Line 18"/>
          <p:cNvSpPr/>
          <p:nvPr/>
        </p:nvSpPr>
        <p:spPr>
          <a:xfrm>
            <a:off x="1828800" y="2565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Line 19"/>
          <p:cNvSpPr/>
          <p:nvPr/>
        </p:nvSpPr>
        <p:spPr>
          <a:xfrm>
            <a:off x="1828800" y="3784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3" name="Line 20"/>
          <p:cNvSpPr/>
          <p:nvPr/>
        </p:nvSpPr>
        <p:spPr>
          <a:xfrm>
            <a:off x="4572000" y="3784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Line 21"/>
          <p:cNvSpPr/>
          <p:nvPr/>
        </p:nvSpPr>
        <p:spPr>
          <a:xfrm>
            <a:off x="4572000" y="2565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5" name="Line 22"/>
          <p:cNvSpPr/>
          <p:nvPr/>
        </p:nvSpPr>
        <p:spPr>
          <a:xfrm>
            <a:off x="7315200" y="2565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6" name="Line 23"/>
          <p:cNvSpPr/>
          <p:nvPr/>
        </p:nvSpPr>
        <p:spPr>
          <a:xfrm>
            <a:off x="7315200" y="3784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Line 24"/>
          <p:cNvSpPr/>
          <p:nvPr/>
        </p:nvSpPr>
        <p:spPr>
          <a:xfrm>
            <a:off x="5334120" y="34034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Line 25"/>
          <p:cNvSpPr/>
          <p:nvPr/>
        </p:nvSpPr>
        <p:spPr>
          <a:xfrm>
            <a:off x="2590920" y="46227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Line 26"/>
          <p:cNvSpPr/>
          <p:nvPr/>
        </p:nvSpPr>
        <p:spPr>
          <a:xfrm>
            <a:off x="5334120" y="46227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670" name="AutoShape 27"/>
          <p:cNvCxnSpPr>
            <a:stCxn id="648" idx="3"/>
          </p:cNvCxnSpPr>
          <p:nvPr/>
        </p:nvCxnSpPr>
        <p:spPr>
          <a:xfrm flipH="1">
            <a:off x="1144080" y="3403080"/>
            <a:ext cx="7314480" cy="2520"/>
          </a:xfrm>
          <a:prstGeom prst="bentConnector5">
            <a:avLst>
              <a:gd name="adj1" fmla="val -3120"/>
              <a:gd name="adj2" fmla="val 161700000"/>
              <a:gd name="adj3" fmla="val 10926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1" name="AutoShape 31"/>
          <p:cNvCxnSpPr>
            <a:stCxn id="659" idx="3"/>
            <a:endCxn id="653" idx="1"/>
          </p:cNvCxnSpPr>
          <p:nvPr/>
        </p:nvCxnSpPr>
        <p:spPr>
          <a:xfrm flipH="1">
            <a:off x="1142640" y="4622400"/>
            <a:ext cx="6935040" cy="2520"/>
          </a:xfrm>
          <a:prstGeom prst="bentConnector5">
            <a:avLst>
              <a:gd name="adj1" fmla="val -3291"/>
              <a:gd name="adj2" fmla="val 69800000"/>
              <a:gd name="adj3" fmla="val 10329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2" name="Text Box 32"/>
          <p:cNvSpPr/>
          <p:nvPr/>
        </p:nvSpPr>
        <p:spPr>
          <a:xfrm>
            <a:off x="1492560" y="49417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Rectangle 33"/>
          <p:cNvSpPr/>
          <p:nvPr/>
        </p:nvSpPr>
        <p:spPr>
          <a:xfrm>
            <a:off x="4239720" y="49417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Rectangle 34"/>
          <p:cNvSpPr/>
          <p:nvPr/>
        </p:nvSpPr>
        <p:spPr>
          <a:xfrm>
            <a:off x="6982920" y="49417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operative File System (CF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60E6-0A01-4BC2-B8F8-D7A186C93DAD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1042560" y="1355760"/>
            <a:ext cx="3596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 storag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ilability / replicat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at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ching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ency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select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word searc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oku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AutoShape 8"/>
          <p:cNvSpPr/>
          <p:nvPr/>
        </p:nvSpPr>
        <p:spPr>
          <a:xfrm>
            <a:off x="4844880" y="4808520"/>
            <a:ext cx="304920" cy="4302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430200"/>
              <a:gd name="textAreaBottom" fmla="*/ 41256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35"/>
                  <a:pt x="10800" y="2869"/>
                </a:cubicBezTo>
                <a:lnTo>
                  <a:pt x="10800" y="7931"/>
                </a:lnTo>
                <a:cubicBezTo>
                  <a:pt x="10800" y="9366"/>
                  <a:pt x="16200" y="10800"/>
                  <a:pt x="21600" y="10800"/>
                </a:cubicBezTo>
                <a:cubicBezTo>
                  <a:pt x="16200" y="10800"/>
                  <a:pt x="10800" y="12235"/>
                  <a:pt x="10800" y="13669"/>
                </a:cubicBezTo>
                <a:lnTo>
                  <a:pt x="10800" y="18731"/>
                </a:lnTo>
                <a:cubicBezTo>
                  <a:pt x="10800" y="2016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5397480" y="2354400"/>
            <a:ext cx="277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Hash distributed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 stor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5462640" y="475776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ord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1" name="AutoShape 11"/>
          <p:cNvSpPr/>
          <p:nvPr/>
        </p:nvSpPr>
        <p:spPr>
          <a:xfrm>
            <a:off x="4764240" y="1623960"/>
            <a:ext cx="498240" cy="2649600"/>
          </a:xfrm>
          <a:custGeom>
            <a:avLst/>
            <a:gdLst>
              <a:gd name="textAreaLeft" fmla="*/ 0 w 498240"/>
              <a:gd name="textAreaRight" fmla="*/ 180000 w 498240"/>
              <a:gd name="textAreaTop" fmla="*/ 117000 h 2649600"/>
              <a:gd name="textAreaBottom" fmla="*/ 2532600 h 26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24"/>
                  <a:pt x="10800" y="3048"/>
                </a:cubicBezTo>
                <a:lnTo>
                  <a:pt x="10800" y="7752"/>
                </a:lnTo>
                <a:cubicBezTo>
                  <a:pt x="10800" y="9276"/>
                  <a:pt x="16200" y="10800"/>
                  <a:pt x="21600" y="10800"/>
                </a:cubicBezTo>
                <a:cubicBezTo>
                  <a:pt x="16200" y="10800"/>
                  <a:pt x="10800" y="12324"/>
                  <a:pt x="10800" y="13848"/>
                </a:cubicBezTo>
                <a:lnTo>
                  <a:pt x="10800" y="18552"/>
                </a:lnTo>
                <a:cubicBezTo>
                  <a:pt x="10800" y="2007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1074960" y="5576760"/>
            <a:ext cx="69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ful lookup simplifies other mechanism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operative File System (cont.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lock stora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lit each file into blocks and distribute those blocks over many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ance the load of serving popular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re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icate each block 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avai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latency (fetch from the server with least latenc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7288-9065-4488-837E-B46A53EB6DC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operative File System (cont.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ches blocks along the lookup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overloading servers that hold popular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ad bal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servers may have different capac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al server may act as multipl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irtual serv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y being hashed to several different I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3DE3-0F7B-4E1B-9BA6-9481FDD1943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087E-F916-42F8-9948-FFCED4CB045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0" y="1969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000090"/>
                </a:solidFill>
                <a:latin typeface="Calibri"/>
              </a:rPr>
              <a:t>Q &amp; A</a:t>
            </a:r>
            <a:endParaRPr b="1" lang="en-US" sz="8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view: distributed hash tab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95C2-4835-49C3-A7D1-77A5C64AB21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447920" y="2616120"/>
            <a:ext cx="6019560" cy="3988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Distributed hash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447920" y="1573200"/>
            <a:ext cx="6019560" cy="3988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Distributed applic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882880" y="1969920"/>
            <a:ext cx="1260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6184800" y="1969920"/>
            <a:ext cx="0" cy="69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106600" y="2162160"/>
            <a:ext cx="11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et (key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Line 8"/>
          <p:cNvSpPr/>
          <p:nvPr/>
        </p:nvSpPr>
        <p:spPr>
          <a:xfrm flipH="1" flipV="1">
            <a:off x="6530760" y="1969560"/>
            <a:ext cx="2196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534000" y="2162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9" name="Group 10"/>
          <p:cNvGrpSpPr/>
          <p:nvPr/>
        </p:nvGrpSpPr>
        <p:grpSpPr>
          <a:xfrm>
            <a:off x="1676520" y="3276720"/>
            <a:ext cx="5638680" cy="472320"/>
            <a:chOff x="1676520" y="3276720"/>
            <a:chExt cx="5638680" cy="472320"/>
          </a:xfrm>
        </p:grpSpPr>
        <p:sp>
          <p:nvSpPr>
            <p:cNvPr id="180" name="Rectangle 11"/>
            <p:cNvSpPr/>
            <p:nvPr/>
          </p:nvSpPr>
          <p:spPr>
            <a:xfrm>
              <a:off x="1676520" y="3350160"/>
              <a:ext cx="1218960" cy="39888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nod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1" name="Rectangle 12"/>
            <p:cNvSpPr/>
            <p:nvPr/>
          </p:nvSpPr>
          <p:spPr>
            <a:xfrm>
              <a:off x="3276720" y="3350160"/>
              <a:ext cx="1218960" cy="39888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nod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2" name="Rectangle 13"/>
            <p:cNvSpPr/>
            <p:nvPr/>
          </p:nvSpPr>
          <p:spPr>
            <a:xfrm>
              <a:off x="6095880" y="3350160"/>
              <a:ext cx="1219320" cy="39888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nod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3" name="Text Box 14"/>
            <p:cNvSpPr/>
            <p:nvPr/>
          </p:nvSpPr>
          <p:spPr>
            <a:xfrm>
              <a:off x="4995360" y="3276720"/>
              <a:ext cx="43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84" name="Text Box 15"/>
          <p:cNvSpPr/>
          <p:nvPr/>
        </p:nvSpPr>
        <p:spPr>
          <a:xfrm>
            <a:off x="1268640" y="214632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ut(key, data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1219320" y="4267080"/>
            <a:ext cx="183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693720" y="4311720"/>
            <a:ext cx="80265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HT provides the information look up service for P2P applications.</a:t>
            </a:r>
            <a:endParaRPr b="1" lang="en-US" sz="22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s uniformly distributed acros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a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s form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verl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s maintain list of neighbors in routing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upled from physical network topolog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Cloud 1"/>
          <p:cNvSpPr/>
          <p:nvPr/>
        </p:nvSpPr>
        <p:spPr>
          <a:xfrm>
            <a:off x="2651040" y="2314440"/>
            <a:ext cx="3880080" cy="24973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e lookup probl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9A88-D403-4AB8-A827-964CA1586B35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Text Box 1028"/>
          <p:cNvSpPr/>
          <p:nvPr/>
        </p:nvSpPr>
        <p:spPr>
          <a:xfrm>
            <a:off x="4134240" y="33908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1029"/>
          <p:cNvSpPr/>
          <p:nvPr/>
        </p:nvSpPr>
        <p:spPr>
          <a:xfrm>
            <a:off x="2554920" y="23544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Text Box 1033"/>
          <p:cNvSpPr/>
          <p:nvPr/>
        </p:nvSpPr>
        <p:spPr>
          <a:xfrm>
            <a:off x="5664600" y="18921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 Box 1034"/>
          <p:cNvSpPr/>
          <p:nvPr/>
        </p:nvSpPr>
        <p:spPr>
          <a:xfrm>
            <a:off x="5588640" y="43894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Text Box 1035"/>
          <p:cNvSpPr/>
          <p:nvPr/>
        </p:nvSpPr>
        <p:spPr>
          <a:xfrm>
            <a:off x="4282200" y="48117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1036"/>
          <p:cNvSpPr/>
          <p:nvPr/>
        </p:nvSpPr>
        <p:spPr>
          <a:xfrm>
            <a:off x="2921400" y="442764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Text Box 1037"/>
          <p:cNvSpPr/>
          <p:nvPr/>
        </p:nvSpPr>
        <p:spPr>
          <a:xfrm>
            <a:off x="336600" y="426708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blish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Text Box 1038"/>
          <p:cNvSpPr/>
          <p:nvPr/>
        </p:nvSpPr>
        <p:spPr>
          <a:xfrm>
            <a:off x="202320" y="362124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Key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“beat it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Value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MP3 data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Text Box 1040"/>
          <p:cNvSpPr/>
          <p:nvPr/>
        </p:nvSpPr>
        <p:spPr>
          <a:xfrm>
            <a:off x="6892200" y="409896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Text Box 1041"/>
          <p:cNvSpPr/>
          <p:nvPr/>
        </p:nvSpPr>
        <p:spPr>
          <a:xfrm>
            <a:off x="6527520" y="441972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Lookup(“beat it”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Text Box 1044"/>
          <p:cNvSpPr/>
          <p:nvPr/>
        </p:nvSpPr>
        <p:spPr>
          <a:xfrm>
            <a:off x="5305680" y="3697200"/>
            <a:ext cx="3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Freeform 1047"/>
          <p:cNvSpPr/>
          <p:nvPr/>
        </p:nvSpPr>
        <p:spPr>
          <a:xfrm rot="351600">
            <a:off x="5592600" y="3876840"/>
            <a:ext cx="1283040" cy="50292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768" y="144"/>
                </a:moveTo>
                <a:cubicBezTo>
                  <a:pt x="568" y="156"/>
                  <a:pt x="368" y="168"/>
                  <a:pt x="240" y="144"/>
                </a:cubicBezTo>
                <a:cubicBezTo>
                  <a:pt x="112" y="120"/>
                  <a:pt x="56" y="6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Freeform 1048"/>
          <p:cNvSpPr/>
          <p:nvPr/>
        </p:nvSpPr>
        <p:spPr>
          <a:xfrm>
            <a:off x="1614600" y="2506680"/>
            <a:ext cx="2611440" cy="2036880"/>
          </a:xfrm>
          <a:custGeom>
            <a:avLst/>
            <a:gdLst/>
            <a:ahLst/>
            <a:rect l="l" t="t" r="r" b="b"/>
            <a:pathLst>
              <a:path w="1872" h="1056">
                <a:moveTo>
                  <a:pt x="0" y="1056"/>
                </a:moveTo>
                <a:cubicBezTo>
                  <a:pt x="468" y="1024"/>
                  <a:pt x="936" y="992"/>
                  <a:pt x="1248" y="816"/>
                </a:cubicBezTo>
                <a:cubicBezTo>
                  <a:pt x="1560" y="640"/>
                  <a:pt x="1716" y="320"/>
                  <a:pt x="18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 Box 1032"/>
          <p:cNvSpPr/>
          <p:nvPr/>
        </p:nvSpPr>
        <p:spPr>
          <a:xfrm>
            <a:off x="4051800" y="18162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entralized lookup (Napster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624A-A4D5-40A2-B6D4-5349442F2D3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283400" y="304488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blisher@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925680" y="243036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Freeform 16"/>
          <p:cNvSpPr/>
          <p:nvPr/>
        </p:nvSpPr>
        <p:spPr>
          <a:xfrm>
            <a:off x="4724280" y="2814480"/>
            <a:ext cx="2590920" cy="400320"/>
          </a:xfrm>
          <a:custGeom>
            <a:avLst/>
            <a:gdLst/>
            <a:ahLst/>
            <a:rect l="l" t="t" r="r" b="b"/>
            <a:pathLst>
              <a:path w="624" h="240">
                <a:moveTo>
                  <a:pt x="624" y="0"/>
                </a:moveTo>
                <a:cubicBezTo>
                  <a:pt x="580" y="76"/>
                  <a:pt x="536" y="152"/>
                  <a:pt x="432" y="192"/>
                </a:cubicBezTo>
                <a:cubicBezTo>
                  <a:pt x="328" y="232"/>
                  <a:pt x="164" y="236"/>
                  <a:pt x="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6631560" y="3083040"/>
            <a:ext cx="20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Lookup(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3904200" y="42670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3294720" y="38862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4590000" y="40384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4164840" y="289548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DB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5352120" y="37339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5428080" y="22860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513680" y="19051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3553200" y="21621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Freeform 28"/>
          <p:cNvSpPr/>
          <p:nvPr/>
        </p:nvSpPr>
        <p:spPr>
          <a:xfrm>
            <a:off x="2114640" y="2738520"/>
            <a:ext cx="2073240" cy="382680"/>
          </a:xfrm>
          <a:custGeom>
            <a:avLst/>
            <a:gdLst/>
            <a:ahLst/>
            <a:rect l="l" t="t" r="r" b="b"/>
            <a:pathLst>
              <a:path w="1344" h="296">
                <a:moveTo>
                  <a:pt x="0" y="296"/>
                </a:moveTo>
                <a:cubicBezTo>
                  <a:pt x="176" y="156"/>
                  <a:pt x="352" y="16"/>
                  <a:pt x="576" y="8"/>
                </a:cubicBezTo>
                <a:cubicBezTo>
                  <a:pt x="800" y="0"/>
                  <a:pt x="1072" y="124"/>
                  <a:pt x="1344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1217880" y="2276640"/>
            <a:ext cx="23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SetLoc(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, N4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Text Box 30"/>
          <p:cNvSpPr/>
          <p:nvPr/>
        </p:nvSpPr>
        <p:spPr>
          <a:xfrm>
            <a:off x="644400" y="6078600"/>
            <a:ext cx="75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, but O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state and a single point of failur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814320" y="335268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Key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Value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MP3 data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Text Box 33"/>
          <p:cNvSpPr/>
          <p:nvPr/>
        </p:nvSpPr>
        <p:spPr>
          <a:xfrm>
            <a:off x="2708640" y="30448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looded queries (Gnutella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AE7B-78F4-4A28-9F34-715E8E16CD6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892960" y="291924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629720" y="312120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blisher@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968520" y="259092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3827880" y="39625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294720" y="47242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590000" y="40384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733000" y="39625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428080" y="22860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513680" y="19051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3370680" y="19810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Freeform 23"/>
          <p:cNvSpPr/>
          <p:nvPr/>
        </p:nvSpPr>
        <p:spPr>
          <a:xfrm>
            <a:off x="5800680" y="2584440"/>
            <a:ext cx="1190520" cy="15408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672" y="192"/>
                </a:moveTo>
                <a:cubicBezTo>
                  <a:pt x="560" y="136"/>
                  <a:pt x="448" y="80"/>
                  <a:pt x="336" y="48"/>
                </a:cubicBezTo>
                <a:cubicBezTo>
                  <a:pt x="224" y="16"/>
                  <a:pt x="112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Freeform 28"/>
          <p:cNvSpPr/>
          <p:nvPr/>
        </p:nvSpPr>
        <p:spPr>
          <a:xfrm>
            <a:off x="6031080" y="2819520"/>
            <a:ext cx="979200" cy="1261800"/>
          </a:xfrm>
          <a:custGeom>
            <a:avLst/>
            <a:gdLst/>
            <a:ahLst/>
            <a:rect l="l" t="t" r="r" b="b"/>
            <a:pathLst>
              <a:path w="624" h="672">
                <a:moveTo>
                  <a:pt x="624" y="0"/>
                </a:moveTo>
                <a:cubicBezTo>
                  <a:pt x="460" y="112"/>
                  <a:pt x="296" y="224"/>
                  <a:pt x="192" y="336"/>
                </a:cubicBezTo>
                <a:cubicBezTo>
                  <a:pt x="88" y="448"/>
                  <a:pt x="44" y="560"/>
                  <a:pt x="0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Freeform 31"/>
          <p:cNvSpPr/>
          <p:nvPr/>
        </p:nvSpPr>
        <p:spPr>
          <a:xfrm>
            <a:off x="4956120" y="2162160"/>
            <a:ext cx="576360" cy="230040"/>
          </a:xfrm>
          <a:custGeom>
            <a:avLst/>
            <a:gdLst/>
            <a:ahLst/>
            <a:rect l="l" t="t" r="r" b="b"/>
            <a:pathLst>
              <a:path w="336" h="144">
                <a:moveTo>
                  <a:pt x="336" y="144"/>
                </a:moveTo>
                <a:cubicBezTo>
                  <a:pt x="292" y="108"/>
                  <a:pt x="248" y="72"/>
                  <a:pt x="192" y="48"/>
                </a:cubicBezTo>
                <a:cubicBezTo>
                  <a:pt x="136" y="24"/>
                  <a:pt x="68" y="1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Freeform 32"/>
          <p:cNvSpPr/>
          <p:nvPr/>
        </p:nvSpPr>
        <p:spPr>
          <a:xfrm>
            <a:off x="3841920" y="2392200"/>
            <a:ext cx="1574640" cy="460440"/>
          </a:xfrm>
          <a:custGeom>
            <a:avLst/>
            <a:gdLst/>
            <a:ahLst/>
            <a:rect l="l" t="t" r="r" b="b"/>
            <a:pathLst>
              <a:path w="1056" h="216">
                <a:moveTo>
                  <a:pt x="1056" y="144"/>
                </a:moveTo>
                <a:cubicBezTo>
                  <a:pt x="856" y="180"/>
                  <a:pt x="656" y="216"/>
                  <a:pt x="480" y="192"/>
                </a:cubicBezTo>
                <a:cubicBezTo>
                  <a:pt x="304" y="168"/>
                  <a:pt x="152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Freeform 33"/>
          <p:cNvSpPr/>
          <p:nvPr/>
        </p:nvSpPr>
        <p:spPr>
          <a:xfrm>
            <a:off x="5032440" y="4311720"/>
            <a:ext cx="730080" cy="46080"/>
          </a:xfrm>
          <a:custGeom>
            <a:avLst/>
            <a:gdLst/>
            <a:ahLst/>
            <a:rect l="l" t="t" r="r" b="b"/>
            <a:pathLst>
              <a:path w="480" h="168">
                <a:moveTo>
                  <a:pt x="480" y="0"/>
                </a:moveTo>
                <a:cubicBezTo>
                  <a:pt x="400" y="60"/>
                  <a:pt x="320" y="120"/>
                  <a:pt x="240" y="144"/>
                </a:cubicBezTo>
                <a:cubicBezTo>
                  <a:pt x="160" y="168"/>
                  <a:pt x="80" y="156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Freeform 34"/>
          <p:cNvSpPr/>
          <p:nvPr/>
        </p:nvSpPr>
        <p:spPr>
          <a:xfrm>
            <a:off x="3727440" y="4503600"/>
            <a:ext cx="960480" cy="46224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576" y="0"/>
                </a:moveTo>
                <a:cubicBezTo>
                  <a:pt x="528" y="92"/>
                  <a:pt x="480" y="184"/>
                  <a:pt x="384" y="240"/>
                </a:cubicBezTo>
                <a:cubicBezTo>
                  <a:pt x="288" y="296"/>
                  <a:pt x="144" y="316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Freeform 35"/>
          <p:cNvSpPr/>
          <p:nvPr/>
        </p:nvSpPr>
        <p:spPr>
          <a:xfrm>
            <a:off x="4187880" y="4038480"/>
            <a:ext cx="500040" cy="120600"/>
          </a:xfrm>
          <a:custGeom>
            <a:avLst/>
            <a:gdLst/>
            <a:ahLst/>
            <a:rect l="l" t="t" r="r" b="b"/>
            <a:pathLst>
              <a:path w="288" h="48">
                <a:moveTo>
                  <a:pt x="288" y="48"/>
                </a:moveTo>
                <a:cubicBezTo>
                  <a:pt x="264" y="24"/>
                  <a:pt x="240" y="0"/>
                  <a:pt x="192" y="0"/>
                </a:cubicBezTo>
                <a:cubicBezTo>
                  <a:pt x="144" y="0"/>
                  <a:pt x="72" y="24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Freeform 37"/>
          <p:cNvSpPr/>
          <p:nvPr/>
        </p:nvSpPr>
        <p:spPr>
          <a:xfrm>
            <a:off x="3075120" y="2438280"/>
            <a:ext cx="353880" cy="606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92" y="0"/>
                </a:moveTo>
                <a:cubicBezTo>
                  <a:pt x="136" y="24"/>
                  <a:pt x="80" y="48"/>
                  <a:pt x="48" y="96"/>
                </a:cubicBezTo>
                <a:cubicBezTo>
                  <a:pt x="16" y="144"/>
                  <a:pt x="16" y="256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657720" y="6076800"/>
            <a:ext cx="74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bust, but worst case O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messages per looku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1287360" y="346716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Key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Value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MP3 data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6470280" y="2057400"/>
            <a:ext cx="20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Lookup(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ed queries (Chord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DCA0-FE95-4BFB-A5D7-935D2D33CA1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Text Box 1027"/>
          <p:cNvSpPr/>
          <p:nvPr/>
        </p:nvSpPr>
        <p:spPr>
          <a:xfrm>
            <a:off x="2829600" y="291924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Text Box 1028"/>
          <p:cNvSpPr/>
          <p:nvPr/>
        </p:nvSpPr>
        <p:spPr>
          <a:xfrm>
            <a:off x="860400" y="32367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blish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Text Box 1031"/>
          <p:cNvSpPr/>
          <p:nvPr/>
        </p:nvSpPr>
        <p:spPr>
          <a:xfrm>
            <a:off x="6805080" y="28908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Text Box 1032"/>
          <p:cNvSpPr/>
          <p:nvPr/>
        </p:nvSpPr>
        <p:spPr>
          <a:xfrm>
            <a:off x="3827880" y="39625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Text Box 1033"/>
          <p:cNvSpPr/>
          <p:nvPr/>
        </p:nvSpPr>
        <p:spPr>
          <a:xfrm>
            <a:off x="2977200" y="44658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Text Box 1034"/>
          <p:cNvSpPr/>
          <p:nvPr/>
        </p:nvSpPr>
        <p:spPr>
          <a:xfrm>
            <a:off x="4744080" y="35830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Text Box 1035"/>
          <p:cNvSpPr/>
          <p:nvPr/>
        </p:nvSpPr>
        <p:spPr>
          <a:xfrm>
            <a:off x="5733000" y="39625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1036"/>
          <p:cNvSpPr/>
          <p:nvPr/>
        </p:nvSpPr>
        <p:spPr>
          <a:xfrm>
            <a:off x="5428080" y="22860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Text Box 1037"/>
          <p:cNvSpPr/>
          <p:nvPr/>
        </p:nvSpPr>
        <p:spPr>
          <a:xfrm>
            <a:off x="4513680" y="19051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Text Box 1038"/>
          <p:cNvSpPr/>
          <p:nvPr/>
        </p:nvSpPr>
        <p:spPr>
          <a:xfrm>
            <a:off x="3370680" y="19810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Freeform 1040"/>
          <p:cNvSpPr/>
          <p:nvPr/>
        </p:nvSpPr>
        <p:spPr>
          <a:xfrm>
            <a:off x="5954760" y="2614680"/>
            <a:ext cx="998640" cy="35388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672" y="192"/>
                </a:moveTo>
                <a:cubicBezTo>
                  <a:pt x="560" y="136"/>
                  <a:pt x="448" y="80"/>
                  <a:pt x="336" y="48"/>
                </a:cubicBezTo>
                <a:cubicBezTo>
                  <a:pt x="224" y="16"/>
                  <a:pt x="112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Freeform 1048"/>
          <p:cNvSpPr/>
          <p:nvPr/>
        </p:nvSpPr>
        <p:spPr>
          <a:xfrm>
            <a:off x="3841920" y="2430360"/>
            <a:ext cx="1612800" cy="268560"/>
          </a:xfrm>
          <a:custGeom>
            <a:avLst/>
            <a:gdLst/>
            <a:ahLst/>
            <a:rect l="l" t="t" r="r" b="b"/>
            <a:pathLst>
              <a:path w="1008" h="144">
                <a:moveTo>
                  <a:pt x="1008" y="144"/>
                </a:moveTo>
                <a:cubicBezTo>
                  <a:pt x="780" y="132"/>
                  <a:pt x="552" y="120"/>
                  <a:pt x="384" y="96"/>
                </a:cubicBezTo>
                <a:cubicBezTo>
                  <a:pt x="216" y="72"/>
                  <a:pt x="108" y="3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Freeform 1049"/>
          <p:cNvSpPr/>
          <p:nvPr/>
        </p:nvSpPr>
        <p:spPr>
          <a:xfrm>
            <a:off x="3689280" y="2506680"/>
            <a:ext cx="344520" cy="149868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0" y="0"/>
                </a:moveTo>
                <a:cubicBezTo>
                  <a:pt x="140" y="120"/>
                  <a:pt x="280" y="240"/>
                  <a:pt x="336" y="384"/>
                </a:cubicBezTo>
                <a:cubicBezTo>
                  <a:pt x="392" y="528"/>
                  <a:pt x="364" y="696"/>
                  <a:pt x="336" y="8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Text Box 1053"/>
          <p:cNvSpPr/>
          <p:nvPr/>
        </p:nvSpPr>
        <p:spPr>
          <a:xfrm>
            <a:off x="6155280" y="3271680"/>
            <a:ext cx="20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Lookup(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Text Box 1054"/>
          <p:cNvSpPr/>
          <p:nvPr/>
        </p:nvSpPr>
        <p:spPr>
          <a:xfrm>
            <a:off x="356400" y="358308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Key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Value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MP3 data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Freeform 1055"/>
          <p:cNvSpPr/>
          <p:nvPr/>
        </p:nvSpPr>
        <p:spPr>
          <a:xfrm>
            <a:off x="2076480" y="3274920"/>
            <a:ext cx="728640" cy="192240"/>
          </a:xfrm>
          <a:custGeom>
            <a:avLst/>
            <a:gdLst/>
            <a:ahLst/>
            <a:rect l="l" t="t" r="r" b="b"/>
            <a:pathLst>
              <a:path w="480" h="48">
                <a:moveTo>
                  <a:pt x="0" y="48"/>
                </a:moveTo>
                <a:cubicBezTo>
                  <a:pt x="0" y="48"/>
                  <a:pt x="240" y="24"/>
                  <a:pt x="4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Freeform 1056"/>
          <p:cNvSpPr/>
          <p:nvPr/>
        </p:nvSpPr>
        <p:spPr>
          <a:xfrm flipH="1" flipV="1">
            <a:off x="3304440" y="3467160"/>
            <a:ext cx="536760" cy="73008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0"/>
                </a:moveTo>
                <a:cubicBezTo>
                  <a:pt x="0" y="0"/>
                  <a:pt x="192" y="192"/>
                  <a:pt x="384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challe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fine a useful key nearness metr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ep the hop count sma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ep the tables sma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y robust despite rapid chan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Chord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: emphasizes efficiency and simplic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D8FF-813A-434F-A8BB-9433CE837E9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ord propert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fficient: O(</a:t>
            </a: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log(N)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) messages per looku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is the total number of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alable: O(</a:t>
            </a: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log(N)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) state per n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bust: survives massive failur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ofs are in paper / tech repor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ing no malicious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FF72-C98D-4B6D-B008-D50FDD4AAFA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23:49:10Z</dcterms:created>
  <dc:creator>Kai Li</dc:creator>
  <dc:description/>
  <dc:language>en-US</dc:language>
  <cp:lastModifiedBy>Xiaozhou Li</cp:lastModifiedBy>
  <dcterms:modified xsi:type="dcterms:W3CDTF">2012-04-04T18:48:55Z</dcterms:modified>
  <cp:revision>1931</cp:revision>
  <dc:subject/>
  <dc:title>Communication</dc:title>
</cp:coreProperties>
</file>