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41EAF-492F-4619-9656-1610562BA0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4E036-3A94-49FF-BEC2-218CBC07B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 with your computer. see network statistics on the host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03275-3B1C-41D7-B563-66D42E5CE1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P sp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timate us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up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end to be the dead server, so user has seamless experi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397EE-690E-4716-B6DF-C6A8316004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reshark on your own lap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wif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live cap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f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lively captured p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E169F-A5A1-4C54-BD03-AC01F9B0B5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cp connections are running on your hos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stat : linux, Mac, and windows. options will be slightly different across plat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: -p: show process, -n: numeric, -c: contin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: -p doesn’t work. If you want to see which process opens which tcp conn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demo: emulab machines running iperf: show iperf’s TCP conn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iperf server on nod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iperf client on node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stat -n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C28FA-3E12-4C5F-94E4-FF8B129F09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config dem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nux-ip.net/html/basic-chang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interface: if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IP: ifconfig ethX down; ifconfig ethX newIP netmask 255.255.255.0 up; ifconfig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MAC: ifconfig ethX down; ifconfig ethX newIP hw ether 00:00:00:00:00:01 up; ifconfig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 dem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 –n : show IP routing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rout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add -net 10.1.2.0 netmask 255.255.255.0 gw 10.1.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ro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del –net 10.1.2.0 netmask 255.255.255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up routing manually: node0 contact node2 through node1. install rules on node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add –net 10.1.2.0 netmask 255.255.255.0 gw 10.1.1.3 on node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add –net 10.1.1.0 netmask 255.255.255.0 gw 10.1.2.2 on nod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should 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5AFF7-FB66-4F09-927C-37F7E04CB0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n’t know how to reach nod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install a routing rule on node0. Traffic for 10.1.2.0/24 will go through nod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1 will forward to node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node2 don’t know how to reply, ei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need to install another rule on node2. So they can reach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4C0C2-E41D-4CCD-A0A2-A8CB102A96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 first. On own computer. traceroute www.cnn.com. explain what shows 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demo first. No global info. Mention more about TTL. not too long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y traceroute is f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ody knows the actual path. We need to make it this way. Wh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t expires returns its own IP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BDFFC-A62E-4D11-9D04-A6E247641A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demo first. No global info. Mention more about TTL. not too long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y traceroute is f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ody knows the actual path. We need to make it this way. Wh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t expires returns its own IP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E869C-B788-46CB-840C-3AE2CE5993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r computer is connected to the wor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the same subnet, directly use Ethernet (MAC) to commun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or outside world, send to gate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empty arp table on each 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ng from one to another. show the up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7091C-94EB-4718-9F47-C9727A00BC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1ED92-3C5D-498D-8E44-B365FED1E2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5DF-6F58-443A-994D-CA9C1351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591-514B-49B2-B36C-27D884E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CCE-3C91-49BD-99DC-757C6780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DAD-4336-4348-A0CD-70CE8CBA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BD36-BC4C-4279-92C9-E96ED7A9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16F-4C80-43FB-92E1-E49ADEBF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81CB-54E7-4304-8DB9-995A62E9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B1D-B576-4F18-A3C8-14D5AE0A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7415-8EE9-4E92-9AC8-62FFABD0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4DE-DD6B-401A-ACDC-CD7063E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1A01-9F03-4480-90BC-A1D209D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4CD-C380-420B-AA72-F122C80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568E-76BE-4781-A47E-C20626D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6F90-53AC-43F4-92AB-F8A5A8D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83A-221F-44C4-8FDC-4032197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48C4-97F1-48A1-B8E4-9F7346ED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6711-09DB-4263-89D1-259224BB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FA9-0496-45B0-81CA-75D80E1A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FCD-C2C4-4FC5-8191-7B5E8E4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C432-9F78-46AA-8C22-B3976DA8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381-FE74-4BCF-89B5-5C6F144E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3AD9-A841-4132-BAAC-290FF125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8D01-276A-4181-A4D7-8E298CBA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F205-DD93-4A23-BCB1-6F6EB618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6743-88AA-4BF7-A996-793AAA7C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08E9-5829-4B0D-ACFA-048308A5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6314-E5B4-4C7A-80CF-413A78A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3252-17C1-426A-A423-83A6400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F2C8-2B98-4ED3-84FB-3C75271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5471-82A7-42A9-872D-A1FADF2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CDAD-585C-42BA-98AC-7F1BE210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DC6-1188-464C-A881-98383886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10AE-AD46-4E92-A155-C961B930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2D19-13D3-4BCA-A3D3-762E13D9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2D5D-5AE8-4498-829C-BA09FF0E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731D-6A5B-4A14-BA24-6D23272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6CD5-8CA9-4781-B4BF-2B42431D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E9A0-7642-4EF4-8F47-F4DC90D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A492-405B-455A-B383-EA377F2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3CBF-F60D-440C-8DDF-F089037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4642-F4EF-4D8B-8610-C049633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22A4-2704-487C-BC20-8BA9E19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6D6-E3B0-4081-9D6B-223BCE3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E31A-C130-4DE5-A3C0-C6FDD50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D78E-AD38-4245-97AF-E4E44C1F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F7CCF-EE93-48CD-854D-C9A02DA5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DC6-1695-431D-AA70-8973EF00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A57-5DA9-4728-BDD2-EFB7FD5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F81D5-0E89-4CFB-935B-A3406C664FF7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25A3D-8A9C-4EFB-9392-101E9A28A093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7DFE1-2478-4D79-9817-775F718AB57D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B4297-3110-4F14-A951-9F072B33BB6A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438B8-AF76-45FF-8B70-28F693B6CDBF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C28FE-4D5D-4635-AEE2-E05F695AE74E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C1F9E-731E-48B6-8960-94ADB2120ECA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5945B-BDF3-42D2-9417-0BA951452EFD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14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38160">
            <a:solidFill>
              <a:srgbClr val="763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6000" y="1449000"/>
            <a:ext cx="851364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Century Gothic"/>
              </a:rPr>
              <a:t>Precept 3</a:t>
            </a:r>
            <a:endParaRPr b="0" lang="en-US" sz="6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839600" y="2939760"/>
            <a:ext cx="54291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f03"/>
                </a:solidFill>
                <a:latin typeface="Century Gothic"/>
              </a:rPr>
              <a:t>Host Configuration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BC2F9-307F-4BAB-828F-94332CCA5209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437160" y="5718240"/>
            <a:ext cx="16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ng Su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RP Spoofing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No protection from ARP itself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Rely on other mechanism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Static ARP entry (perfect security. High cost of maintenance)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Spoofing detection software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Legitimate usage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Hotel 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Redundancy of service (takeover of bad server)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3D17B-1839-4782-836A-AD47435A1534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Wireshark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ttp://www.wireshark.org/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acket Capture &amp; Analysi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ive captur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ritical for Debug in Assign. 2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lt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.g., ip / (not) arp / tcp / etc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80142-4D02-4D70-BAFE-E7109ACD391A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What TCP conn. running?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mmand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etstat [-n] [-p] [-c] (Linux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sof -i -P (Mac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s (newer version of netstat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em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perf: TCP-based throughput test too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44D82-CB7F-4399-9732-4F560B387C6F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emo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7359A-F395-42E9-9A6B-666AE3AC34BC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1090440" y="2612880"/>
            <a:ext cx="565200" cy="86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"/>
          <p:cNvPicPr/>
          <p:nvPr/>
        </p:nvPicPr>
        <p:blipFill>
          <a:blip r:embed="rId3"/>
          <a:stretch/>
        </p:blipFill>
        <p:spPr>
          <a:xfrm>
            <a:off x="4206960" y="2612880"/>
            <a:ext cx="563400" cy="865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4"/>
          <a:stretch/>
        </p:blipFill>
        <p:spPr>
          <a:xfrm>
            <a:off x="7105680" y="2612880"/>
            <a:ext cx="563400" cy="865440"/>
          </a:xfrm>
          <a:prstGeom prst="rect">
            <a:avLst/>
          </a:prstGeom>
          <a:ln w="0">
            <a:noFill/>
          </a:ln>
        </p:spPr>
      </p:pic>
      <p:sp>
        <p:nvSpPr>
          <p:cNvPr id="340" name="Straight Connector 7"/>
          <p:cNvSpPr/>
          <p:nvPr/>
        </p:nvSpPr>
        <p:spPr>
          <a:xfrm>
            <a:off x="1655640" y="3046320"/>
            <a:ext cx="2551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4770360" y="3046320"/>
            <a:ext cx="2335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910440" y="2165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TextBox 15"/>
          <p:cNvSpPr/>
          <p:nvPr/>
        </p:nvSpPr>
        <p:spPr>
          <a:xfrm>
            <a:off x="4039560" y="2165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TextBox 16"/>
          <p:cNvSpPr/>
          <p:nvPr/>
        </p:nvSpPr>
        <p:spPr>
          <a:xfrm>
            <a:off x="6976440" y="2165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TextBox 17"/>
          <p:cNvSpPr/>
          <p:nvPr/>
        </p:nvSpPr>
        <p:spPr>
          <a:xfrm>
            <a:off x="1497960" y="2685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TextBox 18"/>
          <p:cNvSpPr/>
          <p:nvPr/>
        </p:nvSpPr>
        <p:spPr>
          <a:xfrm>
            <a:off x="3060000" y="269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4639320" y="2685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TextBox 20"/>
          <p:cNvSpPr/>
          <p:nvPr/>
        </p:nvSpPr>
        <p:spPr>
          <a:xfrm>
            <a:off x="5958720" y="2685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3902040" y="401328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1:~&gt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etstat -npc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Box 22"/>
          <p:cNvSpPr/>
          <p:nvPr/>
        </p:nvSpPr>
        <p:spPr>
          <a:xfrm>
            <a:off x="774720" y="4013280"/>
            <a:ext cx="27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0:~&gt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etstat -np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1" name="Straight Arrow Connector 24"/>
          <p:cNvCxnSpPr/>
          <p:nvPr/>
        </p:nvCxnSpPr>
        <p:spPr>
          <a:xfrm flipV="1">
            <a:off x="1360440" y="3718800"/>
            <a:ext cx="3129840" cy="1332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352" name="TextBox 27"/>
          <p:cNvSpPr/>
          <p:nvPr/>
        </p:nvSpPr>
        <p:spPr>
          <a:xfrm>
            <a:off x="774720" y="5111640"/>
            <a:ext cx="27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0:~&gt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iperf –c 10.1.1.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TextBox 28"/>
          <p:cNvSpPr/>
          <p:nvPr/>
        </p:nvSpPr>
        <p:spPr>
          <a:xfrm>
            <a:off x="3902040" y="511164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1:~&gt; iperf -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lay with IP Layer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fconfi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how all the network interface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figure IP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figure MAC (!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out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how local IP routing tabl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t routes: add/d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76780-BB40-48C2-BE0D-D0A72F15C178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emo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36E0D-A73A-4165-A734-962AFC9AB1F3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1257480" y="1996920"/>
            <a:ext cx="564840" cy="865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3"/>
          <a:stretch/>
        </p:blipFill>
        <p:spPr>
          <a:xfrm>
            <a:off x="4373640" y="1996920"/>
            <a:ext cx="563400" cy="865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4"/>
          <a:stretch/>
        </p:blipFill>
        <p:spPr>
          <a:xfrm>
            <a:off x="7272360" y="1996920"/>
            <a:ext cx="563400" cy="865440"/>
          </a:xfrm>
          <a:prstGeom prst="rect">
            <a:avLst/>
          </a:prstGeom>
          <a:ln w="0">
            <a:noFill/>
          </a:ln>
        </p:spPr>
      </p:pic>
      <p:sp>
        <p:nvSpPr>
          <p:cNvPr id="362" name="Straight Connector 7"/>
          <p:cNvSpPr/>
          <p:nvPr/>
        </p:nvSpPr>
        <p:spPr>
          <a:xfrm>
            <a:off x="1822320" y="2430360"/>
            <a:ext cx="2551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Straight Connector 8"/>
          <p:cNvSpPr/>
          <p:nvPr/>
        </p:nvSpPr>
        <p:spPr>
          <a:xfrm>
            <a:off x="4937040" y="2430360"/>
            <a:ext cx="2335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1077120" y="15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4206240" y="15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7143120" y="15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664640" y="20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TextBox 18"/>
          <p:cNvSpPr/>
          <p:nvPr/>
        </p:nvSpPr>
        <p:spPr>
          <a:xfrm>
            <a:off x="3226680" y="2075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4806000" y="20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6125400" y="20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941400" y="3397320"/>
            <a:ext cx="270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ode0:~&gt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ping 10.1.2.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941400" y="4264200"/>
            <a:ext cx="293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ode0:~&gt; route ad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-net 10.1.2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etmask 255.255.255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gw 10.1.1.3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TextBox 25"/>
          <p:cNvSpPr/>
          <p:nvPr/>
        </p:nvSpPr>
        <p:spPr>
          <a:xfrm>
            <a:off x="6210360" y="4264200"/>
            <a:ext cx="293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ode2:~&gt; route ad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-net 10.1.1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etmask 255.255.255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gw 10.1.2.3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4" name="Straight Arrow Connector 27"/>
          <p:cNvCxnSpPr/>
          <p:nvPr/>
        </p:nvCxnSpPr>
        <p:spPr>
          <a:xfrm>
            <a:off x="1527120" y="3101760"/>
            <a:ext cx="3131280" cy="10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375" name="Straight Arrow Connector 29"/>
          <p:cNvCxnSpPr/>
          <p:nvPr/>
        </p:nvCxnSpPr>
        <p:spPr>
          <a:xfrm>
            <a:off x="4644720" y="3098520"/>
            <a:ext cx="2912040" cy="684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376" name="Straight Arrow Connector 31"/>
          <p:cNvCxnSpPr/>
          <p:nvPr/>
        </p:nvCxnSpPr>
        <p:spPr>
          <a:xfrm flipH="1">
            <a:off x="1526760" y="3251160"/>
            <a:ext cx="3270960" cy="720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377" name="Straight Arrow Connector 33"/>
          <p:cNvCxnSpPr/>
          <p:nvPr/>
        </p:nvCxnSpPr>
        <p:spPr>
          <a:xfrm flipH="1">
            <a:off x="4657320" y="3249720"/>
            <a:ext cx="2899440" cy="864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378" name="Rectangle 35"/>
          <p:cNvSpPr/>
          <p:nvPr/>
        </p:nvSpPr>
        <p:spPr>
          <a:xfrm>
            <a:off x="3647520" y="358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connect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9" name="Straight Arrow Connector 24"/>
          <p:cNvCxnSpPr/>
          <p:nvPr/>
        </p:nvCxnSpPr>
        <p:spPr>
          <a:xfrm>
            <a:off x="1526760" y="3117600"/>
            <a:ext cx="1654920" cy="10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380" name="Rectangle 12"/>
          <p:cNvSpPr/>
          <p:nvPr/>
        </p:nvSpPr>
        <p:spPr>
          <a:xfrm>
            <a:off x="1980360" y="2655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racerou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Why we need traceroute? 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No global information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Want to know the forwarding path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Based on ICMP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Internet Control Message Protocol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Used to signal error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Adjust Time-To-Live for each hop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When timeout, ICMP returns the IP where TTL expires. 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775ED-3FA8-47B4-85BB-EDD60167518D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racerou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78576-774B-45D0-ACCC-68319E384557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834120" y="161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87" name="Group 11"/>
          <p:cNvGrpSpPr/>
          <p:nvPr/>
        </p:nvGrpSpPr>
        <p:grpSpPr>
          <a:xfrm>
            <a:off x="7277040" y="1612800"/>
            <a:ext cx="1003320" cy="1474920"/>
            <a:chOff x="7277040" y="1612800"/>
            <a:chExt cx="1003320" cy="1474920"/>
          </a:xfrm>
        </p:grpSpPr>
        <p:pic>
          <p:nvPicPr>
            <p:cNvPr id="388" name="Picture 2" descr="C:\Documents and Settings\Administrator\Local Settings\Temporary Internet Files\Content.IE5\WCLTZRCT\MCj04415350000[1].png"/>
            <p:cNvPicPr/>
            <p:nvPr/>
          </p:nvPicPr>
          <p:blipFill>
            <a:blip r:embed="rId2"/>
            <a:stretch/>
          </p:blipFill>
          <p:spPr>
            <a:xfrm>
              <a:off x="7277040" y="2098440"/>
              <a:ext cx="10033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9"/>
            <p:cNvSpPr/>
            <p:nvPr/>
          </p:nvSpPr>
          <p:spPr>
            <a:xfrm>
              <a:off x="7399080" y="1612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User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0" name="Straight Connector 12"/>
          <p:cNvSpPr/>
          <p:nvPr/>
        </p:nvSpPr>
        <p:spPr>
          <a:xfrm>
            <a:off x="1655640" y="2612880"/>
            <a:ext cx="15559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Straight Connector 15"/>
          <p:cNvSpPr/>
          <p:nvPr/>
        </p:nvSpPr>
        <p:spPr>
          <a:xfrm>
            <a:off x="4000680" y="2612880"/>
            <a:ext cx="120960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Straight Connector 18"/>
          <p:cNvSpPr/>
          <p:nvPr/>
        </p:nvSpPr>
        <p:spPr>
          <a:xfrm flipV="1">
            <a:off x="5999040" y="2593440"/>
            <a:ext cx="1278000" cy="1908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3" name="Straight Arrow Connector 23" descr=""/>
          <p:cNvPicPr/>
          <p:nvPr/>
        </p:nvPicPr>
        <p:blipFill>
          <a:blip r:embed="rId3"/>
          <a:stretch/>
        </p:blipFill>
        <p:spPr>
          <a:xfrm>
            <a:off x="5261040" y="3048120"/>
            <a:ext cx="2803320" cy="5792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28"/>
          <p:cNvSpPr/>
          <p:nvPr/>
        </p:nvSpPr>
        <p:spPr>
          <a:xfrm>
            <a:off x="5918400" y="2887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aab64"/>
                </a:solidFill>
                <a:latin typeface="Century Gothic"/>
              </a:rPr>
              <a:t>ICMP TTL=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5" name="Straight Arrow Connector 29" descr=""/>
          <p:cNvPicPr/>
          <p:nvPr/>
        </p:nvPicPr>
        <p:blipFill>
          <a:blip r:embed="rId4"/>
          <a:stretch/>
        </p:blipFill>
        <p:spPr>
          <a:xfrm>
            <a:off x="5486400" y="3213000"/>
            <a:ext cx="2803680" cy="5778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3"/>
          <p:cNvSpPr/>
          <p:nvPr/>
        </p:nvSpPr>
        <p:spPr>
          <a:xfrm>
            <a:off x="5543640" y="3413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aab64"/>
                </a:solidFill>
                <a:latin typeface="Century Gothic"/>
              </a:rPr>
              <a:t>Timeout at Rt.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Straight Arrow Connector 34" descr=""/>
          <p:cNvPicPr/>
          <p:nvPr/>
        </p:nvPicPr>
        <p:blipFill>
          <a:blip r:embed="rId5"/>
          <a:stretch/>
        </p:blipFill>
        <p:spPr>
          <a:xfrm>
            <a:off x="3224160" y="3986280"/>
            <a:ext cx="4840200" cy="5792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35"/>
          <p:cNvSpPr/>
          <p:nvPr/>
        </p:nvSpPr>
        <p:spPr>
          <a:xfrm>
            <a:off x="4785840" y="3825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entury Gothic"/>
              </a:rPr>
              <a:t>ICMP TTL=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Straight Arrow Connector 36" descr=""/>
          <p:cNvPicPr/>
          <p:nvPr/>
        </p:nvPicPr>
        <p:blipFill>
          <a:blip r:embed="rId6"/>
          <a:stretch/>
        </p:blipFill>
        <p:spPr>
          <a:xfrm>
            <a:off x="3413160" y="4151160"/>
            <a:ext cx="4876920" cy="5796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7"/>
          <p:cNvSpPr/>
          <p:nvPr/>
        </p:nvSpPr>
        <p:spPr>
          <a:xfrm>
            <a:off x="4340520" y="4394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entury Gothic"/>
              </a:rPr>
              <a:t>Timeout at Rt. 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Straight Connector 41"/>
          <p:cNvSpPr/>
          <p:nvPr/>
        </p:nvSpPr>
        <p:spPr>
          <a:xfrm flipH="1">
            <a:off x="5595840" y="2959200"/>
            <a:ext cx="7920" cy="753840"/>
          </a:xfrm>
          <a:prstGeom prst="line">
            <a:avLst/>
          </a:prstGeom>
          <a:ln w="31680">
            <a:solidFill>
              <a:srgbClr val="faab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Straight Connector 42"/>
          <p:cNvSpPr/>
          <p:nvPr/>
        </p:nvSpPr>
        <p:spPr>
          <a:xfrm flipH="1">
            <a:off x="3600000" y="2959200"/>
            <a:ext cx="4680" cy="1801800"/>
          </a:xfrm>
          <a:prstGeom prst="line">
            <a:avLst/>
          </a:prstGeom>
          <a:ln w="3168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Straight Arrow Connector 44" descr=""/>
          <p:cNvPicPr/>
          <p:nvPr/>
        </p:nvPicPr>
        <p:blipFill>
          <a:blip r:embed="rId7"/>
          <a:stretch/>
        </p:blipFill>
        <p:spPr>
          <a:xfrm>
            <a:off x="853920" y="5078520"/>
            <a:ext cx="7167600" cy="5839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5"/>
          <p:cNvSpPr/>
          <p:nvPr/>
        </p:nvSpPr>
        <p:spPr>
          <a:xfrm>
            <a:off x="3384000" y="49165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CMP TTL=3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5" name="Straight Arrow Connector 46" descr=""/>
          <p:cNvPicPr/>
          <p:nvPr/>
        </p:nvPicPr>
        <p:blipFill>
          <a:blip r:embed="rId8"/>
          <a:stretch/>
        </p:blipFill>
        <p:spPr>
          <a:xfrm>
            <a:off x="1042920" y="5237280"/>
            <a:ext cx="7210440" cy="5839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7"/>
          <p:cNvSpPr/>
          <p:nvPr/>
        </p:nvSpPr>
        <p:spPr>
          <a:xfrm>
            <a:off x="2901240" y="54752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eply from Ser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Straight Connector 48"/>
          <p:cNvSpPr/>
          <p:nvPr/>
        </p:nvSpPr>
        <p:spPr>
          <a:xfrm flipH="1">
            <a:off x="1269720" y="2954160"/>
            <a:ext cx="4680" cy="2921040"/>
          </a:xfrm>
          <a:prstGeom prst="line">
            <a:avLst/>
          </a:prstGeom>
          <a:ln w="316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Straight Connector 52"/>
          <p:cNvSpPr/>
          <p:nvPr/>
        </p:nvSpPr>
        <p:spPr>
          <a:xfrm>
            <a:off x="7970760" y="2959200"/>
            <a:ext cx="34920" cy="291600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9" name="Picture 30" descr=""/>
          <p:cNvPicPr/>
          <p:nvPr/>
        </p:nvPicPr>
        <p:blipFill>
          <a:blip r:embed="rId9"/>
          <a:stretch/>
        </p:blipFill>
        <p:spPr>
          <a:xfrm>
            <a:off x="1027080" y="2062080"/>
            <a:ext cx="563760" cy="865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6" descr="switch"/>
          <p:cNvPicPr/>
          <p:nvPr/>
        </p:nvPicPr>
        <p:blipFill>
          <a:blip r:embed="rId10"/>
          <a:stretch/>
        </p:blipFill>
        <p:spPr>
          <a:xfrm>
            <a:off x="3211560" y="2232000"/>
            <a:ext cx="789120" cy="695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6" descr="switch"/>
          <p:cNvPicPr/>
          <p:nvPr/>
        </p:nvPicPr>
        <p:blipFill>
          <a:blip r:embed="rId11"/>
          <a:stretch/>
        </p:blipFill>
        <p:spPr>
          <a:xfrm>
            <a:off x="5210280" y="2232000"/>
            <a:ext cx="788760" cy="695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8"/>
          <p:cNvSpPr/>
          <p:nvPr/>
        </p:nvSpPr>
        <p:spPr>
          <a:xfrm>
            <a:off x="5016600" y="1612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outer 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TextBox 39"/>
          <p:cNvSpPr/>
          <p:nvPr/>
        </p:nvSpPr>
        <p:spPr>
          <a:xfrm>
            <a:off x="3064680" y="1612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outer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077320" y="62881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46B04-0861-4AC5-AF48-D27F976EE78F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5" name="Picture 2" descr="C:\Documents and Settings\Administrator\Local Settings\Temporary Internet Files\Content.IE5\WCLTZRCT\MCj04415350000[1].png"/>
          <p:cNvPicPr/>
          <p:nvPr/>
        </p:nvPicPr>
        <p:blipFill>
          <a:blip r:embed="rId2"/>
          <a:stretch/>
        </p:blipFill>
        <p:spPr>
          <a:xfrm>
            <a:off x="6281640" y="2293920"/>
            <a:ext cx="1003320" cy="9889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7"/>
          <p:cNvSpPr/>
          <p:nvPr/>
        </p:nvSpPr>
        <p:spPr>
          <a:xfrm>
            <a:off x="6340680" y="1924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ew Gu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3"/>
          <a:stretch/>
        </p:blipFill>
        <p:spPr>
          <a:xfrm>
            <a:off x="4238640" y="1676520"/>
            <a:ext cx="563400" cy="863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Documents and Settings\Administrator\Local Settings\Temporary Internet Files\Content.IE5\WCLTZRCT\MCj04415350000[1].png"/>
          <p:cNvPicPr/>
          <p:nvPr/>
        </p:nvPicPr>
        <p:blipFill>
          <a:blip r:embed="rId4"/>
          <a:stretch/>
        </p:blipFill>
        <p:spPr>
          <a:xfrm>
            <a:off x="7348680" y="4573440"/>
            <a:ext cx="100332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Documents and Settings\Administrator\Local Settings\Temporary Internet Files\Content.IE5\WCLTZRCT\MCj04415350000[1].png"/>
          <p:cNvPicPr/>
          <p:nvPr/>
        </p:nvPicPr>
        <p:blipFill>
          <a:blip r:embed="rId5"/>
          <a:stretch/>
        </p:blipFill>
        <p:spPr>
          <a:xfrm>
            <a:off x="5343480" y="4573440"/>
            <a:ext cx="1003320" cy="990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6" descr="switch"/>
          <p:cNvPicPr/>
          <p:nvPr/>
        </p:nvPicPr>
        <p:blipFill>
          <a:blip r:embed="rId6"/>
          <a:stretch/>
        </p:blipFill>
        <p:spPr>
          <a:xfrm>
            <a:off x="4129200" y="3735360"/>
            <a:ext cx="788760" cy="695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6" descr="switch"/>
          <p:cNvPicPr/>
          <p:nvPr/>
        </p:nvPicPr>
        <p:blipFill>
          <a:blip r:embed="rId7"/>
          <a:stretch/>
        </p:blipFill>
        <p:spPr>
          <a:xfrm>
            <a:off x="6435720" y="3735360"/>
            <a:ext cx="790560" cy="695520"/>
          </a:xfrm>
          <a:prstGeom prst="rect">
            <a:avLst/>
          </a:prstGeom>
          <a:ln w="0">
            <a:noFill/>
          </a:ln>
        </p:spPr>
      </p:pic>
      <p:sp>
        <p:nvSpPr>
          <p:cNvPr id="422" name="Cloud 14"/>
          <p:cNvSpPr/>
          <p:nvPr/>
        </p:nvSpPr>
        <p:spPr>
          <a:xfrm>
            <a:off x="393840" y="3119400"/>
            <a:ext cx="2825640" cy="191304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TextBox 16"/>
          <p:cNvSpPr/>
          <p:nvPr/>
        </p:nvSpPr>
        <p:spPr>
          <a:xfrm>
            <a:off x="5263200" y="537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ld Guy 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TextBox 17"/>
          <p:cNvSpPr/>
          <p:nvPr/>
        </p:nvSpPr>
        <p:spPr>
          <a:xfrm>
            <a:off x="7241040" y="5378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ld Guy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Straight Connector 18"/>
          <p:cNvSpPr/>
          <p:nvPr/>
        </p:nvSpPr>
        <p:spPr>
          <a:xfrm>
            <a:off x="4917960" y="4083120"/>
            <a:ext cx="151776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Straight Connector 19"/>
          <p:cNvSpPr/>
          <p:nvPr/>
        </p:nvSpPr>
        <p:spPr>
          <a:xfrm flipH="1" flipV="1">
            <a:off x="7094520" y="4311360"/>
            <a:ext cx="434880" cy="5252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Straight Connector 20"/>
          <p:cNvSpPr/>
          <p:nvPr/>
        </p:nvSpPr>
        <p:spPr>
          <a:xfrm flipV="1">
            <a:off x="6281640" y="4311360"/>
            <a:ext cx="312840" cy="5252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Straight Connector 21"/>
          <p:cNvSpPr/>
          <p:nvPr/>
        </p:nvSpPr>
        <p:spPr>
          <a:xfrm flipV="1">
            <a:off x="6831000" y="3170160"/>
            <a:ext cx="0" cy="5652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Straight Connector 31"/>
          <p:cNvSpPr/>
          <p:nvPr/>
        </p:nvSpPr>
        <p:spPr>
          <a:xfrm>
            <a:off x="3218040" y="4075200"/>
            <a:ext cx="911160" cy="7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TextBox 34"/>
          <p:cNvSpPr/>
          <p:nvPr/>
        </p:nvSpPr>
        <p:spPr>
          <a:xfrm>
            <a:off x="3959280" y="4468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TextBox 35"/>
          <p:cNvSpPr/>
          <p:nvPr/>
        </p:nvSpPr>
        <p:spPr>
          <a:xfrm>
            <a:off x="4215240" y="1306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HC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32" name="Straight Arrow Connector 37"/>
          <p:cNvCxnSpPr/>
          <p:nvPr/>
        </p:nvCxnSpPr>
        <p:spPr>
          <a:xfrm flipH="1" flipV="1">
            <a:off x="4801680" y="2107800"/>
            <a:ext cx="1634400" cy="43272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33" name="TextBox 41"/>
          <p:cNvSpPr/>
          <p:nvPr/>
        </p:nvSpPr>
        <p:spPr>
          <a:xfrm>
            <a:off x="393840" y="747720"/>
            <a:ext cx="33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ab64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I want an I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buClr>
                <a:srgbClr val="faab64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Return IP &amp; Gateway I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TextBox 42"/>
          <p:cNvSpPr/>
          <p:nvPr/>
        </p:nvSpPr>
        <p:spPr>
          <a:xfrm>
            <a:off x="5475240" y="192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35" name="Straight Arrow Connector 43"/>
          <p:cNvCxnSpPr/>
          <p:nvPr/>
        </p:nvCxnSpPr>
        <p:spPr>
          <a:xfrm>
            <a:off x="4801680" y="2293560"/>
            <a:ext cx="1545480" cy="4006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36" name="TextBox 44"/>
          <p:cNvSpPr/>
          <p:nvPr/>
        </p:nvSpPr>
        <p:spPr>
          <a:xfrm>
            <a:off x="5383080" y="2435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37" name="Straight Arrow Connector 49"/>
          <p:cNvCxnSpPr/>
          <p:nvPr/>
        </p:nvCxnSpPr>
        <p:spPr>
          <a:xfrm>
            <a:off x="6963840" y="3169800"/>
            <a:ext cx="1080" cy="6166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438" name="Straight Arrow Connector 53"/>
          <p:cNvCxnSpPr/>
          <p:nvPr/>
        </p:nvCxnSpPr>
        <p:spPr>
          <a:xfrm>
            <a:off x="7225920" y="4311360"/>
            <a:ext cx="484920" cy="52596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439" name="Straight Arrow Connector 54"/>
          <p:cNvCxnSpPr/>
          <p:nvPr/>
        </p:nvCxnSpPr>
        <p:spPr>
          <a:xfrm flipH="1">
            <a:off x="6119280" y="4311360"/>
            <a:ext cx="316800" cy="52596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40" name="TextBox 61"/>
          <p:cNvSpPr/>
          <p:nvPr/>
        </p:nvSpPr>
        <p:spPr>
          <a:xfrm>
            <a:off x="6961320" y="319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TextBox 62"/>
          <p:cNvSpPr/>
          <p:nvPr/>
        </p:nvSpPr>
        <p:spPr>
          <a:xfrm>
            <a:off x="6022800" y="417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TextBox 63"/>
          <p:cNvSpPr/>
          <p:nvPr/>
        </p:nvSpPr>
        <p:spPr>
          <a:xfrm>
            <a:off x="7316640" y="411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TextBox 64"/>
          <p:cNvSpPr/>
          <p:nvPr/>
        </p:nvSpPr>
        <p:spPr>
          <a:xfrm>
            <a:off x="252360" y="747720"/>
            <a:ext cx="440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If same subnet (e.g. OG1)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3. Broadcast ARP re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4. OG1 Reply AR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5. NG caches OG1’s MA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44" name="Straight Arrow Connector 65"/>
          <p:cNvCxnSpPr/>
          <p:nvPr/>
        </p:nvCxnSpPr>
        <p:spPr>
          <a:xfrm flipV="1">
            <a:off x="6384960" y="4442760"/>
            <a:ext cx="280080" cy="5086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445" name="Straight Arrow Connector 69"/>
          <p:cNvCxnSpPr/>
          <p:nvPr/>
        </p:nvCxnSpPr>
        <p:spPr>
          <a:xfrm flipV="1">
            <a:off x="6676560" y="3185280"/>
            <a:ext cx="1080" cy="60084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46" name="TextBox 74"/>
          <p:cNvSpPr/>
          <p:nvPr/>
        </p:nvSpPr>
        <p:spPr>
          <a:xfrm>
            <a:off x="6245280" y="319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TextBox 75"/>
          <p:cNvSpPr/>
          <p:nvPr/>
        </p:nvSpPr>
        <p:spPr>
          <a:xfrm>
            <a:off x="6495120" y="463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TextBox 76"/>
          <p:cNvSpPr/>
          <p:nvPr/>
        </p:nvSpPr>
        <p:spPr>
          <a:xfrm>
            <a:off x="255600" y="741240"/>
            <a:ext cx="44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If outside world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6. Send to Gatewa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49" name="Group 79"/>
          <p:cNvGrpSpPr/>
          <p:nvPr/>
        </p:nvGrpSpPr>
        <p:grpSpPr>
          <a:xfrm>
            <a:off x="6961320" y="3169800"/>
            <a:ext cx="363600" cy="616320"/>
            <a:chOff x="6961320" y="3169800"/>
            <a:chExt cx="363600" cy="616320"/>
          </a:xfrm>
        </p:grpSpPr>
        <p:sp>
          <p:nvSpPr>
            <p:cNvPr id="450" name="TextBox 77"/>
            <p:cNvSpPr/>
            <p:nvPr/>
          </p:nvSpPr>
          <p:spPr>
            <a:xfrm>
              <a:off x="6961320" y="3209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aab64"/>
                  </a:solidFill>
                  <a:latin typeface="Century Gothic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cxnSp>
          <p:nvCxnSpPr>
            <p:cNvPr id="451" name="Straight Arrow Connector 78"/>
            <p:cNvCxnSpPr/>
            <p:nvPr/>
          </p:nvCxnSpPr>
          <p:spPr>
            <a:xfrm>
              <a:off x="6963840" y="3169800"/>
              <a:ext cx="1080" cy="616680"/>
            </a:xfrm>
            <a:prstGeom prst="straightConnector1">
              <a:avLst/>
            </a:prstGeom>
            <a:ln w="38160">
              <a:solidFill>
                <a:srgbClr val="faab64"/>
              </a:solidFill>
              <a:miter/>
              <a:tailEnd len="med" type="arrow" w="med"/>
            </a:ln>
          </p:spPr>
        </p:cxnSp>
      </p:grpSp>
      <p:grpSp>
        <p:nvGrpSpPr>
          <p:cNvPr id="452" name="Group 80"/>
          <p:cNvGrpSpPr/>
          <p:nvPr/>
        </p:nvGrpSpPr>
        <p:grpSpPr>
          <a:xfrm>
            <a:off x="4917600" y="3446640"/>
            <a:ext cx="1518120" cy="462240"/>
            <a:chOff x="4917600" y="3446640"/>
            <a:chExt cx="1518120" cy="462240"/>
          </a:xfrm>
        </p:grpSpPr>
        <p:sp>
          <p:nvSpPr>
            <p:cNvPr id="453" name="TextBox 81"/>
            <p:cNvSpPr/>
            <p:nvPr/>
          </p:nvSpPr>
          <p:spPr>
            <a:xfrm>
              <a:off x="5578200" y="344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aab64"/>
                  </a:solidFill>
                  <a:latin typeface="Century Gothic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cxnSp>
          <p:nvCxnSpPr>
            <p:cNvPr id="454" name="Straight Arrow Connector 82"/>
            <p:cNvCxnSpPr/>
            <p:nvPr/>
          </p:nvCxnSpPr>
          <p:spPr>
            <a:xfrm flipH="1">
              <a:off x="4917600" y="3908160"/>
              <a:ext cx="1518480" cy="1080"/>
            </a:xfrm>
            <a:prstGeom prst="straightConnector1">
              <a:avLst/>
            </a:prstGeom>
            <a:ln w="38160">
              <a:solidFill>
                <a:srgbClr val="faab64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RP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RP table (cache)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1. Look up local ARP tabl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. If not, broadcast to ask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3. LAN switch caches ARP to por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935C3-A31D-4FF0-92CA-305E46E05F2F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22:40:44Z</dcterms:created>
  <dc:creator>pengsun</dc:creator>
  <dc:description/>
  <dc:language>en-US</dc:language>
  <cp:lastModifiedBy>Jennifer Rexford</cp:lastModifiedBy>
  <dcterms:modified xsi:type="dcterms:W3CDTF">2012-02-24T04:40:48Z</dcterms:modified>
  <cp:revision>78</cp:revision>
  <dc:subject/>
  <dc:title>Precept 2</dc:title>
</cp:coreProperties>
</file>