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F161B-47D0-4BCB-AF47-73B1E43ED9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8F564-6DFB-4E5D-8224-04CBF06EE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y with your computer. see network statistics on the host mach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B12BB-8929-4CE8-9E24-7637014212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P spoof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itimate usa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 up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tend to be the dead server, so user has seamless experi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72C3F-0512-4FBC-80FB-FB87DD785D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wireshark on your own lapt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wif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live cap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wif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lively captured pa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D31BA-87F8-45E1-9280-8C0ECD9407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cp connections are running on your host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stat : linux, Mac, and windows. options will be slightly different across platfo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: -p: show process, -n: numeric, -c: continu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: -p doesn’t work. If you want to see which process opens which tcp conn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demo: emulab machines running iperf: show iperf’s TCP conn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 iperf server on node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 iperf client on node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stat -n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BFFF6-9D6A-4B38-87D4-00D0F5AC39B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config dem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nux-ip.net/html/basic-changing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interface: if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IP: ifconfig ethX down; ifconfig ethX newIP netmask 255.255.255.0 up; ifconfig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MAC: ifconfig ethX down; ifconfig ethX newIP hw ether 00:00:00:00:00:01 up; ifconfig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 dem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 –n : show IP routing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rout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o route add -net 10.1.2.0 netmask 255.255.255.0 gw 10.1.1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ro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o route del –net 10.1.2.0 netmask 255.255.255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up routing manually: node0 contact node2 through node1. install rules on node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o route add –net 10.1.2.0 netmask 255.255.255.0 gw 10.1.1.3 on node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o route add –net 10.1.1.0 netmask 255.255.255.0 gw 10.1.2.2 on node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it should 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65B98-ED22-4270-BC15-5D97AA6214B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n’t know how to reach node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e install a routing rule on node0. Traffic for 10.1.2.0/24 will go through node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de1 will forward to node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node2 don’t know how to reply, ei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e need to install another rule on node2. So they can reach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B4D48-75F7-471F-B75D-97B8E1EE03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 first. On own computer. traceroute www.cnn.com. explain what shows 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demo first. No global info. Mention more about TTL. not too long in ai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why traceroute is f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ody knows the actual path. We need to make it this way. Wh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t expires returns its own IP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8458C-3D60-46F8-BC55-DD417AEE29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demo first. No global info. Mention more about TTL. not too long in ai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why traceroute is f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ody knows the actual path. We need to make it this way. Wh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t expires returns its own IP add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E29F7-751D-4ACA-AE4B-FC69846F67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r computer is connected to the wor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the same subnet, directly use Ethernet (MAC) to communic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for outside world, send to gate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empty arp table on each 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ng from one to another. show the upd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AB848-48F0-47B2-A1FD-175E928368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7180C-3EAD-4004-952E-BE8DC5F8AE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C1DE-2C81-4DC7-9A8D-BC07BE5A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9DC-59AE-4DF1-AC02-2A542D9A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003-1CAB-4732-9B44-9E1E19CD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AAF6-C84F-4ED3-AF31-21732B21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3BD7-1F72-47CD-9C92-E6194C95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862B-BEE1-4CD9-87C1-9407053C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C84D-599C-458E-9202-9A88EDCA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F279-2EA9-4CDC-9111-8F74480B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B2F8-AC62-4CD1-AA8B-477ADE79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A316-55CB-46B2-9AA2-BECBB5AE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E7A1-81A3-47D7-A895-AEB62B80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649-3E18-454B-BD3D-D1B0331B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2F68-6951-4CB2-A41F-5CC45126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0B45-EAA7-4287-B8C1-CBC87BC8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9296-3383-489E-B16B-C006DBC6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321F-E519-45F1-BA20-9261348C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0E06-B8A5-4FC7-997D-BD4CE4B8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4D8-9628-4866-9220-635F1E50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FB5-D8CC-4CD8-93B3-73C9ED5A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54561-7691-4C2E-8ED8-A85012F8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93B-E35B-40EB-89A1-32EF8A5C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92D1A-BF39-46F0-AE84-4B6E2915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3E16C-3419-4F0B-A501-8580BEDB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9C012-CF88-4F0C-BFD6-284B530E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7015C-8F7A-4966-B13D-BEFFA282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E8FB8-9984-48EF-A833-DC313D83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7C31B-EB69-430E-908A-1C00DE79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9729E-09B2-42F8-A88E-6F37A825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3C24F-9D7D-408D-BC5E-1A44261C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C6E83-8F0E-43AD-9B8D-3DC74A1A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88224-8235-4974-B842-BEBECD42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466-A77E-444C-B1E4-E93C68C6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D6668-3422-4077-9F5E-9D6ACFF9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2F488-0CE5-41D4-87A8-9464D7EF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C86D6-82F6-407E-8845-37B04E4D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0DB92-C914-4988-A2E6-CABC3D84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0072B-4F2C-48FE-B1C7-11F17DBE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E9810-8A05-4A06-818B-684C9177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93C60-E4D5-4BDC-B2B1-C1CC8076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240F1-F44A-4039-85DE-05C5D721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9D20B-139D-433B-BACE-590F1C68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1CF95-73A6-4E0A-BCA1-A95019B2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72F-B566-473D-BEC3-281ABBA8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C9001-E81F-4B7F-97B8-B6121D4E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4A5DE-D469-4F6F-A95D-54031743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4155F-F6B9-4CD6-8551-FA799172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EB8-4FEC-45B6-A4C5-F21C57DB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60E4-5A5F-4C07-A1A5-4B5A2698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BDDD9-5AE6-4C5F-B002-99AED23D1F07}" type="datetime"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0381D-D9ED-421B-A04A-8243D804752C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81AE4B-23D9-47F5-AF24-7AD2774639B5}" type="datetime"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09680" y="6275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510C4-7DC1-4FFE-AC4C-ECDA8EADC812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Rectangle 7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Rectangle 8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Rectangle 9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FA980-22CB-43FB-8F0A-5B5329A43F2C}" type="datetime"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3301A-FC94-4E9F-9636-34D3AB223AD4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2FADF-A53F-4D54-A485-3E92DACD0812}" type="datetime"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8D5CF-09D9-4BBB-B15E-E2E39CCE4C52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14"/>
          <p:cNvSpPr/>
          <p:nvPr/>
        </p:nvSpPr>
        <p:spPr>
          <a:xfrm flipH="1">
            <a:off x="0" y="1219320"/>
            <a:ext cx="9144000" cy="0"/>
          </a:xfrm>
          <a:prstGeom prst="line">
            <a:avLst/>
          </a:prstGeom>
          <a:ln w="38160">
            <a:solidFill>
              <a:srgbClr val="763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700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7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2.png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6000" y="1449000"/>
            <a:ext cx="8513640" cy="27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10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Century Gothic"/>
              </a:rPr>
              <a:t>Precept 3</a:t>
            </a:r>
            <a:endParaRPr b="0" lang="en-US" sz="60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839600" y="2939760"/>
            <a:ext cx="5429160" cy="13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af03"/>
                </a:solidFill>
                <a:latin typeface="Century Gothic"/>
              </a:rPr>
              <a:t>Host Configuration</a:t>
            </a: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807732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37C6B-ABB6-4BD2-B47C-F69813721150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TextBox 4"/>
          <p:cNvSpPr/>
          <p:nvPr/>
        </p:nvSpPr>
        <p:spPr>
          <a:xfrm>
            <a:off x="6437160" y="5718240"/>
            <a:ext cx="16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eng Su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ARP Spoofing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No protection from ARP itself</a:t>
            </a: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Rely on other mechanism</a:t>
            </a: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Static ARP entry (perfect security. High cost of maintenance)</a:t>
            </a:r>
            <a:endParaRPr b="1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Spoofing detection software</a:t>
            </a:r>
            <a:endParaRPr b="1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Legitimate usage</a:t>
            </a: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Hotel </a:t>
            </a:r>
            <a:endParaRPr b="1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Redundancy of service (takeover of bad server)</a:t>
            </a:r>
            <a:endParaRPr b="1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807732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117B8-2DAD-4E03-941F-C0B507E8256D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Wireshark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http://www.wireshark.org/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Packet Capture &amp; Analysi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Live captur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ritical for Debug in Assign. 2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ilter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e.g., ip / (not) arp / tcp / etc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807732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3BD28-0341-4DD1-9C8C-9B3EB9F75ADD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What TCP conn. running?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mmand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netstat [-n] [-p] [-c] (Linux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lsof -i -P (Mac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s (newer version of netstat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Demo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perf: TCP-based throughput test too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807732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2FC3F-1624-4F98-BD4C-F0D56C209286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Demo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807732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46DA1-C1E6-4067-ABD8-D908E7D00858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2"/>
          <a:stretch/>
        </p:blipFill>
        <p:spPr>
          <a:xfrm>
            <a:off x="1090440" y="2612880"/>
            <a:ext cx="565200" cy="8654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"/>
          <p:cNvPicPr/>
          <p:nvPr/>
        </p:nvPicPr>
        <p:blipFill>
          <a:blip r:embed="rId3"/>
          <a:stretch/>
        </p:blipFill>
        <p:spPr>
          <a:xfrm>
            <a:off x="4206960" y="2612880"/>
            <a:ext cx="563400" cy="865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"/>
          <p:cNvPicPr/>
          <p:nvPr/>
        </p:nvPicPr>
        <p:blipFill>
          <a:blip r:embed="rId4"/>
          <a:stretch/>
        </p:blipFill>
        <p:spPr>
          <a:xfrm>
            <a:off x="7105680" y="2612880"/>
            <a:ext cx="563400" cy="865440"/>
          </a:xfrm>
          <a:prstGeom prst="rect">
            <a:avLst/>
          </a:prstGeom>
          <a:ln w="0">
            <a:noFill/>
          </a:ln>
        </p:spPr>
      </p:pic>
      <p:sp>
        <p:nvSpPr>
          <p:cNvPr id="340" name="Straight Connector 7"/>
          <p:cNvSpPr/>
          <p:nvPr/>
        </p:nvSpPr>
        <p:spPr>
          <a:xfrm>
            <a:off x="1655640" y="3046320"/>
            <a:ext cx="255132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Straight Connector 8"/>
          <p:cNvSpPr/>
          <p:nvPr/>
        </p:nvSpPr>
        <p:spPr>
          <a:xfrm>
            <a:off x="4770360" y="3046320"/>
            <a:ext cx="233532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TextBox 14"/>
          <p:cNvSpPr/>
          <p:nvPr/>
        </p:nvSpPr>
        <p:spPr>
          <a:xfrm>
            <a:off x="910440" y="2165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ode0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TextBox 15"/>
          <p:cNvSpPr/>
          <p:nvPr/>
        </p:nvSpPr>
        <p:spPr>
          <a:xfrm>
            <a:off x="4039560" y="2165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ode1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TextBox 16"/>
          <p:cNvSpPr/>
          <p:nvPr/>
        </p:nvSpPr>
        <p:spPr>
          <a:xfrm>
            <a:off x="6976440" y="2165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ode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TextBox 17"/>
          <p:cNvSpPr/>
          <p:nvPr/>
        </p:nvSpPr>
        <p:spPr>
          <a:xfrm>
            <a:off x="1497960" y="2685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.1.1.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TextBox 18"/>
          <p:cNvSpPr/>
          <p:nvPr/>
        </p:nvSpPr>
        <p:spPr>
          <a:xfrm>
            <a:off x="3060000" y="2690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.1.1.3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TextBox 19"/>
          <p:cNvSpPr/>
          <p:nvPr/>
        </p:nvSpPr>
        <p:spPr>
          <a:xfrm>
            <a:off x="4639320" y="2685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.1.2.3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TextBox 20"/>
          <p:cNvSpPr/>
          <p:nvPr/>
        </p:nvSpPr>
        <p:spPr>
          <a:xfrm>
            <a:off x="5958720" y="2685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.1.2.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TextBox 21"/>
          <p:cNvSpPr/>
          <p:nvPr/>
        </p:nvSpPr>
        <p:spPr>
          <a:xfrm>
            <a:off x="3902040" y="4013280"/>
            <a:ext cx="20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af03"/>
                </a:solidFill>
                <a:latin typeface="Century Gothic"/>
              </a:rPr>
              <a:t>node1:~&gt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af03"/>
                </a:solidFill>
                <a:latin typeface="Century Gothic"/>
              </a:rPr>
              <a:t>netstat -npc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TextBox 22"/>
          <p:cNvSpPr/>
          <p:nvPr/>
        </p:nvSpPr>
        <p:spPr>
          <a:xfrm>
            <a:off x="774720" y="4013280"/>
            <a:ext cx="27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af03"/>
                </a:solidFill>
                <a:latin typeface="Century Gothic"/>
              </a:rPr>
              <a:t>node0:~&gt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af03"/>
                </a:solidFill>
                <a:latin typeface="Century Gothic"/>
              </a:rPr>
              <a:t>netstat -npc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51" name="Straight Arrow Connector 24"/>
          <p:cNvCxnSpPr/>
          <p:nvPr/>
        </p:nvCxnSpPr>
        <p:spPr>
          <a:xfrm flipV="1">
            <a:off x="1360440" y="3718800"/>
            <a:ext cx="3129840" cy="1332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sp>
        <p:nvSpPr>
          <p:cNvPr id="352" name="TextBox 27"/>
          <p:cNvSpPr/>
          <p:nvPr/>
        </p:nvSpPr>
        <p:spPr>
          <a:xfrm>
            <a:off x="774720" y="5111640"/>
            <a:ext cx="270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af03"/>
                </a:solidFill>
                <a:latin typeface="Century Gothic"/>
              </a:rPr>
              <a:t>node0:~&gt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af03"/>
                </a:solidFill>
                <a:latin typeface="Century Gothic"/>
              </a:rPr>
              <a:t>iperf –c 10.1.1.3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TextBox 28"/>
          <p:cNvSpPr/>
          <p:nvPr/>
        </p:nvSpPr>
        <p:spPr>
          <a:xfrm>
            <a:off x="3902040" y="5111640"/>
            <a:ext cx="20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af03"/>
                </a:solidFill>
                <a:latin typeface="Century Gothic"/>
              </a:rPr>
              <a:t>node1:~&gt; iperf -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Play with IP Layer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ifconfig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how all the network interface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nfigure IP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nfigure MAC (!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route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how local IP routing tabl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et routes: add/d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807732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34AD3-705C-44B7-BC29-EAE3D1B0355A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Demo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807732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E37CC-8023-4607-954B-67B4B399584F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2"/>
          <a:stretch/>
        </p:blipFill>
        <p:spPr>
          <a:xfrm>
            <a:off x="1257480" y="1996920"/>
            <a:ext cx="564840" cy="865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3"/>
          <a:stretch/>
        </p:blipFill>
        <p:spPr>
          <a:xfrm>
            <a:off x="4373640" y="1996920"/>
            <a:ext cx="563400" cy="8654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"/>
          <p:cNvPicPr/>
          <p:nvPr/>
        </p:nvPicPr>
        <p:blipFill>
          <a:blip r:embed="rId4"/>
          <a:stretch/>
        </p:blipFill>
        <p:spPr>
          <a:xfrm>
            <a:off x="7272360" y="1996920"/>
            <a:ext cx="563400" cy="865440"/>
          </a:xfrm>
          <a:prstGeom prst="rect">
            <a:avLst/>
          </a:prstGeom>
          <a:ln w="0">
            <a:noFill/>
          </a:ln>
        </p:spPr>
      </p:pic>
      <p:sp>
        <p:nvSpPr>
          <p:cNvPr id="362" name="Straight Connector 7"/>
          <p:cNvSpPr/>
          <p:nvPr/>
        </p:nvSpPr>
        <p:spPr>
          <a:xfrm>
            <a:off x="1822320" y="2430360"/>
            <a:ext cx="255132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Straight Connector 8"/>
          <p:cNvSpPr/>
          <p:nvPr/>
        </p:nvSpPr>
        <p:spPr>
          <a:xfrm>
            <a:off x="4937040" y="2430360"/>
            <a:ext cx="233532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TextBox 14"/>
          <p:cNvSpPr/>
          <p:nvPr/>
        </p:nvSpPr>
        <p:spPr>
          <a:xfrm>
            <a:off x="1077120" y="1549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ode0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TextBox 15"/>
          <p:cNvSpPr/>
          <p:nvPr/>
        </p:nvSpPr>
        <p:spPr>
          <a:xfrm>
            <a:off x="4206240" y="1549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ode1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TextBox 16"/>
          <p:cNvSpPr/>
          <p:nvPr/>
        </p:nvSpPr>
        <p:spPr>
          <a:xfrm>
            <a:off x="7143120" y="1549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ode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TextBox 17"/>
          <p:cNvSpPr/>
          <p:nvPr/>
        </p:nvSpPr>
        <p:spPr>
          <a:xfrm>
            <a:off x="1664640" y="2071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.1.1.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TextBox 18"/>
          <p:cNvSpPr/>
          <p:nvPr/>
        </p:nvSpPr>
        <p:spPr>
          <a:xfrm>
            <a:off x="3226680" y="20750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.1.1.3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TextBox 19"/>
          <p:cNvSpPr/>
          <p:nvPr/>
        </p:nvSpPr>
        <p:spPr>
          <a:xfrm>
            <a:off x="4806000" y="2071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.1.2.3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TextBox 20"/>
          <p:cNvSpPr/>
          <p:nvPr/>
        </p:nvSpPr>
        <p:spPr>
          <a:xfrm>
            <a:off x="6125400" y="2071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.1.2.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TextBox 22"/>
          <p:cNvSpPr/>
          <p:nvPr/>
        </p:nvSpPr>
        <p:spPr>
          <a:xfrm>
            <a:off x="941400" y="3397320"/>
            <a:ext cx="270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af03"/>
                </a:solidFill>
                <a:latin typeface="Century Gothic"/>
              </a:rPr>
              <a:t>node0:~&gt;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af03"/>
                </a:solidFill>
                <a:latin typeface="Century Gothic"/>
              </a:rPr>
              <a:t>ping 10.1.2.2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941400" y="4264200"/>
            <a:ext cx="293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af03"/>
                </a:solidFill>
                <a:latin typeface="Century Gothic"/>
              </a:rPr>
              <a:t>node0:~&gt; route ad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af03"/>
                </a:solidFill>
                <a:latin typeface="Century Gothic"/>
              </a:rPr>
              <a:t>-net 10.1.2.0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af03"/>
                </a:solidFill>
                <a:latin typeface="Century Gothic"/>
              </a:rPr>
              <a:t>netmask 255.255.255.0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af03"/>
                </a:solidFill>
                <a:latin typeface="Century Gothic"/>
              </a:rPr>
              <a:t>gw 10.1.1.3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TextBox 25"/>
          <p:cNvSpPr/>
          <p:nvPr/>
        </p:nvSpPr>
        <p:spPr>
          <a:xfrm>
            <a:off x="6210360" y="4264200"/>
            <a:ext cx="293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af03"/>
                </a:solidFill>
                <a:latin typeface="Century Gothic"/>
              </a:rPr>
              <a:t>node2:~&gt; route ad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af03"/>
                </a:solidFill>
                <a:latin typeface="Century Gothic"/>
              </a:rPr>
              <a:t>-net 10.1.1.0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af03"/>
                </a:solidFill>
                <a:latin typeface="Century Gothic"/>
              </a:rPr>
              <a:t>netmask 255.255.255.0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af03"/>
                </a:solidFill>
                <a:latin typeface="Century Gothic"/>
              </a:rPr>
              <a:t>gw 10.1.2.3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74" name="Straight Arrow Connector 27"/>
          <p:cNvCxnSpPr/>
          <p:nvPr/>
        </p:nvCxnSpPr>
        <p:spPr>
          <a:xfrm>
            <a:off x="1527120" y="3101760"/>
            <a:ext cx="3131280" cy="108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cxnSp>
        <p:nvCxnSpPr>
          <p:cNvPr id="375" name="Straight Arrow Connector 29"/>
          <p:cNvCxnSpPr/>
          <p:nvPr/>
        </p:nvCxnSpPr>
        <p:spPr>
          <a:xfrm>
            <a:off x="4644720" y="3098520"/>
            <a:ext cx="2912040" cy="684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cxnSp>
        <p:nvCxnSpPr>
          <p:cNvPr id="376" name="Straight Arrow Connector 31"/>
          <p:cNvCxnSpPr/>
          <p:nvPr/>
        </p:nvCxnSpPr>
        <p:spPr>
          <a:xfrm flipH="1">
            <a:off x="1526760" y="3251160"/>
            <a:ext cx="3270960" cy="720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cxnSp>
        <p:nvCxnSpPr>
          <p:cNvPr id="377" name="Straight Arrow Connector 33"/>
          <p:cNvCxnSpPr/>
          <p:nvPr/>
        </p:nvCxnSpPr>
        <p:spPr>
          <a:xfrm flipH="1">
            <a:off x="4657320" y="3249720"/>
            <a:ext cx="2899440" cy="864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sp>
        <p:nvSpPr>
          <p:cNvPr id="378" name="Rectangle 35"/>
          <p:cNvSpPr/>
          <p:nvPr/>
        </p:nvSpPr>
        <p:spPr>
          <a:xfrm>
            <a:off x="3647520" y="3581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connecte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79" name="Straight Arrow Connector 24"/>
          <p:cNvCxnSpPr/>
          <p:nvPr/>
        </p:nvCxnSpPr>
        <p:spPr>
          <a:xfrm>
            <a:off x="1526760" y="3117600"/>
            <a:ext cx="1654920" cy="108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sp>
        <p:nvSpPr>
          <p:cNvPr id="380" name="Rectangle 12"/>
          <p:cNvSpPr/>
          <p:nvPr/>
        </p:nvSpPr>
        <p:spPr>
          <a:xfrm>
            <a:off x="1980360" y="2655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traceroute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Why we need traceroute? </a:t>
            </a: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No global information</a:t>
            </a:r>
            <a:endParaRPr b="1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Want to know the forwarding path</a:t>
            </a:r>
            <a:endParaRPr b="1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Based on ICMP</a:t>
            </a: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Internet Control Message Protocol</a:t>
            </a:r>
            <a:endParaRPr b="1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Used to signal error</a:t>
            </a:r>
            <a:endParaRPr b="1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Adjust Time-To-Live for each hop</a:t>
            </a: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949fb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When timeout, ICMP returns the IP where TTL expires. </a:t>
            </a:r>
            <a:endParaRPr b="1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Slide Number Placeholder 2"/>
          <p:cNvSpPr/>
          <p:nvPr/>
        </p:nvSpPr>
        <p:spPr>
          <a:xfrm>
            <a:off x="807732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44AEA-E7E4-40BD-A1B0-41D3F826845F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traceroute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807732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62BE8-9FCE-45E3-8DF7-6CB78807EF57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834120" y="1612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87" name="Group 11"/>
          <p:cNvGrpSpPr/>
          <p:nvPr/>
        </p:nvGrpSpPr>
        <p:grpSpPr>
          <a:xfrm>
            <a:off x="7277040" y="1612800"/>
            <a:ext cx="1003320" cy="1474920"/>
            <a:chOff x="7277040" y="1612800"/>
            <a:chExt cx="1003320" cy="1474920"/>
          </a:xfrm>
        </p:grpSpPr>
        <p:pic>
          <p:nvPicPr>
            <p:cNvPr id="388" name="Picture 2" descr="C:\Documents and Settings\Administrator\Local Settings\Temporary Internet Files\Content.IE5\WCLTZRCT\MCj04415350000[1].png"/>
            <p:cNvPicPr/>
            <p:nvPr/>
          </p:nvPicPr>
          <p:blipFill>
            <a:blip r:embed="rId2"/>
            <a:stretch/>
          </p:blipFill>
          <p:spPr>
            <a:xfrm>
              <a:off x="7277040" y="2098440"/>
              <a:ext cx="10033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Box 9"/>
            <p:cNvSpPr/>
            <p:nvPr/>
          </p:nvSpPr>
          <p:spPr>
            <a:xfrm>
              <a:off x="7399080" y="1612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 Gothic"/>
                </a:rPr>
                <a:t>User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0" name="Straight Connector 12"/>
          <p:cNvSpPr/>
          <p:nvPr/>
        </p:nvSpPr>
        <p:spPr>
          <a:xfrm>
            <a:off x="1655640" y="2612880"/>
            <a:ext cx="155592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Straight Connector 15"/>
          <p:cNvSpPr/>
          <p:nvPr/>
        </p:nvSpPr>
        <p:spPr>
          <a:xfrm>
            <a:off x="4000680" y="2612880"/>
            <a:ext cx="120960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Straight Connector 18"/>
          <p:cNvSpPr/>
          <p:nvPr/>
        </p:nvSpPr>
        <p:spPr>
          <a:xfrm flipV="1">
            <a:off x="5999040" y="2593440"/>
            <a:ext cx="1278000" cy="1908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3" name="Straight Arrow Connector 23" descr=""/>
          <p:cNvPicPr/>
          <p:nvPr/>
        </p:nvPicPr>
        <p:blipFill>
          <a:blip r:embed="rId3"/>
          <a:stretch/>
        </p:blipFill>
        <p:spPr>
          <a:xfrm>
            <a:off x="5261040" y="3048120"/>
            <a:ext cx="2803320" cy="579240"/>
          </a:xfrm>
          <a:prstGeom prst="rect">
            <a:avLst/>
          </a:prstGeom>
          <a:ln w="0">
            <a:noFill/>
          </a:ln>
        </p:spPr>
      </p:pic>
      <p:sp>
        <p:nvSpPr>
          <p:cNvPr id="394" name="TextBox 28"/>
          <p:cNvSpPr/>
          <p:nvPr/>
        </p:nvSpPr>
        <p:spPr>
          <a:xfrm>
            <a:off x="5918400" y="28875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aab64"/>
                </a:solidFill>
                <a:latin typeface="Century Gothic"/>
              </a:rPr>
              <a:t>ICMP TTL=1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5" name="Straight Arrow Connector 29" descr=""/>
          <p:cNvPicPr/>
          <p:nvPr/>
        </p:nvPicPr>
        <p:blipFill>
          <a:blip r:embed="rId4"/>
          <a:stretch/>
        </p:blipFill>
        <p:spPr>
          <a:xfrm>
            <a:off x="5486400" y="3213000"/>
            <a:ext cx="2803680" cy="577800"/>
          </a:xfrm>
          <a:prstGeom prst="rect">
            <a:avLst/>
          </a:prstGeom>
          <a:ln w="0">
            <a:noFill/>
          </a:ln>
        </p:spPr>
      </p:pic>
      <p:sp>
        <p:nvSpPr>
          <p:cNvPr id="396" name="TextBox 33"/>
          <p:cNvSpPr/>
          <p:nvPr/>
        </p:nvSpPr>
        <p:spPr>
          <a:xfrm>
            <a:off x="5543640" y="341316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aab64"/>
                </a:solidFill>
                <a:latin typeface="Century Gothic"/>
              </a:rPr>
              <a:t>Timeout at Rt. 1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7" name="Straight Arrow Connector 34" descr=""/>
          <p:cNvPicPr/>
          <p:nvPr/>
        </p:nvPicPr>
        <p:blipFill>
          <a:blip r:embed="rId5"/>
          <a:stretch/>
        </p:blipFill>
        <p:spPr>
          <a:xfrm>
            <a:off x="3224160" y="3986280"/>
            <a:ext cx="4840200" cy="579240"/>
          </a:xfrm>
          <a:prstGeom prst="rect">
            <a:avLst/>
          </a:prstGeom>
          <a:ln w="0">
            <a:noFill/>
          </a:ln>
        </p:spPr>
      </p:pic>
      <p:sp>
        <p:nvSpPr>
          <p:cNvPr id="398" name="TextBox 35"/>
          <p:cNvSpPr/>
          <p:nvPr/>
        </p:nvSpPr>
        <p:spPr>
          <a:xfrm>
            <a:off x="4785840" y="38257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Century Gothic"/>
              </a:rPr>
              <a:t>ICMP TTL=2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9" name="Straight Arrow Connector 36" descr=""/>
          <p:cNvPicPr/>
          <p:nvPr/>
        </p:nvPicPr>
        <p:blipFill>
          <a:blip r:embed="rId6"/>
          <a:stretch/>
        </p:blipFill>
        <p:spPr>
          <a:xfrm>
            <a:off x="3413160" y="4151160"/>
            <a:ext cx="4876920" cy="579600"/>
          </a:xfrm>
          <a:prstGeom prst="rect">
            <a:avLst/>
          </a:prstGeom>
          <a:ln w="0">
            <a:noFill/>
          </a:ln>
        </p:spPr>
      </p:pic>
      <p:sp>
        <p:nvSpPr>
          <p:cNvPr id="400" name="TextBox 37"/>
          <p:cNvSpPr/>
          <p:nvPr/>
        </p:nvSpPr>
        <p:spPr>
          <a:xfrm>
            <a:off x="4340520" y="439416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Century Gothic"/>
              </a:rPr>
              <a:t>Timeout at Rt. 2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Straight Connector 41"/>
          <p:cNvSpPr/>
          <p:nvPr/>
        </p:nvSpPr>
        <p:spPr>
          <a:xfrm flipH="1">
            <a:off x="5595840" y="2959200"/>
            <a:ext cx="7920" cy="753840"/>
          </a:xfrm>
          <a:prstGeom prst="line">
            <a:avLst/>
          </a:prstGeom>
          <a:ln w="31680">
            <a:solidFill>
              <a:srgbClr val="faab6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Straight Connector 42"/>
          <p:cNvSpPr/>
          <p:nvPr/>
        </p:nvSpPr>
        <p:spPr>
          <a:xfrm flipH="1">
            <a:off x="3600000" y="2959200"/>
            <a:ext cx="4680" cy="1801800"/>
          </a:xfrm>
          <a:prstGeom prst="line">
            <a:avLst/>
          </a:prstGeom>
          <a:ln w="31680">
            <a:solidFill>
              <a:srgbClr val="cc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3" name="Straight Arrow Connector 44" descr=""/>
          <p:cNvPicPr/>
          <p:nvPr/>
        </p:nvPicPr>
        <p:blipFill>
          <a:blip r:embed="rId7"/>
          <a:stretch/>
        </p:blipFill>
        <p:spPr>
          <a:xfrm>
            <a:off x="853920" y="5078520"/>
            <a:ext cx="7167600" cy="5839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5"/>
          <p:cNvSpPr/>
          <p:nvPr/>
        </p:nvSpPr>
        <p:spPr>
          <a:xfrm>
            <a:off x="3384000" y="49165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ICMP TTL=3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5" name="Straight Arrow Connector 46" descr=""/>
          <p:cNvPicPr/>
          <p:nvPr/>
        </p:nvPicPr>
        <p:blipFill>
          <a:blip r:embed="rId8"/>
          <a:stretch/>
        </p:blipFill>
        <p:spPr>
          <a:xfrm>
            <a:off x="1042920" y="5237280"/>
            <a:ext cx="7210440" cy="583920"/>
          </a:xfrm>
          <a:prstGeom prst="rect">
            <a:avLst/>
          </a:prstGeom>
          <a:ln w="0">
            <a:noFill/>
          </a:ln>
        </p:spPr>
      </p:pic>
      <p:sp>
        <p:nvSpPr>
          <p:cNvPr id="406" name="TextBox 47"/>
          <p:cNvSpPr/>
          <p:nvPr/>
        </p:nvSpPr>
        <p:spPr>
          <a:xfrm>
            <a:off x="2901240" y="54752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Reply from Serv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7" name="Straight Connector 48"/>
          <p:cNvSpPr/>
          <p:nvPr/>
        </p:nvSpPr>
        <p:spPr>
          <a:xfrm flipH="1">
            <a:off x="1269720" y="2954160"/>
            <a:ext cx="4680" cy="2921040"/>
          </a:xfrm>
          <a:prstGeom prst="line">
            <a:avLst/>
          </a:prstGeom>
          <a:ln w="316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Straight Connector 52"/>
          <p:cNvSpPr/>
          <p:nvPr/>
        </p:nvSpPr>
        <p:spPr>
          <a:xfrm>
            <a:off x="7970760" y="2959200"/>
            <a:ext cx="34920" cy="291600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9" name="Picture 30" descr=""/>
          <p:cNvPicPr/>
          <p:nvPr/>
        </p:nvPicPr>
        <p:blipFill>
          <a:blip r:embed="rId9"/>
          <a:stretch/>
        </p:blipFill>
        <p:spPr>
          <a:xfrm>
            <a:off x="1027080" y="2062080"/>
            <a:ext cx="563760" cy="8654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6" descr="switch"/>
          <p:cNvPicPr/>
          <p:nvPr/>
        </p:nvPicPr>
        <p:blipFill>
          <a:blip r:embed="rId10"/>
          <a:stretch/>
        </p:blipFill>
        <p:spPr>
          <a:xfrm>
            <a:off x="3211560" y="2232000"/>
            <a:ext cx="789120" cy="6955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6" descr="switch"/>
          <p:cNvPicPr/>
          <p:nvPr/>
        </p:nvPicPr>
        <p:blipFill>
          <a:blip r:embed="rId11"/>
          <a:stretch/>
        </p:blipFill>
        <p:spPr>
          <a:xfrm>
            <a:off x="5210280" y="2232000"/>
            <a:ext cx="788760" cy="695520"/>
          </a:xfrm>
          <a:prstGeom prst="rect">
            <a:avLst/>
          </a:prstGeom>
          <a:ln w="0">
            <a:noFill/>
          </a:ln>
        </p:spPr>
      </p:pic>
      <p:sp>
        <p:nvSpPr>
          <p:cNvPr id="412" name="TextBox 38"/>
          <p:cNvSpPr/>
          <p:nvPr/>
        </p:nvSpPr>
        <p:spPr>
          <a:xfrm>
            <a:off x="5016600" y="1612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Router 1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TextBox 39"/>
          <p:cNvSpPr/>
          <p:nvPr/>
        </p:nvSpPr>
        <p:spPr>
          <a:xfrm>
            <a:off x="3064680" y="1612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Router 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3"/>
          <p:cNvSpPr/>
          <p:nvPr/>
        </p:nvSpPr>
        <p:spPr>
          <a:xfrm>
            <a:off x="8077320" y="62881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2E4FB-CF72-4435-9704-BC3CE38C8F21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15" name="Picture 2" descr="C:\Documents and Settings\Administrator\Local Settings\Temporary Internet Files\Content.IE5\WCLTZRCT\MCj04415350000[1].png"/>
          <p:cNvPicPr/>
          <p:nvPr/>
        </p:nvPicPr>
        <p:blipFill>
          <a:blip r:embed="rId2"/>
          <a:stretch/>
        </p:blipFill>
        <p:spPr>
          <a:xfrm>
            <a:off x="6281640" y="2293920"/>
            <a:ext cx="1003320" cy="988920"/>
          </a:xfrm>
          <a:prstGeom prst="rect">
            <a:avLst/>
          </a:prstGeom>
          <a:ln w="0">
            <a:noFill/>
          </a:ln>
        </p:spPr>
      </p:pic>
      <p:sp>
        <p:nvSpPr>
          <p:cNvPr id="416" name="TextBox 7"/>
          <p:cNvSpPr/>
          <p:nvPr/>
        </p:nvSpPr>
        <p:spPr>
          <a:xfrm>
            <a:off x="6340680" y="1924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ew Gu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17" name="Picture 8" descr=""/>
          <p:cNvPicPr/>
          <p:nvPr/>
        </p:nvPicPr>
        <p:blipFill>
          <a:blip r:embed="rId3"/>
          <a:stretch/>
        </p:blipFill>
        <p:spPr>
          <a:xfrm>
            <a:off x="4238640" y="1676520"/>
            <a:ext cx="563400" cy="8636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Documents and Settings\Administrator\Local Settings\Temporary Internet Files\Content.IE5\WCLTZRCT\MCj04415350000[1].png"/>
          <p:cNvPicPr/>
          <p:nvPr/>
        </p:nvPicPr>
        <p:blipFill>
          <a:blip r:embed="rId4"/>
          <a:stretch/>
        </p:blipFill>
        <p:spPr>
          <a:xfrm>
            <a:off x="7348680" y="4573440"/>
            <a:ext cx="1003320" cy="990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Documents and Settings\Administrator\Local Settings\Temporary Internet Files\Content.IE5\WCLTZRCT\MCj04415350000[1].png"/>
          <p:cNvPicPr/>
          <p:nvPr/>
        </p:nvPicPr>
        <p:blipFill>
          <a:blip r:embed="rId5"/>
          <a:stretch/>
        </p:blipFill>
        <p:spPr>
          <a:xfrm>
            <a:off x="5343480" y="4573440"/>
            <a:ext cx="1003320" cy="990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6" descr="switch"/>
          <p:cNvPicPr/>
          <p:nvPr/>
        </p:nvPicPr>
        <p:blipFill>
          <a:blip r:embed="rId6"/>
          <a:stretch/>
        </p:blipFill>
        <p:spPr>
          <a:xfrm>
            <a:off x="4129200" y="3735360"/>
            <a:ext cx="788760" cy="6955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6" descr="switch"/>
          <p:cNvPicPr/>
          <p:nvPr/>
        </p:nvPicPr>
        <p:blipFill>
          <a:blip r:embed="rId7"/>
          <a:stretch/>
        </p:blipFill>
        <p:spPr>
          <a:xfrm>
            <a:off x="6435720" y="3735360"/>
            <a:ext cx="790560" cy="695520"/>
          </a:xfrm>
          <a:prstGeom prst="rect">
            <a:avLst/>
          </a:prstGeom>
          <a:ln w="0">
            <a:noFill/>
          </a:ln>
        </p:spPr>
      </p:pic>
      <p:sp>
        <p:nvSpPr>
          <p:cNvPr id="422" name="Cloud 14"/>
          <p:cNvSpPr/>
          <p:nvPr/>
        </p:nvSpPr>
        <p:spPr>
          <a:xfrm>
            <a:off x="393840" y="3119400"/>
            <a:ext cx="2825640" cy="1913040"/>
          </a:xfrm>
          <a:prstGeom prst="pi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TextBox 16"/>
          <p:cNvSpPr/>
          <p:nvPr/>
        </p:nvSpPr>
        <p:spPr>
          <a:xfrm>
            <a:off x="5263200" y="5372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Old Guy 1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TextBox 17"/>
          <p:cNvSpPr/>
          <p:nvPr/>
        </p:nvSpPr>
        <p:spPr>
          <a:xfrm>
            <a:off x="7241040" y="53784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Old Guy 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Straight Connector 18"/>
          <p:cNvSpPr/>
          <p:nvPr/>
        </p:nvSpPr>
        <p:spPr>
          <a:xfrm>
            <a:off x="4917960" y="4083120"/>
            <a:ext cx="1517760" cy="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Straight Connector 19"/>
          <p:cNvSpPr/>
          <p:nvPr/>
        </p:nvSpPr>
        <p:spPr>
          <a:xfrm flipH="1" flipV="1">
            <a:off x="7094520" y="4311360"/>
            <a:ext cx="434880" cy="5252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7" name="Straight Connector 20"/>
          <p:cNvSpPr/>
          <p:nvPr/>
        </p:nvSpPr>
        <p:spPr>
          <a:xfrm flipV="1">
            <a:off x="6281640" y="4311360"/>
            <a:ext cx="312840" cy="52524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Straight Connector 21"/>
          <p:cNvSpPr/>
          <p:nvPr/>
        </p:nvSpPr>
        <p:spPr>
          <a:xfrm flipV="1">
            <a:off x="6831000" y="3170160"/>
            <a:ext cx="0" cy="56520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Straight Connector 31"/>
          <p:cNvSpPr/>
          <p:nvPr/>
        </p:nvSpPr>
        <p:spPr>
          <a:xfrm>
            <a:off x="3218040" y="4075200"/>
            <a:ext cx="911160" cy="7920"/>
          </a:xfrm>
          <a:prstGeom prst="line">
            <a:avLst/>
          </a:prstGeom>
          <a:ln w="190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TextBox 34"/>
          <p:cNvSpPr/>
          <p:nvPr/>
        </p:nvSpPr>
        <p:spPr>
          <a:xfrm>
            <a:off x="3959280" y="44686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Gatewa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TextBox 35"/>
          <p:cNvSpPr/>
          <p:nvPr/>
        </p:nvSpPr>
        <p:spPr>
          <a:xfrm>
            <a:off x="4215240" y="1306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DHCP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432" name="Straight Arrow Connector 37"/>
          <p:cNvCxnSpPr/>
          <p:nvPr/>
        </p:nvCxnSpPr>
        <p:spPr>
          <a:xfrm flipH="1" flipV="1">
            <a:off x="4801680" y="2107800"/>
            <a:ext cx="1634400" cy="43272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sp>
        <p:nvSpPr>
          <p:cNvPr id="433" name="TextBox 41"/>
          <p:cNvSpPr/>
          <p:nvPr/>
        </p:nvSpPr>
        <p:spPr>
          <a:xfrm>
            <a:off x="393840" y="747720"/>
            <a:ext cx="335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aab64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aab64"/>
                </a:solidFill>
                <a:latin typeface="Century Gothic"/>
              </a:rPr>
              <a:t>I want an IP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buClr>
                <a:srgbClr val="faab64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aab64"/>
                </a:solidFill>
                <a:latin typeface="Century Gothic"/>
              </a:rPr>
              <a:t>Return IP &amp; Gateway IP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TextBox 42"/>
          <p:cNvSpPr/>
          <p:nvPr/>
        </p:nvSpPr>
        <p:spPr>
          <a:xfrm>
            <a:off x="5475240" y="1924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aab64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435" name="Straight Arrow Connector 43"/>
          <p:cNvCxnSpPr/>
          <p:nvPr/>
        </p:nvCxnSpPr>
        <p:spPr>
          <a:xfrm>
            <a:off x="4801680" y="2293560"/>
            <a:ext cx="1545480" cy="40068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sp>
        <p:nvSpPr>
          <p:cNvPr id="436" name="TextBox 44"/>
          <p:cNvSpPr/>
          <p:nvPr/>
        </p:nvSpPr>
        <p:spPr>
          <a:xfrm>
            <a:off x="5383080" y="2435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aab64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437" name="Straight Arrow Connector 49"/>
          <p:cNvCxnSpPr/>
          <p:nvPr/>
        </p:nvCxnSpPr>
        <p:spPr>
          <a:xfrm>
            <a:off x="6963840" y="3169800"/>
            <a:ext cx="1080" cy="61668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cxnSp>
        <p:nvCxnSpPr>
          <p:cNvPr id="438" name="Straight Arrow Connector 53"/>
          <p:cNvCxnSpPr/>
          <p:nvPr/>
        </p:nvCxnSpPr>
        <p:spPr>
          <a:xfrm>
            <a:off x="7225920" y="4311360"/>
            <a:ext cx="484920" cy="52596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cxnSp>
        <p:nvCxnSpPr>
          <p:cNvPr id="439" name="Straight Arrow Connector 54"/>
          <p:cNvCxnSpPr/>
          <p:nvPr/>
        </p:nvCxnSpPr>
        <p:spPr>
          <a:xfrm flipH="1">
            <a:off x="6119280" y="4311360"/>
            <a:ext cx="316800" cy="52596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sp>
        <p:nvSpPr>
          <p:cNvPr id="440" name="TextBox 61"/>
          <p:cNvSpPr/>
          <p:nvPr/>
        </p:nvSpPr>
        <p:spPr>
          <a:xfrm>
            <a:off x="6961320" y="3198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aab64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TextBox 62"/>
          <p:cNvSpPr/>
          <p:nvPr/>
        </p:nvSpPr>
        <p:spPr>
          <a:xfrm>
            <a:off x="6022800" y="4173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aab64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TextBox 63"/>
          <p:cNvSpPr/>
          <p:nvPr/>
        </p:nvSpPr>
        <p:spPr>
          <a:xfrm>
            <a:off x="7316640" y="4119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aab64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3" name="TextBox 64"/>
          <p:cNvSpPr/>
          <p:nvPr/>
        </p:nvSpPr>
        <p:spPr>
          <a:xfrm>
            <a:off x="252360" y="747720"/>
            <a:ext cx="440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aab64"/>
                </a:solidFill>
                <a:latin typeface="Century Gothic"/>
              </a:rPr>
              <a:t>If same subnet (e.g. OG1)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aab64"/>
                </a:solidFill>
                <a:latin typeface="Century Gothic"/>
              </a:rPr>
              <a:t>3. Broadcast ARP reques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aab64"/>
                </a:solidFill>
                <a:latin typeface="Century Gothic"/>
              </a:rPr>
              <a:t>4. OG1 Reply ARP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aab64"/>
                </a:solidFill>
                <a:latin typeface="Century Gothic"/>
              </a:rPr>
              <a:t>5. NG caches OG1’s MAC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444" name="Straight Arrow Connector 65"/>
          <p:cNvCxnSpPr/>
          <p:nvPr/>
        </p:nvCxnSpPr>
        <p:spPr>
          <a:xfrm flipV="1">
            <a:off x="6384960" y="4442760"/>
            <a:ext cx="280080" cy="50868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cxnSp>
        <p:nvCxnSpPr>
          <p:cNvPr id="445" name="Straight Arrow Connector 69"/>
          <p:cNvCxnSpPr/>
          <p:nvPr/>
        </p:nvCxnSpPr>
        <p:spPr>
          <a:xfrm flipV="1">
            <a:off x="6676560" y="3185280"/>
            <a:ext cx="1080" cy="600840"/>
          </a:xfrm>
          <a:prstGeom prst="straightConnector1">
            <a:avLst/>
          </a:prstGeom>
          <a:ln w="38160">
            <a:solidFill>
              <a:srgbClr val="faab64"/>
            </a:solidFill>
            <a:miter/>
            <a:tailEnd len="med" type="arrow" w="med"/>
          </a:ln>
        </p:spPr>
      </p:cxnSp>
      <p:sp>
        <p:nvSpPr>
          <p:cNvPr id="446" name="TextBox 74"/>
          <p:cNvSpPr/>
          <p:nvPr/>
        </p:nvSpPr>
        <p:spPr>
          <a:xfrm>
            <a:off x="6245280" y="3197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aab64"/>
                </a:solidFill>
                <a:latin typeface="Century Gothic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7" name="TextBox 75"/>
          <p:cNvSpPr/>
          <p:nvPr/>
        </p:nvSpPr>
        <p:spPr>
          <a:xfrm>
            <a:off x="6495120" y="463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aab64"/>
                </a:solidFill>
                <a:latin typeface="Century Gothic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TextBox 76"/>
          <p:cNvSpPr/>
          <p:nvPr/>
        </p:nvSpPr>
        <p:spPr>
          <a:xfrm>
            <a:off x="255600" y="741240"/>
            <a:ext cx="440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aab64"/>
                </a:solidFill>
                <a:latin typeface="Century Gothic"/>
              </a:rPr>
              <a:t>If outside world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aab64"/>
                </a:solidFill>
                <a:latin typeface="Century Gothic"/>
              </a:rPr>
              <a:t>6. Send to Gatewa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49" name="Group 79"/>
          <p:cNvGrpSpPr/>
          <p:nvPr/>
        </p:nvGrpSpPr>
        <p:grpSpPr>
          <a:xfrm>
            <a:off x="6961320" y="3169800"/>
            <a:ext cx="363600" cy="616320"/>
            <a:chOff x="6961320" y="3169800"/>
            <a:chExt cx="363600" cy="616320"/>
          </a:xfrm>
        </p:grpSpPr>
        <p:sp>
          <p:nvSpPr>
            <p:cNvPr id="450" name="TextBox 77"/>
            <p:cNvSpPr/>
            <p:nvPr/>
          </p:nvSpPr>
          <p:spPr>
            <a:xfrm>
              <a:off x="6961320" y="3209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aab64"/>
                  </a:solidFill>
                  <a:latin typeface="Century Gothic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cxnSp>
          <p:nvCxnSpPr>
            <p:cNvPr id="451" name="Straight Arrow Connector 78"/>
            <p:cNvCxnSpPr/>
            <p:nvPr/>
          </p:nvCxnSpPr>
          <p:spPr>
            <a:xfrm>
              <a:off x="6963840" y="3169800"/>
              <a:ext cx="1080" cy="616680"/>
            </a:xfrm>
            <a:prstGeom prst="straightConnector1">
              <a:avLst/>
            </a:prstGeom>
            <a:ln w="38160">
              <a:solidFill>
                <a:srgbClr val="faab64"/>
              </a:solidFill>
              <a:miter/>
              <a:tailEnd len="med" type="arrow" w="med"/>
            </a:ln>
          </p:spPr>
        </p:cxnSp>
      </p:grpSp>
      <p:grpSp>
        <p:nvGrpSpPr>
          <p:cNvPr id="452" name="Group 80"/>
          <p:cNvGrpSpPr/>
          <p:nvPr/>
        </p:nvGrpSpPr>
        <p:grpSpPr>
          <a:xfrm>
            <a:off x="4917600" y="3446640"/>
            <a:ext cx="1518120" cy="462240"/>
            <a:chOff x="4917600" y="3446640"/>
            <a:chExt cx="1518120" cy="462240"/>
          </a:xfrm>
        </p:grpSpPr>
        <p:sp>
          <p:nvSpPr>
            <p:cNvPr id="453" name="TextBox 81"/>
            <p:cNvSpPr/>
            <p:nvPr/>
          </p:nvSpPr>
          <p:spPr>
            <a:xfrm>
              <a:off x="5578200" y="3446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aab64"/>
                  </a:solidFill>
                  <a:latin typeface="Century Gothic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cxnSp>
          <p:nvCxnSpPr>
            <p:cNvPr id="454" name="Straight Arrow Connector 82"/>
            <p:cNvCxnSpPr/>
            <p:nvPr/>
          </p:nvCxnSpPr>
          <p:spPr>
            <a:xfrm flipH="1">
              <a:off x="4917600" y="3908160"/>
              <a:ext cx="1518480" cy="1080"/>
            </a:xfrm>
            <a:prstGeom prst="straightConnector1">
              <a:avLst/>
            </a:prstGeom>
            <a:ln w="38160">
              <a:solidFill>
                <a:srgbClr val="faab64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ARP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ARP table (cache)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1. Look up local ARP table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2. If not, broadcast to ask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3. LAN switch caches ARP to por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807732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D04D2-EE44-4420-A045-7FBA627368AB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22:40:44Z</dcterms:created>
  <dc:creator>pengsun</dc:creator>
  <dc:description/>
  <dc:language>en-US</dc:language>
  <cp:lastModifiedBy>Jennifer Rexford</cp:lastModifiedBy>
  <dcterms:modified xsi:type="dcterms:W3CDTF">2012-02-24T04:40:48Z</dcterms:modified>
  <cp:revision>78</cp:revision>
  <dc:subject/>
  <dc:title>Precept 2</dc:title>
</cp:coreProperties>
</file>