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57CAE18-D6F6-46FF-8A8F-713554CEA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D7FF08A-8F07-44B2-B561-3F4DA22FF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y Body for 200 is typically the HTML or data for img/js/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6B9B0F6-DD8B-4D6E-8463-84EFDD65E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B156C6-B750-43B6-A30D-684258337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88B6A2-725F-479C-9BE5-829144BAD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contains all the HTML and/or data for images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2A1A88C-0CC2-4965-947C-B8A25C4E8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BE5DF5-9BD0-4B76-8EF6-922AE69DE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either explicitly tells us the content length with header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implicitly tells us by closing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4 and other errors / directives have implied lengths of 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unked encoding, using for dyna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, then data, length, then data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CCB4E23-BECB-4C72-9450-C3EEF2FEA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1397577-367D-4D9C-8687-9CD9E104E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cy – server doesn’t know the actual originating addr, just proxy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 filtering – can selectively block requests and instead server up oth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hing – Multiple people want the same thing, cache it on proxy and save a request to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BA47FE6-2BA0-42B2-BF75-A8B9BB371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need to worry about POST and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using it with your browser, sites like Facebook / etc WILL NOT WORK as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3A53F68-C90E-4F8A-9781-DCE8989D6D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B7A67B5-9B9A-434C-9372-71E32A9339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explicit request into implicit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9106D24-2F9C-4844-B8E3-D0E108FFA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fix small errors when it’s obvious what the user wants to do, but make sure your responses are “by the bo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76673CE-C621-4CDD-B260-CAF0B7DBF5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try to code up everything at once and then wonder where it goes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E83F44A-D4A7-46F5-B38E-8668E66E4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C2AC04E-D71F-447F-ABB9-F99C7B81D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15811B9-284E-46FC-9FA4-79E647A8B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 window size never gets open very wide, takes extra R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ransfer more data in TCP established state, where window is l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D5CA180-919C-4975-AB8B-7B2C4342D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put several requests in a single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9E3FC6F-CDB7-461B-A18D-EFC6CD749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6AD7997-B6BC-463B-8089-DFBB80623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-of-line blocking: if big item is the first request, smaller requests are stuck waiting behind it to finish when they could be issued as a parallel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D1BC768-3DCB-458E-88F7-15071FFF4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171360" indent="-171360">
              <a:spcBef>
                <a:spcPts val="9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cremental because </a:t>
            </a:r>
            <a:r>
              <a:rPr b="0" lang="en-US" sz="2500" spc="-1" strike="noStrike">
                <a:solidFill>
                  <a:srgbClr val="000000"/>
                </a:solidFill>
                <a:latin typeface="Andale Mono"/>
                <a:ea typeface="Andale Mono"/>
              </a:rPr>
              <a:t>you just add a new header label and those that support it will use i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674E0A6-9598-4A03-A394-59C35679F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1A2B9F9-ACE5-471F-A0CC-BA6A32998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1091F1B-F8BC-4793-9E28-189329FD9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E5F70BE-5970-4DED-8656-6F0CAF068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CD52A1B-E6D8-477E-B677-759C1171E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EFC8660-B628-4373-BF4C-BDED3B871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B4641DA-583D-4387-B466-33B452B582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3ECBE05-87FC-4A16-B093-0CF057A0F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C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on’t want to have holes in our web page – won’t render corre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ed in text would be “human readab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less – simplifies the server, reduces resources /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B521013-D34D-48C8-8E0C-E6B82C83C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 =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= \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f = 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only fills in for POST requests, not GET 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5288DC7-E122-4183-B3C4-2BB04E0C6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it relat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URL is implied by what you conn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use Host: header if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F8DCF6F-480D-4279-BBB2-BF2241DE4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3FDB70D-9A6F-4B9C-BF9F-094477060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xample with only the Host as the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bbing index.html from that site, using HTTP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DC657DB-ED3A-4879-B548-EF3025A10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dd more headers easily. Each on their own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E259-7574-46E3-ABFD-9D83AC395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FF34-A8EC-43ED-9EBE-93E486D9C61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F54C8-7CDD-4C14-A5C2-83078ECD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51447-26E4-4D14-AB00-BBB5C4F6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8009F-139E-4704-ABC6-C3AA6DC6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CD208-1B2F-4049-BEB4-E493805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BC4E7-8F01-4201-8D50-C43FCA82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832B5-92BA-42EA-B119-CD843247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81DF7-0AF4-4D3B-9211-4A133E67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3BD75-3E60-401E-86BB-3E8925B3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12EDF-2312-4C75-BB83-F4205C7A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43DA5-5ECE-4AEF-9D43-FBA47157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9BB0-9120-4E87-A4D9-F7F44A47E3D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252F3-6694-41AE-B664-BD4CC35B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E3EE1-24F7-4016-989D-E3A613B8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5C1C2-31AD-4E9D-9488-FC73D552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92F3A-1BB5-41D3-A4D6-FDE1FFDB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836E4-EDFC-4FD9-B593-A6DACDFE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441FE-2C8B-4E5F-9BCA-2401A870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F5669-CAB6-426D-BAC7-1D4806DC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0245C-2DD0-44B9-BEE6-CEEC4793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41AC0-E895-4417-B492-23FAA78A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2C4B6-1863-48CB-B1CA-03EBA811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42A9-EED7-44AE-807E-24FA6C39DCE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C5474-3BCB-4FF8-AC49-0E433F64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964AA1-1740-4881-ABD4-67EF6D71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103ADF-BA4A-4C71-A632-610C7893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636655-34A4-4497-B8A8-B005F13F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9F3A35-D57D-4695-AEA3-1E038A93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3C8A5F-6738-4CAA-A6BF-58929062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599157-FE41-4932-886D-DF84F492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CC8CB0-C290-47A6-AD88-B325854C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CC798A-3A4E-49BC-98DD-F081E9E8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263FE0-A3EF-438F-9995-25EA0D84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09456-EABE-43E3-A436-410878C8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7B38A9-8C38-43C9-96E9-A6DEFDD6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B982E5-5C3D-4181-A214-6360C051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95793E-5D0C-43D2-8E25-99112B39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BD072-D47B-45AD-AB16-BDF885E1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DCB22-D3B5-4F4C-9939-14A1BE49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E95B3-A9AB-431F-BC55-2912FDDE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DC34F-7E75-494B-B101-BCAFD1FA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D6150-B671-4F70-A7E7-41C632EE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8C303-BE9A-4BD4-949E-1E4F70F3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0F615-C3F5-4718-B8BC-2324EFFA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BADC2-5243-4618-9443-C8155C7F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03550-40C1-41BA-97CA-F8D20A3E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92831-5689-44D9-90FB-64D97664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CE948-CBFC-4DB6-BE86-5E2A5DE9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8F560-2726-48F7-AD69-5DEEA741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3B496-70C2-42AC-913A-FA4B3304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18707-2CFC-4F82-8CD3-4D1A4DF5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03411-3A5F-4470-BA40-6FE4E759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C88A2-3D03-496D-A2B6-19CF7C50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4E48E-8B80-4B30-9AB3-976B613F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3BAE3-700F-426D-9700-48779748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9997-8BC6-4551-A55E-DF9625407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9D856-D333-44DC-8003-A5E2DE6B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4A494-94F0-45F2-8315-18667BED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B29CD-1935-461E-A8A2-74B1C03B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FB3DC-97BE-4891-8890-EE29D870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63BCC-623C-4F07-8BCD-701F0A77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55092-5DE5-46FF-9A6D-2623A616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E6FAD1-9BA3-4C70-87E9-341402B2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1E1DB9-DD9D-492D-A313-3DC8B25F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035E79-E05D-4EA4-A5A8-AD15D7AA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3024D3-4EB4-4B94-B118-D6CE0869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F4C7-9920-4176-BC8E-8C77028C99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6C819-4A96-4E6C-9239-CAC4A589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040AC6-A3EC-443C-8B27-22B3A149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854274-5A77-4D50-B380-A00CC465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F756AA-2B12-49CF-B60D-27F54EA8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7D01F9-3B4F-4084-9201-64E79851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A845F-70E3-4A15-9121-B75DDF56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3E26A4-8D0C-4C7D-B506-8CEE9F39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87A9BF-94BA-4AF4-856A-67392B3F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59EF3-9175-408C-8E48-B541E08F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D03390-E806-41C0-816E-D6E5309B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9C2F-170F-46B7-967E-94266A16CB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42BF3-C762-48E3-A0C2-CE8386B3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730759-FB06-4D14-9471-878096B6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79405C-E2FB-4BE0-9EA6-7DBDD4C4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E63EB1-6995-4F66-B598-65C0380A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B6F49A-C249-472C-9DBB-4581AD00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2FABE4-D81C-43DE-A1D8-584EC733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A48652-92E6-418B-8466-814D4BA0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52509-CC7F-4184-A853-FCE6BE2D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71F788-40D7-4D32-9270-D1757FDE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CCED09-3A61-4DE2-BBB2-0AF5CD1D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08CF-2DDD-4F09-8BA6-524D0DA8A39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20A63C-71F9-425F-9F38-43D21223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AFA8C9-3BBB-4082-B763-A965EC99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B8D9C0-F36F-413C-90C5-9C865467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C342BA-D04E-4BCE-B7AD-8D966C47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DF50E8-39B4-4158-9C2A-66510C3D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2B23C1-BBB5-4A14-B66A-D71BEE3A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616221-B99E-469F-843F-6B5B9997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D9FB39-A060-4377-9159-267CBED1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D6B102-7455-465C-808B-503634B5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2AFCDD-359D-4B68-A89B-FF65ABE6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5D0F-FE4B-4E9B-A2D7-BD2864922AA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478C75-070E-434C-874B-A1FCF7D3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E6D06F-5F55-4163-BA92-774D8793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BFA1B2-520A-432D-9800-532B989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FC93B0-02D1-4889-88A7-2B3BBBE7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0D0E15-0D51-41D2-AFA3-FF24F51E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FB085C-AC36-4080-B5E3-9897A8C3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6D6E3B-8766-4870-8621-75FA8328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519D93-B496-44EF-B50A-77C1D57F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598954-94EA-4F82-8E2F-505D50F2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C842D5-D541-435E-ADEC-A5DFDE89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27DC-0367-46E8-BAAE-8DDFB43829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F2A71C-CD9F-422E-991D-CBF778E2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C700E4-C50D-4865-9373-D1203404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A396E0-3F26-4F7B-8787-A322F290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241983-1365-47F6-9D11-D73D43FA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B24780-8778-4015-B607-D06B02B0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F72357-2729-46BE-A6EC-E4361446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B57245-5013-4BFF-9EC7-7D1D16F8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4B1B13-21EC-4E65-96F7-FF1A4F67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E2D92F-1948-4775-8ED0-5B6E4AD1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D27787-4651-47C0-AD28-9FBA48FF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6D96-473D-43AA-B3A4-21DD78D34E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DAA77C-C569-49C6-A51F-E43CAB13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B6EF0F-2578-4176-8E9F-558ABCB1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67739F-2CF4-4FE3-BFCE-B0707C3F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66DC15-A521-4737-BEB0-5E8904F8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CBF4BD-5D74-45BB-8E17-AAE737A9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62B0E5-7BFB-441D-86CF-54A6AA23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2D0C12-EBD1-46DB-BCBF-9CA93FF7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9ABF58-65AC-48F4-8A7C-1E26DA97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12C2F0-6476-4A59-9113-D58972F6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AE2EAB-7874-4E08-B43F-7B1F37CF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6F83-A64C-4E98-8EB7-EE6D6A01FFB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26C3BA-D3DE-402D-AFFB-8745AE76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FE38D7-5787-4BD9-8790-8E967A3D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DE62D1-AFAF-47BF-BCE7-F24723EC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243147-CCC6-471E-A4A6-E0CB7C3B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DB510B-1A1E-4A85-8CDF-940C9BD2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208642-55A3-4B0A-923E-256C3213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B0BA4B-0525-41CF-8647-B015B1DC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9685E-398A-43FB-B202-56A45C34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12C67-85A7-4AFA-B06E-FABAFB35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66C32-2F19-4795-981D-27B497AF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773D-CC31-4B27-AF5E-F47CCCBA1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F3F4-79B7-424E-A22B-8BE4DEFA31D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6F36-8B94-4B7B-9DCA-F638304C26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3A78-855C-4E85-BE83-C76F817009E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A470-E3EA-4449-8277-FB44873D0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FCB5-381A-46CF-BBEC-709A76F22CD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11AE-B820-4825-9D1B-5771A17D2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E0A7-EBF6-4294-823C-A0D95A02601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2EFF-1BAA-4D53-957C-A4FC26F5BE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D9A7-51DD-4CA8-9C63-D49E4E27E16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6EA2-44ED-48EF-8C9F-AD5F48A3D2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926D-FAFA-4E2A-8212-C1E64467E78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F598-E99E-4C72-90E6-F5E67DDCF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D932-1AC2-4D98-B3AB-E9A448CD5C2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B69F-3F6C-4A00-B90A-8D1C2D02E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7A07-2880-43A9-9A39-FA18E441CAE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CB37-E59A-4A39-A901-1C2DEFAAD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705A-045A-4769-8938-6C18DDE4C59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4E6A-261D-4249-85BF-1DD63B9173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9EA5-D553-4542-811C-6DD80BC74C1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5DD3-0F9A-44CE-AFC9-3138FAF22E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8E2D-3322-4425-834A-8E2131E648A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5FEE-263E-4EA0-A6E1-68EC7E966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76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</a:t>
            </a:r>
            <a:br>
              <a:rPr sz="4400"/>
            </a:b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Reading: Section 9.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.2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and 9.4.3</a:t>
            </a:r>
            <a:endParaRPr b="0" lang="en-US" sz="2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23760" y="4463640"/>
            <a:ext cx="729792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OS 461: Computer Networks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ring 2012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136D-2038-4073-BD55-3D7FAEE0729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0" name="Picture 33" descr="img_polar_earth_from_space"/>
          <p:cNvPicPr/>
          <p:nvPr/>
        </p:nvPicPr>
        <p:blipFill>
          <a:blip r:embed="rId1"/>
          <a:stretch/>
        </p:blipFill>
        <p:spPr>
          <a:xfrm>
            <a:off x="3343320" y="241200"/>
            <a:ext cx="26416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spons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FFEE-4FC7-4606-BE0B-EC574A7FD77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28" name="Picture 6" descr=""/>
          <p:cNvPicPr/>
          <p:nvPr/>
        </p:nvPicPr>
        <p:blipFill>
          <a:blip r:embed="rId1"/>
          <a:stretch/>
        </p:blipFill>
        <p:spPr>
          <a:xfrm>
            <a:off x="615960" y="1432080"/>
            <a:ext cx="792792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spons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us-li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digit response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XX – inform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XX –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XX – redi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1 Moved Perman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3 Moved Temporari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4 Not Mod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XX – client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4 Not F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XX – server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05 HTTP Version Not Suppor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on ph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CD13-CBFA-4C88-8042-F9017CBA874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sponse (cont.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Header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riable length, human-read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– for re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– server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-Authenticate – request for authent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– list of methods supported (get, head, et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-Encoding – E.g x-gz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-Leng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-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ires (cach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st-Modified (cach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lank-lin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od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F5CA-0A8D-4938-B0FA-258C8C9D335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sponse Exampl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HTTP/1.1 200 OK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Date: Tue, 27 Mar 2001 03:49:38 GMT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Server: Apache/1.3.14 (Unix)  (Red-Hat/Linux) mod_ssl/2.7.1 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OpenSSL/0.9.5a DAV/1.0.2 PHP/4.0.1pl2 mod_perl/1.24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Last-Modified: Mon, 29 Jan 2001 17:54:18 GMT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Accept-Ranges: bytes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Content-Length: 4333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Keep-Alive: timeout=15, max=100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Connection: Keep-Alive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Content-Type: text/html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7D87-AD5D-4A48-8229-29CBB63A7F9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ow to Mark End of Message? 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ent-Leng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know size of transfer in adv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ose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server can do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lied leng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304 never have body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nsfer-Encoding: chunked (HTTP/1.1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headers, each chunk is content length in hex, CRLF, then body. Final chunk is length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132C-1F80-4B3B-A4B5-11CFE120DF1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Example:  Chunked Encoding</a:t>
            </a:r>
            <a:endParaRPr b="0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/1.1 200 OK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fer-Encoding: chunked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is the data in the first chunk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A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this is the second one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  <a:ea typeface="Calibri"/>
              </a:rPr>
              <a:t>Especially useful for dynamically-generated content, as length is not a priori known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Server would otherwise need to cache data until done generating, and then go back and fill-in length header before transmit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4CA2-E21A-41D0-8618-E48B6C8DE61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HTTP overview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Proxie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ersistent HTTP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HTTP cach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6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8210-5EBA-406A-9A4B-61C2B22DEE4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roxie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 host that acts a broker between client and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aks to server on client’s be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fil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use caching (coming u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E290-9724-4A17-9394-D8528C1BCA9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roxies (Cont.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29492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ccept requests from multiple cli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akes request and reissues it to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akes response and forwards to cli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F6F5-683F-433E-9806-616909A5CAD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4038480" y="1981080"/>
            <a:ext cx="48006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4" name="Object 2" descr=""/>
          <p:cNvPicPr/>
          <p:nvPr/>
        </p:nvPicPr>
        <p:blipFill>
          <a:blip r:embed="rId1"/>
          <a:stretch/>
        </p:blipFill>
        <p:spPr>
          <a:xfrm>
            <a:off x="4203720" y="295596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6"/>
          <p:cNvSpPr/>
          <p:nvPr/>
        </p:nvSpPr>
        <p:spPr>
          <a:xfrm>
            <a:off x="4146840" y="33638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56" name="Object 3"/>
          <p:cNvGraphicFramePr/>
          <p:nvPr/>
        </p:nvGraphicFramePr>
        <p:xfrm>
          <a:off x="4268880" y="4826160"/>
          <a:ext cx="515880" cy="41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8880" y="4826160"/>
                    <a:ext cx="5158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Text Box 8"/>
          <p:cNvSpPr/>
          <p:nvPr/>
        </p:nvSpPr>
        <p:spPr>
          <a:xfrm>
            <a:off x="6030360" y="276876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9" name="Group 9"/>
          <p:cNvGrpSpPr/>
          <p:nvPr/>
        </p:nvGrpSpPr>
        <p:grpSpPr>
          <a:xfrm>
            <a:off x="6249960" y="3556080"/>
            <a:ext cx="345600" cy="742680"/>
            <a:chOff x="6249960" y="3556080"/>
            <a:chExt cx="345600" cy="742680"/>
          </a:xfrm>
        </p:grpSpPr>
        <p:sp>
          <p:nvSpPr>
            <p:cNvPr id="560" name="AutoShape 10"/>
            <p:cNvSpPr/>
            <p:nvPr/>
          </p:nvSpPr>
          <p:spPr>
            <a:xfrm>
              <a:off x="6249960" y="41270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1" name="Rectangle 11"/>
            <p:cNvSpPr/>
            <p:nvPr/>
          </p:nvSpPr>
          <p:spPr>
            <a:xfrm>
              <a:off x="6424920" y="35607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2" name="Rectangle 12"/>
            <p:cNvSpPr/>
            <p:nvPr/>
          </p:nvSpPr>
          <p:spPr>
            <a:xfrm>
              <a:off x="6251760" y="37227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3" name="AutoShape 13"/>
            <p:cNvSpPr/>
            <p:nvPr/>
          </p:nvSpPr>
          <p:spPr>
            <a:xfrm>
              <a:off x="6249960" y="35560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4" name="Line 14"/>
            <p:cNvSpPr/>
            <p:nvPr/>
          </p:nvSpPr>
          <p:spPr>
            <a:xfrm>
              <a:off x="6595560" y="356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5" name="Line 15"/>
            <p:cNvSpPr/>
            <p:nvPr/>
          </p:nvSpPr>
          <p:spPr>
            <a:xfrm flipH="1">
              <a:off x="6470640" y="41270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6" name="Rectangle 16"/>
            <p:cNvSpPr/>
            <p:nvPr/>
          </p:nvSpPr>
          <p:spPr>
            <a:xfrm>
              <a:off x="6279480" y="379800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7" name="Rectangle 17"/>
            <p:cNvSpPr/>
            <p:nvPr/>
          </p:nvSpPr>
          <p:spPr>
            <a:xfrm>
              <a:off x="6300360" y="38970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68" name="Freeform 18"/>
          <p:cNvSpPr/>
          <p:nvPr/>
        </p:nvSpPr>
        <p:spPr>
          <a:xfrm>
            <a:off x="4765680" y="3141720"/>
            <a:ext cx="3251160" cy="7300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Line 19"/>
          <p:cNvSpPr/>
          <p:nvPr/>
        </p:nvSpPr>
        <p:spPr>
          <a:xfrm flipV="1">
            <a:off x="4759200" y="409572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Line 20"/>
          <p:cNvSpPr/>
          <p:nvPr/>
        </p:nvSpPr>
        <p:spPr>
          <a:xfrm flipH="1">
            <a:off x="4809600" y="4183200"/>
            <a:ext cx="1403640" cy="785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4302360" y="5280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Text Box 22"/>
          <p:cNvSpPr/>
          <p:nvPr/>
        </p:nvSpPr>
        <p:spPr>
          <a:xfrm rot="1422000">
            <a:off x="4869720" y="317952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Text Box 23"/>
          <p:cNvSpPr/>
          <p:nvPr/>
        </p:nvSpPr>
        <p:spPr>
          <a:xfrm rot="19906800">
            <a:off x="4573440" y="419544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Text Box 24"/>
          <p:cNvSpPr/>
          <p:nvPr/>
        </p:nvSpPr>
        <p:spPr>
          <a:xfrm rot="1411200">
            <a:off x="4581360" y="35571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Text Box 25"/>
          <p:cNvSpPr/>
          <p:nvPr/>
        </p:nvSpPr>
        <p:spPr>
          <a:xfrm rot="19861800">
            <a:off x="4750200" y="45147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6" name="Group 26"/>
          <p:cNvGrpSpPr/>
          <p:nvPr/>
        </p:nvGrpSpPr>
        <p:grpSpPr>
          <a:xfrm>
            <a:off x="8174160" y="2765520"/>
            <a:ext cx="345600" cy="741960"/>
            <a:chOff x="8174160" y="2765520"/>
            <a:chExt cx="345600" cy="741960"/>
          </a:xfrm>
        </p:grpSpPr>
        <p:sp>
          <p:nvSpPr>
            <p:cNvPr id="577" name="AutoShape 27"/>
            <p:cNvSpPr/>
            <p:nvPr/>
          </p:nvSpPr>
          <p:spPr>
            <a:xfrm>
              <a:off x="8174160" y="33361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8" name="Rectangle 28"/>
            <p:cNvSpPr/>
            <p:nvPr/>
          </p:nvSpPr>
          <p:spPr>
            <a:xfrm>
              <a:off x="8349120" y="2770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9" name="Rectangle 29"/>
            <p:cNvSpPr/>
            <p:nvPr/>
          </p:nvSpPr>
          <p:spPr>
            <a:xfrm>
              <a:off x="8175960" y="2932200"/>
              <a:ext cx="218880" cy="570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0" name="AutoShape 30"/>
            <p:cNvSpPr/>
            <p:nvPr/>
          </p:nvSpPr>
          <p:spPr>
            <a:xfrm>
              <a:off x="8174160" y="27655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1" name="Line 31"/>
            <p:cNvSpPr/>
            <p:nvPr/>
          </p:nvSpPr>
          <p:spPr>
            <a:xfrm>
              <a:off x="8519760" y="2777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2" name="Line 32"/>
            <p:cNvSpPr/>
            <p:nvPr/>
          </p:nvSpPr>
          <p:spPr>
            <a:xfrm flipH="1">
              <a:off x="8394840" y="33361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3" name="Rectangle 33"/>
            <p:cNvSpPr/>
            <p:nvPr/>
          </p:nvSpPr>
          <p:spPr>
            <a:xfrm>
              <a:off x="8203680" y="3007080"/>
              <a:ext cx="145080" cy="3286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4" name="Rectangle 34"/>
            <p:cNvSpPr/>
            <p:nvPr/>
          </p:nvSpPr>
          <p:spPr>
            <a:xfrm>
              <a:off x="8224560" y="3106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85" name="Group 35"/>
          <p:cNvGrpSpPr/>
          <p:nvPr/>
        </p:nvGrpSpPr>
        <p:grpSpPr>
          <a:xfrm>
            <a:off x="8174160" y="4670280"/>
            <a:ext cx="345600" cy="742680"/>
            <a:chOff x="8174160" y="4670280"/>
            <a:chExt cx="345600" cy="742680"/>
          </a:xfrm>
        </p:grpSpPr>
        <p:sp>
          <p:nvSpPr>
            <p:cNvPr id="586" name="AutoShape 36"/>
            <p:cNvSpPr/>
            <p:nvPr/>
          </p:nvSpPr>
          <p:spPr>
            <a:xfrm>
              <a:off x="8174160" y="5241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7" name="Rectangle 37"/>
            <p:cNvSpPr/>
            <p:nvPr/>
          </p:nvSpPr>
          <p:spPr>
            <a:xfrm>
              <a:off x="8349120" y="4674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8" name="Rectangle 38"/>
            <p:cNvSpPr/>
            <p:nvPr/>
          </p:nvSpPr>
          <p:spPr>
            <a:xfrm>
              <a:off x="8175960" y="4836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9" name="AutoShape 39"/>
            <p:cNvSpPr/>
            <p:nvPr/>
          </p:nvSpPr>
          <p:spPr>
            <a:xfrm>
              <a:off x="8174160" y="4670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0" name="Line 40"/>
            <p:cNvSpPr/>
            <p:nvPr/>
          </p:nvSpPr>
          <p:spPr>
            <a:xfrm>
              <a:off x="8519760" y="4682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1" name="Line 41"/>
            <p:cNvSpPr/>
            <p:nvPr/>
          </p:nvSpPr>
          <p:spPr>
            <a:xfrm flipH="1">
              <a:off x="8394840" y="5241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2" name="Rectangle 42"/>
            <p:cNvSpPr/>
            <p:nvPr/>
          </p:nvSpPr>
          <p:spPr>
            <a:xfrm>
              <a:off x="8203680" y="491220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3" name="Rectangle 43"/>
            <p:cNvSpPr/>
            <p:nvPr/>
          </p:nvSpPr>
          <p:spPr>
            <a:xfrm>
              <a:off x="8224560" y="5011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94" name="Freeform 44"/>
          <p:cNvSpPr/>
          <p:nvPr/>
        </p:nvSpPr>
        <p:spPr>
          <a:xfrm>
            <a:off x="4738680" y="3216240"/>
            <a:ext cx="3363840" cy="755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Text Box 45"/>
          <p:cNvSpPr/>
          <p:nvPr/>
        </p:nvSpPr>
        <p:spPr>
          <a:xfrm rot="20179800">
            <a:off x="6507360" y="31953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Text Box 46"/>
          <p:cNvSpPr/>
          <p:nvPr/>
        </p:nvSpPr>
        <p:spPr>
          <a:xfrm rot="20184000">
            <a:off x="6534360" y="353808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Text Box 47"/>
          <p:cNvSpPr/>
          <p:nvPr/>
        </p:nvSpPr>
        <p:spPr>
          <a:xfrm>
            <a:off x="7885440" y="546084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Text Box 48"/>
          <p:cNvSpPr/>
          <p:nvPr/>
        </p:nvSpPr>
        <p:spPr>
          <a:xfrm>
            <a:off x="7913880" y="212724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n-caching, HTTP 1.0 prox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only GET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-proc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fork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 binary that takes a port numb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/proxy 12345 (proxy listens on port 123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rk in Firefox &amp; Chro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settings to point browser to your prox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458B-2FF8-4778-AADE-E558C186B6E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HTTP overview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roxie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ersistent HTTP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HTTP cach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3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9808-5A38-4E1F-B454-C08601B3811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ssignment 1 (Cont.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84600" y="127800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817560" indent="-31500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"/>
                <a:ea typeface="ヒラギノ角ゴ ProN W3"/>
              </a:rPr>
              <a:t>What you need from a client request: host, port, and URI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118584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GET http://</a:t>
            </a:r>
            <a:r>
              <a:rPr b="1" lang="en-US" sz="2000" spc="-1" strike="noStrike">
                <a:solidFill>
                  <a:srgbClr val="ff8000"/>
                </a:solidFill>
                <a:latin typeface="Courier New"/>
                <a:ea typeface="ヒラギノ角ゴ ProN W3"/>
              </a:rPr>
              <a:t>www.princeton.edu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ヒラギノ角ゴ ProN W3"/>
              </a:rPr>
              <a:t>80</a:t>
            </a:r>
            <a:r>
              <a:rPr b="1" lang="en-US" sz="2000" spc="-1" strike="noStrike">
                <a:solidFill>
                  <a:srgbClr val="0080ff"/>
                </a:solidFill>
                <a:latin typeface="Courier New"/>
                <a:ea typeface="ヒラギノ角ゴ ProN W3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 HTTP/1.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7560" indent="-3150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  <a:ea typeface="ヒラギノ角ゴ ProN W3"/>
              </a:rPr>
              <a:t>What you send to a remote server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118584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GET </a:t>
            </a:r>
            <a:r>
              <a:rPr b="1" lang="en-US" sz="2000" spc="-1" strike="noStrike">
                <a:solidFill>
                  <a:srgbClr val="0080ff"/>
                </a:solidFill>
                <a:latin typeface="Courier New"/>
                <a:ea typeface="ヒラギノ角ゴ ProN W3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 HTTP/1.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Host: </a:t>
            </a:r>
            <a:r>
              <a:rPr b="1" lang="en-US" sz="2000" spc="-1" strike="noStrike">
                <a:solidFill>
                  <a:srgbClr val="ff8000"/>
                </a:solidFill>
                <a:latin typeface="Courier New"/>
                <a:ea typeface="ヒラギノ角ゴ ProN W3"/>
              </a:rPr>
              <a:t>www.princeton.edu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ヒラギノ角ゴ ProN W3"/>
              </a:rPr>
              <a:t>80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Connection: cl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8584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7560" indent="-3150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  <a:ea typeface="ヒラギノ角ゴ ProN W3"/>
              </a:rPr>
              <a:t>Check request line and header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817560" indent="-3150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817560" indent="-3150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  <a:ea typeface="ヒラギノ角ゴ ProN W3"/>
              </a:rPr>
              <a:t>Forward the response to the cli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2EC1-4677-46F4-8DB6-5F9239E58C3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ssignment 1 (Cont.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n-GET reques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“Not Implemented” (code 50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nparseable reques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“Bad Request” (code 4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 provided parsing libra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stel’s law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liberal in what you accept, and conservative in what you s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HTTP 1.1 request to HTTP 1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\r to \r\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6D22-CA1B-4A1D-B812-EDC326004DE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dvic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ing is ha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to know what’s going on in network lay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out simple, test of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ild in ste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ally add pie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sure they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help reduce the effect of “incomplete”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B729-D638-4E04-8A12-D2F5BAE63A7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ssignment 1 – Getting Started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dify Assn 0 to have server respon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echo of what client 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dify Assn 0 to handle concurrent cli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fork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reate “proxy”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y “repeats” client msg to a server, and “repeats” server msg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sends HTTP requests, proxy par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217C-297F-4E6D-841B-C7F80E0927B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HTTP overview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roxie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Persistent HTTP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HTTP cach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6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E3A2-97BF-419D-9B64-7FE45AD9CBD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roblems with simple model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 mod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 one object a time, sequenti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connection setu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on setup for each item (imgs, j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hort transfers are hard on TC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ts of extra connec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s server state/proc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DCD3-90BA-4B1B-8A6F-36B4EB7B4FC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ersistent HTTP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use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est header “Connection: Keep-Aliv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s # of connection set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s server over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s latency (i.e., faster page lo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2908-4F25-4A59-B703-075F7A9E7D7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ipelining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ssue multiple requests at a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have to wait for previous 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use of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 carefull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 requests should not be pipelined (changes server 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/HEAD requests are usually ok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28FB-55D6-4DE9-88BC-0DD2849CDDA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ersistent HTTP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34880" y="1252440"/>
            <a:ext cx="3934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Non-persistent HTTP issues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nection setup for each request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t browsers often open parallel connections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Persistent HTTP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er leaves connection open after sending response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sequent HTTP messages  between same client/server are sent over connection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733640" y="1252080"/>
            <a:ext cx="418140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Persistent without pipelining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ent issues new request only when previous response has been received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RTT for each object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Persistent with pipelining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 in HTTP/1.1 spec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ent sends multiple requests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little as one RTT for all the referenced objects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er must handle responses in same order as requests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207A-6637-4161-8563-FA61CFF5DFD1}" type="slidenum"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4200" spc="-1" strike="noStrike">
                <a:solidFill>
                  <a:srgbClr val="0000ff"/>
                </a:solidFill>
                <a:latin typeface="Calibri"/>
              </a:rPr>
              <a:t>Persistent without pipelining</a:t>
            </a:r>
            <a:r>
              <a:rPr b="0" lang="ja-JP" sz="4200" spc="-1" strike="noStrike">
                <a:solidFill>
                  <a:srgbClr val="0000ff"/>
                </a:solidFill>
                <a:latin typeface="Calibri"/>
              </a:rPr>
              <a:t>”</a:t>
            </a:r>
            <a:r>
              <a:rPr b="0" lang="en-US" sz="4200" spc="-1" strike="noStrike">
                <a:solidFill>
                  <a:srgbClr val="0000ff"/>
                </a:solidFill>
                <a:latin typeface="Calibri"/>
              </a:rPr>
              <a:t> most common</a:t>
            </a:r>
            <a:endParaRPr b="0" lang="en-US" sz="4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684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ts val="2860"/>
              </a:lnSpc>
              <a:spcBef>
                <a:spcPts val="700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hen does pipelining work best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lnSpc>
                <a:spcPts val="286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objects, equal time to serve each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ts val="286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because pipelining simply removes additional 1 RTT delay to request new 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2860"/>
              </a:lnSpc>
              <a:spcBef>
                <a:spcPts val="700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Alternative design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lnSpc>
                <a:spcPts val="286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parallel connections (typically 2-4).  Also allows parallelism at ser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ts val="286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ave problem of head-of-line blocking like pipel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ts val="286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ynamic content makes HOL blocking possibility wor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2860"/>
              </a:lnSpc>
              <a:spcBef>
                <a:spcPts val="700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n practice, many servers don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 support, and many browsers do not default to pipelining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06C4-7E61-46FE-8CCC-F0735DD4785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pplication Layer Protocol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ariable Headers vs. Fixed Head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 headers handled by program rather than hard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 headers allow for incrementally adding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uman Read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y for programmers to reason ab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sed by humans / programs rather than hard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re later on, but useful for understanding HTTP’s desig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9AE0-6482-44F6-AEE7-85F514FFE0F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HTTP overview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roxie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ersistent HTTP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HTTP cach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4D5F-6560-407E-B043-32A90660B2D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Caching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y cach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 of objects don’t change (images, js, c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# of client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server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overall network traffic; save $$$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746E-250A-4F41-B47D-546ADDDD142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aching is Hard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ignificant fraction (&gt;50%?) of HTTP objects uncachabl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ynamic data:  Stock prices, scores, web c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scripts:  results based on passed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kies:  results may be based on passed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SL:  encrypted data is not cache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ertising / analytics:  owner wants to measure #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ndom strings in content to ensure unique coun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Want to limit staleness of cached object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E9D0-4151-4496-9495-54426E0480E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Validating Cached Object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imestam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hints when an object “expires” (Expires: xx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provides last modified date, client can check if that’s still val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the server’s timestam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replicas won’t agree 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may go back to previous value, and using time will have you redownload th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re are other ways (look up ETag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240A-7C8C-4157-94A1-C58B4D7E09F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xample Cache Check Reques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T / HTTP/1.1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cept-Language: en-us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-Modified-Since: Mon, 29 Jan 2001 17:54:18 GMT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st: www.example.com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nection: Keep-Alive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D640-8CB4-4744-931D-2CE3B5E48CB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xample Cache Check Respons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/1.1 304 Not Modified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te: Tue, 27 Mar 2001 03:50:51 GM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nection: Keep-Aliv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6AFD-EC42-467C-BE78-0DD1FF62F86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Web Proxy Cache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28240" y="2066760"/>
            <a:ext cx="382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User configures browser: Web accesses via cache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Browser sends all HTTP requests to cache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se:  cache requests object from origin, then returns to cl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4E69-D591-4645-9FF8-4BA4E880BA7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4038480" y="1981080"/>
            <a:ext cx="48006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55" name="Object 2" descr=""/>
          <p:cNvPicPr/>
          <p:nvPr/>
        </p:nvPicPr>
        <p:blipFill>
          <a:blip r:embed="rId1"/>
          <a:stretch/>
        </p:blipFill>
        <p:spPr>
          <a:xfrm>
            <a:off x="4203720" y="295596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6"/>
          <p:cNvSpPr/>
          <p:nvPr/>
        </p:nvSpPr>
        <p:spPr>
          <a:xfrm>
            <a:off x="4146840" y="33638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657" name="Object 3"/>
          <p:cNvGraphicFramePr/>
          <p:nvPr/>
        </p:nvGraphicFramePr>
        <p:xfrm>
          <a:off x="4268880" y="4826160"/>
          <a:ext cx="515880" cy="41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8880" y="4826160"/>
                    <a:ext cx="5158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Text Box 8"/>
          <p:cNvSpPr/>
          <p:nvPr/>
        </p:nvSpPr>
        <p:spPr>
          <a:xfrm>
            <a:off x="6030360" y="276876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0" name="Group 9"/>
          <p:cNvGrpSpPr/>
          <p:nvPr/>
        </p:nvGrpSpPr>
        <p:grpSpPr>
          <a:xfrm>
            <a:off x="6249960" y="3556080"/>
            <a:ext cx="345600" cy="742680"/>
            <a:chOff x="6249960" y="3556080"/>
            <a:chExt cx="345600" cy="742680"/>
          </a:xfrm>
        </p:grpSpPr>
        <p:sp>
          <p:nvSpPr>
            <p:cNvPr id="661" name="AutoShape 10"/>
            <p:cNvSpPr/>
            <p:nvPr/>
          </p:nvSpPr>
          <p:spPr>
            <a:xfrm>
              <a:off x="6249960" y="41270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2" name="Rectangle 11"/>
            <p:cNvSpPr/>
            <p:nvPr/>
          </p:nvSpPr>
          <p:spPr>
            <a:xfrm>
              <a:off x="6424920" y="35607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3" name="Rectangle 12"/>
            <p:cNvSpPr/>
            <p:nvPr/>
          </p:nvSpPr>
          <p:spPr>
            <a:xfrm>
              <a:off x="6251760" y="37227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4" name="AutoShape 13"/>
            <p:cNvSpPr/>
            <p:nvPr/>
          </p:nvSpPr>
          <p:spPr>
            <a:xfrm>
              <a:off x="6249960" y="35560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5" name="Line 14"/>
            <p:cNvSpPr/>
            <p:nvPr/>
          </p:nvSpPr>
          <p:spPr>
            <a:xfrm>
              <a:off x="6595560" y="356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6" name="Line 15"/>
            <p:cNvSpPr/>
            <p:nvPr/>
          </p:nvSpPr>
          <p:spPr>
            <a:xfrm flipH="1">
              <a:off x="6470640" y="41270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7" name="Rectangle 16"/>
            <p:cNvSpPr/>
            <p:nvPr/>
          </p:nvSpPr>
          <p:spPr>
            <a:xfrm>
              <a:off x="6279480" y="379800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8" name="Rectangle 17"/>
            <p:cNvSpPr/>
            <p:nvPr/>
          </p:nvSpPr>
          <p:spPr>
            <a:xfrm>
              <a:off x="6300360" y="38970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69" name="Freeform 18"/>
          <p:cNvSpPr/>
          <p:nvPr/>
        </p:nvSpPr>
        <p:spPr>
          <a:xfrm>
            <a:off x="4765680" y="3141720"/>
            <a:ext cx="3251160" cy="7300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Line 19"/>
          <p:cNvSpPr/>
          <p:nvPr/>
        </p:nvSpPr>
        <p:spPr>
          <a:xfrm flipV="1">
            <a:off x="4759200" y="409572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Line 20"/>
          <p:cNvSpPr/>
          <p:nvPr/>
        </p:nvSpPr>
        <p:spPr>
          <a:xfrm flipH="1">
            <a:off x="4809600" y="4183200"/>
            <a:ext cx="1403640" cy="785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302360" y="5280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Text Box 22"/>
          <p:cNvSpPr/>
          <p:nvPr/>
        </p:nvSpPr>
        <p:spPr>
          <a:xfrm rot="1422000">
            <a:off x="4869720" y="317952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Text Box 23"/>
          <p:cNvSpPr/>
          <p:nvPr/>
        </p:nvSpPr>
        <p:spPr>
          <a:xfrm rot="19906800">
            <a:off x="4573440" y="419544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Text Box 24"/>
          <p:cNvSpPr/>
          <p:nvPr/>
        </p:nvSpPr>
        <p:spPr>
          <a:xfrm rot="1411200">
            <a:off x="4581360" y="35571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Text Box 25"/>
          <p:cNvSpPr/>
          <p:nvPr/>
        </p:nvSpPr>
        <p:spPr>
          <a:xfrm rot="19861800">
            <a:off x="4750200" y="45147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8174160" y="2765520"/>
            <a:ext cx="345600" cy="741960"/>
            <a:chOff x="8174160" y="2765520"/>
            <a:chExt cx="345600" cy="741960"/>
          </a:xfrm>
        </p:grpSpPr>
        <p:sp>
          <p:nvSpPr>
            <p:cNvPr id="678" name="AutoShape 27"/>
            <p:cNvSpPr/>
            <p:nvPr/>
          </p:nvSpPr>
          <p:spPr>
            <a:xfrm>
              <a:off x="8174160" y="33361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9" name="Rectangle 28"/>
            <p:cNvSpPr/>
            <p:nvPr/>
          </p:nvSpPr>
          <p:spPr>
            <a:xfrm>
              <a:off x="8349120" y="2770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0" name="Rectangle 29"/>
            <p:cNvSpPr/>
            <p:nvPr/>
          </p:nvSpPr>
          <p:spPr>
            <a:xfrm>
              <a:off x="8175960" y="2932200"/>
              <a:ext cx="218880" cy="570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1" name="AutoShape 30"/>
            <p:cNvSpPr/>
            <p:nvPr/>
          </p:nvSpPr>
          <p:spPr>
            <a:xfrm>
              <a:off x="8174160" y="27655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>
              <a:off x="8519760" y="2777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3" name="Line 32"/>
            <p:cNvSpPr/>
            <p:nvPr/>
          </p:nvSpPr>
          <p:spPr>
            <a:xfrm flipH="1">
              <a:off x="8394840" y="33361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4" name="Rectangle 33"/>
            <p:cNvSpPr/>
            <p:nvPr/>
          </p:nvSpPr>
          <p:spPr>
            <a:xfrm>
              <a:off x="8203680" y="3007080"/>
              <a:ext cx="145080" cy="3286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5" name="Rectangle 34"/>
            <p:cNvSpPr/>
            <p:nvPr/>
          </p:nvSpPr>
          <p:spPr>
            <a:xfrm>
              <a:off x="8224560" y="3106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86" name="Group 35"/>
          <p:cNvGrpSpPr/>
          <p:nvPr/>
        </p:nvGrpSpPr>
        <p:grpSpPr>
          <a:xfrm>
            <a:off x="8174160" y="4670280"/>
            <a:ext cx="345600" cy="742680"/>
            <a:chOff x="8174160" y="4670280"/>
            <a:chExt cx="345600" cy="742680"/>
          </a:xfrm>
        </p:grpSpPr>
        <p:sp>
          <p:nvSpPr>
            <p:cNvPr id="687" name="AutoShape 36"/>
            <p:cNvSpPr/>
            <p:nvPr/>
          </p:nvSpPr>
          <p:spPr>
            <a:xfrm>
              <a:off x="8174160" y="5241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8" name="Rectangle 37"/>
            <p:cNvSpPr/>
            <p:nvPr/>
          </p:nvSpPr>
          <p:spPr>
            <a:xfrm>
              <a:off x="8349120" y="4674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Rectangle 38"/>
            <p:cNvSpPr/>
            <p:nvPr/>
          </p:nvSpPr>
          <p:spPr>
            <a:xfrm>
              <a:off x="8175960" y="4836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0" name="AutoShape 39"/>
            <p:cNvSpPr/>
            <p:nvPr/>
          </p:nvSpPr>
          <p:spPr>
            <a:xfrm>
              <a:off x="8174160" y="4670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1" name="Line 40"/>
            <p:cNvSpPr/>
            <p:nvPr/>
          </p:nvSpPr>
          <p:spPr>
            <a:xfrm>
              <a:off x="8519760" y="4682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2" name="Line 41"/>
            <p:cNvSpPr/>
            <p:nvPr/>
          </p:nvSpPr>
          <p:spPr>
            <a:xfrm flipH="1">
              <a:off x="8394840" y="5241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3" name="Rectangle 42"/>
            <p:cNvSpPr/>
            <p:nvPr/>
          </p:nvSpPr>
          <p:spPr>
            <a:xfrm>
              <a:off x="8203680" y="491220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4" name="Rectangle 43"/>
            <p:cNvSpPr/>
            <p:nvPr/>
          </p:nvSpPr>
          <p:spPr>
            <a:xfrm>
              <a:off x="8224560" y="5011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95" name="Freeform 44"/>
          <p:cNvSpPr/>
          <p:nvPr/>
        </p:nvSpPr>
        <p:spPr>
          <a:xfrm>
            <a:off x="4738680" y="3216240"/>
            <a:ext cx="3363840" cy="755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Text Box 45"/>
          <p:cNvSpPr/>
          <p:nvPr/>
        </p:nvSpPr>
        <p:spPr>
          <a:xfrm rot="20179800">
            <a:off x="6507360" y="31953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Text Box 46"/>
          <p:cNvSpPr/>
          <p:nvPr/>
        </p:nvSpPr>
        <p:spPr>
          <a:xfrm rot="20184000">
            <a:off x="6534360" y="353808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8" name="Text Box 47"/>
          <p:cNvSpPr/>
          <p:nvPr/>
        </p:nvSpPr>
        <p:spPr>
          <a:xfrm>
            <a:off x="7885440" y="546084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9" name="Text Box 48"/>
          <p:cNvSpPr/>
          <p:nvPr/>
        </p:nvSpPr>
        <p:spPr>
          <a:xfrm>
            <a:off x="7913880" y="212724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HTTP:  Simple text-based file exchange protocol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for status/error responses, authentication, client-side state maintenance, cache 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How to improve performanc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ent conn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x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D9EE-3E12-4468-8685-8D9D5017888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Basics (Overview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TTP layered over bidirectional byte stre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 always T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a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ent looks up host (D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sends request to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responds with data o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ests/responses are encoded in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el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maintains no info about past client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5B2B-FFE6-4D1F-8781-F613D04FA3D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ques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F604-6D28-49BA-A214-B3DFEB36B20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2" name="Picture 3" descr="HTTPrequest"/>
          <p:cNvPicPr/>
          <p:nvPr/>
        </p:nvPicPr>
        <p:blipFill>
          <a:blip r:embed="rId1"/>
          <a:stretch/>
        </p:blipFill>
        <p:spPr>
          <a:xfrm>
            <a:off x="1120680" y="1936800"/>
            <a:ext cx="7512120" cy="3778200"/>
          </a:xfrm>
          <a:prstGeom prst="rect">
            <a:avLst/>
          </a:prstGeom>
          <a:ln w="0">
            <a:noFill/>
          </a:ln>
        </p:spPr>
      </p:pic>
      <p:sp>
        <p:nvSpPr>
          <p:cNvPr id="513" name="TextBox 1"/>
          <p:cNvSpPr/>
          <p:nvPr/>
        </p:nvSpPr>
        <p:spPr>
          <a:xfrm>
            <a:off x="538200" y="5848200"/>
            <a:ext cx="76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” is \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“lf” is \n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 is “ “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ques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quest li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T – return U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D – return headers only of GET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– send data to the server (form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L (rel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/index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D32B-9846-49A4-B05B-1A15277C9DA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quest (cont.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quest head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riable length, human-read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horization – authentication in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ptable document types/enco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– user e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-Modified-Si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rer – what caused this page to be requ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-Agent – client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lank-li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d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EFC4-AAE4-4D0B-BDD8-BACF3C323FF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quest Exampl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6840" y="1447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GET /index.html HTTP/1.1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Host: www.example.com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B269-23C7-45BB-BCA6-672AFDBA728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quest Exampl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447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GET /index.html HTTP/1.1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Host: www.example.com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Accept-Language: en-us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Accept-Encoding: gzip, deflate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User-Agent: Mozilla/4.0 (compatible; MSIE 5.5; Windows NT 5.0)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Connection: Keep-Alive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1BD2-9A29-465E-B82E-4F03E86F592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8:10:09Z</dcterms:created>
  <dc:creator/>
  <dc:description/>
  <cp:keywords/>
  <dc:language>en-US</dc:language>
  <cp:lastModifiedBy>Jennifer Rexford</cp:lastModifiedBy>
  <dcterms:modified xsi:type="dcterms:W3CDTF">2012-02-17T05:06:31Z</dcterms:modified>
  <cp:revision>1776</cp:revision>
  <dc:subject/>
  <dc:title>Web CDNs</dc:title>
</cp:coreProperties>
</file>