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102DB27-1748-4F2E-9FA3-E6DD43149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78588A1-F523-47A0-9E06-BCA3F9D705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y Body for 200 is typically the HTML or data for img/js/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87BF4FF-AD25-4BB4-ABC5-07AC638A0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BAED197-93E6-48C1-BA6E-790A590F8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A642308-DC8C-4D5C-A7BC-D27AFB08FD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contains all the HTML and/or data for images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32419C1-6F38-4568-A05D-BC9750E368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4161FDE-8647-406D-93E2-B1C50A2A1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either explicitly tells us the content length with header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implicitly tells us by closing the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4 and other errors / directives have implied lengths of 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unked encoding, using for dyna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, then data, length, then data,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C5610CB-42DE-4D05-B5BB-BFA662A95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FBF7EAB-41B1-44C1-97A2-1552713FC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cy – server doesn’t know the actual originating addr, just proxy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 filtering – can selectively block requests and instead server up other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hing – Multiple people want the same thing, cache it on proxy and save a request to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91ADB2E-63F7-433E-A3D8-614C6C131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need to worry about POST and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using it with your browser, sites like Facebook / etc WILL NOT WORK as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E52685F-6B43-48BB-98BC-70545BFAC1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416D168-391F-493F-A43D-EEE2BEEBD2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explicit request into implicit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22B2364-127D-4F3C-B5EE-8D19D820D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fix small errors when it’s obvious what the user wants to do, but make sure your responses are “by the boo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2CE54E9-B457-4B1C-A63F-DDB99BED6B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try to code up everything at once and then wonder where it goes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7D4F97D-B9A4-45C5-97CD-C6495A918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14D3E7A-0174-450C-85C4-7B69E594A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FD99A4E-022B-4EC9-B734-3DA23E6926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 window size never gets open very wide, takes extra R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ransfer more data in TCP established state, where window is l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E9CDFCC-B1C4-4DFB-A967-A95E03095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put several requests in a single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6DF93E9-70B0-47F6-ADAA-45F8E561A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CE65E63-924B-499D-BDC5-99097E7434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-of-line blocking: if big item is the first request, smaller requests are stuck waiting behind it to finish when they could be issued as a parallel 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8FEEF2F-DA9C-4141-9E43-8ADD434AF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171360" indent="-171360">
              <a:spcBef>
                <a:spcPts val="9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cremental because </a:t>
            </a:r>
            <a:r>
              <a:rPr b="0" lang="en-US" sz="2500" spc="-1" strike="noStrike">
                <a:solidFill>
                  <a:srgbClr val="000000"/>
                </a:solidFill>
                <a:latin typeface="Andale Mono"/>
                <a:ea typeface="Andale Mono"/>
              </a:rPr>
              <a:t>you just add a new header label and those that support it will use i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8CC122E-1BCF-4426-98B7-43E8FF32A2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528F1EE-DDEE-4E10-B84A-9A286D88AB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B8452E0-36E5-46D0-894C-7BD8C36D7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CFEDA64-C27A-4E5F-87D9-627C5D05CB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5109D30-2E19-4104-88B9-C7045D266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6D14A75-7460-41AF-A0C8-31CE87210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7DE986C-9375-4677-8582-5B88F16D22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B5281A1-E91B-4B03-85FA-186E9B9ED8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C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on’t want to have holes in our web page – won’t render correc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ded in text would be “human readab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less – simplifies the server, reduces resources /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C917B54-1AD3-48E3-9B75-1F4DC03A5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 =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= \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f = 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only fills in for POST requests, not GET requ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57E6E53-9997-46D9-971B-498C0E9A6C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it relat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URL is implied by what you conn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use Host: header if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24EAAFA-9618-4ECD-B033-E474CFBDC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7E3C20F-FF11-476F-A11A-8B7F19F48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xample with only the Host as the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bbing index.html from that site, using HTTP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6A4AEFD-B0C3-4C1A-8E8D-B5B9C28914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dd more headers easily. Each on their own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4E8E-9372-4124-9907-A60E4C05D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E89DF-B3BB-45F6-BEEB-7BAB44A438A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7384C-0460-4E5B-92D2-6606D539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6AAA4-A703-4B6B-936C-6AE16B66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6E5D2-014F-457F-AF04-625B0E1A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91E8E-F8E0-4D57-877E-70B5A2ED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5C667-04FA-4B07-9018-2C48759F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0C5C6-4AB4-42B0-9708-602F5CBC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86E22-FE97-4759-9B77-1FBD039D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83DC5-988E-48C6-A849-BF082D3A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A491B-7DF0-4D8B-BC36-DE3490B1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FFD6D-8E23-4291-B771-2D3F66A9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2CF3-88C5-4E55-A86C-01E30DC7AC6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80587-CFE6-434B-8602-4BEC39A6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B2EB2C-608F-4A85-B9C5-46A1853B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2B7B3-D55D-44DA-96B3-E938F6D4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5D44D-64B7-43F2-9F7B-6E866D95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437653-76F8-4492-BB58-DCDFF7A8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02A4C-A0C4-4617-BA1E-641ABEEF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F2407-328D-4745-95F0-54A26C49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2FF72-8C7C-427C-BA21-DC4CC6D4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F7BBE-D7EA-4596-8C02-83F6E849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6FB95-2B09-49D4-88AC-E0E33FEC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39E8-1D10-4234-97B4-D942707E256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E58B44-3A9F-4763-BDF0-A6B661A0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8508F8-F484-480D-ABC2-889047E7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51215F-4EA5-4893-8920-43BE5BCC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53F64C-A52F-4E56-A24D-8A9A0335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A43C6F-5316-4347-9BA8-268F4C32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226518-847F-4A41-883B-6B0968E5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C48F98-97D6-410C-B239-6B5F816B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9DF82E-F603-420F-80F0-05CF12AC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143722-2DFA-4941-98FF-8E311939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4A9235-009C-4C56-9ACA-31833EE8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49118-7F59-4FBC-9581-13E4EFA0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947305-B35B-4232-9F44-E95F48E0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2F8EF5-48C5-4131-915F-659005E5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BD5CA4-C9D6-445A-9812-63CDED51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6FD7F-79D8-4DB3-B222-BAB58216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5BAC6-04A1-40F0-A38C-49E0DE96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6B0B9-48DD-4E59-838E-5C6CB9CB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73DAF-6847-4E9C-A21D-35FED08F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73501-E1E6-4520-9146-3697AAA3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86EA9-7760-436F-9D5C-A0584782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D2AD8-0C98-426B-A702-6F6C3AC2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35839-F9AE-450F-BB16-2E4F904C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C5C0EF-B811-4772-9F82-60A46AB0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1233F-581B-4962-B0B6-F8604299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79F51-EC30-4630-B582-DF587407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A086CA-DAEB-4CBC-A331-35672F99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435A2-AFE7-437F-AE13-BAC94BA3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63DA2-3B70-476A-836E-CB194956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27700-D612-4601-BFBB-86DEB7B5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31C9F-B671-47C7-A277-F8CE3168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8047A-F406-4486-A37A-ABA6CF09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1E51C-7FDC-4D1B-9DAA-62D220E4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C96E-7CD3-47F1-B2E7-51CF07ED7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7CCE8-8F91-4BD5-AFEE-A319744B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39EB6-12CC-456E-9A62-928528E7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A2EF0-4E20-4458-9B99-3F01A601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73668-42AD-4FAE-BB19-AAF6C03E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79374-A6F2-44B1-A20B-0C3771BF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87976-08A6-4372-B833-BB0036A7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B15C4-6ADB-4674-8D0C-DD44A661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99710-F947-492A-B762-63F61929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814FA7-90C7-49A9-8269-4D8A0D63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68DAE-C014-490F-991C-8743012A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A5E5-6863-466E-AE10-63B02BE333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73334A-5C21-4CA5-B5BE-CEBD4744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47A8E0-AF12-4923-91AA-DF5CD50D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DB7F5-B7E9-4008-868D-4AE609C8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B3C9AC-DE31-4F21-B58D-4C0B0A3D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260C6-CB12-47EC-9732-990403D9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7BF252-B5D5-4890-8159-550B6057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7386BA-BEF5-41D7-8A26-54862F24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002DE-81B4-461F-90F9-D40052AD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108213-A4D2-4322-AC90-981B6BAD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3CC008-71C8-4280-ACF1-496687F2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DD8E-FF10-4AC1-9262-D5279E5CB4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74F74-3C95-4324-9CF7-99038AAD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AB942-B07D-44CC-A484-040A8412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FCE10-3B6B-4629-BAAE-A2357968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6CF8DF-C05A-4955-9CC3-F1335854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3132E8-F549-4619-8B86-859106FB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6A8F7-A608-4932-9787-7E3CAAC5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0C3F9-C6C3-4944-9D11-5B516117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0E6A00-9BA6-46E5-A515-DCA64363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06B73-49F1-49AE-920F-AE2A477A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BDBDF3-F899-46CD-A210-E8060845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2DB7-9CEE-4B94-9BB1-BC673DE1597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F72174-9A72-4A7B-9F1E-E41F005E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D53BC7-8874-4E7A-A9BF-9B1BE1F1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4AF3B1-062C-40D9-BD3C-91E01851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B7EA0F-9522-4A0B-801D-39FAEEBD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2D4499-D1D8-4D40-9BB1-FFCEB6A8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CA103D-F309-4915-B2CA-E60DEC0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9D8888-61A9-4ACA-9AAB-DF7424D9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8C9B27-A7CA-43F9-B2EC-74AF2BF7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5BE43A-8F50-48F2-A7B4-AB1FFA0B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7C7162-1067-451B-A547-B2A6445B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D67C-21AD-49E1-B70E-ABC0B0B63A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0510DB-90AE-4F12-BCBD-AAF49BED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1CC78A-1D9E-4102-BF21-8392998A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870FA7-E8A4-45E2-9C85-A4860B14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7CE3A1-AADF-400E-950D-5F36617F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DC295C-36C9-48A0-8F7A-207779C8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24E718-41B6-44D8-BDE7-5D148CEA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720D06-2B2A-41EE-BF8D-E5A5E752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5A6995-B681-497B-ACC1-20C9E155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4D2209-0236-43DA-BF36-EBDA8E73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2911D3-2AA4-45D8-AFED-32A329C7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F4AE-DDEA-4443-9BFF-CB3ADD03484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1D7EC5-9279-402A-B4C4-8FEB45D1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F8BD18-9CB7-4732-9A73-EC9F8EB8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BECFBF-9947-4176-846C-EC8D8B82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1258A7-4CAA-4694-958D-4BA55B96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94636F-16F9-49BA-AF4F-3C0A79DC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69B5D7-4915-43DA-8B8C-39D1AF29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C6F5EB-32AB-44DD-B5AC-B0D87DB4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2C3798-686A-4082-9C02-E8D25CCE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42EBA1-CC31-441D-930C-893AE662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D8D09C-9E29-40A3-A08B-A4A67E34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13A5-349A-4C1A-992A-680CFCA0E0D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223C69-4E84-4811-A37E-AB0868B4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E24A44-AD68-49C1-AADC-2543A454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455EA1-A4AE-4C40-8B0D-96880669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382E9D-1E6D-41F1-8FAC-5B6169A9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6EAF5D-2585-4992-8A3C-73BF9501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188962-84D0-4C53-859C-405C3F09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677C9C-3D38-4860-AC98-093956D3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137CD0-C53F-4DEF-943D-B419592D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1A8481-00F7-451C-BCF4-ABA6238E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41934C-09A0-4E6D-8396-FFD2CA17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2800-CC74-4A20-BE3E-07FAF2FDBFF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829261-9AD3-44B7-BEC7-21C15A1D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34CE34-3C71-4E6C-9FBF-AF3E8CE3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7B6202-EA1C-4B4F-A88F-6F279FC2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47A4A5-092C-4058-9BE7-AC6AB927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6840" y="4080960"/>
            <a:ext cx="85345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0072BF-B668-4CDC-B24E-1D366F7C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30480" y="129492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830480" y="4080960"/>
            <a:ext cx="4164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042F08-6B5B-464E-A682-5518591F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426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28000" y="12949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684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426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228000" y="40809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EE0813-1F4B-457B-842B-2E5F02D0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2C4AA-83AA-4467-90B8-AD63256B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1BBEE-F35E-416F-ACE5-B47F2F52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9854D-1159-4C16-89AB-78B06351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B217-1ECE-4B5D-8E4E-94FEFF6169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C16F-1403-40D0-8C4B-5EE422EFD20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EBD8-1281-4430-90AD-E611E3C2C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D900-E8EC-49B9-BABE-C33DD31295A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F634-1A46-4255-81A4-3D8D76EEE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CBD8-E83A-4869-BA02-8DD2B588DA3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AE61-6A87-497A-8E61-105223B83F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D3ED-B627-4A30-9369-C81529B3190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1BB7-22A0-4845-AC3F-FA831F31D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53D1-D929-4CC4-BA3E-AAEE2A30FC8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E52C-047A-4D82-A876-72C4045ED8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474B-6FD5-4189-8B60-2597D5864C9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8AA2-17B3-432E-B4B0-2F383C3D8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EE3F-61C6-46BF-9BD2-FA0BABB92A2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90A6-079D-4B6B-B4AC-9D2F4235B3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DAF4-6272-4387-B1D8-54B8D8B73CC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AEFE-2638-494A-AD5D-C2A42CCC28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B8ED-2AFA-4F43-A0D3-6A5C645F151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0017-077A-4CE5-AFBA-1663C35D08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1441-444A-46D4-AFD6-25353BCA1DA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E0DA-7178-4AB1-9F7C-D5F3C0625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27C1-AF6B-47E6-B25C-9B5E7E6884A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700992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6D75-83B5-43F1-A5C6-39E07D0F47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76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</a:t>
            </a:r>
            <a:br>
              <a:rPr sz="4400"/>
            </a:b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Reading: Section 9.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.2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宋体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and 9.4.3</a:t>
            </a:r>
            <a:endParaRPr b="0" lang="en-US" sz="2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23760" y="4463640"/>
            <a:ext cx="7297920" cy="25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OS 461: Computer Networks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ring 2012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DE28-164C-4974-B58A-8BAE42F38FC6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0" name="Picture 33" descr="img_polar_earth_from_space"/>
          <p:cNvPicPr/>
          <p:nvPr/>
        </p:nvPicPr>
        <p:blipFill>
          <a:blip r:embed="rId1"/>
          <a:stretch/>
        </p:blipFill>
        <p:spPr>
          <a:xfrm>
            <a:off x="3343320" y="241200"/>
            <a:ext cx="26416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spons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3F4F-0BF9-43B6-9B60-7F44C84B62E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28" name="Picture 6" descr=""/>
          <p:cNvPicPr/>
          <p:nvPr/>
        </p:nvPicPr>
        <p:blipFill>
          <a:blip r:embed="rId1"/>
          <a:stretch/>
        </p:blipFill>
        <p:spPr>
          <a:xfrm>
            <a:off x="615960" y="1432080"/>
            <a:ext cx="792792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spons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us-li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digit response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XX – inform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XX –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 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XX – redir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1 Moved Permanent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3 Moved Temporari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04 Not Mod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XX – client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04 Not F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XX – server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05 HTTP Version Not Suppor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son ph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9EBB-F37E-4795-AF68-C98666389E3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sponse (cont.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Headers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riable length, human-read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 – for redi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r – server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-Authenticate – request for authent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– list of methods supported (get, head, et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-Encoding – E.g x-gz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-Leng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nt-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ires (cach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st-Modified (cach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lank-lin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Body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ADED-1333-4481-B463-A2639251DB2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sponse Exampl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HTTP/1.1 200 OK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Date: Tue, 27 Mar 2001 03:49:38 GMT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Server: Apache/1.3.14 (Unix)  (Red-Hat/Linux) mod_ssl/2.7.1 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OpenSSL/0.9.5a DAV/1.0.2 PHP/4.0.1pl2 mod_perl/1.24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Last-Modified: Mon, 29 Jan 2001 17:54:18 GMT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Accept-Ranges: bytes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Content-Length: 4333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Keep-Alive: timeout=15, max=100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Connection: Keep-Alive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Content-Type: text/html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1950-FC76-4070-B55F-193BB74B153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ow to Mark End of Message? 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ontent-Leng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know size of transfer in adv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ose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server can do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mplied leng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304 never have body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ransfer-Encoding: chunked (HTTP/1.1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headers, each chunk is content length in hex, CRLF, then body. Final chunk is length 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01E6-9857-408F-BF29-B801B720EE7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Example:  Chunked Encoding</a:t>
            </a:r>
            <a:endParaRPr b="0" lang="en-US" sz="40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/1.1 200 OK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fer-Encoding: chunked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is the data in the first chunk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1A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this is the second one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0 &lt;CRLF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Calibri"/>
                <a:ea typeface="Calibri"/>
              </a:rPr>
              <a:t>Especially useful for dynamically-generated content, as length is not a priori known</a:t>
            </a:r>
            <a:endParaRPr b="0" lang="en-US" sz="2600" spc="-1" strike="noStrike">
              <a:solidFill>
                <a:srgbClr val="80000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Server would otherwise need to cache data until done generating, and then go back and fill-in length header before transmit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2AB3-13D1-488D-BCC2-A6FD59AD7BA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HTTP overview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Proxie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ersistent HTTP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HTTP cach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46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5C2A-6A5B-4C0D-AA00-73D34CC58842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roxie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End host that acts a broker between client and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aks to server on client’s be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fil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use caching (coming u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EBE9-A84D-4A22-8682-52B771361AB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roxies (Cont.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29492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Accept requests from multiple cli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akes request and reissues it to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akes response and forwards to cli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A47E-A013-4081-98E1-FB6FBE95F76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4038480" y="1981080"/>
            <a:ext cx="48006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54" name="Object 2" descr=""/>
          <p:cNvPicPr/>
          <p:nvPr/>
        </p:nvPicPr>
        <p:blipFill>
          <a:blip r:embed="rId1"/>
          <a:stretch/>
        </p:blipFill>
        <p:spPr>
          <a:xfrm>
            <a:off x="4203720" y="295596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6"/>
          <p:cNvSpPr/>
          <p:nvPr/>
        </p:nvSpPr>
        <p:spPr>
          <a:xfrm>
            <a:off x="4146840" y="33638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56" name="Object 3"/>
          <p:cNvGraphicFramePr/>
          <p:nvPr/>
        </p:nvGraphicFramePr>
        <p:xfrm>
          <a:off x="4268880" y="4826160"/>
          <a:ext cx="515880" cy="41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8880" y="4826160"/>
                    <a:ext cx="5158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Text Box 8"/>
          <p:cNvSpPr/>
          <p:nvPr/>
        </p:nvSpPr>
        <p:spPr>
          <a:xfrm>
            <a:off x="6030360" y="276876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59" name="Group 9"/>
          <p:cNvGrpSpPr/>
          <p:nvPr/>
        </p:nvGrpSpPr>
        <p:grpSpPr>
          <a:xfrm>
            <a:off x="6249960" y="3556080"/>
            <a:ext cx="345600" cy="742680"/>
            <a:chOff x="6249960" y="3556080"/>
            <a:chExt cx="345600" cy="742680"/>
          </a:xfrm>
        </p:grpSpPr>
        <p:sp>
          <p:nvSpPr>
            <p:cNvPr id="560" name="AutoShape 10"/>
            <p:cNvSpPr/>
            <p:nvPr/>
          </p:nvSpPr>
          <p:spPr>
            <a:xfrm>
              <a:off x="6249960" y="41270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1" name="Rectangle 11"/>
            <p:cNvSpPr/>
            <p:nvPr/>
          </p:nvSpPr>
          <p:spPr>
            <a:xfrm>
              <a:off x="6424920" y="35607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2" name="Rectangle 12"/>
            <p:cNvSpPr/>
            <p:nvPr/>
          </p:nvSpPr>
          <p:spPr>
            <a:xfrm>
              <a:off x="6251760" y="37227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3" name="AutoShape 13"/>
            <p:cNvSpPr/>
            <p:nvPr/>
          </p:nvSpPr>
          <p:spPr>
            <a:xfrm>
              <a:off x="6249960" y="35560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4" name="Line 14"/>
            <p:cNvSpPr/>
            <p:nvPr/>
          </p:nvSpPr>
          <p:spPr>
            <a:xfrm>
              <a:off x="6595560" y="356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5" name="Line 15"/>
            <p:cNvSpPr/>
            <p:nvPr/>
          </p:nvSpPr>
          <p:spPr>
            <a:xfrm flipH="1">
              <a:off x="6470640" y="41270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6" name="Rectangle 16"/>
            <p:cNvSpPr/>
            <p:nvPr/>
          </p:nvSpPr>
          <p:spPr>
            <a:xfrm>
              <a:off x="6279480" y="379800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7" name="Rectangle 17"/>
            <p:cNvSpPr/>
            <p:nvPr/>
          </p:nvSpPr>
          <p:spPr>
            <a:xfrm>
              <a:off x="6300360" y="38970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68" name="Freeform 18"/>
          <p:cNvSpPr/>
          <p:nvPr/>
        </p:nvSpPr>
        <p:spPr>
          <a:xfrm>
            <a:off x="4765680" y="3141720"/>
            <a:ext cx="3251160" cy="7300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9" name="Line 19"/>
          <p:cNvSpPr/>
          <p:nvPr/>
        </p:nvSpPr>
        <p:spPr>
          <a:xfrm flipV="1">
            <a:off x="4759200" y="409572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0" name="Line 20"/>
          <p:cNvSpPr/>
          <p:nvPr/>
        </p:nvSpPr>
        <p:spPr>
          <a:xfrm flipH="1">
            <a:off x="4809600" y="4183200"/>
            <a:ext cx="1403640" cy="785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4302360" y="5280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2" name="Text Box 22"/>
          <p:cNvSpPr/>
          <p:nvPr/>
        </p:nvSpPr>
        <p:spPr>
          <a:xfrm rot="1422000">
            <a:off x="4869720" y="317952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3" name="Text Box 23"/>
          <p:cNvSpPr/>
          <p:nvPr/>
        </p:nvSpPr>
        <p:spPr>
          <a:xfrm rot="19906800">
            <a:off x="4573440" y="419544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Text Box 24"/>
          <p:cNvSpPr/>
          <p:nvPr/>
        </p:nvSpPr>
        <p:spPr>
          <a:xfrm rot="1411200">
            <a:off x="4581360" y="35571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5" name="Text Box 25"/>
          <p:cNvSpPr/>
          <p:nvPr/>
        </p:nvSpPr>
        <p:spPr>
          <a:xfrm rot="19861800">
            <a:off x="4750200" y="45147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76" name="Group 26"/>
          <p:cNvGrpSpPr/>
          <p:nvPr/>
        </p:nvGrpSpPr>
        <p:grpSpPr>
          <a:xfrm>
            <a:off x="8174160" y="2765520"/>
            <a:ext cx="345600" cy="741960"/>
            <a:chOff x="8174160" y="2765520"/>
            <a:chExt cx="345600" cy="741960"/>
          </a:xfrm>
        </p:grpSpPr>
        <p:sp>
          <p:nvSpPr>
            <p:cNvPr id="577" name="AutoShape 27"/>
            <p:cNvSpPr/>
            <p:nvPr/>
          </p:nvSpPr>
          <p:spPr>
            <a:xfrm>
              <a:off x="8174160" y="33361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8" name="Rectangle 28"/>
            <p:cNvSpPr/>
            <p:nvPr/>
          </p:nvSpPr>
          <p:spPr>
            <a:xfrm>
              <a:off x="8349120" y="2770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9" name="Rectangle 29"/>
            <p:cNvSpPr/>
            <p:nvPr/>
          </p:nvSpPr>
          <p:spPr>
            <a:xfrm>
              <a:off x="8175960" y="2932200"/>
              <a:ext cx="218880" cy="570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0" name="AutoShape 30"/>
            <p:cNvSpPr/>
            <p:nvPr/>
          </p:nvSpPr>
          <p:spPr>
            <a:xfrm>
              <a:off x="8174160" y="27655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1" name="Line 31"/>
            <p:cNvSpPr/>
            <p:nvPr/>
          </p:nvSpPr>
          <p:spPr>
            <a:xfrm>
              <a:off x="8519760" y="2777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2" name="Line 32"/>
            <p:cNvSpPr/>
            <p:nvPr/>
          </p:nvSpPr>
          <p:spPr>
            <a:xfrm flipH="1">
              <a:off x="8394840" y="33361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3" name="Rectangle 33"/>
            <p:cNvSpPr/>
            <p:nvPr/>
          </p:nvSpPr>
          <p:spPr>
            <a:xfrm>
              <a:off x="8203680" y="3007080"/>
              <a:ext cx="145080" cy="3286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4" name="Rectangle 34"/>
            <p:cNvSpPr/>
            <p:nvPr/>
          </p:nvSpPr>
          <p:spPr>
            <a:xfrm>
              <a:off x="8224560" y="3106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85" name="Group 35"/>
          <p:cNvGrpSpPr/>
          <p:nvPr/>
        </p:nvGrpSpPr>
        <p:grpSpPr>
          <a:xfrm>
            <a:off x="8174160" y="4670280"/>
            <a:ext cx="345600" cy="742680"/>
            <a:chOff x="8174160" y="4670280"/>
            <a:chExt cx="345600" cy="742680"/>
          </a:xfrm>
        </p:grpSpPr>
        <p:sp>
          <p:nvSpPr>
            <p:cNvPr id="586" name="AutoShape 36"/>
            <p:cNvSpPr/>
            <p:nvPr/>
          </p:nvSpPr>
          <p:spPr>
            <a:xfrm>
              <a:off x="8174160" y="5241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7" name="Rectangle 37"/>
            <p:cNvSpPr/>
            <p:nvPr/>
          </p:nvSpPr>
          <p:spPr>
            <a:xfrm>
              <a:off x="8349120" y="4674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8" name="Rectangle 38"/>
            <p:cNvSpPr/>
            <p:nvPr/>
          </p:nvSpPr>
          <p:spPr>
            <a:xfrm>
              <a:off x="8175960" y="4836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9" name="AutoShape 39"/>
            <p:cNvSpPr/>
            <p:nvPr/>
          </p:nvSpPr>
          <p:spPr>
            <a:xfrm>
              <a:off x="8174160" y="4670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0" name="Line 40"/>
            <p:cNvSpPr/>
            <p:nvPr/>
          </p:nvSpPr>
          <p:spPr>
            <a:xfrm>
              <a:off x="8519760" y="4682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1" name="Line 41"/>
            <p:cNvSpPr/>
            <p:nvPr/>
          </p:nvSpPr>
          <p:spPr>
            <a:xfrm flipH="1">
              <a:off x="8394840" y="5241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2" name="Rectangle 42"/>
            <p:cNvSpPr/>
            <p:nvPr/>
          </p:nvSpPr>
          <p:spPr>
            <a:xfrm>
              <a:off x="8203680" y="491220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3" name="Rectangle 43"/>
            <p:cNvSpPr/>
            <p:nvPr/>
          </p:nvSpPr>
          <p:spPr>
            <a:xfrm>
              <a:off x="8224560" y="5011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94" name="Freeform 44"/>
          <p:cNvSpPr/>
          <p:nvPr/>
        </p:nvSpPr>
        <p:spPr>
          <a:xfrm>
            <a:off x="4738680" y="3216240"/>
            <a:ext cx="3363840" cy="755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5" name="Text Box 45"/>
          <p:cNvSpPr/>
          <p:nvPr/>
        </p:nvSpPr>
        <p:spPr>
          <a:xfrm rot="20179800">
            <a:off x="6507360" y="31953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6" name="Text Box 46"/>
          <p:cNvSpPr/>
          <p:nvPr/>
        </p:nvSpPr>
        <p:spPr>
          <a:xfrm rot="20184000">
            <a:off x="6534360" y="353808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7" name="Text Box 47"/>
          <p:cNvSpPr/>
          <p:nvPr/>
        </p:nvSpPr>
        <p:spPr>
          <a:xfrm>
            <a:off x="7885440" y="546084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8" name="Text Box 48"/>
          <p:cNvSpPr/>
          <p:nvPr/>
        </p:nvSpPr>
        <p:spPr>
          <a:xfrm>
            <a:off x="7913880" y="212724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n-caching, HTTP 1.0 prox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only GET requ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-proc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fork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 binary that takes a port numb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/proxy 12345 (proxy listens on port 123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ork in Firefox &amp; Chro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settings to point browser to your prox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A660-398A-4C49-B498-1A8467FBDD0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HTTP overview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roxie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ersistent HTTP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HTTP cach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3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51E6-90A7-44C3-AABA-163F82B18C2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ssignment 1 (Cont.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84600" y="127800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817560" indent="-31500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Gill Sans"/>
                <a:ea typeface="ヒラギノ角ゴ ProN W3"/>
              </a:rPr>
              <a:t>What you need from a client request: host, port, and URI path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118584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GET http://</a:t>
            </a:r>
            <a:r>
              <a:rPr b="1" lang="en-US" sz="2000" spc="-1" strike="noStrike">
                <a:solidFill>
                  <a:srgbClr val="ff8000"/>
                </a:solidFill>
                <a:latin typeface="Courier New"/>
                <a:ea typeface="ヒラギノ角ゴ ProN W3"/>
              </a:rPr>
              <a:t>www.princeton.edu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ヒラギノ角ゴ ProN W3"/>
              </a:rPr>
              <a:t>80</a:t>
            </a:r>
            <a:r>
              <a:rPr b="1" lang="en-US" sz="2000" spc="-1" strike="noStrike">
                <a:solidFill>
                  <a:srgbClr val="0080ff"/>
                </a:solidFill>
                <a:latin typeface="Courier New"/>
                <a:ea typeface="ヒラギノ角ゴ ProN W3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 HTTP/1.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7560" indent="-3150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  <a:ea typeface="ヒラギノ角ゴ ProN W3"/>
              </a:rPr>
              <a:t>What you send to a remote server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118584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GET </a:t>
            </a:r>
            <a:r>
              <a:rPr b="1" lang="en-US" sz="2000" spc="-1" strike="noStrike">
                <a:solidFill>
                  <a:srgbClr val="0080ff"/>
                </a:solidFill>
                <a:latin typeface="Courier New"/>
                <a:ea typeface="ヒラギノ角ゴ ProN W3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 HTTP/1.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Host: </a:t>
            </a:r>
            <a:r>
              <a:rPr b="1" lang="en-US" sz="2000" spc="-1" strike="noStrike">
                <a:solidFill>
                  <a:srgbClr val="ff8000"/>
                </a:solidFill>
                <a:latin typeface="Courier New"/>
                <a:ea typeface="ヒラギノ角ゴ ProN W3"/>
              </a:rPr>
              <a:t>www.princeton.edu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ヒラギノ角ゴ ProN W3"/>
              </a:rPr>
              <a:t>80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ヒラギノ角ゴ ProN W3"/>
              </a:rPr>
              <a:t>Connection: cl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85840" indent="-262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17560" indent="-3150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  <a:ea typeface="ヒラギノ角ゴ ProN W3"/>
              </a:rPr>
              <a:t>Check request line and header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817560" indent="-3150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817560" indent="-3150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  <a:ea typeface="ヒラギノ角ゴ ProN W3"/>
              </a:rPr>
              <a:t>Forward the response to the clien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9D2A-C037-4438-8B62-EA77A924BB4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ssignment 1 (Cont.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on-GET reques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“Not Implemented” (code 50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nparseable request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 “Bad Request” (code 4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 provided parsing librar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ostel’s law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liberal in what you accept, and conservative in what you s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HTTP 1.1 request to HTTP 1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\r to \r\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C56C-F6F6-41C5-AB5F-852F0710F44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dvic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Networking is har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 to know what’s going on in network lay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out simple, test of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uild in ste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ally add pie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sure they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help reduce the effect of “incomplete”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9634-3F9F-45C7-BDDA-C7820B53842C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ssignment 1 – Getting Started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dify Assn 0 to have server respond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echo of what client 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dify Assn 0 to handle concurrent clien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fork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reate “proxy” server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y “repeats” client msg to a server, and “repeats” server msg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ent sends HTTP requests, proxy parse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34EF-238B-470F-8393-CFF64784E2CA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HTTP overview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roxie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Persistent HTTP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HTTP cach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6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A655-AF4E-4901-AF57-D375A44E643B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roblems with simple model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mple mod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est one object a time, sequenti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ultiple connection setu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on setup for each item (imgs, js,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hort transfers are hard on TCP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Lots of extra connection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s server state/proc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36AD-28B3-45E1-B34F-51922F5E4288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ersistent HTTP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use conne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est header “Connection: Keep-Aliv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s # of connection set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enefit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s server over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s latency (i.e., faster page loa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ipel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EDDC-DDDB-48E3-89F1-F0A7FB6B2D3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ipelining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ssue multiple requests at a tim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have to wait for previous respo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efficient use of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Use carefull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 requests should not be pipelined (changes server 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/HEAD requests are usually ok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891D-6A84-49F1-95D2-EAA56A6FD4F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Persistent HTTP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34880" y="1252440"/>
            <a:ext cx="3934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Non-persistent HTTP issues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nection setup for each request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t browsers often open parallel connections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Persistent HTTP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er leaves connection open after sending response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sequent HTTP messages  between same client/server are sent over connection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733640" y="1252080"/>
            <a:ext cx="418140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Persistent without pipelining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ent issues new request only when previous response has been received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RTT for each object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Persistent with pipelining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ault in HTTP/1.1 spec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ent sends multiple requests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little as one RTT for all the referenced objects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er must handle responses in same order as requests</a:t>
            </a: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072E-4C26-4D28-8BFA-87FA165631E7}" type="slidenum"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42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US" sz="4200" spc="-1" strike="noStrike">
                <a:solidFill>
                  <a:srgbClr val="0000ff"/>
                </a:solidFill>
                <a:latin typeface="Calibri"/>
              </a:rPr>
              <a:t>Persistent without pipelining</a:t>
            </a:r>
            <a:r>
              <a:rPr b="0" lang="ja-JP" sz="4200" spc="-1" strike="noStrike">
                <a:solidFill>
                  <a:srgbClr val="0000ff"/>
                </a:solidFill>
                <a:latin typeface="Calibri"/>
              </a:rPr>
              <a:t>”</a:t>
            </a:r>
            <a:r>
              <a:rPr b="0" lang="en-US" sz="4200" spc="-1" strike="noStrike">
                <a:solidFill>
                  <a:srgbClr val="0000ff"/>
                </a:solidFill>
                <a:latin typeface="Calibri"/>
              </a:rPr>
              <a:t> most common</a:t>
            </a:r>
            <a:endParaRPr b="0" lang="en-US" sz="42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684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ts val="2860"/>
              </a:lnSpc>
              <a:spcBef>
                <a:spcPts val="700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When does pipelining work best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lnSpc>
                <a:spcPts val="286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objects, equal time to serve each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ts val="286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because pipelining simply removes additional 1 RTT delay to request new 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2860"/>
              </a:lnSpc>
              <a:spcBef>
                <a:spcPts val="700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Alternative design?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20720" indent="-277200">
              <a:lnSpc>
                <a:spcPts val="286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parallel connections (typically 2-4).  Also allows parallelism at ser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ts val="286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have problem of head-of-line blocking like pipel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ts val="286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ynamic content makes HOL blocking possibility wor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ts val="2860"/>
              </a:lnSpc>
              <a:spcBef>
                <a:spcPts val="700"/>
              </a:spcBef>
              <a:spcAft>
                <a:spcPts val="601"/>
              </a:spcAft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In practice, many servers don</a:t>
            </a:r>
            <a:r>
              <a:rPr b="0" lang="ja-JP" sz="2800" spc="-1" strike="noStrike">
                <a:solidFill>
                  <a:srgbClr val="800000"/>
                </a:solidFill>
                <a:latin typeface="Calibri"/>
              </a:rPr>
              <a:t>’</a:t>
            </a: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t support, and many browsers do not default to pipelining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63D5-57A6-4AD9-BF1E-03E46E88F503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Application Layer Protocol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Variable Headers vs. Fixed Head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 headers handled by program rather than hard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 headers allow for incrementally adding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uman Readabl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y for programmers to reason ab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sed by humans / programs rather than hard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More later on, but useful for understanding HTTP’s desig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8A1A-6B09-41CA-AE84-D766A29668B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HTTP overview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roxie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Persistent HTTP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alibri"/>
              </a:rPr>
              <a:t>HTTP caching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811A-6F52-42C5-B463-7FDCCCF5C61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Caching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Why cache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 of objects don’t change (images, js, c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# of client conn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server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overall network traffic; save $$$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FBED-CC52-4BF8-B7B3-C07588CAC8E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Caching is Hard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Significant fraction (&gt;50%?) of HTTP objects uncachabl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ynamic data:  Stock prices, scores, web c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 scripts:  results based on passed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okies:  results may be based on passed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SL:  encrypted data is not cache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ertising / analytics:  owner wants to measure #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ndom strings in content to ensure unique coun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Calibri"/>
              </a:rPr>
              <a:t>Want to limit staleness of cached objects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9A37-5AAD-4F43-AEA0-B6B0F7E4DE3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Validating Cached Object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imestamp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hints when an object “expires” (Expires: xxx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provides last modified date, client can check if that’s still val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the server’s timestam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Problem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replicas won’t agree 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may go back to previous value, and using time will have you redownload th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ere are other ways (look up ETags)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7010280" y="64771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D578-DAC5-4AE1-8B70-AC9FAE7C575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xample Cache Check Reques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T / HTTP/1.1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ccept-Language: en-us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f-Modified-Since: Mon, 29 Jan 2001 17:54:18 GMT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st: www.example.com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nection: Keep-Alive</a:t>
            </a: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0027-0CEE-4712-AAD2-9CF4CA05BDA1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xample Cache Check Respons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TTP/1.1 304 Not Modified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te: Tue, 27 Mar 2001 03:50:51 GMT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nection: Keep-Alive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14CE-A778-4D23-9F3B-976750803C3F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Web Proxy Caches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28240" y="2066760"/>
            <a:ext cx="382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User configures browser: Web accesses via cache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Calibri"/>
              </a:rPr>
              <a:t>Browser sends all HTTP requests to cache</a:t>
            </a:r>
            <a:endParaRPr b="0" lang="en-US" sz="25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se:  cache requests object from origin, then returns to cl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9153-77DA-4852-866B-C486F9D614B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4038480" y="1981080"/>
            <a:ext cx="48006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55" name="Object 2" descr=""/>
          <p:cNvPicPr/>
          <p:nvPr/>
        </p:nvPicPr>
        <p:blipFill>
          <a:blip r:embed="rId1"/>
          <a:stretch/>
        </p:blipFill>
        <p:spPr>
          <a:xfrm>
            <a:off x="4203720" y="295596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6"/>
          <p:cNvSpPr/>
          <p:nvPr/>
        </p:nvSpPr>
        <p:spPr>
          <a:xfrm>
            <a:off x="4146840" y="33638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657" name="Object 3"/>
          <p:cNvGraphicFramePr/>
          <p:nvPr/>
        </p:nvGraphicFramePr>
        <p:xfrm>
          <a:off x="4268880" y="4826160"/>
          <a:ext cx="515880" cy="41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8880" y="4826160"/>
                    <a:ext cx="5158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Text Box 8"/>
          <p:cNvSpPr/>
          <p:nvPr/>
        </p:nvSpPr>
        <p:spPr>
          <a:xfrm>
            <a:off x="6030360" y="2768760"/>
            <a:ext cx="94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60" name="Group 9"/>
          <p:cNvGrpSpPr/>
          <p:nvPr/>
        </p:nvGrpSpPr>
        <p:grpSpPr>
          <a:xfrm>
            <a:off x="6249960" y="3556080"/>
            <a:ext cx="345600" cy="742680"/>
            <a:chOff x="6249960" y="3556080"/>
            <a:chExt cx="345600" cy="742680"/>
          </a:xfrm>
        </p:grpSpPr>
        <p:sp>
          <p:nvSpPr>
            <p:cNvPr id="661" name="AutoShape 10"/>
            <p:cNvSpPr/>
            <p:nvPr/>
          </p:nvSpPr>
          <p:spPr>
            <a:xfrm>
              <a:off x="6249960" y="41270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2" name="Rectangle 11"/>
            <p:cNvSpPr/>
            <p:nvPr/>
          </p:nvSpPr>
          <p:spPr>
            <a:xfrm>
              <a:off x="6424920" y="35607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3" name="Rectangle 12"/>
            <p:cNvSpPr/>
            <p:nvPr/>
          </p:nvSpPr>
          <p:spPr>
            <a:xfrm>
              <a:off x="6251760" y="37227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4" name="AutoShape 13"/>
            <p:cNvSpPr/>
            <p:nvPr/>
          </p:nvSpPr>
          <p:spPr>
            <a:xfrm>
              <a:off x="6249960" y="35560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5" name="Line 14"/>
            <p:cNvSpPr/>
            <p:nvPr/>
          </p:nvSpPr>
          <p:spPr>
            <a:xfrm>
              <a:off x="6595560" y="356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6" name="Line 15"/>
            <p:cNvSpPr/>
            <p:nvPr/>
          </p:nvSpPr>
          <p:spPr>
            <a:xfrm flipH="1">
              <a:off x="6470640" y="41270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7" name="Rectangle 16"/>
            <p:cNvSpPr/>
            <p:nvPr/>
          </p:nvSpPr>
          <p:spPr>
            <a:xfrm>
              <a:off x="6279480" y="379800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8" name="Rectangle 17"/>
            <p:cNvSpPr/>
            <p:nvPr/>
          </p:nvSpPr>
          <p:spPr>
            <a:xfrm>
              <a:off x="6300360" y="38970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69" name="Freeform 18"/>
          <p:cNvSpPr/>
          <p:nvPr/>
        </p:nvSpPr>
        <p:spPr>
          <a:xfrm>
            <a:off x="4765680" y="3141720"/>
            <a:ext cx="3251160" cy="7300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0" name="Line 19"/>
          <p:cNvSpPr/>
          <p:nvPr/>
        </p:nvSpPr>
        <p:spPr>
          <a:xfrm flipV="1">
            <a:off x="4759200" y="409572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1" name="Line 20"/>
          <p:cNvSpPr/>
          <p:nvPr/>
        </p:nvSpPr>
        <p:spPr>
          <a:xfrm flipH="1">
            <a:off x="4809600" y="4183200"/>
            <a:ext cx="1403640" cy="785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302360" y="5280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3" name="Text Box 22"/>
          <p:cNvSpPr/>
          <p:nvPr/>
        </p:nvSpPr>
        <p:spPr>
          <a:xfrm rot="1422000">
            <a:off x="4869720" y="317952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4" name="Text Box 23"/>
          <p:cNvSpPr/>
          <p:nvPr/>
        </p:nvSpPr>
        <p:spPr>
          <a:xfrm rot="19906800">
            <a:off x="4573440" y="419544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5" name="Text Box 24"/>
          <p:cNvSpPr/>
          <p:nvPr/>
        </p:nvSpPr>
        <p:spPr>
          <a:xfrm rot="1411200">
            <a:off x="4581360" y="35571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6" name="Text Box 25"/>
          <p:cNvSpPr/>
          <p:nvPr/>
        </p:nvSpPr>
        <p:spPr>
          <a:xfrm rot="19861800">
            <a:off x="4750200" y="451476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77" name="Group 26"/>
          <p:cNvGrpSpPr/>
          <p:nvPr/>
        </p:nvGrpSpPr>
        <p:grpSpPr>
          <a:xfrm>
            <a:off x="8174160" y="2765520"/>
            <a:ext cx="345600" cy="741960"/>
            <a:chOff x="8174160" y="2765520"/>
            <a:chExt cx="345600" cy="741960"/>
          </a:xfrm>
        </p:grpSpPr>
        <p:sp>
          <p:nvSpPr>
            <p:cNvPr id="678" name="AutoShape 27"/>
            <p:cNvSpPr/>
            <p:nvPr/>
          </p:nvSpPr>
          <p:spPr>
            <a:xfrm>
              <a:off x="8174160" y="33361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9" name="Rectangle 28"/>
            <p:cNvSpPr/>
            <p:nvPr/>
          </p:nvSpPr>
          <p:spPr>
            <a:xfrm>
              <a:off x="8349120" y="2770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0" name="Rectangle 29"/>
            <p:cNvSpPr/>
            <p:nvPr/>
          </p:nvSpPr>
          <p:spPr>
            <a:xfrm>
              <a:off x="8175960" y="2932200"/>
              <a:ext cx="218880" cy="570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1" name="AutoShape 30"/>
            <p:cNvSpPr/>
            <p:nvPr/>
          </p:nvSpPr>
          <p:spPr>
            <a:xfrm>
              <a:off x="8174160" y="27655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2" name="Line 31"/>
            <p:cNvSpPr/>
            <p:nvPr/>
          </p:nvSpPr>
          <p:spPr>
            <a:xfrm>
              <a:off x="8519760" y="2777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3" name="Line 32"/>
            <p:cNvSpPr/>
            <p:nvPr/>
          </p:nvSpPr>
          <p:spPr>
            <a:xfrm flipH="1">
              <a:off x="8394840" y="33361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4" name="Rectangle 33"/>
            <p:cNvSpPr/>
            <p:nvPr/>
          </p:nvSpPr>
          <p:spPr>
            <a:xfrm>
              <a:off x="8203680" y="3007080"/>
              <a:ext cx="145080" cy="32868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5" name="Rectangle 34"/>
            <p:cNvSpPr/>
            <p:nvPr/>
          </p:nvSpPr>
          <p:spPr>
            <a:xfrm>
              <a:off x="8224560" y="3106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86" name="Group 35"/>
          <p:cNvGrpSpPr/>
          <p:nvPr/>
        </p:nvGrpSpPr>
        <p:grpSpPr>
          <a:xfrm>
            <a:off x="8174160" y="4670280"/>
            <a:ext cx="345600" cy="742680"/>
            <a:chOff x="8174160" y="4670280"/>
            <a:chExt cx="345600" cy="742680"/>
          </a:xfrm>
        </p:grpSpPr>
        <p:sp>
          <p:nvSpPr>
            <p:cNvPr id="687" name="AutoShape 36"/>
            <p:cNvSpPr/>
            <p:nvPr/>
          </p:nvSpPr>
          <p:spPr>
            <a:xfrm>
              <a:off x="8174160" y="5241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8" name="Rectangle 37"/>
            <p:cNvSpPr/>
            <p:nvPr/>
          </p:nvSpPr>
          <p:spPr>
            <a:xfrm>
              <a:off x="8349120" y="4674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89" name="Rectangle 38"/>
            <p:cNvSpPr/>
            <p:nvPr/>
          </p:nvSpPr>
          <p:spPr>
            <a:xfrm>
              <a:off x="8175960" y="4836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0" name="AutoShape 39"/>
            <p:cNvSpPr/>
            <p:nvPr/>
          </p:nvSpPr>
          <p:spPr>
            <a:xfrm>
              <a:off x="8174160" y="4670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1" name="Line 40"/>
            <p:cNvSpPr/>
            <p:nvPr/>
          </p:nvSpPr>
          <p:spPr>
            <a:xfrm>
              <a:off x="8519760" y="4682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2" name="Line 41"/>
            <p:cNvSpPr/>
            <p:nvPr/>
          </p:nvSpPr>
          <p:spPr>
            <a:xfrm flipH="1">
              <a:off x="8394840" y="5241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3" name="Rectangle 42"/>
            <p:cNvSpPr/>
            <p:nvPr/>
          </p:nvSpPr>
          <p:spPr>
            <a:xfrm>
              <a:off x="8203680" y="4912200"/>
              <a:ext cx="145080" cy="3290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94" name="Rectangle 43"/>
            <p:cNvSpPr/>
            <p:nvPr/>
          </p:nvSpPr>
          <p:spPr>
            <a:xfrm>
              <a:off x="8224560" y="5011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95" name="Freeform 44"/>
          <p:cNvSpPr/>
          <p:nvPr/>
        </p:nvSpPr>
        <p:spPr>
          <a:xfrm>
            <a:off x="4738680" y="3216240"/>
            <a:ext cx="3363840" cy="755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6" name="Text Box 45"/>
          <p:cNvSpPr/>
          <p:nvPr/>
        </p:nvSpPr>
        <p:spPr>
          <a:xfrm rot="20179800">
            <a:off x="6507360" y="31953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quest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7" name="Text Box 46"/>
          <p:cNvSpPr/>
          <p:nvPr/>
        </p:nvSpPr>
        <p:spPr>
          <a:xfrm rot="20184000">
            <a:off x="6534360" y="353808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TTP response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8" name="Text Box 47"/>
          <p:cNvSpPr/>
          <p:nvPr/>
        </p:nvSpPr>
        <p:spPr>
          <a:xfrm>
            <a:off x="7885440" y="546084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9" name="Text Box 48"/>
          <p:cNvSpPr/>
          <p:nvPr/>
        </p:nvSpPr>
        <p:spPr>
          <a:xfrm>
            <a:off x="7913880" y="2127240"/>
            <a:ext cx="7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1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HTTP:  Simple text-based file exchange protocol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for status/error responses, authentication, client-side state maintenance, cache 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Calibri"/>
              </a:rPr>
              <a:t>How to improve performance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ent conn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x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59F0-4E5A-4B47-B05E-E5920D604D19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Basics (Overview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HTTP layered over bidirectional byte stream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most always TC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Interaction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ent looks up host (D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sends request to ser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responds with data o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ests/responses are encoded in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tateles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r maintains no info about past client requ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DC0C-C39A-4BFB-BF0A-F0E688E5749E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ques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6D7D-26C9-4D07-A19D-13CAECB6B24D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2" name="Picture 3" descr="HTTPrequest"/>
          <p:cNvPicPr/>
          <p:nvPr/>
        </p:nvPicPr>
        <p:blipFill>
          <a:blip r:embed="rId1"/>
          <a:stretch/>
        </p:blipFill>
        <p:spPr>
          <a:xfrm>
            <a:off x="1120680" y="1936800"/>
            <a:ext cx="7512120" cy="3778200"/>
          </a:xfrm>
          <a:prstGeom prst="rect">
            <a:avLst/>
          </a:prstGeom>
          <a:ln w="0">
            <a:noFill/>
          </a:ln>
        </p:spPr>
      </p:pic>
      <p:sp>
        <p:nvSpPr>
          <p:cNvPr id="513" name="TextBox 1"/>
          <p:cNvSpPr/>
          <p:nvPr/>
        </p:nvSpPr>
        <p:spPr>
          <a:xfrm>
            <a:off x="538200" y="5848200"/>
            <a:ext cx="76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” is \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“lf” is \n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 is “ “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quest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quest li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T – return U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D – return headers only of GET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– send data to the server (form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L (rela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/index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9729-96B3-43C6-8B05-664A5987788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quest (cont.)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Request headers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riable length, human-read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horization – authentication in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ptable document types/enco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– user em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-Modified-Si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rer – what caused this page to be requ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-Agent – client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lank-line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Body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A591-2FDA-4A62-9661-8DFCE485A845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quest Exampl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6840" y="14475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GET /index.html HTTP/1.1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Host: www.example.com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B970-BCFE-4FAE-9069-5567FB2A4057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TTP Request Example</a:t>
            </a:r>
            <a:endParaRPr b="0" lang="en-US" sz="44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14475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GET /index.html HTTP/1.1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Host: www.example.com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Accept-Language: en-us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Accept-Encoding: gzip, deflate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User-Agent: Mozilla/4.0 (compatible; MSIE 5.5; Windows NT 5.0)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Connection: Keep-Alive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78C7-16DD-4EAE-BF2D-67C710EC5114}" type="slidenum">
              <a:rPr b="1" lang="en-US" sz="1200" spc="-1" strike="noStrike">
                <a:solidFill>
                  <a:srgbClr val="898989"/>
                </a:solidFill>
                <a:latin typeface="Courier New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8:10:09Z</dcterms:created>
  <dc:creator/>
  <dc:description/>
  <cp:keywords/>
  <dc:language>en-US</dc:language>
  <cp:lastModifiedBy>Jennifer Rexford</cp:lastModifiedBy>
  <dcterms:modified xsi:type="dcterms:W3CDTF">2012-02-17T05:06:31Z</dcterms:modified>
  <cp:revision>1776</cp:revision>
  <dc:subject/>
  <dc:title>Web CDNs</dc:title>
</cp:coreProperties>
</file>