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67FF06-64FA-4546-80D1-1A9249D43E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E5BDA9-F2A0-4B39-9571-B8B3D72D87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F20F82-FE64-47ED-ACDE-CDD76ED63C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590382-127C-4897-AEE3-F12C5D0B8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95E713-9A92-4B18-8117-D838188B1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efficient:  disk I/O, multiple co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5BADEE-EBF1-40E5-B91C-B7EB7DD90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DDF5-10D0-4981-9E53-5FEF138EC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400176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9418-9EF3-425F-82BC-3F059C30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7280" y="129528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40017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7280" y="40017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D05D-74E5-45DC-A33C-B212FA568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6000" y="129528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2520" y="129528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40017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6000" y="40017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2520" y="40017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2541-07B8-4F2E-AF84-502454959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15364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3E33-1FC5-4F32-A91D-F8095158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1536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F079-1C7D-4A87-8B21-935AFC48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7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7280" y="1295280"/>
            <a:ext cx="397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226C-4789-406B-A4B8-81B4E7CD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32C5-F559-45B9-95A8-66F93F13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727C-8741-4A12-BBF7-61A01CA6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7280" y="1295280"/>
            <a:ext cx="397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40017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BA39-C9D2-4D2A-BDF1-F45AD615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7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7280" y="129528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7280" y="40017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C005-E4BA-4DCC-B3D7-B65896D4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7280" y="129528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400176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87F1-9D36-4139-A084-B6F132EB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1536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19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22C773-A54B-4A06-AE8A-F43BFA6E9BC6}" type="datetime">
              <a:rPr b="0" lang="en-US" sz="1200" spc="-1" strike="noStrike">
                <a:solidFill>
                  <a:srgbClr val="898989"/>
                </a:solidFill>
                <a:latin typeface="Courier New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3DD1F2-D9DA-43F8-BB61-4508786B240D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nn.com/" TargetMode="Externa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iana.org/assignments/port-numbers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apache.org/" TargetMode="External"/><Relationship Id="rId2" Type="http://schemas.openxmlformats.org/officeDocument/2006/relationships/hyperlink" Target="http://www.isc.org/index.pl?/sw/bind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UNIX Socket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OS 461 Precept 1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ents and Server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219320"/>
            <a:ext cx="4152960" cy="20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ent progra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nning on end h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ests 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Web brows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762440" y="1219320"/>
            <a:ext cx="415296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rver progra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nning on end h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s 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Web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27E3D7-54AF-4A58-A0D3-8DA49E1300F3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j0292020"/>
          <p:cNvPicPr/>
          <p:nvPr/>
        </p:nvPicPr>
        <p:blipFill>
          <a:blip r:embed="rId1"/>
          <a:stretch/>
        </p:blipFill>
        <p:spPr>
          <a:xfrm>
            <a:off x="923760" y="4016520"/>
            <a:ext cx="1868760" cy="1773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j0285750"/>
          <p:cNvPicPr/>
          <p:nvPr/>
        </p:nvPicPr>
        <p:blipFill>
          <a:blip r:embed="rId2"/>
          <a:stretch/>
        </p:blipFill>
        <p:spPr>
          <a:xfrm>
            <a:off x="5916600" y="4292640"/>
            <a:ext cx="2497320" cy="1535040"/>
          </a:xfrm>
          <a:prstGeom prst="rect">
            <a:avLst/>
          </a:prstGeom>
          <a:ln w="0">
            <a:noFill/>
          </a:ln>
        </p:spPr>
      </p:pic>
      <p:sp>
        <p:nvSpPr>
          <p:cNvPr id="150" name="Freeform 7"/>
          <p:cNvSpPr/>
          <p:nvPr/>
        </p:nvSpPr>
        <p:spPr>
          <a:xfrm>
            <a:off x="2652840" y="3817800"/>
            <a:ext cx="3571920" cy="774720"/>
          </a:xfrm>
          <a:custGeom>
            <a:avLst/>
            <a:gdLst>
              <a:gd name="textAreaLeft" fmla="*/ 0 w 3571920"/>
              <a:gd name="textAreaRight" fmla="*/ 3572280 w 35719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2250" h="488">
                <a:moveTo>
                  <a:pt x="0" y="488"/>
                </a:moveTo>
                <a:cubicBezTo>
                  <a:pt x="357" y="248"/>
                  <a:pt x="714" y="8"/>
                  <a:pt x="1089" y="4"/>
                </a:cubicBezTo>
                <a:cubicBezTo>
                  <a:pt x="1464" y="0"/>
                  <a:pt x="1857" y="232"/>
                  <a:pt x="2250" y="4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8"/>
          <p:cNvSpPr/>
          <p:nvPr/>
        </p:nvSpPr>
        <p:spPr>
          <a:xfrm flipH="1" flipV="1">
            <a:off x="2652840" y="5475240"/>
            <a:ext cx="3571920" cy="774720"/>
          </a:xfrm>
          <a:custGeom>
            <a:avLst/>
            <a:gdLst>
              <a:gd name="textAreaLeft" fmla="*/ 360 w 3571920"/>
              <a:gd name="textAreaRight" fmla="*/ 3572640 w 3571920"/>
              <a:gd name="textAreaTop" fmla="*/ 360 h 774720"/>
              <a:gd name="textAreaBottom" fmla="*/ 775440 h 774720"/>
            </a:gdLst>
            <a:ahLst/>
            <a:rect l="textAreaLeft" t="textAreaTop" r="textAreaRight" b="textAreaBottom"/>
            <a:pathLst>
              <a:path w="2250" h="488">
                <a:moveTo>
                  <a:pt x="0" y="488"/>
                </a:moveTo>
                <a:cubicBezTo>
                  <a:pt x="357" y="248"/>
                  <a:pt x="714" y="8"/>
                  <a:pt x="1089" y="4"/>
                </a:cubicBezTo>
                <a:cubicBezTo>
                  <a:pt x="1464" y="0"/>
                  <a:pt x="1857" y="232"/>
                  <a:pt x="2250" y="4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333240" y="3273480"/>
            <a:ext cx="21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T 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2810160" y="6275520"/>
            <a:ext cx="33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te under construction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ent-Server Communic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21932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Client </a:t>
            </a:r>
            <a:r>
              <a:rPr b="0" lang="ja-JP" sz="2800" spc="-1" strike="noStrike">
                <a:solidFill>
                  <a:srgbClr val="8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sometimes on</a:t>
            </a:r>
            <a:r>
              <a:rPr b="0" lang="ja-JP" sz="2800" spc="-1" strike="noStrike">
                <a:solidFill>
                  <a:srgbClr val="8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itiates a request to the server when interes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Web browser on your laptop or cell ph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esn’t communicate directly with other cli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eds to know server’s add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0" y="121932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Server is </a:t>
            </a:r>
            <a:r>
              <a:rPr b="0" lang="ja-JP" sz="2800" spc="-1" strike="noStrike">
                <a:solidFill>
                  <a:srgbClr val="8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always on</a:t>
            </a:r>
            <a:r>
              <a:rPr b="0" lang="ja-JP" sz="2800" spc="-1" strike="noStrike">
                <a:solidFill>
                  <a:srgbClr val="8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services requests from many client h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Web server for the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cnn.co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eb s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esn’t initiate contact with the cli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eds fixed, known add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DBCF84-0D06-43AC-A8A1-535DAF7C4029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j0292020"/>
          <p:cNvPicPr/>
          <p:nvPr/>
        </p:nvPicPr>
        <p:blipFill>
          <a:blip r:embed="rId2"/>
          <a:stretch/>
        </p:blipFill>
        <p:spPr>
          <a:xfrm>
            <a:off x="1981080" y="4875120"/>
            <a:ext cx="1600200" cy="1665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j0285750"/>
          <p:cNvPicPr/>
          <p:nvPr/>
        </p:nvPicPr>
        <p:blipFill>
          <a:blip r:embed="rId3"/>
          <a:stretch/>
        </p:blipFill>
        <p:spPr>
          <a:xfrm>
            <a:off x="6121440" y="5135400"/>
            <a:ext cx="2138400" cy="1443240"/>
          </a:xfrm>
          <a:prstGeom prst="rect">
            <a:avLst/>
          </a:prstGeom>
          <a:ln w="0">
            <a:noFill/>
          </a:ln>
        </p:spPr>
      </p:pic>
      <p:sp>
        <p:nvSpPr>
          <p:cNvPr id="160" name="Freeform 7"/>
          <p:cNvSpPr/>
          <p:nvPr/>
        </p:nvSpPr>
        <p:spPr>
          <a:xfrm>
            <a:off x="3325680" y="4894200"/>
            <a:ext cx="3059280" cy="728640"/>
          </a:xfrm>
          <a:custGeom>
            <a:avLst/>
            <a:gdLst>
              <a:gd name="textAreaLeft" fmla="*/ 0 w 3059280"/>
              <a:gd name="textAreaRight" fmla="*/ 3059640 w 3059280"/>
              <a:gd name="textAreaTop" fmla="*/ 0 h 728640"/>
              <a:gd name="textAreaBottom" fmla="*/ 728640 h 728640"/>
            </a:gdLst>
            <a:ahLst/>
            <a:rect l="textAreaLeft" t="textAreaTop" r="textAreaRight" b="textAreaBottom"/>
            <a:pathLst>
              <a:path w="2250" h="488">
                <a:moveTo>
                  <a:pt x="0" y="488"/>
                </a:moveTo>
                <a:cubicBezTo>
                  <a:pt x="357" y="248"/>
                  <a:pt x="714" y="8"/>
                  <a:pt x="1089" y="4"/>
                </a:cubicBezTo>
                <a:cubicBezTo>
                  <a:pt x="1464" y="0"/>
                  <a:pt x="1857" y="232"/>
                  <a:pt x="2250" y="4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8"/>
          <p:cNvSpPr/>
          <p:nvPr/>
        </p:nvSpPr>
        <p:spPr>
          <a:xfrm flipH="1" flipV="1">
            <a:off x="3325680" y="5758560"/>
            <a:ext cx="3059280" cy="729000"/>
          </a:xfrm>
          <a:custGeom>
            <a:avLst/>
            <a:gdLst>
              <a:gd name="textAreaLeft" fmla="*/ 360 w 3059280"/>
              <a:gd name="textAreaRight" fmla="*/ 3060000 w 3059280"/>
              <a:gd name="textAreaTop" fmla="*/ -360 h 729000"/>
              <a:gd name="textAreaBottom" fmla="*/ 729000 h 729000"/>
            </a:gdLst>
            <a:ahLst/>
            <a:rect l="textAreaLeft" t="textAreaTop" r="textAreaRight" b="textAreaBottom"/>
            <a:pathLst>
              <a:path w="2250" h="488">
                <a:moveTo>
                  <a:pt x="0" y="488"/>
                </a:moveTo>
                <a:cubicBezTo>
                  <a:pt x="357" y="248"/>
                  <a:pt x="714" y="8"/>
                  <a:pt x="1089" y="4"/>
                </a:cubicBezTo>
                <a:cubicBezTo>
                  <a:pt x="1464" y="0"/>
                  <a:pt x="1857" y="232"/>
                  <a:pt x="2250" y="4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ent and Server Process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09120" y="1295280"/>
            <a:ext cx="81536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Client process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cess that initiates communi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Server Process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cess that waits to be conta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B3F007-E860-4AC4-B7F0-2A1DFBC5E92A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90"/>
                </a:solidFill>
                <a:latin typeface="Calibri"/>
              </a:rPr>
              <a:t>Knowing What Port Number To Use</a:t>
            </a:r>
            <a:endParaRPr b="0" lang="en-US" sz="42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09120" y="1295280"/>
            <a:ext cx="81536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Popular applications have well-known ports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port 80 for Web and port 25 for e-ma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iana.org/assignments/port-nu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Well-known vs. ephemeral ports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rver has a well-known port (e.g., port 8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tween 0 and 1023 (requires root to us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ent picks an unused ephemeral (i.e., temporary) 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tween 1024 and 6553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Uniquely identifying traffic between the hosts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IP addresses and two port nu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derlying transport protocol (e.g., TCP or UD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9C5467-5C3C-4746-A38B-970EA7B22E41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Using Ports to Identify Servic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3240D0-42D4-46F7-9478-71F13A07667C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555480" y="2184480"/>
            <a:ext cx="129564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4975200" y="1708200"/>
            <a:ext cx="3505320" cy="19810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555480" y="5111640"/>
            <a:ext cx="129564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4975200" y="4635360"/>
            <a:ext cx="3505320" cy="19814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7"/>
          <p:cNvSpPr/>
          <p:nvPr/>
        </p:nvSpPr>
        <p:spPr>
          <a:xfrm>
            <a:off x="6485040" y="1827360"/>
            <a:ext cx="1746000" cy="796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ort 8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593280" y="179244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5251680" y="133524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host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128.2.194.2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0"/>
          <p:cNvSpPr/>
          <p:nvPr/>
        </p:nvSpPr>
        <p:spPr>
          <a:xfrm>
            <a:off x="1698480" y="2698920"/>
            <a:ext cx="3429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1"/>
          <p:cNvSpPr/>
          <p:nvPr/>
        </p:nvSpPr>
        <p:spPr>
          <a:xfrm>
            <a:off x="6499080" y="2774880"/>
            <a:ext cx="174636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cho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ort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1935000" y="1647720"/>
            <a:ext cx="293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request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128.2.194.24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.e., the Web ser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3"/>
          <p:cNvSpPr/>
          <p:nvPr/>
        </p:nvSpPr>
        <p:spPr>
          <a:xfrm flipV="1">
            <a:off x="6118200" y="2393640"/>
            <a:ext cx="457200" cy="22860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4"/>
          <p:cNvSpPr/>
          <p:nvPr/>
        </p:nvSpPr>
        <p:spPr>
          <a:xfrm>
            <a:off x="6485040" y="4754520"/>
            <a:ext cx="174600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ort 8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5"/>
          <p:cNvSpPr/>
          <p:nvPr/>
        </p:nvSpPr>
        <p:spPr>
          <a:xfrm>
            <a:off x="1698480" y="5626080"/>
            <a:ext cx="3429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6"/>
          <p:cNvSpPr/>
          <p:nvPr/>
        </p:nvSpPr>
        <p:spPr>
          <a:xfrm>
            <a:off x="6499080" y="5702400"/>
            <a:ext cx="1746360" cy="796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cho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port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2149200" y="4605480"/>
            <a:ext cx="233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request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128.2.194.24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.e., the echo ser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6108840" y="5694480"/>
            <a:ext cx="457200" cy="22860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9"/>
          <p:cNvSpPr/>
          <p:nvPr/>
        </p:nvSpPr>
        <p:spPr>
          <a:xfrm>
            <a:off x="3070080" y="33400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20"/>
          <p:cNvSpPr/>
          <p:nvPr/>
        </p:nvSpPr>
        <p:spPr>
          <a:xfrm>
            <a:off x="5127480" y="2470320"/>
            <a:ext cx="106704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21"/>
          <p:cNvSpPr/>
          <p:nvPr/>
        </p:nvSpPr>
        <p:spPr>
          <a:xfrm>
            <a:off x="5127480" y="5397480"/>
            <a:ext cx="106704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22"/>
          <p:cNvSpPr/>
          <p:nvPr/>
        </p:nvSpPr>
        <p:spPr>
          <a:xfrm>
            <a:off x="731520" y="2498760"/>
            <a:ext cx="994320" cy="47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23"/>
          <p:cNvSpPr/>
          <p:nvPr/>
        </p:nvSpPr>
        <p:spPr>
          <a:xfrm>
            <a:off x="731520" y="5425920"/>
            <a:ext cx="994320" cy="47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344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90"/>
                </a:solidFill>
                <a:latin typeface="Calibri"/>
              </a:rPr>
              <a:t>Client-Server Communication</a:t>
            </a:r>
            <a:br>
              <a:rPr sz="3800"/>
            </a:br>
            <a:r>
              <a:rPr b="0" lang="en-US" sz="3800" spc="-1" strike="noStrike">
                <a:solidFill>
                  <a:srgbClr val="000090"/>
                </a:solidFill>
                <a:latin typeface="Calibri"/>
              </a:rPr>
              <a:t>Stream Sockets (TCP): Connection-oriented </a:t>
            </a:r>
            <a:endParaRPr b="0" lang="en-US" sz="38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1595520" y="1677960"/>
            <a:ext cx="16714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 a so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454040" y="2365200"/>
            <a:ext cx="1917720" cy="596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nd the sock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what port am I on?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1111320" y="3270240"/>
            <a:ext cx="2693880" cy="596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sten for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Wait for incoming connection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1454040" y="4290840"/>
            <a:ext cx="20178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ept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1454040" y="5068800"/>
            <a:ext cx="18129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eive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1593720" y="6143760"/>
            <a:ext cx="16732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d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1991160" y="12762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2265480" y="2062080"/>
            <a:ext cx="0" cy="308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2"/>
          <p:cNvSpPr/>
          <p:nvPr/>
        </p:nvSpPr>
        <p:spPr>
          <a:xfrm flipH="1">
            <a:off x="2265120" y="2951280"/>
            <a:ext cx="19080" cy="322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2284560" y="3870360"/>
            <a:ext cx="0" cy="420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"/>
          <p:cNvSpPr/>
          <p:nvPr/>
        </p:nvSpPr>
        <p:spPr>
          <a:xfrm>
            <a:off x="2265480" y="4660920"/>
            <a:ext cx="0" cy="407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5"/>
          <p:cNvSpPr/>
          <p:nvPr/>
        </p:nvSpPr>
        <p:spPr>
          <a:xfrm>
            <a:off x="2265480" y="5465880"/>
            <a:ext cx="19080" cy="652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9"/>
          <p:cNvSpPr/>
          <p:nvPr/>
        </p:nvSpPr>
        <p:spPr>
          <a:xfrm>
            <a:off x="6721560" y="2876400"/>
            <a:ext cx="7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0"/>
          <p:cNvSpPr/>
          <p:nvPr/>
        </p:nvSpPr>
        <p:spPr>
          <a:xfrm>
            <a:off x="6434280" y="3414600"/>
            <a:ext cx="18619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 a so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1"/>
          <p:cNvSpPr/>
          <p:nvPr/>
        </p:nvSpPr>
        <p:spPr>
          <a:xfrm>
            <a:off x="6434280" y="4106880"/>
            <a:ext cx="18619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nect to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2"/>
          <p:cNvSpPr/>
          <p:nvPr/>
        </p:nvSpPr>
        <p:spPr>
          <a:xfrm>
            <a:off x="6434280" y="4903920"/>
            <a:ext cx="18619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d the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3"/>
          <p:cNvSpPr/>
          <p:nvPr/>
        </p:nvSpPr>
        <p:spPr>
          <a:xfrm>
            <a:off x="6959520" y="3784680"/>
            <a:ext cx="0" cy="307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4"/>
          <p:cNvSpPr/>
          <p:nvPr/>
        </p:nvSpPr>
        <p:spPr>
          <a:xfrm>
            <a:off x="6959520" y="4475160"/>
            <a:ext cx="0" cy="423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5"/>
          <p:cNvSpPr/>
          <p:nvPr/>
        </p:nvSpPr>
        <p:spPr>
          <a:xfrm flipH="1">
            <a:off x="3471480" y="4238640"/>
            <a:ext cx="2962440" cy="236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6"/>
          <p:cNvSpPr/>
          <p:nvPr/>
        </p:nvSpPr>
        <p:spPr>
          <a:xfrm rot="21237000">
            <a:off x="3710160" y="3973320"/>
            <a:ext cx="22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ablish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7"/>
          <p:cNvSpPr/>
          <p:nvPr/>
        </p:nvSpPr>
        <p:spPr>
          <a:xfrm flipH="1">
            <a:off x="3266640" y="5068800"/>
            <a:ext cx="3149640" cy="204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9"/>
          <p:cNvSpPr/>
          <p:nvPr/>
        </p:nvSpPr>
        <p:spPr>
          <a:xfrm rot="21358200">
            <a:off x="3823560" y="474984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(re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1"/>
          <p:cNvSpPr/>
          <p:nvPr/>
        </p:nvSpPr>
        <p:spPr>
          <a:xfrm>
            <a:off x="6434280" y="6299280"/>
            <a:ext cx="18619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eive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2"/>
          <p:cNvSpPr/>
          <p:nvPr/>
        </p:nvSpPr>
        <p:spPr>
          <a:xfrm>
            <a:off x="3267000" y="6299280"/>
            <a:ext cx="3149640" cy="214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3"/>
          <p:cNvSpPr/>
          <p:nvPr/>
        </p:nvSpPr>
        <p:spPr>
          <a:xfrm rot="247800">
            <a:off x="4138200" y="605952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(rep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4"/>
          <p:cNvSpPr/>
          <p:nvPr/>
        </p:nvSpPr>
        <p:spPr>
          <a:xfrm>
            <a:off x="6969240" y="5273640"/>
            <a:ext cx="0" cy="102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C47A6A-4482-4EA2-ABBA-80FAA039F474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5360" y="7596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90"/>
                </a:solidFill>
                <a:latin typeface="Calibri"/>
              </a:rPr>
              <a:t>Client-Server Communication </a:t>
            </a:r>
            <a:br>
              <a:rPr sz="3800"/>
            </a:br>
            <a:r>
              <a:rPr b="0" lang="en-US" sz="3800" spc="-1" strike="noStrike">
                <a:solidFill>
                  <a:srgbClr val="000090"/>
                </a:solidFill>
                <a:latin typeface="Calibri"/>
              </a:rPr>
              <a:t>Datagram Sockets (UDP): Connectionless</a:t>
            </a:r>
            <a:endParaRPr b="0" lang="en-US" sz="38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468440" y="2400480"/>
            <a:ext cx="18795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 a so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468440" y="3092400"/>
            <a:ext cx="18795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nd the so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1468440" y="4146480"/>
            <a:ext cx="18795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eive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1468440" y="5315040"/>
            <a:ext cx="18795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d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1783440" y="18637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2139840" y="2784600"/>
            <a:ext cx="0" cy="307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2139840" y="3462480"/>
            <a:ext cx="0" cy="684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4"/>
          <p:cNvSpPr/>
          <p:nvPr/>
        </p:nvSpPr>
        <p:spPr>
          <a:xfrm>
            <a:off x="2139840" y="4471920"/>
            <a:ext cx="0" cy="843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9"/>
          <p:cNvSpPr/>
          <p:nvPr/>
        </p:nvSpPr>
        <p:spPr>
          <a:xfrm>
            <a:off x="6689880" y="2128680"/>
            <a:ext cx="7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0"/>
          <p:cNvSpPr/>
          <p:nvPr/>
        </p:nvSpPr>
        <p:spPr>
          <a:xfrm>
            <a:off x="6402240" y="2666880"/>
            <a:ext cx="17398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 a so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1"/>
          <p:cNvSpPr/>
          <p:nvPr/>
        </p:nvSpPr>
        <p:spPr>
          <a:xfrm>
            <a:off x="6402240" y="3359160"/>
            <a:ext cx="17398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nd the so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6402240" y="4075200"/>
            <a:ext cx="19051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d the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3"/>
          <p:cNvSpPr/>
          <p:nvPr/>
        </p:nvSpPr>
        <p:spPr>
          <a:xfrm>
            <a:off x="7072200" y="3051000"/>
            <a:ext cx="0" cy="308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4"/>
          <p:cNvSpPr/>
          <p:nvPr/>
        </p:nvSpPr>
        <p:spPr>
          <a:xfrm>
            <a:off x="7072200" y="3741840"/>
            <a:ext cx="0" cy="307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7"/>
          <p:cNvSpPr/>
          <p:nvPr/>
        </p:nvSpPr>
        <p:spPr>
          <a:xfrm flipH="1">
            <a:off x="3348000" y="4227480"/>
            <a:ext cx="3054240" cy="103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9"/>
          <p:cNvSpPr/>
          <p:nvPr/>
        </p:nvSpPr>
        <p:spPr>
          <a:xfrm rot="21346200">
            <a:off x="3913920" y="390960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(re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6402240" y="5470560"/>
            <a:ext cx="19051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eive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2"/>
          <p:cNvSpPr/>
          <p:nvPr/>
        </p:nvSpPr>
        <p:spPr>
          <a:xfrm>
            <a:off x="3348000" y="5470560"/>
            <a:ext cx="3054240" cy="191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3"/>
          <p:cNvSpPr/>
          <p:nvPr/>
        </p:nvSpPr>
        <p:spPr>
          <a:xfrm rot="247800">
            <a:off x="4188240" y="517644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(rep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4"/>
          <p:cNvSpPr/>
          <p:nvPr/>
        </p:nvSpPr>
        <p:spPr>
          <a:xfrm>
            <a:off x="7075440" y="4471920"/>
            <a:ext cx="38160" cy="998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AA0310-458B-4F50-9FF3-15F56D4AF6D0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UNIX Socket API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09120" y="1295280"/>
            <a:ext cx="81536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cket interfac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iginally provided in Berkeley UN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ter adopted by all popular operating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ifies porting applications to different O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 UNIX, everything is like a fil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input is like reading a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output is like writing a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le is represented by an integer file descrip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PI implemented as system call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connect, send, recv, close,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728270-5783-4752-8415-6CD4232F354E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90"/>
                </a:solidFill>
                <a:latin typeface="Calibri"/>
              </a:rPr>
              <a:t>Connection-oriented Example </a:t>
            </a:r>
            <a:br>
              <a:rPr sz="4000"/>
            </a:br>
            <a:r>
              <a:rPr b="0" lang="en-US" sz="4000" spc="-1" strike="noStrike">
                <a:solidFill>
                  <a:srgbClr val="000090"/>
                </a:solidFill>
                <a:latin typeface="Calibri"/>
              </a:rPr>
              <a:t>(Stream Sockets -TCP)</a:t>
            </a:r>
            <a:endParaRPr b="0" lang="en-US" sz="40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1595520" y="1949400"/>
            <a:ext cx="10065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cke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1595520" y="2641680"/>
            <a:ext cx="10065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nd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1593720" y="3357720"/>
            <a:ext cx="10083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ste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1593720" y="4262400"/>
            <a:ext cx="10065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ep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1595520" y="4925880"/>
            <a:ext cx="10065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v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1593720" y="6000840"/>
            <a:ext cx="10083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d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1877040" y="14796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1"/>
          <p:cNvSpPr/>
          <p:nvPr/>
        </p:nvSpPr>
        <p:spPr>
          <a:xfrm>
            <a:off x="2265480" y="2333520"/>
            <a:ext cx="0" cy="308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2"/>
          <p:cNvSpPr/>
          <p:nvPr/>
        </p:nvSpPr>
        <p:spPr>
          <a:xfrm>
            <a:off x="2265480" y="3024360"/>
            <a:ext cx="0" cy="307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3"/>
          <p:cNvSpPr/>
          <p:nvPr/>
        </p:nvSpPr>
        <p:spPr>
          <a:xfrm>
            <a:off x="2265480" y="3722760"/>
            <a:ext cx="0" cy="51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4"/>
          <p:cNvSpPr/>
          <p:nvPr/>
        </p:nvSpPr>
        <p:spPr>
          <a:xfrm>
            <a:off x="2265480" y="4633920"/>
            <a:ext cx="0" cy="291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5"/>
          <p:cNvSpPr/>
          <p:nvPr/>
        </p:nvSpPr>
        <p:spPr>
          <a:xfrm>
            <a:off x="2265480" y="5322960"/>
            <a:ext cx="19080" cy="652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6721560" y="2814480"/>
            <a:ext cx="7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0"/>
          <p:cNvSpPr/>
          <p:nvPr/>
        </p:nvSpPr>
        <p:spPr>
          <a:xfrm>
            <a:off x="6434280" y="3352680"/>
            <a:ext cx="11030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cke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1"/>
          <p:cNvSpPr/>
          <p:nvPr/>
        </p:nvSpPr>
        <p:spPr>
          <a:xfrm>
            <a:off x="6434280" y="4044960"/>
            <a:ext cx="11030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nec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2"/>
          <p:cNvSpPr/>
          <p:nvPr/>
        </p:nvSpPr>
        <p:spPr>
          <a:xfrm>
            <a:off x="6434280" y="4761000"/>
            <a:ext cx="11030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d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3"/>
          <p:cNvSpPr/>
          <p:nvPr/>
        </p:nvSpPr>
        <p:spPr>
          <a:xfrm>
            <a:off x="6959520" y="3722760"/>
            <a:ext cx="0" cy="307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4"/>
          <p:cNvSpPr/>
          <p:nvPr/>
        </p:nvSpPr>
        <p:spPr>
          <a:xfrm>
            <a:off x="6959520" y="4448160"/>
            <a:ext cx="0" cy="308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5"/>
          <p:cNvSpPr/>
          <p:nvPr/>
        </p:nvSpPr>
        <p:spPr>
          <a:xfrm flipH="1">
            <a:off x="2599920" y="4235400"/>
            <a:ext cx="3816360" cy="21276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6"/>
          <p:cNvSpPr/>
          <p:nvPr/>
        </p:nvSpPr>
        <p:spPr>
          <a:xfrm rot="21359400">
            <a:off x="3567240" y="3968280"/>
            <a:ext cx="22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ablish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7"/>
          <p:cNvSpPr/>
          <p:nvPr/>
        </p:nvSpPr>
        <p:spPr>
          <a:xfrm flipH="1">
            <a:off x="2602080" y="4925880"/>
            <a:ext cx="3814560" cy="204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 rot="21358200">
            <a:off x="3823560" y="459576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(re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1"/>
          <p:cNvSpPr/>
          <p:nvPr/>
        </p:nvSpPr>
        <p:spPr>
          <a:xfrm>
            <a:off x="6434280" y="6156360"/>
            <a:ext cx="11030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v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32"/>
          <p:cNvSpPr/>
          <p:nvPr/>
        </p:nvSpPr>
        <p:spPr>
          <a:xfrm>
            <a:off x="2602080" y="6224760"/>
            <a:ext cx="3814560" cy="14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3"/>
          <p:cNvSpPr/>
          <p:nvPr/>
        </p:nvSpPr>
        <p:spPr>
          <a:xfrm rot="247800">
            <a:off x="4138200" y="591660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(rep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4"/>
          <p:cNvSpPr/>
          <p:nvPr/>
        </p:nvSpPr>
        <p:spPr>
          <a:xfrm>
            <a:off x="6969240" y="5130720"/>
            <a:ext cx="0" cy="102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081290-31F6-4EFA-B9E6-A8F17FFA9B48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90"/>
                </a:solidFill>
                <a:latin typeface="Calibri"/>
              </a:rPr>
              <a:t>Connectionless Example </a:t>
            </a:r>
            <a:br>
              <a:rPr sz="4000"/>
            </a:br>
            <a:r>
              <a:rPr b="0" lang="en-US" sz="4000" spc="-1" strike="noStrike">
                <a:solidFill>
                  <a:srgbClr val="000090"/>
                </a:solidFill>
                <a:latin typeface="Calibri"/>
              </a:rPr>
              <a:t>(Datagram Sockets - UDP)</a:t>
            </a:r>
            <a:endParaRPr b="0" lang="en-US" sz="40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371600" y="2239920"/>
            <a:ext cx="11746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cke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1371600" y="2932200"/>
            <a:ext cx="11746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nd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1403280" y="4033800"/>
            <a:ext cx="11746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vfrom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1403280" y="5018040"/>
            <a:ext cx="11746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dto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"/>
          <p:cNvSpPr/>
          <p:nvPr/>
        </p:nvSpPr>
        <p:spPr>
          <a:xfrm>
            <a:off x="1686600" y="17035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1"/>
          <p:cNvSpPr/>
          <p:nvPr/>
        </p:nvSpPr>
        <p:spPr>
          <a:xfrm>
            <a:off x="2043000" y="2624040"/>
            <a:ext cx="0" cy="308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2043000" y="3314880"/>
            <a:ext cx="0" cy="718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4"/>
          <p:cNvSpPr/>
          <p:nvPr/>
        </p:nvSpPr>
        <p:spPr>
          <a:xfrm>
            <a:off x="2075040" y="4403880"/>
            <a:ext cx="0" cy="614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9"/>
          <p:cNvSpPr/>
          <p:nvPr/>
        </p:nvSpPr>
        <p:spPr>
          <a:xfrm>
            <a:off x="6624720" y="1832040"/>
            <a:ext cx="7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0"/>
          <p:cNvSpPr/>
          <p:nvPr/>
        </p:nvSpPr>
        <p:spPr>
          <a:xfrm>
            <a:off x="6337440" y="2370240"/>
            <a:ext cx="11952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cke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1"/>
          <p:cNvSpPr/>
          <p:nvPr/>
        </p:nvSpPr>
        <p:spPr>
          <a:xfrm>
            <a:off x="6337440" y="3062160"/>
            <a:ext cx="11952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nd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2"/>
          <p:cNvSpPr/>
          <p:nvPr/>
        </p:nvSpPr>
        <p:spPr>
          <a:xfrm>
            <a:off x="6337440" y="3778200"/>
            <a:ext cx="11952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dto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3"/>
          <p:cNvSpPr/>
          <p:nvPr/>
        </p:nvSpPr>
        <p:spPr>
          <a:xfrm>
            <a:off x="7007400" y="2754360"/>
            <a:ext cx="0" cy="307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4"/>
          <p:cNvSpPr/>
          <p:nvPr/>
        </p:nvSpPr>
        <p:spPr>
          <a:xfrm>
            <a:off x="7007400" y="3444840"/>
            <a:ext cx="0" cy="308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7"/>
          <p:cNvSpPr/>
          <p:nvPr/>
        </p:nvSpPr>
        <p:spPr>
          <a:xfrm flipH="1">
            <a:off x="2577600" y="3944880"/>
            <a:ext cx="3759480" cy="230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9"/>
          <p:cNvSpPr/>
          <p:nvPr/>
        </p:nvSpPr>
        <p:spPr>
          <a:xfrm rot="21358200">
            <a:off x="3848400" y="361296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(re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1"/>
          <p:cNvSpPr/>
          <p:nvPr/>
        </p:nvSpPr>
        <p:spPr>
          <a:xfrm>
            <a:off x="6337440" y="5173560"/>
            <a:ext cx="11952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vfrom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32"/>
          <p:cNvSpPr/>
          <p:nvPr/>
        </p:nvSpPr>
        <p:spPr>
          <a:xfrm>
            <a:off x="2577960" y="5173560"/>
            <a:ext cx="3759480" cy="192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3"/>
          <p:cNvSpPr/>
          <p:nvPr/>
        </p:nvSpPr>
        <p:spPr>
          <a:xfrm rot="247800">
            <a:off x="4123080" y="487944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(rep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34"/>
          <p:cNvSpPr/>
          <p:nvPr/>
        </p:nvSpPr>
        <p:spPr>
          <a:xfrm>
            <a:off x="7010280" y="4175280"/>
            <a:ext cx="38160" cy="998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8ACD77-2869-4A10-9E8B-376D08F8D7DB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90"/>
                </a:solidFill>
                <a:latin typeface="Calibri"/>
              </a:rPr>
              <a:t>Socket and Process Communication</a:t>
            </a:r>
            <a:endParaRPr b="0" lang="en-US" sz="42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457200" y="5638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The interface that the OS provides to its networking sub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627520" y="2857680"/>
            <a:ext cx="27464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pplication 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5"/>
          <p:cNvGrpSpPr/>
          <p:nvPr/>
        </p:nvGrpSpPr>
        <p:grpSpPr>
          <a:xfrm>
            <a:off x="5627520" y="4005360"/>
            <a:ext cx="2746080" cy="920880"/>
            <a:chOff x="5627520" y="4005360"/>
            <a:chExt cx="2746080" cy="920880"/>
          </a:xfrm>
        </p:grpSpPr>
        <p:sp>
          <p:nvSpPr>
            <p:cNvPr id="54" name="Text Box 6"/>
            <p:cNvSpPr/>
            <p:nvPr/>
          </p:nvSpPr>
          <p:spPr>
            <a:xfrm>
              <a:off x="5627520" y="4005360"/>
              <a:ext cx="274608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nl-NL" sz="1400" spc="-1" strike="noStrike">
                  <a:solidFill>
                    <a:srgbClr val="000000"/>
                  </a:solidFill>
                  <a:latin typeface="Arial"/>
                </a:rPr>
                <a:t>transport layer (TCP/UD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627520" y="4309920"/>
              <a:ext cx="274608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nl-NL" sz="1400" spc="-1" strike="noStrike">
                  <a:solidFill>
                    <a:srgbClr val="000000"/>
                  </a:solidFill>
                  <a:latin typeface="Arial"/>
                </a:rPr>
                <a:t>network layer (I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8"/>
            <p:cNvSpPr/>
            <p:nvPr/>
          </p:nvSpPr>
          <p:spPr>
            <a:xfrm>
              <a:off x="5627520" y="4619160"/>
              <a:ext cx="274608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nl-NL" sz="1400" spc="-1" strike="noStrike">
                  <a:solidFill>
                    <a:srgbClr val="000000"/>
                  </a:solidFill>
                  <a:latin typeface="Arial"/>
                </a:rPr>
                <a:t>link layer (e.g. etherne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 Box 10"/>
          <p:cNvSpPr/>
          <p:nvPr/>
        </p:nvSpPr>
        <p:spPr>
          <a:xfrm>
            <a:off x="1063800" y="2867040"/>
            <a:ext cx="25938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pplication 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11"/>
          <p:cNvGrpSpPr/>
          <p:nvPr/>
        </p:nvGrpSpPr>
        <p:grpSpPr>
          <a:xfrm>
            <a:off x="1063800" y="4014720"/>
            <a:ext cx="2593440" cy="921240"/>
            <a:chOff x="1063800" y="4014720"/>
            <a:chExt cx="2593440" cy="921240"/>
          </a:xfrm>
        </p:grpSpPr>
        <p:sp>
          <p:nvSpPr>
            <p:cNvPr id="59" name="Text Box 12"/>
            <p:cNvSpPr/>
            <p:nvPr/>
          </p:nvSpPr>
          <p:spPr>
            <a:xfrm>
              <a:off x="1063800" y="4014720"/>
              <a:ext cx="259344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nl-NL" sz="1400" spc="-1" strike="noStrike">
                  <a:solidFill>
                    <a:srgbClr val="000000"/>
                  </a:solidFill>
                  <a:latin typeface="Arial"/>
                </a:rPr>
                <a:t>transport layer (TCP/UD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3"/>
            <p:cNvSpPr/>
            <p:nvPr/>
          </p:nvSpPr>
          <p:spPr>
            <a:xfrm>
              <a:off x="1063800" y="4319640"/>
              <a:ext cx="259344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nl-NL" sz="1400" spc="-1" strike="noStrike">
                  <a:solidFill>
                    <a:srgbClr val="000000"/>
                  </a:solidFill>
                  <a:latin typeface="Arial"/>
                </a:rPr>
                <a:t>network layer (I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4"/>
            <p:cNvSpPr/>
            <p:nvPr/>
          </p:nvSpPr>
          <p:spPr>
            <a:xfrm>
              <a:off x="1063800" y="4628880"/>
              <a:ext cx="259344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nl-NL" sz="1400" spc="-1" strike="noStrike">
                  <a:solidFill>
                    <a:srgbClr val="000000"/>
                  </a:solidFill>
                  <a:latin typeface="Arial"/>
                </a:rPr>
                <a:t>link layer (e.g. etherne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Rectangle 16"/>
          <p:cNvSpPr/>
          <p:nvPr/>
        </p:nvSpPr>
        <p:spPr>
          <a:xfrm>
            <a:off x="1523880" y="394344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8" descr="01j"/>
          <p:cNvPicPr/>
          <p:nvPr/>
        </p:nvPicPr>
        <p:blipFill>
          <a:blip r:embed="rId1"/>
          <a:stretch/>
        </p:blipFill>
        <p:spPr>
          <a:xfrm>
            <a:off x="1762200" y="1700280"/>
            <a:ext cx="1285920" cy="961920"/>
          </a:xfrm>
          <a:prstGeom prst="rect">
            <a:avLst/>
          </a:prstGeom>
          <a:ln w="0">
            <a:noFill/>
          </a:ln>
        </p:spPr>
      </p:pic>
      <p:sp>
        <p:nvSpPr>
          <p:cNvPr id="64" name="Oval 19"/>
          <p:cNvSpPr/>
          <p:nvPr/>
        </p:nvSpPr>
        <p:spPr>
          <a:xfrm>
            <a:off x="1204200" y="3124800"/>
            <a:ext cx="2315880" cy="52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0"/>
          <p:cNvSpPr/>
          <p:nvPr/>
        </p:nvSpPr>
        <p:spPr>
          <a:xfrm>
            <a:off x="5833440" y="3132720"/>
            <a:ext cx="2315880" cy="52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1"/>
          <p:cNvSpPr/>
          <p:nvPr/>
        </p:nvSpPr>
        <p:spPr>
          <a:xfrm>
            <a:off x="3309840" y="3424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2" descr="01j"/>
          <p:cNvPicPr/>
          <p:nvPr/>
        </p:nvPicPr>
        <p:blipFill>
          <a:blip r:embed="rId2"/>
          <a:stretch/>
        </p:blipFill>
        <p:spPr>
          <a:xfrm>
            <a:off x="6324480" y="1681200"/>
            <a:ext cx="1285920" cy="9619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23"/>
          <p:cNvSpPr/>
          <p:nvPr/>
        </p:nvSpPr>
        <p:spPr>
          <a:xfrm>
            <a:off x="1890720" y="3562200"/>
            <a:ext cx="939960" cy="49212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4"/>
          <p:cNvSpPr/>
          <p:nvPr/>
        </p:nvSpPr>
        <p:spPr>
          <a:xfrm>
            <a:off x="6172200" y="394344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5"/>
          <p:cNvSpPr/>
          <p:nvPr/>
        </p:nvSpPr>
        <p:spPr>
          <a:xfrm>
            <a:off x="6527880" y="3562200"/>
            <a:ext cx="939600" cy="49212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26"/>
          <p:cNvGrpSpPr/>
          <p:nvPr/>
        </p:nvGrpSpPr>
        <p:grpSpPr>
          <a:xfrm>
            <a:off x="3319560" y="4172040"/>
            <a:ext cx="2743200" cy="368280"/>
            <a:chOff x="3319560" y="4172040"/>
            <a:chExt cx="2743200" cy="368280"/>
          </a:xfrm>
        </p:grpSpPr>
        <p:sp>
          <p:nvSpPr>
            <p:cNvPr id="72" name="Line 27"/>
            <p:cNvSpPr/>
            <p:nvPr/>
          </p:nvSpPr>
          <p:spPr>
            <a:xfrm>
              <a:off x="3319560" y="44766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8"/>
            <p:cNvSpPr/>
            <p:nvPr/>
          </p:nvSpPr>
          <p:spPr>
            <a:xfrm>
              <a:off x="4162320" y="4172040"/>
              <a:ext cx="101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29"/>
          <p:cNvGrpSpPr/>
          <p:nvPr/>
        </p:nvGrpSpPr>
        <p:grpSpPr>
          <a:xfrm>
            <a:off x="3427560" y="4508640"/>
            <a:ext cx="2468160" cy="368280"/>
            <a:chOff x="3427560" y="4508640"/>
            <a:chExt cx="2468160" cy="368280"/>
          </a:xfrm>
        </p:grpSpPr>
        <p:sp>
          <p:nvSpPr>
            <p:cNvPr id="75" name="Line 30"/>
            <p:cNvSpPr/>
            <p:nvPr/>
          </p:nvSpPr>
          <p:spPr>
            <a:xfrm>
              <a:off x="3427560" y="4832280"/>
              <a:ext cx="246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31"/>
            <p:cNvSpPr/>
            <p:nvPr/>
          </p:nvSpPr>
          <p:spPr>
            <a:xfrm>
              <a:off x="4176720" y="4508640"/>
              <a:ext cx="13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Rectangle 32"/>
          <p:cNvSpPr/>
          <p:nvPr/>
        </p:nvSpPr>
        <p:spPr>
          <a:xfrm>
            <a:off x="4175280" y="312264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3018C2-5612-47F8-B420-54002B23F20B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2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2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" dur="2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" dur="2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2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2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2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2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2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2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2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2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" dur="2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2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" dur="2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2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90"/>
                </a:solidFill>
                <a:latin typeface="Calibri"/>
              </a:rPr>
              <a:t>Client: Learning Server Address/Port</a:t>
            </a:r>
            <a:endParaRPr b="0" lang="en-US" sz="42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94760" y="1218960"/>
            <a:ext cx="8796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00000"/>
                </a:solidFill>
                <a:latin typeface="Calibri"/>
              </a:rPr>
              <a:t>Server typically known by name and service</a:t>
            </a:r>
            <a:endParaRPr b="0" lang="en-US" sz="27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cnn.com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00000"/>
                </a:solidFill>
                <a:latin typeface="Calibri"/>
              </a:rPr>
              <a:t>Need to translate into IP address and port #</a:t>
            </a:r>
            <a:endParaRPr b="0" lang="en-US" sz="27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4.236.16.20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0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00000"/>
                </a:solidFill>
                <a:latin typeface="Calibri"/>
              </a:rPr>
              <a:t>Get address info with given host name and service</a:t>
            </a:r>
            <a:endParaRPr b="0" lang="en-US" sz="27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getaddrinfo(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 *node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 *serv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struct addrinfo *hints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struct addrinfo **resul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*nod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host name (e.g.,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cnn.com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or IP add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*servi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port number or service listed i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/etc/servic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e.g. ft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hi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points to a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truct addrinfo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 known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1967B6-9A9D-4056-93C7-628F38F52CEF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2160" y="75960"/>
            <a:ext cx="9051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900" spc="-1" strike="noStrike">
                <a:solidFill>
                  <a:srgbClr val="000090"/>
                </a:solidFill>
                <a:latin typeface="Calibri"/>
              </a:rPr>
              <a:t>Client: Learning Server Address/Port (cont.)</a:t>
            </a:r>
            <a:endParaRPr b="0" lang="en-US" sz="39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92160" y="1295280"/>
            <a:ext cx="88898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00000"/>
                </a:solidFill>
                <a:latin typeface="Calibri"/>
              </a:rPr>
              <a:t>Data structure to host address information</a:t>
            </a:r>
            <a:endParaRPr b="0" lang="en-US" sz="2700" spc="-1" strike="noStrike">
              <a:solidFill>
                <a:srgbClr val="800000"/>
              </a:solidFill>
              <a:latin typeface="Calibri"/>
            </a:endParaRPr>
          </a:p>
          <a:p>
            <a:pPr lvl="1" marL="3999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addrinfo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i_flags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i_family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e.g. AF_INET for IPv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i_socketype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e.g. SOCK_STREAM for TC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i_protocol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e.g. IPPROTO_TC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_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i_addrlen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*ai_canonnam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ockadd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*ai_addr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point to sockaddr stru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*ai_nex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00000"/>
                </a:solidFill>
                <a:latin typeface="Calibri"/>
              </a:rPr>
              <a:t>Example</a:t>
            </a:r>
            <a:endParaRPr b="0" lang="en-US" sz="2700" spc="-1" strike="noStrike">
              <a:solidFill>
                <a:srgbClr val="8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hints.ai_family = AF_UNSPEC;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don't care IPv4 or IPv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hints.ai_socktype = SOCK_STREAM;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TCP stream socke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status = getaddrinfo("www.cnn.com", ”80", &amp;hints, &amp;result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ow points to a linked list of 1 or more addrinf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et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08322A-C4E5-425C-8C50-125EBFED2BD8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ent: Creating a Socke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87120" y="1055520"/>
            <a:ext cx="905652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Calibri"/>
              </a:rPr>
              <a:t>Creating a socket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socket(int domain, int type, int protoco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turns a file descriptor (or handle) for the sock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Calibri"/>
              </a:rPr>
              <a:t>Domain: protocol family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F_INET for IPv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F_INET6 for IPv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Calibri"/>
              </a:rPr>
              <a:t>Type: semantics of the communication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K_STREAM: reliable byte stream (TCP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K_DGRAM: message-oriented service (UDP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Calibri"/>
              </a:rPr>
              <a:t>Protocol: specific protocol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SPEC: unspecifi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PF_INET and SOCK_STREAM already implies TCP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Calibri"/>
              </a:rPr>
              <a:t>Example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ockfd = socket(result-&gt;ai_family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result-&gt;ai_socktyp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result-&gt;ai_protocol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A13428-C9DA-4D52-9705-741B53C08775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7480" y="75960"/>
            <a:ext cx="8904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90"/>
                </a:solidFill>
                <a:latin typeface="Calibri"/>
              </a:rPr>
              <a:t>Client: Connecting Socket to the Server</a:t>
            </a:r>
            <a:endParaRPr b="0" lang="en-US" sz="40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0" y="106992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Client contacts the server to establish connection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ociate the socket with the server address/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quire a local port number (assigned by the O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est connection to server, who hopefully accep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nect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bloc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Establishing the connection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connect(int sockfd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struct sockaddr *server_address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socketlen_t addrlen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gs: socket descriptor, server address, and address si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turns 0 on success, and -1 if an error occ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.g.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connect(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ockfd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result-&gt;ai_addr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result-&gt;ai_addrlen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60773A-EF66-4571-BDAF-F252354DABE2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ent: Sending Data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12680" y="1295280"/>
            <a:ext cx="8879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nding data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send(int sockfd, void *msg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_t len, int flag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rguments: socket descriptor, pointer to buffer of data to send, and length of the buff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turns the number of bytes written, and -1 on err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nd is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blockin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return only after data is s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rite short messages into a buffer and send on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8F9D3C-A1A4-4DA7-A9C8-3011A6DB1C54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ent: Receiving Data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76040" y="1295280"/>
            <a:ext cx="8815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ceiving data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recv(int sockfd, void *buf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_t len, int flag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rguments: socket descriptor, pointer to buffer to place the data, size of the buff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turns the number of characters read (where 0 implies </a:t>
            </a:r>
            <a:r>
              <a:rPr b="0" lang="ja-JP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d of file</a:t>
            </a:r>
            <a:r>
              <a:rPr b="0" lang="ja-JP" sz="26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, and -1 on err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y do you need len? What happens if buf’s size &lt; l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cv is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blockin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return only after data is receiv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FDB28E-E3A7-417A-84DA-CE2C1A852C5F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erver: Server Preparing its Socke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09120" y="1218960"/>
            <a:ext cx="815364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00000"/>
                </a:solidFill>
                <a:latin typeface="Calibri"/>
              </a:rPr>
              <a:t>Server creates a socket and binds address/port</a:t>
            </a:r>
            <a:endParaRPr b="0" lang="en-US" sz="27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rver creates a socket, just like the client do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rver associates the socket with the port nu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00000"/>
                </a:solidFill>
                <a:latin typeface="Calibri"/>
              </a:rPr>
              <a:t>Create a socket</a:t>
            </a:r>
            <a:endParaRPr b="0" lang="en-US" sz="27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socket(int domain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type, int protocol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00000"/>
                </a:solidFill>
                <a:latin typeface="Calibri"/>
              </a:rPr>
              <a:t>Bind socket to the local address and port number</a:t>
            </a:r>
            <a:endParaRPr b="0" lang="en-US" sz="27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bind(int sockfd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struct sockaddr *my_addr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socklen_t addrlen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95D032-D29A-447F-85FA-17EBBC42CCD3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erver: Allowing Clients to Wai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09120" y="1295280"/>
            <a:ext cx="81536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Many client requests may arrive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rver cannot handle them all at the same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rver could reject the requests, or let them wa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Define how many connections can be pending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listen(int sockfd, int backlo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guments: socket descriptor and acceptable backlo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turns a 0 on success, and -1 on err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sten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non-block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returns immediate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What if too many clients arrive?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requests don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 get throug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Internet makes no promises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the client can always try ag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13AEF1-124C-423C-A388-54D860CAFDF6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5" descr="MCj03553190000[1]"/>
          <p:cNvPicPr/>
          <p:nvPr/>
        </p:nvPicPr>
        <p:blipFill>
          <a:blip r:embed="rId1"/>
          <a:stretch/>
        </p:blipFill>
        <p:spPr>
          <a:xfrm>
            <a:off x="6877080" y="4619520"/>
            <a:ext cx="1511280" cy="18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000090"/>
                </a:solidFill>
                <a:latin typeface="Calibri"/>
              </a:rPr>
              <a:t>Server: Accepting Client Connection</a:t>
            </a:r>
            <a:endParaRPr b="0" lang="en-US" sz="43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09120" y="129492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Now all the server can do is wait…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its for connection request to arr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Blockin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until the request arriv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then accepting the new requ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Accept a new connection from a client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accept(int sockfd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Courier New"/>
              </a:rPr>
              <a:t>struct sockaddr *addr, 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Courier New"/>
              </a:rPr>
              <a:t> socketlen_t *addrl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rguments: sockfd, structure that will provide client address and port, and length of th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turns descriptor of socket for this new conne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B2D793-9450-4CDE-82EC-1058BF5DE681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4" descr="MCj04300470000[1]"/>
          <p:cNvPicPr/>
          <p:nvPr/>
        </p:nvPicPr>
        <p:blipFill>
          <a:blip r:embed="rId1"/>
          <a:stretch/>
        </p:blipFill>
        <p:spPr>
          <a:xfrm>
            <a:off x="6723000" y="1257480"/>
            <a:ext cx="1895400" cy="16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ent and Server: Cleaning Hous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09120" y="1295280"/>
            <a:ext cx="81536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Once the connection is open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th sides and read and wri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wo unidirectional streams of 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practice, client writes first, and server rea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n server writes, and client reads, and so 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Closing down the connection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ither side can close the conne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ing the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close(int sockf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What about the data still </a:t>
            </a:r>
            <a:r>
              <a:rPr b="0" lang="ja-JP" sz="3000" spc="-1" strike="noStrike">
                <a:solidFill>
                  <a:srgbClr val="8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in flight</a:t>
            </a:r>
            <a:r>
              <a:rPr b="0" lang="ja-JP" sz="3000" spc="-1" strike="noStrike">
                <a:solidFill>
                  <a:srgbClr val="800000"/>
                </a:solidFill>
                <a:latin typeface="Calibri"/>
              </a:rPr>
              <a:t>”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ata in flight still reaches the other e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, server can </a:t>
            </a:r>
            <a:r>
              <a:rPr b="1" lang="en-US" sz="2300" spc="-1" strike="noStrike">
                <a:solidFill>
                  <a:srgbClr val="0000ff"/>
                </a:solidFill>
                <a:latin typeface="Courier New"/>
                <a:ea typeface="Courier New"/>
              </a:rPr>
              <a:t>close()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fore client finishes rea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F6AAF2-2748-4764-A5FF-70064D8212CC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90"/>
                </a:solidFill>
                <a:latin typeface="Calibri"/>
              </a:rPr>
              <a:t>Delivering the Data: Division of Labor</a:t>
            </a:r>
            <a:endParaRPr b="0" lang="en-US" sz="42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09120" y="1295280"/>
            <a:ext cx="81536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twor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iver data packet to the destination h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d on the destination IP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Operating syste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iver data to the destination soc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d on the destination port number (e.g., 8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pplic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 data from and write data to the soc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pret the data (e.g., render a Web pag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CE9389-FB6A-4A2C-A116-D1A111FC5760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MCj03963060000[1]"/>
          <p:cNvPicPr/>
          <p:nvPr/>
        </p:nvPicPr>
        <p:blipFill>
          <a:blip r:embed="rId1"/>
          <a:stretch/>
        </p:blipFill>
        <p:spPr>
          <a:xfrm>
            <a:off x="7299360" y="2238480"/>
            <a:ext cx="150012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erver: One Request at a Time?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120" y="1150920"/>
            <a:ext cx="81536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Serializing requests is inefficient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rver can process just one request at a ti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l other clients must wait until previous one is do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makes this inefficien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May need to time share the server machine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ternate between servicing different reques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 a little work on one request, then switch when you are waiting for some other resource (e.g., reading file from disk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nblocking I/O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, use a different process/thread for each requ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 OS to share the CPU(s) across proces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, some hybrid of these two approach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E2AC85-01C8-4469-A8A4-EEFADBE22359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andle Multiple Clients using fork(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50840" y="1295280"/>
            <a:ext cx="8820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teps to handle multiple clien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343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o to a loop and accept connections using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accep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fter a connection is established, call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fork(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create a new child process to handle 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o back to listen for another socket in the parent proc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>
              <a:spcBef>
                <a:spcPts val="6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close(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when you are don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Want to know more?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343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eckout out </a:t>
            </a:r>
            <a:r>
              <a:rPr b="0" i="1" lang="en-US" sz="2600" spc="-1" strike="noStrike">
                <a:solidFill>
                  <a:srgbClr val="0000ff"/>
                </a:solidFill>
                <a:latin typeface="Calibri"/>
              </a:rPr>
              <a:t>Beej's guide to network progra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A3E187-C473-4D3F-81DC-F4566D50E2F7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90"/>
                </a:solidFill>
                <a:latin typeface="Calibri"/>
              </a:rPr>
              <a:t>Wanna See Real Clients and Servers?</a:t>
            </a:r>
            <a:endParaRPr b="0" lang="en-US" sz="42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09120" y="1295280"/>
            <a:ext cx="81536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Apache Web server 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pen source server first released in 199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ame derives from </a:t>
            </a:r>
            <a:r>
              <a:rPr b="0" lang="ja-JP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patchy server</a:t>
            </a:r>
            <a:r>
              <a:rPr b="0" lang="ja-JP" sz="26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;-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ftware available online at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Mozilla Web browser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ttp://www.mozilla.org/developer/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Sendmail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ttp://www.sendmail.org/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BIND Domain Name System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ent resolver and DNS ser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isc.org/index.pl?/sw/bind/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…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B1F862-AD6C-45E1-9A36-CF8E8C7B672F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900" spc="-1" strike="noStrike">
                <a:solidFill>
                  <a:srgbClr val="000090"/>
                </a:solidFill>
                <a:latin typeface="Calibri"/>
              </a:rPr>
              <a:t>Socket: End Point of Communication</a:t>
            </a:r>
            <a:endParaRPr b="0" lang="en-US" sz="39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6840" y="1219320"/>
            <a:ext cx="8458200" cy="30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nding message from one process to anoth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ssage must traverse the underlying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ocess sends and receives through a </a:t>
            </a:r>
            <a:r>
              <a:rPr b="0" lang="ja-JP" sz="3200" spc="-1" strike="noStrike">
                <a:solidFill>
                  <a:srgbClr val="8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cket</a:t>
            </a:r>
            <a:r>
              <a:rPr b="0" lang="ja-JP" sz="3200" spc="-1" strike="noStrike">
                <a:solidFill>
                  <a:srgbClr val="800000"/>
                </a:solidFill>
                <a:latin typeface="Calibri"/>
              </a:rPr>
              <a:t>”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essence, the doorway leading in/out of the ho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cket as an Application Programming Interfac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s the creation of network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DBC1A9-F62F-478C-BAD8-2C1AC38B150A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5"/>
          <p:cNvSpPr/>
          <p:nvPr/>
        </p:nvSpPr>
        <p:spPr>
          <a:xfrm>
            <a:off x="770040" y="4503600"/>
            <a:ext cx="2419200" cy="76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6"/>
          <p:cNvSpPr/>
          <p:nvPr/>
        </p:nvSpPr>
        <p:spPr>
          <a:xfrm>
            <a:off x="6031080" y="4503600"/>
            <a:ext cx="2419200" cy="76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1359720" y="5310360"/>
            <a:ext cx="1249200" cy="581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6582600" y="5310360"/>
            <a:ext cx="1249200" cy="581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1282320" y="469584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6581160" y="468324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1433160" y="5913360"/>
            <a:ext cx="111204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6675120" y="5925960"/>
            <a:ext cx="111204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loud"/>
          <p:cNvSpPr/>
          <p:nvPr/>
        </p:nvSpPr>
        <p:spPr>
          <a:xfrm>
            <a:off x="3227400" y="5925960"/>
            <a:ext cx="2689200" cy="779760"/>
          </a:xfrm>
          <a:custGeom>
            <a:avLst/>
            <a:gdLst>
              <a:gd name="textAreaLeft" fmla="*/ 370440 w 2689200"/>
              <a:gd name="textAreaRight" fmla="*/ 2127600 w 2689200"/>
              <a:gd name="textAreaTop" fmla="*/ 117720 h 779760"/>
              <a:gd name="textAreaBottom" fmla="*/ 626040 h 7797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-1" y="8613"/>
                  <a:pt x="-1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4" y="13940"/>
                  <a:pt x="474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299"/>
                  <a:pt x="6247" y="20299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6"/>
                  <a:pt x="11036" y="21596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6"/>
                  <a:pt x="15802" y="18946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-1"/>
                  <a:pt x="16758" y="-1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-1"/>
                  <a:pt x="13174" y="-1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49"/>
                  <a:pt x="9358" y="649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1"/>
                  <a:pt x="5288" y="1971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09"/>
                  <a:pt x="2172" y="13109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6"/>
          <p:cNvSpPr/>
          <p:nvPr/>
        </p:nvSpPr>
        <p:spPr>
          <a:xfrm flipV="1">
            <a:off x="2766960" y="6308640"/>
            <a:ext cx="3648240" cy="39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90"/>
                </a:solidFill>
                <a:latin typeface="Calibri"/>
              </a:rPr>
              <a:t>Two Types of Application Processes Communication</a:t>
            </a:r>
            <a:endParaRPr b="0" lang="en-US" sz="38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1295280"/>
            <a:ext cx="81536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atagram Socket (UDP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lection of mess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tream Socket (TCP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eam of by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nection-orien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514F10-0E89-421C-A6F6-6DCC1242A5B3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2320" y="75960"/>
            <a:ext cx="903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90"/>
                </a:solidFill>
                <a:latin typeface="Calibri"/>
              </a:rPr>
              <a:t>User Datagram Protocol (UDP): </a:t>
            </a:r>
            <a:br>
              <a:rPr sz="3800"/>
            </a:br>
            <a:r>
              <a:rPr b="0" lang="en-US" sz="3800" spc="-1" strike="noStrike">
                <a:solidFill>
                  <a:srgbClr val="000090"/>
                </a:solidFill>
                <a:latin typeface="Calibri"/>
              </a:rPr>
              <a:t>Datagram Socket</a:t>
            </a:r>
            <a:endParaRPr b="0" lang="en-US" sz="38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533520" y="1523880"/>
            <a:ext cx="403848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4800600" y="1523880"/>
            <a:ext cx="41148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Postal 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Single mailbox to receive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Unreliable </a:t>
            </a:r>
            <a:r>
              <a:rPr b="0" lang="en-US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Not necessarily in-order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Each letter is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Must address each re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2209680" y="3200400"/>
            <a:ext cx="42674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447920" y="5562720"/>
            <a:ext cx="6400800" cy="7617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Example UDP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ultimedia, voice over IP (Sky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533520" y="1523880"/>
            <a:ext cx="41148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U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ingle socket to receive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No guarantee of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Not necessarily in-order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Datagram – independent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ust address each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4800600" y="1523880"/>
            <a:ext cx="403848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4800600" y="1523880"/>
            <a:ext cx="41148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ostal 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ingle mailbox to receive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Unreli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Not necessarily in-order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Letters sent independently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ust address each 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154F08-F1DB-46F7-8AB8-AFAED8A74F20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2320" y="75960"/>
            <a:ext cx="903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90"/>
                </a:solidFill>
                <a:latin typeface="Calibri"/>
              </a:rPr>
              <a:t>Transmission Control Protocol (TCP): </a:t>
            </a:r>
            <a:br>
              <a:rPr sz="3800"/>
            </a:br>
            <a:r>
              <a:rPr b="0" lang="en-US" sz="3800" spc="-1" strike="noStrike">
                <a:solidFill>
                  <a:srgbClr val="000090"/>
                </a:solidFill>
                <a:latin typeface="Calibri"/>
              </a:rPr>
              <a:t>Stream Socket</a:t>
            </a:r>
            <a:endParaRPr b="0" lang="en-US" sz="38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2209680" y="3200400"/>
            <a:ext cx="42674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533520" y="1523880"/>
            <a:ext cx="403848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4800600" y="1523880"/>
            <a:ext cx="41148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Postal 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Single mailbox to receive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Unreliable </a:t>
            </a:r>
            <a:r>
              <a:rPr b="0" lang="en-US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Not necessarily in-order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Each letter is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Must address each re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1447920" y="5562720"/>
            <a:ext cx="6400800" cy="7617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Example TCP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eb, Email, Tel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533520" y="1523880"/>
            <a:ext cx="40384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eliable – guarantee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Byte stream – in-order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onnection-oriented – single socket per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etup connection followed by data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4800600" y="1523880"/>
            <a:ext cx="403848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4800600" y="1523880"/>
            <a:ext cx="41148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elephone 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Guaranteed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n-order deliv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onnection-ori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etup connection followed by conver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F18F76-09EC-4AC5-A7A7-67747D2DCB08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90"/>
                </a:solidFill>
                <a:latin typeface="Calibri"/>
              </a:rPr>
              <a:t>Socket Identification</a:t>
            </a:r>
            <a:endParaRPr b="0" lang="en-US" sz="40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09120" y="1295280"/>
            <a:ext cx="81536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Communication Protocol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CP (Stream Socket): streaming, relia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DP (Datagram Socket): packets, best eff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Receiving host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tination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ddres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at uniquely identifies the ho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IP addres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s a 32-bit quant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Receiving socket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st may be running many different proces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tination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or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at uniquely identifies the sock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ort number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a 16-bit quant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DCA25D-48E0-41A2-9E31-480264295508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ocket Identification (Cont.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3813120" y="3692520"/>
            <a:ext cx="1455840" cy="52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13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/U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3813120" y="4532400"/>
            <a:ext cx="1455840" cy="52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13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485160" y="5651640"/>
            <a:ext cx="2103840" cy="579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13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ernet Adap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4518000" y="4216320"/>
            <a:ext cx="1440" cy="311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4530600" y="507996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3127320" y="3419640"/>
            <a:ext cx="2881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-49320" bIns="-49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2778120" y="1525680"/>
            <a:ext cx="3666960" cy="494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2"/>
          <p:cNvSpPr/>
          <p:nvPr/>
        </p:nvSpPr>
        <p:spPr>
          <a:xfrm>
            <a:off x="3968640" y="2708280"/>
            <a:ext cx="220680" cy="222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4121280" y="2930400"/>
            <a:ext cx="236520" cy="762120"/>
          </a:xfrm>
          <a:prstGeom prst="line">
            <a:avLst/>
          </a:prstGeom>
          <a:ln w="255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4"/>
          <p:cNvSpPr/>
          <p:nvPr/>
        </p:nvSpPr>
        <p:spPr>
          <a:xfrm>
            <a:off x="5035680" y="2708280"/>
            <a:ext cx="220680" cy="2221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5"/>
          <p:cNvSpPr/>
          <p:nvPr/>
        </p:nvSpPr>
        <p:spPr>
          <a:xfrm flipH="1">
            <a:off x="4605120" y="2889360"/>
            <a:ext cx="471240" cy="803160"/>
          </a:xfrm>
          <a:prstGeom prst="line">
            <a:avLst/>
          </a:prstGeom>
          <a:ln w="255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6"/>
          <p:cNvSpPr/>
          <p:nvPr/>
        </p:nvSpPr>
        <p:spPr>
          <a:xfrm>
            <a:off x="3006720" y="5369040"/>
            <a:ext cx="3247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-49320" bIns="-49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3511440" y="1946160"/>
            <a:ext cx="106704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13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4578480" y="1946160"/>
            <a:ext cx="106668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13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9"/>
          <p:cNvSpPr/>
          <p:nvPr/>
        </p:nvSpPr>
        <p:spPr>
          <a:xfrm>
            <a:off x="3248640" y="2813040"/>
            <a:ext cx="7448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ort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5280480" y="2813040"/>
            <a:ext cx="7448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ort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21"/>
          <p:cNvSpPr/>
          <p:nvPr/>
        </p:nvSpPr>
        <p:spPr>
          <a:xfrm>
            <a:off x="6035760" y="4738680"/>
            <a:ext cx="8334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3"/>
          <p:cNvSpPr/>
          <p:nvPr/>
        </p:nvSpPr>
        <p:spPr>
          <a:xfrm>
            <a:off x="6872400" y="453564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25"/>
          <p:cNvSpPr/>
          <p:nvPr/>
        </p:nvSpPr>
        <p:spPr>
          <a:xfrm>
            <a:off x="6039000" y="3989520"/>
            <a:ext cx="8316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6"/>
          <p:cNvSpPr/>
          <p:nvPr/>
        </p:nvSpPr>
        <p:spPr>
          <a:xfrm>
            <a:off x="6877800" y="37861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traight Connector 27"/>
          <p:cNvSpPr/>
          <p:nvPr/>
        </p:nvSpPr>
        <p:spPr>
          <a:xfrm>
            <a:off x="6024600" y="3019320"/>
            <a:ext cx="8334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8"/>
          <p:cNvSpPr/>
          <p:nvPr/>
        </p:nvSpPr>
        <p:spPr>
          <a:xfrm>
            <a:off x="6866640" y="281628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C4B829-8C02-4392-89F3-88BF1F30E8AE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14:49:54Z</dcterms:created>
  <dc:creator>Prem Gopalan</dc:creator>
  <dc:description/>
  <dc:language>en-US</dc:language>
  <cp:lastModifiedBy>Xiaozhou Li</cp:lastModifiedBy>
  <dcterms:modified xsi:type="dcterms:W3CDTF">2012-02-09T17:10:51Z</dcterms:modified>
  <cp:revision>100</cp:revision>
  <dc:subject/>
  <dc:title>UNIX Sockets</dc:title>
</cp:coreProperties>
</file>