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51886-E1A2-46DE-AF5E-9EE41CDB6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C7A56-345A-47AA-8991-7F70E2D53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34D3A-F5FB-49E6-A37B-F9D65F4EE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71927-FC9C-444A-BC69-344DDFC8F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8FB76-39A9-4641-9118-45CF9C2C1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fficient:  disk I/O, multiple 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11B58-5330-4DD2-882B-A248C4D8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48B-5C71-4F39-9A18-5804255E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400176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338-C348-4687-B277-B8DF1EA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2A73-82BF-4AB2-AA98-56B47B8A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29528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0017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163-8CB6-43EC-87E6-95B9845D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CB4-6D16-4379-AB52-63750DA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2A0-1FA0-47A0-94AC-34E42140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801-7E9E-4E42-896F-1978EC5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FD4-5699-46C9-8A2E-3D013B7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716-EE79-4BFA-AA8C-5030ADDB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131-A01C-47BF-AC53-420C4C0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40017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718-5280-4D49-AA8F-416264A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29528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4001760"/>
            <a:ext cx="8153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E46-B1F0-4968-BC4A-4F2776E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8BF04-6C1C-488E-96AB-078304DB703A}" type="datetime">
              <a:rPr b="0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5FCE1-884D-444B-910E-34394CE87C0C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ana.org/assignments/port-numbers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pache.org/" TargetMode="External"/><Relationship Id="rId2" Type="http://schemas.openxmlformats.org/officeDocument/2006/relationships/hyperlink" Target="http://www.isc.org/index.pl?/sw/bind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IX Socke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S 461 Precept 1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s and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415296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pro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on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s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b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62440" y="1219320"/>
            <a:ext cx="41529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pro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on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eb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CC478-2EE4-49A2-90EE-6FBE71F483C6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j0292020"/>
          <p:cNvPicPr/>
          <p:nvPr/>
        </p:nvPicPr>
        <p:blipFill>
          <a:blip r:embed="rId1"/>
          <a:stretch/>
        </p:blipFill>
        <p:spPr>
          <a:xfrm>
            <a:off x="923760" y="4016520"/>
            <a:ext cx="1868760" cy="177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285750"/>
          <p:cNvPicPr/>
          <p:nvPr/>
        </p:nvPicPr>
        <p:blipFill>
          <a:blip r:embed="rId2"/>
          <a:stretch/>
        </p:blipFill>
        <p:spPr>
          <a:xfrm>
            <a:off x="5916600" y="4292640"/>
            <a:ext cx="2497320" cy="153504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7"/>
          <p:cNvSpPr/>
          <p:nvPr/>
        </p:nvSpPr>
        <p:spPr>
          <a:xfrm>
            <a:off x="2652840" y="3817800"/>
            <a:ext cx="3571920" cy="77472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 flipH="1" flipV="1">
            <a:off x="2652840" y="5475240"/>
            <a:ext cx="3571920" cy="774720"/>
          </a:xfrm>
          <a:custGeom>
            <a:avLst/>
            <a:gdLst>
              <a:gd name="textAreaLeft" fmla="*/ 360 w 3571920"/>
              <a:gd name="textAreaRight" fmla="*/ 3572640 w 3571920"/>
              <a:gd name="textAreaTop" fmla="*/ 360 h 774720"/>
              <a:gd name="textAreaBottom" fmla="*/ 775440 h 77472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33240" y="3273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810160" y="6275520"/>
            <a:ext cx="33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e under constructi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-Server Communi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lient 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ometimes 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s a request to the server when inter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eb browser on your laptop or cell ph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communicate directly with other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to know server’s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erver is 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lways 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les services requests from many client h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Web server for 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nn.co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b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initiate contact with the cl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s fixed, known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3CBB1-260F-4F03-8BA8-4E5A5A4F5AA6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j0292020"/>
          <p:cNvPicPr/>
          <p:nvPr/>
        </p:nvPicPr>
        <p:blipFill>
          <a:blip r:embed="rId2"/>
          <a:stretch/>
        </p:blipFill>
        <p:spPr>
          <a:xfrm>
            <a:off x="1981080" y="4875120"/>
            <a:ext cx="1600200" cy="166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285750"/>
          <p:cNvPicPr/>
          <p:nvPr/>
        </p:nvPicPr>
        <p:blipFill>
          <a:blip r:embed="rId3"/>
          <a:stretch/>
        </p:blipFill>
        <p:spPr>
          <a:xfrm>
            <a:off x="6121440" y="5135400"/>
            <a:ext cx="2138400" cy="144324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7"/>
          <p:cNvSpPr/>
          <p:nvPr/>
        </p:nvSpPr>
        <p:spPr>
          <a:xfrm>
            <a:off x="3325680" y="4894200"/>
            <a:ext cx="3059280" cy="728640"/>
          </a:xfrm>
          <a:custGeom>
            <a:avLst/>
            <a:gdLst>
              <a:gd name="textAreaLeft" fmla="*/ 0 w 3059280"/>
              <a:gd name="textAreaRight" fmla="*/ 3059640 w 305928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 flipH="1" flipV="1">
            <a:off x="3325680" y="5758560"/>
            <a:ext cx="3059280" cy="729000"/>
          </a:xfrm>
          <a:custGeom>
            <a:avLst/>
            <a:gdLst>
              <a:gd name="textAreaLeft" fmla="*/ 360 w 3059280"/>
              <a:gd name="textAreaRight" fmla="*/ 3060000 w 3059280"/>
              <a:gd name="textAreaTop" fmla="*/ -360 h 729000"/>
              <a:gd name="textAreaBottom" fmla="*/ 729000 h 729000"/>
            </a:gdLst>
            <a:ahLst/>
            <a:rect l="textAreaLeft" t="textAreaTop" r="textAreaRight" b="textAreaBottom"/>
            <a:pathLst>
              <a:path w="2250" h="488">
                <a:moveTo>
                  <a:pt x="0" y="488"/>
                </a:moveTo>
                <a:cubicBezTo>
                  <a:pt x="357" y="248"/>
                  <a:pt x="714" y="8"/>
                  <a:pt x="1089" y="4"/>
                </a:cubicBezTo>
                <a:cubicBezTo>
                  <a:pt x="1464" y="0"/>
                  <a:pt x="1857" y="232"/>
                  <a:pt x="2250" y="4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 and Server Proc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ient proc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that initiates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rver Proc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cess that waits to be conta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D0768-D2C9-42E0-A428-768EDBBC5D4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Knowing What Port Number To Use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pular applications have well-known por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ort 80 for Web and port 25 for e-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ana.org/assignments/port-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ell-known vs. ephemeral por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has a well-known port (e.g., port 8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0 and 1023 (requires root to u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picks an unused ephemeral (i.e., temporary) 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tween 1024 and 655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Uniquely identifying traffic between the host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IP addresses and two port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lying transport protocol (e.g., TCP or U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A07F0-401A-489E-A62C-90B962332CF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Ports to Identify Servi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5BBB-1125-491F-A797-6C6C88E1AD0A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555480" y="2184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975200" y="1708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55480" y="511164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975200" y="4635360"/>
            <a:ext cx="350532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6485040" y="1827360"/>
            <a:ext cx="174600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93280" y="1792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251680" y="133524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698480" y="26989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6499080" y="2774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935000" y="1647720"/>
            <a:ext cx="293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6118200" y="23936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85040" y="4754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1698480" y="562608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6499080" y="570240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ort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49200" y="46054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.e., the echo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6108840" y="5694480"/>
            <a:ext cx="457200" cy="228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3070080" y="3340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0"/>
          <p:cNvSpPr/>
          <p:nvPr/>
        </p:nvSpPr>
        <p:spPr>
          <a:xfrm>
            <a:off x="5127480" y="2470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5127480" y="5397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731520" y="2498760"/>
            <a:ext cx="9943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731520" y="5425920"/>
            <a:ext cx="99432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344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Client-Server Communication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Stream Sockets (TCP): Connection-oriented 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595520" y="1677960"/>
            <a:ext cx="16714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454040" y="2365200"/>
            <a:ext cx="1917720" cy="59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what port am I on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111320" y="3270240"/>
            <a:ext cx="2693880" cy="596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fo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Wait for incoming connec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454040" y="4290840"/>
            <a:ext cx="2017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454040" y="5068800"/>
            <a:ext cx="18129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593720" y="6143760"/>
            <a:ext cx="1673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991160" y="1276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2265480" y="206208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2265120" y="2951280"/>
            <a:ext cx="19080" cy="322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2284560" y="387036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2265480" y="4660920"/>
            <a:ext cx="0" cy="407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2265480" y="5465880"/>
            <a:ext cx="19080" cy="65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6721560" y="287640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434280" y="341460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6434280" y="410688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 t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6434280" y="490392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6959520" y="378468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6959520" y="4475160"/>
            <a:ext cx="0" cy="42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 flipH="1">
            <a:off x="3471480" y="4238640"/>
            <a:ext cx="2962440" cy="23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6"/>
          <p:cNvSpPr/>
          <p:nvPr/>
        </p:nvSpPr>
        <p:spPr>
          <a:xfrm rot="21237000">
            <a:off x="3710160" y="397332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3266640" y="5068800"/>
            <a:ext cx="314964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 rot="21358200">
            <a:off x="3823560" y="47498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1"/>
          <p:cNvSpPr/>
          <p:nvPr/>
        </p:nvSpPr>
        <p:spPr>
          <a:xfrm>
            <a:off x="6434280" y="6299280"/>
            <a:ext cx="18619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3267000" y="6299280"/>
            <a:ext cx="314964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3"/>
          <p:cNvSpPr/>
          <p:nvPr/>
        </p:nvSpPr>
        <p:spPr>
          <a:xfrm rot="247800">
            <a:off x="4138200" y="605952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6969240" y="5273640"/>
            <a:ext cx="0" cy="10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EC720-0894-48B7-A84E-DFC82D4DF727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5360" y="7596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Client-Server Communication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Datagram Sockets (UDP): Connectionless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68440" y="240048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68440" y="309240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468440" y="414648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468440" y="5315040"/>
            <a:ext cx="1879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783440" y="18637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139840" y="278460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139840" y="3462480"/>
            <a:ext cx="0" cy="68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2139840" y="4471920"/>
            <a:ext cx="0" cy="843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689880" y="21286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402240" y="2666880"/>
            <a:ext cx="1739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a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6402240" y="3359160"/>
            <a:ext cx="1739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402240" y="4075200"/>
            <a:ext cx="19051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3"/>
          <p:cNvSpPr/>
          <p:nvPr/>
        </p:nvSpPr>
        <p:spPr>
          <a:xfrm>
            <a:off x="7072200" y="305100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7072200" y="374184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7"/>
          <p:cNvSpPr/>
          <p:nvPr/>
        </p:nvSpPr>
        <p:spPr>
          <a:xfrm flipH="1">
            <a:off x="3348000" y="4227480"/>
            <a:ext cx="3054240" cy="10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 rot="21346200">
            <a:off x="3913920" y="39096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6402240" y="5470560"/>
            <a:ext cx="19051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eiv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2"/>
          <p:cNvSpPr/>
          <p:nvPr/>
        </p:nvSpPr>
        <p:spPr>
          <a:xfrm>
            <a:off x="3348000" y="5470560"/>
            <a:ext cx="3054240" cy="19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3"/>
          <p:cNvSpPr/>
          <p:nvPr/>
        </p:nvSpPr>
        <p:spPr>
          <a:xfrm rot="247800">
            <a:off x="4188240" y="5176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7075440" y="4471920"/>
            <a:ext cx="38160" cy="99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A889D-507F-4A51-8182-BDC79DFCFF0D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NIX Socket API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interf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iginally provided in Berkeley UN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 adopted by all popular opera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fies porting applications to different 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UNIX, everything is like a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put is like read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utput is like writ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is represented by an integer file descrip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I implemented as system c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nect, send, recv, close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629D0-2314-495A-AF46-E82EF45107DB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onnection-oriented Example </a:t>
            </a:r>
            <a:br>
              <a:rPr sz="4000"/>
            </a:b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(Stream Sockets -TCP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595520" y="194940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595520" y="264168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593720" y="3357720"/>
            <a:ext cx="10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593720" y="426240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p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95520" y="4925880"/>
            <a:ext cx="1006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593720" y="6000840"/>
            <a:ext cx="10083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877040" y="14796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2265480" y="233352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2265480" y="30243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2265480" y="3722760"/>
            <a:ext cx="0" cy="51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2265480" y="4633920"/>
            <a:ext cx="0" cy="29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5"/>
          <p:cNvSpPr/>
          <p:nvPr/>
        </p:nvSpPr>
        <p:spPr>
          <a:xfrm>
            <a:off x="2265480" y="5322960"/>
            <a:ext cx="19080" cy="65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6721560" y="28144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6434280" y="335268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434280" y="404496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6434280" y="476100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3"/>
          <p:cNvSpPr/>
          <p:nvPr/>
        </p:nvSpPr>
        <p:spPr>
          <a:xfrm>
            <a:off x="6959520" y="37227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6959520" y="444816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5"/>
          <p:cNvSpPr/>
          <p:nvPr/>
        </p:nvSpPr>
        <p:spPr>
          <a:xfrm flipH="1">
            <a:off x="2599920" y="4235400"/>
            <a:ext cx="3816360" cy="212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 rot="21359400">
            <a:off x="3567240" y="3968280"/>
            <a:ext cx="22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7"/>
          <p:cNvSpPr/>
          <p:nvPr/>
        </p:nvSpPr>
        <p:spPr>
          <a:xfrm flipH="1">
            <a:off x="2602080" y="4925880"/>
            <a:ext cx="3814560" cy="204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 rot="21358200">
            <a:off x="3823560" y="4595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1"/>
          <p:cNvSpPr/>
          <p:nvPr/>
        </p:nvSpPr>
        <p:spPr>
          <a:xfrm>
            <a:off x="6434280" y="6156360"/>
            <a:ext cx="11030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2602080" y="6224760"/>
            <a:ext cx="3814560" cy="14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3"/>
          <p:cNvSpPr/>
          <p:nvPr/>
        </p:nvSpPr>
        <p:spPr>
          <a:xfrm rot="247800">
            <a:off x="4138200" y="591660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6969240" y="5130720"/>
            <a:ext cx="0" cy="10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32181-69EC-4400-86C9-042FE8FDB373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onnectionless Example </a:t>
            </a:r>
            <a:br>
              <a:rPr sz="4000"/>
            </a:b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(Datagram Sockets - UDP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371600" y="223992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371600" y="293220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403280" y="403380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403280" y="5018040"/>
            <a:ext cx="11746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686600" y="17035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2043000" y="262404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2043000" y="3314880"/>
            <a:ext cx="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2075040" y="4403880"/>
            <a:ext cx="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6624720" y="183204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6337440" y="237024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ke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1"/>
          <p:cNvSpPr/>
          <p:nvPr/>
        </p:nvSpPr>
        <p:spPr>
          <a:xfrm>
            <a:off x="6337440" y="306216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6337440" y="377820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to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7007400" y="2754360"/>
            <a:ext cx="0" cy="30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4"/>
          <p:cNvSpPr/>
          <p:nvPr/>
        </p:nvSpPr>
        <p:spPr>
          <a:xfrm>
            <a:off x="7007400" y="3444840"/>
            <a:ext cx="0" cy="308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7"/>
          <p:cNvSpPr/>
          <p:nvPr/>
        </p:nvSpPr>
        <p:spPr>
          <a:xfrm flipH="1">
            <a:off x="2577600" y="3944880"/>
            <a:ext cx="3759480" cy="23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 rot="21358200">
            <a:off x="3848400" y="36129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6337440" y="5173560"/>
            <a:ext cx="1195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vfrom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2577960" y="5173560"/>
            <a:ext cx="3759480" cy="192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3"/>
          <p:cNvSpPr/>
          <p:nvPr/>
        </p:nvSpPr>
        <p:spPr>
          <a:xfrm rot="247800">
            <a:off x="4123080" y="48794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(rep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7010280" y="4175280"/>
            <a:ext cx="38160" cy="998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84099-BEBD-4283-83CB-05BB7A6FA016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Socket and Process Communication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5638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The interface that the OS provides to its networking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627520" y="2857680"/>
            <a:ext cx="2746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627520" y="4005360"/>
            <a:ext cx="2746080" cy="920880"/>
            <a:chOff x="5627520" y="4005360"/>
            <a:chExt cx="2746080" cy="920880"/>
          </a:xfrm>
        </p:grpSpPr>
        <p:sp>
          <p:nvSpPr>
            <p:cNvPr id="54" name="Text Box 6"/>
            <p:cNvSpPr/>
            <p:nvPr/>
          </p:nvSpPr>
          <p:spPr>
            <a:xfrm>
              <a:off x="5627520" y="400536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ransport layer (TCP/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627520" y="430992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network layer (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5627520" y="4619160"/>
              <a:ext cx="2746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link layer (e.g. ethern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1063800" y="2867040"/>
            <a:ext cx="259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1063800" y="4014720"/>
            <a:ext cx="2593440" cy="921240"/>
            <a:chOff x="1063800" y="4014720"/>
            <a:chExt cx="2593440" cy="921240"/>
          </a:xfrm>
        </p:grpSpPr>
        <p:sp>
          <p:nvSpPr>
            <p:cNvPr id="59" name="Text Box 12"/>
            <p:cNvSpPr/>
            <p:nvPr/>
          </p:nvSpPr>
          <p:spPr>
            <a:xfrm>
              <a:off x="1063800" y="401472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transport layer (TCP/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1063800" y="431964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network layer (I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1063800" y="4628880"/>
              <a:ext cx="2593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1400" spc="-1" strike="noStrike">
                  <a:solidFill>
                    <a:srgbClr val="000000"/>
                  </a:solidFill>
                  <a:latin typeface="Arial"/>
                </a:rPr>
                <a:t>link layer (e.g. ethern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16"/>
          <p:cNvSpPr/>
          <p:nvPr/>
        </p:nvSpPr>
        <p:spPr>
          <a:xfrm>
            <a:off x="1523880" y="394344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01j"/>
          <p:cNvPicPr/>
          <p:nvPr/>
        </p:nvPicPr>
        <p:blipFill>
          <a:blip r:embed="rId1"/>
          <a:stretch/>
        </p:blipFill>
        <p:spPr>
          <a:xfrm>
            <a:off x="1762200" y="1700280"/>
            <a:ext cx="1285920" cy="961920"/>
          </a:xfrm>
          <a:prstGeom prst="rect">
            <a:avLst/>
          </a:prstGeom>
          <a:ln w="0">
            <a:noFill/>
          </a:ln>
        </p:spPr>
      </p:pic>
      <p:sp>
        <p:nvSpPr>
          <p:cNvPr id="64" name="Oval 19"/>
          <p:cNvSpPr/>
          <p:nvPr/>
        </p:nvSpPr>
        <p:spPr>
          <a:xfrm>
            <a:off x="1204200" y="3124800"/>
            <a:ext cx="2315880" cy="52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5833440" y="3132720"/>
            <a:ext cx="2315880" cy="52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3309840" y="3424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01j"/>
          <p:cNvPicPr/>
          <p:nvPr/>
        </p:nvPicPr>
        <p:blipFill>
          <a:blip r:embed="rId2"/>
          <a:stretch/>
        </p:blipFill>
        <p:spPr>
          <a:xfrm>
            <a:off x="6324480" y="1681200"/>
            <a:ext cx="1285920" cy="961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3"/>
          <p:cNvSpPr/>
          <p:nvPr/>
        </p:nvSpPr>
        <p:spPr>
          <a:xfrm>
            <a:off x="1890720" y="3562200"/>
            <a:ext cx="939960" cy="4921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4"/>
          <p:cNvSpPr/>
          <p:nvPr/>
        </p:nvSpPr>
        <p:spPr>
          <a:xfrm>
            <a:off x="6172200" y="394344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6527880" y="3562200"/>
            <a:ext cx="939600" cy="49212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6"/>
          <p:cNvGrpSpPr/>
          <p:nvPr/>
        </p:nvGrpSpPr>
        <p:grpSpPr>
          <a:xfrm>
            <a:off x="3319560" y="4172040"/>
            <a:ext cx="2743200" cy="368280"/>
            <a:chOff x="3319560" y="4172040"/>
            <a:chExt cx="2743200" cy="368280"/>
          </a:xfrm>
        </p:grpSpPr>
        <p:sp>
          <p:nvSpPr>
            <p:cNvPr id="72" name="Line 27"/>
            <p:cNvSpPr/>
            <p:nvPr/>
          </p:nvSpPr>
          <p:spPr>
            <a:xfrm>
              <a:off x="3319560" y="4476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8"/>
            <p:cNvSpPr/>
            <p:nvPr/>
          </p:nvSpPr>
          <p:spPr>
            <a:xfrm>
              <a:off x="4162320" y="41720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9"/>
          <p:cNvGrpSpPr/>
          <p:nvPr/>
        </p:nvGrpSpPr>
        <p:grpSpPr>
          <a:xfrm>
            <a:off x="3427560" y="4508640"/>
            <a:ext cx="2468160" cy="368280"/>
            <a:chOff x="3427560" y="4508640"/>
            <a:chExt cx="2468160" cy="368280"/>
          </a:xfrm>
        </p:grpSpPr>
        <p:sp>
          <p:nvSpPr>
            <p:cNvPr id="75" name="Line 30"/>
            <p:cNvSpPr/>
            <p:nvPr/>
          </p:nvSpPr>
          <p:spPr>
            <a:xfrm>
              <a:off x="3427560" y="4832280"/>
              <a:ext cx="246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31"/>
            <p:cNvSpPr/>
            <p:nvPr/>
          </p:nvSpPr>
          <p:spPr>
            <a:xfrm>
              <a:off x="4176720" y="450864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angle 32"/>
          <p:cNvSpPr/>
          <p:nvPr/>
        </p:nvSpPr>
        <p:spPr>
          <a:xfrm>
            <a:off x="4175280" y="31226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83855-1D95-4C32-A99E-3ECC24222964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2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Client: Learning Server Address/Port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94760" y="1218960"/>
            <a:ext cx="8796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Server typically known by name and servic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nn.co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Need to translate into IP address and port #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.236.16.2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Get address info with given host name and servic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getaddrinfo(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*node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 *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addrinfo *hint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addrinfo **resul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*no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ost name (e.g.,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cnn.com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or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*serv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ort number or service listed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/etc/servic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e.g. ft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oints to a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uct addrinf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known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2C3F0-86F2-4CC4-9BB0-F791A20164B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160" y="75960"/>
            <a:ext cx="905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90"/>
                </a:solidFill>
                <a:latin typeface="Calibri"/>
              </a:rPr>
              <a:t>Client: Learning Server Address/Port (cont.)</a:t>
            </a:r>
            <a:endParaRPr b="0" lang="en-US" sz="39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2160" y="1295280"/>
            <a:ext cx="8889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Data structure to host address information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addrinfo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flags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family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AF_INET for IPv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socketype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SOCK_STREAM for 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protocol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e.g. IPPROTO_TC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_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i_addrle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canon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ckadd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addr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int to sockaddr str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ai_nex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Exampl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hints.ai_family = AF_UNSPEC;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on't care IPv4 or IPv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hints.ai_socktype = SOCK_STREAM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CP stream socke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tatus = getaddrinfo("www.cnn.com", ”80", &amp;hints, &amp;result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w points to a linked list of 1 or more addrinf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7141D-4E5A-452D-94D3-8647E83E71A3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Creating a So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7120" y="1055520"/>
            <a:ext cx="9056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Creating a socket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ocket(int domain, int type, int protoco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turns a file descriptor (or handle) for the soc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Domain: protocol family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F_INET for IPv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F_INET6 for IPv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Type: semantics of the communication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K_STREAM: reliable byte stream (TC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K_DGRAM: message-oriented service (UD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Protocol: specific protocol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SPEC: un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PF_INET and SOCK_STREAM already implies TC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Example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fd = socket(result-&gt;ai_family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socktyp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protocol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6BDAD-57CD-4FFA-BCCF-51B91157224E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480" y="75960"/>
            <a:ext cx="89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lient: Connecting Socket to the Server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106992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ient contacts the server to establish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 the socket with the server address/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quire a local port number (assigned by the 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connection to server, who hopefully accep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Establishing the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connect(int sockfd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server_address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etlen_t addrlen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s: socket descriptor, server address, and address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0 on success, and -1 if an error occ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onnect(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f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add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sult-&gt;ai_addrle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BE278-6DB6-47D1-9DBD-345126465A79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Send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12680" y="1295280"/>
            <a:ext cx="8879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end(int sockfd, void *msg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_t len, int fla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et descriptor, pointer to buffer of data to send, and length of the buf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the number of bytes written, and -1 on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turn only after data is 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short messages into a buffer and send o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760C8-7B5B-49D9-82DD-4CE2EBB147F1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: Receiv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76040" y="1295280"/>
            <a:ext cx="881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recv(int sockfd, void *buf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ize_t len, int flag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et descriptor, pointer to buffer to place the data, size of the buf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the number of characters read (where 0 implies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d of file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, and -1 on err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y do you need len? What happens if buf’s size &lt; l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v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turn only after data is recei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A13F4-CC49-4886-91D3-81FE6E5FF519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Server Preparing its So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09120" y="1218960"/>
            <a:ext cx="815364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Server creates a socket and binds address/por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reates a socket, just like the clien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associates the socket with the port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Create a socke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socket(int domain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type, int protocol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00000"/>
                </a:solidFill>
                <a:latin typeface="Calibri"/>
              </a:rPr>
              <a:t>Bind socket to the local address and port number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bind(int sockf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my_addr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ocklen_t addrlen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DCC95-6D78-41F8-A110-2643933C1D60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Allowing Clients to Wa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ny client requests may arriv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annot handle them all at the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er could reject the requests, or let them wa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efine how many connections can be pend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listen(int sockfd, int back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guments: socket descriptor and acceptable back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 a 0 on success, and -1 o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en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n-block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turns immediat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hat if too many clients arrive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requests do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get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net makes no promis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client can always try ag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0EB0E-3222-467A-91AF-A3F54ACA5096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MCj03553190000[1]"/>
          <p:cNvPicPr/>
          <p:nvPr/>
        </p:nvPicPr>
        <p:blipFill>
          <a:blip r:embed="rId1"/>
          <a:stretch/>
        </p:blipFill>
        <p:spPr>
          <a:xfrm>
            <a:off x="6877080" y="4619520"/>
            <a:ext cx="1511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90"/>
                </a:solidFill>
                <a:latin typeface="Calibri"/>
              </a:rPr>
              <a:t>Server: Accepting Client Connection</a:t>
            </a:r>
            <a:endParaRPr b="0" lang="en-US" sz="43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120" y="12949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Now all the server can do is wait…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its for connection request to arr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lock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until the request arr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n accepting the new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pt a new connection from a clien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accept(int sockfd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struct sockaddr *addr,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Courier New"/>
              </a:rPr>
              <a:t> socketlen_t *addrl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guments: sockfd, structure that will provide client address and port, and length of th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urns descriptor of socket for this new conn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DBDF3-5F2B-4483-B970-855D8DCA394B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MCj04300470000[1]"/>
          <p:cNvPicPr/>
          <p:nvPr/>
        </p:nvPicPr>
        <p:blipFill>
          <a:blip r:embed="rId1"/>
          <a:stretch/>
        </p:blipFill>
        <p:spPr>
          <a:xfrm>
            <a:off x="6723000" y="1257480"/>
            <a:ext cx="189540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ent and Server: Cleaning Hou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Once the connection is ope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sides and read and wri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wo unidirectional streams of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practice, client writes first, and server rea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server writes, and client reads, and so 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losing down the conn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ther side can close the conn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close(int sockf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hat about the data still </a:t>
            </a:r>
            <a:r>
              <a:rPr b="0" lang="ja-JP" sz="30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in flight</a:t>
            </a:r>
            <a:r>
              <a:rPr b="0" lang="ja-JP" sz="30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in flight still reaches the other 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, server can </a:t>
            </a:r>
            <a:r>
              <a:rPr b="1" lang="en-US" sz="2300" spc="-1" strike="noStrike">
                <a:solidFill>
                  <a:srgbClr val="0000ff"/>
                </a:solidFill>
                <a:latin typeface="Courier New"/>
                <a:ea typeface="Courier New"/>
              </a:rPr>
              <a:t>close()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fore client finishes re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95964-5465-4838-B1C7-7C3498604EFA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Delivering the Data: Division of Labor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data packet to the destination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destinati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erating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data to the destination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destination port number (e.g., 8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from and write data to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ret the data (e.g., render a Web pa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865A8-0805-4DB3-8CF2-C8274BD60818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Cj03963060000[1]"/>
          <p:cNvPicPr/>
          <p:nvPr/>
        </p:nvPicPr>
        <p:blipFill>
          <a:blip r:embed="rId1"/>
          <a:stretch/>
        </p:blipFill>
        <p:spPr>
          <a:xfrm>
            <a:off x="7299360" y="2238480"/>
            <a:ext cx="15001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: One Request at a Tim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120" y="115092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rializing requests is inefficien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rver can process just one request at a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other clients must wait until previous one is do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at makes this inefficien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ay need to time share the server machin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ernate between servicing different reque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 a little work on one request, then switch when you are waiting for some other resource (e.g., reading file from dis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blocking I/O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use a different process/thread for each requ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OS to share the CPU(s) across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, some hybrid of these two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03853-CFEF-4917-8CFA-40F1940546EF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e Multiple Clients using fork(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0840" y="1295280"/>
            <a:ext cx="8820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eps to handle multipl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to a loop and accept connections using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accep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ter a connection is established, call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fork(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create a new child process to handle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o back to listen for another socket in the parent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close(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when you are do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ant to know more?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343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ckout out </a:t>
            </a:r>
            <a:r>
              <a:rPr b="0" i="1" lang="en-US" sz="2600" spc="-1" strike="noStrike">
                <a:solidFill>
                  <a:srgbClr val="0000ff"/>
                </a:solidFill>
                <a:latin typeface="Calibri"/>
              </a:rPr>
              <a:t>Beej's guide to network progra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38B6E-A173-46DF-A5DA-A6EB8F16D2D1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90"/>
                </a:solidFill>
                <a:latin typeface="Calibri"/>
              </a:rPr>
              <a:t>Wanna See Real Clients and Servers?</a:t>
            </a:r>
            <a:endParaRPr b="0" lang="en-US" sz="4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pache Web server 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en source server first released in 199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ame derives from 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atchy server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;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ftware available online at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pache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ozilla Web browser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mozilla.org/developer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endmai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www.sendmail.org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BIND Domain Name System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ent resolver and DNS ser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isc.org/index.pl?/sw/bind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…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614B3-E5A9-44E0-A633-742F5C8C1A47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90"/>
                </a:solidFill>
                <a:latin typeface="Calibri"/>
              </a:rPr>
              <a:t>Socket: End Point of Communication</a:t>
            </a:r>
            <a:endParaRPr b="0" lang="en-US" sz="39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219320"/>
            <a:ext cx="84582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message from one process to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ssage must traverse th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cess sends and receives through a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essence, the doorway leading in/out of the ho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cket as an Application Programming Interf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the creation of network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9F871-6B6F-4510-BCCB-43CDA9761BD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770040" y="4503600"/>
            <a:ext cx="2419200" cy="76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031080" y="4503600"/>
            <a:ext cx="2419200" cy="76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359720" y="5310360"/>
            <a:ext cx="12492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582600" y="5310360"/>
            <a:ext cx="12492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282320" y="46958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581160" y="468324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433160" y="5913360"/>
            <a:ext cx="11120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675120" y="5925960"/>
            <a:ext cx="111204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>
            <a:off x="3227400" y="5925960"/>
            <a:ext cx="2689200" cy="779760"/>
          </a:xfrm>
          <a:custGeom>
            <a:avLst/>
            <a:gdLst>
              <a:gd name="textAreaLeft" fmla="*/ 370440 w 2689200"/>
              <a:gd name="textAreaRight" fmla="*/ 2127600 w 2689200"/>
              <a:gd name="textAreaTop" fmla="*/ 117720 h 779760"/>
              <a:gd name="textAreaBottom" fmla="*/ 626040 h 779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-1" y="8613"/>
                  <a:pt x="-1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4" y="13940"/>
                  <a:pt x="474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299"/>
                  <a:pt x="6247" y="20299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6"/>
                  <a:pt x="11036" y="21596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6"/>
                  <a:pt x="15802" y="18946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-1"/>
                  <a:pt x="16758" y="-1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-1"/>
                  <a:pt x="13174" y="-1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49"/>
                  <a:pt x="9358" y="649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1"/>
                  <a:pt x="5288" y="1971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09"/>
                  <a:pt x="2172" y="13109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 flipV="1">
            <a:off x="2766960" y="6308640"/>
            <a:ext cx="3648240" cy="39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Two Types of Application Processes Communication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gram Socket (UD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eam Socket (T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am of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8111D-12C3-42D8-9F89-F13B2888781B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2320" y="7596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User Datagram Protocol (UDP):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Datagram Socket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3352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ingle mailbox to receiv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nreliable </a:t>
            </a:r>
            <a:r>
              <a:rPr b="0" lang="en-US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Not necessarily 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Each letter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ust address each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209680" y="3200400"/>
            <a:ext cx="4267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47920" y="5562720"/>
            <a:ext cx="6400800" cy="761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 UD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ltimedia, voice over IP (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3352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gle socket to receive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 guarantee of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necessarily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atagram – independen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st address each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80060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ingle mailbox to receive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nrel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ot necessarily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etters sent independentl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ust address each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DD518-F886-420B-B778-A133500B293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2320" y="7596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Transmission Control Protocol (TCP): </a:t>
            </a:r>
            <a:br>
              <a:rPr sz="3800"/>
            </a:br>
            <a:r>
              <a:rPr b="0" lang="en-US" sz="3800" spc="-1" strike="noStrike">
                <a:solidFill>
                  <a:srgbClr val="000090"/>
                </a:solidFill>
                <a:latin typeface="Calibri"/>
              </a:rPr>
              <a:t>Stream Socket</a:t>
            </a:r>
            <a:endParaRPr b="0" lang="en-US" sz="3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09680" y="3200400"/>
            <a:ext cx="42674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3352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Postal 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ingle mailbox to receiv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nreliable </a:t>
            </a:r>
            <a:r>
              <a:rPr b="0" lang="en-US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Not necessarily in-order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Each letter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Must address each 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1447920" y="5562720"/>
            <a:ext cx="6400800" cy="7617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xample TCP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b, Email,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3352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liable – guarante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yte stream – in-order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nection-oriented – single socket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tup connection followed by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800600" y="1523880"/>
            <a:ext cx="40384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80060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elephon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uarante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-orde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nection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tup connection followed by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504d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05F7E-E2C4-47DF-8943-518210DCBA85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Socket Identification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mmunication Protoc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(Stream Socket): streaming, reli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DP (Datagram Socket): packets, best eff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Receiving hos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uniquely identifies the ho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 addr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s a 32-bit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Receiving sock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 may be running many different proc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tinatio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hat uniquely identifies the sock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rt numb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a 16-bit quant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E6070-7144-42D8-BB99-6C503C62D282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cket Identification (Cont.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813120" y="3692520"/>
            <a:ext cx="1455840" cy="52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813120" y="4532400"/>
            <a:ext cx="1455840" cy="52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85160" y="5651640"/>
            <a:ext cx="2103840" cy="57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518000" y="4216320"/>
            <a:ext cx="1440" cy="31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530600" y="507996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7320" y="3419640"/>
            <a:ext cx="28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2778120" y="1525680"/>
            <a:ext cx="3666960" cy="494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968640" y="2708280"/>
            <a:ext cx="220680" cy="222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121280" y="2930400"/>
            <a:ext cx="236520" cy="762120"/>
          </a:xfrm>
          <a:prstGeom prst="line">
            <a:avLst/>
          </a:prstGeom>
          <a:ln w="255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5035680" y="2708280"/>
            <a:ext cx="220680" cy="22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 flipH="1">
            <a:off x="4605120" y="2889360"/>
            <a:ext cx="471240" cy="803160"/>
          </a:xfrm>
          <a:prstGeom prst="line">
            <a:avLst/>
          </a:prstGeom>
          <a:ln w="255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006720" y="5369040"/>
            <a:ext cx="32479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3511440" y="1946160"/>
            <a:ext cx="106704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4578480" y="1946160"/>
            <a:ext cx="10666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3248640" y="2813040"/>
            <a:ext cx="74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rt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5280480" y="2813040"/>
            <a:ext cx="7448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rt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1"/>
          <p:cNvSpPr/>
          <p:nvPr/>
        </p:nvSpPr>
        <p:spPr>
          <a:xfrm>
            <a:off x="6035760" y="4738680"/>
            <a:ext cx="833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6872400" y="4535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5"/>
          <p:cNvSpPr/>
          <p:nvPr/>
        </p:nvSpPr>
        <p:spPr>
          <a:xfrm>
            <a:off x="6039000" y="3989520"/>
            <a:ext cx="831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6877800" y="3786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27"/>
          <p:cNvSpPr/>
          <p:nvPr/>
        </p:nvSpPr>
        <p:spPr>
          <a:xfrm>
            <a:off x="6024600" y="3019320"/>
            <a:ext cx="833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8"/>
          <p:cNvSpPr/>
          <p:nvPr/>
        </p:nvSpPr>
        <p:spPr>
          <a:xfrm>
            <a:off x="6866640" y="28162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8580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F779D-7930-44D5-95F1-6A777EB54E3A}" type="slidenum">
              <a:rPr b="0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4:49:54Z</dcterms:created>
  <dc:creator>Prem Gopalan</dc:creator>
  <dc:description/>
  <dc:language>en-US</dc:language>
  <cp:lastModifiedBy>Xiaozhou Li</cp:lastModifiedBy>
  <dcterms:modified xsi:type="dcterms:W3CDTF">2012-02-09T17:10:51Z</dcterms:modified>
  <cp:revision>100</cp:revision>
  <dc:subject/>
  <dc:title>UNIX Sockets</dc:title>
</cp:coreProperties>
</file>