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30CD66-1BFD-4379-B96C-BB106F50A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F5CC4E-01C6-428D-8674-B850ACEA8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E0DB92-FDAC-4346-8037-07D6EC3B0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0EB93A-D482-452B-9C12-CF769EB30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935EC6-B68D-4565-8F4D-5A4EAD489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EF6930E-8385-4688-88B3-46C51C193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AB934B-A531-452C-AF54-83DD42614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C0D663-3B34-43C5-804C-CC8C4E9D7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1A526BB-D892-476B-973A-D421CFA47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53A651-B82D-48DD-91E5-AC2463EA4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2F7B5E-7220-4B4E-9270-95FE0E72E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C96BC6-EC1F-4800-BD8F-D13DF56E5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2F6A077-AA02-424D-B318-B8058D55D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265400" y="72864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72720" y="4560480"/>
            <a:ext cx="5367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99EA341-9D10-44BC-A71E-B88B73DD7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1D2DEE-FFDC-492D-ABAF-B8469019A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D19D26-F153-4D99-B1A1-F51E4C8BA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B22E338-B3AC-4B9E-BB29-DFE51D77B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D810C9-84EF-42A5-AB13-57AC55AE3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E70E79-087A-4492-BE05-E891C7F6B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3A1356-18F9-49B8-BFE4-292ACAE1B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7A41E8-9D14-4BA3-AFF8-9D22E30899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369F418-B4CA-41F1-A333-60FE5F651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E6A94A-A5E2-463B-B620-FB7A05BC3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42840" y="4562640"/>
            <a:ext cx="54295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8E12-D432-4C61-AED6-82D91EE2D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651E-AB39-40FB-B560-A19C6E90F5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537F6-7921-483F-9C7B-2521238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3F48A-C888-4EF2-A861-B7B98AD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2454D-FA7F-461F-B95C-DC2EB63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A29B3-A2A4-4FE7-BE52-EBB54B0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DA9F4-FE2F-4E89-B1F3-54ACE229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29C609-1F75-4EB0-AAD9-28080AD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52AE9-5F01-429F-B5B6-D75DA71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B6A35-829A-41B2-A621-C3EE55BF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88776-19C0-4BB2-B22D-54770274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9A9F4-0502-4EAB-9804-CB8049EC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363-735B-4DBF-9705-58CC288D948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86389-0BE3-4296-AD32-DE064952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5E03C-6D11-468D-915B-C49E11D5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0082A-A0C9-4998-BEED-684E820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3F80E-64F1-467C-BA28-18EC2971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0F445-CAE2-4844-9FAC-D698B6E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643B2-01FB-4EE5-893F-9F1B54E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A4DCB-6558-43AD-A8E9-6E1F824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529BC-5249-4B4E-8BF8-E168668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20F15-C517-420D-84BE-85520DCE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4F83C-D47F-4EF5-92E6-F3B2204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6A46-B372-42E6-B53D-AC2C39176B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C71E0-BF7B-460C-BA4C-85620816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13E8B6-E3B9-4653-82F2-7F2BE289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6E6B58-F94C-4532-9A06-799F8AF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4CAB34-1DCC-4876-8AB5-42A565C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FEDF20-C0C2-4197-8834-F20F6987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829D06-F346-4EBD-81F4-F3AC8455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E3F10-E790-4627-B077-693EE8F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51AD8C-1F41-4D8F-B512-613CF8F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45BDDC-1E77-467D-8190-72AE7C8A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1F688E-BC44-499E-9D61-592428F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48D6F-9664-4133-9760-FE31A466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FE3BDE-294B-4527-B137-C3E18663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E1D21C-7DA0-43C5-B736-D2A78AEB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CAB000-593F-4EC3-96B3-62AB736D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BFEBF-52C8-4629-BF17-85FB9A00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71B5E-4F0D-4AE1-8CEE-4B68FAF5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59595-F31E-4D99-96A0-A64B8466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ED050-040D-4C74-A0C6-023A29DA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0AA02-FCA5-4880-A3E0-DE4D88F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382C4-092C-4AF2-89DC-805DC8E7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ADB55-7E34-4D95-821C-7F101F0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7D59-5D93-46F7-BCB3-A74BDE68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FBA9F-194C-440B-8135-DFF5A8C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EB7D0-60E3-406A-9815-3DA8A09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E438E-FF7A-44AE-BE79-EB4DB9F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DF422-253D-4D91-9B17-3330B905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AD94E-DA31-4BB0-9188-1D07E700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7A4FEE-30AC-4FF4-A67B-DDF44B8B95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5D2F38-DF4D-45E0-9BA7-B1FB788DF6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217C67-A10B-43ED-B4AD-E349A90F097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89914B-6615-4C3B-98F4-03B72FEBB7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2A95B-14D0-4E65-9984-EEC4B0910F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2BCB9-3275-4AAF-B7A7-03786361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F428DD-AAFC-444B-B0A0-1EA0CF6E24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4E70BF-AA35-4EC8-8497-E5CCAD41B67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FB49F5-B748-4EA5-BC59-E1536E645B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A05012-3FB9-4312-BCF4-14BE73CCBF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33AE16-A9B9-47AF-86B4-785A9C2AAA1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C4F750-21B1-4FF8-9C92-76D3C21A0C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19AFBE-03B9-42D8-B8E1-2C96BF054D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0588-220F-4C48-8CF5-060ECEA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AB48C-B39F-4DF5-B734-3A6D1F8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3A67-36AB-4F3D-8EE9-01B828B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1E6C-D6F6-4C29-A63F-B9ABA34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133-3C51-43DE-A1F2-3155B7AED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8EE4C-10AE-4015-9E6E-ABA47EE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5A125-50E8-44F6-94CD-322ABEE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4A0BA-6E25-43ED-8C74-3EADAEF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72C08-5671-4B6F-BF78-3C44FE3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0AEB1-7E60-434D-83E3-562096E3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BD990-AAF9-4810-AFFC-61C9787F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C879D-47AA-4A09-8987-B19C9AC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5E575-16BF-4853-8333-031655F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42778-03F2-4720-9121-E43C83D2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64DE7-32DB-4F40-AC04-33BF1C5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7C4C-B97E-45A9-B6D5-308C7B424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6F7AF-D838-47DC-AFB5-6CC7AC63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179A0-10B2-4F67-BAD7-3AF7A14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134AB-9487-4CA6-A672-3923690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1982F-7B73-4535-9826-1150940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24FD7-9942-46F2-8ED4-833916D5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1A2B9-FF7F-4884-B949-37597E4A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01790-E07C-44E0-9143-8772B619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FF3DC-F646-4EB3-B0CE-CBA615AD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7C289-CA79-41DF-B5EF-F4572A23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B911B-A4A6-4B19-81E3-D5687172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46EA-AB80-4F3A-91F1-0D3A469309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EE3D2-6623-40BA-97DA-02FBA45B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55AF9-5ACF-4239-9557-1D5E2050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417D7-CDC1-417F-A830-7AB4874A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EBD77-F6C0-4795-B80F-CEB34639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61C62-0D64-47B8-8021-F07E88F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48991-E743-4B50-AB98-EFF8134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BBDDA-AB6F-4E2A-A124-4E7E501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FF056-A501-4B34-9A89-41BAFAFD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29DA5-EF7E-4D88-B15F-0C79AB7B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F96B32-D8C5-4D45-A189-FA4001FE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ADBE-1AF6-4649-AD0B-C4D6BF3444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CC932-E44B-4DCA-8091-C47AC24E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A433B-846B-4F92-A620-738DD92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57B8A-1EA3-47C3-A123-E33496F5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E7C24-656A-43D9-98D3-C332351C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3333D3-34D8-4AC1-986E-0BFE0AC9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BA150-A1D4-4E94-B194-4B8FFD3B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008F5-EE3C-40C6-963A-CEB0F2C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42A4B-891B-4223-A728-14AFFA8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E3DFD-D194-49AA-A741-70C309C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FECDE-A226-4D94-A244-A53E62EA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FBCF-B587-4A95-87F0-4D864DAE6B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E4969-55FE-467B-BB1C-9A5746E0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823876-6F2E-41AE-A9F2-97C3BFF0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55A13-7171-46DF-8D8C-F01E64B8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63C493-D823-4A58-84B1-16D07C21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77C6C-D765-4068-801F-6CD5E47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946CE-D8FF-49BC-B8F5-7B1275B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79E26-4AF3-4013-87B7-15E48D5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8E7497-6CEA-4BBF-8B1E-A9BC848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BB925F-D78C-400E-A970-C9E0A9E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D1ACD-A249-4EEC-A7CD-7599BC4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84C0-6CB3-4A2A-80A7-5CF029F5E3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E8445-37A7-4D07-8BF3-E9B98781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100155-3451-49DA-BAAD-96922113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4F9BD-80F6-4E11-9D46-BFE32BD8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75B0E2-A3B2-4C23-9BB2-E129B7A4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CF4D0-B55D-4433-83F1-01D1041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AF5E5-EDF2-4210-B818-5F5D539B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89569-0AAC-4F00-8A64-B011BF0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3E18E-AF14-4CA5-B670-43963782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D4A51-3529-4343-96FD-127A5FDF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E8B2AE-B1F1-440C-BC47-75D536B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E19C-5CD5-4517-9430-BE183C4F4D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22D93-62D1-429E-AD1B-01BD48D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8B2A5-6700-4D66-AC09-E00EF00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02022-22D4-4891-A294-67A8AD8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A0F0A-A883-4E44-87F8-47B98596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B08F8-9C1F-4859-8C45-A5A19173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B04F3-B0FF-4867-8CD3-81CEC54E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03C9DF-319C-4C8D-8521-9094528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3451E-2261-4507-9202-A29045A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60CA9-D1C9-4EED-996B-D2B9D07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B0362E-5E2B-4AB3-831A-4C0E46E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30F9-7F3A-4D1C-9824-FF6084519C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BE8BC-8C69-44F9-9C89-EBD53AC5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CA751-F0B5-456F-AF7F-04105F9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8A9A06-BFA9-4773-A3AC-7C103A3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707C7-4E2A-4715-A812-B7208F3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828C1B-0F45-41A1-B7D0-8502E18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FB052-9E69-4732-A1AD-1748CA2A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E51C92-3A88-4B89-8975-76C85EF4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20D70-8010-4B84-B20C-099E1F00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519F7-705C-4865-9232-28F5BF3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947E2-ACCE-4ED1-BF38-28807E7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28F-E156-4CEA-ABC2-B7A2FF23C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B4E3-9259-4412-B6A4-B3D9BE97A7C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12DA-EF2F-4070-8849-609D1D203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82F-A296-49EA-8D4A-8FACE117271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83B9-0DB8-4F7D-9047-28A7154AE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89E-19FB-463A-A810-875B92742A9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E93-AC77-406D-8728-7ACADF2C2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3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90EC-DACF-49D2-94D8-CB1AB103E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BB7-70F5-40C4-B74F-4667003FF25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F21-DC12-4ADC-BA65-5DBFEB4E3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7B05-7901-41E8-9CD6-FD66A1D726F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54D4-06E5-49E5-8BA2-E720B321E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E7B-8A32-4805-B001-858B8FA8D0D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6B85-ADAC-4B60-9A18-886E8E5B7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844E-A8DA-4908-92E4-46302EAF08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A2F7-5C89-409F-8879-C00C09AB2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19D-ED43-46EC-A569-427D75365C6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B04-7B42-4C41-BD65-A40ABA6EE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082-D384-4C9F-AE1E-BCCCF137F0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E98-4F27-45C2-921A-79673B264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BD0-2D13-4C0B-98CF-31D28E52485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74FF-95F7-4466-AD23-E0CFA62DF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760-BF56-49CD-ABD8-4D0D0BE58C1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883B-6234-412A-8B41-9F12D64EE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omashawk.com/hello/209/1017/1024/The%2520Light%2520at%2520the%2520End%2520of%2520the%2520Tunnel.jpg&amp;imgrefurl=http://thomashawk.com/2005_01_01_archive.html&amp;h=600&amp;w=1024&amp;sz=126&amp;hl=en&amp;start=1&amp;tbnid=NjzFSKIu_AiuUM:&amp;tbnh=88&amp;tbnw=150&amp;prev=/images?q=end&amp;gbv=2&amp;svnum=10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uth.com/Hierarchy.jpg&amp;imgrefurl=http://hecatedemetersdatter.blogspot.com/2006_12_10_archive.html&amp;h=567&amp;w=360&amp;sz=44&amp;hl=en&amp;start=8&amp;tbnid=QLe_sDa049spaM:&amp;tbnh=134&amp;tbnw=85&amp;prev=/images?q=hierarchy&amp;gbv=2&amp;svnum=10&amp;hl=en&amp;sa=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_x0006_Course Overview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38" name="Picture 16" descr="The%2520Light%2520at%2520the%2520End%2520of%2520the%2520Tunn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3801960" cy="22302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7"/>
          <p:cNvSpPr/>
          <p:nvPr/>
        </p:nvSpPr>
        <p:spPr>
          <a:xfrm>
            <a:off x="-61920" y="168768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 at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the tu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244520" y="1208160"/>
            <a:ext cx="1575000" cy="51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Domain Name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3 root servers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(se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8EC2-3037-44AF-8738-586D6D9C4E0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480960" y="3089160"/>
            <a:ext cx="72342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worldf"/>
          <p:cNvPicPr/>
          <p:nvPr/>
        </p:nvPicPr>
        <p:blipFill>
          <a:blip r:embed="rId2"/>
          <a:stretch/>
        </p:blipFill>
        <p:spPr>
          <a:xfrm>
            <a:off x="2133720" y="4065480"/>
            <a:ext cx="5400720" cy="2667240"/>
          </a:xfrm>
          <a:prstGeom prst="rect">
            <a:avLst/>
          </a:prstGeom>
          <a:ln w="0">
            <a:noFill/>
          </a:ln>
        </p:spPr>
      </p:pic>
      <p:sp>
        <p:nvSpPr>
          <p:cNvPr id="684" name="Freeform 6"/>
          <p:cNvSpPr/>
          <p:nvPr/>
        </p:nvSpPr>
        <p:spPr>
          <a:xfrm>
            <a:off x="2604960" y="326700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54120" y="5627520"/>
            <a:ext cx="263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8"/>
          <p:cNvSpPr/>
          <p:nvPr/>
        </p:nvSpPr>
        <p:spPr>
          <a:xfrm>
            <a:off x="1789200" y="4965840"/>
            <a:ext cx="952560" cy="66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347760" y="3903840"/>
            <a:ext cx="25732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 Internet Software C. Pa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, CA (and 17 other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0"/>
          <p:cNvSpPr/>
          <p:nvPr/>
        </p:nvSpPr>
        <p:spPr>
          <a:xfrm flipV="1">
            <a:off x="1660680" y="4665600"/>
            <a:ext cx="1022040" cy="225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5253120" y="3570120"/>
            <a:ext cx="2498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2"/>
          <p:cNvSpPr/>
          <p:nvPr/>
        </p:nvSpPr>
        <p:spPr>
          <a:xfrm>
            <a:off x="4797360" y="3813120"/>
            <a:ext cx="849240" cy="674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5299200" y="3216240"/>
            <a:ext cx="384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RIPE London (also Amsterdam, Frankfur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4570560" y="343368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7221600" y="4402080"/>
            <a:ext cx="156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6"/>
          <p:cNvSpPr/>
          <p:nvPr/>
        </p:nvSpPr>
        <p:spPr>
          <a:xfrm>
            <a:off x="6851520" y="4632480"/>
            <a:ext cx="331920" cy="23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7"/>
          <p:cNvSpPr/>
          <p:nvPr/>
        </p:nvSpPr>
        <p:spPr>
          <a:xfrm>
            <a:off x="2665440" y="25588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Domain Name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7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702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713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Super Peers in KaZa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52280" y="137124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peer is either a group leader or assigned to a group l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peer and its group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s between some pairs of group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oup leader tracks the content in all its childre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5AD-41A1-480A-B8F4-CE22D6DB8B7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4951440" y="868320"/>
          <a:ext cx="4040280" cy="56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1440" y="868320"/>
                    <a:ext cx="40402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ferencing by n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the valu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anipulating a variable through a poi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indi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overhead when things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f indirection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 vs.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: Names vs.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name to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nemonic names to location-dependen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rom www.cnn.com to 64.236.16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Domain Name System (D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om IP address to MAC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hierarchical global address to interface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rom 64.236.16.20 to 00-15-C5-49-04-A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Address Resolution Protocol (AR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: Mobile 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1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783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789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793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797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801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803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7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8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9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0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1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2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3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4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5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6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7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8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9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0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1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3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4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5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6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8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0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1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2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53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54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5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6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57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58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59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0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1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2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3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6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7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8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9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70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71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73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74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75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83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84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86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87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90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Freeform 93"/>
          <p:cNvSpPr/>
          <p:nvPr/>
        </p:nvSpPr>
        <p:spPr>
          <a:xfrm>
            <a:off x="6413400" y="2486160"/>
            <a:ext cx="1838520" cy="171108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873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879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883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890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892" name="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4" name="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96" name="Freeform 116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18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904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24"/>
            <p:cNvGrpSpPr/>
            <p:nvPr/>
          </p:nvGrpSpPr>
          <p:grpSpPr>
            <a:xfrm>
              <a:off x="7191360" y="3325680"/>
              <a:ext cx="336600" cy="368280"/>
              <a:chOff x="7191360" y="3325680"/>
              <a:chExt cx="336600" cy="368280"/>
            </a:xfrm>
          </p:grpSpPr>
          <p:sp>
            <p:nvSpPr>
              <p:cNvPr id="906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126"/>
              <p:cNvSpPr/>
              <p:nvPr/>
            </p:nvSpPr>
            <p:spPr>
              <a:xfrm>
                <a:off x="7210080" y="33256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909" name="Freeform 128"/>
            <p:cNvSpPr/>
            <p:nvPr/>
          </p:nvSpPr>
          <p:spPr>
            <a:xfrm>
              <a:off x="3181320" y="3838680"/>
              <a:ext cx="348624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129"/>
            <p:cNvGrpSpPr/>
            <p:nvPr/>
          </p:nvGrpSpPr>
          <p:grpSpPr>
            <a:xfrm>
              <a:off x="4894200" y="4110120"/>
              <a:ext cx="336600" cy="368280"/>
              <a:chOff x="4894200" y="4110120"/>
              <a:chExt cx="336600" cy="368280"/>
            </a:xfrm>
          </p:grpSpPr>
          <p:sp>
            <p:nvSpPr>
              <p:cNvPr id="911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131"/>
              <p:cNvSpPr/>
              <p:nvPr/>
            </p:nvSpPr>
            <p:spPr>
              <a:xfrm>
                <a:off x="4912920" y="41101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3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914" name="Freeform 133"/>
            <p:cNvSpPr/>
            <p:nvPr/>
          </p:nvSpPr>
          <p:spPr>
            <a:xfrm>
              <a:off x="4826160" y="3424320"/>
              <a:ext cx="3103560" cy="2016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134"/>
            <p:cNvGrpSpPr/>
            <p:nvPr/>
          </p:nvGrpSpPr>
          <p:grpSpPr>
            <a:xfrm>
              <a:off x="6321600" y="4500720"/>
              <a:ext cx="336240" cy="368280"/>
              <a:chOff x="6321600" y="4500720"/>
              <a:chExt cx="336240" cy="368280"/>
            </a:xfrm>
          </p:grpSpPr>
          <p:sp>
            <p:nvSpPr>
              <p:cNvPr id="916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Text Box 136"/>
              <p:cNvSpPr/>
              <p:nvPr/>
            </p:nvSpPr>
            <p:spPr>
              <a:xfrm>
                <a:off x="6339960" y="45007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919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921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141"/>
              <p:cNvSpPr/>
              <p:nvPr/>
            </p:nvSpPr>
            <p:spPr>
              <a:xfrm>
                <a:off x="3448800" y="42894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924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rrespondent addresses packets using home address of mobi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927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me agent intercepts packets, forwards to foreign ag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148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930" name="Text Box 149"/>
            <p:cNvSpPr/>
            <p:nvPr/>
          </p:nvSpPr>
          <p:spPr>
            <a:xfrm>
              <a:off x="5432400" y="1387440"/>
              <a:ext cx="2338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oreign agent receives packets, forwards to mobi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150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933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bile replies directly to correspond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" dur="1" fill="hold"/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uplicating data stored elsewhe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latency for accessing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resourc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is often quite effecti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difference between cache and primary 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ity of reference, and small set of popu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from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, Web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: 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735120" y="3780000"/>
            <a:ext cx="1562040" cy="97308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738360" y="2824200"/>
            <a:ext cx="1562040" cy="95724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858960" y="298764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861480" y="4294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NS resol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7"/>
          <p:cNvSpPr/>
          <p:nvPr/>
        </p:nvSpPr>
        <p:spPr>
          <a:xfrm>
            <a:off x="1019160" y="3570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"/>
          <p:cNvSpPr/>
          <p:nvPr/>
        </p:nvSpPr>
        <p:spPr>
          <a:xfrm flipV="1">
            <a:off x="1943280" y="3551400"/>
            <a:ext cx="0" cy="52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197240" y="2790720"/>
            <a:ext cx="1517760" cy="1941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4362480" y="384336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cal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4352760" y="3017880"/>
            <a:ext cx="1181160" cy="365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1055520" y="381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914480" y="3827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4388760" y="301788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NS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"/>
          <p:cNvSpPr/>
          <p:nvPr/>
        </p:nvSpPr>
        <p:spPr>
          <a:xfrm>
            <a:off x="2313000" y="4024440"/>
            <a:ext cx="190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6"/>
          <p:cNvSpPr/>
          <p:nvPr/>
        </p:nvSpPr>
        <p:spPr>
          <a:xfrm flipH="1">
            <a:off x="2282400" y="446256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2687760" y="364824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 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8"/>
          <p:cNvSpPr/>
          <p:nvPr/>
        </p:nvSpPr>
        <p:spPr>
          <a:xfrm>
            <a:off x="2359440" y="451656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9"/>
          <p:cNvSpPr/>
          <p:nvPr/>
        </p:nvSpPr>
        <p:spPr>
          <a:xfrm>
            <a:off x="2403360" y="3978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0"/>
          <p:cNvSpPr/>
          <p:nvPr/>
        </p:nvSpPr>
        <p:spPr>
          <a:xfrm>
            <a:off x="3892320" y="443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1"/>
          <p:cNvSpPr/>
          <p:nvPr/>
        </p:nvSpPr>
        <p:spPr>
          <a:xfrm flipV="1">
            <a:off x="5718240" y="1788840"/>
            <a:ext cx="12938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 flipH="1">
            <a:off x="5716440" y="2090880"/>
            <a:ext cx="12938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3"/>
          <p:cNvSpPr/>
          <p:nvPr/>
        </p:nvSpPr>
        <p:spPr>
          <a:xfrm>
            <a:off x="5703840" y="3652920"/>
            <a:ext cx="16588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4"/>
          <p:cNvSpPr/>
          <p:nvPr/>
        </p:nvSpPr>
        <p:spPr>
          <a:xfrm flipH="1" flipV="1">
            <a:off x="5700600" y="3836520"/>
            <a:ext cx="16588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5"/>
          <p:cNvSpPr/>
          <p:nvPr/>
        </p:nvSpPr>
        <p:spPr>
          <a:xfrm>
            <a:off x="5729400" y="4143240"/>
            <a:ext cx="1293840" cy="12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6"/>
          <p:cNvSpPr/>
          <p:nvPr/>
        </p:nvSpPr>
        <p:spPr>
          <a:xfrm flipH="1" flipV="1">
            <a:off x="5699160" y="4414680"/>
            <a:ext cx="1293840" cy="12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7"/>
          <p:cNvSpPr/>
          <p:nvPr/>
        </p:nvSpPr>
        <p:spPr>
          <a:xfrm>
            <a:off x="7072560" y="150804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7466400" y="3454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9"/>
          <p:cNvSpPr/>
          <p:nvPr/>
        </p:nvSpPr>
        <p:spPr>
          <a:xfrm>
            <a:off x="7113960" y="51577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6016320" y="216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1"/>
          <p:cNvSpPr/>
          <p:nvPr/>
        </p:nvSpPr>
        <p:spPr>
          <a:xfrm>
            <a:off x="6325920" y="26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2"/>
          <p:cNvSpPr/>
          <p:nvPr/>
        </p:nvSpPr>
        <p:spPr>
          <a:xfrm>
            <a:off x="6365880" y="331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3"/>
          <p:cNvSpPr/>
          <p:nvPr/>
        </p:nvSpPr>
        <p:spPr>
          <a:xfrm>
            <a:off x="6391080" y="3819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34"/>
          <p:cNvSpPr/>
          <p:nvPr/>
        </p:nvSpPr>
        <p:spPr>
          <a:xfrm>
            <a:off x="6205320" y="4334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5"/>
          <p:cNvSpPr/>
          <p:nvPr/>
        </p:nvSpPr>
        <p:spPr>
          <a:xfrm>
            <a:off x="592128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36"/>
          <p:cNvSpPr/>
          <p:nvPr/>
        </p:nvSpPr>
        <p:spPr>
          <a:xfrm>
            <a:off x="1496880" y="475452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7"/>
          <p:cNvSpPr/>
          <p:nvPr/>
        </p:nvSpPr>
        <p:spPr>
          <a:xfrm>
            <a:off x="4983120" y="4735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38"/>
          <p:cNvSpPr/>
          <p:nvPr/>
        </p:nvSpPr>
        <p:spPr>
          <a:xfrm>
            <a:off x="781200" y="52722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: 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22824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xy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wser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isting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network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BF94-008B-4C37-A8A1-BD051FE31F5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"/>
          <p:cNvSpPr/>
          <p:nvPr/>
        </p:nvSpPr>
        <p:spPr>
          <a:xfrm>
            <a:off x="4191120" y="1600200"/>
            <a:ext cx="48006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Object 2" descr=""/>
          <p:cNvPicPr/>
          <p:nvPr/>
        </p:nvPicPr>
        <p:blipFill>
          <a:blip r:embed="rId1"/>
          <a:stretch/>
        </p:blipFill>
        <p:spPr>
          <a:xfrm>
            <a:off x="4356000" y="257508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4299120" y="29829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0" name="Object 3"/>
          <p:cNvGraphicFramePr/>
          <p:nvPr/>
        </p:nvGraphicFramePr>
        <p:xfrm>
          <a:off x="4421160" y="4444920"/>
          <a:ext cx="5158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1160" y="4444920"/>
                    <a:ext cx="515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 Box 8"/>
          <p:cNvSpPr/>
          <p:nvPr/>
        </p:nvSpPr>
        <p:spPr>
          <a:xfrm>
            <a:off x="6183000" y="238752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9"/>
          <p:cNvGrpSpPr/>
          <p:nvPr/>
        </p:nvGrpSpPr>
        <p:grpSpPr>
          <a:xfrm>
            <a:off x="6402240" y="3174840"/>
            <a:ext cx="345960" cy="742680"/>
            <a:chOff x="6402240" y="3174840"/>
            <a:chExt cx="345960" cy="742680"/>
          </a:xfrm>
        </p:grpSpPr>
        <p:sp>
          <p:nvSpPr>
            <p:cNvPr id="984" name="AutoShape 10"/>
            <p:cNvSpPr/>
            <p:nvPr/>
          </p:nvSpPr>
          <p:spPr>
            <a:xfrm>
              <a:off x="6402240" y="3745800"/>
              <a:ext cx="345960" cy="171720"/>
            </a:xfrm>
            <a:prstGeom prst="parallelogram">
              <a:avLst>
                <a:gd name="adj" fmla="val 7761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1"/>
            <p:cNvSpPr/>
            <p:nvPr/>
          </p:nvSpPr>
          <p:spPr>
            <a:xfrm>
              <a:off x="6577560" y="3179520"/>
              <a:ext cx="15912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2"/>
            <p:cNvSpPr/>
            <p:nvPr/>
          </p:nvSpPr>
          <p:spPr>
            <a:xfrm>
              <a:off x="6404040" y="3341520"/>
              <a:ext cx="21924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3"/>
            <p:cNvSpPr/>
            <p:nvPr/>
          </p:nvSpPr>
          <p:spPr>
            <a:xfrm>
              <a:off x="6402240" y="3174840"/>
              <a:ext cx="345960" cy="171720"/>
            </a:xfrm>
            <a:prstGeom prst="parallelogram">
              <a:avLst>
                <a:gd name="adj" fmla="val 7761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4"/>
            <p:cNvSpPr/>
            <p:nvPr/>
          </p:nvSpPr>
          <p:spPr>
            <a:xfrm>
              <a:off x="6748200" y="31867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5"/>
            <p:cNvSpPr/>
            <p:nvPr/>
          </p:nvSpPr>
          <p:spPr>
            <a:xfrm flipH="1">
              <a:off x="6623640" y="3745800"/>
              <a:ext cx="12456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6"/>
            <p:cNvSpPr/>
            <p:nvPr/>
          </p:nvSpPr>
          <p:spPr>
            <a:xfrm>
              <a:off x="6431760" y="3416760"/>
              <a:ext cx="14544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7"/>
            <p:cNvSpPr/>
            <p:nvPr/>
          </p:nvSpPr>
          <p:spPr>
            <a:xfrm>
              <a:off x="6453000" y="351576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Freeform 18"/>
          <p:cNvSpPr/>
          <p:nvPr/>
        </p:nvSpPr>
        <p:spPr>
          <a:xfrm>
            <a:off x="4917960" y="276084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9"/>
          <p:cNvSpPr/>
          <p:nvPr/>
        </p:nvSpPr>
        <p:spPr>
          <a:xfrm flipV="1">
            <a:off x="4911840" y="3714840"/>
            <a:ext cx="140148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 flipH="1">
            <a:off x="4962600" y="3801960"/>
            <a:ext cx="140328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1"/>
          <p:cNvSpPr/>
          <p:nvPr/>
        </p:nvSpPr>
        <p:spPr>
          <a:xfrm>
            <a:off x="4454640" y="4898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2"/>
          <p:cNvSpPr/>
          <p:nvPr/>
        </p:nvSpPr>
        <p:spPr>
          <a:xfrm rot="1422000">
            <a:off x="5022360" y="2798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3"/>
          <p:cNvSpPr/>
          <p:nvPr/>
        </p:nvSpPr>
        <p:spPr>
          <a:xfrm rot="19906800">
            <a:off x="4725720" y="38145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4"/>
          <p:cNvSpPr/>
          <p:nvPr/>
        </p:nvSpPr>
        <p:spPr>
          <a:xfrm rot="1411200">
            <a:off x="4733640" y="317592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5"/>
          <p:cNvSpPr/>
          <p:nvPr/>
        </p:nvSpPr>
        <p:spPr>
          <a:xfrm rot="19861800">
            <a:off x="4902480" y="413352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26"/>
          <p:cNvGrpSpPr/>
          <p:nvPr/>
        </p:nvGrpSpPr>
        <p:grpSpPr>
          <a:xfrm>
            <a:off x="8326440" y="2384280"/>
            <a:ext cx="345600" cy="742680"/>
            <a:chOff x="8326440" y="2384280"/>
            <a:chExt cx="345600" cy="742680"/>
          </a:xfrm>
        </p:grpSpPr>
        <p:sp>
          <p:nvSpPr>
            <p:cNvPr id="1001" name="AutoShape 27"/>
            <p:cNvSpPr/>
            <p:nvPr/>
          </p:nvSpPr>
          <p:spPr>
            <a:xfrm>
              <a:off x="8326440" y="2955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28"/>
            <p:cNvSpPr/>
            <p:nvPr/>
          </p:nvSpPr>
          <p:spPr>
            <a:xfrm>
              <a:off x="8501400" y="2388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29"/>
            <p:cNvSpPr/>
            <p:nvPr/>
          </p:nvSpPr>
          <p:spPr>
            <a:xfrm>
              <a:off x="8328240" y="2550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30"/>
            <p:cNvSpPr/>
            <p:nvPr/>
          </p:nvSpPr>
          <p:spPr>
            <a:xfrm>
              <a:off x="8326440" y="2384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8672040" y="239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32"/>
            <p:cNvSpPr/>
            <p:nvPr/>
          </p:nvSpPr>
          <p:spPr>
            <a:xfrm flipH="1">
              <a:off x="8547120" y="2955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3"/>
            <p:cNvSpPr/>
            <p:nvPr/>
          </p:nvSpPr>
          <p:spPr>
            <a:xfrm>
              <a:off x="8355960" y="2626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34"/>
            <p:cNvSpPr/>
            <p:nvPr/>
          </p:nvSpPr>
          <p:spPr>
            <a:xfrm>
              <a:off x="8376840" y="2725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35"/>
          <p:cNvGrpSpPr/>
          <p:nvPr/>
        </p:nvGrpSpPr>
        <p:grpSpPr>
          <a:xfrm>
            <a:off x="8326440" y="4289400"/>
            <a:ext cx="345600" cy="742680"/>
            <a:chOff x="8326440" y="4289400"/>
            <a:chExt cx="345600" cy="742680"/>
          </a:xfrm>
        </p:grpSpPr>
        <p:sp>
          <p:nvSpPr>
            <p:cNvPr id="1010" name="AutoShape 36"/>
            <p:cNvSpPr/>
            <p:nvPr/>
          </p:nvSpPr>
          <p:spPr>
            <a:xfrm>
              <a:off x="8326440" y="48603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7"/>
            <p:cNvSpPr/>
            <p:nvPr/>
          </p:nvSpPr>
          <p:spPr>
            <a:xfrm>
              <a:off x="8501400" y="429408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38"/>
            <p:cNvSpPr/>
            <p:nvPr/>
          </p:nvSpPr>
          <p:spPr>
            <a:xfrm>
              <a:off x="8328240" y="445608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39"/>
            <p:cNvSpPr/>
            <p:nvPr/>
          </p:nvSpPr>
          <p:spPr>
            <a:xfrm>
              <a:off x="8326440" y="42894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40"/>
            <p:cNvSpPr/>
            <p:nvPr/>
          </p:nvSpPr>
          <p:spPr>
            <a:xfrm>
              <a:off x="8672040" y="43012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41"/>
            <p:cNvSpPr/>
            <p:nvPr/>
          </p:nvSpPr>
          <p:spPr>
            <a:xfrm flipH="1">
              <a:off x="8547120" y="486036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2"/>
            <p:cNvSpPr/>
            <p:nvPr/>
          </p:nvSpPr>
          <p:spPr>
            <a:xfrm>
              <a:off x="8355960" y="453132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3"/>
            <p:cNvSpPr/>
            <p:nvPr/>
          </p:nvSpPr>
          <p:spPr>
            <a:xfrm>
              <a:off x="8376840" y="463032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Freeform 44"/>
          <p:cNvSpPr/>
          <p:nvPr/>
        </p:nvSpPr>
        <p:spPr>
          <a:xfrm>
            <a:off x="4890960" y="2835360"/>
            <a:ext cx="336420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5"/>
          <p:cNvSpPr/>
          <p:nvPr/>
        </p:nvSpPr>
        <p:spPr>
          <a:xfrm rot="20179800">
            <a:off x="6659640" y="28141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6"/>
          <p:cNvSpPr/>
          <p:nvPr/>
        </p:nvSpPr>
        <p:spPr>
          <a:xfrm rot="20184000">
            <a:off x="6686640" y="31575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7"/>
          <p:cNvSpPr/>
          <p:nvPr/>
        </p:nvSpPr>
        <p:spPr>
          <a:xfrm>
            <a:off x="8037720" y="50799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8"/>
          <p:cNvSpPr/>
          <p:nvPr/>
        </p:nvSpPr>
        <p:spPr>
          <a:xfrm>
            <a:off x="8066520" y="17463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d adaptive algorith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distributed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ing indepen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isk of synchroniz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arties reacting at the sa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bad aggregat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ization can desynchron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back-off, Random Early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ther than imposing centralized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urse Log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st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on the class Web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on Dean’s Date (5pm Tuesday May 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al ex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mulative, emphasis on second half of th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esday May 22th at 1:30-3:30pm in Friend 1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ffice hou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so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so, ask questions on the mailing li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Ethernet Back-off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: exponential back-of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lision, wait random time before ret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hoose K randomly from {0, …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K*512 bit times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7" name="Picture 4" descr="551 metcalfe-enet"/>
          <p:cNvPicPr/>
          <p:nvPr/>
        </p:nvPicPr>
        <p:blipFill>
          <a:blip r:embed="rId1"/>
          <a:stretch/>
        </p:blipFill>
        <p:spPr>
          <a:xfrm>
            <a:off x="1720800" y="3760920"/>
            <a:ext cx="59230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Dropping Packets Ear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on a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the queue becomes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ew packets must be dro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-tail queuing leads to bursty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ackets encounter a full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CP senders reduce their sending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1030" name="Group 4"/>
          <p:cNvGrpSpPr/>
          <p:nvPr/>
        </p:nvGrpSpPr>
        <p:grpSpPr>
          <a:xfrm>
            <a:off x="3535200" y="4927680"/>
            <a:ext cx="2689560" cy="1036080"/>
            <a:chOff x="3535200" y="4927680"/>
            <a:chExt cx="2689560" cy="1036080"/>
          </a:xfrm>
        </p:grpSpPr>
        <p:grpSp>
          <p:nvGrpSpPr>
            <p:cNvPr id="1031" name="Group 5"/>
            <p:cNvGrpSpPr/>
            <p:nvPr/>
          </p:nvGrpSpPr>
          <p:grpSpPr>
            <a:xfrm>
              <a:off x="4397040" y="5168520"/>
              <a:ext cx="949320" cy="575280"/>
              <a:chOff x="4397040" y="5168520"/>
              <a:chExt cx="949320" cy="575280"/>
            </a:xfrm>
          </p:grpSpPr>
          <p:sp>
            <p:nvSpPr>
              <p:cNvPr id="1032" name="Rectangle 6"/>
              <p:cNvSpPr/>
              <p:nvPr/>
            </p:nvSpPr>
            <p:spPr>
              <a:xfrm>
                <a:off x="4419360" y="5168520"/>
                <a:ext cx="927000" cy="575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4760640" y="5199840"/>
                <a:ext cx="568800" cy="533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8"/>
              <p:cNvSpPr/>
              <p:nvPr/>
            </p:nvSpPr>
            <p:spPr>
              <a:xfrm>
                <a:off x="4397040" y="5199840"/>
                <a:ext cx="363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9"/>
              <p:cNvSpPr/>
              <p:nvPr/>
            </p:nvSpPr>
            <p:spPr>
              <a:xfrm>
                <a:off x="4417200" y="5733720"/>
                <a:ext cx="360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0"/>
              <p:cNvSpPr/>
              <p:nvPr/>
            </p:nvSpPr>
            <p:spPr>
              <a:xfrm>
                <a:off x="527004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520920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2"/>
              <p:cNvSpPr/>
              <p:nvPr/>
            </p:nvSpPr>
            <p:spPr>
              <a:xfrm>
                <a:off x="514872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3"/>
              <p:cNvSpPr/>
              <p:nvPr/>
            </p:nvSpPr>
            <p:spPr>
              <a:xfrm>
                <a:off x="5088240" y="527112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4"/>
              <p:cNvSpPr/>
              <p:nvPr/>
            </p:nvSpPr>
            <p:spPr>
              <a:xfrm>
                <a:off x="5027400" y="5271120"/>
                <a:ext cx="1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5"/>
              <p:cNvSpPr/>
              <p:nvPr/>
            </p:nvSpPr>
            <p:spPr>
              <a:xfrm>
                <a:off x="4965840" y="5271120"/>
                <a:ext cx="2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491360" y="5456520"/>
                <a:ext cx="388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3" name="Freeform 17"/>
            <p:cNvSpPr/>
            <p:nvPr/>
          </p:nvSpPr>
          <p:spPr>
            <a:xfrm>
              <a:off x="3556080" y="4927680"/>
              <a:ext cx="861480" cy="4068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 flipV="1">
              <a:off x="3556080" y="5556960"/>
              <a:ext cx="861480" cy="4068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9"/>
            <p:cNvSpPr/>
            <p:nvPr/>
          </p:nvSpPr>
          <p:spPr>
            <a:xfrm>
              <a:off x="3535200" y="5446080"/>
              <a:ext cx="88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0"/>
            <p:cNvSpPr/>
            <p:nvPr/>
          </p:nvSpPr>
          <p:spPr>
            <a:xfrm>
              <a:off x="5342040" y="5446080"/>
              <a:ext cx="88272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Dropping Packets Ear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to give early feedb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a few connections to slow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it is too 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Early Detection (RED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ly drop packets when queue (near)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rate increases as function of queue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9" name="Group 21"/>
          <p:cNvGrpSpPr/>
          <p:nvPr/>
        </p:nvGrpSpPr>
        <p:grpSpPr>
          <a:xfrm>
            <a:off x="3073320" y="4620960"/>
            <a:ext cx="2977920" cy="1643760"/>
            <a:chOff x="3073320" y="4620960"/>
            <a:chExt cx="2977920" cy="1643760"/>
          </a:xfrm>
        </p:grpSpPr>
        <p:sp>
          <p:nvSpPr>
            <p:cNvPr id="1050" name="Freeform 22"/>
            <p:cNvSpPr/>
            <p:nvPr/>
          </p:nvSpPr>
          <p:spPr>
            <a:xfrm>
              <a:off x="3612600" y="4919040"/>
              <a:ext cx="2104200" cy="838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3"/>
            <p:cNvSpPr/>
            <p:nvPr/>
          </p:nvSpPr>
          <p:spPr>
            <a:xfrm>
              <a:off x="3612600" y="4725360"/>
              <a:ext cx="2167560" cy="1032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24"/>
            <p:cNvSpPr/>
            <p:nvPr/>
          </p:nvSpPr>
          <p:spPr>
            <a:xfrm>
              <a:off x="3484800" y="5306400"/>
              <a:ext cx="1594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25"/>
            <p:cNvSpPr/>
            <p:nvPr/>
          </p:nvSpPr>
          <p:spPr>
            <a:xfrm>
              <a:off x="3484800" y="4919040"/>
              <a:ext cx="1594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26"/>
            <p:cNvSpPr/>
            <p:nvPr/>
          </p:nvSpPr>
          <p:spPr>
            <a:xfrm>
              <a:off x="3368160" y="5896440"/>
              <a:ext cx="26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 Queue Length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7"/>
            <p:cNvSpPr/>
            <p:nvPr/>
          </p:nvSpPr>
          <p:spPr>
            <a:xfrm rot="16200000">
              <a:off x="2575800" y="511848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: stored in nodes by network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ed by receiver of a set-up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when conditions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state: valid unless told otherw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d by receiver of tear-down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error handling to deal with sender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: invalid if not told to refres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ally refreshed, removed by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 reduces complex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, DHCP l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4" descr="j0228059[1]"/>
          <p:cNvPicPr/>
          <p:nvPr/>
        </p:nvPicPr>
        <p:blipFill>
          <a:blip r:embed="rId1"/>
          <a:stretch/>
        </p:blipFill>
        <p:spPr>
          <a:xfrm>
            <a:off x="7696080" y="5410080"/>
            <a:ext cx="1305000" cy="1185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MCj02933800000[1]"/>
          <p:cNvPicPr/>
          <p:nvPr/>
        </p:nvPicPr>
        <p:blipFill>
          <a:blip r:embed="rId2"/>
          <a:stretch/>
        </p:blipFill>
        <p:spPr>
          <a:xfrm>
            <a:off x="7413480" y="2276640"/>
            <a:ext cx="14842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consistency is a hard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the cached copy is not out of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awman: explicit revocation or upda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track of everyone who has cach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ame-to-host mapping changes, update c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responses include a “time to live” (TTL)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d entry is deleted after TTL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4" descr="j0285750"/>
          <p:cNvPicPr/>
          <p:nvPr/>
        </p:nvPicPr>
        <p:blipFill>
          <a:blip r:embed="rId1"/>
          <a:stretch/>
        </p:blipFill>
        <p:spPr>
          <a:xfrm>
            <a:off x="6308640" y="5600880"/>
            <a:ext cx="1920960" cy="1180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j0285750"/>
          <p:cNvPicPr/>
          <p:nvPr/>
        </p:nvPicPr>
        <p:blipFill>
          <a:blip r:embed="rId2"/>
          <a:stretch/>
        </p:blipFill>
        <p:spPr>
          <a:xfrm flipH="1">
            <a:off x="2690280" y="5638680"/>
            <a:ext cx="574920" cy="354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j0285750"/>
          <p:cNvPicPr/>
          <p:nvPr/>
        </p:nvPicPr>
        <p:blipFill>
          <a:blip r:embed="rId3"/>
          <a:stretch/>
        </p:blipFill>
        <p:spPr>
          <a:xfrm flipH="1">
            <a:off x="1692360" y="6100920"/>
            <a:ext cx="574560" cy="353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7" descr="j0285750"/>
          <p:cNvPicPr/>
          <p:nvPr/>
        </p:nvPicPr>
        <p:blipFill>
          <a:blip r:embed="rId4"/>
          <a:stretch/>
        </p:blipFill>
        <p:spPr>
          <a:xfrm flipH="1">
            <a:off x="3034800" y="6407280"/>
            <a:ext cx="574920" cy="353880"/>
          </a:xfrm>
          <a:prstGeom prst="rect">
            <a:avLst/>
          </a:prstGeom>
          <a:ln w="0">
            <a:noFill/>
          </a:ln>
        </p:spPr>
      </p:pic>
      <p:sp>
        <p:nvSpPr>
          <p:cNvPr id="1066" name="Line 8"/>
          <p:cNvSpPr/>
          <p:nvPr/>
        </p:nvSpPr>
        <p:spPr>
          <a:xfrm flipH="1" flipV="1">
            <a:off x="3227040" y="5830560"/>
            <a:ext cx="330372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9"/>
          <p:cNvSpPr/>
          <p:nvPr/>
        </p:nvSpPr>
        <p:spPr>
          <a:xfrm flipH="1">
            <a:off x="2228400" y="6176880"/>
            <a:ext cx="4302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0"/>
          <p:cNvSpPr/>
          <p:nvPr/>
        </p:nvSpPr>
        <p:spPr>
          <a:xfrm flipH="1">
            <a:off x="3611160" y="6215040"/>
            <a:ext cx="29574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DHCP Lea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HCP “offer message” from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parameters (proposed IP address, mask, gateway router, DNS server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se time (the time information remains val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a lease time necessar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 release address (DHCP REL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ipconfig /release” or clean shutdown of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host might not release th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the host crashes or buggy client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n’t want address to be allocated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A Modular Approac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b-divide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ayer relies on services from layer bel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ayer exports services to layer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ace between layers defines inte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s implementation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ers can change without disturbing other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2133720" y="6248520"/>
            <a:ext cx="4800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hard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2133720" y="5640480"/>
            <a:ext cx="4800600" cy="608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-to-host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2133720" y="5030640"/>
            <a:ext cx="48006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to-application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2133720" y="4419720"/>
            <a:ext cx="4800600" cy="61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Standing on Should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69372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70344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80784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6"/>
          <p:cNvSpPr/>
          <p:nvPr/>
        </p:nvSpPr>
        <p:spPr>
          <a:xfrm>
            <a:off x="89244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Group 7"/>
          <p:cNvGrpSpPr/>
          <p:nvPr/>
        </p:nvGrpSpPr>
        <p:grpSpPr>
          <a:xfrm>
            <a:off x="689040" y="4119480"/>
            <a:ext cx="914400" cy="582480"/>
            <a:chOff x="689040" y="4119480"/>
            <a:chExt cx="914400" cy="582480"/>
          </a:xfrm>
        </p:grpSpPr>
        <p:sp>
          <p:nvSpPr>
            <p:cNvPr id="1083" name="Rectangle 8"/>
            <p:cNvSpPr/>
            <p:nvPr/>
          </p:nvSpPr>
          <p:spPr>
            <a:xfrm>
              <a:off x="689040" y="41194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9"/>
            <p:cNvSpPr/>
            <p:nvPr/>
          </p:nvSpPr>
          <p:spPr>
            <a:xfrm>
              <a:off x="972000" y="42224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10"/>
          <p:cNvSpPr/>
          <p:nvPr/>
        </p:nvSpPr>
        <p:spPr>
          <a:xfrm>
            <a:off x="66996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1"/>
          <p:cNvSpPr/>
          <p:nvPr/>
        </p:nvSpPr>
        <p:spPr>
          <a:xfrm>
            <a:off x="68220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"/>
          <p:cNvSpPr/>
          <p:nvPr/>
        </p:nvSpPr>
        <p:spPr>
          <a:xfrm>
            <a:off x="114768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3"/>
          <p:cNvSpPr/>
          <p:nvPr/>
        </p:nvSpPr>
        <p:spPr>
          <a:xfrm>
            <a:off x="114768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4"/>
          <p:cNvSpPr/>
          <p:nvPr/>
        </p:nvSpPr>
        <p:spPr>
          <a:xfrm>
            <a:off x="114768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5"/>
          <p:cNvSpPr/>
          <p:nvPr/>
        </p:nvSpPr>
        <p:spPr>
          <a:xfrm>
            <a:off x="53820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6"/>
          <p:cNvSpPr/>
          <p:nvPr/>
        </p:nvSpPr>
        <p:spPr>
          <a:xfrm>
            <a:off x="764856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765828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8"/>
          <p:cNvSpPr/>
          <p:nvPr/>
        </p:nvSpPr>
        <p:spPr>
          <a:xfrm>
            <a:off x="7643880" y="4119480"/>
            <a:ext cx="914400" cy="58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7659720" y="53103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0"/>
          <p:cNvSpPr/>
          <p:nvPr/>
        </p:nvSpPr>
        <p:spPr>
          <a:xfrm>
            <a:off x="776268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1"/>
          <p:cNvSpPr/>
          <p:nvPr/>
        </p:nvSpPr>
        <p:spPr>
          <a:xfrm>
            <a:off x="784728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7942320" y="423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23"/>
          <p:cNvSpPr/>
          <p:nvPr/>
        </p:nvSpPr>
        <p:spPr>
          <a:xfrm>
            <a:off x="76878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24"/>
          <p:cNvSpPr/>
          <p:nvPr/>
        </p:nvSpPr>
        <p:spPr>
          <a:xfrm>
            <a:off x="810252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25"/>
          <p:cNvSpPr/>
          <p:nvPr/>
        </p:nvSpPr>
        <p:spPr>
          <a:xfrm>
            <a:off x="810252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6"/>
          <p:cNvSpPr/>
          <p:nvPr/>
        </p:nvSpPr>
        <p:spPr>
          <a:xfrm>
            <a:off x="810252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7"/>
          <p:cNvSpPr/>
          <p:nvPr/>
        </p:nvSpPr>
        <p:spPr>
          <a:xfrm>
            <a:off x="749304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8"/>
          <p:cNvSpPr/>
          <p:nvPr/>
        </p:nvSpPr>
        <p:spPr>
          <a:xfrm>
            <a:off x="1139760" y="59356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29"/>
          <p:cNvSpPr/>
          <p:nvPr/>
        </p:nvSpPr>
        <p:spPr>
          <a:xfrm>
            <a:off x="808200" y="630864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30"/>
          <p:cNvGrpSpPr/>
          <p:nvPr/>
        </p:nvGrpSpPr>
        <p:grpSpPr>
          <a:xfrm>
            <a:off x="2905200" y="4148280"/>
            <a:ext cx="914400" cy="582480"/>
            <a:chOff x="2905200" y="4148280"/>
            <a:chExt cx="914400" cy="582480"/>
          </a:xfrm>
        </p:grpSpPr>
        <p:sp>
          <p:nvSpPr>
            <p:cNvPr id="1106" name="Rectangle 31"/>
            <p:cNvSpPr/>
            <p:nvPr/>
          </p:nvSpPr>
          <p:spPr>
            <a:xfrm>
              <a:off x="290520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2"/>
            <p:cNvSpPr/>
            <p:nvPr/>
          </p:nvSpPr>
          <p:spPr>
            <a:xfrm>
              <a:off x="318816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33"/>
          <p:cNvGrpSpPr/>
          <p:nvPr/>
        </p:nvGrpSpPr>
        <p:grpSpPr>
          <a:xfrm>
            <a:off x="5549760" y="4148280"/>
            <a:ext cx="914400" cy="582480"/>
            <a:chOff x="5549760" y="4148280"/>
            <a:chExt cx="914400" cy="582480"/>
          </a:xfrm>
        </p:grpSpPr>
        <p:sp>
          <p:nvSpPr>
            <p:cNvPr id="1109" name="Rectangle 34"/>
            <p:cNvSpPr/>
            <p:nvPr/>
          </p:nvSpPr>
          <p:spPr>
            <a:xfrm>
              <a:off x="554976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5"/>
            <p:cNvSpPr/>
            <p:nvPr/>
          </p:nvSpPr>
          <p:spPr>
            <a:xfrm>
              <a:off x="583272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36"/>
          <p:cNvSpPr/>
          <p:nvPr/>
        </p:nvSpPr>
        <p:spPr>
          <a:xfrm>
            <a:off x="230652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7"/>
          <p:cNvSpPr/>
          <p:nvPr/>
        </p:nvSpPr>
        <p:spPr>
          <a:xfrm>
            <a:off x="231084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38"/>
          <p:cNvGrpSpPr/>
          <p:nvPr/>
        </p:nvGrpSpPr>
        <p:grpSpPr>
          <a:xfrm>
            <a:off x="6205680" y="5324400"/>
            <a:ext cx="909360" cy="606240"/>
            <a:chOff x="6205680" y="5324400"/>
            <a:chExt cx="909360" cy="606240"/>
          </a:xfrm>
        </p:grpSpPr>
        <p:sp>
          <p:nvSpPr>
            <p:cNvPr id="1114" name="Rectangle 39"/>
            <p:cNvSpPr/>
            <p:nvPr/>
          </p:nvSpPr>
          <p:spPr>
            <a:xfrm>
              <a:off x="6205680" y="5324400"/>
              <a:ext cx="906480" cy="60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40"/>
            <p:cNvSpPr/>
            <p:nvPr/>
          </p:nvSpPr>
          <p:spPr>
            <a:xfrm>
              <a:off x="6225480" y="5337360"/>
              <a:ext cx="8895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Line 41"/>
          <p:cNvSpPr/>
          <p:nvPr/>
        </p:nvSpPr>
        <p:spPr>
          <a:xfrm flipH="1">
            <a:off x="2744280" y="596412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42"/>
          <p:cNvSpPr/>
          <p:nvPr/>
        </p:nvSpPr>
        <p:spPr>
          <a:xfrm flipH="1">
            <a:off x="2725560" y="4727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43"/>
          <p:cNvSpPr/>
          <p:nvPr/>
        </p:nvSpPr>
        <p:spPr>
          <a:xfrm>
            <a:off x="3529080" y="474192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4"/>
          <p:cNvSpPr/>
          <p:nvPr/>
        </p:nvSpPr>
        <p:spPr>
          <a:xfrm>
            <a:off x="3614760" y="53244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5"/>
          <p:cNvSpPr/>
          <p:nvPr/>
        </p:nvSpPr>
        <p:spPr>
          <a:xfrm>
            <a:off x="36396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6"/>
          <p:cNvSpPr/>
          <p:nvPr/>
        </p:nvSpPr>
        <p:spPr>
          <a:xfrm>
            <a:off x="4889520" y="53370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47"/>
          <p:cNvSpPr/>
          <p:nvPr/>
        </p:nvSpPr>
        <p:spPr>
          <a:xfrm>
            <a:off x="490644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48"/>
          <p:cNvSpPr/>
          <p:nvPr/>
        </p:nvSpPr>
        <p:spPr>
          <a:xfrm>
            <a:off x="6680160" y="59245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49"/>
          <p:cNvSpPr/>
          <p:nvPr/>
        </p:nvSpPr>
        <p:spPr>
          <a:xfrm flipH="1">
            <a:off x="6222600" y="627048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0"/>
          <p:cNvSpPr/>
          <p:nvPr/>
        </p:nvSpPr>
        <p:spPr>
          <a:xfrm>
            <a:off x="8132760" y="592776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1"/>
          <p:cNvSpPr/>
          <p:nvPr/>
        </p:nvSpPr>
        <p:spPr>
          <a:xfrm flipH="1">
            <a:off x="5302080" y="4754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52"/>
          <p:cNvSpPr/>
          <p:nvPr/>
        </p:nvSpPr>
        <p:spPr>
          <a:xfrm>
            <a:off x="6119640" y="4754520"/>
            <a:ext cx="527400" cy="5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3"/>
          <p:cNvSpPr/>
          <p:nvPr/>
        </p:nvSpPr>
        <p:spPr>
          <a:xfrm>
            <a:off x="2144880" y="3948120"/>
            <a:ext cx="2522520" cy="216216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54"/>
          <p:cNvSpPr/>
          <p:nvPr/>
        </p:nvSpPr>
        <p:spPr>
          <a:xfrm>
            <a:off x="4776840" y="3948120"/>
            <a:ext cx="2522520" cy="216216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55"/>
          <p:cNvSpPr/>
          <p:nvPr/>
        </p:nvSpPr>
        <p:spPr>
          <a:xfrm flipH="1">
            <a:off x="4053960" y="592596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56"/>
          <p:cNvSpPr/>
          <p:nvPr/>
        </p:nvSpPr>
        <p:spPr>
          <a:xfrm flipH="1">
            <a:off x="5315040" y="593892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57"/>
          <p:cNvSpPr/>
          <p:nvPr/>
        </p:nvSpPr>
        <p:spPr>
          <a:xfrm>
            <a:off x="4071960" y="627048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8"/>
          <p:cNvSpPr/>
          <p:nvPr/>
        </p:nvSpPr>
        <p:spPr>
          <a:xfrm>
            <a:off x="862560" y="1162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9"/>
          <p:cNvSpPr/>
          <p:nvPr/>
        </p:nvSpPr>
        <p:spPr>
          <a:xfrm>
            <a:off x="7817400" y="1147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60"/>
          <p:cNvSpPr/>
          <p:nvPr/>
        </p:nvSpPr>
        <p:spPr>
          <a:xfrm>
            <a:off x="2982600" y="35449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61"/>
          <p:cNvSpPr/>
          <p:nvPr/>
        </p:nvSpPr>
        <p:spPr>
          <a:xfrm>
            <a:off x="5613120" y="3559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2"/>
          <p:cNvSpPr/>
          <p:nvPr/>
        </p:nvSpPr>
        <p:spPr>
          <a:xfrm>
            <a:off x="1619280" y="2036880"/>
            <a:ext cx="6064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63"/>
          <p:cNvSpPr/>
          <p:nvPr/>
        </p:nvSpPr>
        <p:spPr>
          <a:xfrm>
            <a:off x="1647720" y="322740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64"/>
          <p:cNvSpPr/>
          <p:nvPr/>
        </p:nvSpPr>
        <p:spPr>
          <a:xfrm>
            <a:off x="4006080" y="1644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TTP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5"/>
          <p:cNvSpPr/>
          <p:nvPr/>
        </p:nvSpPr>
        <p:spPr>
          <a:xfrm>
            <a:off x="4105080" y="284940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CP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6"/>
          <p:cNvSpPr/>
          <p:nvPr/>
        </p:nvSpPr>
        <p:spPr>
          <a:xfrm>
            <a:off x="1620720" y="443232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7"/>
          <p:cNvSpPr/>
          <p:nvPr/>
        </p:nvSpPr>
        <p:spPr>
          <a:xfrm>
            <a:off x="3851280" y="44467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68"/>
          <p:cNvSpPr/>
          <p:nvPr/>
        </p:nvSpPr>
        <p:spPr>
          <a:xfrm>
            <a:off x="6469200" y="443232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69"/>
          <p:cNvSpPr/>
          <p:nvPr/>
        </p:nvSpPr>
        <p:spPr>
          <a:xfrm>
            <a:off x="1779120" y="41054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70"/>
          <p:cNvSpPr/>
          <p:nvPr/>
        </p:nvSpPr>
        <p:spPr>
          <a:xfrm>
            <a:off x="6600600" y="41338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</a:t>
            </a: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71"/>
          <p:cNvSpPr/>
          <p:nvPr/>
        </p:nvSpPr>
        <p:spPr>
          <a:xfrm>
            <a:off x="4203360" y="41194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72"/>
          <p:cNvSpPr/>
          <p:nvPr/>
        </p:nvSpPr>
        <p:spPr>
          <a:xfrm>
            <a:off x="1116360" y="63244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thernet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73"/>
          <p:cNvSpPr/>
          <p:nvPr/>
        </p:nvSpPr>
        <p:spPr>
          <a:xfrm>
            <a:off x="6723360" y="63626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therne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4"/>
          <p:cNvSpPr/>
          <p:nvPr/>
        </p:nvSpPr>
        <p:spPr>
          <a:xfrm>
            <a:off x="3898440" y="63244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ONE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Internet Protocol Sui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2" name="Line 4"/>
          <p:cNvSpPr/>
          <p:nvPr/>
        </p:nvSpPr>
        <p:spPr>
          <a:xfrm>
            <a:off x="2971800" y="380988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5"/>
          <p:cNvSpPr/>
          <p:nvPr/>
        </p:nvSpPr>
        <p:spPr>
          <a:xfrm>
            <a:off x="6553080" y="3767040"/>
            <a:ext cx="1181160" cy="134640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6"/>
          <p:cNvSpPr/>
          <p:nvPr/>
        </p:nvSpPr>
        <p:spPr>
          <a:xfrm>
            <a:off x="5373720" y="3767040"/>
            <a:ext cx="1181160" cy="134640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7"/>
          <p:cNvSpPr/>
          <p:nvPr/>
        </p:nvSpPr>
        <p:spPr>
          <a:xfrm rot="10800000">
            <a:off x="6543360" y="1980720"/>
            <a:ext cx="1230120" cy="167796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8"/>
          <p:cNvSpPr/>
          <p:nvPr/>
        </p:nvSpPr>
        <p:spPr>
          <a:xfrm rot="10800000">
            <a:off x="5334120" y="1980720"/>
            <a:ext cx="1209600" cy="167796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9"/>
          <p:cNvSpPr/>
          <p:nvPr/>
        </p:nvSpPr>
        <p:spPr>
          <a:xfrm>
            <a:off x="5326200" y="1981080"/>
            <a:ext cx="243504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0"/>
          <p:cNvSpPr/>
          <p:nvPr/>
        </p:nvSpPr>
        <p:spPr>
          <a:xfrm>
            <a:off x="5326200" y="5100480"/>
            <a:ext cx="235872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11"/>
          <p:cNvSpPr/>
          <p:nvPr/>
        </p:nvSpPr>
        <p:spPr>
          <a:xfrm>
            <a:off x="6400800" y="3584520"/>
            <a:ext cx="304920" cy="217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2"/>
          <p:cNvGrpSpPr/>
          <p:nvPr/>
        </p:nvGrpSpPr>
        <p:grpSpPr>
          <a:xfrm>
            <a:off x="5935680" y="2819520"/>
            <a:ext cx="1248120" cy="363240"/>
            <a:chOff x="5935680" y="2819520"/>
            <a:chExt cx="1248120" cy="363240"/>
          </a:xfrm>
        </p:grpSpPr>
        <p:sp>
          <p:nvSpPr>
            <p:cNvPr id="1161" name="Rectangle 13"/>
            <p:cNvSpPr/>
            <p:nvPr/>
          </p:nvSpPr>
          <p:spPr>
            <a:xfrm>
              <a:off x="5935680" y="28195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4"/>
            <p:cNvSpPr/>
            <p:nvPr/>
          </p:nvSpPr>
          <p:spPr>
            <a:xfrm>
              <a:off x="6545160" y="281952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Rectangle 15"/>
          <p:cNvSpPr/>
          <p:nvPr/>
        </p:nvSpPr>
        <p:spPr>
          <a:xfrm>
            <a:off x="5954400" y="414504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6"/>
          <p:cNvSpPr/>
          <p:nvPr/>
        </p:nvSpPr>
        <p:spPr>
          <a:xfrm>
            <a:off x="6005520" y="457992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7"/>
          <p:cNvSpPr/>
          <p:nvPr/>
        </p:nvSpPr>
        <p:spPr>
          <a:xfrm>
            <a:off x="5782320" y="2182680"/>
            <a:ext cx="155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5084280" y="5103720"/>
            <a:ext cx="326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glass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9"/>
          <p:cNvSpPr/>
          <p:nvPr/>
        </p:nvSpPr>
        <p:spPr>
          <a:xfrm>
            <a:off x="3962520" y="3352680"/>
            <a:ext cx="159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0"/>
          <p:cNvSpPr/>
          <p:nvPr/>
        </p:nvSpPr>
        <p:spPr>
          <a:xfrm>
            <a:off x="533520" y="5715000"/>
            <a:ext cx="601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ist facilitates interope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21"/>
          <p:cNvSpPr/>
          <p:nvPr/>
        </p:nvSpPr>
        <p:spPr>
          <a:xfrm>
            <a:off x="914400" y="2209680"/>
            <a:ext cx="68580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22"/>
          <p:cNvSpPr/>
          <p:nvPr/>
        </p:nvSpPr>
        <p:spPr>
          <a:xfrm>
            <a:off x="175248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23"/>
          <p:cNvSpPr/>
          <p:nvPr/>
        </p:nvSpPr>
        <p:spPr>
          <a:xfrm>
            <a:off x="342900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4"/>
          <p:cNvSpPr/>
          <p:nvPr/>
        </p:nvSpPr>
        <p:spPr>
          <a:xfrm>
            <a:off x="259092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25"/>
          <p:cNvSpPr/>
          <p:nvPr/>
        </p:nvSpPr>
        <p:spPr>
          <a:xfrm>
            <a:off x="1295280" y="2895480"/>
            <a:ext cx="685800" cy="3812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6"/>
          <p:cNvSpPr/>
          <p:nvPr/>
        </p:nvSpPr>
        <p:spPr>
          <a:xfrm>
            <a:off x="30481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7"/>
          <p:cNvSpPr/>
          <p:nvPr/>
        </p:nvSpPr>
        <p:spPr>
          <a:xfrm>
            <a:off x="2209680" y="3657600"/>
            <a:ext cx="6858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8"/>
          <p:cNvSpPr/>
          <p:nvPr/>
        </p:nvSpPr>
        <p:spPr>
          <a:xfrm>
            <a:off x="838080" y="4419720"/>
            <a:ext cx="685800" cy="3808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9"/>
          <p:cNvSpPr/>
          <p:nvPr/>
        </p:nvSpPr>
        <p:spPr>
          <a:xfrm>
            <a:off x="19810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30"/>
          <p:cNvSpPr/>
          <p:nvPr/>
        </p:nvSpPr>
        <p:spPr>
          <a:xfrm>
            <a:off x="35812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1"/>
          <p:cNvSpPr/>
          <p:nvPr/>
        </p:nvSpPr>
        <p:spPr>
          <a:xfrm>
            <a:off x="2743200" y="44197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0" name="AutoShape 32"/>
          <p:cNvCxnSpPr>
            <a:stCxn id="1169" idx="2"/>
            <a:endCxn id="1173" idx="0"/>
          </p:cNvCxnSpPr>
          <p:nvPr/>
        </p:nvCxnSpPr>
        <p:spPr>
          <a:xfrm>
            <a:off x="1257480" y="25909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1" name="AutoShape 33"/>
          <p:cNvCxnSpPr>
            <a:endCxn id="1173" idx="0"/>
          </p:cNvCxnSpPr>
          <p:nvPr/>
        </p:nvCxnSpPr>
        <p:spPr>
          <a:xfrm flipH="1">
            <a:off x="163800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2" name="AutoShape 34"/>
          <p:cNvCxnSpPr>
            <a:stCxn id="1172" idx="2"/>
          </p:cNvCxnSpPr>
          <p:nvPr/>
        </p:nvCxnSpPr>
        <p:spPr>
          <a:xfrm>
            <a:off x="293364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AutoShape 35"/>
          <p:cNvCxnSpPr>
            <a:stCxn id="1171" idx="2"/>
          </p:cNvCxnSpPr>
          <p:nvPr/>
        </p:nvCxnSpPr>
        <p:spPr>
          <a:xfrm flipH="1">
            <a:off x="3351960" y="2590920"/>
            <a:ext cx="4201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AutoShape 36"/>
          <p:cNvCxnSpPr>
            <a:stCxn id="1173" idx="2"/>
            <a:endCxn id="1175" idx="0"/>
          </p:cNvCxnSpPr>
          <p:nvPr/>
        </p:nvCxnSpPr>
        <p:spPr>
          <a:xfrm>
            <a:off x="1638360" y="32767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AutoShape 37"/>
          <p:cNvCxnSpPr>
            <a:stCxn id="1174" idx="2"/>
            <a:endCxn id="1175" idx="0"/>
          </p:cNvCxnSpPr>
          <p:nvPr/>
        </p:nvCxnSpPr>
        <p:spPr>
          <a:xfrm flipH="1">
            <a:off x="2552400" y="32767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AutoShape 38"/>
          <p:cNvCxnSpPr>
            <a:stCxn id="1175" idx="2"/>
            <a:endCxn id="1178" idx="0"/>
          </p:cNvCxnSpPr>
          <p:nvPr/>
        </p:nvCxnSpPr>
        <p:spPr>
          <a:xfrm>
            <a:off x="255276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AutoShape 39"/>
          <p:cNvCxnSpPr>
            <a:stCxn id="1175" idx="2"/>
            <a:endCxn id="1176" idx="0"/>
          </p:cNvCxnSpPr>
          <p:nvPr/>
        </p:nvCxnSpPr>
        <p:spPr>
          <a:xfrm flipH="1">
            <a:off x="118080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AutoShape 40"/>
          <p:cNvCxnSpPr>
            <a:stCxn id="1175" idx="2"/>
            <a:endCxn id="1177" idx="0"/>
          </p:cNvCxnSpPr>
          <p:nvPr/>
        </p:nvCxnSpPr>
        <p:spPr>
          <a:xfrm flipH="1">
            <a:off x="2323440" y="40381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Encapsulation of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erent devices switch different th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layer: electrical signals (repeaters and hu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frames (bridges and swit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packets (ro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885960" y="355608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9"/>
          <p:cNvSpPr/>
          <p:nvPr/>
        </p:nvSpPr>
        <p:spPr>
          <a:xfrm>
            <a:off x="885960" y="417024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885960" y="478620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885960" y="540072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885960" y="601488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3"/>
          <p:cNvSpPr/>
          <p:nvPr/>
        </p:nvSpPr>
        <p:spPr>
          <a:xfrm>
            <a:off x="784440" y="363384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4"/>
          <p:cNvSpPr/>
          <p:nvPr/>
        </p:nvSpPr>
        <p:spPr>
          <a:xfrm>
            <a:off x="928800" y="42735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5"/>
          <p:cNvSpPr/>
          <p:nvPr/>
        </p:nvSpPr>
        <p:spPr>
          <a:xfrm>
            <a:off x="1754640" y="4849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6"/>
          <p:cNvSpPr/>
          <p:nvPr/>
        </p:nvSpPr>
        <p:spPr>
          <a:xfrm>
            <a:off x="1078920" y="5464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7"/>
          <p:cNvSpPr/>
          <p:nvPr/>
        </p:nvSpPr>
        <p:spPr>
          <a:xfrm>
            <a:off x="1229760" y="6130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8"/>
          <p:cNvSpPr/>
          <p:nvPr/>
        </p:nvSpPr>
        <p:spPr>
          <a:xfrm>
            <a:off x="447768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9"/>
          <p:cNvSpPr/>
          <p:nvPr/>
        </p:nvSpPr>
        <p:spPr>
          <a:xfrm>
            <a:off x="551448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0"/>
          <p:cNvSpPr/>
          <p:nvPr/>
        </p:nvSpPr>
        <p:spPr>
          <a:xfrm>
            <a:off x="655092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1"/>
          <p:cNvSpPr/>
          <p:nvPr/>
        </p:nvSpPr>
        <p:spPr>
          <a:xfrm>
            <a:off x="7759800" y="4471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2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y Concepts in Networking</a:t>
            </a:r>
            <a:br>
              <a:rPr sz="4400"/>
            </a:b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(Exam preparation idea: look for other examples)</a:t>
            </a:r>
            <a:endParaRPr b="0" lang="en-US" sz="2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56E-F7BD-4073-B926-BE3FF9B26B5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multiplex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ing multiple streams out of o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the separate str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ing the separate streams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1212" name="Group 13"/>
          <p:cNvGrpSpPr/>
          <p:nvPr/>
        </p:nvGrpSpPr>
        <p:grpSpPr>
          <a:xfrm>
            <a:off x="2326680" y="4683240"/>
            <a:ext cx="4204440" cy="730080"/>
            <a:chOff x="2326680" y="4683240"/>
            <a:chExt cx="4204440" cy="730080"/>
          </a:xfrm>
        </p:grpSpPr>
        <p:sp>
          <p:nvSpPr>
            <p:cNvPr id="1213" name="Rectangle 4"/>
            <p:cNvSpPr/>
            <p:nvPr/>
          </p:nvSpPr>
          <p:spPr>
            <a:xfrm>
              <a:off x="5456160" y="4683240"/>
              <a:ext cx="1074960" cy="73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4419720" y="4683240"/>
              <a:ext cx="1074600" cy="730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6"/>
            <p:cNvSpPr/>
            <p:nvPr/>
          </p:nvSpPr>
          <p:spPr>
            <a:xfrm>
              <a:off x="3381480" y="4683240"/>
              <a:ext cx="1074600" cy="730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2344680" y="4683240"/>
              <a:ext cx="1074960" cy="730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8"/>
            <p:cNvSpPr/>
            <p:nvPr/>
          </p:nvSpPr>
          <p:spPr>
            <a:xfrm>
              <a:off x="232668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9"/>
            <p:cNvSpPr/>
            <p:nvPr/>
          </p:nvSpPr>
          <p:spPr>
            <a:xfrm>
              <a:off x="336348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10"/>
            <p:cNvSpPr/>
            <p:nvPr/>
          </p:nvSpPr>
          <p:spPr>
            <a:xfrm>
              <a:off x="439992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1"/>
            <p:cNvSpPr/>
            <p:nvPr/>
          </p:nvSpPr>
          <p:spPr>
            <a:xfrm>
              <a:off x="5608800" y="4727520"/>
              <a:ext cx="7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2"/>
            <p:cNvSpPr/>
            <p:nvPr/>
          </p:nvSpPr>
          <p:spPr>
            <a:xfrm>
              <a:off x="2344680" y="4683240"/>
              <a:ext cx="4186440" cy="730080"/>
            </a:xfrm>
            <a:prstGeom prst="rect">
              <a:avLst/>
            </a:prstGeom>
            <a:noFill/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Freeform 14"/>
          <p:cNvSpPr/>
          <p:nvPr/>
        </p:nvSpPr>
        <p:spPr>
          <a:xfrm>
            <a:off x="2614680" y="4106880"/>
            <a:ext cx="1222200" cy="56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2867400" y="3722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16"/>
          <p:cNvSpPr/>
          <p:nvPr/>
        </p:nvSpPr>
        <p:spPr>
          <a:xfrm>
            <a:off x="3919680" y="5451480"/>
            <a:ext cx="1076040" cy="46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705480" y="59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19"/>
          <p:cNvSpPr/>
          <p:nvPr/>
        </p:nvSpPr>
        <p:spPr>
          <a:xfrm>
            <a:off x="4964040" y="4081320"/>
            <a:ext cx="1222560" cy="563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0"/>
          <p:cNvSpPr/>
          <p:nvPr/>
        </p:nvSpPr>
        <p:spPr>
          <a:xfrm>
            <a:off x="5085000" y="3722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 #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De)multiplexing: With a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30F-76B8-4495-8850-3E68915DCF4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3"/>
          <p:cNvGrpSpPr/>
          <p:nvPr/>
        </p:nvGrpSpPr>
        <p:grpSpPr>
          <a:xfrm>
            <a:off x="4437000" y="3286080"/>
            <a:ext cx="1747800" cy="1065240"/>
            <a:chOff x="4437000" y="3286080"/>
            <a:chExt cx="1747800" cy="1065240"/>
          </a:xfrm>
        </p:grpSpPr>
        <p:sp>
          <p:nvSpPr>
            <p:cNvPr id="1231" name="Oval 4"/>
            <p:cNvSpPr/>
            <p:nvPr/>
          </p:nvSpPr>
          <p:spPr>
            <a:xfrm>
              <a:off x="4451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5"/>
            <p:cNvSpPr/>
            <p:nvPr/>
          </p:nvSpPr>
          <p:spPr>
            <a:xfrm>
              <a:off x="4451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6"/>
            <p:cNvSpPr/>
            <p:nvPr/>
          </p:nvSpPr>
          <p:spPr>
            <a:xfrm>
              <a:off x="6184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7"/>
            <p:cNvSpPr/>
            <p:nvPr/>
          </p:nvSpPr>
          <p:spPr>
            <a:xfrm>
              <a:off x="4451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8"/>
            <p:cNvSpPr/>
            <p:nvPr/>
          </p:nvSpPr>
          <p:spPr>
            <a:xfrm>
              <a:off x="4437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Group 9"/>
            <p:cNvGrpSpPr/>
            <p:nvPr/>
          </p:nvGrpSpPr>
          <p:grpSpPr>
            <a:xfrm>
              <a:off x="4854600" y="3438000"/>
              <a:ext cx="857520" cy="401400"/>
              <a:chOff x="4854600" y="3438000"/>
              <a:chExt cx="857520" cy="401400"/>
            </a:xfrm>
          </p:grpSpPr>
          <p:sp>
            <p:nvSpPr>
              <p:cNvPr id="1237" name="Line 10"/>
              <p:cNvSpPr/>
              <p:nvPr/>
            </p:nvSpPr>
            <p:spPr>
              <a:xfrm flipV="1">
                <a:off x="4854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11"/>
              <p:cNvSpPr/>
              <p:nvPr/>
            </p:nvSpPr>
            <p:spPr>
              <a:xfrm>
                <a:off x="5442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12"/>
              <p:cNvSpPr/>
              <p:nvPr/>
            </p:nvSpPr>
            <p:spPr>
              <a:xfrm>
                <a:off x="5136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13"/>
            <p:cNvGrpSpPr/>
            <p:nvPr/>
          </p:nvGrpSpPr>
          <p:grpSpPr>
            <a:xfrm>
              <a:off x="4854600" y="3432600"/>
              <a:ext cx="857520" cy="401040"/>
              <a:chOff x="4854600" y="3432600"/>
              <a:chExt cx="857520" cy="401040"/>
            </a:xfrm>
          </p:grpSpPr>
          <p:sp>
            <p:nvSpPr>
              <p:cNvPr id="1241" name="Line 14"/>
              <p:cNvSpPr/>
              <p:nvPr/>
            </p:nvSpPr>
            <p:spPr>
              <a:xfrm>
                <a:off x="4854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5"/>
              <p:cNvSpPr/>
              <p:nvPr/>
            </p:nvSpPr>
            <p:spPr>
              <a:xfrm>
                <a:off x="5442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6"/>
              <p:cNvSpPr/>
              <p:nvPr/>
            </p:nvSpPr>
            <p:spPr>
              <a:xfrm flipV="1">
                <a:off x="5136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44" name="Picture 17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8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246" name="Line 19"/>
          <p:cNvSpPr/>
          <p:nvPr/>
        </p:nvSpPr>
        <p:spPr>
          <a:xfrm>
            <a:off x="2498760" y="2584440"/>
            <a:ext cx="195732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"/>
          <p:cNvSpPr/>
          <p:nvPr/>
        </p:nvSpPr>
        <p:spPr>
          <a:xfrm flipV="1">
            <a:off x="2651040" y="4235040"/>
            <a:ext cx="2036880" cy="1498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1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2"/>
          <p:cNvSpPr/>
          <p:nvPr/>
        </p:nvSpPr>
        <p:spPr>
          <a:xfrm>
            <a:off x="4921200" y="4389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3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4"/>
          <p:cNvSpPr/>
          <p:nvPr/>
        </p:nvSpPr>
        <p:spPr>
          <a:xfrm>
            <a:off x="3382920" y="44276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5"/>
          <p:cNvSpPr/>
          <p:nvPr/>
        </p:nvSpPr>
        <p:spPr>
          <a:xfrm>
            <a:off x="3381480" y="4427640"/>
            <a:ext cx="325440" cy="8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6"/>
          <p:cNvSpPr/>
          <p:nvPr/>
        </p:nvSpPr>
        <p:spPr>
          <a:xfrm>
            <a:off x="3402000" y="251136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7"/>
          <p:cNvSpPr/>
          <p:nvPr/>
        </p:nvSpPr>
        <p:spPr>
          <a:xfrm>
            <a:off x="3400560" y="251136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28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9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0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1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2"/>
          <p:cNvSpPr/>
          <p:nvPr/>
        </p:nvSpPr>
        <p:spPr>
          <a:xfrm>
            <a:off x="5112720" y="58863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3"/>
          <p:cNvSpPr/>
          <p:nvPr/>
        </p:nvSpPr>
        <p:spPr>
          <a:xfrm>
            <a:off x="7337520" y="41972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4"/>
          <p:cNvSpPr/>
          <p:nvPr/>
        </p:nvSpPr>
        <p:spPr>
          <a:xfrm>
            <a:off x="975240" y="3236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5"/>
          <p:cNvSpPr/>
          <p:nvPr/>
        </p:nvSpPr>
        <p:spPr>
          <a:xfrm>
            <a:off x="2433960" y="6040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36"/>
          <p:cNvSpPr/>
          <p:nvPr/>
        </p:nvSpPr>
        <p:spPr>
          <a:xfrm>
            <a:off x="6507360" y="2584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wer at the End Ho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531720" y="1163520"/>
            <a:ext cx="793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End-to-End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ever possible, communications protocol operations should be defined to occur at the </a:t>
            </a:r>
            <a:r>
              <a:rPr b="0" lang="en-US" sz="2800" spc="-1" strike="noStrike">
                <a:solidFill>
                  <a:srgbClr val="c0504d"/>
                </a:solidFill>
                <a:latin typeface="Tahoma"/>
              </a:rPr>
              <a:t>end-poi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communications syste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484200" y="4125960"/>
            <a:ext cx="793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Programm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programmable end hosts, new network services can be added at </a:t>
            </a:r>
            <a:r>
              <a:rPr b="0" lang="en-US" sz="2800" spc="-1" strike="noStrike">
                <a:solidFill>
                  <a:srgbClr val="c0504d"/>
                </a:solidFill>
                <a:latin typeface="Tahoma"/>
              </a:rPr>
              <a:t>any time, by any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No Math in This Cours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ypothesis #1: theory not relevant to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of math created for telephone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se models don’t work in data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ypothesis #2: too many kinds of the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uing: statistical multiplexing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: TCP congestion control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ation: TCP maximizes aggregate u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: reasoning about competing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 networking a domain or a disciplin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Will Happen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C85-EB5B-44C0-B04B-A0452F556E3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o Strict Notions of Ident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273" name="Picture 3" descr="internet_dog"/>
          <p:cNvPicPr/>
          <p:nvPr/>
        </p:nvPicPr>
        <p:blipFill>
          <a:blip r:embed="rId1"/>
          <a:stretch/>
        </p:blipFill>
        <p:spPr>
          <a:xfrm>
            <a:off x="216000" y="990720"/>
            <a:ext cx="5252760" cy="586728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581440" y="2408400"/>
            <a:ext cx="35622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ds t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o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ial-of-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hij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tocols Designed Based on Tru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you don’t spoof your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 spoofing, IP address spoofing, spam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port numbers correspond to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being arbitrary, meaningless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you adhere to the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exponential back-off after a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protocol specifications are publ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others can build interoperable implem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obody in Char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traverses many Autonomous Syst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’s fault is it when things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you upgrade functiona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icit trust in the end ho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f some hosts violate congestion contr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yone can add any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or not it is legal, moral, good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s many count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no one government can be in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ing New Requir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seminat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, multi-home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times-connecte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number of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l-time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Internet of the Fu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we fix what ails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, performance, 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gradability, manag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Your favorite gripe her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thout throwing out baby with bathwa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link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 open technical and policy question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3" name="Picture 4" descr="Gremlin"/>
          <p:cNvPicPr/>
          <p:nvPr/>
        </p:nvPicPr>
        <p:blipFill>
          <a:blip r:embed="rId1"/>
          <a:stretch/>
        </p:blipFill>
        <p:spPr>
          <a:xfrm>
            <a:off x="6680160" y="1049400"/>
            <a:ext cx="2276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me Key Concep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rse was organized around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 small set of concepts recur in many 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l CS con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, indirection, caching, random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ing-specific con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tate, layering, (de)multipl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to-end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ability of large syst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store all information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centrally coordinate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to manage sca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 system into smaller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to divide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e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, routing protocols, DNS, peer-to-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5" descr="Hierarc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8280" y="1770120"/>
            <a:ext cx="16794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IP Address Blo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related hosts from a common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0/24 on the lef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6.7.0/24 on the righ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7"/>
          <p:cNvSpPr/>
          <p:nvPr/>
        </p:nvSpPr>
        <p:spPr>
          <a:xfrm>
            <a:off x="151128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152424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9"/>
          <p:cNvSpPr/>
          <p:nvPr/>
        </p:nvSpPr>
        <p:spPr>
          <a:xfrm>
            <a:off x="322884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0"/>
          <p:cNvSpPr/>
          <p:nvPr/>
        </p:nvSpPr>
        <p:spPr>
          <a:xfrm flipH="1">
            <a:off x="3227400" y="504360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1"/>
          <p:cNvSpPr/>
          <p:nvPr/>
        </p:nvSpPr>
        <p:spPr>
          <a:xfrm>
            <a:off x="153828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2"/>
          <p:cNvSpPr/>
          <p:nvPr/>
        </p:nvSpPr>
        <p:spPr>
          <a:xfrm>
            <a:off x="307512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3"/>
          <p:cNvSpPr/>
          <p:nvPr/>
        </p:nvSpPr>
        <p:spPr>
          <a:xfrm flipV="1">
            <a:off x="153828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4"/>
          <p:cNvSpPr/>
          <p:nvPr/>
        </p:nvSpPr>
        <p:spPr>
          <a:xfrm>
            <a:off x="146160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IP Address Blo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ion of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: assigned to an i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: assigned by institution to its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assigns prefixe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Corporation for Assigned Names &amp;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Internet Registries (RI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s (IS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b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s within an enter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-leve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are Autonomous Systems (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s are links and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s the detail within each AS’s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259160" y="3286080"/>
          <a:ext cx="246564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3286080"/>
                    <a:ext cx="24656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939960" y="3670200"/>
          <a:ext cx="24606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670200"/>
                    <a:ext cx="2460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3736800" y="4824360"/>
          <a:ext cx="246564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6800" y="4824360"/>
                    <a:ext cx="2465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Text Box 7"/>
          <p:cNvSpPr/>
          <p:nvPr/>
        </p:nvSpPr>
        <p:spPr>
          <a:xfrm>
            <a:off x="4168800" y="5343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001880" y="4951440"/>
          <a:ext cx="119988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1880" y="4951440"/>
                    <a:ext cx="11998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731880" y="5786280"/>
          <a:ext cx="7747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880" y="578628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6467400" y="4402080"/>
          <a:ext cx="1200240" cy="6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7400" y="4402080"/>
                    <a:ext cx="12002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38960" y="5219640"/>
          <a:ext cx="77472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38960" y="521964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Line 12"/>
          <p:cNvSpPr/>
          <p:nvPr/>
        </p:nvSpPr>
        <p:spPr>
          <a:xfrm flipV="1">
            <a:off x="1206360" y="5530320"/>
            <a:ext cx="171720" cy="2905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3"/>
          <p:cNvSpPr/>
          <p:nvPr/>
        </p:nvSpPr>
        <p:spPr>
          <a:xfrm flipV="1">
            <a:off x="1498680" y="4746240"/>
            <a:ext cx="11916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"/>
          <p:cNvSpPr/>
          <p:nvPr/>
        </p:nvSpPr>
        <p:spPr>
          <a:xfrm flipV="1">
            <a:off x="2041560" y="4817880"/>
            <a:ext cx="252360" cy="24588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5"/>
          <p:cNvSpPr/>
          <p:nvPr/>
        </p:nvSpPr>
        <p:spPr>
          <a:xfrm flipV="1">
            <a:off x="2865600" y="3611160"/>
            <a:ext cx="1792080" cy="1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6"/>
          <p:cNvSpPr/>
          <p:nvPr/>
        </p:nvSpPr>
        <p:spPr>
          <a:xfrm flipV="1">
            <a:off x="3197160" y="3894120"/>
            <a:ext cx="1235160" cy="1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7"/>
          <p:cNvSpPr/>
          <p:nvPr/>
        </p:nvSpPr>
        <p:spPr>
          <a:xfrm flipV="1">
            <a:off x="3263760" y="4219560"/>
            <a:ext cx="1047960" cy="11448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3157560" y="4448160"/>
            <a:ext cx="1592280" cy="51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9"/>
          <p:cNvSpPr/>
          <p:nvPr/>
        </p:nvSpPr>
        <p:spPr>
          <a:xfrm>
            <a:off x="2852640" y="4676760"/>
            <a:ext cx="1312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>
            <a:off x="2479680" y="4746600"/>
            <a:ext cx="14479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1"/>
          <p:cNvSpPr/>
          <p:nvPr/>
        </p:nvSpPr>
        <p:spPr>
          <a:xfrm>
            <a:off x="6568920" y="4060800"/>
            <a:ext cx="58428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2"/>
          <p:cNvSpPr/>
          <p:nvPr/>
        </p:nvSpPr>
        <p:spPr>
          <a:xfrm>
            <a:off x="6105600" y="4386240"/>
            <a:ext cx="50328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3"/>
          <p:cNvSpPr/>
          <p:nvPr/>
        </p:nvSpPr>
        <p:spPr>
          <a:xfrm flipH="1">
            <a:off x="5812920" y="4862520"/>
            <a:ext cx="676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4"/>
          <p:cNvSpPr/>
          <p:nvPr/>
        </p:nvSpPr>
        <p:spPr>
          <a:xfrm flipH="1">
            <a:off x="5999040" y="4994280"/>
            <a:ext cx="795600" cy="31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7539120" y="4826160"/>
            <a:ext cx="30456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6"/>
          <p:cNvSpPr/>
          <p:nvPr/>
        </p:nvSpPr>
        <p:spPr>
          <a:xfrm>
            <a:off x="7153200" y="5019840"/>
            <a:ext cx="331920" cy="2822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7"/>
          <p:cNvSpPr/>
          <p:nvPr/>
        </p:nvSpPr>
        <p:spPr>
          <a:xfrm>
            <a:off x="7724880" y="5618160"/>
            <a:ext cx="0" cy="4413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1112760" y="6199200"/>
            <a:ext cx="173160" cy="301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9"/>
          <p:cNvSpPr/>
          <p:nvPr/>
        </p:nvSpPr>
        <p:spPr>
          <a:xfrm flipH="1">
            <a:off x="4909680" y="4456080"/>
            <a:ext cx="27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5586480" y="4545000"/>
            <a:ext cx="0" cy="37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1028160" y="584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1374120" y="512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1945800" y="411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4"/>
          <p:cNvSpPr/>
          <p:nvPr/>
        </p:nvSpPr>
        <p:spPr>
          <a:xfrm>
            <a:off x="5316120" y="3786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5"/>
          <p:cNvSpPr/>
          <p:nvPr/>
        </p:nvSpPr>
        <p:spPr>
          <a:xfrm>
            <a:off x="6909840" y="458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6"/>
          <p:cNvSpPr/>
          <p:nvPr/>
        </p:nvSpPr>
        <p:spPr>
          <a:xfrm>
            <a:off x="7560720" y="528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7"/>
          <p:cNvSpPr/>
          <p:nvPr/>
        </p:nvSpPr>
        <p:spPr>
          <a:xfrm>
            <a:off x="4771440" y="529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8"/>
          <p:cNvSpPr/>
          <p:nvPr/>
        </p:nvSpPr>
        <p:spPr>
          <a:xfrm>
            <a:off x="1343880" y="59817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9"/>
          <p:cNvSpPr/>
          <p:nvPr/>
        </p:nvSpPr>
        <p:spPr>
          <a:xfrm>
            <a:off x="6802200" y="598176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domain routing ignores details in an 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flood information to learn the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determine “next hop” to other rout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puting shortest paths based on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4"/>
          <p:cNvSpPr/>
          <p:nvPr/>
        </p:nvSpPr>
        <p:spPr>
          <a:xfrm>
            <a:off x="2633760" y="4915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3495600" y="5586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3591000" y="4327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4357800" y="49989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"/>
          <p:cNvSpPr/>
          <p:nvPr/>
        </p:nvSpPr>
        <p:spPr>
          <a:xfrm>
            <a:off x="5219640" y="5586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>
            <a:off x="5219640" y="4327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0"/>
          <p:cNvSpPr/>
          <p:nvPr/>
        </p:nvSpPr>
        <p:spPr>
          <a:xfrm>
            <a:off x="4452840" y="60912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1"/>
          <p:cNvSpPr/>
          <p:nvPr/>
        </p:nvSpPr>
        <p:spPr>
          <a:xfrm>
            <a:off x="6176880" y="4915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 flipV="1">
            <a:off x="2921040" y="449424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3"/>
          <p:cNvSpPr/>
          <p:nvPr/>
        </p:nvSpPr>
        <p:spPr>
          <a:xfrm>
            <a:off x="2871720" y="513864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4"/>
          <p:cNvSpPr/>
          <p:nvPr/>
        </p:nvSpPr>
        <p:spPr>
          <a:xfrm>
            <a:off x="3830760" y="450864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5"/>
          <p:cNvSpPr/>
          <p:nvPr/>
        </p:nvSpPr>
        <p:spPr>
          <a:xfrm>
            <a:off x="3735360" y="575460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6"/>
          <p:cNvSpPr/>
          <p:nvPr/>
        </p:nvSpPr>
        <p:spPr>
          <a:xfrm flipV="1">
            <a:off x="3767040" y="520812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4597560" y="5222880"/>
            <a:ext cx="65376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8"/>
          <p:cNvSpPr/>
          <p:nvPr/>
        </p:nvSpPr>
        <p:spPr>
          <a:xfrm flipV="1">
            <a:off x="4692600" y="579708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9"/>
          <p:cNvSpPr/>
          <p:nvPr/>
        </p:nvSpPr>
        <p:spPr>
          <a:xfrm flipV="1">
            <a:off x="4645080" y="504000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0"/>
          <p:cNvSpPr/>
          <p:nvPr/>
        </p:nvSpPr>
        <p:spPr>
          <a:xfrm>
            <a:off x="3846600" y="443880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1"/>
          <p:cNvSpPr/>
          <p:nvPr/>
        </p:nvSpPr>
        <p:spPr>
          <a:xfrm>
            <a:off x="5491080" y="453708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2"/>
          <p:cNvSpPr/>
          <p:nvPr/>
        </p:nvSpPr>
        <p:spPr>
          <a:xfrm>
            <a:off x="2965680" y="427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3"/>
          <p:cNvSpPr/>
          <p:nvPr/>
        </p:nvSpPr>
        <p:spPr>
          <a:xfrm>
            <a:off x="43221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4"/>
          <p:cNvSpPr/>
          <p:nvPr/>
        </p:nvSpPr>
        <p:spPr>
          <a:xfrm>
            <a:off x="3078360" y="4946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5"/>
          <p:cNvSpPr/>
          <p:nvPr/>
        </p:nvSpPr>
        <p:spPr>
          <a:xfrm>
            <a:off x="4083120" y="43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6"/>
          <p:cNvSpPr/>
          <p:nvPr/>
        </p:nvSpPr>
        <p:spPr>
          <a:xfrm>
            <a:off x="3779280" y="5016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7"/>
          <p:cNvSpPr/>
          <p:nvPr/>
        </p:nvSpPr>
        <p:spPr>
          <a:xfrm>
            <a:off x="5058000" y="461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8"/>
          <p:cNvSpPr/>
          <p:nvPr/>
        </p:nvSpPr>
        <p:spPr>
          <a:xfrm>
            <a:off x="57596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9"/>
          <p:cNvSpPr/>
          <p:nvPr/>
        </p:nvSpPr>
        <p:spPr>
          <a:xfrm>
            <a:off x="3733200" y="582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4913640" y="5045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4978440" y="585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32"/>
          <p:cNvSpPr/>
          <p:nvPr/>
        </p:nvSpPr>
        <p:spPr>
          <a:xfrm>
            <a:off x="2281320" y="3878280"/>
            <a:ext cx="4599000" cy="267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3"/>
          <p:cNvSpPr/>
          <p:nvPr/>
        </p:nvSpPr>
        <p:spPr>
          <a:xfrm flipH="1" flipV="1">
            <a:off x="1674720" y="4719600"/>
            <a:ext cx="959040" cy="29376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4"/>
          <p:cNvSpPr/>
          <p:nvPr/>
        </p:nvSpPr>
        <p:spPr>
          <a:xfrm flipH="1">
            <a:off x="1643040" y="5124600"/>
            <a:ext cx="100656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5"/>
          <p:cNvSpPr/>
          <p:nvPr/>
        </p:nvSpPr>
        <p:spPr>
          <a:xfrm>
            <a:off x="5506920" y="5713560"/>
            <a:ext cx="1613160" cy="69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459400" y="5811840"/>
            <a:ext cx="111744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 flipH="1">
            <a:off x="6432480" y="4773600"/>
            <a:ext cx="10065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3122640" y="3618000"/>
            <a:ext cx="57456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2606760" y="5765760"/>
            <a:ext cx="9158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1:33:54Z</dcterms:created>
  <dc:creator>Mike</dc:creator>
  <dc:description/>
  <cp:keywords/>
  <dc:language>en-US</dc:language>
  <cp:lastModifiedBy>Jennifer Rexford</cp:lastModifiedBy>
  <cp:lastPrinted>2012-04-30T01:04:33Z</cp:lastPrinted>
  <dcterms:modified xsi:type="dcterms:W3CDTF">2012-05-02T05:23:47Z</dcterms:modified>
  <cp:revision>4172</cp:revision>
  <dc:subject/>
  <dc:title>Communication</dc:title>
</cp:coreProperties>
</file>