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6D02E4-3694-4765-AC83-BB6D74BE7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AE1234-D984-4A00-8905-8DABEB124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A088A5-1B5A-4E99-A700-F8A1AE6CD48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5B2AE4-5242-46E8-942C-4522B6B8AF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2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6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8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9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0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3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4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5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6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7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8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9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0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1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2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3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4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5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74760" y="7286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74880" y="4557600"/>
            <a:ext cx="536544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971430-CECA-4E42-B055-FAEC110844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B78A-7EF2-4226-A906-EA283563A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92B6-D3DC-41FB-8D48-5CF2024655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820D8-AAB3-4E4F-A7D6-5932F2D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ABF7C-6A74-4D55-962F-277E2F43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5BDA8-ECC9-4B53-8CDC-3014C915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63B52-E808-45A3-B860-E9B504A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821FD-80E7-47B8-9904-876B814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FE1E4-BD8F-45C9-98F1-C3E8F7B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1B484-76CF-4F82-8DDC-49885C72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4FC88-EE82-4C94-9376-F6269733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D20C4-C3CC-4153-A12D-04F388C5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0D5FC-FD9E-4AE5-9241-92EB087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E2E3-17E2-4F37-BCAC-18838B9766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9601A-814F-4DC9-B1F6-3AC75E9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FCEC1-F56A-4D88-8C88-E18BAF9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39B32-D2FB-4CF2-97E3-EA89E1D0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98C02-14DC-4331-91B7-2739C9D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1C7DB-CE03-4CBC-AFB5-06F3B9C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EBEDB-D97F-4960-AA9C-A608B0A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A85D0-8F7A-4846-9FB5-E0787F5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B6C45-1D8C-4BF8-AE24-F8C98D2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F0B80-CF77-4710-BD73-FDF0DB6E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DDDD4-FDAE-4759-9A25-E648B9DA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F3D0-8A39-4E16-90B3-995C16C1E88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405BA-8743-469F-A374-06790AC6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369701-8F5C-407D-88F6-6A267AD1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76F60E-2394-4C30-AF9C-1EFF182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7441A7-981F-43C3-BCBC-0EF9F8DF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BB1485-2278-4CC7-9CBA-FB703E1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49DCAA-D047-43DF-AF65-CFA16BFB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6E93B2-76EF-4599-ABEC-01F942F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3C600F-0000-4AC2-A05D-5CFF95B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764E3-C6F0-45C9-B582-2E92822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47E08C-9705-4550-B9F5-D647F50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460A2-38D9-46C2-A21D-94D5090E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4AB368-75D6-4FA6-AEE2-3E08044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E5FEFD-DA5E-4BE9-B3FA-0742223F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D2B256-5903-41E3-8023-6BA5A04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ACB62-519F-4324-A720-C47E7A7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5131D-323C-4792-B25A-C82C84B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F31CA-C704-4541-A021-1E424B9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5302F-DB18-40BF-A169-82593B2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351D3-7717-4037-85FC-581BB16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58441-3295-4185-9263-F57CC016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19CB2-4B7E-4855-A305-5E60FE4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99822-64C8-48CB-9C59-CDDFC1E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748B5-A246-440F-A8AF-FC34EFA8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10837-E6E2-49C9-AD0E-152E7D8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22A31-C52F-4344-AA64-C1245FA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403EB-F722-4118-8F4F-860FFC29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8D60C-8CE2-419A-8AD0-2A80F619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65B63-A5DC-4CA1-8A3E-86997C5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838EA-F11A-47D6-9612-0DB2EBF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0705B-E006-40B7-96CF-C7134ED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DA0A1-4744-4FC7-946B-A96D119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92FB8-53EC-4BD1-AE1F-F61DC84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CF4F-F273-44C5-AA75-FFA1AF959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F958A-9A24-4E69-922D-7A6FE2A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7C44B-0C81-4154-B994-79CC557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EECF-D61C-4A7E-A218-95A7BB4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FFFAE-D155-4C68-BF0E-A8439DF1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32C0D-4BE8-4BF6-A9D1-2DCCB0C9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5F6D5-B47C-46FF-98A6-B43E2325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12B6D-A5C0-48C8-98BC-DB9CB861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40566-D8B0-43D2-8FB2-0F74F1EC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51C32-A4F2-4CAA-922F-A2F136E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450DD-A9FF-49B0-8E87-9528ABB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A898-EC67-4BA1-915E-C792153FDD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6216A0-F449-437E-A16A-5E63E2B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FBA37-D0B1-42AC-9278-808CF1D0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5C2F6-FD9D-4F21-ADC2-F489A94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3EB43-C46C-4210-BCAB-93B74C0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AA283-8C2F-4A0A-9E35-92BCD0E3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07CB2-4109-4C5B-98A7-43109B12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0AAB8-9A2D-4961-BE87-391AB1E7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4256B-2C4B-4D9F-9169-D7E06940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53738-1E07-4297-B304-99844A1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18D6F-2270-4EB1-B9B5-A64E4D1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E826-E7AE-4B73-A683-BB7570DF0B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BD87E-2277-4E73-87AA-663FCF6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39B13-4E62-45D0-99E6-CC3EB63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87C55-EDEF-408A-BB37-DD94F6D9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C01A2-8171-4549-8212-D78B08C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CE320-E7E7-48BF-95D8-8779457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0AB2D-40B1-4300-A85F-72C6FF1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68DB3-69FD-4BF7-909F-B143D45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C6807-6347-4DAB-A87E-9A2988B0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2C591-878F-421D-B21C-DD5801C3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ADECA-527D-4BA0-A77F-6B21C45F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71B2-A6FF-4072-813C-F0B0A3AEE5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3D3AA-8251-4CA8-BF12-C3588F77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F93DA-5860-44F4-B783-CA4D51E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0F6A2-27B5-48CA-BE66-40676413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8F2A2-36F2-4BF8-B44F-E884AD5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4F1ED5-B371-451A-B33B-4C863F27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3BCB5-624A-40CE-BAA9-23F9458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EEC66-FE20-4741-AEB3-2CF2B41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2E950C-7497-443A-891A-8F34EB92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D031B-F23D-4924-A6BB-1B71737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608F76-DB08-46E0-B3DA-265273FC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99D1-0C4F-4110-9336-19FBC60472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65290-21A5-4ED9-AB37-227F9490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34C3D-C805-41FD-B5C2-B40335C3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508B1-6C81-4252-A594-BBC1A9B3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0F9C39-4761-4F7C-BF90-9B73C80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C62D6E-48E8-4362-AF7A-20241A6A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7C8125-B146-4ED9-AF88-188A7E88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CF03A6-1806-4F25-90CB-61159EC6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51689-DE4B-46C6-B894-351CE78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85FCF1-E6D5-4D66-84B5-A67B263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033CF8-AF50-4973-9C59-669A4E9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7312-6898-410E-98E6-473AABA16A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771293-F062-46A0-B9F3-7DAC397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DA642-91A7-4BF0-B93B-FAF022DA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4C926-103D-4C9C-A420-B09BFF2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32B23-41B8-47DD-B1AD-8F2BE7B1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7216D-CFCD-4074-BA92-80100B9A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E6CDB-02A7-48A4-9DE5-B53201B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9FE26E-5A8A-4BD1-BFBD-7CEBFDE1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EE9E1F-8458-4698-BE5D-C14B2BF3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27BA4-995F-4C99-8D19-714E4C5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45A73F-87AD-4454-8378-79C6371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EA40-C90F-4803-A3B7-AF4351CB06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49ADB5-5728-466E-B1A4-A57FB44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B936AF-0C5E-4DE0-BE67-E2816340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49671A-1E7C-4CC0-AF1F-1D40B20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D75DA0-51DC-4F5D-984E-B5EB16B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5CFBFC-3411-4321-B469-AE07CBBF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3F3B0F-1C0A-4405-9475-52B7D353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FF1649-6262-4598-9596-A41A0206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6521F-2DF3-41AB-A637-24B0A9C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7C198-7ECF-4C21-AEDE-CD4C150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F99B9-E6A7-48CB-8EC4-D2010425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DA96-95C0-45E8-B702-78552B74F4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F29342-D8E5-459D-AF3A-6F9F81F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7FA5B-FB56-42CD-8292-A879344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E7657-0234-4914-B6CF-F855784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B26EFB-5096-4AE3-BC67-220C8283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6159F5-1214-412B-A5E3-44514EF0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7A8B5B-7B94-4A50-A9A1-8AC7C9E4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E5F3F4-2133-4D3C-B226-FE1A7D29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762AF-8857-47A1-AB9B-B509ABE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F2D84-3231-4A06-B413-C2E05DC0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3B4D0-5DDD-4AF7-81B2-F695A673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F3D-8781-48B2-95C0-2341082DC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578-53CA-4DB5-88B4-A40B03EC6DB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0A2-BB0F-4E3A-B7EA-987FDBAFD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DEB-DF4D-45CA-997B-26F80BEB779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8DB-DECF-4C6D-9B19-F9C100EC9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C8AD-6765-4855-A2BA-7F6CBACAFDB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9BD6-F4AB-45C1-BB22-7DAE2FAE1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C36-0332-4F3C-9A8C-297DB55160D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1AAB-95A3-4BA5-BB1D-A78FF96E4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1F10-E12E-4FD2-8F7A-640010D6AA0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453E-5F92-4DD0-BFD2-3980712DB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C6A-6496-445D-BD8D-FCBFBADBEF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CB5-96DC-41C3-BCC2-9DB96EFF3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694-7E08-4BC1-95BE-50977A994CF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92C4-B75F-4D73-AE34-BB868905F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313E-12A2-4C22-A78B-94583B1CDB7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309-3679-444B-B76E-56764701A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50A8-07FE-4EDF-B791-F37383BB679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07D0-0989-492C-BF57-8523433E8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F80-9584-4B24-AC9C-A6947DCDE60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C3F7-BFF1-4EA5-A2A6-EBD95F700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DCD-CD09-4CEB-857F-A4BF32CC63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A3AB-7145-433A-B7FE-CBFC103CC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Measurement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49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eader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and destination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applications; paralle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/ACK numbers and packet timestam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-of-order/lost packets; throughput and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of packets/bytes per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transfer sizes; frequency of bulk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YN flags from client machi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ccessful requests; denial-of-service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/RST flags from client machi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Web transfers aborted by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Cont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-layer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and RTSP request and response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TP, NNTP, and SMTP commands and re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queries and responses; OSPF/BGP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-layer body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resources (or checksums of the cont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keystrokes in Telnet/Rlogin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-Layer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RLs from HTTP request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resources/sites; benefits of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ta-data in HTTP request/response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type, cacheability, change frequency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s, protocol versions, protocol featur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DNS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queries, error frequency, query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Telnet/Rlogin ses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detection (break-ins, stepping st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Measurement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e.g., NetFlow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996840" y="1301760"/>
            <a:ext cx="52092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1835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28256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81636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4730760" y="1301760"/>
            <a:ext cx="59688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5797440" y="1301760"/>
            <a:ext cx="52092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67118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7550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831204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1"/>
          <p:cNvSpPr/>
          <p:nvPr/>
        </p:nvSpPr>
        <p:spPr>
          <a:xfrm>
            <a:off x="311040" y="1301760"/>
            <a:ext cx="444600" cy="21600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554040" y="1620720"/>
            <a:ext cx="284040" cy="66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2077920" y="1620720"/>
            <a:ext cx="5580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 flipH="1">
            <a:off x="2154240" y="1620720"/>
            <a:ext cx="188424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3068640" y="1620720"/>
            <a:ext cx="24177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5049720" y="1620720"/>
            <a:ext cx="4366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 flipH="1">
            <a:off x="5506920" y="1620720"/>
            <a:ext cx="5889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 flipH="1">
            <a:off x="5506920" y="1620720"/>
            <a:ext cx="15033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7869240" y="1620720"/>
            <a:ext cx="36036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 flipH="1">
            <a:off x="8218440" y="1620720"/>
            <a:ext cx="31608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1239840" y="1620720"/>
            <a:ext cx="8938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2"/>
          <p:cNvSpPr/>
          <p:nvPr/>
        </p:nvSpPr>
        <p:spPr>
          <a:xfrm>
            <a:off x="51696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flow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3"/>
          <p:cNvSpPr/>
          <p:nvPr/>
        </p:nvSpPr>
        <p:spPr>
          <a:xfrm>
            <a:off x="173592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flow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516492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flow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5"/>
          <p:cNvSpPr/>
          <p:nvPr/>
        </p:nvSpPr>
        <p:spPr>
          <a:xfrm>
            <a:off x="7832160" y="218592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flow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Flow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t of packets that “belong togeth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/destination IP addresses and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protocol, ToS bits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input/output interfaces at a router (if kn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that are “close” together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spacing between packets (e.g., 3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flows 2 and 4 are different flows due to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Abstra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t exactly the same as a “session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of related packets may be multiple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packets may not follow the same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” is hard to measure from insid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 for this abst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close to a “session” as possible from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optimization for forwarding/access-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as well throw in a few cou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ffic Statistics (e.g., Netflow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header inf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destination addresses and port #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IP &amp; TCP/UDP header fields (protocol, 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ggregate traffic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nd finish time (time of first &amp; last pack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# of bytes and number of packets in th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flags (e.g., logical OR over sequence of pack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1959120" y="5775480"/>
            <a:ext cx="52056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2797200" y="5775480"/>
            <a:ext cx="44460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778280" y="5775480"/>
            <a:ext cx="44460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 flipV="1">
            <a:off x="2232000" y="6048360"/>
            <a:ext cx="0" cy="457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 flipV="1">
            <a:off x="5025960" y="6048360"/>
            <a:ext cx="0" cy="457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1735920" y="6537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4534200" y="6486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fin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97120" y="5775480"/>
            <a:ext cx="743040" cy="22860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5829480" y="5349960"/>
            <a:ext cx="246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3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, ACK, &amp; 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1911240" y="5380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270684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363060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8"/>
          <p:cNvSpPr/>
          <p:nvPr/>
        </p:nvSpPr>
        <p:spPr>
          <a:xfrm>
            <a:off x="466884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ording Routing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put and output interfa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interface is where packets entered the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nterface is “next hop” in forwarding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and destination IP prefix (mask length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prefix match on src and dest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736800" y="5275440"/>
            <a:ext cx="1692360" cy="1439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3759120" y="4462560"/>
            <a:ext cx="1690920" cy="642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421160" y="5105520"/>
            <a:ext cx="266760" cy="169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2209680" y="5380200"/>
            <a:ext cx="123840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3448080" y="5451480"/>
            <a:ext cx="28872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2382120" y="53420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1"/>
          <p:cNvSpPr/>
          <p:nvPr/>
        </p:nvSpPr>
        <p:spPr>
          <a:xfrm flipH="1">
            <a:off x="1166400" y="5514840"/>
            <a:ext cx="1042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2205000" y="586584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3444840" y="594360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2385360" y="58388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5"/>
          <p:cNvSpPr/>
          <p:nvPr/>
        </p:nvSpPr>
        <p:spPr>
          <a:xfrm flipH="1">
            <a:off x="1174320" y="599904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2212920" y="635796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3452760" y="643572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2394720" y="633096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9"/>
          <p:cNvSpPr/>
          <p:nvPr/>
        </p:nvSpPr>
        <p:spPr>
          <a:xfrm flipH="1">
            <a:off x="1182240" y="649116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0"/>
          <p:cNvSpPr/>
          <p:nvPr/>
        </p:nvSpPr>
        <p:spPr>
          <a:xfrm flipH="1">
            <a:off x="5707080" y="5384880"/>
            <a:ext cx="123840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1"/>
          <p:cNvSpPr/>
          <p:nvPr/>
        </p:nvSpPr>
        <p:spPr>
          <a:xfrm flipH="1">
            <a:off x="5415840" y="5462640"/>
            <a:ext cx="29052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2"/>
          <p:cNvSpPr/>
          <p:nvPr/>
        </p:nvSpPr>
        <p:spPr>
          <a:xfrm flipH="1">
            <a:off x="5866200" y="535320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3"/>
          <p:cNvSpPr/>
          <p:nvPr/>
        </p:nvSpPr>
        <p:spPr>
          <a:xfrm>
            <a:off x="6956280" y="5519880"/>
            <a:ext cx="1043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4"/>
          <p:cNvSpPr/>
          <p:nvPr/>
        </p:nvSpPr>
        <p:spPr>
          <a:xfrm flipH="1">
            <a:off x="5721480" y="587052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5"/>
          <p:cNvSpPr/>
          <p:nvPr/>
        </p:nvSpPr>
        <p:spPr>
          <a:xfrm flipH="1">
            <a:off x="5431680" y="594828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6"/>
          <p:cNvSpPr/>
          <p:nvPr/>
        </p:nvSpPr>
        <p:spPr>
          <a:xfrm flipH="1">
            <a:off x="5896080" y="5857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7"/>
          <p:cNvSpPr/>
          <p:nvPr/>
        </p:nvSpPr>
        <p:spPr>
          <a:xfrm>
            <a:off x="6950160" y="60040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8"/>
          <p:cNvSpPr/>
          <p:nvPr/>
        </p:nvSpPr>
        <p:spPr>
          <a:xfrm flipH="1">
            <a:off x="5713560" y="636264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9"/>
          <p:cNvSpPr/>
          <p:nvPr/>
        </p:nvSpPr>
        <p:spPr>
          <a:xfrm flipH="1">
            <a:off x="5423760" y="644040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0"/>
          <p:cNvSpPr/>
          <p:nvPr/>
        </p:nvSpPr>
        <p:spPr>
          <a:xfrm flipH="1">
            <a:off x="5901120" y="6335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1"/>
          <p:cNvSpPr/>
          <p:nvPr/>
        </p:nvSpPr>
        <p:spPr>
          <a:xfrm>
            <a:off x="6942240" y="6496200"/>
            <a:ext cx="1041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6061320" y="4452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94680" y="4481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forwarding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5"/>
          <p:cNvSpPr/>
          <p:nvPr/>
        </p:nvSpPr>
        <p:spPr>
          <a:xfrm>
            <a:off x="2871720" y="4757760"/>
            <a:ext cx="7430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6"/>
          <p:cNvSpPr/>
          <p:nvPr/>
        </p:nvSpPr>
        <p:spPr>
          <a:xfrm flipH="1">
            <a:off x="2838240" y="4753080"/>
            <a:ext cx="42840" cy="5713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7"/>
          <p:cNvSpPr/>
          <p:nvPr/>
        </p:nvSpPr>
        <p:spPr>
          <a:xfrm flipH="1">
            <a:off x="5552640" y="4695840"/>
            <a:ext cx="6858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ing Traffic as it Flows B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2" name="Oval 3"/>
          <p:cNvSpPr/>
          <p:nvPr/>
        </p:nvSpPr>
        <p:spPr>
          <a:xfrm>
            <a:off x="3962520" y="2630520"/>
            <a:ext cx="368280" cy="393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3568680" y="245268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"/>
          <p:cNvSpPr/>
          <p:nvPr/>
        </p:nvSpPr>
        <p:spPr>
          <a:xfrm flipV="1">
            <a:off x="3556080" y="2971440"/>
            <a:ext cx="48240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3098880" y="2844720"/>
            <a:ext cx="876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8"/>
          <p:cNvSpPr/>
          <p:nvPr/>
        </p:nvSpPr>
        <p:spPr>
          <a:xfrm>
            <a:off x="4349880" y="2816280"/>
            <a:ext cx="685800" cy="2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9"/>
          <p:cNvSpPr/>
          <p:nvPr/>
        </p:nvSpPr>
        <p:spPr>
          <a:xfrm>
            <a:off x="4299120" y="2960640"/>
            <a:ext cx="31104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5041800" y="2647800"/>
            <a:ext cx="368280" cy="39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2"/>
          <p:cNvSpPr/>
          <p:nvPr/>
        </p:nvSpPr>
        <p:spPr>
          <a:xfrm flipV="1">
            <a:off x="5346720" y="247644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3"/>
          <p:cNvSpPr/>
          <p:nvPr/>
        </p:nvSpPr>
        <p:spPr>
          <a:xfrm>
            <a:off x="5289480" y="303696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717640" y="2647800"/>
            <a:ext cx="368640" cy="39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5"/>
          <p:cNvSpPr/>
          <p:nvPr/>
        </p:nvSpPr>
        <p:spPr>
          <a:xfrm flipV="1">
            <a:off x="2425680" y="3009600"/>
            <a:ext cx="393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6"/>
          <p:cNvSpPr/>
          <p:nvPr/>
        </p:nvSpPr>
        <p:spPr>
          <a:xfrm>
            <a:off x="2394000" y="242712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3657600" y="1523880"/>
            <a:ext cx="2540160" cy="259092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2"/>
          <p:cNvGrpSpPr/>
          <p:nvPr/>
        </p:nvGrpSpPr>
        <p:grpSpPr>
          <a:xfrm>
            <a:off x="1981080" y="2800440"/>
            <a:ext cx="507960" cy="88920"/>
            <a:chOff x="1981080" y="2800440"/>
            <a:chExt cx="507960" cy="88920"/>
          </a:xfrm>
        </p:grpSpPr>
        <p:sp>
          <p:nvSpPr>
            <p:cNvPr id="706" name="Oval 18"/>
            <p:cNvSpPr/>
            <p:nvPr/>
          </p:nvSpPr>
          <p:spPr>
            <a:xfrm>
              <a:off x="240012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20"/>
            <p:cNvSpPr/>
            <p:nvPr/>
          </p:nvSpPr>
          <p:spPr>
            <a:xfrm>
              <a:off x="219060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21"/>
            <p:cNvSpPr/>
            <p:nvPr/>
          </p:nvSpPr>
          <p:spPr>
            <a:xfrm>
              <a:off x="198108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3"/>
          <p:cNvGrpSpPr/>
          <p:nvPr/>
        </p:nvGrpSpPr>
        <p:grpSpPr>
          <a:xfrm>
            <a:off x="6350040" y="2800440"/>
            <a:ext cx="507960" cy="88920"/>
            <a:chOff x="6350040" y="2800440"/>
            <a:chExt cx="507960" cy="88920"/>
          </a:xfrm>
        </p:grpSpPr>
        <p:sp>
          <p:nvSpPr>
            <p:cNvPr id="710" name="Oval 24"/>
            <p:cNvSpPr/>
            <p:nvPr/>
          </p:nvSpPr>
          <p:spPr>
            <a:xfrm>
              <a:off x="676908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5"/>
            <p:cNvSpPr/>
            <p:nvPr/>
          </p:nvSpPr>
          <p:spPr>
            <a:xfrm>
              <a:off x="655956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6"/>
            <p:cNvSpPr/>
            <p:nvPr/>
          </p:nvSpPr>
          <p:spPr>
            <a:xfrm>
              <a:off x="635004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Oval 37"/>
          <p:cNvSpPr/>
          <p:nvPr/>
        </p:nvSpPr>
        <p:spPr>
          <a:xfrm>
            <a:off x="216000" y="1606680"/>
            <a:ext cx="1396800" cy="247644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635040" y="2419200"/>
            <a:ext cx="241200" cy="25416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8"/>
          <p:cNvSpPr/>
          <p:nvPr/>
        </p:nvSpPr>
        <p:spPr>
          <a:xfrm>
            <a:off x="876240" y="287640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3"/>
          <p:cNvSpPr/>
          <p:nvPr/>
        </p:nvSpPr>
        <p:spPr>
          <a:xfrm flipV="1">
            <a:off x="1028880" y="229212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4"/>
          <p:cNvSpPr/>
          <p:nvPr/>
        </p:nvSpPr>
        <p:spPr>
          <a:xfrm>
            <a:off x="876240" y="255888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5"/>
          <p:cNvSpPr/>
          <p:nvPr/>
        </p:nvSpPr>
        <p:spPr>
          <a:xfrm>
            <a:off x="851040" y="319392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3"/>
          <p:cNvSpPr/>
          <p:nvPr/>
        </p:nvSpPr>
        <p:spPr>
          <a:xfrm>
            <a:off x="1041480" y="299736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4"/>
          <p:cNvSpPr/>
          <p:nvPr/>
        </p:nvSpPr>
        <p:spPr>
          <a:xfrm>
            <a:off x="2896560" y="2448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4138200" y="2397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7"/>
          <p:cNvSpPr/>
          <p:nvPr/>
        </p:nvSpPr>
        <p:spPr>
          <a:xfrm>
            <a:off x="140040" y="42004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293040" y="333684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9"/>
          <p:cNvSpPr/>
          <p:nvPr/>
        </p:nvSpPr>
        <p:spPr>
          <a:xfrm>
            <a:off x="367920" y="186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1"/>
          <p:cNvSpPr/>
          <p:nvPr/>
        </p:nvSpPr>
        <p:spPr>
          <a:xfrm>
            <a:off x="7594560" y="1606680"/>
            <a:ext cx="1397160" cy="247644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61"/>
          <p:cNvGrpSpPr/>
          <p:nvPr/>
        </p:nvGrpSpPr>
        <p:grpSpPr>
          <a:xfrm>
            <a:off x="8013600" y="2292120"/>
            <a:ext cx="571680" cy="1104840"/>
            <a:chOff x="8013600" y="2292120"/>
            <a:chExt cx="571680" cy="1104840"/>
          </a:xfrm>
        </p:grpSpPr>
        <p:sp>
          <p:nvSpPr>
            <p:cNvPr id="727" name="Rectangle 52"/>
            <p:cNvSpPr/>
            <p:nvPr/>
          </p:nvSpPr>
          <p:spPr>
            <a:xfrm flipH="1">
              <a:off x="8343360" y="2419560"/>
              <a:ext cx="241560" cy="253800"/>
            </a:xfrm>
            <a:prstGeom prst="rect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53"/>
            <p:cNvSpPr/>
            <p:nvPr/>
          </p:nvSpPr>
          <p:spPr>
            <a:xfrm flipH="1">
              <a:off x="8178840" y="287676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4"/>
            <p:cNvSpPr/>
            <p:nvPr/>
          </p:nvSpPr>
          <p:spPr>
            <a:xfrm flipV="1">
              <a:off x="8191440" y="2292120"/>
              <a:ext cx="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5"/>
            <p:cNvSpPr/>
            <p:nvPr/>
          </p:nvSpPr>
          <p:spPr>
            <a:xfrm flipH="1">
              <a:off x="8178840" y="255924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H="1">
              <a:off x="8204040" y="319392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 flipH="1">
              <a:off x="8013600" y="29973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58"/>
          <p:cNvSpPr/>
          <p:nvPr/>
        </p:nvSpPr>
        <p:spPr>
          <a:xfrm>
            <a:off x="7671240" y="42004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9"/>
          <p:cNvSpPr/>
          <p:nvPr/>
        </p:nvSpPr>
        <p:spPr>
          <a:xfrm>
            <a:off x="7747920" y="33368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0"/>
          <p:cNvSpPr/>
          <p:nvPr/>
        </p:nvSpPr>
        <p:spPr>
          <a:xfrm>
            <a:off x="7898760" y="186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65"/>
          <p:cNvSpPr/>
          <p:nvPr/>
        </p:nvSpPr>
        <p:spPr>
          <a:xfrm>
            <a:off x="952560" y="2351160"/>
            <a:ext cx="7226280" cy="144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6"/>
          <p:cNvSpPr/>
          <p:nvPr/>
        </p:nvSpPr>
        <p:spPr>
          <a:xfrm>
            <a:off x="3225960" y="2960640"/>
            <a:ext cx="12672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67"/>
          <p:cNvSpPr/>
          <p:nvPr/>
        </p:nvSpPr>
        <p:spPr>
          <a:xfrm>
            <a:off x="3441600" y="296064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8"/>
          <p:cNvSpPr/>
          <p:nvPr/>
        </p:nvSpPr>
        <p:spPr>
          <a:xfrm>
            <a:off x="4559400" y="294624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0"/>
          <p:cNvSpPr/>
          <p:nvPr/>
        </p:nvSpPr>
        <p:spPr>
          <a:xfrm>
            <a:off x="3750120" y="41990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t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1"/>
          <p:cNvSpPr/>
          <p:nvPr/>
        </p:nvSpPr>
        <p:spPr>
          <a:xfrm>
            <a:off x="-996480" y="4925880"/>
            <a:ext cx="98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in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P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 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forwarding table or 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ination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vs. Flow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sic statistics (available from both technique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mix by IP addresses, port numbers,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packet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: traffic volumes on medium-to-large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: burstiness of the traffic on a small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stics per TCP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: volume of traffic transferred over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: frequency of lost or out-of-order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Measure the Net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ientific dis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ing traffic, topology,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protocol performance and 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ng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, diagnosing, and fixing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outlay of new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ecting Flow Measur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5" name="Rectangle 20"/>
          <p:cNvSpPr/>
          <p:nvPr/>
        </p:nvSpPr>
        <p:spPr>
          <a:xfrm>
            <a:off x="1728720" y="1968480"/>
            <a:ext cx="1239840" cy="6253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1"/>
          <p:cNvSpPr/>
          <p:nvPr/>
        </p:nvSpPr>
        <p:spPr>
          <a:xfrm>
            <a:off x="1765440" y="208440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r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2"/>
          <p:cNvSpPr/>
          <p:nvPr/>
        </p:nvSpPr>
        <p:spPr>
          <a:xfrm>
            <a:off x="2989440" y="2268360"/>
            <a:ext cx="1161720" cy="1800"/>
          </a:xfrm>
          <a:prstGeom prst="line">
            <a:avLst/>
          </a:prstGeom>
          <a:ln w="158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3"/>
          <p:cNvSpPr/>
          <p:nvPr/>
        </p:nvSpPr>
        <p:spPr>
          <a:xfrm>
            <a:off x="2989440" y="2421000"/>
            <a:ext cx="116352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4"/>
          <p:cNvSpPr/>
          <p:nvPr/>
        </p:nvSpPr>
        <p:spPr>
          <a:xfrm flipV="1">
            <a:off x="2989440" y="1979640"/>
            <a:ext cx="116352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5680" y="9414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 CPU that generates flow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6"/>
          <p:cNvSpPr/>
          <p:nvPr/>
        </p:nvSpPr>
        <p:spPr>
          <a:xfrm flipV="1">
            <a:off x="565200" y="2268000"/>
            <a:ext cx="1162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7"/>
          <p:cNvSpPr/>
          <p:nvPr/>
        </p:nvSpPr>
        <p:spPr>
          <a:xfrm flipV="1">
            <a:off x="596880" y="2420640"/>
            <a:ext cx="116352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8"/>
          <p:cNvSpPr/>
          <p:nvPr/>
        </p:nvSpPr>
        <p:spPr>
          <a:xfrm>
            <a:off x="596880" y="1979640"/>
            <a:ext cx="116352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109440" y="930240"/>
            <a:ext cx="43862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4545360" y="1401840"/>
            <a:ext cx="46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degrade forwarding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6"/>
          <p:cNvGrpSpPr/>
          <p:nvPr/>
        </p:nvGrpSpPr>
        <p:grpSpPr>
          <a:xfrm>
            <a:off x="1130400" y="2765520"/>
            <a:ext cx="8003880" cy="1600200"/>
            <a:chOff x="1130400" y="2765520"/>
            <a:chExt cx="8003880" cy="1600200"/>
          </a:xfrm>
        </p:grpSpPr>
        <p:sp>
          <p:nvSpPr>
            <p:cNvPr id="757" name="Rectangle 13"/>
            <p:cNvSpPr/>
            <p:nvPr/>
          </p:nvSpPr>
          <p:spPr>
            <a:xfrm>
              <a:off x="3348000" y="345456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4"/>
            <p:cNvSpPr/>
            <p:nvPr/>
          </p:nvSpPr>
          <p:spPr>
            <a:xfrm>
              <a:off x="3384720" y="35704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2868480" y="3654720"/>
              <a:ext cx="487440" cy="21276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6"/>
            <p:cNvSpPr/>
            <p:nvPr/>
          </p:nvSpPr>
          <p:spPr>
            <a:xfrm>
              <a:off x="1697040" y="3754440"/>
              <a:ext cx="1162080" cy="1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7"/>
            <p:cNvSpPr/>
            <p:nvPr/>
          </p:nvSpPr>
          <p:spPr>
            <a:xfrm>
              <a:off x="1196280" y="2843280"/>
              <a:ext cx="42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ne card that generates flow record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1130400" y="2765520"/>
              <a:ext cx="437364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1"/>
            <p:cNvSpPr/>
            <p:nvPr/>
          </p:nvSpPr>
          <p:spPr>
            <a:xfrm>
              <a:off x="5629680" y="3117960"/>
              <a:ext cx="350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re efficient to support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asurement in each line car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34"/>
          <p:cNvGrpSpPr/>
          <p:nvPr/>
        </p:nvGrpSpPr>
        <p:grpSpPr>
          <a:xfrm>
            <a:off x="2136240" y="4508640"/>
            <a:ext cx="6739920" cy="2270160"/>
            <a:chOff x="2136240" y="4508640"/>
            <a:chExt cx="6739920" cy="2270160"/>
          </a:xfrm>
        </p:grpSpPr>
        <p:sp>
          <p:nvSpPr>
            <p:cNvPr id="765" name="Rectangle 3"/>
            <p:cNvSpPr/>
            <p:nvPr/>
          </p:nvSpPr>
          <p:spPr>
            <a:xfrm>
              <a:off x="2505240" y="519444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"/>
            <p:cNvSpPr/>
            <p:nvPr/>
          </p:nvSpPr>
          <p:spPr>
            <a:xfrm>
              <a:off x="2541600" y="53103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"/>
            <p:cNvSpPr/>
            <p:nvPr/>
          </p:nvSpPr>
          <p:spPr>
            <a:xfrm>
              <a:off x="4905360" y="519444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6"/>
            <p:cNvSpPr/>
            <p:nvPr/>
          </p:nvSpPr>
          <p:spPr>
            <a:xfrm>
              <a:off x="4942080" y="531036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7"/>
            <p:cNvSpPr/>
            <p:nvPr/>
          </p:nvSpPr>
          <p:spPr>
            <a:xfrm>
              <a:off x="3749760" y="55245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8"/>
            <p:cNvSpPr/>
            <p:nvPr/>
          </p:nvSpPr>
          <p:spPr>
            <a:xfrm>
              <a:off x="4314960" y="5532480"/>
              <a:ext cx="4680" cy="611280"/>
            </a:xfrm>
            <a:prstGeom prst="line">
              <a:avLst/>
            </a:prstGeom>
            <a:ln w="93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9"/>
            <p:cNvSpPr/>
            <p:nvPr/>
          </p:nvSpPr>
          <p:spPr>
            <a:xfrm>
              <a:off x="3772080" y="6116760"/>
              <a:ext cx="1114200" cy="438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"/>
            <p:cNvSpPr/>
            <p:nvPr/>
          </p:nvSpPr>
          <p:spPr>
            <a:xfrm>
              <a:off x="3791880" y="61261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1"/>
            <p:cNvSpPr/>
            <p:nvPr/>
          </p:nvSpPr>
          <p:spPr>
            <a:xfrm>
              <a:off x="2136240" y="4584600"/>
              <a:ext cx="487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cket monitor that generates flow record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2"/>
            <p:cNvSpPr/>
            <p:nvPr/>
          </p:nvSpPr>
          <p:spPr>
            <a:xfrm>
              <a:off x="2146320" y="4508640"/>
              <a:ext cx="4861080" cy="22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229160" y="5256360"/>
              <a:ext cx="164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ird part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37"/>
          <p:cNvSpPr/>
          <p:nvPr/>
        </p:nvSpPr>
        <p:spPr>
          <a:xfrm>
            <a:off x="2006640" y="1574640"/>
            <a:ext cx="673200" cy="38124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2032920" y="158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39"/>
          <p:cNvSpPr/>
          <p:nvPr/>
        </p:nvSpPr>
        <p:spPr>
          <a:xfrm>
            <a:off x="1765440" y="1765440"/>
            <a:ext cx="241200" cy="2030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40"/>
          <p:cNvSpPr/>
          <p:nvPr/>
        </p:nvSpPr>
        <p:spPr>
          <a:xfrm rot="5400000">
            <a:off x="2692440" y="1765440"/>
            <a:ext cx="241200" cy="2030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chanics: Flow Cach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tain a cache of active fl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age of byte/packet counts, timestamp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 a key per incoming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atenation of source, destination, port #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dex into the flow cache based on the ke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r updating of an entry in the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3284640" y="4309920"/>
            <a:ext cx="4572000" cy="7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3279600" y="5094360"/>
            <a:ext cx="4572000" cy="78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3289320" y="5865840"/>
            <a:ext cx="4572000" cy="78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3828960" y="447984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bytes, #packets, start, fin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3828960" y="61135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bytes, #packets, start, fin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2104920" y="547200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1316160" y="5651640"/>
            <a:ext cx="80460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"/>
          <p:cNvSpPr/>
          <p:nvPr/>
        </p:nvSpPr>
        <p:spPr>
          <a:xfrm>
            <a:off x="1273320" y="6234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1316160" y="5265720"/>
            <a:ext cx="792000" cy="38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404440" y="506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1303200" y="532116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4775040" y="5457960"/>
            <a:ext cx="860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5033880" y="5457960"/>
            <a:ext cx="856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5292720" y="5456160"/>
            <a:ext cx="856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"/>
          <p:cNvSpPr/>
          <p:nvPr/>
        </p:nvSpPr>
        <p:spPr>
          <a:xfrm>
            <a:off x="3924360" y="430524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3293640" y="448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3293640" y="609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chanics: Evicting Cache Ent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w 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s not receiving a packet recent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sequencing to time out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acket triggers the creation of a new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replac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(s) when the flow cache is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ct existing flow(s) upon creating a cach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eviction policy (LRU, random flow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-lived fl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(s) persisting a long time (e.g., 30 m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Overhea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-packet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the key and indexing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work when the average packet size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not be able to keep up with the link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-flow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and eviction of entry in the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of measurement data (# of flow rec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# of flows when #packets per flow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overwhelm system collecting/analyz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ampling: Packet Samp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sampling before flow cre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out-of-m sampling of individua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f flow records over the sampl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ucing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per-packet overhead on (m-1)/m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reating records for many small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138276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09088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280044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8"/>
          <p:cNvSpPr/>
          <p:nvPr/>
        </p:nvSpPr>
        <p:spPr>
          <a:xfrm>
            <a:off x="351000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4218120" y="4764240"/>
            <a:ext cx="344520" cy="23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492768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563724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2"/>
          <p:cNvSpPr/>
          <p:nvPr/>
        </p:nvSpPr>
        <p:spPr>
          <a:xfrm>
            <a:off x="6289560" y="48402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7242480" y="4648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1382760" y="605952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2090880" y="605952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5643720" y="6066000"/>
            <a:ext cx="34416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>
            <a:off x="4927680" y="606600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8"/>
          <p:cNvSpPr/>
          <p:nvPr/>
        </p:nvSpPr>
        <p:spPr>
          <a:xfrm>
            <a:off x="155412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9"/>
          <p:cNvSpPr/>
          <p:nvPr/>
        </p:nvSpPr>
        <p:spPr>
          <a:xfrm>
            <a:off x="226548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0"/>
          <p:cNvSpPr/>
          <p:nvPr/>
        </p:nvSpPr>
        <p:spPr>
          <a:xfrm>
            <a:off x="5821200" y="50133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1"/>
          <p:cNvSpPr/>
          <p:nvPr/>
        </p:nvSpPr>
        <p:spPr>
          <a:xfrm>
            <a:off x="511020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2875320" y="5280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amp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3"/>
          <p:cNvSpPr/>
          <p:nvPr/>
        </p:nvSpPr>
        <p:spPr>
          <a:xfrm flipV="1">
            <a:off x="3887640" y="5064120"/>
            <a:ext cx="460440" cy="311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6520680" y="6137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two 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5"/>
          <p:cNvSpPr/>
          <p:nvPr/>
        </p:nvSpPr>
        <p:spPr>
          <a:xfrm flipH="1">
            <a:off x="6012000" y="6194520"/>
            <a:ext cx="660240" cy="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9"/>
          <p:cNvSpPr/>
          <p:nvPr/>
        </p:nvSpPr>
        <p:spPr>
          <a:xfrm>
            <a:off x="1566720" y="6194520"/>
            <a:ext cx="5092920" cy="368280"/>
          </a:xfrm>
          <a:prstGeom prst="pie">
            <a:avLst/>
          </a:prstGeom>
          <a:noFill/>
          <a:ln w="38160">
            <a:solidFill>
              <a:srgbClr val="99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0"/>
          <p:cNvSpPr/>
          <p:nvPr/>
        </p:nvSpPr>
        <p:spPr>
          <a:xfrm flipV="1">
            <a:off x="1736640" y="6168600"/>
            <a:ext cx="2784600" cy="12600"/>
          </a:xfrm>
          <a:prstGeom prst="line">
            <a:avLst/>
          </a:prstGeom>
          <a:ln w="3816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1"/>
          <p:cNvSpPr/>
          <p:nvPr/>
        </p:nvSpPr>
        <p:spPr>
          <a:xfrm>
            <a:off x="3779640" y="5818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time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D20-5EFD-41FD-8623-F18BE4C21DB1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BGP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isibility into external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neighboring ASes are telling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you are reaching external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anomal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in number of destination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reachability or instability of some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put to traffic-engineering t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ing the current routes in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load for testing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istic message traces to play back to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Monitoring: A Wish Li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ally: knowing what the router kn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xternally-learned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applying policy and selecting best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achieve th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monitoring session on routers that tells everything they have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monitoring on all links with BGP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you can’t do that, you could always do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dumps of rout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ession to learn best route from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Routers to Monitor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837" name="Picture 3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4"/>
          <p:cNvSpPr/>
          <p:nvPr/>
        </p:nvSpPr>
        <p:spPr>
          <a:xfrm>
            <a:off x="324000" y="1523880"/>
            <a:ext cx="38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lk to operatio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uters using SNMP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elnet at command lin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609480" y="3683160"/>
            <a:ext cx="3048120" cy="28371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BGP table du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exp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Table dumps show 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ternate ro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Update dynamics l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restricted to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by vend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"/>
          <p:cNvSpPr/>
          <p:nvPr/>
        </p:nvSpPr>
        <p:spPr>
          <a:xfrm>
            <a:off x="5508720" y="28702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"/>
          <p:cNvPicPr/>
          <p:nvPr/>
        </p:nvPicPr>
        <p:blipFill>
          <a:blip r:embed="rId2"/>
          <a:stretch/>
        </p:blipFill>
        <p:spPr>
          <a:xfrm>
            <a:off x="4746600" y="2565360"/>
            <a:ext cx="2949480" cy="238752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4735800" y="142236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stablish a “passive” 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ession from a work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unning BGP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9"/>
          <p:cNvSpPr/>
          <p:nvPr/>
        </p:nvSpPr>
        <p:spPr>
          <a:xfrm>
            <a:off x="4594320" y="3657600"/>
            <a:ext cx="4016160" cy="28371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BGP table dumps do no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den operational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Receives only best routes fro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neigh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Update dynamics captu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not restricted to interfa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vided by vend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5755680" y="28940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Black"/>
              </a:rPr>
              <a:t>eBGP or iBG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1"/>
          <p:cNvGrpSpPr/>
          <p:nvPr/>
        </p:nvGrpSpPr>
        <p:grpSpPr>
          <a:xfrm>
            <a:off x="7391520" y="2438280"/>
            <a:ext cx="2491560" cy="2539080"/>
            <a:chOff x="7391520" y="2438280"/>
            <a:chExt cx="2491560" cy="2539080"/>
          </a:xfrm>
        </p:grpSpPr>
        <p:pic>
          <p:nvPicPr>
            <p:cNvPr id="846" name="Picture 12" descr=""/>
            <p:cNvPicPr/>
            <p:nvPr/>
          </p:nvPicPr>
          <p:blipFill>
            <a:blip r:embed="rId3"/>
            <a:stretch/>
          </p:blipFill>
          <p:spPr>
            <a:xfrm>
              <a:off x="7391520" y="2579040"/>
              <a:ext cx="2491560" cy="23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Group 13"/>
            <p:cNvGrpSpPr/>
            <p:nvPr/>
          </p:nvGrpSpPr>
          <p:grpSpPr>
            <a:xfrm>
              <a:off x="8359920" y="2438280"/>
              <a:ext cx="406440" cy="144000"/>
              <a:chOff x="8359920" y="2438280"/>
              <a:chExt cx="406440" cy="144000"/>
            </a:xfrm>
          </p:grpSpPr>
          <p:sp>
            <p:nvSpPr>
              <p:cNvPr id="848" name="Rectangle 14"/>
              <p:cNvSpPr/>
              <p:nvPr/>
            </p:nvSpPr>
            <p:spPr>
              <a:xfrm>
                <a:off x="8359920" y="2438280"/>
                <a:ext cx="406440" cy="144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Oval 15"/>
              <p:cNvSpPr/>
              <p:nvPr/>
            </p:nvSpPr>
            <p:spPr>
              <a:xfrm>
                <a:off x="8502480" y="2438280"/>
                <a:ext cx="120600" cy="14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6"/>
            <p:cNvGrpSpPr/>
            <p:nvPr/>
          </p:nvGrpSpPr>
          <p:grpSpPr>
            <a:xfrm>
              <a:off x="8334360" y="2914560"/>
              <a:ext cx="538200" cy="335880"/>
              <a:chOff x="8334360" y="2914560"/>
              <a:chExt cx="538200" cy="335880"/>
            </a:xfrm>
          </p:grpSpPr>
          <p:sp>
            <p:nvSpPr>
              <p:cNvPr id="851" name="Rectangle 17"/>
              <p:cNvSpPr/>
              <p:nvPr/>
            </p:nvSpPr>
            <p:spPr>
              <a:xfrm>
                <a:off x="8334360" y="2914560"/>
                <a:ext cx="538200" cy="33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Group 18"/>
              <p:cNvGrpSpPr/>
              <p:nvPr/>
            </p:nvGrpSpPr>
            <p:grpSpPr>
              <a:xfrm>
                <a:off x="8422920" y="2961000"/>
                <a:ext cx="372600" cy="232560"/>
                <a:chOff x="8422920" y="2961000"/>
                <a:chExt cx="372600" cy="232560"/>
              </a:xfrm>
            </p:grpSpPr>
            <p:sp>
              <p:nvSpPr>
                <p:cNvPr id="853" name="Line 19"/>
                <p:cNvSpPr/>
                <p:nvPr/>
              </p:nvSpPr>
              <p:spPr>
                <a:xfrm>
                  <a:off x="8422920" y="296100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0"/>
                <p:cNvSpPr/>
                <p:nvPr/>
              </p:nvSpPr>
              <p:spPr>
                <a:xfrm>
                  <a:off x="8422920" y="307224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1"/>
                <p:cNvSpPr/>
                <p:nvPr/>
              </p:nvSpPr>
              <p:spPr>
                <a:xfrm>
                  <a:off x="8422920" y="319356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856" name=""/>
            <p:cNvGraphicFramePr/>
            <p:nvPr/>
          </p:nvGraphicFramePr>
          <p:xfrm>
            <a:off x="8258760" y="2923920"/>
            <a:ext cx="597240" cy="74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58760" y="2923920"/>
                      <a:ext cx="597240" cy="74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8" name="Rectangle 22"/>
          <p:cNvSpPr/>
          <p:nvPr/>
        </p:nvSpPr>
        <p:spPr>
          <a:xfrm>
            <a:off x="8229600" y="2209680"/>
            <a:ext cx="685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28440" y="-57240"/>
            <a:ext cx="8852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"/>
          <p:cNvSpPr/>
          <p:nvPr/>
        </p:nvSpPr>
        <p:spPr>
          <a:xfrm>
            <a:off x="552600" y="1104840"/>
            <a:ext cx="8437320" cy="45496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6558120" y="4133880"/>
            <a:ext cx="507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lant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5846760" y="314496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. Loui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"/>
          <p:cNvSpPr/>
          <p:nvPr/>
        </p:nvSpPr>
        <p:spPr>
          <a:xfrm flipV="1">
            <a:off x="6454800" y="3325320"/>
            <a:ext cx="985680" cy="8701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35000" y="3056040"/>
            <a:ext cx="855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rancisc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3270240" y="2933640"/>
            <a:ext cx="5126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nv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9"/>
          <p:cNvSpPr/>
          <p:nvPr/>
        </p:nvSpPr>
        <p:spPr>
          <a:xfrm>
            <a:off x="8112240" y="197640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mbridg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0"/>
          <p:cNvSpPr/>
          <p:nvPr/>
        </p:nvSpPr>
        <p:spPr>
          <a:xfrm>
            <a:off x="7467480" y="3236760"/>
            <a:ext cx="128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ashington, D.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1"/>
          <p:cNvSpPr/>
          <p:nvPr/>
        </p:nvSpPr>
        <p:spPr>
          <a:xfrm>
            <a:off x="6858000" y="485316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rland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2"/>
          <p:cNvSpPr/>
          <p:nvPr/>
        </p:nvSpPr>
        <p:spPr>
          <a:xfrm>
            <a:off x="5470560" y="2170080"/>
            <a:ext cx="79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ica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3"/>
          <p:cNvSpPr/>
          <p:nvPr/>
        </p:nvSpPr>
        <p:spPr>
          <a:xfrm>
            <a:off x="345960" y="1162080"/>
            <a:ext cx="500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att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4"/>
          <p:cNvSpPr/>
          <p:nvPr/>
        </p:nvSpPr>
        <p:spPr>
          <a:xfrm>
            <a:off x="476280" y="376704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s Ange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6369120" y="2170080"/>
            <a:ext cx="6411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troi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6"/>
          <p:cNvSpPr/>
          <p:nvPr/>
        </p:nvSpPr>
        <p:spPr>
          <a:xfrm>
            <a:off x="4489560" y="5003640"/>
            <a:ext cx="79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ous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"/>
          <p:cNvSpPr/>
          <p:nvPr/>
        </p:nvSpPr>
        <p:spPr>
          <a:xfrm>
            <a:off x="7967520" y="2701800"/>
            <a:ext cx="792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Yor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2174760" y="4417920"/>
            <a:ext cx="792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en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9"/>
          <p:cNvSpPr/>
          <p:nvPr/>
        </p:nvSpPr>
        <p:spPr>
          <a:xfrm>
            <a:off x="1285920" y="427212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0"/>
          <p:cNvSpPr/>
          <p:nvPr/>
        </p:nvSpPr>
        <p:spPr>
          <a:xfrm>
            <a:off x="3824280" y="4722840"/>
            <a:ext cx="53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sti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1"/>
          <p:cNvSpPr/>
          <p:nvPr/>
        </p:nvSpPr>
        <p:spPr>
          <a:xfrm flipH="1">
            <a:off x="7440120" y="2908440"/>
            <a:ext cx="155880" cy="4172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2"/>
          <p:cNvSpPr/>
          <p:nvPr/>
        </p:nvSpPr>
        <p:spPr>
          <a:xfrm>
            <a:off x="4473720" y="4191120"/>
            <a:ext cx="1942920" cy="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3"/>
          <p:cNvSpPr/>
          <p:nvPr/>
        </p:nvSpPr>
        <p:spPr>
          <a:xfrm>
            <a:off x="6454800" y="4195800"/>
            <a:ext cx="349200" cy="7286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4"/>
          <p:cNvSpPr/>
          <p:nvPr/>
        </p:nvSpPr>
        <p:spPr>
          <a:xfrm flipH="1">
            <a:off x="4358880" y="4178160"/>
            <a:ext cx="34920" cy="6224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5"/>
          <p:cNvSpPr/>
          <p:nvPr/>
        </p:nvSpPr>
        <p:spPr>
          <a:xfrm>
            <a:off x="4359240" y="4813200"/>
            <a:ext cx="444600" cy="38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6"/>
          <p:cNvSpPr/>
          <p:nvPr/>
        </p:nvSpPr>
        <p:spPr>
          <a:xfrm>
            <a:off x="5959440" y="2430360"/>
            <a:ext cx="808200" cy="504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7"/>
          <p:cNvSpPr/>
          <p:nvPr/>
        </p:nvSpPr>
        <p:spPr>
          <a:xfrm flipH="1">
            <a:off x="5846400" y="2430360"/>
            <a:ext cx="96840" cy="9716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8"/>
          <p:cNvSpPr/>
          <p:nvPr/>
        </p:nvSpPr>
        <p:spPr>
          <a:xfrm>
            <a:off x="1171440" y="3630600"/>
            <a:ext cx="3248280" cy="5475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9"/>
          <p:cNvSpPr/>
          <p:nvPr/>
        </p:nvSpPr>
        <p:spPr>
          <a:xfrm>
            <a:off x="1700280" y="4164120"/>
            <a:ext cx="785880" cy="91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0"/>
          <p:cNvSpPr/>
          <p:nvPr/>
        </p:nvSpPr>
        <p:spPr>
          <a:xfrm flipV="1">
            <a:off x="2486160" y="4195800"/>
            <a:ext cx="1828800" cy="76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1"/>
          <p:cNvSpPr/>
          <p:nvPr/>
        </p:nvSpPr>
        <p:spPr>
          <a:xfrm flipH="1">
            <a:off x="7596360" y="2701800"/>
            <a:ext cx="328320" cy="2066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2"/>
          <p:cNvSpPr/>
          <p:nvPr/>
        </p:nvSpPr>
        <p:spPr>
          <a:xfrm>
            <a:off x="6730920" y="2430360"/>
            <a:ext cx="897120" cy="50004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3"/>
          <p:cNvSpPr/>
          <p:nvPr/>
        </p:nvSpPr>
        <p:spPr>
          <a:xfrm>
            <a:off x="6675480" y="287172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iladelph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34"/>
          <p:cNvSpPr/>
          <p:nvPr/>
        </p:nvSpPr>
        <p:spPr>
          <a:xfrm flipV="1">
            <a:off x="762120" y="2413080"/>
            <a:ext cx="5163840" cy="6350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5"/>
          <p:cNvSpPr/>
          <p:nvPr/>
        </p:nvSpPr>
        <p:spPr>
          <a:xfrm>
            <a:off x="3127320" y="2933640"/>
            <a:ext cx="1208160" cy="1219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6"/>
          <p:cNvSpPr/>
          <p:nvPr/>
        </p:nvSpPr>
        <p:spPr>
          <a:xfrm flipH="1" flipV="1">
            <a:off x="4419720" y="4163760"/>
            <a:ext cx="380880" cy="68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7"/>
          <p:cNvSpPr/>
          <p:nvPr/>
        </p:nvSpPr>
        <p:spPr>
          <a:xfrm flipV="1">
            <a:off x="7440480" y="2715840"/>
            <a:ext cx="484200" cy="6066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8"/>
          <p:cNvSpPr/>
          <p:nvPr/>
        </p:nvSpPr>
        <p:spPr>
          <a:xfrm flipV="1">
            <a:off x="7924680" y="2211480"/>
            <a:ext cx="533520" cy="506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9"/>
          <p:cNvSpPr/>
          <p:nvPr/>
        </p:nvSpPr>
        <p:spPr>
          <a:xfrm>
            <a:off x="762120" y="3048120"/>
            <a:ext cx="5078160" cy="33336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0"/>
          <p:cNvSpPr/>
          <p:nvPr/>
        </p:nvSpPr>
        <p:spPr>
          <a:xfrm flipV="1">
            <a:off x="762120" y="2944800"/>
            <a:ext cx="2276280" cy="10800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1"/>
          <p:cNvSpPr/>
          <p:nvPr/>
        </p:nvSpPr>
        <p:spPr>
          <a:xfrm flipV="1">
            <a:off x="5846760" y="3325320"/>
            <a:ext cx="1620720" cy="5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2"/>
          <p:cNvSpPr/>
          <p:nvPr/>
        </p:nvSpPr>
        <p:spPr>
          <a:xfrm>
            <a:off x="4024440" y="389556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ll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3"/>
          <p:cNvSpPr/>
          <p:nvPr/>
        </p:nvSpPr>
        <p:spPr>
          <a:xfrm>
            <a:off x="762120" y="1447920"/>
            <a:ext cx="5181480" cy="9633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4"/>
          <p:cNvSpPr/>
          <p:nvPr/>
        </p:nvSpPr>
        <p:spPr>
          <a:xfrm>
            <a:off x="762120" y="1447920"/>
            <a:ext cx="0" cy="16048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45"/>
          <p:cNvSpPr/>
          <p:nvPr/>
        </p:nvSpPr>
        <p:spPr>
          <a:xfrm flipH="1" flipV="1">
            <a:off x="761760" y="3020760"/>
            <a:ext cx="409320" cy="6094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6"/>
          <p:cNvSpPr/>
          <p:nvPr/>
        </p:nvSpPr>
        <p:spPr>
          <a:xfrm flipH="1" flipV="1">
            <a:off x="1171080" y="3630600"/>
            <a:ext cx="520920" cy="5032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7"/>
          <p:cNvSpPr/>
          <p:nvPr/>
        </p:nvSpPr>
        <p:spPr>
          <a:xfrm flipV="1">
            <a:off x="5908680" y="2211480"/>
            <a:ext cx="2549520" cy="2016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8"/>
          <p:cNvSpPr/>
          <p:nvPr/>
        </p:nvSpPr>
        <p:spPr>
          <a:xfrm>
            <a:off x="4800600" y="4871880"/>
            <a:ext cx="2016000" cy="76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9"/>
          <p:cNvSpPr/>
          <p:nvPr/>
        </p:nvSpPr>
        <p:spPr>
          <a:xfrm>
            <a:off x="3030480" y="2844720"/>
            <a:ext cx="1731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0"/>
          <p:cNvSpPr/>
          <p:nvPr/>
        </p:nvSpPr>
        <p:spPr>
          <a:xfrm>
            <a:off x="4278240" y="47512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51"/>
          <p:cNvSpPr/>
          <p:nvPr/>
        </p:nvSpPr>
        <p:spPr>
          <a:xfrm>
            <a:off x="4714920" y="47847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2"/>
          <p:cNvSpPr/>
          <p:nvPr/>
        </p:nvSpPr>
        <p:spPr>
          <a:xfrm>
            <a:off x="6732720" y="485460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3"/>
          <p:cNvSpPr/>
          <p:nvPr/>
        </p:nvSpPr>
        <p:spPr>
          <a:xfrm>
            <a:off x="6369120" y="410832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4"/>
          <p:cNvSpPr/>
          <p:nvPr/>
        </p:nvSpPr>
        <p:spPr>
          <a:xfrm>
            <a:off x="7354800" y="32288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5"/>
          <p:cNvSpPr/>
          <p:nvPr/>
        </p:nvSpPr>
        <p:spPr>
          <a:xfrm>
            <a:off x="8372520" y="212400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6"/>
          <p:cNvSpPr/>
          <p:nvPr/>
        </p:nvSpPr>
        <p:spPr>
          <a:xfrm>
            <a:off x="7497720" y="28288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7"/>
          <p:cNvSpPr/>
          <p:nvPr/>
        </p:nvSpPr>
        <p:spPr>
          <a:xfrm>
            <a:off x="647640" y="13604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58"/>
          <p:cNvSpPr/>
          <p:nvPr/>
        </p:nvSpPr>
        <p:spPr>
          <a:xfrm>
            <a:off x="1609560" y="4067280"/>
            <a:ext cx="17172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59"/>
          <p:cNvSpPr/>
          <p:nvPr/>
        </p:nvSpPr>
        <p:spPr>
          <a:xfrm>
            <a:off x="2400480" y="41781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60"/>
          <p:cNvSpPr/>
          <p:nvPr/>
        </p:nvSpPr>
        <p:spPr>
          <a:xfrm>
            <a:off x="5925960" y="2457360"/>
            <a:ext cx="1998720" cy="2444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1"/>
          <p:cNvSpPr/>
          <p:nvPr/>
        </p:nvSpPr>
        <p:spPr>
          <a:xfrm>
            <a:off x="6681960" y="234792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62"/>
          <p:cNvSpPr/>
          <p:nvPr/>
        </p:nvSpPr>
        <p:spPr>
          <a:xfrm>
            <a:off x="6411240" y="33717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Tahoma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63"/>
          <p:cNvSpPr/>
          <p:nvPr/>
        </p:nvSpPr>
        <p:spPr>
          <a:xfrm flipV="1">
            <a:off x="770040" y="2354400"/>
            <a:ext cx="5129280" cy="6350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64"/>
          <p:cNvSpPr/>
          <p:nvPr/>
        </p:nvSpPr>
        <p:spPr>
          <a:xfrm flipH="1">
            <a:off x="5788080" y="2443320"/>
            <a:ext cx="100080" cy="9363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65"/>
          <p:cNvSpPr/>
          <p:nvPr/>
        </p:nvSpPr>
        <p:spPr>
          <a:xfrm>
            <a:off x="4842000" y="29908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6"/>
          <p:cNvSpPr/>
          <p:nvPr/>
        </p:nvSpPr>
        <p:spPr>
          <a:xfrm flipV="1">
            <a:off x="1171440" y="3077640"/>
            <a:ext cx="3757680" cy="5590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67"/>
          <p:cNvSpPr/>
          <p:nvPr/>
        </p:nvSpPr>
        <p:spPr>
          <a:xfrm flipV="1">
            <a:off x="4394160" y="3078000"/>
            <a:ext cx="534960" cy="11052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8"/>
          <p:cNvSpPr/>
          <p:nvPr/>
        </p:nvSpPr>
        <p:spPr>
          <a:xfrm flipH="1" flipV="1">
            <a:off x="4928760" y="3077640"/>
            <a:ext cx="903240" cy="2797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9"/>
          <p:cNvSpPr/>
          <p:nvPr/>
        </p:nvSpPr>
        <p:spPr>
          <a:xfrm>
            <a:off x="4308480" y="40989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0"/>
          <p:cNvSpPr/>
          <p:nvPr/>
        </p:nvSpPr>
        <p:spPr>
          <a:xfrm>
            <a:off x="1096920" y="3543480"/>
            <a:ext cx="17136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1"/>
          <p:cNvSpPr/>
          <p:nvPr/>
        </p:nvSpPr>
        <p:spPr>
          <a:xfrm>
            <a:off x="4446720" y="27511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ansas C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72"/>
          <p:cNvSpPr/>
          <p:nvPr/>
        </p:nvSpPr>
        <p:spPr>
          <a:xfrm>
            <a:off x="781200" y="3111480"/>
            <a:ext cx="5040000" cy="335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3"/>
          <p:cNvSpPr/>
          <p:nvPr/>
        </p:nvSpPr>
        <p:spPr>
          <a:xfrm>
            <a:off x="685800" y="29606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74"/>
          <p:cNvSpPr/>
          <p:nvPr/>
        </p:nvSpPr>
        <p:spPr>
          <a:xfrm flipV="1">
            <a:off x="1219320" y="3381480"/>
            <a:ext cx="4627440" cy="24912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5"/>
          <p:cNvSpPr/>
          <p:nvPr/>
        </p:nvSpPr>
        <p:spPr>
          <a:xfrm>
            <a:off x="5753160" y="3281400"/>
            <a:ext cx="17280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76"/>
          <p:cNvSpPr/>
          <p:nvPr/>
        </p:nvSpPr>
        <p:spPr>
          <a:xfrm>
            <a:off x="5977080" y="2521080"/>
            <a:ext cx="1950840" cy="2458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77"/>
          <p:cNvSpPr/>
          <p:nvPr/>
        </p:nvSpPr>
        <p:spPr>
          <a:xfrm>
            <a:off x="5840280" y="2347920"/>
            <a:ext cx="17172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78"/>
          <p:cNvSpPr/>
          <p:nvPr/>
        </p:nvSpPr>
        <p:spPr>
          <a:xfrm>
            <a:off x="7839000" y="2629080"/>
            <a:ext cx="17136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79"/>
          <p:cNvSpPr/>
          <p:nvPr/>
        </p:nvSpPr>
        <p:spPr>
          <a:xfrm>
            <a:off x="4495680" y="4240080"/>
            <a:ext cx="320040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0"/>
          <p:cNvSpPr/>
          <p:nvPr/>
        </p:nvSpPr>
        <p:spPr>
          <a:xfrm>
            <a:off x="7924680" y="2716200"/>
            <a:ext cx="0" cy="2819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1"/>
          <p:cNvSpPr/>
          <p:nvPr/>
        </p:nvSpPr>
        <p:spPr>
          <a:xfrm>
            <a:off x="1143000" y="3706920"/>
            <a:ext cx="6553080" cy="251460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82"/>
          <p:cNvSpPr/>
          <p:nvPr/>
        </p:nvSpPr>
        <p:spPr>
          <a:xfrm>
            <a:off x="8001000" y="2792520"/>
            <a:ext cx="0" cy="2819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83"/>
          <p:cNvSpPr/>
          <p:nvPr/>
        </p:nvSpPr>
        <p:spPr>
          <a:xfrm>
            <a:off x="5943600" y="2487600"/>
            <a:ext cx="190512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84"/>
          <p:cNvSpPr/>
          <p:nvPr/>
        </p:nvSpPr>
        <p:spPr>
          <a:xfrm>
            <a:off x="7467480" y="3402000"/>
            <a:ext cx="381240" cy="2057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5"/>
          <p:cNvSpPr/>
          <p:nvPr/>
        </p:nvSpPr>
        <p:spPr>
          <a:xfrm>
            <a:off x="6477120" y="4240080"/>
            <a:ext cx="121896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6"/>
          <p:cNvSpPr/>
          <p:nvPr/>
        </p:nvSpPr>
        <p:spPr>
          <a:xfrm>
            <a:off x="4876920" y="4925880"/>
            <a:ext cx="2971800" cy="10670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87"/>
          <p:cNvSpPr/>
          <p:nvPr/>
        </p:nvSpPr>
        <p:spPr>
          <a:xfrm>
            <a:off x="4876920" y="3097080"/>
            <a:ext cx="274320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88"/>
          <p:cNvSpPr/>
          <p:nvPr/>
        </p:nvSpPr>
        <p:spPr>
          <a:xfrm flipH="1">
            <a:off x="8001000" y="2106720"/>
            <a:ext cx="457200" cy="35049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9"/>
          <p:cNvSpPr/>
          <p:nvPr/>
        </p:nvSpPr>
        <p:spPr>
          <a:xfrm>
            <a:off x="3124080" y="2944800"/>
            <a:ext cx="4876920" cy="3200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0"/>
          <p:cNvSpPr/>
          <p:nvPr/>
        </p:nvSpPr>
        <p:spPr>
          <a:xfrm>
            <a:off x="4343400" y="4925880"/>
            <a:ext cx="3657600" cy="1219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1"/>
          <p:cNvSpPr/>
          <p:nvPr/>
        </p:nvSpPr>
        <p:spPr>
          <a:xfrm>
            <a:off x="5867280" y="3402000"/>
            <a:ext cx="2057400" cy="2286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92"/>
          <p:cNvSpPr/>
          <p:nvPr/>
        </p:nvSpPr>
        <p:spPr>
          <a:xfrm>
            <a:off x="6781680" y="2563920"/>
            <a:ext cx="1067040" cy="28954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93"/>
          <p:cNvSpPr/>
          <p:nvPr/>
        </p:nvSpPr>
        <p:spPr>
          <a:xfrm>
            <a:off x="7620120" y="3021120"/>
            <a:ext cx="304560" cy="2438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94"/>
          <p:cNvSpPr/>
          <p:nvPr/>
        </p:nvSpPr>
        <p:spPr>
          <a:xfrm>
            <a:off x="6858000" y="5002200"/>
            <a:ext cx="99072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5"/>
          <p:cNvSpPr/>
          <p:nvPr/>
        </p:nvSpPr>
        <p:spPr>
          <a:xfrm>
            <a:off x="2514600" y="4316400"/>
            <a:ext cx="5511960" cy="172728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6"/>
          <p:cNvSpPr/>
          <p:nvPr/>
        </p:nvSpPr>
        <p:spPr>
          <a:xfrm>
            <a:off x="1676520" y="4240080"/>
            <a:ext cx="6527520" cy="187956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7"/>
          <p:cNvSpPr/>
          <p:nvPr/>
        </p:nvSpPr>
        <p:spPr>
          <a:xfrm>
            <a:off x="762120" y="1420920"/>
            <a:ext cx="6933960" cy="455904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8"/>
          <p:cNvSpPr/>
          <p:nvPr/>
        </p:nvSpPr>
        <p:spPr>
          <a:xfrm>
            <a:off x="685800" y="3173400"/>
            <a:ext cx="7162920" cy="320040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99"/>
          <p:cNvGrpSpPr/>
          <p:nvPr/>
        </p:nvGrpSpPr>
        <p:grpSpPr>
          <a:xfrm>
            <a:off x="7543800" y="5410080"/>
            <a:ext cx="2133000" cy="2133000"/>
            <a:chOff x="7543800" y="5410080"/>
            <a:chExt cx="2133000" cy="2133000"/>
          </a:xfrm>
        </p:grpSpPr>
        <p:pic>
          <p:nvPicPr>
            <p:cNvPr id="957" name="Picture 100" descr=""/>
            <p:cNvPicPr/>
            <p:nvPr/>
          </p:nvPicPr>
          <p:blipFill>
            <a:blip r:embed="rId1"/>
            <a:stretch/>
          </p:blipFill>
          <p:spPr>
            <a:xfrm>
              <a:off x="7543800" y="5528160"/>
              <a:ext cx="2133000" cy="201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8" name="Group 101"/>
            <p:cNvGrpSpPr/>
            <p:nvPr/>
          </p:nvGrpSpPr>
          <p:grpSpPr>
            <a:xfrm>
              <a:off x="8372880" y="5410080"/>
              <a:ext cx="348120" cy="120960"/>
              <a:chOff x="8372880" y="5410080"/>
              <a:chExt cx="348120" cy="120960"/>
            </a:xfrm>
          </p:grpSpPr>
          <p:sp>
            <p:nvSpPr>
              <p:cNvPr id="959" name="Rectangle 102"/>
              <p:cNvSpPr/>
              <p:nvPr/>
            </p:nvSpPr>
            <p:spPr>
              <a:xfrm>
                <a:off x="8372880" y="5410080"/>
                <a:ext cx="348120" cy="120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03"/>
              <p:cNvSpPr/>
              <p:nvPr/>
            </p:nvSpPr>
            <p:spPr>
              <a:xfrm>
                <a:off x="8494920" y="5410080"/>
                <a:ext cx="10332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104"/>
            <p:cNvGrpSpPr/>
            <p:nvPr/>
          </p:nvGrpSpPr>
          <p:grpSpPr>
            <a:xfrm>
              <a:off x="8350920" y="5810040"/>
              <a:ext cx="460800" cy="281880"/>
              <a:chOff x="8350920" y="5810040"/>
              <a:chExt cx="460800" cy="281880"/>
            </a:xfrm>
          </p:grpSpPr>
          <p:sp>
            <p:nvSpPr>
              <p:cNvPr id="962" name="Rectangle 105"/>
              <p:cNvSpPr/>
              <p:nvPr/>
            </p:nvSpPr>
            <p:spPr>
              <a:xfrm>
                <a:off x="8350920" y="5810040"/>
                <a:ext cx="460800" cy="28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06"/>
              <p:cNvGrpSpPr/>
              <p:nvPr/>
            </p:nvGrpSpPr>
            <p:grpSpPr>
              <a:xfrm>
                <a:off x="8426520" y="5848920"/>
                <a:ext cx="318960" cy="195120"/>
                <a:chOff x="8426520" y="5848920"/>
                <a:chExt cx="318960" cy="195120"/>
              </a:xfrm>
            </p:grpSpPr>
            <p:sp>
              <p:nvSpPr>
                <p:cNvPr id="964" name="Line 107"/>
                <p:cNvSpPr/>
                <p:nvPr/>
              </p:nvSpPr>
              <p:spPr>
                <a:xfrm>
                  <a:off x="8426520" y="584892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108"/>
                <p:cNvSpPr/>
                <p:nvPr/>
              </p:nvSpPr>
              <p:spPr>
                <a:xfrm>
                  <a:off x="8426520" y="594252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Line 109"/>
                <p:cNvSpPr/>
                <p:nvPr/>
              </p:nvSpPr>
              <p:spPr>
                <a:xfrm>
                  <a:off x="8426520" y="604404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967" name=""/>
            <p:cNvGraphicFramePr/>
            <p:nvPr/>
          </p:nvGraphicFramePr>
          <p:xfrm>
            <a:off x="8286120" y="5817960"/>
            <a:ext cx="511200" cy="62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86120" y="5817960"/>
                      <a:ext cx="511200" cy="62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ect BGP Data From Many Rou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0" name="Text Box 112"/>
          <p:cNvSpPr/>
          <p:nvPr/>
        </p:nvSpPr>
        <p:spPr>
          <a:xfrm>
            <a:off x="6621120" y="62341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te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13"/>
          <p:cNvSpPr/>
          <p:nvPr/>
        </p:nvSpPr>
        <p:spPr>
          <a:xfrm>
            <a:off x="-97560" y="63388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P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flood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13"/>
          <p:cNvSpPr/>
          <p:nvPr/>
        </p:nvSpPr>
        <p:spPr>
          <a:xfrm>
            <a:off x="8229600" y="5334120"/>
            <a:ext cx="609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058"/>
          <p:cNvGrpSpPr/>
          <p:nvPr/>
        </p:nvGrpSpPr>
        <p:grpSpPr>
          <a:xfrm>
            <a:off x="700920" y="1828800"/>
            <a:ext cx="5526360" cy="3975120"/>
            <a:chOff x="700920" y="1828800"/>
            <a:chExt cx="5526360" cy="3975120"/>
          </a:xfrm>
        </p:grpSpPr>
        <p:sp>
          <p:nvSpPr>
            <p:cNvPr id="503" name="Freeform 1047"/>
            <p:cNvSpPr/>
            <p:nvPr/>
          </p:nvSpPr>
          <p:spPr>
            <a:xfrm>
              <a:off x="2958840" y="1828800"/>
              <a:ext cx="3268440" cy="39751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048"/>
            <p:cNvSpPr/>
            <p:nvPr/>
          </p:nvSpPr>
          <p:spPr>
            <a:xfrm>
              <a:off x="700920" y="1950840"/>
              <a:ext cx="23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ahoma"/>
                </a:rPr>
                <a:t>active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ahoma"/>
                </a:rPr>
                <a:t>measurement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59"/>
          <p:cNvGrpSpPr/>
          <p:nvPr/>
        </p:nvGrpSpPr>
        <p:grpSpPr>
          <a:xfrm>
            <a:off x="3241800" y="3581280"/>
            <a:ext cx="6053760" cy="2932200"/>
            <a:chOff x="3241800" y="3581280"/>
            <a:chExt cx="6053760" cy="2932200"/>
          </a:xfrm>
        </p:grpSpPr>
        <p:sp>
          <p:nvSpPr>
            <p:cNvPr id="506" name="Freeform 1049"/>
            <p:cNvSpPr/>
            <p:nvPr/>
          </p:nvSpPr>
          <p:spPr>
            <a:xfrm>
              <a:off x="3241800" y="3924360"/>
              <a:ext cx="4348080" cy="258912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050"/>
            <p:cNvSpPr/>
            <p:nvPr/>
          </p:nvSpPr>
          <p:spPr>
            <a:xfrm>
              <a:off x="6371640" y="358128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packet and flo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measurements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link statistic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060"/>
          <p:cNvGrpSpPr/>
          <p:nvPr/>
        </p:nvGrpSpPr>
        <p:grpSpPr>
          <a:xfrm>
            <a:off x="107640" y="3429000"/>
            <a:ext cx="5331240" cy="3041640"/>
            <a:chOff x="107640" y="3429000"/>
            <a:chExt cx="5331240" cy="3041640"/>
          </a:xfrm>
        </p:grpSpPr>
        <p:sp>
          <p:nvSpPr>
            <p:cNvPr id="509" name="Freeform 1051"/>
            <p:cNvSpPr/>
            <p:nvPr/>
          </p:nvSpPr>
          <p:spPr>
            <a:xfrm>
              <a:off x="1806480" y="4011480"/>
              <a:ext cx="3632400" cy="245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052"/>
            <p:cNvSpPr/>
            <p:nvPr/>
          </p:nvSpPr>
          <p:spPr>
            <a:xfrm>
              <a:off x="107640" y="3429000"/>
              <a:ext cx="274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topology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onfiguration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rout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Line 1028"/>
          <p:cNvSpPr/>
          <p:nvPr/>
        </p:nvSpPr>
        <p:spPr>
          <a:xfrm flipV="1">
            <a:off x="4541760" y="1905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029"/>
          <p:cNvSpPr/>
          <p:nvPr/>
        </p:nvSpPr>
        <p:spPr>
          <a:xfrm>
            <a:off x="4541760" y="4572000"/>
            <a:ext cx="289584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030"/>
          <p:cNvSpPr/>
          <p:nvPr/>
        </p:nvSpPr>
        <p:spPr>
          <a:xfrm flipH="1">
            <a:off x="1798560" y="4572000"/>
            <a:ext cx="27432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31"/>
          <p:cNvSpPr/>
          <p:nvPr/>
        </p:nvSpPr>
        <p:spPr>
          <a:xfrm>
            <a:off x="3424320" y="10666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32"/>
          <p:cNvSpPr/>
          <p:nvPr/>
        </p:nvSpPr>
        <p:spPr>
          <a:xfrm>
            <a:off x="911520" y="6248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33"/>
          <p:cNvSpPr/>
          <p:nvPr/>
        </p:nvSpPr>
        <p:spPr>
          <a:xfrm>
            <a:off x="6958800" y="632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39"/>
          <p:cNvSpPr/>
          <p:nvPr/>
        </p:nvSpPr>
        <p:spPr>
          <a:xfrm>
            <a:off x="3324240" y="2209680"/>
            <a:ext cx="237528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verage downlo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 of a web p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40"/>
          <p:cNvSpPr/>
          <p:nvPr/>
        </p:nvSpPr>
        <p:spPr>
          <a:xfrm>
            <a:off x="2988000" y="4648320"/>
            <a:ext cx="140004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rror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41"/>
          <p:cNvSpPr/>
          <p:nvPr/>
        </p:nvSpPr>
        <p:spPr>
          <a:xfrm>
            <a:off x="4180320" y="4800600"/>
            <a:ext cx="213156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util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043"/>
          <p:cNvSpPr/>
          <p:nvPr/>
        </p:nvSpPr>
        <p:spPr>
          <a:xfrm>
            <a:off x="3494520" y="3809880"/>
            <a:ext cx="213156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-to-end del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lo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44"/>
          <p:cNvSpPr/>
          <p:nvPr/>
        </p:nvSpPr>
        <p:spPr>
          <a:xfrm>
            <a:off x="1794960" y="5334120"/>
            <a:ext cx="200952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45"/>
          <p:cNvSpPr/>
          <p:nvPr/>
        </p:nvSpPr>
        <p:spPr>
          <a:xfrm>
            <a:off x="5177880" y="5334120"/>
            <a:ext cx="188748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matr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46"/>
          <p:cNvSpPr/>
          <p:nvPr/>
        </p:nvSpPr>
        <p:spPr>
          <a:xfrm>
            <a:off x="5999760" y="5867280"/>
            <a:ext cx="176580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and matr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56"/>
          <p:cNvSpPr/>
          <p:nvPr/>
        </p:nvSpPr>
        <p:spPr>
          <a:xfrm>
            <a:off x="1124640" y="5791320"/>
            <a:ext cx="176580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 ro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57"/>
          <p:cNvSpPr/>
          <p:nvPr/>
        </p:nvSpPr>
        <p:spPr>
          <a:xfrm>
            <a:off x="3855960" y="2971800"/>
            <a:ext cx="140004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bul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Table </a:t>
            </a:r>
            <a:r>
              <a:rPr b="0" lang="en-US" sz="2000" spc="-1" strike="noStrike">
                <a:solidFill>
                  <a:srgbClr val="000090"/>
                </a:solidFill>
                <a:latin typeface="Calibri"/>
              </a:rPr>
              <a:t>(“show ip bgp” at RouteViews)</a:t>
            </a:r>
            <a:endParaRPr b="0" lang="en-US" sz="2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-3089160" y="1581120"/>
            <a:ext cx="156798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etwork               Next Hop            Metric  LocPrf  Weight   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.0.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205.215.45.50                                      0   400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67.142.3.6                                          0   505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57.22.9.7                                            0   715 1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9.96.239                                    0   8297 6453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1.29.254                                     0   5409 6667 6427 335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127.0.24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0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18 701 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213.200.87.254         929                      0   3257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9.184.112.0/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205.215.45.50                                       0   4006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66.225.254                                     0   5459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203.62.248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0 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1221 37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67.142.3.6                                           0   5056 6461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9.96.239                                     0   8297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1.29.254                                     0   5409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-501120" y="6019920"/>
            <a:ext cx="82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 80 is General Electric, AS 701 is UUNET, AS 7018 is AT&amp;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AS 3786 is DACOM (Korea), AS 1221 is Telst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996840" y="1301760"/>
            <a:ext cx="52092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835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28256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381636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6"/>
          <p:cNvSpPr/>
          <p:nvPr/>
        </p:nvSpPr>
        <p:spPr>
          <a:xfrm>
            <a:off x="4730760" y="1301760"/>
            <a:ext cx="59688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7"/>
          <p:cNvSpPr/>
          <p:nvPr/>
        </p:nvSpPr>
        <p:spPr>
          <a:xfrm>
            <a:off x="5797440" y="1301760"/>
            <a:ext cx="52092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8"/>
          <p:cNvSpPr/>
          <p:nvPr/>
        </p:nvSpPr>
        <p:spPr>
          <a:xfrm>
            <a:off x="67118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9"/>
          <p:cNvSpPr/>
          <p:nvPr/>
        </p:nvSpPr>
        <p:spPr>
          <a:xfrm>
            <a:off x="7550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"/>
          <p:cNvSpPr/>
          <p:nvPr/>
        </p:nvSpPr>
        <p:spPr>
          <a:xfrm>
            <a:off x="831204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311040" y="1301760"/>
            <a:ext cx="44460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2"/>
          <p:cNvSpPr/>
          <p:nvPr/>
        </p:nvSpPr>
        <p:spPr>
          <a:xfrm>
            <a:off x="554040" y="1620720"/>
            <a:ext cx="284040" cy="66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>
            <a:off x="2077920" y="1620720"/>
            <a:ext cx="5580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4"/>
          <p:cNvSpPr/>
          <p:nvPr/>
        </p:nvSpPr>
        <p:spPr>
          <a:xfrm flipH="1">
            <a:off x="2154240" y="1620720"/>
            <a:ext cx="188424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5"/>
          <p:cNvSpPr/>
          <p:nvPr/>
        </p:nvSpPr>
        <p:spPr>
          <a:xfrm>
            <a:off x="3068640" y="1620720"/>
            <a:ext cx="24177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6"/>
          <p:cNvSpPr/>
          <p:nvPr/>
        </p:nvSpPr>
        <p:spPr>
          <a:xfrm>
            <a:off x="5049720" y="1620720"/>
            <a:ext cx="4366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 flipH="1">
            <a:off x="5506920" y="1620720"/>
            <a:ext cx="5889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 flipH="1">
            <a:off x="5506920" y="1620720"/>
            <a:ext cx="15033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9"/>
          <p:cNvSpPr/>
          <p:nvPr/>
        </p:nvSpPr>
        <p:spPr>
          <a:xfrm>
            <a:off x="7869240" y="1620720"/>
            <a:ext cx="36036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 flipH="1">
            <a:off x="8218440" y="1620720"/>
            <a:ext cx="31608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1239840" y="1620720"/>
            <a:ext cx="8938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52128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Event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23"/>
          <p:cNvSpPr/>
          <p:nvPr/>
        </p:nvSpPr>
        <p:spPr>
          <a:xfrm>
            <a:off x="174060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vent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4"/>
          <p:cNvSpPr/>
          <p:nvPr/>
        </p:nvSpPr>
        <p:spPr>
          <a:xfrm>
            <a:off x="516960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Even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7836480" y="218592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vent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Ev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oup of BGP updates that “belong togeth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IP prefix, originating AS, or AS_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s that are “close” together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spacing between packets (e.g., 3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events 2 and 4 are separated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ssignment #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Dean’s 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499-89BC-41C6-9B96-5CBA8346C9D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data s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flow traffic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update messages and rout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analys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and flow si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break-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ity of traffic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analys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update messages by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s of BGP 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A9C-0566-43FD-9674-41DF26D0725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rsing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racting relevant field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bining data across measurement record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ting tables of resul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otting results (e.g., Gnuplot, Excel, Matlab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derstanding the Internet bet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any languages and t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ork with a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47E7-399C-465E-BA7D-536912E0D44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surement is crucial to network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, model,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, diagnose, 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measurement is challeng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volume of measurem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eat way to understand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applications, traffic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topology, routing 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ffic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174-5747-4B74-968E-6E6A8D29299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ively collecting IP packets on one or more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ing IP, TCP/UDP, or application-layer t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-grain information about user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ively monitoring the network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ing traffic and diagnosing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itoring a LAN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376200" y="1130400"/>
            <a:ext cx="4233600" cy="1952640"/>
            <a:chOff x="376200" y="1130400"/>
            <a:chExt cx="4233600" cy="1952640"/>
          </a:xfrm>
        </p:grpSpPr>
        <p:sp>
          <p:nvSpPr>
            <p:cNvPr id="534" name="Rectangle 23"/>
            <p:cNvSpPr/>
            <p:nvPr/>
          </p:nvSpPr>
          <p:spPr>
            <a:xfrm>
              <a:off x="749160" y="1898640"/>
              <a:ext cx="93024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732600" y="200340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1939680" y="1898640"/>
              <a:ext cx="93024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6"/>
            <p:cNvSpPr/>
            <p:nvPr/>
          </p:nvSpPr>
          <p:spPr>
            <a:xfrm>
              <a:off x="1939680" y="201600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27"/>
            <p:cNvGrpSpPr/>
            <p:nvPr/>
          </p:nvGrpSpPr>
          <p:grpSpPr>
            <a:xfrm>
              <a:off x="3130560" y="2085840"/>
              <a:ext cx="1114200" cy="435240"/>
              <a:chOff x="3130560" y="2085840"/>
              <a:chExt cx="1114200" cy="435240"/>
            </a:xfrm>
          </p:grpSpPr>
          <p:sp>
            <p:nvSpPr>
              <p:cNvPr id="539" name="Rectangle 28"/>
              <p:cNvSpPr/>
              <p:nvPr/>
            </p:nvSpPr>
            <p:spPr>
              <a:xfrm>
                <a:off x="3130560" y="2085840"/>
                <a:ext cx="1114200" cy="435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29"/>
              <p:cNvSpPr/>
              <p:nvPr/>
            </p:nvSpPr>
            <p:spPr>
              <a:xfrm>
                <a:off x="3150360" y="209556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Line 30"/>
            <p:cNvSpPr/>
            <p:nvPr/>
          </p:nvSpPr>
          <p:spPr>
            <a:xfrm>
              <a:off x="1182600" y="25257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1"/>
            <p:cNvSpPr/>
            <p:nvPr/>
          </p:nvSpPr>
          <p:spPr>
            <a:xfrm>
              <a:off x="703080" y="2882880"/>
              <a:ext cx="33465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2"/>
            <p:cNvSpPr/>
            <p:nvPr/>
          </p:nvSpPr>
          <p:spPr>
            <a:xfrm>
              <a:off x="2404800" y="25383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3673440" y="253512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4"/>
            <p:cNvSpPr/>
            <p:nvPr/>
          </p:nvSpPr>
          <p:spPr>
            <a:xfrm>
              <a:off x="376200" y="1130400"/>
              <a:ext cx="4233600" cy="19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5"/>
            <p:cNvSpPr/>
            <p:nvPr/>
          </p:nvSpPr>
          <p:spPr>
            <a:xfrm>
              <a:off x="540720" y="1182600"/>
              <a:ext cx="38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ared media (Ethernet, wireless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5"/>
          <p:cNvGrpSpPr/>
          <p:nvPr/>
        </p:nvGrpSpPr>
        <p:grpSpPr>
          <a:xfrm>
            <a:off x="4861080" y="2209680"/>
            <a:ext cx="3966840" cy="2790720"/>
            <a:chOff x="4861080" y="2209680"/>
            <a:chExt cx="3966840" cy="2790720"/>
          </a:xfrm>
        </p:grpSpPr>
        <p:grpSp>
          <p:nvGrpSpPr>
            <p:cNvPr id="548" name="Group 3"/>
            <p:cNvGrpSpPr/>
            <p:nvPr/>
          </p:nvGrpSpPr>
          <p:grpSpPr>
            <a:xfrm>
              <a:off x="5196600" y="2974680"/>
              <a:ext cx="946080" cy="622440"/>
              <a:chOff x="5196600" y="2974680"/>
              <a:chExt cx="946080" cy="622440"/>
            </a:xfrm>
          </p:grpSpPr>
          <p:sp>
            <p:nvSpPr>
              <p:cNvPr id="549" name="Rectangle 4"/>
              <p:cNvSpPr/>
              <p:nvPr/>
            </p:nvSpPr>
            <p:spPr>
              <a:xfrm>
                <a:off x="5213160" y="2974680"/>
                <a:ext cx="92952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5"/>
              <p:cNvSpPr/>
              <p:nvPr/>
            </p:nvSpPr>
            <p:spPr>
              <a:xfrm>
                <a:off x="5196600" y="3079440"/>
                <a:ext cx="93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"/>
            <p:cNvGrpSpPr/>
            <p:nvPr/>
          </p:nvGrpSpPr>
          <p:grpSpPr>
            <a:xfrm>
              <a:off x="5204880" y="4074840"/>
              <a:ext cx="930240" cy="622440"/>
              <a:chOff x="5204880" y="4074840"/>
              <a:chExt cx="930240" cy="622440"/>
            </a:xfrm>
          </p:grpSpPr>
          <p:sp>
            <p:nvSpPr>
              <p:cNvPr id="552" name="Rectangle 7"/>
              <p:cNvSpPr/>
              <p:nvPr/>
            </p:nvSpPr>
            <p:spPr>
              <a:xfrm>
                <a:off x="5205240" y="4074840"/>
                <a:ext cx="92988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8"/>
              <p:cNvSpPr/>
              <p:nvPr/>
            </p:nvSpPr>
            <p:spPr>
              <a:xfrm>
                <a:off x="5204880" y="4192200"/>
                <a:ext cx="92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B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9"/>
            <p:cNvGrpSpPr/>
            <p:nvPr/>
          </p:nvGrpSpPr>
          <p:grpSpPr>
            <a:xfrm>
              <a:off x="7315920" y="2974680"/>
              <a:ext cx="946080" cy="622440"/>
              <a:chOff x="7315920" y="2974680"/>
              <a:chExt cx="946080" cy="622440"/>
            </a:xfrm>
          </p:grpSpPr>
          <p:sp>
            <p:nvSpPr>
              <p:cNvPr id="555" name="Rectangle 10"/>
              <p:cNvSpPr/>
              <p:nvPr/>
            </p:nvSpPr>
            <p:spPr>
              <a:xfrm>
                <a:off x="7332480" y="2974680"/>
                <a:ext cx="92952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7315920" y="3079440"/>
                <a:ext cx="93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C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2"/>
            <p:cNvGrpSpPr/>
            <p:nvPr/>
          </p:nvGrpSpPr>
          <p:grpSpPr>
            <a:xfrm>
              <a:off x="7316640" y="4325760"/>
              <a:ext cx="1114200" cy="434880"/>
              <a:chOff x="7316640" y="4325760"/>
              <a:chExt cx="1114200" cy="434880"/>
            </a:xfrm>
          </p:grpSpPr>
          <p:sp>
            <p:nvSpPr>
              <p:cNvPr id="558" name="Rectangle 13"/>
              <p:cNvSpPr/>
              <p:nvPr/>
            </p:nvSpPr>
            <p:spPr>
              <a:xfrm>
                <a:off x="7316640" y="4325760"/>
                <a:ext cx="1114200" cy="434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4"/>
              <p:cNvSpPr/>
              <p:nvPr/>
            </p:nvSpPr>
            <p:spPr>
              <a:xfrm>
                <a:off x="7336080" y="4335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Rectangle 15"/>
            <p:cNvSpPr/>
            <p:nvPr/>
          </p:nvSpPr>
          <p:spPr>
            <a:xfrm>
              <a:off x="6440400" y="3109680"/>
              <a:ext cx="510840" cy="1425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6"/>
            <p:cNvSpPr/>
            <p:nvPr/>
          </p:nvSpPr>
          <p:spPr>
            <a:xfrm>
              <a:off x="6522840" y="3155760"/>
              <a:ext cx="3650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>
              <a:off x="6146640" y="3233520"/>
              <a:ext cx="293400" cy="325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8"/>
            <p:cNvSpPr/>
            <p:nvPr/>
          </p:nvSpPr>
          <p:spPr>
            <a:xfrm flipV="1">
              <a:off x="6130800" y="4039920"/>
              <a:ext cx="30924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9"/>
            <p:cNvSpPr/>
            <p:nvPr/>
          </p:nvSpPr>
          <p:spPr>
            <a:xfrm flipV="1">
              <a:off x="6951600" y="3265200"/>
              <a:ext cx="387000" cy="325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0"/>
            <p:cNvSpPr/>
            <p:nvPr/>
          </p:nvSpPr>
          <p:spPr>
            <a:xfrm>
              <a:off x="6951600" y="3993840"/>
              <a:ext cx="372600" cy="541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5834160" y="2261880"/>
              <a:ext cx="197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cast switc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6"/>
            <p:cNvSpPr/>
            <p:nvPr/>
          </p:nvSpPr>
          <p:spPr>
            <a:xfrm>
              <a:off x="4861080" y="2209680"/>
              <a:ext cx="3966840" cy="27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66"/>
          <p:cNvGrpSpPr/>
          <p:nvPr/>
        </p:nvGrpSpPr>
        <p:grpSpPr>
          <a:xfrm>
            <a:off x="376200" y="4040280"/>
            <a:ext cx="4233960" cy="2108160"/>
            <a:chOff x="376200" y="4040280"/>
            <a:chExt cx="4233960" cy="2108160"/>
          </a:xfrm>
        </p:grpSpPr>
        <p:sp>
          <p:nvSpPr>
            <p:cNvPr id="569" name="Rectangle 38"/>
            <p:cNvSpPr/>
            <p:nvPr/>
          </p:nvSpPr>
          <p:spPr>
            <a:xfrm>
              <a:off x="593640" y="4937040"/>
              <a:ext cx="93060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9"/>
            <p:cNvSpPr/>
            <p:nvPr/>
          </p:nvSpPr>
          <p:spPr>
            <a:xfrm>
              <a:off x="577080" y="504180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0"/>
            <p:cNvSpPr/>
            <p:nvPr/>
          </p:nvSpPr>
          <p:spPr>
            <a:xfrm>
              <a:off x="3489480" y="4950000"/>
              <a:ext cx="930240" cy="622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1"/>
            <p:cNvSpPr/>
            <p:nvPr/>
          </p:nvSpPr>
          <p:spPr>
            <a:xfrm>
              <a:off x="3489120" y="506736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1952640" y="4780080"/>
              <a:ext cx="1114560" cy="77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3"/>
            <p:cNvSpPr/>
            <p:nvPr/>
          </p:nvSpPr>
          <p:spPr>
            <a:xfrm>
              <a:off x="1914480" y="4808520"/>
              <a:ext cx="11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ridge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1027080" y="55641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5"/>
            <p:cNvSpPr/>
            <p:nvPr/>
          </p:nvSpPr>
          <p:spPr>
            <a:xfrm>
              <a:off x="719280" y="5918040"/>
              <a:ext cx="16113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6"/>
            <p:cNvSpPr/>
            <p:nvPr/>
          </p:nvSpPr>
          <p:spPr>
            <a:xfrm>
              <a:off x="3954600" y="557388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47"/>
            <p:cNvSpPr/>
            <p:nvPr/>
          </p:nvSpPr>
          <p:spPr>
            <a:xfrm>
              <a:off x="2338560" y="558648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 flipH="1">
              <a:off x="2707920" y="5583240"/>
              <a:ext cx="180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>
              <a:off x="2716200" y="5915160"/>
              <a:ext cx="15494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0"/>
            <p:cNvSpPr/>
            <p:nvPr/>
          </p:nvSpPr>
          <p:spPr>
            <a:xfrm>
              <a:off x="592920" y="4143240"/>
              <a:ext cx="377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nitor integrated with a brid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1"/>
            <p:cNvSpPr/>
            <p:nvPr/>
          </p:nvSpPr>
          <p:spPr>
            <a:xfrm>
              <a:off x="376200" y="4040280"/>
              <a:ext cx="4233960" cy="21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itoring a WAN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458640" y="1087560"/>
            <a:ext cx="3967200" cy="2327040"/>
            <a:chOff x="458640" y="1087560"/>
            <a:chExt cx="3967200" cy="2327040"/>
          </a:xfrm>
        </p:grpSpPr>
        <p:grpSp>
          <p:nvGrpSpPr>
            <p:cNvPr id="585" name="Group 4"/>
            <p:cNvGrpSpPr/>
            <p:nvPr/>
          </p:nvGrpSpPr>
          <p:grpSpPr>
            <a:xfrm>
              <a:off x="579240" y="1814400"/>
              <a:ext cx="1239840" cy="621720"/>
              <a:chOff x="579240" y="1814400"/>
              <a:chExt cx="1239840" cy="621720"/>
            </a:xfrm>
          </p:grpSpPr>
          <p:sp>
            <p:nvSpPr>
              <p:cNvPr id="586" name="Rectangle 5"/>
              <p:cNvSpPr/>
              <p:nvPr/>
            </p:nvSpPr>
            <p:spPr>
              <a:xfrm>
                <a:off x="579240" y="1814400"/>
                <a:ext cx="1239840" cy="621720"/>
              </a:xfrm>
              <a:prstGeom prst="rect">
                <a:avLst/>
              </a:prstGeom>
              <a:solidFill>
                <a:srgbClr val="1f49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6"/>
              <p:cNvSpPr/>
              <p:nvPr/>
            </p:nvSpPr>
            <p:spPr>
              <a:xfrm>
                <a:off x="615600" y="1929960"/>
                <a:ext cx="119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outer 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7"/>
            <p:cNvSpPr/>
            <p:nvPr/>
          </p:nvSpPr>
          <p:spPr>
            <a:xfrm>
              <a:off x="2979360" y="1814400"/>
              <a:ext cx="1239840" cy="6217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3016080" y="193032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"/>
            <p:cNvSpPr/>
            <p:nvPr/>
          </p:nvSpPr>
          <p:spPr>
            <a:xfrm>
              <a:off x="1823760" y="21445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0"/>
            <p:cNvSpPr/>
            <p:nvPr/>
          </p:nvSpPr>
          <p:spPr>
            <a:xfrm>
              <a:off x="2388960" y="2152440"/>
              <a:ext cx="0" cy="5281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1"/>
            <p:cNvGrpSpPr/>
            <p:nvPr/>
          </p:nvGrpSpPr>
          <p:grpSpPr>
            <a:xfrm>
              <a:off x="1876320" y="2660400"/>
              <a:ext cx="1114200" cy="434520"/>
              <a:chOff x="1876320" y="2660400"/>
              <a:chExt cx="1114200" cy="434520"/>
            </a:xfrm>
          </p:grpSpPr>
          <p:sp>
            <p:nvSpPr>
              <p:cNvPr id="593" name="Rectangle 12"/>
              <p:cNvSpPr/>
              <p:nvPr/>
            </p:nvSpPr>
            <p:spPr>
              <a:xfrm>
                <a:off x="1876320" y="2660400"/>
                <a:ext cx="1114200" cy="434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3"/>
              <p:cNvSpPr/>
              <p:nvPr/>
            </p:nvSpPr>
            <p:spPr>
              <a:xfrm>
                <a:off x="1895760" y="266940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14"/>
            <p:cNvSpPr/>
            <p:nvPr/>
          </p:nvSpPr>
          <p:spPr>
            <a:xfrm>
              <a:off x="714960" y="1125360"/>
              <a:ext cx="33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litting a point-to-point link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5"/>
            <p:cNvSpPr/>
            <p:nvPr/>
          </p:nvSpPr>
          <p:spPr>
            <a:xfrm>
              <a:off x="458640" y="1087560"/>
              <a:ext cx="3967200" cy="23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7"/>
          <p:cNvSpPr/>
          <p:nvPr/>
        </p:nvSpPr>
        <p:spPr>
          <a:xfrm>
            <a:off x="6681960" y="5310360"/>
            <a:ext cx="1239840" cy="6253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718320" y="542592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r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6188040" y="5510160"/>
            <a:ext cx="487440" cy="212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0"/>
          <p:cNvSpPr/>
          <p:nvPr/>
        </p:nvSpPr>
        <p:spPr>
          <a:xfrm>
            <a:off x="5030640" y="5610240"/>
            <a:ext cx="116208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4631400" y="4699080"/>
            <a:ext cx="41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 card that does packet samp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4425840" y="4621320"/>
            <a:ext cx="45579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ecting the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lter to focus on a subset of the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/prefixes (e.g., to/from specific si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 (e.g., TCP, UDP, or IC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 numbers (e.g., HTTP, DNS, BGP, 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ect first n bytes of packet (snap length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um access control header (if pres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header (typically 20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+UDP header (typically 28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+TCP header (typically 40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-layer message (entire pack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alysis of IP Header Tra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/destination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popular Web servers &amp; heavy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ion of packet delay through the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cation of typical delays and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ion of packet siz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load models for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rstiness of the traffic on the link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sioning rules for allocating lin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oughput between pairs of src/dest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diagnosis of performance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2:03:47Z</dcterms:created>
  <dc:creator>Mike</dc:creator>
  <dc:description/>
  <cp:keywords/>
  <dc:language>en-US</dc:language>
  <cp:lastModifiedBy>Jennifer Rexford</cp:lastModifiedBy>
  <cp:lastPrinted>2012-04-27T03:01:49Z</cp:lastPrinted>
  <dcterms:modified xsi:type="dcterms:W3CDTF">2012-04-27T11:52:00Z</dcterms:modified>
  <cp:revision>4059</cp:revision>
  <dc:subject/>
  <dc:title>Communication</dc:title>
</cp:coreProperties>
</file>