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wmf" ContentType="image/x-wmf"/>
  <Override PartName="/ppt/media/image26.wmf" ContentType="image/x-wmf"/>
  <Override PartName="/ppt/media/image2.png" ContentType="image/png"/>
  <Override PartName="/ppt/media/image25.png" ContentType="image/png"/>
  <Override PartName="/ppt/media/image27.wmf" ContentType="image/x-wm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4CD0295-1B2A-416A-8B0D-2C85B2DE5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3211B48-1E13-4551-BF0D-D536FD4120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902C262-B8EC-4223-8D82-8CA878C92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7C4FD6D-F2F6-4026-9FCE-F24DFBF93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st slide, attacker announced a path that doesn’t’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ecurity mechansim we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authorizes a1 to send the path (v,Pref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security property pr ovided “can’t announce paths that don’t exist (no announc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3672-F2A4-474E-9E17-383953559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1B50-68AD-45F4-AA40-4BD130121CC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DEE05-8229-4A87-B502-C3DACE06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FF53E-D007-42F1-BF36-43A8C0E7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D058F-D335-4447-AA99-55B93D8D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39FDE-A6AE-47AC-B246-BA439F90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9FE42-17B2-4EF1-BF5D-B8691AEF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A4AE8-8EAE-490B-9E45-5B0DE05E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50D03-D657-4450-A306-04FF4B39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99D83-E21C-40B2-B390-4A433450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2489A-9603-4EA8-BD29-38F3824C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C2420-CA5B-4B40-A335-F1DEB0E6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698E-6691-448D-A8E6-F9F0D8FFE73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B0304-FD13-4395-B7C3-A643A8BB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3F808-D285-4E44-B93B-0F3B3CA4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C32AD-5463-4FC7-AD43-26572CB2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8E4B2-A9DE-4FBC-8679-77B3CA23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C20C1-8295-4F40-A13A-B907D955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B1155-8F7A-481A-BB62-7F33B470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50E85-3DD6-4F3A-8CDC-45936CC1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B1AA6-8D1D-4E89-9286-E8E534F3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D6F60-88F2-460B-AB1F-E8528516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F530C-21DA-4D26-A761-71FC84A7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1080-A557-4C31-9E11-6C2D1086FCA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6B343-8AED-4F4C-B9F2-26D0C5D2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C1D21E-31F1-455A-B84A-7B8DA218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BF5524-2DFD-44B4-A3FE-6123E13E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2E4B4D-5C7F-4C94-9E7F-E29FAE43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C44D5B-4CAD-4E7C-80D9-D7439263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F27324-88EA-4858-AD16-0387CB65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FF5B26-A34E-4789-BD7E-F4F77B6C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25B7E8-6B33-486C-8FF1-865FDD67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818579-C276-424B-AF26-DEC7AE93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C7B655-2D42-47C2-B763-7B12606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72475-34ED-42DD-BFC5-D9F8C8EA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E2EA9C-A256-46D1-A3BA-8ECF39AE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C118A7-16D6-446C-BD68-050C5BBA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465A01-626E-4341-ABB5-A8B2C6F3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4CA1A-5919-4B90-9CCF-A64BFF76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2ED5A-A7E4-40E0-AADE-616A48A4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24FB9-4BA0-4D5A-A212-08834AAF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0D11EC-768C-44DB-9A43-B07E8183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A0289-0B2E-4E52-914E-CD9A1CB9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6E054-1838-4FDB-939C-2F230B23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EC09D-872B-45D0-B940-5DCA07D2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6AD70-CDAD-422B-9D17-A1EE9445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B1B5F-CD6A-4E1C-8447-2BA34672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6AA3A-AC94-4628-ADE9-75D5895B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E256B-5B2B-4A8B-BB7C-535FFF9F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F327C-1249-4B86-BCEC-603296A8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FE347-B352-4BC8-AB74-C6A38D3C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12BF1-6873-4FC9-B5C9-BC96E7DD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713D8-6763-4B98-8658-8C6F3E4B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DEA96-942C-40D4-9EE1-25DE1F90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7FB63-CAB0-437B-9BF8-FE4E4E6E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B09E1-F005-44F3-AE26-5891555C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21A9-C406-4B69-990E-6EEF2A4F8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59666-68E2-4056-A484-6A26368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AFD79-5106-4020-A1C0-830A2AC9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68268-33FE-4CB2-8468-3461123E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04264-5247-4B8F-A618-C05652E4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3D60C-9EFE-4663-A3BA-34FF175E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B722B-4E01-4204-990C-9C7072A6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2A728-8786-4266-8628-E0ABBBCE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6D666-30FF-4F28-B2C2-B1A0244C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A04EA-7A32-49EE-B14B-F27CE7EF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84D92-73A0-4AA9-B895-436B6D1D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4CB3-9CC8-4BAF-B6ED-C5CD89792D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BD7AD-5AB6-4E42-8066-4C775014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8B30E-5439-431A-A3D0-5FA82BD2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A8ABE6-D2FE-406F-97BF-4BAA6F8E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AA29D-BBE1-4BCD-B426-154DF7D2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210CB-A767-4219-A098-957DCE6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7D1013-AB2F-452C-929A-111A371F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647D1-862C-4ED0-977A-D0C94270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004B4D-DC41-4434-9B88-9A9B0B18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B7CE49-4A07-4EFB-AB55-DE09A910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0A7EAA-E711-4AE4-BDAE-D202C40B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1EA1-D8FC-449C-8444-F2A6E58B59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0BAC2-8B73-483C-958A-87C5BEA5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6BF90-399E-40FA-9980-8DBDC482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60CBC7-4E91-4D70-B219-95A07DCA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0AEAD8-CF5F-4CFB-89ED-48A2EE9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E5CEB-9781-45D8-8FCD-7877B7E7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C50F2-931D-4F7B-AE82-E2F57FCF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B4EB3C-B4DD-449F-8550-B4F8AA4B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25015E-D3BF-45C8-9080-334EE955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181AF-C2AD-4A18-BB50-1D33FECA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C85237-B6BB-4251-B23F-6AA03A98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6A7E-86C8-41E9-896A-B8EF7E1422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33775F-2ADF-4FC7-A8FB-FBC1C23B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5515D0-38D5-4591-9385-49487F54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6A2CF-E17F-4DD6-83D3-8AC1FCB0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29FBD3-AD30-461D-B6CA-79217B64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7927EC-209F-4F46-B82B-736459D9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05A99A-B89A-4087-8143-C084FBA9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E34E85-31FD-4451-9C4D-D811E76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38849-95D1-47F4-859D-0BE955C6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F64734-E6A4-436E-BA5B-C97065DD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569314-F8F1-4621-A574-AC8D4BBA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D582-2DE6-4FDD-8F40-4F8F573CE9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5CF319-ADB8-4F8C-817A-A3934244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6FECC9-2AD9-4AFA-AA97-2BBD84A9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BFF8B-2CC6-44ED-BAE2-BFFFBC97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3709EE-1B9C-4CF3-B214-62D4CC8C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C2E1BA-1A3A-4252-93FE-FA19142B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BDFB94-C1EE-4255-AEDE-251C8C78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4D6220-1EDC-4533-B4C2-9C722137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BDD96E-7F47-406B-BD5A-2B5201DA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F58CAF-32AC-433F-9FAB-8539E6EF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BF8087-6F44-4568-8B16-ED88BE36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44DE-46CB-4704-8852-9A45FD699A3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056AC7-9CD5-49AF-AA41-89E419E7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3C015D-B5F3-4B5C-B577-3EB89CAC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FF700D-E1CF-472A-A7AE-61C17EB7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FF8791-D0F3-488D-8749-1A93184D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AC7F6C-D467-4DAD-B758-BA431153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F321AB-EA64-4AB0-9C56-F6997068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C91C33-F3D7-4218-9774-8AC8BC4F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2A385D-B50F-42E4-98FB-E400323A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450862-7BF4-4496-9532-43FCD93D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996609-4293-45C1-BE49-106AAD82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8748-EF80-4E8E-B853-0C2FB8D499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BDBE81-0F70-4C6A-8D10-89D7B60D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7F7DF9-DF39-46B9-8AB8-B9348A7E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573E2C-953D-48BB-9918-34AD34D0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C919C2-578D-40F7-A459-648D3879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8BEB9-82A4-4337-86BC-2EF6DD6A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D168AF-5D4A-4750-B49D-45353F27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2838E4-2457-46A6-B68B-1557D6C8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5B0EEE-FD43-4AA4-A974-60B29FE4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C04F3B-1B6E-4499-9DAD-86369269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099A10-F435-4102-B958-FD9D2CAB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5F65-4F78-48C1-911E-F7A7D9D9DE0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072DD5-1340-447D-AF15-4C0EBD4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D0CB06-BEF1-4B1F-8AE4-3AD78394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288C2C-C8F4-4070-A9AA-637EE67E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2733D5-0124-43B2-874F-0155DD83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4B2F38-DF9C-4AAB-B2A1-918F4456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41CBA8-11B2-46E9-91F4-163E4896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91BFDF-3002-42A1-BD35-4E54F520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19CD9-A045-4DBF-897F-1AC26ED4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3B001-C4EC-42CE-886D-2564466D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A13A8-D32A-4C4B-A9EF-328C0A44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F3A3-C0B3-4C58-B1AC-DFED57C74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2F5F-272D-400A-953F-65A80DF6A8A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D6C1-5693-4A5E-831B-507BC6587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58A6-6EDF-4F8D-BC87-7974228C03B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1A07-E74C-42DF-AF84-50B7D5E22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4C25-8DF0-4416-B469-6DF6A4394E4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3E45-2327-4F60-9B90-643D84E08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6652-FA10-4ECB-A625-E8670853E17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F63A-329C-476B-98A4-F1EB2F525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F5B5-5D45-4175-BF97-2B189A91A1B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1115-20F7-40CB-8FA3-69D178543A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CBE8-37E5-4707-80E1-C6C1EDDEEB8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F5D-80DD-4CDD-953C-E9C371F4C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6D4B-9EC5-4ABC-B886-F193E30896A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1B69-885F-4736-8E88-34B68BCCD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653E-32EC-459D-988B-F5264EAE63E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9324-CD9B-450A-BF07-D2FE09DA73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4A60-DCF0-4230-A601-C141DC7724E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A237-E343-4391-8B24-E2DD5D6C54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D539-88CC-4E85-8471-60AB6D54E1A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F928-9B96-41BA-8162-34F11C580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11EA-38AE-42D8-B195-1D245686E97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E3E3-9261-4774-8EDB-F9CE1C9F9F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slideLayout" Target="../slideLayouts/slideLayout25.xml"/><Relationship Id="rId2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Interdomain Routing Security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9" name="Picture 9" descr=""/>
          <p:cNvPicPr/>
          <p:nvPr/>
        </p:nvPicPr>
        <p:blipFill>
          <a:blip r:embed="rId1"/>
          <a:stretch/>
        </p:blipFill>
        <p:spPr>
          <a:xfrm>
            <a:off x="3200400" y="98280"/>
            <a:ext cx="273852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efix Hijack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5960" y="50288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ackho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traffic is discard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nooping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traffic is inspected, then redirec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ersona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ffic sent to bogus destin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592" name="Group 3"/>
          <p:cNvGrpSpPr/>
          <p:nvPr/>
        </p:nvGrpSpPr>
        <p:grpSpPr>
          <a:xfrm>
            <a:off x="482760" y="1041480"/>
            <a:ext cx="8446680" cy="3985920"/>
            <a:chOff x="482760" y="1041480"/>
            <a:chExt cx="8446680" cy="3985920"/>
          </a:xfrm>
        </p:grpSpPr>
        <p:graphicFrame>
          <p:nvGraphicFramePr>
            <p:cNvPr id="593" name=""/>
            <p:cNvGraphicFramePr/>
            <p:nvPr/>
          </p:nvGraphicFramePr>
          <p:xfrm>
            <a:off x="720720" y="1531800"/>
            <a:ext cx="2815560" cy="159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0720" y="1531800"/>
                      <a:ext cx="2815560" cy="159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5" name=""/>
            <p:cNvGraphicFramePr/>
            <p:nvPr/>
          </p:nvGraphicFramePr>
          <p:xfrm>
            <a:off x="4518720" y="1041480"/>
            <a:ext cx="2820600" cy="170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720" y="1041480"/>
                      <a:ext cx="2820600" cy="170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7" name=""/>
            <p:cNvGraphicFramePr/>
            <p:nvPr/>
          </p:nvGraphicFramePr>
          <p:xfrm>
            <a:off x="3921120" y="3002760"/>
            <a:ext cx="2820600" cy="170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21120" y="3002760"/>
                      <a:ext cx="282060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9" name="Text Box 7"/>
            <p:cNvSpPr/>
            <p:nvPr/>
          </p:nvSpPr>
          <p:spPr>
            <a:xfrm>
              <a:off x="4429080" y="36651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0" name=""/>
            <p:cNvGraphicFramePr/>
            <p:nvPr/>
          </p:nvGraphicFramePr>
          <p:xfrm>
            <a:off x="791640" y="3165120"/>
            <a:ext cx="1372680" cy="86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1640" y="316512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2" name=""/>
            <p:cNvGraphicFramePr/>
            <p:nvPr/>
          </p:nvGraphicFramePr>
          <p:xfrm>
            <a:off x="482760" y="4230360"/>
            <a:ext cx="886320" cy="55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2760" y="4230360"/>
                      <a:ext cx="88632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7045560" y="2464920"/>
            <a:ext cx="1372680" cy="86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45560" y="246492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6" name=""/>
            <p:cNvGraphicFramePr/>
            <p:nvPr/>
          </p:nvGraphicFramePr>
          <p:xfrm>
            <a:off x="8043480" y="3507840"/>
            <a:ext cx="885960" cy="55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043480" y="3507840"/>
                      <a:ext cx="88596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8" name="Line 12"/>
            <p:cNvSpPr/>
            <p:nvPr/>
          </p:nvSpPr>
          <p:spPr>
            <a:xfrm flipV="1">
              <a:off x="1024560" y="3904920"/>
              <a:ext cx="197280" cy="37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3"/>
            <p:cNvSpPr/>
            <p:nvPr/>
          </p:nvSpPr>
          <p:spPr>
            <a:xfrm flipV="1">
              <a:off x="1358640" y="2904840"/>
              <a:ext cx="136440" cy="3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4"/>
            <p:cNvSpPr/>
            <p:nvPr/>
          </p:nvSpPr>
          <p:spPr>
            <a:xfrm flipV="1">
              <a:off x="3303360" y="1815840"/>
              <a:ext cx="141264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5"/>
            <p:cNvSpPr/>
            <p:nvPr/>
          </p:nvSpPr>
          <p:spPr>
            <a:xfrm>
              <a:off x="2908440" y="2815560"/>
              <a:ext cx="15037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6"/>
            <p:cNvSpPr/>
            <p:nvPr/>
          </p:nvSpPr>
          <p:spPr>
            <a:xfrm>
              <a:off x="7162200" y="2029680"/>
              <a:ext cx="66816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7"/>
            <p:cNvSpPr/>
            <p:nvPr/>
          </p:nvSpPr>
          <p:spPr>
            <a:xfrm flipH="1">
              <a:off x="6508440" y="3219840"/>
              <a:ext cx="911160" cy="40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8"/>
            <p:cNvSpPr/>
            <p:nvPr/>
          </p:nvSpPr>
          <p:spPr>
            <a:xfrm>
              <a:off x="7830720" y="3253680"/>
              <a:ext cx="379440" cy="35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9"/>
            <p:cNvSpPr/>
            <p:nvPr/>
          </p:nvSpPr>
          <p:spPr>
            <a:xfrm>
              <a:off x="8484120" y="4016880"/>
              <a:ext cx="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0"/>
            <p:cNvSpPr/>
            <p:nvPr/>
          </p:nvSpPr>
          <p:spPr>
            <a:xfrm>
              <a:off x="918360" y="4758120"/>
              <a:ext cx="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 flipH="1">
              <a:off x="5263200" y="2535120"/>
              <a:ext cx="3024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1520" y="4306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23"/>
            <p:cNvSpPr/>
            <p:nvPr/>
          </p:nvSpPr>
          <p:spPr>
            <a:xfrm>
              <a:off x="1216080" y="3384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24"/>
            <p:cNvSpPr/>
            <p:nvPr/>
          </p:nvSpPr>
          <p:spPr>
            <a:xfrm>
              <a:off x="1869480" y="2105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5727960" y="1677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26"/>
            <p:cNvSpPr/>
            <p:nvPr/>
          </p:nvSpPr>
          <p:spPr>
            <a:xfrm>
              <a:off x="7551000" y="2700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27"/>
            <p:cNvSpPr/>
            <p:nvPr/>
          </p:nvSpPr>
          <p:spPr>
            <a:xfrm>
              <a:off x="8295480" y="3586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28"/>
            <p:cNvSpPr/>
            <p:nvPr/>
          </p:nvSpPr>
          <p:spPr>
            <a:xfrm>
              <a:off x="5105160" y="3597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 Box 29"/>
          <p:cNvSpPr/>
          <p:nvPr/>
        </p:nvSpPr>
        <p:spPr>
          <a:xfrm>
            <a:off x="7191360" y="432900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30"/>
          <p:cNvSpPr/>
          <p:nvPr/>
        </p:nvSpPr>
        <p:spPr>
          <a:xfrm>
            <a:off x="17640" y="779400"/>
            <a:ext cx="8875440" cy="3962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31"/>
          <p:cNvSpPr/>
          <p:nvPr/>
        </p:nvSpPr>
        <p:spPr>
          <a:xfrm>
            <a:off x="5487840" y="3740040"/>
            <a:ext cx="2813040" cy="116064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2"/>
          <p:cNvSpPr/>
          <p:nvPr/>
        </p:nvSpPr>
        <p:spPr>
          <a:xfrm>
            <a:off x="1144440" y="465948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33"/>
          <p:cNvSpPr/>
          <p:nvPr/>
        </p:nvSpPr>
        <p:spPr>
          <a:xfrm>
            <a:off x="1781280" y="3002040"/>
            <a:ext cx="1023840" cy="1611360"/>
          </a:xfrm>
          <a:prstGeom prst="pie">
            <a:avLst/>
          </a:pr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34"/>
          <p:cNvSpPr/>
          <p:nvPr/>
        </p:nvSpPr>
        <p:spPr>
          <a:xfrm>
            <a:off x="5943600" y="903240"/>
            <a:ext cx="2903400" cy="245448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jacking is Hard to Debu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victim AS doesn’t see the 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s its own route, might not learn the bogus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y not cause loss of connectiv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ooping, with minor performance degra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r, loss of connectivity is isola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nly for sources in parts of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agnosing prefix hijack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zing updates from many vantage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unching traceroute from many vantage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ub-Prefix Hijack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28240" y="52578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riginating a more-specific prefix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AS picks the bogus route for that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follows the longest matching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3"/>
          <p:cNvGrpSpPr/>
          <p:nvPr/>
        </p:nvGrpSpPr>
        <p:grpSpPr>
          <a:xfrm>
            <a:off x="453960" y="1193760"/>
            <a:ext cx="8446680" cy="3985920"/>
            <a:chOff x="453960" y="1193760"/>
            <a:chExt cx="8446680" cy="3985920"/>
          </a:xfrm>
        </p:grpSpPr>
        <p:graphicFrame>
          <p:nvGraphicFramePr>
            <p:cNvPr id="636" name=""/>
            <p:cNvGraphicFramePr/>
            <p:nvPr/>
          </p:nvGraphicFramePr>
          <p:xfrm>
            <a:off x="691920" y="1684080"/>
            <a:ext cx="2815560" cy="159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1920" y="1684080"/>
                      <a:ext cx="2815560" cy="159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8" name=""/>
            <p:cNvGraphicFramePr/>
            <p:nvPr/>
          </p:nvGraphicFramePr>
          <p:xfrm>
            <a:off x="4489920" y="1193760"/>
            <a:ext cx="2820600" cy="170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89920" y="1193760"/>
                      <a:ext cx="2820600" cy="170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0" name=""/>
            <p:cNvGraphicFramePr/>
            <p:nvPr/>
          </p:nvGraphicFramePr>
          <p:xfrm>
            <a:off x="3892320" y="3155040"/>
            <a:ext cx="2820600" cy="170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92320" y="3155040"/>
                      <a:ext cx="282060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2" name="Text Box 7"/>
            <p:cNvSpPr/>
            <p:nvPr/>
          </p:nvSpPr>
          <p:spPr>
            <a:xfrm>
              <a:off x="4400280" y="38174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3" name=""/>
            <p:cNvGraphicFramePr/>
            <p:nvPr/>
          </p:nvGraphicFramePr>
          <p:xfrm>
            <a:off x="762840" y="3317400"/>
            <a:ext cx="1372680" cy="86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840" y="331740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5" name=""/>
            <p:cNvGraphicFramePr/>
            <p:nvPr/>
          </p:nvGraphicFramePr>
          <p:xfrm>
            <a:off x="453960" y="4382640"/>
            <a:ext cx="886320" cy="55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3960" y="4382640"/>
                      <a:ext cx="88632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7" name=""/>
            <p:cNvGraphicFramePr/>
            <p:nvPr/>
          </p:nvGraphicFramePr>
          <p:xfrm>
            <a:off x="7016760" y="2617200"/>
            <a:ext cx="1372680" cy="86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16760" y="261720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9" name=""/>
            <p:cNvGraphicFramePr/>
            <p:nvPr/>
          </p:nvGraphicFramePr>
          <p:xfrm>
            <a:off x="8014680" y="3660120"/>
            <a:ext cx="885960" cy="55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014680" y="3660120"/>
                      <a:ext cx="88596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Line 12"/>
            <p:cNvSpPr/>
            <p:nvPr/>
          </p:nvSpPr>
          <p:spPr>
            <a:xfrm flipV="1">
              <a:off x="995760" y="4057200"/>
              <a:ext cx="197280" cy="37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3"/>
            <p:cNvSpPr/>
            <p:nvPr/>
          </p:nvSpPr>
          <p:spPr>
            <a:xfrm flipV="1">
              <a:off x="1329840" y="3057120"/>
              <a:ext cx="136440" cy="3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4"/>
            <p:cNvSpPr/>
            <p:nvPr/>
          </p:nvSpPr>
          <p:spPr>
            <a:xfrm flipV="1">
              <a:off x="3274560" y="1968120"/>
              <a:ext cx="141264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5"/>
            <p:cNvSpPr/>
            <p:nvPr/>
          </p:nvSpPr>
          <p:spPr>
            <a:xfrm>
              <a:off x="2879640" y="2967840"/>
              <a:ext cx="15037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6"/>
            <p:cNvSpPr/>
            <p:nvPr/>
          </p:nvSpPr>
          <p:spPr>
            <a:xfrm>
              <a:off x="7133400" y="2181960"/>
              <a:ext cx="66816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7"/>
            <p:cNvSpPr/>
            <p:nvPr/>
          </p:nvSpPr>
          <p:spPr>
            <a:xfrm flipH="1">
              <a:off x="6479640" y="3372120"/>
              <a:ext cx="911160" cy="40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8"/>
            <p:cNvSpPr/>
            <p:nvPr/>
          </p:nvSpPr>
          <p:spPr>
            <a:xfrm>
              <a:off x="7801920" y="3405960"/>
              <a:ext cx="379440" cy="35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19"/>
            <p:cNvSpPr/>
            <p:nvPr/>
          </p:nvSpPr>
          <p:spPr>
            <a:xfrm>
              <a:off x="8455320" y="4169160"/>
              <a:ext cx="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>
              <a:off x="889560" y="4910400"/>
              <a:ext cx="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1"/>
            <p:cNvSpPr/>
            <p:nvPr/>
          </p:nvSpPr>
          <p:spPr>
            <a:xfrm flipH="1">
              <a:off x="5234400" y="2687400"/>
              <a:ext cx="3024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22"/>
            <p:cNvSpPr/>
            <p:nvPr/>
          </p:nvSpPr>
          <p:spPr>
            <a:xfrm>
              <a:off x="792720" y="4458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3"/>
            <p:cNvSpPr/>
            <p:nvPr/>
          </p:nvSpPr>
          <p:spPr>
            <a:xfrm>
              <a:off x="1187280" y="3537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4"/>
            <p:cNvSpPr/>
            <p:nvPr/>
          </p:nvSpPr>
          <p:spPr>
            <a:xfrm>
              <a:off x="1840680" y="2257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5"/>
            <p:cNvSpPr/>
            <p:nvPr/>
          </p:nvSpPr>
          <p:spPr>
            <a:xfrm>
              <a:off x="5699160" y="1829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6"/>
            <p:cNvSpPr/>
            <p:nvPr/>
          </p:nvSpPr>
          <p:spPr>
            <a:xfrm>
              <a:off x="7522200" y="2853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27"/>
            <p:cNvSpPr/>
            <p:nvPr/>
          </p:nvSpPr>
          <p:spPr>
            <a:xfrm>
              <a:off x="8266680" y="3738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28"/>
            <p:cNvSpPr/>
            <p:nvPr/>
          </p:nvSpPr>
          <p:spPr>
            <a:xfrm>
              <a:off x="5076360" y="375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29"/>
          <p:cNvSpPr/>
          <p:nvPr/>
        </p:nvSpPr>
        <p:spPr>
          <a:xfrm>
            <a:off x="7143840" y="448164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0"/>
          <p:cNvSpPr/>
          <p:nvPr/>
        </p:nvSpPr>
        <p:spPr>
          <a:xfrm>
            <a:off x="5459400" y="3892680"/>
            <a:ext cx="2813040" cy="116028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1"/>
          <p:cNvSpPr/>
          <p:nvPr/>
        </p:nvSpPr>
        <p:spPr>
          <a:xfrm>
            <a:off x="998280" y="479268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2.34.158.0/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2"/>
          <p:cNvSpPr/>
          <p:nvPr/>
        </p:nvSpPr>
        <p:spPr>
          <a:xfrm>
            <a:off x="-49320" y="922320"/>
            <a:ext cx="8875800" cy="3962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3"/>
          <p:cNvSpPr/>
          <p:nvPr/>
        </p:nvSpPr>
        <p:spPr>
          <a:xfrm>
            <a:off x="320760" y="903240"/>
            <a:ext cx="8632800" cy="3913200"/>
          </a:xfrm>
          <a:prstGeom prst="pie">
            <a:avLst/>
          </a:pr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4"/>
          <p:cNvSpPr/>
          <p:nvPr/>
        </p:nvSpPr>
        <p:spPr>
          <a:xfrm>
            <a:off x="1647720" y="3181320"/>
            <a:ext cx="2587680" cy="1558800"/>
          </a:xfrm>
          <a:prstGeom prst="pie">
            <a:avLst/>
          </a:pr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to Hijack a Prefix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hijacking AS h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 with BGP session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gured to originate the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tting access to the rou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operator makes configuration mis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gruntled operator launches an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sider breaks in to the router and reconfig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tting other ASes to believe bogus rou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ghbor ASes do not discard the bogus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not doing protective fil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YouTube Outage on Feb 24, 2008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YouTube (AS 36561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ite www.youtube.com (208.65.152.0/2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kistan Telecom (AS 17557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order to block access to YouTu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s 208.65.153.0/24 to PCCW (AS 349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packets to YouTube get dropped on the flo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istakes were ma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17557: announce to everyone, not just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3491: not filtering routes announced by AS 175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sted 100 minutes for some, 2 hours for oth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imeline (UTC Time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8:47:45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evidence of hijacked /24 route in 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8:48:00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big trans-Pacific providers carrying the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8:49:30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gus route fully propag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07:25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Tube starts advertising /24 to attract traffic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08:30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(but not all) providers are using valid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imeline (UTC Time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18:43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Tube announces two more-specific /25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19:37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more providers start using the /25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50:59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17557 starts prepending (“3491 17557 17557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59:39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3491 disconnects AS 175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1:00:00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eos of cats flushing toilets are available agai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other Example: Spamm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ammers sending sp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 a (bidrectional) TCP connection to mail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a bunch of spam e-mail, then disconn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best not to use your real IP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ly easy to trace back to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uld hijack someone’s address sp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you might not receive all the (TCP) return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evade det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jack unused (i.e., unallocated) address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rily use the IP addresses to send your sp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AS Pa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gus AS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move ASes from the AS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urn “701 3715 88” into “701 88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tiv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act sources that normally try to avoid AS 37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AS 88 look like it is closer to the Internet’s 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o can tell that this AS path is a li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AS 88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 to AS 701 dire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22360" y="5118120"/>
          <a:ext cx="19051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5118120"/>
                    <a:ext cx="1905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"/>
          <p:cNvGraphicFramePr/>
          <p:nvPr/>
        </p:nvGraphicFramePr>
        <p:xfrm>
          <a:off x="6184800" y="5495760"/>
          <a:ext cx="111456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84800" y="5495760"/>
                    <a:ext cx="11145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Line 6"/>
          <p:cNvSpPr/>
          <p:nvPr/>
        </p:nvSpPr>
        <p:spPr>
          <a:xfrm>
            <a:off x="5302080" y="5886360"/>
            <a:ext cx="998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2059920" y="5580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6554880" y="5688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4033800" y="5311800"/>
          <a:ext cx="1420920" cy="103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3800" y="5311800"/>
                    <a:ext cx="14209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Text Box 10"/>
          <p:cNvSpPr/>
          <p:nvPr/>
        </p:nvSpPr>
        <p:spPr>
          <a:xfrm>
            <a:off x="4397760" y="5613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1"/>
          <p:cNvSpPr/>
          <p:nvPr/>
        </p:nvSpPr>
        <p:spPr>
          <a:xfrm>
            <a:off x="3189240" y="5848200"/>
            <a:ext cx="998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2"/>
          <p:cNvSpPr/>
          <p:nvPr/>
        </p:nvSpPr>
        <p:spPr>
          <a:xfrm>
            <a:off x="2882880" y="6194520"/>
            <a:ext cx="3686040" cy="352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5381640" y="6040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domain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-level topolog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s are Autonomous Systems (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ges are links and business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4259160" y="2971800"/>
          <a:ext cx="2465640" cy="13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9160" y="2971800"/>
                    <a:ext cx="246564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939960" y="3355920"/>
          <a:ext cx="246060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3355920"/>
                    <a:ext cx="24606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3736800" y="4510080"/>
          <a:ext cx="2465640" cy="13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6800" y="4510080"/>
                    <a:ext cx="24656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Text Box 7"/>
          <p:cNvSpPr/>
          <p:nvPr/>
        </p:nvSpPr>
        <p:spPr>
          <a:xfrm>
            <a:off x="4168800" y="50292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001880" y="4637160"/>
          <a:ext cx="119988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1880" y="4637160"/>
                    <a:ext cx="119988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731880" y="5472000"/>
          <a:ext cx="77472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880" y="5472000"/>
                    <a:ext cx="774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6467400" y="4087800"/>
          <a:ext cx="1200240" cy="6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67400" y="4087800"/>
                    <a:ext cx="120024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7338960" y="4905360"/>
          <a:ext cx="774720" cy="43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38960" y="4905360"/>
                    <a:ext cx="774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Line 12"/>
          <p:cNvSpPr/>
          <p:nvPr/>
        </p:nvSpPr>
        <p:spPr>
          <a:xfrm flipV="1">
            <a:off x="1206360" y="5216040"/>
            <a:ext cx="171720" cy="29052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3"/>
          <p:cNvSpPr/>
          <p:nvPr/>
        </p:nvSpPr>
        <p:spPr>
          <a:xfrm flipV="1">
            <a:off x="1498680" y="4432320"/>
            <a:ext cx="119160" cy="27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4"/>
          <p:cNvSpPr/>
          <p:nvPr/>
        </p:nvSpPr>
        <p:spPr>
          <a:xfrm flipV="1">
            <a:off x="2041560" y="4503600"/>
            <a:ext cx="252360" cy="2462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5"/>
          <p:cNvSpPr/>
          <p:nvPr/>
        </p:nvSpPr>
        <p:spPr>
          <a:xfrm flipV="1">
            <a:off x="2865600" y="3296880"/>
            <a:ext cx="1792080" cy="1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6"/>
          <p:cNvSpPr/>
          <p:nvPr/>
        </p:nvSpPr>
        <p:spPr>
          <a:xfrm flipV="1">
            <a:off x="3197160" y="3579840"/>
            <a:ext cx="1235160" cy="13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7"/>
          <p:cNvSpPr/>
          <p:nvPr/>
        </p:nvSpPr>
        <p:spPr>
          <a:xfrm flipV="1">
            <a:off x="3263760" y="3904920"/>
            <a:ext cx="1047960" cy="11412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8"/>
          <p:cNvSpPr/>
          <p:nvPr/>
        </p:nvSpPr>
        <p:spPr>
          <a:xfrm>
            <a:off x="3157560" y="4133880"/>
            <a:ext cx="1592280" cy="51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9"/>
          <p:cNvSpPr/>
          <p:nvPr/>
        </p:nvSpPr>
        <p:spPr>
          <a:xfrm>
            <a:off x="2852640" y="4362480"/>
            <a:ext cx="1312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2479680" y="4432320"/>
            <a:ext cx="14479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1"/>
          <p:cNvSpPr/>
          <p:nvPr/>
        </p:nvSpPr>
        <p:spPr>
          <a:xfrm>
            <a:off x="6568920" y="3746520"/>
            <a:ext cx="58428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2"/>
          <p:cNvSpPr/>
          <p:nvPr/>
        </p:nvSpPr>
        <p:spPr>
          <a:xfrm>
            <a:off x="6105600" y="4071960"/>
            <a:ext cx="503280" cy="28260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3"/>
          <p:cNvSpPr/>
          <p:nvPr/>
        </p:nvSpPr>
        <p:spPr>
          <a:xfrm flipH="1">
            <a:off x="5812920" y="4548240"/>
            <a:ext cx="67644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4"/>
          <p:cNvSpPr/>
          <p:nvPr/>
        </p:nvSpPr>
        <p:spPr>
          <a:xfrm flipH="1">
            <a:off x="5999040" y="4680000"/>
            <a:ext cx="795600" cy="31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5"/>
          <p:cNvSpPr/>
          <p:nvPr/>
        </p:nvSpPr>
        <p:spPr>
          <a:xfrm>
            <a:off x="7539120" y="4511520"/>
            <a:ext cx="304560" cy="4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6"/>
          <p:cNvSpPr/>
          <p:nvPr/>
        </p:nvSpPr>
        <p:spPr>
          <a:xfrm>
            <a:off x="7153200" y="4705200"/>
            <a:ext cx="331920" cy="28260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7"/>
          <p:cNvSpPr/>
          <p:nvPr/>
        </p:nvSpPr>
        <p:spPr>
          <a:xfrm>
            <a:off x="7724880" y="5303880"/>
            <a:ext cx="0" cy="44136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8"/>
          <p:cNvSpPr/>
          <p:nvPr/>
        </p:nvSpPr>
        <p:spPr>
          <a:xfrm>
            <a:off x="1112760" y="5884920"/>
            <a:ext cx="173160" cy="3016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9"/>
          <p:cNvSpPr/>
          <p:nvPr/>
        </p:nvSpPr>
        <p:spPr>
          <a:xfrm flipH="1">
            <a:off x="4909680" y="4141800"/>
            <a:ext cx="27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0"/>
          <p:cNvSpPr/>
          <p:nvPr/>
        </p:nvSpPr>
        <p:spPr>
          <a:xfrm>
            <a:off x="5586480" y="4230720"/>
            <a:ext cx="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1028160" y="5527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1374120" y="4807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3"/>
          <p:cNvSpPr/>
          <p:nvPr/>
        </p:nvSpPr>
        <p:spPr>
          <a:xfrm>
            <a:off x="194580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4"/>
          <p:cNvSpPr/>
          <p:nvPr/>
        </p:nvSpPr>
        <p:spPr>
          <a:xfrm>
            <a:off x="5316120" y="347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5"/>
          <p:cNvSpPr/>
          <p:nvPr/>
        </p:nvSpPr>
        <p:spPr>
          <a:xfrm>
            <a:off x="6909840" y="4272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6"/>
          <p:cNvSpPr/>
          <p:nvPr/>
        </p:nvSpPr>
        <p:spPr>
          <a:xfrm>
            <a:off x="7560720" y="49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7"/>
          <p:cNvSpPr/>
          <p:nvPr/>
        </p:nvSpPr>
        <p:spPr>
          <a:xfrm>
            <a:off x="477144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8"/>
          <p:cNvSpPr/>
          <p:nvPr/>
        </p:nvSpPr>
        <p:spPr>
          <a:xfrm>
            <a:off x="1231200" y="59562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9"/>
          <p:cNvSpPr/>
          <p:nvPr/>
        </p:nvSpPr>
        <p:spPr>
          <a:xfrm>
            <a:off x="6802200" y="566748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gus AS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 ASes to th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urn “701 88” into “701 3715 88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tiv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gger loop detection in AS 37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nial-of-service attack on AS 37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, blocking unwanted traffic coming from AS 3715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your AS look like is has richer conne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o can tell the AS path is a li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3715 could, if it could see the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88 could, but would it really ca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7238880" y="1239840"/>
          <a:ext cx="19051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239840"/>
                    <a:ext cx="1905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8029440" y="3083040"/>
          <a:ext cx="111456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29440" y="3083040"/>
                    <a:ext cx="1114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Line 8"/>
          <p:cNvSpPr/>
          <p:nvPr/>
        </p:nvSpPr>
        <p:spPr>
          <a:xfrm>
            <a:off x="8305920" y="2514600"/>
            <a:ext cx="22860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7911720" y="1676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0"/>
          <p:cNvSpPr/>
          <p:nvPr/>
        </p:nvSpPr>
        <p:spPr>
          <a:xfrm>
            <a:off x="8372520" y="3276720"/>
            <a:ext cx="46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gus AS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s AS hop(s) at the end of th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urns “701 88” into “701 88 3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tiv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de detection for a bogus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by adding the legitimate AS to the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to tell that the AS path is bogus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f other ASes filter based on prefix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2935440" y="4735440"/>
          <a:ext cx="19047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473544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1690560" y="5810400"/>
          <a:ext cx="111456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0560" y="5810400"/>
                    <a:ext cx="1114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Text Box 9"/>
          <p:cNvSpPr/>
          <p:nvPr/>
        </p:nvSpPr>
        <p:spPr>
          <a:xfrm>
            <a:off x="3573000" y="5197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0"/>
          <p:cNvSpPr/>
          <p:nvPr/>
        </p:nvSpPr>
        <p:spPr>
          <a:xfrm>
            <a:off x="2060640" y="600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3"/>
          <p:cNvSpPr/>
          <p:nvPr/>
        </p:nvSpPr>
        <p:spPr>
          <a:xfrm flipV="1">
            <a:off x="2689200" y="5771880"/>
            <a:ext cx="652320" cy="23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6799320" y="5541840"/>
          <a:ext cx="111420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99320" y="5541840"/>
                    <a:ext cx="11142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Text Box 17"/>
          <p:cNvSpPr/>
          <p:nvPr/>
        </p:nvSpPr>
        <p:spPr>
          <a:xfrm>
            <a:off x="7249680" y="5734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8"/>
          <p:cNvSpPr/>
          <p:nvPr/>
        </p:nvSpPr>
        <p:spPr>
          <a:xfrm>
            <a:off x="6526440" y="6270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.0.0.0/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9"/>
          <p:cNvSpPr/>
          <p:nvPr/>
        </p:nvSpPr>
        <p:spPr>
          <a:xfrm>
            <a:off x="227160" y="5964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.0.0.0/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valid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 exports a route it shouldn’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path is a valid sequence, but violated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customer misconfigur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rts routes from one provider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acts with provider poli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prefers customer rou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ng all traffic through cust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in defe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ing routes based on prefixes and AS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7331040" y="4272120"/>
          <a:ext cx="8413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1040" y="4272120"/>
                    <a:ext cx="8413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7969320" y="3359160"/>
          <a:ext cx="129060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69320" y="3359160"/>
                    <a:ext cx="12906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6248520" y="3352680"/>
          <a:ext cx="115092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3352680"/>
                    <a:ext cx="11509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2" name="Line 7"/>
          <p:cNvSpPr/>
          <p:nvPr/>
        </p:nvSpPr>
        <p:spPr>
          <a:xfrm>
            <a:off x="6994440" y="4021200"/>
            <a:ext cx="46692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8"/>
          <p:cNvSpPr/>
          <p:nvPr/>
        </p:nvSpPr>
        <p:spPr>
          <a:xfrm flipH="1">
            <a:off x="8046720" y="4021200"/>
            <a:ext cx="298440" cy="37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"/>
          <p:cNvSpPr/>
          <p:nvPr/>
        </p:nvSpPr>
        <p:spPr>
          <a:xfrm>
            <a:off x="7272360" y="3971880"/>
            <a:ext cx="834840" cy="312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"/>
          <p:cNvSpPr/>
          <p:nvPr/>
        </p:nvSpPr>
        <p:spPr>
          <a:xfrm>
            <a:off x="7383600" y="3741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1"/>
          <p:cNvSpPr/>
          <p:nvPr/>
        </p:nvSpPr>
        <p:spPr>
          <a:xfrm>
            <a:off x="6721560" y="4130640"/>
            <a:ext cx="1917720" cy="506520"/>
          </a:xfrm>
          <a:prstGeom prst="pie">
            <a:avLst/>
          </a:prstGeom>
          <a:noFill/>
          <a:ln w="2556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6520680" y="43783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issing/Inconsistent Rout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ers require consistent expo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 advertised at all peering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 advertised with same AS path 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asons for violating the poli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ck neighbor into “cold potat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guration mis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in defe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zing BGP updates, or traffic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igns of inconsis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7047000" y="5127480"/>
          <a:ext cx="19047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512748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7047000" y="3139920"/>
          <a:ext cx="190476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47000" y="313992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Line 6"/>
          <p:cNvSpPr/>
          <p:nvPr/>
        </p:nvSpPr>
        <p:spPr>
          <a:xfrm>
            <a:off x="7385040" y="4213080"/>
            <a:ext cx="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7"/>
          <p:cNvSpPr/>
          <p:nvPr/>
        </p:nvSpPr>
        <p:spPr>
          <a:xfrm>
            <a:off x="8034480" y="4444920"/>
            <a:ext cx="0" cy="83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8"/>
          <p:cNvSpPr/>
          <p:nvPr/>
        </p:nvSpPr>
        <p:spPr>
          <a:xfrm>
            <a:off x="8634240" y="4060800"/>
            <a:ext cx="0" cy="12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9"/>
          <p:cNvSpPr/>
          <p:nvPr/>
        </p:nvSpPr>
        <p:spPr>
          <a:xfrm flipH="1" flipV="1">
            <a:off x="7176960" y="3179520"/>
            <a:ext cx="17784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0"/>
          <p:cNvSpPr/>
          <p:nvPr/>
        </p:nvSpPr>
        <p:spPr>
          <a:xfrm flipH="1" flipV="1">
            <a:off x="8642160" y="6044760"/>
            <a:ext cx="17748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8421840" y="62276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2"/>
          <p:cNvSpPr/>
          <p:nvPr/>
        </p:nvSpPr>
        <p:spPr>
          <a:xfrm>
            <a:off x="6468120" y="278280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3"/>
          <p:cNvSpPr/>
          <p:nvPr/>
        </p:nvSpPr>
        <p:spPr>
          <a:xfrm>
            <a:off x="7056360" y="4205160"/>
            <a:ext cx="0" cy="1133640"/>
          </a:xfrm>
          <a:prstGeom prst="line">
            <a:avLst/>
          </a:prstGeom>
          <a:ln w="316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4"/>
          <p:cNvSpPr/>
          <p:nvPr/>
        </p:nvSpPr>
        <p:spPr>
          <a:xfrm>
            <a:off x="7834320" y="4427640"/>
            <a:ext cx="0" cy="785880"/>
          </a:xfrm>
          <a:prstGeom prst="line">
            <a:avLst/>
          </a:prstGeom>
          <a:ln w="31680">
            <a:solidFill>
              <a:srgbClr val="c050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5"/>
          <p:cNvSpPr/>
          <p:nvPr/>
        </p:nvSpPr>
        <p:spPr>
          <a:xfrm>
            <a:off x="8523360" y="4370400"/>
            <a:ext cx="0" cy="785880"/>
          </a:xfrm>
          <a:prstGeom prst="line">
            <a:avLst/>
          </a:prstGeom>
          <a:ln w="31680">
            <a:solidFill>
              <a:srgbClr val="c050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7355880" y="351792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7238880" y="3557520"/>
            <a:ext cx="1420920" cy="280368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7440120" y="5546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9"/>
          <p:cNvSpPr/>
          <p:nvPr/>
        </p:nvSpPr>
        <p:spPr>
          <a:xfrm>
            <a:off x="6256080" y="44816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B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Security Toda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ying best common practices (BCP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ing the session (authentication, encryp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ing routes by prefix and AS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filters to block unexpected control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s is not good enoug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s on vigilant application of BC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address fundamental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tell who owns the IP address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tell if the AS path is bogus or inval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be sure the data packets follow the chosen r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posed Enhancements to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122"/>
          <p:cNvGrpSpPr/>
          <p:nvPr/>
        </p:nvGrpSpPr>
        <p:grpSpPr>
          <a:xfrm>
            <a:off x="228600" y="6027840"/>
            <a:ext cx="8686800" cy="1191240"/>
            <a:chOff x="228600" y="6027840"/>
            <a:chExt cx="8686800" cy="1191240"/>
          </a:xfrm>
        </p:grpSpPr>
        <p:pic>
          <p:nvPicPr>
            <p:cNvPr id="763" name="Group 54" descr=""/>
            <p:cNvPicPr/>
            <p:nvPr/>
          </p:nvPicPr>
          <p:blipFill>
            <a:blip r:embed="rId1"/>
            <a:stretch/>
          </p:blipFill>
          <p:spPr>
            <a:xfrm>
              <a:off x="8491680" y="6070680"/>
              <a:ext cx="4237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Rectangle 133"/>
            <p:cNvSpPr/>
            <p:nvPr/>
          </p:nvSpPr>
          <p:spPr>
            <a:xfrm>
              <a:off x="228600" y="6027840"/>
              <a:ext cx="832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Comic Sans MS"/>
                </a:rPr>
                <a:t>Public Key Signature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Anyone who knows v’s public key can verify that the message was sent by v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209"/>
          <p:cNvGrpSpPr/>
          <p:nvPr/>
        </p:nvGrpSpPr>
        <p:grpSpPr>
          <a:xfrm>
            <a:off x="914400" y="2133720"/>
            <a:ext cx="7162920" cy="3276360"/>
            <a:chOff x="914400" y="2133720"/>
            <a:chExt cx="7162920" cy="3276360"/>
          </a:xfrm>
        </p:grpSpPr>
        <p:grpSp>
          <p:nvGrpSpPr>
            <p:cNvPr id="766" name="Cloud 215"/>
            <p:cNvGrpSpPr/>
            <p:nvPr/>
          </p:nvGrpSpPr>
          <p:grpSpPr>
            <a:xfrm>
              <a:off x="914400" y="2133720"/>
              <a:ext cx="1918080" cy="1146960"/>
              <a:chOff x="914400" y="2133720"/>
              <a:chExt cx="1918080" cy="1146960"/>
            </a:xfrm>
          </p:grpSpPr>
          <p:pic>
            <p:nvPicPr>
              <p:cNvPr id="767" name="Cloud 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400" y="2133720"/>
                <a:ext cx="1918080" cy="114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8" name=""/>
              <p:cNvSpPr/>
              <p:nvPr/>
            </p:nvSpPr>
            <p:spPr>
              <a:xfrm>
                <a:off x="1227960" y="2318400"/>
                <a:ext cx="11746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a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Comic Sans MS"/>
                    <a:ea typeface="Arial"/>
                  </a:rPr>
                  <a:t>1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Cloud 216"/>
            <p:cNvGrpSpPr/>
            <p:nvPr/>
          </p:nvGrpSpPr>
          <p:grpSpPr>
            <a:xfrm>
              <a:off x="5715720" y="3898440"/>
              <a:ext cx="1390680" cy="776520"/>
              <a:chOff x="5715720" y="3898440"/>
              <a:chExt cx="1390680" cy="776520"/>
            </a:xfrm>
          </p:grpSpPr>
          <p:pic>
            <p:nvPicPr>
              <p:cNvPr id="770" name="Cloud 216" descr=""/>
              <p:cNvPicPr/>
              <p:nvPr/>
            </p:nvPicPr>
            <p:blipFill>
              <a:blip r:embed="rId3"/>
              <a:stretch/>
            </p:blipFill>
            <p:spPr>
              <a:xfrm>
                <a:off x="5715720" y="3898440"/>
                <a:ext cx="1390680" cy="7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"/>
              <p:cNvSpPr/>
              <p:nvPr/>
            </p:nvSpPr>
            <p:spPr>
              <a:xfrm>
                <a:off x="5951160" y="4027680"/>
                <a:ext cx="8319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a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Comic Sans MS"/>
                    <a:ea typeface="Arial"/>
                  </a:rPr>
                  <a:t>2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Cloud 217"/>
            <p:cNvGrpSpPr/>
            <p:nvPr/>
          </p:nvGrpSpPr>
          <p:grpSpPr>
            <a:xfrm>
              <a:off x="3689640" y="2280600"/>
              <a:ext cx="1618200" cy="847080"/>
              <a:chOff x="3689640" y="2280600"/>
              <a:chExt cx="1618200" cy="847080"/>
            </a:xfrm>
          </p:grpSpPr>
          <p:pic>
            <p:nvPicPr>
              <p:cNvPr id="773" name="Cloud 2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89640" y="2280600"/>
                <a:ext cx="1618200" cy="84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"/>
              <p:cNvSpPr/>
              <p:nvPr/>
            </p:nvSpPr>
            <p:spPr>
              <a:xfrm>
                <a:off x="3958920" y="2421000"/>
                <a:ext cx="978840" cy="4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v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Cloud 218"/>
            <p:cNvGrpSpPr/>
            <p:nvPr/>
          </p:nvGrpSpPr>
          <p:grpSpPr>
            <a:xfrm>
              <a:off x="6159240" y="2133720"/>
              <a:ext cx="1918080" cy="1146960"/>
              <a:chOff x="6159240" y="2133720"/>
              <a:chExt cx="1918080" cy="1146960"/>
            </a:xfrm>
          </p:grpSpPr>
          <p:pic>
            <p:nvPicPr>
              <p:cNvPr id="776" name="Cloud 2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9240" y="2133720"/>
                <a:ext cx="1918080" cy="114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"/>
              <p:cNvSpPr/>
              <p:nvPr/>
            </p:nvSpPr>
            <p:spPr>
              <a:xfrm>
                <a:off x="6472800" y="2318400"/>
                <a:ext cx="11746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a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Comic Sans MS"/>
                    <a:ea typeface="Arial"/>
                  </a:rPr>
                  <a:t>3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Cloud 219"/>
            <p:cNvGrpSpPr/>
            <p:nvPr/>
          </p:nvGrpSpPr>
          <p:grpSpPr>
            <a:xfrm>
              <a:off x="3617640" y="4633560"/>
              <a:ext cx="1390680" cy="776520"/>
              <a:chOff x="3617640" y="4633560"/>
              <a:chExt cx="1390680" cy="776520"/>
            </a:xfrm>
          </p:grpSpPr>
          <p:pic>
            <p:nvPicPr>
              <p:cNvPr id="779" name="Cloud 2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617640" y="4633560"/>
                <a:ext cx="1390680" cy="7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"/>
              <p:cNvSpPr/>
              <p:nvPr/>
            </p:nvSpPr>
            <p:spPr>
              <a:xfrm>
                <a:off x="3853080" y="4762800"/>
                <a:ext cx="8319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m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Straight Connector 160"/>
            <p:cNvSpPr/>
            <p:nvPr/>
          </p:nvSpPr>
          <p:spPr>
            <a:xfrm flipV="1">
              <a:off x="4950360" y="4258800"/>
              <a:ext cx="829080" cy="7351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Straight Connector 160"/>
            <p:cNvSpPr/>
            <p:nvPr/>
          </p:nvSpPr>
          <p:spPr>
            <a:xfrm flipV="1">
              <a:off x="6411960" y="3191400"/>
              <a:ext cx="711720" cy="774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Straight Connector 160"/>
            <p:cNvSpPr/>
            <p:nvPr/>
          </p:nvSpPr>
          <p:spPr>
            <a:xfrm flipH="1" flipV="1">
              <a:off x="1879200" y="3191040"/>
              <a:ext cx="1802160" cy="18025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Straight Connector 160"/>
            <p:cNvSpPr/>
            <p:nvPr/>
          </p:nvSpPr>
          <p:spPr>
            <a:xfrm>
              <a:off x="2777040" y="2677680"/>
              <a:ext cx="9799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60"/>
            <p:cNvSpPr/>
            <p:nvPr/>
          </p:nvSpPr>
          <p:spPr>
            <a:xfrm>
              <a:off x="5251320" y="2677680"/>
              <a:ext cx="97956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160"/>
            <p:cNvSpPr/>
            <p:nvPr/>
          </p:nvSpPr>
          <p:spPr>
            <a:xfrm flipH="1">
              <a:off x="4080240" y="3044520"/>
              <a:ext cx="421200" cy="14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7" name="Group 65" descr=""/>
            <p:cNvPicPr/>
            <p:nvPr/>
          </p:nvPicPr>
          <p:blipFill>
            <a:blip r:embed="rId7"/>
            <a:stretch/>
          </p:blipFill>
          <p:spPr>
            <a:xfrm>
              <a:off x="3162240" y="3180600"/>
              <a:ext cx="18759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8" name="Rectangle 2"/>
          <p:cNvSpPr/>
          <p:nvPr/>
        </p:nvSpPr>
        <p:spPr>
          <a:xfrm>
            <a:off x="0" y="7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160"/>
          <p:cNvSpPr/>
          <p:nvPr/>
        </p:nvSpPr>
        <p:spPr>
          <a:xfrm flipV="1">
            <a:off x="6438240" y="3198600"/>
            <a:ext cx="723960" cy="80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160"/>
          <p:cNvSpPr/>
          <p:nvPr/>
        </p:nvSpPr>
        <p:spPr>
          <a:xfrm flipH="1" flipV="1">
            <a:off x="1828440" y="3198960"/>
            <a:ext cx="1833480" cy="1868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traight Connector 160"/>
          <p:cNvSpPr/>
          <p:nvPr/>
        </p:nvSpPr>
        <p:spPr>
          <a:xfrm>
            <a:off x="2741760" y="2666880"/>
            <a:ext cx="9968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traight Connector 160"/>
          <p:cNvSpPr/>
          <p:nvPr/>
        </p:nvSpPr>
        <p:spPr>
          <a:xfrm>
            <a:off x="5257800" y="2666880"/>
            <a:ext cx="9968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147"/>
          <p:cNvGrpSpPr/>
          <p:nvPr/>
        </p:nvGrpSpPr>
        <p:grpSpPr>
          <a:xfrm>
            <a:off x="914400" y="1600200"/>
            <a:ext cx="3276720" cy="533520"/>
            <a:chOff x="914400" y="1600200"/>
            <a:chExt cx="3276720" cy="533520"/>
          </a:xfrm>
        </p:grpSpPr>
        <p:pic>
          <p:nvPicPr>
            <p:cNvPr id="794" name="AutoShape 148" descr=""/>
            <p:cNvPicPr/>
            <p:nvPr/>
          </p:nvPicPr>
          <p:blipFill>
            <a:blip r:embed="rId8"/>
            <a:stretch/>
          </p:blipFill>
          <p:spPr>
            <a:xfrm>
              <a:off x="914400" y="1600200"/>
              <a:ext cx="327672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5" name="Group 121"/>
            <p:cNvGrpSpPr/>
            <p:nvPr/>
          </p:nvGrpSpPr>
          <p:grpSpPr>
            <a:xfrm>
              <a:off x="1093680" y="1662840"/>
              <a:ext cx="2910240" cy="213480"/>
              <a:chOff x="1093680" y="1662840"/>
              <a:chExt cx="2910240" cy="213480"/>
            </a:xfrm>
          </p:grpSpPr>
          <p:sp>
            <p:nvSpPr>
              <p:cNvPr id="796" name="Rectangle 56"/>
              <p:cNvSpPr/>
              <p:nvPr/>
            </p:nvSpPr>
            <p:spPr>
              <a:xfrm>
                <a:off x="1093680" y="1662840"/>
                <a:ext cx="2587320" cy="125640"/>
              </a:xfrm>
              <a:prstGeom prst="rect">
                <a:avLst/>
              </a:prstGeom>
              <a:solidFill>
                <a:srgbClr val="ffc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:  (v, Prefix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7" name="Group 106" descr=""/>
              <p:cNvPicPr/>
              <p:nvPr/>
            </p:nvPicPr>
            <p:blipFill>
              <a:blip r:embed="rId9"/>
              <a:stretch/>
            </p:blipFill>
            <p:spPr>
              <a:xfrm>
                <a:off x="3302640" y="1728000"/>
                <a:ext cx="701280" cy="14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98" name="Group 189"/>
          <p:cNvGrpSpPr/>
          <p:nvPr/>
        </p:nvGrpSpPr>
        <p:grpSpPr>
          <a:xfrm>
            <a:off x="152280" y="5638680"/>
            <a:ext cx="4114800" cy="990720"/>
            <a:chOff x="152280" y="5638680"/>
            <a:chExt cx="4114800" cy="990720"/>
          </a:xfrm>
        </p:grpSpPr>
        <p:pic>
          <p:nvPicPr>
            <p:cNvPr id="799" name="AutoShape 149" descr=""/>
            <p:cNvPicPr/>
            <p:nvPr/>
          </p:nvPicPr>
          <p:blipFill>
            <a:blip r:embed="rId10"/>
            <a:stretch/>
          </p:blipFill>
          <p:spPr>
            <a:xfrm>
              <a:off x="152280" y="5638680"/>
              <a:ext cx="41148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Rectangle 77"/>
            <p:cNvSpPr/>
            <p:nvPr/>
          </p:nvSpPr>
          <p:spPr>
            <a:xfrm>
              <a:off x="263520" y="6347160"/>
              <a:ext cx="2545920" cy="84600"/>
            </a:xfrm>
            <a:prstGeom prst="rect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:   (v, Prefix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1" name="Group 106" descr=""/>
            <p:cNvPicPr/>
            <p:nvPr/>
          </p:nvPicPr>
          <p:blipFill>
            <a:blip r:embed="rId11"/>
            <a:stretch/>
          </p:blipFill>
          <p:spPr>
            <a:xfrm>
              <a:off x="2535480" y="6392160"/>
              <a:ext cx="668880" cy="1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Rectangle 79"/>
            <p:cNvSpPr/>
            <p:nvPr/>
          </p:nvSpPr>
          <p:spPr>
            <a:xfrm>
              <a:off x="263520" y="6474240"/>
              <a:ext cx="3273120" cy="84600"/>
            </a:xfrm>
            <a:prstGeom prst="rect">
              <a:avLst/>
            </a:prstGeom>
            <a:solidFill>
              <a:srgbClr val="9ae6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:    (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v, Prefix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3" name="Group 106" descr=""/>
            <p:cNvPicPr/>
            <p:nvPr/>
          </p:nvPicPr>
          <p:blipFill>
            <a:blip r:embed="rId12"/>
            <a:stretch/>
          </p:blipFill>
          <p:spPr>
            <a:xfrm>
              <a:off x="3263400" y="6519240"/>
              <a:ext cx="668880" cy="1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4" name="Line 151"/>
          <p:cNvSpPr/>
          <p:nvPr/>
        </p:nvSpPr>
        <p:spPr>
          <a:xfrm flipH="1">
            <a:off x="2666520" y="2666880"/>
            <a:ext cx="1143000" cy="0"/>
          </a:xfrm>
          <a:prstGeom prst="line">
            <a:avLst/>
          </a:prstGeom>
          <a:ln w="12708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Group 79" descr=""/>
          <p:cNvPicPr/>
          <p:nvPr/>
        </p:nvPicPr>
        <p:blipFill>
          <a:blip r:embed="rId13"/>
          <a:stretch/>
        </p:blipFill>
        <p:spPr>
          <a:xfrm>
            <a:off x="5999040" y="2773440"/>
            <a:ext cx="914400" cy="542880"/>
          </a:xfrm>
          <a:prstGeom prst="rect">
            <a:avLst/>
          </a:prstGeom>
          <a:ln w="0">
            <a:noFill/>
          </a:ln>
        </p:spPr>
      </p:pic>
      <p:pic>
        <p:nvPicPr>
          <p:cNvPr id="806" name="Group 85" descr=""/>
          <p:cNvPicPr/>
          <p:nvPr/>
        </p:nvPicPr>
        <p:blipFill>
          <a:blip r:embed="rId14"/>
          <a:stretch/>
        </p:blipFill>
        <p:spPr>
          <a:xfrm>
            <a:off x="3486240" y="2700360"/>
            <a:ext cx="909720" cy="542880"/>
          </a:xfrm>
          <a:prstGeom prst="rect">
            <a:avLst/>
          </a:prstGeom>
          <a:ln w="0">
            <a:noFill/>
          </a:ln>
        </p:spPr>
      </p:pic>
      <p:pic>
        <p:nvPicPr>
          <p:cNvPr id="807" name="Group 79" descr=""/>
          <p:cNvPicPr/>
          <p:nvPr/>
        </p:nvPicPr>
        <p:blipFill>
          <a:blip r:embed="rId15"/>
          <a:stretch/>
        </p:blipFill>
        <p:spPr>
          <a:xfrm>
            <a:off x="817560" y="2852640"/>
            <a:ext cx="914400" cy="542880"/>
          </a:xfrm>
          <a:prstGeom prst="rect">
            <a:avLst/>
          </a:prstGeom>
          <a:ln w="0">
            <a:noFill/>
          </a:ln>
        </p:spPr>
      </p:pic>
      <p:pic>
        <p:nvPicPr>
          <p:cNvPr id="808" name="Group 79" descr=""/>
          <p:cNvPicPr/>
          <p:nvPr/>
        </p:nvPicPr>
        <p:blipFill>
          <a:blip r:embed="rId16"/>
          <a:stretch/>
        </p:blipFill>
        <p:spPr>
          <a:xfrm>
            <a:off x="3333600" y="5059440"/>
            <a:ext cx="909720" cy="542880"/>
          </a:xfrm>
          <a:prstGeom prst="rect">
            <a:avLst/>
          </a:prstGeom>
          <a:ln w="0">
            <a:noFill/>
          </a:ln>
        </p:spPr>
      </p:pic>
      <p:sp>
        <p:nvSpPr>
          <p:cNvPr id="809" name="Can 121"/>
          <p:cNvSpPr/>
          <p:nvPr/>
        </p:nvSpPr>
        <p:spPr>
          <a:xfrm>
            <a:off x="8305920" y="76320"/>
            <a:ext cx="761760" cy="685800"/>
          </a:xfrm>
          <a:prstGeom prst="can">
            <a:avLst>
              <a:gd name="adj" fmla="val 25000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199"/>
          <p:cNvGrpSpPr/>
          <p:nvPr/>
        </p:nvGrpSpPr>
        <p:grpSpPr>
          <a:xfrm>
            <a:off x="8381880" y="152280"/>
            <a:ext cx="381240" cy="990720"/>
            <a:chOff x="8381880" y="152280"/>
            <a:chExt cx="381240" cy="990720"/>
          </a:xfrm>
        </p:grpSpPr>
        <p:pic>
          <p:nvPicPr>
            <p:cNvPr id="811" name="Group 79" descr=""/>
            <p:cNvPicPr/>
            <p:nvPr/>
          </p:nvPicPr>
          <p:blipFill>
            <a:blip r:embed="rId17"/>
            <a:stretch/>
          </p:blipFill>
          <p:spPr>
            <a:xfrm>
              <a:off x="8381880" y="508680"/>
              <a:ext cx="3812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Group 85" descr=""/>
            <p:cNvPicPr/>
            <p:nvPr/>
          </p:nvPicPr>
          <p:blipFill>
            <a:blip r:embed="rId18"/>
            <a:stretch/>
          </p:blipFill>
          <p:spPr>
            <a:xfrm>
              <a:off x="8381880" y="415800"/>
              <a:ext cx="3812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Group 79" descr=""/>
            <p:cNvPicPr/>
            <p:nvPr/>
          </p:nvPicPr>
          <p:blipFill>
            <a:blip r:embed="rId19"/>
            <a:stretch/>
          </p:blipFill>
          <p:spPr>
            <a:xfrm>
              <a:off x="8381880" y="330480"/>
              <a:ext cx="3812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Group 79" descr=""/>
            <p:cNvPicPr/>
            <p:nvPr/>
          </p:nvPicPr>
          <p:blipFill>
            <a:blip r:embed="rId20"/>
            <a:stretch/>
          </p:blipFill>
          <p:spPr>
            <a:xfrm>
              <a:off x="8381880" y="237600"/>
              <a:ext cx="3812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Group 79" descr=""/>
            <p:cNvPicPr/>
            <p:nvPr/>
          </p:nvPicPr>
          <p:blipFill>
            <a:blip r:embed="rId21"/>
            <a:stretch/>
          </p:blipFill>
          <p:spPr>
            <a:xfrm>
              <a:off x="8381880" y="152280"/>
              <a:ext cx="381240" cy="63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6" name="Group 79" descr=""/>
          <p:cNvPicPr/>
          <p:nvPr/>
        </p:nvPicPr>
        <p:blipFill>
          <a:blip r:embed="rId22"/>
          <a:stretch/>
        </p:blipFill>
        <p:spPr>
          <a:xfrm>
            <a:off x="5541840" y="4376880"/>
            <a:ext cx="914400" cy="54288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cure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8" name="Rounded Rectangle 198"/>
          <p:cNvSpPr/>
          <p:nvPr/>
        </p:nvSpPr>
        <p:spPr>
          <a:xfrm>
            <a:off x="0" y="685800"/>
            <a:ext cx="914400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rigin Authentication + cryptographic sign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-BGP Secure Version of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ress attest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im the right to originate a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ed and distributed out-of-b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ed through delegation chain from ICAN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 attest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as an attribute in BGP update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ed by each AS as route traverses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-BGP can valid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path indicates the order ASes were traver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intermediate ASes were added or remov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-BGP Deployment 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lete, accurate registries of prefix “owner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blic Key Infrastruct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know the public key for any given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ryptographic oper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digital signatures on BGP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ed to perform operations quickl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void delaying response to routing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fficulty of incremental deploy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to have a “flag day” to deploy S-BG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crementally Deployable Solutions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wards compati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s to router hardware or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ooperation from other 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entives for early adop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ity benefits for ASes that deploy the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further incentives for others to deplo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kind of solutions are possibl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suspicious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n filtering or depreferenc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rder Gateway Protocol (BG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684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es exchange reachability inform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: block of addresses (an “IP prefix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path: sequence of ASes along the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cies configured by network operat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selection: which of the paths to u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export: which neighbors to tel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6315120" y="4572000"/>
          <a:ext cx="26478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5120" y="4572000"/>
                    <a:ext cx="26478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3481560" y="5049720"/>
          <a:ext cx="129060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1560" y="5049720"/>
                    <a:ext cx="129060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690480" y="5205240"/>
          <a:ext cx="833400" cy="70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0480" y="5205240"/>
                    <a:ext cx="833400" cy="7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Line 7"/>
          <p:cNvSpPr/>
          <p:nvPr/>
        </p:nvSpPr>
        <p:spPr>
          <a:xfrm flipV="1">
            <a:off x="1085760" y="5814720"/>
            <a:ext cx="0" cy="39996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"/>
          <p:cNvSpPr/>
          <p:nvPr/>
        </p:nvSpPr>
        <p:spPr>
          <a:xfrm>
            <a:off x="4700520" y="5562720"/>
            <a:ext cx="181476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954360" y="5332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3969000" y="5329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7440840" y="5329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2"/>
          <p:cNvSpPr/>
          <p:nvPr/>
        </p:nvSpPr>
        <p:spPr>
          <a:xfrm>
            <a:off x="1452600" y="5572080"/>
            <a:ext cx="215748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908280" y="6232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371240" y="47242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can reach 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5"/>
          <p:cNvSpPr/>
          <p:nvPr/>
        </p:nvSpPr>
        <p:spPr>
          <a:xfrm>
            <a:off x="1514520" y="523404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6"/>
          <p:cNvSpPr/>
          <p:nvPr/>
        </p:nvSpPr>
        <p:spPr>
          <a:xfrm>
            <a:off x="4361760" y="4352760"/>
            <a:ext cx="246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can reach 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a AS 1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7"/>
          <p:cNvSpPr/>
          <p:nvPr/>
        </p:nvSpPr>
        <p:spPr>
          <a:xfrm>
            <a:off x="4610160" y="505764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1593360" y="56674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4649040" y="56689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tecting Suspicious Rout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nitoring BGP update mess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past history as an implicit reg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.g., AS that announces each address blo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 18.0.0.0/8 usually originated by AS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.g., AS-level edges and paths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seen the subpath “7018 88 1785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ut-of-band detection mechanis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reports and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Alert Registry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ar.cs.unm.ed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 Hijack Alert System: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phas.netsec.colostate.ed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voiding Suspicious Rout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ft response to suspicious rout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er routes that agree with the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 adoption of unfamiliar routes when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 is this good enough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attacks will go away on thei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someone else be the victim instead of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network operators time to investig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well would it work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op ~40 largest ASes applied the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ther ASes are protected, t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About Packet Forwarding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trol Plane vs. Data Plan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rol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security concerns validity of routing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did the BGP message follow the sequence of ASes listed in the AS-path attrib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s forward data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dly along path chosen in the control pl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at ensures that this is tru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1BC9-9AC1-463A-9DC6-0B50FF78B33E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6"/>
          <p:cNvSpPr/>
          <p:nvPr/>
        </p:nvSpPr>
        <p:spPr>
          <a:xfrm>
            <a:off x="2844720" y="5694480"/>
            <a:ext cx="192240" cy="269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7"/>
          <p:cNvSpPr/>
          <p:nvPr/>
        </p:nvSpPr>
        <p:spPr>
          <a:xfrm>
            <a:off x="3265560" y="5694480"/>
            <a:ext cx="191880" cy="269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4" descr=""/>
          <p:cNvPicPr/>
          <p:nvPr/>
        </p:nvPicPr>
        <p:blipFill>
          <a:blip r:embed="rId1"/>
          <a:stretch/>
        </p:blipFill>
        <p:spPr>
          <a:xfrm>
            <a:off x="2766960" y="5835600"/>
            <a:ext cx="839880" cy="55080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5" descr=""/>
          <p:cNvPicPr/>
          <p:nvPr/>
        </p:nvPicPr>
        <p:blipFill>
          <a:blip r:embed="rId2"/>
          <a:stretch/>
        </p:blipFill>
        <p:spPr>
          <a:xfrm>
            <a:off x="4417920" y="5297400"/>
            <a:ext cx="839880" cy="55080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6" descr=""/>
          <p:cNvPicPr/>
          <p:nvPr/>
        </p:nvPicPr>
        <p:blipFill>
          <a:blip r:embed="rId3"/>
          <a:stretch/>
        </p:blipFill>
        <p:spPr>
          <a:xfrm>
            <a:off x="4456080" y="6103800"/>
            <a:ext cx="839880" cy="551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7" descr=""/>
          <p:cNvPicPr/>
          <p:nvPr/>
        </p:nvPicPr>
        <p:blipFill>
          <a:blip r:embed="rId4"/>
          <a:stretch/>
        </p:blipFill>
        <p:spPr>
          <a:xfrm>
            <a:off x="6151680" y="6091200"/>
            <a:ext cx="839520" cy="550800"/>
          </a:xfrm>
          <a:prstGeom prst="rect">
            <a:avLst/>
          </a:prstGeom>
          <a:ln w="0">
            <a:noFill/>
          </a:ln>
        </p:spPr>
      </p:pic>
      <p:sp>
        <p:nvSpPr>
          <p:cNvPr id="840" name="Line 8"/>
          <p:cNvSpPr/>
          <p:nvPr/>
        </p:nvSpPr>
        <p:spPr>
          <a:xfrm>
            <a:off x="3533760" y="6066000"/>
            <a:ext cx="960480" cy="26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9"/>
          <p:cNvSpPr/>
          <p:nvPr/>
        </p:nvSpPr>
        <p:spPr>
          <a:xfrm flipV="1">
            <a:off x="3457440" y="5605200"/>
            <a:ext cx="998640" cy="307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0"/>
          <p:cNvSpPr/>
          <p:nvPr/>
        </p:nvSpPr>
        <p:spPr>
          <a:xfrm>
            <a:off x="5224320" y="6373800"/>
            <a:ext cx="960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11" descr="MCj04359310000[1]"/>
          <p:cNvPicPr/>
          <p:nvPr/>
        </p:nvPicPr>
        <p:blipFill>
          <a:blip r:embed="rId5"/>
          <a:stretch/>
        </p:blipFill>
        <p:spPr>
          <a:xfrm>
            <a:off x="7029360" y="5913360"/>
            <a:ext cx="922320" cy="7304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2" descr="MCj04244920000[1]"/>
          <p:cNvPicPr/>
          <p:nvPr/>
        </p:nvPicPr>
        <p:blipFill>
          <a:blip r:embed="rId6"/>
          <a:stretch/>
        </p:blipFill>
        <p:spPr>
          <a:xfrm>
            <a:off x="5224320" y="5067360"/>
            <a:ext cx="1266840" cy="762120"/>
          </a:xfrm>
          <a:prstGeom prst="rect">
            <a:avLst/>
          </a:prstGeom>
          <a:ln w="0">
            <a:noFill/>
          </a:ln>
        </p:spPr>
      </p:pic>
      <p:sp>
        <p:nvSpPr>
          <p:cNvPr id="845" name="Line 13"/>
          <p:cNvSpPr/>
          <p:nvPr/>
        </p:nvSpPr>
        <p:spPr>
          <a:xfrm>
            <a:off x="1768320" y="6078600"/>
            <a:ext cx="1036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15" descr="MCj04326420000[1]"/>
          <p:cNvPicPr/>
          <p:nvPr/>
        </p:nvPicPr>
        <p:blipFill>
          <a:blip r:embed="rId7"/>
          <a:stretch/>
        </p:blipFill>
        <p:spPr>
          <a:xfrm>
            <a:off x="770040" y="5580000"/>
            <a:ext cx="9982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-Plane Attacks, Part 1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 packets in the data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still sending the routing annou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sier to evade detection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pecially if you only drop some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, oh, say, BitTorrent or Skype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n easier if you just slow down some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ifferent are normal congestion and an attac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pecially if you let traceroute packets throug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-Plane Attacks, Part 2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 packets in a different dir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greeing with the routing annou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rect packets to a different destin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ne the adversary contr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to do at that bogus destination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ersonate the legitimate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oop on traffic and forward along to real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detec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eroute?  Longer than usual delay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-to-end checks, like site certificate or encry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-Plane Attacks are Hard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ersary must control a router along th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at the traffic flows through hi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get control a rou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y access to a compromised router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ess the password, exploit router vulner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ider attack (disgruntled network opera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lice vs. gre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ce: gain control of someone else’s ro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ed: Verizon DSL blocks Skype to encourage me to use (Verizon) landline ph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’s the Internet to Do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is So Vulner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ral high-profile ou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erit.edu/mail.archives/nanog/1997-04/msg00380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renesys.com/blog/2005/12/internetwide_nearcatastrophela.s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renesys.com/blog/2006/01/coned_steals_the_net.s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renesys.com/blog/2008/02/pakistan_hijacks_youtube_1.s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theregister.co.uk/2010/04/09/china_bgp_interweb_snaf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y smaller exampl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holing a single destination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jacking unallocated addresses to send sp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 isn’t it an even bigger deal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ly, most big outages are configuration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bad guys want the Internet to stay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is So Hard to Fix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lex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, with around 40,000 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ralized control among competitive 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to reach agreement on the right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-BGP with PKI, registries, and cryp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should be in charge of running PKI &amp; registr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ry about data-plane attacks or just control pla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to deploy the solution once you pick i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enough to get ASes to apply route fil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you want them to upgrade to a new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Session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net protocols designed based on tru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iders are good guys, bad guys on the out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rder Gateway Protocol is very vulner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e that holds the Internet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for an AS to locally identify bogus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ks can have very serious global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posed solutions/approa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e variants of the Border Gateway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maly detection, with automated 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er focus on data-plane 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Connection Underlying BGP Se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GP session runs over TC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connection between neighboring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messages sent over TCP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BGP vulnerable to attacks on T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1"/>
          <a:stretch/>
        </p:blipFill>
        <p:spPr>
          <a:xfrm>
            <a:off x="2057400" y="5097600"/>
            <a:ext cx="2382840" cy="4275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2"/>
          <a:stretch/>
        </p:blipFill>
        <p:spPr>
          <a:xfrm>
            <a:off x="5737320" y="5099040"/>
            <a:ext cx="2720880" cy="427356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7"/>
          <p:cNvSpPr/>
          <p:nvPr/>
        </p:nvSpPr>
        <p:spPr>
          <a:xfrm>
            <a:off x="2443320" y="4197240"/>
            <a:ext cx="3792240" cy="95724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3886200" y="38098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GP s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2833560" y="5491080"/>
            <a:ext cx="31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9"/>
          <p:cNvSpPr/>
          <p:nvPr/>
        </p:nvSpPr>
        <p:spPr>
          <a:xfrm>
            <a:off x="2738520" y="5370480"/>
            <a:ext cx="3052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ttacks on Session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fidentia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vesdropping by tapping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rring routing policies and s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g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mpering by dropping, modifying, adding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ing, filtering, or replaying BGP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ail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tting the session or congesting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rupting communication and overloading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"/>
          <p:cNvPicPr/>
          <p:nvPr/>
        </p:nvPicPr>
        <p:blipFill>
          <a:blip r:embed="rId1"/>
          <a:stretch/>
        </p:blipFill>
        <p:spPr>
          <a:xfrm>
            <a:off x="6642000" y="1886040"/>
            <a:ext cx="1130400" cy="26859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"/>
          <p:cNvPicPr/>
          <p:nvPr/>
        </p:nvPicPr>
        <p:blipFill>
          <a:blip r:embed="rId2"/>
          <a:stretch/>
        </p:blipFill>
        <p:spPr>
          <a:xfrm>
            <a:off x="8386920" y="1887480"/>
            <a:ext cx="1290600" cy="2684520"/>
          </a:xfrm>
          <a:prstGeom prst="rect">
            <a:avLst/>
          </a:prstGeom>
          <a:ln w="0">
            <a:noFill/>
          </a:ln>
        </p:spPr>
      </p:pic>
      <p:sp>
        <p:nvSpPr>
          <p:cNvPr id="580" name="Freeform 7"/>
          <p:cNvSpPr/>
          <p:nvPr/>
        </p:nvSpPr>
        <p:spPr>
          <a:xfrm>
            <a:off x="6824520" y="1273320"/>
            <a:ext cx="1798920" cy="6015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7611480" y="83808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GP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7008480" y="208584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9"/>
          <p:cNvSpPr/>
          <p:nvPr/>
        </p:nvSpPr>
        <p:spPr>
          <a:xfrm>
            <a:off x="6934320" y="200988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fending Session Security is Eas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GP routing information is propagated widel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dentiality isn’t all that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end-points have a business relationshi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known IP addresses and ports to commun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agree to sign and encrypt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ed physical access to th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physical link, often in same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w volume of special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 packets from unexpected se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give BGP packets higher pri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alidity of the routing information: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rigin authentication</a:t>
            </a:r>
            <a:br>
              <a:rPr sz="4400"/>
            </a:b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Address Ownership and Hijack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 block assign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Internet Registries (ARIN, RIPE, APN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ervi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per origination of a prefix into BG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the AS who owns the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, by its upstream provider(s) in its be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ever, what’s to stop someone els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 hijacking: another AS originates the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does not verify that the AS is author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stries of prefix ownership are inaccu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3:42:19Z</dcterms:created>
  <dc:creator>Mike</dc:creator>
  <dc:description/>
  <cp:keywords/>
  <dc:language>en-US</dc:language>
  <cp:lastModifiedBy>Jennifer Rexford</cp:lastModifiedBy>
  <cp:lastPrinted>2012-04-25T04:15:02Z</cp:lastPrinted>
  <dcterms:modified xsi:type="dcterms:W3CDTF">2012-04-25T13:57:03Z</dcterms:modified>
  <cp:revision>4016</cp:revision>
  <dc:subject/>
  <dc:title>Communication</dc:title>
</cp:coreProperties>
</file>