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.wmf" ContentType="image/x-wmf"/>
  <Override PartName="/ppt/media/image26.wmf" ContentType="image/x-wmf"/>
  <Override PartName="/ppt/media/image2.png" ContentType="image/png"/>
  <Override PartName="/ppt/media/image25.png" ContentType="image/png"/>
  <Override PartName="/ppt/media/image27.wmf" ContentType="image/x-wm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4757588-30F8-405B-BC27-3D18D4F2C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285A6BE-B426-49F1-A907-B2749D659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1AE4969-369A-4C67-AC17-DBF4BEBA5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DD7B551-C106-44EF-984F-2A2988DC0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st slide, attacker announced a path that doesn’t’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ecurity mechansim we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authorizes a1 to send the path (v,Pref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security property pr ovided “can’t announce paths that don’t exist (no announc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F7DA-4A49-4938-8594-EEDE05D03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7FBAE-D811-44B0-A767-FD6F0572054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56563-CF98-489C-A3C8-99AA4D7A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93CDB-ED78-4DD6-9342-7EDF4FF8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0B703-2845-405E-B443-6CD76B35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D733C-F0FB-4056-99ED-0F0699FF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686385-CA31-4813-8577-A0C5BC7D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80E11-ACBF-4509-8E64-A686E991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73616-E9ED-410F-B7C4-6068047E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48D485-6B38-41F3-8B81-B57AFFAA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346C4-45BE-4B06-A6E1-CCE85D01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1B2815-2E41-4645-9273-B9450F39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0841-50B7-4A7B-B4FE-42AC4BDADEE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40D03-FA4E-4E03-BC44-B657D708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E7CFB6-EB48-4454-A13C-F066A0D1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2E1610-43AD-4397-9976-3ED0D80F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51A46-DFC2-4C86-AE98-5FAFAE43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85DA5-4D1A-4910-A6C6-5C394EDB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EA575-9507-4DD8-8189-2568603F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2EBB7-36FA-470C-A87E-D90F6520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1241C3-1474-4C3A-9F1C-9B0D8F11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3DBD9-B4A3-47CF-95EB-97C91737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D589B-146E-4F0F-B879-9A82E490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BB14-086E-40B3-994E-B23E7BD24B1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B12A9-82D4-443F-81A1-AFA5C114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F49A22-D127-49F0-9111-C718D971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61A10E-2801-4290-B8E4-FBBC689B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EEE638-CEB6-4649-A689-7F475548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4F9D4D-E960-4F58-8D21-A730502E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1F92BC-DB0D-4B72-BC44-9343459E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F465F7-1CFC-44B4-95E1-D00C00FC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EB80BF-8777-4120-9B8B-1A8A6A9D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2B4E22-191A-481B-A3AC-977EC74D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173049-8670-47D3-AB54-6FEE6531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FCA11-2370-4106-9906-4EC0D252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7BA84F-72C0-4BEF-AACE-74FA53AC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CF2E21-BBA6-4222-9A1B-27CDDF0E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D30B7E-01C6-41DB-AC33-1375A4BB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09D6DC-AFD5-4465-B04F-08E87C17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C232A-8A99-438D-B602-98B390B5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C4328-5934-44F9-93F1-9C334918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D7474-7DF9-4EBA-ACCE-362F506E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07167-49DD-4B69-A34C-D5BA8029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1FD02-6A37-4612-AC8F-B943F990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98A27-BB28-4952-B1FC-27EE3E02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0A3F4-6BA7-4115-8C56-56DA2B99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41459-0C13-447B-AEE0-22A7A7F0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98D14-0240-42FF-A0B9-6C21C790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779275-9CF8-4913-ABC3-78DBA3DB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0864F-6333-4B70-B96D-2074AC3A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125FE-85A2-4B48-9CBE-457E4AB3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27673-A75D-4DCF-86E8-0A5407E1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66A45-E58E-4BEE-8BE9-9FD41591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91BEE-3071-4ADC-8F4A-C7DFFF29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9F1E9-C1D8-4BE1-B5B0-48F4B5CC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8D110-10A8-43F8-A5B0-F7B1E177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4780-CDDA-4A67-A005-CF06DB806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34BE6-A70D-4141-9184-9FCEDD33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C51CB-EB28-452B-A32D-F7A72769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8DFEF-C453-4CD8-A128-16ED3237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B2D0B-06C2-4ED7-9A5D-9D774D24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A3EF1-C4B4-4E84-B023-70B9C310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45238-88DD-4EA0-83FF-FA24B6DE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C30282-46D8-4862-9E14-2FDA7777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51D92-3214-4013-83B0-2A878BF9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B0AFE-790C-4DD9-9505-B39F502D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B2C526-1AE9-40C7-9F0B-54635056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68F7-0F12-49F3-A4AC-379EE19AC4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0DAFF7-9993-43B3-B550-60E88A92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40D89-BD11-4FFE-9865-38995772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AC0A1-488D-45AB-8541-32026945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4552AD-5242-434C-B8BE-1C45EA30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FA61D0-D9FE-422E-92A6-77D42527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918A4A-41D0-4D8C-889B-0DDCBC92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555212-6E39-41AE-877E-23294A9A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A308E-AB4C-47E1-8796-DB0200B9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61F8F9-42D2-4ACD-A0FD-8313A3DA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83BE6-7367-4B52-8A66-870AE00E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AB22-FECA-4E0F-B887-ED49058B22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F8A557-C7E1-465C-9700-CD8B9D0B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8A47BF-2E0C-4A53-AB37-88B5F06C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665DE7-1800-44A5-98C9-836C0034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E04BE-1BE0-4CF3-8EBC-75629FB6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6F8320-4559-4D02-83E9-B2679E39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61286D-5E36-4A4A-AC90-59DD0404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542953-791A-40BF-879B-42BDBFC3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D043A5-3E3A-4B6C-8E20-951EBC64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F838D-F8F5-4DF8-BF37-FB7A23DA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5A53DE-57D0-460B-AC46-777F0DEC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BDC2-1CD1-444C-86D5-1276F04179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C9D90D-9B23-4ACC-BB3C-54D2EA40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26DE33-8240-42A5-82E8-B8FEA2FC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72392F-4AAC-49FE-AF06-609A0F9E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FF80C-1BA4-4CC6-AEE8-471F04A3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8E6234-4442-45CD-909A-D581C2E2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D8934F-E4AD-459C-9748-C8110924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AD5407-14F3-45AC-B65C-C3E2694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ABF89F-4AD5-4C2B-8376-45BC3C69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DC4219-B4CF-4301-AB58-7E97BFE9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DAEEE5-4A84-47AB-BDEC-B0B97279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23CF-63A8-4836-A802-416414C4BB1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4D9AD0-C080-47A6-90AC-09576901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A2B6ED-F5C6-456A-9DB2-2B22351C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B67515-9B62-4201-86B7-91368244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068CA2-14B3-488C-95EF-D8041B72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595720-FEF4-4965-8FA3-01A27AB9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BC1396-5BB8-4246-A1C0-A36001DA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2008BD-5E98-4A91-B336-2010529E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353A03-6480-4642-899F-645E4733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F8B5C6-874D-49F8-A327-46008A3F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BB9593-8973-435B-A226-9C488527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B1B9-A3FA-4239-957A-915DA81D0AB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ED2C03-7AE9-4ACC-BC37-337D9A0C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9D8BAB-260D-45C7-9959-581F0E14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199E61-BDA9-4BB6-BDA8-2BDA24E6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E35F50-C304-4605-84A1-DE3B2992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879B07-519B-4DF1-88F3-EEE51535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E74726-C534-4D40-BAD2-F38E167B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8EF87E-886B-4CD0-9FA0-D6FA50AD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5CFAC3-9F79-44CF-83F9-4B175277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CCDE4F-5124-4E30-913F-CDF01154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756484-F5B8-4379-A7CF-95525DED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564C-2245-4043-8316-7F71C5C7C4E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46E6E2-3713-45E1-8F0F-0BFF64C7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C37A94-F80E-46A0-8CEA-2417AFD6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4F3C79-B325-4E1F-8E3A-5ABFCA2E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5E9A72-B032-45C3-9351-784CD11F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BD0214-6311-4960-A9E1-EF49B020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8A68D3-4278-4C32-B86C-C9A7B3C5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FBC6C7-97A3-469A-8E8A-19DAFF4B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D28FCD-CD0A-43AA-B06A-48C55D3C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9D1BE4-7F54-4BDE-9E84-07C2FECB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686A17-764D-4964-91EB-284AB9F7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85FA-0B58-4F2F-9B82-FE38D9AE7FC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0CB44C-A300-464E-B159-72222704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847D5A-D7DC-4CC4-B65A-0DD79AEA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9B871D-092E-4B89-AC7B-B509EBA0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5E97F9-F3DE-43A1-A153-C9519CE4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8ED268-E1C3-4D43-B0B7-3261E46E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AE0928-65B3-4A15-A7E4-EFEBA1B1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0684C2-3F61-4432-BEEF-402D5D10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30764A-AAC7-4DCB-A3E2-1DC28B25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F0906-3613-4C11-AC0A-85536F17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51602-813F-481B-BBE9-2F4A1ED2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72E6-01CA-4AA2-9709-11057A06B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B396-20C4-47B5-80CF-EDF19190921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3356-1D7E-4CC9-91C5-847A4E5F9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8371-8A0F-4CC1-8A87-27765490547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2792-EB98-4BE0-9878-D62360269D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A87B-DEA5-47BA-9F30-0FAB6C59EDC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A696-07FB-4D0B-BB9D-6450B92D51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4B59-25A6-4DE0-9289-C1832DD5B66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52B7-1E33-44AF-A38A-42BABE93BA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14E9-D18E-4F48-84E3-C93F49760FC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BFBB-141A-4357-A8E6-583CBAACD4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3921-A943-4AB2-8469-735057820CD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FBBA-C40A-4213-BF8F-436E02882C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9F12-ACB6-415E-97BF-83DF9DBABDF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34A7-C838-4A48-8F3E-651C68139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C9E5-5237-41D1-86A5-A742624116F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640E-6C64-4AFD-B863-6FBFF6DBAF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FE8B-A41F-4F5D-BDAB-703E4E571CA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4B9A-DBDC-4DA9-9A04-1A90800388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0995-4BFA-4C28-B2E8-AE1738CEECB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A68D-9992-460B-8955-E3D7D4872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DD40-2CD5-4A84-AFCD-810993AD570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70B5-1C6D-44BF-8B39-820B7C2C32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slideLayout" Target="../slideLayouts/slideLayout25.xml"/><Relationship Id="rId2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Interdomain Routing Security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99" name="Picture 9" descr=""/>
          <p:cNvPicPr/>
          <p:nvPr/>
        </p:nvPicPr>
        <p:blipFill>
          <a:blip r:embed="rId1"/>
          <a:stretch/>
        </p:blipFill>
        <p:spPr>
          <a:xfrm>
            <a:off x="3200400" y="98280"/>
            <a:ext cx="273852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efix Hijack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5960" y="502884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lackhol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traffic is discard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nooping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traffic is inspected, then redirec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ersona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ffic sent to bogus destin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592" name="Group 3"/>
          <p:cNvGrpSpPr/>
          <p:nvPr/>
        </p:nvGrpSpPr>
        <p:grpSpPr>
          <a:xfrm>
            <a:off x="482760" y="1041480"/>
            <a:ext cx="8446680" cy="3985920"/>
            <a:chOff x="482760" y="1041480"/>
            <a:chExt cx="8446680" cy="3985920"/>
          </a:xfrm>
        </p:grpSpPr>
        <p:graphicFrame>
          <p:nvGraphicFramePr>
            <p:cNvPr id="593" name=""/>
            <p:cNvGraphicFramePr/>
            <p:nvPr/>
          </p:nvGraphicFramePr>
          <p:xfrm>
            <a:off x="720720" y="1531800"/>
            <a:ext cx="2815560" cy="159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0720" y="1531800"/>
                      <a:ext cx="2815560" cy="159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5" name=""/>
            <p:cNvGraphicFramePr/>
            <p:nvPr/>
          </p:nvGraphicFramePr>
          <p:xfrm>
            <a:off x="4518720" y="1041480"/>
            <a:ext cx="2820600" cy="170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720" y="1041480"/>
                      <a:ext cx="2820600" cy="170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7" name=""/>
            <p:cNvGraphicFramePr/>
            <p:nvPr/>
          </p:nvGraphicFramePr>
          <p:xfrm>
            <a:off x="3921120" y="3002760"/>
            <a:ext cx="2820600" cy="170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21120" y="3002760"/>
                      <a:ext cx="282060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9" name="Text Box 7"/>
            <p:cNvSpPr/>
            <p:nvPr/>
          </p:nvSpPr>
          <p:spPr>
            <a:xfrm>
              <a:off x="4429080" y="36651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0" name=""/>
            <p:cNvGraphicFramePr/>
            <p:nvPr/>
          </p:nvGraphicFramePr>
          <p:xfrm>
            <a:off x="791640" y="3165120"/>
            <a:ext cx="1372680" cy="86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91640" y="316512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2" name=""/>
            <p:cNvGraphicFramePr/>
            <p:nvPr/>
          </p:nvGraphicFramePr>
          <p:xfrm>
            <a:off x="482760" y="4230360"/>
            <a:ext cx="886320" cy="557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2760" y="4230360"/>
                      <a:ext cx="88632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7045560" y="2464920"/>
            <a:ext cx="1372680" cy="862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45560" y="246492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6" name=""/>
            <p:cNvGraphicFramePr/>
            <p:nvPr/>
          </p:nvGraphicFramePr>
          <p:xfrm>
            <a:off x="8043480" y="3507840"/>
            <a:ext cx="885960" cy="557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043480" y="3507840"/>
                      <a:ext cx="88596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8" name="Line 12"/>
            <p:cNvSpPr/>
            <p:nvPr/>
          </p:nvSpPr>
          <p:spPr>
            <a:xfrm flipV="1">
              <a:off x="1024560" y="3904920"/>
              <a:ext cx="197280" cy="37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3"/>
            <p:cNvSpPr/>
            <p:nvPr/>
          </p:nvSpPr>
          <p:spPr>
            <a:xfrm flipV="1">
              <a:off x="1358640" y="2904840"/>
              <a:ext cx="136440" cy="34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4"/>
            <p:cNvSpPr/>
            <p:nvPr/>
          </p:nvSpPr>
          <p:spPr>
            <a:xfrm flipV="1">
              <a:off x="3303360" y="1815840"/>
              <a:ext cx="141264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5"/>
            <p:cNvSpPr/>
            <p:nvPr/>
          </p:nvSpPr>
          <p:spPr>
            <a:xfrm>
              <a:off x="2908440" y="2815560"/>
              <a:ext cx="1503720" cy="58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16"/>
            <p:cNvSpPr/>
            <p:nvPr/>
          </p:nvSpPr>
          <p:spPr>
            <a:xfrm>
              <a:off x="7162200" y="2029680"/>
              <a:ext cx="66816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7"/>
            <p:cNvSpPr/>
            <p:nvPr/>
          </p:nvSpPr>
          <p:spPr>
            <a:xfrm flipH="1">
              <a:off x="6508440" y="3219840"/>
              <a:ext cx="911160" cy="40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8"/>
            <p:cNvSpPr/>
            <p:nvPr/>
          </p:nvSpPr>
          <p:spPr>
            <a:xfrm>
              <a:off x="7830720" y="3253680"/>
              <a:ext cx="379440" cy="35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9"/>
            <p:cNvSpPr/>
            <p:nvPr/>
          </p:nvSpPr>
          <p:spPr>
            <a:xfrm>
              <a:off x="8484120" y="4016880"/>
              <a:ext cx="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0"/>
            <p:cNvSpPr/>
            <p:nvPr/>
          </p:nvSpPr>
          <p:spPr>
            <a:xfrm>
              <a:off x="918360" y="4758120"/>
              <a:ext cx="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 flipH="1">
              <a:off x="5263200" y="2535120"/>
              <a:ext cx="3024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1520" y="4306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23"/>
            <p:cNvSpPr/>
            <p:nvPr/>
          </p:nvSpPr>
          <p:spPr>
            <a:xfrm>
              <a:off x="1216080" y="3384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24"/>
            <p:cNvSpPr/>
            <p:nvPr/>
          </p:nvSpPr>
          <p:spPr>
            <a:xfrm>
              <a:off x="1869480" y="2105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5727960" y="1677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26"/>
            <p:cNvSpPr/>
            <p:nvPr/>
          </p:nvSpPr>
          <p:spPr>
            <a:xfrm>
              <a:off x="7551000" y="2700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27"/>
            <p:cNvSpPr/>
            <p:nvPr/>
          </p:nvSpPr>
          <p:spPr>
            <a:xfrm>
              <a:off x="8295480" y="3586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28"/>
            <p:cNvSpPr/>
            <p:nvPr/>
          </p:nvSpPr>
          <p:spPr>
            <a:xfrm>
              <a:off x="5105160" y="3597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Text Box 29"/>
          <p:cNvSpPr/>
          <p:nvPr/>
        </p:nvSpPr>
        <p:spPr>
          <a:xfrm>
            <a:off x="7191360" y="432900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12.34.0.0/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30"/>
          <p:cNvSpPr/>
          <p:nvPr/>
        </p:nvSpPr>
        <p:spPr>
          <a:xfrm>
            <a:off x="17640" y="779400"/>
            <a:ext cx="8875440" cy="396252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31"/>
          <p:cNvSpPr/>
          <p:nvPr/>
        </p:nvSpPr>
        <p:spPr>
          <a:xfrm>
            <a:off x="5487840" y="3740040"/>
            <a:ext cx="2813040" cy="116064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2"/>
          <p:cNvSpPr/>
          <p:nvPr/>
        </p:nvSpPr>
        <p:spPr>
          <a:xfrm>
            <a:off x="1144440" y="465948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2.34.0.0/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33"/>
          <p:cNvSpPr/>
          <p:nvPr/>
        </p:nvSpPr>
        <p:spPr>
          <a:xfrm>
            <a:off x="1781280" y="3002040"/>
            <a:ext cx="1023840" cy="1611360"/>
          </a:xfrm>
          <a:prstGeom prst="pie">
            <a:avLst/>
          </a:prstGeom>
          <a:noFill/>
          <a:ln w="5076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34"/>
          <p:cNvSpPr/>
          <p:nvPr/>
        </p:nvSpPr>
        <p:spPr>
          <a:xfrm>
            <a:off x="5943600" y="903240"/>
            <a:ext cx="2903400" cy="245448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jacking is Hard to Debu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victim AS doesn’t see the 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s its own route, might not learn the bogus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y not cause loss of connectiv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ooping, with minor performance degrad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r, loss of connectivity is isola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only for sources in parts of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agnosing prefix hijack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yzing updates from many vantage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unching traceroute from many vantage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ub-Prefix Hijack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28240" y="52578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riginating a more-specific prefix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AS picks the bogus route for that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follows the longest matching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3"/>
          <p:cNvGrpSpPr/>
          <p:nvPr/>
        </p:nvGrpSpPr>
        <p:grpSpPr>
          <a:xfrm>
            <a:off x="453960" y="1193760"/>
            <a:ext cx="8446680" cy="3985920"/>
            <a:chOff x="453960" y="1193760"/>
            <a:chExt cx="8446680" cy="3985920"/>
          </a:xfrm>
        </p:grpSpPr>
        <p:graphicFrame>
          <p:nvGraphicFramePr>
            <p:cNvPr id="636" name=""/>
            <p:cNvGraphicFramePr/>
            <p:nvPr/>
          </p:nvGraphicFramePr>
          <p:xfrm>
            <a:off x="691920" y="1684080"/>
            <a:ext cx="2815560" cy="159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1920" y="1684080"/>
                      <a:ext cx="2815560" cy="159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8" name=""/>
            <p:cNvGraphicFramePr/>
            <p:nvPr/>
          </p:nvGraphicFramePr>
          <p:xfrm>
            <a:off x="4489920" y="1193760"/>
            <a:ext cx="2820600" cy="170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89920" y="1193760"/>
                      <a:ext cx="2820600" cy="170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0" name=""/>
            <p:cNvGraphicFramePr/>
            <p:nvPr/>
          </p:nvGraphicFramePr>
          <p:xfrm>
            <a:off x="3892320" y="3155040"/>
            <a:ext cx="2820600" cy="170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92320" y="3155040"/>
                      <a:ext cx="2820600" cy="17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2" name="Text Box 7"/>
            <p:cNvSpPr/>
            <p:nvPr/>
          </p:nvSpPr>
          <p:spPr>
            <a:xfrm>
              <a:off x="4400280" y="381744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43" name=""/>
            <p:cNvGraphicFramePr/>
            <p:nvPr/>
          </p:nvGraphicFramePr>
          <p:xfrm>
            <a:off x="762840" y="3317400"/>
            <a:ext cx="1372680" cy="862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840" y="331740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5" name=""/>
            <p:cNvGraphicFramePr/>
            <p:nvPr/>
          </p:nvGraphicFramePr>
          <p:xfrm>
            <a:off x="453960" y="4382640"/>
            <a:ext cx="886320" cy="557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3960" y="4382640"/>
                      <a:ext cx="88632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7" name=""/>
            <p:cNvGraphicFramePr/>
            <p:nvPr/>
          </p:nvGraphicFramePr>
          <p:xfrm>
            <a:off x="7016760" y="2617200"/>
            <a:ext cx="1372680" cy="862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16760" y="2617200"/>
                      <a:ext cx="1372680" cy="86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9" name=""/>
            <p:cNvGraphicFramePr/>
            <p:nvPr/>
          </p:nvGraphicFramePr>
          <p:xfrm>
            <a:off x="8014680" y="3660120"/>
            <a:ext cx="885960" cy="557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5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014680" y="3660120"/>
                      <a:ext cx="885960" cy="5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1" name="Line 12"/>
            <p:cNvSpPr/>
            <p:nvPr/>
          </p:nvSpPr>
          <p:spPr>
            <a:xfrm flipV="1">
              <a:off x="995760" y="4057200"/>
              <a:ext cx="197280" cy="37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13"/>
            <p:cNvSpPr/>
            <p:nvPr/>
          </p:nvSpPr>
          <p:spPr>
            <a:xfrm flipV="1">
              <a:off x="1329840" y="3057120"/>
              <a:ext cx="136440" cy="34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14"/>
            <p:cNvSpPr/>
            <p:nvPr/>
          </p:nvSpPr>
          <p:spPr>
            <a:xfrm flipV="1">
              <a:off x="3274560" y="1968120"/>
              <a:ext cx="141264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5"/>
            <p:cNvSpPr/>
            <p:nvPr/>
          </p:nvSpPr>
          <p:spPr>
            <a:xfrm>
              <a:off x="2879640" y="2967840"/>
              <a:ext cx="1503720" cy="58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6"/>
            <p:cNvSpPr/>
            <p:nvPr/>
          </p:nvSpPr>
          <p:spPr>
            <a:xfrm>
              <a:off x="7133400" y="2181960"/>
              <a:ext cx="66816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17"/>
            <p:cNvSpPr/>
            <p:nvPr/>
          </p:nvSpPr>
          <p:spPr>
            <a:xfrm flipH="1">
              <a:off x="6479640" y="3372120"/>
              <a:ext cx="911160" cy="40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8"/>
            <p:cNvSpPr/>
            <p:nvPr/>
          </p:nvSpPr>
          <p:spPr>
            <a:xfrm>
              <a:off x="7801920" y="3405960"/>
              <a:ext cx="379440" cy="35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19"/>
            <p:cNvSpPr/>
            <p:nvPr/>
          </p:nvSpPr>
          <p:spPr>
            <a:xfrm>
              <a:off x="8455320" y="4169160"/>
              <a:ext cx="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>
              <a:off x="889560" y="4910400"/>
              <a:ext cx="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21"/>
            <p:cNvSpPr/>
            <p:nvPr/>
          </p:nvSpPr>
          <p:spPr>
            <a:xfrm flipH="1">
              <a:off x="5234400" y="2687400"/>
              <a:ext cx="30240" cy="63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22"/>
            <p:cNvSpPr/>
            <p:nvPr/>
          </p:nvSpPr>
          <p:spPr>
            <a:xfrm>
              <a:off x="792720" y="4458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3"/>
            <p:cNvSpPr/>
            <p:nvPr/>
          </p:nvSpPr>
          <p:spPr>
            <a:xfrm>
              <a:off x="1187280" y="3537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4"/>
            <p:cNvSpPr/>
            <p:nvPr/>
          </p:nvSpPr>
          <p:spPr>
            <a:xfrm>
              <a:off x="1840680" y="2257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25"/>
            <p:cNvSpPr/>
            <p:nvPr/>
          </p:nvSpPr>
          <p:spPr>
            <a:xfrm>
              <a:off x="5699160" y="1829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6"/>
            <p:cNvSpPr/>
            <p:nvPr/>
          </p:nvSpPr>
          <p:spPr>
            <a:xfrm>
              <a:off x="7522200" y="2853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27"/>
            <p:cNvSpPr/>
            <p:nvPr/>
          </p:nvSpPr>
          <p:spPr>
            <a:xfrm>
              <a:off x="8266680" y="3738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28"/>
            <p:cNvSpPr/>
            <p:nvPr/>
          </p:nvSpPr>
          <p:spPr>
            <a:xfrm>
              <a:off x="5076360" y="375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29"/>
          <p:cNvSpPr/>
          <p:nvPr/>
        </p:nvSpPr>
        <p:spPr>
          <a:xfrm>
            <a:off x="7143840" y="448164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12.34.0.0/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0"/>
          <p:cNvSpPr/>
          <p:nvPr/>
        </p:nvSpPr>
        <p:spPr>
          <a:xfrm>
            <a:off x="5459400" y="3892680"/>
            <a:ext cx="2813040" cy="116028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1"/>
          <p:cNvSpPr/>
          <p:nvPr/>
        </p:nvSpPr>
        <p:spPr>
          <a:xfrm>
            <a:off x="998280" y="4792680"/>
            <a:ext cx="23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2.34.158.0/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2"/>
          <p:cNvSpPr/>
          <p:nvPr/>
        </p:nvSpPr>
        <p:spPr>
          <a:xfrm>
            <a:off x="-49320" y="922320"/>
            <a:ext cx="8875800" cy="396252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3"/>
          <p:cNvSpPr/>
          <p:nvPr/>
        </p:nvSpPr>
        <p:spPr>
          <a:xfrm>
            <a:off x="320760" y="903240"/>
            <a:ext cx="8632800" cy="3913200"/>
          </a:xfrm>
          <a:prstGeom prst="pie">
            <a:avLst/>
          </a:prstGeom>
          <a:noFill/>
          <a:ln w="5076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4"/>
          <p:cNvSpPr/>
          <p:nvPr/>
        </p:nvSpPr>
        <p:spPr>
          <a:xfrm>
            <a:off x="1647720" y="3181320"/>
            <a:ext cx="2587680" cy="1558800"/>
          </a:xfrm>
          <a:prstGeom prst="pie">
            <a:avLst/>
          </a:prstGeom>
          <a:noFill/>
          <a:ln w="50760">
            <a:solidFill>
              <a:srgbClr val="cc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to Hijack a Prefix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hijacking AS ha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 with BGP session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gured to originate the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tting access to the rou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operator makes configuration mis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gruntled operator launches an at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sider breaks in to the router and reconfig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tting other ASes to believe bogus rou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ghbor ASes do not discard the bogus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not doing protective fil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YouTube Outage on Feb 24, 2008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YouTube (AS 36561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ite www.youtube.com (208.65.152.0/2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kistan Telecom (AS 17557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order to block access to YouTu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s 208.65.153.0/24 to PCCW (AS 349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packets to YouTube get dropped on the flo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istakes were ma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17557: announce to everyone, not just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3491: not filtering routes announced by AS 175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sted 100 minutes for some, 2 hours for oth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imeline (UTC Time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18:47:45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evidence of hijacked /24 route in 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18:48:00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big trans-Pacific providers carrying the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18:49:30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gus route fully propag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0:07:25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Tube starts advertising /24 to attract traffic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0:08:30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(but not all) providers are using valid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imeline (UTC Time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0:18:43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Tube announces two more-specific /25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0:19:37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more providers start using the /25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0:50:59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17557 starts prepending (“3491 17557 17557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0:59:39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3491 disconnects AS 175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21:00:00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eos of cats flushing toilets are available agai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nother Example: Spamm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ammers sending sp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 a (bidrectional) TCP connection to mail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a bunch of spam e-mail, then disconn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best not to use your real IP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ly easy to trace back to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uld hijack someone’s address sp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you might not receive all the (TCP) return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evade det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jack unused (i.e., unallocated) address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orarily use the IP addresses to send your sp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AS Pa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ogus AS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move ASes from the AS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urn “701 3715 88” into “701 88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tiv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act sources that normally try to avoid AS 37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AS 88 look like it is closer to the Internet’s 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o can tell that this AS path is a li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AS 88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 to AS 701 dire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422360" y="5118120"/>
          <a:ext cx="190512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5118120"/>
                    <a:ext cx="19051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"/>
          <p:cNvGraphicFramePr/>
          <p:nvPr/>
        </p:nvGraphicFramePr>
        <p:xfrm>
          <a:off x="6184800" y="5495760"/>
          <a:ext cx="111456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84800" y="5495760"/>
                    <a:ext cx="11145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Line 6"/>
          <p:cNvSpPr/>
          <p:nvPr/>
        </p:nvSpPr>
        <p:spPr>
          <a:xfrm>
            <a:off x="5302080" y="5886360"/>
            <a:ext cx="998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7"/>
          <p:cNvSpPr/>
          <p:nvPr/>
        </p:nvSpPr>
        <p:spPr>
          <a:xfrm>
            <a:off x="2059920" y="5580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8"/>
          <p:cNvSpPr/>
          <p:nvPr/>
        </p:nvSpPr>
        <p:spPr>
          <a:xfrm>
            <a:off x="6554880" y="5688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4033800" y="5311800"/>
          <a:ext cx="1420920" cy="103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3800" y="5311800"/>
                    <a:ext cx="14209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Text Box 10"/>
          <p:cNvSpPr/>
          <p:nvPr/>
        </p:nvSpPr>
        <p:spPr>
          <a:xfrm>
            <a:off x="4397760" y="5613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1"/>
          <p:cNvSpPr/>
          <p:nvPr/>
        </p:nvSpPr>
        <p:spPr>
          <a:xfrm>
            <a:off x="3189240" y="5848200"/>
            <a:ext cx="998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2"/>
          <p:cNvSpPr/>
          <p:nvPr/>
        </p:nvSpPr>
        <p:spPr>
          <a:xfrm>
            <a:off x="2882880" y="6194520"/>
            <a:ext cx="3686040" cy="352440"/>
          </a:xfrm>
          <a:prstGeom prst="pie">
            <a:avLst/>
          </a:prstGeom>
          <a:noFill/>
          <a:ln w="38160">
            <a:solidFill>
              <a:srgbClr val="ff33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5381640" y="6040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domain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-level topolog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s are Autonomous Systems (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ges are links and business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4259160" y="2971800"/>
          <a:ext cx="2465640" cy="13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9160" y="2971800"/>
                    <a:ext cx="246564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939960" y="3355920"/>
          <a:ext cx="2460600" cy="12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3355920"/>
                    <a:ext cx="24606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3736800" y="4510080"/>
          <a:ext cx="2465640" cy="13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6800" y="4510080"/>
                    <a:ext cx="24656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Text Box 7"/>
          <p:cNvSpPr/>
          <p:nvPr/>
        </p:nvSpPr>
        <p:spPr>
          <a:xfrm>
            <a:off x="4168800" y="50292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001880" y="4637160"/>
          <a:ext cx="119988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01880" y="4637160"/>
                    <a:ext cx="119988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731880" y="5472000"/>
          <a:ext cx="77472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880" y="5472000"/>
                    <a:ext cx="774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6467400" y="4087800"/>
          <a:ext cx="1200240" cy="6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67400" y="4087800"/>
                    <a:ext cx="120024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7338960" y="4905360"/>
          <a:ext cx="774720" cy="43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38960" y="4905360"/>
                    <a:ext cx="774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Line 12"/>
          <p:cNvSpPr/>
          <p:nvPr/>
        </p:nvSpPr>
        <p:spPr>
          <a:xfrm flipV="1">
            <a:off x="1206360" y="5216040"/>
            <a:ext cx="171720" cy="29052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3"/>
          <p:cNvSpPr/>
          <p:nvPr/>
        </p:nvSpPr>
        <p:spPr>
          <a:xfrm flipV="1">
            <a:off x="1498680" y="4432320"/>
            <a:ext cx="119160" cy="27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4"/>
          <p:cNvSpPr/>
          <p:nvPr/>
        </p:nvSpPr>
        <p:spPr>
          <a:xfrm flipV="1">
            <a:off x="2041560" y="4503600"/>
            <a:ext cx="252360" cy="24624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5"/>
          <p:cNvSpPr/>
          <p:nvPr/>
        </p:nvSpPr>
        <p:spPr>
          <a:xfrm flipV="1">
            <a:off x="2865600" y="3296880"/>
            <a:ext cx="1792080" cy="1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6"/>
          <p:cNvSpPr/>
          <p:nvPr/>
        </p:nvSpPr>
        <p:spPr>
          <a:xfrm flipV="1">
            <a:off x="3197160" y="3579840"/>
            <a:ext cx="1235160" cy="13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7"/>
          <p:cNvSpPr/>
          <p:nvPr/>
        </p:nvSpPr>
        <p:spPr>
          <a:xfrm flipV="1">
            <a:off x="3263760" y="3904920"/>
            <a:ext cx="1047960" cy="11412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8"/>
          <p:cNvSpPr/>
          <p:nvPr/>
        </p:nvSpPr>
        <p:spPr>
          <a:xfrm>
            <a:off x="3157560" y="4133880"/>
            <a:ext cx="1592280" cy="51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9"/>
          <p:cNvSpPr/>
          <p:nvPr/>
        </p:nvSpPr>
        <p:spPr>
          <a:xfrm>
            <a:off x="2852640" y="4362480"/>
            <a:ext cx="1312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2479680" y="4432320"/>
            <a:ext cx="1447920" cy="65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1"/>
          <p:cNvSpPr/>
          <p:nvPr/>
        </p:nvSpPr>
        <p:spPr>
          <a:xfrm>
            <a:off x="6568920" y="3746520"/>
            <a:ext cx="58428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2"/>
          <p:cNvSpPr/>
          <p:nvPr/>
        </p:nvSpPr>
        <p:spPr>
          <a:xfrm>
            <a:off x="6105600" y="4071960"/>
            <a:ext cx="503280" cy="28260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3"/>
          <p:cNvSpPr/>
          <p:nvPr/>
        </p:nvSpPr>
        <p:spPr>
          <a:xfrm flipH="1">
            <a:off x="5812920" y="4548240"/>
            <a:ext cx="67644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4"/>
          <p:cNvSpPr/>
          <p:nvPr/>
        </p:nvSpPr>
        <p:spPr>
          <a:xfrm flipH="1">
            <a:off x="5999040" y="4680000"/>
            <a:ext cx="795600" cy="31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5"/>
          <p:cNvSpPr/>
          <p:nvPr/>
        </p:nvSpPr>
        <p:spPr>
          <a:xfrm>
            <a:off x="7539120" y="4511520"/>
            <a:ext cx="304560" cy="4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6"/>
          <p:cNvSpPr/>
          <p:nvPr/>
        </p:nvSpPr>
        <p:spPr>
          <a:xfrm>
            <a:off x="7153200" y="4705200"/>
            <a:ext cx="331920" cy="28260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7"/>
          <p:cNvSpPr/>
          <p:nvPr/>
        </p:nvSpPr>
        <p:spPr>
          <a:xfrm>
            <a:off x="7724880" y="5303880"/>
            <a:ext cx="0" cy="44136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8"/>
          <p:cNvSpPr/>
          <p:nvPr/>
        </p:nvSpPr>
        <p:spPr>
          <a:xfrm>
            <a:off x="1112760" y="5884920"/>
            <a:ext cx="173160" cy="3016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29"/>
          <p:cNvSpPr/>
          <p:nvPr/>
        </p:nvSpPr>
        <p:spPr>
          <a:xfrm flipH="1">
            <a:off x="4909680" y="4141800"/>
            <a:ext cx="27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0"/>
          <p:cNvSpPr/>
          <p:nvPr/>
        </p:nvSpPr>
        <p:spPr>
          <a:xfrm>
            <a:off x="5586480" y="4230720"/>
            <a:ext cx="0" cy="36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1"/>
          <p:cNvSpPr/>
          <p:nvPr/>
        </p:nvSpPr>
        <p:spPr>
          <a:xfrm>
            <a:off x="1028160" y="5527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2"/>
          <p:cNvSpPr/>
          <p:nvPr/>
        </p:nvSpPr>
        <p:spPr>
          <a:xfrm>
            <a:off x="1374120" y="4807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3"/>
          <p:cNvSpPr/>
          <p:nvPr/>
        </p:nvSpPr>
        <p:spPr>
          <a:xfrm>
            <a:off x="1945800" y="380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4"/>
          <p:cNvSpPr/>
          <p:nvPr/>
        </p:nvSpPr>
        <p:spPr>
          <a:xfrm>
            <a:off x="5316120" y="347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5"/>
          <p:cNvSpPr/>
          <p:nvPr/>
        </p:nvSpPr>
        <p:spPr>
          <a:xfrm>
            <a:off x="6909840" y="4272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6"/>
          <p:cNvSpPr/>
          <p:nvPr/>
        </p:nvSpPr>
        <p:spPr>
          <a:xfrm>
            <a:off x="7560720" y="496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7"/>
          <p:cNvSpPr/>
          <p:nvPr/>
        </p:nvSpPr>
        <p:spPr>
          <a:xfrm>
            <a:off x="477144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8"/>
          <p:cNvSpPr/>
          <p:nvPr/>
        </p:nvSpPr>
        <p:spPr>
          <a:xfrm>
            <a:off x="1231200" y="59562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9"/>
          <p:cNvSpPr/>
          <p:nvPr/>
        </p:nvSpPr>
        <p:spPr>
          <a:xfrm>
            <a:off x="6802200" y="566748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ogus AS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 ASes to th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urn “701 88” into “701 3715 88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tiv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gger loop detection in AS 37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nial-of-service attack on AS 37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, blocking unwanted traffic coming from AS 3715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your AS look like is has richer conne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o can tell the AS path is a li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3715 could, if it could see the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88 could, but would it really ca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7238880" y="1239840"/>
          <a:ext cx="190512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239840"/>
                    <a:ext cx="19051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8029440" y="3083040"/>
          <a:ext cx="1114560" cy="81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29440" y="3083040"/>
                    <a:ext cx="11145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Line 8"/>
          <p:cNvSpPr/>
          <p:nvPr/>
        </p:nvSpPr>
        <p:spPr>
          <a:xfrm>
            <a:off x="8305920" y="2514600"/>
            <a:ext cx="22860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7911720" y="1676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0"/>
          <p:cNvSpPr/>
          <p:nvPr/>
        </p:nvSpPr>
        <p:spPr>
          <a:xfrm>
            <a:off x="8372520" y="3276720"/>
            <a:ext cx="46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ogus AS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s AS hop(s) at the end of th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urns “701 88” into “701 88 3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tiv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de detection for a bogus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by adding the legitimate AS to the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rd to tell that the AS path is bogus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if other ASes filter based on prefix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2935440" y="4735440"/>
          <a:ext cx="190476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473544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1690560" y="5810400"/>
          <a:ext cx="1114560" cy="81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0560" y="5810400"/>
                    <a:ext cx="11145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Text Box 9"/>
          <p:cNvSpPr/>
          <p:nvPr/>
        </p:nvSpPr>
        <p:spPr>
          <a:xfrm>
            <a:off x="3573000" y="5197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0"/>
          <p:cNvSpPr/>
          <p:nvPr/>
        </p:nvSpPr>
        <p:spPr>
          <a:xfrm>
            <a:off x="2060640" y="600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3"/>
          <p:cNvSpPr/>
          <p:nvPr/>
        </p:nvSpPr>
        <p:spPr>
          <a:xfrm flipV="1">
            <a:off x="2689200" y="5771880"/>
            <a:ext cx="652320" cy="230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6799320" y="5541840"/>
          <a:ext cx="1114200" cy="81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99320" y="5541840"/>
                    <a:ext cx="111420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Text Box 17"/>
          <p:cNvSpPr/>
          <p:nvPr/>
        </p:nvSpPr>
        <p:spPr>
          <a:xfrm>
            <a:off x="7249680" y="5734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8"/>
          <p:cNvSpPr/>
          <p:nvPr/>
        </p:nvSpPr>
        <p:spPr>
          <a:xfrm>
            <a:off x="6526440" y="62704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.0.0.0/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9"/>
          <p:cNvSpPr/>
          <p:nvPr/>
        </p:nvSpPr>
        <p:spPr>
          <a:xfrm>
            <a:off x="227160" y="5964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.0.0.0/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valid Path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 exports a route it shouldn’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path is a valid sequence, but violated poli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: customer misconfigur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rts routes from one provider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acts with provider poli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 prefers customer rou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ing all traffic through custo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in defen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ering routes based on prefixes and AS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7331040" y="4272120"/>
          <a:ext cx="8413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1040" y="4272120"/>
                    <a:ext cx="8413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7969320" y="3359160"/>
          <a:ext cx="129060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69320" y="3359160"/>
                    <a:ext cx="12906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6248520" y="3352680"/>
          <a:ext cx="115092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3352680"/>
                    <a:ext cx="11509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2" name="Line 7"/>
          <p:cNvSpPr/>
          <p:nvPr/>
        </p:nvSpPr>
        <p:spPr>
          <a:xfrm>
            <a:off x="6994440" y="4021200"/>
            <a:ext cx="466920" cy="38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8"/>
          <p:cNvSpPr/>
          <p:nvPr/>
        </p:nvSpPr>
        <p:spPr>
          <a:xfrm flipH="1">
            <a:off x="8046720" y="4021200"/>
            <a:ext cx="298440" cy="37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9"/>
          <p:cNvSpPr/>
          <p:nvPr/>
        </p:nvSpPr>
        <p:spPr>
          <a:xfrm>
            <a:off x="7272360" y="3971880"/>
            <a:ext cx="834840" cy="312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"/>
          <p:cNvSpPr/>
          <p:nvPr/>
        </p:nvSpPr>
        <p:spPr>
          <a:xfrm>
            <a:off x="7383600" y="3741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B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1"/>
          <p:cNvSpPr/>
          <p:nvPr/>
        </p:nvSpPr>
        <p:spPr>
          <a:xfrm>
            <a:off x="6721560" y="4130640"/>
            <a:ext cx="1917720" cy="506520"/>
          </a:xfrm>
          <a:prstGeom prst="pie">
            <a:avLst/>
          </a:prstGeom>
          <a:noFill/>
          <a:ln w="25560">
            <a:solidFill>
              <a:srgbClr val="c050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2"/>
          <p:cNvSpPr/>
          <p:nvPr/>
        </p:nvSpPr>
        <p:spPr>
          <a:xfrm>
            <a:off x="6520680" y="43783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issing/Inconsistent Rout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ers require consistent expor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 advertised at all peering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 advertised with same AS path 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asons for violating the poli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ck neighbor into “cold potat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guration mis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in defen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yzing BGP updates, or traffic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signs of inconsis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7047000" y="5127480"/>
          <a:ext cx="1904760" cy="13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512748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7047000" y="3139920"/>
          <a:ext cx="1904760" cy="13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47000" y="3139920"/>
                    <a:ext cx="190476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Line 6"/>
          <p:cNvSpPr/>
          <p:nvPr/>
        </p:nvSpPr>
        <p:spPr>
          <a:xfrm>
            <a:off x="7385040" y="4213080"/>
            <a:ext cx="0" cy="12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7"/>
          <p:cNvSpPr/>
          <p:nvPr/>
        </p:nvSpPr>
        <p:spPr>
          <a:xfrm>
            <a:off x="8034480" y="4444920"/>
            <a:ext cx="0" cy="835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8"/>
          <p:cNvSpPr/>
          <p:nvPr/>
        </p:nvSpPr>
        <p:spPr>
          <a:xfrm>
            <a:off x="8634240" y="4060800"/>
            <a:ext cx="0" cy="12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9"/>
          <p:cNvSpPr/>
          <p:nvPr/>
        </p:nvSpPr>
        <p:spPr>
          <a:xfrm flipH="1" flipV="1">
            <a:off x="7176960" y="3179520"/>
            <a:ext cx="177840" cy="26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0"/>
          <p:cNvSpPr/>
          <p:nvPr/>
        </p:nvSpPr>
        <p:spPr>
          <a:xfrm flipH="1" flipV="1">
            <a:off x="8642160" y="6044760"/>
            <a:ext cx="177480" cy="268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1"/>
          <p:cNvSpPr/>
          <p:nvPr/>
        </p:nvSpPr>
        <p:spPr>
          <a:xfrm>
            <a:off x="8421840" y="622764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2"/>
          <p:cNvSpPr/>
          <p:nvPr/>
        </p:nvSpPr>
        <p:spPr>
          <a:xfrm>
            <a:off x="6468120" y="278280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3"/>
          <p:cNvSpPr/>
          <p:nvPr/>
        </p:nvSpPr>
        <p:spPr>
          <a:xfrm>
            <a:off x="7056360" y="4205160"/>
            <a:ext cx="0" cy="1133640"/>
          </a:xfrm>
          <a:prstGeom prst="line">
            <a:avLst/>
          </a:prstGeom>
          <a:ln w="3168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4"/>
          <p:cNvSpPr/>
          <p:nvPr/>
        </p:nvSpPr>
        <p:spPr>
          <a:xfrm>
            <a:off x="7834320" y="4427640"/>
            <a:ext cx="0" cy="785880"/>
          </a:xfrm>
          <a:prstGeom prst="line">
            <a:avLst/>
          </a:prstGeom>
          <a:ln w="31680">
            <a:solidFill>
              <a:srgbClr val="c050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5"/>
          <p:cNvSpPr/>
          <p:nvPr/>
        </p:nvSpPr>
        <p:spPr>
          <a:xfrm>
            <a:off x="8523360" y="4370400"/>
            <a:ext cx="0" cy="785880"/>
          </a:xfrm>
          <a:prstGeom prst="line">
            <a:avLst/>
          </a:prstGeom>
          <a:ln w="31680">
            <a:solidFill>
              <a:srgbClr val="c050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7355880" y="351792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d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7"/>
          <p:cNvSpPr/>
          <p:nvPr/>
        </p:nvSpPr>
        <p:spPr>
          <a:xfrm>
            <a:off x="7238880" y="3557520"/>
            <a:ext cx="1420920" cy="280368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7440120" y="5546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9"/>
          <p:cNvSpPr/>
          <p:nvPr/>
        </p:nvSpPr>
        <p:spPr>
          <a:xfrm>
            <a:off x="6256080" y="448164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</a:rPr>
              <a:t>B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Security Toda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ying best common practices (BCP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ing the session (authentication, encryp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ering routes by prefix and AS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filters to block unexpected control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s is not good enoug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s on vigilant application of BC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address fundamental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tell who owns the IP address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tell if the AS path is bogus or inval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’t be sure the data packets follow the chosen ro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posed Enhancements to B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122"/>
          <p:cNvGrpSpPr/>
          <p:nvPr/>
        </p:nvGrpSpPr>
        <p:grpSpPr>
          <a:xfrm>
            <a:off x="228600" y="6027840"/>
            <a:ext cx="8686800" cy="1191240"/>
            <a:chOff x="228600" y="6027840"/>
            <a:chExt cx="8686800" cy="1191240"/>
          </a:xfrm>
        </p:grpSpPr>
        <p:pic>
          <p:nvPicPr>
            <p:cNvPr id="763" name="Group 54" descr=""/>
            <p:cNvPicPr/>
            <p:nvPr/>
          </p:nvPicPr>
          <p:blipFill>
            <a:blip r:embed="rId1"/>
            <a:stretch/>
          </p:blipFill>
          <p:spPr>
            <a:xfrm>
              <a:off x="8491680" y="6070680"/>
              <a:ext cx="4237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Rectangle 133"/>
            <p:cNvSpPr/>
            <p:nvPr/>
          </p:nvSpPr>
          <p:spPr>
            <a:xfrm>
              <a:off x="228600" y="6027840"/>
              <a:ext cx="832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Comic Sans MS"/>
                </a:rPr>
                <a:t>Public Key Signature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 Anyone who knows v’s public key can verify that the message was sent by v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209"/>
          <p:cNvGrpSpPr/>
          <p:nvPr/>
        </p:nvGrpSpPr>
        <p:grpSpPr>
          <a:xfrm>
            <a:off x="914400" y="2133720"/>
            <a:ext cx="7162920" cy="3276360"/>
            <a:chOff x="914400" y="2133720"/>
            <a:chExt cx="7162920" cy="3276360"/>
          </a:xfrm>
        </p:grpSpPr>
        <p:grpSp>
          <p:nvGrpSpPr>
            <p:cNvPr id="766" name="Cloud 215"/>
            <p:cNvGrpSpPr/>
            <p:nvPr/>
          </p:nvGrpSpPr>
          <p:grpSpPr>
            <a:xfrm>
              <a:off x="914400" y="2133720"/>
              <a:ext cx="1918080" cy="1146960"/>
              <a:chOff x="914400" y="2133720"/>
              <a:chExt cx="1918080" cy="1146960"/>
            </a:xfrm>
          </p:grpSpPr>
          <p:pic>
            <p:nvPicPr>
              <p:cNvPr id="767" name="Cloud 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14400" y="2133720"/>
                <a:ext cx="1918080" cy="114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8" name=""/>
              <p:cNvSpPr/>
              <p:nvPr/>
            </p:nvSpPr>
            <p:spPr>
              <a:xfrm>
                <a:off x="1227960" y="2318400"/>
                <a:ext cx="11746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a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Comic Sans MS"/>
                    <a:ea typeface="Arial"/>
                  </a:rPr>
                  <a:t>1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Cloud 216"/>
            <p:cNvGrpSpPr/>
            <p:nvPr/>
          </p:nvGrpSpPr>
          <p:grpSpPr>
            <a:xfrm>
              <a:off x="5715720" y="3898440"/>
              <a:ext cx="1390680" cy="776520"/>
              <a:chOff x="5715720" y="3898440"/>
              <a:chExt cx="1390680" cy="776520"/>
            </a:xfrm>
          </p:grpSpPr>
          <p:pic>
            <p:nvPicPr>
              <p:cNvPr id="770" name="Cloud 216" descr=""/>
              <p:cNvPicPr/>
              <p:nvPr/>
            </p:nvPicPr>
            <p:blipFill>
              <a:blip r:embed="rId3"/>
              <a:stretch/>
            </p:blipFill>
            <p:spPr>
              <a:xfrm>
                <a:off x="5715720" y="3898440"/>
                <a:ext cx="1390680" cy="7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1" name=""/>
              <p:cNvSpPr/>
              <p:nvPr/>
            </p:nvSpPr>
            <p:spPr>
              <a:xfrm>
                <a:off x="5951160" y="4027680"/>
                <a:ext cx="8319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a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Comic Sans MS"/>
                    <a:ea typeface="Arial"/>
                  </a:rPr>
                  <a:t>2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Cloud 217"/>
            <p:cNvGrpSpPr/>
            <p:nvPr/>
          </p:nvGrpSpPr>
          <p:grpSpPr>
            <a:xfrm>
              <a:off x="3689640" y="2280600"/>
              <a:ext cx="1618200" cy="847080"/>
              <a:chOff x="3689640" y="2280600"/>
              <a:chExt cx="1618200" cy="847080"/>
            </a:xfrm>
          </p:grpSpPr>
          <p:pic>
            <p:nvPicPr>
              <p:cNvPr id="773" name="Cloud 2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689640" y="2280600"/>
                <a:ext cx="1618200" cy="84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"/>
              <p:cNvSpPr/>
              <p:nvPr/>
            </p:nvSpPr>
            <p:spPr>
              <a:xfrm>
                <a:off x="3958920" y="2421000"/>
                <a:ext cx="978840" cy="47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v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5" name="Cloud 218"/>
            <p:cNvGrpSpPr/>
            <p:nvPr/>
          </p:nvGrpSpPr>
          <p:grpSpPr>
            <a:xfrm>
              <a:off x="6159240" y="2133720"/>
              <a:ext cx="1918080" cy="1146960"/>
              <a:chOff x="6159240" y="2133720"/>
              <a:chExt cx="1918080" cy="1146960"/>
            </a:xfrm>
          </p:grpSpPr>
          <p:pic>
            <p:nvPicPr>
              <p:cNvPr id="776" name="Cloud 2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9240" y="2133720"/>
                <a:ext cx="1918080" cy="114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7" name=""/>
              <p:cNvSpPr/>
              <p:nvPr/>
            </p:nvSpPr>
            <p:spPr>
              <a:xfrm>
                <a:off x="6472800" y="2318400"/>
                <a:ext cx="11746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a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Comic Sans MS"/>
                    <a:ea typeface="Arial"/>
                  </a:rPr>
                  <a:t>3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Cloud 219"/>
            <p:cNvGrpSpPr/>
            <p:nvPr/>
          </p:nvGrpSpPr>
          <p:grpSpPr>
            <a:xfrm>
              <a:off x="3617640" y="4633560"/>
              <a:ext cx="1390680" cy="776520"/>
              <a:chOff x="3617640" y="4633560"/>
              <a:chExt cx="1390680" cy="776520"/>
            </a:xfrm>
          </p:grpSpPr>
          <p:pic>
            <p:nvPicPr>
              <p:cNvPr id="779" name="Cloud 2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617640" y="4633560"/>
                <a:ext cx="1390680" cy="77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"/>
              <p:cNvSpPr/>
              <p:nvPr/>
            </p:nvSpPr>
            <p:spPr>
              <a:xfrm>
                <a:off x="3853080" y="4762800"/>
                <a:ext cx="8319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m</a:t>
                </a:r>
                <a:endParaRPr b="1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Straight Connector 160"/>
            <p:cNvSpPr/>
            <p:nvPr/>
          </p:nvSpPr>
          <p:spPr>
            <a:xfrm flipV="1">
              <a:off x="4950360" y="4258800"/>
              <a:ext cx="829080" cy="7351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Straight Connector 160"/>
            <p:cNvSpPr/>
            <p:nvPr/>
          </p:nvSpPr>
          <p:spPr>
            <a:xfrm flipV="1">
              <a:off x="6411960" y="3191400"/>
              <a:ext cx="711720" cy="774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Straight Connector 160"/>
            <p:cNvSpPr/>
            <p:nvPr/>
          </p:nvSpPr>
          <p:spPr>
            <a:xfrm flipH="1" flipV="1">
              <a:off x="1879200" y="3191040"/>
              <a:ext cx="1802160" cy="180252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Straight Connector 160"/>
            <p:cNvSpPr/>
            <p:nvPr/>
          </p:nvSpPr>
          <p:spPr>
            <a:xfrm>
              <a:off x="2777040" y="2677680"/>
              <a:ext cx="9799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60"/>
            <p:cNvSpPr/>
            <p:nvPr/>
          </p:nvSpPr>
          <p:spPr>
            <a:xfrm>
              <a:off x="5251320" y="2677680"/>
              <a:ext cx="97956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traight Connector 160"/>
            <p:cNvSpPr/>
            <p:nvPr/>
          </p:nvSpPr>
          <p:spPr>
            <a:xfrm flipH="1">
              <a:off x="4080240" y="3044520"/>
              <a:ext cx="421200" cy="147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7" name="Group 65" descr=""/>
            <p:cNvPicPr/>
            <p:nvPr/>
          </p:nvPicPr>
          <p:blipFill>
            <a:blip r:embed="rId7"/>
            <a:stretch/>
          </p:blipFill>
          <p:spPr>
            <a:xfrm>
              <a:off x="3162240" y="3180600"/>
              <a:ext cx="18759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8" name="Rectangle 2"/>
          <p:cNvSpPr/>
          <p:nvPr/>
        </p:nvSpPr>
        <p:spPr>
          <a:xfrm>
            <a:off x="0" y="7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160"/>
          <p:cNvSpPr/>
          <p:nvPr/>
        </p:nvSpPr>
        <p:spPr>
          <a:xfrm flipV="1">
            <a:off x="6438240" y="3198600"/>
            <a:ext cx="723960" cy="80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160"/>
          <p:cNvSpPr/>
          <p:nvPr/>
        </p:nvSpPr>
        <p:spPr>
          <a:xfrm flipH="1" flipV="1">
            <a:off x="1828440" y="3198960"/>
            <a:ext cx="1833480" cy="1868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traight Connector 160"/>
          <p:cNvSpPr/>
          <p:nvPr/>
        </p:nvSpPr>
        <p:spPr>
          <a:xfrm>
            <a:off x="2741760" y="2666880"/>
            <a:ext cx="9968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traight Connector 160"/>
          <p:cNvSpPr/>
          <p:nvPr/>
        </p:nvSpPr>
        <p:spPr>
          <a:xfrm>
            <a:off x="5257800" y="2666880"/>
            <a:ext cx="99684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147"/>
          <p:cNvGrpSpPr/>
          <p:nvPr/>
        </p:nvGrpSpPr>
        <p:grpSpPr>
          <a:xfrm>
            <a:off x="914400" y="1600200"/>
            <a:ext cx="3276720" cy="533520"/>
            <a:chOff x="914400" y="1600200"/>
            <a:chExt cx="3276720" cy="533520"/>
          </a:xfrm>
        </p:grpSpPr>
        <p:pic>
          <p:nvPicPr>
            <p:cNvPr id="794" name="AutoShape 148" descr=""/>
            <p:cNvPicPr/>
            <p:nvPr/>
          </p:nvPicPr>
          <p:blipFill>
            <a:blip r:embed="rId8"/>
            <a:stretch/>
          </p:blipFill>
          <p:spPr>
            <a:xfrm>
              <a:off x="914400" y="1600200"/>
              <a:ext cx="327672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5" name="Group 121"/>
            <p:cNvGrpSpPr/>
            <p:nvPr/>
          </p:nvGrpSpPr>
          <p:grpSpPr>
            <a:xfrm>
              <a:off x="1093680" y="1662840"/>
              <a:ext cx="2910240" cy="213480"/>
              <a:chOff x="1093680" y="1662840"/>
              <a:chExt cx="2910240" cy="213480"/>
            </a:xfrm>
          </p:grpSpPr>
          <p:sp>
            <p:nvSpPr>
              <p:cNvPr id="796" name="Rectangle 56"/>
              <p:cNvSpPr/>
              <p:nvPr/>
            </p:nvSpPr>
            <p:spPr>
              <a:xfrm>
                <a:off x="1093680" y="1662840"/>
                <a:ext cx="2587320" cy="125640"/>
              </a:xfrm>
              <a:prstGeom prst="rect">
                <a:avLst/>
              </a:prstGeom>
              <a:solidFill>
                <a:srgbClr val="ffc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:  (v, Prefix)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7" name="Group 106" descr=""/>
              <p:cNvPicPr/>
              <p:nvPr/>
            </p:nvPicPr>
            <p:blipFill>
              <a:blip r:embed="rId9"/>
              <a:stretch/>
            </p:blipFill>
            <p:spPr>
              <a:xfrm>
                <a:off x="3302640" y="1728000"/>
                <a:ext cx="701280" cy="14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98" name="Group 189"/>
          <p:cNvGrpSpPr/>
          <p:nvPr/>
        </p:nvGrpSpPr>
        <p:grpSpPr>
          <a:xfrm>
            <a:off x="152280" y="5638680"/>
            <a:ext cx="4114800" cy="990720"/>
            <a:chOff x="152280" y="5638680"/>
            <a:chExt cx="4114800" cy="990720"/>
          </a:xfrm>
        </p:grpSpPr>
        <p:pic>
          <p:nvPicPr>
            <p:cNvPr id="799" name="AutoShape 149" descr=""/>
            <p:cNvPicPr/>
            <p:nvPr/>
          </p:nvPicPr>
          <p:blipFill>
            <a:blip r:embed="rId10"/>
            <a:stretch/>
          </p:blipFill>
          <p:spPr>
            <a:xfrm>
              <a:off x="152280" y="5638680"/>
              <a:ext cx="41148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Rectangle 77"/>
            <p:cNvSpPr/>
            <p:nvPr/>
          </p:nvSpPr>
          <p:spPr>
            <a:xfrm>
              <a:off x="263520" y="6347160"/>
              <a:ext cx="2545920" cy="84600"/>
            </a:xfrm>
            <a:prstGeom prst="rect">
              <a:avLst/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:   (v, Prefix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1" name="Group 106" descr=""/>
            <p:cNvPicPr/>
            <p:nvPr/>
          </p:nvPicPr>
          <p:blipFill>
            <a:blip r:embed="rId11"/>
            <a:stretch/>
          </p:blipFill>
          <p:spPr>
            <a:xfrm>
              <a:off x="2535480" y="6392160"/>
              <a:ext cx="668880" cy="1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Rectangle 79"/>
            <p:cNvSpPr/>
            <p:nvPr/>
          </p:nvSpPr>
          <p:spPr>
            <a:xfrm>
              <a:off x="263520" y="6474240"/>
              <a:ext cx="3273120" cy="84600"/>
            </a:xfrm>
            <a:prstGeom prst="rect">
              <a:avLst/>
            </a:prstGeom>
            <a:solidFill>
              <a:srgbClr val="9ae6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:    (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, v, Prefix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3" name="Group 106" descr=""/>
            <p:cNvPicPr/>
            <p:nvPr/>
          </p:nvPicPr>
          <p:blipFill>
            <a:blip r:embed="rId12"/>
            <a:stretch/>
          </p:blipFill>
          <p:spPr>
            <a:xfrm>
              <a:off x="3263400" y="6519240"/>
              <a:ext cx="668880" cy="10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4" name="Line 151"/>
          <p:cNvSpPr/>
          <p:nvPr/>
        </p:nvSpPr>
        <p:spPr>
          <a:xfrm flipH="1">
            <a:off x="2666520" y="2666880"/>
            <a:ext cx="1143000" cy="0"/>
          </a:xfrm>
          <a:prstGeom prst="line">
            <a:avLst/>
          </a:prstGeom>
          <a:ln w="127080">
            <a:solidFill>
              <a:srgbClr val="1f49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Group 79" descr=""/>
          <p:cNvPicPr/>
          <p:nvPr/>
        </p:nvPicPr>
        <p:blipFill>
          <a:blip r:embed="rId13"/>
          <a:stretch/>
        </p:blipFill>
        <p:spPr>
          <a:xfrm>
            <a:off x="5999040" y="2773440"/>
            <a:ext cx="914400" cy="542880"/>
          </a:xfrm>
          <a:prstGeom prst="rect">
            <a:avLst/>
          </a:prstGeom>
          <a:ln w="0">
            <a:noFill/>
          </a:ln>
        </p:spPr>
      </p:pic>
      <p:pic>
        <p:nvPicPr>
          <p:cNvPr id="806" name="Group 85" descr=""/>
          <p:cNvPicPr/>
          <p:nvPr/>
        </p:nvPicPr>
        <p:blipFill>
          <a:blip r:embed="rId14"/>
          <a:stretch/>
        </p:blipFill>
        <p:spPr>
          <a:xfrm>
            <a:off x="3486240" y="2700360"/>
            <a:ext cx="909720" cy="542880"/>
          </a:xfrm>
          <a:prstGeom prst="rect">
            <a:avLst/>
          </a:prstGeom>
          <a:ln w="0">
            <a:noFill/>
          </a:ln>
        </p:spPr>
      </p:pic>
      <p:pic>
        <p:nvPicPr>
          <p:cNvPr id="807" name="Group 79" descr=""/>
          <p:cNvPicPr/>
          <p:nvPr/>
        </p:nvPicPr>
        <p:blipFill>
          <a:blip r:embed="rId15"/>
          <a:stretch/>
        </p:blipFill>
        <p:spPr>
          <a:xfrm>
            <a:off x="817560" y="2852640"/>
            <a:ext cx="914400" cy="542880"/>
          </a:xfrm>
          <a:prstGeom prst="rect">
            <a:avLst/>
          </a:prstGeom>
          <a:ln w="0">
            <a:noFill/>
          </a:ln>
        </p:spPr>
      </p:pic>
      <p:pic>
        <p:nvPicPr>
          <p:cNvPr id="808" name="Group 79" descr=""/>
          <p:cNvPicPr/>
          <p:nvPr/>
        </p:nvPicPr>
        <p:blipFill>
          <a:blip r:embed="rId16"/>
          <a:stretch/>
        </p:blipFill>
        <p:spPr>
          <a:xfrm>
            <a:off x="3333600" y="5059440"/>
            <a:ext cx="909720" cy="542880"/>
          </a:xfrm>
          <a:prstGeom prst="rect">
            <a:avLst/>
          </a:prstGeom>
          <a:ln w="0">
            <a:noFill/>
          </a:ln>
        </p:spPr>
      </p:pic>
      <p:sp>
        <p:nvSpPr>
          <p:cNvPr id="809" name="Can 121"/>
          <p:cNvSpPr/>
          <p:nvPr/>
        </p:nvSpPr>
        <p:spPr>
          <a:xfrm>
            <a:off x="8305920" y="76320"/>
            <a:ext cx="761760" cy="685800"/>
          </a:xfrm>
          <a:prstGeom prst="can">
            <a:avLst>
              <a:gd name="adj" fmla="val 25000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199"/>
          <p:cNvGrpSpPr/>
          <p:nvPr/>
        </p:nvGrpSpPr>
        <p:grpSpPr>
          <a:xfrm>
            <a:off x="8381880" y="152280"/>
            <a:ext cx="381240" cy="990720"/>
            <a:chOff x="8381880" y="152280"/>
            <a:chExt cx="381240" cy="990720"/>
          </a:xfrm>
        </p:grpSpPr>
        <p:pic>
          <p:nvPicPr>
            <p:cNvPr id="811" name="Group 79" descr=""/>
            <p:cNvPicPr/>
            <p:nvPr/>
          </p:nvPicPr>
          <p:blipFill>
            <a:blip r:embed="rId17"/>
            <a:stretch/>
          </p:blipFill>
          <p:spPr>
            <a:xfrm>
              <a:off x="8381880" y="508680"/>
              <a:ext cx="3812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Group 85" descr=""/>
            <p:cNvPicPr/>
            <p:nvPr/>
          </p:nvPicPr>
          <p:blipFill>
            <a:blip r:embed="rId18"/>
            <a:stretch/>
          </p:blipFill>
          <p:spPr>
            <a:xfrm>
              <a:off x="8381880" y="415800"/>
              <a:ext cx="3812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3" name="Group 79" descr=""/>
            <p:cNvPicPr/>
            <p:nvPr/>
          </p:nvPicPr>
          <p:blipFill>
            <a:blip r:embed="rId19"/>
            <a:stretch/>
          </p:blipFill>
          <p:spPr>
            <a:xfrm>
              <a:off x="8381880" y="330480"/>
              <a:ext cx="3812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4" name="Group 79" descr=""/>
            <p:cNvPicPr/>
            <p:nvPr/>
          </p:nvPicPr>
          <p:blipFill>
            <a:blip r:embed="rId20"/>
            <a:stretch/>
          </p:blipFill>
          <p:spPr>
            <a:xfrm>
              <a:off x="8381880" y="237600"/>
              <a:ext cx="3812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5" name="Group 79" descr=""/>
            <p:cNvPicPr/>
            <p:nvPr/>
          </p:nvPicPr>
          <p:blipFill>
            <a:blip r:embed="rId21"/>
            <a:stretch/>
          </p:blipFill>
          <p:spPr>
            <a:xfrm>
              <a:off x="8381880" y="152280"/>
              <a:ext cx="381240" cy="63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6" name="Group 79" descr=""/>
          <p:cNvPicPr/>
          <p:nvPr/>
        </p:nvPicPr>
        <p:blipFill>
          <a:blip r:embed="rId22"/>
          <a:stretch/>
        </p:blipFill>
        <p:spPr>
          <a:xfrm>
            <a:off x="5541840" y="4376880"/>
            <a:ext cx="914400" cy="54288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cure B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8" name="Rounded Rectangle 198"/>
          <p:cNvSpPr/>
          <p:nvPr/>
        </p:nvSpPr>
        <p:spPr>
          <a:xfrm>
            <a:off x="0" y="685800"/>
            <a:ext cx="9144000" cy="83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rigin Authentication + cryptographic signa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-BGP Secure Version of B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ress attest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im the right to originate a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ed and distributed out-of-b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ed through delegation chain from ICAN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e attest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as an attribute in BGP update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ed by each AS as route traverses th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-BGP can valid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path indicates the order ASes were traver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intermediate ASes were added or remov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-BGP Deployment Challen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lete, accurate registries of prefix “owner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ublic Key Infrastruct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know the public key for any given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ryptographic oper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digital signatures on BGP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ed to perform operations quickl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void delaying response to routing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fficulty of incremental deploy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 to have a “flag day” to deploy S-BG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crementally Deployable Solutions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ckwards compati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s to router hardware or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ooperation from other 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entives for early adop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ity benefits for ASes that deploy the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further incentives for others to deplo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kind of solutions are possibl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suspicious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n filtering or depreferenc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order Gateway Protocol (BG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684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es exchange reachability inform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: block of addresses (an “IP prefix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path: sequence of ASes along the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licies configured by network operat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selection: which of the paths to u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h export: which neighbors to tel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6315120" y="4572000"/>
          <a:ext cx="26478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5120" y="4572000"/>
                    <a:ext cx="26478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3481560" y="5049720"/>
          <a:ext cx="129060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1560" y="5049720"/>
                    <a:ext cx="129060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690480" y="5205240"/>
          <a:ext cx="833400" cy="70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0480" y="5205240"/>
                    <a:ext cx="833400" cy="7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Line 7"/>
          <p:cNvSpPr/>
          <p:nvPr/>
        </p:nvSpPr>
        <p:spPr>
          <a:xfrm flipV="1">
            <a:off x="1085760" y="5814720"/>
            <a:ext cx="0" cy="39996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"/>
          <p:cNvSpPr/>
          <p:nvPr/>
        </p:nvSpPr>
        <p:spPr>
          <a:xfrm>
            <a:off x="4700520" y="5562720"/>
            <a:ext cx="181476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954360" y="5332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3969000" y="5329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7440840" y="5329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2"/>
          <p:cNvSpPr/>
          <p:nvPr/>
        </p:nvSpPr>
        <p:spPr>
          <a:xfrm>
            <a:off x="1452600" y="5572080"/>
            <a:ext cx="215748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908280" y="6232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371240" y="47242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can reach 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5"/>
          <p:cNvSpPr/>
          <p:nvPr/>
        </p:nvSpPr>
        <p:spPr>
          <a:xfrm>
            <a:off x="1514520" y="523404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6"/>
          <p:cNvSpPr/>
          <p:nvPr/>
        </p:nvSpPr>
        <p:spPr>
          <a:xfrm>
            <a:off x="4361760" y="4352760"/>
            <a:ext cx="246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can reach 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a AS 1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7"/>
          <p:cNvSpPr/>
          <p:nvPr/>
        </p:nvSpPr>
        <p:spPr>
          <a:xfrm>
            <a:off x="4610160" y="505764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1593360" y="56674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4649040" y="566892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data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tecting Suspicious Rout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nitoring BGP update mess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past history as an implicit regi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.g., AS that announces each address blo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 18.0.0.0/8 usually originated by AS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.g., AS-level edges and paths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seen the subpath “7018 88 1785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ut-of-band detection mechanis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te reports and ale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Alert Registry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ar.cs.unm.ed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 Hijack Alert System: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phas.netsec.colostate.ed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voiding Suspicious Rout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ft response to suspicious rout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er routes that agree with the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 adoption of unfamiliar routes when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y is this good enough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attacks will go away on their 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someone else be the victim instead of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network operators time to investig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well would it work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op ~40 largest ASes applied the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ther ASes are protected, t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 About Packet Forwarding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trol Plane vs. Data Plan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rol pla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security concerns validity of routing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did the BGP message follow the sequence of ASes listed in the AS-path attrib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pla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s forward data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dly along path chosen in the control pl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what ensures that this is tru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39C4-3D4E-4925-8B52-E079BBA1950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6"/>
          <p:cNvSpPr/>
          <p:nvPr/>
        </p:nvSpPr>
        <p:spPr>
          <a:xfrm>
            <a:off x="2844720" y="5694480"/>
            <a:ext cx="192240" cy="269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7"/>
          <p:cNvSpPr/>
          <p:nvPr/>
        </p:nvSpPr>
        <p:spPr>
          <a:xfrm>
            <a:off x="3265560" y="5694480"/>
            <a:ext cx="191880" cy="269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4" descr=""/>
          <p:cNvPicPr/>
          <p:nvPr/>
        </p:nvPicPr>
        <p:blipFill>
          <a:blip r:embed="rId1"/>
          <a:stretch/>
        </p:blipFill>
        <p:spPr>
          <a:xfrm>
            <a:off x="2766960" y="5835600"/>
            <a:ext cx="839880" cy="55080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5" descr=""/>
          <p:cNvPicPr/>
          <p:nvPr/>
        </p:nvPicPr>
        <p:blipFill>
          <a:blip r:embed="rId2"/>
          <a:stretch/>
        </p:blipFill>
        <p:spPr>
          <a:xfrm>
            <a:off x="4417920" y="5297400"/>
            <a:ext cx="839880" cy="55080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6" descr=""/>
          <p:cNvPicPr/>
          <p:nvPr/>
        </p:nvPicPr>
        <p:blipFill>
          <a:blip r:embed="rId3"/>
          <a:stretch/>
        </p:blipFill>
        <p:spPr>
          <a:xfrm>
            <a:off x="4456080" y="6103800"/>
            <a:ext cx="839880" cy="551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7" descr=""/>
          <p:cNvPicPr/>
          <p:nvPr/>
        </p:nvPicPr>
        <p:blipFill>
          <a:blip r:embed="rId4"/>
          <a:stretch/>
        </p:blipFill>
        <p:spPr>
          <a:xfrm>
            <a:off x="6151680" y="6091200"/>
            <a:ext cx="839520" cy="550800"/>
          </a:xfrm>
          <a:prstGeom prst="rect">
            <a:avLst/>
          </a:prstGeom>
          <a:ln w="0">
            <a:noFill/>
          </a:ln>
        </p:spPr>
      </p:pic>
      <p:sp>
        <p:nvSpPr>
          <p:cNvPr id="840" name="Line 8"/>
          <p:cNvSpPr/>
          <p:nvPr/>
        </p:nvSpPr>
        <p:spPr>
          <a:xfrm>
            <a:off x="3533760" y="6066000"/>
            <a:ext cx="960480" cy="26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9"/>
          <p:cNvSpPr/>
          <p:nvPr/>
        </p:nvSpPr>
        <p:spPr>
          <a:xfrm flipV="1">
            <a:off x="3457440" y="5605200"/>
            <a:ext cx="998640" cy="307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0"/>
          <p:cNvSpPr/>
          <p:nvPr/>
        </p:nvSpPr>
        <p:spPr>
          <a:xfrm>
            <a:off x="5224320" y="6373800"/>
            <a:ext cx="960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11" descr="MCj04359310000[1]"/>
          <p:cNvPicPr/>
          <p:nvPr/>
        </p:nvPicPr>
        <p:blipFill>
          <a:blip r:embed="rId5"/>
          <a:stretch/>
        </p:blipFill>
        <p:spPr>
          <a:xfrm>
            <a:off x="7029360" y="5913360"/>
            <a:ext cx="922320" cy="73044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12" descr="MCj04244920000[1]"/>
          <p:cNvPicPr/>
          <p:nvPr/>
        </p:nvPicPr>
        <p:blipFill>
          <a:blip r:embed="rId6"/>
          <a:stretch/>
        </p:blipFill>
        <p:spPr>
          <a:xfrm>
            <a:off x="5224320" y="5067360"/>
            <a:ext cx="1266840" cy="762120"/>
          </a:xfrm>
          <a:prstGeom prst="rect">
            <a:avLst/>
          </a:prstGeom>
          <a:ln w="0">
            <a:noFill/>
          </a:ln>
        </p:spPr>
      </p:pic>
      <p:sp>
        <p:nvSpPr>
          <p:cNvPr id="845" name="Line 13"/>
          <p:cNvSpPr/>
          <p:nvPr/>
        </p:nvSpPr>
        <p:spPr>
          <a:xfrm>
            <a:off x="1768320" y="6078600"/>
            <a:ext cx="1036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15" descr="MCj04326420000[1]"/>
          <p:cNvPicPr/>
          <p:nvPr/>
        </p:nvPicPr>
        <p:blipFill>
          <a:blip r:embed="rId7"/>
          <a:stretch/>
        </p:blipFill>
        <p:spPr>
          <a:xfrm>
            <a:off x="770040" y="5580000"/>
            <a:ext cx="99828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-Plane Attacks, Part 1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 packets in the data pla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still sending the routing announc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sier to evade detection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pecially if you only drop some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, oh, say, BitTorrent or Skype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en easier if you just slow down some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ifferent are normal congestion and an attac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pecially if you let traceroute packets throug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-Plane Attacks, Part 2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 packets in a different dir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greeing with the routing announc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rect packets to a different destin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one the adversary contr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to do at that bogus destination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ersonate the legitimate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oop on traffic and forward along to real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detec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eroute?  Longer than usual delay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-to-end checks, like site certificate or encryp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-Plane Attacks are Hard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ersary must control a router along th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at the traffic flows through hi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get control a rou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y access to a compromised router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ess the password, exploit router vulner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ider attack (disgruntled network operat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lice vs. gre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ce: gain control of someone else’s ro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ed: Verizon DSL blocks Skype to encourage me to use (Verizon) landline ph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’s the Internet to Do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is So Vulnerab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ral high-profile ou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merit.edu/mail.archives/nanog/1997-04/msg00380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renesys.com/blog/2005/12/internetwide_nearcatastrophela.s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renesys.com/blog/2006/01/coned_steals_the_net.s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renesys.com/blog/2008/02/pakistan_hijacks_youtube_1.s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theregister.co.uk/2010/04/09/china_bgp_interweb_snaf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ny smaller exampl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holing a single destination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jacking unallocated addresses to send sp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y isn’t it an even bigger deal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ly, most big outages are configuration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bad guys want the Internet to stay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is So Hard to Fix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lex syst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, with around 40,000 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ntralized control among competitive 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rd to reach agreement on the right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-BGP with PKI, registries, and cryp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should be in charge of running PKI &amp; registri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ry about data-plane attacks or just control pla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rd to deploy the solution once you pick i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 enough to get ASes to apply route fil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you want them to upgrade to a new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Session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net protocols designed based on tru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iders are good guys, bad guys on the out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rder Gateway Protocol is very vulner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e that holds the Internet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 for an AS to locally identify bogus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ks can have very serious global consequ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posed solutions/approach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e variants of the Border Gateway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maly detection, with automated respo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ader focus on data-plane avai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Connection Underlying BGP Ses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GP session runs over TC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connection between neighboring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messages sent over TCP 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BGP vulnerable to attacks on T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4" descr=""/>
          <p:cNvPicPr/>
          <p:nvPr/>
        </p:nvPicPr>
        <p:blipFill>
          <a:blip r:embed="rId1"/>
          <a:stretch/>
        </p:blipFill>
        <p:spPr>
          <a:xfrm>
            <a:off x="2057400" y="5097600"/>
            <a:ext cx="2382840" cy="4275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2"/>
          <a:stretch/>
        </p:blipFill>
        <p:spPr>
          <a:xfrm>
            <a:off x="5737320" y="5099040"/>
            <a:ext cx="2720880" cy="4273560"/>
          </a:xfrm>
          <a:prstGeom prst="rect">
            <a:avLst/>
          </a:prstGeom>
          <a:ln w="0">
            <a:noFill/>
          </a:ln>
        </p:spPr>
      </p:pic>
      <p:sp>
        <p:nvSpPr>
          <p:cNvPr id="572" name="Freeform 7"/>
          <p:cNvSpPr/>
          <p:nvPr/>
        </p:nvSpPr>
        <p:spPr>
          <a:xfrm>
            <a:off x="2443320" y="4197240"/>
            <a:ext cx="3792240" cy="95724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3886200" y="38098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GP s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2833560" y="5491080"/>
            <a:ext cx="31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9"/>
          <p:cNvSpPr/>
          <p:nvPr/>
        </p:nvSpPr>
        <p:spPr>
          <a:xfrm>
            <a:off x="2738520" y="5370480"/>
            <a:ext cx="30528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ttacks on Session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fidentia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vesdropping by tapping the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rring routing policies and st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g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mpering by dropping, modifying, adding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ing, filtering, or replaying BGP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ail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tting the session or congesting the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rupting communication and overloading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"/>
          <p:cNvPicPr/>
          <p:nvPr/>
        </p:nvPicPr>
        <p:blipFill>
          <a:blip r:embed="rId1"/>
          <a:stretch/>
        </p:blipFill>
        <p:spPr>
          <a:xfrm>
            <a:off x="6642000" y="1886040"/>
            <a:ext cx="1130400" cy="26859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5" descr=""/>
          <p:cNvPicPr/>
          <p:nvPr/>
        </p:nvPicPr>
        <p:blipFill>
          <a:blip r:embed="rId2"/>
          <a:stretch/>
        </p:blipFill>
        <p:spPr>
          <a:xfrm>
            <a:off x="8386920" y="1887480"/>
            <a:ext cx="1290600" cy="2684520"/>
          </a:xfrm>
          <a:prstGeom prst="rect">
            <a:avLst/>
          </a:prstGeom>
          <a:ln w="0">
            <a:noFill/>
          </a:ln>
        </p:spPr>
      </p:pic>
      <p:sp>
        <p:nvSpPr>
          <p:cNvPr id="580" name="Freeform 7"/>
          <p:cNvSpPr/>
          <p:nvPr/>
        </p:nvSpPr>
        <p:spPr>
          <a:xfrm>
            <a:off x="6824520" y="1273320"/>
            <a:ext cx="1798920" cy="601560"/>
          </a:xfrm>
          <a:prstGeom prst="pi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7611480" y="83808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BGP s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7008480" y="208584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9"/>
          <p:cNvSpPr/>
          <p:nvPr/>
        </p:nvSpPr>
        <p:spPr>
          <a:xfrm>
            <a:off x="6934320" y="200988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fending Session Security is Eas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GP routing information is propagated widel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dentiality isn’t all that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end-points have a business relationshi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known IP addresses and ports to commun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agree to sign and encrypt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mited physical access to the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physical link, often in same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w volume of special traff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er packets from unexpected se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give BGP packets higher prio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alidity of the routing information: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rigin authentication</a:t>
            </a:r>
            <a:br>
              <a:rPr sz="4400"/>
            </a:b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Address Ownership and Hijack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address block assign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Internet Registries (ARIN, RIPE, APN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Servi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per origination of a prefix into BG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the AS who owns the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, by its upstream provider(s) in its be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ever, what’s to stop someone els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 hijacking: another AS originates the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does not verify that the AS is author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stries of prefix ownership are inaccu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03:42:19Z</dcterms:created>
  <dc:creator>Mike</dc:creator>
  <dc:description/>
  <cp:keywords/>
  <dc:language>en-US</dc:language>
  <cp:lastModifiedBy>Jennifer Rexford</cp:lastModifiedBy>
  <cp:lastPrinted>2012-04-25T04:15:02Z</cp:lastPrinted>
  <dcterms:modified xsi:type="dcterms:W3CDTF">2012-04-25T13:57:03Z</dcterms:modified>
  <cp:revision>4016</cp:revision>
  <dc:subject/>
  <dc:title>Communication</dc:title>
</cp:coreProperties>
</file>