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F049AE-3889-444F-B687-BB57412F5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B676EC-2873-461A-A212-29DB39EB3047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E0C5C0-6BAD-415A-8E12-15FBC1827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7B8D77-A7C7-492A-B8BB-B4B49ECB984C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FCB8352-25B7-424F-B73D-4874D604E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7935FF-35CA-49C7-AB8E-7C2D3261F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33DB73D-A4D3-47DE-9F94-BAA448E31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747AE2-EB31-4B55-B150-96647FABE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940C75-E405-4BDE-9B4D-59F5B34AA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robust:  Can detect duplicates, but not lost or re-order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1: An overview of a securit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2: Description of a packet authentication extension to IPv4 and IPv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6: Description of a packet encryption extension to IPv4 and IPv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8: Specification of key management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3A699B-0E67-4EE0-8D8F-AEF5504CB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48A9EE-F6D8-4C2E-9D19-3DEDB34315D7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552EBC-2160-4FC1-AED1-C2B8D4242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E7A5009-1A11-466A-86EF-4B319025B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4CE4658-AF01-419D-925D-2EE2F93FA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BE65AD-29D1-45D7-AF50-6745ABFDE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F97F4AA-3126-4622-B9AF-45CA30DD8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99E184-656A-49EF-B465-BEFEC4877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87A1DD-A941-4506-A371-C062B1F71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8F8421-834A-4DC1-9C62-0250207E2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4E969F-E1DF-425B-BF74-ABEB5B837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2C5803-DC88-47B4-8F01-2615A68D1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F521EC-5875-4D75-88B9-466E02466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894FFA-29ED-4574-A63E-973A7B7B828B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0470-0B6B-4C3F-BB9E-6A9E4C1F5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D8AB-7071-4A1C-AB8C-31A3EFEFB0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01BF4-E0C8-41D6-B508-6BE53787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2F1D0-8DAA-44C4-ACBF-4FD7C768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4169F-AE21-425A-81AA-D7E34779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F9E00-1C34-473B-8D8D-7FE86DF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7E7DD-714C-4979-84CF-A27ABB5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D9422-DD41-4739-8296-CF544B6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05559-1721-44F1-93B3-60F452A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D7989-71DD-46E1-9D9E-05FBBF5B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9CE04-6E94-4E3D-93DC-D093E4D1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FAA69-9D6A-4A14-A0F6-0EC14AF7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CC77-97DE-446F-846E-ADF59FD9F4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13173-1FE7-4226-97D7-61D02A19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F2B8D-83BE-4596-BB73-BBBE09F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45675-62C9-4C8C-B680-D3426607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CC76D-6A3A-4B00-83EA-8DBD7D7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27856-0DC1-440B-A0D5-EE36DE2D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EA4EE-D7B9-49EF-A8FF-8211FCD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950FC-3BA3-4306-8A0B-1264F4A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CA465-3298-4569-8DC9-A471971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818A3-72D2-493D-A784-51714BC5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85D24-C1AF-48CB-96CA-769F0AF2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DF4E-4EBF-49AE-A3AA-F6A49CF3373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0A803-BF6E-45BF-92CF-018209FB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684EA2-7CF5-435E-86BE-C38E8977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CB5B4E-DE28-4A80-80E8-D0517F0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FF8E93-B5AF-4714-B468-7A9304EC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33D04A-CD4E-4B12-BBD5-2B7DE26E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6995BD-17E2-4D9D-979C-FB29326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E4C8EF-FAC9-4E1C-8B1C-0F7C5629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99C2F5-9765-42BA-AE91-C25DE63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79C7E8-2626-41F6-A61B-EE7226A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33B11E-7B3F-40BF-82AD-56BA004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5C418-A761-47B3-8959-F14CEA9B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0227BA-C621-4AF1-B931-8C5277B8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952C95-A086-4BB8-8372-1AC19E13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14676A-8987-4D1D-949C-95E27B38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6A542-E128-4B31-9BDA-CFFD73C0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2BB9A-8CF0-4F57-BFAF-741E2A35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5679F-BF98-49C2-917D-D6F3115D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6BDE6-3A1E-4270-B379-4C65403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B5583-701D-4E17-A8E4-2528282A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79E2A-9B15-469D-B944-786BC232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F6633-1690-4990-84F5-95EEE2A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38D48-3926-486E-9E27-4E6DF5F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C4D42-F47F-4ADF-A196-1492C8F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013D1-0565-4B2C-8F59-D6866C4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487B1-9E72-4880-8520-4322CA4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0ECC2-5D4B-42FD-B1FA-3775E969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442F8-F06E-4CD2-8E60-DD15045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E2901-5E21-4875-8AE1-84F0EC0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0FC2E-B3E4-4395-846C-1719A1D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06CA3-D052-4FF6-A35D-E7C7CF4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3E221-4EF7-407E-8EB3-BD84BB6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7B84F-AC83-4AFD-91C2-96694884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7CBD-A472-4F53-A647-0239D78CB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EAB6B-448B-46D8-8E8F-7AA98B8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B238-F514-49B6-A11F-EB95E6D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F85B-B3E6-4D12-9393-FE545C0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51119-AD0A-4A20-B870-C25A6691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82C91-C990-45EE-A4D8-9A498AF3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E2C03-2B75-4657-A125-6129BD0D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AA784-1B21-4B7B-930F-325D5C9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0A46C-08EA-4003-9815-72DB14EF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F2AC0-F134-4782-BCB9-ECF30F05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026E4-2F76-40B5-A81F-D0340F7B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0521-B32F-419F-9325-22D719844D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9B6473-8C95-45AA-803B-5AE63BDF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42662-7CAC-4AAE-8C01-7A5A851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BE151-20A7-4619-8F7A-AA574EAD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1C62B-248F-41A2-B798-D42FE3D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11305-ED62-4434-A91C-58260BF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85405-9001-4557-B3A3-85697830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B12DA-201B-4DD6-9830-C0F9C78E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84FEC-755F-4E1C-B5A3-4E26DAFD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4CD24-0C15-40DE-9800-8EC18C3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87E4C-4E7B-4175-A420-97B0C27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6A9E-4622-402A-A9BD-6CED8EE0A9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72028-3C70-4358-BD3C-0D1B6FE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1B9B9-6423-4E6F-8F68-BD179B9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4F906-57B3-4C64-9317-F282D17F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0B613-6C93-4F29-BEF4-7B914BE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73268-207F-4032-B550-61EA456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103BF-9C59-4B6B-A970-D9BBD7B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1821E-10FD-457E-9347-6E5BC924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84405-0A5B-40F0-BD09-7099A15B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B2A77-2104-449A-8D60-EE03674C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05A85-F353-4984-B3A7-8C4EFEA7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957A-CB41-41AB-81AF-CBA40EECBF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8CBC4-5D03-4D55-AD95-2EA4EF0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AADA2-88EA-4E33-945B-E8FB1B8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C08FB-9217-47F0-98A9-0C5773C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605CE-D7F3-4674-95EA-A8F0BAFB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55C1F1-F238-4CFB-A633-350292A0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B949CF-8CF0-4650-A5BA-741902B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005301-D9D1-4071-9758-A14C0A2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3580D-EE5D-4158-B558-406EA29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6CAC0-24A4-428E-8640-66C1068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3E0FD-20D0-4184-895B-BB6E460A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154D-0E22-4607-9F15-9A728B48AD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90466-F0E2-48F6-8E9F-67B14F28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1EFAE5-1325-49F8-BCBD-897D44F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91F78-33D4-4FD9-AC74-40C64BAE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F6175-4A44-4AFD-BB24-D13C4C8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C9901-794A-4D78-B4CB-643D95A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11D925-41CB-4C06-83B3-7BB1435D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44540-7336-43A4-AA4E-0165CDC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37F4A6-F13C-4069-931F-876086B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2D32C7-2CC9-4A29-A18C-7A71638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C2E84-0E47-4ECD-A3E3-003A956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1774-CE08-40C3-BD6E-E0ABFA7E33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1C5EE-EE4A-418B-9028-58BE89D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02A64-E239-4963-ABB8-E8F2C91C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74E33F-C877-4A90-93EA-CD6504B0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C90F8-52B7-4960-B302-02875669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0B46F0-4D19-4B2A-9E4E-947FED7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1856B6-05AE-4A4C-842C-08716794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B21DC2-C519-4282-8512-D03060B4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7995A0-F7D2-41E5-A9BD-EB7DE1D7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637FE-5EBD-4625-B429-E0A68818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E7B748-0BB1-4D76-88EE-609EAFB3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BDC9-F181-4A6A-9237-7BEFF5561A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D6833-0938-4335-B375-6CB579F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D0B18-E34E-4C79-BF9C-29AFA83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9FE30-CFE6-4733-8E9F-1CB825BD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7EE4E3-1CA3-46C1-A2BD-9331B3D1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A63F75-AD13-4EBE-8A38-CA01DD23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53F82-12F6-4B28-A8FD-ADA42734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0EE16-1BA3-4253-894F-8269CAC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E1C72-DE4E-4AAB-A31F-F1C13CC3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5FC925-F717-4BC1-A38E-970FFE99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942658-5AEC-47D9-BF1F-A4CC9E1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10EE-3DA2-4FCF-A54E-619FD89CE73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2D105-EE7D-445A-A5D6-86BB941F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7686B-3FE2-4387-822A-083BDF13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4A3C98-F021-4A1A-9112-7C2C8463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F15BC5-46C1-406B-AAC9-5DE3548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DC8C70-0A77-44A2-9761-A7B0215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1E3C35-EA5A-4CC0-BE2C-82FA1E22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5DF516-A852-44E0-B9EE-B8A62E91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591ED-3684-402D-8913-6E8F3338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44471-DA03-4562-A754-1B1AF0A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93133-145F-4A16-A8E8-D99D94F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25DA-B6CA-4F0C-B45A-8766E6ED4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56A-2E9E-4309-A19F-3D04BBD7EEF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F020-C521-442E-BEA0-8691E08A8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4C44-49B1-4EC4-A95F-3A9652156BD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8E5-23FB-4CF0-A21A-4FE78150F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4EB-56A0-40D3-A692-420C640E58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04EE-1D4A-4BDC-A7D3-95103C16D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7B3C-EFAE-46BC-A3BE-D84FA120169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060E-12E0-4308-9F71-279B895B8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8C30-DCFA-4B71-BDAA-BD46310B082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F9B-FB8F-4EF5-823F-FFDDD7B7C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FBC0-8567-4AD4-BB5C-FEC6926D059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4E3-5934-4FE4-9046-CD3699A49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2DB-7528-443C-A587-3C2BEBE6550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7D12-DCDC-4990-8A13-A4FF0960C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2955-579F-4EC0-8D9E-0A92981C5F7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E46B-A751-4F6C-A4A9-8271052A2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ABE5-59D3-434E-934D-736BA8BEBBF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5FC-8E97-4FD1-90F8-64D250EA8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936F-01C4-4385-B391-2F641CA774E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CF1F-172C-4070-89E9-28A44C51F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FEF7-4943-4B9C-A81C-22BEBB7091F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8D54-50BB-4867-B76A-2206E0388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.com" TargetMode="External"/><Relationship Id="rId2" Type="http://schemas.openxmlformats.org/officeDocument/2006/relationships/hyperlink" Target="http://en.wikipedia.org/wiki/.ne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nounc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an Turing: An Atlantic Perspective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 by Turing biographer Andrew Ho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ight at 8pm in McCosh 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April 27 “precept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cture at 10am in Architecture N1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10am and 11am pre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73C5-2932-4927-BF98-A21096C21D0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ublic Key Certific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nding between identity and a public ke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” is, for example, an e-mail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” ensured using a digital sig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s of a certific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the entity being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key of the entity being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the sig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 algorithm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2E0-7481-4D1B-A1C8-A3FAD565C5D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303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b of Trust for P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centralized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ion against government intr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entral certificate autho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ustomized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decides whom to trust, and how mu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ertificates with different confidence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-signing parties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 and provide public keys in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 other’s keys, and get your key signed b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755B-928B-4981-9C29-8BAEEE7799D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D18A-B69F-4608-B94A-AD90AB7C481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28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TTP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TTP Threat Mod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vesdropper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ing on conversation (confidenti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-in-the-middl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ying content (integr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erso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us website (authentication, confidenti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8C4-F25A-4AF0-83BD-4B1B85F62C2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j0285750"/>
          <p:cNvPicPr/>
          <p:nvPr/>
        </p:nvPicPr>
        <p:blipFill>
          <a:blip r:embed="rId2"/>
          <a:stretch/>
        </p:blipFill>
        <p:spPr>
          <a:xfrm>
            <a:off x="6019920" y="4898880"/>
            <a:ext cx="2819160" cy="1730520"/>
          </a:xfrm>
          <a:prstGeom prst="rect">
            <a:avLst/>
          </a:prstGeom>
          <a:ln w="0">
            <a:noFill/>
          </a:ln>
        </p:spPr>
      </p:pic>
      <p:cxnSp>
        <p:nvCxnSpPr>
          <p:cNvPr id="545" name="Straight Arrow Connector 8"/>
          <p:cNvCxnSpPr/>
          <p:nvPr/>
        </p:nvCxnSpPr>
        <p:spPr>
          <a:xfrm>
            <a:off x="1599840" y="5715000"/>
            <a:ext cx="472500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pic>
        <p:nvPicPr>
          <p:cNvPr id="546" name="Picture 6" descr=""/>
          <p:cNvPicPr/>
          <p:nvPr/>
        </p:nvPicPr>
        <p:blipFill>
          <a:blip r:embed="rId3"/>
          <a:stretch/>
        </p:blipFill>
        <p:spPr>
          <a:xfrm>
            <a:off x="2971800" y="4876920"/>
            <a:ext cx="169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TTP-S: Securing HTT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28600" y="129492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 sits on top of secure channel (SSL/TL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 vs. http:/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port 443 vs. 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 (HTTP) bytes encrypted and authentic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to HTTP itself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re to get the key??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F077-B12A-4C12-8A09-F4AEC3A1CA0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172200" y="1523880"/>
            <a:ext cx="24382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6172200" y="2362320"/>
            <a:ext cx="2438280" cy="838080"/>
          </a:xfrm>
          <a:prstGeom prst="rect">
            <a:avLst/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cure Transport L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6172200" y="3200400"/>
            <a:ext cx="243828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6172200" y="4038480"/>
            <a:ext cx="243828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5"/>
          <p:cNvSpPr/>
          <p:nvPr/>
        </p:nvSpPr>
        <p:spPr>
          <a:xfrm>
            <a:off x="6172200" y="4876920"/>
            <a:ext cx="2438280" cy="838080"/>
          </a:xfrm>
          <a:prstGeom prst="rect">
            <a:avLst/>
          </a:prstGeom>
          <a:solidFill>
            <a:srgbClr val="66006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nk l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a Valid Public Ke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20570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s that lock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ly binds domain name to public key (P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K is authenticated, then any message signed by that PK cannot be forged by non-authorized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able only if you trust the attesting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tstrapping problem:  Who to trust, and how to tell if this message is actually from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AB85-E501-4E55-810F-0CCF51977A2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31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Public Key Infra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blic key certificat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between identity and a public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” is, for example, a domain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 to ensure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ertificate autho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public key certificates and verifies ident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sted parties (e.g., VeriSign, GoDaddy, Comod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figured certificates in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C9ED-5695-46D3-9BC3-3BA0C421006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ublic Key Certific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0162-F432-4878-8993-242C68C7408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31040" cy="533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2"/>
          <a:srcRect l="0" t="0" r="35725" b="0"/>
          <a:stretch/>
        </p:blipFill>
        <p:spPr>
          <a:xfrm>
            <a:off x="127080" y="1892160"/>
            <a:ext cx="4276800" cy="4745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"/>
          <p:cNvPicPr/>
          <p:nvPr/>
        </p:nvPicPr>
        <p:blipFill>
          <a:blip r:embed="rId3"/>
          <a:srcRect l="0" t="4769" r="33230" b="12717"/>
          <a:stretch/>
        </p:blipFill>
        <p:spPr>
          <a:xfrm>
            <a:off x="4581360" y="1892160"/>
            <a:ext cx="4410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port Layer Security (TL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sed on the earlier Secure Socket Layer (SSL) originally developed by Netscap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FC56-F659-4293-996E-1A4ECBE8FE9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LS Handshake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new random value,  list of supported cipher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pre-secret, encrypted under PK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shared secret key from pre-secret and random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 to new symmetric-key cipher using shared key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new random value,     digital certificate with PK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shared secret key from pre-secret and rando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 to new symmetric-key cipher using shared key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DB83-D86D-459F-80BD-CC94C79A520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Straight Arrow Connector 6"/>
          <p:cNvCxnSpPr/>
          <p:nvPr/>
        </p:nvCxnSpPr>
        <p:spPr>
          <a:xfrm>
            <a:off x="4114800" y="2133360"/>
            <a:ext cx="915120" cy="229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5" name="Straight Arrow Connector 7"/>
          <p:cNvCxnSpPr/>
          <p:nvPr/>
        </p:nvCxnSpPr>
        <p:spPr>
          <a:xfrm>
            <a:off x="4114800" y="3504960"/>
            <a:ext cx="915120" cy="229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6" name="Straight Arrow Connector 9"/>
          <p:cNvCxnSpPr/>
          <p:nvPr/>
        </p:nvCxnSpPr>
        <p:spPr>
          <a:xfrm flipH="1">
            <a:off x="4114440" y="2818440"/>
            <a:ext cx="915120" cy="229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7" name="Straight Connector 11"/>
          <p:cNvSpPr/>
          <p:nvPr/>
        </p:nvSpPr>
        <p:spPr>
          <a:xfrm>
            <a:off x="838080" y="6172200"/>
            <a:ext cx="7467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Network Security Protocol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2" name="Picture 9" descr=""/>
          <p:cNvPicPr/>
          <p:nvPr/>
        </p:nvPicPr>
        <p:blipFill>
          <a:blip r:embed="rId1"/>
          <a:stretch/>
        </p:blipFill>
        <p:spPr>
          <a:xfrm>
            <a:off x="3200400" y="98280"/>
            <a:ext cx="27385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LS Record Protocol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ssages from application layer are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gmented or coalesced into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ly comp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ity-protected using an HM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rypted using symmetric-key cip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d to the transport layer (usually TC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quence #s on record-protocol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s replays and reorderings of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A42-327B-4773-8B6E-775B33DC384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ments on HTT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S authenticates server, not cont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DN (Akamai) serves content over HTTPS, customer must trust Akamai not to chang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ymmetric-key crypto after public-key 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shake protocol using public key cry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metric-key crypto much faster (100-1000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S on top of TCP, so reliable byte stre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leverage fact that transmission is reliable to ensure: each data segment received exactly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ersary can’t successfully drop or replay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4ED8-A0CF-436E-9FF8-318AFCB63A5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7C1B-E2FE-4636-A6EC-193E54F1BAC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here are range of app-specific security mechanism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. TLS/HTTPS, S/MIME, PGP, Kerber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ut security concerns that cut across protocol layer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mplement by the network for all applications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0">
              <a:spcBef>
                <a:spcPts val="11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IPSec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2CB-1C89-4CDC-82B2-6138136B9BF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Se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neral IP Security frame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s one to provi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control, integrity, authentication, originality, and confidenti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ble to different setting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 streams: Specific TCP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streams:  All packets between two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AA3-F051-43C5-82C5-B6C46E8B098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3" descr=""/>
          <p:cNvPicPr/>
          <p:nvPr/>
        </p:nvPicPr>
        <p:blipFill>
          <a:blip r:embed="rId1"/>
          <a:srcRect l="0" t="4632" r="0" b="13897"/>
          <a:stretch/>
        </p:blipFill>
        <p:spPr>
          <a:xfrm>
            <a:off x="-76320" y="609480"/>
            <a:ext cx="9601200" cy="63151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F264-EDFA-4782-8D4C-4969AC762A9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Sec U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nefits of IPSe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If in a firewall/router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security to all traffic crossing peri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t to byp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Below transport lay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arent to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transparent to e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an provide security for individual us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BF8-4527-4914-B87A-7B687DFE382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Security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ecification quite comple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in IPv6, optional in IPv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security header extensions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ation Header (A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ionless integrity, origin authen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C over most header fields and packet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ti-replay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ng Security Payload (ES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properties, plus confident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7C47-1938-4BC3-9E94-F6B80B176D8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capsulating Security Payload (ES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Transport mode: Data encrypted, but not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fter all, network headers needed for routin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still do traffic analysis, but is e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for host-to-host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unnel mode: Encrypts entire IP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new header for next 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for VPNs, gateway-to-gateway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2F4-8191-44DE-88CD-C6C8E09394D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play Protection is Har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Replay protection go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vesdropper can’t capture encrypted packet and duplicate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Easy with TLS/HTTP on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liable byte 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Hard for IP Se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nsport may not be rel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ketch of solution: sequence numbers on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FAD-E801-42B4-A32D-2C58E9C05EA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: PGP, using a web-of-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: HTTP-S, using a certificate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port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ort Layer Security/ Secure Socket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infrastru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-Sec and BGP-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3C7-43EA-44E2-944D-6FF5CE39530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965-F530-40EC-A61F-7C0738CCE0D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Naming in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AB2-7ED6-4353-8324-31C26C0450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3"/>
          <p:cNvSpPr/>
          <p:nvPr/>
        </p:nvSpPr>
        <p:spPr>
          <a:xfrm>
            <a:off x="45252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430920" y="230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5"/>
          <p:cNvSpPr/>
          <p:nvPr/>
        </p:nvSpPr>
        <p:spPr>
          <a:xfrm>
            <a:off x="1236600" y="22366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247400" y="23083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"/>
          <p:cNvGrpSpPr/>
          <p:nvPr/>
        </p:nvGrpSpPr>
        <p:grpSpPr>
          <a:xfrm>
            <a:off x="2127240" y="2479680"/>
            <a:ext cx="522360" cy="88920"/>
            <a:chOff x="2127240" y="2479680"/>
            <a:chExt cx="522360" cy="88920"/>
          </a:xfrm>
        </p:grpSpPr>
        <p:sp>
          <p:nvSpPr>
            <p:cNvPr id="617" name="Oval 8"/>
            <p:cNvSpPr/>
            <p:nvPr/>
          </p:nvSpPr>
          <p:spPr>
            <a:xfrm>
              <a:off x="2127240" y="247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2343240" y="247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0"/>
            <p:cNvSpPr/>
            <p:nvPr/>
          </p:nvSpPr>
          <p:spPr>
            <a:xfrm>
              <a:off x="2560680" y="247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Oval 11"/>
          <p:cNvSpPr/>
          <p:nvPr/>
        </p:nvSpPr>
        <p:spPr>
          <a:xfrm>
            <a:off x="3035160" y="22366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3075840" y="23083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353880" y="216216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4192560" y="22366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4291920" y="23083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6"/>
          <p:cNvSpPr/>
          <p:nvPr/>
        </p:nvSpPr>
        <p:spPr>
          <a:xfrm>
            <a:off x="603108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6079680" y="2306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8"/>
          <p:cNvGrpSpPr/>
          <p:nvPr/>
        </p:nvGrpSpPr>
        <p:grpSpPr>
          <a:xfrm>
            <a:off x="5106960" y="2508120"/>
            <a:ext cx="522360" cy="88920"/>
            <a:chOff x="5106960" y="2508120"/>
            <a:chExt cx="522360" cy="88920"/>
          </a:xfrm>
        </p:grpSpPr>
        <p:sp>
          <p:nvSpPr>
            <p:cNvPr id="628" name="Oval 19"/>
            <p:cNvSpPr/>
            <p:nvPr/>
          </p:nvSpPr>
          <p:spPr>
            <a:xfrm>
              <a:off x="5106960" y="2508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0"/>
            <p:cNvSpPr/>
            <p:nvPr/>
          </p:nvSpPr>
          <p:spPr>
            <a:xfrm>
              <a:off x="5322960" y="2508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1"/>
            <p:cNvSpPr/>
            <p:nvPr/>
          </p:nvSpPr>
          <p:spPr>
            <a:xfrm>
              <a:off x="5540400" y="2508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Oval 22"/>
          <p:cNvSpPr/>
          <p:nvPr/>
        </p:nvSpPr>
        <p:spPr>
          <a:xfrm>
            <a:off x="677556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3"/>
          <p:cNvSpPr/>
          <p:nvPr/>
        </p:nvSpPr>
        <p:spPr>
          <a:xfrm>
            <a:off x="6845040" y="22939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4"/>
          <p:cNvSpPr/>
          <p:nvPr/>
        </p:nvSpPr>
        <p:spPr>
          <a:xfrm>
            <a:off x="4094280" y="216216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5"/>
          <p:cNvSpPr/>
          <p:nvPr/>
        </p:nvSpPr>
        <p:spPr>
          <a:xfrm>
            <a:off x="811692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6"/>
          <p:cNvSpPr/>
          <p:nvPr/>
        </p:nvSpPr>
        <p:spPr>
          <a:xfrm>
            <a:off x="8071200" y="22953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7"/>
          <p:cNvSpPr/>
          <p:nvPr/>
        </p:nvSpPr>
        <p:spPr>
          <a:xfrm>
            <a:off x="4432320" y="144144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8"/>
          <p:cNvSpPr/>
          <p:nvPr/>
        </p:nvSpPr>
        <p:spPr>
          <a:xfrm>
            <a:off x="4960440" y="1170000"/>
            <a:ext cx="168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9"/>
          <p:cNvSpPr/>
          <p:nvPr/>
        </p:nvSpPr>
        <p:spPr>
          <a:xfrm flipH="1">
            <a:off x="711000" y="164160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0"/>
          <p:cNvSpPr/>
          <p:nvPr/>
        </p:nvSpPr>
        <p:spPr>
          <a:xfrm flipH="1">
            <a:off x="1541520" y="173844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1"/>
          <p:cNvSpPr/>
          <p:nvPr/>
        </p:nvSpPr>
        <p:spPr>
          <a:xfrm flipH="1">
            <a:off x="3315960" y="180828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2"/>
          <p:cNvSpPr/>
          <p:nvPr/>
        </p:nvSpPr>
        <p:spPr>
          <a:xfrm flipH="1">
            <a:off x="4479480" y="1862280"/>
            <a:ext cx="23508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3"/>
          <p:cNvSpPr/>
          <p:nvPr/>
        </p:nvSpPr>
        <p:spPr>
          <a:xfrm>
            <a:off x="4978440" y="1627200"/>
            <a:ext cx="332424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4"/>
          <p:cNvSpPr/>
          <p:nvPr/>
        </p:nvSpPr>
        <p:spPr>
          <a:xfrm>
            <a:off x="4937040" y="173844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5"/>
          <p:cNvSpPr/>
          <p:nvPr/>
        </p:nvSpPr>
        <p:spPr>
          <a:xfrm>
            <a:off x="4881600" y="1822320"/>
            <a:ext cx="134460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6"/>
          <p:cNvSpPr/>
          <p:nvPr/>
        </p:nvSpPr>
        <p:spPr>
          <a:xfrm>
            <a:off x="1247760" y="31860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7"/>
          <p:cNvSpPr/>
          <p:nvPr/>
        </p:nvSpPr>
        <p:spPr>
          <a:xfrm>
            <a:off x="790560" y="4164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8"/>
          <p:cNvSpPr/>
          <p:nvPr/>
        </p:nvSpPr>
        <p:spPr>
          <a:xfrm>
            <a:off x="1801800" y="41623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39"/>
          <p:cNvSpPr/>
          <p:nvPr/>
        </p:nvSpPr>
        <p:spPr>
          <a:xfrm>
            <a:off x="6031080" y="32004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40"/>
          <p:cNvSpPr/>
          <p:nvPr/>
        </p:nvSpPr>
        <p:spPr>
          <a:xfrm>
            <a:off x="6031080" y="41767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41"/>
          <p:cNvSpPr/>
          <p:nvPr/>
        </p:nvSpPr>
        <p:spPr>
          <a:xfrm>
            <a:off x="6031080" y="5140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2"/>
          <p:cNvSpPr/>
          <p:nvPr/>
        </p:nvSpPr>
        <p:spPr>
          <a:xfrm>
            <a:off x="1844640" y="512604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43"/>
          <p:cNvSpPr/>
          <p:nvPr/>
        </p:nvSpPr>
        <p:spPr>
          <a:xfrm>
            <a:off x="790560" y="512604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44"/>
          <p:cNvSpPr/>
          <p:nvPr/>
        </p:nvSpPr>
        <p:spPr>
          <a:xfrm>
            <a:off x="8116920" y="31860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45"/>
          <p:cNvSpPr/>
          <p:nvPr/>
        </p:nvSpPr>
        <p:spPr>
          <a:xfrm>
            <a:off x="8116920" y="4164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46"/>
          <p:cNvSpPr/>
          <p:nvPr/>
        </p:nvSpPr>
        <p:spPr>
          <a:xfrm>
            <a:off x="8116920" y="512604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7"/>
          <p:cNvSpPr/>
          <p:nvPr/>
        </p:nvSpPr>
        <p:spPr>
          <a:xfrm>
            <a:off x="1262880" y="32497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8"/>
          <p:cNvSpPr/>
          <p:nvPr/>
        </p:nvSpPr>
        <p:spPr>
          <a:xfrm>
            <a:off x="748080" y="4246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9"/>
          <p:cNvSpPr/>
          <p:nvPr/>
        </p:nvSpPr>
        <p:spPr>
          <a:xfrm>
            <a:off x="1768680" y="42465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0"/>
          <p:cNvSpPr/>
          <p:nvPr/>
        </p:nvSpPr>
        <p:spPr>
          <a:xfrm>
            <a:off x="831960" y="51753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1"/>
          <p:cNvSpPr/>
          <p:nvPr/>
        </p:nvSpPr>
        <p:spPr>
          <a:xfrm>
            <a:off x="1886760" y="51753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52"/>
          <p:cNvSpPr/>
          <p:nvPr/>
        </p:nvSpPr>
        <p:spPr>
          <a:xfrm>
            <a:off x="1541520" y="2813040"/>
            <a:ext cx="144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3"/>
          <p:cNvSpPr/>
          <p:nvPr/>
        </p:nvSpPr>
        <p:spPr>
          <a:xfrm flipH="1">
            <a:off x="1050480" y="376236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54"/>
          <p:cNvSpPr/>
          <p:nvPr/>
        </p:nvSpPr>
        <p:spPr>
          <a:xfrm>
            <a:off x="1625760" y="3747960"/>
            <a:ext cx="4158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5"/>
          <p:cNvSpPr/>
          <p:nvPr/>
        </p:nvSpPr>
        <p:spPr>
          <a:xfrm>
            <a:off x="1071720" y="474516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56"/>
          <p:cNvSpPr/>
          <p:nvPr/>
        </p:nvSpPr>
        <p:spPr>
          <a:xfrm>
            <a:off x="2097000" y="4730760"/>
            <a:ext cx="180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57"/>
          <p:cNvSpPr/>
          <p:nvPr/>
        </p:nvSpPr>
        <p:spPr>
          <a:xfrm>
            <a:off x="6311880" y="283356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8"/>
          <p:cNvSpPr/>
          <p:nvPr/>
        </p:nvSpPr>
        <p:spPr>
          <a:xfrm>
            <a:off x="6313320" y="3762360"/>
            <a:ext cx="18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9"/>
          <p:cNvSpPr/>
          <p:nvPr/>
        </p:nvSpPr>
        <p:spPr>
          <a:xfrm>
            <a:off x="6313320" y="477360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60"/>
          <p:cNvSpPr/>
          <p:nvPr/>
        </p:nvSpPr>
        <p:spPr>
          <a:xfrm>
            <a:off x="8116920" y="605304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61"/>
          <p:cNvSpPr/>
          <p:nvPr/>
        </p:nvSpPr>
        <p:spPr>
          <a:xfrm>
            <a:off x="8427960" y="28051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2"/>
          <p:cNvSpPr/>
          <p:nvPr/>
        </p:nvSpPr>
        <p:spPr>
          <a:xfrm>
            <a:off x="8399520" y="374796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63"/>
          <p:cNvSpPr/>
          <p:nvPr/>
        </p:nvSpPr>
        <p:spPr>
          <a:xfrm>
            <a:off x="8399520" y="471636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64"/>
          <p:cNvSpPr/>
          <p:nvPr/>
        </p:nvSpPr>
        <p:spPr>
          <a:xfrm>
            <a:off x="8399520" y="5686560"/>
            <a:ext cx="14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5"/>
          <p:cNvSpPr/>
          <p:nvPr/>
        </p:nvSpPr>
        <p:spPr>
          <a:xfrm>
            <a:off x="6102000" y="32497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6"/>
          <p:cNvSpPr/>
          <p:nvPr/>
        </p:nvSpPr>
        <p:spPr>
          <a:xfrm>
            <a:off x="5996880" y="42609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7"/>
          <p:cNvSpPr/>
          <p:nvPr/>
        </p:nvSpPr>
        <p:spPr>
          <a:xfrm>
            <a:off x="6046200" y="52164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8"/>
          <p:cNvSpPr/>
          <p:nvPr/>
        </p:nvSpPr>
        <p:spPr>
          <a:xfrm>
            <a:off x="8147520" y="323532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9"/>
          <p:cNvSpPr/>
          <p:nvPr/>
        </p:nvSpPr>
        <p:spPr>
          <a:xfrm>
            <a:off x="8211240" y="4246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0"/>
          <p:cNvSpPr/>
          <p:nvPr/>
        </p:nvSpPr>
        <p:spPr>
          <a:xfrm>
            <a:off x="8209800" y="5202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1"/>
          <p:cNvSpPr/>
          <p:nvPr/>
        </p:nvSpPr>
        <p:spPr>
          <a:xfrm>
            <a:off x="8209800" y="610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2"/>
          <p:cNvSpPr/>
          <p:nvPr/>
        </p:nvSpPr>
        <p:spPr>
          <a:xfrm>
            <a:off x="1946520" y="289548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3"/>
          <p:cNvSpPr/>
          <p:nvPr/>
        </p:nvSpPr>
        <p:spPr>
          <a:xfrm>
            <a:off x="4145760" y="289548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4"/>
          <p:cNvSpPr/>
          <p:nvPr/>
        </p:nvSpPr>
        <p:spPr>
          <a:xfrm>
            <a:off x="1259640" y="56991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75"/>
          <p:cNvSpPr/>
          <p:nvPr/>
        </p:nvSpPr>
        <p:spPr>
          <a:xfrm>
            <a:off x="5384880" y="56991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6"/>
          <p:cNvSpPr/>
          <p:nvPr/>
        </p:nvSpPr>
        <p:spPr>
          <a:xfrm>
            <a:off x="6549480" y="6400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90"/>
                </a:solidFill>
                <a:latin typeface="Calibri"/>
              </a:rPr>
              <a:t>DNS Root Servers</a:t>
            </a:r>
            <a:endParaRPr b="0" lang="en-US" sz="5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84200" y="12189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13 root servers (se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abeled A through M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F14E-2E02-4430-B7BA-ECFC3720DA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480960" y="3165480"/>
            <a:ext cx="72342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5" descr="worldf"/>
          <p:cNvPicPr/>
          <p:nvPr/>
        </p:nvPicPr>
        <p:blipFill>
          <a:blip r:embed="rId2"/>
          <a:stretch/>
        </p:blipFill>
        <p:spPr>
          <a:xfrm>
            <a:off x="2133720" y="4141800"/>
            <a:ext cx="5400720" cy="2666880"/>
          </a:xfrm>
          <a:prstGeom prst="rect">
            <a:avLst/>
          </a:prstGeom>
          <a:ln w="0">
            <a:noFill/>
          </a:ln>
        </p:spPr>
      </p:pic>
      <p:sp>
        <p:nvSpPr>
          <p:cNvPr id="691" name="Freeform 6"/>
          <p:cNvSpPr/>
          <p:nvPr/>
        </p:nvSpPr>
        <p:spPr>
          <a:xfrm>
            <a:off x="2604960" y="3343320"/>
            <a:ext cx="804960" cy="1511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272880" y="5719680"/>
            <a:ext cx="2851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8"/>
          <p:cNvSpPr/>
          <p:nvPr/>
        </p:nvSpPr>
        <p:spPr>
          <a:xfrm>
            <a:off x="1752480" y="5041800"/>
            <a:ext cx="952560" cy="668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169920" y="3886200"/>
            <a:ext cx="2573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  Internet Software C. Palo Alto, CA (and 17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0"/>
          <p:cNvSpPr/>
          <p:nvPr/>
        </p:nvSpPr>
        <p:spPr>
          <a:xfrm flipV="1">
            <a:off x="1447920" y="4723560"/>
            <a:ext cx="1234800" cy="243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5425920" y="3646440"/>
            <a:ext cx="2498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onomica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ockholm (plus 3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2"/>
          <p:cNvSpPr/>
          <p:nvPr/>
        </p:nvSpPr>
        <p:spPr>
          <a:xfrm>
            <a:off x="4876920" y="4038480"/>
            <a:ext cx="914400" cy="609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5375160" y="3292560"/>
            <a:ext cx="437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 RIPE London (+ Amsterdam, Frankfurt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4"/>
          <p:cNvSpPr/>
          <p:nvPr/>
        </p:nvSpPr>
        <p:spPr>
          <a:xfrm>
            <a:off x="4570560" y="3510000"/>
            <a:ext cx="771480" cy="1158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7426440" y="4438800"/>
            <a:ext cx="156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6"/>
          <p:cNvSpPr/>
          <p:nvPr/>
        </p:nvSpPr>
        <p:spPr>
          <a:xfrm>
            <a:off x="6851520" y="4648320"/>
            <a:ext cx="540000" cy="291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2665440" y="24382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114300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oS attacks on DNS Avail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eb. 6, 200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net attack on the 13 Internet DNS root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ed 2.5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e crashed, but two performed bad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-root (DoD),   l-root  (ICAN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ther root servers use any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C7E-B252-4C48-BDE5-A3D7D62CE00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fense: Replication and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708" name="Picture 3" descr=""/>
          <p:cNvPicPr/>
          <p:nvPr/>
        </p:nvPicPr>
        <p:blipFill>
          <a:blip r:embed="rId1"/>
          <a:stretch/>
        </p:blipFill>
        <p:spPr>
          <a:xfrm>
            <a:off x="719280" y="1219320"/>
            <a:ext cx="7891200" cy="51051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4"/>
          <p:cNvSpPr/>
          <p:nvPr/>
        </p:nvSpPr>
        <p:spPr>
          <a:xfrm>
            <a:off x="5791320" y="63244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E180-FC8E-412B-BC62-C657A1FED8D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  <a:ea typeface="Calibri"/>
              </a:rPr>
              <a:t>Denial-of-Service Attacks on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838080" y="5481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80,000 open resolvers on Internet  (Kaminsky-Shiffman’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3917880" y="3992400"/>
            <a:ext cx="1490760" cy="838440"/>
          </a:xfrm>
          <a:prstGeom prst="rect">
            <a:avLst/>
          </a:prstGeom>
          <a:solidFill>
            <a:srgbClr val="bc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6" descr="j0239481"/>
          <p:cNvPicPr/>
          <p:nvPr/>
        </p:nvPicPr>
        <p:blipFill>
          <a:blip r:embed="rId1"/>
          <a:stretch/>
        </p:blipFill>
        <p:spPr>
          <a:xfrm>
            <a:off x="717480" y="3535200"/>
            <a:ext cx="762120" cy="6415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7"/>
          <p:cNvSpPr/>
          <p:nvPr/>
        </p:nvSpPr>
        <p:spPr>
          <a:xfrm>
            <a:off x="536400" y="419904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8" descr="j0239481"/>
          <p:cNvPicPr/>
          <p:nvPr/>
        </p:nvPicPr>
        <p:blipFill>
          <a:blip r:embed="rId2"/>
          <a:stretch/>
        </p:blipFill>
        <p:spPr>
          <a:xfrm>
            <a:off x="7651800" y="3535200"/>
            <a:ext cx="762120" cy="64152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9"/>
          <p:cNvSpPr/>
          <p:nvPr/>
        </p:nvSpPr>
        <p:spPr>
          <a:xfrm>
            <a:off x="7556040" y="419904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ar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0"/>
          <p:cNvGrpSpPr/>
          <p:nvPr/>
        </p:nvGrpSpPr>
        <p:grpSpPr>
          <a:xfrm>
            <a:off x="1479600" y="2620800"/>
            <a:ext cx="2590920" cy="1524960"/>
            <a:chOff x="1479600" y="2620800"/>
            <a:chExt cx="2590920" cy="1524960"/>
          </a:xfrm>
        </p:grpSpPr>
        <p:sp>
          <p:nvSpPr>
            <p:cNvPr id="720" name="Line 11"/>
            <p:cNvSpPr/>
            <p:nvPr/>
          </p:nvSpPr>
          <p:spPr>
            <a:xfrm>
              <a:off x="1479600" y="360504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2"/>
            <p:cNvSpPr/>
            <p:nvPr/>
          </p:nvSpPr>
          <p:spPr>
            <a:xfrm>
              <a:off x="4070520" y="3605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3"/>
            <p:cNvSpPr/>
            <p:nvPr/>
          </p:nvSpPr>
          <p:spPr>
            <a:xfrm>
              <a:off x="1617480" y="2620800"/>
              <a:ext cx="23403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NS Quer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rcIP: DoS Targe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60 bytes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5137200" y="2697120"/>
            <a:ext cx="2743200" cy="1385640"/>
            <a:chOff x="5137200" y="2697120"/>
            <a:chExt cx="2743200" cy="1385640"/>
          </a:xfrm>
        </p:grpSpPr>
        <p:sp>
          <p:nvSpPr>
            <p:cNvPr id="724" name="Line 15"/>
            <p:cNvSpPr/>
            <p:nvPr/>
          </p:nvSpPr>
          <p:spPr>
            <a:xfrm flipV="1">
              <a:off x="5137200" y="3605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6"/>
            <p:cNvSpPr/>
            <p:nvPr/>
          </p:nvSpPr>
          <p:spPr>
            <a:xfrm>
              <a:off x="5137200" y="360540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7"/>
            <p:cNvSpPr/>
            <p:nvPr/>
          </p:nvSpPr>
          <p:spPr>
            <a:xfrm>
              <a:off x="5599800" y="2697120"/>
              <a:ext cx="20019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NS Respon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3000 bytes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18"/>
          <p:cNvSpPr/>
          <p:nvPr/>
        </p:nvSpPr>
        <p:spPr>
          <a:xfrm>
            <a:off x="3011760" y="160020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40  ampl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7B2-56B0-4949-95A2-DB2DD789026F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Oval 2"/>
          <p:cNvSpPr/>
          <p:nvPr/>
        </p:nvSpPr>
        <p:spPr>
          <a:xfrm>
            <a:off x="1901880" y="2133720"/>
            <a:ext cx="106668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tta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venting Amplification Attac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731" name="Picture 4" descr="pc"/>
          <p:cNvPicPr/>
          <p:nvPr/>
        </p:nvPicPr>
        <p:blipFill>
          <a:blip r:embed="rId1"/>
          <a:stretch/>
        </p:blipFill>
        <p:spPr>
          <a:xfrm>
            <a:off x="3809880" y="5029200"/>
            <a:ext cx="797040" cy="663480"/>
          </a:xfrm>
          <a:prstGeom prst="rect">
            <a:avLst/>
          </a:prstGeom>
          <a:ln w="0">
            <a:noFill/>
          </a:ln>
        </p:spPr>
      </p:pic>
      <p:sp>
        <p:nvSpPr>
          <p:cNvPr id="732" name="Line 5"/>
          <p:cNvSpPr/>
          <p:nvPr/>
        </p:nvSpPr>
        <p:spPr>
          <a:xfrm>
            <a:off x="335268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6"/>
          <p:cNvSpPr/>
          <p:nvPr/>
        </p:nvSpPr>
        <p:spPr>
          <a:xfrm flipH="1">
            <a:off x="4343040" y="3048120"/>
            <a:ext cx="1143000" cy="15238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2783160" y="20574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spoofed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 rot="18358800">
            <a:off x="3981240" y="3464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"/>
          <p:cNvSpPr/>
          <p:nvPr/>
        </p:nvSpPr>
        <p:spPr>
          <a:xfrm>
            <a:off x="3536640" y="5802480"/>
            <a:ext cx="1186560" cy="42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cti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5562720" y="2057400"/>
            <a:ext cx="1066680" cy="1066680"/>
          </a:xfrm>
          <a:prstGeom prst="ellipse">
            <a:avLst/>
          </a:prstGeom>
          <a:solidFill>
            <a:srgbClr val="bc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mp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1"/>
          <p:cNvSpPr/>
          <p:nvPr/>
        </p:nvSpPr>
        <p:spPr>
          <a:xfrm>
            <a:off x="685800" y="3809880"/>
            <a:ext cx="3152880" cy="1285920"/>
          </a:xfrm>
          <a:prstGeom prst="wedgeRoundRectCallout">
            <a:avLst>
              <a:gd name="adj1" fmla="val 33435"/>
              <a:gd name="adj2" fmla="val -125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ev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p spoof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2"/>
          <p:cNvSpPr/>
          <p:nvPr/>
        </p:nvSpPr>
        <p:spPr>
          <a:xfrm flipH="1">
            <a:off x="4495320" y="3200400"/>
            <a:ext cx="1143000" cy="15238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H="1">
            <a:off x="4647960" y="3352680"/>
            <a:ext cx="1143000" cy="152424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4"/>
          <p:cNvSpPr/>
          <p:nvPr/>
        </p:nvSpPr>
        <p:spPr>
          <a:xfrm flipH="1">
            <a:off x="4800240" y="3505320"/>
            <a:ext cx="1143000" cy="15238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5"/>
          <p:cNvSpPr/>
          <p:nvPr/>
        </p:nvSpPr>
        <p:spPr>
          <a:xfrm>
            <a:off x="5562720" y="3809880"/>
            <a:ext cx="3276360" cy="1295640"/>
          </a:xfrm>
          <a:prstGeom prst="wedgeRoundRectCallout">
            <a:avLst>
              <a:gd name="adj1" fmla="val -27569"/>
              <a:gd name="adj2" fmla="val -102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pen ampl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3352680" y="2666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7"/>
          <p:cNvSpPr/>
          <p:nvPr/>
        </p:nvSpPr>
        <p:spPr>
          <a:xfrm>
            <a:off x="3352680" y="28195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8"/>
          <p:cNvSpPr/>
          <p:nvPr/>
        </p:nvSpPr>
        <p:spPr>
          <a:xfrm>
            <a:off x="335268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A7E-FC8B-4D1E-8004-5C3F1EAF1E6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Integrity and the TLD Operato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domain name doesn’t exist, DNS should return NXDOMAIN (non-existant domain) ms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isign instead creates wildcard records for all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com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net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names not yet register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5 – October 4, 20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direction for these domain names to Verisign web portal:  “to help you search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erve you ads…and get “sponsored”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sign and online advertising companies make $$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DE84-9DD5-419A-9A86-84C20FC7529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Integrity: Cache Poison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s answer from an authoritative server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from somebody e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cache poiso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asks for www.ev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erver authoritative for www.evil.com returns additional section for (www.cnn.com, 1.2.3.4,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s!  I won’t bother check what I ask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4238-68E7-4F7B-8BA2-DB44BC9732C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Integrity: DNS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 prevent cache poisoning, client remembers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main name in the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16-bit request ID (used to demux UDP respons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hijac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bits:  65K possible 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ate to enumerate all in 1 sec?  64B/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4*65536*8 / 1024 / 1024 = 32 M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vention: also randomize DNS source 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minsky attack: this source port… wasn’t ran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785E-C63A-4B33-BD13-23D2973DD8F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7"/>
          <p:cNvSpPr/>
          <p:nvPr/>
        </p:nvSpPr>
        <p:spPr>
          <a:xfrm>
            <a:off x="204840" y="6305400"/>
            <a:ext cx="88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unixwiz.net/techtips/iguide-kaminsky-dns-vuln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sic Security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028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Confidentiality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cealment of information or resources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Authenticity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ntification and assurance of origin of info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Integrity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worthiness of data or resources in terms of preventing improper and unauthorized changes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Availability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bility to use desired information or resource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Non-repudiation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fer of evidence that a party indeed is sender or a receiver of certain information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Access control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ilities to determine and enforce who is allowed access to what resources (host, software, network, …)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646-AB39-44F2-85DD-9C547FA9E45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Se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ects against data spoofing and corru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s mechanisms to authenticate servers and reque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s mechanisms to establish authenticity and integ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DA70-AAAF-4AB0-AE9C-789048BCEDF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K-DNSSEC (Public Key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DNS servers sign the hash of resource record set with its private (signature) key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keys can be used to verify the SI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verages hierarchy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ity of name server’s public keys is established by a signature over the keys by the parent’s private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ideal case, only roots’ public keys need to be distributed out-of-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ACCB-AAD7-46E1-B06F-44891DC1DDE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649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erifying the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28600" y="3276720"/>
            <a:ext cx="1125360" cy="91440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u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sol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"/>
          <p:cNvSpPr/>
          <p:nvPr/>
        </p:nvSpPr>
        <p:spPr>
          <a:xfrm>
            <a:off x="1371600" y="358128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0" y="150336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Question:  www.cnn.com   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1478160" y="327672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2819520" y="3124080"/>
            <a:ext cx="1617480" cy="129564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sol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8"/>
          <p:cNvSpPr/>
          <p:nvPr/>
        </p:nvSpPr>
        <p:spPr>
          <a:xfrm>
            <a:off x="6338880" y="2514600"/>
            <a:ext cx="2462400" cy="45720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roo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9"/>
          <p:cNvSpPr/>
          <p:nvPr/>
        </p:nvSpPr>
        <p:spPr>
          <a:xfrm rot="19770600">
            <a:off x="4551120" y="27540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0"/>
          <p:cNvSpPr/>
          <p:nvPr/>
        </p:nvSpPr>
        <p:spPr>
          <a:xfrm flipV="1">
            <a:off x="4419720" y="2590560"/>
            <a:ext cx="190476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 flipH="1">
            <a:off x="4420800" y="2743200"/>
            <a:ext cx="1903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2"/>
          <p:cNvSpPr/>
          <p:nvPr/>
        </p:nvSpPr>
        <p:spPr>
          <a:xfrm>
            <a:off x="5257800" y="30481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sk .com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 (ip addr and PK of .com serv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6400800" y="3809880"/>
            <a:ext cx="2462040" cy="45720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4651560" y="373392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4495680" y="4038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6"/>
          <p:cNvSpPr/>
          <p:nvPr/>
        </p:nvSpPr>
        <p:spPr>
          <a:xfrm>
            <a:off x="4669200" y="4191120"/>
            <a:ext cx="301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sk cnn.com server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 (ip addr and PK of cnn.com serv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7"/>
          <p:cNvSpPr/>
          <p:nvPr/>
        </p:nvSpPr>
        <p:spPr>
          <a:xfrm flipH="1">
            <a:off x="4419360" y="4191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"/>
          <p:cNvSpPr/>
          <p:nvPr/>
        </p:nvSpPr>
        <p:spPr>
          <a:xfrm>
            <a:off x="6324480" y="6095880"/>
            <a:ext cx="2463840" cy="53352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nn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9"/>
          <p:cNvSpPr/>
          <p:nvPr/>
        </p:nvSpPr>
        <p:spPr>
          <a:xfrm>
            <a:off x="4038480" y="4419720"/>
            <a:ext cx="228600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0"/>
          <p:cNvSpPr/>
          <p:nvPr/>
        </p:nvSpPr>
        <p:spPr>
          <a:xfrm flipH="1" flipV="1">
            <a:off x="3809520" y="4419720"/>
            <a:ext cx="2514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 rot="2400000">
            <a:off x="4664880" y="51033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2"/>
          <p:cNvSpPr/>
          <p:nvPr/>
        </p:nvSpPr>
        <p:spPr>
          <a:xfrm rot="2335200">
            <a:off x="4027320" y="538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 (xxx.xxx.xxx.xx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3"/>
          <p:cNvSpPr/>
          <p:nvPr/>
        </p:nvSpPr>
        <p:spPr>
          <a:xfrm>
            <a:off x="1385640" y="373392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xxx.xxx.xxx.xx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4"/>
          <p:cNvSpPr/>
          <p:nvPr/>
        </p:nvSpPr>
        <p:spPr>
          <a:xfrm flipH="1">
            <a:off x="1371600" y="373392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5"/>
          <p:cNvSpPr/>
          <p:nvPr/>
        </p:nvSpPr>
        <p:spPr>
          <a:xfrm>
            <a:off x="2971800" y="4419720"/>
            <a:ext cx="574560" cy="469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6"/>
          <p:cNvSpPr/>
          <p:nvPr/>
        </p:nvSpPr>
        <p:spPr>
          <a:xfrm>
            <a:off x="2672280" y="4876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to ca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30"/>
          <p:cNvSpPr/>
          <p:nvPr/>
        </p:nvSpPr>
        <p:spPr>
          <a:xfrm>
            <a:off x="1800" y="296856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rc.cs.princeton.ed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1"/>
          <p:cNvSpPr/>
          <p:nvPr/>
        </p:nvSpPr>
        <p:spPr>
          <a:xfrm>
            <a:off x="2746800" y="274320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ns.cs.princeton.ed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2"/>
          <p:cNvSpPr/>
          <p:nvPr/>
        </p:nvSpPr>
        <p:spPr>
          <a:xfrm>
            <a:off x="1523880" y="4051440"/>
            <a:ext cx="114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transa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na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AC76-A918-4174-936D-38571E9BF93E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at many lay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, transport, and network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ized to the propertie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hanging key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key certific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tificate authorities vs. Web of 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omain routing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arn more: take COS 432 in the fall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5251-D6B1-4C78-84C0-DF8F481E0A7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0BDA-D261-401B-B70B-0B177B508B0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cryption and MAC/Signatur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373320" y="1960560"/>
            <a:ext cx="35899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  <a:ea typeface="Calibri"/>
              </a:rPr>
              <a:t>Confidentiality (Encryp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nd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ompute C = Enc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Send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ei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Recover M = Dec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4492440" y="1960560"/>
            <a:ext cx="4239000" cy="38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  <a:ea typeface="Calibri"/>
              </a:rPr>
              <a:t>Auth/Integrity (MAC / Signatu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nd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ompute s = Sig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Hash (M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Send &lt;M, 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ei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ompute s’ = Ver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Hash (M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heck s’ ==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04920" y="54864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are simplified forms of the actual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tty Good Privacy (PG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9FB-7BE6-4CEB-9286-69A5924D6F5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-Mail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iality: only intended recipient see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ity: data cannot be modified en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ity: sender and recipient are who they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non-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y or successful message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ing duplicate (replayed)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ince e-mail doesn’t provide this anywa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79F-997F-49EA-BDFF-33E99D057CF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er and Receiver Key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952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the receiver knows the sender’s public ke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er authen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er non-repu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the sender knows the receiver’s public ke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iver authen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E59B-F46D-40D5-9C1A-2FEC23B309F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880920" y="3733920"/>
            <a:ext cx="1862280" cy="1773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 flipH="1">
            <a:off x="6519960" y="3733920"/>
            <a:ext cx="1861920" cy="1773000"/>
          </a:xfrm>
          <a:prstGeom prst="rect">
            <a:avLst/>
          </a:prstGeom>
          <a:ln w="0">
            <a:noFill/>
          </a:ln>
        </p:spPr>
      </p:pic>
      <p:cxnSp>
        <p:nvCxnSpPr>
          <p:cNvPr id="526" name="Straight Arrow Connector 7"/>
          <p:cNvCxnSpPr/>
          <p:nvPr/>
        </p:nvCxnSpPr>
        <p:spPr>
          <a:xfrm>
            <a:off x="2742840" y="5029200"/>
            <a:ext cx="3777480" cy="2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arrow" w="lg"/>
          </a:ln>
        </p:spPr>
      </p:cxnSp>
      <p:pic>
        <p:nvPicPr>
          <p:cNvPr id="527" name="Picture 8" descr=""/>
          <p:cNvPicPr/>
          <p:nvPr/>
        </p:nvPicPr>
        <p:blipFill>
          <a:blip r:embed="rId3"/>
          <a:stretch/>
        </p:blipFill>
        <p:spPr>
          <a:xfrm>
            <a:off x="3809880" y="3686040"/>
            <a:ext cx="1219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ing an E-Mail Secure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digitally signs the mess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sender’s private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encrypts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one-time session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the session key, encrypted with the receiver’s public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converts to an ASCII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ing the message to base64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mail messages must be sent in ASC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7E6-33F7-40C4-97B2-0278D17BFA4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2:19:11Z</dcterms:created>
  <dc:creator>Mike</dc:creator>
  <dc:description/>
  <cp:keywords/>
  <dc:language>en-US</dc:language>
  <cp:lastModifiedBy>Jennifer Rexford</cp:lastModifiedBy>
  <cp:lastPrinted>2012-04-23T12:25:31Z</cp:lastPrinted>
  <dcterms:modified xsi:type="dcterms:W3CDTF">2012-04-23T13:57:00Z</dcterms:modified>
  <cp:revision>3987</cp:revision>
  <dc:subject/>
  <dc:title>Communication</dc:title>
</cp:coreProperties>
</file>