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jpeg" ContentType="image/jpeg"/>
  <Override PartName="/ppt/media/image14.wmf" ContentType="image/x-wmf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C70C99-ECEB-451C-814A-9B04B680C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7D952C-7E98-4069-96E5-D7C5EF2F79B8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93D1A26-C667-4F71-8289-937012439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E9224A2-6FC6-4F58-A34C-328B50ED8E23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6F1CA1-6B34-45F3-A7E3-22EE19CC4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682F3F-ABE6-4F6F-9814-5792FF88C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9C74CC3-EA37-43F1-B7B8-86C37EC79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220E5F-C343-4366-8494-749E8DF4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90637A-5C34-4A93-9DD5-2DF8DD6A2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robust:  Can detect duplicates, but not lost or re-order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1: An overview of a security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2: Description of a packet authentication extension to IPv4 and IPv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6: Description of a packet encryption extension to IPv4 and IPv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FC 2408: Specification of key managemen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7E77AF-056B-4FCD-BE03-F941D278D2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A819A8-4F3D-41D1-BCD1-7E22DB8755A8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913A9E-EEC4-49C6-9D72-0DD530A65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592B1D2-3855-4304-BB4A-623EED86B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4630AE-A4D9-448D-93BA-295A71310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295F0A-D6D5-4365-86B4-720DCD85C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835104-1F68-4040-9969-A5E4F18ED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158E175-9C9F-462A-A08A-2BFCC8279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CA7C89-666F-4D33-A5E6-B7FB0EA07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C6E187-A3E5-4A03-BF1B-8E0DBE6F1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1A82CA9-F025-41F6-B62A-C0BE70241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B4A3F9-0EF7-4627-B884-11807297BC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1B74DC9-58A8-4842-A10E-70C901CB0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80A161-B047-45AD-BB9A-90115FCAC1E6}" type="slidenum">
              <a:rPr b="0" lang="en-A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7CAB-ADA9-49B3-AACB-3BDF1782B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1F23-25E6-4D70-9314-1A33E33D58F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F0118-1D57-4BEE-97A6-810B16F8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B5BF3-BDB1-4482-AF53-9F5DCD99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CE995-238B-49D9-AD26-6B6D75B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5E7BF-8A19-4D5D-8B6E-833389B5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0B005-2A90-400F-B20A-00089A6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AEA53-DC02-455E-83B0-9E69B5A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7F940E-9213-43A2-B5E7-F0338062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9D57C-09CD-4410-9711-50EA25C9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2C65B-D8A4-488D-96E0-97301B65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80517-25FE-4B85-B901-30D84F6A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0CC2-BAE9-461D-BF3D-F38F6D9BC4C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7AF0A-87AA-44C8-93EA-4740AFF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CD20D-EB81-4661-8E5E-49AD88F7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06C91-1C6E-4312-8C48-E0916E29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09277-2650-4609-8756-9F870271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9B876-6D05-4CB2-90DA-D1A1BF54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03685-F5BE-48A0-BE84-9327335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6D1175-CF67-4907-8BBE-2B30932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A45FE-F889-4325-8E84-31479F7F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F0B84-2480-4E8C-AA04-E5673CA1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CD49B9-02C0-4EEE-8A68-E29F7D6C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036F-270A-44CD-B579-19F9276D12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84576-C3FD-4510-B215-536A95F8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4AFA78-C3E9-4FAA-945E-92C21F50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55A1E-1240-49C7-9560-85B95303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822FE9-23E4-48CA-A3C3-B16C0F07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C3E028-7090-4AB0-967D-50D17898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76B295-AECE-416B-AEE9-1261E735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C69B92-2E5B-40AA-BE1E-5EDC7538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AB9537-B1AD-4D1E-A628-0BA42DB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EFCF4E-94DA-4C98-8BC0-72C73059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DBF7C8-89F0-40AB-88FA-65E33CE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F6E61-3EC6-41D7-AFE7-B2A351B5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6729ED-15F6-4229-9989-31F039C5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B7F090-5DF1-4973-89CF-04A7CA29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DDB038-26AE-4C6F-B80B-707BC704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39F69-3A25-4021-A605-66EAED2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1F8532-7D22-4468-8BEA-AE7EDC3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F591E-6980-4D52-874D-F26CDA4C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E1EDB-0553-48FB-945B-CB07654C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6E0DF-1261-43C4-A66D-EAC022EF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BC4585-03B9-40B8-9BA0-A84946C5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7F101-BFC2-446D-80EF-A1704AAC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C69D2-FF47-4BD2-8C7E-D2A30AF4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912AF-52B4-41B5-88CB-F229304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B5A6C-7A6A-42C2-B696-71B70A83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AF9FE-7170-4C31-8AF6-620D979C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36D60-1C6F-403E-A4CF-9101CC0E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C6A1D-021B-4643-AF6D-B78BBA11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8C45-8A8D-445A-B238-528FD5C9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F128-DE5A-4154-A83A-CB94C444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4CC67-E994-4EC9-9A9E-A6721D6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05CBE-99A6-4474-AA75-5FB463E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05E79-24C9-4799-B343-C3B5DC11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201C-1D39-450B-87E8-593AC3CFF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3AC03-2CBF-4B2C-B398-44F91B93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71844-F0E6-4FF2-87A8-838AE01D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2D21E-A8A7-4B56-BC0E-7542541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1BC2-1195-44DA-A735-A8CF346E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0F1A-6840-44A6-90FE-9BA547D1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43AAC-D4F8-43FA-B347-5161A824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DF40FF-1E51-4700-AA32-67FBCEEE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E3C11-DFAE-41F2-8909-B39BECA9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8DFA2-A706-49B5-8770-9B58E733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CF8C5-6764-4AD4-8CE8-B81AB57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AF5F-AFF5-4999-8231-AB9470A9A7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860E2-FEA3-40A0-84AA-79204FA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08A83F-A64E-449D-BB83-548A0FB6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E57E5-C9C1-4967-87DA-585F795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42864D-0636-4964-BB79-455D44C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A682F-6C1F-4D05-8C7E-93208546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335C6-0660-471A-914F-54AE1649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B6FB5-BFA1-48B7-A8FC-9747FC0A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086C97-0F14-47AD-AD06-A42310C7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FF0EB-B0AC-4693-8352-A5879858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244E9-5852-47B8-B403-8A1AA4C1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7785-459B-4508-A791-A1245CEA91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69F1F-D9BA-4B82-9C1C-5EAEE08D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C9E08-ADCC-433A-8A15-A02831E9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C10F46-1163-4183-9E34-C5DEC268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F0CF5-4DAF-4173-860C-A0E6998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97D9A-5FC2-4828-A810-8FA792BA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17809-A655-4140-A0DF-39B2253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893CDF-29A7-42C8-BBDB-EE0B9537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624A3-5D3E-4813-8B57-013010DA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98040F-0B7A-4CC7-BBEA-FE88D566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880F8-A267-4608-80F0-8512809A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7F59-B2A7-478E-AE1C-9BE321980C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42F8E-38E8-4D9A-A60C-C971D95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8BD573-60B4-4338-801D-E268C162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AAF60-3A00-4BA4-BC06-305835A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04503-C1D9-45AD-AEE9-CBC7F34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56590-F8AE-40A9-8854-178E6AF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1254E5-FD79-4417-9525-16E25F7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0FDAD8-CD3D-4CDA-AE3E-E7C3914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D1B344-E638-4DA3-BABE-DDEE375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7867A-E2C8-4DB9-97DE-46E1734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CFC6D-E4AE-462D-8C98-7CE55A70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AF1F-C9FF-447A-933E-19E72420CA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5070F-118E-463A-AF78-59A1B9BF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95877-3E48-438C-9968-5FC4400D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14C96F-0D55-48C7-A92C-502218B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A2B32-0135-4324-A911-98CBE49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911F9-BDBC-4EF5-A600-48B69324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049854-5E5F-4F47-9AE4-0C52BB32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7119E-9DAD-4281-AB0A-D6346185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F470A7-AFD0-4508-9939-212C5D8C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C0DA6E-97D8-4FDD-BC7F-A9A8A74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1B2406-7CA0-4182-A516-E5A9E72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0A2F-EA49-4FC5-8C09-8FB62A7731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FBBB6-6463-45CB-BD80-4DA95BCE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59A8E-3B1E-4CA7-80D3-1BE1FAFD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BD70E-38A5-4C47-A802-62148A0A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1F104A-DB90-48D4-8692-AC7A9254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1166A0-57D5-49F5-BF3E-07731FD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DAFDD-9925-422B-9813-03250C4C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A6F457-A3E7-4136-A944-C589FCDC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96C9E5-A4D6-4F3A-BD6B-A55C919F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236F8-4C36-41E3-8DE9-56DCA58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BFAFA9-E6CB-4E78-80C4-FB64A4A7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36DA-4083-4574-9134-E7165C3C6D4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006AC1-CC8B-44F0-BA2E-0077681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3ED533-B5E6-4D55-BBEF-6D0D135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EF726-2F51-40C4-A0B6-FF0615A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D6C54D-D4D9-43FB-80B6-3ECFB8E3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2F946-F28D-4568-81DB-2DAC60C8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53F11-9C4E-4F72-AE45-89BB8A02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7C1D1-D997-4364-BDD9-5DA24F80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002A3C-F853-48B7-B109-CA441C8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0882E7-6184-41D3-A144-CE78232B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26374-C572-405E-B890-508696A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C1EE-1BE5-4936-A099-732A253D58D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38AC7-5353-43B2-B46F-9071A0A9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E33F93-C35D-4AC9-B028-970D687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970D6C-7AA0-4C76-9E02-880A103D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5415F-A3EF-4676-9CC2-E41F65B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F062E-C8C8-4D2C-AA7E-F51624C1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84F10-D7F4-494D-B411-35824D8B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918AC8-C98E-4CAE-BDC3-2B55525C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E1F5E-7341-410A-B01C-632A6B31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2A4CA-F449-485D-B808-A31110EB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D4139-0D18-4270-8ABB-9294410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2FAE-F33C-40FF-A457-4ACA0BBD6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5C3D-A59A-40D1-985D-B55645F61C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187B-6D80-41E5-8EEA-514D92E77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1A8-D2B5-4E81-974F-62F9F627376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A9E-FA6E-42FF-A99E-4A36C375A2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BEF-93A2-4C32-A1FC-136EE7B8900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81C1-0B65-4678-916F-1423E4D1B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5A68-3158-4CEA-9314-C27A628650F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9009-9CF4-469A-9AB2-8B882908EC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DF9-54B3-4F55-9799-400C253FED2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9F6-38DF-4431-AFAF-86338E8F9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6DD-17FC-4A45-BFE9-667EE9A148B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FD45-8EFF-476D-B88A-21DDD5FE4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73EE-5CBC-4B3A-9C23-E0ECCCDAC6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F42-2523-4CB0-9B1A-B8AF90DCB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21A2-B8F2-4E3A-AE78-E9412EB7FF4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42A-608C-4D2D-AA17-3EBA99D7D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292-F225-4BEB-A3D1-BDDB2C11ACB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8A47-61A4-4507-B136-47C2886B20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B33B-3F95-4226-A5BE-2A6694384CE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26D-4A01-4D18-A90E-1F3B200FF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FB3-A77A-4608-96A8-674A3E671B8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BCB6-DA35-4869-A116-52091E7DD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.com" TargetMode="External"/><Relationship Id="rId2" Type="http://schemas.openxmlformats.org/officeDocument/2006/relationships/hyperlink" Target="http://en.wikipedia.org/wiki/.ne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nounc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an Turing: An Atlantic Perspective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by Turing biographer Andrew Hod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night at 8pm in McCosh 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 April 27 “precep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cture at 10am in Architecture N1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10am and 11am pre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2B2A-8034-4181-9E67-511EB17B926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ublic Key Certific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nding between identity and a public ke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” is, for example, an e-mail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” ensured using a digital sig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a certific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the entity being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 of the entity being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the sig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 algorithm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286C-6109-44DC-B5E4-AFD09F1271C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5867280" y="4648320"/>
            <a:ext cx="303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 of Trust for P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centralized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on against government intr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ntral certificate autho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stomized solu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vidual decides whom to trust, and how mu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ertificates with different confidence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y-signing parties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 and provide public keys in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 other’s keys, and get your key signed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D52-B92D-48DA-B724-BC7137B3017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152-ED44-4ABD-951C-E1F7F30CA89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280" y="2514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 Threat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vesdropper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ening on conversation (confidenti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-in-the-middl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ying content (integr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erson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gus website (authentication, confidentiali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9B69-2D3C-4CD0-9A96-AE79D4984F3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762120" y="4952880"/>
            <a:ext cx="1015920" cy="1676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j0285750"/>
          <p:cNvPicPr/>
          <p:nvPr/>
        </p:nvPicPr>
        <p:blipFill>
          <a:blip r:embed="rId2"/>
          <a:stretch/>
        </p:blipFill>
        <p:spPr>
          <a:xfrm>
            <a:off x="6019920" y="4898880"/>
            <a:ext cx="2819160" cy="1730520"/>
          </a:xfrm>
          <a:prstGeom prst="rect">
            <a:avLst/>
          </a:prstGeom>
          <a:ln w="0">
            <a:noFill/>
          </a:ln>
        </p:spPr>
      </p:pic>
      <p:cxnSp>
        <p:nvCxnSpPr>
          <p:cNvPr id="545" name="Straight Arrow Connector 8"/>
          <p:cNvCxnSpPr/>
          <p:nvPr/>
        </p:nvCxnSpPr>
        <p:spPr>
          <a:xfrm>
            <a:off x="1599840" y="5715000"/>
            <a:ext cx="4725000" cy="21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pic>
        <p:nvPicPr>
          <p:cNvPr id="546" name="Picture 6" descr=""/>
          <p:cNvPicPr/>
          <p:nvPr/>
        </p:nvPicPr>
        <p:blipFill>
          <a:blip r:embed="rId3"/>
          <a:stretch/>
        </p:blipFill>
        <p:spPr>
          <a:xfrm>
            <a:off x="2971800" y="4876920"/>
            <a:ext cx="1693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TTP-S: Securing HTT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28600" y="1294920"/>
            <a:ext cx="5410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sits on top of secure channel (SSL/TL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 vs. http:/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port 443 vs. 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 (HTTP) bytes encrypted and authentic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hange to HTTP itself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re to get the key??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BA17-5537-4C3B-82FC-E3F1C9475F8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172200" y="1523880"/>
            <a:ext cx="24382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2"/>
          <p:cNvSpPr/>
          <p:nvPr/>
        </p:nvSpPr>
        <p:spPr>
          <a:xfrm>
            <a:off x="6172200" y="2362320"/>
            <a:ext cx="2438280" cy="838080"/>
          </a:xfrm>
          <a:prstGeom prst="rect">
            <a:avLst/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cure Transport 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6172200" y="3200400"/>
            <a:ext cx="2438280" cy="838080"/>
          </a:xfrm>
          <a:prstGeom prst="rect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6172200" y="4038480"/>
            <a:ext cx="2438280" cy="838440"/>
          </a:xfrm>
          <a:prstGeom prst="rect">
            <a:avLst/>
          </a:prstGeom>
          <a:solidFill>
            <a:srgbClr val="0099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6172200" y="4876920"/>
            <a:ext cx="2438280" cy="838080"/>
          </a:xfrm>
          <a:prstGeom prst="rect">
            <a:avLst/>
          </a:prstGeom>
          <a:solidFill>
            <a:srgbClr val="66006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nk lay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a Valid Public Ke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20570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s that lock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ely binds domain name to public key (P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K is authenticated, then any message signed by that PK cannot be forged by non-authorized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able only if you trust the attesting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tstrapping problem:  Who to trust, and how to tell if this message is actually from th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A8E9-12D5-4BBA-812D-98F3D13886D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9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31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Public Key Infra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blic key certificat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ding between identity and a public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” is, for example, a domain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signature to ensure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ertificate autho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 public key certificates and verifies ident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sted parties (e.g., VeriSign, GoDaddy, Comod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figured certificates in 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AA8E-2195-45F9-A00C-7F1F7929051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ublic Key Certific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EC80-9B2B-491A-9F56-9D6C012EF6F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31040" cy="533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/>
          <p:cNvPicPr/>
          <p:nvPr/>
        </p:nvPicPr>
        <p:blipFill>
          <a:blip r:embed="rId2"/>
          <a:srcRect l="0" t="0" r="35725" b="0"/>
          <a:stretch/>
        </p:blipFill>
        <p:spPr>
          <a:xfrm>
            <a:off x="127080" y="1892160"/>
            <a:ext cx="4276800" cy="4745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8" descr=""/>
          <p:cNvPicPr/>
          <p:nvPr/>
        </p:nvPicPr>
        <p:blipFill>
          <a:blip r:embed="rId3"/>
          <a:srcRect l="0" t="4769" r="33230" b="12717"/>
          <a:stretch/>
        </p:blipFill>
        <p:spPr>
          <a:xfrm>
            <a:off x="4581360" y="1892160"/>
            <a:ext cx="4410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port Layer Security (TL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ased on the earlier Secure Socket Layer (SSL) originally developed by Netscap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4799-AC7E-408E-84EB-EBB2394C1B7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S Handshake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new random value,  list of supported cipher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pre-secret, encrypted under P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hared secret key from pre-secret and random 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 to new symmetric-key cipher using shared key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new random value,     digital certificate with P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shared secret key from pre-secret and rand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tch to new symmetric-key cipher using shared key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2FDA-9340-4DE4-BB94-EA1D7EECB3E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Straight Arrow Connector 6"/>
          <p:cNvCxnSpPr/>
          <p:nvPr/>
        </p:nvCxnSpPr>
        <p:spPr>
          <a:xfrm>
            <a:off x="4114800" y="213336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5" name="Straight Arrow Connector 7"/>
          <p:cNvCxnSpPr/>
          <p:nvPr/>
        </p:nvCxnSpPr>
        <p:spPr>
          <a:xfrm>
            <a:off x="4114800" y="350496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6" name="Straight Arrow Connector 9"/>
          <p:cNvCxnSpPr/>
          <p:nvPr/>
        </p:nvCxnSpPr>
        <p:spPr>
          <a:xfrm flipH="1">
            <a:off x="4114440" y="2818440"/>
            <a:ext cx="915120" cy="229320"/>
          </a:xfrm>
          <a:prstGeom prst="straightConnector1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7" name="Straight Connector 11"/>
          <p:cNvSpPr/>
          <p:nvPr/>
        </p:nvSpPr>
        <p:spPr>
          <a:xfrm>
            <a:off x="838080" y="6172200"/>
            <a:ext cx="74678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Security Protocol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2" name="Picture 9" descr=""/>
          <p:cNvPicPr/>
          <p:nvPr/>
        </p:nvPicPr>
        <p:blipFill>
          <a:blip r:embed="rId1"/>
          <a:stretch/>
        </p:blipFill>
        <p:spPr>
          <a:xfrm>
            <a:off x="3200400" y="98280"/>
            <a:ext cx="273852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S Record Protocol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s from application layer are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gmented or coalesced into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ly comp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-protected using an HM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rypted using symmetric-key cip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ed to the transport layer (usually TC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 #s on record-protocol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s replays and reorderings of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700-AE68-49CA-8597-632DCBB1A76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mments on HTT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S authenticates server, not cont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DN (Akamai) serves content over HTTPS, customer must trust Akamai not to change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ymmetric-key crypto after public-key 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hake protocol using public key cryp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metric-key crypto much faster (100-1000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S on top of TCP, so reliable byte 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verage fact that transmission is reliable to ensure: each data segment received exactly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ersary can’t successfully drop or replay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E169-3878-44F3-AC0B-EEE3756ADBB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5E1-68F8-4CBD-BF46-8BD3EFB17B2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here are range of app-specific security mechanism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g. TLS/HTTPS, S/MIME, PGP, Kerber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ut security concerns that cut across protocol layer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mplement by the network for all applications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0">
              <a:spcBef>
                <a:spcPts val="11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ter IPSec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AAF6-1FC0-45C2-8FE5-402088E676D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l IP Security frame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s one to provi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control, integrity, authentication, originality, and confidentia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ble to different setting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ow streams: Specific TCP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streams:  All packets between two gate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4E0-F9CA-4DA5-A8D2-B0A557B6D8B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"/>
          <p:cNvPicPr/>
          <p:nvPr/>
        </p:nvPicPr>
        <p:blipFill>
          <a:blip r:embed="rId1"/>
          <a:srcRect l="0" t="4632" r="0" b="13897"/>
          <a:stretch/>
        </p:blipFill>
        <p:spPr>
          <a:xfrm>
            <a:off x="-76320" y="609480"/>
            <a:ext cx="9601200" cy="63151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EC20-460A-4B9B-9C3D-91A2AF812DB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Sec U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nefits of IP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f in a firewall/router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security to all traffic crossing peri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t to byp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Below transport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arent to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transparent to en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n provide security for individual us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BF0-8EEE-488A-8DD3-2539B520BEC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Security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ecification quite comple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in IPv6, optional in IPv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security header extension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ation Header (A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onless integrity, origin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 over most header fields and packet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ti-replay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ng Security Payload (ES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properties, plus 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E16-8BAC-4612-B71B-AFB757045D4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capsulating Security Payload (ES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Transport mode: Data encrypted, but not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fter all, network headers needed for routin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still do traffic analysis, but is 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host-to-host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unnel mode: Encrypts entire I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new header for next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VPNs, gateway-to-gateway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3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AA4D-2EEB-4037-97B0-2BCCBF0D2A5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lay Protection is Har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Replay protection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avesdropper can’t capture encrypted packet and duplicate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Easy with TLS/HTTP on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liable byte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00000"/>
                </a:solidFill>
                <a:latin typeface="Calibri"/>
              </a:rPr>
              <a:t>Hard for IP Sec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nsport may not be 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ketch of solution: sequence numbers on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6F8-D53F-4E68-808C-BDCDD9A5CA7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: PGP, using a web-of-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: HTTP-S, using a certificate hierar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ort Layer Security/ Secure Socket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infrastruct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-Sec and BGP-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B184-734F-45A3-B724-EFC68F8904F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A01A-7868-43FA-9955-A648961FF98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Naming in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E9D2-79C6-4CE9-93A6-F340B28FA1E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3"/>
          <p:cNvSpPr/>
          <p:nvPr/>
        </p:nvSpPr>
        <p:spPr>
          <a:xfrm>
            <a:off x="45252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430920" y="23083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"/>
          <p:cNvSpPr/>
          <p:nvPr/>
        </p:nvSpPr>
        <p:spPr>
          <a:xfrm>
            <a:off x="123660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1247400" y="23083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7"/>
          <p:cNvGrpSpPr/>
          <p:nvPr/>
        </p:nvGrpSpPr>
        <p:grpSpPr>
          <a:xfrm>
            <a:off x="2127240" y="2479680"/>
            <a:ext cx="522360" cy="88920"/>
            <a:chOff x="2127240" y="2479680"/>
            <a:chExt cx="522360" cy="88920"/>
          </a:xfrm>
        </p:grpSpPr>
        <p:sp>
          <p:nvSpPr>
            <p:cNvPr id="617" name="Oval 8"/>
            <p:cNvSpPr/>
            <p:nvPr/>
          </p:nvSpPr>
          <p:spPr>
            <a:xfrm>
              <a:off x="212724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234324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10"/>
            <p:cNvSpPr/>
            <p:nvPr/>
          </p:nvSpPr>
          <p:spPr>
            <a:xfrm>
              <a:off x="2560680" y="247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Oval 11"/>
          <p:cNvSpPr/>
          <p:nvPr/>
        </p:nvSpPr>
        <p:spPr>
          <a:xfrm>
            <a:off x="303516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3075840" y="23083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353880" y="216216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4"/>
          <p:cNvSpPr/>
          <p:nvPr/>
        </p:nvSpPr>
        <p:spPr>
          <a:xfrm>
            <a:off x="4192560" y="22366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4291920" y="23083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6"/>
          <p:cNvSpPr/>
          <p:nvPr/>
        </p:nvSpPr>
        <p:spPr>
          <a:xfrm>
            <a:off x="603108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6079680" y="2306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8"/>
          <p:cNvGrpSpPr/>
          <p:nvPr/>
        </p:nvGrpSpPr>
        <p:grpSpPr>
          <a:xfrm>
            <a:off x="5106960" y="2508120"/>
            <a:ext cx="522360" cy="88920"/>
            <a:chOff x="5106960" y="2508120"/>
            <a:chExt cx="522360" cy="88920"/>
          </a:xfrm>
        </p:grpSpPr>
        <p:sp>
          <p:nvSpPr>
            <p:cNvPr id="628" name="Oval 19"/>
            <p:cNvSpPr/>
            <p:nvPr/>
          </p:nvSpPr>
          <p:spPr>
            <a:xfrm>
              <a:off x="510696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0"/>
            <p:cNvSpPr/>
            <p:nvPr/>
          </p:nvSpPr>
          <p:spPr>
            <a:xfrm>
              <a:off x="532296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1"/>
            <p:cNvSpPr/>
            <p:nvPr/>
          </p:nvSpPr>
          <p:spPr>
            <a:xfrm>
              <a:off x="5540400" y="25081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Oval 22"/>
          <p:cNvSpPr/>
          <p:nvPr/>
        </p:nvSpPr>
        <p:spPr>
          <a:xfrm>
            <a:off x="677556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3"/>
          <p:cNvSpPr/>
          <p:nvPr/>
        </p:nvSpPr>
        <p:spPr>
          <a:xfrm>
            <a:off x="6845040" y="22939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4"/>
          <p:cNvSpPr/>
          <p:nvPr/>
        </p:nvSpPr>
        <p:spPr>
          <a:xfrm>
            <a:off x="4094280" y="216216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5"/>
          <p:cNvSpPr/>
          <p:nvPr/>
        </p:nvSpPr>
        <p:spPr>
          <a:xfrm>
            <a:off x="8116920" y="223668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6"/>
          <p:cNvSpPr/>
          <p:nvPr/>
        </p:nvSpPr>
        <p:spPr>
          <a:xfrm>
            <a:off x="8071200" y="22953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7"/>
          <p:cNvSpPr/>
          <p:nvPr/>
        </p:nvSpPr>
        <p:spPr>
          <a:xfrm>
            <a:off x="4432320" y="144144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8"/>
          <p:cNvSpPr/>
          <p:nvPr/>
        </p:nvSpPr>
        <p:spPr>
          <a:xfrm>
            <a:off x="4960440" y="1170000"/>
            <a:ext cx="168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nam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9"/>
          <p:cNvSpPr/>
          <p:nvPr/>
        </p:nvSpPr>
        <p:spPr>
          <a:xfrm flipH="1">
            <a:off x="711000" y="164160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0"/>
          <p:cNvSpPr/>
          <p:nvPr/>
        </p:nvSpPr>
        <p:spPr>
          <a:xfrm flipH="1">
            <a:off x="1541520" y="173844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1"/>
          <p:cNvSpPr/>
          <p:nvPr/>
        </p:nvSpPr>
        <p:spPr>
          <a:xfrm flipH="1">
            <a:off x="3315960" y="180828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2"/>
          <p:cNvSpPr/>
          <p:nvPr/>
        </p:nvSpPr>
        <p:spPr>
          <a:xfrm flipH="1">
            <a:off x="4479480" y="1862280"/>
            <a:ext cx="23508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3"/>
          <p:cNvSpPr/>
          <p:nvPr/>
        </p:nvSpPr>
        <p:spPr>
          <a:xfrm>
            <a:off x="4978440" y="1627200"/>
            <a:ext cx="332424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4"/>
          <p:cNvSpPr/>
          <p:nvPr/>
        </p:nvSpPr>
        <p:spPr>
          <a:xfrm>
            <a:off x="4937040" y="173844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5"/>
          <p:cNvSpPr/>
          <p:nvPr/>
        </p:nvSpPr>
        <p:spPr>
          <a:xfrm>
            <a:off x="4881600" y="1822320"/>
            <a:ext cx="134460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6"/>
          <p:cNvSpPr/>
          <p:nvPr/>
        </p:nvSpPr>
        <p:spPr>
          <a:xfrm>
            <a:off x="1247760" y="31860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37"/>
          <p:cNvSpPr/>
          <p:nvPr/>
        </p:nvSpPr>
        <p:spPr>
          <a:xfrm>
            <a:off x="790560" y="4164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38"/>
          <p:cNvSpPr/>
          <p:nvPr/>
        </p:nvSpPr>
        <p:spPr>
          <a:xfrm>
            <a:off x="1801800" y="41623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39"/>
          <p:cNvSpPr/>
          <p:nvPr/>
        </p:nvSpPr>
        <p:spPr>
          <a:xfrm>
            <a:off x="6031080" y="32004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val 40"/>
          <p:cNvSpPr/>
          <p:nvPr/>
        </p:nvSpPr>
        <p:spPr>
          <a:xfrm>
            <a:off x="6031080" y="41767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41"/>
          <p:cNvSpPr/>
          <p:nvPr/>
        </p:nvSpPr>
        <p:spPr>
          <a:xfrm>
            <a:off x="6031080" y="5140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2"/>
          <p:cNvSpPr/>
          <p:nvPr/>
        </p:nvSpPr>
        <p:spPr>
          <a:xfrm>
            <a:off x="1844640" y="512604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43"/>
          <p:cNvSpPr/>
          <p:nvPr/>
        </p:nvSpPr>
        <p:spPr>
          <a:xfrm>
            <a:off x="790560" y="5126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44"/>
          <p:cNvSpPr/>
          <p:nvPr/>
        </p:nvSpPr>
        <p:spPr>
          <a:xfrm>
            <a:off x="8116920" y="31860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45"/>
          <p:cNvSpPr/>
          <p:nvPr/>
        </p:nvSpPr>
        <p:spPr>
          <a:xfrm>
            <a:off x="8116920" y="4164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46"/>
          <p:cNvSpPr/>
          <p:nvPr/>
        </p:nvSpPr>
        <p:spPr>
          <a:xfrm>
            <a:off x="8116920" y="5126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7"/>
          <p:cNvSpPr/>
          <p:nvPr/>
        </p:nvSpPr>
        <p:spPr>
          <a:xfrm>
            <a:off x="1262880" y="32497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8"/>
          <p:cNvSpPr/>
          <p:nvPr/>
        </p:nvSpPr>
        <p:spPr>
          <a:xfrm>
            <a:off x="748080" y="4246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9"/>
          <p:cNvSpPr/>
          <p:nvPr/>
        </p:nvSpPr>
        <p:spPr>
          <a:xfrm>
            <a:off x="1768680" y="4246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0"/>
          <p:cNvSpPr/>
          <p:nvPr/>
        </p:nvSpPr>
        <p:spPr>
          <a:xfrm>
            <a:off x="831960" y="51753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1"/>
          <p:cNvSpPr/>
          <p:nvPr/>
        </p:nvSpPr>
        <p:spPr>
          <a:xfrm>
            <a:off x="1886760" y="51753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52"/>
          <p:cNvSpPr/>
          <p:nvPr/>
        </p:nvSpPr>
        <p:spPr>
          <a:xfrm>
            <a:off x="1541520" y="2813040"/>
            <a:ext cx="144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3"/>
          <p:cNvSpPr/>
          <p:nvPr/>
        </p:nvSpPr>
        <p:spPr>
          <a:xfrm flipH="1">
            <a:off x="1050480" y="376236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54"/>
          <p:cNvSpPr/>
          <p:nvPr/>
        </p:nvSpPr>
        <p:spPr>
          <a:xfrm>
            <a:off x="1625760" y="3747960"/>
            <a:ext cx="415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5"/>
          <p:cNvSpPr/>
          <p:nvPr/>
        </p:nvSpPr>
        <p:spPr>
          <a:xfrm>
            <a:off x="1071720" y="474516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56"/>
          <p:cNvSpPr/>
          <p:nvPr/>
        </p:nvSpPr>
        <p:spPr>
          <a:xfrm>
            <a:off x="2097000" y="4730760"/>
            <a:ext cx="180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57"/>
          <p:cNvSpPr/>
          <p:nvPr/>
        </p:nvSpPr>
        <p:spPr>
          <a:xfrm>
            <a:off x="6311880" y="2833560"/>
            <a:ext cx="144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58"/>
          <p:cNvSpPr/>
          <p:nvPr/>
        </p:nvSpPr>
        <p:spPr>
          <a:xfrm>
            <a:off x="6313320" y="3762360"/>
            <a:ext cx="18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9"/>
          <p:cNvSpPr/>
          <p:nvPr/>
        </p:nvSpPr>
        <p:spPr>
          <a:xfrm>
            <a:off x="6313320" y="477360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60"/>
          <p:cNvSpPr/>
          <p:nvPr/>
        </p:nvSpPr>
        <p:spPr>
          <a:xfrm>
            <a:off x="8116920" y="605304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61"/>
          <p:cNvSpPr/>
          <p:nvPr/>
        </p:nvSpPr>
        <p:spPr>
          <a:xfrm>
            <a:off x="8427960" y="28051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62"/>
          <p:cNvSpPr/>
          <p:nvPr/>
        </p:nvSpPr>
        <p:spPr>
          <a:xfrm>
            <a:off x="8399520" y="374796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63"/>
          <p:cNvSpPr/>
          <p:nvPr/>
        </p:nvSpPr>
        <p:spPr>
          <a:xfrm>
            <a:off x="8399520" y="471636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64"/>
          <p:cNvSpPr/>
          <p:nvPr/>
        </p:nvSpPr>
        <p:spPr>
          <a:xfrm>
            <a:off x="8399520" y="5686560"/>
            <a:ext cx="144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5"/>
          <p:cNvSpPr/>
          <p:nvPr/>
        </p:nvSpPr>
        <p:spPr>
          <a:xfrm>
            <a:off x="6102000" y="32497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6"/>
          <p:cNvSpPr/>
          <p:nvPr/>
        </p:nvSpPr>
        <p:spPr>
          <a:xfrm>
            <a:off x="5996880" y="42609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7"/>
          <p:cNvSpPr/>
          <p:nvPr/>
        </p:nvSpPr>
        <p:spPr>
          <a:xfrm>
            <a:off x="6046200" y="52164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68"/>
          <p:cNvSpPr/>
          <p:nvPr/>
        </p:nvSpPr>
        <p:spPr>
          <a:xfrm>
            <a:off x="8147520" y="323532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9"/>
          <p:cNvSpPr/>
          <p:nvPr/>
        </p:nvSpPr>
        <p:spPr>
          <a:xfrm>
            <a:off x="8211240" y="4246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70"/>
          <p:cNvSpPr/>
          <p:nvPr/>
        </p:nvSpPr>
        <p:spPr>
          <a:xfrm>
            <a:off x="8209800" y="5202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1"/>
          <p:cNvSpPr/>
          <p:nvPr/>
        </p:nvSpPr>
        <p:spPr>
          <a:xfrm>
            <a:off x="8209800" y="610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2"/>
          <p:cNvSpPr/>
          <p:nvPr/>
        </p:nvSpPr>
        <p:spPr>
          <a:xfrm>
            <a:off x="1946520" y="289548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73"/>
          <p:cNvSpPr/>
          <p:nvPr/>
        </p:nvSpPr>
        <p:spPr>
          <a:xfrm>
            <a:off x="4145760" y="289548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4"/>
          <p:cNvSpPr/>
          <p:nvPr/>
        </p:nvSpPr>
        <p:spPr>
          <a:xfrm>
            <a:off x="1259640" y="569916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75"/>
          <p:cNvSpPr/>
          <p:nvPr/>
        </p:nvSpPr>
        <p:spPr>
          <a:xfrm>
            <a:off x="5384880" y="569916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6"/>
          <p:cNvSpPr/>
          <p:nvPr/>
        </p:nvSpPr>
        <p:spPr>
          <a:xfrm>
            <a:off x="6549480" y="6400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000090"/>
                </a:solidFill>
                <a:latin typeface="Calibri"/>
              </a:rPr>
              <a:t>DNS Root Servers</a:t>
            </a:r>
            <a:endParaRPr b="0" lang="en-US" sz="5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84200" y="12189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13 root servers (se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8" name="Slide Number Placeholder 4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1BE-F360-4381-8153-7A3A5C2C07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480960" y="3165480"/>
            <a:ext cx="72342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5" descr="worldf"/>
          <p:cNvPicPr/>
          <p:nvPr/>
        </p:nvPicPr>
        <p:blipFill>
          <a:blip r:embed="rId2"/>
          <a:stretch/>
        </p:blipFill>
        <p:spPr>
          <a:xfrm>
            <a:off x="2133720" y="4141800"/>
            <a:ext cx="5400720" cy="2666880"/>
          </a:xfrm>
          <a:prstGeom prst="rect">
            <a:avLst/>
          </a:prstGeom>
          <a:ln w="0">
            <a:noFill/>
          </a:ln>
        </p:spPr>
      </p:pic>
      <p:sp>
        <p:nvSpPr>
          <p:cNvPr id="691" name="Freeform 6"/>
          <p:cNvSpPr/>
          <p:nvPr/>
        </p:nvSpPr>
        <p:spPr>
          <a:xfrm>
            <a:off x="2604960" y="334332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272880" y="5719680"/>
            <a:ext cx="2851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8"/>
          <p:cNvSpPr/>
          <p:nvPr/>
        </p:nvSpPr>
        <p:spPr>
          <a:xfrm>
            <a:off x="1752480" y="5041800"/>
            <a:ext cx="952560" cy="668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169920" y="3886200"/>
            <a:ext cx="2573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  Internet Software C. Palo Alto, CA (and 17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0"/>
          <p:cNvSpPr/>
          <p:nvPr/>
        </p:nvSpPr>
        <p:spPr>
          <a:xfrm flipV="1">
            <a:off x="1447920" y="4723560"/>
            <a:ext cx="1234800" cy="243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5425920" y="3646440"/>
            <a:ext cx="2498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2"/>
          <p:cNvSpPr/>
          <p:nvPr/>
        </p:nvSpPr>
        <p:spPr>
          <a:xfrm>
            <a:off x="4876920" y="4038480"/>
            <a:ext cx="914400" cy="609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5375160" y="3292560"/>
            <a:ext cx="437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 RIPE London (+ Amsterdam, Frankfurt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4"/>
          <p:cNvSpPr/>
          <p:nvPr/>
        </p:nvSpPr>
        <p:spPr>
          <a:xfrm>
            <a:off x="4570560" y="351000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7426440" y="4438800"/>
            <a:ext cx="156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6"/>
          <p:cNvSpPr/>
          <p:nvPr/>
        </p:nvSpPr>
        <p:spPr>
          <a:xfrm>
            <a:off x="6851520" y="4648320"/>
            <a:ext cx="540000" cy="291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2665440" y="24382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1143000"/>
            <a:ext cx="2514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S attacks on DNS Avail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eb. 6, 200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net attack on the 13 Internet DNS roo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ed 2.5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e crashed, but two performed bad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-root (DoD),   l-root  (ICAN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ther root servers use any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F997-3486-4F59-B5C7-D17E6D2ACC2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fense: Replication and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08" name="Picture 3" descr=""/>
          <p:cNvPicPr/>
          <p:nvPr/>
        </p:nvPicPr>
        <p:blipFill>
          <a:blip r:embed="rId1"/>
          <a:stretch/>
        </p:blipFill>
        <p:spPr>
          <a:xfrm>
            <a:off x="719280" y="1219320"/>
            <a:ext cx="7891200" cy="51051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4"/>
          <p:cNvSpPr/>
          <p:nvPr/>
        </p:nvSpPr>
        <p:spPr>
          <a:xfrm>
            <a:off x="5791320" y="63244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wikiped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1B6-E7B9-4ABA-BA1C-9B416B45B50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  <a:ea typeface="Calibri"/>
              </a:rPr>
              <a:t>Denial-of-Service Attacks on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838080" y="5481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80,000 open resolvers on Internet  (Kaminsky-Shiffman’0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3917880" y="3992400"/>
            <a:ext cx="1490760" cy="838440"/>
          </a:xfrm>
          <a:prstGeom prst="rect">
            <a:avLst/>
          </a:prstGeom>
          <a:solidFill>
            <a:srgbClr val="bc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6" descr="j0239481"/>
          <p:cNvPicPr/>
          <p:nvPr/>
        </p:nvPicPr>
        <p:blipFill>
          <a:blip r:embed="rId1"/>
          <a:stretch/>
        </p:blipFill>
        <p:spPr>
          <a:xfrm>
            <a:off x="717480" y="3535200"/>
            <a:ext cx="762120" cy="64152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7"/>
          <p:cNvSpPr/>
          <p:nvPr/>
        </p:nvSpPr>
        <p:spPr>
          <a:xfrm>
            <a:off x="536400" y="4199040"/>
            <a:ext cx="10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8" descr="j0239481"/>
          <p:cNvPicPr/>
          <p:nvPr/>
        </p:nvPicPr>
        <p:blipFill>
          <a:blip r:embed="rId2"/>
          <a:stretch/>
        </p:blipFill>
        <p:spPr>
          <a:xfrm>
            <a:off x="7651800" y="3535200"/>
            <a:ext cx="762120" cy="64152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9"/>
          <p:cNvSpPr/>
          <p:nvPr/>
        </p:nvSpPr>
        <p:spPr>
          <a:xfrm>
            <a:off x="7556040" y="419904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ar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0"/>
          <p:cNvGrpSpPr/>
          <p:nvPr/>
        </p:nvGrpSpPr>
        <p:grpSpPr>
          <a:xfrm>
            <a:off x="1479600" y="2620800"/>
            <a:ext cx="2590920" cy="1524960"/>
            <a:chOff x="1479600" y="2620800"/>
            <a:chExt cx="2590920" cy="1524960"/>
          </a:xfrm>
        </p:grpSpPr>
        <p:sp>
          <p:nvSpPr>
            <p:cNvPr id="720" name="Line 11"/>
            <p:cNvSpPr/>
            <p:nvPr/>
          </p:nvSpPr>
          <p:spPr>
            <a:xfrm>
              <a:off x="1479600" y="360504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2"/>
            <p:cNvSpPr/>
            <p:nvPr/>
          </p:nvSpPr>
          <p:spPr>
            <a:xfrm>
              <a:off x="4070520" y="3605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3"/>
            <p:cNvSpPr/>
            <p:nvPr/>
          </p:nvSpPr>
          <p:spPr>
            <a:xfrm>
              <a:off x="1617480" y="2620800"/>
              <a:ext cx="23403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NS Query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rcIP: DoS Targe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60 bytes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4"/>
          <p:cNvGrpSpPr/>
          <p:nvPr/>
        </p:nvGrpSpPr>
        <p:grpSpPr>
          <a:xfrm>
            <a:off x="5137200" y="2697120"/>
            <a:ext cx="2743200" cy="1385640"/>
            <a:chOff x="5137200" y="2697120"/>
            <a:chExt cx="2743200" cy="1385640"/>
          </a:xfrm>
        </p:grpSpPr>
        <p:sp>
          <p:nvSpPr>
            <p:cNvPr id="724" name="Line 15"/>
            <p:cNvSpPr/>
            <p:nvPr/>
          </p:nvSpPr>
          <p:spPr>
            <a:xfrm flipV="1">
              <a:off x="5137200" y="3605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6"/>
            <p:cNvSpPr/>
            <p:nvPr/>
          </p:nvSpPr>
          <p:spPr>
            <a:xfrm>
              <a:off x="5137200" y="360540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7"/>
            <p:cNvSpPr/>
            <p:nvPr/>
          </p:nvSpPr>
          <p:spPr>
            <a:xfrm>
              <a:off x="5599800" y="2697120"/>
              <a:ext cx="20019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NS Respons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3000 bytes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18"/>
          <p:cNvSpPr/>
          <p:nvPr/>
        </p:nvSpPr>
        <p:spPr>
          <a:xfrm>
            <a:off x="3011760" y="1600200"/>
            <a:ext cx="32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40  ampl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A58-7EDE-4C3B-BEE4-59AB1AA3DABD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Oval 2"/>
          <p:cNvSpPr/>
          <p:nvPr/>
        </p:nvSpPr>
        <p:spPr>
          <a:xfrm>
            <a:off x="1901880" y="2133720"/>
            <a:ext cx="106668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ttac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Amplification Attac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31" name="Picture 4" descr="pc"/>
          <p:cNvPicPr/>
          <p:nvPr/>
        </p:nvPicPr>
        <p:blipFill>
          <a:blip r:embed="rId1"/>
          <a:stretch/>
        </p:blipFill>
        <p:spPr>
          <a:xfrm>
            <a:off x="3809880" y="5029200"/>
            <a:ext cx="797040" cy="663480"/>
          </a:xfrm>
          <a:prstGeom prst="rect">
            <a:avLst/>
          </a:prstGeom>
          <a:ln w="0">
            <a:noFill/>
          </a:ln>
        </p:spPr>
      </p:pic>
      <p:sp>
        <p:nvSpPr>
          <p:cNvPr id="732" name="Line 5"/>
          <p:cNvSpPr/>
          <p:nvPr/>
        </p:nvSpPr>
        <p:spPr>
          <a:xfrm>
            <a:off x="3352680" y="25146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6"/>
          <p:cNvSpPr/>
          <p:nvPr/>
        </p:nvSpPr>
        <p:spPr>
          <a:xfrm flipH="1">
            <a:off x="4343040" y="304812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7"/>
          <p:cNvSpPr/>
          <p:nvPr/>
        </p:nvSpPr>
        <p:spPr>
          <a:xfrm>
            <a:off x="2783160" y="20574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p spoofed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 rot="18358800">
            <a:off x="3981240" y="34642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l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9"/>
          <p:cNvSpPr/>
          <p:nvPr/>
        </p:nvSpPr>
        <p:spPr>
          <a:xfrm>
            <a:off x="3536640" y="5802480"/>
            <a:ext cx="1186560" cy="429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cti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5562720" y="2057400"/>
            <a:ext cx="1066680" cy="1066680"/>
          </a:xfrm>
          <a:prstGeom prst="ellipse">
            <a:avLst/>
          </a:prstGeom>
          <a:solidFill>
            <a:srgbClr val="bce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mp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11"/>
          <p:cNvSpPr/>
          <p:nvPr/>
        </p:nvSpPr>
        <p:spPr>
          <a:xfrm>
            <a:off x="685800" y="3809880"/>
            <a:ext cx="3152880" cy="1285920"/>
          </a:xfrm>
          <a:prstGeom prst="wedgeRoundRectCallout">
            <a:avLst>
              <a:gd name="adj1" fmla="val 33435"/>
              <a:gd name="adj2" fmla="val -125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ev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p spoo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2"/>
          <p:cNvSpPr/>
          <p:nvPr/>
        </p:nvSpPr>
        <p:spPr>
          <a:xfrm flipH="1">
            <a:off x="4495320" y="320040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3"/>
          <p:cNvSpPr/>
          <p:nvPr/>
        </p:nvSpPr>
        <p:spPr>
          <a:xfrm flipH="1">
            <a:off x="4647960" y="3352680"/>
            <a:ext cx="1143000" cy="152424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4"/>
          <p:cNvSpPr/>
          <p:nvPr/>
        </p:nvSpPr>
        <p:spPr>
          <a:xfrm flipH="1">
            <a:off x="4800240" y="3505320"/>
            <a:ext cx="1143000" cy="152388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5"/>
          <p:cNvSpPr/>
          <p:nvPr/>
        </p:nvSpPr>
        <p:spPr>
          <a:xfrm>
            <a:off x="5562720" y="3809880"/>
            <a:ext cx="3276360" cy="1295640"/>
          </a:xfrm>
          <a:prstGeom prst="wedgeRoundRectCallout">
            <a:avLst>
              <a:gd name="adj1" fmla="val -27569"/>
              <a:gd name="adj2" fmla="val -10210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pen amplifi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6"/>
          <p:cNvSpPr/>
          <p:nvPr/>
        </p:nvSpPr>
        <p:spPr>
          <a:xfrm>
            <a:off x="3352680" y="2666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"/>
          <p:cNvSpPr/>
          <p:nvPr/>
        </p:nvSpPr>
        <p:spPr>
          <a:xfrm>
            <a:off x="3352680" y="28195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8"/>
          <p:cNvSpPr/>
          <p:nvPr/>
        </p:nvSpPr>
        <p:spPr>
          <a:xfrm>
            <a:off x="3352680" y="297180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F0A-687A-4595-9D48-CFF64605E18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 and the TLD Operat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domain name doesn’t exist, DNS should return NXDOMAIN (non-existant domain) ms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isign instead creates wildcard records for all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com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net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names not yet register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tember 15 – October 4, 20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irection for these domain names to Verisign web portal:  “to help you search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erve you ads…and get “sponsored”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sign and online advertising companies make $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C10-087F-406E-8B82-A8453E8BFCD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: Cache Poison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s answer from an authoritative server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from somebody e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cache poison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asks for www.ev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server authoritative for www.evil.com returns additional section for (www.cnn.com, 1.2.3.4, 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s!  I won’t bother check what I ask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F98-1C23-4D71-824A-6B9A0D326E9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Integrity: DNS Hijac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 prevent cache poisoning, client remember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main name in the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16-bit request ID (used to demux UDP respons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hijac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bits:  65K possible 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ate to enumerate all in 1 sec?  64B/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4*65536*8 / 1024 / 1024 = 32 M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vention: also randomize DNS source po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minsky attack: this source port… wasn’t rand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BADB-8AE6-4708-8A22-2B875264A88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7"/>
          <p:cNvSpPr/>
          <p:nvPr/>
        </p:nvSpPr>
        <p:spPr>
          <a:xfrm>
            <a:off x="204840" y="6305400"/>
            <a:ext cx="88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unixwiz.net/techtips/iguide-kaminsky-dns-vuln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asic Security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028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Confidential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cealment of information or resources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uthentic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ntification and assurance of origin of info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Integrity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ustworthiness of data or resources in terms of preventing improper and unauthorized changes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vailability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bility to use desired information or resourc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Non-repudiation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ffer of evidence that a party indeed is sender or a receiver of certain information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800000"/>
                </a:solidFill>
                <a:latin typeface="Calibri"/>
              </a:rPr>
              <a:t>Access control:</a:t>
            </a: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cilities to determine and enforce who is allowed access to what resources (host, software, network, …)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A9D-CB37-416E-8914-0F809311EF2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Se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ects against data spoofing and corru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mechanisms to authenticate servers and reque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vides mechanisms to establish authenticity and integ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8CED-D2FB-4CFC-8DCF-0BDA99730A5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K-DNSSEC (Public Key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DNS servers sign the hash of resource record set with its private (signature) key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s can be used to verify the SI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verages hierarchy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ity of name server’s public keys is established by a signature over the keys by the parent’s private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ideal case, only roots’ public keys need to be distributed out-of-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D43-45D2-4487-B14F-0DD95558121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649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erifying the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28600" y="3276720"/>
            <a:ext cx="1125360" cy="9144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u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"/>
          <p:cNvSpPr/>
          <p:nvPr/>
        </p:nvSpPr>
        <p:spPr>
          <a:xfrm>
            <a:off x="1371600" y="358128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0" y="1503360"/>
            <a:ext cx="548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  <a:ea typeface="Calibri"/>
              </a:rPr>
              <a:t>Question:  www.cnn.com   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1478160" y="327672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2819520" y="3124080"/>
            <a:ext cx="1617480" cy="129564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sol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8"/>
          <p:cNvSpPr/>
          <p:nvPr/>
        </p:nvSpPr>
        <p:spPr>
          <a:xfrm>
            <a:off x="6338880" y="2514600"/>
            <a:ext cx="2462400" cy="4572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roo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9"/>
          <p:cNvSpPr/>
          <p:nvPr/>
        </p:nvSpPr>
        <p:spPr>
          <a:xfrm rot="19770600">
            <a:off x="4551120" y="27540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0"/>
          <p:cNvSpPr/>
          <p:nvPr/>
        </p:nvSpPr>
        <p:spPr>
          <a:xfrm flipV="1">
            <a:off x="4419720" y="2590560"/>
            <a:ext cx="190476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1"/>
          <p:cNvSpPr/>
          <p:nvPr/>
        </p:nvSpPr>
        <p:spPr>
          <a:xfrm flipH="1">
            <a:off x="4420800" y="2743200"/>
            <a:ext cx="1903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2"/>
          <p:cNvSpPr/>
          <p:nvPr/>
        </p:nvSpPr>
        <p:spPr>
          <a:xfrm>
            <a:off x="5257800" y="30481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sk .com 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ip addr and PK of .com serv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6400800" y="3809880"/>
            <a:ext cx="2462040" cy="45720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4651560" y="373392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449568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6"/>
          <p:cNvSpPr/>
          <p:nvPr/>
        </p:nvSpPr>
        <p:spPr>
          <a:xfrm>
            <a:off x="4669200" y="4191120"/>
            <a:ext cx="301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sk cnn.com server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ip addr and PK of cnn.com serve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7"/>
          <p:cNvSpPr/>
          <p:nvPr/>
        </p:nvSpPr>
        <p:spPr>
          <a:xfrm flipH="1">
            <a:off x="4419360" y="4191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"/>
          <p:cNvSpPr/>
          <p:nvPr/>
        </p:nvSpPr>
        <p:spPr>
          <a:xfrm>
            <a:off x="6324480" y="6095880"/>
            <a:ext cx="2463840" cy="533520"/>
          </a:xfrm>
          <a:prstGeom prst="rect">
            <a:avLst/>
          </a:prstGeom>
          <a:solidFill>
            <a:srgbClr val="bce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nn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9"/>
          <p:cNvSpPr/>
          <p:nvPr/>
        </p:nvSpPr>
        <p:spPr>
          <a:xfrm>
            <a:off x="4038480" y="4419720"/>
            <a:ext cx="2286000" cy="190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0"/>
          <p:cNvSpPr/>
          <p:nvPr/>
        </p:nvSpPr>
        <p:spPr>
          <a:xfrm flipH="1" flipV="1">
            <a:off x="3809520" y="4419720"/>
            <a:ext cx="2514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21"/>
          <p:cNvSpPr/>
          <p:nvPr/>
        </p:nvSpPr>
        <p:spPr>
          <a:xfrm rot="2400000">
            <a:off x="4664880" y="51033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www.cnn.com A 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2"/>
          <p:cNvSpPr/>
          <p:nvPr/>
        </p:nvSpPr>
        <p:spPr>
          <a:xfrm rot="2335200">
            <a:off x="4027320" y="538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 (xxx.xxx.xxx.xxx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3"/>
          <p:cNvSpPr/>
          <p:nvPr/>
        </p:nvSpPr>
        <p:spPr>
          <a:xfrm>
            <a:off x="1385640" y="373392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xxx.xxx.xxx.xx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24"/>
          <p:cNvSpPr/>
          <p:nvPr/>
        </p:nvSpPr>
        <p:spPr>
          <a:xfrm flipH="1">
            <a:off x="1371600" y="373392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25"/>
          <p:cNvSpPr/>
          <p:nvPr/>
        </p:nvSpPr>
        <p:spPr>
          <a:xfrm>
            <a:off x="2971800" y="4419720"/>
            <a:ext cx="574560" cy="4698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26"/>
          <p:cNvSpPr/>
          <p:nvPr/>
        </p:nvSpPr>
        <p:spPr>
          <a:xfrm>
            <a:off x="2672280" y="487692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dd to cac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30"/>
          <p:cNvSpPr/>
          <p:nvPr/>
        </p:nvSpPr>
        <p:spPr>
          <a:xfrm>
            <a:off x="1800" y="296856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src.cs.princeton.ed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31"/>
          <p:cNvSpPr/>
          <p:nvPr/>
        </p:nvSpPr>
        <p:spPr>
          <a:xfrm>
            <a:off x="2746800" y="2743200"/>
            <a:ext cx="173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ns.cs.princeton.ed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2"/>
          <p:cNvSpPr/>
          <p:nvPr/>
        </p:nvSpPr>
        <p:spPr>
          <a:xfrm>
            <a:off x="1523880" y="4051440"/>
            <a:ext cx="114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transa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Calibri"/>
              </a:rPr>
              <a:t>sign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C34-88FD-4008-8FF4-ACAE076003F3}" type="slidenum">
              <a:rPr b="1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at many lay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, transport, and networ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ized to the properties 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ing key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key certific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ificate authorities vs. Web of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domain routing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arn more: take COS 432 in the fall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4702-7CB3-42FE-BE0D-2A204DDD938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219D-950F-4888-B01E-932FC645104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cryption and MAC/Signat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373320" y="1960560"/>
            <a:ext cx="35899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  <a:ea typeface="Calibri"/>
              </a:rPr>
              <a:t>Confidentiality (Encryp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nd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C = Enc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Send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Recover M = Dec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4492440" y="1960560"/>
            <a:ext cx="4239000" cy="38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  <a:ea typeface="Calibri"/>
              </a:rPr>
              <a:t>Auth/Integrity (MAC / Signatu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nder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s = Sig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Hash (M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Send &lt;M, s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ceiv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ompute s’ = Ver</a:t>
            </a:r>
            <a:r>
              <a:rPr b="0" lang="en-US" sz="2400" spc="-1" strike="noStrike" baseline="-25000">
                <a:solidFill>
                  <a:srgbClr val="000090"/>
                </a:solidFill>
                <a:latin typeface="Calibri"/>
                <a:ea typeface="Calibri"/>
              </a:rPr>
              <a:t>K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(Hash (M)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  <a:ea typeface="Calibri"/>
              </a:rPr>
              <a:t>Check s’ ==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04920" y="54864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se are simplified forms of the actual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tty Good Privacy (PG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F4D5-9D2B-4E69-ACE4-C977EADA1F5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-Mail Secu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dentiality: only intended recipient see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ity: data cannot be modified en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enticity: sender and recipient are who they s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urity non-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y or successful messag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ing duplicate (replayed)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ince e-mail doesn’t provide this anywa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F0D4-F7ED-45D5-BF42-FD52811D90C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er and Receiver Key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952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the receiver knows the sender’s public ke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non-repu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the sender knows the receiver’s public ke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iver authent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18F-5137-4745-8E25-7BF51CC63A8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880920" y="3733920"/>
            <a:ext cx="1862280" cy="1773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 flipH="1">
            <a:off x="6519960" y="3733920"/>
            <a:ext cx="1861920" cy="1773000"/>
          </a:xfrm>
          <a:prstGeom prst="rect">
            <a:avLst/>
          </a:prstGeom>
          <a:ln w="0">
            <a:noFill/>
          </a:ln>
        </p:spPr>
      </p:pic>
      <p:cxnSp>
        <p:nvCxnSpPr>
          <p:cNvPr id="526" name="Straight Arrow Connector 7"/>
          <p:cNvCxnSpPr/>
          <p:nvPr/>
        </p:nvCxnSpPr>
        <p:spPr>
          <a:xfrm>
            <a:off x="2742840" y="5029200"/>
            <a:ext cx="3777480" cy="2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tailEnd len="lg" type="arrow" w="lg"/>
          </a:ln>
        </p:spPr>
      </p:cxnSp>
      <p:pic>
        <p:nvPicPr>
          <p:cNvPr id="527" name="Picture 8" descr=""/>
          <p:cNvPicPr/>
          <p:nvPr/>
        </p:nvPicPr>
        <p:blipFill>
          <a:blip r:embed="rId3"/>
          <a:stretch/>
        </p:blipFill>
        <p:spPr>
          <a:xfrm>
            <a:off x="3809880" y="3686040"/>
            <a:ext cx="1219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 an E-Mail Securel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digitally signs the mess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e sender’s private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encrypts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one-time session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the session key, encrypted with the receiver’s public k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converts to an ASCII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ing the message to base64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mail messages must be sent in ASC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FEAB-56C5-46C6-9A73-24D5BB7F2B7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2:19:11Z</dcterms:created>
  <dc:creator>Mike</dc:creator>
  <dc:description/>
  <cp:keywords/>
  <dc:language>en-US</dc:language>
  <cp:lastModifiedBy>Jennifer Rexford</cp:lastModifiedBy>
  <cp:lastPrinted>2012-04-23T12:25:31Z</cp:lastPrinted>
  <dcterms:modified xsi:type="dcterms:W3CDTF">2012-04-23T13:57:00Z</dcterms:modified>
  <cp:revision>3987</cp:revision>
  <dc:subject/>
  <dc:title>Communication</dc:title>
</cp:coreProperties>
</file>