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9FD5C28-F672-490D-826B-D057CCADA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5A63500-763A-47B3-8073-8202EE3CF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173767-6FFB-49BD-B181-65367538F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32C3A7B-3A2E-4E53-910D-1CA6CD28E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8206102-AFAC-42A6-B534-F26B787B1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1C57B5-39D5-47B6-B61F-31E81C888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95A883-50F4-41AE-B5C0-00B742020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761-4E9C-4CD5-A2EB-53470FB2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2AD-3B89-4AC7-B24F-FDD34601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EB0-A7D6-4773-8DF6-305C1AB1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DDE-F2CE-477F-B622-15DC6BF2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78828-F40C-467A-ACF7-A75E9FFABE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2D5FF-61C9-4470-AE9C-FA97022DDF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CD122-CE36-46DE-BC04-3C5D220E39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358D9-9928-436C-99BE-324700651D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E4849-D0A7-42AE-A68F-BECBB05E95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3476E-FF95-4D3F-A6B7-F970464DB6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DD053-4A8D-44D7-9E47-21EAFFC9E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A65-C023-43F8-9019-5CD99A0F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1717A-DEFE-48A7-A7DD-FD3A960668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A60E2-3D52-4236-AEE0-DFB3084B04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1A418-59D3-4798-8F3E-3B427AFA6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6E14B-1065-494B-80F6-B5B0FC5FE0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09F7D-815C-4832-B4E0-0D11E45BB5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5D350-D687-4C4B-A452-D373A5FF31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C4B1B-1FB0-4770-A790-E1A2891BE5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20852-6E2C-4FC4-9768-AAB81B0743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31085-7EAF-4BD2-9436-BD0A21FC66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252BA-ADC0-441C-BA41-5D56DD43D7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E98-BC4F-4C8E-9314-79552057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75BB2-F9CD-4866-9958-B85ED88575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2A5DE-E8C5-410A-9F3C-E931CF6CBF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8B6A-8369-404D-85BF-6CDCBEE92C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C824-2EB6-4300-8990-0478325175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42BE7-BA20-479D-B729-D491ECF0C2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3FDA5-301E-46DB-BA6F-EDE669D3B6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6F919-6C10-4C70-90BA-F974ACE46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08C-FBEC-4D0A-9FB3-09B6E7CD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39A-A00D-42BA-B386-EC283C36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1E1-D48E-4813-81C7-30A993A3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BD8-5EFC-430B-922B-F36868B1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F36-E148-449F-8A64-D48E2F5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00A-5100-48CF-AE3F-41AF2C73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0DAA-DB68-4A52-AF86-DD4AE0A677B2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BFD1-4183-4630-B54C-0C09340A0B7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3739-2371-44D2-876E-4ED5CBC7DE3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44A6-770B-40A1-A5E9-3676CAFEE3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net.princeton.edu/index.html" TargetMode="External"/><Relationship Id="rId2" Type="http://schemas.openxmlformats.org/officeDocument/2006/relationships/hyperlink" Target="http://www.net.princeton.edu/statistics/" TargetMode="External"/><Relationship Id="rId3" Type="http://schemas.openxmlformats.org/officeDocument/2006/relationships/hyperlink" Target="http://www.net.princeton.edu/whatsnew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Enterprise Networ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arly Days of Ethernet LA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ck cables snaked through cable duc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computer they passed was plugged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 people in adjacent offices on the same LA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ther they belonged together or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s grouped based on physical layou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organizational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, privacy, and scalability limitations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0DF-64B8-4F72-994C-F6FC18192A6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day’s Ethernet LA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nges introduced by hubs and swit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office connected to central wiring clo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multiple LANs (k hubs) connected by swi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exibility in mapping offices to different 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 group by organizational stru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rivacy: snooping in promiscuous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IP addresses: one IP subnet per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security: access control at IP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load management: isolate broadcast/floo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385F-6304-4C8E-9CFF-B0984643F10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882-00FD-4CFB-80AD-8BE55D3EB43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ople Move, and Roles Chang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ganizational changes are frequ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aculty office becomes a grad-student 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graduate student becomes a faculty me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hysical rewiring is a major pa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unplugging the cable from one 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lugging it in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hoping the cable is long enough to 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uld like to “rewire” the building in softwa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ing concept is a Virtual LAN (VL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2BD8-43C8-4CE1-9BAC-E915B88AAB8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Two Virtual LA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2843280" y="32511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5369040" y="32511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3267000" y="321300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1422360" y="160020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424160" y="286704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424160" y="340344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1424160" y="394164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424160" y="447984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1865160" y="302112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884240" y="3021120"/>
            <a:ext cx="1113120" cy="115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21"/>
          <p:cNvSpPr/>
          <p:nvPr/>
        </p:nvSpPr>
        <p:spPr>
          <a:xfrm flipV="1">
            <a:off x="1884240" y="3251160"/>
            <a:ext cx="959040" cy="30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22"/>
          <p:cNvSpPr/>
          <p:nvPr/>
        </p:nvSpPr>
        <p:spPr>
          <a:xfrm flipV="1">
            <a:off x="1884240" y="3289320"/>
            <a:ext cx="10368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23"/>
          <p:cNvSpPr/>
          <p:nvPr/>
        </p:nvSpPr>
        <p:spPr>
          <a:xfrm flipV="1">
            <a:off x="1884240" y="3288960"/>
            <a:ext cx="1228680" cy="134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6838920" y="286704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6838920" y="340344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Rectangle 26"/>
          <p:cNvSpPr/>
          <p:nvPr/>
        </p:nvSpPr>
        <p:spPr>
          <a:xfrm>
            <a:off x="6838920" y="394164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Rectangle 27"/>
          <p:cNvSpPr/>
          <p:nvPr/>
        </p:nvSpPr>
        <p:spPr>
          <a:xfrm>
            <a:off x="6838920" y="447984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28"/>
          <p:cNvSpPr/>
          <p:nvPr/>
        </p:nvSpPr>
        <p:spPr>
          <a:xfrm>
            <a:off x="7280280" y="302112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29"/>
          <p:cNvSpPr/>
          <p:nvPr/>
        </p:nvSpPr>
        <p:spPr>
          <a:xfrm>
            <a:off x="6377040" y="302112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Line 30"/>
          <p:cNvSpPr/>
          <p:nvPr/>
        </p:nvSpPr>
        <p:spPr>
          <a:xfrm flipV="1">
            <a:off x="5800680" y="3020760"/>
            <a:ext cx="1055880" cy="15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5800680" y="3251160"/>
            <a:ext cx="1055880" cy="30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Line 32"/>
          <p:cNvSpPr/>
          <p:nvPr/>
        </p:nvSpPr>
        <p:spPr>
          <a:xfrm>
            <a:off x="5724360" y="3289320"/>
            <a:ext cx="11322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33"/>
          <p:cNvSpPr/>
          <p:nvPr/>
        </p:nvSpPr>
        <p:spPr>
          <a:xfrm>
            <a:off x="5608800" y="3328920"/>
            <a:ext cx="1247760" cy="1305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Rectangle 34"/>
          <p:cNvSpPr/>
          <p:nvPr/>
        </p:nvSpPr>
        <p:spPr>
          <a:xfrm>
            <a:off x="2036880" y="160020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Rectangle 35"/>
          <p:cNvSpPr/>
          <p:nvPr/>
        </p:nvSpPr>
        <p:spPr>
          <a:xfrm>
            <a:off x="2651040" y="160020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Rectangle 36"/>
          <p:cNvSpPr/>
          <p:nvPr/>
        </p:nvSpPr>
        <p:spPr>
          <a:xfrm>
            <a:off x="3265560" y="160020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Line 37"/>
          <p:cNvSpPr/>
          <p:nvPr/>
        </p:nvSpPr>
        <p:spPr>
          <a:xfrm>
            <a:off x="2825640" y="39038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Line 38"/>
          <p:cNvSpPr/>
          <p:nvPr/>
        </p:nvSpPr>
        <p:spPr>
          <a:xfrm>
            <a:off x="1613880" y="1946160"/>
            <a:ext cx="1382760" cy="119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Line 39"/>
          <p:cNvSpPr/>
          <p:nvPr/>
        </p:nvSpPr>
        <p:spPr>
          <a:xfrm>
            <a:off x="2266920" y="1946160"/>
            <a:ext cx="846000" cy="119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Line 40"/>
          <p:cNvSpPr/>
          <p:nvPr/>
        </p:nvSpPr>
        <p:spPr>
          <a:xfrm>
            <a:off x="2882160" y="1946160"/>
            <a:ext cx="30636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Line 41"/>
          <p:cNvSpPr/>
          <p:nvPr/>
        </p:nvSpPr>
        <p:spPr>
          <a:xfrm flipH="1">
            <a:off x="3265560" y="1946160"/>
            <a:ext cx="23184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Rectangle 42"/>
          <p:cNvSpPr/>
          <p:nvPr/>
        </p:nvSpPr>
        <p:spPr>
          <a:xfrm>
            <a:off x="5148360" y="160020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Rectangle 43"/>
          <p:cNvSpPr/>
          <p:nvPr/>
        </p:nvSpPr>
        <p:spPr>
          <a:xfrm>
            <a:off x="5762520" y="160020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Rectangle 44"/>
          <p:cNvSpPr/>
          <p:nvPr/>
        </p:nvSpPr>
        <p:spPr>
          <a:xfrm>
            <a:off x="6377040" y="160020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Rectangle 45"/>
          <p:cNvSpPr/>
          <p:nvPr/>
        </p:nvSpPr>
        <p:spPr>
          <a:xfrm>
            <a:off x="6991200" y="160020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5340240" y="1946160"/>
            <a:ext cx="192240" cy="119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47"/>
          <p:cNvSpPr/>
          <p:nvPr/>
        </p:nvSpPr>
        <p:spPr>
          <a:xfrm flipH="1">
            <a:off x="5608440" y="1946160"/>
            <a:ext cx="3841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48"/>
          <p:cNvSpPr/>
          <p:nvPr/>
        </p:nvSpPr>
        <p:spPr>
          <a:xfrm flipH="1">
            <a:off x="5724000" y="1946160"/>
            <a:ext cx="8845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49"/>
          <p:cNvSpPr/>
          <p:nvPr/>
        </p:nvSpPr>
        <p:spPr>
          <a:xfrm flipH="1">
            <a:off x="5838480" y="1946160"/>
            <a:ext cx="138420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Text Box 50"/>
          <p:cNvSpPr/>
          <p:nvPr/>
        </p:nvSpPr>
        <p:spPr>
          <a:xfrm>
            <a:off x="1265040" y="5172120"/>
            <a:ext cx="63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Orange VLA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es forward traffic as need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Text Box 51"/>
          <p:cNvSpPr/>
          <p:nvPr/>
        </p:nvSpPr>
        <p:spPr>
          <a:xfrm>
            <a:off x="1978200" y="4390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Text Box 54"/>
          <p:cNvSpPr/>
          <p:nvPr/>
        </p:nvSpPr>
        <p:spPr>
          <a:xfrm flipV="1">
            <a:off x="6453360" y="26726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Text Box 55"/>
          <p:cNvSpPr/>
          <p:nvPr/>
        </p:nvSpPr>
        <p:spPr>
          <a:xfrm>
            <a:off x="4035600" y="2867040"/>
            <a:ext cx="4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Text Box 56"/>
          <p:cNvSpPr/>
          <p:nvPr/>
        </p:nvSpPr>
        <p:spPr>
          <a:xfrm>
            <a:off x="1940040" y="3903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Text Box 57"/>
          <p:cNvSpPr/>
          <p:nvPr/>
        </p:nvSpPr>
        <p:spPr>
          <a:xfrm>
            <a:off x="1940040" y="3443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Text Box 58"/>
          <p:cNvSpPr/>
          <p:nvPr/>
        </p:nvSpPr>
        <p:spPr>
          <a:xfrm>
            <a:off x="1940040" y="2982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Text Box 59"/>
          <p:cNvSpPr/>
          <p:nvPr/>
        </p:nvSpPr>
        <p:spPr>
          <a:xfrm>
            <a:off x="3521160" y="1946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Text Box 60"/>
          <p:cNvSpPr/>
          <p:nvPr/>
        </p:nvSpPr>
        <p:spPr>
          <a:xfrm>
            <a:off x="2944800" y="1946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Text Box 61"/>
          <p:cNvSpPr/>
          <p:nvPr/>
        </p:nvSpPr>
        <p:spPr>
          <a:xfrm>
            <a:off x="2406600" y="1946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Text Box 62"/>
          <p:cNvSpPr/>
          <p:nvPr/>
        </p:nvSpPr>
        <p:spPr>
          <a:xfrm>
            <a:off x="136368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Text Box 63"/>
          <p:cNvSpPr/>
          <p:nvPr/>
        </p:nvSpPr>
        <p:spPr>
          <a:xfrm>
            <a:off x="555624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Text Box 64"/>
          <p:cNvSpPr/>
          <p:nvPr/>
        </p:nvSpPr>
        <p:spPr>
          <a:xfrm>
            <a:off x="501192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Text Box 65"/>
          <p:cNvSpPr/>
          <p:nvPr/>
        </p:nvSpPr>
        <p:spPr>
          <a:xfrm>
            <a:off x="610236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Text Box 66"/>
          <p:cNvSpPr/>
          <p:nvPr/>
        </p:nvSpPr>
        <p:spPr>
          <a:xfrm>
            <a:off x="714060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Text Box 67"/>
          <p:cNvSpPr/>
          <p:nvPr/>
        </p:nvSpPr>
        <p:spPr>
          <a:xfrm flipV="1">
            <a:off x="6453360" y="3120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Text Box 68"/>
          <p:cNvSpPr/>
          <p:nvPr/>
        </p:nvSpPr>
        <p:spPr>
          <a:xfrm flipV="1">
            <a:off x="6453360" y="3582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Text Box 69"/>
          <p:cNvSpPr/>
          <p:nvPr/>
        </p:nvSpPr>
        <p:spPr>
          <a:xfrm flipV="1">
            <a:off x="6453360" y="4017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1B49-D01C-44B8-9D17-3ED869690D3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king VLANs 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nging the Ethernet h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a field for a VLAN t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ed on the bridges/swi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can still interoperate with old Etherne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idges/switches trunk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ying which VLANs are accessible via which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roaches to mapping access links to VLA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interface has a VLAN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MAC address has a VLAN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es of VLANs (See the Survey Paper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oping broadcast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ifying access control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centralizing network manag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abling host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075-9209-4027-8AD2-C085852061F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blem: Limited Granula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number of VLA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ing multiple groups in the same V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ing limited V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number of hosts per VLA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de a large group into multiple V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e VLAN per access 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ing VLANs on the end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ing multiple groups at the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6052-EE46-4812-9749-339300570AD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blem: Complex Configu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address assign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ting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x host address ass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nning tree comput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ation of automated trunk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ing extra links to survive fail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ing load over the root bri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D9DA-9E88-4A8F-A0D4-7C01CD489ED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406800" y="5486400"/>
            <a:ext cx="83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question: can we do better than VLANs?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ple Internet Conne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B5E8-D5B8-4DE4-8BE2-E41C168CA1F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tivation for Multi-Ho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of multi-ho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 reliability, e.g., survive single ISP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leverage through com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erformance by selecting better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ing the 9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ercentile billing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18DA-DF3F-4927-B1C5-3F8E5161A79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06600" y="3808440"/>
          <a:ext cx="2520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3808440"/>
                    <a:ext cx="2520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5068800" y="3836880"/>
          <a:ext cx="2376720" cy="13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8800" y="3836880"/>
                    <a:ext cx="237672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 Box 6"/>
          <p:cNvSpPr/>
          <p:nvPr/>
        </p:nvSpPr>
        <p:spPr>
          <a:xfrm>
            <a:off x="2295000" y="426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5799960" y="426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Oval 8"/>
          <p:cNvSpPr/>
          <p:nvPr/>
        </p:nvSpPr>
        <p:spPr>
          <a:xfrm>
            <a:off x="2583000" y="4916520"/>
            <a:ext cx="30312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Oval 9"/>
          <p:cNvSpPr/>
          <p:nvPr/>
        </p:nvSpPr>
        <p:spPr>
          <a:xfrm>
            <a:off x="6143760" y="4992840"/>
            <a:ext cx="30312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Oval 10"/>
          <p:cNvSpPr/>
          <p:nvPr/>
        </p:nvSpPr>
        <p:spPr>
          <a:xfrm>
            <a:off x="4206960" y="577548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Line 11"/>
          <p:cNvSpPr/>
          <p:nvPr/>
        </p:nvSpPr>
        <p:spPr>
          <a:xfrm>
            <a:off x="4346640" y="6151680"/>
            <a:ext cx="144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Line 12"/>
          <p:cNvSpPr/>
          <p:nvPr/>
        </p:nvSpPr>
        <p:spPr>
          <a:xfrm>
            <a:off x="3510000" y="6324480"/>
            <a:ext cx="1606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Line 13"/>
          <p:cNvSpPr/>
          <p:nvPr/>
        </p:nvSpPr>
        <p:spPr>
          <a:xfrm>
            <a:off x="3643200" y="632448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Line 14"/>
          <p:cNvSpPr/>
          <p:nvPr/>
        </p:nvSpPr>
        <p:spPr>
          <a:xfrm>
            <a:off x="3949560" y="633240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Line 15"/>
          <p:cNvSpPr/>
          <p:nvPr/>
        </p:nvSpPr>
        <p:spPr>
          <a:xfrm>
            <a:off x="4237200" y="6330960"/>
            <a:ext cx="1080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Line 16"/>
          <p:cNvSpPr/>
          <p:nvPr/>
        </p:nvSpPr>
        <p:spPr>
          <a:xfrm>
            <a:off x="4579920" y="633096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Line 17"/>
          <p:cNvSpPr/>
          <p:nvPr/>
        </p:nvSpPr>
        <p:spPr>
          <a:xfrm>
            <a:off x="4923000" y="6330960"/>
            <a:ext cx="1080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Line 18"/>
          <p:cNvSpPr/>
          <p:nvPr/>
        </p:nvSpPr>
        <p:spPr>
          <a:xfrm>
            <a:off x="2752560" y="5237280"/>
            <a:ext cx="149256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Line 19"/>
          <p:cNvSpPr/>
          <p:nvPr/>
        </p:nvSpPr>
        <p:spPr>
          <a:xfrm flipV="1">
            <a:off x="4484520" y="5301720"/>
            <a:ext cx="1703520" cy="5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Box 20"/>
          <p:cNvSpPr/>
          <p:nvPr/>
        </p:nvSpPr>
        <p:spPr>
          <a:xfrm>
            <a:off x="4382640" y="5867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2" descr=""/>
          <p:cNvPicPr/>
          <p:nvPr/>
        </p:nvPicPr>
        <p:blipFill>
          <a:blip r:embed="rId1"/>
          <a:stretch/>
        </p:blipFill>
        <p:spPr>
          <a:xfrm flipH="1">
            <a:off x="533520" y="480060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ing Case Stud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45B0-72E3-4B1D-9012-C297DD18A5A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Cloud 4"/>
          <p:cNvSpPr/>
          <p:nvPr/>
        </p:nvSpPr>
        <p:spPr>
          <a:xfrm>
            <a:off x="2133720" y="2133720"/>
            <a:ext cx="4114800" cy="32763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Cloud 5"/>
          <p:cNvSpPr/>
          <p:nvPr/>
        </p:nvSpPr>
        <p:spPr>
          <a:xfrm>
            <a:off x="2819520" y="297180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Cloud 6"/>
          <p:cNvSpPr/>
          <p:nvPr/>
        </p:nvSpPr>
        <p:spPr>
          <a:xfrm>
            <a:off x="4495680" y="2743200"/>
            <a:ext cx="129564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Cloud 7"/>
          <p:cNvSpPr/>
          <p:nvPr/>
        </p:nvSpPr>
        <p:spPr>
          <a:xfrm>
            <a:off x="3657600" y="403848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Straight Connector 9"/>
          <p:cNvSpPr/>
          <p:nvPr/>
        </p:nvSpPr>
        <p:spPr>
          <a:xfrm flipH="1">
            <a:off x="4038480" y="3238560"/>
            <a:ext cx="462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114800" y="35053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3657600" y="3809880"/>
            <a:ext cx="45720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Straight Connector 15"/>
          <p:cNvSpPr/>
          <p:nvPr/>
        </p:nvSpPr>
        <p:spPr>
          <a:xfrm flipH="1">
            <a:off x="4800240" y="3581280"/>
            <a:ext cx="228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Cloud 16"/>
          <p:cNvSpPr/>
          <p:nvPr/>
        </p:nvSpPr>
        <p:spPr>
          <a:xfrm>
            <a:off x="457200" y="3124080"/>
            <a:ext cx="1295280" cy="9907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Straight Connector 18"/>
          <p:cNvSpPr/>
          <p:nvPr/>
        </p:nvSpPr>
        <p:spPr>
          <a:xfrm flipV="1">
            <a:off x="1751040" y="3466800"/>
            <a:ext cx="10731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Straight Connector 20"/>
          <p:cNvSpPr/>
          <p:nvPr/>
        </p:nvSpPr>
        <p:spPr>
          <a:xfrm>
            <a:off x="1751040" y="3619440"/>
            <a:ext cx="191124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631960" cy="19814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2"/>
          <p:cNvSpPr/>
          <p:nvPr/>
        </p:nvSpPr>
        <p:spPr>
          <a:xfrm>
            <a:off x="6868440" y="1066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3513240" y="243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ckbo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314640" y="25909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pri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Straight Connector 25"/>
          <p:cNvSpPr/>
          <p:nvPr/>
        </p:nvSpPr>
        <p:spPr>
          <a:xfrm flipV="1">
            <a:off x="5715000" y="251424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8" name="Picture 28" descr=""/>
          <p:cNvPicPr/>
          <p:nvPr/>
        </p:nvPicPr>
        <p:blipFill>
          <a:blip r:embed="rId3"/>
          <a:stretch/>
        </p:blipFill>
        <p:spPr>
          <a:xfrm>
            <a:off x="5791320" y="4648320"/>
            <a:ext cx="2514600" cy="1930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9"/>
          <p:cNvSpPr/>
          <p:nvPr/>
        </p:nvSpPr>
        <p:spPr>
          <a:xfrm>
            <a:off x="6332400" y="4248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ula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Straight Connector 30"/>
          <p:cNvSpPr/>
          <p:nvPr/>
        </p:nvSpPr>
        <p:spPr>
          <a:xfrm flipH="1">
            <a:off x="2971800" y="4800600"/>
            <a:ext cx="83808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115092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rel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Straight Connector 36"/>
          <p:cNvSpPr/>
          <p:nvPr/>
        </p:nvSpPr>
        <p:spPr>
          <a:xfrm>
            <a:off x="4800600" y="4724280"/>
            <a:ext cx="99072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Homing Without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Inbound Traffic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839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Ask each ISP to originate the IP prefix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to rest of the Internet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4720" y="11998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Outbound Traffic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4720" y="18399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One ISP as a primary, the other as a backup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Or simple load balancing of all traffic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888-95DC-418B-90C6-C25566FAC14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528920" y="3760920"/>
          <a:ext cx="2520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3760920"/>
                    <a:ext cx="2520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5091120" y="3789360"/>
          <a:ext cx="2376360" cy="13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1120" y="3789360"/>
                    <a:ext cx="23763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Text Box 6"/>
          <p:cNvSpPr/>
          <p:nvPr/>
        </p:nvSpPr>
        <p:spPr>
          <a:xfrm>
            <a:off x="2295000" y="4191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5832720" y="426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Oval 8"/>
          <p:cNvSpPr/>
          <p:nvPr/>
        </p:nvSpPr>
        <p:spPr>
          <a:xfrm>
            <a:off x="2604960" y="486900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Oval 9"/>
          <p:cNvSpPr/>
          <p:nvPr/>
        </p:nvSpPr>
        <p:spPr>
          <a:xfrm>
            <a:off x="6165720" y="4944960"/>
            <a:ext cx="303480" cy="36216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4229280" y="572760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4368960" y="6103800"/>
            <a:ext cx="144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3532320" y="6276960"/>
            <a:ext cx="160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3665520" y="627696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3971880" y="628488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4259160" y="628344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Line 16"/>
          <p:cNvSpPr/>
          <p:nvPr/>
        </p:nvSpPr>
        <p:spPr>
          <a:xfrm>
            <a:off x="4602240" y="628344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Line 17"/>
          <p:cNvSpPr/>
          <p:nvPr/>
        </p:nvSpPr>
        <p:spPr>
          <a:xfrm>
            <a:off x="4944960" y="628344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Line 18"/>
          <p:cNvSpPr/>
          <p:nvPr/>
        </p:nvSpPr>
        <p:spPr>
          <a:xfrm>
            <a:off x="2774880" y="5189400"/>
            <a:ext cx="14922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Line 19"/>
          <p:cNvSpPr/>
          <p:nvPr/>
        </p:nvSpPr>
        <p:spPr>
          <a:xfrm flipV="1">
            <a:off x="4506840" y="5254200"/>
            <a:ext cx="1703520" cy="5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TextBox 20"/>
          <p:cNvSpPr/>
          <p:nvPr/>
        </p:nvSpPr>
        <p:spPr>
          <a:xfrm>
            <a:off x="4404960" y="5819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Homing With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52280" y="1371240"/>
            <a:ext cx="4267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nbound traffic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te the prefix to both provi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traffic from one ISP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0" y="1371600"/>
            <a:ext cx="4495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Outbound traffic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“best” route for each remote pr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BGP policies based on load, performance,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F400-ECD2-4EE2-B1DB-69D4DE35BDF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80880" y="3581280"/>
          <a:ext cx="252108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81280"/>
                    <a:ext cx="252108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3943440" y="3610080"/>
          <a:ext cx="2376360" cy="13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3440" y="3610080"/>
                    <a:ext cx="23763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6"/>
          <p:cNvSpPr/>
          <p:nvPr/>
        </p:nvSpPr>
        <p:spPr>
          <a:xfrm>
            <a:off x="1146960" y="4011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685040" y="40878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1457280" y="4689360"/>
            <a:ext cx="303120" cy="36216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5018040" y="4765680"/>
            <a:ext cx="30312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081240" y="5548320"/>
            <a:ext cx="30348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3220920" y="5924520"/>
            <a:ext cx="180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384280" y="6097680"/>
            <a:ext cx="1606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17840" y="609768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2824200" y="610560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3111480" y="610380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3454560" y="6103800"/>
            <a:ext cx="1080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3797280" y="610380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1627200" y="5010120"/>
            <a:ext cx="14922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Line 19"/>
          <p:cNvSpPr/>
          <p:nvPr/>
        </p:nvSpPr>
        <p:spPr>
          <a:xfrm flipV="1">
            <a:off x="3359160" y="5075280"/>
            <a:ext cx="1703520" cy="5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TextBox 20"/>
          <p:cNvSpPr/>
          <p:nvPr/>
        </p:nvSpPr>
        <p:spPr>
          <a:xfrm>
            <a:off x="3257280" y="5640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76" name="Curved Connector 22"/>
          <p:cNvCxnSpPr>
            <a:stCxn id="463" idx="6"/>
            <a:endCxn id="465" idx="0"/>
          </p:cNvCxnSpPr>
          <p:nvPr/>
        </p:nvCxnSpPr>
        <p:spPr>
          <a:xfrm>
            <a:off x="1760040" y="4870080"/>
            <a:ext cx="1474200" cy="678600"/>
          </a:xfrm>
          <a:prstGeom prst="curvedConnector2">
            <a:avLst/>
          </a:prstGeom>
          <a:ln w="38160">
            <a:solidFill>
              <a:srgbClr val="0000ff"/>
            </a:solidFill>
            <a:prstDash val="dash"/>
            <a:miter/>
          </a:ln>
        </p:spPr>
      </p:cxnSp>
      <p:cxnSp>
        <p:nvCxnSpPr>
          <p:cNvPr id="477" name="Shape 25"/>
          <p:cNvCxnSpPr>
            <a:stCxn id="465" idx="7"/>
            <a:endCxn id="464" idx="2"/>
          </p:cNvCxnSpPr>
          <p:nvPr/>
        </p:nvCxnSpPr>
        <p:spPr>
          <a:xfrm flipH="1" flipV="1" rot="5400000">
            <a:off x="3850920" y="4434120"/>
            <a:ext cx="654840" cy="1678680"/>
          </a:xfrm>
          <a:prstGeom prst="curvedConnector2">
            <a:avLst/>
          </a:prstGeom>
          <a:ln w="38160">
            <a:solidFill>
              <a:srgbClr val="0000ff"/>
            </a:solidFill>
            <a:prstDash val="dash"/>
            <a:miter/>
          </a:ln>
        </p:spPr>
      </p:cxnSp>
      <p:sp>
        <p:nvSpPr>
          <p:cNvPr id="478" name="TextBox 26"/>
          <p:cNvSpPr/>
          <p:nvPr/>
        </p:nvSpPr>
        <p:spPr>
          <a:xfrm>
            <a:off x="2305080" y="46213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GP se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5257800" y="523080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lligent route control” or “multi-homed traffic engineering”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connecting Multiple Enterprise Sit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7D57-7E4C-4A7D-8438-DCABC99544E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llenges of interconnecting multiple sit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ng via the Internet using secure tunn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Private Network (VPN)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icated backbone between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66A0-26FF-4FD4-8305-8AA43054AF7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necting Via the Int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site connects to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rypted tunnel between each pair of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filtering to block unwanted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no performance or reliability guara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A875-BE8D-499A-BE26-7D8D8DF58AA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219320" y="4876920"/>
          <a:ext cx="1517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876920"/>
                    <a:ext cx="151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3124080" y="3809880"/>
          <a:ext cx="2521080" cy="13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809880"/>
                    <a:ext cx="252108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943600" y="3581280"/>
          <a:ext cx="15177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581280"/>
                    <a:ext cx="15177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5181480" y="5257800"/>
          <a:ext cx="15177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5257800"/>
                    <a:ext cx="1517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Straight Connector 10"/>
          <p:cNvSpPr/>
          <p:nvPr/>
        </p:nvSpPr>
        <p:spPr>
          <a:xfrm flipV="1">
            <a:off x="2590920" y="4800240"/>
            <a:ext cx="685800" cy="30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Straight Connector 12"/>
          <p:cNvSpPr/>
          <p:nvPr/>
        </p:nvSpPr>
        <p:spPr>
          <a:xfrm flipV="1">
            <a:off x="5410080" y="4038120"/>
            <a:ext cx="6858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Straight Connector 14"/>
          <p:cNvSpPr/>
          <p:nvPr/>
        </p:nvSpPr>
        <p:spPr>
          <a:xfrm>
            <a:off x="5029200" y="4952880"/>
            <a:ext cx="76212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TextBox 15"/>
          <p:cNvSpPr/>
          <p:nvPr/>
        </p:nvSpPr>
        <p:spPr>
          <a:xfrm>
            <a:off x="3676680" y="4267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TextBox 16"/>
          <p:cNvSpPr/>
          <p:nvPr/>
        </p:nvSpPr>
        <p:spPr>
          <a:xfrm>
            <a:off x="1486800" y="5105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TextBox 17"/>
          <p:cNvSpPr/>
          <p:nvPr/>
        </p:nvSpPr>
        <p:spPr>
          <a:xfrm>
            <a:off x="5373000" y="5486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TextBox 18"/>
          <p:cNvSpPr/>
          <p:nvPr/>
        </p:nvSpPr>
        <p:spPr>
          <a:xfrm>
            <a:off x="6211080" y="3809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Private Network (VPN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site connects to a common VPN provi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allows each site to announce IP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routing/forwarding table for each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guara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C23F-F0EF-4E79-92BC-48816455DB8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219320" y="4876920"/>
          <a:ext cx="1517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876920"/>
                    <a:ext cx="151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3124080" y="3809880"/>
          <a:ext cx="2521080" cy="13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809880"/>
                    <a:ext cx="252108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5943600" y="3581280"/>
          <a:ext cx="15177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581280"/>
                    <a:ext cx="15177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181480" y="5257800"/>
          <a:ext cx="15177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5257800"/>
                    <a:ext cx="1517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Straight Connector 10"/>
          <p:cNvSpPr/>
          <p:nvPr/>
        </p:nvSpPr>
        <p:spPr>
          <a:xfrm flipV="1">
            <a:off x="2590920" y="4800240"/>
            <a:ext cx="685800" cy="30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Straight Connector 12"/>
          <p:cNvSpPr/>
          <p:nvPr/>
        </p:nvSpPr>
        <p:spPr>
          <a:xfrm flipV="1">
            <a:off x="5410080" y="4038120"/>
            <a:ext cx="6858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Straight Connector 14"/>
          <p:cNvSpPr/>
          <p:nvPr/>
        </p:nvSpPr>
        <p:spPr>
          <a:xfrm>
            <a:off x="5029200" y="4952880"/>
            <a:ext cx="76212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TextBox 15"/>
          <p:cNvSpPr/>
          <p:nvPr/>
        </p:nvSpPr>
        <p:spPr>
          <a:xfrm>
            <a:off x="3372120" y="42670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N Provi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TextBox 16"/>
          <p:cNvSpPr/>
          <p:nvPr/>
        </p:nvSpPr>
        <p:spPr>
          <a:xfrm>
            <a:off x="1486800" y="5105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TextBox 17"/>
          <p:cNvSpPr/>
          <p:nvPr/>
        </p:nvSpPr>
        <p:spPr>
          <a:xfrm>
            <a:off x="5373000" y="5486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TextBox 18"/>
          <p:cNvSpPr/>
          <p:nvPr/>
        </p:nvSpPr>
        <p:spPr>
          <a:xfrm>
            <a:off x="6211080" y="3809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ddlebox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B3F2-6E44-4B61-89F4-FEDE24221F5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terprise Internet Conn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0880" y="1219320"/>
            <a:ext cx="51818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middlebox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usion prevention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sh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ndling bad internal us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ing IP packets with spoofed source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 which MAC address has each IP add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5A0D-9CB4-4883-8D67-AC2F95BFDF8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Cloud 4"/>
          <p:cNvSpPr/>
          <p:nvPr/>
        </p:nvSpPr>
        <p:spPr>
          <a:xfrm>
            <a:off x="5715000" y="1371600"/>
            <a:ext cx="3200400" cy="990720"/>
          </a:xfrm>
          <a:prstGeom prst="pie">
            <a:avLst/>
          </a:prstGeom>
          <a:solidFill>
            <a:srgbClr val="8eb4e3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1" lang="en-US" sz="4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AutoShape 172"/>
          <p:cNvSpPr/>
          <p:nvPr/>
        </p:nvSpPr>
        <p:spPr>
          <a:xfrm>
            <a:off x="7254720" y="4648320"/>
            <a:ext cx="441360" cy="3283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AutoShape 172"/>
          <p:cNvSpPr/>
          <p:nvPr/>
        </p:nvSpPr>
        <p:spPr>
          <a:xfrm>
            <a:off x="7254720" y="4038480"/>
            <a:ext cx="441360" cy="328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AutoShape 172"/>
          <p:cNvSpPr/>
          <p:nvPr/>
        </p:nvSpPr>
        <p:spPr>
          <a:xfrm>
            <a:off x="7254720" y="3429000"/>
            <a:ext cx="441360" cy="328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AutoShape 172"/>
          <p:cNvSpPr/>
          <p:nvPr/>
        </p:nvSpPr>
        <p:spPr>
          <a:xfrm>
            <a:off x="7254720" y="2819520"/>
            <a:ext cx="441360" cy="3283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Straight Connector 10"/>
          <p:cNvSpPr/>
          <p:nvPr/>
        </p:nvSpPr>
        <p:spPr>
          <a:xfrm>
            <a:off x="7467480" y="2286000"/>
            <a:ext cx="79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Straight Connector 13"/>
          <p:cNvSpPr/>
          <p:nvPr/>
        </p:nvSpPr>
        <p:spPr>
          <a:xfrm flipH="1">
            <a:off x="7467480" y="3147840"/>
            <a:ext cx="7920" cy="28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Straight Connector 15"/>
          <p:cNvSpPr/>
          <p:nvPr/>
        </p:nvSpPr>
        <p:spPr>
          <a:xfrm flipH="1">
            <a:off x="7467480" y="3757680"/>
            <a:ext cx="7920" cy="28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Straight Connector 16"/>
          <p:cNvSpPr/>
          <p:nvPr/>
        </p:nvSpPr>
        <p:spPr>
          <a:xfrm flipH="1">
            <a:off x="7467480" y="4367160"/>
            <a:ext cx="7920" cy="28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37" name="Straight Arrow Connector 18"/>
          <p:cNvCxnSpPr/>
          <p:nvPr/>
        </p:nvCxnSpPr>
        <p:spPr>
          <a:xfrm flipH="1">
            <a:off x="8074800" y="2363400"/>
            <a:ext cx="3960" cy="25153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8" name="TextBox 19"/>
          <p:cNvSpPr/>
          <p:nvPr/>
        </p:nvSpPr>
        <p:spPr>
          <a:xfrm>
            <a:off x="8155080" y="3048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al Middlebox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920" y="1417680"/>
            <a:ext cx="8534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divided into reg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departments within a cam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public computers (servers, WiFi) vs. priv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divided by ro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human resources vs. engine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aculty vs.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metimes physically separat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TM machines, campus safety, media strea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614B-997D-4C0C-AE4E-66F15B8B5C1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_x0010_Princeton Campus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t.princeton.edu/index.htm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t.princeton.edu/statistics/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net.princeton.edu/whatsnew.htm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65F4-1629-43E0-9883-283C91FF453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171"/>
          <p:cNvSpPr/>
          <p:nvPr/>
        </p:nvSpPr>
        <p:spPr>
          <a:xfrm flipV="1">
            <a:off x="2362320" y="563832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Line 171"/>
          <p:cNvSpPr/>
          <p:nvPr/>
        </p:nvSpPr>
        <p:spPr>
          <a:xfrm flipH="1" flipV="1">
            <a:off x="3124080" y="57913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mple Enterprise Desig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60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ngle layer-two sub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bs and swi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teway to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IP address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52520" y="1265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Local servic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H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F63D-7FF7-457D-B1D9-DA9FAE9061F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Freeform 178"/>
          <p:cNvSpPr/>
          <p:nvPr/>
        </p:nvSpPr>
        <p:spPr>
          <a:xfrm>
            <a:off x="2166840" y="3809880"/>
            <a:ext cx="4343400" cy="2590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Line 130"/>
          <p:cNvSpPr/>
          <p:nvPr/>
        </p:nvSpPr>
        <p:spPr>
          <a:xfrm flipH="1" flipV="1">
            <a:off x="3767040" y="3885840"/>
            <a:ext cx="198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Line 133"/>
          <p:cNvSpPr/>
          <p:nvPr/>
        </p:nvSpPr>
        <p:spPr>
          <a:xfrm>
            <a:off x="2319480" y="454644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Line 134"/>
          <p:cNvSpPr/>
          <p:nvPr/>
        </p:nvSpPr>
        <p:spPr>
          <a:xfrm>
            <a:off x="3767040" y="3886200"/>
            <a:ext cx="2667240" cy="10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Line 135"/>
          <p:cNvSpPr/>
          <p:nvPr/>
        </p:nvSpPr>
        <p:spPr>
          <a:xfrm flipV="1">
            <a:off x="3157560" y="3936600"/>
            <a:ext cx="53352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Line 136"/>
          <p:cNvSpPr/>
          <p:nvPr/>
        </p:nvSpPr>
        <p:spPr>
          <a:xfrm>
            <a:off x="3157560" y="5637240"/>
            <a:ext cx="25146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AutoShape 138"/>
          <p:cNvSpPr/>
          <p:nvPr/>
        </p:nvSpPr>
        <p:spPr>
          <a:xfrm>
            <a:off x="2776680" y="54608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Line 171"/>
          <p:cNvSpPr/>
          <p:nvPr/>
        </p:nvSpPr>
        <p:spPr>
          <a:xfrm flipV="1">
            <a:off x="2319480" y="3927600"/>
            <a:ext cx="1447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AutoShape 173"/>
          <p:cNvSpPr/>
          <p:nvPr/>
        </p:nvSpPr>
        <p:spPr>
          <a:xfrm>
            <a:off x="2030400" y="42228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Line 175"/>
          <p:cNvSpPr/>
          <p:nvPr/>
        </p:nvSpPr>
        <p:spPr>
          <a:xfrm flipH="1">
            <a:off x="5824440" y="495288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AutoShape 166"/>
          <p:cNvSpPr/>
          <p:nvPr/>
        </p:nvSpPr>
        <p:spPr>
          <a:xfrm>
            <a:off x="5595840" y="58420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AutoShape 139"/>
          <p:cNvSpPr/>
          <p:nvPr/>
        </p:nvSpPr>
        <p:spPr>
          <a:xfrm>
            <a:off x="6145200" y="47480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AutoShape 172"/>
          <p:cNvSpPr/>
          <p:nvPr/>
        </p:nvSpPr>
        <p:spPr>
          <a:xfrm>
            <a:off x="3538440" y="38098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3809880"/>
          <a:ext cx="5824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809880"/>
                    <a:ext cx="5824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066680" y="4597560"/>
          <a:ext cx="58284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97560"/>
                    <a:ext cx="582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878120" y="5791320"/>
          <a:ext cx="58248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8120" y="5791320"/>
                    <a:ext cx="5824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171"/>
          <p:cNvSpPr/>
          <p:nvPr/>
        </p:nvSpPr>
        <p:spPr>
          <a:xfrm>
            <a:off x="6553080" y="4927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181480" y="3459240"/>
          <a:ext cx="914400" cy="103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459240"/>
                    <a:ext cx="91440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010280" y="5603760"/>
          <a:ext cx="838440" cy="94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5603760"/>
                    <a:ext cx="83844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352680" y="6121440"/>
          <a:ext cx="582840" cy="66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6121440"/>
                    <a:ext cx="582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71"/>
          <p:cNvSpPr/>
          <p:nvPr/>
        </p:nvSpPr>
        <p:spPr>
          <a:xfrm>
            <a:off x="1447920" y="4038480"/>
            <a:ext cx="6094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Line 171"/>
          <p:cNvSpPr/>
          <p:nvPr/>
        </p:nvSpPr>
        <p:spPr>
          <a:xfrm flipV="1">
            <a:off x="1523880" y="457164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Line 171"/>
          <p:cNvSpPr/>
          <p:nvPr/>
        </p:nvSpPr>
        <p:spPr>
          <a:xfrm flipV="1">
            <a:off x="3962520" y="3809880"/>
            <a:ext cx="1295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Line 171"/>
          <p:cNvSpPr/>
          <p:nvPr/>
        </p:nvSpPr>
        <p:spPr>
          <a:xfrm flipV="1">
            <a:off x="6019920" y="5867280"/>
            <a:ext cx="10666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Box 37"/>
          <p:cNvSpPr/>
          <p:nvPr/>
        </p:nvSpPr>
        <p:spPr>
          <a:xfrm>
            <a:off x="4822200" y="39625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6636960" y="6060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Box 39"/>
          <p:cNvSpPr/>
          <p:nvPr/>
        </p:nvSpPr>
        <p:spPr>
          <a:xfrm>
            <a:off x="568800" y="4070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TextBox 40"/>
          <p:cNvSpPr/>
          <p:nvPr/>
        </p:nvSpPr>
        <p:spPr>
          <a:xfrm>
            <a:off x="492120" y="4927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7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Box 41"/>
          <p:cNvSpPr/>
          <p:nvPr/>
        </p:nvSpPr>
        <p:spPr>
          <a:xfrm>
            <a:off x="770400" y="5765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TextBox 42"/>
          <p:cNvSpPr/>
          <p:nvPr/>
        </p:nvSpPr>
        <p:spPr>
          <a:xfrm>
            <a:off x="3854520" y="60199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7620120" y="4362480"/>
            <a:ext cx="1290600" cy="1098360"/>
            <a:chOff x="7620120" y="4362480"/>
            <a:chExt cx="1290600" cy="1098360"/>
          </a:xfrm>
        </p:grpSpPr>
        <p:graphicFrame>
          <p:nvGraphicFramePr>
            <p:cNvPr id="196" name=""/>
            <p:cNvGraphicFramePr/>
            <p:nvPr/>
          </p:nvGraphicFramePr>
          <p:xfrm>
            <a:off x="7620120" y="4362480"/>
            <a:ext cx="1290600" cy="1098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620120" y="436248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Text Box 8"/>
            <p:cNvSpPr/>
            <p:nvPr/>
          </p:nvSpPr>
          <p:spPr>
            <a:xfrm>
              <a:off x="7770960" y="46414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99" name="TextBox 47"/>
          <p:cNvSpPr/>
          <p:nvPr/>
        </p:nvSpPr>
        <p:spPr>
          <a:xfrm>
            <a:off x="6287760" y="42670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00" name="Straight Arrow Connector 49"/>
          <p:cNvCxnSpPr/>
          <p:nvPr/>
        </p:nvCxnSpPr>
        <p:spPr>
          <a:xfrm flipH="1" flipV="1">
            <a:off x="6628680" y="4800240"/>
            <a:ext cx="1067400" cy="2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1" name="Straight Arrow Connector 50"/>
          <p:cNvCxnSpPr/>
          <p:nvPr/>
        </p:nvCxnSpPr>
        <p:spPr>
          <a:xfrm flipV="1">
            <a:off x="6628320" y="5028840"/>
            <a:ext cx="1067400" cy="2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02" name="TextBox 51"/>
          <p:cNvSpPr/>
          <p:nvPr/>
        </p:nvSpPr>
        <p:spPr>
          <a:xfrm>
            <a:off x="6368400" y="5029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0.0.0/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et Conne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520" y="41144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commercial ISP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cast and WindStre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research network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net and Internet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n-prof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cCarter Theater, Princeton Public Library, and Princeton Regional Scho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0A9D-DF88-497B-928B-C85811F4429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AutoShape 172"/>
          <p:cNvSpPr/>
          <p:nvPr/>
        </p:nvSpPr>
        <p:spPr>
          <a:xfrm>
            <a:off x="4191120" y="2590920"/>
            <a:ext cx="990360" cy="385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vgate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Straight Connector 6"/>
          <p:cNvSpPr/>
          <p:nvPr/>
        </p:nvSpPr>
        <p:spPr>
          <a:xfrm>
            <a:off x="2819520" y="2514600"/>
            <a:ext cx="1371600" cy="270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774000" y="21114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Strea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ull routes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826000" y="259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Gb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Straight Connector 10"/>
          <p:cNvSpPr/>
          <p:nvPr/>
        </p:nvSpPr>
        <p:spPr>
          <a:xfrm>
            <a:off x="3657600" y="1905120"/>
            <a:ext cx="838080" cy="685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TextBox 13"/>
          <p:cNvSpPr/>
          <p:nvPr/>
        </p:nvSpPr>
        <p:spPr>
          <a:xfrm>
            <a:off x="2450520" y="121932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ca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ull routes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TextBox 14"/>
          <p:cNvSpPr/>
          <p:nvPr/>
        </p:nvSpPr>
        <p:spPr>
          <a:xfrm>
            <a:off x="3054600" y="2057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Gb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Cloud 16"/>
          <p:cNvSpPr/>
          <p:nvPr/>
        </p:nvSpPr>
        <p:spPr>
          <a:xfrm>
            <a:off x="2819520" y="2895480"/>
            <a:ext cx="4038480" cy="990720"/>
          </a:xfrm>
          <a:prstGeom prst="pie">
            <a:avLst/>
          </a:prstGeom>
          <a:solidFill>
            <a:srgbClr val="8eb4e3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TextBox 17"/>
          <p:cNvSpPr/>
          <p:nvPr/>
        </p:nvSpPr>
        <p:spPr>
          <a:xfrm>
            <a:off x="3672000" y="31240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ceton Campu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Straight Connector 18"/>
          <p:cNvSpPr/>
          <p:nvPr/>
        </p:nvSpPr>
        <p:spPr>
          <a:xfrm flipH="1">
            <a:off x="4716360" y="1600200"/>
            <a:ext cx="465120" cy="1015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8" name="TextBox 21"/>
          <p:cNvSpPr/>
          <p:nvPr/>
        </p:nvSpPr>
        <p:spPr>
          <a:xfrm>
            <a:off x="4994280" y="1752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Gb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Straight Connector 22"/>
          <p:cNvSpPr/>
          <p:nvPr/>
        </p:nvSpPr>
        <p:spPr>
          <a:xfrm flipH="1">
            <a:off x="5181480" y="2057400"/>
            <a:ext cx="1447920" cy="72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TextBox 25"/>
          <p:cNvSpPr/>
          <p:nvPr/>
        </p:nvSpPr>
        <p:spPr>
          <a:xfrm>
            <a:off x="4806000" y="1143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Box 26"/>
          <p:cNvSpPr/>
          <p:nvPr/>
        </p:nvSpPr>
        <p:spPr>
          <a:xfrm>
            <a:off x="5873760" y="2362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Gb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206400" y="16765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PI/Internet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inceton Public Internet Traffi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0520" y="42670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volumes over the past wee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n: traffi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ue: traffi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6FA8-88A9-4975-924F-D5774AEB747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2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ree Internal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mpus Data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dorms, academic and administrative buildings, campus WiFi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eton Private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al systems, power, security cameras, building 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oIP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P phones in data center, chemistry, neuroscience, Forrestal campus, and all new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for disaster recovery &amp; traffic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C623-5684-4AC4-872C-10BDD7B6AAA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mpus Data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F398-9A91-4FB0-98D3-2A4374BD4DF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AutoShape 172"/>
          <p:cNvSpPr/>
          <p:nvPr/>
        </p:nvSpPr>
        <p:spPr>
          <a:xfrm>
            <a:off x="3733920" y="1905120"/>
            <a:ext cx="990360" cy="385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vgate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AutoShape 172"/>
          <p:cNvSpPr/>
          <p:nvPr/>
        </p:nvSpPr>
        <p:spPr>
          <a:xfrm>
            <a:off x="1371600" y="3429000"/>
            <a:ext cx="1143000" cy="385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igasw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AutoShape 172"/>
          <p:cNvSpPr/>
          <p:nvPr/>
        </p:nvSpPr>
        <p:spPr>
          <a:xfrm>
            <a:off x="6248520" y="3352680"/>
            <a:ext cx="1143000" cy="385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igasw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AutoShape 172"/>
          <p:cNvSpPr/>
          <p:nvPr/>
        </p:nvSpPr>
        <p:spPr>
          <a:xfrm>
            <a:off x="3581280" y="4724280"/>
            <a:ext cx="1447920" cy="385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igagate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Straight Connector 10"/>
          <p:cNvSpPr/>
          <p:nvPr/>
        </p:nvSpPr>
        <p:spPr>
          <a:xfrm>
            <a:off x="4724280" y="2098800"/>
            <a:ext cx="2095560" cy="125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Straight Connector 12"/>
          <p:cNvSpPr/>
          <p:nvPr/>
        </p:nvSpPr>
        <p:spPr>
          <a:xfrm flipH="1">
            <a:off x="1943280" y="2098080"/>
            <a:ext cx="1790640" cy="133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Straight Connector 14"/>
          <p:cNvSpPr/>
          <p:nvPr/>
        </p:nvSpPr>
        <p:spPr>
          <a:xfrm flipV="1">
            <a:off x="2514600" y="3546360"/>
            <a:ext cx="373392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Straight Connector 16"/>
          <p:cNvSpPr/>
          <p:nvPr/>
        </p:nvSpPr>
        <p:spPr>
          <a:xfrm>
            <a:off x="4228560" y="2290680"/>
            <a:ext cx="37800" cy="243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Straight Connector 18"/>
          <p:cNvSpPr/>
          <p:nvPr/>
        </p:nvSpPr>
        <p:spPr>
          <a:xfrm flipV="1">
            <a:off x="5029200" y="3738600"/>
            <a:ext cx="1790640" cy="11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Straight Connector 20"/>
          <p:cNvSpPr/>
          <p:nvPr/>
        </p:nvSpPr>
        <p:spPr>
          <a:xfrm>
            <a:off x="1943280" y="3814920"/>
            <a:ext cx="1638000" cy="11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TextBox 21"/>
          <p:cNvSpPr/>
          <p:nvPr/>
        </p:nvSpPr>
        <p:spPr>
          <a:xfrm>
            <a:off x="3436200" y="1295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TextBox 22"/>
          <p:cNvSpPr/>
          <p:nvPr/>
        </p:nvSpPr>
        <p:spPr>
          <a:xfrm>
            <a:off x="7200" y="3429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rm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TextBox 23"/>
          <p:cNvSpPr/>
          <p:nvPr/>
        </p:nvSpPr>
        <p:spPr>
          <a:xfrm>
            <a:off x="3287880" y="525780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cat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TextBox 24"/>
          <p:cNvSpPr/>
          <p:nvPr/>
        </p:nvSpPr>
        <p:spPr>
          <a:xfrm>
            <a:off x="6923160" y="3352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ademic,       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TextBox 25"/>
          <p:cNvSpPr/>
          <p:nvPr/>
        </p:nvSpPr>
        <p:spPr>
          <a:xfrm>
            <a:off x="6541920" y="371484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TextBox 26"/>
          <p:cNvSpPr/>
          <p:nvPr/>
        </p:nvSpPr>
        <p:spPr>
          <a:xfrm>
            <a:off x="2983680" y="266688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ut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Center (Forrestal Campu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0520" y="45716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40,000 square feet with 1800 comp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tiers of backup pow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nimizes energy for cooling and pow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4DB6-E2FA-462E-8540-76BCECE4974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152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Private Network (VPN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line campus resour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ome Princeton University library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vailable from outside of cam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ernal resources with Princeton subscrip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digital libraries from ACM and IE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from a Princeto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eton VPN service (vpn.princeton.edu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 network connection layered over IP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you to an internal Princeton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AB01-5845-4155-B5D8-A902BD682D7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ruba WiFi Access Poi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520" y="114300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aptive radio manag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cally assigns channel and power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nel load balancing to distribute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hole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265D-1256-416E-A68B-973E34FAC3A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1600200" y="3778200"/>
            <a:ext cx="1019160" cy="1098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1295280" y="5607000"/>
            <a:ext cx="1019160" cy="1098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3"/>
          <a:stretch/>
        </p:blipFill>
        <p:spPr>
          <a:xfrm>
            <a:off x="6095880" y="3930480"/>
            <a:ext cx="1019160" cy="10987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4"/>
          <a:stretch/>
        </p:blipFill>
        <p:spPr>
          <a:xfrm>
            <a:off x="6172200" y="5530680"/>
            <a:ext cx="1019160" cy="1098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"/>
          <p:cNvPicPr/>
          <p:nvPr/>
        </p:nvPicPr>
        <p:blipFill>
          <a:blip r:embed="rId5"/>
          <a:stretch/>
        </p:blipFill>
        <p:spPr>
          <a:xfrm>
            <a:off x="3886200" y="3397320"/>
            <a:ext cx="1019160" cy="1098360"/>
          </a:xfrm>
          <a:prstGeom prst="rect">
            <a:avLst/>
          </a:prstGeom>
          <a:ln w="0">
            <a:noFill/>
          </a:ln>
        </p:spPr>
      </p:pic>
      <p:sp>
        <p:nvSpPr>
          <p:cNvPr id="603" name="Cloud 10"/>
          <p:cNvSpPr/>
          <p:nvPr/>
        </p:nvSpPr>
        <p:spPr>
          <a:xfrm>
            <a:off x="2666880" y="4616280"/>
            <a:ext cx="3200400" cy="1981440"/>
          </a:xfrm>
          <a:prstGeom prst="pie">
            <a:avLst/>
          </a:prstGeom>
          <a:solidFill>
            <a:srgbClr val="8eb4e3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Straight Connector 12"/>
          <p:cNvSpPr/>
          <p:nvPr/>
        </p:nvSpPr>
        <p:spPr>
          <a:xfrm>
            <a:off x="2286000" y="4692600"/>
            <a:ext cx="685800" cy="533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Straight Connector 14"/>
          <p:cNvSpPr/>
          <p:nvPr/>
        </p:nvSpPr>
        <p:spPr>
          <a:xfrm flipV="1">
            <a:off x="1981080" y="6216120"/>
            <a:ext cx="1143000" cy="304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Straight Connector 16"/>
          <p:cNvSpPr/>
          <p:nvPr/>
        </p:nvSpPr>
        <p:spPr>
          <a:xfrm flipH="1">
            <a:off x="4267080" y="4495680"/>
            <a:ext cx="128880" cy="233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Straight Connector 18"/>
          <p:cNvSpPr/>
          <p:nvPr/>
        </p:nvSpPr>
        <p:spPr>
          <a:xfrm flipH="1">
            <a:off x="5714640" y="4997520"/>
            <a:ext cx="685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Straight Connector 20"/>
          <p:cNvSpPr/>
          <p:nvPr/>
        </p:nvSpPr>
        <p:spPr>
          <a:xfrm flipH="1" flipV="1">
            <a:off x="5409720" y="5987880"/>
            <a:ext cx="1143000" cy="533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 Anecdote (puwireles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Single large VLAN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ing seamless mobility on cam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Limited address spac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K or 32K IP addr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hour DHCP l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Frequently a large number of us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housand to up to 1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soon run low on IP addr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AB17-719B-4E85-9860-5178A847B1B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 Anecdote (puwireless), Continu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g in Android and IOS smart phon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release DHCP lease on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loads ARP processing to the chipset, to avoid waking up sleeping device on ARP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DHCP timeout is handled by the proces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can have IP address collis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HCP lease expires, but the phone doesn’t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HCP server gives the IP address to someone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oth devices respond to ARP reques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5DA1-F5F5-4B68-9490-5B008038F40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TextBox 4"/>
          <p:cNvSpPr/>
          <p:nvPr/>
        </p:nvSpPr>
        <p:spPr>
          <a:xfrm>
            <a:off x="-76320" y="60739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net.princeton.edu/android/android-stops-renewing-lease-keeps-using-IP-address-11236.htm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 Anecdote (puwireless), Continu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ing with Google and Apple on the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nger-term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 to larger, private address block (10.0.0.0/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network address translation (NAT) to communicate with the public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s running out of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s long delay before reusing a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ms like a good solution, r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F3E5-1D52-40A4-938F-FD64FD5354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Simple Desig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240" y="11430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Ethernet scalability and performan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ingle ISP reliability and performan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Limited IP address spa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1430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Unwanted Internet traffic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Privacy and isolation within the enterpris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Detecting and preventing bad behavior from insid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A14-C377-4CAD-B2AB-CF522A95610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Line 171"/>
          <p:cNvSpPr/>
          <p:nvPr/>
        </p:nvSpPr>
        <p:spPr>
          <a:xfrm flipV="1">
            <a:off x="2362320" y="586692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Line 171"/>
          <p:cNvSpPr/>
          <p:nvPr/>
        </p:nvSpPr>
        <p:spPr>
          <a:xfrm flipH="1" flipV="1">
            <a:off x="3124080" y="60199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Freeform 178"/>
          <p:cNvSpPr/>
          <p:nvPr/>
        </p:nvSpPr>
        <p:spPr>
          <a:xfrm>
            <a:off x="2166840" y="4038480"/>
            <a:ext cx="4343400" cy="2590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Line 130"/>
          <p:cNvSpPr/>
          <p:nvPr/>
        </p:nvSpPr>
        <p:spPr>
          <a:xfrm flipH="1" flipV="1">
            <a:off x="3767040" y="4114440"/>
            <a:ext cx="198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Line 133"/>
          <p:cNvSpPr/>
          <p:nvPr/>
        </p:nvSpPr>
        <p:spPr>
          <a:xfrm>
            <a:off x="2319480" y="477504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Line 134"/>
          <p:cNvSpPr/>
          <p:nvPr/>
        </p:nvSpPr>
        <p:spPr>
          <a:xfrm>
            <a:off x="3767040" y="4114800"/>
            <a:ext cx="2667240" cy="10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ine 135"/>
          <p:cNvSpPr/>
          <p:nvPr/>
        </p:nvSpPr>
        <p:spPr>
          <a:xfrm flipV="1">
            <a:off x="3157560" y="4165200"/>
            <a:ext cx="53352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Line 136"/>
          <p:cNvSpPr/>
          <p:nvPr/>
        </p:nvSpPr>
        <p:spPr>
          <a:xfrm>
            <a:off x="3157560" y="5865840"/>
            <a:ext cx="25146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AutoShape 138"/>
          <p:cNvSpPr/>
          <p:nvPr/>
        </p:nvSpPr>
        <p:spPr>
          <a:xfrm>
            <a:off x="2776680" y="56894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Line 171"/>
          <p:cNvSpPr/>
          <p:nvPr/>
        </p:nvSpPr>
        <p:spPr>
          <a:xfrm flipV="1">
            <a:off x="2319480" y="4156200"/>
            <a:ext cx="1447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AutoShape 173"/>
          <p:cNvSpPr/>
          <p:nvPr/>
        </p:nvSpPr>
        <p:spPr>
          <a:xfrm>
            <a:off x="2030400" y="44514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Line 175"/>
          <p:cNvSpPr/>
          <p:nvPr/>
        </p:nvSpPr>
        <p:spPr>
          <a:xfrm flipH="1">
            <a:off x="5824440" y="518148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AutoShape 166"/>
          <p:cNvSpPr/>
          <p:nvPr/>
        </p:nvSpPr>
        <p:spPr>
          <a:xfrm>
            <a:off x="5595840" y="60706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AutoShape 139"/>
          <p:cNvSpPr/>
          <p:nvPr/>
        </p:nvSpPr>
        <p:spPr>
          <a:xfrm>
            <a:off x="6145200" y="49766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AutoShape 172"/>
          <p:cNvSpPr/>
          <p:nvPr/>
        </p:nvSpPr>
        <p:spPr>
          <a:xfrm>
            <a:off x="3538440" y="40384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116000" y="4038480"/>
          <a:ext cx="5824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38480"/>
                    <a:ext cx="5824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066680" y="4826160"/>
          <a:ext cx="58284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26160"/>
                    <a:ext cx="582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878120" y="6019920"/>
          <a:ext cx="58248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8120" y="6019920"/>
                    <a:ext cx="5824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Line 171"/>
          <p:cNvSpPr/>
          <p:nvPr/>
        </p:nvSpPr>
        <p:spPr>
          <a:xfrm>
            <a:off x="6553080" y="5156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181480" y="3687840"/>
          <a:ext cx="914400" cy="103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687840"/>
                    <a:ext cx="91440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010280" y="5832360"/>
          <a:ext cx="838440" cy="94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5832360"/>
                    <a:ext cx="83844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352680" y="6350040"/>
          <a:ext cx="582840" cy="66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6350040"/>
                    <a:ext cx="582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171"/>
          <p:cNvSpPr/>
          <p:nvPr/>
        </p:nvSpPr>
        <p:spPr>
          <a:xfrm>
            <a:off x="1447920" y="4267080"/>
            <a:ext cx="6094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Line 171"/>
          <p:cNvSpPr/>
          <p:nvPr/>
        </p:nvSpPr>
        <p:spPr>
          <a:xfrm flipV="1">
            <a:off x="1523880" y="480024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Line 171"/>
          <p:cNvSpPr/>
          <p:nvPr/>
        </p:nvSpPr>
        <p:spPr>
          <a:xfrm flipV="1">
            <a:off x="3962520" y="4038480"/>
            <a:ext cx="1295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Line 171"/>
          <p:cNvSpPr/>
          <p:nvPr/>
        </p:nvSpPr>
        <p:spPr>
          <a:xfrm flipV="1">
            <a:off x="6019920" y="6095880"/>
            <a:ext cx="10666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Box 37"/>
          <p:cNvSpPr/>
          <p:nvPr/>
        </p:nvSpPr>
        <p:spPr>
          <a:xfrm>
            <a:off x="4822200" y="41911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TextBox 38"/>
          <p:cNvSpPr/>
          <p:nvPr/>
        </p:nvSpPr>
        <p:spPr>
          <a:xfrm>
            <a:off x="6636960" y="62895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TextBox 39"/>
          <p:cNvSpPr/>
          <p:nvPr/>
        </p:nvSpPr>
        <p:spPr>
          <a:xfrm>
            <a:off x="568800" y="42991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TextBox 40"/>
          <p:cNvSpPr/>
          <p:nvPr/>
        </p:nvSpPr>
        <p:spPr>
          <a:xfrm>
            <a:off x="492120" y="5156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7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Box 41"/>
          <p:cNvSpPr/>
          <p:nvPr/>
        </p:nvSpPr>
        <p:spPr>
          <a:xfrm>
            <a:off x="770400" y="5994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TextBox 42"/>
          <p:cNvSpPr/>
          <p:nvPr/>
        </p:nvSpPr>
        <p:spPr>
          <a:xfrm>
            <a:off x="385452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7620120" y="4591080"/>
            <a:ext cx="1290600" cy="1098360"/>
            <a:chOff x="7620120" y="4591080"/>
            <a:chExt cx="1290600" cy="1098360"/>
          </a:xfrm>
        </p:grpSpPr>
        <p:graphicFrame>
          <p:nvGraphicFramePr>
            <p:cNvPr id="246" name=""/>
            <p:cNvGraphicFramePr/>
            <p:nvPr/>
          </p:nvGraphicFramePr>
          <p:xfrm>
            <a:off x="7620120" y="4591080"/>
            <a:ext cx="1290600" cy="1098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620120" y="459108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Text Box 8"/>
            <p:cNvSpPr/>
            <p:nvPr/>
          </p:nvSpPr>
          <p:spPr>
            <a:xfrm>
              <a:off x="7770960" y="48700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49" name="TextBox 47"/>
          <p:cNvSpPr/>
          <p:nvPr/>
        </p:nvSpPr>
        <p:spPr>
          <a:xfrm>
            <a:off x="6287760" y="4495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50" name="Straight Arrow Connector 49"/>
          <p:cNvCxnSpPr/>
          <p:nvPr/>
        </p:nvCxnSpPr>
        <p:spPr>
          <a:xfrm flipH="1" flipV="1">
            <a:off x="6628680" y="5028840"/>
            <a:ext cx="1067400" cy="2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51" name="Straight Arrow Connector 50"/>
          <p:cNvCxnSpPr/>
          <p:nvPr/>
        </p:nvCxnSpPr>
        <p:spPr>
          <a:xfrm flipV="1">
            <a:off x="6628320" y="5257440"/>
            <a:ext cx="1067400" cy="2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52" name="TextBox 51"/>
          <p:cNvSpPr/>
          <p:nvPr/>
        </p:nvSpPr>
        <p:spPr>
          <a:xfrm>
            <a:off x="6368400" y="52578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0.0.0/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 Anecdote (puwireless), Continu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 makes troubleshooting har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IP addresses shared by many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network address tran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DMCA viol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downloads copyrighted material on WiF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ny comes to Princeton to comp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iven IP address, can OIT identify the studen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NAT, cannot pinpoint a unique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much more detailed (flow-level) l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54D8-BDA9-4CBA-AB85-AB8EC679FE9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terpris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puses and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local services and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limi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brid switch and routed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 balancing over upstream IS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ing users and the Internet from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: data-cen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A925-7EE9-4C23-B636-BCC74E359BD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yond Ethernet Swit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8324-DDF1-4136-8C7D-B47B193AF48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calability Limitations of 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nning tre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s that are longer than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dwidth wasted for links not in th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warding tab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tables grow with number of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oadcast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P, DHCP, and broadcast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o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s sent to unknown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95F0-0489-42AC-B9C1-5144139E01A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ybrid of Switches and Rou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1047-E07C-4251-A3C0-849C5492411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Freeform 178"/>
          <p:cNvSpPr/>
          <p:nvPr/>
        </p:nvSpPr>
        <p:spPr>
          <a:xfrm>
            <a:off x="3048120" y="2844720"/>
            <a:ext cx="4343400" cy="25909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Freeform 128"/>
          <p:cNvSpPr/>
          <p:nvPr/>
        </p:nvSpPr>
        <p:spPr>
          <a:xfrm>
            <a:off x="2590920" y="4597560"/>
            <a:ext cx="1676160" cy="106668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Freeform 129"/>
          <p:cNvSpPr/>
          <p:nvPr/>
        </p:nvSpPr>
        <p:spPr>
          <a:xfrm>
            <a:off x="380880" y="2362320"/>
            <a:ext cx="2781360" cy="205740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Line 130"/>
          <p:cNvSpPr/>
          <p:nvPr/>
        </p:nvSpPr>
        <p:spPr>
          <a:xfrm flipH="1" flipV="1">
            <a:off x="4647960" y="2920680"/>
            <a:ext cx="198108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Line 133"/>
          <p:cNvSpPr/>
          <p:nvPr/>
        </p:nvSpPr>
        <p:spPr>
          <a:xfrm>
            <a:off x="3200400" y="3581280"/>
            <a:ext cx="60948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Line 134"/>
          <p:cNvSpPr/>
          <p:nvPr/>
        </p:nvSpPr>
        <p:spPr>
          <a:xfrm>
            <a:off x="4648320" y="2921040"/>
            <a:ext cx="2666880" cy="103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Line 135"/>
          <p:cNvSpPr/>
          <p:nvPr/>
        </p:nvSpPr>
        <p:spPr>
          <a:xfrm flipV="1">
            <a:off x="4038480" y="2971440"/>
            <a:ext cx="53352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Line 136"/>
          <p:cNvSpPr/>
          <p:nvPr/>
        </p:nvSpPr>
        <p:spPr>
          <a:xfrm>
            <a:off x="4038480" y="4672080"/>
            <a:ext cx="251460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AutoShape 138"/>
          <p:cNvSpPr/>
          <p:nvPr/>
        </p:nvSpPr>
        <p:spPr>
          <a:xfrm>
            <a:off x="3657600" y="44956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Freeform 165"/>
          <p:cNvSpPr/>
          <p:nvPr/>
        </p:nvSpPr>
        <p:spPr>
          <a:xfrm>
            <a:off x="5877000" y="4978440"/>
            <a:ext cx="1689120" cy="96516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Freeform 167"/>
          <p:cNvSpPr/>
          <p:nvPr/>
        </p:nvSpPr>
        <p:spPr>
          <a:xfrm>
            <a:off x="3513240" y="1930320"/>
            <a:ext cx="1981080" cy="100332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Line 171"/>
          <p:cNvSpPr/>
          <p:nvPr/>
        </p:nvSpPr>
        <p:spPr>
          <a:xfrm flipV="1">
            <a:off x="3200400" y="2962440"/>
            <a:ext cx="144792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AutoShape 173"/>
          <p:cNvSpPr/>
          <p:nvPr/>
        </p:nvSpPr>
        <p:spPr>
          <a:xfrm>
            <a:off x="2911320" y="32576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Line 175"/>
          <p:cNvSpPr/>
          <p:nvPr/>
        </p:nvSpPr>
        <p:spPr>
          <a:xfrm flipH="1">
            <a:off x="6705360" y="3987720"/>
            <a:ext cx="533160" cy="990720"/>
          </a:xfrm>
          <a:prstGeom prst="line">
            <a:avLst/>
          </a:prstGeom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AutoShape 166"/>
          <p:cNvSpPr/>
          <p:nvPr/>
        </p:nvSpPr>
        <p:spPr>
          <a:xfrm>
            <a:off x="6477120" y="487692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AutoShape 139"/>
          <p:cNvSpPr/>
          <p:nvPr/>
        </p:nvSpPr>
        <p:spPr>
          <a:xfrm>
            <a:off x="7026120" y="37828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176"/>
          <p:cNvSpPr/>
          <p:nvPr/>
        </p:nvSpPr>
        <p:spPr>
          <a:xfrm>
            <a:off x="262800" y="2897280"/>
            <a:ext cx="29545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맑은 고딕"/>
              </a:rPr>
              <a:t>Ethernet Bridg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Flat addressing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Self-learning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Floo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- Forwarding along a tree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Text Box 177"/>
          <p:cNvSpPr/>
          <p:nvPr/>
        </p:nvSpPr>
        <p:spPr>
          <a:xfrm>
            <a:off x="3422880" y="3276720"/>
            <a:ext cx="3807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맑은 고딕"/>
              </a:rPr>
              <a:t>IP Rout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Hierarchical addressing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Subnet configur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Host configur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Forwarding along shortest path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AutoShape 172"/>
          <p:cNvSpPr/>
          <p:nvPr/>
        </p:nvSpPr>
        <p:spPr>
          <a:xfrm>
            <a:off x="4419720" y="284472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TextBox 24"/>
          <p:cNvSpPr/>
          <p:nvPr/>
        </p:nvSpPr>
        <p:spPr>
          <a:xfrm>
            <a:off x="639000" y="41911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92/2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TextBox 25"/>
          <p:cNvSpPr/>
          <p:nvPr/>
        </p:nvSpPr>
        <p:spPr>
          <a:xfrm>
            <a:off x="2467800" y="49528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28/2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Box 26"/>
          <p:cNvSpPr/>
          <p:nvPr/>
        </p:nvSpPr>
        <p:spPr>
          <a:xfrm>
            <a:off x="3696840" y="2286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TextBox 27"/>
          <p:cNvSpPr/>
          <p:nvPr/>
        </p:nvSpPr>
        <p:spPr>
          <a:xfrm>
            <a:off x="5825520" y="52578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64/2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Line 171"/>
          <p:cNvSpPr/>
          <p:nvPr/>
        </p:nvSpPr>
        <p:spPr>
          <a:xfrm>
            <a:off x="7467480" y="3962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7777080" y="3429000"/>
            <a:ext cx="1290600" cy="1098720"/>
            <a:chOff x="7777080" y="3429000"/>
            <a:chExt cx="1290600" cy="1098720"/>
          </a:xfrm>
        </p:grpSpPr>
        <p:graphicFrame>
          <p:nvGraphicFramePr>
            <p:cNvPr id="286" name=""/>
            <p:cNvGraphicFramePr/>
            <p:nvPr/>
          </p:nvGraphicFramePr>
          <p:xfrm>
            <a:off x="7777080" y="3429000"/>
            <a:ext cx="1290600" cy="109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77080" y="3429000"/>
                      <a:ext cx="12906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Text Box 8"/>
            <p:cNvSpPr/>
            <p:nvPr/>
          </p:nvSpPr>
          <p:spPr>
            <a:xfrm>
              <a:off x="7927920" y="370836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Hybrid Desig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1920" y="1112400"/>
            <a:ext cx="89154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 plug-and-play and mobility between subn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ed consistency between IP addressing &amp;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5727-5A7E-485C-9258-70CDED0307A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380880" y="2743200"/>
            <a:ext cx="8686800" cy="3581280"/>
            <a:chOff x="380880" y="2743200"/>
            <a:chExt cx="8686800" cy="3581280"/>
          </a:xfrm>
        </p:grpSpPr>
        <p:sp>
          <p:nvSpPr>
            <p:cNvPr id="293" name="Freeform 178"/>
            <p:cNvSpPr/>
            <p:nvPr/>
          </p:nvSpPr>
          <p:spPr>
            <a:xfrm>
              <a:off x="3047760" y="3576600"/>
              <a:ext cx="4343400" cy="23612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Freeform 128"/>
            <p:cNvSpPr/>
            <p:nvPr/>
          </p:nvSpPr>
          <p:spPr>
            <a:xfrm>
              <a:off x="2361960" y="5207760"/>
              <a:ext cx="2133360" cy="10407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Freeform 129"/>
            <p:cNvSpPr/>
            <p:nvPr/>
          </p:nvSpPr>
          <p:spPr>
            <a:xfrm>
              <a:off x="380880" y="3136680"/>
              <a:ext cx="2781360" cy="18748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Line 130"/>
            <p:cNvSpPr/>
            <p:nvPr/>
          </p:nvSpPr>
          <p:spPr>
            <a:xfrm flipH="1" flipV="1">
              <a:off x="4647600" y="3646080"/>
              <a:ext cx="1981080" cy="18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Line 133"/>
            <p:cNvSpPr/>
            <p:nvPr/>
          </p:nvSpPr>
          <p:spPr>
            <a:xfrm>
              <a:off x="3200040" y="4248000"/>
              <a:ext cx="609480" cy="83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Line 134"/>
            <p:cNvSpPr/>
            <p:nvPr/>
          </p:nvSpPr>
          <p:spPr>
            <a:xfrm>
              <a:off x="4647960" y="3646080"/>
              <a:ext cx="2666880" cy="94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Line 135"/>
            <p:cNvSpPr/>
            <p:nvPr/>
          </p:nvSpPr>
          <p:spPr>
            <a:xfrm flipV="1">
              <a:off x="4038480" y="3691800"/>
              <a:ext cx="533160" cy="145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Line 136"/>
            <p:cNvSpPr/>
            <p:nvPr/>
          </p:nvSpPr>
          <p:spPr>
            <a:xfrm>
              <a:off x="4038480" y="5241960"/>
              <a:ext cx="2514600" cy="39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AutoShape 138"/>
            <p:cNvSpPr/>
            <p:nvPr/>
          </p:nvSpPr>
          <p:spPr>
            <a:xfrm>
              <a:off x="3657600" y="508140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Freeform 165"/>
            <p:cNvSpPr/>
            <p:nvPr/>
          </p:nvSpPr>
          <p:spPr>
            <a:xfrm>
              <a:off x="5715000" y="5486400"/>
              <a:ext cx="2133360" cy="8380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Freeform 167"/>
            <p:cNvSpPr/>
            <p:nvPr/>
          </p:nvSpPr>
          <p:spPr>
            <a:xfrm>
              <a:off x="3512880" y="2743200"/>
              <a:ext cx="1981080" cy="9144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Line 171"/>
            <p:cNvSpPr/>
            <p:nvPr/>
          </p:nvSpPr>
          <p:spPr>
            <a:xfrm flipV="1">
              <a:off x="3200040" y="3683520"/>
              <a:ext cx="1447560" cy="34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AutoShape 173"/>
            <p:cNvSpPr/>
            <p:nvPr/>
          </p:nvSpPr>
          <p:spPr>
            <a:xfrm>
              <a:off x="2911320" y="395280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6" name="Line 175"/>
            <p:cNvSpPr/>
            <p:nvPr/>
          </p:nvSpPr>
          <p:spPr>
            <a:xfrm flipH="1">
              <a:off x="6705360" y="4618080"/>
              <a:ext cx="533160" cy="9028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AutoShape 166"/>
            <p:cNvSpPr/>
            <p:nvPr/>
          </p:nvSpPr>
          <p:spPr>
            <a:xfrm>
              <a:off x="6477120" y="542844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AutoShape 139"/>
            <p:cNvSpPr/>
            <p:nvPr/>
          </p:nvSpPr>
          <p:spPr>
            <a:xfrm>
              <a:off x="7026120" y="443160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AutoShape 172"/>
            <p:cNvSpPr/>
            <p:nvPr/>
          </p:nvSpPr>
          <p:spPr>
            <a:xfrm>
              <a:off x="4419360" y="357660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TextBox 24"/>
            <p:cNvSpPr/>
            <p:nvPr/>
          </p:nvSpPr>
          <p:spPr>
            <a:xfrm>
              <a:off x="685440" y="396216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192/2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TextBox 25"/>
            <p:cNvSpPr/>
            <p:nvPr/>
          </p:nvSpPr>
          <p:spPr>
            <a:xfrm>
              <a:off x="2361960" y="54979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128/2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2" name="TextBox 26"/>
            <p:cNvSpPr/>
            <p:nvPr/>
          </p:nvSpPr>
          <p:spPr>
            <a:xfrm>
              <a:off x="3581280" y="30672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0/2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3" name="TextBox 27"/>
            <p:cNvSpPr/>
            <p:nvPr/>
          </p:nvSpPr>
          <p:spPr>
            <a:xfrm>
              <a:off x="5638680" y="577584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64/2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Line 171"/>
            <p:cNvSpPr/>
            <p:nvPr/>
          </p:nvSpPr>
          <p:spPr>
            <a:xfrm>
              <a:off x="7467480" y="45950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15" name="Group 6"/>
            <p:cNvGrpSpPr/>
            <p:nvPr/>
          </p:nvGrpSpPr>
          <p:grpSpPr>
            <a:xfrm>
              <a:off x="7777080" y="4109040"/>
              <a:ext cx="1290600" cy="1001160"/>
              <a:chOff x="7777080" y="4109040"/>
              <a:chExt cx="1290600" cy="1001160"/>
            </a:xfrm>
          </p:grpSpPr>
          <p:graphicFrame>
            <p:nvGraphicFramePr>
              <p:cNvPr id="316" name=""/>
              <p:cNvGraphicFramePr/>
              <p:nvPr/>
            </p:nvGraphicFramePr>
            <p:xfrm>
              <a:off x="7777080" y="4109040"/>
              <a:ext cx="1290600" cy="1001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777080" y="4109040"/>
                        <a:ext cx="1290600" cy="100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Text Box 8"/>
              <p:cNvSpPr/>
              <p:nvPr/>
            </p:nvSpPr>
            <p:spPr>
              <a:xfrm>
                <a:off x="7922880" y="4363560"/>
                <a:ext cx="1082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Local Area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9895-0F87-497E-91FC-67C4D1799A0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8:20:20Z</dcterms:created>
  <dc:creator>Kai Li</dc:creator>
  <dc:description/>
  <dc:language>en-US</dc:language>
  <cp:lastModifiedBy>Jennifer Rexford</cp:lastModifiedBy>
  <cp:lastPrinted>2012-04-08T23:12:19Z</cp:lastPrinted>
  <dcterms:modified xsi:type="dcterms:W3CDTF">2012-04-09T12:30:38Z</dcterms:modified>
  <cp:revision>1980</cp:revision>
  <dc:subject/>
  <dc:title>Communication</dc:title>
</cp:coreProperties>
</file>