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1258AF1-4AF0-4DAF-9F18-B1629F47E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53D5506-2E4C-49CE-8233-ACFA8C4E2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21883EC-C6C1-4609-8277-3E9F72A1A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2B9C4D1-DEFC-4F2C-9895-9E4AD4275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233A3D6-3BE2-4C38-88EE-0DA8E9666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CED1BD-F3A4-4E74-BBDB-777A01B6A6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8FFD87-640A-4D96-AB4C-BC81E8039846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68CEC45-1AA2-4DDD-B078-7E758684CA3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ADFE29-8D96-4B9B-BB0A-3F111F18DA7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AD62343-1EB7-4C6D-8FA3-955C6D0FB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49725EE-7F5C-4879-B0AC-75BB2B677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217235C-B9EE-456A-B866-AF9372253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241A24-872E-4714-B145-501FF7849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18250D-2C26-42C4-9D3B-A184D57AC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F7B0C0-7027-45D4-80C7-53D7797E2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156340-F7A1-4C90-9400-95A3D30E6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7ED1862-9FB6-433A-86AE-977B3B46D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F97CDC-AF3E-4779-98E5-6A560CB32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F95EFA-BDE2-4DEA-B58A-414D2805D7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34121E-7FAE-4B4E-854B-B1C78CF69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955B02-0A69-45CD-9A2A-9EFBD1C43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ABCE2F-9711-4D11-9931-F9B0F27E3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A2E9C1-C244-471C-8D89-97D73219F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3A14D1-2B4B-48AF-BC34-D11A2DE45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CD917E-91C8-4BC5-911E-36D600E2A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3793B1A-7598-4694-B517-6F30EC3557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572D99F-1644-450C-B3EA-CE9A9E025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5F30BD2-3162-44FF-8449-E090407A0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AD0F76D-E072-4671-ABBE-9BE531AF4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8B50DB6-2DED-4175-A9BC-3EE95324E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5E0647-681B-489B-8176-1E9C1ACA7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30B0727-ED2F-4B70-9B6D-7DD02CB2AB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791528D-1CD8-4FB9-80A0-83D26B56C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046581-1C2B-4308-9D8C-03A7AD5B28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BED174-EF7C-454A-860D-109ABDF8A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20D8ED-6685-4113-867D-3392108FA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C78-F007-4475-B291-FBCB118D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92B-A89D-435E-A1C9-0B43341D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A52-48D8-441E-9C84-98CBEFEB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669-CCE0-41DB-84DD-7CAC62A9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42869-251D-4F0F-A6F2-CD9FCD193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6A8F-3C38-4A13-8767-B1C0DEED2F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B81B7-5A98-4282-8829-8DB21D9D71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C16DD-215F-4BFC-846F-C83EB3F34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5C262-40BB-4CD7-B788-4EFEE69F53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6296B-4270-40A8-AEC3-DE1AA8EFE5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37626-DFAB-417D-BF2B-3DE86C8A2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1FC-546C-43D9-AFC7-BD5BA8C4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49718-C4FC-4AED-A3E6-E2C5222E70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3B66B-437B-4C2F-A32F-361CFC496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77C5F-F6E6-4FDF-8279-442B693794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866A0-F37A-4E72-A1F4-C77C558A9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4E348-E865-4B4F-87A3-4FA9EE27BF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F16EB-3973-49D1-B1CE-29D1BC0AC9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27B51-9337-4B3D-A6D8-B8D92721BE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3583-6127-4E08-ABC1-85384DC0FE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E872C-655E-4319-BCA8-52458FB824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5B7EC-FF2B-4B6F-8CF8-201C4B758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46D-E13F-490E-A1E0-514076A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F9824-D71B-4775-8FBA-E6FAB67A8D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E6AAB-34D9-49E6-8406-1E944DA64D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231E-7675-48C2-90A9-F854B8B1F3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3E72-4227-4DEB-8F91-D92EF564CA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C5818-5A5B-43ED-9826-F216B58890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04179-0E0F-48BD-BA4E-23A5A46DD1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45F88-3E3E-4356-8E8E-4FA5E79213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D188-B72F-4771-9E48-BBBB7B6BDF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3F4-3DCB-48A1-81F4-56201EB146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BDF9-852F-4487-9194-A51041A25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D1B-CD90-4734-84A2-14681CC4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3EE-E617-4C40-99A3-0329559256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5AC1-2746-4738-B4C1-8752022675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9735-9828-48EB-893C-FA7B6055FB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6E1E-97D5-446D-AF10-2ED5A7AD1E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3EF2-0E03-46BE-9BB0-1D74814AAE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C99D-8747-4141-84DC-3141BA5060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0C7A-4355-4647-BEC4-8AC1389F7A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428B-3FE5-4753-9E53-5E31850B11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315B-632A-4033-8E88-1E8F6FE19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B48-578E-4FE0-9149-C4BB6E98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295-81DA-4150-8A18-1147E5D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3ED1-0A23-4873-AF28-BB4592AE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AB3-53E9-4AAE-AA68-362909C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056-381E-401F-B79F-0F7B4D5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4804-923B-4BDB-A859-FAD6F976C060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FDE7-6C0F-4DAF-8DDD-3DD302AC2D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7DC-8998-411B-A688-88690A3B2E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EE3-764F-4FCD-93A9-0760C176F8C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85D-2737-4A8D-9CA9-EF6BA8066A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Peer-to-Peer File Sharing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pster Directory Serv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contacts Napster (via TC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a list of music files it will sh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apster’s central server updates th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searches on a title or perform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ster identifies online clients with th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s thei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requests the file from the chosen suppli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lier transmits the file to the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client and supplier report status to Nap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E504-79F1-42BA-8FD6-606A98B6D5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723000" y="1239840"/>
            <a:ext cx="2189160" cy="6523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7" name="Picture 5" descr="gfc_napsterlogo"/>
          <p:cNvPicPr/>
          <p:nvPr/>
        </p:nvPicPr>
        <p:blipFill>
          <a:blip r:embed="rId1"/>
          <a:stretch/>
        </p:blipFill>
        <p:spPr>
          <a:xfrm>
            <a:off x="6799320" y="1278000"/>
            <a:ext cx="19620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AAD5-CAA2-4283-B733-2C8403BA9F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pster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6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’s directory continually upd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know what music is currently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nt of vulnerability for legal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-to-peer file trans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load o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usible deniability for legal action (but not enoug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liers ranked by apparent bandwidth and respons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pster: Limitations of Directo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 point of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bottlene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pyright infrin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later P2P systems were more distribu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nutella went to the other extrem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209-3D65-4DC1-82B8-C6F1E1B9B2B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638320" y="1904760"/>
            <a:ext cx="3149640" cy="16462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File transfer is decentralized, but locating content is highly centralized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FD5F-CCD1-48BA-BD03-BF53C6E0FB6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Gnutell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72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nutella hist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: J. Frankel &amp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. Pepper released Gnut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on after: many other clients (e.g., Morpheus, Limewire, Bearsha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1: protocol enhancements, e.g., “ultrapeer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4875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ery floo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: contact a few nodes to become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: no ne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: ask neighbors, who ask their neighb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tch: get file directly from anoth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4" descr="logo"/>
          <p:cNvPicPr/>
          <p:nvPr/>
        </p:nvPicPr>
        <p:blipFill>
          <a:blip r:embed="rId1"/>
          <a:stretch/>
        </p:blipFill>
        <p:spPr>
          <a:xfrm>
            <a:off x="7467480" y="4952880"/>
            <a:ext cx="1576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Search by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"/>
          <p:cNvPicPr/>
          <p:nvPr/>
        </p:nvPicPr>
        <p:blipFill>
          <a:blip r:embed="rId8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0" name="Line 12"/>
          <p:cNvSpPr/>
          <p:nvPr/>
        </p:nvSpPr>
        <p:spPr>
          <a:xfrm>
            <a:off x="1905120" y="3657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13"/>
          <p:cNvSpPr/>
          <p:nvPr/>
        </p:nvSpPr>
        <p:spPr>
          <a:xfrm flipV="1">
            <a:off x="20574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Line 14"/>
          <p:cNvSpPr/>
          <p:nvPr/>
        </p:nvSpPr>
        <p:spPr>
          <a:xfrm flipH="1">
            <a:off x="3885840" y="29718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1905120" y="4648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16"/>
          <p:cNvSpPr/>
          <p:nvPr/>
        </p:nvSpPr>
        <p:spPr>
          <a:xfrm flipH="1">
            <a:off x="2514240" y="4572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4267080" y="2666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Line 18"/>
          <p:cNvSpPr/>
          <p:nvPr/>
        </p:nvSpPr>
        <p:spPr>
          <a:xfrm flipV="1">
            <a:off x="4038480" y="35809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Line 19"/>
          <p:cNvSpPr/>
          <p:nvPr/>
        </p:nvSpPr>
        <p:spPr>
          <a:xfrm flipH="1">
            <a:off x="4952520" y="38098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Line 20"/>
          <p:cNvSpPr/>
          <p:nvPr/>
        </p:nvSpPr>
        <p:spPr>
          <a:xfrm flipV="1">
            <a:off x="2666880" y="53337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0384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267080" y="25909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6629400" y="3124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5486400" y="37339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Line 25"/>
          <p:cNvSpPr/>
          <p:nvPr/>
        </p:nvSpPr>
        <p:spPr>
          <a:xfrm flipV="1">
            <a:off x="5105520" y="46479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2209680" y="35053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6400800" y="3733920"/>
            <a:ext cx="837720" cy="1218960"/>
            <a:chOff x="6400800" y="3733920"/>
            <a:chExt cx="837720" cy="1218960"/>
          </a:xfrm>
        </p:grpSpPr>
        <p:sp>
          <p:nvSpPr>
            <p:cNvPr id="286" name="Line 27"/>
            <p:cNvSpPr/>
            <p:nvPr/>
          </p:nvSpPr>
          <p:spPr>
            <a:xfrm flipH="1" flipV="1">
              <a:off x="7009920" y="3733920"/>
              <a:ext cx="22860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 flipV="1">
              <a:off x="6400800" y="4343040"/>
              <a:ext cx="45720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 flipH="1">
              <a:off x="6477120" y="4800600"/>
              <a:ext cx="4572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9" name="Text Box 30"/>
          <p:cNvSpPr/>
          <p:nvPr/>
        </p:nvSpPr>
        <p:spPr>
          <a:xfrm>
            <a:off x="7342920" y="426708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xyz.mp3 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929680" y="38098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yz.mp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849720" y="502920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Flooding</a:t>
            </a:r>
            <a:endParaRPr b="1" lang="en-US" sz="3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950160" y="-7632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EB34-DCA8-4E27-8A95-09C43DC8BA75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7086960" y="365760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earc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Search by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8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4" name="Line 12"/>
          <p:cNvSpPr/>
          <p:nvPr/>
        </p:nvSpPr>
        <p:spPr>
          <a:xfrm>
            <a:off x="1905120" y="3657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13"/>
          <p:cNvSpPr/>
          <p:nvPr/>
        </p:nvSpPr>
        <p:spPr>
          <a:xfrm flipV="1">
            <a:off x="20574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3885840" y="29718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905120" y="4648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2514240" y="4572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4267080" y="2666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Line 18"/>
          <p:cNvSpPr/>
          <p:nvPr/>
        </p:nvSpPr>
        <p:spPr>
          <a:xfrm flipV="1">
            <a:off x="4038480" y="35809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9"/>
          <p:cNvSpPr/>
          <p:nvPr/>
        </p:nvSpPr>
        <p:spPr>
          <a:xfrm flipH="1">
            <a:off x="4952520" y="38098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20"/>
          <p:cNvSpPr/>
          <p:nvPr/>
        </p:nvSpPr>
        <p:spPr>
          <a:xfrm flipV="1">
            <a:off x="2666880" y="53337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40384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4267080" y="25909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23"/>
          <p:cNvSpPr/>
          <p:nvPr/>
        </p:nvSpPr>
        <p:spPr>
          <a:xfrm>
            <a:off x="6629400" y="3124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5486400" y="37339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25"/>
          <p:cNvSpPr/>
          <p:nvPr/>
        </p:nvSpPr>
        <p:spPr>
          <a:xfrm flipV="1">
            <a:off x="5105520" y="46479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Line 26"/>
          <p:cNvSpPr/>
          <p:nvPr/>
        </p:nvSpPr>
        <p:spPr>
          <a:xfrm>
            <a:off x="2209680" y="35053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9" name="Group 41"/>
          <p:cNvGrpSpPr/>
          <p:nvPr/>
        </p:nvGrpSpPr>
        <p:grpSpPr>
          <a:xfrm>
            <a:off x="4191120" y="2895480"/>
            <a:ext cx="2133360" cy="2590920"/>
            <a:chOff x="4191120" y="2895480"/>
            <a:chExt cx="2133360" cy="2590920"/>
          </a:xfrm>
        </p:grpSpPr>
        <p:sp>
          <p:nvSpPr>
            <p:cNvPr id="320" name="Line 30"/>
            <p:cNvSpPr/>
            <p:nvPr/>
          </p:nvSpPr>
          <p:spPr>
            <a:xfrm flipV="1">
              <a:off x="5105520" y="4572000"/>
              <a:ext cx="7596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 flipV="1">
              <a:off x="4343400" y="4876920"/>
              <a:ext cx="380880" cy="304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2" name="Line 32"/>
            <p:cNvSpPr/>
            <p:nvPr/>
          </p:nvSpPr>
          <p:spPr>
            <a:xfrm flipH="1">
              <a:off x="4191120" y="5486400"/>
              <a:ext cx="457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Line 33"/>
            <p:cNvSpPr/>
            <p:nvPr/>
          </p:nvSpPr>
          <p:spPr>
            <a:xfrm flipH="1">
              <a:off x="5943600" y="2895480"/>
              <a:ext cx="380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Line 34"/>
            <p:cNvSpPr/>
            <p:nvPr/>
          </p:nvSpPr>
          <p:spPr>
            <a:xfrm flipH="1">
              <a:off x="4800240" y="3505320"/>
              <a:ext cx="22860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5" name="Line 35"/>
            <p:cNvSpPr/>
            <p:nvPr/>
          </p:nvSpPr>
          <p:spPr>
            <a:xfrm flipH="1" flipV="1">
              <a:off x="4876560" y="2971440"/>
              <a:ext cx="228600" cy="228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Line 36"/>
            <p:cNvSpPr/>
            <p:nvPr/>
          </p:nvSpPr>
          <p:spPr>
            <a:xfrm flipH="1">
              <a:off x="5257800" y="3886200"/>
              <a:ext cx="76320" cy="30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7" name="Text Box 37"/>
          <p:cNvSpPr/>
          <p:nvPr/>
        </p:nvSpPr>
        <p:spPr>
          <a:xfrm>
            <a:off x="7342920" y="426708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xyz.mp3 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38"/>
          <p:cNvSpPr/>
          <p:nvPr/>
        </p:nvSpPr>
        <p:spPr>
          <a:xfrm>
            <a:off x="2929680" y="38098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yz.mp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6849720" y="5029200"/>
            <a:ext cx="168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alibri"/>
              </a:rPr>
              <a:t>Flooding</a:t>
            </a:r>
            <a:endParaRPr b="1" lang="en-US" sz="3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950160" y="-7632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B85-DFC6-441A-8D95-DC2CF88C1DD1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4007160" y="5486400"/>
            <a:ext cx="8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earch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Search by Floo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3"/>
          <a:stretch/>
        </p:blipFill>
        <p:spPr>
          <a:xfrm>
            <a:off x="1676520" y="4191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4"/>
          <a:stretch/>
        </p:blipFill>
        <p:spPr>
          <a:xfrm>
            <a:off x="472428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5"/>
          <a:stretch/>
        </p:blipFill>
        <p:spPr>
          <a:xfrm>
            <a:off x="36576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6"/>
          <a:stretch/>
        </p:blipFill>
        <p:spPr>
          <a:xfrm>
            <a:off x="2133720" y="5410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8"/>
          <a:stretch/>
        </p:blipFill>
        <p:spPr>
          <a:xfrm>
            <a:off x="701028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1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42" name="Line 12"/>
          <p:cNvSpPr/>
          <p:nvPr/>
        </p:nvSpPr>
        <p:spPr>
          <a:xfrm>
            <a:off x="1905120" y="365760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3"/>
          <p:cNvSpPr/>
          <p:nvPr/>
        </p:nvSpPr>
        <p:spPr>
          <a:xfrm flipV="1">
            <a:off x="2057400" y="26668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4"/>
          <p:cNvSpPr/>
          <p:nvPr/>
        </p:nvSpPr>
        <p:spPr>
          <a:xfrm flipH="1">
            <a:off x="3885840" y="2971800"/>
            <a:ext cx="152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1905120" y="4648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Line 16"/>
          <p:cNvSpPr/>
          <p:nvPr/>
        </p:nvSpPr>
        <p:spPr>
          <a:xfrm flipH="1">
            <a:off x="2514240" y="45720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4267080" y="2666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18"/>
          <p:cNvSpPr/>
          <p:nvPr/>
        </p:nvSpPr>
        <p:spPr>
          <a:xfrm flipV="1">
            <a:off x="4038480" y="358092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4952520" y="3809880"/>
            <a:ext cx="3049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20"/>
          <p:cNvSpPr/>
          <p:nvPr/>
        </p:nvSpPr>
        <p:spPr>
          <a:xfrm flipV="1">
            <a:off x="2666880" y="533376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4038480" y="4495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4267080" y="2590920"/>
            <a:ext cx="2133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23"/>
          <p:cNvSpPr/>
          <p:nvPr/>
        </p:nvSpPr>
        <p:spPr>
          <a:xfrm>
            <a:off x="6629400" y="31240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Line 24"/>
          <p:cNvSpPr/>
          <p:nvPr/>
        </p:nvSpPr>
        <p:spPr>
          <a:xfrm>
            <a:off x="5486400" y="37339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25"/>
          <p:cNvSpPr/>
          <p:nvPr/>
        </p:nvSpPr>
        <p:spPr>
          <a:xfrm flipV="1">
            <a:off x="5105520" y="464796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2209680" y="3505320"/>
            <a:ext cx="1447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27"/>
          <p:cNvSpPr/>
          <p:nvPr/>
        </p:nvSpPr>
        <p:spPr>
          <a:xfrm>
            <a:off x="4191120" y="4343400"/>
            <a:ext cx="2819160" cy="228600"/>
          </a:xfrm>
          <a:prstGeom prst="line">
            <a:avLst/>
          </a:prstGeom>
          <a:ln w="50760">
            <a:solidFill>
              <a:srgbClr val="0000ff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5062680" y="443376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transf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950160" y="-7632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8C5C-3B44-4AFB-BB0A-CD3B1187420B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nutella: 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y decentr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cost distrib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ing per node permits powerful search seman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scope may be quit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time may be quite 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overhead, and nodes come and go 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BC99-0982-4ED8-AEF6-A5D0D461AF6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KaAz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aZaA hist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1: created by Dutch company (Kazaa B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network called FastTrack used by other client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protocol changed so others could no longer 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er-node hierarch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: on start, the client contacts a super-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sh: client sends list of files to its super-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: queries flooded among super-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tch: get file directly from one or more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051-5CCA-4340-9816-1D7975B90F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7" name="Picture 5" descr="h_logo"/>
          <p:cNvPicPr/>
          <p:nvPr/>
        </p:nvPicPr>
        <p:blipFill>
          <a:blip r:embed="rId1"/>
          <a:stretch/>
        </p:blipFill>
        <p:spPr>
          <a:xfrm>
            <a:off x="0" y="5646600"/>
            <a:ext cx="280368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aZaA: Motivation for Super-Nod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ery consolid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onnected nodes may have only a few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agating query to a sub-node may take more time than for the super-node to answer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-node selection favors nodes with high up-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long you’ve been on is a good predictor of how long you’ll be around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BE4-4E2C-43DA-B8F0-3FF217D4480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6788-1C48-4938-B060-B64C5D36DC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Cloud"/>
          <p:cNvSpPr/>
          <p:nvPr/>
        </p:nvSpPr>
        <p:spPr>
          <a:xfrm>
            <a:off x="3151080" y="2567160"/>
            <a:ext cx="3341880" cy="2239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1" name="Picture 5" descr="j0285750"/>
          <p:cNvPicPr/>
          <p:nvPr/>
        </p:nvPicPr>
        <p:blipFill>
          <a:blip r:embed="rId1"/>
          <a:stretch/>
        </p:blipFill>
        <p:spPr>
          <a:xfrm flipH="1">
            <a:off x="731520" y="19303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1960560" y="2890800"/>
            <a:ext cx="1459080" cy="42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3" name="Picture 8" descr="j0195384"/>
          <p:cNvPicPr/>
          <p:nvPr/>
        </p:nvPicPr>
        <p:blipFill>
          <a:blip r:embed="rId2"/>
          <a:stretch/>
        </p:blipFill>
        <p:spPr>
          <a:xfrm>
            <a:off x="7337520" y="1662120"/>
            <a:ext cx="1203120" cy="1228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j0195384"/>
          <p:cNvPicPr/>
          <p:nvPr/>
        </p:nvPicPr>
        <p:blipFill>
          <a:blip r:embed="rId3"/>
          <a:stretch/>
        </p:blipFill>
        <p:spPr>
          <a:xfrm>
            <a:off x="7413480" y="4427640"/>
            <a:ext cx="1203480" cy="1228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j0195384"/>
          <p:cNvPicPr/>
          <p:nvPr/>
        </p:nvPicPr>
        <p:blipFill>
          <a:blip r:embed="rId4"/>
          <a:stretch/>
        </p:blipFill>
        <p:spPr>
          <a:xfrm>
            <a:off x="5494320" y="5425920"/>
            <a:ext cx="1203480" cy="122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j0195384"/>
          <p:cNvPicPr/>
          <p:nvPr/>
        </p:nvPicPr>
        <p:blipFill>
          <a:blip r:embed="rId5"/>
          <a:stretch/>
        </p:blipFill>
        <p:spPr>
          <a:xfrm flipH="1">
            <a:off x="1267920" y="4389480"/>
            <a:ext cx="1203480" cy="1228680"/>
          </a:xfrm>
          <a:prstGeom prst="rect">
            <a:avLst/>
          </a:prstGeom>
          <a:ln w="0">
            <a:noFill/>
          </a:ln>
        </p:spPr>
      </p:pic>
      <p:sp>
        <p:nvSpPr>
          <p:cNvPr id="177" name="Line 16"/>
          <p:cNvSpPr/>
          <p:nvPr/>
        </p:nvSpPr>
        <p:spPr>
          <a:xfrm flipH="1">
            <a:off x="2382480" y="4389480"/>
            <a:ext cx="12286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584440" y="40813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Document"/>
          <p:cNvSpPr/>
          <p:nvPr/>
        </p:nvSpPr>
        <p:spPr>
          <a:xfrm>
            <a:off x="2612880" y="1508040"/>
            <a:ext cx="728640" cy="84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3503520" y="17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F bit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4687920" y="4735440"/>
            <a:ext cx="92088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6108840" y="4159080"/>
            <a:ext cx="1496880" cy="84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6070680" y="2584080"/>
            <a:ext cx="1420560" cy="26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4581360" y="50799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6616440" y="40053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6424560" y="21225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-33120" y="3097080"/>
            <a:ext cx="30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load rate 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11680" y="5867280"/>
            <a:ext cx="37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ownload rates 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3873600" y="3352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BitTorr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 histo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2: B. Cohen debuted BitTo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mphasis on efficient fetching, not search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 same file to many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publisher, many downlo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venting free-loa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entives for peers to con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FC38-B28C-439D-8419-E9A003E97B6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74" name="Picture 5" descr="logo"/>
          <p:cNvPicPr/>
          <p:nvPr/>
        </p:nvPicPr>
        <p:blipFill>
          <a:blip r:embed="rId1"/>
          <a:stretch/>
        </p:blipFill>
        <p:spPr>
          <a:xfrm>
            <a:off x="5638680" y="5181480"/>
            <a:ext cx="3221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Simultaneous Download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vide file into many chunks (e.g., 256 KB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 different chunks on different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can trade chunks with other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can (hopefully) assemble the entir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s simultaneous downloa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ing different chunks from different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uploading chunks to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very large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4C8A-8F14-46D5-88B9-4F4A27B01B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Track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frastructure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s track of peers participating in the tor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registers with the tracker when it arr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cker selects peers for downloa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s a random set of peer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 new peer knows who to contact for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 have “trackerless”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distributed hash tables (DH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DA4B-F5E1-4A54-9911-272C20D3D2E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DFB9-10A0-45CD-A362-3803DFA2FD2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383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384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5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6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3" name="Text Box 13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4" name="Group 14"/>
            <p:cNvGrpSpPr/>
            <p:nvPr/>
          </p:nvGrpSpPr>
          <p:grpSpPr>
            <a:xfrm>
              <a:off x="641520" y="2418840"/>
              <a:ext cx="806040" cy="1778040"/>
              <a:chOff x="641520" y="2418840"/>
              <a:chExt cx="806040" cy="1778040"/>
            </a:xfrm>
          </p:grpSpPr>
          <p:sp>
            <p:nvSpPr>
              <p:cNvPr id="395" name="Line 15"/>
              <p:cNvSpPr/>
              <p:nvPr/>
            </p:nvSpPr>
            <p:spPr>
              <a:xfrm flipH="1">
                <a:off x="1142640" y="2590920"/>
                <a:ext cx="3049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6" name="Text Box 16"/>
              <p:cNvSpPr/>
              <p:nvPr/>
            </p:nvSpPr>
            <p:spPr>
              <a:xfrm rot="17003400">
                <a:off x="151920" y="3123720"/>
                <a:ext cx="173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torrent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7C6-674C-44F2-A792-550728E9290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399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00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7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8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09" name="Group 13"/>
            <p:cNvGrpSpPr/>
            <p:nvPr/>
          </p:nvGrpSpPr>
          <p:grpSpPr>
            <a:xfrm>
              <a:off x="1523880" y="2552760"/>
              <a:ext cx="2819520" cy="1638360"/>
              <a:chOff x="1523880" y="2552760"/>
              <a:chExt cx="2819520" cy="1638360"/>
            </a:xfrm>
          </p:grpSpPr>
          <p:sp>
            <p:nvSpPr>
              <p:cNvPr id="410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1" name="Text Box 15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12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A15-EB26-444B-BEDF-86B2764A90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16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7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25" name="Group 13"/>
            <p:cNvGrpSpPr/>
            <p:nvPr/>
          </p:nvGrpSpPr>
          <p:grpSpPr>
            <a:xfrm>
              <a:off x="1828800" y="2666880"/>
              <a:ext cx="2800080" cy="1643040"/>
              <a:chOff x="1828800" y="2666880"/>
              <a:chExt cx="2800080" cy="1643040"/>
            </a:xfrm>
          </p:grpSpPr>
          <p:sp>
            <p:nvSpPr>
              <p:cNvPr id="426" name="Line 14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7" name="Text Box 15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28" name="Text Box 16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76EB-E4B5-4E5B-A937-5D4AEEA8F8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32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3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4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6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7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8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0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1" name="Group 13"/>
            <p:cNvGrpSpPr/>
            <p:nvPr/>
          </p:nvGrpSpPr>
          <p:grpSpPr>
            <a:xfrm>
              <a:off x="1904760" y="3766680"/>
              <a:ext cx="4724280" cy="1796040"/>
              <a:chOff x="1904760" y="3766680"/>
              <a:chExt cx="4724280" cy="1796040"/>
            </a:xfrm>
          </p:grpSpPr>
          <p:sp>
            <p:nvSpPr>
              <p:cNvPr id="442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3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4" name="Text Box 16"/>
              <p:cNvSpPr/>
              <p:nvPr/>
            </p:nvSpPr>
            <p:spPr>
              <a:xfrm rot="21392400">
                <a:off x="3733920" y="3809880"/>
                <a:ext cx="14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hake-hand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45" name="Text Box 17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Text Box 18"/>
            <p:cNvSpPr/>
            <p:nvPr/>
          </p:nvSpPr>
          <p:spPr>
            <a:xfrm rot="1756800">
              <a:off x="1828080" y="5105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hake-hand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D8D4-6493-4D7F-B9E8-C98440B32D5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50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1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2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5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6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7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59" name="Group 13"/>
            <p:cNvGrpSpPr/>
            <p:nvPr/>
          </p:nvGrpSpPr>
          <p:grpSpPr>
            <a:xfrm>
              <a:off x="1904760" y="3780360"/>
              <a:ext cx="4724280" cy="1553400"/>
              <a:chOff x="1904760" y="3780360"/>
              <a:chExt cx="4724280" cy="1553400"/>
            </a:xfrm>
          </p:grpSpPr>
          <p:sp>
            <p:nvSpPr>
              <p:cNvPr id="460" name="Line 14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1" name="Line 15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2" name="Text Box 16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3" name="Text Box 17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64" name="Text Box 18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8DE-B2E4-4440-ADE4-2829E9EFB8F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67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68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7" name="Group 13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478" name="Line 14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9" name="Line 15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0" name="Line 16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1" name="Text Box 17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2" name="Text Box 18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3" name="Text Box 19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84" name="Text Box 20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3E5-8877-48BF-98FA-D7E3288D91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Overall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487" name="Group 3"/>
          <p:cNvGrpSpPr/>
          <p:nvPr/>
        </p:nvGrpSpPr>
        <p:grpSpPr>
          <a:xfrm>
            <a:off x="533520" y="1371600"/>
            <a:ext cx="7086600" cy="5357520"/>
            <a:chOff x="533520" y="1371600"/>
            <a:chExt cx="7086600" cy="5357520"/>
          </a:xfrm>
        </p:grpSpPr>
        <p:sp>
          <p:nvSpPr>
            <p:cNvPr id="488" name="AutoShape 4"/>
            <p:cNvSpPr/>
            <p:nvPr/>
          </p:nvSpPr>
          <p:spPr>
            <a:xfrm rot="10656000">
              <a:off x="1218960" y="1676520"/>
              <a:ext cx="914400" cy="914400"/>
            </a:xfrm>
            <a:prstGeom prst="foldedCorner">
              <a:avLst>
                <a:gd name="adj" fmla="val 125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eb page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th link 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 .torrent</a:t>
              </a:r>
              <a:endParaRPr b="1" lang="en-US" sz="1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AutoShape 5"/>
            <p:cNvSpPr/>
            <p:nvPr/>
          </p:nvSpPr>
          <p:spPr>
            <a:xfrm>
              <a:off x="4267080" y="1676520"/>
              <a:ext cx="1219320" cy="990360"/>
            </a:xfrm>
            <a:prstGeom prst="parallelogram">
              <a:avLst>
                <a:gd name="adj" fmla="val 3078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Rectangle 6"/>
            <p:cNvSpPr/>
            <p:nvPr/>
          </p:nvSpPr>
          <p:spPr>
            <a:xfrm>
              <a:off x="914400" y="419112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3352680" y="518148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6629400" y="3886200"/>
              <a:ext cx="990720" cy="68580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Text Box 9"/>
            <p:cNvSpPr/>
            <p:nvPr/>
          </p:nvSpPr>
          <p:spPr>
            <a:xfrm>
              <a:off x="533520" y="5105520"/>
              <a:ext cx="1447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Download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S”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Text Box 10"/>
            <p:cNvSpPr/>
            <p:nvPr/>
          </p:nvSpPr>
          <p:spPr>
            <a:xfrm>
              <a:off x="6705720" y="4724280"/>
              <a:ext cx="9144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Seed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Text Box 11"/>
            <p:cNvSpPr/>
            <p:nvPr/>
          </p:nvSpPr>
          <p:spPr>
            <a:xfrm>
              <a:off x="3352680" y="5943600"/>
              <a:ext cx="990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Leech]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Text Box 12"/>
            <p:cNvSpPr/>
            <p:nvPr/>
          </p:nvSpPr>
          <p:spPr>
            <a:xfrm>
              <a:off x="5562720" y="13716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ck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7" name="Group 13"/>
            <p:cNvGrpSpPr/>
            <p:nvPr/>
          </p:nvGrpSpPr>
          <p:grpSpPr>
            <a:xfrm>
              <a:off x="1523880" y="2552760"/>
              <a:ext cx="3105000" cy="1757160"/>
              <a:chOff x="1523880" y="2552760"/>
              <a:chExt cx="3105000" cy="1757160"/>
            </a:xfrm>
          </p:grpSpPr>
          <p:sp>
            <p:nvSpPr>
              <p:cNvPr id="498" name="Line 14"/>
              <p:cNvSpPr/>
              <p:nvPr/>
            </p:nvSpPr>
            <p:spPr>
              <a:xfrm flipV="1">
                <a:off x="1523880" y="2666880"/>
                <a:ext cx="281952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9" name="Line 15"/>
              <p:cNvSpPr/>
              <p:nvPr/>
            </p:nvSpPr>
            <p:spPr>
              <a:xfrm flipH="1">
                <a:off x="1828800" y="2666880"/>
                <a:ext cx="274320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0" name="Text Box 16"/>
              <p:cNvSpPr/>
              <p:nvPr/>
            </p:nvSpPr>
            <p:spPr>
              <a:xfrm rot="19829400">
                <a:off x="2198880" y="2941200"/>
                <a:ext cx="167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-announce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1" name="Text Box 17"/>
              <p:cNvSpPr/>
              <p:nvPr/>
            </p:nvSpPr>
            <p:spPr>
              <a:xfrm rot="19829400">
                <a:off x="2210040" y="3352320"/>
                <a:ext cx="248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sponse-peer list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02" name="Group 18"/>
            <p:cNvGrpSpPr/>
            <p:nvPr/>
          </p:nvGrpSpPr>
          <p:grpSpPr>
            <a:xfrm>
              <a:off x="1904760" y="3780360"/>
              <a:ext cx="4724280" cy="1919160"/>
              <a:chOff x="1904760" y="3780360"/>
              <a:chExt cx="4724280" cy="1919160"/>
            </a:xfrm>
          </p:grpSpPr>
          <p:sp>
            <p:nvSpPr>
              <p:cNvPr id="503" name="Line 19"/>
              <p:cNvSpPr/>
              <p:nvPr/>
            </p:nvSpPr>
            <p:spPr>
              <a:xfrm>
                <a:off x="1905120" y="472428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4" name="Line 20"/>
              <p:cNvSpPr/>
              <p:nvPr/>
            </p:nvSpPr>
            <p:spPr>
              <a:xfrm flipH="1" flipV="1">
                <a:off x="1904760" y="4495320"/>
                <a:ext cx="1447560" cy="83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5" name="Line 21"/>
              <p:cNvSpPr/>
              <p:nvPr/>
            </p:nvSpPr>
            <p:spPr>
              <a:xfrm flipH="1">
                <a:off x="1904760" y="4114800"/>
                <a:ext cx="4724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6" name="Text Box 22"/>
              <p:cNvSpPr/>
              <p:nvPr/>
            </p:nvSpPr>
            <p:spPr>
              <a:xfrm rot="1832400">
                <a:off x="2285640" y="4647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7" name="Text Box 23"/>
              <p:cNvSpPr/>
              <p:nvPr/>
            </p:nvSpPr>
            <p:spPr>
              <a:xfrm rot="1832400">
                <a:off x="2057040" y="51051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8" name="Text Box 24"/>
              <p:cNvSpPr/>
              <p:nvPr/>
            </p:nvSpPr>
            <p:spPr>
              <a:xfrm rot="21392400">
                <a:off x="4038480" y="38098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ieces</a:t>
                </a:r>
                <a:endParaRPr b="1" lang="en-US" sz="18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09" name="Text Box 25"/>
            <p:cNvSpPr/>
            <p:nvPr/>
          </p:nvSpPr>
          <p:spPr>
            <a:xfrm>
              <a:off x="2209680" y="1447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A46E-9AB0-45CF-903D-D603E1704D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an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-bit file to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recei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t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ts at ra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s at lea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ing the data at the slowest recei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est receiver has download ra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= mi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s at leas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wnload time: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max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{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F/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s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F/d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min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13F5-D675-4947-BF64-A387A899EE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Chunk Request Or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ich chunks to reque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download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an HTTP client d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: many peers have the early chu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have little to share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ing the scalability of th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: eventually nobody has rare chu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he chunks need the end of th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ing the ability to complete a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s: random selection and rarest fir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D97C-F155-4A0A-BC6D-B74D5326317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orrent: Rarest Chunk Fir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ich chunks to request fir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unk with the fewest available cop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, the rarest chunk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to the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starvation when some peers dep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to the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starvation across all peers wanting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ance load by equalizing # of copies of 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ree-Riding in P2P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st majority of users are free-ri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share no files and answer no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limit # of connections or upload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few “peers” essentially act as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ew individuals contributing to the public g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ing them hubs that basically act as a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 prevent free ri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the fastest peers to download from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asionally let some free loaders down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E074-E396-4F9B-9333-DA62474FCD5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E0CF-2A8D-480B-91E2-6DA8F3776F3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-Torrent: Preventing Free-Ri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er has limited upload 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must share it among multiple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t-for-tat: favor neighbors uploading at high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warding the top four neighb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 download bit rates from each neighb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iprocate by sending to the top four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ptimistic uncho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domly try a new neighbor every 3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new neighbor has a chance to be a better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D71B-A147-4EC8-AF5E-6E78264227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itTyrant: Gaming BitTorr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 can be gamed, to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uploads to top N peers at rate 1/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if N=4 and peers upload at 15, 12, 10, 9, 8,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uploading at rate 9 gets treated quite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 to be the N</a:t>
            </a:r>
            <a:r>
              <a:rPr b="0" lang="en-US" sz="3200" spc="-1" strike="noStrike" baseline="30000">
                <a:solidFill>
                  <a:srgbClr val="8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peer in the list, rather than 1</a:t>
            </a:r>
            <a:r>
              <a:rPr b="0" lang="en-US" sz="3200" spc="-1" strike="noStrike" baseline="30000">
                <a:solidFill>
                  <a:srgbClr val="800000"/>
                </a:solidFill>
                <a:latin typeface="Calibri"/>
              </a:rPr>
              <a:t>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 just a bit more bandwidth than low-rate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you’ll still be treated well b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yrant softwa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loads at higher rates to higher-bandwidth p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bittyrant.cs.washington.edu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ding the appropriate pe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ized directory (Naps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flooding (Gnute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-nodes (KaZa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itTorr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download of large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-free-riding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eat example of how change can happen so quickly in application-level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1960-EE5C-40FB-8249-12FE477D4E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B401-45E8-4724-B621-9FB6F2B7E14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peeding Up the File Distribu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crease the server upload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link bandwidth at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ervers, each with their own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ternative: have the receivers hel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s get a copy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distribute to other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duce the burden o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j0195812"/>
          <p:cNvPicPr/>
          <p:nvPr/>
        </p:nvPicPr>
        <p:blipFill>
          <a:blip r:embed="rId1"/>
          <a:stretch/>
        </p:blipFill>
        <p:spPr>
          <a:xfrm>
            <a:off x="7315200" y="198108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9854-EF71-4D07-8C4D-D054A79E7EF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s Help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9" name="Cloud"/>
          <p:cNvSpPr/>
          <p:nvPr/>
        </p:nvSpPr>
        <p:spPr>
          <a:xfrm>
            <a:off x="3151080" y="2567160"/>
            <a:ext cx="3341880" cy="2239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0" name="Picture 4" descr="j0285750"/>
          <p:cNvPicPr/>
          <p:nvPr/>
        </p:nvPicPr>
        <p:blipFill>
          <a:blip r:embed="rId1"/>
          <a:stretch/>
        </p:blipFill>
        <p:spPr>
          <a:xfrm flipH="1">
            <a:off x="731520" y="193032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>
            <a:off x="1960560" y="2890800"/>
            <a:ext cx="1459080" cy="42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2" name="Picture 6" descr="j0195384"/>
          <p:cNvPicPr/>
          <p:nvPr/>
        </p:nvPicPr>
        <p:blipFill>
          <a:blip r:embed="rId2"/>
          <a:stretch/>
        </p:blipFill>
        <p:spPr>
          <a:xfrm>
            <a:off x="7337520" y="1662120"/>
            <a:ext cx="1203120" cy="1228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j0195384"/>
          <p:cNvPicPr/>
          <p:nvPr/>
        </p:nvPicPr>
        <p:blipFill>
          <a:blip r:embed="rId3"/>
          <a:stretch/>
        </p:blipFill>
        <p:spPr>
          <a:xfrm>
            <a:off x="7413480" y="4427640"/>
            <a:ext cx="1203480" cy="122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j0195384"/>
          <p:cNvPicPr/>
          <p:nvPr/>
        </p:nvPicPr>
        <p:blipFill>
          <a:blip r:embed="rId4"/>
          <a:stretch/>
        </p:blipFill>
        <p:spPr>
          <a:xfrm>
            <a:off x="5494320" y="5425920"/>
            <a:ext cx="1203480" cy="1229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j0195384"/>
          <p:cNvPicPr/>
          <p:nvPr/>
        </p:nvPicPr>
        <p:blipFill>
          <a:blip r:embed="rId5"/>
          <a:stretch/>
        </p:blipFill>
        <p:spPr>
          <a:xfrm flipH="1">
            <a:off x="1267920" y="4389480"/>
            <a:ext cx="1203480" cy="1228680"/>
          </a:xfrm>
          <a:prstGeom prst="rect">
            <a:avLst/>
          </a:prstGeom>
          <a:ln w="0">
            <a:noFill/>
          </a:ln>
        </p:spPr>
      </p:pic>
      <p:sp>
        <p:nvSpPr>
          <p:cNvPr id="206" name="Line 10"/>
          <p:cNvSpPr/>
          <p:nvPr/>
        </p:nvSpPr>
        <p:spPr>
          <a:xfrm flipH="1">
            <a:off x="2382480" y="4389480"/>
            <a:ext cx="12286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84440" y="408132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Document"/>
          <p:cNvSpPr/>
          <p:nvPr/>
        </p:nvSpPr>
        <p:spPr>
          <a:xfrm>
            <a:off x="2612880" y="1508040"/>
            <a:ext cx="728640" cy="846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3294000" y="17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F bit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4687920" y="4735440"/>
            <a:ext cx="920880" cy="1150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6108840" y="4159080"/>
            <a:ext cx="1496880" cy="84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6070680" y="2584080"/>
            <a:ext cx="1420560" cy="26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4581360" y="50799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616440" y="40053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6424560" y="212256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00160" y="3097080"/>
            <a:ext cx="30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load rate 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11680" y="6192720"/>
            <a:ext cx="371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download rates d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873600" y="33526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2498760" y="4543560"/>
            <a:ext cx="1228680" cy="57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08160" y="477360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503680" y="47354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5109840" y="4735440"/>
            <a:ext cx="576360" cy="766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27"/>
          <p:cNvSpPr/>
          <p:nvPr/>
        </p:nvSpPr>
        <p:spPr>
          <a:xfrm flipH="1" flipV="1">
            <a:off x="5954400" y="4311720"/>
            <a:ext cx="1420920" cy="884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6232320" y="465768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29"/>
          <p:cNvSpPr/>
          <p:nvPr/>
        </p:nvSpPr>
        <p:spPr>
          <a:xfrm flipH="1">
            <a:off x="6338520" y="2738520"/>
            <a:ext cx="1305000" cy="268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6886440" y="2852640"/>
            <a:ext cx="5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178560" y="5848200"/>
            <a:ext cx="329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load rates u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urier New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B616-93C4-44EE-99FE-E3079888E78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s Help Distributing a Large Fi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onents of distribution laten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must send each bit: min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est peer must receive each bit: min ti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load time using all upload re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number of bit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upload bandwid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+ su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tal: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max{F/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s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, F/d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min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, NF/(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s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+sum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(u</a:t>
            </a:r>
            <a:r>
              <a:rPr b="0" i="1" lang="en-US" sz="3200" spc="-1" strike="noStrike" baseline="-25000">
                <a:solidFill>
                  <a:srgbClr val="800000"/>
                </a:solidFill>
                <a:latin typeface="Calibri"/>
              </a:rPr>
              <a:t>i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))}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AB52-82E1-40B5-9201-4CB52A6157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is Self-Sca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wnload time grows slowly with 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-serv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F/u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-to-peer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m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NF/(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+su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))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may come and 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need to find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s need to be willing to help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74EE-6EEA-4E17-AEA7-0C775B61D2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cating the Relevant Pe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ree main approa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 directory (Naps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y flooding (Gnute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 overlay (Kazaa, modern Gnutell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ign 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usible den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er-to-Peer Networks: Naps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295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pster history: the ri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/99: Napster version 1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/99: company fou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/99: first laws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0: 80 million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12952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pster history: the fal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 2001: out of business due to lawsu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 2001: dozens of decentralized P2P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3: growth of pay services like iTu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3B0C-0929-4787-897A-7D162327A8A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1" name="Picture 4" descr="images"/>
          <p:cNvPicPr/>
          <p:nvPr/>
        </p:nvPicPr>
        <p:blipFill>
          <a:blip r:embed="rId1"/>
          <a:stretch/>
        </p:blipFill>
        <p:spPr>
          <a:xfrm>
            <a:off x="228600" y="4140360"/>
            <a:ext cx="1527120" cy="16509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1703520" y="4648320"/>
            <a:ext cx="33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wn Fanning,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theastern freshma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3:49:10Z</dcterms:created>
  <dc:creator>Kai Li</dc:creator>
  <dc:description/>
  <dc:language>en-US</dc:language>
  <cp:lastModifiedBy>Jennifer Rexford</cp:lastModifiedBy>
  <dcterms:modified xsi:type="dcterms:W3CDTF">2012-04-01T00:38:48Z</dcterms:modified>
  <cp:revision>1859</cp:revision>
  <dc:subject/>
  <dc:title>Communication</dc:title>
</cp:coreProperties>
</file>