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gif" ContentType="image/gif"/>
  <Override PartName="/ppt/media/image10.png" ContentType="image/png"/>
  <Override PartName="/ppt/media/image15.jpeg" ContentType="image/jpeg"/>
  <Override PartName="/ppt/media/image3.wmf" ContentType="image/x-wmf"/>
  <Override PartName="/ppt/media/image5.png" ContentType="image/png"/>
  <Override PartName="/ppt/media/image8.jpeg" ContentType="image/jpeg"/>
  <Override PartName="/ppt/media/image4.gif" ContentType="image/gi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D228386-B317-4E55-B8C2-E3BAF79751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58FDD3E-1EE6-4E44-BCF3-9388796CEE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DE52367-D559-4FAB-9A4D-F2B56B41D4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A1B4600-9CA6-4752-B5A5-1EE68C62C3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F8CDBCE-DE0D-41D3-895E-143E4BA928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9584F9C-C2A7-47CF-A1B8-335390BDD8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C69EED3-D1C0-4F8F-A7E9-A789D54ACC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5EDE725-E8D3-46E1-A0F5-D4585CA0A7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9121591-6981-458A-A520-75DF7CE7FC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F7AAB4A-F3DA-4B4A-8A00-7A8DF7EF54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5521E68-31DE-4AD0-9D52-B7CF7AE4AD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9D4CD3A-3C4D-4FEF-A020-3F97AB0B48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3DE7F5E-717A-4AF2-B805-79D234996B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4BAFFCC-1212-4C11-BDFF-2BA9D42B24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E09D40E-C435-477A-938D-60AB4F5B65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673164E-571E-4C7C-A4BF-2F8A2CD49498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571C78B-C529-453B-86B4-C3145A98141B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16EF92C-7FF2-44D0-A0C5-ABEEF7F3D0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5400EE9-868D-4702-BB51-8844C428C9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C5D13D5-F735-4421-8126-8404173EA3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175D3E1-DDB0-4084-B913-BD717988B4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7F0C9C5-0058-4EED-AC8B-E5752F12E6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A75DFF0-A4DB-4C72-AB6D-95ABA8877D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0D149A6-80E8-4313-8CA3-9FC00A1074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C156-4810-4723-9283-93C456051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BCA4-1BCD-4E3C-B199-12B211C2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7195-C908-4F80-912B-DA2B1377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B155-B38A-4C51-8836-5EE83C10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05496-8282-408B-9E00-8366279291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C80ED-413A-43B8-945A-BFA2C05A55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40015-6C04-40FA-BA94-47602B73F0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3285D-91DF-452C-9FB0-061977B53A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543F4-06DC-49D1-844D-E3EF6A8A31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8F77C-2664-48F1-9BB5-55F8F3707F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7551D-540B-43C7-BF5E-24CAC85905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736C-EFD2-41D8-A0C4-2954E988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EFFAD-263B-4628-815E-0FE560155A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5A11B-FF6C-48B9-B52D-C55D9B2168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2FDC9-35BF-4A88-B613-91A8899E08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4E46C-B4FC-4399-A6A3-871A2754BD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F9FDA-777A-4D3D-BB77-D9AA11E9DD5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CD128-FCB3-4A38-B8DB-024E755352F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28707-43AB-4958-9644-8F8AE9183A6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770A6-631A-4B83-BCDF-F41407F24D0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7ABF3-A557-4D2F-B8BA-7BBB3445BD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BFEA4-43B5-40A0-8A14-00FE1952EA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20BD-3D7F-4208-A715-FCDE100C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5BFDB-483A-4DBC-AF0F-9E580E66D21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86F1C-3750-4991-BDFA-CD4088980B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F64CE-04EC-44AF-AA7F-FC3AFF4F11F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9E901-7ABE-4F15-AA27-0EE3C3D63C7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421AB-8E7D-4A0C-9FBE-CA90E670932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2B582-D961-4095-8AFC-F306756D13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662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51680" y="12193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8052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662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51680" y="3782520"/>
            <a:ext cx="27478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2E955-F7E3-41EC-91EF-2D3DE06373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EC99-A584-4287-A567-802B6881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F6B9-82F6-47F7-8D30-4FD59110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E40A-840D-4E06-A853-010F0F58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BBEE-0F9F-4FD4-BD4C-F0C2785E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825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7F38-E530-4E3F-A004-59244032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19320"/>
            <a:ext cx="4164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82520"/>
            <a:ext cx="85345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AB1A-1D1A-401F-8837-1CE7AD19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07F7-36E8-44DA-A0C4-23D1E00BC83A}" type="datetime">
              <a:rPr b="1" lang="en-US" sz="1200" spc="-1" strike="noStrike">
                <a:solidFill>
                  <a:srgbClr val="898989"/>
                </a:solidFill>
                <a:latin typeface="Courier New"/>
              </a:rPr>
              <a:t>07/28/26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7039-9773-4CC8-854C-9CEBE169017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4F46-5A92-4C9C-BB90-5956AA90287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8001000" y="6324120"/>
            <a:ext cx="914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Courier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2121-BDD6-41B0-92AF-BFF9C73F107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AdditiveColorMixing.png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90"/>
                </a:solidFill>
                <a:latin typeface="Calibri"/>
              </a:rPr>
              <a:t>Multimedia Streaming</a:t>
            </a:r>
            <a:endParaRPr b="0" lang="en-US" sz="5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0" y="37335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Jennifer Rexfo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</a:rPr>
              <a:t>COS 461: Computer Network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Calibri"/>
              </a:rPr>
              <a:t>Lectures:  MW 10-10:50am in Architecture N101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http://www.cs.princeton.edu/courses/archive/spr12/cos461/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28" name="Picture 5" descr="j0300520"/>
          <p:cNvPicPr/>
          <p:nvPr/>
        </p:nvPicPr>
        <p:blipFill>
          <a:blip r:embed="rId1"/>
          <a:stretch/>
        </p:blipFill>
        <p:spPr>
          <a:xfrm>
            <a:off x="2744640" y="228600"/>
            <a:ext cx="3579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A7F0-DF22-4129-B7DB-284226E6E90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treaming Over the Interne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ransferring Audio and Video Data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mplest case: just like any other fi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dio and video data stored in a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le downloaded using conventional 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yback does not overlap with data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 variety of more interesting scenario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ve vs. pre-recorded 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active vs. non-interac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receiver vs. multiple recei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8589-5D85-430D-B12B-B620F4E0F85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treaming Stored Audio and Video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ent-server syste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 stores the audio and video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ents request files, play them as they download, and perform VCR-like functions (e.g., rewind, pau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laying data at the right tim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 divides the data into seg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labels each segment with frame 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voiding starvation at the clie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ata must arrive quickly enou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0014-E027-4520-A1BF-41D43F29532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81" name="Picture 6" descr="MCj03223890000[1]"/>
          <p:cNvPicPr/>
          <p:nvPr/>
        </p:nvPicPr>
        <p:blipFill>
          <a:blip r:embed="rId1"/>
          <a:stretch/>
        </p:blipFill>
        <p:spPr>
          <a:xfrm>
            <a:off x="7315200" y="3897360"/>
            <a:ext cx="154620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Playout Buff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ent buff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re the data as it arrives from the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y data for the user in a continuous fash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layout dela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ent typically waits a few seconds to start 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allow some data to build up in the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help tolerate some delays down the r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178C-4E56-4A30-9270-53434B16B38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846000" y="4427640"/>
            <a:ext cx="75661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fluence of Playout Delay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80520" y="1219320"/>
            <a:ext cx="8534520" cy="4906800"/>
          </a:xfrm>
          <a:prstGeom prst="rect">
            <a:avLst/>
          </a:prstGeom>
          <a:ln w="0">
            <a:noFill/>
          </a:ln>
        </p:spPr>
      </p:pic>
      <p:sp>
        <p:nvSpPr>
          <p:cNvPr id="18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D18E-6F99-4451-B2ED-448C0734E6E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89" name="Picture 4" descr="631 fixedDelay"/>
          <p:cNvPicPr/>
          <p:nvPr/>
        </p:nvPicPr>
        <p:blipFill>
          <a:blip r:embed="rId2"/>
          <a:stretch/>
        </p:blipFill>
        <p:spPr>
          <a:xfrm>
            <a:off x="0" y="1184400"/>
            <a:ext cx="9144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quirements for Data Transpor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ela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small delay at the beginning is accep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start-up delays of a few seconds are ok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Jitt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ility of delay within the same packet str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ent cannot tolerate high variation if buffer star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o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 amount of missing data is not disrup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ransmitting lost packet may take too long any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F7F3-7A77-4BDA-865B-0680A7D4714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621 throughBrowser"/>
          <p:cNvPicPr/>
          <p:nvPr/>
        </p:nvPicPr>
        <p:blipFill>
          <a:blip r:embed="rId1"/>
          <a:stretch/>
        </p:blipFill>
        <p:spPr>
          <a:xfrm>
            <a:off x="5638680" y="4495680"/>
            <a:ext cx="3838680" cy="21402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treaming From Web Serv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ta stored in a fi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dio: an audio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deo: interleaving of audio and images in a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TTP request-respons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CP connection between client and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ent HTTP request and server HTTP respon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ent invokes the media play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ent-type indicates enco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wser launches media play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a player renders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A41F-2D39-4694-B24E-433C6DF4977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65F3-CF43-4650-A0F9-46F47A64849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itiating Streams from Web Serv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void passing all data through the Web brows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76080" indent="-2599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 server returns a meta file describing the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wser launches media player and passes meta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yer sets up its own connection to the Web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4" descr="622 naive streaming"/>
          <p:cNvPicPr/>
          <p:nvPr/>
        </p:nvPicPr>
        <p:blipFill>
          <a:blip r:embed="rId1"/>
          <a:stretch/>
        </p:blipFill>
        <p:spPr>
          <a:xfrm>
            <a:off x="1806480" y="3730680"/>
            <a:ext cx="605160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5EE4-2AB2-42C3-BC22-A8E1705EA89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Using a Streaming Server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16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voiding the use of HTTP (and perhaps TCP, too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 server returns a meta file describing the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yer requests the data using a different protoco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623 streamServer"/>
          <p:cNvPicPr/>
          <p:nvPr/>
        </p:nvPicPr>
        <p:blipFill>
          <a:blip r:embed="rId1"/>
          <a:stretch/>
        </p:blipFill>
        <p:spPr>
          <a:xfrm>
            <a:off x="1538280" y="3044880"/>
            <a:ext cx="651348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TCP is Not a Good Fi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liable deliver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ransmission of lost packets may not be usefu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apting the sending rat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owing down after loss may cause starve cl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tocol overhea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-byte TCP header is large for audio sam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King every other packet is a lot of overh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6014-D374-437E-85D1-D4DB4E512DA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gital Audio and Video Data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B266-7CD0-4C51-8E0E-3BED347768C0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Better Ways of Transporting Data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ser Datagram Protocol (UDP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automatic retransmission of lost p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automatic adaptation of sending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er packet h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DP leaves many things to the applica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o transmit the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ther to retransmit lost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ther to adapt the sending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adapt quality of the audio/video enco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B060-D091-4B7A-8F2E-948DBF72854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Recovering From Packet Los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oss is defined in a broader sens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 a packet arrive in time for playbac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acket that arrives late is as good as l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lective retransmiss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imes retransmission is accep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if client has not already started playing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can be retransmitted within time constra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uld do Forward Error Correction (FEC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 redundant info so receiver can reconstruc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2BE7-180F-402C-B5A4-F29EE7955D9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YouTube: HTTP, TCP, and Flash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lash video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uploaded videos converted to Flash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arly every browser has a Flash plug-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s need for users to install play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TTP/TCP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ed in every brows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ily gets through most firewa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Keep It Simple, Stupi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icity more important than video 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EAA3-0130-4D7D-9210-9DB45E1EA70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1FCF-D27D-4C08-88C1-EBAA44EA828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nteractive Audio and Video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wo or more users interacting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lephone call, video conference, video g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trict delay constrain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ays over 150-200 msec are very notice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ays over 400 msec are a disaster for vo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uch harder than streaming applica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ver cannot introduce much playout del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icult if network doesn’t guarantee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B5F6-C59E-4FF7-B718-C908EDAA500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Quality of Interactive Applicat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e application can help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audio compression algorith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error corr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aptation to the available bandwid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ut, ultimately the network is a major facto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 propagation dela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conges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ruptions during routing chang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ulticas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2841-9726-4E84-B3AB-85BC46A94B0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ulticas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Many receivers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eiving the same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Applications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deo conferen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ine ga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 television (IPT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al data fe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FE40-BD9B-4C28-A9A3-D6DEC1B1BF1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1"/>
          <a:stretch/>
        </p:blipFill>
        <p:spPr>
          <a:xfrm>
            <a:off x="4978440" y="2514600"/>
            <a:ext cx="36320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terated Unicas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nicast message to each recipie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modifications to net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overhead on sen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ndant packets on li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er must maintain list of recei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768F-123D-4210-BE5F-46012EEBB97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33" name="Picture 7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351792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6" descr=""/>
          <p:cNvPicPr/>
          <p:nvPr/>
        </p:nvPicPr>
        <p:blipFill>
          <a:blip r:embed="rId1"/>
          <a:stretch/>
        </p:blipFill>
        <p:spPr>
          <a:xfrm>
            <a:off x="6095880" y="2438280"/>
            <a:ext cx="3048120" cy="25909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Multicas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mbed receiver-driven tree in network lay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er sends a single packet to the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vers “join” and “leave” the t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overhead on the sen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s redundant network traff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sadvant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-plane protocols for multicast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head of duplicating packets in the rou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9202-7751-45E8-AE2E-A84055ECDB3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ulticast Tre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6249-5910-4E8F-A1BA-8D75BEFFA39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0" name="Group 3"/>
          <p:cNvGrpSpPr/>
          <p:nvPr/>
        </p:nvGrpSpPr>
        <p:grpSpPr>
          <a:xfrm>
            <a:off x="1676520" y="1501920"/>
            <a:ext cx="6475320" cy="3830760"/>
            <a:chOff x="1676520" y="1501920"/>
            <a:chExt cx="6475320" cy="3830760"/>
          </a:xfrm>
        </p:grpSpPr>
        <p:sp>
          <p:nvSpPr>
            <p:cNvPr id="241" name="Line 4"/>
            <p:cNvSpPr/>
            <p:nvPr/>
          </p:nvSpPr>
          <p:spPr>
            <a:xfrm>
              <a:off x="5884200" y="2642040"/>
              <a:ext cx="767520" cy="1140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2" name="Line 5"/>
            <p:cNvSpPr/>
            <p:nvPr/>
          </p:nvSpPr>
          <p:spPr>
            <a:xfrm>
              <a:off x="6692040" y="3819960"/>
              <a:ext cx="778320" cy="1274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3" name="Line 6"/>
            <p:cNvSpPr/>
            <p:nvPr/>
          </p:nvSpPr>
          <p:spPr>
            <a:xfrm flipH="1">
              <a:off x="4935240" y="3942720"/>
              <a:ext cx="136620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4" name="Line 7"/>
            <p:cNvSpPr/>
            <p:nvPr/>
          </p:nvSpPr>
          <p:spPr>
            <a:xfrm flipH="1">
              <a:off x="2538000" y="4401720"/>
              <a:ext cx="166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5" name="Line 8"/>
            <p:cNvSpPr/>
            <p:nvPr/>
          </p:nvSpPr>
          <p:spPr>
            <a:xfrm flipH="1" flipV="1">
              <a:off x="3525840" y="3034800"/>
              <a:ext cx="616320" cy="1209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6" name="Line 9"/>
            <p:cNvSpPr/>
            <p:nvPr/>
          </p:nvSpPr>
          <p:spPr>
            <a:xfrm flipV="1">
              <a:off x="3915360" y="2628720"/>
              <a:ext cx="152172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47" name="Line 10"/>
            <p:cNvSpPr/>
            <p:nvPr/>
          </p:nvSpPr>
          <p:spPr>
            <a:xfrm>
              <a:off x="4715640" y="1862640"/>
              <a:ext cx="1005480" cy="688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248" name="Group 11"/>
            <p:cNvGrpSpPr/>
            <p:nvPr/>
          </p:nvGrpSpPr>
          <p:grpSpPr>
            <a:xfrm>
              <a:off x="3687840" y="1501920"/>
              <a:ext cx="1139040" cy="439920"/>
              <a:chOff x="3687840" y="1501920"/>
              <a:chExt cx="1139040" cy="439920"/>
            </a:xfrm>
          </p:grpSpPr>
          <p:sp>
            <p:nvSpPr>
              <p:cNvPr id="249" name="Oval 12"/>
              <p:cNvSpPr/>
              <p:nvPr/>
            </p:nvSpPr>
            <p:spPr>
              <a:xfrm>
                <a:off x="3698280" y="1725840"/>
                <a:ext cx="1128600" cy="2160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50" name="Line 13"/>
              <p:cNvSpPr/>
              <p:nvPr/>
            </p:nvSpPr>
            <p:spPr>
              <a:xfrm>
                <a:off x="3698280" y="170712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51" name="Line 14"/>
              <p:cNvSpPr/>
              <p:nvPr/>
            </p:nvSpPr>
            <p:spPr>
              <a:xfrm>
                <a:off x="4826880" y="170712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52" name="Rectangle 15"/>
              <p:cNvSpPr/>
              <p:nvPr/>
            </p:nvSpPr>
            <p:spPr>
              <a:xfrm>
                <a:off x="3698280" y="1707120"/>
                <a:ext cx="1117800" cy="130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53" name="Oval 16"/>
              <p:cNvSpPr/>
              <p:nvPr/>
            </p:nvSpPr>
            <p:spPr>
              <a:xfrm>
                <a:off x="3687840" y="1549440"/>
                <a:ext cx="1128600" cy="2538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254" name="Group 17"/>
              <p:cNvGrpSpPr/>
              <p:nvPr/>
            </p:nvGrpSpPr>
            <p:grpSpPr>
              <a:xfrm>
                <a:off x="3864240" y="1501920"/>
                <a:ext cx="756360" cy="434160"/>
                <a:chOff x="3864240" y="1501920"/>
                <a:chExt cx="756360" cy="434160"/>
              </a:xfrm>
            </p:grpSpPr>
            <p:sp>
              <p:nvSpPr>
                <p:cNvPr id="255" name="Rectangle 18"/>
                <p:cNvSpPr/>
                <p:nvPr/>
              </p:nvSpPr>
              <p:spPr>
                <a:xfrm>
                  <a:off x="3974400" y="1584000"/>
                  <a:ext cx="511560" cy="3520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56" name="Text Box 19"/>
                <p:cNvSpPr/>
                <p:nvPr/>
              </p:nvSpPr>
              <p:spPr>
                <a:xfrm>
                  <a:off x="3864240" y="1501920"/>
                  <a:ext cx="756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endParaRPr b="1" lang="en-US" sz="16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grpSp>
          <p:nvGrpSpPr>
            <p:cNvPr id="257" name="Group 20"/>
            <p:cNvGrpSpPr/>
            <p:nvPr/>
          </p:nvGrpSpPr>
          <p:grpSpPr>
            <a:xfrm>
              <a:off x="5303880" y="2356920"/>
              <a:ext cx="1138320" cy="439200"/>
              <a:chOff x="5303880" y="2356920"/>
              <a:chExt cx="1138320" cy="439200"/>
            </a:xfrm>
          </p:grpSpPr>
          <p:sp>
            <p:nvSpPr>
              <p:cNvPr id="258" name="Oval 21"/>
              <p:cNvSpPr/>
              <p:nvPr/>
            </p:nvSpPr>
            <p:spPr>
              <a:xfrm>
                <a:off x="5314320" y="2580480"/>
                <a:ext cx="1127880" cy="215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59" name="Line 22"/>
              <p:cNvSpPr/>
              <p:nvPr/>
            </p:nvSpPr>
            <p:spPr>
              <a:xfrm>
                <a:off x="5314320" y="256176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60" name="Line 23"/>
              <p:cNvSpPr/>
              <p:nvPr/>
            </p:nvSpPr>
            <p:spPr>
              <a:xfrm>
                <a:off x="6442200" y="256176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61" name="Rectangle 24"/>
              <p:cNvSpPr/>
              <p:nvPr/>
            </p:nvSpPr>
            <p:spPr>
              <a:xfrm>
                <a:off x="5314320" y="2561760"/>
                <a:ext cx="1117080" cy="130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62" name="Oval 25"/>
              <p:cNvSpPr/>
              <p:nvPr/>
            </p:nvSpPr>
            <p:spPr>
              <a:xfrm>
                <a:off x="5303880" y="2404440"/>
                <a:ext cx="1127880" cy="2530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263" name="Group 26"/>
              <p:cNvGrpSpPr/>
              <p:nvPr/>
            </p:nvGrpSpPr>
            <p:grpSpPr>
              <a:xfrm>
                <a:off x="5501520" y="2356920"/>
                <a:ext cx="709560" cy="433800"/>
                <a:chOff x="5501520" y="2356920"/>
                <a:chExt cx="709560" cy="433800"/>
              </a:xfrm>
            </p:grpSpPr>
            <p:sp>
              <p:nvSpPr>
                <p:cNvPr id="264" name="Rectangle 27"/>
                <p:cNvSpPr/>
                <p:nvPr/>
              </p:nvSpPr>
              <p:spPr>
                <a:xfrm>
                  <a:off x="5590080" y="2439000"/>
                  <a:ext cx="511560" cy="3517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65" name="Text Box 28"/>
                <p:cNvSpPr/>
                <p:nvPr/>
              </p:nvSpPr>
              <p:spPr>
                <a:xfrm>
                  <a:off x="5501520" y="2356920"/>
                  <a:ext cx="7095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B</a:t>
                  </a:r>
                  <a:endParaRPr b="1" lang="en-US" sz="16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grpSp>
          <p:nvGrpSpPr>
            <p:cNvPr id="266" name="Group 29"/>
            <p:cNvGrpSpPr/>
            <p:nvPr/>
          </p:nvGrpSpPr>
          <p:grpSpPr>
            <a:xfrm>
              <a:off x="7012800" y="4893480"/>
              <a:ext cx="1139040" cy="439200"/>
              <a:chOff x="7012800" y="4893480"/>
              <a:chExt cx="1139040" cy="439200"/>
            </a:xfrm>
          </p:grpSpPr>
          <p:sp>
            <p:nvSpPr>
              <p:cNvPr id="267" name="Oval 30"/>
              <p:cNvSpPr/>
              <p:nvPr/>
            </p:nvSpPr>
            <p:spPr>
              <a:xfrm>
                <a:off x="7023240" y="5117040"/>
                <a:ext cx="1128600" cy="215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68" name="Line 31"/>
              <p:cNvSpPr/>
              <p:nvPr/>
            </p:nvSpPr>
            <p:spPr>
              <a:xfrm>
                <a:off x="7023240" y="509832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69" name="Line 32"/>
              <p:cNvSpPr/>
              <p:nvPr/>
            </p:nvSpPr>
            <p:spPr>
              <a:xfrm>
                <a:off x="8151840" y="509832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70" name="Rectangle 33"/>
              <p:cNvSpPr/>
              <p:nvPr/>
            </p:nvSpPr>
            <p:spPr>
              <a:xfrm>
                <a:off x="7023240" y="5098320"/>
                <a:ext cx="1117800" cy="130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71" name="Oval 34"/>
              <p:cNvSpPr/>
              <p:nvPr/>
            </p:nvSpPr>
            <p:spPr>
              <a:xfrm>
                <a:off x="7012800" y="4941000"/>
                <a:ext cx="1128600" cy="2530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272" name="Group 35"/>
              <p:cNvGrpSpPr/>
              <p:nvPr/>
            </p:nvGrpSpPr>
            <p:grpSpPr>
              <a:xfrm>
                <a:off x="7200000" y="4893480"/>
                <a:ext cx="731160" cy="433800"/>
                <a:chOff x="7200000" y="4893480"/>
                <a:chExt cx="731160" cy="433800"/>
              </a:xfrm>
            </p:grpSpPr>
            <p:sp>
              <p:nvSpPr>
                <p:cNvPr id="273" name="Rectangle 36"/>
                <p:cNvSpPr/>
                <p:nvPr/>
              </p:nvSpPr>
              <p:spPr>
                <a:xfrm>
                  <a:off x="7299720" y="4975560"/>
                  <a:ext cx="510840" cy="3517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74" name="Text Box 37"/>
                <p:cNvSpPr/>
                <p:nvPr/>
              </p:nvSpPr>
              <p:spPr>
                <a:xfrm>
                  <a:off x="7200000" y="4893480"/>
                  <a:ext cx="731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G</a:t>
                  </a:r>
                  <a:endParaRPr b="1" lang="en-US" sz="16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grpSp>
          <p:nvGrpSpPr>
            <p:cNvPr id="275" name="Group 38"/>
            <p:cNvGrpSpPr/>
            <p:nvPr/>
          </p:nvGrpSpPr>
          <p:grpSpPr>
            <a:xfrm>
              <a:off x="6248160" y="3670200"/>
              <a:ext cx="1139040" cy="439920"/>
              <a:chOff x="6248160" y="3670200"/>
              <a:chExt cx="1139040" cy="439920"/>
            </a:xfrm>
          </p:grpSpPr>
          <p:sp>
            <p:nvSpPr>
              <p:cNvPr id="276" name="Oval 39"/>
              <p:cNvSpPr/>
              <p:nvPr/>
            </p:nvSpPr>
            <p:spPr>
              <a:xfrm>
                <a:off x="6258600" y="3894120"/>
                <a:ext cx="1128600" cy="2160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77" name="Line 40"/>
              <p:cNvSpPr/>
              <p:nvPr/>
            </p:nvSpPr>
            <p:spPr>
              <a:xfrm>
                <a:off x="6258600" y="387540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78" name="Line 41"/>
              <p:cNvSpPr/>
              <p:nvPr/>
            </p:nvSpPr>
            <p:spPr>
              <a:xfrm>
                <a:off x="7387200" y="387540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79" name="Rectangle 42"/>
              <p:cNvSpPr/>
              <p:nvPr/>
            </p:nvSpPr>
            <p:spPr>
              <a:xfrm>
                <a:off x="6258600" y="3875400"/>
                <a:ext cx="1117800" cy="130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0" name="Oval 43"/>
              <p:cNvSpPr/>
              <p:nvPr/>
            </p:nvSpPr>
            <p:spPr>
              <a:xfrm>
                <a:off x="6248160" y="3717720"/>
                <a:ext cx="1128600" cy="2538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281" name="Group 44"/>
              <p:cNvGrpSpPr/>
              <p:nvPr/>
            </p:nvGrpSpPr>
            <p:grpSpPr>
              <a:xfrm>
                <a:off x="6427800" y="3670200"/>
                <a:ext cx="749880" cy="434160"/>
                <a:chOff x="6427800" y="3670200"/>
                <a:chExt cx="749880" cy="434160"/>
              </a:xfrm>
            </p:grpSpPr>
            <p:sp>
              <p:nvSpPr>
                <p:cNvPr id="282" name="Rectangle 45"/>
                <p:cNvSpPr/>
                <p:nvPr/>
              </p:nvSpPr>
              <p:spPr>
                <a:xfrm>
                  <a:off x="6534000" y="3752280"/>
                  <a:ext cx="511920" cy="3520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83" name="Text Box 46"/>
                <p:cNvSpPr/>
                <p:nvPr/>
              </p:nvSpPr>
              <p:spPr>
                <a:xfrm>
                  <a:off x="6427800" y="3670200"/>
                  <a:ext cx="749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D</a:t>
                  </a:r>
                  <a:endParaRPr b="1" lang="en-US" sz="16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grpSp>
          <p:nvGrpSpPr>
            <p:cNvPr id="284" name="Group 47"/>
            <p:cNvGrpSpPr/>
            <p:nvPr/>
          </p:nvGrpSpPr>
          <p:grpSpPr>
            <a:xfrm>
              <a:off x="3861360" y="4111200"/>
              <a:ext cx="1138320" cy="439200"/>
              <a:chOff x="3861360" y="4111200"/>
              <a:chExt cx="1138320" cy="439200"/>
            </a:xfrm>
          </p:grpSpPr>
          <p:sp>
            <p:nvSpPr>
              <p:cNvPr id="285" name="Oval 48"/>
              <p:cNvSpPr/>
              <p:nvPr/>
            </p:nvSpPr>
            <p:spPr>
              <a:xfrm>
                <a:off x="3871800" y="4334760"/>
                <a:ext cx="1127880" cy="215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6" name="Line 49"/>
              <p:cNvSpPr/>
              <p:nvPr/>
            </p:nvSpPr>
            <p:spPr>
              <a:xfrm>
                <a:off x="3871800" y="431604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7" name="Line 50"/>
              <p:cNvSpPr/>
              <p:nvPr/>
            </p:nvSpPr>
            <p:spPr>
              <a:xfrm>
                <a:off x="4999680" y="431604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8" name="Rectangle 51"/>
              <p:cNvSpPr/>
              <p:nvPr/>
            </p:nvSpPr>
            <p:spPr>
              <a:xfrm>
                <a:off x="3871800" y="4316040"/>
                <a:ext cx="1117080" cy="130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89" name="Oval 52"/>
              <p:cNvSpPr/>
              <p:nvPr/>
            </p:nvSpPr>
            <p:spPr>
              <a:xfrm>
                <a:off x="3861360" y="4158720"/>
                <a:ext cx="1127880" cy="2530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290" name="Group 53"/>
              <p:cNvGrpSpPr/>
              <p:nvPr/>
            </p:nvGrpSpPr>
            <p:grpSpPr>
              <a:xfrm>
                <a:off x="4059000" y="4111200"/>
                <a:ext cx="709560" cy="433800"/>
                <a:chOff x="4059000" y="4111200"/>
                <a:chExt cx="709560" cy="433800"/>
              </a:xfrm>
            </p:grpSpPr>
            <p:sp>
              <p:nvSpPr>
                <p:cNvPr id="291" name="Rectangle 54"/>
                <p:cNvSpPr/>
                <p:nvPr/>
              </p:nvSpPr>
              <p:spPr>
                <a:xfrm>
                  <a:off x="4147560" y="4193280"/>
                  <a:ext cx="511560" cy="3517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292" name="Text Box 55"/>
                <p:cNvSpPr/>
                <p:nvPr/>
              </p:nvSpPr>
              <p:spPr>
                <a:xfrm>
                  <a:off x="4059000" y="4111200"/>
                  <a:ext cx="7095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E</a:t>
                  </a:r>
                  <a:endParaRPr b="1" lang="en-US" sz="16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293" name="Line 56"/>
            <p:cNvSpPr/>
            <p:nvPr/>
          </p:nvSpPr>
          <p:spPr>
            <a:xfrm flipH="1">
              <a:off x="2516040" y="1966680"/>
              <a:ext cx="1532160" cy="2330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294" name="Group 57"/>
            <p:cNvGrpSpPr/>
            <p:nvPr/>
          </p:nvGrpSpPr>
          <p:grpSpPr>
            <a:xfrm>
              <a:off x="2880000" y="2682720"/>
              <a:ext cx="1139040" cy="439200"/>
              <a:chOff x="2880000" y="2682720"/>
              <a:chExt cx="1139040" cy="439200"/>
            </a:xfrm>
          </p:grpSpPr>
          <p:sp>
            <p:nvSpPr>
              <p:cNvPr id="295" name="Oval 58"/>
              <p:cNvSpPr/>
              <p:nvPr/>
            </p:nvSpPr>
            <p:spPr>
              <a:xfrm>
                <a:off x="2890440" y="2906280"/>
                <a:ext cx="1128600" cy="215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6" name="Line 59"/>
              <p:cNvSpPr/>
              <p:nvPr/>
            </p:nvSpPr>
            <p:spPr>
              <a:xfrm>
                <a:off x="2890440" y="288756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7" name="Line 60"/>
              <p:cNvSpPr/>
              <p:nvPr/>
            </p:nvSpPr>
            <p:spPr>
              <a:xfrm>
                <a:off x="4019040" y="288756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8" name="Rectangle 61"/>
              <p:cNvSpPr/>
              <p:nvPr/>
            </p:nvSpPr>
            <p:spPr>
              <a:xfrm>
                <a:off x="2890440" y="2887560"/>
                <a:ext cx="1117800" cy="130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299" name="Oval 62"/>
              <p:cNvSpPr/>
              <p:nvPr/>
            </p:nvSpPr>
            <p:spPr>
              <a:xfrm>
                <a:off x="2880000" y="2730240"/>
                <a:ext cx="1128600" cy="2530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300" name="Group 63"/>
              <p:cNvGrpSpPr/>
              <p:nvPr/>
            </p:nvGrpSpPr>
            <p:grpSpPr>
              <a:xfrm>
                <a:off x="3103200" y="2682720"/>
                <a:ext cx="655920" cy="433800"/>
                <a:chOff x="3103200" y="2682720"/>
                <a:chExt cx="655920" cy="433800"/>
              </a:xfrm>
            </p:grpSpPr>
            <p:sp>
              <p:nvSpPr>
                <p:cNvPr id="301" name="Rectangle 64"/>
                <p:cNvSpPr/>
                <p:nvPr/>
              </p:nvSpPr>
              <p:spPr>
                <a:xfrm>
                  <a:off x="3167280" y="2764800"/>
                  <a:ext cx="510480" cy="3517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02" name="Text Box 65"/>
                <p:cNvSpPr/>
                <p:nvPr/>
              </p:nvSpPr>
              <p:spPr>
                <a:xfrm>
                  <a:off x="3103200" y="2682720"/>
                  <a:ext cx="655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1" lang="en-US" sz="16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grpSp>
          <p:nvGrpSpPr>
            <p:cNvPr id="303" name="Group 66"/>
            <p:cNvGrpSpPr/>
            <p:nvPr/>
          </p:nvGrpSpPr>
          <p:grpSpPr>
            <a:xfrm>
              <a:off x="1676520" y="4121280"/>
              <a:ext cx="1138320" cy="439920"/>
              <a:chOff x="1676520" y="4121280"/>
              <a:chExt cx="1138320" cy="439920"/>
            </a:xfrm>
          </p:grpSpPr>
          <p:sp>
            <p:nvSpPr>
              <p:cNvPr id="304" name="Oval 67"/>
              <p:cNvSpPr/>
              <p:nvPr/>
            </p:nvSpPr>
            <p:spPr>
              <a:xfrm>
                <a:off x="1686960" y="4345200"/>
                <a:ext cx="1127880" cy="2160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05" name="Line 68"/>
              <p:cNvSpPr/>
              <p:nvPr/>
            </p:nvSpPr>
            <p:spPr>
              <a:xfrm>
                <a:off x="1686960" y="432648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06" name="Line 69"/>
              <p:cNvSpPr/>
              <p:nvPr/>
            </p:nvSpPr>
            <p:spPr>
              <a:xfrm>
                <a:off x="2814840" y="432648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07" name="Rectangle 70"/>
              <p:cNvSpPr/>
              <p:nvPr/>
            </p:nvSpPr>
            <p:spPr>
              <a:xfrm>
                <a:off x="1686960" y="4326480"/>
                <a:ext cx="1117080" cy="130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08" name="Oval 71"/>
              <p:cNvSpPr/>
              <p:nvPr/>
            </p:nvSpPr>
            <p:spPr>
              <a:xfrm>
                <a:off x="1676520" y="4168800"/>
                <a:ext cx="1127880" cy="2538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309" name="Group 72"/>
              <p:cNvGrpSpPr/>
              <p:nvPr/>
            </p:nvGrpSpPr>
            <p:grpSpPr>
              <a:xfrm>
                <a:off x="1878120" y="4121280"/>
                <a:ext cx="698040" cy="434160"/>
                <a:chOff x="1878120" y="4121280"/>
                <a:chExt cx="698040" cy="434160"/>
              </a:xfrm>
            </p:grpSpPr>
            <p:sp>
              <p:nvSpPr>
                <p:cNvPr id="310" name="Rectangle 73"/>
                <p:cNvSpPr/>
                <p:nvPr/>
              </p:nvSpPr>
              <p:spPr>
                <a:xfrm>
                  <a:off x="1963080" y="4203360"/>
                  <a:ext cx="510120" cy="3520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311" name="Text Box 74"/>
                <p:cNvSpPr/>
                <p:nvPr/>
              </p:nvSpPr>
              <p:spPr>
                <a:xfrm>
                  <a:off x="1878120" y="4121280"/>
                  <a:ext cx="698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1" lang="en-US" sz="16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312" name="Line 75"/>
            <p:cNvSpPr/>
            <p:nvPr/>
          </p:nvSpPr>
          <p:spPr>
            <a:xfrm flipH="1">
              <a:off x="3403440" y="1999080"/>
              <a:ext cx="363600" cy="6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3" name="Line 76"/>
            <p:cNvSpPr/>
            <p:nvPr/>
          </p:nvSpPr>
          <p:spPr>
            <a:xfrm flipH="1">
              <a:off x="2538360" y="3301920"/>
              <a:ext cx="363600" cy="6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4" name="Line 77"/>
            <p:cNvSpPr/>
            <p:nvPr/>
          </p:nvSpPr>
          <p:spPr>
            <a:xfrm>
              <a:off x="4921200" y="1811880"/>
              <a:ext cx="645840" cy="49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5" name="Line 78"/>
            <p:cNvSpPr/>
            <p:nvPr/>
          </p:nvSpPr>
          <p:spPr>
            <a:xfrm>
              <a:off x="6234120" y="2861280"/>
              <a:ext cx="511560" cy="74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6" name="Line 79"/>
            <p:cNvSpPr/>
            <p:nvPr/>
          </p:nvSpPr>
          <p:spPr>
            <a:xfrm>
              <a:off x="7142760" y="4217760"/>
              <a:ext cx="403920" cy="59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17" name="Line 80"/>
            <p:cNvSpPr/>
            <p:nvPr/>
          </p:nvSpPr>
          <p:spPr>
            <a:xfrm>
              <a:off x="3853800" y="3269880"/>
              <a:ext cx="393120" cy="70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pic>
        <p:nvPicPr>
          <p:cNvPr id="318" name="Picture 4" descr=""/>
          <p:cNvPicPr/>
          <p:nvPr/>
        </p:nvPicPr>
        <p:blipFill>
          <a:blip r:embed="rId1"/>
          <a:stretch/>
        </p:blipFill>
        <p:spPr>
          <a:xfrm>
            <a:off x="1905120" y="4735440"/>
            <a:ext cx="685800" cy="11318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"/>
          <p:cNvPicPr/>
          <p:nvPr/>
        </p:nvPicPr>
        <p:blipFill>
          <a:blip r:embed="rId2"/>
          <a:stretch/>
        </p:blipFill>
        <p:spPr>
          <a:xfrm>
            <a:off x="4191120" y="4735440"/>
            <a:ext cx="685800" cy="11318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"/>
          <p:cNvPicPr/>
          <p:nvPr/>
        </p:nvPicPr>
        <p:blipFill>
          <a:blip r:embed="rId3"/>
          <a:stretch/>
        </p:blipFill>
        <p:spPr>
          <a:xfrm>
            <a:off x="6095880" y="4735440"/>
            <a:ext cx="685800" cy="1131840"/>
          </a:xfrm>
          <a:prstGeom prst="rect">
            <a:avLst/>
          </a:prstGeom>
          <a:ln w="0">
            <a:noFill/>
          </a:ln>
        </p:spPr>
      </p:pic>
      <p:sp>
        <p:nvSpPr>
          <p:cNvPr id="321" name="Straight Connector 87"/>
          <p:cNvSpPr/>
          <p:nvPr/>
        </p:nvSpPr>
        <p:spPr>
          <a:xfrm>
            <a:off x="2250360" y="4562640"/>
            <a:ext cx="34920" cy="3142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2" name="Straight Connector 89"/>
          <p:cNvSpPr/>
          <p:nvPr/>
        </p:nvSpPr>
        <p:spPr>
          <a:xfrm>
            <a:off x="4494960" y="4572000"/>
            <a:ext cx="34920" cy="3142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3" name="Straight Connector 90"/>
          <p:cNvSpPr/>
          <p:nvPr/>
        </p:nvSpPr>
        <p:spPr>
          <a:xfrm flipH="1">
            <a:off x="6553080" y="5164200"/>
            <a:ext cx="471600" cy="1699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379B-B77E-4DA3-B72B-114435E8D74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hallenges for Media Streaming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arge volume of data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sound or image samples per sec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Volume of data may vary over tim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e to compression of the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annot tolerate much dela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interactive applications (e.g., VoIP and gam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annot tolerate much variation in dela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playout starts, need to keep 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ough some loss is acceptab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ingle vs. Multiple Sender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ource-based tre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e tree for each sen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e is optimized for that sen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, requires multiple trees for multiple sen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hared tre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common t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anning tree that reaches all particip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tree may be ineffic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, avoids having many different tr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38C5-ADBA-4B47-940C-9CB1C1F4679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Multicast Address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ulticast “group” defined by IP addre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cast addresses look like unicast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24.0.0.0 to 239.255.255.2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sing multicast IP address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er sends to the IP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ivers join the group based on IP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sends packets along the t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6ACD-9672-42AE-9319-08A96E1EC4D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Example Multicast Protocol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0520" y="114300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ceiver sends a “join” messages to the send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grafts to the tree at the nearest p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882D-0561-4AB3-998F-723B4C36F81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4" name="Line 4"/>
          <p:cNvSpPr/>
          <p:nvPr/>
        </p:nvSpPr>
        <p:spPr>
          <a:xfrm>
            <a:off x="5884920" y="3479760"/>
            <a:ext cx="768240" cy="1141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5" name="Line 5"/>
          <p:cNvSpPr/>
          <p:nvPr/>
        </p:nvSpPr>
        <p:spPr>
          <a:xfrm>
            <a:off x="6692760" y="4657680"/>
            <a:ext cx="779760" cy="1274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6" name="Line 6"/>
          <p:cNvSpPr/>
          <p:nvPr/>
        </p:nvSpPr>
        <p:spPr>
          <a:xfrm flipH="1">
            <a:off x="4936680" y="4781520"/>
            <a:ext cx="1366920" cy="3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7" name="Line 7"/>
          <p:cNvSpPr/>
          <p:nvPr/>
        </p:nvSpPr>
        <p:spPr>
          <a:xfrm flipH="1">
            <a:off x="2538000" y="5240160"/>
            <a:ext cx="167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8" name="Line 8"/>
          <p:cNvSpPr/>
          <p:nvPr/>
        </p:nvSpPr>
        <p:spPr>
          <a:xfrm flipH="1" flipV="1">
            <a:off x="3525480" y="3873600"/>
            <a:ext cx="617400" cy="12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9" name="Line 9"/>
          <p:cNvSpPr/>
          <p:nvPr/>
        </p:nvSpPr>
        <p:spPr>
          <a:xfrm flipV="1">
            <a:off x="3916440" y="3467160"/>
            <a:ext cx="1520640" cy="3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0" name="Line 10"/>
          <p:cNvSpPr/>
          <p:nvPr/>
        </p:nvSpPr>
        <p:spPr>
          <a:xfrm>
            <a:off x="4716360" y="2700360"/>
            <a:ext cx="1006560" cy="689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1" name="Group 11"/>
          <p:cNvGrpSpPr/>
          <p:nvPr/>
        </p:nvGrpSpPr>
        <p:grpSpPr>
          <a:xfrm>
            <a:off x="3689280" y="2340000"/>
            <a:ext cx="1137600" cy="440640"/>
            <a:chOff x="3689280" y="2340000"/>
            <a:chExt cx="1137600" cy="440640"/>
          </a:xfrm>
        </p:grpSpPr>
        <p:sp>
          <p:nvSpPr>
            <p:cNvPr id="342" name="Oval 12"/>
            <p:cNvSpPr/>
            <p:nvPr/>
          </p:nvSpPr>
          <p:spPr>
            <a:xfrm>
              <a:off x="3699720" y="2564280"/>
              <a:ext cx="1127160" cy="2163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43" name="Line 13"/>
            <p:cNvSpPr/>
            <p:nvPr/>
          </p:nvSpPr>
          <p:spPr>
            <a:xfrm>
              <a:off x="3699720" y="2545560"/>
              <a:ext cx="0" cy="13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44" name="Line 14"/>
            <p:cNvSpPr/>
            <p:nvPr/>
          </p:nvSpPr>
          <p:spPr>
            <a:xfrm>
              <a:off x="4826880" y="2545560"/>
              <a:ext cx="0" cy="13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45" name="Rectangle 15"/>
            <p:cNvSpPr/>
            <p:nvPr/>
          </p:nvSpPr>
          <p:spPr>
            <a:xfrm>
              <a:off x="3699720" y="2545560"/>
              <a:ext cx="1116360" cy="131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46" name="Oval 16"/>
            <p:cNvSpPr/>
            <p:nvPr/>
          </p:nvSpPr>
          <p:spPr>
            <a:xfrm>
              <a:off x="3689280" y="2387880"/>
              <a:ext cx="1127160" cy="2541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47" name="Group 17"/>
            <p:cNvGrpSpPr/>
            <p:nvPr/>
          </p:nvGrpSpPr>
          <p:grpSpPr>
            <a:xfrm>
              <a:off x="3865680" y="2340000"/>
              <a:ext cx="755640" cy="435240"/>
              <a:chOff x="3865680" y="2340000"/>
              <a:chExt cx="755640" cy="435240"/>
            </a:xfrm>
          </p:grpSpPr>
          <p:sp>
            <p:nvSpPr>
              <p:cNvPr id="348" name="Rectangle 18"/>
              <p:cNvSpPr/>
              <p:nvPr/>
            </p:nvSpPr>
            <p:spPr>
              <a:xfrm>
                <a:off x="3975840" y="2422440"/>
                <a:ext cx="510840" cy="3528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49" name="Text Box 19"/>
              <p:cNvSpPr/>
              <p:nvPr/>
            </p:nvSpPr>
            <p:spPr>
              <a:xfrm>
                <a:off x="3865680" y="2340000"/>
                <a:ext cx="75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1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350" name="Group 20"/>
          <p:cNvGrpSpPr/>
          <p:nvPr/>
        </p:nvGrpSpPr>
        <p:grpSpPr>
          <a:xfrm>
            <a:off x="5303880" y="3193920"/>
            <a:ext cx="1139040" cy="440640"/>
            <a:chOff x="5303880" y="3193920"/>
            <a:chExt cx="1139040" cy="440640"/>
          </a:xfrm>
        </p:grpSpPr>
        <p:sp>
          <p:nvSpPr>
            <p:cNvPr id="351" name="Oval 21"/>
            <p:cNvSpPr/>
            <p:nvPr/>
          </p:nvSpPr>
          <p:spPr>
            <a:xfrm>
              <a:off x="5314320" y="3418200"/>
              <a:ext cx="1128600" cy="2163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2" name="Line 22"/>
            <p:cNvSpPr/>
            <p:nvPr/>
          </p:nvSpPr>
          <p:spPr>
            <a:xfrm>
              <a:off x="5314320" y="3399480"/>
              <a:ext cx="0" cy="13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3" name="Line 23"/>
            <p:cNvSpPr/>
            <p:nvPr/>
          </p:nvSpPr>
          <p:spPr>
            <a:xfrm>
              <a:off x="6442920" y="3399480"/>
              <a:ext cx="0" cy="13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4" name="Rectangle 24"/>
            <p:cNvSpPr/>
            <p:nvPr/>
          </p:nvSpPr>
          <p:spPr>
            <a:xfrm>
              <a:off x="5314320" y="3399480"/>
              <a:ext cx="1117800" cy="131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55" name="Oval 25"/>
            <p:cNvSpPr/>
            <p:nvPr/>
          </p:nvSpPr>
          <p:spPr>
            <a:xfrm>
              <a:off x="5303880" y="3241800"/>
              <a:ext cx="1128600" cy="2541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56" name="Group 26"/>
            <p:cNvGrpSpPr/>
            <p:nvPr/>
          </p:nvGrpSpPr>
          <p:grpSpPr>
            <a:xfrm>
              <a:off x="5501520" y="3193920"/>
              <a:ext cx="709920" cy="435240"/>
              <a:chOff x="5501520" y="3193920"/>
              <a:chExt cx="709920" cy="435240"/>
            </a:xfrm>
          </p:grpSpPr>
          <p:sp>
            <p:nvSpPr>
              <p:cNvPr id="357" name="Rectangle 27"/>
              <p:cNvSpPr/>
              <p:nvPr/>
            </p:nvSpPr>
            <p:spPr>
              <a:xfrm>
                <a:off x="5590080" y="3276360"/>
                <a:ext cx="511560" cy="3528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58" name="Text Box 28"/>
              <p:cNvSpPr/>
              <p:nvPr/>
            </p:nvSpPr>
            <p:spPr>
              <a:xfrm>
                <a:off x="5501520" y="3193920"/>
                <a:ext cx="70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1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359" name="Group 29"/>
          <p:cNvGrpSpPr/>
          <p:nvPr/>
        </p:nvGrpSpPr>
        <p:grpSpPr>
          <a:xfrm>
            <a:off x="7013520" y="5730840"/>
            <a:ext cx="1139040" cy="440640"/>
            <a:chOff x="7013520" y="5730840"/>
            <a:chExt cx="1139040" cy="440640"/>
          </a:xfrm>
        </p:grpSpPr>
        <p:sp>
          <p:nvSpPr>
            <p:cNvPr id="360" name="Oval 30"/>
            <p:cNvSpPr/>
            <p:nvPr/>
          </p:nvSpPr>
          <p:spPr>
            <a:xfrm>
              <a:off x="7023960" y="5955120"/>
              <a:ext cx="1128600" cy="2163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1" name="Line 31"/>
            <p:cNvSpPr/>
            <p:nvPr/>
          </p:nvSpPr>
          <p:spPr>
            <a:xfrm>
              <a:off x="7023960" y="5936400"/>
              <a:ext cx="0" cy="13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2" name="Line 32"/>
            <p:cNvSpPr/>
            <p:nvPr/>
          </p:nvSpPr>
          <p:spPr>
            <a:xfrm>
              <a:off x="8152560" y="5936400"/>
              <a:ext cx="0" cy="13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3" name="Rectangle 33"/>
            <p:cNvSpPr/>
            <p:nvPr/>
          </p:nvSpPr>
          <p:spPr>
            <a:xfrm>
              <a:off x="7023960" y="5936400"/>
              <a:ext cx="1117800" cy="131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64" name="Oval 34"/>
            <p:cNvSpPr/>
            <p:nvPr/>
          </p:nvSpPr>
          <p:spPr>
            <a:xfrm>
              <a:off x="7013520" y="5778720"/>
              <a:ext cx="1128600" cy="2541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65" name="Group 35"/>
            <p:cNvGrpSpPr/>
            <p:nvPr/>
          </p:nvGrpSpPr>
          <p:grpSpPr>
            <a:xfrm>
              <a:off x="7200720" y="5730840"/>
              <a:ext cx="731160" cy="435240"/>
              <a:chOff x="7200720" y="5730840"/>
              <a:chExt cx="731160" cy="435240"/>
            </a:xfrm>
          </p:grpSpPr>
          <p:sp>
            <p:nvSpPr>
              <p:cNvPr id="366" name="Rectangle 36"/>
              <p:cNvSpPr/>
              <p:nvPr/>
            </p:nvSpPr>
            <p:spPr>
              <a:xfrm>
                <a:off x="7300440" y="5813280"/>
                <a:ext cx="510840" cy="3528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67" name="Text Box 37"/>
              <p:cNvSpPr/>
              <p:nvPr/>
            </p:nvSpPr>
            <p:spPr>
              <a:xfrm>
                <a:off x="7200720" y="5730840"/>
                <a:ext cx="731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1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368" name="Group 38"/>
          <p:cNvGrpSpPr/>
          <p:nvPr/>
        </p:nvGrpSpPr>
        <p:grpSpPr>
          <a:xfrm>
            <a:off x="6249960" y="4508640"/>
            <a:ext cx="1137600" cy="440640"/>
            <a:chOff x="6249960" y="4508640"/>
            <a:chExt cx="1137600" cy="440640"/>
          </a:xfrm>
        </p:grpSpPr>
        <p:sp>
          <p:nvSpPr>
            <p:cNvPr id="369" name="Oval 39"/>
            <p:cNvSpPr/>
            <p:nvPr/>
          </p:nvSpPr>
          <p:spPr>
            <a:xfrm>
              <a:off x="6260400" y="4732920"/>
              <a:ext cx="1127160" cy="2163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0" name="Line 40"/>
            <p:cNvSpPr/>
            <p:nvPr/>
          </p:nvSpPr>
          <p:spPr>
            <a:xfrm>
              <a:off x="6260400" y="4714200"/>
              <a:ext cx="0" cy="13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1" name="Line 41"/>
            <p:cNvSpPr/>
            <p:nvPr/>
          </p:nvSpPr>
          <p:spPr>
            <a:xfrm>
              <a:off x="7387560" y="4714200"/>
              <a:ext cx="0" cy="13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2" name="Rectangle 42"/>
            <p:cNvSpPr/>
            <p:nvPr/>
          </p:nvSpPr>
          <p:spPr>
            <a:xfrm>
              <a:off x="6260400" y="4714200"/>
              <a:ext cx="1116360" cy="131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3" name="Oval 43"/>
            <p:cNvSpPr/>
            <p:nvPr/>
          </p:nvSpPr>
          <p:spPr>
            <a:xfrm>
              <a:off x="6249960" y="4556520"/>
              <a:ext cx="1127160" cy="2541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74" name="Group 44"/>
            <p:cNvGrpSpPr/>
            <p:nvPr/>
          </p:nvGrpSpPr>
          <p:grpSpPr>
            <a:xfrm>
              <a:off x="6429600" y="4508640"/>
              <a:ext cx="748800" cy="435240"/>
              <a:chOff x="6429600" y="4508640"/>
              <a:chExt cx="748800" cy="435240"/>
            </a:xfrm>
          </p:grpSpPr>
          <p:sp>
            <p:nvSpPr>
              <p:cNvPr id="375" name="Rectangle 45"/>
              <p:cNvSpPr/>
              <p:nvPr/>
            </p:nvSpPr>
            <p:spPr>
              <a:xfrm>
                <a:off x="6535800" y="4591080"/>
                <a:ext cx="511200" cy="3528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76" name="Text Box 46"/>
              <p:cNvSpPr/>
              <p:nvPr/>
            </p:nvSpPr>
            <p:spPr>
              <a:xfrm>
                <a:off x="6429600" y="4508640"/>
                <a:ext cx="74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1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377" name="Group 47"/>
          <p:cNvGrpSpPr/>
          <p:nvPr/>
        </p:nvGrpSpPr>
        <p:grpSpPr>
          <a:xfrm>
            <a:off x="3862440" y="4950000"/>
            <a:ext cx="1139040" cy="439200"/>
            <a:chOff x="3862440" y="4950000"/>
            <a:chExt cx="1139040" cy="439200"/>
          </a:xfrm>
        </p:grpSpPr>
        <p:sp>
          <p:nvSpPr>
            <p:cNvPr id="378" name="Oval 48"/>
            <p:cNvSpPr/>
            <p:nvPr/>
          </p:nvSpPr>
          <p:spPr>
            <a:xfrm>
              <a:off x="3872880" y="5173560"/>
              <a:ext cx="1128600" cy="2156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79" name="Line 49"/>
            <p:cNvSpPr/>
            <p:nvPr/>
          </p:nvSpPr>
          <p:spPr>
            <a:xfrm>
              <a:off x="3872880" y="51548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0" name="Line 50"/>
            <p:cNvSpPr/>
            <p:nvPr/>
          </p:nvSpPr>
          <p:spPr>
            <a:xfrm>
              <a:off x="5001480" y="515484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1" name="Rectangle 51"/>
            <p:cNvSpPr/>
            <p:nvPr/>
          </p:nvSpPr>
          <p:spPr>
            <a:xfrm>
              <a:off x="3872880" y="5154840"/>
              <a:ext cx="1117800" cy="1303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2" name="Oval 52"/>
            <p:cNvSpPr/>
            <p:nvPr/>
          </p:nvSpPr>
          <p:spPr>
            <a:xfrm>
              <a:off x="3862440" y="4997520"/>
              <a:ext cx="1128600" cy="2530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83" name="Group 53"/>
            <p:cNvGrpSpPr/>
            <p:nvPr/>
          </p:nvGrpSpPr>
          <p:grpSpPr>
            <a:xfrm>
              <a:off x="4060080" y="4950000"/>
              <a:ext cx="709920" cy="433440"/>
              <a:chOff x="4060080" y="4950000"/>
              <a:chExt cx="709920" cy="433440"/>
            </a:xfrm>
          </p:grpSpPr>
          <p:sp>
            <p:nvSpPr>
              <p:cNvPr id="384" name="Rectangle 54"/>
              <p:cNvSpPr/>
              <p:nvPr/>
            </p:nvSpPr>
            <p:spPr>
              <a:xfrm>
                <a:off x="4148640" y="5032080"/>
                <a:ext cx="511560" cy="351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85" name="Text Box 55"/>
              <p:cNvSpPr/>
              <p:nvPr/>
            </p:nvSpPr>
            <p:spPr>
              <a:xfrm>
                <a:off x="4060080" y="4950000"/>
                <a:ext cx="70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1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386" name="Line 56"/>
          <p:cNvSpPr/>
          <p:nvPr/>
        </p:nvSpPr>
        <p:spPr>
          <a:xfrm flipH="1">
            <a:off x="2516040" y="2805120"/>
            <a:ext cx="1533600" cy="2330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7" name="Group 57"/>
          <p:cNvGrpSpPr/>
          <p:nvPr/>
        </p:nvGrpSpPr>
        <p:grpSpPr>
          <a:xfrm>
            <a:off x="2881440" y="3521160"/>
            <a:ext cx="1139040" cy="439200"/>
            <a:chOff x="2881440" y="3521160"/>
            <a:chExt cx="1139040" cy="439200"/>
          </a:xfrm>
        </p:grpSpPr>
        <p:sp>
          <p:nvSpPr>
            <p:cNvPr id="388" name="Oval 58"/>
            <p:cNvSpPr/>
            <p:nvPr/>
          </p:nvSpPr>
          <p:spPr>
            <a:xfrm>
              <a:off x="2891880" y="3744720"/>
              <a:ext cx="1128600" cy="2156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9" name="Line 59"/>
            <p:cNvSpPr/>
            <p:nvPr/>
          </p:nvSpPr>
          <p:spPr>
            <a:xfrm>
              <a:off x="2891880" y="372600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0" name="Line 60"/>
            <p:cNvSpPr/>
            <p:nvPr/>
          </p:nvSpPr>
          <p:spPr>
            <a:xfrm>
              <a:off x="4020480" y="372600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1" name="Rectangle 61"/>
            <p:cNvSpPr/>
            <p:nvPr/>
          </p:nvSpPr>
          <p:spPr>
            <a:xfrm>
              <a:off x="2891880" y="3726000"/>
              <a:ext cx="1117800" cy="1303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2" name="Oval 62"/>
            <p:cNvSpPr/>
            <p:nvPr/>
          </p:nvSpPr>
          <p:spPr>
            <a:xfrm>
              <a:off x="2881440" y="3568680"/>
              <a:ext cx="1128600" cy="2530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393" name="Group 63"/>
            <p:cNvGrpSpPr/>
            <p:nvPr/>
          </p:nvGrpSpPr>
          <p:grpSpPr>
            <a:xfrm>
              <a:off x="3104640" y="3521160"/>
              <a:ext cx="655920" cy="433440"/>
              <a:chOff x="3104640" y="3521160"/>
              <a:chExt cx="655920" cy="433440"/>
            </a:xfrm>
          </p:grpSpPr>
          <p:sp>
            <p:nvSpPr>
              <p:cNvPr id="394" name="Rectangle 64"/>
              <p:cNvSpPr/>
              <p:nvPr/>
            </p:nvSpPr>
            <p:spPr>
              <a:xfrm>
                <a:off x="3168720" y="3603240"/>
                <a:ext cx="510480" cy="351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395" name="Text Box 65"/>
              <p:cNvSpPr/>
              <p:nvPr/>
            </p:nvSpPr>
            <p:spPr>
              <a:xfrm>
                <a:off x="3104640" y="3521160"/>
                <a:ext cx="655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1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396" name="Group 66"/>
          <p:cNvGrpSpPr/>
          <p:nvPr/>
        </p:nvGrpSpPr>
        <p:grpSpPr>
          <a:xfrm>
            <a:off x="1676520" y="4959360"/>
            <a:ext cx="1139040" cy="440640"/>
            <a:chOff x="1676520" y="4959360"/>
            <a:chExt cx="1139040" cy="440640"/>
          </a:xfrm>
        </p:grpSpPr>
        <p:sp>
          <p:nvSpPr>
            <p:cNvPr id="397" name="Oval 67"/>
            <p:cNvSpPr/>
            <p:nvPr/>
          </p:nvSpPr>
          <p:spPr>
            <a:xfrm>
              <a:off x="1686960" y="5183640"/>
              <a:ext cx="1128600" cy="2163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8" name="Line 68"/>
            <p:cNvSpPr/>
            <p:nvPr/>
          </p:nvSpPr>
          <p:spPr>
            <a:xfrm>
              <a:off x="1686960" y="5164920"/>
              <a:ext cx="0" cy="13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9" name="Line 69"/>
            <p:cNvSpPr/>
            <p:nvPr/>
          </p:nvSpPr>
          <p:spPr>
            <a:xfrm>
              <a:off x="2815560" y="5164920"/>
              <a:ext cx="0" cy="13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0" name="Rectangle 70"/>
            <p:cNvSpPr/>
            <p:nvPr/>
          </p:nvSpPr>
          <p:spPr>
            <a:xfrm>
              <a:off x="1686960" y="5164920"/>
              <a:ext cx="1117800" cy="131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1" name="Oval 71"/>
            <p:cNvSpPr/>
            <p:nvPr/>
          </p:nvSpPr>
          <p:spPr>
            <a:xfrm>
              <a:off x="1676520" y="5007240"/>
              <a:ext cx="1128600" cy="2541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02" name="Group 72"/>
            <p:cNvGrpSpPr/>
            <p:nvPr/>
          </p:nvGrpSpPr>
          <p:grpSpPr>
            <a:xfrm>
              <a:off x="1878480" y="4959360"/>
              <a:ext cx="698400" cy="435240"/>
              <a:chOff x="1878480" y="4959360"/>
              <a:chExt cx="698400" cy="435240"/>
            </a:xfrm>
          </p:grpSpPr>
          <p:sp>
            <p:nvSpPr>
              <p:cNvPr id="403" name="Rectangle 73"/>
              <p:cNvSpPr/>
              <p:nvPr/>
            </p:nvSpPr>
            <p:spPr>
              <a:xfrm>
                <a:off x="1963440" y="5041800"/>
                <a:ext cx="510480" cy="3528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04" name="Text Box 74"/>
              <p:cNvSpPr/>
              <p:nvPr/>
            </p:nvSpPr>
            <p:spPr>
              <a:xfrm>
                <a:off x="1878480" y="4959360"/>
                <a:ext cx="698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1" lang="en-US" sz="16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</p:grpSp>
      <p:sp>
        <p:nvSpPr>
          <p:cNvPr id="405" name="Line 75"/>
          <p:cNvSpPr/>
          <p:nvPr/>
        </p:nvSpPr>
        <p:spPr>
          <a:xfrm flipH="1">
            <a:off x="3403080" y="2836800"/>
            <a:ext cx="365400" cy="62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6" name="Line 76"/>
          <p:cNvSpPr/>
          <p:nvPr/>
        </p:nvSpPr>
        <p:spPr>
          <a:xfrm flipH="1">
            <a:off x="2538360" y="4140360"/>
            <a:ext cx="363600" cy="62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7" name="Line 77"/>
          <p:cNvSpPr/>
          <p:nvPr/>
        </p:nvSpPr>
        <p:spPr>
          <a:xfrm>
            <a:off x="4923000" y="2649600"/>
            <a:ext cx="644400" cy="49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8" name="Line 78"/>
          <p:cNvSpPr/>
          <p:nvPr/>
        </p:nvSpPr>
        <p:spPr>
          <a:xfrm>
            <a:off x="6234120" y="3699000"/>
            <a:ext cx="512640" cy="74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9" name="Line 79"/>
          <p:cNvSpPr/>
          <p:nvPr/>
        </p:nvSpPr>
        <p:spPr>
          <a:xfrm>
            <a:off x="7143840" y="5056200"/>
            <a:ext cx="403200" cy="59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0" name="Line 80"/>
          <p:cNvSpPr/>
          <p:nvPr/>
        </p:nvSpPr>
        <p:spPr>
          <a:xfrm>
            <a:off x="3854520" y="4108320"/>
            <a:ext cx="393480" cy="70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11" name="Picture 4" descr=""/>
          <p:cNvPicPr/>
          <p:nvPr/>
        </p:nvPicPr>
        <p:blipFill>
          <a:blip r:embed="rId1"/>
          <a:stretch/>
        </p:blipFill>
        <p:spPr>
          <a:xfrm>
            <a:off x="1905120" y="5573880"/>
            <a:ext cx="685800" cy="11318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"/>
          <p:cNvPicPr/>
          <p:nvPr/>
        </p:nvPicPr>
        <p:blipFill>
          <a:blip r:embed="rId2"/>
          <a:stretch/>
        </p:blipFill>
        <p:spPr>
          <a:xfrm>
            <a:off x="4191120" y="5573880"/>
            <a:ext cx="685800" cy="11318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"/>
          <p:cNvPicPr/>
          <p:nvPr/>
        </p:nvPicPr>
        <p:blipFill>
          <a:blip r:embed="rId3"/>
          <a:stretch/>
        </p:blipFill>
        <p:spPr>
          <a:xfrm>
            <a:off x="6095880" y="5573880"/>
            <a:ext cx="685800" cy="1131840"/>
          </a:xfrm>
          <a:prstGeom prst="rect">
            <a:avLst/>
          </a:prstGeom>
          <a:ln w="0">
            <a:noFill/>
          </a:ln>
        </p:spPr>
      </p:pic>
      <p:sp>
        <p:nvSpPr>
          <p:cNvPr id="414" name="Straight Connector 85"/>
          <p:cNvSpPr/>
          <p:nvPr/>
        </p:nvSpPr>
        <p:spPr>
          <a:xfrm>
            <a:off x="2250360" y="5400720"/>
            <a:ext cx="34920" cy="3142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5" name="Straight Connector 86"/>
          <p:cNvSpPr/>
          <p:nvPr/>
        </p:nvSpPr>
        <p:spPr>
          <a:xfrm>
            <a:off x="4494960" y="5410080"/>
            <a:ext cx="34920" cy="3142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6" name="Straight Connector 87"/>
          <p:cNvSpPr/>
          <p:nvPr/>
        </p:nvSpPr>
        <p:spPr>
          <a:xfrm flipH="1">
            <a:off x="6553080" y="6002280"/>
            <a:ext cx="471600" cy="1699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IP Multicast is Best Effor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2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nder sends packet to IP multicast addre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16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ss may affect multiple recei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6D33-3BFC-4090-9656-E690A031AAC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0" name="Group 3"/>
          <p:cNvGrpSpPr/>
          <p:nvPr/>
        </p:nvGrpSpPr>
        <p:grpSpPr>
          <a:xfrm>
            <a:off x="1295280" y="2416320"/>
            <a:ext cx="6475680" cy="3830760"/>
            <a:chOff x="1295280" y="2416320"/>
            <a:chExt cx="6475680" cy="3830760"/>
          </a:xfrm>
        </p:grpSpPr>
        <p:sp>
          <p:nvSpPr>
            <p:cNvPr id="421" name="Line 4"/>
            <p:cNvSpPr/>
            <p:nvPr/>
          </p:nvSpPr>
          <p:spPr>
            <a:xfrm>
              <a:off x="5503320" y="3556440"/>
              <a:ext cx="767520" cy="1140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2" name="Line 5"/>
            <p:cNvSpPr/>
            <p:nvPr/>
          </p:nvSpPr>
          <p:spPr>
            <a:xfrm>
              <a:off x="6311160" y="4734360"/>
              <a:ext cx="778320" cy="1274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3" name="Line 6"/>
            <p:cNvSpPr/>
            <p:nvPr/>
          </p:nvSpPr>
          <p:spPr>
            <a:xfrm flipH="1">
              <a:off x="4554360" y="4857120"/>
              <a:ext cx="136620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4" name="Line 7"/>
            <p:cNvSpPr/>
            <p:nvPr/>
          </p:nvSpPr>
          <p:spPr>
            <a:xfrm flipH="1">
              <a:off x="2157120" y="5316120"/>
              <a:ext cx="166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5" name="Line 8"/>
            <p:cNvSpPr/>
            <p:nvPr/>
          </p:nvSpPr>
          <p:spPr>
            <a:xfrm flipH="1" flipV="1">
              <a:off x="3144960" y="3949200"/>
              <a:ext cx="616320" cy="1209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6" name="Line 9"/>
            <p:cNvSpPr/>
            <p:nvPr/>
          </p:nvSpPr>
          <p:spPr>
            <a:xfrm flipV="1">
              <a:off x="3534120" y="3543120"/>
              <a:ext cx="152172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27" name="Line 10"/>
            <p:cNvSpPr/>
            <p:nvPr/>
          </p:nvSpPr>
          <p:spPr>
            <a:xfrm>
              <a:off x="4334760" y="2777040"/>
              <a:ext cx="1005840" cy="688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28" name="Group 11"/>
            <p:cNvGrpSpPr/>
            <p:nvPr/>
          </p:nvGrpSpPr>
          <p:grpSpPr>
            <a:xfrm>
              <a:off x="3306960" y="2416320"/>
              <a:ext cx="1139040" cy="439920"/>
              <a:chOff x="3306960" y="2416320"/>
              <a:chExt cx="1139040" cy="439920"/>
            </a:xfrm>
          </p:grpSpPr>
          <p:sp>
            <p:nvSpPr>
              <p:cNvPr id="429" name="Oval 12"/>
              <p:cNvSpPr/>
              <p:nvPr/>
            </p:nvSpPr>
            <p:spPr>
              <a:xfrm>
                <a:off x="3317400" y="2640240"/>
                <a:ext cx="1128600" cy="2160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30" name="Line 13"/>
              <p:cNvSpPr/>
              <p:nvPr/>
            </p:nvSpPr>
            <p:spPr>
              <a:xfrm>
                <a:off x="3317400" y="262152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31" name="Line 14"/>
              <p:cNvSpPr/>
              <p:nvPr/>
            </p:nvSpPr>
            <p:spPr>
              <a:xfrm>
                <a:off x="4446000" y="262152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32" name="Rectangle 15"/>
              <p:cNvSpPr/>
              <p:nvPr/>
            </p:nvSpPr>
            <p:spPr>
              <a:xfrm>
                <a:off x="3317400" y="2621520"/>
                <a:ext cx="1117800" cy="130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33" name="Oval 16"/>
              <p:cNvSpPr/>
              <p:nvPr/>
            </p:nvSpPr>
            <p:spPr>
              <a:xfrm>
                <a:off x="3306960" y="2463840"/>
                <a:ext cx="1128600" cy="2538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434" name="Group 17"/>
              <p:cNvGrpSpPr/>
              <p:nvPr/>
            </p:nvGrpSpPr>
            <p:grpSpPr>
              <a:xfrm>
                <a:off x="3483360" y="2416320"/>
                <a:ext cx="756360" cy="434160"/>
                <a:chOff x="3483360" y="2416320"/>
                <a:chExt cx="756360" cy="434160"/>
              </a:xfrm>
            </p:grpSpPr>
            <p:sp>
              <p:nvSpPr>
                <p:cNvPr id="435" name="Rectangle 18"/>
                <p:cNvSpPr/>
                <p:nvPr/>
              </p:nvSpPr>
              <p:spPr>
                <a:xfrm>
                  <a:off x="3593520" y="2498400"/>
                  <a:ext cx="511560" cy="3520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36" name="Text Box 19"/>
                <p:cNvSpPr/>
                <p:nvPr/>
              </p:nvSpPr>
              <p:spPr>
                <a:xfrm>
                  <a:off x="3483360" y="2416320"/>
                  <a:ext cx="756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endParaRPr b="1" lang="en-US" sz="16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grpSp>
          <p:nvGrpSpPr>
            <p:cNvPr id="437" name="Group 20"/>
            <p:cNvGrpSpPr/>
            <p:nvPr/>
          </p:nvGrpSpPr>
          <p:grpSpPr>
            <a:xfrm>
              <a:off x="4922640" y="3271320"/>
              <a:ext cx="1138320" cy="439200"/>
              <a:chOff x="4922640" y="3271320"/>
              <a:chExt cx="1138320" cy="439200"/>
            </a:xfrm>
          </p:grpSpPr>
          <p:sp>
            <p:nvSpPr>
              <p:cNvPr id="438" name="Oval 21"/>
              <p:cNvSpPr/>
              <p:nvPr/>
            </p:nvSpPr>
            <p:spPr>
              <a:xfrm>
                <a:off x="4933080" y="3494880"/>
                <a:ext cx="1127880" cy="215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39" name="Line 22"/>
              <p:cNvSpPr/>
              <p:nvPr/>
            </p:nvSpPr>
            <p:spPr>
              <a:xfrm>
                <a:off x="4933080" y="347616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40" name="Line 23"/>
              <p:cNvSpPr/>
              <p:nvPr/>
            </p:nvSpPr>
            <p:spPr>
              <a:xfrm>
                <a:off x="6060960" y="347616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41" name="Rectangle 24"/>
              <p:cNvSpPr/>
              <p:nvPr/>
            </p:nvSpPr>
            <p:spPr>
              <a:xfrm>
                <a:off x="4933080" y="3476160"/>
                <a:ext cx="1117080" cy="130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42" name="Oval 25"/>
              <p:cNvSpPr/>
              <p:nvPr/>
            </p:nvSpPr>
            <p:spPr>
              <a:xfrm>
                <a:off x="4922640" y="3318840"/>
                <a:ext cx="1127880" cy="2530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443" name="Group 26"/>
              <p:cNvGrpSpPr/>
              <p:nvPr/>
            </p:nvGrpSpPr>
            <p:grpSpPr>
              <a:xfrm>
                <a:off x="5120280" y="3271320"/>
                <a:ext cx="709560" cy="433800"/>
                <a:chOff x="5120280" y="3271320"/>
                <a:chExt cx="709560" cy="433800"/>
              </a:xfrm>
            </p:grpSpPr>
            <p:sp>
              <p:nvSpPr>
                <p:cNvPr id="444" name="Rectangle 27"/>
                <p:cNvSpPr/>
                <p:nvPr/>
              </p:nvSpPr>
              <p:spPr>
                <a:xfrm>
                  <a:off x="5208840" y="3353400"/>
                  <a:ext cx="511560" cy="3517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45" name="Text Box 28"/>
                <p:cNvSpPr/>
                <p:nvPr/>
              </p:nvSpPr>
              <p:spPr>
                <a:xfrm>
                  <a:off x="5120280" y="3271320"/>
                  <a:ext cx="7095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B</a:t>
                  </a:r>
                  <a:endParaRPr b="1" lang="en-US" sz="16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grpSp>
          <p:nvGrpSpPr>
            <p:cNvPr id="446" name="Group 29"/>
            <p:cNvGrpSpPr/>
            <p:nvPr/>
          </p:nvGrpSpPr>
          <p:grpSpPr>
            <a:xfrm>
              <a:off x="6631920" y="5807880"/>
              <a:ext cx="1139040" cy="439200"/>
              <a:chOff x="6631920" y="5807880"/>
              <a:chExt cx="1139040" cy="439200"/>
            </a:xfrm>
          </p:grpSpPr>
          <p:sp>
            <p:nvSpPr>
              <p:cNvPr id="447" name="Oval 30"/>
              <p:cNvSpPr/>
              <p:nvPr/>
            </p:nvSpPr>
            <p:spPr>
              <a:xfrm>
                <a:off x="6642360" y="6031440"/>
                <a:ext cx="1128600" cy="215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48" name="Line 31"/>
              <p:cNvSpPr/>
              <p:nvPr/>
            </p:nvSpPr>
            <p:spPr>
              <a:xfrm>
                <a:off x="6642360" y="601272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49" name="Line 32"/>
              <p:cNvSpPr/>
              <p:nvPr/>
            </p:nvSpPr>
            <p:spPr>
              <a:xfrm>
                <a:off x="7770960" y="601272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50" name="Rectangle 33"/>
              <p:cNvSpPr/>
              <p:nvPr/>
            </p:nvSpPr>
            <p:spPr>
              <a:xfrm>
                <a:off x="6642360" y="6012720"/>
                <a:ext cx="1117800" cy="130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51" name="Oval 34"/>
              <p:cNvSpPr/>
              <p:nvPr/>
            </p:nvSpPr>
            <p:spPr>
              <a:xfrm>
                <a:off x="6631920" y="5855400"/>
                <a:ext cx="1128600" cy="2530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452" name="Group 35"/>
              <p:cNvGrpSpPr/>
              <p:nvPr/>
            </p:nvGrpSpPr>
            <p:grpSpPr>
              <a:xfrm>
                <a:off x="6819120" y="5807880"/>
                <a:ext cx="731160" cy="433800"/>
                <a:chOff x="6819120" y="5807880"/>
                <a:chExt cx="731160" cy="433800"/>
              </a:xfrm>
            </p:grpSpPr>
            <p:sp>
              <p:nvSpPr>
                <p:cNvPr id="453" name="Rectangle 36"/>
                <p:cNvSpPr/>
                <p:nvPr/>
              </p:nvSpPr>
              <p:spPr>
                <a:xfrm>
                  <a:off x="6918840" y="5889960"/>
                  <a:ext cx="510840" cy="3517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54" name="Text Box 37"/>
                <p:cNvSpPr/>
                <p:nvPr/>
              </p:nvSpPr>
              <p:spPr>
                <a:xfrm>
                  <a:off x="6819120" y="5807880"/>
                  <a:ext cx="731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G</a:t>
                  </a:r>
                  <a:endParaRPr b="1" lang="en-US" sz="16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grpSp>
          <p:nvGrpSpPr>
            <p:cNvPr id="455" name="Group 38"/>
            <p:cNvGrpSpPr/>
            <p:nvPr/>
          </p:nvGrpSpPr>
          <p:grpSpPr>
            <a:xfrm>
              <a:off x="5867280" y="4584600"/>
              <a:ext cx="1139040" cy="439920"/>
              <a:chOff x="5867280" y="4584600"/>
              <a:chExt cx="1139040" cy="439920"/>
            </a:xfrm>
          </p:grpSpPr>
          <p:sp>
            <p:nvSpPr>
              <p:cNvPr id="456" name="Oval 39"/>
              <p:cNvSpPr/>
              <p:nvPr/>
            </p:nvSpPr>
            <p:spPr>
              <a:xfrm>
                <a:off x="5877720" y="4808520"/>
                <a:ext cx="1128600" cy="2160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57" name="Line 40"/>
              <p:cNvSpPr/>
              <p:nvPr/>
            </p:nvSpPr>
            <p:spPr>
              <a:xfrm>
                <a:off x="5877720" y="478980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58" name="Line 41"/>
              <p:cNvSpPr/>
              <p:nvPr/>
            </p:nvSpPr>
            <p:spPr>
              <a:xfrm>
                <a:off x="7006320" y="478980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59" name="Rectangle 42"/>
              <p:cNvSpPr/>
              <p:nvPr/>
            </p:nvSpPr>
            <p:spPr>
              <a:xfrm>
                <a:off x="5877720" y="4789800"/>
                <a:ext cx="1117800" cy="130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60" name="Oval 43"/>
              <p:cNvSpPr/>
              <p:nvPr/>
            </p:nvSpPr>
            <p:spPr>
              <a:xfrm>
                <a:off x="5867280" y="4632120"/>
                <a:ext cx="1128600" cy="2538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461" name="Group 44"/>
              <p:cNvGrpSpPr/>
              <p:nvPr/>
            </p:nvGrpSpPr>
            <p:grpSpPr>
              <a:xfrm>
                <a:off x="6046920" y="4584600"/>
                <a:ext cx="749880" cy="434160"/>
                <a:chOff x="6046920" y="4584600"/>
                <a:chExt cx="749880" cy="434160"/>
              </a:xfrm>
            </p:grpSpPr>
            <p:sp>
              <p:nvSpPr>
                <p:cNvPr id="462" name="Rectangle 45"/>
                <p:cNvSpPr/>
                <p:nvPr/>
              </p:nvSpPr>
              <p:spPr>
                <a:xfrm>
                  <a:off x="6153120" y="4666680"/>
                  <a:ext cx="511920" cy="3520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63" name="Text Box 46"/>
                <p:cNvSpPr/>
                <p:nvPr/>
              </p:nvSpPr>
              <p:spPr>
                <a:xfrm>
                  <a:off x="6046920" y="4584600"/>
                  <a:ext cx="749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D</a:t>
                  </a:r>
                  <a:endParaRPr b="1" lang="en-US" sz="16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grpSp>
          <p:nvGrpSpPr>
            <p:cNvPr id="464" name="Group 47"/>
            <p:cNvGrpSpPr/>
            <p:nvPr/>
          </p:nvGrpSpPr>
          <p:grpSpPr>
            <a:xfrm>
              <a:off x="3480120" y="5025600"/>
              <a:ext cx="1138320" cy="439200"/>
              <a:chOff x="3480120" y="5025600"/>
              <a:chExt cx="1138320" cy="439200"/>
            </a:xfrm>
          </p:grpSpPr>
          <p:sp>
            <p:nvSpPr>
              <p:cNvPr id="465" name="Oval 48"/>
              <p:cNvSpPr/>
              <p:nvPr/>
            </p:nvSpPr>
            <p:spPr>
              <a:xfrm>
                <a:off x="3490560" y="5249160"/>
                <a:ext cx="1127880" cy="215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66" name="Line 49"/>
              <p:cNvSpPr/>
              <p:nvPr/>
            </p:nvSpPr>
            <p:spPr>
              <a:xfrm>
                <a:off x="3490560" y="523044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67" name="Line 50"/>
              <p:cNvSpPr/>
              <p:nvPr/>
            </p:nvSpPr>
            <p:spPr>
              <a:xfrm>
                <a:off x="4618440" y="523044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68" name="Rectangle 51"/>
              <p:cNvSpPr/>
              <p:nvPr/>
            </p:nvSpPr>
            <p:spPr>
              <a:xfrm>
                <a:off x="3490560" y="5230440"/>
                <a:ext cx="1117080" cy="130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69" name="Oval 52"/>
              <p:cNvSpPr/>
              <p:nvPr/>
            </p:nvSpPr>
            <p:spPr>
              <a:xfrm>
                <a:off x="3480120" y="5073120"/>
                <a:ext cx="1127880" cy="2530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470" name="Group 53"/>
              <p:cNvGrpSpPr/>
              <p:nvPr/>
            </p:nvGrpSpPr>
            <p:grpSpPr>
              <a:xfrm>
                <a:off x="3677760" y="5025600"/>
                <a:ext cx="709560" cy="433800"/>
                <a:chOff x="3677760" y="5025600"/>
                <a:chExt cx="709560" cy="433800"/>
              </a:xfrm>
            </p:grpSpPr>
            <p:sp>
              <p:nvSpPr>
                <p:cNvPr id="471" name="Rectangle 54"/>
                <p:cNvSpPr/>
                <p:nvPr/>
              </p:nvSpPr>
              <p:spPr>
                <a:xfrm>
                  <a:off x="3766320" y="5107680"/>
                  <a:ext cx="511560" cy="3517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72" name="Text Box 55"/>
                <p:cNvSpPr/>
                <p:nvPr/>
              </p:nvSpPr>
              <p:spPr>
                <a:xfrm>
                  <a:off x="3677760" y="5025600"/>
                  <a:ext cx="7095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E</a:t>
                  </a:r>
                  <a:endParaRPr b="1" lang="en-US" sz="16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473" name="Line 56"/>
            <p:cNvSpPr/>
            <p:nvPr/>
          </p:nvSpPr>
          <p:spPr>
            <a:xfrm flipH="1">
              <a:off x="2134800" y="2881080"/>
              <a:ext cx="1532160" cy="2330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grpSp>
          <p:nvGrpSpPr>
            <p:cNvPr id="474" name="Group 57"/>
            <p:cNvGrpSpPr/>
            <p:nvPr/>
          </p:nvGrpSpPr>
          <p:grpSpPr>
            <a:xfrm>
              <a:off x="2498760" y="3597120"/>
              <a:ext cx="1139040" cy="439200"/>
              <a:chOff x="2498760" y="3597120"/>
              <a:chExt cx="1139040" cy="439200"/>
            </a:xfrm>
          </p:grpSpPr>
          <p:sp>
            <p:nvSpPr>
              <p:cNvPr id="475" name="Oval 58"/>
              <p:cNvSpPr/>
              <p:nvPr/>
            </p:nvSpPr>
            <p:spPr>
              <a:xfrm>
                <a:off x="2509200" y="3820680"/>
                <a:ext cx="1128600" cy="215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76" name="Line 59"/>
              <p:cNvSpPr/>
              <p:nvPr/>
            </p:nvSpPr>
            <p:spPr>
              <a:xfrm>
                <a:off x="2509200" y="380196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77" name="Line 60"/>
              <p:cNvSpPr/>
              <p:nvPr/>
            </p:nvSpPr>
            <p:spPr>
              <a:xfrm>
                <a:off x="3637800" y="380196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78" name="Rectangle 61"/>
              <p:cNvSpPr/>
              <p:nvPr/>
            </p:nvSpPr>
            <p:spPr>
              <a:xfrm>
                <a:off x="2509200" y="3801960"/>
                <a:ext cx="1117800" cy="130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79" name="Oval 62"/>
              <p:cNvSpPr/>
              <p:nvPr/>
            </p:nvSpPr>
            <p:spPr>
              <a:xfrm>
                <a:off x="2498760" y="3644640"/>
                <a:ext cx="1128600" cy="2530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480" name="Group 63"/>
              <p:cNvGrpSpPr/>
              <p:nvPr/>
            </p:nvGrpSpPr>
            <p:grpSpPr>
              <a:xfrm>
                <a:off x="2721960" y="3597120"/>
                <a:ext cx="655920" cy="433800"/>
                <a:chOff x="2721960" y="3597120"/>
                <a:chExt cx="655920" cy="433800"/>
              </a:xfrm>
            </p:grpSpPr>
            <p:sp>
              <p:nvSpPr>
                <p:cNvPr id="481" name="Rectangle 64"/>
                <p:cNvSpPr/>
                <p:nvPr/>
              </p:nvSpPr>
              <p:spPr>
                <a:xfrm>
                  <a:off x="2786040" y="3679200"/>
                  <a:ext cx="510480" cy="3517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82" name="Text Box 65"/>
                <p:cNvSpPr/>
                <p:nvPr/>
              </p:nvSpPr>
              <p:spPr>
                <a:xfrm>
                  <a:off x="2721960" y="3597120"/>
                  <a:ext cx="655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1" lang="en-US" sz="16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grpSp>
          <p:nvGrpSpPr>
            <p:cNvPr id="483" name="Group 66"/>
            <p:cNvGrpSpPr/>
            <p:nvPr/>
          </p:nvGrpSpPr>
          <p:grpSpPr>
            <a:xfrm>
              <a:off x="1295280" y="5035680"/>
              <a:ext cx="1138320" cy="439920"/>
              <a:chOff x="1295280" y="5035680"/>
              <a:chExt cx="1138320" cy="439920"/>
            </a:xfrm>
          </p:grpSpPr>
          <p:sp>
            <p:nvSpPr>
              <p:cNvPr id="484" name="Oval 67"/>
              <p:cNvSpPr/>
              <p:nvPr/>
            </p:nvSpPr>
            <p:spPr>
              <a:xfrm>
                <a:off x="1305720" y="5259600"/>
                <a:ext cx="1127880" cy="2160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5" name="Line 68"/>
              <p:cNvSpPr/>
              <p:nvPr/>
            </p:nvSpPr>
            <p:spPr>
              <a:xfrm>
                <a:off x="1305720" y="524088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6" name="Line 69"/>
              <p:cNvSpPr/>
              <p:nvPr/>
            </p:nvSpPr>
            <p:spPr>
              <a:xfrm>
                <a:off x="2433600" y="5240880"/>
                <a:ext cx="0" cy="13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7" name="Rectangle 70"/>
              <p:cNvSpPr/>
              <p:nvPr/>
            </p:nvSpPr>
            <p:spPr>
              <a:xfrm>
                <a:off x="1305720" y="5240880"/>
                <a:ext cx="1117080" cy="130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488" name="Oval 71"/>
              <p:cNvSpPr/>
              <p:nvPr/>
            </p:nvSpPr>
            <p:spPr>
              <a:xfrm>
                <a:off x="1295280" y="5083200"/>
                <a:ext cx="1127880" cy="2538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grpSp>
            <p:nvGrpSpPr>
              <p:cNvPr id="489" name="Group 72"/>
              <p:cNvGrpSpPr/>
              <p:nvPr/>
            </p:nvGrpSpPr>
            <p:grpSpPr>
              <a:xfrm>
                <a:off x="1496880" y="5035680"/>
                <a:ext cx="698040" cy="434160"/>
                <a:chOff x="1496880" y="5035680"/>
                <a:chExt cx="698040" cy="434160"/>
              </a:xfrm>
            </p:grpSpPr>
            <p:sp>
              <p:nvSpPr>
                <p:cNvPr id="490" name="Rectangle 73"/>
                <p:cNvSpPr/>
                <p:nvPr/>
              </p:nvSpPr>
              <p:spPr>
                <a:xfrm>
                  <a:off x="1581840" y="5117760"/>
                  <a:ext cx="510120" cy="3520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  <p:sp>
              <p:nvSpPr>
                <p:cNvPr id="491" name="Text Box 74"/>
                <p:cNvSpPr/>
                <p:nvPr/>
              </p:nvSpPr>
              <p:spPr>
                <a:xfrm>
                  <a:off x="1496880" y="5035680"/>
                  <a:ext cx="698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1" lang="en-US" sz="1600" spc="-1" strike="noStrike">
                    <a:solidFill>
                      <a:srgbClr val="000000"/>
                    </a:solidFill>
                    <a:latin typeface="Courier New"/>
                  </a:endParaRPr>
                </a:p>
              </p:txBody>
            </p:sp>
          </p:grpSp>
        </p:grpSp>
        <p:sp>
          <p:nvSpPr>
            <p:cNvPr id="492" name="Line 75"/>
            <p:cNvSpPr/>
            <p:nvPr/>
          </p:nvSpPr>
          <p:spPr>
            <a:xfrm flipH="1">
              <a:off x="3022200" y="2913480"/>
              <a:ext cx="363600" cy="6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3" name="Line 76"/>
            <p:cNvSpPr/>
            <p:nvPr/>
          </p:nvSpPr>
          <p:spPr>
            <a:xfrm flipH="1">
              <a:off x="2157120" y="4216320"/>
              <a:ext cx="363600" cy="6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4" name="Line 77"/>
            <p:cNvSpPr/>
            <p:nvPr/>
          </p:nvSpPr>
          <p:spPr>
            <a:xfrm>
              <a:off x="4539960" y="2726280"/>
              <a:ext cx="645840" cy="49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5" name="Line 78"/>
            <p:cNvSpPr/>
            <p:nvPr/>
          </p:nvSpPr>
          <p:spPr>
            <a:xfrm>
              <a:off x="5853240" y="3775680"/>
              <a:ext cx="511560" cy="74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6" name="Line 79"/>
            <p:cNvSpPr/>
            <p:nvPr/>
          </p:nvSpPr>
          <p:spPr>
            <a:xfrm>
              <a:off x="6761880" y="5132160"/>
              <a:ext cx="403920" cy="59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7" name="Line 80"/>
            <p:cNvSpPr/>
            <p:nvPr/>
          </p:nvSpPr>
          <p:spPr>
            <a:xfrm>
              <a:off x="3472920" y="4184280"/>
              <a:ext cx="393120" cy="70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pic>
        <p:nvPicPr>
          <p:cNvPr id="498" name="Picture 4" descr=""/>
          <p:cNvPicPr/>
          <p:nvPr/>
        </p:nvPicPr>
        <p:blipFill>
          <a:blip r:embed="rId1"/>
          <a:stretch/>
        </p:blipFill>
        <p:spPr>
          <a:xfrm>
            <a:off x="1523880" y="5649840"/>
            <a:ext cx="685800" cy="11318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"/>
          <p:cNvPicPr/>
          <p:nvPr/>
        </p:nvPicPr>
        <p:blipFill>
          <a:blip r:embed="rId2"/>
          <a:stretch/>
        </p:blipFill>
        <p:spPr>
          <a:xfrm>
            <a:off x="3809880" y="5649840"/>
            <a:ext cx="685800" cy="11318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" descr=""/>
          <p:cNvPicPr/>
          <p:nvPr/>
        </p:nvPicPr>
        <p:blipFill>
          <a:blip r:embed="rId3"/>
          <a:stretch/>
        </p:blipFill>
        <p:spPr>
          <a:xfrm>
            <a:off x="5715000" y="5649840"/>
            <a:ext cx="685800" cy="1131840"/>
          </a:xfrm>
          <a:prstGeom prst="rect">
            <a:avLst/>
          </a:prstGeom>
          <a:ln w="0">
            <a:noFill/>
          </a:ln>
        </p:spPr>
      </p:pic>
      <p:sp>
        <p:nvSpPr>
          <p:cNvPr id="501" name="Straight Connector 85"/>
          <p:cNvSpPr/>
          <p:nvPr/>
        </p:nvSpPr>
        <p:spPr>
          <a:xfrm>
            <a:off x="1869480" y="5477040"/>
            <a:ext cx="34920" cy="3142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2" name="Straight Connector 86"/>
          <p:cNvSpPr/>
          <p:nvPr/>
        </p:nvSpPr>
        <p:spPr>
          <a:xfrm>
            <a:off x="4114080" y="5486400"/>
            <a:ext cx="34920" cy="3142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3" name="Straight Connector 87"/>
          <p:cNvSpPr/>
          <p:nvPr/>
        </p:nvSpPr>
        <p:spPr>
          <a:xfrm flipH="1">
            <a:off x="6172200" y="6078600"/>
            <a:ext cx="471600" cy="1699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4" name="Lightning Bolt 88"/>
          <p:cNvSpPr/>
          <p:nvPr/>
        </p:nvSpPr>
        <p:spPr>
          <a:xfrm>
            <a:off x="2819520" y="2819520"/>
            <a:ext cx="914400" cy="76176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hallenges for Reliable Multicas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nd an ACK, much like TCP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K-implosion if all destinations ACK at o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rce does not know # of desti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ow to retransmit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all?  One bad link effects entire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where losses?  Loss near sender makes retransmission as inefficient as replicated unic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gative acknowledgments more comm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FB6F-CC4B-4F2F-A695-CDDBAED0AEF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Scalable Reliable Multicast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ata packets sent via IP multicas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includes sequence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pon packet failur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failures relatively rare, use Negative ACKs (NAKs) instead: “Did not receive expected packe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er issues heartbeats if no real traffic.  Receiver knows when to expect (and thus NAK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44F3-197E-494E-A027-60AEF2A73C4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Handling Failure in SRM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ceiver multicasts a NAK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send NAK to sender, who multicasts confi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cale through NAK suppress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received a NAK or NCF, don’t NAK your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random delays before NAK’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pair through packet retransmiss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initial sen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designated local repair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4C5F-D5DC-4CB0-A665-D29F7C4B9CE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4732-C11C-4D20-BF25-10E18559BBF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Digital audio and video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ly popular media on 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deo on demand, VoIP, online gaming, IPTV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any challen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st-effort network vs. real-time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cast routing vs. multi-party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riday’s precep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shing and partitioning to balance 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gital Audio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ampling the analog signa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ple at some fixed ra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sample is an arbitrary real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Quantizing each samp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nd each sample to one of a finite # of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 each sample in a fixed number of b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D1F4-6F14-43A4-8896-A74F45F09D9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38" name="Picture 4" descr="250px-Pcm"/>
          <p:cNvPicPr/>
          <p:nvPr/>
        </p:nvPicPr>
        <p:blipFill>
          <a:blip r:embed="rId1"/>
          <a:stretch/>
        </p:blipFill>
        <p:spPr>
          <a:xfrm>
            <a:off x="923760" y="4284720"/>
            <a:ext cx="4724640" cy="24969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5455440" y="5195880"/>
            <a:ext cx="322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 bit representa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values 0-15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udio Exampl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peec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pling rate: 8000 samples/sec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ple size: 8 bits per s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e: 64 kb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EEE6-F4D4-4F5C-9E03-FDF15B1CB24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43" name="Picture 5" descr="MCj04043450000[1]"/>
          <p:cNvPicPr/>
          <p:nvPr/>
        </p:nvPicPr>
        <p:blipFill>
          <a:blip r:embed="rId1"/>
          <a:stretch/>
        </p:blipFill>
        <p:spPr>
          <a:xfrm>
            <a:off x="654120" y="3889440"/>
            <a:ext cx="1816200" cy="1841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MMj02970250000[1]"/>
          <p:cNvPicPr/>
          <p:nvPr/>
        </p:nvPicPr>
        <p:blipFill>
          <a:blip r:embed="rId2"/>
          <a:stretch/>
        </p:blipFill>
        <p:spPr>
          <a:xfrm>
            <a:off x="6261120" y="1816200"/>
            <a:ext cx="2478240" cy="2120760"/>
          </a:xfrm>
          <a:prstGeom prst="rect">
            <a:avLst/>
          </a:prstGeom>
          <a:ln w="0">
            <a:noFill/>
          </a:ln>
        </p:spPr>
      </p:pic>
      <p:sp>
        <p:nvSpPr>
          <p:cNvPr id="145" name="Content Placeholder 2"/>
          <p:cNvSpPr/>
          <p:nvPr/>
        </p:nvSpPr>
        <p:spPr>
          <a:xfrm>
            <a:off x="3048120" y="3962520"/>
            <a:ext cx="70866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  <a:ea typeface="ＭＳ Ｐゴシック"/>
              </a:rPr>
              <a:t>Compact Disc (CD)</a:t>
            </a:r>
            <a:endParaRPr b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mpling rate: 44,100 samples/sec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mple size: 16 bits per sample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ate: 705.6 kbps for mono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1.411 Mbps for stereo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8022-8D9D-41C4-B091-D443735BB9B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Audio Compression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udio data requires too much bandwidth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ech: 64 kbps is too high for some conn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reo music: 1.411 Mbps exceeds most access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mpression to reduce the siz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ve redundancy, and details user don’t perce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xample audio forma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ech: GSM (13 kbps), G.729 (8 kbps), and G.723.3 (6.4 and 5.3 kbp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reo music: MPEG 1 layer 3 (MP3) at 96 kbps, 128 kbps, and 160 kb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499B-528A-4CA8-8291-56C0E516621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Digital Video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ampling the analog signa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ple images at fixed rate (e.g., 30 times per se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Quantizing each samp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ing an image as array of picture el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pixel is a mix of colors (red, green, and bl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24 bits, with 8 bits per co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4" descr="A Representation of additive color mixing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415908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3"/>
          <a:srcRect l="49848" t="0" r="0" b="18367"/>
          <a:stretch/>
        </p:blipFill>
        <p:spPr>
          <a:xfrm>
            <a:off x="615960" y="4465800"/>
            <a:ext cx="230508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Video Compression: Within Image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90676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mage compress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oit spatial redundancy (e.g., regions of same colo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oit aspects humans tend not to no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mmon image compression forma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Pictures Expert Group (JPE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phical Interchange Format (GI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B60D-D807-4C90-BA43-CB7534FE0DE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0" y="4273560"/>
            <a:ext cx="9144000" cy="2573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58" name="Picture 5" descr="trainingno"/>
          <p:cNvPicPr/>
          <p:nvPr/>
        </p:nvPicPr>
        <p:blipFill>
          <a:blip r:embed="rId1"/>
          <a:srcRect l="0" t="0" r="41150" b="47959"/>
          <a:stretch/>
        </p:blipFill>
        <p:spPr>
          <a:xfrm>
            <a:off x="168120" y="4540320"/>
            <a:ext cx="2880000" cy="1739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training99"/>
          <p:cNvPicPr/>
          <p:nvPr/>
        </p:nvPicPr>
        <p:blipFill>
          <a:blip r:embed="rId2"/>
          <a:srcRect l="0" t="0" r="40714" b="47959"/>
          <a:stretch/>
        </p:blipFill>
        <p:spPr>
          <a:xfrm>
            <a:off x="6095880" y="4541760"/>
            <a:ext cx="2897280" cy="1736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training50"/>
          <p:cNvPicPr/>
          <p:nvPr/>
        </p:nvPicPr>
        <p:blipFill>
          <a:blip r:embed="rId3"/>
          <a:srcRect l="0" t="0" r="41150" b="47959"/>
          <a:stretch/>
        </p:blipFill>
        <p:spPr>
          <a:xfrm>
            <a:off x="3143160" y="4540320"/>
            <a:ext cx="2879640" cy="17398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8"/>
          <p:cNvSpPr/>
          <p:nvPr/>
        </p:nvSpPr>
        <p:spPr>
          <a:xfrm>
            <a:off x="18360" y="6367320"/>
            <a:ext cx="32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compressed: 167 KB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3069720" y="636732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ood quality: 46 KB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6143040" y="636732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or quality: 9 KB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90"/>
                </a:solidFill>
                <a:latin typeface="Calibri"/>
              </a:rPr>
              <a:t>Video Compression: Across Images</a:t>
            </a:r>
            <a:endParaRPr b="0" lang="en-US" sz="4400" spc="-1" strike="noStrike">
              <a:solidFill>
                <a:srgbClr val="00009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mpression across imag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oit temporal redundancy across im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mmon video compression forma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EG 1: CD-ROM quality video (1.5 Mbp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PEG 2: high-quality DVD video (3-6 Mbp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66B2-2D99-4B8B-B827-506385E05BC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67" name="Picture 11" descr=""/>
          <p:cNvPicPr/>
          <p:nvPr/>
        </p:nvPicPr>
        <p:blipFill>
          <a:blip r:embed="rId1">
            <a:biLevel thresh="50000"/>
            <a:alphaModFix amt="50000"/>
          </a:blip>
          <a:srcRect l="19076" t="43389" r="14593" b="44893"/>
          <a:stretch/>
        </p:blipFill>
        <p:spPr>
          <a:xfrm>
            <a:off x="415800" y="4081320"/>
            <a:ext cx="8534520" cy="258768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12"/>
          <p:cNvGrpSpPr/>
          <p:nvPr/>
        </p:nvGrpSpPr>
        <p:grpSpPr>
          <a:xfrm>
            <a:off x="492120" y="5529240"/>
            <a:ext cx="6552720" cy="1066680"/>
            <a:chOff x="492120" y="5529240"/>
            <a:chExt cx="6552720" cy="1066680"/>
          </a:xfrm>
        </p:grpSpPr>
        <p:sp>
          <p:nvSpPr>
            <p:cNvPr id="169" name="Oval 13"/>
            <p:cNvSpPr/>
            <p:nvPr/>
          </p:nvSpPr>
          <p:spPr>
            <a:xfrm>
              <a:off x="492120" y="5529240"/>
              <a:ext cx="1142640" cy="99036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70" name="Oval 14"/>
            <p:cNvSpPr/>
            <p:nvPr/>
          </p:nvSpPr>
          <p:spPr>
            <a:xfrm>
              <a:off x="3311280" y="5529240"/>
              <a:ext cx="1142640" cy="99036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71" name="Oval 15"/>
            <p:cNvSpPr/>
            <p:nvPr/>
          </p:nvSpPr>
          <p:spPr>
            <a:xfrm>
              <a:off x="5902200" y="5605200"/>
              <a:ext cx="1142640" cy="99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2:32:15Z</dcterms:created>
  <dc:creator>Kai Li</dc:creator>
  <dc:description/>
  <dc:language>en-US</dc:language>
  <cp:lastModifiedBy>Jennifer Rexford</cp:lastModifiedBy>
  <dcterms:modified xsi:type="dcterms:W3CDTF">2012-03-28T04:15:03Z</dcterms:modified>
  <cp:revision>1818</cp:revision>
  <dc:subject/>
  <dc:title>Communication</dc:title>
</cp:coreProperties>
</file>