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gif" ContentType="image/gif"/>
  <Override PartName="/ppt/media/image10.png" ContentType="image/png"/>
  <Override PartName="/ppt/media/image15.jpeg" ContentType="image/jpeg"/>
  <Override PartName="/ppt/media/image3.wmf" ContentType="image/x-wmf"/>
  <Override PartName="/ppt/media/image5.png" ContentType="image/png"/>
  <Override PartName="/ppt/media/image8.jpeg" ContentType="image/jpeg"/>
  <Override PartName="/ppt/media/image4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7DB9310-CC28-4C4C-99F9-C3BAD1F3B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FC7BF2-0A83-4754-A87E-0AB3B9CCC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5F62F5-86C9-41B8-8745-14E37D3CE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677C2B-73BC-4315-835E-2399CC6A5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450889-E6D2-4AAA-B636-912CF8BAB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CE3A032-3DD4-42C5-95CC-B67A19399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1F9A8B2-FB57-427E-9B5F-73A66F3B3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207940-0F8E-4035-BA67-14BAA28B7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00EEA55-7AEB-4537-B547-94142FB3B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6C47E0A-17E2-47A2-BBFF-2A7C5AA9B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42994F4-C5A6-45FC-BDFF-0BD714AC0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119035-7DAE-4BB7-850C-8BC3CC504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065754-C4C6-42C7-BF33-52A20D34E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3CC6AB-94C2-4FAF-A071-6ACB311AF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0D4059-D4E0-4850-BC0A-401D8C052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69383C6-B062-49C9-8EE8-8D1CE5B81AE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E1F9C99-36FC-45FF-B405-74E0BFBA1FC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BADAC6-7623-441E-A53B-52F964166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76ED95-CEAA-41A4-8E3B-0227927C9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268A13-7849-488A-8926-95DA15A54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4983D5C-4392-4E27-ADDB-5A0B9F1CB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6FB196C-1798-4C82-9B53-1F26135EB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BFC82D-989D-4F14-AD69-2140A664B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4FCC64A-AC4F-4837-B55F-111CD0A2F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CCF-788B-4F68-82EA-A58FDCF9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EE8-0ACE-4213-AD6B-1D6E022A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E3D-CAF8-4281-8FBD-8EB3BFE7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D6B-68C2-4033-9A0D-F7D7AD65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9BDE4-B891-4914-84CB-AA207E2C14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56E8F-D1B4-4EA9-87FD-D3363D2050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A4BF6-5ABD-4176-A3DA-05BAEBA6E3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766F4-FBEE-4E59-9582-48B7E19018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B97DB-D652-466D-85C7-9788F02A06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8E5A6-8F63-4723-84CD-58B11E2586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CB63A-568D-4824-92B3-7EF8AD68B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CA8-369E-41CC-AA03-596751FC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EA934-C3B2-48A2-8271-893D97631B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08FC3-B537-4DF7-BD3D-30FEBB3C3B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C571A-3267-4C46-893C-7DCE156FDF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5E481-6D14-4BA3-8D53-99777631EC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888E1-7338-4574-8119-81A3C6BB75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A5CDC-965A-449A-BB80-1CD1E46AAF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F3ACF-0FAD-43E2-BA2F-AAFBD85413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E8C62-BE94-485D-9C80-FF4A10B30E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E17A5-3588-4FAB-B163-CAD10E6237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6761C-19DC-43C1-977E-E5602BC78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376-56E1-4DA6-9AFE-94FEBDCD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6C9C8-3513-486B-B5AF-01D032A22C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762C9-7797-4D70-8801-37B1415CFA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FB960-E8A0-4183-B8B0-6073DB52C4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2B0D6-6004-4266-B5B6-806D9F31E2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8782F-B929-411F-BF8A-542B32EB30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F1A99-C45A-4971-94EC-632DDF5CD4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CDBD2-0188-4275-8137-94666603E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D92-6820-44F6-822F-72133967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DEB-0477-4A99-81F8-AF4DB86D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120-EA95-4650-927F-995AFE61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EBA-7831-43D6-A4EA-26CC89E0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6EE-30B8-4BBE-A6C3-595607B9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581-1430-4059-B0F3-BC6F429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09D5-BD20-4CA5-9E16-8BEF4693F0BA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A7F4-0A70-418F-916E-97F9B4608A9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3EC8-A5C4-494B-BF29-ED9CB4611F9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A032-70B7-48E8-BE38-7D275F4E031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dditiveColorMixing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Multimedia Streaming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387E-D010-41A5-B766-A62AFCF6952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reaming Over the Int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ferring Audio and Video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st case: just like any other f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dio and video data stored in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 downloaded using conventional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back does not overlap with data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variety of more interesting scenario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 vs. pre-recorded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ve vs. non-inter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receiver vs. multiple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C649-59AC-4EE8-9AFE-E01A86D164A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reaming Stored Audio and Vide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-server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stores the audio and video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s request files, play them as they download, and perform VCR-like functions (e.g., rewind, pau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ying data at the right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divides the data into se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labels each segment with frame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ing starvation at the cl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must arrive quickly en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74B0-2E33-4580-BD72-B48F2351683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1" name="Picture 6" descr="MCj03223890000[1]"/>
          <p:cNvPicPr/>
          <p:nvPr/>
        </p:nvPicPr>
        <p:blipFill>
          <a:blip r:embed="rId1"/>
          <a:stretch/>
        </p:blipFill>
        <p:spPr>
          <a:xfrm>
            <a:off x="7315200" y="3897360"/>
            <a:ext cx="15462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layout Buf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buff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the data as it arrives from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data for the user in a continuous fash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yout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typically waits a few seconds to start 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llow some data to build up in the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help tolerate some delays down the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22B7-66DB-4FCD-A1D9-258C4504071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846000" y="4427640"/>
            <a:ext cx="7566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fluence of Playout Del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8534520" cy="4906800"/>
          </a:xfrm>
          <a:prstGeom prst="rect">
            <a:avLst/>
          </a:prstGeom>
          <a:ln w="0">
            <a:noFill/>
          </a:ln>
        </p:spPr>
      </p:pic>
      <p:sp>
        <p:nvSpPr>
          <p:cNvPr id="18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266E-5BD6-4C5C-86A3-EC88F2E478D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9" name="Picture 4" descr="631 fixedDelay"/>
          <p:cNvPicPr/>
          <p:nvPr/>
        </p:nvPicPr>
        <p:blipFill>
          <a:blip r:embed="rId2"/>
          <a:stretch/>
        </p:blipFill>
        <p:spPr>
          <a:xfrm>
            <a:off x="0" y="118440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quirements for Data Transpor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mall delay at the beginning is 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tart-up delays of a few seconds are ok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Jit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ility of delay within the same packet str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cannot tolerate high variation if buffer sta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amount of missing data is not disrup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tting lost packet may take too long any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1D2A-525D-45EB-9951-7CB146881DB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621 throughBrowser"/>
          <p:cNvPicPr/>
          <p:nvPr/>
        </p:nvPicPr>
        <p:blipFill>
          <a:blip r:embed="rId1"/>
          <a:stretch/>
        </p:blipFill>
        <p:spPr>
          <a:xfrm>
            <a:off x="5638680" y="4495680"/>
            <a:ext cx="3838680" cy="2140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reaming From Web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stored in a f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dio: an audio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: interleaving of audio and images in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 request-respo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connection between client and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HTTP request and server HTTP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invokes the media p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-type indicates en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 launches media p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 player render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843-043A-4676-B26B-D19C6AD737A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0426-7AF8-40DE-BD5A-E77B6FADA99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itiating Streams from Web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 passing all data through the Web brows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erver returns a meta file describing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 launches media player and passes met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er sets up its own connection to the Web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622 naive streaming"/>
          <p:cNvPicPr/>
          <p:nvPr/>
        </p:nvPicPr>
        <p:blipFill>
          <a:blip r:embed="rId1"/>
          <a:stretch/>
        </p:blipFill>
        <p:spPr>
          <a:xfrm>
            <a:off x="1806480" y="3730680"/>
            <a:ext cx="60516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E9ED-62B0-4BA1-A974-382C57B5FC7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ing a Streaming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ing the use of HTTP (and perhaps TCP, too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erver returns a meta file describing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er requests the data using a different protoc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623 streamServer"/>
          <p:cNvPicPr/>
          <p:nvPr/>
        </p:nvPicPr>
        <p:blipFill>
          <a:blip r:embed="rId1"/>
          <a:stretch/>
        </p:blipFill>
        <p:spPr>
          <a:xfrm>
            <a:off x="1538280" y="3044880"/>
            <a:ext cx="651348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is Not a Good Fi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liable deli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ssion of lost packets may not be use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apting the sending r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ing down after loss may cause starve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tocol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-byte TCP header is large for audio s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King every other packet is a lot of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43E2-734C-4BD4-839E-AE4468F2207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gital Audio and Video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2580-06D8-4887-AB69-EDC143A1E2B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tter Ways of Transporting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Datagram Protocol (UD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utomatic retransmission of lost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utomatic adaptation of sending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packet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DP leaves many things to the 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o transmit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ther to retransmit los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ther to adapt the sending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adapt quality of the audio/video en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91BF-79CB-4921-8F63-0D1DBD01090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covering From Packet Lo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ss is defined in a broader se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a packet arrive in time for playbac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cket that arrives late is as good as l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lective retransmi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retransmission is 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if client has not already started play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an be retransmitted within time constra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uld do Forward Error Correction (FEC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redundant info so receiver can reconstru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9FB1-65E6-4049-B796-A90AA5039B9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YouTube: HTTP, TCP, and Flas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ash video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uploaded videos converted to Flash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ly every browser has a Flash plug-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s need for users to install p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/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ed in every brow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gets through most firew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ep It Simple, Stupi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city more important than video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C8C8-CC93-4040-A0FD-2EF14FAA2C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A88D-F63C-455B-B97F-8C81F9FA79A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active Audio and Vide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or more users interac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phone call, video conference, video g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rict delay constrai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s over 150-200 msec are very notice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s over 400 msec are a disaster for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ch harder than streaming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not introduce much playout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 if network doesn’t guarante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2379-347C-4CF0-8453-D826E07AE89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Quality of Interactive Applic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application can hel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audio compression algorith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error cor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ptation to the available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ultimately the network is a major facto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ropagation del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conges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ruptions during routing chan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A90A-04FD-44EC-A7C6-415EC2037CE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any receiv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ing the same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Application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ga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television (IPT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data f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9A87-5B53-4790-8EA5-1A8F0A230FD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78440" y="2514600"/>
            <a:ext cx="3632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terated Un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icast message to each recip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odifications to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overhead on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ndant packets on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must maintain list of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CC0D-436A-4807-A300-0EAE6483BF9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5179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mbed receiver-driven tree in network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sends a single packet to th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s “join” and “leave” th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overhead on the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s redundant network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-plane protocols for multicast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 of duplicating packets in the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83A-B0DB-4C97-A800-9420A2FA6CB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cast Tre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703E-695C-4470-98A9-2983CFDF9E3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1676520" y="1501920"/>
            <a:ext cx="6475320" cy="3830760"/>
            <a:chOff x="1676520" y="1501920"/>
            <a:chExt cx="6475320" cy="3830760"/>
          </a:xfrm>
        </p:grpSpPr>
        <p:sp>
          <p:nvSpPr>
            <p:cNvPr id="241" name="Line 4"/>
            <p:cNvSpPr/>
            <p:nvPr/>
          </p:nvSpPr>
          <p:spPr>
            <a:xfrm>
              <a:off x="5884200" y="2642040"/>
              <a:ext cx="767520" cy="1140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2" name="Line 5"/>
            <p:cNvSpPr/>
            <p:nvPr/>
          </p:nvSpPr>
          <p:spPr>
            <a:xfrm>
              <a:off x="6692040" y="3819960"/>
              <a:ext cx="778320" cy="127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3" name="Line 6"/>
            <p:cNvSpPr/>
            <p:nvPr/>
          </p:nvSpPr>
          <p:spPr>
            <a:xfrm flipH="1">
              <a:off x="4935240" y="3942720"/>
              <a:ext cx="13662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4" name="Line 7"/>
            <p:cNvSpPr/>
            <p:nvPr/>
          </p:nvSpPr>
          <p:spPr>
            <a:xfrm flipH="1">
              <a:off x="2538000" y="4401720"/>
              <a:ext cx="16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 flipH="1" flipV="1">
              <a:off x="3525840" y="3034800"/>
              <a:ext cx="616320" cy="1209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 flipV="1">
              <a:off x="3915360" y="2628720"/>
              <a:ext cx="1521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4715640" y="1862640"/>
              <a:ext cx="1005480" cy="688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48" name="Group 11"/>
            <p:cNvGrpSpPr/>
            <p:nvPr/>
          </p:nvGrpSpPr>
          <p:grpSpPr>
            <a:xfrm>
              <a:off x="3687840" y="1501920"/>
              <a:ext cx="1139040" cy="439920"/>
              <a:chOff x="3687840" y="1501920"/>
              <a:chExt cx="1139040" cy="439920"/>
            </a:xfrm>
          </p:grpSpPr>
          <p:sp>
            <p:nvSpPr>
              <p:cNvPr id="249" name="Oval 12"/>
              <p:cNvSpPr/>
              <p:nvPr/>
            </p:nvSpPr>
            <p:spPr>
              <a:xfrm>
                <a:off x="3698280" y="1725840"/>
                <a:ext cx="112860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0" name="Line 13"/>
              <p:cNvSpPr/>
              <p:nvPr/>
            </p:nvSpPr>
            <p:spPr>
              <a:xfrm>
                <a:off x="3698280" y="17071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>
                <a:off x="4826880" y="17071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2" name="Rectangle 15"/>
              <p:cNvSpPr/>
              <p:nvPr/>
            </p:nvSpPr>
            <p:spPr>
              <a:xfrm>
                <a:off x="3698280" y="1707120"/>
                <a:ext cx="111780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3687840" y="1549440"/>
                <a:ext cx="112860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54" name="Group 17"/>
              <p:cNvGrpSpPr/>
              <p:nvPr/>
            </p:nvGrpSpPr>
            <p:grpSpPr>
              <a:xfrm>
                <a:off x="3864240" y="1501920"/>
                <a:ext cx="756360" cy="434160"/>
                <a:chOff x="3864240" y="1501920"/>
                <a:chExt cx="756360" cy="434160"/>
              </a:xfrm>
            </p:grpSpPr>
            <p:sp>
              <p:nvSpPr>
                <p:cNvPr id="255" name="Rectangle 18"/>
                <p:cNvSpPr/>
                <p:nvPr/>
              </p:nvSpPr>
              <p:spPr>
                <a:xfrm>
                  <a:off x="3974400" y="1584000"/>
                  <a:ext cx="51156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6" name="Text Box 19"/>
                <p:cNvSpPr/>
                <p:nvPr/>
              </p:nvSpPr>
              <p:spPr>
                <a:xfrm>
                  <a:off x="3864240" y="1501920"/>
                  <a:ext cx="75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257" name="Group 20"/>
            <p:cNvGrpSpPr/>
            <p:nvPr/>
          </p:nvGrpSpPr>
          <p:grpSpPr>
            <a:xfrm>
              <a:off x="5303880" y="2356920"/>
              <a:ext cx="1138320" cy="439200"/>
              <a:chOff x="5303880" y="2356920"/>
              <a:chExt cx="1138320" cy="439200"/>
            </a:xfrm>
          </p:grpSpPr>
          <p:sp>
            <p:nvSpPr>
              <p:cNvPr id="258" name="Oval 21"/>
              <p:cNvSpPr/>
              <p:nvPr/>
            </p:nvSpPr>
            <p:spPr>
              <a:xfrm>
                <a:off x="5314320" y="2580480"/>
                <a:ext cx="112788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9" name="Line 22"/>
              <p:cNvSpPr/>
              <p:nvPr/>
            </p:nvSpPr>
            <p:spPr>
              <a:xfrm>
                <a:off x="5314320" y="25617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0" name="Line 23"/>
              <p:cNvSpPr/>
              <p:nvPr/>
            </p:nvSpPr>
            <p:spPr>
              <a:xfrm>
                <a:off x="6442200" y="25617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1" name="Rectangle 24"/>
              <p:cNvSpPr/>
              <p:nvPr/>
            </p:nvSpPr>
            <p:spPr>
              <a:xfrm>
                <a:off x="5314320" y="2561760"/>
                <a:ext cx="111708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5303880" y="2404440"/>
                <a:ext cx="112788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63" name="Group 26"/>
              <p:cNvGrpSpPr/>
              <p:nvPr/>
            </p:nvGrpSpPr>
            <p:grpSpPr>
              <a:xfrm>
                <a:off x="5501520" y="2356920"/>
                <a:ext cx="709560" cy="433800"/>
                <a:chOff x="5501520" y="2356920"/>
                <a:chExt cx="709560" cy="433800"/>
              </a:xfrm>
            </p:grpSpPr>
            <p:sp>
              <p:nvSpPr>
                <p:cNvPr id="264" name="Rectangle 27"/>
                <p:cNvSpPr/>
                <p:nvPr/>
              </p:nvSpPr>
              <p:spPr>
                <a:xfrm>
                  <a:off x="5590080" y="2439000"/>
                  <a:ext cx="51156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5" name="Text Box 28"/>
                <p:cNvSpPr/>
                <p:nvPr/>
              </p:nvSpPr>
              <p:spPr>
                <a:xfrm>
                  <a:off x="5501520" y="2356920"/>
                  <a:ext cx="70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266" name="Group 29"/>
            <p:cNvGrpSpPr/>
            <p:nvPr/>
          </p:nvGrpSpPr>
          <p:grpSpPr>
            <a:xfrm>
              <a:off x="7012800" y="4893480"/>
              <a:ext cx="1139040" cy="439200"/>
              <a:chOff x="7012800" y="4893480"/>
              <a:chExt cx="1139040" cy="439200"/>
            </a:xfrm>
          </p:grpSpPr>
          <p:sp>
            <p:nvSpPr>
              <p:cNvPr id="267" name="Oval 30"/>
              <p:cNvSpPr/>
              <p:nvPr/>
            </p:nvSpPr>
            <p:spPr>
              <a:xfrm>
                <a:off x="7023240" y="5117040"/>
                <a:ext cx="112860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8" name="Line 31"/>
              <p:cNvSpPr/>
              <p:nvPr/>
            </p:nvSpPr>
            <p:spPr>
              <a:xfrm>
                <a:off x="7023240" y="50983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9" name="Line 32"/>
              <p:cNvSpPr/>
              <p:nvPr/>
            </p:nvSpPr>
            <p:spPr>
              <a:xfrm>
                <a:off x="8151840" y="50983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0" name="Rectangle 33"/>
              <p:cNvSpPr/>
              <p:nvPr/>
            </p:nvSpPr>
            <p:spPr>
              <a:xfrm>
                <a:off x="7023240" y="5098320"/>
                <a:ext cx="111780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7012800" y="4941000"/>
                <a:ext cx="112860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72" name="Group 35"/>
              <p:cNvGrpSpPr/>
              <p:nvPr/>
            </p:nvGrpSpPr>
            <p:grpSpPr>
              <a:xfrm>
                <a:off x="7200000" y="4893480"/>
                <a:ext cx="731160" cy="433800"/>
                <a:chOff x="7200000" y="4893480"/>
                <a:chExt cx="731160" cy="433800"/>
              </a:xfrm>
            </p:grpSpPr>
            <p:sp>
              <p:nvSpPr>
                <p:cNvPr id="273" name="Rectangle 36"/>
                <p:cNvSpPr/>
                <p:nvPr/>
              </p:nvSpPr>
              <p:spPr>
                <a:xfrm>
                  <a:off x="7299720" y="4975560"/>
                  <a:ext cx="51084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4" name="Text Box 37"/>
                <p:cNvSpPr/>
                <p:nvPr/>
              </p:nvSpPr>
              <p:spPr>
                <a:xfrm>
                  <a:off x="7200000" y="4893480"/>
                  <a:ext cx="73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275" name="Group 38"/>
            <p:cNvGrpSpPr/>
            <p:nvPr/>
          </p:nvGrpSpPr>
          <p:grpSpPr>
            <a:xfrm>
              <a:off x="6248160" y="3670200"/>
              <a:ext cx="1139040" cy="439920"/>
              <a:chOff x="6248160" y="3670200"/>
              <a:chExt cx="1139040" cy="439920"/>
            </a:xfrm>
          </p:grpSpPr>
          <p:sp>
            <p:nvSpPr>
              <p:cNvPr id="276" name="Oval 39"/>
              <p:cNvSpPr/>
              <p:nvPr/>
            </p:nvSpPr>
            <p:spPr>
              <a:xfrm>
                <a:off x="6258600" y="3894120"/>
                <a:ext cx="112860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7" name="Line 40"/>
              <p:cNvSpPr/>
              <p:nvPr/>
            </p:nvSpPr>
            <p:spPr>
              <a:xfrm>
                <a:off x="6258600" y="387540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8" name="Line 41"/>
              <p:cNvSpPr/>
              <p:nvPr/>
            </p:nvSpPr>
            <p:spPr>
              <a:xfrm>
                <a:off x="7387200" y="387540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9" name="Rectangle 42"/>
              <p:cNvSpPr/>
              <p:nvPr/>
            </p:nvSpPr>
            <p:spPr>
              <a:xfrm>
                <a:off x="6258600" y="3875400"/>
                <a:ext cx="111780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6248160" y="3717720"/>
                <a:ext cx="112860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81" name="Group 44"/>
              <p:cNvGrpSpPr/>
              <p:nvPr/>
            </p:nvGrpSpPr>
            <p:grpSpPr>
              <a:xfrm>
                <a:off x="6427800" y="3670200"/>
                <a:ext cx="749880" cy="434160"/>
                <a:chOff x="6427800" y="3670200"/>
                <a:chExt cx="749880" cy="434160"/>
              </a:xfrm>
            </p:grpSpPr>
            <p:sp>
              <p:nvSpPr>
                <p:cNvPr id="282" name="Rectangle 45"/>
                <p:cNvSpPr/>
                <p:nvPr/>
              </p:nvSpPr>
              <p:spPr>
                <a:xfrm>
                  <a:off x="6534000" y="3752280"/>
                  <a:ext cx="51192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3" name="Text Box 46"/>
                <p:cNvSpPr/>
                <p:nvPr/>
              </p:nvSpPr>
              <p:spPr>
                <a:xfrm>
                  <a:off x="6427800" y="3670200"/>
                  <a:ext cx="749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284" name="Group 47"/>
            <p:cNvGrpSpPr/>
            <p:nvPr/>
          </p:nvGrpSpPr>
          <p:grpSpPr>
            <a:xfrm>
              <a:off x="3861360" y="4111200"/>
              <a:ext cx="1138320" cy="439200"/>
              <a:chOff x="3861360" y="4111200"/>
              <a:chExt cx="1138320" cy="439200"/>
            </a:xfrm>
          </p:grpSpPr>
          <p:sp>
            <p:nvSpPr>
              <p:cNvPr id="285" name="Oval 48"/>
              <p:cNvSpPr/>
              <p:nvPr/>
            </p:nvSpPr>
            <p:spPr>
              <a:xfrm>
                <a:off x="3871800" y="4334760"/>
                <a:ext cx="112788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6" name="Line 49"/>
              <p:cNvSpPr/>
              <p:nvPr/>
            </p:nvSpPr>
            <p:spPr>
              <a:xfrm>
                <a:off x="3871800" y="431604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7" name="Line 50"/>
              <p:cNvSpPr/>
              <p:nvPr/>
            </p:nvSpPr>
            <p:spPr>
              <a:xfrm>
                <a:off x="4999680" y="431604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8" name="Rectangle 51"/>
              <p:cNvSpPr/>
              <p:nvPr/>
            </p:nvSpPr>
            <p:spPr>
              <a:xfrm>
                <a:off x="3871800" y="4316040"/>
                <a:ext cx="111708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61360" y="4158720"/>
                <a:ext cx="112788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90" name="Group 53"/>
              <p:cNvGrpSpPr/>
              <p:nvPr/>
            </p:nvGrpSpPr>
            <p:grpSpPr>
              <a:xfrm>
                <a:off x="4059000" y="4111200"/>
                <a:ext cx="709560" cy="433800"/>
                <a:chOff x="4059000" y="4111200"/>
                <a:chExt cx="709560" cy="433800"/>
              </a:xfrm>
            </p:grpSpPr>
            <p:sp>
              <p:nvSpPr>
                <p:cNvPr id="291" name="Rectangle 54"/>
                <p:cNvSpPr/>
                <p:nvPr/>
              </p:nvSpPr>
              <p:spPr>
                <a:xfrm>
                  <a:off x="4147560" y="4193280"/>
                  <a:ext cx="51156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2" name="Text Box 55"/>
                <p:cNvSpPr/>
                <p:nvPr/>
              </p:nvSpPr>
              <p:spPr>
                <a:xfrm>
                  <a:off x="4059000" y="4111200"/>
                  <a:ext cx="70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93" name="Line 56"/>
            <p:cNvSpPr/>
            <p:nvPr/>
          </p:nvSpPr>
          <p:spPr>
            <a:xfrm flipH="1">
              <a:off x="2516040" y="1966680"/>
              <a:ext cx="1532160" cy="233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94" name="Group 57"/>
            <p:cNvGrpSpPr/>
            <p:nvPr/>
          </p:nvGrpSpPr>
          <p:grpSpPr>
            <a:xfrm>
              <a:off x="2880000" y="2682720"/>
              <a:ext cx="1139040" cy="439200"/>
              <a:chOff x="2880000" y="2682720"/>
              <a:chExt cx="1139040" cy="439200"/>
            </a:xfrm>
          </p:grpSpPr>
          <p:sp>
            <p:nvSpPr>
              <p:cNvPr id="295" name="Oval 58"/>
              <p:cNvSpPr/>
              <p:nvPr/>
            </p:nvSpPr>
            <p:spPr>
              <a:xfrm>
                <a:off x="2890440" y="2906280"/>
                <a:ext cx="112860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6" name="Line 59"/>
              <p:cNvSpPr/>
              <p:nvPr/>
            </p:nvSpPr>
            <p:spPr>
              <a:xfrm>
                <a:off x="2890440" y="28875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7" name="Line 60"/>
              <p:cNvSpPr/>
              <p:nvPr/>
            </p:nvSpPr>
            <p:spPr>
              <a:xfrm>
                <a:off x="4019040" y="28875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8" name="Rectangle 61"/>
              <p:cNvSpPr/>
              <p:nvPr/>
            </p:nvSpPr>
            <p:spPr>
              <a:xfrm>
                <a:off x="2890440" y="2887560"/>
                <a:ext cx="111780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2880000" y="2730240"/>
                <a:ext cx="112860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300" name="Group 63"/>
              <p:cNvGrpSpPr/>
              <p:nvPr/>
            </p:nvGrpSpPr>
            <p:grpSpPr>
              <a:xfrm>
                <a:off x="3103200" y="2682720"/>
                <a:ext cx="655920" cy="433800"/>
                <a:chOff x="3103200" y="2682720"/>
                <a:chExt cx="655920" cy="433800"/>
              </a:xfrm>
            </p:grpSpPr>
            <p:sp>
              <p:nvSpPr>
                <p:cNvPr id="301" name="Rectangle 64"/>
                <p:cNvSpPr/>
                <p:nvPr/>
              </p:nvSpPr>
              <p:spPr>
                <a:xfrm>
                  <a:off x="3167280" y="2764800"/>
                  <a:ext cx="51048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02" name="Text Box 65"/>
                <p:cNvSpPr/>
                <p:nvPr/>
              </p:nvSpPr>
              <p:spPr>
                <a:xfrm>
                  <a:off x="3103200" y="2682720"/>
                  <a:ext cx="65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303" name="Group 66"/>
            <p:cNvGrpSpPr/>
            <p:nvPr/>
          </p:nvGrpSpPr>
          <p:grpSpPr>
            <a:xfrm>
              <a:off x="1676520" y="4121280"/>
              <a:ext cx="1138320" cy="439920"/>
              <a:chOff x="1676520" y="4121280"/>
              <a:chExt cx="1138320" cy="439920"/>
            </a:xfrm>
          </p:grpSpPr>
          <p:sp>
            <p:nvSpPr>
              <p:cNvPr id="304" name="Oval 67"/>
              <p:cNvSpPr/>
              <p:nvPr/>
            </p:nvSpPr>
            <p:spPr>
              <a:xfrm>
                <a:off x="1686960" y="4345200"/>
                <a:ext cx="112788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5" name="Line 68"/>
              <p:cNvSpPr/>
              <p:nvPr/>
            </p:nvSpPr>
            <p:spPr>
              <a:xfrm>
                <a:off x="1686960" y="432648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6" name="Line 69"/>
              <p:cNvSpPr/>
              <p:nvPr/>
            </p:nvSpPr>
            <p:spPr>
              <a:xfrm>
                <a:off x="2814840" y="432648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7" name="Rectangle 70"/>
              <p:cNvSpPr/>
              <p:nvPr/>
            </p:nvSpPr>
            <p:spPr>
              <a:xfrm>
                <a:off x="1686960" y="4326480"/>
                <a:ext cx="111708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1676520" y="4168800"/>
                <a:ext cx="112788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309" name="Group 72"/>
              <p:cNvGrpSpPr/>
              <p:nvPr/>
            </p:nvGrpSpPr>
            <p:grpSpPr>
              <a:xfrm>
                <a:off x="1878120" y="4121280"/>
                <a:ext cx="698040" cy="434160"/>
                <a:chOff x="1878120" y="4121280"/>
                <a:chExt cx="698040" cy="434160"/>
              </a:xfrm>
            </p:grpSpPr>
            <p:sp>
              <p:nvSpPr>
                <p:cNvPr id="310" name="Rectangle 73"/>
                <p:cNvSpPr/>
                <p:nvPr/>
              </p:nvSpPr>
              <p:spPr>
                <a:xfrm>
                  <a:off x="1963080" y="4203360"/>
                  <a:ext cx="51012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1" name="Text Box 74"/>
                <p:cNvSpPr/>
                <p:nvPr/>
              </p:nvSpPr>
              <p:spPr>
                <a:xfrm>
                  <a:off x="1878120" y="4121280"/>
                  <a:ext cx="698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312" name="Line 75"/>
            <p:cNvSpPr/>
            <p:nvPr/>
          </p:nvSpPr>
          <p:spPr>
            <a:xfrm flipH="1">
              <a:off x="3403440" y="1999080"/>
              <a:ext cx="3636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3" name="Line 76"/>
            <p:cNvSpPr/>
            <p:nvPr/>
          </p:nvSpPr>
          <p:spPr>
            <a:xfrm flipH="1">
              <a:off x="2538360" y="3301920"/>
              <a:ext cx="3636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Line 77"/>
            <p:cNvSpPr/>
            <p:nvPr/>
          </p:nvSpPr>
          <p:spPr>
            <a:xfrm>
              <a:off x="4921200" y="1811880"/>
              <a:ext cx="645840" cy="4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5" name="Line 78"/>
            <p:cNvSpPr/>
            <p:nvPr/>
          </p:nvSpPr>
          <p:spPr>
            <a:xfrm>
              <a:off x="6234120" y="2861280"/>
              <a:ext cx="51156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6" name="Line 79"/>
            <p:cNvSpPr/>
            <p:nvPr/>
          </p:nvSpPr>
          <p:spPr>
            <a:xfrm>
              <a:off x="7142760" y="4217760"/>
              <a:ext cx="403920" cy="59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7" name="Line 80"/>
            <p:cNvSpPr/>
            <p:nvPr/>
          </p:nvSpPr>
          <p:spPr>
            <a:xfrm>
              <a:off x="3853800" y="3269880"/>
              <a:ext cx="393120" cy="70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1905120" y="473544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4191120" y="473544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3"/>
          <a:stretch/>
        </p:blipFill>
        <p:spPr>
          <a:xfrm>
            <a:off x="6095880" y="4735440"/>
            <a:ext cx="685800" cy="1131840"/>
          </a:xfrm>
          <a:prstGeom prst="rect">
            <a:avLst/>
          </a:prstGeom>
          <a:ln w="0">
            <a:noFill/>
          </a:ln>
        </p:spPr>
      </p:pic>
      <p:sp>
        <p:nvSpPr>
          <p:cNvPr id="321" name="Straight Connector 87"/>
          <p:cNvSpPr/>
          <p:nvPr/>
        </p:nvSpPr>
        <p:spPr>
          <a:xfrm>
            <a:off x="2250360" y="456264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Straight Connector 89"/>
          <p:cNvSpPr/>
          <p:nvPr/>
        </p:nvSpPr>
        <p:spPr>
          <a:xfrm>
            <a:off x="4494960" y="457200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Straight Connector 90"/>
          <p:cNvSpPr/>
          <p:nvPr/>
        </p:nvSpPr>
        <p:spPr>
          <a:xfrm flipH="1">
            <a:off x="6553080" y="5164200"/>
            <a:ext cx="471600" cy="169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F087-C3FE-443E-AFE0-514ABDF2CD8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for Media Strea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rge volume of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sound or image sample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olume of data may vary over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compression of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not tolerate much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nteractive applications (e.g., VoIP and gam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not tolerate much variation in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playout starts, need to keep 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ough some loss is accep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ngle vs. Multiple Send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-based tre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tree for each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 is optimized for that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requires multiple trees for multiple se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hared tre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ommon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nning tree that reaches all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tree may be ine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avoids having many different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81E4-0812-4230-BE0B-71571188DD5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cast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cast “group” defined by 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ast addresses look like unicast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4.0.0.0 to 239.255.255.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ing multicast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sends to 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s join the group based o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sends packets along th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F38C-6B5B-4C3C-81A4-C3138FF89BC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Multicast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520" y="114300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er sends a “join” messages to the sen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grafts to the tree at the nearest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C290-BACE-411E-96AA-09496172D5D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5884920" y="3479760"/>
            <a:ext cx="768240" cy="1141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6692760" y="4657680"/>
            <a:ext cx="779760" cy="127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4936680" y="4781520"/>
            <a:ext cx="136692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2538000" y="5240160"/>
            <a:ext cx="167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Line 8"/>
          <p:cNvSpPr/>
          <p:nvPr/>
        </p:nvSpPr>
        <p:spPr>
          <a:xfrm flipH="1" flipV="1">
            <a:off x="3525480" y="3873600"/>
            <a:ext cx="617400" cy="12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Line 9"/>
          <p:cNvSpPr/>
          <p:nvPr/>
        </p:nvSpPr>
        <p:spPr>
          <a:xfrm flipV="1">
            <a:off x="3916440" y="3467160"/>
            <a:ext cx="152064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4716360" y="2700360"/>
            <a:ext cx="1006560" cy="689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Group 11"/>
          <p:cNvGrpSpPr/>
          <p:nvPr/>
        </p:nvGrpSpPr>
        <p:grpSpPr>
          <a:xfrm>
            <a:off x="3689280" y="2340000"/>
            <a:ext cx="1137600" cy="440640"/>
            <a:chOff x="3689280" y="2340000"/>
            <a:chExt cx="1137600" cy="440640"/>
          </a:xfrm>
        </p:grpSpPr>
        <p:sp>
          <p:nvSpPr>
            <p:cNvPr id="342" name="Oval 12"/>
            <p:cNvSpPr/>
            <p:nvPr/>
          </p:nvSpPr>
          <p:spPr>
            <a:xfrm>
              <a:off x="3699720" y="2564280"/>
              <a:ext cx="112716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>
              <a:off x="3699720" y="254556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4" name="Line 14"/>
            <p:cNvSpPr/>
            <p:nvPr/>
          </p:nvSpPr>
          <p:spPr>
            <a:xfrm>
              <a:off x="4826880" y="254556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3699720" y="2545560"/>
              <a:ext cx="111636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6" name="Oval 16"/>
            <p:cNvSpPr/>
            <p:nvPr/>
          </p:nvSpPr>
          <p:spPr>
            <a:xfrm>
              <a:off x="3689280" y="2387880"/>
              <a:ext cx="112716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47" name="Group 17"/>
            <p:cNvGrpSpPr/>
            <p:nvPr/>
          </p:nvGrpSpPr>
          <p:grpSpPr>
            <a:xfrm>
              <a:off x="3865680" y="2340000"/>
              <a:ext cx="755640" cy="435240"/>
              <a:chOff x="3865680" y="2340000"/>
              <a:chExt cx="755640" cy="435240"/>
            </a:xfrm>
          </p:grpSpPr>
          <p:sp>
            <p:nvSpPr>
              <p:cNvPr id="348" name="Rectangle 18"/>
              <p:cNvSpPr/>
              <p:nvPr/>
            </p:nvSpPr>
            <p:spPr>
              <a:xfrm>
                <a:off x="3975840" y="2422440"/>
                <a:ext cx="51084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9" name="Text Box 19"/>
              <p:cNvSpPr/>
              <p:nvPr/>
            </p:nvSpPr>
            <p:spPr>
              <a:xfrm>
                <a:off x="3865680" y="2340000"/>
                <a:ext cx="75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50" name="Group 20"/>
          <p:cNvGrpSpPr/>
          <p:nvPr/>
        </p:nvGrpSpPr>
        <p:grpSpPr>
          <a:xfrm>
            <a:off x="5303880" y="3193920"/>
            <a:ext cx="1139040" cy="440640"/>
            <a:chOff x="5303880" y="3193920"/>
            <a:chExt cx="1139040" cy="440640"/>
          </a:xfrm>
        </p:grpSpPr>
        <p:sp>
          <p:nvSpPr>
            <p:cNvPr id="351" name="Oval 21"/>
            <p:cNvSpPr/>
            <p:nvPr/>
          </p:nvSpPr>
          <p:spPr>
            <a:xfrm>
              <a:off x="5314320" y="3418200"/>
              <a:ext cx="112860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5314320" y="339948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>
              <a:off x="6442920" y="339948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4" name="Rectangle 24"/>
            <p:cNvSpPr/>
            <p:nvPr/>
          </p:nvSpPr>
          <p:spPr>
            <a:xfrm>
              <a:off x="5314320" y="3399480"/>
              <a:ext cx="111780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5" name="Oval 25"/>
            <p:cNvSpPr/>
            <p:nvPr/>
          </p:nvSpPr>
          <p:spPr>
            <a:xfrm>
              <a:off x="5303880" y="3241800"/>
              <a:ext cx="112860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56" name="Group 26"/>
            <p:cNvGrpSpPr/>
            <p:nvPr/>
          </p:nvGrpSpPr>
          <p:grpSpPr>
            <a:xfrm>
              <a:off x="5501520" y="3193920"/>
              <a:ext cx="709920" cy="435240"/>
              <a:chOff x="5501520" y="3193920"/>
              <a:chExt cx="709920" cy="435240"/>
            </a:xfrm>
          </p:grpSpPr>
          <p:sp>
            <p:nvSpPr>
              <p:cNvPr id="357" name="Rectangle 27"/>
              <p:cNvSpPr/>
              <p:nvPr/>
            </p:nvSpPr>
            <p:spPr>
              <a:xfrm>
                <a:off x="5590080" y="3276360"/>
                <a:ext cx="51156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8" name="Text Box 28"/>
              <p:cNvSpPr/>
              <p:nvPr/>
            </p:nvSpPr>
            <p:spPr>
              <a:xfrm>
                <a:off x="5501520" y="3193920"/>
                <a:ext cx="70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59" name="Group 29"/>
          <p:cNvGrpSpPr/>
          <p:nvPr/>
        </p:nvGrpSpPr>
        <p:grpSpPr>
          <a:xfrm>
            <a:off x="7013520" y="5730840"/>
            <a:ext cx="1139040" cy="440640"/>
            <a:chOff x="7013520" y="5730840"/>
            <a:chExt cx="1139040" cy="440640"/>
          </a:xfrm>
        </p:grpSpPr>
        <p:sp>
          <p:nvSpPr>
            <p:cNvPr id="360" name="Oval 30"/>
            <p:cNvSpPr/>
            <p:nvPr/>
          </p:nvSpPr>
          <p:spPr>
            <a:xfrm>
              <a:off x="7023960" y="5955120"/>
              <a:ext cx="112860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1" name="Line 31"/>
            <p:cNvSpPr/>
            <p:nvPr/>
          </p:nvSpPr>
          <p:spPr>
            <a:xfrm>
              <a:off x="7023960" y="593640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2" name="Line 32"/>
            <p:cNvSpPr/>
            <p:nvPr/>
          </p:nvSpPr>
          <p:spPr>
            <a:xfrm>
              <a:off x="8152560" y="593640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3" name="Rectangle 33"/>
            <p:cNvSpPr/>
            <p:nvPr/>
          </p:nvSpPr>
          <p:spPr>
            <a:xfrm>
              <a:off x="7023960" y="5936400"/>
              <a:ext cx="111780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4" name="Oval 34"/>
            <p:cNvSpPr/>
            <p:nvPr/>
          </p:nvSpPr>
          <p:spPr>
            <a:xfrm>
              <a:off x="7013520" y="5778720"/>
              <a:ext cx="112860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65" name="Group 35"/>
            <p:cNvGrpSpPr/>
            <p:nvPr/>
          </p:nvGrpSpPr>
          <p:grpSpPr>
            <a:xfrm>
              <a:off x="7200720" y="5730840"/>
              <a:ext cx="731160" cy="435240"/>
              <a:chOff x="7200720" y="5730840"/>
              <a:chExt cx="731160" cy="435240"/>
            </a:xfrm>
          </p:grpSpPr>
          <p:sp>
            <p:nvSpPr>
              <p:cNvPr id="366" name="Rectangle 36"/>
              <p:cNvSpPr/>
              <p:nvPr/>
            </p:nvSpPr>
            <p:spPr>
              <a:xfrm>
                <a:off x="7300440" y="5813280"/>
                <a:ext cx="51084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7" name="Text Box 37"/>
              <p:cNvSpPr/>
              <p:nvPr/>
            </p:nvSpPr>
            <p:spPr>
              <a:xfrm>
                <a:off x="7200720" y="5730840"/>
                <a:ext cx="73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68" name="Group 38"/>
          <p:cNvGrpSpPr/>
          <p:nvPr/>
        </p:nvGrpSpPr>
        <p:grpSpPr>
          <a:xfrm>
            <a:off x="6249960" y="4508640"/>
            <a:ext cx="1137600" cy="440640"/>
            <a:chOff x="6249960" y="4508640"/>
            <a:chExt cx="1137600" cy="440640"/>
          </a:xfrm>
        </p:grpSpPr>
        <p:sp>
          <p:nvSpPr>
            <p:cNvPr id="369" name="Oval 39"/>
            <p:cNvSpPr/>
            <p:nvPr/>
          </p:nvSpPr>
          <p:spPr>
            <a:xfrm>
              <a:off x="6260400" y="4732920"/>
              <a:ext cx="112716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0" name="Line 40"/>
            <p:cNvSpPr/>
            <p:nvPr/>
          </p:nvSpPr>
          <p:spPr>
            <a:xfrm>
              <a:off x="6260400" y="471420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Line 41"/>
            <p:cNvSpPr/>
            <p:nvPr/>
          </p:nvSpPr>
          <p:spPr>
            <a:xfrm>
              <a:off x="7387560" y="471420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Rectangle 42"/>
            <p:cNvSpPr/>
            <p:nvPr/>
          </p:nvSpPr>
          <p:spPr>
            <a:xfrm>
              <a:off x="6260400" y="4714200"/>
              <a:ext cx="111636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3" name="Oval 43"/>
            <p:cNvSpPr/>
            <p:nvPr/>
          </p:nvSpPr>
          <p:spPr>
            <a:xfrm>
              <a:off x="6249960" y="4556520"/>
              <a:ext cx="112716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74" name="Group 44"/>
            <p:cNvGrpSpPr/>
            <p:nvPr/>
          </p:nvGrpSpPr>
          <p:grpSpPr>
            <a:xfrm>
              <a:off x="6429600" y="4508640"/>
              <a:ext cx="748800" cy="435240"/>
              <a:chOff x="6429600" y="4508640"/>
              <a:chExt cx="748800" cy="435240"/>
            </a:xfrm>
          </p:grpSpPr>
          <p:sp>
            <p:nvSpPr>
              <p:cNvPr id="375" name="Rectangle 45"/>
              <p:cNvSpPr/>
              <p:nvPr/>
            </p:nvSpPr>
            <p:spPr>
              <a:xfrm>
                <a:off x="6535800" y="4591080"/>
                <a:ext cx="51120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6" name="Text Box 46"/>
              <p:cNvSpPr/>
              <p:nvPr/>
            </p:nvSpPr>
            <p:spPr>
              <a:xfrm>
                <a:off x="6429600" y="4508640"/>
                <a:ext cx="74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77" name="Group 47"/>
          <p:cNvGrpSpPr/>
          <p:nvPr/>
        </p:nvGrpSpPr>
        <p:grpSpPr>
          <a:xfrm>
            <a:off x="3862440" y="4950000"/>
            <a:ext cx="1139040" cy="439200"/>
            <a:chOff x="3862440" y="4950000"/>
            <a:chExt cx="1139040" cy="439200"/>
          </a:xfrm>
        </p:grpSpPr>
        <p:sp>
          <p:nvSpPr>
            <p:cNvPr id="378" name="Oval 48"/>
            <p:cNvSpPr/>
            <p:nvPr/>
          </p:nvSpPr>
          <p:spPr>
            <a:xfrm>
              <a:off x="3872880" y="5173560"/>
              <a:ext cx="1128600" cy="2156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9" name="Line 49"/>
            <p:cNvSpPr/>
            <p:nvPr/>
          </p:nvSpPr>
          <p:spPr>
            <a:xfrm>
              <a:off x="3872880" y="51548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0" name="Line 50"/>
            <p:cNvSpPr/>
            <p:nvPr/>
          </p:nvSpPr>
          <p:spPr>
            <a:xfrm>
              <a:off x="5001480" y="51548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Rectangle 51"/>
            <p:cNvSpPr/>
            <p:nvPr/>
          </p:nvSpPr>
          <p:spPr>
            <a:xfrm>
              <a:off x="3872880" y="5154840"/>
              <a:ext cx="1117800" cy="130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2" name="Oval 52"/>
            <p:cNvSpPr/>
            <p:nvPr/>
          </p:nvSpPr>
          <p:spPr>
            <a:xfrm>
              <a:off x="3862440" y="4997520"/>
              <a:ext cx="1128600" cy="2530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83" name="Group 53"/>
            <p:cNvGrpSpPr/>
            <p:nvPr/>
          </p:nvGrpSpPr>
          <p:grpSpPr>
            <a:xfrm>
              <a:off x="4060080" y="4950000"/>
              <a:ext cx="709920" cy="433440"/>
              <a:chOff x="4060080" y="4950000"/>
              <a:chExt cx="709920" cy="433440"/>
            </a:xfrm>
          </p:grpSpPr>
          <p:sp>
            <p:nvSpPr>
              <p:cNvPr id="384" name="Rectangle 54"/>
              <p:cNvSpPr/>
              <p:nvPr/>
            </p:nvSpPr>
            <p:spPr>
              <a:xfrm>
                <a:off x="4148640" y="5032080"/>
                <a:ext cx="511560" cy="351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5" name="Text Box 55"/>
              <p:cNvSpPr/>
              <p:nvPr/>
            </p:nvSpPr>
            <p:spPr>
              <a:xfrm>
                <a:off x="4060080" y="4950000"/>
                <a:ext cx="70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386" name="Line 56"/>
          <p:cNvSpPr/>
          <p:nvPr/>
        </p:nvSpPr>
        <p:spPr>
          <a:xfrm flipH="1">
            <a:off x="2516040" y="2805120"/>
            <a:ext cx="1533600" cy="233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Group 57"/>
          <p:cNvGrpSpPr/>
          <p:nvPr/>
        </p:nvGrpSpPr>
        <p:grpSpPr>
          <a:xfrm>
            <a:off x="2881440" y="3521160"/>
            <a:ext cx="1139040" cy="439200"/>
            <a:chOff x="2881440" y="3521160"/>
            <a:chExt cx="1139040" cy="439200"/>
          </a:xfrm>
        </p:grpSpPr>
        <p:sp>
          <p:nvSpPr>
            <p:cNvPr id="388" name="Oval 58"/>
            <p:cNvSpPr/>
            <p:nvPr/>
          </p:nvSpPr>
          <p:spPr>
            <a:xfrm>
              <a:off x="2891880" y="3744720"/>
              <a:ext cx="1128600" cy="2156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Line 59"/>
            <p:cNvSpPr/>
            <p:nvPr/>
          </p:nvSpPr>
          <p:spPr>
            <a:xfrm>
              <a:off x="2891880" y="372600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0" name="Line 60"/>
            <p:cNvSpPr/>
            <p:nvPr/>
          </p:nvSpPr>
          <p:spPr>
            <a:xfrm>
              <a:off x="4020480" y="372600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Rectangle 61"/>
            <p:cNvSpPr/>
            <p:nvPr/>
          </p:nvSpPr>
          <p:spPr>
            <a:xfrm>
              <a:off x="2891880" y="3726000"/>
              <a:ext cx="1117800" cy="130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Oval 62"/>
            <p:cNvSpPr/>
            <p:nvPr/>
          </p:nvSpPr>
          <p:spPr>
            <a:xfrm>
              <a:off x="2881440" y="3568680"/>
              <a:ext cx="1128600" cy="2530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93" name="Group 63"/>
            <p:cNvGrpSpPr/>
            <p:nvPr/>
          </p:nvGrpSpPr>
          <p:grpSpPr>
            <a:xfrm>
              <a:off x="3104640" y="3521160"/>
              <a:ext cx="655920" cy="433440"/>
              <a:chOff x="3104640" y="3521160"/>
              <a:chExt cx="655920" cy="433440"/>
            </a:xfrm>
          </p:grpSpPr>
          <p:sp>
            <p:nvSpPr>
              <p:cNvPr id="394" name="Rectangle 64"/>
              <p:cNvSpPr/>
              <p:nvPr/>
            </p:nvSpPr>
            <p:spPr>
              <a:xfrm>
                <a:off x="3168720" y="3603240"/>
                <a:ext cx="510480" cy="351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5" name="Text Box 65"/>
              <p:cNvSpPr/>
              <p:nvPr/>
            </p:nvSpPr>
            <p:spPr>
              <a:xfrm>
                <a:off x="3104640" y="3521160"/>
                <a:ext cx="65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96" name="Group 66"/>
          <p:cNvGrpSpPr/>
          <p:nvPr/>
        </p:nvGrpSpPr>
        <p:grpSpPr>
          <a:xfrm>
            <a:off x="1676520" y="4959360"/>
            <a:ext cx="1139040" cy="440640"/>
            <a:chOff x="1676520" y="4959360"/>
            <a:chExt cx="1139040" cy="440640"/>
          </a:xfrm>
        </p:grpSpPr>
        <p:sp>
          <p:nvSpPr>
            <p:cNvPr id="397" name="Oval 67"/>
            <p:cNvSpPr/>
            <p:nvPr/>
          </p:nvSpPr>
          <p:spPr>
            <a:xfrm>
              <a:off x="1686960" y="5183640"/>
              <a:ext cx="112860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Line 68"/>
            <p:cNvSpPr/>
            <p:nvPr/>
          </p:nvSpPr>
          <p:spPr>
            <a:xfrm>
              <a:off x="1686960" y="516492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9" name="Line 69"/>
            <p:cNvSpPr/>
            <p:nvPr/>
          </p:nvSpPr>
          <p:spPr>
            <a:xfrm>
              <a:off x="2815560" y="516492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Rectangle 70"/>
            <p:cNvSpPr/>
            <p:nvPr/>
          </p:nvSpPr>
          <p:spPr>
            <a:xfrm>
              <a:off x="1686960" y="5164920"/>
              <a:ext cx="111780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Oval 71"/>
            <p:cNvSpPr/>
            <p:nvPr/>
          </p:nvSpPr>
          <p:spPr>
            <a:xfrm>
              <a:off x="1676520" y="5007240"/>
              <a:ext cx="112860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02" name="Group 72"/>
            <p:cNvGrpSpPr/>
            <p:nvPr/>
          </p:nvGrpSpPr>
          <p:grpSpPr>
            <a:xfrm>
              <a:off x="1878480" y="4959360"/>
              <a:ext cx="698400" cy="435240"/>
              <a:chOff x="1878480" y="4959360"/>
              <a:chExt cx="698400" cy="435240"/>
            </a:xfrm>
          </p:grpSpPr>
          <p:sp>
            <p:nvSpPr>
              <p:cNvPr id="403" name="Rectangle 73"/>
              <p:cNvSpPr/>
              <p:nvPr/>
            </p:nvSpPr>
            <p:spPr>
              <a:xfrm>
                <a:off x="1963440" y="5041800"/>
                <a:ext cx="51048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04" name="Text Box 74"/>
              <p:cNvSpPr/>
              <p:nvPr/>
            </p:nvSpPr>
            <p:spPr>
              <a:xfrm>
                <a:off x="1878480" y="4959360"/>
                <a:ext cx="69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405" name="Line 75"/>
          <p:cNvSpPr/>
          <p:nvPr/>
        </p:nvSpPr>
        <p:spPr>
          <a:xfrm flipH="1">
            <a:off x="3403080" y="2836800"/>
            <a:ext cx="365400" cy="62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Line 76"/>
          <p:cNvSpPr/>
          <p:nvPr/>
        </p:nvSpPr>
        <p:spPr>
          <a:xfrm flipH="1">
            <a:off x="2538360" y="4140360"/>
            <a:ext cx="363600" cy="62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Line 77"/>
          <p:cNvSpPr/>
          <p:nvPr/>
        </p:nvSpPr>
        <p:spPr>
          <a:xfrm>
            <a:off x="4923000" y="2649600"/>
            <a:ext cx="64440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Line 78"/>
          <p:cNvSpPr/>
          <p:nvPr/>
        </p:nvSpPr>
        <p:spPr>
          <a:xfrm>
            <a:off x="6234120" y="3699000"/>
            <a:ext cx="512640" cy="74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Line 79"/>
          <p:cNvSpPr/>
          <p:nvPr/>
        </p:nvSpPr>
        <p:spPr>
          <a:xfrm>
            <a:off x="7143840" y="5056200"/>
            <a:ext cx="40320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Line 80"/>
          <p:cNvSpPr/>
          <p:nvPr/>
        </p:nvSpPr>
        <p:spPr>
          <a:xfrm>
            <a:off x="3854520" y="4108320"/>
            <a:ext cx="393480" cy="7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1905120" y="557388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4191120" y="557388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6095880" y="5573880"/>
            <a:ext cx="685800" cy="1131840"/>
          </a:xfrm>
          <a:prstGeom prst="rect">
            <a:avLst/>
          </a:prstGeom>
          <a:ln w="0">
            <a:noFill/>
          </a:ln>
        </p:spPr>
      </p:pic>
      <p:sp>
        <p:nvSpPr>
          <p:cNvPr id="414" name="Straight Connector 85"/>
          <p:cNvSpPr/>
          <p:nvPr/>
        </p:nvSpPr>
        <p:spPr>
          <a:xfrm>
            <a:off x="2250360" y="540072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Straight Connector 86"/>
          <p:cNvSpPr/>
          <p:nvPr/>
        </p:nvSpPr>
        <p:spPr>
          <a:xfrm>
            <a:off x="4494960" y="541008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Straight Connector 87"/>
          <p:cNvSpPr/>
          <p:nvPr/>
        </p:nvSpPr>
        <p:spPr>
          <a:xfrm flipH="1">
            <a:off x="6553080" y="6002280"/>
            <a:ext cx="471600" cy="169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Multicast is Best Effor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sends packet to IP multicast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1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may affect multiple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6809-1642-499B-BDC3-E8763DBE78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0" name="Group 3"/>
          <p:cNvGrpSpPr/>
          <p:nvPr/>
        </p:nvGrpSpPr>
        <p:grpSpPr>
          <a:xfrm>
            <a:off x="1295280" y="2416320"/>
            <a:ext cx="6475680" cy="3830760"/>
            <a:chOff x="1295280" y="2416320"/>
            <a:chExt cx="6475680" cy="3830760"/>
          </a:xfrm>
        </p:grpSpPr>
        <p:sp>
          <p:nvSpPr>
            <p:cNvPr id="421" name="Line 4"/>
            <p:cNvSpPr/>
            <p:nvPr/>
          </p:nvSpPr>
          <p:spPr>
            <a:xfrm>
              <a:off x="5503320" y="3556440"/>
              <a:ext cx="767520" cy="1140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6311160" y="4734360"/>
              <a:ext cx="778320" cy="127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 flipH="1">
              <a:off x="4554360" y="4857120"/>
              <a:ext cx="13662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Line 7"/>
            <p:cNvSpPr/>
            <p:nvPr/>
          </p:nvSpPr>
          <p:spPr>
            <a:xfrm flipH="1">
              <a:off x="2157120" y="5316120"/>
              <a:ext cx="16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Line 8"/>
            <p:cNvSpPr/>
            <p:nvPr/>
          </p:nvSpPr>
          <p:spPr>
            <a:xfrm flipH="1" flipV="1">
              <a:off x="3144960" y="3949200"/>
              <a:ext cx="616320" cy="1209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 flipV="1">
              <a:off x="3534120" y="3543120"/>
              <a:ext cx="1521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7" name="Line 10"/>
            <p:cNvSpPr/>
            <p:nvPr/>
          </p:nvSpPr>
          <p:spPr>
            <a:xfrm>
              <a:off x="4334760" y="2777040"/>
              <a:ext cx="1005840" cy="688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28" name="Group 11"/>
            <p:cNvGrpSpPr/>
            <p:nvPr/>
          </p:nvGrpSpPr>
          <p:grpSpPr>
            <a:xfrm>
              <a:off x="3306960" y="2416320"/>
              <a:ext cx="1139040" cy="439920"/>
              <a:chOff x="3306960" y="2416320"/>
              <a:chExt cx="1139040" cy="439920"/>
            </a:xfrm>
          </p:grpSpPr>
          <p:sp>
            <p:nvSpPr>
              <p:cNvPr id="429" name="Oval 12"/>
              <p:cNvSpPr/>
              <p:nvPr/>
            </p:nvSpPr>
            <p:spPr>
              <a:xfrm>
                <a:off x="3317400" y="2640240"/>
                <a:ext cx="112860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0" name="Line 13"/>
              <p:cNvSpPr/>
              <p:nvPr/>
            </p:nvSpPr>
            <p:spPr>
              <a:xfrm>
                <a:off x="3317400" y="26215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1" name="Line 14"/>
              <p:cNvSpPr/>
              <p:nvPr/>
            </p:nvSpPr>
            <p:spPr>
              <a:xfrm>
                <a:off x="4446000" y="26215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2" name="Rectangle 15"/>
              <p:cNvSpPr/>
              <p:nvPr/>
            </p:nvSpPr>
            <p:spPr>
              <a:xfrm>
                <a:off x="3317400" y="2621520"/>
                <a:ext cx="111780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3" name="Oval 16"/>
              <p:cNvSpPr/>
              <p:nvPr/>
            </p:nvSpPr>
            <p:spPr>
              <a:xfrm>
                <a:off x="3306960" y="2463840"/>
                <a:ext cx="112860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34" name="Group 17"/>
              <p:cNvGrpSpPr/>
              <p:nvPr/>
            </p:nvGrpSpPr>
            <p:grpSpPr>
              <a:xfrm>
                <a:off x="3483360" y="2416320"/>
                <a:ext cx="756360" cy="434160"/>
                <a:chOff x="3483360" y="2416320"/>
                <a:chExt cx="756360" cy="434160"/>
              </a:xfrm>
            </p:grpSpPr>
            <p:sp>
              <p:nvSpPr>
                <p:cNvPr id="435" name="Rectangle 18"/>
                <p:cNvSpPr/>
                <p:nvPr/>
              </p:nvSpPr>
              <p:spPr>
                <a:xfrm>
                  <a:off x="3593520" y="2498400"/>
                  <a:ext cx="51156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36" name="Text Box 19"/>
                <p:cNvSpPr/>
                <p:nvPr/>
              </p:nvSpPr>
              <p:spPr>
                <a:xfrm>
                  <a:off x="3483360" y="2416320"/>
                  <a:ext cx="75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37" name="Group 20"/>
            <p:cNvGrpSpPr/>
            <p:nvPr/>
          </p:nvGrpSpPr>
          <p:grpSpPr>
            <a:xfrm>
              <a:off x="4922640" y="3271320"/>
              <a:ext cx="1138320" cy="439200"/>
              <a:chOff x="4922640" y="3271320"/>
              <a:chExt cx="1138320" cy="439200"/>
            </a:xfrm>
          </p:grpSpPr>
          <p:sp>
            <p:nvSpPr>
              <p:cNvPr id="438" name="Oval 21"/>
              <p:cNvSpPr/>
              <p:nvPr/>
            </p:nvSpPr>
            <p:spPr>
              <a:xfrm>
                <a:off x="4933080" y="3494880"/>
                <a:ext cx="112788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9" name="Line 22"/>
              <p:cNvSpPr/>
              <p:nvPr/>
            </p:nvSpPr>
            <p:spPr>
              <a:xfrm>
                <a:off x="4933080" y="34761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0" name="Line 23"/>
              <p:cNvSpPr/>
              <p:nvPr/>
            </p:nvSpPr>
            <p:spPr>
              <a:xfrm>
                <a:off x="6060960" y="34761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1" name="Rectangle 24"/>
              <p:cNvSpPr/>
              <p:nvPr/>
            </p:nvSpPr>
            <p:spPr>
              <a:xfrm>
                <a:off x="4933080" y="3476160"/>
                <a:ext cx="111708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2" name="Oval 25"/>
              <p:cNvSpPr/>
              <p:nvPr/>
            </p:nvSpPr>
            <p:spPr>
              <a:xfrm>
                <a:off x="4922640" y="3318840"/>
                <a:ext cx="112788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43" name="Group 26"/>
              <p:cNvGrpSpPr/>
              <p:nvPr/>
            </p:nvGrpSpPr>
            <p:grpSpPr>
              <a:xfrm>
                <a:off x="5120280" y="3271320"/>
                <a:ext cx="709560" cy="433800"/>
                <a:chOff x="5120280" y="3271320"/>
                <a:chExt cx="709560" cy="433800"/>
              </a:xfrm>
            </p:grpSpPr>
            <p:sp>
              <p:nvSpPr>
                <p:cNvPr id="444" name="Rectangle 27"/>
                <p:cNvSpPr/>
                <p:nvPr/>
              </p:nvSpPr>
              <p:spPr>
                <a:xfrm>
                  <a:off x="5208840" y="3353400"/>
                  <a:ext cx="51156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45" name="Text Box 28"/>
                <p:cNvSpPr/>
                <p:nvPr/>
              </p:nvSpPr>
              <p:spPr>
                <a:xfrm>
                  <a:off x="5120280" y="3271320"/>
                  <a:ext cx="70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46" name="Group 29"/>
            <p:cNvGrpSpPr/>
            <p:nvPr/>
          </p:nvGrpSpPr>
          <p:grpSpPr>
            <a:xfrm>
              <a:off x="6631920" y="5807880"/>
              <a:ext cx="1139040" cy="439200"/>
              <a:chOff x="6631920" y="5807880"/>
              <a:chExt cx="1139040" cy="439200"/>
            </a:xfrm>
          </p:grpSpPr>
          <p:sp>
            <p:nvSpPr>
              <p:cNvPr id="447" name="Oval 30"/>
              <p:cNvSpPr/>
              <p:nvPr/>
            </p:nvSpPr>
            <p:spPr>
              <a:xfrm>
                <a:off x="6642360" y="6031440"/>
                <a:ext cx="112860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8" name="Line 31"/>
              <p:cNvSpPr/>
              <p:nvPr/>
            </p:nvSpPr>
            <p:spPr>
              <a:xfrm>
                <a:off x="6642360" y="60127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9" name="Line 32"/>
              <p:cNvSpPr/>
              <p:nvPr/>
            </p:nvSpPr>
            <p:spPr>
              <a:xfrm>
                <a:off x="7770960" y="60127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0" name="Rectangle 33"/>
              <p:cNvSpPr/>
              <p:nvPr/>
            </p:nvSpPr>
            <p:spPr>
              <a:xfrm>
                <a:off x="6642360" y="6012720"/>
                <a:ext cx="111780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1" name="Oval 34"/>
              <p:cNvSpPr/>
              <p:nvPr/>
            </p:nvSpPr>
            <p:spPr>
              <a:xfrm>
                <a:off x="6631920" y="5855400"/>
                <a:ext cx="112860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52" name="Group 35"/>
              <p:cNvGrpSpPr/>
              <p:nvPr/>
            </p:nvGrpSpPr>
            <p:grpSpPr>
              <a:xfrm>
                <a:off x="6819120" y="5807880"/>
                <a:ext cx="731160" cy="433800"/>
                <a:chOff x="6819120" y="5807880"/>
                <a:chExt cx="731160" cy="433800"/>
              </a:xfrm>
            </p:grpSpPr>
            <p:sp>
              <p:nvSpPr>
                <p:cNvPr id="453" name="Rectangle 36"/>
                <p:cNvSpPr/>
                <p:nvPr/>
              </p:nvSpPr>
              <p:spPr>
                <a:xfrm>
                  <a:off x="6918840" y="5889960"/>
                  <a:ext cx="51084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4" name="Text Box 37"/>
                <p:cNvSpPr/>
                <p:nvPr/>
              </p:nvSpPr>
              <p:spPr>
                <a:xfrm>
                  <a:off x="6819120" y="5807880"/>
                  <a:ext cx="73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55" name="Group 38"/>
            <p:cNvGrpSpPr/>
            <p:nvPr/>
          </p:nvGrpSpPr>
          <p:grpSpPr>
            <a:xfrm>
              <a:off x="5867280" y="4584600"/>
              <a:ext cx="1139040" cy="439920"/>
              <a:chOff x="5867280" y="4584600"/>
              <a:chExt cx="1139040" cy="439920"/>
            </a:xfrm>
          </p:grpSpPr>
          <p:sp>
            <p:nvSpPr>
              <p:cNvPr id="456" name="Oval 39"/>
              <p:cNvSpPr/>
              <p:nvPr/>
            </p:nvSpPr>
            <p:spPr>
              <a:xfrm>
                <a:off x="5877720" y="4808520"/>
                <a:ext cx="112860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7" name="Line 40"/>
              <p:cNvSpPr/>
              <p:nvPr/>
            </p:nvSpPr>
            <p:spPr>
              <a:xfrm>
                <a:off x="5877720" y="478980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8" name="Line 41"/>
              <p:cNvSpPr/>
              <p:nvPr/>
            </p:nvSpPr>
            <p:spPr>
              <a:xfrm>
                <a:off x="7006320" y="478980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9" name="Rectangle 42"/>
              <p:cNvSpPr/>
              <p:nvPr/>
            </p:nvSpPr>
            <p:spPr>
              <a:xfrm>
                <a:off x="5877720" y="4789800"/>
                <a:ext cx="111780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0" name="Oval 43"/>
              <p:cNvSpPr/>
              <p:nvPr/>
            </p:nvSpPr>
            <p:spPr>
              <a:xfrm>
                <a:off x="5867280" y="4632120"/>
                <a:ext cx="112860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61" name="Group 44"/>
              <p:cNvGrpSpPr/>
              <p:nvPr/>
            </p:nvGrpSpPr>
            <p:grpSpPr>
              <a:xfrm>
                <a:off x="6046920" y="4584600"/>
                <a:ext cx="749880" cy="434160"/>
                <a:chOff x="6046920" y="4584600"/>
                <a:chExt cx="749880" cy="434160"/>
              </a:xfrm>
            </p:grpSpPr>
            <p:sp>
              <p:nvSpPr>
                <p:cNvPr id="462" name="Rectangle 45"/>
                <p:cNvSpPr/>
                <p:nvPr/>
              </p:nvSpPr>
              <p:spPr>
                <a:xfrm>
                  <a:off x="6153120" y="4666680"/>
                  <a:ext cx="51192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3" name="Text Box 46"/>
                <p:cNvSpPr/>
                <p:nvPr/>
              </p:nvSpPr>
              <p:spPr>
                <a:xfrm>
                  <a:off x="6046920" y="4584600"/>
                  <a:ext cx="749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64" name="Group 47"/>
            <p:cNvGrpSpPr/>
            <p:nvPr/>
          </p:nvGrpSpPr>
          <p:grpSpPr>
            <a:xfrm>
              <a:off x="3480120" y="5025600"/>
              <a:ext cx="1138320" cy="439200"/>
              <a:chOff x="3480120" y="5025600"/>
              <a:chExt cx="1138320" cy="439200"/>
            </a:xfrm>
          </p:grpSpPr>
          <p:sp>
            <p:nvSpPr>
              <p:cNvPr id="465" name="Oval 48"/>
              <p:cNvSpPr/>
              <p:nvPr/>
            </p:nvSpPr>
            <p:spPr>
              <a:xfrm>
                <a:off x="3490560" y="5249160"/>
                <a:ext cx="112788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6" name="Line 49"/>
              <p:cNvSpPr/>
              <p:nvPr/>
            </p:nvSpPr>
            <p:spPr>
              <a:xfrm>
                <a:off x="3490560" y="523044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7" name="Line 50"/>
              <p:cNvSpPr/>
              <p:nvPr/>
            </p:nvSpPr>
            <p:spPr>
              <a:xfrm>
                <a:off x="4618440" y="523044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8" name="Rectangle 51"/>
              <p:cNvSpPr/>
              <p:nvPr/>
            </p:nvSpPr>
            <p:spPr>
              <a:xfrm>
                <a:off x="3490560" y="5230440"/>
                <a:ext cx="111708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9" name="Oval 52"/>
              <p:cNvSpPr/>
              <p:nvPr/>
            </p:nvSpPr>
            <p:spPr>
              <a:xfrm>
                <a:off x="3480120" y="5073120"/>
                <a:ext cx="112788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70" name="Group 53"/>
              <p:cNvGrpSpPr/>
              <p:nvPr/>
            </p:nvGrpSpPr>
            <p:grpSpPr>
              <a:xfrm>
                <a:off x="3677760" y="5025600"/>
                <a:ext cx="709560" cy="433800"/>
                <a:chOff x="3677760" y="5025600"/>
                <a:chExt cx="709560" cy="433800"/>
              </a:xfrm>
            </p:grpSpPr>
            <p:sp>
              <p:nvSpPr>
                <p:cNvPr id="471" name="Rectangle 54"/>
                <p:cNvSpPr/>
                <p:nvPr/>
              </p:nvSpPr>
              <p:spPr>
                <a:xfrm>
                  <a:off x="3766320" y="5107680"/>
                  <a:ext cx="51156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2" name="Text Box 55"/>
                <p:cNvSpPr/>
                <p:nvPr/>
              </p:nvSpPr>
              <p:spPr>
                <a:xfrm>
                  <a:off x="3677760" y="5025600"/>
                  <a:ext cx="70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73" name="Line 56"/>
            <p:cNvSpPr/>
            <p:nvPr/>
          </p:nvSpPr>
          <p:spPr>
            <a:xfrm flipH="1">
              <a:off x="2134800" y="2881080"/>
              <a:ext cx="1532160" cy="233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74" name="Group 57"/>
            <p:cNvGrpSpPr/>
            <p:nvPr/>
          </p:nvGrpSpPr>
          <p:grpSpPr>
            <a:xfrm>
              <a:off x="2498760" y="3597120"/>
              <a:ext cx="1139040" cy="439200"/>
              <a:chOff x="2498760" y="3597120"/>
              <a:chExt cx="1139040" cy="439200"/>
            </a:xfrm>
          </p:grpSpPr>
          <p:sp>
            <p:nvSpPr>
              <p:cNvPr id="475" name="Oval 58"/>
              <p:cNvSpPr/>
              <p:nvPr/>
            </p:nvSpPr>
            <p:spPr>
              <a:xfrm>
                <a:off x="2509200" y="3820680"/>
                <a:ext cx="112860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6" name="Line 59"/>
              <p:cNvSpPr/>
              <p:nvPr/>
            </p:nvSpPr>
            <p:spPr>
              <a:xfrm>
                <a:off x="2509200" y="38019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7" name="Line 60"/>
              <p:cNvSpPr/>
              <p:nvPr/>
            </p:nvSpPr>
            <p:spPr>
              <a:xfrm>
                <a:off x="3637800" y="38019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8" name="Rectangle 61"/>
              <p:cNvSpPr/>
              <p:nvPr/>
            </p:nvSpPr>
            <p:spPr>
              <a:xfrm>
                <a:off x="2509200" y="3801960"/>
                <a:ext cx="111780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9" name="Oval 62"/>
              <p:cNvSpPr/>
              <p:nvPr/>
            </p:nvSpPr>
            <p:spPr>
              <a:xfrm>
                <a:off x="2498760" y="3644640"/>
                <a:ext cx="112860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80" name="Group 63"/>
              <p:cNvGrpSpPr/>
              <p:nvPr/>
            </p:nvGrpSpPr>
            <p:grpSpPr>
              <a:xfrm>
                <a:off x="2721960" y="3597120"/>
                <a:ext cx="655920" cy="433800"/>
                <a:chOff x="2721960" y="3597120"/>
                <a:chExt cx="655920" cy="433800"/>
              </a:xfrm>
            </p:grpSpPr>
            <p:sp>
              <p:nvSpPr>
                <p:cNvPr id="481" name="Rectangle 64"/>
                <p:cNvSpPr/>
                <p:nvPr/>
              </p:nvSpPr>
              <p:spPr>
                <a:xfrm>
                  <a:off x="2786040" y="3679200"/>
                  <a:ext cx="51048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2" name="Text Box 65"/>
                <p:cNvSpPr/>
                <p:nvPr/>
              </p:nvSpPr>
              <p:spPr>
                <a:xfrm>
                  <a:off x="2721960" y="3597120"/>
                  <a:ext cx="65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83" name="Group 66"/>
            <p:cNvGrpSpPr/>
            <p:nvPr/>
          </p:nvGrpSpPr>
          <p:grpSpPr>
            <a:xfrm>
              <a:off x="1295280" y="5035680"/>
              <a:ext cx="1138320" cy="439920"/>
              <a:chOff x="1295280" y="5035680"/>
              <a:chExt cx="1138320" cy="439920"/>
            </a:xfrm>
          </p:grpSpPr>
          <p:sp>
            <p:nvSpPr>
              <p:cNvPr id="484" name="Oval 67"/>
              <p:cNvSpPr/>
              <p:nvPr/>
            </p:nvSpPr>
            <p:spPr>
              <a:xfrm>
                <a:off x="1305720" y="5259600"/>
                <a:ext cx="112788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5" name="Line 68"/>
              <p:cNvSpPr/>
              <p:nvPr/>
            </p:nvSpPr>
            <p:spPr>
              <a:xfrm>
                <a:off x="1305720" y="524088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6" name="Line 69"/>
              <p:cNvSpPr/>
              <p:nvPr/>
            </p:nvSpPr>
            <p:spPr>
              <a:xfrm>
                <a:off x="2433600" y="524088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7" name="Rectangle 70"/>
              <p:cNvSpPr/>
              <p:nvPr/>
            </p:nvSpPr>
            <p:spPr>
              <a:xfrm>
                <a:off x="1305720" y="5240880"/>
                <a:ext cx="111708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8" name="Oval 71"/>
              <p:cNvSpPr/>
              <p:nvPr/>
            </p:nvSpPr>
            <p:spPr>
              <a:xfrm>
                <a:off x="1295280" y="5083200"/>
                <a:ext cx="112788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89" name="Group 72"/>
              <p:cNvGrpSpPr/>
              <p:nvPr/>
            </p:nvGrpSpPr>
            <p:grpSpPr>
              <a:xfrm>
                <a:off x="1496880" y="5035680"/>
                <a:ext cx="698040" cy="434160"/>
                <a:chOff x="1496880" y="5035680"/>
                <a:chExt cx="698040" cy="434160"/>
              </a:xfrm>
            </p:grpSpPr>
            <p:sp>
              <p:nvSpPr>
                <p:cNvPr id="490" name="Rectangle 73"/>
                <p:cNvSpPr/>
                <p:nvPr/>
              </p:nvSpPr>
              <p:spPr>
                <a:xfrm>
                  <a:off x="1581840" y="5117760"/>
                  <a:ext cx="51012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91" name="Text Box 74"/>
                <p:cNvSpPr/>
                <p:nvPr/>
              </p:nvSpPr>
              <p:spPr>
                <a:xfrm>
                  <a:off x="1496880" y="5035680"/>
                  <a:ext cx="698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92" name="Line 75"/>
            <p:cNvSpPr/>
            <p:nvPr/>
          </p:nvSpPr>
          <p:spPr>
            <a:xfrm flipH="1">
              <a:off x="3022200" y="2913480"/>
              <a:ext cx="3636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Line 76"/>
            <p:cNvSpPr/>
            <p:nvPr/>
          </p:nvSpPr>
          <p:spPr>
            <a:xfrm flipH="1">
              <a:off x="2157120" y="4216320"/>
              <a:ext cx="3636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Line 77"/>
            <p:cNvSpPr/>
            <p:nvPr/>
          </p:nvSpPr>
          <p:spPr>
            <a:xfrm>
              <a:off x="4539960" y="2726280"/>
              <a:ext cx="645840" cy="4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Line 78"/>
            <p:cNvSpPr/>
            <p:nvPr/>
          </p:nvSpPr>
          <p:spPr>
            <a:xfrm>
              <a:off x="5853240" y="3775680"/>
              <a:ext cx="51156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Line 79"/>
            <p:cNvSpPr/>
            <p:nvPr/>
          </p:nvSpPr>
          <p:spPr>
            <a:xfrm>
              <a:off x="6761880" y="5132160"/>
              <a:ext cx="403920" cy="59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7" name="Line 80"/>
            <p:cNvSpPr/>
            <p:nvPr/>
          </p:nvSpPr>
          <p:spPr>
            <a:xfrm>
              <a:off x="3472920" y="4184280"/>
              <a:ext cx="393120" cy="70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1523880" y="564984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3809880" y="564984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3"/>
          <a:stretch/>
        </p:blipFill>
        <p:spPr>
          <a:xfrm>
            <a:off x="5715000" y="5649840"/>
            <a:ext cx="685800" cy="1131840"/>
          </a:xfrm>
          <a:prstGeom prst="rect">
            <a:avLst/>
          </a:prstGeom>
          <a:ln w="0">
            <a:noFill/>
          </a:ln>
        </p:spPr>
      </p:pic>
      <p:sp>
        <p:nvSpPr>
          <p:cNvPr id="501" name="Straight Connector 85"/>
          <p:cNvSpPr/>
          <p:nvPr/>
        </p:nvSpPr>
        <p:spPr>
          <a:xfrm>
            <a:off x="1869480" y="547704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Straight Connector 86"/>
          <p:cNvSpPr/>
          <p:nvPr/>
        </p:nvSpPr>
        <p:spPr>
          <a:xfrm>
            <a:off x="4114080" y="548640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Straight Connector 87"/>
          <p:cNvSpPr/>
          <p:nvPr/>
        </p:nvSpPr>
        <p:spPr>
          <a:xfrm flipH="1">
            <a:off x="6172200" y="6078600"/>
            <a:ext cx="471600" cy="169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Lightning Bolt 88"/>
          <p:cNvSpPr/>
          <p:nvPr/>
        </p:nvSpPr>
        <p:spPr>
          <a:xfrm>
            <a:off x="2819520" y="2819520"/>
            <a:ext cx="914400" cy="7617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for Reliable 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 an ACK, much like TCP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K-implosion if all destinations ACK a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does not know # of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retransmi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ll?  One bad link effects entir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where losses?  Loss near sender makes retransmission as inefficient as replicated uni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gative acknowledgments more comm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E41B-B5B0-42E2-8BF5-E911F309F42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calable Reliable 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packets sent via IP multica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includes sequence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on packet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failures relatively rare, use Negative ACKs (NAKs) instead: “Did not receive expected packe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issues heartbeats if no real traffic.  Receiver knows when to expect (and thus NA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4828-811E-467B-9E19-62057B140E1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andling Failure in SR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er multicasts a NA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send NAK to sender, who multicasts confi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ale through NAK suppre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ceived a NAK or NCF, don’t NAK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random delays before NAK’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air through packet retransmi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initial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designated local repai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E994-EF92-4348-8A07-523F79636C4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35A6-4E62-4E45-8F72-E3368F5FED3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gital audio and vide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ly popular media on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 on demand, VoIP, online gaming, IPTV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challen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-effort network vs. real-tim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cast routing vs. multi-party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’s precep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hing and partitioning to balance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gital Audi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ampling the analog sign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at some fixed 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ample is an arbitrary real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antizing each samp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nd each sample to one of a finite # of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each sample in a fixed number of 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A8C7-941B-4CC1-BB60-B5FB00E62A0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8" name="Picture 4" descr="250px-Pcm"/>
          <p:cNvPicPr/>
          <p:nvPr/>
        </p:nvPicPr>
        <p:blipFill>
          <a:blip r:embed="rId1"/>
          <a:stretch/>
        </p:blipFill>
        <p:spPr>
          <a:xfrm>
            <a:off x="923760" y="4284720"/>
            <a:ext cx="4724640" cy="2496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5455440" y="5195880"/>
            <a:ext cx="32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bit represent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values 0-15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udio Examp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eec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ing rate: 8000 sample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size: 8 bits per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: 64 k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F0FF-A806-4367-A755-848CDC7B3FF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3" name="Picture 5" descr="MCj04043450000[1]"/>
          <p:cNvPicPr/>
          <p:nvPr/>
        </p:nvPicPr>
        <p:blipFill>
          <a:blip r:embed="rId1"/>
          <a:stretch/>
        </p:blipFill>
        <p:spPr>
          <a:xfrm>
            <a:off x="654120" y="3889440"/>
            <a:ext cx="1816200" cy="1841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MMj02970250000[1]"/>
          <p:cNvPicPr/>
          <p:nvPr/>
        </p:nvPicPr>
        <p:blipFill>
          <a:blip r:embed="rId2"/>
          <a:stretch/>
        </p:blipFill>
        <p:spPr>
          <a:xfrm>
            <a:off x="6261120" y="1816200"/>
            <a:ext cx="2478240" cy="2120760"/>
          </a:xfrm>
          <a:prstGeom prst="rect">
            <a:avLst/>
          </a:prstGeom>
          <a:ln w="0">
            <a:noFill/>
          </a:ln>
        </p:spPr>
      </p:pic>
      <p:sp>
        <p:nvSpPr>
          <p:cNvPr id="145" name="Content Placeholder 2"/>
          <p:cNvSpPr/>
          <p:nvPr/>
        </p:nvSpPr>
        <p:spPr>
          <a:xfrm>
            <a:off x="3048120" y="3962520"/>
            <a:ext cx="7086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Compact Disc (CD)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pling rate: 44,100 samples/sec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ple size: 16 bits per sampl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te: 705.6 kbps for mono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1.411 Mbps for stereo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7872-E801-4A44-B479-0CBE641BFB9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udio Compre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udio data requires too much bandwidth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ch: 64 kbps is too high for some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reo music: 1.411 Mbps exceeds most access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ression to reduce the siz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redundancy, and details user don’t perce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 audio forma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ch: GSM (13 kbps), G.729 (8 kbps), and G.723.3 (6.4 and 5.3 kb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reo music: MPEG 1 layer 3 (MP3) at 96 kbps, 128 kbps, and 160 k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BC7C-E711-4798-917E-FEB34FB69CE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gital Vide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ampling the analog sign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images at fixed rate (e.g., 30 times per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antizing each samp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ing an image as array of picture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ixel is a mix of colors (red, green, and bl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24 bits, with 8 bits per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A Representation of additive color mix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1590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rcRect l="49848" t="0" r="0" b="18367"/>
          <a:stretch/>
        </p:blipFill>
        <p:spPr>
          <a:xfrm>
            <a:off x="615960" y="4465800"/>
            <a:ext cx="23050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deo Compression: Within Imag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067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age compre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it spatial redundancy (e.g., regions of same col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it aspects humans tend not to no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mon image compression forma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Pictures Expert Group (JPE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al Interchange Format (GI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E5B6-3BB0-4817-9B2F-8F5B5EC8AD7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4273560"/>
            <a:ext cx="9144000" cy="257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8" name="Picture 5" descr="trainingno"/>
          <p:cNvPicPr/>
          <p:nvPr/>
        </p:nvPicPr>
        <p:blipFill>
          <a:blip r:embed="rId1"/>
          <a:srcRect l="0" t="0" r="41150" b="47959"/>
          <a:stretch/>
        </p:blipFill>
        <p:spPr>
          <a:xfrm>
            <a:off x="168120" y="4540320"/>
            <a:ext cx="2880000" cy="1739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training99"/>
          <p:cNvPicPr/>
          <p:nvPr/>
        </p:nvPicPr>
        <p:blipFill>
          <a:blip r:embed="rId2"/>
          <a:srcRect l="0" t="0" r="40714" b="47959"/>
          <a:stretch/>
        </p:blipFill>
        <p:spPr>
          <a:xfrm>
            <a:off x="6095880" y="4541760"/>
            <a:ext cx="2897280" cy="1736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training50"/>
          <p:cNvPicPr/>
          <p:nvPr/>
        </p:nvPicPr>
        <p:blipFill>
          <a:blip r:embed="rId3"/>
          <a:srcRect l="0" t="0" r="41150" b="47959"/>
          <a:stretch/>
        </p:blipFill>
        <p:spPr>
          <a:xfrm>
            <a:off x="3143160" y="4540320"/>
            <a:ext cx="2879640" cy="1739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18360" y="636732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compressed: 167 K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69720" y="63673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 quality: 46 K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143040" y="636732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or quality: 9 K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deo Compression: Across Ima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ression across im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it temporal redundancy across im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mon video compression forma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EG 1: CD-ROM quality video (1.5 Mb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EG 2: high-quality DVD video (3-6 Mb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39C8-C44D-445D-BE4E-F1E59A60B42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>
            <a:biLevel thresh="50000"/>
            <a:alphaModFix amt="50000"/>
          </a:blip>
          <a:srcRect l="19076" t="43389" r="14593" b="44893"/>
          <a:stretch/>
        </p:blipFill>
        <p:spPr>
          <a:xfrm>
            <a:off x="415800" y="4081320"/>
            <a:ext cx="8534520" cy="258768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2"/>
          <p:cNvGrpSpPr/>
          <p:nvPr/>
        </p:nvGrpSpPr>
        <p:grpSpPr>
          <a:xfrm>
            <a:off x="492120" y="5529240"/>
            <a:ext cx="6552720" cy="1066680"/>
            <a:chOff x="492120" y="5529240"/>
            <a:chExt cx="6552720" cy="1066680"/>
          </a:xfrm>
        </p:grpSpPr>
        <p:sp>
          <p:nvSpPr>
            <p:cNvPr id="169" name="Oval 13"/>
            <p:cNvSpPr/>
            <p:nvPr/>
          </p:nvSpPr>
          <p:spPr>
            <a:xfrm>
              <a:off x="492120" y="5529240"/>
              <a:ext cx="1142640" cy="990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3311280" y="5529240"/>
              <a:ext cx="1142640" cy="990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1" name="Oval 15"/>
            <p:cNvSpPr/>
            <p:nvPr/>
          </p:nvSpPr>
          <p:spPr>
            <a:xfrm>
              <a:off x="5902200" y="5605200"/>
              <a:ext cx="1142640" cy="99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2:32:15Z</dcterms:created>
  <dc:creator>Kai Li</dc:creator>
  <dc:description/>
  <dc:language>en-US</dc:language>
  <cp:lastModifiedBy>Jennifer Rexford</cp:lastModifiedBy>
  <dcterms:modified xsi:type="dcterms:W3CDTF">2012-03-28T04:15:03Z</dcterms:modified>
  <cp:revision>1818</cp:revision>
  <dc:subject/>
  <dc:title>Communication</dc:title>
</cp:coreProperties>
</file>