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D6A48A5-A960-4EF9-966F-FFF4A82F90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14F85E2-2382-462E-918D-1476F74D9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BFA25D-7362-4F17-8FAD-FED9DE74B36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B8D748C-D3E5-46AA-8D1F-F8819ED9FB9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A404645-D4AE-4080-9792-D21D80770C4C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279FF6-ADEF-4ED0-8EEF-5A8E80847BA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824357-6CEF-430B-9025-0912060A61A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689D745-D627-40A5-A886-38170F3DB3C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week, we talked about how  one end-point of a session reaches another, through (i) discovery (mapping a name in one layer to an address in the layer below) and (ii) routing (computing a path from one end-point to another in the lower layer).  But, this does not ensure that the performance is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17204A0-D8D2-4F73-9688-0AC3FD8E4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672F32-3B2A-464D-B7CB-58F1686DE02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93D0DA-7877-4712-84AB-1960F8E6BF2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A402046-7AA5-444C-88A5-D3448AC4D30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E0F11CC-A5EB-45A7-B89D-378F242B791D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D8CC00-9534-4966-969A-84F89D38098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026951-6815-4E34-98E5-B201C28244F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DDB10A9-6724-4E9A-AC62-A312FD50BC29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CBC665-2C83-4A23-B98F-C9B82066EA3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 week, we’ll talk about how to share resources.  Today we’ll talk about what the end-points can do in a distributed fashion, from the edge of the network.  On Wednesday, we’ll talk about what the lower-level elements can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00D1B85-8218-476D-84F0-4E6FC522F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622834C-8395-47FD-96C6-1E318B6BFD0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569CC93-D739-4F07-9C00-60D3C0BC488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65B8E0-8207-461C-B18F-0EDBA96A5C0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44D6FB-45BD-4C2D-88C3-B3B006D093E5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4E1DF9E-BA4E-4091-86F2-078AC970524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CF9-984E-4C49-B2F4-F64C48A5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E67-7810-4078-A060-6C929388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F44-7CFA-4073-9591-BCB6EFB3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90F-0766-42AE-8B55-1A771A8F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E8D92-9D7F-4BC5-B3A0-D2096AF31D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D5993-03E1-453F-8B2B-530A150219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FFB23-23E0-411F-88D5-62C74991A4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AC405-50FD-4BDF-AF3E-B7E83D615D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12543-3F56-4655-8DCA-440DE1BE2D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65400-CFBA-4073-88A6-DA2665C0AC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23FA2-9ABA-4231-ABFF-16BDCECE3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FE3-3BB2-44AA-AA1A-49A4622B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57152-B619-4297-9E5E-3EC4ED61E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0FE2D-789E-471B-8AD0-86B49463FC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70A62-5717-4104-BA96-CF482CA19B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6F48B-2842-47EC-8790-A2A70C4304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0436E-A1FE-4456-89D5-8D5571BFCB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BBE6A-6580-444D-B4E2-96D687C69E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62770-DECC-4720-8D74-CEA1216D61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B628A-33F4-45AB-8411-F1B1D5E112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02D6E-CFAB-44F1-8106-527BFCB9F3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21B7B-A161-4450-9DC8-FD41F47DAA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2A3-5879-43DB-B371-BBC36B60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3AF60-E63A-467E-9B12-B0CF6B1401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2ABC4-1AE7-4904-AC6F-DA1A22B12F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2D66-BC5D-40C4-BF5B-D25E5971E8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0D8DB-8AB3-4BEB-8D2A-E260C2A18A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0CEA3-6797-4781-B53D-330208A416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29B00-8686-4B98-AB3E-F5A7B644C7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683FA-D3EC-48FE-8F17-928F01C9F9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5E14-9F9B-46B1-9FDA-DFAA71CEF0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0C0B-87C0-4495-A61C-7C2E00CB17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9E3-9A99-48D7-8C3C-03B269BF2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B78-617A-45EA-B8A2-B25E4B5C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C4B4-3405-4013-8308-A74CEF563E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0AF0-F699-4187-93B9-9734CF000B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3D1-CD4E-4FBC-95B7-686F92C04B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88CC-6C10-4E49-807D-D30F4C6763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E1F3-1053-464C-9BBD-C0BAB8B02C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A7A6-BB18-4FAA-BFFE-2A1895B2C8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76AC-F32F-4755-AF83-EBACF1205F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E75A-4876-4B46-956C-215B4705A2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7D29-5E2A-48A5-9759-7D10303BF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192-D457-464C-9AB7-2B11801D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2F4-864C-43D5-B1C6-CAADE816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502-3DAF-4FDD-A1F8-7D4BA87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FE9-D6BC-4FFD-8C27-4589A1E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C3E-270F-4DF4-A68F-514CF88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507B-877B-4655-B395-F1D4519A1A37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8256-9D4E-4B09-A5A4-E9847B94788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FE51-C678-44F0-B1F3-CA338D3D10C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C8F-EAE4-4851-80DE-92A0CAF9ACE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DA2-FF30-4DA8-A5E1-455BD9166EA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Congestion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Michael Freedma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thernet Back-off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arrier sense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link to be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dle, start s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, wait until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ollision detection: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sten while transmit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ollision: abort transmission, and send jam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Exponential back-off: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ait before retransmit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random time, exponentially larger per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7C11-7DB7-4988-801A-4A3F90165A9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49" name="Picture 4" descr="551 metcalfe-enet"/>
          <p:cNvPicPr/>
          <p:nvPr/>
        </p:nvPicPr>
        <p:blipFill>
          <a:blip r:embed="rId1"/>
          <a:stretch/>
        </p:blipFill>
        <p:spPr>
          <a:xfrm>
            <a:off x="4724280" y="1109520"/>
            <a:ext cx="4191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itive increase, multiplicative decrea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packet loss, divide congestion window in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success for last window, increase window lin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530D-E614-49D9-8D82-8DA85D06814E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1371600" y="3200400"/>
            <a:ext cx="7010280" cy="26668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Freeform 4"/>
          <p:cNvSpPr/>
          <p:nvPr/>
        </p:nvSpPr>
        <p:spPr>
          <a:xfrm>
            <a:off x="1371600" y="3886200"/>
            <a:ext cx="7162920" cy="198108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352640" y="5791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9008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396252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39625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41911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311720" y="492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32004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38098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Line 13"/>
          <p:cNvSpPr/>
          <p:nvPr/>
        </p:nvSpPr>
        <p:spPr>
          <a:xfrm flipH="1">
            <a:off x="5867280" y="3200400"/>
            <a:ext cx="36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693432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8077320" y="3429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675160" y="3117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Exponential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spond aggressively to bad ne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ion is (very) bad for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react aggressiv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net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u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ssion t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: divide sending rat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ice theoretical propert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efficient use of network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1BD9-8D0E-44CB-BE9F-02BFD620165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1CC-64A6-493C-8C0C-9AEA25848CA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gestion in a Drop-Tail FIFO Queu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ccess to the bandwidth: first-in first-out queu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transmitted in the order they ar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1F79-312E-4E00-B8F5-E2C604AD0416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6" name="Group 22"/>
          <p:cNvGrpSpPr/>
          <p:nvPr/>
        </p:nvGrpSpPr>
        <p:grpSpPr>
          <a:xfrm>
            <a:off x="1806480" y="2684520"/>
            <a:ext cx="5684760" cy="698400"/>
            <a:chOff x="1806480" y="2684520"/>
            <a:chExt cx="5684760" cy="698400"/>
          </a:xfrm>
        </p:grpSpPr>
        <p:sp>
          <p:nvSpPr>
            <p:cNvPr id="277" name="Rectangle 4"/>
            <p:cNvSpPr/>
            <p:nvPr/>
          </p:nvSpPr>
          <p:spPr>
            <a:xfrm>
              <a:off x="43830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49194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>
              <a:off x="545760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>
              <a:off x="5994360" y="269064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>
              <a:off x="384624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>
              <a:off x="3306600" y="2690640"/>
              <a:ext cx="536400" cy="692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>
              <a:off x="1806480" y="26892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Freeform 11"/>
            <p:cNvSpPr/>
            <p:nvPr/>
          </p:nvSpPr>
          <p:spPr>
            <a:xfrm>
              <a:off x="2230200" y="2684520"/>
              <a:ext cx="1919160" cy="35244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6530760" y="2997360"/>
              <a:ext cx="96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6" name="Group 23"/>
          <p:cNvGrpSpPr/>
          <p:nvPr/>
        </p:nvGrpSpPr>
        <p:grpSpPr>
          <a:xfrm>
            <a:off x="1710360" y="4695840"/>
            <a:ext cx="5780880" cy="1312920"/>
            <a:chOff x="1710360" y="4695840"/>
            <a:chExt cx="5780880" cy="1312920"/>
          </a:xfrm>
        </p:grpSpPr>
        <p:sp>
          <p:nvSpPr>
            <p:cNvPr id="287" name="Rectangle 13"/>
            <p:cNvSpPr/>
            <p:nvPr/>
          </p:nvSpPr>
          <p:spPr>
            <a:xfrm>
              <a:off x="43830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49194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5457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99436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384624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3306600" y="50706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1806480" y="5068800"/>
              <a:ext cx="536400" cy="692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6531120" y="5376960"/>
              <a:ext cx="960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TextBox 23"/>
            <p:cNvSpPr/>
            <p:nvPr/>
          </p:nvSpPr>
          <p:spPr>
            <a:xfrm>
              <a:off x="1710360" y="4695840"/>
              <a:ext cx="668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1" lang="en-US" sz="8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6" name="Content Placeholder 2"/>
          <p:cNvSpPr/>
          <p:nvPr/>
        </p:nvSpPr>
        <p:spPr>
          <a:xfrm>
            <a:off x="457200" y="380988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Access to the buffer space: drop-tail queuing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queue is full, drop the incoming packe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it Looks to the End Ho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lay: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ket experiences high delay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: 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cket gets dropped along path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does TCP sender learn thi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elay: 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nd-trip time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15415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oss: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out and/or duplicate acknowled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5B54-410C-460A-A378-727EA4DC0384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4383000" y="4892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919760" y="4892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5457960" y="4892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5994360" y="4892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3846600" y="4892760"/>
            <a:ext cx="53640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3306600" y="4892760"/>
            <a:ext cx="536760" cy="691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1806480" y="4890960"/>
            <a:ext cx="536760" cy="692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6531120" y="5199120"/>
            <a:ext cx="9601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1710360" y="4495680"/>
            <a:ext cx="66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1" lang="en-US" sz="8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Congestion Wind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Each TCP sender maintains a congestion windo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x number of bytes to have in transit (not yet ACK’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dapting the congestion windo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Decrea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on losing a packet: backing of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Increa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pon success: optimistically expl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struggling to find right transfer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Tradeoff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ro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s needing explicit network feed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Con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inually under- and over-shoots “right”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5FC5-AB49-4E1A-A5A3-7F7E14EB3D1D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90"/>
                </a:solidFill>
                <a:latin typeface="Calibri"/>
              </a:rPr>
              <a:t>Additive Increase, Multiplicative Decrease </a:t>
            </a:r>
            <a:endParaRPr b="0" lang="en-US" sz="36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much to adap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ve increase:  On success of last window of data, increase window by 1 Max Segment Size (M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icative decrease:  On loss of packet, divide congestion window in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ch quicker to slow than speed up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-sized windows (causing loss) are much worse than under-sized windows (causing lower thrup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MD:  A necessary condition for stability of T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7404-A0B5-4F55-89C0-3E53C0CFEF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ds to the TCP “Sawtooth”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A886-56B3-4A34-8686-D81EBDCE1917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1143000" y="2286000"/>
            <a:ext cx="7010280" cy="31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Freeform 4"/>
          <p:cNvSpPr/>
          <p:nvPr/>
        </p:nvSpPr>
        <p:spPr>
          <a:xfrm>
            <a:off x="1143000" y="3429000"/>
            <a:ext cx="7162920" cy="198108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Line 7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ine 8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083120" y="446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11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Line 12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Line 13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Line 14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Line 15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49264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90"/>
                </a:solidFill>
                <a:latin typeface="Calibri"/>
              </a:rPr>
              <a:t>Receiver Window vs. Congestion Window</a:t>
            </a:r>
            <a:endParaRPr b="0" lang="en-US" sz="37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Flow contro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ast send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overwhelming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 slow recei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ngestion control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a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et of sende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rom overloading the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ifferent concepts, but similar mechanism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CP flow control:  receiver wind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CP congestion control:  congestion wind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er TCP window =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min { congestion window, receiver window 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DDA-4186-4D79-BB25-66ED35D30938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ast Week: Discovery and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4EF5-6A65-4EC6-B110-E63BD36CD27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Box 30"/>
          <p:cNvSpPr/>
          <p:nvPr/>
        </p:nvSpPr>
        <p:spPr>
          <a:xfrm>
            <a:off x="1219320" y="1066680"/>
            <a:ext cx="66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rovides end-to-end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nectivity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but not necessarily good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erformance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arting a New Flow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024F-5D82-4887-9ABB-A86B299EB55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Should a New Flow Star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B0D-90DA-40C9-A44D-AA03C553D16C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1143000" y="2286000"/>
            <a:ext cx="7010280" cy="31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Freeform 4"/>
          <p:cNvSpPr/>
          <p:nvPr/>
        </p:nvSpPr>
        <p:spPr>
          <a:xfrm>
            <a:off x="1143000" y="3429000"/>
            <a:ext cx="7162920" cy="198108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124040" y="53341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570960" y="1752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373392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8"/>
          <p:cNvSpPr/>
          <p:nvPr/>
        </p:nvSpPr>
        <p:spPr>
          <a:xfrm>
            <a:off x="3733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9"/>
          <p:cNvSpPr/>
          <p:nvPr/>
        </p:nvSpPr>
        <p:spPr>
          <a:xfrm>
            <a:off x="3962520" y="4267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4083120" y="446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2971800" y="3048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12"/>
          <p:cNvSpPr/>
          <p:nvPr/>
        </p:nvSpPr>
        <p:spPr>
          <a:xfrm>
            <a:off x="35812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Line 14"/>
          <p:cNvSpPr/>
          <p:nvPr/>
        </p:nvSpPr>
        <p:spPr>
          <a:xfrm>
            <a:off x="670572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78487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2492640" y="259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AutoShape 17"/>
          <p:cNvSpPr/>
          <p:nvPr/>
        </p:nvSpPr>
        <p:spPr>
          <a:xfrm>
            <a:off x="2057400" y="5638680"/>
            <a:ext cx="3276720" cy="914400"/>
          </a:xfrm>
          <a:prstGeom prst="wedgeRectCallout">
            <a:avLst>
              <a:gd name="adj1" fmla="val -64972"/>
              <a:gd name="adj2" fmla="val -111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could take a long time to get started!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387360" y="1228680"/>
            <a:ext cx="84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  <a:ea typeface="Calibri"/>
              </a:rPr>
              <a:t>Start slow (a small CWND) to avoid overloading 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90"/>
                </a:solidFill>
                <a:latin typeface="Calibri"/>
              </a:rPr>
              <a:t>“</a:t>
            </a:r>
            <a:r>
              <a:rPr b="0" lang="en-US" sz="4500" spc="-1" strike="noStrike">
                <a:solidFill>
                  <a:srgbClr val="000090"/>
                </a:solidFill>
                <a:latin typeface="Calibri"/>
              </a:rPr>
              <a:t>Slow Start” Phase</a:t>
            </a:r>
            <a:endParaRPr b="0" lang="en-US" sz="45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rt with a small congestion window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ly, CWND is 1 M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initial sending rate is MSS / 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ld be pretty wastefu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ht be much less than actual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increase takes a long time to accele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-start phase (really “fast start”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tarts at a slow rate (hence the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ncreases rate exponentially until the firs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B02F-F4EC-48A3-81DC-13C1E93E2475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Start in A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493A-93AB-458A-AFB3-54FB54F4BCEC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1773360" y="123840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WND per round-trip ti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Line 4"/>
          <p:cNvSpPr/>
          <p:nvPr/>
        </p:nvSpPr>
        <p:spPr>
          <a:xfrm>
            <a:off x="1371600" y="3200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Line 5"/>
          <p:cNvSpPr/>
          <p:nvPr/>
        </p:nvSpPr>
        <p:spPr>
          <a:xfrm>
            <a:off x="1295280" y="50292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Line 6"/>
          <p:cNvSpPr/>
          <p:nvPr/>
        </p:nvSpPr>
        <p:spPr>
          <a:xfrm>
            <a:off x="16002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Line 7"/>
          <p:cNvSpPr/>
          <p:nvPr/>
        </p:nvSpPr>
        <p:spPr>
          <a:xfrm flipV="1">
            <a:off x="243828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Line 8"/>
          <p:cNvSpPr/>
          <p:nvPr/>
        </p:nvSpPr>
        <p:spPr>
          <a:xfrm>
            <a:off x="34290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Line 9"/>
          <p:cNvSpPr/>
          <p:nvPr/>
        </p:nvSpPr>
        <p:spPr>
          <a:xfrm flipV="1">
            <a:off x="426708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Line 10"/>
          <p:cNvSpPr/>
          <p:nvPr/>
        </p:nvSpPr>
        <p:spPr>
          <a:xfrm>
            <a:off x="373392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Line 11"/>
          <p:cNvSpPr/>
          <p:nvPr/>
        </p:nvSpPr>
        <p:spPr>
          <a:xfrm flipV="1">
            <a:off x="457200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Line 12"/>
          <p:cNvSpPr/>
          <p:nvPr/>
        </p:nvSpPr>
        <p:spPr>
          <a:xfrm>
            <a:off x="52578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Line 13"/>
          <p:cNvSpPr/>
          <p:nvPr/>
        </p:nvSpPr>
        <p:spPr>
          <a:xfrm flipV="1">
            <a:off x="6095880" y="3203280"/>
            <a:ext cx="989280" cy="18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Line 14"/>
          <p:cNvSpPr/>
          <p:nvPr/>
        </p:nvSpPr>
        <p:spPr>
          <a:xfrm>
            <a:off x="556272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2" name="Line 15"/>
          <p:cNvSpPr/>
          <p:nvPr/>
        </p:nvSpPr>
        <p:spPr>
          <a:xfrm flipV="1">
            <a:off x="640080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3" name="Line 16"/>
          <p:cNvSpPr/>
          <p:nvPr/>
        </p:nvSpPr>
        <p:spPr>
          <a:xfrm>
            <a:off x="5943600" y="320040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Line 17"/>
          <p:cNvSpPr/>
          <p:nvPr/>
        </p:nvSpPr>
        <p:spPr>
          <a:xfrm flipV="1">
            <a:off x="6781680" y="320040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16002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6" name="Line 19"/>
          <p:cNvSpPr/>
          <p:nvPr/>
        </p:nvSpPr>
        <p:spPr>
          <a:xfrm>
            <a:off x="18288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Rectangle 20"/>
          <p:cNvSpPr/>
          <p:nvPr/>
        </p:nvSpPr>
        <p:spPr>
          <a:xfrm>
            <a:off x="34290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8" name="Line 21"/>
          <p:cNvSpPr/>
          <p:nvPr/>
        </p:nvSpPr>
        <p:spPr>
          <a:xfrm>
            <a:off x="3657600" y="29732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9" name="Rectangle 22"/>
          <p:cNvSpPr/>
          <p:nvPr/>
        </p:nvSpPr>
        <p:spPr>
          <a:xfrm>
            <a:off x="380988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Line 23"/>
          <p:cNvSpPr/>
          <p:nvPr/>
        </p:nvSpPr>
        <p:spPr>
          <a:xfrm>
            <a:off x="40384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1" name="Rectangle 24"/>
          <p:cNvSpPr/>
          <p:nvPr/>
        </p:nvSpPr>
        <p:spPr>
          <a:xfrm>
            <a:off x="52578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2" name="Line 25"/>
          <p:cNvSpPr/>
          <p:nvPr/>
        </p:nvSpPr>
        <p:spPr>
          <a:xfrm flipH="1">
            <a:off x="5486400" y="2973240"/>
            <a:ext cx="792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Rectangle 26"/>
          <p:cNvSpPr/>
          <p:nvPr/>
        </p:nvSpPr>
        <p:spPr>
          <a:xfrm>
            <a:off x="563868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27"/>
          <p:cNvSpPr/>
          <p:nvPr/>
        </p:nvSpPr>
        <p:spPr>
          <a:xfrm>
            <a:off x="58672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Rectangle 28"/>
          <p:cNvSpPr/>
          <p:nvPr/>
        </p:nvSpPr>
        <p:spPr>
          <a:xfrm>
            <a:off x="70866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29"/>
          <p:cNvSpPr/>
          <p:nvPr/>
        </p:nvSpPr>
        <p:spPr>
          <a:xfrm>
            <a:off x="7315200" y="297324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Rectangle 30"/>
          <p:cNvSpPr/>
          <p:nvPr/>
        </p:nvSpPr>
        <p:spPr>
          <a:xfrm>
            <a:off x="746748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Line 31"/>
          <p:cNvSpPr/>
          <p:nvPr/>
        </p:nvSpPr>
        <p:spPr>
          <a:xfrm>
            <a:off x="7696080" y="297324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6019920" y="2971800"/>
            <a:ext cx="30456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0" name="Line 33"/>
          <p:cNvSpPr/>
          <p:nvPr/>
        </p:nvSpPr>
        <p:spPr>
          <a:xfrm>
            <a:off x="62485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848720" y="2971800"/>
            <a:ext cx="30456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Line 35"/>
          <p:cNvSpPr/>
          <p:nvPr/>
        </p:nvSpPr>
        <p:spPr>
          <a:xfrm>
            <a:off x="80773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Rectangle 36"/>
          <p:cNvSpPr/>
          <p:nvPr/>
        </p:nvSpPr>
        <p:spPr>
          <a:xfrm>
            <a:off x="82296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Line 37"/>
          <p:cNvSpPr/>
          <p:nvPr/>
        </p:nvSpPr>
        <p:spPr>
          <a:xfrm>
            <a:off x="84582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Line 38"/>
          <p:cNvSpPr/>
          <p:nvPr/>
        </p:nvSpPr>
        <p:spPr>
          <a:xfrm>
            <a:off x="7086600" y="3276720"/>
            <a:ext cx="30492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Line 39"/>
          <p:cNvSpPr/>
          <p:nvPr/>
        </p:nvSpPr>
        <p:spPr>
          <a:xfrm>
            <a:off x="7391520" y="32767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Line 40"/>
          <p:cNvSpPr/>
          <p:nvPr/>
        </p:nvSpPr>
        <p:spPr>
          <a:xfrm>
            <a:off x="7772400" y="3276720"/>
            <a:ext cx="290520" cy="58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Line 41"/>
          <p:cNvSpPr/>
          <p:nvPr/>
        </p:nvSpPr>
        <p:spPr>
          <a:xfrm>
            <a:off x="8077320" y="3200400"/>
            <a:ext cx="304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9" name="Text Box 42"/>
          <p:cNvSpPr/>
          <p:nvPr/>
        </p:nvSpPr>
        <p:spPr>
          <a:xfrm>
            <a:off x="1690200" y="38750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Text Box 43"/>
          <p:cNvSpPr/>
          <p:nvPr/>
        </p:nvSpPr>
        <p:spPr>
          <a:xfrm>
            <a:off x="2656800" y="38862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Text Box 44"/>
          <p:cNvSpPr/>
          <p:nvPr/>
        </p:nvSpPr>
        <p:spPr>
          <a:xfrm>
            <a:off x="351900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Text Box 45"/>
          <p:cNvSpPr/>
          <p:nvPr/>
        </p:nvSpPr>
        <p:spPr>
          <a:xfrm>
            <a:off x="379836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Text Box 46"/>
          <p:cNvSpPr/>
          <p:nvPr/>
        </p:nvSpPr>
        <p:spPr>
          <a:xfrm>
            <a:off x="451080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Text Box 47"/>
          <p:cNvSpPr/>
          <p:nvPr/>
        </p:nvSpPr>
        <p:spPr>
          <a:xfrm>
            <a:off x="481572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Text Box 48"/>
          <p:cNvSpPr/>
          <p:nvPr/>
        </p:nvSpPr>
        <p:spPr>
          <a:xfrm>
            <a:off x="534780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Text Box 49"/>
          <p:cNvSpPr/>
          <p:nvPr/>
        </p:nvSpPr>
        <p:spPr>
          <a:xfrm>
            <a:off x="562716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Text Box 50"/>
          <p:cNvSpPr/>
          <p:nvPr/>
        </p:nvSpPr>
        <p:spPr>
          <a:xfrm>
            <a:off x="611100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Text Box 51"/>
          <p:cNvSpPr/>
          <p:nvPr/>
        </p:nvSpPr>
        <p:spPr>
          <a:xfrm>
            <a:off x="646344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Text Box 52"/>
          <p:cNvSpPr/>
          <p:nvPr/>
        </p:nvSpPr>
        <p:spPr>
          <a:xfrm>
            <a:off x="6008040" y="38098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 Box 53"/>
          <p:cNvSpPr/>
          <p:nvPr/>
        </p:nvSpPr>
        <p:spPr>
          <a:xfrm>
            <a:off x="687312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Text Box 54"/>
          <p:cNvSpPr/>
          <p:nvPr/>
        </p:nvSpPr>
        <p:spPr>
          <a:xfrm>
            <a:off x="59436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Text Box 55"/>
          <p:cNvSpPr/>
          <p:nvPr/>
        </p:nvSpPr>
        <p:spPr>
          <a:xfrm>
            <a:off x="58464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56"/>
          <p:cNvSpPr/>
          <p:nvPr/>
        </p:nvSpPr>
        <p:spPr>
          <a:xfrm>
            <a:off x="6324480" y="3200400"/>
            <a:ext cx="8384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 Box 57"/>
          <p:cNvSpPr/>
          <p:nvPr/>
        </p:nvSpPr>
        <p:spPr>
          <a:xfrm>
            <a:off x="6388920" y="37782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Rectangle 58"/>
          <p:cNvSpPr/>
          <p:nvPr/>
        </p:nvSpPr>
        <p:spPr>
          <a:xfrm>
            <a:off x="6400800" y="2971800"/>
            <a:ext cx="30492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Line 59"/>
          <p:cNvSpPr/>
          <p:nvPr/>
        </p:nvSpPr>
        <p:spPr>
          <a:xfrm>
            <a:off x="66294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Line 60"/>
          <p:cNvSpPr/>
          <p:nvPr/>
        </p:nvSpPr>
        <p:spPr>
          <a:xfrm flipV="1">
            <a:off x="7162920" y="3200400"/>
            <a:ext cx="9903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7254000" y="4235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Text Box 62"/>
          <p:cNvSpPr/>
          <p:nvPr/>
        </p:nvSpPr>
        <p:spPr>
          <a:xfrm>
            <a:off x="1584360" y="243828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Text Box 63"/>
          <p:cNvSpPr/>
          <p:nvPr/>
        </p:nvSpPr>
        <p:spPr>
          <a:xfrm>
            <a:off x="3665880" y="24512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2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Text Box 64"/>
          <p:cNvSpPr/>
          <p:nvPr/>
        </p:nvSpPr>
        <p:spPr>
          <a:xfrm>
            <a:off x="5725080" y="24638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4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Text Box 65"/>
          <p:cNvSpPr/>
          <p:nvPr/>
        </p:nvSpPr>
        <p:spPr>
          <a:xfrm>
            <a:off x="7780680" y="2476440"/>
            <a:ext cx="356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omic Sans MS"/>
              </a:rPr>
              <a:t>8</a:t>
            </a:r>
            <a:endParaRPr b="1" lang="en-US" sz="2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low Start and the TCP Sawtoo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8600" y="4236840"/>
            <a:ext cx="8763120" cy="23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originally had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o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contr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would start by sending entire receive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d to congestion collapse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start” is, comparatively, sl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1313-7319-43E4-B4DC-C27404841C4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1523880" y="1066680"/>
            <a:ext cx="7010640" cy="2819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7505280" y="38862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66040" y="1905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385596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385596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4084560" y="2819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205160" y="3017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v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11"/>
          <p:cNvSpPr/>
          <p:nvPr/>
        </p:nvSpPr>
        <p:spPr>
          <a:xfrm>
            <a:off x="309420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3703680" y="1828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5761080" y="1066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682776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7970760" y="1523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261504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2895480" y="3733920"/>
            <a:ext cx="3733920" cy="457200"/>
          </a:xfrm>
          <a:prstGeom prst="wedgeRectCallout">
            <a:avLst>
              <a:gd name="adj1" fmla="val -52518"/>
              <a:gd name="adj2" fmla="val -12872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 “slow start”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40" name="Picture 19" descr="tcp.png"/>
          <p:cNvPicPr/>
          <p:nvPr/>
        </p:nvPicPr>
        <p:blipFill>
          <a:blip r:embed="rId1"/>
          <a:srcRect l="25405" t="0" r="0" b="0"/>
          <a:stretch/>
        </p:blipFill>
        <p:spPr>
          <a:xfrm>
            <a:off x="3094200" y="1935000"/>
            <a:ext cx="5370480" cy="2030400"/>
          </a:xfrm>
          <a:prstGeom prst="rect">
            <a:avLst/>
          </a:prstGeom>
          <a:ln w="0">
            <a:noFill/>
          </a:ln>
        </p:spPr>
      </p:pic>
      <p:sp>
        <p:nvSpPr>
          <p:cNvPr id="441" name="Freeform 14"/>
          <p:cNvSpPr/>
          <p:nvPr/>
        </p:nvSpPr>
        <p:spPr>
          <a:xfrm>
            <a:off x="1523880" y="2484360"/>
            <a:ext cx="1590840" cy="1408320"/>
          </a:xfrm>
          <a:prstGeom prst="pie">
            <a:avLst/>
          </a:prstGeom>
          <a:noFill/>
          <a:ln w="381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wo Kinds of Loss in TC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n is lost and detected via a 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sting entire CWND would cause another bu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to start over with a low CW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iple duplicate AC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n is lost, but packets n+1, n+2, etc. ar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sender quickly resends packet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a multiplicative decrease and keep g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83EF-ED1D-4461-A0C6-75FFB2BFF8A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peating Slow Start After Timeou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B3D5-6D52-4E64-BC89-8932CA64204D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Freeform 3"/>
          <p:cNvSpPr/>
          <p:nvPr/>
        </p:nvSpPr>
        <p:spPr>
          <a:xfrm>
            <a:off x="914400" y="1523880"/>
            <a:ext cx="7010280" cy="28195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Freeform 14"/>
          <p:cNvSpPr/>
          <p:nvPr/>
        </p:nvSpPr>
        <p:spPr>
          <a:xfrm>
            <a:off x="914400" y="2895480"/>
            <a:ext cx="1828800" cy="1371600"/>
          </a:xfrm>
          <a:prstGeom prst="pie">
            <a:avLst/>
          </a:prstGeom>
          <a:noFill/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7124040" y="4419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385920" y="9907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654120" y="5029200"/>
            <a:ext cx="783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  <a:ea typeface="Calibri"/>
              </a:rPr>
              <a:t>Slow-start restar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o back to CWND of 1, but take advantage of knowing the previous value of CWND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Freeform 19"/>
          <p:cNvSpPr/>
          <p:nvPr/>
        </p:nvSpPr>
        <p:spPr>
          <a:xfrm>
            <a:off x="2743200" y="2362320"/>
            <a:ext cx="2666880" cy="1523880"/>
          </a:xfrm>
          <a:prstGeom prst="pie">
            <a:avLst/>
          </a:prstGeom>
          <a:noFill/>
          <a:ln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Freeform 20"/>
          <p:cNvSpPr/>
          <p:nvPr/>
        </p:nvSpPr>
        <p:spPr>
          <a:xfrm>
            <a:off x="6858000" y="2662200"/>
            <a:ext cx="1600200" cy="990720"/>
          </a:xfrm>
          <a:prstGeom prst="pie">
            <a:avLst/>
          </a:prstGeom>
          <a:noFill/>
          <a:ln w="1908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Freeform 21"/>
          <p:cNvSpPr/>
          <p:nvPr/>
        </p:nvSpPr>
        <p:spPr>
          <a:xfrm>
            <a:off x="5257800" y="3352680"/>
            <a:ext cx="914400" cy="990720"/>
          </a:xfrm>
          <a:prstGeom prst="pie">
            <a:avLst/>
          </a:prstGeom>
          <a:noFill/>
          <a:ln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Line 22"/>
          <p:cNvSpPr/>
          <p:nvPr/>
        </p:nvSpPr>
        <p:spPr>
          <a:xfrm flipV="1">
            <a:off x="6172200" y="2666520"/>
            <a:ext cx="685800" cy="685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Line 23"/>
          <p:cNvSpPr/>
          <p:nvPr/>
        </p:nvSpPr>
        <p:spPr>
          <a:xfrm>
            <a:off x="5410080" y="2362320"/>
            <a:ext cx="0" cy="19810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AutoShape 24"/>
          <p:cNvSpPr/>
          <p:nvPr/>
        </p:nvSpPr>
        <p:spPr>
          <a:xfrm>
            <a:off x="6400800" y="3984480"/>
            <a:ext cx="2590920" cy="1165320"/>
          </a:xfrm>
          <a:prstGeom prst="wedgeRectCallout">
            <a:avLst>
              <a:gd name="adj1" fmla="val -63712"/>
              <a:gd name="adj2" fmla="val -50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low start until reaching half of previous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cwn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33"/>
          <p:cNvSpPr/>
          <p:nvPr/>
        </p:nvSpPr>
        <p:spPr>
          <a:xfrm flipH="1">
            <a:off x="5456160" y="1698480"/>
            <a:ext cx="411120" cy="579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Text Box 36"/>
          <p:cNvSpPr/>
          <p:nvPr/>
        </p:nvSpPr>
        <p:spPr>
          <a:xfrm>
            <a:off x="5562720" y="1241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ou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Repeating Slow Start After Idle Period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a TCP connection goes idle for a wh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ntually, the network conditions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be many more flows are traversing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ngerous to start transmitting at the old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iously-idle TCP sender might blast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ing excessive congestion and packe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some TCP implementations repeat slow star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-start restart after an idle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59D4-3C46-4D3E-AEA9-C0C911F53A90}" type="slidenum">
              <a:rPr b="1" lang="en-US" sz="1200" spc="-1" strike="noStrike">
                <a:solidFill>
                  <a:srgbClr val="898989"/>
                </a:solidFill>
                <a:latin typeface="Courier New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airn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9C4-8429-4BBD-9967-8666D35CD20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Achieves a Notion of Fairn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ffective utilization is not only go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lso want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ai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various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definition: equal bandwidth sha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flows that each get 1/N of the bandwidt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what if flows traverse different path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: bandwidth shared in proportion to 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AA94-FFD1-4CCE-98D2-A518DA180EB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9" name="Group 16"/>
          <p:cNvGrpSpPr/>
          <p:nvPr/>
        </p:nvGrpSpPr>
        <p:grpSpPr>
          <a:xfrm>
            <a:off x="4129200" y="4802040"/>
            <a:ext cx="1074240" cy="536400"/>
            <a:chOff x="4129200" y="4802040"/>
            <a:chExt cx="1074240" cy="536400"/>
          </a:xfrm>
        </p:grpSpPr>
        <p:sp>
          <p:nvSpPr>
            <p:cNvPr id="470" name="Rectangle 5"/>
            <p:cNvSpPr/>
            <p:nvPr/>
          </p:nvSpPr>
          <p:spPr>
            <a:xfrm>
              <a:off x="4154400" y="480204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4539960" y="4830840"/>
              <a:ext cx="645480" cy="49536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Line 7"/>
            <p:cNvSpPr/>
            <p:nvPr/>
          </p:nvSpPr>
          <p:spPr>
            <a:xfrm>
              <a:off x="4129200" y="483084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Line 8"/>
            <p:cNvSpPr/>
            <p:nvPr/>
          </p:nvSpPr>
          <p:spPr>
            <a:xfrm>
              <a:off x="4151880" y="532620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4" name="Line 9"/>
            <p:cNvSpPr/>
            <p:nvPr/>
          </p:nvSpPr>
          <p:spPr>
            <a:xfrm>
              <a:off x="511740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504900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Line 11"/>
            <p:cNvSpPr/>
            <p:nvPr/>
          </p:nvSpPr>
          <p:spPr>
            <a:xfrm>
              <a:off x="498060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491220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Line 13"/>
            <p:cNvSpPr/>
            <p:nvPr/>
          </p:nvSpPr>
          <p:spPr>
            <a:xfrm>
              <a:off x="484380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Line 14"/>
            <p:cNvSpPr/>
            <p:nvPr/>
          </p:nvSpPr>
          <p:spPr>
            <a:xfrm>
              <a:off x="4772520" y="489708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Line 15"/>
            <p:cNvSpPr/>
            <p:nvPr/>
          </p:nvSpPr>
          <p:spPr>
            <a:xfrm>
              <a:off x="4235400" y="506916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81" name="Group 17"/>
          <p:cNvGrpSpPr/>
          <p:nvPr/>
        </p:nvGrpSpPr>
        <p:grpSpPr>
          <a:xfrm>
            <a:off x="6222960" y="4802040"/>
            <a:ext cx="1074240" cy="536400"/>
            <a:chOff x="6222960" y="4802040"/>
            <a:chExt cx="1074240" cy="536400"/>
          </a:xfrm>
        </p:grpSpPr>
        <p:sp>
          <p:nvSpPr>
            <p:cNvPr id="482" name="Rectangle 18"/>
            <p:cNvSpPr/>
            <p:nvPr/>
          </p:nvSpPr>
          <p:spPr>
            <a:xfrm>
              <a:off x="6248160" y="4802040"/>
              <a:ext cx="10490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3" name="Freeform 19"/>
            <p:cNvSpPr/>
            <p:nvPr/>
          </p:nvSpPr>
          <p:spPr>
            <a:xfrm>
              <a:off x="6633720" y="4830840"/>
              <a:ext cx="645480" cy="49536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>
              <a:off x="6222960" y="4830840"/>
              <a:ext cx="410760" cy="2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>
              <a:off x="6245640" y="5326200"/>
              <a:ext cx="405000" cy="1224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>
              <a:off x="721116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>
              <a:off x="714276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>
              <a:off x="7074360" y="4907160"/>
              <a:ext cx="21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>
              <a:off x="700596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>
              <a:off x="6937560" y="4897080"/>
              <a:ext cx="216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>
              <a:off x="6866280" y="4897080"/>
              <a:ext cx="2520" cy="305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>
              <a:off x="6329160" y="5069160"/>
              <a:ext cx="441000" cy="28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93" name="Group 29"/>
          <p:cNvGrpSpPr/>
          <p:nvPr/>
        </p:nvGrpSpPr>
        <p:grpSpPr>
          <a:xfrm>
            <a:off x="2036880" y="4800600"/>
            <a:ext cx="1074240" cy="535680"/>
            <a:chOff x="2036880" y="4800600"/>
            <a:chExt cx="1074240" cy="535680"/>
          </a:xfrm>
        </p:grpSpPr>
        <p:sp>
          <p:nvSpPr>
            <p:cNvPr id="494" name="Rectangle 30"/>
            <p:cNvSpPr/>
            <p:nvPr/>
          </p:nvSpPr>
          <p:spPr>
            <a:xfrm>
              <a:off x="2062080" y="4800600"/>
              <a:ext cx="104904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Freeform 31"/>
            <p:cNvSpPr/>
            <p:nvPr/>
          </p:nvSpPr>
          <p:spPr>
            <a:xfrm>
              <a:off x="2447640" y="4829040"/>
              <a:ext cx="645480" cy="495000"/>
            </a:xfrm>
            <a:prstGeom prst="pie">
              <a:avLst/>
            </a:pr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>
              <a:off x="2036880" y="4829040"/>
              <a:ext cx="410760" cy="252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>
              <a:off x="2059560" y="5324400"/>
              <a:ext cx="405000" cy="11880"/>
            </a:xfrm>
            <a:prstGeom prst="line">
              <a:avLst/>
            </a:prstGeom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8" name="Line 34"/>
            <p:cNvSpPr/>
            <p:nvPr/>
          </p:nvSpPr>
          <p:spPr>
            <a:xfrm>
              <a:off x="3025080" y="490536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9" name="Line 35"/>
            <p:cNvSpPr/>
            <p:nvPr/>
          </p:nvSpPr>
          <p:spPr>
            <a:xfrm>
              <a:off x="2956680" y="490536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0" name="Line 36"/>
            <p:cNvSpPr/>
            <p:nvPr/>
          </p:nvSpPr>
          <p:spPr>
            <a:xfrm>
              <a:off x="2888280" y="4905360"/>
              <a:ext cx="2160" cy="3042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1" name="Line 37"/>
            <p:cNvSpPr/>
            <p:nvPr/>
          </p:nvSpPr>
          <p:spPr>
            <a:xfrm>
              <a:off x="2819880" y="489528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2" name="Line 38"/>
            <p:cNvSpPr/>
            <p:nvPr/>
          </p:nvSpPr>
          <p:spPr>
            <a:xfrm>
              <a:off x="2751480" y="4895280"/>
              <a:ext cx="216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3" name="Line 39"/>
            <p:cNvSpPr/>
            <p:nvPr/>
          </p:nvSpPr>
          <p:spPr>
            <a:xfrm>
              <a:off x="2680200" y="4895280"/>
              <a:ext cx="25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4" name="Line 40"/>
            <p:cNvSpPr/>
            <p:nvPr/>
          </p:nvSpPr>
          <p:spPr>
            <a:xfrm>
              <a:off x="2143080" y="5067360"/>
              <a:ext cx="441000" cy="25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05" name="Line 41"/>
          <p:cNvSpPr/>
          <p:nvPr/>
        </p:nvSpPr>
        <p:spPr>
          <a:xfrm>
            <a:off x="1192320" y="5032440"/>
            <a:ext cx="7143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Freeform 43"/>
          <p:cNvSpPr/>
          <p:nvPr/>
        </p:nvSpPr>
        <p:spPr>
          <a:xfrm>
            <a:off x="1076400" y="5099040"/>
            <a:ext cx="2340000" cy="887400"/>
          </a:xfrm>
          <a:prstGeom prst="pie">
            <a:avLst/>
          </a:prstGeom>
          <a:noFill/>
          <a:ln w="381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Freeform 44"/>
          <p:cNvSpPr/>
          <p:nvPr/>
        </p:nvSpPr>
        <p:spPr>
          <a:xfrm>
            <a:off x="5838840" y="5143680"/>
            <a:ext cx="2340000" cy="887400"/>
          </a:xfrm>
          <a:prstGeom prst="pie">
            <a:avLst/>
          </a:prstGeom>
          <a:noFill/>
          <a:ln w="38160">
            <a:solidFill>
              <a:srgbClr val="4f81b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day: Congestion Contr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A25E-CCCE-41C0-A175-F40F0313C83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198108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548640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1981080" y="274320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8"/>
          <p:cNvSpPr/>
          <p:nvPr/>
        </p:nvSpPr>
        <p:spPr>
          <a:xfrm>
            <a:off x="3657600" y="53341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5486400" y="5562720"/>
            <a:ext cx="914400" cy="838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Straight Connector 12"/>
          <p:cNvSpPr/>
          <p:nvPr/>
        </p:nvSpPr>
        <p:spPr>
          <a:xfrm flipV="1">
            <a:off x="2895480" y="5752800"/>
            <a:ext cx="76212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Straight Connector 16"/>
          <p:cNvSpPr/>
          <p:nvPr/>
        </p:nvSpPr>
        <p:spPr>
          <a:xfrm>
            <a:off x="4572000" y="5753160"/>
            <a:ext cx="914400" cy="2286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1600200" y="2286000"/>
            <a:ext cx="601992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2"/>
          <p:cNvSpPr/>
          <p:nvPr/>
        </p:nvSpPr>
        <p:spPr>
          <a:xfrm>
            <a:off x="1600200" y="4952880"/>
            <a:ext cx="6019920" cy="1752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Straight Connector 25"/>
          <p:cNvSpPr/>
          <p:nvPr/>
        </p:nvSpPr>
        <p:spPr>
          <a:xfrm>
            <a:off x="2895480" y="3162240"/>
            <a:ext cx="25909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Straight Connector 27"/>
          <p:cNvSpPr/>
          <p:nvPr/>
        </p:nvSpPr>
        <p:spPr>
          <a:xfrm flipH="1">
            <a:off x="2436480" y="3583080"/>
            <a:ext cx="324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Straight Connector 28"/>
          <p:cNvSpPr/>
          <p:nvPr/>
        </p:nvSpPr>
        <p:spPr>
          <a:xfrm flipH="1">
            <a:off x="5943600" y="3581280"/>
            <a:ext cx="14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TextBox 30"/>
          <p:cNvSpPr/>
          <p:nvPr/>
        </p:nvSpPr>
        <p:spPr>
          <a:xfrm>
            <a:off x="3823200" y="25146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Box 31"/>
          <p:cNvSpPr/>
          <p:nvPr/>
        </p:nvSpPr>
        <p:spPr>
          <a:xfrm>
            <a:off x="3588120" y="313380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Box 35"/>
          <p:cNvSpPr/>
          <p:nvPr/>
        </p:nvSpPr>
        <p:spPr>
          <a:xfrm>
            <a:off x="4423680" y="50292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Box 36"/>
          <p:cNvSpPr/>
          <p:nvPr/>
        </p:nvSpPr>
        <p:spPr>
          <a:xfrm>
            <a:off x="6330600" y="243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6100200" y="51055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Box 30"/>
          <p:cNvSpPr/>
          <p:nvPr/>
        </p:nvSpPr>
        <p:spPr>
          <a:xfrm>
            <a:off x="380880" y="10666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can th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d-points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do to collectively to make good use of shared underlying resources? 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 About Cheating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 folks are more fair than oth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multiple TCP connections in parallel (BitTorr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ying the TCP implementation in the 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cloud services start TCP at &gt; 1 M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User Datagram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s the impac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guys slow down to make room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get an unfair share of th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6F4C-38DD-4A19-A4C9-8C787730F68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eventing Chea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ssible solution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s detect cheating and drop excess pack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user/customer failn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press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FB98-0D2A-4EE6-A350-4DE236CBA0E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is inevi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does not reserve resources in ad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actively tries to push the envel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gestion can be handl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ve increase, multiplicative de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start and slow-start re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undamental tens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rom the net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forcement of “TCP friendly” behavio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1460-2FBC-48E0-8A91-907752811F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ributed Resource Sha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3446-34F9-4E7C-A78B-80C2385926C6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-effort network does not “block” cal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they can easily become overloa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ion == “Load higher than capaci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s of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layer: Ethernet frame coll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yer: full IP packet buff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ess packets are simply dropp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 sender can simply retrans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153280" y="38098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7772400" y="3809880"/>
            <a:ext cx="38088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7391520" y="3809880"/>
            <a:ext cx="3808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7010280" y="3809880"/>
            <a:ext cx="38124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17" name="Straight Arrow Connector 26"/>
          <p:cNvCxnSpPr>
            <a:endCxn id="216" idx="1"/>
          </p:cNvCxnSpPr>
          <p:nvPr/>
        </p:nvCxnSpPr>
        <p:spPr>
          <a:xfrm flipV="1">
            <a:off x="6476760" y="3999960"/>
            <a:ext cx="533880" cy="385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18" name="Straight Arrow Connector 27"/>
          <p:cNvCxnSpPr/>
          <p:nvPr/>
        </p:nvCxnSpPr>
        <p:spPr>
          <a:xfrm flipV="1">
            <a:off x="8534160" y="3962160"/>
            <a:ext cx="533880" cy="388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219" name="TextBox 28"/>
          <p:cNvSpPr/>
          <p:nvPr/>
        </p:nvSpPr>
        <p:spPr>
          <a:xfrm>
            <a:off x="7396920" y="426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gestion Collap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ly leads to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congestion collap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s retransmit the lost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reat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ve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5352-C1F9-4B48-955D-DB46BE16A25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4"/>
          <p:cNvSpPr/>
          <p:nvPr/>
        </p:nvSpPr>
        <p:spPr>
          <a:xfrm flipV="1">
            <a:off x="1463760" y="3581280"/>
            <a:ext cx="0" cy="16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1476360" y="5281560"/>
            <a:ext cx="235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5280" y="5273640"/>
            <a:ext cx="75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49760" y="4133880"/>
            <a:ext cx="1148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pu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9"/>
          <p:cNvSpPr/>
          <p:nvPr/>
        </p:nvSpPr>
        <p:spPr>
          <a:xfrm flipV="1">
            <a:off x="1476360" y="4123800"/>
            <a:ext cx="963720" cy="1157400"/>
          </a:xfrm>
          <a:prstGeom prst="line">
            <a:avLst/>
          </a:prstGeom>
          <a:ln w="507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28" name="AutoShape 10"/>
          <p:cNvCxnSpPr/>
          <p:nvPr/>
        </p:nvCxnSpPr>
        <p:spPr>
          <a:xfrm flipH="1" rot="16200000">
            <a:off x="2424960" y="4159440"/>
            <a:ext cx="1092600" cy="1069200"/>
          </a:xfrm>
          <a:prstGeom prst="curvedConnector5">
            <a:avLst>
              <a:gd name="adj1" fmla="val -14963"/>
              <a:gd name="adj2" fmla="val 49983"/>
              <a:gd name="adj3" fmla="val -14963"/>
            </a:avLst>
          </a:prstGeom>
          <a:ln w="50760">
            <a:solidFill>
              <a:srgbClr val="4f81bd"/>
            </a:solidFill>
            <a:miter/>
          </a:ln>
        </p:spPr>
      </p:cxnSp>
      <p:sp>
        <p:nvSpPr>
          <p:cNvPr id="229" name="Text Box 11"/>
          <p:cNvSpPr/>
          <p:nvPr/>
        </p:nvSpPr>
        <p:spPr>
          <a:xfrm>
            <a:off x="3384000" y="4035600"/>
            <a:ext cx="18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es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lapse”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638680" y="3962520"/>
            <a:ext cx="3330720" cy="119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crease in load that results in 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ecrea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in useful work done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 and Respond to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828800" y="4571640"/>
            <a:ext cx="60199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does the end host se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can the end host chang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006F-7879-4381-96A5-C548467B053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Cloud"/>
          <p:cNvSpPr/>
          <p:nvPr/>
        </p:nvSpPr>
        <p:spPr>
          <a:xfrm>
            <a:off x="2421000" y="1700280"/>
            <a:ext cx="4262400" cy="2855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5" name="Picture 5" descr="j0285750"/>
          <p:cNvPicPr/>
          <p:nvPr/>
        </p:nvPicPr>
        <p:blipFill>
          <a:blip r:embed="rId1"/>
          <a:stretch/>
        </p:blipFill>
        <p:spPr>
          <a:xfrm>
            <a:off x="7319880" y="24685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j0285750"/>
          <p:cNvPicPr/>
          <p:nvPr/>
        </p:nvPicPr>
        <p:blipFill>
          <a:blip r:embed="rId2"/>
          <a:stretch/>
        </p:blipFill>
        <p:spPr>
          <a:xfrm flipH="1">
            <a:off x="-360" y="250668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237" name="Line 7"/>
          <p:cNvSpPr/>
          <p:nvPr/>
        </p:nvSpPr>
        <p:spPr>
          <a:xfrm>
            <a:off x="1614600" y="2968560"/>
            <a:ext cx="88416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6684840" y="2968560"/>
            <a:ext cx="884520" cy="76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311000" y="2514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urier New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tecting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Link lay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sense multiple acc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ing your own frame collide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Network lay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ing end-to-end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 delay or loss over the p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19EE-6A97-480A-8F6B-7E0E65E5E66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sponding to Conges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detecting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the sending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what if conditions chang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more bandwidth becomes availabl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 to keep sending at a low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 sending rate, a little at a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if packets get thr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9B88-5625-4AC5-B391-5A472F184D2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20:21:05Z</dcterms:created>
  <dc:creator>Kai Li</dc:creator>
  <dc:description/>
  <dc:language>en-US</dc:language>
  <cp:lastModifiedBy>Jennifer Rexford</cp:lastModifiedBy>
  <dcterms:modified xsi:type="dcterms:W3CDTF">2012-02-29T01:38:06Z</dcterms:modified>
  <cp:revision>1279</cp:revision>
  <dc:subject/>
  <dc:title>Communication</dc:title>
</cp:coreProperties>
</file>