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2435326-390A-43BF-AE47-A67BBAB8B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872CF1A-ACD0-415E-93E1-E84A61181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6225F2E-6544-48E0-A1CA-0742744D9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1C7BB6C-2C66-4A3E-89EC-2B8F4CF12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2597646-984A-482E-B51F-4FBDC8A3B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67DC1A6-A111-41B5-B3CD-671408B6D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B741014-ACD2-457A-9FF6-8991C2D40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B5F6867-5B45-4575-93D1-BCEA95ABA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7C8AD2A-2DB3-4856-BFE9-43E7258A5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786D7BE-D0B2-4A25-B27E-886F9A556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8D10350-1B13-4D7C-800A-0A5405CDC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6EB972B-A2EE-4F93-A34C-FB7054F5C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CECFBAB-A28D-4001-A7A5-4861F4D3E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5AD6419-71D5-498F-B8CF-6619D7E70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E58795-6187-4D0D-ABAC-B14FE2072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4D3538A-2653-4DDA-ADCB-F012FCB57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A8F3506-B03F-4F7B-9F71-9BB655663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520A892-68A0-4722-B853-EBB438805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A7F9223-6612-44E5-A947-22E706451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02F5513-83E7-441D-993C-5C6B96903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D44337C-4377-4135-9E50-C615FD1E0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903F51C-D5A9-43EA-BB39-1A9C33428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7F22D44-0C0B-4968-946B-45715B97E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E803A29-0187-49D8-8C77-9E6293E11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EC993F-35A1-4CE1-BB4B-258C53433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90FCA05-BBED-4123-8260-A4404A6F5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9A49C0E-065D-428F-AF7B-2D1F1E55F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683AA01-12D3-4C83-A36F-EBFF2973B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AC9598-C6CE-42DA-8EFD-49EC8CD11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61588A5-7A22-46FE-BD55-4B016C4E0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F99BD39-2C27-4013-A772-E0A770DCD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233E78F-1817-4960-B3A1-EBC477294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EA44588-E891-4CAB-ADE0-1871D6D39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80FCB42-E231-48E5-9B9A-4FA8C4B5D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82ED908-9905-487B-A169-42EF88865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C385565-8441-4632-BAA1-65C9DCEE3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26034D2-7E39-49B4-9A88-34A9EBA6B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6B666FA-4EEE-4F57-9BCD-48D783FE2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B1350E6-F571-49B9-8894-6993E1947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C21DD3B-1D60-4CA5-9CFB-58D0F3DB1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9F470A6-D127-4532-99BE-68839CD1B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F9DE9A-CD80-4DAA-9583-270102DE7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DAD-9A35-4582-8328-8D748E3C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467-AD5E-42FF-BB11-3B6CBFB9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9AC-1873-4069-8C20-05BC7A25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0E0-629C-41F6-ADAD-591F0DB7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5129E-F1D5-422C-9BB9-F9DA408539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EB245-F239-498B-BF5C-41CDC28F4C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6EE00-BDEB-43FA-9C26-5244C680CC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18700-B22E-481A-A508-3A0A3760AE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6C0D5-0AD0-4028-BD79-EBFD512E43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6B95B-A78B-4768-AFB0-6B9B9DD890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06870-E503-48BD-A21C-89D6258D97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249-4204-4E86-AD78-C7008679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2E1EF-0307-413D-A871-E5CEC656F8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B4951-B48F-4C66-ADF0-18A1AE1486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DEA88-767C-4325-9634-70EDA21214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DCF91-FC98-45C5-B3CF-B820150DB7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0A25E-69B3-4AEB-AD4B-1D3ED19BFB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30847-B7BA-4A7B-800B-D8AE717549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C7B8C-9082-4C42-AE60-80164E2A33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A96FB-3E12-4B71-8E0F-D53788D5F5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42688-5905-4FAD-A141-D2F3B72F73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72C95-B807-4DE3-8A03-39C9E35A00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622-36DA-4461-AB62-FD56A58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F044C-8A94-400A-B8E2-AB7A1FE5DD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0C1F5-7918-443A-BF6D-8532053D16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54DC6-DC5F-49D5-8162-90D49C3C70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50241-5B94-401E-8350-B90E891833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39A5D-14DD-4526-B71A-1F061D3F14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C5C74-741D-4AA3-8F03-290462CF24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F9059-A325-4240-A23A-856442A6AC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9F18-85CB-4374-B406-E0C76F856F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3654-47CA-44F0-B2AE-22397D86A2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FF5E-5987-45A5-A53F-8A5FA22D3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5F7-071F-44CE-B014-BA64A496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80D4-B43C-4A4B-B20A-62DC925A9A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6D4B-1E78-4BAB-813A-1C59F07145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C9F5-3846-4A38-B6D8-E3E8C61605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F9E9-17FC-4825-94CC-110048CE5C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2D3-DABA-42EC-87B2-FA82FFCB11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47B6-14C8-4D6A-9A31-A41A9682AD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03A2-B8F2-4EA7-95F3-EBDA9F6BF1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B3D4-1857-4755-96B3-71F08DCD07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462E-8F31-4E88-B2D3-615C0F93D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C0F-4CF2-44F6-BD4A-2B53449F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A36-807C-4348-9DA4-B810BAFA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A44-6B0E-45B6-9D55-93DA9EBC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0BF-0097-4126-901A-F64B02D0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292-6C45-4B1D-8B08-9727BB0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3D03-02B7-4B46-B0C5-460C209981BD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6A05-ECE2-4F63-B7AE-63E4A0FCB51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A8B7-2EC7-4CAB-B012-9713E06519F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9BA6-8EF5-4BC9-8AE7-CB9AED56B44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7EF1-4C7A-44E3-9AFB-AF671A819B5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Transport Layer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E798-9413-40F1-BC42-481F857F040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“Stream of Bytes” Servi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460520" y="2122560"/>
            <a:ext cx="5028840" cy="609480"/>
            <a:chOff x="1460520" y="2122560"/>
            <a:chExt cx="5028840" cy="609480"/>
          </a:xfrm>
        </p:grpSpPr>
        <p:sp>
          <p:nvSpPr>
            <p:cNvPr id="240" name="Line 4"/>
            <p:cNvSpPr/>
            <p:nvPr/>
          </p:nvSpPr>
          <p:spPr>
            <a:xfrm>
              <a:off x="1460520" y="212256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>
              <a:off x="1460520" y="27320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 flipH="1">
              <a:off x="6026400" y="212256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 flipH="1">
              <a:off x="6026400" y="27320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44" name="Line 8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Line 15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Line 16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Line 23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Line 24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Line 27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Line 28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Line 30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Line 31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Line 32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Line 33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Line 35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Line 36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Line 37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Line 38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Line 39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Line 40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41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Text Box 42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43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Text Box 44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Line 45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Group 46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283" name="Line 47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4" name="Line 48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5" name="Line 49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Line 50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7" name="Line 51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Line 52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Line 53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Line 54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Line 55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Line 56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Line 58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Line 59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Line 60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Line 61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Line 62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Line 63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Line 64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Line 65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Line 66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Line 67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Line 68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Line 69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Line 70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Line 71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Line 72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Line 73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Line 74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Line 75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Line 76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77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78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Line 79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Line 80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ine 81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Line 82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Line 83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84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 Box 85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Text Box 86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Text Box 87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Line 88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Line 89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Text Box 90"/>
          <p:cNvSpPr/>
          <p:nvPr/>
        </p:nvSpPr>
        <p:spPr>
          <a:xfrm>
            <a:off x="256680" y="16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91"/>
          <p:cNvSpPr/>
          <p:nvPr/>
        </p:nvSpPr>
        <p:spPr>
          <a:xfrm>
            <a:off x="241560" y="480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 Box 92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Line 93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Text Box 94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Line 95"/>
          <p:cNvSpPr/>
          <p:nvPr/>
        </p:nvSpPr>
        <p:spPr>
          <a:xfrm>
            <a:off x="1486080" y="281772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Line 96"/>
          <p:cNvSpPr/>
          <p:nvPr/>
        </p:nvSpPr>
        <p:spPr>
          <a:xfrm>
            <a:off x="1981080" y="281952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Line 97"/>
          <p:cNvSpPr/>
          <p:nvPr/>
        </p:nvSpPr>
        <p:spPr>
          <a:xfrm>
            <a:off x="2476440" y="282096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Line 98"/>
          <p:cNvSpPr/>
          <p:nvPr/>
        </p:nvSpPr>
        <p:spPr>
          <a:xfrm>
            <a:off x="2971800" y="28224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Line 99"/>
          <p:cNvSpPr/>
          <p:nvPr/>
        </p:nvSpPr>
        <p:spPr>
          <a:xfrm>
            <a:off x="3467160" y="28242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Line 100"/>
          <p:cNvSpPr/>
          <p:nvPr/>
        </p:nvSpPr>
        <p:spPr>
          <a:xfrm>
            <a:off x="3962520" y="28256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Line 101"/>
          <p:cNvSpPr/>
          <p:nvPr/>
        </p:nvSpPr>
        <p:spPr>
          <a:xfrm>
            <a:off x="4457880" y="28274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Line 102"/>
          <p:cNvSpPr/>
          <p:nvPr/>
        </p:nvSpPr>
        <p:spPr>
          <a:xfrm>
            <a:off x="4952880" y="28288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Line 103"/>
          <p:cNvSpPr/>
          <p:nvPr/>
        </p:nvSpPr>
        <p:spPr>
          <a:xfrm>
            <a:off x="5448240" y="28306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FCA2-BCD0-4E4B-B07A-056AA46D17B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…</a:t>
            </a: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mulated Using TCP “Segments”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1447920" y="2128680"/>
            <a:ext cx="5028840" cy="609840"/>
            <a:chOff x="1447920" y="2128680"/>
            <a:chExt cx="5028840" cy="609840"/>
          </a:xfrm>
        </p:grpSpPr>
        <p:sp>
          <p:nvSpPr>
            <p:cNvPr id="343" name="Line 4"/>
            <p:cNvSpPr/>
            <p:nvPr/>
          </p:nvSpPr>
          <p:spPr>
            <a:xfrm>
              <a:off x="1447920" y="2128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4" name="Line 5"/>
            <p:cNvSpPr/>
            <p:nvPr/>
          </p:nvSpPr>
          <p:spPr>
            <a:xfrm>
              <a:off x="1447920" y="2738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5" name="Line 6"/>
            <p:cNvSpPr/>
            <p:nvPr/>
          </p:nvSpPr>
          <p:spPr>
            <a:xfrm flipH="1">
              <a:off x="6013800" y="2128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6" name="Line 7"/>
            <p:cNvSpPr/>
            <p:nvPr/>
          </p:nvSpPr>
          <p:spPr>
            <a:xfrm flipH="1">
              <a:off x="6013800" y="2738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47" name="Line 8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10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12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Line 16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Line 17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Line 19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Line 20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Line 21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Line 22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Line 23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Line 24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Line 25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Line 26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Line 27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Line 32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Line 33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Line 34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Line 35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Line 36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Line 37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Line 38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Line 39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Line 40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Text Box 41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Text Box 42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Text Box 43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Text Box 44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Line 45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5" name="Group 46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386" name="Line 47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7" name="Line 48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8" name="Line 49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Line 50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0" name="Line 51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Line 52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Line 53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Line 54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Line 55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Line 56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Line 57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Line 58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Line 59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Line 60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Line 61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Line 62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Line 63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Line 64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Line 65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Line 66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Line 67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Line 68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Line 69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Line 70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Line 71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Line 72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Line 73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74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Line 75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Line 76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Line 77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Line 78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Line 79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Line 80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Line 81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Line 82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Line 83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Text Box 84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Text Box 85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Text Box 86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Text Box 87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Line 88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Line 89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Text Box 90"/>
          <p:cNvSpPr/>
          <p:nvPr/>
        </p:nvSpPr>
        <p:spPr>
          <a:xfrm>
            <a:off x="256680" y="16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Text Box 91"/>
          <p:cNvSpPr/>
          <p:nvPr/>
        </p:nvSpPr>
        <p:spPr>
          <a:xfrm>
            <a:off x="241560" y="480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Rectangle 92"/>
          <p:cNvSpPr/>
          <p:nvPr/>
        </p:nvSpPr>
        <p:spPr>
          <a:xfrm>
            <a:off x="1447920" y="32004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Text Box 93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Line 94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Rectangle 95"/>
          <p:cNvSpPr/>
          <p:nvPr/>
        </p:nvSpPr>
        <p:spPr>
          <a:xfrm>
            <a:off x="2743200" y="44956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Line 96"/>
          <p:cNvSpPr/>
          <p:nvPr/>
        </p:nvSpPr>
        <p:spPr>
          <a:xfrm>
            <a:off x="1447920" y="3581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Line 97"/>
          <p:cNvSpPr/>
          <p:nvPr/>
        </p:nvSpPr>
        <p:spPr>
          <a:xfrm>
            <a:off x="2666880" y="358128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Line 98"/>
          <p:cNvSpPr/>
          <p:nvPr/>
        </p:nvSpPr>
        <p:spPr>
          <a:xfrm>
            <a:off x="1523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Line 99"/>
          <p:cNvSpPr/>
          <p:nvPr/>
        </p:nvSpPr>
        <p:spPr>
          <a:xfrm>
            <a:off x="1676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Line 100"/>
          <p:cNvSpPr/>
          <p:nvPr/>
        </p:nvSpPr>
        <p:spPr>
          <a:xfrm>
            <a:off x="1828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Line 101"/>
          <p:cNvSpPr/>
          <p:nvPr/>
        </p:nvSpPr>
        <p:spPr>
          <a:xfrm>
            <a:off x="19810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Line 102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Line 103"/>
          <p:cNvSpPr/>
          <p:nvPr/>
        </p:nvSpPr>
        <p:spPr>
          <a:xfrm>
            <a:off x="2133720" y="2967120"/>
            <a:ext cx="30456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Line 104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Line 105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Line 106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Line 107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Line 108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Line 109"/>
          <p:cNvSpPr/>
          <p:nvPr/>
        </p:nvSpPr>
        <p:spPr>
          <a:xfrm>
            <a:off x="3429000" y="5100480"/>
            <a:ext cx="30492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Text Box 110"/>
          <p:cNvSpPr/>
          <p:nvPr/>
        </p:nvSpPr>
        <p:spPr>
          <a:xfrm>
            <a:off x="1446480" y="3203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Text Box 111"/>
          <p:cNvSpPr/>
          <p:nvPr/>
        </p:nvSpPr>
        <p:spPr>
          <a:xfrm>
            <a:off x="2665440" y="45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Text Box 112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AutoShape 113"/>
          <p:cNvSpPr/>
          <p:nvPr/>
        </p:nvSpPr>
        <p:spPr>
          <a:xfrm>
            <a:off x="3727440" y="2890800"/>
            <a:ext cx="4992840" cy="1293840"/>
          </a:xfrm>
          <a:prstGeom prst="wedgeRectCallout">
            <a:avLst>
              <a:gd name="adj1" fmla="val -72481"/>
              <a:gd name="adj2" fmla="val -98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 sent when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ment full (Max Segment Size),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full, but times out, 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ed” by application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DFFB-DB9F-4F15-9DD3-3E7A7DFBB91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Seg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igger than Maximum Transmission Unit (M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up to 1500 bytes on an Ethernet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packet with a TCP header and data in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header is typically 20 bytes 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seg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ore than Maximum Segment Size (MSS)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up to 1460 consecutive bytes from the str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Group 16"/>
          <p:cNvGrpSpPr/>
          <p:nvPr/>
        </p:nvGrpSpPr>
        <p:grpSpPr>
          <a:xfrm>
            <a:off x="2743200" y="1066680"/>
            <a:ext cx="6200640" cy="717840"/>
            <a:chOff x="2743200" y="1066680"/>
            <a:chExt cx="6200640" cy="717840"/>
          </a:xfrm>
        </p:grpSpPr>
        <p:sp>
          <p:nvSpPr>
            <p:cNvPr id="457" name="Rectangle 4"/>
            <p:cNvSpPr/>
            <p:nvPr/>
          </p:nvSpPr>
          <p:spPr>
            <a:xfrm>
              <a:off x="2743200" y="1098360"/>
              <a:ext cx="5029200" cy="68616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6858000" y="1098360"/>
              <a:ext cx="0" cy="686160"/>
            </a:xfrm>
            <a:prstGeom prst="line">
              <a:avLst/>
            </a:prstGeom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822720" y="13269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 Hd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>
              <a:off x="2743200" y="125064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419360" y="1174680"/>
              <a:ext cx="7617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4282560" y="106668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 Dat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63" name="Group 10"/>
            <p:cNvGrpSpPr/>
            <p:nvPr/>
          </p:nvGrpSpPr>
          <p:grpSpPr>
            <a:xfrm>
              <a:off x="2819160" y="1326960"/>
              <a:ext cx="3962520" cy="381240"/>
              <a:chOff x="2819160" y="1326960"/>
              <a:chExt cx="3962520" cy="381240"/>
            </a:xfrm>
          </p:grpSpPr>
          <p:sp>
            <p:nvSpPr>
              <p:cNvPr id="464" name="Rectangle 11"/>
              <p:cNvSpPr/>
              <p:nvPr/>
            </p:nvSpPr>
            <p:spPr>
              <a:xfrm>
                <a:off x="2819160" y="1326960"/>
                <a:ext cx="3962520" cy="3812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5" name="Line 12"/>
              <p:cNvSpPr/>
              <p:nvPr/>
            </p:nvSpPr>
            <p:spPr>
              <a:xfrm>
                <a:off x="6060960" y="13269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66" name="Text Box 13"/>
            <p:cNvSpPr/>
            <p:nvPr/>
          </p:nvSpPr>
          <p:spPr>
            <a:xfrm>
              <a:off x="6001200" y="137628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CP Hdr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777120" y="1376280"/>
              <a:ext cx="182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CP Data (segment)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AutoShape 15"/>
            <p:cNvSpPr/>
            <p:nvPr/>
          </p:nvSpPr>
          <p:spPr>
            <a:xfrm>
              <a:off x="7945560" y="1324080"/>
              <a:ext cx="998280" cy="230040"/>
            </a:xfrm>
            <a:prstGeom prst="rightArrow">
              <a:avLst>
                <a:gd name="adj1" fmla="val 50000"/>
                <a:gd name="adj2" fmla="val 1084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99F9-5A16-4084-8788-B03B6FF3254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quence Numb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72" name="Group 4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473" name="Line 5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Line 6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Line 7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Line 8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77" name="Line 9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Line 11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Line 12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Line 13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Line 15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Line 16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5" name="Line 17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Line 18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Line 22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Line 23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Line 24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Line 25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Line 26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Line 27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Line 28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Line 29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Line 30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Line 32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Line 33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Line 34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Line 35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Line 36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Line 37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Line 39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8" name="Line 40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9" name="Line 41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0" name="Group 42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511" name="Line 43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2" name="Line 44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3" name="Line 45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4" name="Line 46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15" name="Line 47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Line 48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Line 49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Line 50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Line 51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Line 52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Line 53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Line 54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Line 55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Line 56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Line 57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Line 58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Line 59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Line 60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Line 61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Line 62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Line 63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Line 64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Line 65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Line 66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Line 67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Line 68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Line 69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Line 70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Line 71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Line 72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Line 73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Line 74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Line 75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Line 76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Line 77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Line 78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Line 79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Text Box 80"/>
          <p:cNvSpPr/>
          <p:nvPr/>
        </p:nvSpPr>
        <p:spPr>
          <a:xfrm>
            <a:off x="511920" y="129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81"/>
          <p:cNvSpPr/>
          <p:nvPr/>
        </p:nvSpPr>
        <p:spPr>
          <a:xfrm>
            <a:off x="497160" y="5056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Rectangle 82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Rectangle 83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Line 84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Line 85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Line 86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Line 87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Line 88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Line 89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8" name="Line 90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Line 91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Line 92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Text Box 98"/>
          <p:cNvSpPr/>
          <p:nvPr/>
        </p:nvSpPr>
        <p:spPr>
          <a:xfrm>
            <a:off x="2611440" y="3454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7" name="Text Box 99"/>
          <p:cNvSpPr/>
          <p:nvPr/>
        </p:nvSpPr>
        <p:spPr>
          <a:xfrm>
            <a:off x="3835440" y="47642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Text Box 104"/>
          <p:cNvSpPr/>
          <p:nvPr/>
        </p:nvSpPr>
        <p:spPr>
          <a:xfrm>
            <a:off x="1003680" y="185112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Line 105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AutoShape 106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Rectangle 107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Rectangle 109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 Box 111"/>
          <p:cNvSpPr/>
          <p:nvPr/>
        </p:nvSpPr>
        <p:spPr>
          <a:xfrm rot="5390400">
            <a:off x="2381400" y="257472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itial Sequence Number (ISN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quence number for the very first by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hy not a de facto ISN of 0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actical issue: reuse of port numb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 numbers must (eventually) get used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old packet may still be in f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ssociated with the new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, TCP must change the ISN over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from a 32-bit clock that ticks every 4 micro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wraps around once every 4.55 hour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ECC3-E2DE-4462-91FB-C649BE5AD70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liable Delivery on a Lossy Channel With Bit Erro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AE00-3788-491A-9321-DD0C33CC9E9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of Reliable Data Transf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 a perfectly reliable chann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y: sender sends, and receiver rece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 a channel with bit err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detects errors and requests re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 a lossy channel with bit err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data are missing, and others corrup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cannot always detec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 a channel that may reorder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cannot distinguish loss from out-of-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BCE1-50F0-4728-93EB-9DB32C0130D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 Analog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 and Bob are talk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f Alice couldn’t understand Bob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b asks Alice to repeat what she s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if Bob hasn’t heard Alice for a whil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lice just being quiet? Has she lost rece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long should Bob just keep on tal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Alice should periodically say “uh huh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Bob should ask “Can you hear me now?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F9FD-EE63-47D7-9BAA-0725C48D2EF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6" name="Picture 9" descr=""/>
          <p:cNvPicPr/>
          <p:nvPr/>
        </p:nvPicPr>
        <p:blipFill>
          <a:blip r:embed="rId1"/>
          <a:stretch/>
        </p:blipFill>
        <p:spPr>
          <a:xfrm flipH="1">
            <a:off x="6934320" y="1170000"/>
            <a:ext cx="2209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ake-Aways from the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cknowledgments from recei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ve: “okay” or “uh huh” or “A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: “please repeat that” or “NA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transmission by the sen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ing an “A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receiving a “NA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imeout by the sender (“stop and wait”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wait forever without some acknowled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E3E3-3662-4C17-924E-1A6EAD9E2B2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869F-8E1D-47F7-9C0F-EE918021337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Support for Reliable Deliver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Detect bit errors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checksu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detect corrupted data at the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ing the receiver to drop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Detect missing data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sequence numb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detect a gap in the stream of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.. and for putting the data back in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Recover from lost data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retransmi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retransmits lost or corrupte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main ways to detect lost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Protocol Stack: Key Abstrac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4191120"/>
            <a:ext cx="85345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nsport layer is where we “pay the piper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applications with good abst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support or feedback from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0941-DF78-4CE7-BC22-AC1BE1D7184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2666880" y="1366920"/>
            <a:ext cx="4800600" cy="2438280"/>
            <a:chOff x="2666880" y="1366920"/>
            <a:chExt cx="4800600" cy="2438280"/>
          </a:xfrm>
        </p:grpSpPr>
        <p:sp>
          <p:nvSpPr>
            <p:cNvPr id="172" name="Rectangle 4"/>
            <p:cNvSpPr/>
            <p:nvPr/>
          </p:nvSpPr>
          <p:spPr>
            <a:xfrm>
              <a:off x="2666880" y="3195720"/>
              <a:ext cx="4800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loc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2666880" y="2587680"/>
              <a:ext cx="4800600" cy="608040"/>
            </a:xfrm>
            <a:prstGeom prst="rect">
              <a:avLst/>
            </a:prstGeom>
            <a:solidFill>
              <a:srgbClr val="3c82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glob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2666880" y="1977840"/>
              <a:ext cx="27432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able stream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2666880" y="1366920"/>
              <a:ext cx="4800600" cy="610920"/>
            </a:xfrm>
            <a:prstGeom prst="rect">
              <a:avLst/>
            </a:prstGeom>
            <a:solidFill>
              <a:srgbClr val="00d1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5410080" y="1976400"/>
              <a:ext cx="20574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ssage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77" name="TextBox 11"/>
          <p:cNvSpPr/>
          <p:nvPr/>
        </p:nvSpPr>
        <p:spPr>
          <a:xfrm>
            <a:off x="1769400" y="3348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1259280" y="2687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1066680" y="2027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870480" y="13669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30F2-F10C-4DF5-9D79-45AACD3DB74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Acknowledg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596" name="Group 4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597" name="Line 5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9" name="Line 7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0" name="Line 8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01" name="Line 9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Line 10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Line 11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Line 12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Line 14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Line 26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Line 27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Line 28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Line 29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Line 30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Line 31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Line 32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Line 33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Line 34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Line 35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Line 36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Line 37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0" name="Line 38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Line 39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Line 40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3" name="Line 41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4" name="Group 42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635" name="Line 43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6" name="Line 44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7" name="Line 45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8" name="Line 46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39" name="Line 47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Line 48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Line 49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Line 50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Line 51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4" name="Line 52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Line 53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Line 54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7" name="Line 55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Line 56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Line 57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Line 58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Line 59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Line 60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3" name="Line 61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Line 62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Line 63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6" name="Line 64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Line 65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Line 66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Line 67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Line 68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Line 69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Line 70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Line 71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Line 72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Line 73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Line 74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Line 75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Line 76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Line 77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Line 78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Line 79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Text Box 80"/>
          <p:cNvSpPr/>
          <p:nvPr/>
        </p:nvSpPr>
        <p:spPr>
          <a:xfrm>
            <a:off x="511920" y="129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Text Box 81"/>
          <p:cNvSpPr/>
          <p:nvPr/>
        </p:nvSpPr>
        <p:spPr>
          <a:xfrm>
            <a:off x="497160" y="5056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Rectangle 82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Rectangle 83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Line 84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Line 85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Line 86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Line 87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Line 88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Line 89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Line 90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3" name="Line 91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Line 92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Line 93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Line 94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Line 95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Line 96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9" name="Line 97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Text Box 98"/>
          <p:cNvSpPr/>
          <p:nvPr/>
        </p:nvSpPr>
        <p:spPr>
          <a:xfrm>
            <a:off x="2611440" y="3454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Text Box 99"/>
          <p:cNvSpPr/>
          <p:nvPr/>
        </p:nvSpPr>
        <p:spPr>
          <a:xfrm>
            <a:off x="3835440" y="47642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Text Box 104"/>
          <p:cNvSpPr/>
          <p:nvPr/>
        </p:nvSpPr>
        <p:spPr>
          <a:xfrm>
            <a:off x="1003680" y="185112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Line 105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AutoShape 106"/>
          <p:cNvSpPr/>
          <p:nvPr/>
        </p:nvSpPr>
        <p:spPr>
          <a:xfrm>
            <a:off x="304920" y="3298680"/>
            <a:ext cx="2160360" cy="66384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Rectangle 107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AutoShape 108"/>
          <p:cNvSpPr/>
          <p:nvPr/>
        </p:nvSpPr>
        <p:spPr>
          <a:xfrm>
            <a:off x="5742000" y="3755880"/>
            <a:ext cx="1905120" cy="914400"/>
          </a:xfrm>
          <a:prstGeom prst="wedgeRectCallout">
            <a:avLst>
              <a:gd name="adj1" fmla="val -76666"/>
              <a:gd name="adj2" fmla="val 150523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sequence number = next expected byt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Rectangle 109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utomatic Repeat reQuest (ARQ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282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CK and timeou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sends ACK wh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receives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waits for AC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imes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st ARQ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a packet, stop and wait until ACK arriv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CF3B-0F3D-4C8F-B5DC-40C367241C5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1" name="Group 18"/>
          <p:cNvGrpSpPr/>
          <p:nvPr/>
        </p:nvGrpSpPr>
        <p:grpSpPr>
          <a:xfrm>
            <a:off x="5257800" y="1905120"/>
            <a:ext cx="3429000" cy="3809880"/>
            <a:chOff x="5257800" y="1905120"/>
            <a:chExt cx="3429000" cy="3809880"/>
          </a:xfrm>
        </p:grpSpPr>
        <p:sp>
          <p:nvSpPr>
            <p:cNvPr id="702" name="Rectangle 2"/>
            <p:cNvSpPr/>
            <p:nvPr/>
          </p:nvSpPr>
          <p:spPr>
            <a:xfrm>
              <a:off x="5257800" y="1905120"/>
              <a:ext cx="342900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3" name="Text Box 4"/>
            <p:cNvSpPr/>
            <p:nvPr/>
          </p:nvSpPr>
          <p:spPr>
            <a:xfrm>
              <a:off x="5335200" y="479952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4" name="Line 5"/>
            <p:cNvSpPr/>
            <p:nvPr/>
          </p:nvSpPr>
          <p:spPr>
            <a:xfrm>
              <a:off x="7986960" y="2922480"/>
              <a:ext cx="2880" cy="18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05" name="Group 6"/>
            <p:cNvGrpSpPr/>
            <p:nvPr/>
          </p:nvGrpSpPr>
          <p:grpSpPr>
            <a:xfrm>
              <a:off x="6589800" y="2992680"/>
              <a:ext cx="1357920" cy="617040"/>
              <a:chOff x="6589800" y="2992680"/>
              <a:chExt cx="1357920" cy="617040"/>
            </a:xfrm>
          </p:grpSpPr>
          <p:sp>
            <p:nvSpPr>
              <p:cNvPr id="706" name="Line 7"/>
              <p:cNvSpPr/>
              <p:nvPr/>
            </p:nvSpPr>
            <p:spPr>
              <a:xfrm>
                <a:off x="6589800" y="3332520"/>
                <a:ext cx="1357920" cy="27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7" name="Text Box 8"/>
              <p:cNvSpPr/>
              <p:nvPr/>
            </p:nvSpPr>
            <p:spPr>
              <a:xfrm rot="688200">
                <a:off x="6739920" y="308376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acket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08" name="Group 9"/>
            <p:cNvGrpSpPr/>
            <p:nvPr/>
          </p:nvGrpSpPr>
          <p:grpSpPr>
            <a:xfrm>
              <a:off x="6532200" y="3822120"/>
              <a:ext cx="1431000" cy="502200"/>
              <a:chOff x="6532200" y="3822120"/>
              <a:chExt cx="1431000" cy="502200"/>
            </a:xfrm>
          </p:grpSpPr>
          <p:sp>
            <p:nvSpPr>
              <p:cNvPr id="709" name="Line 10"/>
              <p:cNvSpPr/>
              <p:nvPr/>
            </p:nvSpPr>
            <p:spPr>
              <a:xfrm flipV="1">
                <a:off x="6532200" y="4102200"/>
                <a:ext cx="1431000" cy="22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0" name="Text Box 11"/>
              <p:cNvSpPr/>
              <p:nvPr/>
            </p:nvSpPr>
            <p:spPr>
              <a:xfrm rot="21071400">
                <a:off x="6779520" y="387360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cxnSp>
          <p:nvCxnSpPr>
            <p:cNvPr id="711" name="AutoShape 12"/>
            <p:cNvCxnSpPr/>
            <p:nvPr/>
          </p:nvCxnSpPr>
          <p:spPr>
            <a:xfrm flipH="1" rot="16200000">
              <a:off x="5605920" y="3853440"/>
              <a:ext cx="1891440" cy="3600"/>
            </a:xfrm>
            <a:prstGeom prst="bentConnector5">
              <a:avLst>
                <a:gd name="adj1" fmla="val 22825"/>
                <a:gd name="adj2" fmla="val -6800000"/>
                <a:gd name="adj3" fmla="val 84618"/>
              </a:avLst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12" name="Text Box 13"/>
            <p:cNvSpPr/>
            <p:nvPr/>
          </p:nvSpPr>
          <p:spPr>
            <a:xfrm rot="16200000">
              <a:off x="5548680" y="3607560"/>
              <a:ext cx="12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3" name="Text Box 15"/>
            <p:cNvSpPr/>
            <p:nvPr/>
          </p:nvSpPr>
          <p:spPr>
            <a:xfrm>
              <a:off x="6019920" y="24372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4" name="Text Box 16"/>
            <p:cNvSpPr/>
            <p:nvPr/>
          </p:nvSpPr>
          <p:spPr>
            <a:xfrm>
              <a:off x="7375320" y="243720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5" name="Line 17"/>
            <p:cNvSpPr/>
            <p:nvPr/>
          </p:nvSpPr>
          <p:spPr>
            <a:xfrm>
              <a:off x="5715000" y="2895480"/>
              <a:ext cx="0" cy="1905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6553080" y="2922480"/>
              <a:ext cx="2880" cy="18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D1C0-55F9-4456-A7F6-758139C6839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low Control: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Sliding Wind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457200" y="4984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23FD-4C0F-4AE6-9409-6362086863E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tivation for Sliding Wind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op-and-wait is ineffici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one TCP segment is “in flight” at a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pecially bad for high “delay-bandwidth produ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4" descr="j0195384"/>
          <p:cNvPicPr/>
          <p:nvPr/>
        </p:nvPicPr>
        <p:blipFill>
          <a:blip r:embed="rId1"/>
          <a:stretch/>
        </p:blipFill>
        <p:spPr>
          <a:xfrm flipH="1">
            <a:off x="539280" y="397836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j0285750"/>
          <p:cNvPicPr/>
          <p:nvPr/>
        </p:nvPicPr>
        <p:blipFill>
          <a:blip r:embed="rId2"/>
          <a:stretch/>
        </p:blipFill>
        <p:spPr>
          <a:xfrm>
            <a:off x="6607080" y="420840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6"/>
          <p:cNvSpPr/>
          <p:nvPr/>
        </p:nvSpPr>
        <p:spPr>
          <a:xfrm>
            <a:off x="1922400" y="4900680"/>
            <a:ext cx="4722840" cy="585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765600" y="4937040"/>
            <a:ext cx="1268280" cy="473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4648320" y="4952880"/>
            <a:ext cx="38232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7" name="TextBox 9"/>
          <p:cNvSpPr/>
          <p:nvPr/>
        </p:nvSpPr>
        <p:spPr>
          <a:xfrm>
            <a:off x="3891960" y="574056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28" name="Straight Arrow Connector 11"/>
          <p:cNvCxnSpPr/>
          <p:nvPr/>
        </p:nvCxnSpPr>
        <p:spPr>
          <a:xfrm flipH="1">
            <a:off x="5713200" y="4954320"/>
            <a:ext cx="360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29" name="Left Bracket 12"/>
          <p:cNvSpPr/>
          <p:nvPr/>
        </p:nvSpPr>
        <p:spPr>
          <a:xfrm rot="16200000">
            <a:off x="4190760" y="3352320"/>
            <a:ext cx="228600" cy="4648320"/>
          </a:xfrm>
          <a:custGeom>
            <a:avLst/>
            <a:gdLst>
              <a:gd name="textAreaLeft" fmla="*/ 66960 w 228600"/>
              <a:gd name="textAreaRight" fmla="*/ 228960 w 228600"/>
              <a:gd name="textAreaTop" fmla="*/ 9360 h 4648320"/>
              <a:gd name="textAreaBottom" fmla="*/ 46389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89"/>
                </a:cubicBezTo>
                <a:lnTo>
                  <a:pt x="0" y="21511"/>
                </a:lnTo>
                <a:cubicBezTo>
                  <a:pt x="0" y="2155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3821400" y="365760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1" name="Freeform 14"/>
          <p:cNvSpPr/>
          <p:nvPr/>
        </p:nvSpPr>
        <p:spPr>
          <a:xfrm>
            <a:off x="4683240" y="4191120"/>
            <a:ext cx="1563480" cy="11984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lg" type="triangle" w="lg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umerical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.5 Mbps link with 45 msec round-trip time (RTT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-bandwidth product is 67.5 Kbits (or 8 KB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can send at most one packet per RT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a segment size of 1 KB (8 Kbi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 Kbits/segment at 45 msec/seg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182 K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’s jus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ne-eigh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1.5 Mbps link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F10B-3F3A-4835-BC1B-A00D9771917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35" name="Picture 4" descr="j0195384"/>
          <p:cNvPicPr/>
          <p:nvPr/>
        </p:nvPicPr>
        <p:blipFill>
          <a:blip r:embed="rId1"/>
          <a:stretch/>
        </p:blipFill>
        <p:spPr>
          <a:xfrm flipH="1">
            <a:off x="691920" y="457200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5" descr="j0285750"/>
          <p:cNvPicPr/>
          <p:nvPr/>
        </p:nvPicPr>
        <p:blipFill>
          <a:blip r:embed="rId2"/>
          <a:stretch/>
        </p:blipFill>
        <p:spPr>
          <a:xfrm>
            <a:off x="6759720" y="4818240"/>
            <a:ext cx="1823760" cy="112068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6"/>
          <p:cNvSpPr/>
          <p:nvPr/>
        </p:nvSpPr>
        <p:spPr>
          <a:xfrm>
            <a:off x="2075040" y="5494320"/>
            <a:ext cx="472248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3917880" y="5530680"/>
            <a:ext cx="1268640" cy="19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4878360" y="5530680"/>
            <a:ext cx="30636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liding Wind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ow a larger amount of data “in flight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sender to get ahead of the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 not too far a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2FBC-D40E-4464-A2FF-D92F41E1586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3" name="Oval 4"/>
          <p:cNvSpPr/>
          <p:nvPr/>
        </p:nvSpPr>
        <p:spPr>
          <a:xfrm>
            <a:off x="111600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344600" y="30448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pro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5" name="Oval 6"/>
          <p:cNvSpPr/>
          <p:nvPr/>
        </p:nvSpPr>
        <p:spPr>
          <a:xfrm>
            <a:off x="518796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5267520" y="30448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ing pro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Line 8"/>
          <p:cNvSpPr/>
          <p:nvPr/>
        </p:nvSpPr>
        <p:spPr>
          <a:xfrm>
            <a:off x="654120" y="386388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8" name="Line 9"/>
          <p:cNvSpPr/>
          <p:nvPr/>
        </p:nvSpPr>
        <p:spPr>
          <a:xfrm>
            <a:off x="4916520" y="388944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Rectangle 10"/>
          <p:cNvSpPr/>
          <p:nvPr/>
        </p:nvSpPr>
        <p:spPr>
          <a:xfrm>
            <a:off x="808200" y="4581360"/>
            <a:ext cx="95868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0" name="Rectangle 12"/>
          <p:cNvSpPr/>
          <p:nvPr/>
        </p:nvSpPr>
        <p:spPr>
          <a:xfrm>
            <a:off x="1768320" y="4581360"/>
            <a:ext cx="959040" cy="46044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2728800" y="4581360"/>
            <a:ext cx="959040" cy="4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3687840" y="458316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Freeform 17"/>
          <p:cNvSpPr/>
          <p:nvPr/>
        </p:nvSpPr>
        <p:spPr>
          <a:xfrm>
            <a:off x="2421000" y="3659040"/>
            <a:ext cx="1268280" cy="8445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4" name="Line 18"/>
          <p:cNvSpPr/>
          <p:nvPr/>
        </p:nvSpPr>
        <p:spPr>
          <a:xfrm flipV="1">
            <a:off x="1768320" y="515736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5" name="Line 19"/>
          <p:cNvSpPr/>
          <p:nvPr/>
        </p:nvSpPr>
        <p:spPr>
          <a:xfrm flipH="1" flipV="1">
            <a:off x="2728800" y="5157360"/>
            <a:ext cx="14400" cy="862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Text Box 21"/>
          <p:cNvSpPr/>
          <p:nvPr/>
        </p:nvSpPr>
        <p:spPr>
          <a:xfrm>
            <a:off x="337680" y="56577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ACK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7" name="Text Box 22"/>
          <p:cNvSpPr/>
          <p:nvPr/>
        </p:nvSpPr>
        <p:spPr>
          <a:xfrm>
            <a:off x="1617120" y="60199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s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Text Box 23"/>
          <p:cNvSpPr/>
          <p:nvPr/>
        </p:nvSpPr>
        <p:spPr>
          <a:xfrm>
            <a:off x="489600" y="3813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Rectangle 25"/>
          <p:cNvSpPr/>
          <p:nvPr/>
        </p:nvSpPr>
        <p:spPr>
          <a:xfrm>
            <a:off x="5072040" y="4478400"/>
            <a:ext cx="6145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0" name="Rectangle 26"/>
          <p:cNvSpPr/>
          <p:nvPr/>
        </p:nvSpPr>
        <p:spPr>
          <a:xfrm>
            <a:off x="5686560" y="4478400"/>
            <a:ext cx="130464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1" name="Rectangle 27"/>
          <p:cNvSpPr/>
          <p:nvPr/>
        </p:nvSpPr>
        <p:spPr>
          <a:xfrm>
            <a:off x="6953400" y="4478400"/>
            <a:ext cx="34596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Rectangle 28"/>
          <p:cNvSpPr/>
          <p:nvPr/>
        </p:nvSpPr>
        <p:spPr>
          <a:xfrm>
            <a:off x="7643880" y="447984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Text Box 29"/>
          <p:cNvSpPr/>
          <p:nvPr/>
        </p:nvSpPr>
        <p:spPr>
          <a:xfrm>
            <a:off x="4753800" y="3851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Freeform 30"/>
          <p:cNvSpPr/>
          <p:nvPr/>
        </p:nvSpPr>
        <p:spPr>
          <a:xfrm>
            <a:off x="5646600" y="3583080"/>
            <a:ext cx="1382760" cy="8827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Line 31"/>
          <p:cNvSpPr/>
          <p:nvPr/>
        </p:nvSpPr>
        <p:spPr>
          <a:xfrm flipV="1">
            <a:off x="6953400" y="496548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Text Box 32"/>
          <p:cNvSpPr/>
          <p:nvPr/>
        </p:nvSpPr>
        <p:spPr>
          <a:xfrm>
            <a:off x="4627800" y="55022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byte exp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Text Box 33"/>
          <p:cNvSpPr/>
          <p:nvPr/>
        </p:nvSpPr>
        <p:spPr>
          <a:xfrm>
            <a:off x="943920" y="39672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writte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6248520" y="39546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a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9" name="Rectangle 36"/>
          <p:cNvSpPr/>
          <p:nvPr/>
        </p:nvSpPr>
        <p:spPr>
          <a:xfrm>
            <a:off x="7299360" y="4465800"/>
            <a:ext cx="345960" cy="460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0" name="Line 37"/>
          <p:cNvSpPr/>
          <p:nvPr/>
        </p:nvSpPr>
        <p:spPr>
          <a:xfrm flipV="1">
            <a:off x="7620120" y="5003280"/>
            <a:ext cx="4680" cy="93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Text Box 38"/>
          <p:cNvSpPr/>
          <p:nvPr/>
        </p:nvSpPr>
        <p:spPr>
          <a:xfrm>
            <a:off x="5500080" y="59436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ceiv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ceiver Buffe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e window siz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ount that can be sent without acknowled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must be able to store this amount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er tells the sender the window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ls the sender the amount of free space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3AFE-4101-4BD6-A12F-6EE4F7B52B1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Line 4"/>
          <p:cNvSpPr/>
          <p:nvPr/>
        </p:nvSpPr>
        <p:spPr>
          <a:xfrm>
            <a:off x="2079720" y="4808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Line 5"/>
          <p:cNvSpPr/>
          <p:nvPr/>
        </p:nvSpPr>
        <p:spPr>
          <a:xfrm>
            <a:off x="2079720" y="5418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Line 6"/>
          <p:cNvSpPr/>
          <p:nvPr/>
        </p:nvSpPr>
        <p:spPr>
          <a:xfrm flipH="1">
            <a:off x="6645240" y="4808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8" name="Line 7"/>
          <p:cNvSpPr/>
          <p:nvPr/>
        </p:nvSpPr>
        <p:spPr>
          <a:xfrm flipH="1">
            <a:off x="6645240" y="5418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Line 8"/>
          <p:cNvSpPr/>
          <p:nvPr/>
        </p:nvSpPr>
        <p:spPr>
          <a:xfrm>
            <a:off x="2079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Line 9"/>
          <p:cNvSpPr/>
          <p:nvPr/>
        </p:nvSpPr>
        <p:spPr>
          <a:xfrm>
            <a:off x="22320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23842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Line 11"/>
          <p:cNvSpPr/>
          <p:nvPr/>
        </p:nvSpPr>
        <p:spPr>
          <a:xfrm>
            <a:off x="25369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Line 12"/>
          <p:cNvSpPr/>
          <p:nvPr/>
        </p:nvSpPr>
        <p:spPr>
          <a:xfrm>
            <a:off x="26892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Line 13"/>
          <p:cNvSpPr/>
          <p:nvPr/>
        </p:nvSpPr>
        <p:spPr>
          <a:xfrm>
            <a:off x="28414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Line 14"/>
          <p:cNvSpPr/>
          <p:nvPr/>
        </p:nvSpPr>
        <p:spPr>
          <a:xfrm>
            <a:off x="29941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Line 15"/>
          <p:cNvSpPr/>
          <p:nvPr/>
        </p:nvSpPr>
        <p:spPr>
          <a:xfrm>
            <a:off x="31464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Line 16"/>
          <p:cNvSpPr/>
          <p:nvPr/>
        </p:nvSpPr>
        <p:spPr>
          <a:xfrm>
            <a:off x="32986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Line 17"/>
          <p:cNvSpPr/>
          <p:nvPr/>
        </p:nvSpPr>
        <p:spPr>
          <a:xfrm>
            <a:off x="34513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Line 18"/>
          <p:cNvSpPr/>
          <p:nvPr/>
        </p:nvSpPr>
        <p:spPr>
          <a:xfrm>
            <a:off x="36036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Line 19"/>
          <p:cNvSpPr/>
          <p:nvPr/>
        </p:nvSpPr>
        <p:spPr>
          <a:xfrm>
            <a:off x="37558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Line 20"/>
          <p:cNvSpPr/>
          <p:nvPr/>
        </p:nvSpPr>
        <p:spPr>
          <a:xfrm>
            <a:off x="39085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Line 21"/>
          <p:cNvSpPr/>
          <p:nvPr/>
        </p:nvSpPr>
        <p:spPr>
          <a:xfrm>
            <a:off x="40608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3" name="Line 22"/>
          <p:cNvSpPr/>
          <p:nvPr/>
        </p:nvSpPr>
        <p:spPr>
          <a:xfrm>
            <a:off x="42130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Line 23"/>
          <p:cNvSpPr/>
          <p:nvPr/>
        </p:nvSpPr>
        <p:spPr>
          <a:xfrm>
            <a:off x="4365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5" name="Line 24"/>
          <p:cNvSpPr/>
          <p:nvPr/>
        </p:nvSpPr>
        <p:spPr>
          <a:xfrm>
            <a:off x="45180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6" name="Line 25"/>
          <p:cNvSpPr/>
          <p:nvPr/>
        </p:nvSpPr>
        <p:spPr>
          <a:xfrm>
            <a:off x="46702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7" name="Line 26"/>
          <p:cNvSpPr/>
          <p:nvPr/>
        </p:nvSpPr>
        <p:spPr>
          <a:xfrm>
            <a:off x="48229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Line 27"/>
          <p:cNvSpPr/>
          <p:nvPr/>
        </p:nvSpPr>
        <p:spPr>
          <a:xfrm>
            <a:off x="49752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9" name="Line 28"/>
          <p:cNvSpPr/>
          <p:nvPr/>
        </p:nvSpPr>
        <p:spPr>
          <a:xfrm>
            <a:off x="51274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Line 29"/>
          <p:cNvSpPr/>
          <p:nvPr/>
        </p:nvSpPr>
        <p:spPr>
          <a:xfrm>
            <a:off x="52801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Line 30"/>
          <p:cNvSpPr/>
          <p:nvPr/>
        </p:nvSpPr>
        <p:spPr>
          <a:xfrm>
            <a:off x="54324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2" name="Line 31"/>
          <p:cNvSpPr/>
          <p:nvPr/>
        </p:nvSpPr>
        <p:spPr>
          <a:xfrm>
            <a:off x="55846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Line 32"/>
          <p:cNvSpPr/>
          <p:nvPr/>
        </p:nvSpPr>
        <p:spPr>
          <a:xfrm>
            <a:off x="57373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Line 33"/>
          <p:cNvSpPr/>
          <p:nvPr/>
        </p:nvSpPr>
        <p:spPr>
          <a:xfrm>
            <a:off x="58896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Line 34"/>
          <p:cNvSpPr/>
          <p:nvPr/>
        </p:nvSpPr>
        <p:spPr>
          <a:xfrm>
            <a:off x="60418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6" name="Line 35"/>
          <p:cNvSpPr/>
          <p:nvPr/>
        </p:nvSpPr>
        <p:spPr>
          <a:xfrm>
            <a:off x="61945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7" name="Line 36"/>
          <p:cNvSpPr/>
          <p:nvPr/>
        </p:nvSpPr>
        <p:spPr>
          <a:xfrm>
            <a:off x="63468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Line 37"/>
          <p:cNvSpPr/>
          <p:nvPr/>
        </p:nvSpPr>
        <p:spPr>
          <a:xfrm>
            <a:off x="64990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9" name="Line 38"/>
          <p:cNvSpPr/>
          <p:nvPr/>
        </p:nvSpPr>
        <p:spPr>
          <a:xfrm>
            <a:off x="6651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0" name="Line 39"/>
          <p:cNvSpPr/>
          <p:nvPr/>
        </p:nvSpPr>
        <p:spPr>
          <a:xfrm>
            <a:off x="6804000" y="4808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1" name="Line 40"/>
          <p:cNvSpPr/>
          <p:nvPr/>
        </p:nvSpPr>
        <p:spPr>
          <a:xfrm>
            <a:off x="6956280" y="4808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2" name="Rectangle 41"/>
          <p:cNvSpPr/>
          <p:nvPr/>
        </p:nvSpPr>
        <p:spPr>
          <a:xfrm>
            <a:off x="2994120" y="4432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3" name="Line 42"/>
          <p:cNvSpPr/>
          <p:nvPr/>
        </p:nvSpPr>
        <p:spPr>
          <a:xfrm flipH="1">
            <a:off x="1616040" y="4808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4" name="Line 43"/>
          <p:cNvSpPr/>
          <p:nvPr/>
        </p:nvSpPr>
        <p:spPr>
          <a:xfrm flipH="1">
            <a:off x="1616040" y="5418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Line 44"/>
          <p:cNvSpPr/>
          <p:nvPr/>
        </p:nvSpPr>
        <p:spPr>
          <a:xfrm>
            <a:off x="1781280" y="48132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Line 45"/>
          <p:cNvSpPr/>
          <p:nvPr/>
        </p:nvSpPr>
        <p:spPr>
          <a:xfrm>
            <a:off x="1933560" y="48132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Line 46"/>
          <p:cNvSpPr/>
          <p:nvPr/>
        </p:nvSpPr>
        <p:spPr>
          <a:xfrm>
            <a:off x="4365720" y="443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Line 47"/>
          <p:cNvSpPr/>
          <p:nvPr/>
        </p:nvSpPr>
        <p:spPr>
          <a:xfrm>
            <a:off x="2994120" y="42800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9" name="Text Box 48"/>
          <p:cNvSpPr/>
          <p:nvPr/>
        </p:nvSpPr>
        <p:spPr>
          <a:xfrm>
            <a:off x="3361680" y="3898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0" name="Line 49"/>
          <p:cNvSpPr/>
          <p:nvPr/>
        </p:nvSpPr>
        <p:spPr>
          <a:xfrm flipH="1">
            <a:off x="1469880" y="588024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1" name="Line 50"/>
          <p:cNvSpPr/>
          <p:nvPr/>
        </p:nvSpPr>
        <p:spPr>
          <a:xfrm>
            <a:off x="5889600" y="58802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2" name="Line 51"/>
          <p:cNvSpPr/>
          <p:nvPr/>
        </p:nvSpPr>
        <p:spPr>
          <a:xfrm>
            <a:off x="2994120" y="5880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3" name="Line 52"/>
          <p:cNvSpPr/>
          <p:nvPr/>
        </p:nvSpPr>
        <p:spPr>
          <a:xfrm>
            <a:off x="4365720" y="58802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4" name="Line 53"/>
          <p:cNvSpPr/>
          <p:nvPr/>
        </p:nvSpPr>
        <p:spPr>
          <a:xfrm>
            <a:off x="299412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5" name="Line 54"/>
          <p:cNvSpPr/>
          <p:nvPr/>
        </p:nvSpPr>
        <p:spPr>
          <a:xfrm>
            <a:off x="436572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6" name="Line 55"/>
          <p:cNvSpPr/>
          <p:nvPr/>
        </p:nvSpPr>
        <p:spPr>
          <a:xfrm>
            <a:off x="588960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7" name="Text Box 56"/>
          <p:cNvSpPr/>
          <p:nvPr/>
        </p:nvSpPr>
        <p:spPr>
          <a:xfrm>
            <a:off x="2831760" y="5883120"/>
            <a:ext cx="15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’d dat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8" name="Text Box 57"/>
          <p:cNvSpPr/>
          <p:nvPr/>
        </p:nvSpPr>
        <p:spPr>
          <a:xfrm>
            <a:off x="4547880" y="58831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9" name="Text Box 58"/>
          <p:cNvSpPr/>
          <p:nvPr/>
        </p:nvSpPr>
        <p:spPr>
          <a:xfrm>
            <a:off x="5769720" y="588312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0" name="Text Box 59"/>
          <p:cNvSpPr/>
          <p:nvPr/>
        </p:nvSpPr>
        <p:spPr>
          <a:xfrm>
            <a:off x="1540800" y="588312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’d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ptimizing Retransmis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B344-69CD-4928-BC8A-F2C0F2F8C1E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asons for Retransmi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A401-CF71-473E-8AAD-832582ADB21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6" name="Group 4"/>
          <p:cNvGrpSpPr/>
          <p:nvPr/>
        </p:nvGrpSpPr>
        <p:grpSpPr>
          <a:xfrm>
            <a:off x="7125840" y="2018520"/>
            <a:ext cx="1418400" cy="605160"/>
            <a:chOff x="7125840" y="2018520"/>
            <a:chExt cx="1418400" cy="605160"/>
          </a:xfrm>
        </p:grpSpPr>
        <p:sp>
          <p:nvSpPr>
            <p:cNvPr id="837" name="Line 5"/>
            <p:cNvSpPr/>
            <p:nvPr/>
          </p:nvSpPr>
          <p:spPr>
            <a:xfrm>
              <a:off x="7125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8" name="Text Box 6"/>
            <p:cNvSpPr/>
            <p:nvPr/>
          </p:nvSpPr>
          <p:spPr>
            <a:xfrm rot="688200">
              <a:off x="7297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39" name="Group 7"/>
          <p:cNvGrpSpPr/>
          <p:nvPr/>
        </p:nvGrpSpPr>
        <p:grpSpPr>
          <a:xfrm>
            <a:off x="7051680" y="2657520"/>
            <a:ext cx="1407960" cy="1225440"/>
            <a:chOff x="7051680" y="2657520"/>
            <a:chExt cx="1407960" cy="1225440"/>
          </a:xfrm>
        </p:grpSpPr>
        <p:sp>
          <p:nvSpPr>
            <p:cNvPr id="840" name="Line 8"/>
            <p:cNvSpPr/>
            <p:nvPr/>
          </p:nvSpPr>
          <p:spPr>
            <a:xfrm flipV="1">
              <a:off x="7051680" y="28400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1" name="Text Box 9"/>
            <p:cNvSpPr/>
            <p:nvPr/>
          </p:nvSpPr>
          <p:spPr>
            <a:xfrm rot="19405200">
              <a:off x="7535520" y="28274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42" name="AutoShape 10"/>
          <p:cNvCxnSpPr/>
          <p:nvPr/>
        </p:nvCxnSpPr>
        <p:spPr>
          <a:xfrm flipH="1" rot="16200000">
            <a:off x="61203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43" name="Text Box 11"/>
          <p:cNvSpPr/>
          <p:nvPr/>
        </p:nvSpPr>
        <p:spPr>
          <a:xfrm rot="16200000">
            <a:off x="60746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Line 12"/>
          <p:cNvSpPr/>
          <p:nvPr/>
        </p:nvSpPr>
        <p:spPr>
          <a:xfrm>
            <a:off x="704916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5" name="Text Box 13"/>
          <p:cNvSpPr/>
          <p:nvPr/>
        </p:nvSpPr>
        <p:spPr>
          <a:xfrm rot="688200">
            <a:off x="75391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46" name="Group 14"/>
          <p:cNvGrpSpPr/>
          <p:nvPr/>
        </p:nvGrpSpPr>
        <p:grpSpPr>
          <a:xfrm>
            <a:off x="7056000" y="4006800"/>
            <a:ext cx="1430640" cy="502200"/>
            <a:chOff x="7056000" y="4006800"/>
            <a:chExt cx="1430640" cy="502200"/>
          </a:xfrm>
        </p:grpSpPr>
        <p:sp>
          <p:nvSpPr>
            <p:cNvPr id="847" name="Line 15"/>
            <p:cNvSpPr/>
            <p:nvPr/>
          </p:nvSpPr>
          <p:spPr>
            <a:xfrm flipV="1">
              <a:off x="7056000" y="4286880"/>
              <a:ext cx="143064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8" name="Text Box 16"/>
            <p:cNvSpPr/>
            <p:nvPr/>
          </p:nvSpPr>
          <p:spPr>
            <a:xfrm rot="21071400">
              <a:off x="7302960" y="40582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49" name="AutoShape 17"/>
          <p:cNvCxnSpPr/>
          <p:nvPr/>
        </p:nvCxnSpPr>
        <p:spPr>
          <a:xfrm flipH="1" rot="16200000">
            <a:off x="612036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50" name="Text Box 18"/>
          <p:cNvSpPr/>
          <p:nvPr/>
        </p:nvSpPr>
        <p:spPr>
          <a:xfrm rot="16200000">
            <a:off x="6072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51" name="Group 19"/>
          <p:cNvGrpSpPr/>
          <p:nvPr/>
        </p:nvGrpSpPr>
        <p:grpSpPr>
          <a:xfrm>
            <a:off x="1246320" y="2019600"/>
            <a:ext cx="1063800" cy="582840"/>
            <a:chOff x="1246320" y="2019600"/>
            <a:chExt cx="1063800" cy="582840"/>
          </a:xfrm>
        </p:grpSpPr>
        <p:sp>
          <p:nvSpPr>
            <p:cNvPr id="852" name="Line 20"/>
            <p:cNvSpPr/>
            <p:nvPr/>
          </p:nvSpPr>
          <p:spPr>
            <a:xfrm>
              <a:off x="126468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3" name="Text Box 21"/>
            <p:cNvSpPr/>
            <p:nvPr/>
          </p:nvSpPr>
          <p:spPr>
            <a:xfrm rot="688200">
              <a:off x="127620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54" name="AutoShape 22"/>
          <p:cNvCxnSpPr/>
          <p:nvPr/>
        </p:nvCxnSpPr>
        <p:spPr>
          <a:xfrm flipH="1" rot="16200000">
            <a:off x="2721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55" name="Text Box 23"/>
          <p:cNvSpPr/>
          <p:nvPr/>
        </p:nvSpPr>
        <p:spPr>
          <a:xfrm rot="16200000">
            <a:off x="227880" y="27334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56" name="Group 24"/>
          <p:cNvGrpSpPr/>
          <p:nvPr/>
        </p:nvGrpSpPr>
        <p:grpSpPr>
          <a:xfrm>
            <a:off x="1276200" y="3493440"/>
            <a:ext cx="1418400" cy="605160"/>
            <a:chOff x="1276200" y="3493440"/>
            <a:chExt cx="1418400" cy="605160"/>
          </a:xfrm>
        </p:grpSpPr>
        <p:sp>
          <p:nvSpPr>
            <p:cNvPr id="857" name="Line 25"/>
            <p:cNvSpPr/>
            <p:nvPr/>
          </p:nvSpPr>
          <p:spPr>
            <a:xfrm>
              <a:off x="12762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8" name="Text Box 26"/>
            <p:cNvSpPr/>
            <p:nvPr/>
          </p:nvSpPr>
          <p:spPr>
            <a:xfrm rot="688200">
              <a:off x="14482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59" name="Group 27"/>
          <p:cNvGrpSpPr/>
          <p:nvPr/>
        </p:nvGrpSpPr>
        <p:grpSpPr>
          <a:xfrm>
            <a:off x="1207440" y="4335480"/>
            <a:ext cx="1431000" cy="502200"/>
            <a:chOff x="1207440" y="4335480"/>
            <a:chExt cx="1431000" cy="502200"/>
          </a:xfrm>
        </p:grpSpPr>
        <p:sp>
          <p:nvSpPr>
            <p:cNvPr id="860" name="Line 28"/>
            <p:cNvSpPr/>
            <p:nvPr/>
          </p:nvSpPr>
          <p:spPr>
            <a:xfrm flipV="1">
              <a:off x="12074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1" name="Text Box 29"/>
            <p:cNvSpPr/>
            <p:nvPr/>
          </p:nvSpPr>
          <p:spPr>
            <a:xfrm rot="21071400">
              <a:off x="14547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62" name="AutoShape 30"/>
          <p:cNvCxnSpPr/>
          <p:nvPr/>
        </p:nvCxnSpPr>
        <p:spPr>
          <a:xfrm flipH="1" rot="16200000">
            <a:off x="2703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63" name="Text Box 31"/>
          <p:cNvSpPr/>
          <p:nvPr/>
        </p:nvSpPr>
        <p:spPr>
          <a:xfrm rot="16200000">
            <a:off x="22608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4" name="AutoShape 32"/>
          <p:cNvSpPr/>
          <p:nvPr/>
        </p:nvSpPr>
        <p:spPr>
          <a:xfrm flipH="1">
            <a:off x="2130480" y="2362320"/>
            <a:ext cx="380880" cy="4572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5" name="Group 35"/>
          <p:cNvGrpSpPr/>
          <p:nvPr/>
        </p:nvGrpSpPr>
        <p:grpSpPr>
          <a:xfrm>
            <a:off x="4236840" y="2018520"/>
            <a:ext cx="1418400" cy="605160"/>
            <a:chOff x="4236840" y="2018520"/>
            <a:chExt cx="1418400" cy="605160"/>
          </a:xfrm>
        </p:grpSpPr>
        <p:sp>
          <p:nvSpPr>
            <p:cNvPr id="866" name="Line 36"/>
            <p:cNvSpPr/>
            <p:nvPr/>
          </p:nvSpPr>
          <p:spPr>
            <a:xfrm>
              <a:off x="4236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7" name="Text Box 37"/>
            <p:cNvSpPr/>
            <p:nvPr/>
          </p:nvSpPr>
          <p:spPr>
            <a:xfrm rot="688200">
              <a:off x="4408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68" name="Group 38"/>
          <p:cNvGrpSpPr/>
          <p:nvPr/>
        </p:nvGrpSpPr>
        <p:grpSpPr>
          <a:xfrm>
            <a:off x="4614480" y="2772720"/>
            <a:ext cx="971640" cy="502200"/>
            <a:chOff x="4614480" y="2772720"/>
            <a:chExt cx="971640" cy="502200"/>
          </a:xfrm>
        </p:grpSpPr>
        <p:sp>
          <p:nvSpPr>
            <p:cNvPr id="869" name="Line 39"/>
            <p:cNvSpPr/>
            <p:nvPr/>
          </p:nvSpPr>
          <p:spPr>
            <a:xfrm flipV="1">
              <a:off x="4614480" y="3093840"/>
              <a:ext cx="9716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0" name="Text Box 40"/>
            <p:cNvSpPr/>
            <p:nvPr/>
          </p:nvSpPr>
          <p:spPr>
            <a:xfrm rot="21071400">
              <a:off x="4646520" y="2824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71" name="AutoShape 41"/>
          <p:cNvCxnSpPr/>
          <p:nvPr/>
        </p:nvCxnSpPr>
        <p:spPr>
          <a:xfrm flipH="1" rot="16200000">
            <a:off x="3231360" y="283572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72" name="Text Box 42"/>
          <p:cNvSpPr/>
          <p:nvPr/>
        </p:nvSpPr>
        <p:spPr>
          <a:xfrm rot="16200000">
            <a:off x="31852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3" name="Group 43"/>
          <p:cNvGrpSpPr/>
          <p:nvPr/>
        </p:nvGrpSpPr>
        <p:grpSpPr>
          <a:xfrm>
            <a:off x="4235040" y="3493440"/>
            <a:ext cx="1418400" cy="605160"/>
            <a:chOff x="4235040" y="3493440"/>
            <a:chExt cx="1418400" cy="605160"/>
          </a:xfrm>
        </p:grpSpPr>
        <p:sp>
          <p:nvSpPr>
            <p:cNvPr id="874" name="Line 44"/>
            <p:cNvSpPr/>
            <p:nvPr/>
          </p:nvSpPr>
          <p:spPr>
            <a:xfrm>
              <a:off x="423504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5" name="Text Box 45"/>
            <p:cNvSpPr/>
            <p:nvPr/>
          </p:nvSpPr>
          <p:spPr>
            <a:xfrm rot="688200">
              <a:off x="440712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76" name="Group 46"/>
          <p:cNvGrpSpPr/>
          <p:nvPr/>
        </p:nvGrpSpPr>
        <p:grpSpPr>
          <a:xfrm>
            <a:off x="4166640" y="4335480"/>
            <a:ext cx="1431000" cy="502200"/>
            <a:chOff x="4166640" y="4335480"/>
            <a:chExt cx="1431000" cy="502200"/>
          </a:xfrm>
        </p:grpSpPr>
        <p:sp>
          <p:nvSpPr>
            <p:cNvPr id="877" name="Line 47"/>
            <p:cNvSpPr/>
            <p:nvPr/>
          </p:nvSpPr>
          <p:spPr>
            <a:xfrm flipV="1">
              <a:off x="41666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8" name="Text Box 48"/>
            <p:cNvSpPr/>
            <p:nvPr/>
          </p:nvSpPr>
          <p:spPr>
            <a:xfrm rot="21071400">
              <a:off x="44139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79" name="AutoShape 49"/>
          <p:cNvCxnSpPr/>
          <p:nvPr/>
        </p:nvCxnSpPr>
        <p:spPr>
          <a:xfrm flipH="1" rot="16200000">
            <a:off x="32295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80" name="Text Box 50"/>
          <p:cNvSpPr/>
          <p:nvPr/>
        </p:nvSpPr>
        <p:spPr>
          <a:xfrm rot="16200000">
            <a:off x="3183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1" name="Line 51"/>
          <p:cNvSpPr/>
          <p:nvPr/>
        </p:nvSpPr>
        <p:spPr>
          <a:xfrm>
            <a:off x="4175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2" name="AutoShape 52"/>
          <p:cNvSpPr/>
          <p:nvPr/>
        </p:nvSpPr>
        <p:spPr>
          <a:xfrm>
            <a:off x="4327560" y="3048120"/>
            <a:ext cx="380880" cy="457200"/>
          </a:xfrm>
          <a:prstGeom prst="lightningBol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Text Box 53"/>
          <p:cNvSpPr/>
          <p:nvPr/>
        </p:nvSpPr>
        <p:spPr>
          <a:xfrm>
            <a:off x="4158000" y="545508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 lo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UPLICATE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4" name="Text Box 54"/>
          <p:cNvSpPr/>
          <p:nvPr/>
        </p:nvSpPr>
        <p:spPr>
          <a:xfrm>
            <a:off x="1239480" y="5591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cket lo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5" name="Text Box 55"/>
          <p:cNvSpPr/>
          <p:nvPr/>
        </p:nvSpPr>
        <p:spPr>
          <a:xfrm>
            <a:off x="6891120" y="5485320"/>
            <a:ext cx="17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ly 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Line 56"/>
          <p:cNvSpPr/>
          <p:nvPr/>
        </p:nvSpPr>
        <p:spPr>
          <a:xfrm>
            <a:off x="56624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7" name="Line 57"/>
          <p:cNvSpPr/>
          <p:nvPr/>
        </p:nvSpPr>
        <p:spPr>
          <a:xfrm>
            <a:off x="1214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8" name="Line 58"/>
          <p:cNvSpPr/>
          <p:nvPr/>
        </p:nvSpPr>
        <p:spPr>
          <a:xfrm>
            <a:off x="27018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9" name="Line 59"/>
          <p:cNvSpPr/>
          <p:nvPr/>
        </p:nvSpPr>
        <p:spPr>
          <a:xfrm>
            <a:off x="70628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0" name="Line 60"/>
          <p:cNvSpPr/>
          <p:nvPr/>
        </p:nvSpPr>
        <p:spPr>
          <a:xfrm>
            <a:off x="85503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CC69-67D4-40AB-A9DA-BA5304F6D27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Long Should Sender Wait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sets a timeout to wait for an A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short: wasted retrans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long: excessive delays when packet l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sets timeout as a function of the RT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ct ACK to arrive after an “round-trip tim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s a fudge factor to account for queu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how does the sender know the RT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average of delay to receive an 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port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Logical communication between processe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er divides a message into se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r reassembles segments into messa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Transport service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e)multiplexing pac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ing corrupted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ly: reliable delivery, flow control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2EC4-7EEC-48F1-9ED2-66CB85660F9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RTT Estim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500F-7EF8-4D94-B91C-158941FF459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262080" y="1049400"/>
            <a:ext cx="8577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4AED-8758-4697-9603-FC5DE91654B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ill, Timeouts are Ineffici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914400" y="1160640"/>
            <a:ext cx="7696080" cy="54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00" name="Picture 5" descr="gbn_example"/>
          <p:cNvPicPr/>
          <p:nvPr/>
        </p:nvPicPr>
        <p:blipFill>
          <a:blip r:embed="rId1"/>
          <a:stretch/>
        </p:blipFill>
        <p:spPr>
          <a:xfrm>
            <a:off x="1398600" y="1219320"/>
            <a:ext cx="65833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ast Retransmi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en packet n is lost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s n+1, n+2, and so on may get thr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ploit the ACKs of these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K says receiver is still awaiting nth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icate ACKs suggest later packets arri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uses “duplicate ACKs” as a h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 retransmi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t after “triple duplicate A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BE83-8458-4130-849F-4B905B64CA0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ffectiveness of Fast Retransmi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When does Fast Retransmit work best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likelihood of many packets in f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transfers, large window size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Implications for Web traffic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eb transfers are short (e.g., 10 packe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often there aren’t many packets in f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fast retransmit is less likely to “kick i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cing users to click “reload” more often…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5370-AAEC-4016-BF82-FBCF19194CE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9619-6724-4064-AC5C-F13B4F564EB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arting and Ending a Connection: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Handshak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stablishing a TCP Conn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304920" y="4191120"/>
            <a:ext cx="853416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ree-way handshake to establish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A sends 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open) to the host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B returns a SYN acknowledgment (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SYN 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A sends an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acknowledge the SYN 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3024-6F98-47FD-AA67-CE5579CB444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3" name="Line 4"/>
          <p:cNvSpPr/>
          <p:nvPr/>
        </p:nvSpPr>
        <p:spPr>
          <a:xfrm>
            <a:off x="2451240" y="167796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4" name="Line 5"/>
          <p:cNvSpPr/>
          <p:nvPr/>
        </p:nvSpPr>
        <p:spPr>
          <a:xfrm flipH="1">
            <a:off x="2461680" y="219564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5" name="Line 6"/>
          <p:cNvSpPr/>
          <p:nvPr/>
        </p:nvSpPr>
        <p:spPr>
          <a:xfrm>
            <a:off x="2440080" y="278748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2444760" y="331884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7" name="Text Box 8"/>
          <p:cNvSpPr/>
          <p:nvPr/>
        </p:nvSpPr>
        <p:spPr>
          <a:xfrm rot="605400">
            <a:off x="2901240" y="13341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8" name="Text Box 9"/>
          <p:cNvSpPr/>
          <p:nvPr/>
        </p:nvSpPr>
        <p:spPr>
          <a:xfrm flipH="1" flipV="1" rot="10146600">
            <a:off x="2588400" y="197352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9" name="Text Box 10"/>
          <p:cNvSpPr/>
          <p:nvPr/>
        </p:nvSpPr>
        <p:spPr>
          <a:xfrm rot="1044600">
            <a:off x="3116520" y="27421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Text Box 11"/>
          <p:cNvSpPr/>
          <p:nvPr/>
        </p:nvSpPr>
        <p:spPr>
          <a:xfrm rot="1003800">
            <a:off x="2904840" y="31626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1" name="Line 12"/>
          <p:cNvSpPr/>
          <p:nvPr/>
        </p:nvSpPr>
        <p:spPr>
          <a:xfrm>
            <a:off x="4041720" y="1469880"/>
            <a:ext cx="6480" cy="289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2" name="Line 13"/>
          <p:cNvSpPr/>
          <p:nvPr/>
        </p:nvSpPr>
        <p:spPr>
          <a:xfrm flipH="1">
            <a:off x="2435400" y="1486080"/>
            <a:ext cx="23760" cy="2796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2277000" y="102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Text Box 15"/>
          <p:cNvSpPr/>
          <p:nvPr/>
        </p:nvSpPr>
        <p:spPr>
          <a:xfrm>
            <a:off x="3843720" y="989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Line 16"/>
          <p:cNvSpPr/>
          <p:nvPr/>
        </p:nvSpPr>
        <p:spPr>
          <a:xfrm>
            <a:off x="2473200" y="366012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Text Box 17"/>
          <p:cNvSpPr/>
          <p:nvPr/>
        </p:nvSpPr>
        <p:spPr>
          <a:xfrm rot="1003800">
            <a:off x="2933280" y="35038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Text Box 18"/>
          <p:cNvSpPr/>
          <p:nvPr/>
        </p:nvSpPr>
        <p:spPr>
          <a:xfrm>
            <a:off x="5148360" y="2122560"/>
            <a:ext cx="253512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ISN to the other host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Head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27CA-FAC2-434D-B64E-A5D2C0B6ACE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Text Box 9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Text Box 15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Text Box 18"/>
          <p:cNvSpPr/>
          <p:nvPr/>
        </p:nvSpPr>
        <p:spPr>
          <a:xfrm>
            <a:off x="4865400" y="3363840"/>
            <a:ext cx="845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6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8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9" name="Text Box 23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0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1" name="Text Box 25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2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3" name="Text Box 27"/>
          <p:cNvSpPr/>
          <p:nvPr/>
        </p:nvSpPr>
        <p:spPr>
          <a:xfrm>
            <a:off x="657000" y="27050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4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ep 1: A’s Initial SYN Pack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F9DC-070A-4DCE-A6A0-24021CF2AB1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0" name="Text Box 8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1" name="Rectangle 9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2" name="Text Box 10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nitial 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3" name="Rectangle 11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4" name="Text Box 12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5" name="Rectangle 13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6" name="Rectangle 14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8" name="Text Box 16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9" name="Line 17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0" name="Line 18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1" name="Text Box 19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2" name="Text Box 20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3" name="Rectangle 21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4" name="Rectangle 22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Text Box 23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Text Box 24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7" name="Rectangle 25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8" name="Text Box 26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9" name="Text Box 28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0" name="Text Box 29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1" name="Text Box 31"/>
          <p:cNvSpPr/>
          <p:nvPr/>
        </p:nvSpPr>
        <p:spPr>
          <a:xfrm>
            <a:off x="147960" y="510552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59D5-0A52-477C-8F1C-C400866188A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ep 2: B’s SYN-ACK Pack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6" name="Rectangle 7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8" name="Rectangle 9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nitial 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SN plus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2" name="Rectangle 13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3" name="Rectangle 14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7" name="Line 18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0" name="Rectangle 21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1" name="Rectangle 22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4" name="Rectangle 25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8" name="Text Box 54"/>
          <p:cNvSpPr/>
          <p:nvPr/>
        </p:nvSpPr>
        <p:spPr>
          <a:xfrm>
            <a:off x="-785880" y="502920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9" name="Text Box 56"/>
          <p:cNvSpPr/>
          <p:nvPr/>
        </p:nvSpPr>
        <p:spPr>
          <a:xfrm>
            <a:off x="-479160" y="541008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DB18-665D-4D4B-A3B6-F3FF732E702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ep 3: A’s ACK of the SYN-AC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2" name="Rectangle 32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3" name="Text Box 33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4" name="Rectangle 34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5" name="Text Box 35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6" name="Rectangle 36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7" name="Rectangle 38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SN plus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9" name="Rectangle 40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0" name="Rectangle 41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3" name="Line 44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4" name="Line 45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7" name="Rectangle 48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8" name="Rectangle 49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9" name="Text Box 50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0" name="Text Box 51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1" name="Rectangle 52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2" name="Text Box 53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3" name="Text Box 54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4" name="Text Box 55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5" name="Text Box 56"/>
          <p:cNvSpPr/>
          <p:nvPr/>
        </p:nvSpPr>
        <p:spPr>
          <a:xfrm>
            <a:off x="1038960" y="510552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tells B it is okay to start send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6" name="Text Box 57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7" name="Text Box 59"/>
          <p:cNvSpPr/>
          <p:nvPr/>
        </p:nvSpPr>
        <p:spPr>
          <a:xfrm>
            <a:off x="-452880" y="555768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608D-C9A6-4455-89ED-62BB2CE657D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wo Basic Transport Featur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Demultiplexing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port numb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Error detection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checksums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747720" y="2627280"/>
            <a:ext cx="129528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167440" y="2151000"/>
            <a:ext cx="3504960" cy="198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6676920" y="227016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rt 8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69880" y="22352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073840" y="177804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host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28.2.194.24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1890720" y="31417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6691320" y="3218040"/>
            <a:ext cx="174636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127240" y="2090880"/>
            <a:ext cx="293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28.2.194.24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.e., the Web server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Line 12"/>
          <p:cNvSpPr/>
          <p:nvPr/>
        </p:nvSpPr>
        <p:spPr>
          <a:xfrm flipV="1">
            <a:off x="6310440" y="2836440"/>
            <a:ext cx="4572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5319720" y="2913120"/>
            <a:ext cx="106668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774000" y="2941560"/>
            <a:ext cx="129384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1998720" y="4800600"/>
            <a:ext cx="4762440" cy="882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1998720" y="4800600"/>
            <a:ext cx="730080" cy="884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2116080" y="5030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3921120" y="5030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AutoShape 19"/>
          <p:cNvSpPr/>
          <p:nvPr/>
        </p:nvSpPr>
        <p:spPr>
          <a:xfrm rot="16200000">
            <a:off x="4572720" y="3993120"/>
            <a:ext cx="344520" cy="3956040"/>
          </a:xfrm>
          <a:custGeom>
            <a:avLst/>
            <a:gdLst>
              <a:gd name="textAreaLeft" fmla="*/ 220320 w 344520"/>
              <a:gd name="textAreaRight" fmla="*/ 344880 w 344520"/>
              <a:gd name="textAreaTop" fmla="*/ 102960 h 3956040"/>
              <a:gd name="textAreaBottom" fmla="*/ 3853080 h 395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3527280" y="6094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tect corrup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DC83-F5B2-450F-B707-F792380A69C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if the SYN Packet Gets Lost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se the SYN packet gets lo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is lost inside the network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rejects the packet (e.g., listen queue is fu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ntually, no SYN-ACK arriv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sets a timer and wait for the SYN-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transmits the SYN if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should the TCP sender set the timer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has no idea how far away the receiver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CPs use a default of 3 or 6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85C2-40AE-4A27-A75B-78416CB07D3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YN Loss and Web Download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 clicks on a hypertext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 creates a socket and does a “conne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connect” triggers the OS to transmit a SY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the SYN is lost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6 seconds of delay is very 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mpatient user may click “reloa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 triggers an “abort” of the “connect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 “connects” on a new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ly, forces a fast send of a new SY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643F-94C5-4B3E-A0A5-0721520ACA4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earing Down the Conn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384948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osing (each end of) the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ish (FIN) to close and receive remaining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other host sends a FIN ACK to ac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t (RST) to close and not receive remaining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Line 4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8" name="Line 5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9" name="Line 6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0" name="Line 7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1" name="Text Box 8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2" name="Text Box 9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3" name="Text Box 10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4" name="Text Box 11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5" name="Line 12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6" name="Line 13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7" name="Text Box 14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8" name="Text Box 15"/>
          <p:cNvSpPr/>
          <p:nvPr/>
        </p:nvSpPr>
        <p:spPr>
          <a:xfrm rot="4688400">
            <a:off x="6108840" y="2324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9" name="Line 16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0" name="Line 17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1" name="Line 18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2" name="Text Box 19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3" name="Line 20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4" name="Text Box 21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5" name="Text Box 22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6" name="Text Box 23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7" name="Oval 24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8" name="Oval 25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9" name="Oval 26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0" name="Line 27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1" name="Text Box 28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2" name="Line 29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3" name="Text Box 30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nding/Receiving the FIN Pack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a FIN: close(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s done sending data via the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nvokes “close()” to close the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TCP has sent all the outstanding byte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CP sends a F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ing a FIN: EOF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s reading data from the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, the attempt to read returns an E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EC7-3F71-4547-B15D-285667F6B4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nsport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xing and demultipl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sum-based error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ow-based flow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cept on Frid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-layer protocols: HT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proxy ass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C9C4-A3D3-44FB-BDE4-B45C4A9A847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6B25-4FBF-45D0-94C3-DBAE35B19FE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er Datagram Protocol (UD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gram messaging serv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ultiplexing: por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corruption: check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ghtweight communication between proc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and receive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overhead of ordered, reliable deli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892600" y="457200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653000" y="457200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892600" y="5105520"/>
            <a:ext cx="1760400" cy="533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653000" y="5105520"/>
            <a:ext cx="1760400" cy="533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2892600" y="56386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6415200" y="56386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176640" y="4689360"/>
            <a:ext cx="12952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 por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881600" y="4689360"/>
            <a:ext cx="12952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T por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3176640" y="519588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129280" y="5195880"/>
            <a:ext cx="8953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4290840" y="5867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vantages of UD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ne-grain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P sends as soon as the application wri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 connection set-up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P sends without establishing a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 connection st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uffers, parameters, sequence #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mall header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P header is only eight-bytes 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E5D4-BA89-428A-917D-B4AD2F8FE93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opular Applications That Use UD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media stream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tting packets is not always worth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phone calls, video conferencing, gaming, IPT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 query-response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head of connection establishment is overk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Domain Name System (DNS), DHCP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3D64-887E-4AE2-A3DD-803D0E00AA9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4" name="Picture 4" descr="j0292020"/>
          <p:cNvPicPr/>
          <p:nvPr/>
        </p:nvPicPr>
        <p:blipFill>
          <a:blip r:embed="rId1"/>
          <a:stretch/>
        </p:blipFill>
        <p:spPr>
          <a:xfrm>
            <a:off x="1500120" y="4649760"/>
            <a:ext cx="1636920" cy="1552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j0285750"/>
          <p:cNvPicPr/>
          <p:nvPr/>
        </p:nvPicPr>
        <p:blipFill>
          <a:blip r:embed="rId2"/>
          <a:stretch/>
        </p:blipFill>
        <p:spPr>
          <a:xfrm>
            <a:off x="6222960" y="5072040"/>
            <a:ext cx="1730520" cy="106200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6"/>
          <p:cNvSpPr/>
          <p:nvPr/>
        </p:nvSpPr>
        <p:spPr>
          <a:xfrm>
            <a:off x="3035160" y="4757760"/>
            <a:ext cx="3687840" cy="430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Freeform 7"/>
          <p:cNvSpPr/>
          <p:nvPr/>
        </p:nvSpPr>
        <p:spPr>
          <a:xfrm>
            <a:off x="3073320" y="5840280"/>
            <a:ext cx="3726000" cy="358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806920" y="4419720"/>
            <a:ext cx="41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 for www.cnn.com?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921480" y="568656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.4.15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mission Control Protocol (TC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tream-of-bytes servic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s and receives a stream of by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Reliable, in-order deliver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uption: checks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ct loss/reordering: sequence 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able delivery: acknowledgments and retransmi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Connection oriente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icit set-up and tear-down of TCP conn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Flow control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 overflow of the receiver’s buffer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ongestion control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Adapt to network congestion for the greater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4FC5-7FDE-4E85-8C34-246BE7AD11A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E6BB-8682-4F0B-8EAD-062A0D34467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reaking a Stream of Bytes 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o TCP Segments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0:10:32Z</dcterms:created>
  <dc:creator>Kai Li</dc:creator>
  <dc:description/>
  <dc:language>en-US</dc:language>
  <cp:lastModifiedBy>Jennifer Rexford</cp:lastModifiedBy>
  <dcterms:modified xsi:type="dcterms:W3CDTF">2012-02-13T13:38:44Z</dcterms:modified>
  <cp:revision>1044</cp:revision>
  <dc:subject/>
  <dc:title>Communication</dc:title>
</cp:coreProperties>
</file>