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8C838EE-909B-479B-B653-31F4D334B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783678-B243-4504-B913-B370BC15F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9D7808C-0175-4BE9-A26E-9616E045E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136F97B-347E-4375-A435-FFD9FB486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76320" y="4562640"/>
            <a:ext cx="53625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4F1A789-4280-49D5-B0F0-E73A4413B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647F599-84E2-41C5-A64B-7DE4C2A50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FFC5259-1AFD-44DC-A667-4539C7D72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19BD49-3A74-45BC-8097-848FCC51FF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20598E6-FD50-41A3-8DA6-877E6B51D0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76C6C59-F09D-41B7-83EE-AE0B988E8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B513F62-2E29-432C-ABA2-649FD0F70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CB03A5C-9DCC-49DC-966F-FB3A3AC8B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0C68F7-6A7F-46B5-B3A5-5660A0205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1E8B4F-2425-49F5-AD5D-E09BF86A42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8D0A1E-E014-4E66-90C4-5DB586AD7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6828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7B61D36-3F93-4284-BF85-F76DF172AC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DF12E7-4151-4491-809B-EEDF0A11C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DF3A559-A9C2-4D13-9F7D-F029358A5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2C4804E-C992-4FEC-A4E9-E856ECC9E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F8B3805-09B1-4EC7-9095-3E90B4E71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5B3A21-730E-4297-B45A-CCFF5C95D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6837B3-FF6E-46A8-B5C5-28E4D48FED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EC8DDC0-676E-4C61-A14F-4A0634EF8F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F2DF6B8-D9ED-4F2B-BDBF-F272034A7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2890611-A167-40B1-AE73-CB77CA115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2ED760-9953-4C6C-8678-E902E4C2F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51000" y="708120"/>
            <a:ext cx="4815000" cy="36115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42840" y="4564080"/>
            <a:ext cx="5429520" cy="43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8F98C76-F2F5-4EF5-8773-E8DB8D7BD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ADA5C91-C9C2-43ED-889C-0A7A452CE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362BEB3-1524-4561-8046-BBBFD77C85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DBE6CD-B97E-4D83-9978-A28123A17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750ADB-97B1-4745-8E0D-C23DBA889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8625B29-10C5-45A4-9616-EE0E370E5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F50F9F0-D6A1-4E4F-9279-266B41CA7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889F330-679A-4E3C-9C31-DA5BC329F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6328457-6DB7-4141-85B7-299487818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6D9D0A-83DD-4555-8A90-8B0DA3D4F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A30CBD5-0AF1-4D1D-A7F7-B7D7C56FCB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9BC-8F77-4AF3-BD8B-351EF880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15D-AE55-441C-820B-30F57B1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7D9-95F5-4091-9384-594285FE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B56-A5A3-4A88-991D-E6897847F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95CEF-7DF0-4951-B4A2-31A409BA8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04F2A-142B-473C-8AD9-7CB01EE73C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94C8B-1A05-49BE-9AB6-5EE2CBE2DE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C742-422C-4FE8-ABB5-781623174A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A004F-F176-407C-9B24-BE99AC715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7D9D-1076-4515-893F-20894E709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FCADE-FD09-4D1F-818D-ACD1AF82D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E51-F80F-49F6-88EA-2C53303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9BB63-B6C2-4A00-BBE6-C6BB1EDA5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9FF01-3397-43D9-8C9C-E3C9C1AA27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20930-D3AA-4BF4-AD4A-3F762AA65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2810E-8313-47FD-8C16-9A36E9DBC2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A3FFF-2A81-445F-9B7C-D474A7608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6E7-80DB-4136-8A22-40FE741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920-02A9-4220-ACF4-19C9A6D1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A4B-A935-4D86-A020-FE61372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959B-B8D6-417D-979A-0DA98C8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638-FB7E-49A1-BC9B-4EFDAEE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F79-B901-41BA-B7CF-5A9D8233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A93-071F-4C2C-9197-8D758078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640A-E395-4830-9A15-E177D7B798A3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2633-EF83-4145-A156-E2C157DA860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7BE9-28B3-4CB6-87D9-B0F7FC6C09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Network Layer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9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 Effort: Celebrating Simplic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ver having to say you’re sorry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serve bandwidth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do error detection and cor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remember from one packet to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survive failur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ent disruptions are okay during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sier to support on many kinds of lin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different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3AD-15B2-4D7A-911A-5622A94AA06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-Effort: Good Enough?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loss and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can res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 corrup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 detect, and sender can res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Out-of-order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 put the data back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follow different path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ma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conges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129-C62F-4795-8668-9C220CDF8FE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B242-4952-42D7-B0C1-E17C730792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(IPv4)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unique 32-bit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ies an interface (on a host, on a router, …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resented in dotted-quad not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CA5-74FE-4032-8BB8-3980514C8B6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851040" y="4910040"/>
            <a:ext cx="7327800" cy="592560"/>
            <a:chOff x="851040" y="4910040"/>
            <a:chExt cx="7327800" cy="592560"/>
          </a:xfrm>
        </p:grpSpPr>
        <p:grpSp>
          <p:nvGrpSpPr>
            <p:cNvPr id="282" name="Group 5"/>
            <p:cNvGrpSpPr/>
            <p:nvPr/>
          </p:nvGrpSpPr>
          <p:grpSpPr>
            <a:xfrm>
              <a:off x="851040" y="4927320"/>
              <a:ext cx="7327800" cy="520920"/>
              <a:chOff x="851040" y="4927320"/>
              <a:chExt cx="7327800" cy="520920"/>
            </a:xfrm>
          </p:grpSpPr>
          <p:sp>
            <p:nvSpPr>
              <p:cNvPr id="283" name="Rectangle 6"/>
              <p:cNvSpPr/>
              <p:nvPr/>
            </p:nvSpPr>
            <p:spPr>
              <a:xfrm>
                <a:off x="851040" y="493380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4" name="Line 7"/>
              <p:cNvSpPr/>
              <p:nvPr/>
            </p:nvSpPr>
            <p:spPr>
              <a:xfrm>
                <a:off x="4502160" y="492732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5" name="Line 8"/>
              <p:cNvSpPr/>
              <p:nvPr/>
            </p:nvSpPr>
            <p:spPr>
              <a:xfrm>
                <a:off x="2698560" y="492732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9"/>
              <p:cNvSpPr/>
              <p:nvPr/>
            </p:nvSpPr>
            <p:spPr>
              <a:xfrm>
                <a:off x="6356160" y="494028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287" name="Rectangle 10"/>
            <p:cNvSpPr/>
            <p:nvPr/>
          </p:nvSpPr>
          <p:spPr>
            <a:xfrm>
              <a:off x="862200" y="49100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8" name="Rectangle 11"/>
            <p:cNvSpPr/>
            <p:nvPr/>
          </p:nvSpPr>
          <p:spPr>
            <a:xfrm>
              <a:off x="2716200" y="49100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89" name="Rectangle 12"/>
            <p:cNvSpPr/>
            <p:nvPr/>
          </p:nvSpPr>
          <p:spPr>
            <a:xfrm>
              <a:off x="4545000" y="49226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6348600" y="49226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1" name="Text Box 21"/>
          <p:cNvSpPr/>
          <p:nvPr/>
        </p:nvSpPr>
        <p:spPr>
          <a:xfrm>
            <a:off x="1506240" y="350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3408120" y="3506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5097960" y="3506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703800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1774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370044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473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7219800" y="39639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Grouping Related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Internet is an “inter-network”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onnect networks together, not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to address a network (i.e., group of hos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8013-1218-4098-9CF1-61C5F94608B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996840" y="411480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3017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2161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328284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972360" y="35301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186768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93436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115280" y="4128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2425680" y="3428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5645160" y="411480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Line 14"/>
          <p:cNvSpPr/>
          <p:nvPr/>
        </p:nvSpPr>
        <p:spPr>
          <a:xfrm>
            <a:off x="59500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Line 15"/>
          <p:cNvSpPr/>
          <p:nvPr/>
        </p:nvSpPr>
        <p:spPr>
          <a:xfrm>
            <a:off x="68644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Line 16"/>
          <p:cNvSpPr/>
          <p:nvPr/>
        </p:nvSpPr>
        <p:spPr>
          <a:xfrm>
            <a:off x="793116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5620680" y="35301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18"/>
          <p:cNvSpPr/>
          <p:nvPr/>
        </p:nvSpPr>
        <p:spPr>
          <a:xfrm>
            <a:off x="651600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Rectangle 19"/>
          <p:cNvSpPr/>
          <p:nvPr/>
        </p:nvSpPr>
        <p:spPr>
          <a:xfrm>
            <a:off x="7582680" y="35110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7058880" y="41144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7073640" y="3428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AutoShape 22"/>
          <p:cNvSpPr/>
          <p:nvPr/>
        </p:nvSpPr>
        <p:spPr>
          <a:xfrm>
            <a:off x="25210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AutoShape 23"/>
          <p:cNvSpPr/>
          <p:nvPr/>
        </p:nvSpPr>
        <p:spPr>
          <a:xfrm>
            <a:off x="43498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Line 24"/>
          <p:cNvSpPr/>
          <p:nvPr/>
        </p:nvSpPr>
        <p:spPr>
          <a:xfrm>
            <a:off x="282564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AutoShape 25"/>
          <p:cNvSpPr/>
          <p:nvPr/>
        </p:nvSpPr>
        <p:spPr>
          <a:xfrm>
            <a:off x="6178680" y="4419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Line 26"/>
          <p:cNvSpPr/>
          <p:nvPr/>
        </p:nvSpPr>
        <p:spPr>
          <a:xfrm>
            <a:off x="648324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3130560" y="45720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Line 28"/>
          <p:cNvSpPr/>
          <p:nvPr/>
        </p:nvSpPr>
        <p:spPr>
          <a:xfrm>
            <a:off x="4959360" y="45720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3469320" y="4571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5296320" y="45716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Text Box 34"/>
          <p:cNvSpPr/>
          <p:nvPr/>
        </p:nvSpPr>
        <p:spPr>
          <a:xfrm>
            <a:off x="82080" y="5029200"/>
            <a:ext cx="38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 = Local Area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 = Wide Area Networ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Challen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uppose hosts had arbitrary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every router would need a lot of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now how to direct packets toward every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9CA-35B8-4CAE-9783-387C279B131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9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17679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29714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.6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2.3.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637668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75798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4.6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543120" y="49816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555720" y="5365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2.3.5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4849920" y="538812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9" name="AutoShape 40"/>
          <p:cNvSpPr/>
          <p:nvPr/>
        </p:nvSpPr>
        <p:spPr>
          <a:xfrm flipH="1">
            <a:off x="4848120" y="5041800"/>
            <a:ext cx="728640" cy="230400"/>
          </a:xfrm>
          <a:prstGeom prst="rightArrow">
            <a:avLst>
              <a:gd name="adj1" fmla="val 50000"/>
              <a:gd name="adj2" fmla="val 7906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0" name="Group 48"/>
          <p:cNvGrpSpPr/>
          <p:nvPr/>
        </p:nvGrpSpPr>
        <p:grpSpPr>
          <a:xfrm>
            <a:off x="3965400" y="5810400"/>
            <a:ext cx="78120" cy="306000"/>
            <a:chOff x="3965400" y="5810400"/>
            <a:chExt cx="78120" cy="306000"/>
          </a:xfrm>
        </p:grpSpPr>
        <p:sp>
          <p:nvSpPr>
            <p:cNvPr id="371" name="Oval 45"/>
            <p:cNvSpPr/>
            <p:nvPr/>
          </p:nvSpPr>
          <p:spPr>
            <a:xfrm>
              <a:off x="3965400" y="581040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965400" y="592164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Oval 47"/>
            <p:cNvSpPr/>
            <p:nvPr/>
          </p:nvSpPr>
          <p:spPr>
            <a:xfrm>
              <a:off x="3965400" y="6032880"/>
              <a:ext cx="78120" cy="8352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4" name="Group 50"/>
          <p:cNvGrpSpPr/>
          <p:nvPr/>
        </p:nvGrpSpPr>
        <p:grpSpPr>
          <a:xfrm>
            <a:off x="3274560" y="4925880"/>
            <a:ext cx="2619000" cy="1757880"/>
            <a:chOff x="3274560" y="4925880"/>
            <a:chExt cx="2619000" cy="1757880"/>
          </a:xfrm>
        </p:grpSpPr>
        <p:sp>
          <p:nvSpPr>
            <p:cNvPr id="375" name="Rectangle 41"/>
            <p:cNvSpPr/>
            <p:nvPr/>
          </p:nvSpPr>
          <p:spPr>
            <a:xfrm>
              <a:off x="3505320" y="4925880"/>
              <a:ext cx="2227320" cy="130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6" name="Line 42"/>
            <p:cNvSpPr/>
            <p:nvPr/>
          </p:nvSpPr>
          <p:spPr>
            <a:xfrm>
              <a:off x="4695840" y="4925880"/>
              <a:ext cx="0" cy="130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7" name="Line 43"/>
            <p:cNvSpPr/>
            <p:nvPr/>
          </p:nvSpPr>
          <p:spPr>
            <a:xfrm>
              <a:off x="3505320" y="534816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8" name="Line 44"/>
            <p:cNvSpPr/>
            <p:nvPr/>
          </p:nvSpPr>
          <p:spPr>
            <a:xfrm>
              <a:off x="3505320" y="573264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Text Box 49"/>
            <p:cNvSpPr/>
            <p:nvPr/>
          </p:nvSpPr>
          <p:spPr>
            <a:xfrm>
              <a:off x="3274560" y="6284880"/>
              <a:ext cx="261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warding table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ing in U.S. Mai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dressing in the U.S. 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p code: 085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: 35 Olden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om in building: 3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occupant: Jennifer Rex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he U.S. mai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 to the post office in the zip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 to mailman covering the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letter into mailbox for building/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 letter to the appropriat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BB81-CE69-450F-A4CC-722DF7C7BAC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Letter"/>
          <p:cNvSpPr/>
          <p:nvPr/>
        </p:nvSpPr>
        <p:spPr>
          <a:xfrm>
            <a:off x="5762520" y="1700280"/>
            <a:ext cx="2919600" cy="13064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6799320" y="2354400"/>
            <a:ext cx="1271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??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85" name="Picture 6" descr="MCj02156880000[1]"/>
          <p:cNvPicPr/>
          <p:nvPr/>
        </p:nvPicPr>
        <p:blipFill>
          <a:blip r:embed="rId1"/>
          <a:stretch/>
        </p:blipFill>
        <p:spPr>
          <a:xfrm>
            <a:off x="7415280" y="3967200"/>
            <a:ext cx="142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54B1-9457-433B-9C88-49538D7A6E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ing: IP Prefix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 and host portions (left and right)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12.34.158.0/24 is a 24-bit </a:t>
            </a:r>
            <a:r>
              <a:rPr b="1" lang="en-US" sz="3200" spc="-1" strike="noStrike">
                <a:solidFill>
                  <a:srgbClr val="800000"/>
                </a:solidFill>
                <a:latin typeface="Calibri"/>
              </a:rPr>
              <a:t>prefix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with 2</a:t>
            </a:r>
            <a:r>
              <a:rPr b="0" lang="en-US" sz="3200" spc="-1" strike="noStrike" baseline="30000">
                <a:solidFill>
                  <a:srgbClr val="800000"/>
                </a:solidFill>
                <a:latin typeface="Calibri"/>
              </a:rPr>
              <a:t>8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846000" y="3994200"/>
            <a:ext cx="7328160" cy="592560"/>
            <a:chOff x="846000" y="3994200"/>
            <a:chExt cx="7328160" cy="592560"/>
          </a:xfrm>
        </p:grpSpPr>
        <p:grpSp>
          <p:nvGrpSpPr>
            <p:cNvPr id="390" name="Group 5"/>
            <p:cNvGrpSpPr/>
            <p:nvPr/>
          </p:nvGrpSpPr>
          <p:grpSpPr>
            <a:xfrm>
              <a:off x="846000" y="4011480"/>
              <a:ext cx="7328160" cy="520920"/>
              <a:chOff x="846000" y="4011480"/>
              <a:chExt cx="7328160" cy="520920"/>
            </a:xfrm>
          </p:grpSpPr>
          <p:sp>
            <p:nvSpPr>
              <p:cNvPr id="391" name="Rectangle 6"/>
              <p:cNvSpPr/>
              <p:nvPr/>
            </p:nvSpPr>
            <p:spPr>
              <a:xfrm>
                <a:off x="846000" y="4017960"/>
                <a:ext cx="732816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2" name="Line 7"/>
              <p:cNvSpPr/>
              <p:nvPr/>
            </p:nvSpPr>
            <p:spPr>
              <a:xfrm>
                <a:off x="4497480" y="401148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3" name="Line 8"/>
              <p:cNvSpPr/>
              <p:nvPr/>
            </p:nvSpPr>
            <p:spPr>
              <a:xfrm>
                <a:off x="2693880" y="401148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4" name="Line 9"/>
              <p:cNvSpPr/>
              <p:nvPr/>
            </p:nvSpPr>
            <p:spPr>
              <a:xfrm>
                <a:off x="6351480" y="40244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395" name="Rectangle 10"/>
            <p:cNvSpPr/>
            <p:nvPr/>
          </p:nvSpPr>
          <p:spPr>
            <a:xfrm>
              <a:off x="857520" y="3994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>
              <a:off x="2711880" y="3994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7" name="Rectangle 12"/>
            <p:cNvSpPr/>
            <p:nvPr/>
          </p:nvSpPr>
          <p:spPr>
            <a:xfrm>
              <a:off x="4540680" y="4006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343920" y="4006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9" name="Line 14"/>
          <p:cNvSpPr/>
          <p:nvPr/>
        </p:nvSpPr>
        <p:spPr>
          <a:xfrm>
            <a:off x="861840" y="4770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2188800" y="5075280"/>
            <a:ext cx="231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work (24 bit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Line 16"/>
          <p:cNvSpPr/>
          <p:nvPr/>
        </p:nvSpPr>
        <p:spPr>
          <a:xfrm flipH="1">
            <a:off x="861840" y="5011560"/>
            <a:ext cx="54705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Line 17"/>
          <p:cNvSpPr/>
          <p:nvPr/>
        </p:nvSpPr>
        <p:spPr>
          <a:xfrm>
            <a:off x="8174160" y="4745160"/>
            <a:ext cx="0" cy="533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3" name="Line 18"/>
          <p:cNvSpPr/>
          <p:nvPr/>
        </p:nvSpPr>
        <p:spPr>
          <a:xfrm>
            <a:off x="6340320" y="468144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344640" y="5075280"/>
            <a:ext cx="173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Host (8 bi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6332400" y="5011560"/>
            <a:ext cx="18846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5015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340344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509292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7033320" y="25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177012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1" name="Line 26"/>
          <p:cNvSpPr/>
          <p:nvPr/>
        </p:nvSpPr>
        <p:spPr>
          <a:xfrm>
            <a:off x="369576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Line 27"/>
          <p:cNvSpPr/>
          <p:nvPr/>
        </p:nvSpPr>
        <p:spPr>
          <a:xfrm>
            <a:off x="546876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Line 28"/>
          <p:cNvSpPr/>
          <p:nvPr/>
        </p:nvSpPr>
        <p:spPr>
          <a:xfrm>
            <a:off x="7215120" y="30481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Address and 24-bit Subnet Mas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98B7-C948-4D81-9F2B-784BBCF1CE6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1428840" y="2838600"/>
            <a:ext cx="7327800" cy="592200"/>
            <a:chOff x="1428840" y="2838600"/>
            <a:chExt cx="7327800" cy="592200"/>
          </a:xfrm>
        </p:grpSpPr>
        <p:grpSp>
          <p:nvGrpSpPr>
            <p:cNvPr id="417" name="Group 5"/>
            <p:cNvGrpSpPr/>
            <p:nvPr/>
          </p:nvGrpSpPr>
          <p:grpSpPr>
            <a:xfrm>
              <a:off x="1428840" y="2855520"/>
              <a:ext cx="7327800" cy="520560"/>
              <a:chOff x="1428840" y="2855520"/>
              <a:chExt cx="7327800" cy="520560"/>
            </a:xfrm>
          </p:grpSpPr>
          <p:sp>
            <p:nvSpPr>
              <p:cNvPr id="418" name="Rectangle 6"/>
              <p:cNvSpPr/>
              <p:nvPr/>
            </p:nvSpPr>
            <p:spPr>
              <a:xfrm>
                <a:off x="1428840" y="2861640"/>
                <a:ext cx="7327800" cy="507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19" name="Line 7"/>
              <p:cNvSpPr/>
              <p:nvPr/>
            </p:nvSpPr>
            <p:spPr>
              <a:xfrm>
                <a:off x="5079960" y="285552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0" name="Line 8"/>
              <p:cNvSpPr/>
              <p:nvPr/>
            </p:nvSpPr>
            <p:spPr>
              <a:xfrm>
                <a:off x="3276360" y="2855520"/>
                <a:ext cx="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21" name="Line 9"/>
              <p:cNvSpPr/>
              <p:nvPr/>
            </p:nvSpPr>
            <p:spPr>
              <a:xfrm>
                <a:off x="6933960" y="2868120"/>
                <a:ext cx="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22" name="Rectangle 10"/>
            <p:cNvSpPr/>
            <p:nvPr/>
          </p:nvSpPr>
          <p:spPr>
            <a:xfrm>
              <a:off x="1440000" y="28386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Rectangle 11"/>
            <p:cNvSpPr/>
            <p:nvPr/>
          </p:nvSpPr>
          <p:spPr>
            <a:xfrm>
              <a:off x="3294000" y="28386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001000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Rectangle 12"/>
            <p:cNvSpPr/>
            <p:nvPr/>
          </p:nvSpPr>
          <p:spPr>
            <a:xfrm>
              <a:off x="5122800" y="28508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00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Rectangle 13"/>
            <p:cNvSpPr/>
            <p:nvPr/>
          </p:nvSpPr>
          <p:spPr>
            <a:xfrm>
              <a:off x="6926400" y="285084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10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26" name="Text Box 14"/>
          <p:cNvSpPr/>
          <p:nvPr/>
        </p:nvSpPr>
        <p:spPr>
          <a:xfrm>
            <a:off x="2084040" y="143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985920" y="1434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5675760" y="1434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7615800" y="143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235260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Line 19"/>
          <p:cNvSpPr/>
          <p:nvPr/>
        </p:nvSpPr>
        <p:spPr>
          <a:xfrm>
            <a:off x="427824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2" name="Line 20"/>
          <p:cNvSpPr/>
          <p:nvPr/>
        </p:nvSpPr>
        <p:spPr>
          <a:xfrm>
            <a:off x="605160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3" name="Line 21"/>
          <p:cNvSpPr/>
          <p:nvPr/>
        </p:nvSpPr>
        <p:spPr>
          <a:xfrm>
            <a:off x="7797960" y="189216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4" name="Group 22"/>
          <p:cNvGrpSpPr/>
          <p:nvPr/>
        </p:nvGrpSpPr>
        <p:grpSpPr>
          <a:xfrm>
            <a:off x="1422360" y="3838680"/>
            <a:ext cx="7327800" cy="592560"/>
            <a:chOff x="1422360" y="3838680"/>
            <a:chExt cx="7327800" cy="592560"/>
          </a:xfrm>
        </p:grpSpPr>
        <p:grpSp>
          <p:nvGrpSpPr>
            <p:cNvPr id="435" name="Group 23"/>
            <p:cNvGrpSpPr/>
            <p:nvPr/>
          </p:nvGrpSpPr>
          <p:grpSpPr>
            <a:xfrm>
              <a:off x="1422360" y="3855960"/>
              <a:ext cx="7327800" cy="520920"/>
              <a:chOff x="1422360" y="3855960"/>
              <a:chExt cx="7327800" cy="520920"/>
            </a:xfrm>
          </p:grpSpPr>
          <p:sp>
            <p:nvSpPr>
              <p:cNvPr id="436" name="Rectangle 24"/>
              <p:cNvSpPr/>
              <p:nvPr/>
            </p:nvSpPr>
            <p:spPr>
              <a:xfrm>
                <a:off x="1422360" y="386244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7" name="Line 25"/>
              <p:cNvSpPr/>
              <p:nvPr/>
            </p:nvSpPr>
            <p:spPr>
              <a:xfrm>
                <a:off x="5073480" y="385596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8" name="Line 26"/>
              <p:cNvSpPr/>
              <p:nvPr/>
            </p:nvSpPr>
            <p:spPr>
              <a:xfrm>
                <a:off x="3269880" y="385596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9" name="Line 27"/>
              <p:cNvSpPr/>
              <p:nvPr/>
            </p:nvSpPr>
            <p:spPr>
              <a:xfrm>
                <a:off x="6927480" y="386892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440" name="Rectangle 28"/>
            <p:cNvSpPr/>
            <p:nvPr/>
          </p:nvSpPr>
          <p:spPr>
            <a:xfrm>
              <a:off x="1433520" y="38386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1" name="Rectangle 29"/>
            <p:cNvSpPr/>
            <p:nvPr/>
          </p:nvSpPr>
          <p:spPr>
            <a:xfrm>
              <a:off x="3287520" y="38386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30"/>
            <p:cNvSpPr/>
            <p:nvPr/>
          </p:nvSpPr>
          <p:spPr>
            <a:xfrm>
              <a:off x="5116320" y="38512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3" name="Rectangle 31"/>
            <p:cNvSpPr/>
            <p:nvPr/>
          </p:nvSpPr>
          <p:spPr>
            <a:xfrm>
              <a:off x="6919920" y="38512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66ff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4" name="Line 46"/>
          <p:cNvSpPr/>
          <p:nvPr/>
        </p:nvSpPr>
        <p:spPr>
          <a:xfrm flipV="1">
            <a:off x="2355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Line 47"/>
          <p:cNvSpPr/>
          <p:nvPr/>
        </p:nvSpPr>
        <p:spPr>
          <a:xfrm flipV="1">
            <a:off x="428148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Line 48"/>
          <p:cNvSpPr/>
          <p:nvPr/>
        </p:nvSpPr>
        <p:spPr>
          <a:xfrm flipV="1">
            <a:off x="6054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Line 49"/>
          <p:cNvSpPr/>
          <p:nvPr/>
        </p:nvSpPr>
        <p:spPr>
          <a:xfrm flipV="1">
            <a:off x="7800840" y="4495320"/>
            <a:ext cx="0" cy="74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Text Box 50"/>
          <p:cNvSpPr/>
          <p:nvPr/>
        </p:nvSpPr>
        <p:spPr>
          <a:xfrm>
            <a:off x="197676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87864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Text Box 52"/>
          <p:cNvSpPr/>
          <p:nvPr/>
        </p:nvSpPr>
        <p:spPr>
          <a:xfrm>
            <a:off x="5679000" y="5343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5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Text Box 53"/>
          <p:cNvSpPr/>
          <p:nvPr/>
        </p:nvSpPr>
        <p:spPr>
          <a:xfrm>
            <a:off x="7619040" y="5343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196200" y="1371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82760" y="52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ility Improved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umber related hosts from a common subn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0/24 on the lef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6.7.0/24 on the right 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1F32-BBCA-4D8A-A4DC-1175DD5542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705888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Line 24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Line 27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Text Box 37"/>
          <p:cNvSpPr/>
          <p:nvPr/>
        </p:nvSpPr>
        <p:spPr>
          <a:xfrm>
            <a:off x="335124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Text Box 38"/>
          <p:cNvSpPr/>
          <p:nvPr/>
        </p:nvSpPr>
        <p:spPr>
          <a:xfrm>
            <a:off x="336420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AutoShape 39"/>
          <p:cNvSpPr/>
          <p:nvPr/>
        </p:nvSpPr>
        <p:spPr>
          <a:xfrm>
            <a:off x="506880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AutoShape 40"/>
          <p:cNvSpPr/>
          <p:nvPr/>
        </p:nvSpPr>
        <p:spPr>
          <a:xfrm flipH="1">
            <a:off x="5067360" y="504360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Rectangle 46"/>
          <p:cNvSpPr/>
          <p:nvPr/>
        </p:nvSpPr>
        <p:spPr>
          <a:xfrm>
            <a:off x="337824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5" name="Line 47"/>
          <p:cNvSpPr/>
          <p:nvPr/>
        </p:nvSpPr>
        <p:spPr>
          <a:xfrm>
            <a:off x="491508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6" name="Line 48"/>
          <p:cNvSpPr/>
          <p:nvPr/>
        </p:nvSpPr>
        <p:spPr>
          <a:xfrm flipV="1">
            <a:off x="337824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330156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rotocol Stack: Key Abstrac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E5A-98B2-4D74-A5A0-CCC34B626DD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2643120" y="2052720"/>
            <a:ext cx="4800600" cy="2438280"/>
            <a:chOff x="2643120" y="2052720"/>
            <a:chExt cx="4800600" cy="2438280"/>
          </a:xfrm>
        </p:grpSpPr>
        <p:sp>
          <p:nvSpPr>
            <p:cNvPr id="93" name="Rectangle 4"/>
            <p:cNvSpPr/>
            <p:nvPr/>
          </p:nvSpPr>
          <p:spPr>
            <a:xfrm>
              <a:off x="2643120" y="3881520"/>
              <a:ext cx="4800600" cy="6094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loc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" name="Rectangle 5"/>
            <p:cNvSpPr/>
            <p:nvPr/>
          </p:nvSpPr>
          <p:spPr>
            <a:xfrm>
              <a:off x="2643120" y="3273480"/>
              <a:ext cx="4800600" cy="608040"/>
            </a:xfrm>
            <a:prstGeom prst="rect">
              <a:avLst/>
            </a:prstGeom>
            <a:solidFill>
              <a:srgbClr val="3c8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est-effort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global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cket deliver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2643120" y="2663640"/>
              <a:ext cx="27432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able stream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2643120" y="2052720"/>
              <a:ext cx="4800600" cy="610920"/>
            </a:xfrm>
            <a:prstGeom prst="rect">
              <a:avLst/>
            </a:prstGeom>
            <a:solidFill>
              <a:srgbClr val="00d1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5386320" y="2662200"/>
              <a:ext cx="2057400" cy="609480"/>
            </a:xfrm>
            <a:prstGeom prst="rect">
              <a:avLst/>
            </a:prstGeom>
            <a:solidFill>
              <a:srgbClr val="d64a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ssage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8" name="TextBox 11"/>
          <p:cNvSpPr/>
          <p:nvPr/>
        </p:nvSpPr>
        <p:spPr>
          <a:xfrm>
            <a:off x="1745640" y="4033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Box 12"/>
          <p:cNvSpPr/>
          <p:nvPr/>
        </p:nvSpPr>
        <p:spPr>
          <a:xfrm>
            <a:off x="1235520" y="33735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42920" y="2712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846720" y="2052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asy to Add New Host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 need to update the rou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dding a new host 5.6.7.213 on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require adding a new forwarding-table e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E993-CE5D-4DB5-87BA-DA63A77F1D0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Line 45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Line 46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47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48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Text Box 52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Text Box 53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Line 54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Line 55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Line 56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Line 57"/>
          <p:cNvSpPr/>
          <p:nvPr/>
        </p:nvSpPr>
        <p:spPr>
          <a:xfrm>
            <a:off x="7931160" y="3657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7582680" y="33584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Text Box 61"/>
          <p:cNvSpPr/>
          <p:nvPr/>
        </p:nvSpPr>
        <p:spPr>
          <a:xfrm>
            <a:off x="6905160" y="3978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 Box 62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AutoShape 63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AutoShape 64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65"/>
          <p:cNvSpPr/>
          <p:nvPr/>
        </p:nvSpPr>
        <p:spPr>
          <a:xfrm>
            <a:off x="28256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AutoShape 66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3" name="Line 67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Line 68"/>
          <p:cNvSpPr/>
          <p:nvPr/>
        </p:nvSpPr>
        <p:spPr>
          <a:xfrm>
            <a:off x="31305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Line 69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Text Box 70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Text Box 71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8" name="Text Box 72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9" name="Text Box 73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Text Box 74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1" name="Text Box 75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2" name="Text Box 76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Text Box 77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4" name="Text Box 78"/>
          <p:cNvSpPr/>
          <p:nvPr/>
        </p:nvSpPr>
        <p:spPr>
          <a:xfrm>
            <a:off x="3419640" y="4983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Text Box 79"/>
          <p:cNvSpPr/>
          <p:nvPr/>
        </p:nvSpPr>
        <p:spPr>
          <a:xfrm>
            <a:off x="3432240" y="53672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AutoShape 80"/>
          <p:cNvSpPr/>
          <p:nvPr/>
        </p:nvSpPr>
        <p:spPr>
          <a:xfrm>
            <a:off x="5137200" y="538956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AutoShape 81"/>
          <p:cNvSpPr/>
          <p:nvPr/>
        </p:nvSpPr>
        <p:spPr>
          <a:xfrm flipH="1">
            <a:off x="5134680" y="5043600"/>
            <a:ext cx="729000" cy="230040"/>
          </a:xfrm>
          <a:prstGeom prst="rightArrow">
            <a:avLst>
              <a:gd name="adj1" fmla="val 50000"/>
              <a:gd name="adj2" fmla="val 7922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Rectangle 82"/>
          <p:cNvSpPr/>
          <p:nvPr/>
        </p:nvSpPr>
        <p:spPr>
          <a:xfrm>
            <a:off x="3446640" y="4927680"/>
            <a:ext cx="2573280" cy="80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Line 83"/>
          <p:cNvSpPr/>
          <p:nvPr/>
        </p:nvSpPr>
        <p:spPr>
          <a:xfrm>
            <a:off x="4983120" y="4927680"/>
            <a:ext cx="0" cy="80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Line 84"/>
          <p:cNvSpPr/>
          <p:nvPr/>
        </p:nvSpPr>
        <p:spPr>
          <a:xfrm flipV="1">
            <a:off x="3446640" y="5349960"/>
            <a:ext cx="257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Text Box 85"/>
          <p:cNvSpPr/>
          <p:nvPr/>
        </p:nvSpPr>
        <p:spPr>
          <a:xfrm>
            <a:off x="3369600" y="58104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Line 86"/>
          <p:cNvSpPr/>
          <p:nvPr/>
        </p:nvSpPr>
        <p:spPr>
          <a:xfrm>
            <a:off x="8143920" y="4005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Rectangle 87"/>
          <p:cNvSpPr/>
          <p:nvPr/>
        </p:nvSpPr>
        <p:spPr>
          <a:xfrm>
            <a:off x="7776360" y="431748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Text Box 88"/>
          <p:cNvSpPr/>
          <p:nvPr/>
        </p:nvSpPr>
        <p:spPr>
          <a:xfrm>
            <a:off x="7336440" y="4713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Oval 89"/>
          <p:cNvSpPr/>
          <p:nvPr/>
        </p:nvSpPr>
        <p:spPr>
          <a:xfrm>
            <a:off x="7221600" y="4197240"/>
            <a:ext cx="1612800" cy="1036800"/>
          </a:xfrm>
          <a:prstGeom prst="ellipse">
            <a:avLst/>
          </a:prstGeom>
          <a:noFill/>
          <a:ln w="255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story of IP Address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DBAA-5AFD-4952-907E-B6706207180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B91-B6CE-4C15-A361-5705AC06F9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assful Address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4776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 the olden days, only fixed allocation siz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A: 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large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., MIT has 18.0.0.0/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B: 1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1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,. Princeton has 128.112.0.0/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C: 110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/2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(e.g., AT&amp;T Labs has 192.20.225.0/2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ass D: 1110* for multicas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Class E: 11110* reserved for futu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s is why folks use dotted-quad notation!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lassless Inter-Domain Routing (CIDR)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076F-BECA-45EB-9AD3-258D90D85B7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5760" y="1981080"/>
            <a:ext cx="7863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 Address : 12.4.0.0       IP  Mask: 255.254.0.0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447920" y="2660760"/>
            <a:ext cx="3504960" cy="229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6" name="Group 5"/>
          <p:cNvGrpSpPr/>
          <p:nvPr/>
        </p:nvGrpSpPr>
        <p:grpSpPr>
          <a:xfrm>
            <a:off x="1577880" y="2868480"/>
            <a:ext cx="7328160" cy="592560"/>
            <a:chOff x="1577880" y="2868480"/>
            <a:chExt cx="7328160" cy="592560"/>
          </a:xfrm>
        </p:grpSpPr>
        <p:grpSp>
          <p:nvGrpSpPr>
            <p:cNvPr id="557" name="Group 6"/>
            <p:cNvGrpSpPr/>
            <p:nvPr/>
          </p:nvGrpSpPr>
          <p:grpSpPr>
            <a:xfrm>
              <a:off x="1577880" y="2885760"/>
              <a:ext cx="7328160" cy="520920"/>
              <a:chOff x="1577880" y="2885760"/>
              <a:chExt cx="7328160" cy="520920"/>
            </a:xfrm>
          </p:grpSpPr>
          <p:sp>
            <p:nvSpPr>
              <p:cNvPr id="558" name="Rectangle 7"/>
              <p:cNvSpPr/>
              <p:nvPr/>
            </p:nvSpPr>
            <p:spPr>
              <a:xfrm>
                <a:off x="1577880" y="2892240"/>
                <a:ext cx="732816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59" name="Line 8"/>
              <p:cNvSpPr/>
              <p:nvPr/>
            </p:nvSpPr>
            <p:spPr>
              <a:xfrm>
                <a:off x="5229360" y="288576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0" name="Line 9"/>
              <p:cNvSpPr/>
              <p:nvPr/>
            </p:nvSpPr>
            <p:spPr>
              <a:xfrm>
                <a:off x="3425760" y="2885760"/>
                <a:ext cx="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7083360" y="2898360"/>
                <a:ext cx="0" cy="50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62" name="Rectangle 11"/>
            <p:cNvSpPr/>
            <p:nvPr/>
          </p:nvSpPr>
          <p:spPr>
            <a:xfrm>
              <a:off x="1589400" y="28684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1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Rectangle 12"/>
            <p:cNvSpPr/>
            <p:nvPr/>
          </p:nvSpPr>
          <p:spPr>
            <a:xfrm>
              <a:off x="3443760" y="28684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1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Rectangle 13"/>
            <p:cNvSpPr/>
            <p:nvPr/>
          </p:nvSpPr>
          <p:spPr>
            <a:xfrm>
              <a:off x="5272560" y="28810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Rectangle 14"/>
            <p:cNvSpPr/>
            <p:nvPr/>
          </p:nvSpPr>
          <p:spPr>
            <a:xfrm>
              <a:off x="7075800" y="288108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6" name="Group 15"/>
          <p:cNvGrpSpPr/>
          <p:nvPr/>
        </p:nvGrpSpPr>
        <p:grpSpPr>
          <a:xfrm>
            <a:off x="1573200" y="3697200"/>
            <a:ext cx="7327800" cy="592560"/>
            <a:chOff x="1573200" y="3697200"/>
            <a:chExt cx="7327800" cy="592560"/>
          </a:xfrm>
        </p:grpSpPr>
        <p:grpSp>
          <p:nvGrpSpPr>
            <p:cNvPr id="567" name="Group 16"/>
            <p:cNvGrpSpPr/>
            <p:nvPr/>
          </p:nvGrpSpPr>
          <p:grpSpPr>
            <a:xfrm>
              <a:off x="1573200" y="3714840"/>
              <a:ext cx="7327800" cy="520560"/>
              <a:chOff x="1573200" y="3714840"/>
              <a:chExt cx="7327800" cy="520560"/>
            </a:xfrm>
          </p:grpSpPr>
          <p:sp>
            <p:nvSpPr>
              <p:cNvPr id="568" name="Rectangle 17"/>
              <p:cNvSpPr/>
              <p:nvPr/>
            </p:nvSpPr>
            <p:spPr>
              <a:xfrm>
                <a:off x="1573200" y="3720960"/>
                <a:ext cx="7327800" cy="507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eeece1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9" name="Line 18"/>
              <p:cNvSpPr/>
              <p:nvPr/>
            </p:nvSpPr>
            <p:spPr>
              <a:xfrm>
                <a:off x="5224320" y="37148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0" name="Line 19"/>
              <p:cNvSpPr/>
              <p:nvPr/>
            </p:nvSpPr>
            <p:spPr>
              <a:xfrm>
                <a:off x="3421080" y="3714840"/>
                <a:ext cx="0" cy="52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1" name="Line 20"/>
              <p:cNvSpPr/>
              <p:nvPr/>
            </p:nvSpPr>
            <p:spPr>
              <a:xfrm>
                <a:off x="7078680" y="3727440"/>
                <a:ext cx="0" cy="50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72" name="Rectangle 21"/>
            <p:cNvSpPr/>
            <p:nvPr/>
          </p:nvSpPr>
          <p:spPr>
            <a:xfrm>
              <a:off x="1584720" y="3697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111111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3" name="Rectangle 22"/>
            <p:cNvSpPr/>
            <p:nvPr/>
          </p:nvSpPr>
          <p:spPr>
            <a:xfrm>
              <a:off x="3439080" y="36972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11111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4" name="Rectangle 23"/>
            <p:cNvSpPr/>
            <p:nvPr/>
          </p:nvSpPr>
          <p:spPr>
            <a:xfrm>
              <a:off x="5267880" y="3709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5" name="Rectangle 24"/>
            <p:cNvSpPr/>
            <p:nvPr/>
          </p:nvSpPr>
          <p:spPr>
            <a:xfrm>
              <a:off x="7071120" y="3709800"/>
              <a:ext cx="1818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00000000</a:t>
              </a:r>
              <a:endParaRPr b="1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6" name="Rectangle 25"/>
          <p:cNvSpPr/>
          <p:nvPr/>
        </p:nvSpPr>
        <p:spPr>
          <a:xfrm>
            <a:off x="360" y="2889360"/>
            <a:ext cx="1488240" cy="45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Rectangle 26"/>
          <p:cNvSpPr/>
          <p:nvPr/>
        </p:nvSpPr>
        <p:spPr>
          <a:xfrm>
            <a:off x="560160" y="3765600"/>
            <a:ext cx="947160" cy="45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Line 27"/>
          <p:cNvSpPr/>
          <p:nvPr/>
        </p:nvSpPr>
        <p:spPr>
          <a:xfrm>
            <a:off x="8933040" y="4343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Line 28"/>
          <p:cNvSpPr/>
          <p:nvPr/>
        </p:nvSpPr>
        <p:spPr>
          <a:xfrm>
            <a:off x="4952880" y="4316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Rectangle 29"/>
          <p:cNvSpPr/>
          <p:nvPr/>
        </p:nvSpPr>
        <p:spPr>
          <a:xfrm>
            <a:off x="6246720" y="439272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hosts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1" name="Line 30"/>
          <p:cNvSpPr/>
          <p:nvPr/>
        </p:nvSpPr>
        <p:spPr>
          <a:xfrm>
            <a:off x="5029200" y="46213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2" name="Line 31"/>
          <p:cNvSpPr/>
          <p:nvPr/>
        </p:nvSpPr>
        <p:spPr>
          <a:xfrm>
            <a:off x="8153280" y="4621320"/>
            <a:ext cx="75420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3" name="Line 32"/>
          <p:cNvSpPr/>
          <p:nvPr/>
        </p:nvSpPr>
        <p:spPr>
          <a:xfrm flipH="1">
            <a:off x="4571640" y="4621320"/>
            <a:ext cx="343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Line 33"/>
          <p:cNvSpPr/>
          <p:nvPr/>
        </p:nvSpPr>
        <p:spPr>
          <a:xfrm>
            <a:off x="1566720" y="434340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5" name="Rectangle 34"/>
          <p:cNvSpPr/>
          <p:nvPr/>
        </p:nvSpPr>
        <p:spPr>
          <a:xfrm>
            <a:off x="2132640" y="4392720"/>
            <a:ext cx="240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Prefix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6" name="Line 35"/>
          <p:cNvSpPr/>
          <p:nvPr/>
        </p:nvSpPr>
        <p:spPr>
          <a:xfrm>
            <a:off x="1566720" y="4618080"/>
            <a:ext cx="490680" cy="3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7" name="Text Box 36"/>
          <p:cNvSpPr/>
          <p:nvPr/>
        </p:nvSpPr>
        <p:spPr>
          <a:xfrm>
            <a:off x="1370880" y="1109520"/>
            <a:ext cx="5997600" cy="702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wo 32-bit numbers to represent a network.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number = IP address + Mask 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Text Box 37"/>
          <p:cNvSpPr/>
          <p:nvPr/>
        </p:nvSpPr>
        <p:spPr>
          <a:xfrm>
            <a:off x="3065040" y="5257800"/>
            <a:ext cx="327132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as 12.4.0.0/15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ierarchical Address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ierarchy is key to scalabili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allocated in contiguous chunks (prefix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, the Internet has about 400,000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023C-3BDB-41E9-AAF0-4B59118B87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875880" y="4411800"/>
            <a:ext cx="131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0.0.0/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3" name="AutoShape 4"/>
          <p:cNvSpPr/>
          <p:nvPr/>
        </p:nvSpPr>
        <p:spPr>
          <a:xfrm rot="16200000">
            <a:off x="961200" y="4286520"/>
            <a:ext cx="2925720" cy="51120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667600" y="297504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0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2741760" y="586440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4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2667600" y="328788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1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667600" y="36003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667600" y="39117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0.0/1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AutoShape 10"/>
          <p:cNvSpPr/>
          <p:nvPr/>
        </p:nvSpPr>
        <p:spPr>
          <a:xfrm rot="16200000">
            <a:off x="3653640" y="3788640"/>
            <a:ext cx="1425600" cy="50976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3192120" y="4199040"/>
            <a:ext cx="337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AutoShape 12"/>
          <p:cNvSpPr/>
          <p:nvPr/>
        </p:nvSpPr>
        <p:spPr>
          <a:xfrm rot="16200000">
            <a:off x="3795840" y="5568840"/>
            <a:ext cx="1738080" cy="50976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4609080" y="334980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0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4609080" y="3600360"/>
            <a:ext cx="1457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1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5209560" y="3811680"/>
            <a:ext cx="2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4683600" y="447372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3.254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2040" y="4973760"/>
            <a:ext cx="1740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0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981680" y="5222880"/>
            <a:ext cx="1882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32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Rectangle 22"/>
          <p:cNvSpPr/>
          <p:nvPr/>
        </p:nvSpPr>
        <p:spPr>
          <a:xfrm>
            <a:off x="4981320" y="6284880"/>
            <a:ext cx="2024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253.160.0/19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9" name="AutoShape 23"/>
          <p:cNvSpPr/>
          <p:nvPr/>
        </p:nvSpPr>
        <p:spPr>
          <a:xfrm rot="16200000">
            <a:off x="6006240" y="3251520"/>
            <a:ext cx="1050840" cy="957240"/>
          </a:xfrm>
          <a:prstGeom prst="triangle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7225560" y="3187800"/>
            <a:ext cx="287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5409360" y="5486400"/>
            <a:ext cx="2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Obtaining a Block of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Corporation for Assigned Names and Numbers (ICANN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s large blocks to Regional Internet Regi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gional Internet Registries (RIR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RIN (American Registry for Internet Numb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s to ISPs and large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net Service Providers (ISP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e address blocks to their custo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may, in turn, allocate to their custome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B82-B863-4A96-A162-D0EC755F85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re-CIDR (1988-1994): Steep Growth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5E49-1397-4F68-A7AB-2F5F227BA74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-31680" y="933480"/>
            <a:ext cx="9378720" cy="516096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4"/>
          <p:cNvSpPr/>
          <p:nvPr/>
        </p:nvSpPr>
        <p:spPr>
          <a:xfrm>
            <a:off x="418680" y="5867280"/>
            <a:ext cx="84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rowth faster than improvements in equipment capability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DR (1994-1996): Much Flat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096-4DB0-4175-B10A-033F0631608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1" name="Picture 3" descr="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51944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4"/>
          <p:cNvSpPr/>
          <p:nvPr/>
        </p:nvSpPr>
        <p:spPr>
          <a:xfrm>
            <a:off x="3139560" y="58006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Efforts to aggregat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CIDR Growth (1996-1998): Roughly Linear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253-C1E2-45F2-AFF2-FEB6467F791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144000" cy="485460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4"/>
          <p:cNvSpPr/>
          <p:nvPr/>
        </p:nvSpPr>
        <p:spPr>
          <a:xfrm>
            <a:off x="1459800" y="56386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Good use of aggregation, and peer pressure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-304920" y="759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DotCom Boom (1998-2001): Steep Growth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CDF-7B17-4C3F-B6CA-BF7C47D3F0E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5990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1692360" y="56530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nternet boom and increased multi-homing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-Effort Global Packet Deliver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6C7-7ADD-40E2-B45D-A665B967FA3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ng Term (1989-2005): Post-Boo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B868-58BD-4937-B0B9-E0F59F77952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33" name="Picture 3" descr=""/>
          <p:cNvPicPr/>
          <p:nvPr/>
        </p:nvPicPr>
        <p:blipFill>
          <a:blip r:embed="rId1"/>
          <a:stretch/>
        </p:blipFill>
        <p:spPr>
          <a:xfrm>
            <a:off x="184320" y="1143000"/>
            <a:ext cx="8731080" cy="4648320"/>
          </a:xfrm>
          <a:prstGeom prst="rect">
            <a:avLst/>
          </a:prstGeom>
          <a:ln w="0">
            <a:noFill/>
          </a:ln>
        </p:spPr>
      </p:pic>
      <p:sp>
        <p:nvSpPr>
          <p:cNvPr id="634" name="Line 4"/>
          <p:cNvSpPr/>
          <p:nvPr/>
        </p:nvSpPr>
        <p:spPr>
          <a:xfrm flipH="1">
            <a:off x="6781680" y="1281240"/>
            <a:ext cx="6480" cy="44337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6896160" y="1844640"/>
            <a:ext cx="882720" cy="318960"/>
          </a:xfrm>
          <a:prstGeom prst="rightArrow">
            <a:avLst>
              <a:gd name="adj1" fmla="val 50000"/>
              <a:gd name="adj2" fmla="val 69187"/>
            </a:avLst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922040" y="580068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Today we are up to ~400,000 prefixes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EB0-81DF-4434-AF33-4A0DD1BE640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Rou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4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7620-0A42-44C9-A1FD-6EDC321E0AF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514680" y="3257640"/>
            <a:ext cx="2086200" cy="2914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3541680" y="1614600"/>
            <a:ext cx="2085840" cy="12999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4357800" y="2914560"/>
            <a:ext cx="328680" cy="343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1628640" y="3471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3157560" y="36147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1847880" y="35719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342720" y="3743280"/>
            <a:ext cx="1285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1623960" y="445284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3152880" y="46101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1857600" y="45529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352440" y="47242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3" name="Rectangle 14"/>
          <p:cNvSpPr/>
          <p:nvPr/>
        </p:nvSpPr>
        <p:spPr>
          <a:xfrm>
            <a:off x="1633680" y="544824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15"/>
          <p:cNvSpPr/>
          <p:nvPr/>
        </p:nvSpPr>
        <p:spPr>
          <a:xfrm>
            <a:off x="3162240" y="560556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1866960" y="55483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6" name="Line 17"/>
          <p:cNvSpPr/>
          <p:nvPr/>
        </p:nvSpPr>
        <p:spPr>
          <a:xfrm flipH="1">
            <a:off x="361800" y="571968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7" name="Rectangle 18"/>
          <p:cNvSpPr/>
          <p:nvPr/>
        </p:nvSpPr>
        <p:spPr>
          <a:xfrm flipH="1">
            <a:off x="5942880" y="34815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Rectangle 19"/>
          <p:cNvSpPr/>
          <p:nvPr/>
        </p:nvSpPr>
        <p:spPr>
          <a:xfrm flipH="1">
            <a:off x="5586480" y="3638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9" name="Text Box 20"/>
          <p:cNvSpPr/>
          <p:nvPr/>
        </p:nvSpPr>
        <p:spPr>
          <a:xfrm flipH="1">
            <a:off x="6221520" y="3595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Line 21"/>
          <p:cNvSpPr/>
          <p:nvPr/>
        </p:nvSpPr>
        <p:spPr>
          <a:xfrm>
            <a:off x="7486560" y="3753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1" name="Rectangle 22"/>
          <p:cNvSpPr/>
          <p:nvPr/>
        </p:nvSpPr>
        <p:spPr>
          <a:xfrm flipH="1">
            <a:off x="5962680" y="4462560"/>
            <a:ext cx="152856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2" name="Rectangle 23"/>
          <p:cNvSpPr/>
          <p:nvPr/>
        </p:nvSpPr>
        <p:spPr>
          <a:xfrm flipH="1">
            <a:off x="5605560" y="46195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3" name="Text Box 24"/>
          <p:cNvSpPr/>
          <p:nvPr/>
        </p:nvSpPr>
        <p:spPr>
          <a:xfrm flipH="1">
            <a:off x="6254280" y="456264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4" name="Line 25"/>
          <p:cNvSpPr/>
          <p:nvPr/>
        </p:nvSpPr>
        <p:spPr>
          <a:xfrm>
            <a:off x="7477200" y="47340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5" name="Rectangle 26"/>
          <p:cNvSpPr/>
          <p:nvPr/>
        </p:nvSpPr>
        <p:spPr>
          <a:xfrm flipH="1">
            <a:off x="5952240" y="5457960"/>
            <a:ext cx="1528920" cy="542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6" name="Rectangle 27"/>
          <p:cNvSpPr/>
          <p:nvPr/>
        </p:nvSpPr>
        <p:spPr>
          <a:xfrm flipH="1">
            <a:off x="5595840" y="5614920"/>
            <a:ext cx="357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7" name="Text Box 28"/>
          <p:cNvSpPr/>
          <p:nvPr/>
        </p:nvSpPr>
        <p:spPr>
          <a:xfrm flipH="1">
            <a:off x="6245280" y="555768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8" name="Line 29"/>
          <p:cNvSpPr/>
          <p:nvPr/>
        </p:nvSpPr>
        <p:spPr>
          <a:xfrm>
            <a:off x="7467480" y="5729400"/>
            <a:ext cx="128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9" name="Rectangle 30"/>
          <p:cNvSpPr/>
          <p:nvPr/>
        </p:nvSpPr>
        <p:spPr>
          <a:xfrm>
            <a:off x="1114560" y="1386000"/>
            <a:ext cx="6900840" cy="507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Freeform 31"/>
          <p:cNvSpPr/>
          <p:nvPr/>
        </p:nvSpPr>
        <p:spPr>
          <a:xfrm>
            <a:off x="1960560" y="2622600"/>
            <a:ext cx="806400" cy="73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Text Box 32"/>
          <p:cNvSpPr/>
          <p:nvPr/>
        </p:nvSpPr>
        <p:spPr>
          <a:xfrm>
            <a:off x="1175760" y="22003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ata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Freeform 33"/>
          <p:cNvSpPr/>
          <p:nvPr/>
        </p:nvSpPr>
        <p:spPr>
          <a:xfrm>
            <a:off x="5686560" y="2162160"/>
            <a:ext cx="652320" cy="3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34"/>
          <p:cNvSpPr/>
          <p:nvPr/>
        </p:nvSpPr>
        <p:spPr>
          <a:xfrm>
            <a:off x="5594400" y="17254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ontrol pla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op-by-Hop Packet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ach router has a forwarding 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s destination address to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receiving a packe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pect the destination addres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x into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rmine the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he packet out that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n, the next router in the path repe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C4F-81E2-43C8-B1ED-15640F1E26A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eparate Forwarding Entry Per Prefix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efix-base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p the destination address to 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to the outgoing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5286-A648-44B5-A5E3-9FF9E119A6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99684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3017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2216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28284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4" name="Rectangle 8"/>
          <p:cNvSpPr/>
          <p:nvPr/>
        </p:nvSpPr>
        <p:spPr>
          <a:xfrm>
            <a:off x="97236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1867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293436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1115280" y="399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 1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42568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5645160" y="3978360"/>
            <a:ext cx="2590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59500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686448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7931160" y="3673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ectangle 17"/>
          <p:cNvSpPr/>
          <p:nvPr/>
        </p:nvSpPr>
        <p:spPr>
          <a:xfrm>
            <a:off x="5620680" y="339336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Rectangle 18"/>
          <p:cNvSpPr/>
          <p:nvPr/>
        </p:nvSpPr>
        <p:spPr>
          <a:xfrm>
            <a:off x="651600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ectangle 19"/>
          <p:cNvSpPr/>
          <p:nvPr/>
        </p:nvSpPr>
        <p:spPr>
          <a:xfrm>
            <a:off x="7582680" y="3374640"/>
            <a:ext cx="66852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7405200" y="3978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7073640" y="3292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AutoShape 22"/>
          <p:cNvSpPr/>
          <p:nvPr/>
        </p:nvSpPr>
        <p:spPr>
          <a:xfrm>
            <a:off x="25210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AutoShape 23"/>
          <p:cNvSpPr/>
          <p:nvPr/>
        </p:nvSpPr>
        <p:spPr>
          <a:xfrm>
            <a:off x="43498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AutoShape 25"/>
          <p:cNvSpPr/>
          <p:nvPr/>
        </p:nvSpPr>
        <p:spPr>
          <a:xfrm>
            <a:off x="6178680" y="4282920"/>
            <a:ext cx="609480" cy="3812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Line 26"/>
          <p:cNvSpPr/>
          <p:nvPr/>
        </p:nvSpPr>
        <p:spPr>
          <a:xfrm>
            <a:off x="6483240" y="39783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Line 28"/>
          <p:cNvSpPr/>
          <p:nvPr/>
        </p:nvSpPr>
        <p:spPr>
          <a:xfrm>
            <a:off x="4959360" y="443556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3469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5296320" y="44352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50112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169200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7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283428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156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510984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8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Text Box 35"/>
          <p:cNvSpPr/>
          <p:nvPr/>
        </p:nvSpPr>
        <p:spPr>
          <a:xfrm>
            <a:off x="6260760" y="2967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9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0" name="Text Box 36"/>
          <p:cNvSpPr/>
          <p:nvPr/>
        </p:nvSpPr>
        <p:spPr>
          <a:xfrm>
            <a:off x="7442640" y="2967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212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1" name="Line 62"/>
          <p:cNvSpPr/>
          <p:nvPr/>
        </p:nvSpPr>
        <p:spPr>
          <a:xfrm>
            <a:off x="2825640" y="3967200"/>
            <a:ext cx="0" cy="3049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2" name="Line 63"/>
          <p:cNvSpPr/>
          <p:nvPr/>
        </p:nvSpPr>
        <p:spPr>
          <a:xfrm>
            <a:off x="3112920" y="4416480"/>
            <a:ext cx="12193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Text Box 64"/>
          <p:cNvSpPr/>
          <p:nvPr/>
        </p:nvSpPr>
        <p:spPr>
          <a:xfrm>
            <a:off x="1784520" y="5046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1.2.3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4" name="Text Box 65"/>
          <p:cNvSpPr/>
          <p:nvPr/>
        </p:nvSpPr>
        <p:spPr>
          <a:xfrm>
            <a:off x="1797120" y="5607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6.7.0/24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AutoShape 66"/>
          <p:cNvSpPr/>
          <p:nvPr/>
        </p:nvSpPr>
        <p:spPr>
          <a:xfrm>
            <a:off x="3575160" y="5683320"/>
            <a:ext cx="728640" cy="230040"/>
          </a:xfrm>
          <a:prstGeom prst="rightArrow">
            <a:avLst>
              <a:gd name="adj1" fmla="val 50000"/>
              <a:gd name="adj2" fmla="val 7918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Rectangle 67"/>
          <p:cNvSpPr/>
          <p:nvPr/>
        </p:nvSpPr>
        <p:spPr>
          <a:xfrm>
            <a:off x="1762200" y="4915080"/>
            <a:ext cx="2655720" cy="11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Line 68"/>
          <p:cNvSpPr/>
          <p:nvPr/>
        </p:nvSpPr>
        <p:spPr>
          <a:xfrm>
            <a:off x="3457440" y="4915080"/>
            <a:ext cx="0" cy="11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8" name="Line 69"/>
          <p:cNvSpPr/>
          <p:nvPr/>
        </p:nvSpPr>
        <p:spPr>
          <a:xfrm>
            <a:off x="1762200" y="5529240"/>
            <a:ext cx="26557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Text Box 70"/>
          <p:cNvSpPr/>
          <p:nvPr/>
        </p:nvSpPr>
        <p:spPr>
          <a:xfrm>
            <a:off x="1607400" y="605484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0" name="Line 71"/>
          <p:cNvSpPr/>
          <p:nvPr/>
        </p:nvSpPr>
        <p:spPr>
          <a:xfrm flipV="1">
            <a:off x="685800" y="5535360"/>
            <a:ext cx="99864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1" name="Group 72"/>
          <p:cNvGrpSpPr/>
          <p:nvPr/>
        </p:nvGrpSpPr>
        <p:grpSpPr>
          <a:xfrm>
            <a:off x="1060560" y="4992840"/>
            <a:ext cx="326880" cy="457200"/>
            <a:chOff x="1060560" y="4992840"/>
            <a:chExt cx="326880" cy="457200"/>
          </a:xfrm>
        </p:grpSpPr>
        <p:sp>
          <p:nvSpPr>
            <p:cNvPr id="722" name="Rectangle 73"/>
            <p:cNvSpPr/>
            <p:nvPr/>
          </p:nvSpPr>
          <p:spPr>
            <a:xfrm>
              <a:off x="1062000" y="499284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723" name="Rectangle 74"/>
            <p:cNvSpPr/>
            <p:nvPr/>
          </p:nvSpPr>
          <p:spPr>
            <a:xfrm>
              <a:off x="1060560" y="499284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724" name="Line 75"/>
          <p:cNvSpPr/>
          <p:nvPr/>
        </p:nvSpPr>
        <p:spPr>
          <a:xfrm>
            <a:off x="1614600" y="4416480"/>
            <a:ext cx="912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AutoShape 76"/>
          <p:cNvSpPr/>
          <p:nvPr/>
        </p:nvSpPr>
        <p:spPr>
          <a:xfrm>
            <a:off x="3727440" y="4952880"/>
            <a:ext cx="422280" cy="42228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DR Makes Packet Forwarding Hard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rwarding table may have many match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entries for 201.10.0.0/21 and 201.10.6.0/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 201.10.6.17 would match both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989-5F8F-4072-9046-A55D08A35E8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457200" y="3124080"/>
            <a:ext cx="8305920" cy="291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847520" y="330372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.10.0.0/21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772920" y="565776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0.0/22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2187360" y="566244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4.0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3614400" y="5673600"/>
            <a:ext cx="14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.10.5.0/24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5028840" y="564984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.10.6.0/23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5" name="Oval 10"/>
          <p:cNvSpPr/>
          <p:nvPr/>
        </p:nvSpPr>
        <p:spPr>
          <a:xfrm>
            <a:off x="2359080" y="3795840"/>
            <a:ext cx="22096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2282760" y="5243400"/>
            <a:ext cx="129564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914400" y="5243400"/>
            <a:ext cx="12952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Oval 13"/>
          <p:cNvSpPr/>
          <p:nvPr/>
        </p:nvSpPr>
        <p:spPr>
          <a:xfrm>
            <a:off x="3654360" y="5243400"/>
            <a:ext cx="129564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Oval 14"/>
          <p:cNvSpPr/>
          <p:nvPr/>
        </p:nvSpPr>
        <p:spPr>
          <a:xfrm>
            <a:off x="5025960" y="5243400"/>
            <a:ext cx="129564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40" name="AutoShape 15"/>
          <p:cNvCxnSpPr>
            <a:stCxn id="735" idx="2"/>
            <a:endCxn id="737" idx="0"/>
          </p:cNvCxnSpPr>
          <p:nvPr/>
        </p:nvCxnSpPr>
        <p:spPr>
          <a:xfrm flipV="1" rot="10800000">
            <a:off x="1561320" y="4099320"/>
            <a:ext cx="7977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16"/>
          <p:cNvCxnSpPr>
            <a:stCxn id="735" idx="4"/>
          </p:cNvCxnSpPr>
          <p:nvPr/>
        </p:nvCxnSpPr>
        <p:spPr>
          <a:xfrm rot="5400000">
            <a:off x="2714760" y="4505760"/>
            <a:ext cx="849960" cy="648360"/>
          </a:xfrm>
          <a:prstGeom prst="bentConnector3">
            <a:avLst>
              <a:gd name="adj1" fmla="val 498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AutoShape 17"/>
          <p:cNvCxnSpPr>
            <a:stCxn id="735" idx="6"/>
          </p:cNvCxnSpPr>
          <p:nvPr/>
        </p:nvCxnSpPr>
        <p:spPr>
          <a:xfrm>
            <a:off x="4568400" y="4100040"/>
            <a:ext cx="956520" cy="1143720"/>
          </a:xfrm>
          <a:prstGeom prst="bentConnector2">
            <a:avLst/>
          </a:prstGeom>
          <a:ln w="25560">
            <a:solidFill>
              <a:srgbClr val="ff3300"/>
            </a:solidFill>
            <a:miter/>
          </a:ln>
        </p:spPr>
      </p:cxnSp>
      <p:cxnSp>
        <p:nvCxnSpPr>
          <p:cNvPr id="743" name="AutoShape 18"/>
          <p:cNvCxnSpPr/>
          <p:nvPr/>
        </p:nvCxnSpPr>
        <p:spPr>
          <a:xfrm flipH="1" rot="16200000">
            <a:off x="3533760" y="4448880"/>
            <a:ext cx="838800" cy="75132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4" name="AutoShape 19"/>
          <p:cNvCxnSpPr>
            <a:endCxn id="739" idx="0"/>
          </p:cNvCxnSpPr>
          <p:nvPr/>
        </p:nvCxnSpPr>
        <p:spPr>
          <a:xfrm rot="5400000">
            <a:off x="5311080" y="4461840"/>
            <a:ext cx="1143720" cy="420120"/>
          </a:xfrm>
          <a:prstGeom prst="bentConnector3">
            <a:avLst>
              <a:gd name="adj1" fmla="val -1385"/>
            </a:avLst>
          </a:prstGeom>
          <a:ln w="25560">
            <a:solidFill>
              <a:srgbClr val="00cc00"/>
            </a:solidFill>
            <a:miter/>
          </a:ln>
        </p:spPr>
      </p:cxnSp>
      <p:sp>
        <p:nvSpPr>
          <p:cNvPr id="745" name="Line 20"/>
          <p:cNvSpPr/>
          <p:nvPr/>
        </p:nvSpPr>
        <p:spPr>
          <a:xfrm flipV="1">
            <a:off x="3436920" y="31860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Line 21"/>
          <p:cNvSpPr/>
          <p:nvPr/>
        </p:nvSpPr>
        <p:spPr>
          <a:xfrm flipV="1">
            <a:off x="7159680" y="3186000"/>
            <a:ext cx="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Oval 22"/>
          <p:cNvSpPr/>
          <p:nvPr/>
        </p:nvSpPr>
        <p:spPr>
          <a:xfrm>
            <a:off x="6093000" y="3795840"/>
            <a:ext cx="2209680" cy="6094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ngest Prefix Match Forward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-base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 has a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 identifies longest-matching pref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e algorithmic problem: very fast look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67F4-D106-43B5-B0B0-476AE30409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3410280" y="4226040"/>
            <a:ext cx="2619000" cy="161856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0.0.0/8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83.128.0/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1.10.0.0/2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201.10.6.0/2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26.255.103.0/24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Line 5"/>
          <p:cNvSpPr/>
          <p:nvPr/>
        </p:nvSpPr>
        <p:spPr>
          <a:xfrm>
            <a:off x="2389320" y="494028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601920" y="4741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201.10.6.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596880" y="43783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3429360" y="373392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ing tabl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6" name="Line 9"/>
          <p:cNvSpPr/>
          <p:nvPr/>
        </p:nvSpPr>
        <p:spPr>
          <a:xfrm>
            <a:off x="5734080" y="5362560"/>
            <a:ext cx="106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6546240" y="50864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Serial0/0.1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534360" y="47577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going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reating a Forwarding Tabl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tries can be statically configure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“map 12.34.158.0/24 to Serial0/0.1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this doesn’t adapt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fail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new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need to balance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at is where the </a:t>
            </a:r>
            <a:r>
              <a:rPr b="0" i="1" lang="en-US" sz="3200" spc="-1" strike="noStrike">
                <a:solidFill>
                  <a:srgbClr val="800000"/>
                </a:solidFill>
                <a:latin typeface="Calibri"/>
              </a:rPr>
              <a:t>control plane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es i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ing protoc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9690-39C7-4D67-A6D3-2A9DC240DD8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acke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68D-5A9D-4C17-A6BD-AE5F0263E6D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1467000" y="1560600"/>
            <a:ext cx="6006960" cy="33112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1468440" y="4862520"/>
            <a:ext cx="6002280" cy="635040"/>
          </a:xfrm>
          <a:prstGeom prst="rect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3154320" y="6210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Packet Stru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455840" y="5508720"/>
            <a:ext cx="6002280" cy="82548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Line 7"/>
          <p:cNvSpPr/>
          <p:nvPr/>
        </p:nvSpPr>
        <p:spPr>
          <a:xfrm flipV="1">
            <a:off x="1525680" y="2289240"/>
            <a:ext cx="594972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Line 8"/>
          <p:cNvSpPr/>
          <p:nvPr/>
        </p:nvSpPr>
        <p:spPr>
          <a:xfrm>
            <a:off x="1538280" y="2990880"/>
            <a:ext cx="59547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1538280" y="3638520"/>
            <a:ext cx="5956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4432320" y="1585800"/>
            <a:ext cx="1440" cy="202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Line 11"/>
          <p:cNvSpPr/>
          <p:nvPr/>
        </p:nvSpPr>
        <p:spPr>
          <a:xfrm>
            <a:off x="2959200" y="1620720"/>
            <a:ext cx="144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2235240" y="1620720"/>
            <a:ext cx="144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6" name="Rectangle 13"/>
          <p:cNvSpPr/>
          <p:nvPr/>
        </p:nvSpPr>
        <p:spPr>
          <a:xfrm>
            <a:off x="1438200" y="1670040"/>
            <a:ext cx="835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ectangle 14"/>
          <p:cNvSpPr/>
          <p:nvPr/>
        </p:nvSpPr>
        <p:spPr>
          <a:xfrm>
            <a:off x="2210400" y="1592280"/>
            <a:ext cx="784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Rectangle 15"/>
          <p:cNvSpPr/>
          <p:nvPr/>
        </p:nvSpPr>
        <p:spPr>
          <a:xfrm>
            <a:off x="2929320" y="1592280"/>
            <a:ext cx="1499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ype of Service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TOS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Rectangle 16"/>
          <p:cNvSpPr/>
          <p:nvPr/>
        </p:nvSpPr>
        <p:spPr>
          <a:xfrm>
            <a:off x="4599360" y="1763640"/>
            <a:ext cx="2732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16-bit Total Length (Bytes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ectangle 17"/>
          <p:cNvSpPr/>
          <p:nvPr/>
        </p:nvSpPr>
        <p:spPr>
          <a:xfrm>
            <a:off x="2144520" y="2494080"/>
            <a:ext cx="188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bit Identification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Line 18"/>
          <p:cNvSpPr/>
          <p:nvPr/>
        </p:nvSpPr>
        <p:spPr>
          <a:xfrm>
            <a:off x="5092560" y="2319480"/>
            <a:ext cx="1800" cy="65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Rectangle 19"/>
          <p:cNvSpPr/>
          <p:nvPr/>
        </p:nvSpPr>
        <p:spPr>
          <a:xfrm>
            <a:off x="4442040" y="2379600"/>
            <a:ext cx="646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-bit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156640" y="2511360"/>
            <a:ext cx="221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-bit Fragment Offs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Line 21"/>
          <p:cNvSpPr/>
          <p:nvPr/>
        </p:nvSpPr>
        <p:spPr>
          <a:xfrm>
            <a:off x="3022560" y="3017880"/>
            <a:ext cx="180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Rectangle 22"/>
          <p:cNvSpPr/>
          <p:nvPr/>
        </p:nvSpPr>
        <p:spPr>
          <a:xfrm>
            <a:off x="1622520" y="3052800"/>
            <a:ext cx="1292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bit Time to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ve (TTL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3003480" y="3149640"/>
            <a:ext cx="148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8-bit Protocol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4710600" y="3166920"/>
            <a:ext cx="24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-bit Header Checksum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Line 25"/>
          <p:cNvSpPr/>
          <p:nvPr/>
        </p:nvSpPr>
        <p:spPr>
          <a:xfrm>
            <a:off x="1525680" y="4286160"/>
            <a:ext cx="59673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Rectangle 26"/>
          <p:cNvSpPr/>
          <p:nvPr/>
        </p:nvSpPr>
        <p:spPr>
          <a:xfrm>
            <a:off x="3204720" y="3809880"/>
            <a:ext cx="258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32-bit Source IP Add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Rectangle 27"/>
          <p:cNvSpPr/>
          <p:nvPr/>
        </p:nvSpPr>
        <p:spPr>
          <a:xfrm>
            <a:off x="3037320" y="4435560"/>
            <a:ext cx="2994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504d"/>
                </a:solidFill>
                <a:latin typeface="Arial"/>
              </a:rPr>
              <a:t>32-bit Destination IP Addres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Rectangle 28"/>
          <p:cNvSpPr/>
          <p:nvPr/>
        </p:nvSpPr>
        <p:spPr>
          <a:xfrm>
            <a:off x="3784320" y="511668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(if any)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2" name="Rectangle 29"/>
          <p:cNvSpPr/>
          <p:nvPr/>
        </p:nvSpPr>
        <p:spPr>
          <a:xfrm>
            <a:off x="4035600" y="5853240"/>
            <a:ext cx="91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establishes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rve resources along hops in the 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sends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t data over the established 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tears down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the resources for future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BA3-9991-42C3-8FDE-ED6C2BE7E16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5391000" y="5691240"/>
            <a:ext cx="52560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571920" y="5450040"/>
            <a:ext cx="30636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3525840" y="5689440"/>
            <a:ext cx="44928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3975120" y="5689440"/>
            <a:ext cx="54288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Line 11"/>
          <p:cNvSpPr/>
          <p:nvPr/>
        </p:nvSpPr>
        <p:spPr>
          <a:xfrm flipH="1">
            <a:off x="4036680" y="5681520"/>
            <a:ext cx="10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4518000" y="569268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3933720" y="5227200"/>
            <a:ext cx="82548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3125520" y="5734080"/>
            <a:ext cx="8334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4759200" y="5227560"/>
            <a:ext cx="36036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3659040" y="563400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238720" y="6072120"/>
            <a:ext cx="47484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4322880" y="603396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4962600" y="554688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4456080" y="5102280"/>
            <a:ext cx="4287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Oval 23"/>
          <p:cNvSpPr/>
          <p:nvPr/>
        </p:nvSpPr>
        <p:spPr>
          <a:xfrm>
            <a:off x="3317760" y="6033960"/>
            <a:ext cx="4748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Oval 24"/>
          <p:cNvSpPr/>
          <p:nvPr/>
        </p:nvSpPr>
        <p:spPr>
          <a:xfrm>
            <a:off x="2859120" y="574056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4706640" y="614844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27"/>
          <p:cNvSpPr/>
          <p:nvPr/>
        </p:nvSpPr>
        <p:spPr>
          <a:xfrm flipH="1">
            <a:off x="5391000" y="5388120"/>
            <a:ext cx="533520" cy="22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Freeform 28"/>
          <p:cNvSpPr/>
          <p:nvPr/>
        </p:nvSpPr>
        <p:spPr>
          <a:xfrm>
            <a:off x="3506760" y="5330880"/>
            <a:ext cx="2587680" cy="379440"/>
          </a:xfrm>
          <a:prstGeom prst="pie">
            <a:avLst/>
          </a:prstGeom>
          <a:noFill/>
          <a:ln w="507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27" name="Picture 29" descr="j0332268"/>
          <p:cNvPicPr/>
          <p:nvPr/>
        </p:nvPicPr>
        <p:blipFill>
          <a:blip r:embed="rId1"/>
          <a:stretch/>
        </p:blipFill>
        <p:spPr>
          <a:xfrm>
            <a:off x="2766960" y="4695840"/>
            <a:ext cx="785880" cy="88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3" descr="PHONEH73"/>
          <p:cNvPicPr/>
          <p:nvPr/>
        </p:nvPicPr>
        <p:blipFill>
          <a:blip r:embed="rId2"/>
          <a:stretch/>
        </p:blipFill>
        <p:spPr>
          <a:xfrm>
            <a:off x="5954760" y="4581360"/>
            <a:ext cx="1182600" cy="1179720"/>
          </a:xfrm>
          <a:prstGeom prst="rect">
            <a:avLst/>
          </a:prstGeom>
          <a:ln w="0">
            <a:noFill/>
          </a:ln>
        </p:spPr>
      </p:pic>
      <p:sp>
        <p:nvSpPr>
          <p:cNvPr id="129" name="Oval 22"/>
          <p:cNvSpPr/>
          <p:nvPr/>
        </p:nvSpPr>
        <p:spPr>
          <a:xfrm>
            <a:off x="5916600" y="5734080"/>
            <a:ext cx="4730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Version, Length, To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088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ersion number (4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cessary to know what other fields to ex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“4” (for IPv4), and sometimes “6” (for IPv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eader length (4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32-bit word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“5” (for a 20-byte IPv4 h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more when “IP options” ar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ype-of-Service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different packets to be treated differ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delay for audio, high bandwidth for bulk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F752-10E0-47F8-B3DA-F05EC038C8C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Length, Fragments, TT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otal length (16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bytes in the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size is 63,535 bytes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ugh most links impose smaller lim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agmentation information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dividing a large IP packet into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ase a link cannot handle a large IP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-To-Live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dentify packets stuck in forwarding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eventually discard them from the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0360-189A-4DA8-81AB-C36277495AC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Transport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ocol (8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s the higher-leve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6” for the Transmission Control Protocol (TC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“17” for the User Datagram Protocol (UD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t for demultiplexing at receiv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es what kind of header to expect n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04A-EB73-4C9A-88BF-EACE7EA9367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1806480" y="4811760"/>
            <a:ext cx="19591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5378400" y="4811760"/>
            <a:ext cx="20350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806480" y="5195880"/>
            <a:ext cx="195732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5378400" y="5195880"/>
            <a:ext cx="20336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DP head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1806480" y="5580000"/>
            <a:ext cx="1959120" cy="119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5340240" y="5580000"/>
            <a:ext cx="2073240" cy="1190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1846440" y="42354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ocol=6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9" name="Text Box 14"/>
          <p:cNvSpPr/>
          <p:nvPr/>
        </p:nvSpPr>
        <p:spPr>
          <a:xfrm>
            <a:off x="5440320" y="43117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ocol=17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Header Checksu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hecksum (16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 of all 16-bit words in the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header bits are corrupted, checksum won’t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ing  discards corrupted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CD7-9FF8-4E59-9656-451C7D96623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1123920" y="3933720"/>
            <a:ext cx="124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3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 212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34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6730920" y="3932280"/>
            <a:ext cx="12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34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+ 21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 350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Line 6"/>
          <p:cNvSpPr/>
          <p:nvPr/>
        </p:nvSpPr>
        <p:spPr>
          <a:xfrm>
            <a:off x="969840" y="5084640"/>
            <a:ext cx="169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Line 7"/>
          <p:cNvSpPr/>
          <p:nvPr/>
        </p:nvSpPr>
        <p:spPr>
          <a:xfrm>
            <a:off x="6386400" y="5046840"/>
            <a:ext cx="169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3505320" y="4586400"/>
            <a:ext cx="1958760" cy="728640"/>
          </a:xfrm>
          <a:prstGeom prst="rightArrow">
            <a:avLst>
              <a:gd name="adj1" fmla="val 50000"/>
              <a:gd name="adj2" fmla="val 672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4845600" y="3886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Mismatch!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Header: To and From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IP address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the receiv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each node to make forwarding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 IP address (32 bit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que identifier for the sending h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ipient can decide whether to accept pac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recipient to send a reply back to 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10E-C01B-4547-BEAB-DA4D5F55945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st-effort global packet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nd-to-end abs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s higher-level abstractions on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rely on much from the links be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addressing and forward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 for scalability and decentralize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cation of IP prefi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prefix match forwar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xt time: transport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F30E-6A85-48CE-968B-7EE895C3A5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: Static Alloc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Time-divisio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ircuit alloca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time s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495320" y="16002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Frequency-division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ircuit allocated certain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A9B-1457-4623-83D0-EA19D56BCB0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34" name="Group 11"/>
          <p:cNvGrpSpPr/>
          <p:nvPr/>
        </p:nvGrpSpPr>
        <p:grpSpPr>
          <a:xfrm>
            <a:off x="5838840" y="3927600"/>
            <a:ext cx="2803680" cy="1152360"/>
            <a:chOff x="5838840" y="3927600"/>
            <a:chExt cx="2803680" cy="1152360"/>
          </a:xfrm>
        </p:grpSpPr>
        <p:sp>
          <p:nvSpPr>
            <p:cNvPr id="135" name="Rectangle 5"/>
            <p:cNvSpPr/>
            <p:nvPr/>
          </p:nvSpPr>
          <p:spPr>
            <a:xfrm>
              <a:off x="5838840" y="3927600"/>
              <a:ext cx="2803680" cy="1918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5838840" y="4311720"/>
              <a:ext cx="2803680" cy="191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838840" y="4119480"/>
              <a:ext cx="2803680" cy="192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>
              <a:off x="5838840" y="4503600"/>
              <a:ext cx="2803680" cy="1922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5838840" y="4695840"/>
              <a:ext cx="2803680" cy="192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0" name="Rectangle 10"/>
            <p:cNvSpPr/>
            <p:nvPr/>
          </p:nvSpPr>
          <p:spPr>
            <a:xfrm>
              <a:off x="5838840" y="4888080"/>
              <a:ext cx="2803680" cy="191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1" name="Line 12"/>
          <p:cNvSpPr/>
          <p:nvPr/>
        </p:nvSpPr>
        <p:spPr>
          <a:xfrm flipV="1">
            <a:off x="5570640" y="39286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685920" y="5272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Text Box 14"/>
          <p:cNvSpPr/>
          <p:nvPr/>
        </p:nvSpPr>
        <p:spPr>
          <a:xfrm rot="16200000">
            <a:off x="4310640" y="4458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6032520" y="5348160"/>
            <a:ext cx="2457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1853640" y="527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885960" y="5349600"/>
            <a:ext cx="28796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922320" y="3929040"/>
            <a:ext cx="231840" cy="111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1152360" y="3929040"/>
            <a:ext cx="231840" cy="11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20"/>
          <p:cNvSpPr/>
          <p:nvPr/>
        </p:nvSpPr>
        <p:spPr>
          <a:xfrm>
            <a:off x="1384200" y="3929040"/>
            <a:ext cx="231840" cy="11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1614600" y="3929040"/>
            <a:ext cx="231840" cy="111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1844640" y="3929040"/>
            <a:ext cx="231840" cy="111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2073240" y="3929040"/>
            <a:ext cx="231840" cy="111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2305080" y="3929040"/>
            <a:ext cx="231840" cy="1112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2535120" y="3929040"/>
            <a:ext cx="231840" cy="1112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766960" y="3929040"/>
            <a:ext cx="231840" cy="11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97360" y="3929040"/>
            <a:ext cx="231480" cy="111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3227400" y="3929040"/>
            <a:ext cx="231840" cy="1112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3456000" y="3929040"/>
            <a:ext cx="231840" cy="11127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ircuit Switching: Pros and C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ictabl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able, in-order deli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forwar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verhead for packet h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ted bandwid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ed conn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on set-up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-connection state inside the 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90EE-ECB5-41E2-B10E-5E9295D6AF8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3EA8-64F7-42B9-AB8C-C6AEB6BB0BE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acket Switch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essage divided into packe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 identifies the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ackets travel separately through the networ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ing based on the destination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ets may be buffered temporar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stination reconstructs the messag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Line 21"/>
          <p:cNvSpPr/>
          <p:nvPr/>
        </p:nvSpPr>
        <p:spPr>
          <a:xfrm flipH="1">
            <a:off x="3119400" y="5248440"/>
            <a:ext cx="380880" cy="45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3499920" y="5932440"/>
            <a:ext cx="30492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23"/>
          <p:cNvSpPr/>
          <p:nvPr/>
        </p:nvSpPr>
        <p:spPr>
          <a:xfrm flipH="1">
            <a:off x="6087960" y="5400720"/>
            <a:ext cx="45576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7050240" y="6215040"/>
            <a:ext cx="7808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Line 25"/>
          <p:cNvSpPr/>
          <p:nvPr/>
        </p:nvSpPr>
        <p:spPr>
          <a:xfrm flipV="1">
            <a:off x="7291440" y="5632560"/>
            <a:ext cx="623880" cy="1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Line 26"/>
          <p:cNvSpPr/>
          <p:nvPr/>
        </p:nvSpPr>
        <p:spPr>
          <a:xfrm>
            <a:off x="7213680" y="5811840"/>
            <a:ext cx="809640" cy="15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Line 27"/>
          <p:cNvSpPr/>
          <p:nvPr/>
        </p:nvSpPr>
        <p:spPr>
          <a:xfrm>
            <a:off x="3833640" y="5946840"/>
            <a:ext cx="54324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Line 28"/>
          <p:cNvSpPr/>
          <p:nvPr/>
        </p:nvSpPr>
        <p:spPr>
          <a:xfrm flipH="1">
            <a:off x="3898440" y="5937120"/>
            <a:ext cx="105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Line 29"/>
          <p:cNvSpPr/>
          <p:nvPr/>
        </p:nvSpPr>
        <p:spPr>
          <a:xfrm flipH="1">
            <a:off x="4376520" y="5946840"/>
            <a:ext cx="65556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Line 30"/>
          <p:cNvSpPr/>
          <p:nvPr/>
        </p:nvSpPr>
        <p:spPr>
          <a:xfrm flipV="1">
            <a:off x="4394160" y="5803560"/>
            <a:ext cx="1735200" cy="63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6172200" y="5803920"/>
            <a:ext cx="102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Line 32"/>
          <p:cNvSpPr/>
          <p:nvPr/>
        </p:nvSpPr>
        <p:spPr>
          <a:xfrm>
            <a:off x="6172200" y="5811840"/>
            <a:ext cx="86364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Line 33"/>
          <p:cNvSpPr/>
          <p:nvPr/>
        </p:nvSpPr>
        <p:spPr>
          <a:xfrm flipV="1">
            <a:off x="6172200" y="5796000"/>
            <a:ext cx="1025640" cy="58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Line 34"/>
          <p:cNvSpPr/>
          <p:nvPr/>
        </p:nvSpPr>
        <p:spPr>
          <a:xfrm flipV="1">
            <a:off x="6246720" y="6198840"/>
            <a:ext cx="709560" cy="1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Line 35"/>
          <p:cNvSpPr/>
          <p:nvPr/>
        </p:nvSpPr>
        <p:spPr>
          <a:xfrm flipH="1">
            <a:off x="3093840" y="5305320"/>
            <a:ext cx="1468440" cy="42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1549440" y="5519880"/>
            <a:ext cx="30492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37"/>
          <p:cNvSpPr/>
          <p:nvPr/>
        </p:nvSpPr>
        <p:spPr>
          <a:xfrm flipH="1">
            <a:off x="1503360" y="5759280"/>
            <a:ext cx="447840" cy="47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630760" y="5467320"/>
            <a:ext cx="59868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4429080" y="5305320"/>
            <a:ext cx="13017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Line 40"/>
          <p:cNvSpPr/>
          <p:nvPr/>
        </p:nvSpPr>
        <p:spPr>
          <a:xfrm>
            <a:off x="1951200" y="5759280"/>
            <a:ext cx="544320" cy="47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2014200" y="575136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2495520" y="5762520"/>
            <a:ext cx="65232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43"/>
          <p:cNvSpPr/>
          <p:nvPr/>
        </p:nvSpPr>
        <p:spPr>
          <a:xfrm>
            <a:off x="3147840" y="5762520"/>
            <a:ext cx="622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Line 44"/>
          <p:cNvSpPr/>
          <p:nvPr/>
        </p:nvSpPr>
        <p:spPr>
          <a:xfrm flipV="1">
            <a:off x="2511360" y="5907240"/>
            <a:ext cx="1420920" cy="34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Line 45"/>
          <p:cNvSpPr/>
          <p:nvPr/>
        </p:nvSpPr>
        <p:spPr>
          <a:xfrm flipV="1">
            <a:off x="1909800" y="5297040"/>
            <a:ext cx="826920" cy="40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Line 46"/>
          <p:cNvSpPr/>
          <p:nvPr/>
        </p:nvSpPr>
        <p:spPr>
          <a:xfrm flipV="1">
            <a:off x="3776760" y="5400360"/>
            <a:ext cx="730080" cy="48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Line 47"/>
          <p:cNvSpPr/>
          <p:nvPr/>
        </p:nvSpPr>
        <p:spPr>
          <a:xfrm flipH="1">
            <a:off x="1103400" y="5803920"/>
            <a:ext cx="83160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Line 48"/>
          <p:cNvSpPr/>
          <p:nvPr/>
        </p:nvSpPr>
        <p:spPr>
          <a:xfrm>
            <a:off x="4535640" y="5369040"/>
            <a:ext cx="441000" cy="53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49"/>
          <p:cNvSpPr/>
          <p:nvPr/>
        </p:nvSpPr>
        <p:spPr>
          <a:xfrm>
            <a:off x="4962600" y="5837400"/>
            <a:ext cx="116676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Line 50"/>
          <p:cNvSpPr/>
          <p:nvPr/>
        </p:nvSpPr>
        <p:spPr>
          <a:xfrm>
            <a:off x="2736720" y="5297400"/>
            <a:ext cx="358920" cy="45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5132520" y="5796000"/>
            <a:ext cx="1022040" cy="10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163656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Oval 53"/>
          <p:cNvSpPr/>
          <p:nvPr/>
        </p:nvSpPr>
        <p:spPr>
          <a:xfrm>
            <a:off x="7623000" y="6237360"/>
            <a:ext cx="47484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54"/>
          <p:cNvSpPr/>
          <p:nvPr/>
        </p:nvSpPr>
        <p:spPr>
          <a:xfrm>
            <a:off x="2300400" y="61038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Rectangle 55"/>
          <p:cNvSpPr/>
          <p:nvPr/>
        </p:nvSpPr>
        <p:spPr>
          <a:xfrm>
            <a:off x="6958080" y="570384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5894280" y="5703840"/>
            <a:ext cx="4255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5894280" y="6237360"/>
            <a:ext cx="42552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4829040" y="5748480"/>
            <a:ext cx="42732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4295880" y="5216400"/>
            <a:ext cx="42840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4164120" y="6237360"/>
            <a:ext cx="426960" cy="2206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5465880" y="5349960"/>
            <a:ext cx="42840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Rectangle 62"/>
          <p:cNvSpPr/>
          <p:nvPr/>
        </p:nvSpPr>
        <p:spPr>
          <a:xfrm>
            <a:off x="2938320" y="5614920"/>
            <a:ext cx="42732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Rectangle 63"/>
          <p:cNvSpPr/>
          <p:nvPr/>
        </p:nvSpPr>
        <p:spPr>
          <a:xfrm>
            <a:off x="3603600" y="583740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Rectangle 64"/>
          <p:cNvSpPr/>
          <p:nvPr/>
        </p:nvSpPr>
        <p:spPr>
          <a:xfrm>
            <a:off x="2433600" y="5172120"/>
            <a:ext cx="426960" cy="22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Rectangle 65"/>
          <p:cNvSpPr/>
          <p:nvPr/>
        </p:nvSpPr>
        <p:spPr>
          <a:xfrm>
            <a:off x="6824520" y="6103800"/>
            <a:ext cx="428760" cy="22248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Oval 66"/>
          <p:cNvSpPr/>
          <p:nvPr/>
        </p:nvSpPr>
        <p:spPr>
          <a:xfrm>
            <a:off x="7756560" y="5837400"/>
            <a:ext cx="474480" cy="2952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Oval 67"/>
          <p:cNvSpPr/>
          <p:nvPr/>
        </p:nvSpPr>
        <p:spPr>
          <a:xfrm>
            <a:off x="7756560" y="543888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Oval 68"/>
          <p:cNvSpPr/>
          <p:nvPr/>
        </p:nvSpPr>
        <p:spPr>
          <a:xfrm>
            <a:off x="1295280" y="6103800"/>
            <a:ext cx="473040" cy="2955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Oval 69"/>
          <p:cNvSpPr/>
          <p:nvPr/>
        </p:nvSpPr>
        <p:spPr>
          <a:xfrm>
            <a:off x="836640" y="5810400"/>
            <a:ext cx="474480" cy="29340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Oval 70"/>
          <p:cNvSpPr/>
          <p:nvPr/>
        </p:nvSpPr>
        <p:spPr>
          <a:xfrm>
            <a:off x="1162080" y="5305320"/>
            <a:ext cx="474480" cy="29376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Rectangle 71"/>
          <p:cNvSpPr/>
          <p:nvPr/>
        </p:nvSpPr>
        <p:spPr>
          <a:xfrm>
            <a:off x="1771560" y="5738760"/>
            <a:ext cx="15264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6031080" y="573876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Rectangle 73"/>
          <p:cNvSpPr/>
          <p:nvPr/>
        </p:nvSpPr>
        <p:spPr>
          <a:xfrm>
            <a:off x="4967280" y="578016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Rectangle 74"/>
          <p:cNvSpPr/>
          <p:nvPr/>
        </p:nvSpPr>
        <p:spPr>
          <a:xfrm>
            <a:off x="3741840" y="5872320"/>
            <a:ext cx="15228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75"/>
          <p:cNvSpPr/>
          <p:nvPr/>
        </p:nvSpPr>
        <p:spPr>
          <a:xfrm>
            <a:off x="3075120" y="5649840"/>
            <a:ext cx="152280" cy="152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Rectangle 76"/>
          <p:cNvSpPr/>
          <p:nvPr/>
        </p:nvSpPr>
        <p:spPr>
          <a:xfrm>
            <a:off x="7095960" y="5738760"/>
            <a:ext cx="152640" cy="152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Line 77"/>
          <p:cNvSpPr/>
          <p:nvPr/>
        </p:nvSpPr>
        <p:spPr>
          <a:xfrm>
            <a:off x="1370160" y="5477040"/>
            <a:ext cx="455400" cy="3031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1825560" y="5703840"/>
            <a:ext cx="1293840" cy="763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Line 79"/>
          <p:cNvSpPr/>
          <p:nvPr/>
        </p:nvSpPr>
        <p:spPr>
          <a:xfrm>
            <a:off x="3119400" y="5703840"/>
            <a:ext cx="685800" cy="22860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Line 80"/>
          <p:cNvSpPr/>
          <p:nvPr/>
        </p:nvSpPr>
        <p:spPr>
          <a:xfrm flipV="1">
            <a:off x="3805200" y="5856120"/>
            <a:ext cx="1217520" cy="7632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Line 81"/>
          <p:cNvSpPr/>
          <p:nvPr/>
        </p:nvSpPr>
        <p:spPr>
          <a:xfrm flipV="1">
            <a:off x="5022720" y="5779800"/>
            <a:ext cx="1065240" cy="759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6087960" y="5780160"/>
            <a:ext cx="1065240" cy="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Line 83"/>
          <p:cNvSpPr/>
          <p:nvPr/>
        </p:nvSpPr>
        <p:spPr>
          <a:xfrm flipV="1">
            <a:off x="7153200" y="5552640"/>
            <a:ext cx="836640" cy="227160"/>
          </a:xfrm>
          <a:prstGeom prst="line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Oval 84"/>
          <p:cNvSpPr/>
          <p:nvPr/>
        </p:nvSpPr>
        <p:spPr>
          <a:xfrm>
            <a:off x="3271680" y="5095800"/>
            <a:ext cx="47484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Oval 85"/>
          <p:cNvSpPr/>
          <p:nvPr/>
        </p:nvSpPr>
        <p:spPr>
          <a:xfrm>
            <a:off x="3271680" y="6313320"/>
            <a:ext cx="474840" cy="29376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Oval 86"/>
          <p:cNvSpPr/>
          <p:nvPr/>
        </p:nvSpPr>
        <p:spPr>
          <a:xfrm>
            <a:off x="6315120" y="5248440"/>
            <a:ext cx="474480" cy="295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acket Switching: Statistical Multiplexing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traffic is burst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net, email, Web browsing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wasting bandwid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host can send more when others are i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F06-92AC-42C8-B399-2B5089EAD45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6324480" y="429732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562720" y="4297320"/>
            <a:ext cx="761760" cy="457200"/>
          </a:xfrm>
          <a:prstGeom prst="rect">
            <a:avLst/>
          </a:prstGeom>
          <a:solidFill>
            <a:srgbClr val="00009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5105520" y="429732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Straight Connector 12"/>
          <p:cNvSpPr/>
          <p:nvPr/>
        </p:nvSpPr>
        <p:spPr>
          <a:xfrm flipH="1" flipV="1">
            <a:off x="4495680" y="4296960"/>
            <a:ext cx="60984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Straight Connector 13"/>
          <p:cNvSpPr/>
          <p:nvPr/>
        </p:nvSpPr>
        <p:spPr>
          <a:xfrm flipH="1" flipV="1">
            <a:off x="4495680" y="4753080"/>
            <a:ext cx="6098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40" name="Straight Arrow Connector 15"/>
          <p:cNvCxnSpPr/>
          <p:nvPr/>
        </p:nvCxnSpPr>
        <p:spPr>
          <a:xfrm>
            <a:off x="3200400" y="4220640"/>
            <a:ext cx="915120" cy="2293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241" name="Straight Arrow Connector 16"/>
          <p:cNvCxnSpPr/>
          <p:nvPr/>
        </p:nvCxnSpPr>
        <p:spPr>
          <a:xfrm>
            <a:off x="6857640" y="4525560"/>
            <a:ext cx="686520" cy="2520"/>
          </a:xfrm>
          <a:prstGeom prst="straightConnector1">
            <a:avLst/>
          </a:prstGeom>
          <a:ln w="41400">
            <a:solidFill>
              <a:srgbClr val="4f81bd"/>
            </a:solidFill>
            <a:miter/>
            <a:tailEnd len="lg" type="arrow" w="lg"/>
          </a:ln>
        </p:spPr>
      </p:cxnSp>
      <p:pic>
        <p:nvPicPr>
          <p:cNvPr id="242" name="Picture 25" descr="Click To Preview"/>
          <p:cNvPicPr/>
          <p:nvPr/>
        </p:nvPicPr>
        <p:blipFill>
          <a:blip r:embed="rId1"/>
          <a:stretch/>
        </p:blipFill>
        <p:spPr>
          <a:xfrm>
            <a:off x="2438280" y="3763800"/>
            <a:ext cx="731880" cy="73188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20"/>
          <p:cNvCxnSpPr/>
          <p:nvPr/>
        </p:nvCxnSpPr>
        <p:spPr>
          <a:xfrm flipV="1">
            <a:off x="3200400" y="4753800"/>
            <a:ext cx="915120" cy="762840"/>
          </a:xfrm>
          <a:prstGeom prst="straightConnector1">
            <a:avLst/>
          </a:prstGeom>
          <a:ln w="41400">
            <a:solidFill>
              <a:srgbClr val="008000"/>
            </a:solidFill>
            <a:miter/>
            <a:tailEnd len="lg" type="arrow" w="lg"/>
          </a:ln>
        </p:spPr>
      </p:cxnSp>
      <p:pic>
        <p:nvPicPr>
          <p:cNvPr id="244" name="Picture 23" descr="Click To Preview"/>
          <p:cNvPicPr/>
          <p:nvPr/>
        </p:nvPicPr>
        <p:blipFill>
          <a:blip r:embed="rId2"/>
          <a:stretch/>
        </p:blipFill>
        <p:spPr>
          <a:xfrm>
            <a:off x="2362320" y="51354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4" descr="Click To Preview"/>
          <p:cNvPicPr/>
          <p:nvPr/>
        </p:nvPicPr>
        <p:blipFill>
          <a:blip r:embed="rId3"/>
          <a:stretch/>
        </p:blipFill>
        <p:spPr>
          <a:xfrm>
            <a:off x="1523880" y="4449600"/>
            <a:ext cx="731880" cy="731880"/>
          </a:xfrm>
          <a:prstGeom prst="rect">
            <a:avLst/>
          </a:prstGeom>
          <a:ln w="0">
            <a:noFill/>
          </a:ln>
        </p:spPr>
      </p:pic>
      <p:cxnSp>
        <p:nvCxnSpPr>
          <p:cNvPr id="246" name="Straight Arrow Connector 30"/>
          <p:cNvCxnSpPr/>
          <p:nvPr/>
        </p:nvCxnSpPr>
        <p:spPr>
          <a:xfrm flipV="1">
            <a:off x="2362320" y="4601520"/>
            <a:ext cx="1753200" cy="229320"/>
          </a:xfrm>
          <a:prstGeom prst="straightConnector1">
            <a:avLst/>
          </a:prstGeom>
          <a:ln w="41400">
            <a:solidFill>
              <a:srgbClr val="000090"/>
            </a:solidFill>
            <a:miter/>
            <a:tailEnd len="lg" type="arrow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st Eff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Best-effort delivery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l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corrup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kets may be delivered out of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C82-B122-4C2E-8B5E-B6029009979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0" name="Picture 4" descr="j0285750"/>
          <p:cNvPicPr/>
          <p:nvPr/>
        </p:nvPicPr>
        <p:blipFill>
          <a:blip r:embed="rId1"/>
          <a:stretch/>
        </p:blipFill>
        <p:spPr>
          <a:xfrm>
            <a:off x="7413480" y="4727520"/>
            <a:ext cx="1730520" cy="106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2724120" y="4262400"/>
          <a:ext cx="3608280" cy="20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4262400"/>
                    <a:ext cx="3608280" cy="20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Line 6"/>
          <p:cNvSpPr/>
          <p:nvPr/>
        </p:nvSpPr>
        <p:spPr>
          <a:xfrm flipV="1">
            <a:off x="1714680" y="5384880"/>
            <a:ext cx="134460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6122880" y="5237280"/>
            <a:ext cx="10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20" y="4078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7223760" y="41608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57" name="Picture 10" descr="MCj02957280000[1]"/>
          <p:cNvPicPr/>
          <p:nvPr/>
        </p:nvPicPr>
        <p:blipFill>
          <a:blip r:embed="rId4"/>
          <a:stretch/>
        </p:blipFill>
        <p:spPr>
          <a:xfrm>
            <a:off x="0" y="4551480"/>
            <a:ext cx="1928880" cy="1630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3308400" y="4952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2089080" y="4846680"/>
            <a:ext cx="326880" cy="457200"/>
            <a:chOff x="2089080" y="4846680"/>
            <a:chExt cx="326880" cy="457200"/>
          </a:xfrm>
        </p:grpSpPr>
        <p:sp>
          <p:nvSpPr>
            <p:cNvPr id="260" name="Rectangle 13"/>
            <p:cNvSpPr/>
            <p:nvPr/>
          </p:nvSpPr>
          <p:spPr>
            <a:xfrm>
              <a:off x="2090520" y="484668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2089080" y="484668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2584440" y="4851360"/>
            <a:ext cx="326880" cy="457200"/>
            <a:chOff x="2584440" y="4851360"/>
            <a:chExt cx="326880" cy="457200"/>
          </a:xfrm>
        </p:grpSpPr>
        <p:sp>
          <p:nvSpPr>
            <p:cNvPr id="263" name="Rectangle 16"/>
            <p:cNvSpPr/>
            <p:nvPr/>
          </p:nvSpPr>
          <p:spPr>
            <a:xfrm>
              <a:off x="2585880" y="485136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2584440" y="485136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5" name="Group 18"/>
          <p:cNvGrpSpPr/>
          <p:nvPr/>
        </p:nvGrpSpPr>
        <p:grpSpPr>
          <a:xfrm>
            <a:off x="6438960" y="4705200"/>
            <a:ext cx="326880" cy="457200"/>
            <a:chOff x="6438960" y="4705200"/>
            <a:chExt cx="326880" cy="457200"/>
          </a:xfrm>
        </p:grpSpPr>
        <p:sp>
          <p:nvSpPr>
            <p:cNvPr id="266" name="Rectangle 19"/>
            <p:cNvSpPr/>
            <p:nvPr/>
          </p:nvSpPr>
          <p:spPr>
            <a:xfrm>
              <a:off x="6440400" y="4705200"/>
              <a:ext cx="325440" cy="457200"/>
            </a:xfrm>
            <a:prstGeom prst="rect">
              <a:avLst/>
            </a:prstGeom>
            <a:solidFill>
              <a:srgbClr val="fac090"/>
            </a:solidFill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Rectangle 20"/>
            <p:cNvSpPr/>
            <p:nvPr/>
          </p:nvSpPr>
          <p:spPr>
            <a:xfrm>
              <a:off x="6438960" y="4705200"/>
              <a:ext cx="325440" cy="889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4:06:44Z</dcterms:created>
  <dc:creator>Kai Li</dc:creator>
  <dc:description/>
  <dc:language>en-US</dc:language>
  <cp:lastModifiedBy>Jennifer Rexford</cp:lastModifiedBy>
  <dcterms:modified xsi:type="dcterms:W3CDTF">2012-02-12T17:46:47Z</dcterms:modified>
  <cp:revision>964</cp:revision>
  <dc:subject/>
  <dc:title>Communication</dc:title>
</cp:coreProperties>
</file>