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wmf" ContentType="image/x-wmf"/>
  <Override PartName="/ppt/media/image1.gif" ContentType="image/gif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3.jpeg" ContentType="image/jpeg"/>
  <Override PartName="/ppt/media/image15.png" ContentType="image/png"/>
  <Override PartName="/ppt/media/image2.jpeg" ContentType="image/jpeg"/>
  <Override PartName="/ppt/media/image25.wmf" ContentType="image/x-wmf"/>
  <Override PartName="/ppt/media/image27.wmf" ContentType="image/x-wmf"/>
  <Override PartName="/ppt/media/image16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8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EB2931E-1230-4C9E-BEBB-8F2EF7701A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A4A24F7-B84B-45B6-86D3-6599B9D882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340A6BF-A173-4576-8192-F31CBFF3BC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77AE51E-3C6D-4160-8868-BDDC95C6AA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A065ECE-51D9-4585-8479-538582E469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A99529A-4A2F-4CC1-BEE2-6C8CF09F0F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E7D2BD9-4B3C-4409-9726-5054A7D628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D02CEAD-C824-49FD-902D-A51F5C2F5C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099D4C8-3562-400A-822D-F29E9F4B65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AD2DD24-AEEF-4B04-8F11-34A66DF4C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37E9BAA-988C-413E-9DFE-470CF327F9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9F2FC39-77E6-4E32-BC70-84E81DE494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BBC8E2C-0AC4-4AD3-BB71-B077310375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43021FB-AF93-406D-8A4B-1A88160822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653D0E4-85BE-4061-8C6E-CC3DC753BD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A15F2C9-0ACF-4F68-9101-026A08254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41A9797-6DFD-449B-B8D4-F0C6FB0B56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A2411B1-7D30-4AB1-AE58-6A727BFF46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344A61A-939C-4107-B006-FB471ED34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E86BDC4-8032-4449-A483-0C22D6E36B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B7A970B-4C7C-4174-8183-CF08495656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E1936DD-4EF1-423E-A81A-000C98C3F4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72B495E-4984-4B13-97FB-D04C2F4E9A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64C6035-CA98-4FE6-9FBB-193E134AF5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872F19B-9038-4A37-8B1E-CA9F0BB3F4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2A7F-96F2-4437-9C06-1B7C9060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CB5E-38D5-4214-9B9A-19B7DFEF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3206-4896-4803-8599-1AEE5B2F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5F5D-CB14-45B7-9DC3-6E19085F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A07BA-39DA-41BA-AF03-EF154BB417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6CBF1-DA91-405B-9366-BFF3C78DE7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B3890-42AB-4BDE-9B5E-DA6BA65939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F2F84-1ED7-43AB-B22B-0B48D05E74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5E12E-D3D5-4BBA-A8BB-AF7ED26AC4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401A6-FFEE-44DF-BA96-AC1A3A5443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C0388-F32F-48E7-8C02-76CDB920F2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C125-AF7B-4C48-BE8A-A04CEAA3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7D498-C87C-4DB1-AF97-0163A07E87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08C88-300E-43C2-A6A3-9B80BAE1F1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8530D-EB87-418A-B401-23E3305C67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8441A-6B89-40CC-A263-C3604145BF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ABF04-75AB-4E12-9E85-C326C5129F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6EE62-D39A-48CF-8354-DB5320ACC0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DC250-6B7F-4A85-805C-875FDD9339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45A2A-6A2D-4C4E-BBB4-0AF5151718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ADC8C-9B30-4982-906B-149C3BCEAA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A3609-9EB4-4711-AD97-6124E23DB6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7DB-3B45-4A83-9719-287B7886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5F769-51BD-43F6-B800-0014DE44E5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C31F0-C774-4F7F-82D2-8D200942CB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B434A-2FB7-4A48-A125-4AC73FEE68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99CD1-699B-4B35-8BAA-3D1AC04796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C1534-45DA-4799-BDE5-28360077B0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8A30D-D1BD-4E43-806C-A4359257CF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25F6B-1F15-4B91-8598-0E2C80553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F454-3754-4C6A-BE8D-CD19F9D0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6A12-1A7C-4BF6-B885-F0FC4244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183-507B-4F19-A308-E2925B8E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006-C94D-49E1-BD40-5275AB37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727-A034-4A64-8071-398B459B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BBC-0CCE-4AB8-B8C0-C0A958F6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7049-79C0-4E8A-A7A1-F3B726CFC782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A572-A800-4629-B63C-08DB9C73F77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18D7-ECCF-49E0-B793-89C8B3298A4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B3D6-A547-4138-A9D2-294D8B4E57D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iazza.com/class#spring2012/cos461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hyperlink" Target="http://ascii24.com/news/i/hard/article/2002/05/08/thumbnail/thumb220x174-images683805.jpg" TargetMode="External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Links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8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edium Access Control Addres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0520" y="426708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dentify the sending and receiving adap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que identifier for each network adap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s the intended receiver(s) of the 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 sender who sent the 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3914-176C-4371-AB1B-AC321997DF5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4343400" y="2286000"/>
            <a:ext cx="1015920" cy="1676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j0285750"/>
          <p:cNvPicPr/>
          <p:nvPr/>
        </p:nvPicPr>
        <p:blipFill>
          <a:blip r:embed="rId2"/>
          <a:stretch/>
        </p:blipFill>
        <p:spPr>
          <a:xfrm flipH="1">
            <a:off x="0" y="1371600"/>
            <a:ext cx="1959120" cy="1523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3"/>
          <a:stretch/>
        </p:blipFill>
        <p:spPr>
          <a:xfrm>
            <a:off x="6934320" y="914400"/>
            <a:ext cx="1828800" cy="2031840"/>
          </a:xfrm>
          <a:prstGeom prst="rect">
            <a:avLst/>
          </a:prstGeom>
          <a:ln w="0">
            <a:noFill/>
          </a:ln>
        </p:spPr>
      </p:pic>
      <p:sp>
        <p:nvSpPr>
          <p:cNvPr id="262" name="Straight Connector 27"/>
          <p:cNvSpPr/>
          <p:nvPr/>
        </p:nvSpPr>
        <p:spPr>
          <a:xfrm flipV="1">
            <a:off x="1752480" y="1904760"/>
            <a:ext cx="6096240" cy="759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Straight Connector 29"/>
          <p:cNvSpPr/>
          <p:nvPr/>
        </p:nvSpPr>
        <p:spPr>
          <a:xfrm flipH="1">
            <a:off x="4874760" y="1981080"/>
            <a:ext cx="3240" cy="4572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4" name="Group 47"/>
          <p:cNvGrpSpPr/>
          <p:nvPr/>
        </p:nvGrpSpPr>
        <p:grpSpPr>
          <a:xfrm>
            <a:off x="2971800" y="1371600"/>
            <a:ext cx="326880" cy="457200"/>
            <a:chOff x="2971800" y="1371600"/>
            <a:chExt cx="326880" cy="457200"/>
          </a:xfrm>
        </p:grpSpPr>
        <p:sp>
          <p:nvSpPr>
            <p:cNvPr id="265" name="Rectangle 29"/>
            <p:cNvSpPr/>
            <p:nvPr/>
          </p:nvSpPr>
          <p:spPr>
            <a:xfrm>
              <a:off x="2973240" y="1371600"/>
              <a:ext cx="325440" cy="45720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6" name="Rectangle 30"/>
            <p:cNvSpPr/>
            <p:nvPr/>
          </p:nvSpPr>
          <p:spPr>
            <a:xfrm>
              <a:off x="2971800" y="1371600"/>
              <a:ext cx="325440" cy="88920"/>
            </a:xfrm>
            <a:prstGeom prst="rect">
              <a:avLst/>
            </a:pr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edium Access Control Addres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C address (e.g., </a:t>
            </a:r>
            <a:r>
              <a:rPr b="0" lang="en-US" sz="3200" spc="-1" strike="noStrike">
                <a:solidFill>
                  <a:srgbClr val="00d164"/>
                </a:solidFill>
                <a:latin typeface="Calibri"/>
              </a:rPr>
              <a:t>00-15-C5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49-04-A9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erical address used within a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que, hard-coded in the adapter when it is bui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at name space of 48 b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ierarchical allo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Block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ssigned to vendors (e.g., Dell) by the IE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Adap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ssigned by the vendor from its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roadcast address (i.e., FF-FF-FF-FF-FF-FF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the frame 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ap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C7A9-4976-4C10-9B8E-7C67486ABA5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s an Aside: Promiscuous Mo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rmal adapter: receives frames sent to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ocal MAC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adcast address FF-FF-FF-FF-FF-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miscuous mod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eryth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ndependent of destination M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ful for packet sniff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wireshark, tcpdu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FCA3-31DC-4A01-9CD0-86577613A6A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73" name="Picture 7" descr=""/>
          <p:cNvPicPr/>
          <p:nvPr/>
        </p:nvPicPr>
        <p:blipFill>
          <a:blip r:embed="rId1"/>
          <a:stretch/>
        </p:blipFill>
        <p:spPr>
          <a:xfrm flipH="1">
            <a:off x="5486400" y="4151160"/>
            <a:ext cx="23623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y Not Just Use IP Addresses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nks can support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any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protoc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just for IP (e.g., IPX, Appletalk, X.25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addresses on different kinds of li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 adapter may move to a new location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cannot simply assign a static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, must reconfigure the adapter’s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st identify the adapter during bootstra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to talk to the adapter to assign it an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BD47-660A-4A4E-95D9-37B84581E64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o Am I: Acquiring an IP Addres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204F-7667-4FE4-B0A9-22F983D4F25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4343400" y="2286000"/>
            <a:ext cx="1015920" cy="1676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j0285750"/>
          <p:cNvPicPr/>
          <p:nvPr/>
        </p:nvPicPr>
        <p:blipFill>
          <a:blip r:embed="rId2"/>
          <a:stretch/>
        </p:blipFill>
        <p:spPr>
          <a:xfrm flipH="1">
            <a:off x="0" y="1371600"/>
            <a:ext cx="1959120" cy="1523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3"/>
          <a:stretch/>
        </p:blipFill>
        <p:spPr>
          <a:xfrm>
            <a:off x="6934320" y="914400"/>
            <a:ext cx="1828800" cy="2031840"/>
          </a:xfrm>
          <a:prstGeom prst="rect">
            <a:avLst/>
          </a:prstGeom>
          <a:ln w="0">
            <a:noFill/>
          </a:ln>
        </p:spPr>
      </p:pic>
      <p:sp>
        <p:nvSpPr>
          <p:cNvPr id="282" name="Straight Connector 7"/>
          <p:cNvSpPr/>
          <p:nvPr/>
        </p:nvSpPr>
        <p:spPr>
          <a:xfrm flipV="1">
            <a:off x="1752480" y="1904760"/>
            <a:ext cx="6096240" cy="759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Straight Connector 8"/>
          <p:cNvSpPr/>
          <p:nvPr/>
        </p:nvSpPr>
        <p:spPr>
          <a:xfrm flipH="1">
            <a:off x="4874760" y="1981080"/>
            <a:ext cx="3240" cy="4572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4" name="Group 47"/>
          <p:cNvGrpSpPr/>
          <p:nvPr/>
        </p:nvGrpSpPr>
        <p:grpSpPr>
          <a:xfrm>
            <a:off x="2971800" y="1371600"/>
            <a:ext cx="326880" cy="457200"/>
            <a:chOff x="2971800" y="1371600"/>
            <a:chExt cx="326880" cy="457200"/>
          </a:xfrm>
        </p:grpSpPr>
        <p:sp>
          <p:nvSpPr>
            <p:cNvPr id="285" name="Rectangle 29"/>
            <p:cNvSpPr/>
            <p:nvPr/>
          </p:nvSpPr>
          <p:spPr>
            <a:xfrm>
              <a:off x="2973240" y="1371600"/>
              <a:ext cx="325440" cy="45720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6" name="Rectangle 30"/>
            <p:cNvSpPr/>
            <p:nvPr/>
          </p:nvSpPr>
          <p:spPr>
            <a:xfrm>
              <a:off x="2971800" y="1371600"/>
              <a:ext cx="325440" cy="88920"/>
            </a:xfrm>
            <a:prstGeom prst="rect">
              <a:avLst/>
            </a:pr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87" name="Text Box 28"/>
          <p:cNvSpPr/>
          <p:nvPr/>
        </p:nvSpPr>
        <p:spPr>
          <a:xfrm>
            <a:off x="304920" y="2971800"/>
            <a:ext cx="213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1-65-F7-2B-08-53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6858000" y="297180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A-2F-BB-76-09-A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809880" y="38862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C-C4-11-6F-E3-98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Text Box 28"/>
          <p:cNvSpPr/>
          <p:nvPr/>
        </p:nvSpPr>
        <p:spPr>
          <a:xfrm>
            <a:off x="914400" y="3276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????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7543800" y="3276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.2.3.5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Text Box 28"/>
          <p:cNvSpPr/>
          <p:nvPr/>
        </p:nvSpPr>
        <p:spPr>
          <a:xfrm>
            <a:off x="4495680" y="41911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.2.3.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TextBox 18"/>
          <p:cNvSpPr/>
          <p:nvPr/>
        </p:nvSpPr>
        <p:spPr>
          <a:xfrm>
            <a:off x="7011360" y="35053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HCP 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Content Placeholder 2"/>
          <p:cNvSpPr/>
          <p:nvPr/>
        </p:nvSpPr>
        <p:spPr>
          <a:xfrm>
            <a:off x="76320" y="4724280"/>
            <a:ext cx="9144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  <a:ea typeface="ＭＳ Ｐゴシック"/>
              </a:rPr>
              <a:t>Dynamic Host Configuration Protocol (DHCP)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oadcast “I need an IP address, please!”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ponse “You can have IP address 1.2.3.4.”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o Are You: Discovering the Receiv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0520" y="4723920"/>
            <a:ext cx="85345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Address Resolution Protocol (ARP)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adcast “who has IP address 1.2.3.6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e “0C-C4-11-6F-E3-98 has 1.2.3.6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AFE6-C9F1-4E48-9035-F4DE89B491C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4343400" y="2286000"/>
            <a:ext cx="1015920" cy="16765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j0285750"/>
          <p:cNvPicPr/>
          <p:nvPr/>
        </p:nvPicPr>
        <p:blipFill>
          <a:blip r:embed="rId2"/>
          <a:stretch/>
        </p:blipFill>
        <p:spPr>
          <a:xfrm flipH="1">
            <a:off x="0" y="1371600"/>
            <a:ext cx="1959120" cy="15238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"/>
          <p:cNvPicPr/>
          <p:nvPr/>
        </p:nvPicPr>
        <p:blipFill>
          <a:blip r:embed="rId3"/>
          <a:stretch/>
        </p:blipFill>
        <p:spPr>
          <a:xfrm>
            <a:off x="6934320" y="914400"/>
            <a:ext cx="1828800" cy="2031840"/>
          </a:xfrm>
          <a:prstGeom prst="rect">
            <a:avLst/>
          </a:prstGeom>
          <a:ln w="0">
            <a:noFill/>
          </a:ln>
        </p:spPr>
      </p:pic>
      <p:sp>
        <p:nvSpPr>
          <p:cNvPr id="301" name="Straight Connector 7"/>
          <p:cNvSpPr/>
          <p:nvPr/>
        </p:nvSpPr>
        <p:spPr>
          <a:xfrm flipV="1">
            <a:off x="1752480" y="1904760"/>
            <a:ext cx="6096240" cy="759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Straight Connector 8"/>
          <p:cNvSpPr/>
          <p:nvPr/>
        </p:nvSpPr>
        <p:spPr>
          <a:xfrm flipH="1">
            <a:off x="4874760" y="1981080"/>
            <a:ext cx="3240" cy="4572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3" name="Group 47"/>
          <p:cNvGrpSpPr/>
          <p:nvPr/>
        </p:nvGrpSpPr>
        <p:grpSpPr>
          <a:xfrm>
            <a:off x="2971800" y="1371600"/>
            <a:ext cx="326880" cy="457200"/>
            <a:chOff x="2971800" y="1371600"/>
            <a:chExt cx="326880" cy="457200"/>
          </a:xfrm>
        </p:grpSpPr>
        <p:sp>
          <p:nvSpPr>
            <p:cNvPr id="304" name="Rectangle 29"/>
            <p:cNvSpPr/>
            <p:nvPr/>
          </p:nvSpPr>
          <p:spPr>
            <a:xfrm>
              <a:off x="2973240" y="1371600"/>
              <a:ext cx="325440" cy="45720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5" name="Rectangle 30"/>
            <p:cNvSpPr/>
            <p:nvPr/>
          </p:nvSpPr>
          <p:spPr>
            <a:xfrm>
              <a:off x="2971800" y="1371600"/>
              <a:ext cx="325440" cy="88920"/>
            </a:xfrm>
            <a:prstGeom prst="rect">
              <a:avLst/>
            </a:pr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06" name="Text Box 28"/>
          <p:cNvSpPr/>
          <p:nvPr/>
        </p:nvSpPr>
        <p:spPr>
          <a:xfrm>
            <a:off x="304920" y="2971800"/>
            <a:ext cx="213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1-65-F7-2B-08-53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6858000" y="297180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A-2F-BB-76-09-A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Text Box 26"/>
          <p:cNvSpPr/>
          <p:nvPr/>
        </p:nvSpPr>
        <p:spPr>
          <a:xfrm>
            <a:off x="3809880" y="38862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C-C4-11-6F-E3-98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Text Box 28"/>
          <p:cNvSpPr/>
          <p:nvPr/>
        </p:nvSpPr>
        <p:spPr>
          <a:xfrm>
            <a:off x="914400" y="3276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.2.3.4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Text Box 28"/>
          <p:cNvSpPr/>
          <p:nvPr/>
        </p:nvSpPr>
        <p:spPr>
          <a:xfrm>
            <a:off x="7543800" y="3276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.2.3.5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Text Box 28"/>
          <p:cNvSpPr/>
          <p:nvPr/>
        </p:nvSpPr>
        <p:spPr>
          <a:xfrm>
            <a:off x="4419720" y="4191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.2.3.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haring the Mediu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421E-A1D3-4DD5-A7F8-BEECD073EB0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lli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0520" y="4571640"/>
            <a:ext cx="853452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ngle shared broadcast chann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having multiple nodes speaking at o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wise, collisions lead to garbled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607E-EE47-415A-8F4A-FF0B441A1C3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18" name="Picture 7" descr=""/>
          <p:cNvPicPr/>
          <p:nvPr/>
        </p:nvPicPr>
        <p:blipFill>
          <a:blip r:embed="rId1"/>
          <a:stretch/>
        </p:blipFill>
        <p:spPr>
          <a:xfrm>
            <a:off x="4343400" y="2419200"/>
            <a:ext cx="1015920" cy="1676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j0285750"/>
          <p:cNvPicPr/>
          <p:nvPr/>
        </p:nvPicPr>
        <p:blipFill>
          <a:blip r:embed="rId2"/>
          <a:stretch/>
        </p:blipFill>
        <p:spPr>
          <a:xfrm flipH="1">
            <a:off x="0" y="1504800"/>
            <a:ext cx="1959120" cy="1524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"/>
          <p:cNvPicPr/>
          <p:nvPr/>
        </p:nvPicPr>
        <p:blipFill>
          <a:blip r:embed="rId3"/>
          <a:stretch/>
        </p:blipFill>
        <p:spPr>
          <a:xfrm>
            <a:off x="6934320" y="1047600"/>
            <a:ext cx="1828800" cy="2032200"/>
          </a:xfrm>
          <a:prstGeom prst="rect">
            <a:avLst/>
          </a:prstGeom>
          <a:ln w="0">
            <a:noFill/>
          </a:ln>
        </p:spPr>
      </p:pic>
      <p:sp>
        <p:nvSpPr>
          <p:cNvPr id="321" name="Straight Connector 10"/>
          <p:cNvSpPr/>
          <p:nvPr/>
        </p:nvSpPr>
        <p:spPr>
          <a:xfrm flipV="1">
            <a:off x="1752480" y="2038320"/>
            <a:ext cx="6096240" cy="76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Straight Connector 11"/>
          <p:cNvSpPr/>
          <p:nvPr/>
        </p:nvSpPr>
        <p:spPr>
          <a:xfrm flipH="1">
            <a:off x="4874760" y="2114640"/>
            <a:ext cx="3240" cy="4572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3" name="Group 47"/>
          <p:cNvGrpSpPr/>
          <p:nvPr/>
        </p:nvGrpSpPr>
        <p:grpSpPr>
          <a:xfrm>
            <a:off x="2286000" y="1504800"/>
            <a:ext cx="326880" cy="457200"/>
            <a:chOff x="2286000" y="1504800"/>
            <a:chExt cx="326880" cy="457200"/>
          </a:xfrm>
        </p:grpSpPr>
        <p:sp>
          <p:nvSpPr>
            <p:cNvPr id="324" name="Rectangle 29"/>
            <p:cNvSpPr/>
            <p:nvPr/>
          </p:nvSpPr>
          <p:spPr>
            <a:xfrm>
              <a:off x="2287440" y="1504800"/>
              <a:ext cx="325440" cy="45720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5" name="Rectangle 30"/>
            <p:cNvSpPr/>
            <p:nvPr/>
          </p:nvSpPr>
          <p:spPr>
            <a:xfrm>
              <a:off x="2286000" y="1504800"/>
              <a:ext cx="325440" cy="88920"/>
            </a:xfrm>
            <a:prstGeom prst="rect">
              <a:avLst/>
            </a:pr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26" name="Text Box 28"/>
          <p:cNvSpPr/>
          <p:nvPr/>
        </p:nvSpPr>
        <p:spPr>
          <a:xfrm>
            <a:off x="304920" y="3105000"/>
            <a:ext cx="213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1-65-F7-2B-08-53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6858000" y="310500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A-2F-BB-76-09-A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Text Box 26"/>
          <p:cNvSpPr/>
          <p:nvPr/>
        </p:nvSpPr>
        <p:spPr>
          <a:xfrm>
            <a:off x="3809880" y="40194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C-C4-11-6F-E3-98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9" name="Group 47"/>
          <p:cNvGrpSpPr/>
          <p:nvPr/>
        </p:nvGrpSpPr>
        <p:grpSpPr>
          <a:xfrm>
            <a:off x="7064280" y="1523880"/>
            <a:ext cx="327240" cy="457200"/>
            <a:chOff x="7064280" y="1523880"/>
            <a:chExt cx="327240" cy="457200"/>
          </a:xfrm>
        </p:grpSpPr>
        <p:sp>
          <p:nvSpPr>
            <p:cNvPr id="330" name="Rectangle 29"/>
            <p:cNvSpPr/>
            <p:nvPr/>
          </p:nvSpPr>
          <p:spPr>
            <a:xfrm>
              <a:off x="7065720" y="1523880"/>
              <a:ext cx="325800" cy="45720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1" name="Rectangle 30"/>
            <p:cNvSpPr/>
            <p:nvPr/>
          </p:nvSpPr>
          <p:spPr>
            <a:xfrm>
              <a:off x="7064280" y="1523880"/>
              <a:ext cx="325800" cy="88920"/>
            </a:xfrm>
            <a:prstGeom prst="rect">
              <a:avLst/>
            </a:pr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pic>
        <p:nvPicPr>
          <p:cNvPr id="332" name="Picture 42" descr=""/>
          <p:cNvPicPr/>
          <p:nvPr/>
        </p:nvPicPr>
        <p:blipFill>
          <a:blip r:embed="rId4"/>
          <a:stretch/>
        </p:blipFill>
        <p:spPr>
          <a:xfrm>
            <a:off x="3200400" y="1066680"/>
            <a:ext cx="3048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-Access Protoc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vide the channel into pie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frequ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ake tur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s a token for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to trans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u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collisions happ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detect and recover from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6418-F7FB-4A7F-8CD6-4EF0A85194C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36" name="Picture 4" descr="IMG00080"/>
          <p:cNvPicPr/>
          <p:nvPr/>
        </p:nvPicPr>
        <p:blipFill>
          <a:blip r:embed="rId1"/>
          <a:stretch/>
        </p:blipFill>
        <p:spPr>
          <a:xfrm>
            <a:off x="3429000" y="2057400"/>
            <a:ext cx="5438880" cy="723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IMG00078"/>
          <p:cNvPicPr/>
          <p:nvPr/>
        </p:nvPicPr>
        <p:blipFill>
          <a:blip r:embed="rId2"/>
          <a:stretch/>
        </p:blipFill>
        <p:spPr>
          <a:xfrm>
            <a:off x="4876920" y="3124080"/>
            <a:ext cx="280800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1" descr=""/>
          <p:cNvPicPr/>
          <p:nvPr/>
        </p:nvPicPr>
        <p:blipFill>
          <a:blip r:embed="rId1"/>
          <a:stretch/>
        </p:blipFill>
        <p:spPr>
          <a:xfrm>
            <a:off x="5956200" y="4838760"/>
            <a:ext cx="3492720" cy="23241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"/>
          <p:cNvPicPr/>
          <p:nvPr/>
        </p:nvPicPr>
        <p:blipFill>
          <a:blip r:embed="rId2"/>
          <a:stretch/>
        </p:blipFill>
        <p:spPr>
          <a:xfrm>
            <a:off x="4165560" y="762120"/>
            <a:ext cx="2844720" cy="28447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ke Human Conversation…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rrier sen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en before spe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don’t interrup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llision det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 simultaneous tal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shut up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andom acc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for a random period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fore trying to talk agai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1DA5-8A87-424D-905B-BC83C7E8367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43" name="Picture 9" descr=""/>
          <p:cNvPicPr/>
          <p:nvPr/>
        </p:nvPicPr>
        <p:blipFill>
          <a:blip r:embed="rId3"/>
          <a:stretch/>
        </p:blipFill>
        <p:spPr>
          <a:xfrm>
            <a:off x="5943600" y="3032280"/>
            <a:ext cx="198108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urse Announceme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et a Piazza accou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iazza.com/class#spring2012/cos46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e assignment #0 on socket programm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ed on the course Web 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11:59pm Thu Feb 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s in course particip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riday precep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01: 10-10:50am in Friend 109 (Rob Kief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02: 11-11:50am in Friend 109 (Peng Su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02A: 11-11:50am in Friend 108 (Xiaozhou L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688B-B14A-4F04-A4DA-57EB6E59CFE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arrier Sense Multiple Acces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sten for other send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transmit your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llisions can still occu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agation de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ted trans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AA38-5719-4F4D-9F22-F499A90AD8B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47" name="Picture 3" descr="5"/>
          <p:cNvPicPr/>
          <p:nvPr/>
        </p:nvPicPr>
        <p:blipFill>
          <a:blip r:embed="rId1"/>
          <a:stretch/>
        </p:blipFill>
        <p:spPr>
          <a:xfrm>
            <a:off x="4856040" y="1219320"/>
            <a:ext cx="428796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SMA/CD Collision Detec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tect collis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rt trans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m the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ait random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mit a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ard in wirel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receive 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le trans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5583-B422-404D-A6EA-FE6630B2AD4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51" name="Picture 3" descr="5"/>
          <p:cNvPicPr/>
          <p:nvPr/>
        </p:nvPicPr>
        <p:blipFill>
          <a:blip r:embed="rId1"/>
          <a:stretch/>
        </p:blipFill>
        <p:spPr>
          <a:xfrm>
            <a:off x="4419720" y="1219320"/>
            <a:ext cx="44337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mparing the Three Approach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hannel partition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icient and fair at high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efficient at low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aking turns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minates empty slots without coll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ulnerable to failures (e.g. lost tok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andom acc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icient at low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ision overhead at high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7690-31A6-4A99-A33C-5D9B13C995C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thern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BCD9-DCDD-4315-BBC5-8769F0FD8BA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thern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minant wired LAN technology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rst widely used LAN technolog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Kept up with speed race: 10 Mbps – 40 Gbps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0432-6697-41EA-9CDC-8AEC60AE373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61" name="Picture 4" descr="551 metcalfe-enet"/>
          <p:cNvPicPr/>
          <p:nvPr/>
        </p:nvPicPr>
        <p:blipFill>
          <a:blip r:embed="rId1"/>
          <a:stretch/>
        </p:blipFill>
        <p:spPr>
          <a:xfrm>
            <a:off x="1692360" y="3760920"/>
            <a:ext cx="5192640" cy="277956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080120" y="457848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tcalfe’s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ketch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thernet Uses CSMA/CD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32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rrier Sense: wait for link to be id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nel idle: start trans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nel busy: wait until i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llision Detection: listen while transmit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ollision: transmission is comp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ision: abort transmission, and send jam sig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andom Access: exponential back-off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collision, wait random time before trying a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llision, choose K randomly from {0, …,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1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wait for K*512 bit times before trying a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B26E-DED2-45EB-B7E5-C800336E811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mitations on Ethernet Length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0520" y="2819520"/>
            <a:ext cx="853452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atency depends on physical length of lin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 to propagate a packet from one end to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uppose A sends a packet at time 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B sees an idle line at a time just before t+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B happily starts transmitting a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 detects a collision, and sends jamming signa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A doesn’t see collision till t+2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99FB-9FA4-4CC8-8860-D54A848D48D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69" name="Picture 4" descr="j0195384"/>
          <p:cNvPicPr/>
          <p:nvPr/>
        </p:nvPicPr>
        <p:blipFill>
          <a:blip r:embed="rId1"/>
          <a:stretch/>
        </p:blipFill>
        <p:spPr>
          <a:xfrm>
            <a:off x="7491240" y="1432080"/>
            <a:ext cx="1316160" cy="13446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j0292020"/>
          <p:cNvPicPr/>
          <p:nvPr/>
        </p:nvPicPr>
        <p:blipFill>
          <a:blip r:embed="rId2"/>
          <a:stretch/>
        </p:blipFill>
        <p:spPr>
          <a:xfrm>
            <a:off x="577800" y="1316160"/>
            <a:ext cx="1549440" cy="146988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6"/>
          <p:cNvSpPr/>
          <p:nvPr/>
        </p:nvSpPr>
        <p:spPr>
          <a:xfrm>
            <a:off x="2075040" y="1969920"/>
            <a:ext cx="5568840" cy="1922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2" name="Group 7"/>
          <p:cNvGrpSpPr/>
          <p:nvPr/>
        </p:nvGrpSpPr>
        <p:grpSpPr>
          <a:xfrm>
            <a:off x="2306520" y="1469880"/>
            <a:ext cx="326880" cy="457200"/>
            <a:chOff x="2306520" y="1469880"/>
            <a:chExt cx="326880" cy="457200"/>
          </a:xfrm>
        </p:grpSpPr>
        <p:sp>
          <p:nvSpPr>
            <p:cNvPr id="373" name="Rectangle 8"/>
            <p:cNvSpPr/>
            <p:nvPr/>
          </p:nvSpPr>
          <p:spPr>
            <a:xfrm>
              <a:off x="2307960" y="1469880"/>
              <a:ext cx="325440" cy="457200"/>
            </a:xfrm>
            <a:prstGeom prst="rect">
              <a:avLst/>
            </a:prstGeom>
            <a:solidFill>
              <a:srgbClr val="eeece1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4" name="Rectangle 9"/>
            <p:cNvSpPr/>
            <p:nvPr/>
          </p:nvSpPr>
          <p:spPr>
            <a:xfrm>
              <a:off x="2306520" y="146988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75" name="Group 10"/>
          <p:cNvGrpSpPr/>
          <p:nvPr/>
        </p:nvGrpSpPr>
        <p:grpSpPr>
          <a:xfrm>
            <a:off x="6877080" y="2238480"/>
            <a:ext cx="326880" cy="457200"/>
            <a:chOff x="6877080" y="2238480"/>
            <a:chExt cx="326880" cy="457200"/>
          </a:xfrm>
        </p:grpSpPr>
        <p:sp>
          <p:nvSpPr>
            <p:cNvPr id="376" name="Rectangle 11"/>
            <p:cNvSpPr/>
            <p:nvPr/>
          </p:nvSpPr>
          <p:spPr>
            <a:xfrm>
              <a:off x="6878520" y="2238480"/>
              <a:ext cx="325440" cy="457200"/>
            </a:xfrm>
            <a:prstGeom prst="rect">
              <a:avLst/>
            </a:prstGeom>
            <a:solidFill>
              <a:srgbClr val="eeece1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7" name="Rectangle 12"/>
            <p:cNvSpPr/>
            <p:nvPr/>
          </p:nvSpPr>
          <p:spPr>
            <a:xfrm>
              <a:off x="6877080" y="223848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78" name="Text Box 13"/>
          <p:cNvSpPr/>
          <p:nvPr/>
        </p:nvSpPr>
        <p:spPr>
          <a:xfrm>
            <a:off x="3897360" y="15476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tency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535320" y="12654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8676000" y="1201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mitations on Ethernet Length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3048120"/>
            <a:ext cx="853452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 needs to wait for time 2d to detect collis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A should keep transmitting during this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keep an eye out for a possible coll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mposes restrictions on Eth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imum length of the wire: 2500 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mum length of the packet: 512 bits (64 by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CCD7-304D-46D7-9DD2-0C0A1769D55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84" name="Picture 4" descr="j0195384"/>
          <p:cNvPicPr/>
          <p:nvPr/>
        </p:nvPicPr>
        <p:blipFill>
          <a:blip r:embed="rId1"/>
          <a:stretch/>
        </p:blipFill>
        <p:spPr>
          <a:xfrm>
            <a:off x="7491240" y="1432080"/>
            <a:ext cx="1316160" cy="13446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j0292020"/>
          <p:cNvPicPr/>
          <p:nvPr/>
        </p:nvPicPr>
        <p:blipFill>
          <a:blip r:embed="rId2"/>
          <a:stretch/>
        </p:blipFill>
        <p:spPr>
          <a:xfrm>
            <a:off x="577800" y="1316160"/>
            <a:ext cx="1549440" cy="146988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2075040" y="1969920"/>
            <a:ext cx="5568840" cy="1922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7" name="Group 7"/>
          <p:cNvGrpSpPr/>
          <p:nvPr/>
        </p:nvGrpSpPr>
        <p:grpSpPr>
          <a:xfrm>
            <a:off x="2306520" y="1469880"/>
            <a:ext cx="326880" cy="457200"/>
            <a:chOff x="2306520" y="1469880"/>
            <a:chExt cx="326880" cy="457200"/>
          </a:xfrm>
        </p:grpSpPr>
        <p:sp>
          <p:nvSpPr>
            <p:cNvPr id="388" name="Rectangle 8"/>
            <p:cNvSpPr/>
            <p:nvPr/>
          </p:nvSpPr>
          <p:spPr>
            <a:xfrm>
              <a:off x="2307960" y="1469880"/>
              <a:ext cx="325440" cy="457200"/>
            </a:xfrm>
            <a:prstGeom prst="rect">
              <a:avLst/>
            </a:prstGeom>
            <a:solidFill>
              <a:srgbClr val="eeece1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2306520" y="146988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90" name="Group 10"/>
          <p:cNvGrpSpPr/>
          <p:nvPr/>
        </p:nvGrpSpPr>
        <p:grpSpPr>
          <a:xfrm>
            <a:off x="6877080" y="2238480"/>
            <a:ext cx="326880" cy="457200"/>
            <a:chOff x="6877080" y="2238480"/>
            <a:chExt cx="326880" cy="457200"/>
          </a:xfrm>
        </p:grpSpPr>
        <p:sp>
          <p:nvSpPr>
            <p:cNvPr id="391" name="Rectangle 11"/>
            <p:cNvSpPr/>
            <p:nvPr/>
          </p:nvSpPr>
          <p:spPr>
            <a:xfrm>
              <a:off x="6878520" y="2238480"/>
              <a:ext cx="325440" cy="457200"/>
            </a:xfrm>
            <a:prstGeom prst="rect">
              <a:avLst/>
            </a:prstGeom>
            <a:solidFill>
              <a:srgbClr val="eeece1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2" name="Rectangle 12"/>
            <p:cNvSpPr/>
            <p:nvPr/>
          </p:nvSpPr>
          <p:spPr>
            <a:xfrm>
              <a:off x="6877080" y="223848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93" name="Text Box 13"/>
          <p:cNvSpPr/>
          <p:nvPr/>
        </p:nvSpPr>
        <p:spPr>
          <a:xfrm>
            <a:off x="3897360" y="15476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tency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535320" y="12654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5" name="Text Box 15"/>
          <p:cNvSpPr/>
          <p:nvPr/>
        </p:nvSpPr>
        <p:spPr>
          <a:xfrm>
            <a:off x="8676000" y="1201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thernet Frame Stru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ing adapter encapsulates packet in fra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eamble: synchroniz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 bytes with pattern 10101010, followed by one byte with pattern 10101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synchronize receiver, sender clock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FEFA-813A-43DC-875E-6B56AD326B9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99" name="Picture 7" descr="552 Ethernet frame"/>
          <p:cNvPicPr/>
          <p:nvPr/>
        </p:nvPicPr>
        <p:blipFill>
          <a:blip r:embed="rId1"/>
          <a:stretch/>
        </p:blipFill>
        <p:spPr>
          <a:xfrm>
            <a:off x="731880" y="2238480"/>
            <a:ext cx="7558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thernet Frame Stru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dresses: source and destination MAC addresses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aptor passes frame to network-level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destination is local MAC address or broadcast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wise, adapter discards 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ype: indicates the higher layer protocol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also Novell IPX, AppleTalk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RC: cyclic redundancy chec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ed at rece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error is detected, the frame is simply drop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6679-CCD7-4F95-BEBC-5E1C9D1BEB2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03" name="Picture 4" descr="552 Ethernet frame"/>
          <p:cNvPicPr/>
          <p:nvPr/>
        </p:nvPicPr>
        <p:blipFill>
          <a:blip r:embed="rId1"/>
          <a:stretch/>
        </p:blipFill>
        <p:spPr>
          <a:xfrm>
            <a:off x="698400" y="5559480"/>
            <a:ext cx="7558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tocol Lay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B175-F1BD-45B5-A496-9AC1BB88599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693720" y="1359000"/>
            <a:ext cx="914400" cy="582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703440" y="2550960"/>
            <a:ext cx="914400" cy="582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807840" y="1459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892440" y="2649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689040" y="3738600"/>
            <a:ext cx="914400" cy="582480"/>
            <a:chOff x="689040" y="3738600"/>
            <a:chExt cx="914400" cy="582480"/>
          </a:xfrm>
        </p:grpSpPr>
        <p:sp>
          <p:nvSpPr>
            <p:cNvPr id="139" name="Rectangle 8"/>
            <p:cNvSpPr/>
            <p:nvPr/>
          </p:nvSpPr>
          <p:spPr>
            <a:xfrm>
              <a:off x="689040" y="3738600"/>
              <a:ext cx="914400" cy="582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0" name="Text Box 9"/>
            <p:cNvSpPr/>
            <p:nvPr/>
          </p:nvSpPr>
          <p:spPr>
            <a:xfrm>
              <a:off x="972000" y="3841560"/>
              <a:ext cx="3834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41" name="Rectangle 11"/>
          <p:cNvSpPr/>
          <p:nvPr/>
        </p:nvSpPr>
        <p:spPr>
          <a:xfrm>
            <a:off x="669960" y="4968720"/>
            <a:ext cx="906480" cy="606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682200" y="500688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1147680" y="193356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1147680" y="313992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1147680" y="433224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538200" y="1157400"/>
            <a:ext cx="1303200" cy="4848120"/>
          </a:xfrm>
          <a:prstGeom prst="rect">
            <a:avLst/>
          </a:prstGeom>
          <a:noFill/>
          <a:ln w="93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7648560" y="1359000"/>
            <a:ext cx="914400" cy="582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7658280" y="2550960"/>
            <a:ext cx="914400" cy="582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7643880" y="3738600"/>
            <a:ext cx="914400" cy="582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Rectangle 20"/>
          <p:cNvSpPr/>
          <p:nvPr/>
        </p:nvSpPr>
        <p:spPr>
          <a:xfrm>
            <a:off x="7659720" y="4929120"/>
            <a:ext cx="906480" cy="606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7762680" y="1459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7847280" y="2649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7942320" y="38545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687800" y="496872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Line 25"/>
          <p:cNvSpPr/>
          <p:nvPr/>
        </p:nvSpPr>
        <p:spPr>
          <a:xfrm>
            <a:off x="8102520" y="193356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8102520" y="313992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7" name="Line 27"/>
          <p:cNvSpPr/>
          <p:nvPr/>
        </p:nvSpPr>
        <p:spPr>
          <a:xfrm>
            <a:off x="8102520" y="433224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Rectangle 28"/>
          <p:cNvSpPr/>
          <p:nvPr/>
        </p:nvSpPr>
        <p:spPr>
          <a:xfrm>
            <a:off x="7493040" y="1157400"/>
            <a:ext cx="1303200" cy="4848120"/>
          </a:xfrm>
          <a:prstGeom prst="rect">
            <a:avLst/>
          </a:prstGeom>
          <a:noFill/>
          <a:ln w="93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Line 29"/>
          <p:cNvSpPr/>
          <p:nvPr/>
        </p:nvSpPr>
        <p:spPr>
          <a:xfrm>
            <a:off x="1139760" y="5554800"/>
            <a:ext cx="0" cy="37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Line 30"/>
          <p:cNvSpPr/>
          <p:nvPr/>
        </p:nvSpPr>
        <p:spPr>
          <a:xfrm>
            <a:off x="808200" y="5927760"/>
            <a:ext cx="232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1" name="Group 31"/>
          <p:cNvGrpSpPr/>
          <p:nvPr/>
        </p:nvGrpSpPr>
        <p:grpSpPr>
          <a:xfrm>
            <a:off x="2905200" y="3767040"/>
            <a:ext cx="914400" cy="582480"/>
            <a:chOff x="2905200" y="3767040"/>
            <a:chExt cx="914400" cy="582480"/>
          </a:xfrm>
        </p:grpSpPr>
        <p:sp>
          <p:nvSpPr>
            <p:cNvPr id="162" name="Rectangle 32"/>
            <p:cNvSpPr/>
            <p:nvPr/>
          </p:nvSpPr>
          <p:spPr>
            <a:xfrm>
              <a:off x="2905200" y="3767040"/>
              <a:ext cx="914400" cy="582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63" name="Text Box 33"/>
            <p:cNvSpPr/>
            <p:nvPr/>
          </p:nvSpPr>
          <p:spPr>
            <a:xfrm>
              <a:off x="3188160" y="3870000"/>
              <a:ext cx="3834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64" name="Group 34"/>
          <p:cNvGrpSpPr/>
          <p:nvPr/>
        </p:nvGrpSpPr>
        <p:grpSpPr>
          <a:xfrm>
            <a:off x="5549760" y="3767040"/>
            <a:ext cx="914400" cy="582480"/>
            <a:chOff x="5549760" y="3767040"/>
            <a:chExt cx="914400" cy="582480"/>
          </a:xfrm>
        </p:grpSpPr>
        <p:sp>
          <p:nvSpPr>
            <p:cNvPr id="165" name="Rectangle 35"/>
            <p:cNvSpPr/>
            <p:nvPr/>
          </p:nvSpPr>
          <p:spPr>
            <a:xfrm>
              <a:off x="5549760" y="3767040"/>
              <a:ext cx="914400" cy="582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66" name="Text Box 36"/>
            <p:cNvSpPr/>
            <p:nvPr/>
          </p:nvSpPr>
          <p:spPr>
            <a:xfrm>
              <a:off x="5832720" y="3870000"/>
              <a:ext cx="3834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67" name="Rectangle 38"/>
          <p:cNvSpPr/>
          <p:nvPr/>
        </p:nvSpPr>
        <p:spPr>
          <a:xfrm>
            <a:off x="2306520" y="4968720"/>
            <a:ext cx="906480" cy="606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Text Box 39"/>
          <p:cNvSpPr/>
          <p:nvPr/>
        </p:nvSpPr>
        <p:spPr>
          <a:xfrm>
            <a:off x="2310840" y="496872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9" name="Group 40"/>
          <p:cNvGrpSpPr/>
          <p:nvPr/>
        </p:nvGrpSpPr>
        <p:grpSpPr>
          <a:xfrm>
            <a:off x="6205680" y="4943520"/>
            <a:ext cx="909360" cy="605880"/>
            <a:chOff x="6205680" y="4943520"/>
            <a:chExt cx="909360" cy="605880"/>
          </a:xfrm>
        </p:grpSpPr>
        <p:sp>
          <p:nvSpPr>
            <p:cNvPr id="170" name="Rectangle 41"/>
            <p:cNvSpPr/>
            <p:nvPr/>
          </p:nvSpPr>
          <p:spPr>
            <a:xfrm>
              <a:off x="6205680" y="4943520"/>
              <a:ext cx="906480" cy="605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1" name="Text Box 42"/>
            <p:cNvSpPr/>
            <p:nvPr/>
          </p:nvSpPr>
          <p:spPr>
            <a:xfrm>
              <a:off x="6225480" y="4956480"/>
              <a:ext cx="889560" cy="531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72" name="Line 43"/>
          <p:cNvSpPr/>
          <p:nvPr/>
        </p:nvSpPr>
        <p:spPr>
          <a:xfrm flipH="1">
            <a:off x="2744280" y="5583240"/>
            <a:ext cx="180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Line 44"/>
          <p:cNvSpPr/>
          <p:nvPr/>
        </p:nvSpPr>
        <p:spPr>
          <a:xfrm flipH="1">
            <a:off x="2725560" y="4346640"/>
            <a:ext cx="541440" cy="62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Line 45"/>
          <p:cNvSpPr/>
          <p:nvPr/>
        </p:nvSpPr>
        <p:spPr>
          <a:xfrm>
            <a:off x="3529080" y="4361040"/>
            <a:ext cx="541440" cy="62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Rectangle 46"/>
          <p:cNvSpPr/>
          <p:nvPr/>
        </p:nvSpPr>
        <p:spPr>
          <a:xfrm>
            <a:off x="3614760" y="4943520"/>
            <a:ext cx="906480" cy="60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Text Box 47"/>
          <p:cNvSpPr/>
          <p:nvPr/>
        </p:nvSpPr>
        <p:spPr>
          <a:xfrm>
            <a:off x="3639600" y="496872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E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Rectangle 48"/>
          <p:cNvSpPr/>
          <p:nvPr/>
        </p:nvSpPr>
        <p:spPr>
          <a:xfrm>
            <a:off x="4889520" y="4956120"/>
            <a:ext cx="906480" cy="606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Text Box 49"/>
          <p:cNvSpPr/>
          <p:nvPr/>
        </p:nvSpPr>
        <p:spPr>
          <a:xfrm>
            <a:off x="4906440" y="500688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E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Line 50"/>
          <p:cNvSpPr/>
          <p:nvPr/>
        </p:nvSpPr>
        <p:spPr>
          <a:xfrm>
            <a:off x="6680160" y="554364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Line 51"/>
          <p:cNvSpPr/>
          <p:nvPr/>
        </p:nvSpPr>
        <p:spPr>
          <a:xfrm flipH="1">
            <a:off x="6222600" y="5889600"/>
            <a:ext cx="2327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Line 52"/>
          <p:cNvSpPr/>
          <p:nvPr/>
        </p:nvSpPr>
        <p:spPr>
          <a:xfrm>
            <a:off x="8132760" y="5546880"/>
            <a:ext cx="144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Line 53"/>
          <p:cNvSpPr/>
          <p:nvPr/>
        </p:nvSpPr>
        <p:spPr>
          <a:xfrm flipH="1">
            <a:off x="5302080" y="4373640"/>
            <a:ext cx="541440" cy="62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Line 54"/>
          <p:cNvSpPr/>
          <p:nvPr/>
        </p:nvSpPr>
        <p:spPr>
          <a:xfrm>
            <a:off x="6119640" y="4373640"/>
            <a:ext cx="527400" cy="59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Rectangle 55"/>
          <p:cNvSpPr/>
          <p:nvPr/>
        </p:nvSpPr>
        <p:spPr>
          <a:xfrm>
            <a:off x="2144880" y="3567240"/>
            <a:ext cx="2522520" cy="2162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Rectangle 56"/>
          <p:cNvSpPr/>
          <p:nvPr/>
        </p:nvSpPr>
        <p:spPr>
          <a:xfrm>
            <a:off x="4776840" y="3567240"/>
            <a:ext cx="2522520" cy="2162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Line 57"/>
          <p:cNvSpPr/>
          <p:nvPr/>
        </p:nvSpPr>
        <p:spPr>
          <a:xfrm flipH="1">
            <a:off x="4053960" y="5545080"/>
            <a:ext cx="180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Line 58"/>
          <p:cNvSpPr/>
          <p:nvPr/>
        </p:nvSpPr>
        <p:spPr>
          <a:xfrm flipH="1">
            <a:off x="5315040" y="5557680"/>
            <a:ext cx="144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Line 59"/>
          <p:cNvSpPr/>
          <p:nvPr/>
        </p:nvSpPr>
        <p:spPr>
          <a:xfrm>
            <a:off x="4071960" y="5889600"/>
            <a:ext cx="124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Text Box 60"/>
          <p:cNvSpPr/>
          <p:nvPr/>
        </p:nvSpPr>
        <p:spPr>
          <a:xfrm>
            <a:off x="801720" y="7812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ho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Text Box 61"/>
          <p:cNvSpPr/>
          <p:nvPr/>
        </p:nvSpPr>
        <p:spPr>
          <a:xfrm>
            <a:off x="7720200" y="766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ho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Text Box 62"/>
          <p:cNvSpPr/>
          <p:nvPr/>
        </p:nvSpPr>
        <p:spPr>
          <a:xfrm>
            <a:off x="2923560" y="31640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rou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Text Box 63"/>
          <p:cNvSpPr/>
          <p:nvPr/>
        </p:nvSpPr>
        <p:spPr>
          <a:xfrm>
            <a:off x="5554080" y="31780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rou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Line 64"/>
          <p:cNvSpPr/>
          <p:nvPr/>
        </p:nvSpPr>
        <p:spPr>
          <a:xfrm>
            <a:off x="1619280" y="1655640"/>
            <a:ext cx="604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1647720" y="2846520"/>
            <a:ext cx="604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3718800" y="121932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TTP messag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Text Box 67"/>
          <p:cNvSpPr/>
          <p:nvPr/>
        </p:nvSpPr>
        <p:spPr>
          <a:xfrm>
            <a:off x="3816000" y="242424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TCP segm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Line 68"/>
          <p:cNvSpPr/>
          <p:nvPr/>
        </p:nvSpPr>
        <p:spPr>
          <a:xfrm>
            <a:off x="1620720" y="4051440"/>
            <a:ext cx="1301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Line 69"/>
          <p:cNvSpPr/>
          <p:nvPr/>
        </p:nvSpPr>
        <p:spPr>
          <a:xfrm>
            <a:off x="3851280" y="4065480"/>
            <a:ext cx="174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Line 70"/>
          <p:cNvSpPr/>
          <p:nvPr/>
        </p:nvSpPr>
        <p:spPr>
          <a:xfrm>
            <a:off x="6469200" y="4051440"/>
            <a:ext cx="1176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1684440" y="369720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IP packe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6461280" y="369720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IP packe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4143600" y="369720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IP packe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TextBox 72"/>
          <p:cNvSpPr/>
          <p:nvPr/>
        </p:nvSpPr>
        <p:spPr>
          <a:xfrm>
            <a:off x="985320" y="598176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hernet fram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TextBox 73"/>
          <p:cNvSpPr/>
          <p:nvPr/>
        </p:nvSpPr>
        <p:spPr>
          <a:xfrm>
            <a:off x="6395400" y="598176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hernet fram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TextBox 74"/>
          <p:cNvSpPr/>
          <p:nvPr/>
        </p:nvSpPr>
        <p:spPr>
          <a:xfrm>
            <a:off x="3742560" y="600084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NET fram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Rectangle 76"/>
          <p:cNvSpPr/>
          <p:nvPr/>
        </p:nvSpPr>
        <p:spPr>
          <a:xfrm>
            <a:off x="304920" y="4800600"/>
            <a:ext cx="8610480" cy="1219320"/>
          </a:xfrm>
          <a:prstGeom prst="rect">
            <a:avLst/>
          </a:prstGeom>
          <a:noFill/>
          <a:ln w="47520">
            <a:solidFill>
              <a:srgbClr val="00d16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Unreliable, Connectionless Servic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nectionl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handshaking between send and receive adap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nrelia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ing adapter doesn’t send ACKs or N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s passed to network layer can have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ps can be filled by transport protocol (e.g., TC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wise, the application will see the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EE7F-BE4F-40E8-96D5-5164C71B0D8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ubs and Switch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4DEE-5B23-4D95-A795-E7C4586B9FC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EE87-4F43-4F4A-8F1A-75493657B27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hysical Layer: Repeat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5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tance limitation in local-area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signal becomes weaker as it tra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ses a limit on the length of a 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peaters join LANs togeth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og electronic de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nuously monitors electrical sign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mits an amplified cop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01480" y="4808520"/>
          <a:ext cx="8334720" cy="23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4808520"/>
                    <a:ext cx="8334720" cy="23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FD1F-F0AF-4A5C-9E44-132F4DAFE0D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hysical Layer: Hub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Joins multiple input lines electricall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ed to hold multiple line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t necessarily amplify the sig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ery similar to repeat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operates at the physical la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19"/>
          <p:cNvSpPr/>
          <p:nvPr/>
        </p:nvSpPr>
        <p:spPr>
          <a:xfrm>
            <a:off x="4167360" y="5680080"/>
            <a:ext cx="361800" cy="74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1557360" y="6031080"/>
            <a:ext cx="520560" cy="3762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4643280" y="604512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5572080" y="5994360"/>
            <a:ext cx="520920" cy="3762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2309760" y="6058080"/>
            <a:ext cx="522360" cy="37620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24"/>
          <p:cNvSpPr/>
          <p:nvPr/>
        </p:nvSpPr>
        <p:spPr>
          <a:xfrm>
            <a:off x="6269040" y="5689440"/>
            <a:ext cx="360360" cy="74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4" name="Rectangle 25"/>
          <p:cNvSpPr/>
          <p:nvPr/>
        </p:nvSpPr>
        <p:spPr>
          <a:xfrm>
            <a:off x="2120760" y="5676840"/>
            <a:ext cx="362160" cy="74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5"/>
          <a:stretch/>
        </p:blipFill>
        <p:spPr>
          <a:xfrm>
            <a:off x="3382920" y="587520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6"/>
          <a:stretch/>
        </p:blipFill>
        <p:spPr>
          <a:xfrm>
            <a:off x="3882960" y="640548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7"/>
          <a:stretch/>
        </p:blipFill>
        <p:spPr>
          <a:xfrm>
            <a:off x="7237440" y="584028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8"/>
          <a:stretch/>
        </p:blipFill>
        <p:spPr>
          <a:xfrm>
            <a:off x="6377040" y="6251400"/>
            <a:ext cx="522360" cy="37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9" name=""/>
          <p:cNvGraphicFramePr/>
          <p:nvPr/>
        </p:nvGraphicFramePr>
        <p:xfrm>
          <a:off x="1055520" y="5499000"/>
          <a:ext cx="522360" cy="376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55520" y="5499000"/>
                    <a:ext cx="52236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Line 31"/>
          <p:cNvSpPr/>
          <p:nvPr/>
        </p:nvSpPr>
        <p:spPr>
          <a:xfrm flipH="1">
            <a:off x="1483920" y="5681520"/>
            <a:ext cx="69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2" name="Line 32"/>
          <p:cNvSpPr/>
          <p:nvPr/>
        </p:nvSpPr>
        <p:spPr>
          <a:xfrm flipH="1">
            <a:off x="1925640" y="5734080"/>
            <a:ext cx="34128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3" name="Line 33"/>
          <p:cNvSpPr/>
          <p:nvPr/>
        </p:nvSpPr>
        <p:spPr>
          <a:xfrm>
            <a:off x="2405160" y="5765760"/>
            <a:ext cx="9036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4" name="Line 34"/>
          <p:cNvSpPr/>
          <p:nvPr/>
        </p:nvSpPr>
        <p:spPr>
          <a:xfrm flipH="1">
            <a:off x="3827160" y="5724360"/>
            <a:ext cx="43164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5" name="Line 35"/>
          <p:cNvSpPr/>
          <p:nvPr/>
        </p:nvSpPr>
        <p:spPr>
          <a:xfrm flipH="1">
            <a:off x="4184280" y="5745240"/>
            <a:ext cx="15876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Line 36"/>
          <p:cNvSpPr/>
          <p:nvPr/>
        </p:nvSpPr>
        <p:spPr>
          <a:xfrm>
            <a:off x="4532400" y="5681520"/>
            <a:ext cx="28728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7" name="Line 37"/>
          <p:cNvSpPr/>
          <p:nvPr/>
        </p:nvSpPr>
        <p:spPr>
          <a:xfrm flipH="1">
            <a:off x="5990760" y="5765760"/>
            <a:ext cx="53676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8" name="Line 38"/>
          <p:cNvSpPr/>
          <p:nvPr/>
        </p:nvSpPr>
        <p:spPr>
          <a:xfrm flipH="1">
            <a:off x="6564240" y="5734080"/>
            <a:ext cx="1440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9" name="Line 39"/>
          <p:cNvSpPr/>
          <p:nvPr/>
        </p:nvSpPr>
        <p:spPr>
          <a:xfrm>
            <a:off x="6707160" y="5648400"/>
            <a:ext cx="64152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0" name="Line 40"/>
          <p:cNvSpPr/>
          <p:nvPr/>
        </p:nvSpPr>
        <p:spPr>
          <a:xfrm flipH="1">
            <a:off x="2393640" y="4338720"/>
            <a:ext cx="2082600" cy="11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1" name="Line 41"/>
          <p:cNvSpPr/>
          <p:nvPr/>
        </p:nvSpPr>
        <p:spPr>
          <a:xfrm>
            <a:off x="4471920" y="4327560"/>
            <a:ext cx="0" cy="12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2" name="Line 42"/>
          <p:cNvSpPr/>
          <p:nvPr/>
        </p:nvSpPr>
        <p:spPr>
          <a:xfrm flipH="1" flipV="1">
            <a:off x="4651200" y="4273560"/>
            <a:ext cx="187344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3" name="Text Box 43"/>
          <p:cNvSpPr/>
          <p:nvPr/>
        </p:nvSpPr>
        <p:spPr>
          <a:xfrm>
            <a:off x="2595600" y="5459400"/>
            <a:ext cx="5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4" name="Text Box 44"/>
          <p:cNvSpPr/>
          <p:nvPr/>
        </p:nvSpPr>
        <p:spPr>
          <a:xfrm>
            <a:off x="4640400" y="5468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5" name="Text Box 45"/>
          <p:cNvSpPr/>
          <p:nvPr/>
        </p:nvSpPr>
        <p:spPr>
          <a:xfrm>
            <a:off x="6729480" y="5329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6" name="Text Box 46"/>
          <p:cNvSpPr/>
          <p:nvPr/>
        </p:nvSpPr>
        <p:spPr>
          <a:xfrm>
            <a:off x="4794120" y="3997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7" name="Rectangle 47"/>
          <p:cNvSpPr/>
          <p:nvPr/>
        </p:nvSpPr>
        <p:spPr>
          <a:xfrm>
            <a:off x="4270320" y="4290840"/>
            <a:ext cx="362160" cy="74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DFE6-EE8C-447D-83F9-A1402E39138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mitations of Repeaters and Hub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ne large shared lin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bit is sent everyw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aggregate throughput is limi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nnot support multiple LAN technolog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not buffer or interpret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’t interconnect between different rates/forma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mitations on maximum nodes and distan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d medium imposes length lim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cannot go beyond 2500 meters on Eth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4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0991-F7C4-4C08-A102-4CD657D2220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nk Layer: Brid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nects two or more LANs at the link lay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acts destination address from the 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s up the destination in a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s the frame to the appropriate seg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ch segment can carry its own traff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4" name="Line 6"/>
          <p:cNvSpPr/>
          <p:nvPr/>
        </p:nvSpPr>
        <p:spPr>
          <a:xfrm>
            <a:off x="4800600" y="4881600"/>
            <a:ext cx="243828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949040" y="4367160"/>
            <a:ext cx="610560" cy="2844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6" name="Line 8"/>
          <p:cNvSpPr/>
          <p:nvPr/>
        </p:nvSpPr>
        <p:spPr>
          <a:xfrm>
            <a:off x="2247840" y="4659480"/>
            <a:ext cx="0" cy="21564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2863440" y="4367160"/>
            <a:ext cx="610560" cy="2844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8" name="Line 10"/>
          <p:cNvSpPr/>
          <p:nvPr/>
        </p:nvSpPr>
        <p:spPr>
          <a:xfrm>
            <a:off x="3162240" y="4659480"/>
            <a:ext cx="0" cy="21564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9" name="Rectangle 11"/>
          <p:cNvSpPr/>
          <p:nvPr/>
        </p:nvSpPr>
        <p:spPr>
          <a:xfrm>
            <a:off x="3777840" y="4367160"/>
            <a:ext cx="610560" cy="28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0" name="Line 12"/>
          <p:cNvSpPr/>
          <p:nvPr/>
        </p:nvSpPr>
        <p:spPr>
          <a:xfrm>
            <a:off x="4076640" y="4659480"/>
            <a:ext cx="0" cy="21564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1" name="Rectangle 13"/>
          <p:cNvSpPr/>
          <p:nvPr/>
        </p:nvSpPr>
        <p:spPr>
          <a:xfrm>
            <a:off x="4692240" y="4367160"/>
            <a:ext cx="610560" cy="2844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2" name="Line 14"/>
          <p:cNvSpPr/>
          <p:nvPr/>
        </p:nvSpPr>
        <p:spPr>
          <a:xfrm>
            <a:off x="4991040" y="4659480"/>
            <a:ext cx="0" cy="21564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3" name="Rectangle 15"/>
          <p:cNvSpPr/>
          <p:nvPr/>
        </p:nvSpPr>
        <p:spPr>
          <a:xfrm>
            <a:off x="5606640" y="4367160"/>
            <a:ext cx="610560" cy="2844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4" name="Line 16"/>
          <p:cNvSpPr/>
          <p:nvPr/>
        </p:nvSpPr>
        <p:spPr>
          <a:xfrm>
            <a:off x="5905440" y="4659480"/>
            <a:ext cx="0" cy="21564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5" name="Line 17"/>
          <p:cNvSpPr/>
          <p:nvPr/>
        </p:nvSpPr>
        <p:spPr>
          <a:xfrm>
            <a:off x="4800600" y="5948280"/>
            <a:ext cx="243828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6" name="Rectangle 18"/>
          <p:cNvSpPr/>
          <p:nvPr/>
        </p:nvSpPr>
        <p:spPr>
          <a:xfrm>
            <a:off x="1949040" y="6178680"/>
            <a:ext cx="610560" cy="284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7" name="Line 19"/>
          <p:cNvSpPr/>
          <p:nvPr/>
        </p:nvSpPr>
        <p:spPr>
          <a:xfrm>
            <a:off x="2247840" y="5954760"/>
            <a:ext cx="0" cy="216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8" name="Rectangle 20"/>
          <p:cNvSpPr/>
          <p:nvPr/>
        </p:nvSpPr>
        <p:spPr>
          <a:xfrm>
            <a:off x="2863440" y="6178680"/>
            <a:ext cx="610560" cy="2844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9" name="Line 21"/>
          <p:cNvSpPr/>
          <p:nvPr/>
        </p:nvSpPr>
        <p:spPr>
          <a:xfrm>
            <a:off x="3162240" y="5954760"/>
            <a:ext cx="0" cy="216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3777840" y="6178680"/>
            <a:ext cx="610560" cy="28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1" name="Line 23"/>
          <p:cNvSpPr/>
          <p:nvPr/>
        </p:nvSpPr>
        <p:spPr>
          <a:xfrm>
            <a:off x="4076640" y="5954760"/>
            <a:ext cx="0" cy="216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2" name="Rectangle 24"/>
          <p:cNvSpPr/>
          <p:nvPr/>
        </p:nvSpPr>
        <p:spPr>
          <a:xfrm>
            <a:off x="4692240" y="6178680"/>
            <a:ext cx="610560" cy="2844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3" name="Line 25"/>
          <p:cNvSpPr/>
          <p:nvPr/>
        </p:nvSpPr>
        <p:spPr>
          <a:xfrm>
            <a:off x="4991040" y="5954760"/>
            <a:ext cx="0" cy="216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4" name="Rectangle 26"/>
          <p:cNvSpPr/>
          <p:nvPr/>
        </p:nvSpPr>
        <p:spPr>
          <a:xfrm>
            <a:off x="5606640" y="6178680"/>
            <a:ext cx="610560" cy="2844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5" name="Line 27"/>
          <p:cNvSpPr/>
          <p:nvPr/>
        </p:nvSpPr>
        <p:spPr>
          <a:xfrm>
            <a:off x="5905440" y="5954760"/>
            <a:ext cx="0" cy="216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6" name="Rectangle 28"/>
          <p:cNvSpPr/>
          <p:nvPr/>
        </p:nvSpPr>
        <p:spPr>
          <a:xfrm>
            <a:off x="6552720" y="4365720"/>
            <a:ext cx="610560" cy="2844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7" name="Line 29"/>
          <p:cNvSpPr/>
          <p:nvPr/>
        </p:nvSpPr>
        <p:spPr>
          <a:xfrm>
            <a:off x="6851520" y="4657680"/>
            <a:ext cx="0" cy="216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8" name="Rectangle 30"/>
          <p:cNvSpPr/>
          <p:nvPr/>
        </p:nvSpPr>
        <p:spPr>
          <a:xfrm>
            <a:off x="6552720" y="6176880"/>
            <a:ext cx="610560" cy="2844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9" name="Line 31"/>
          <p:cNvSpPr/>
          <p:nvPr/>
        </p:nvSpPr>
        <p:spPr>
          <a:xfrm>
            <a:off x="6851520" y="5952960"/>
            <a:ext cx="0" cy="216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0" name="Line 32"/>
          <p:cNvSpPr/>
          <p:nvPr/>
        </p:nvSpPr>
        <p:spPr>
          <a:xfrm>
            <a:off x="1905120" y="5948280"/>
            <a:ext cx="243828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1" name="Line 33"/>
          <p:cNvSpPr/>
          <p:nvPr/>
        </p:nvSpPr>
        <p:spPr>
          <a:xfrm>
            <a:off x="1905120" y="4881600"/>
            <a:ext cx="243828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2" name="Line 34"/>
          <p:cNvSpPr/>
          <p:nvPr/>
        </p:nvSpPr>
        <p:spPr>
          <a:xfrm>
            <a:off x="4343400" y="4881600"/>
            <a:ext cx="0" cy="106668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3" name="Line 35"/>
          <p:cNvSpPr/>
          <p:nvPr/>
        </p:nvSpPr>
        <p:spPr>
          <a:xfrm>
            <a:off x="4800600" y="4881600"/>
            <a:ext cx="0" cy="106668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4" name="Rectangle 36"/>
          <p:cNvSpPr/>
          <p:nvPr/>
        </p:nvSpPr>
        <p:spPr>
          <a:xfrm>
            <a:off x="4114800" y="5110200"/>
            <a:ext cx="914400" cy="6094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idg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C3E9-BEEF-4804-897F-9C1F7F91691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nk Layer: Switch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5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ypically connects individual comput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witch is essentially the same as a bri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ugh typically used to connect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upports concurrent communi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t A can talk to C, while B talks to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3968640" y="412416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2550960" y="4986360"/>
          <a:ext cx="513000" cy="44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50960" y="4986360"/>
                    <a:ext cx="5130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Rectangle 9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7" name="Rectangle 12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8" name="Line 13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9" name="Line 14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0" name="Line 15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1" name="Line 16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2" name="Text Box 19"/>
          <p:cNvSpPr/>
          <p:nvPr/>
        </p:nvSpPr>
        <p:spPr>
          <a:xfrm>
            <a:off x="3269880" y="55324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3" name="Line 20"/>
          <p:cNvSpPr/>
          <p:nvPr/>
        </p:nvSpPr>
        <p:spPr>
          <a:xfrm flipV="1">
            <a:off x="3641760" y="5329080"/>
            <a:ext cx="35568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4" name="Text Box 21"/>
          <p:cNvSpPr/>
          <p:nvPr/>
        </p:nvSpPr>
        <p:spPr>
          <a:xfrm>
            <a:off x="2108520" y="4925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5" name="Text Box 22"/>
          <p:cNvSpPr/>
          <p:nvPr/>
        </p:nvSpPr>
        <p:spPr>
          <a:xfrm>
            <a:off x="4605480" y="4038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6" name="Text Box 23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7" name="Text Box 24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A005-1560-49D1-8EB1-634F9BFA4BD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9" name="Freeform 2"/>
          <p:cNvSpPr/>
          <p:nvPr/>
        </p:nvSpPr>
        <p:spPr>
          <a:xfrm>
            <a:off x="4721400" y="3992400"/>
            <a:ext cx="2781000" cy="257508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0" name="Freeform 3"/>
          <p:cNvSpPr/>
          <p:nvPr/>
        </p:nvSpPr>
        <p:spPr>
          <a:xfrm>
            <a:off x="3508200" y="4030560"/>
            <a:ext cx="1779840" cy="23702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1" name="Freeform 4"/>
          <p:cNvSpPr/>
          <p:nvPr/>
        </p:nvSpPr>
        <p:spPr>
          <a:xfrm>
            <a:off x="1295280" y="3789360"/>
            <a:ext cx="3129120" cy="256068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ridges/Switches: Traffic Isol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witch filters pack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me only forwarded to the necessary seg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gments can support separate transmi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4276800" y="5264280"/>
            <a:ext cx="288720" cy="68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995480" y="5564160"/>
            <a:ext cx="415800" cy="3398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4700520" y="55767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5513400" y="553068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2654280" y="5589720"/>
            <a:ext cx="417600" cy="3394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12"/>
          <p:cNvSpPr/>
          <p:nvPr/>
        </p:nvSpPr>
        <p:spPr>
          <a:xfrm>
            <a:off x="6118200" y="5272200"/>
            <a:ext cx="289080" cy="68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0" name="Rectangle 13"/>
          <p:cNvSpPr/>
          <p:nvPr/>
        </p:nvSpPr>
        <p:spPr>
          <a:xfrm>
            <a:off x="2482920" y="5262480"/>
            <a:ext cx="288720" cy="66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5"/>
          <a:stretch/>
        </p:blipFill>
        <p:spPr>
          <a:xfrm>
            <a:off x="3595680" y="542448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6"/>
          <a:stretch/>
        </p:blipFill>
        <p:spPr>
          <a:xfrm>
            <a:off x="4033800" y="590220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7"/>
          <a:stretch/>
        </p:blipFill>
        <p:spPr>
          <a:xfrm>
            <a:off x="6973920" y="539280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8"/>
          <a:stretch/>
        </p:blipFill>
        <p:spPr>
          <a:xfrm>
            <a:off x="6219720" y="5762520"/>
            <a:ext cx="417600" cy="33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5" name=""/>
          <p:cNvGraphicFramePr/>
          <p:nvPr/>
        </p:nvGraphicFramePr>
        <p:xfrm>
          <a:off x="1555920" y="5084640"/>
          <a:ext cx="417240" cy="33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55920" y="5084640"/>
                    <a:ext cx="41724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Line 19"/>
          <p:cNvSpPr/>
          <p:nvPr/>
        </p:nvSpPr>
        <p:spPr>
          <a:xfrm flipH="1">
            <a:off x="1931760" y="5248440"/>
            <a:ext cx="55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8" name="Line 20"/>
          <p:cNvSpPr/>
          <p:nvPr/>
        </p:nvSpPr>
        <p:spPr>
          <a:xfrm flipH="1">
            <a:off x="2319480" y="5295960"/>
            <a:ext cx="27144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9" name="Line 21"/>
          <p:cNvSpPr/>
          <p:nvPr/>
        </p:nvSpPr>
        <p:spPr>
          <a:xfrm>
            <a:off x="2738520" y="5324400"/>
            <a:ext cx="7308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0" name="Line 22"/>
          <p:cNvSpPr/>
          <p:nvPr/>
        </p:nvSpPr>
        <p:spPr>
          <a:xfrm flipH="1">
            <a:off x="3984480" y="5286240"/>
            <a:ext cx="3463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1" name="Line 23"/>
          <p:cNvSpPr/>
          <p:nvPr/>
        </p:nvSpPr>
        <p:spPr>
          <a:xfrm flipH="1">
            <a:off x="4299120" y="5305320"/>
            <a:ext cx="125280" cy="5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2" name="Line 24"/>
          <p:cNvSpPr/>
          <p:nvPr/>
        </p:nvSpPr>
        <p:spPr>
          <a:xfrm>
            <a:off x="4603680" y="5248440"/>
            <a:ext cx="23040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3" name="Line 25"/>
          <p:cNvSpPr/>
          <p:nvPr/>
        </p:nvSpPr>
        <p:spPr>
          <a:xfrm flipH="1">
            <a:off x="5881320" y="5324400"/>
            <a:ext cx="42876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4" name="Line 26"/>
          <p:cNvSpPr/>
          <p:nvPr/>
        </p:nvSpPr>
        <p:spPr>
          <a:xfrm flipH="1">
            <a:off x="6384960" y="5295960"/>
            <a:ext cx="936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Line 27"/>
          <p:cNvSpPr/>
          <p:nvPr/>
        </p:nvSpPr>
        <p:spPr>
          <a:xfrm>
            <a:off x="6508800" y="5218200"/>
            <a:ext cx="514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6" name="Group 28"/>
          <p:cNvGrpSpPr/>
          <p:nvPr/>
        </p:nvGrpSpPr>
        <p:grpSpPr>
          <a:xfrm>
            <a:off x="4335480" y="3781440"/>
            <a:ext cx="371520" cy="252000"/>
            <a:chOff x="4335480" y="3781440"/>
            <a:chExt cx="371520" cy="252000"/>
          </a:xfrm>
        </p:grpSpPr>
        <p:sp>
          <p:nvSpPr>
            <p:cNvPr id="537" name="Line 29"/>
            <p:cNvSpPr/>
            <p:nvPr/>
          </p:nvSpPr>
          <p:spPr>
            <a:xfrm>
              <a:off x="4707000" y="3781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8" name="Rectangle 30"/>
            <p:cNvSpPr/>
            <p:nvPr/>
          </p:nvSpPr>
          <p:spPr>
            <a:xfrm>
              <a:off x="4335480" y="3954960"/>
              <a:ext cx="344160" cy="78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39" name="Group 31"/>
            <p:cNvGrpSpPr/>
            <p:nvPr/>
          </p:nvGrpSpPr>
          <p:grpSpPr>
            <a:xfrm>
              <a:off x="4521240" y="3839400"/>
              <a:ext cx="140400" cy="109440"/>
              <a:chOff x="4521240" y="3839400"/>
              <a:chExt cx="140400" cy="109440"/>
            </a:xfrm>
          </p:grpSpPr>
          <p:sp>
            <p:nvSpPr>
              <p:cNvPr id="540" name="Line 32"/>
              <p:cNvSpPr/>
              <p:nvPr/>
            </p:nvSpPr>
            <p:spPr>
              <a:xfrm>
                <a:off x="4544640" y="3839400"/>
                <a:ext cx="93600" cy="109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41" name="Line 33"/>
              <p:cNvSpPr/>
              <p:nvPr/>
            </p:nvSpPr>
            <p:spPr>
              <a:xfrm flipH="1">
                <a:off x="4521240" y="3839400"/>
                <a:ext cx="140400" cy="109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542" name="Line 34"/>
          <p:cNvSpPr/>
          <p:nvPr/>
        </p:nvSpPr>
        <p:spPr>
          <a:xfrm flipH="1">
            <a:off x="2728800" y="4035600"/>
            <a:ext cx="166536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3" name="Line 35"/>
          <p:cNvSpPr/>
          <p:nvPr/>
        </p:nvSpPr>
        <p:spPr>
          <a:xfrm>
            <a:off x="4549680" y="4025880"/>
            <a:ext cx="0" cy="11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4" name="Line 36"/>
          <p:cNvSpPr/>
          <p:nvPr/>
        </p:nvSpPr>
        <p:spPr>
          <a:xfrm flipH="1" flipV="1">
            <a:off x="4708080" y="3976560"/>
            <a:ext cx="1497240" cy="12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5" name="Text Box 37"/>
          <p:cNvSpPr/>
          <p:nvPr/>
        </p:nvSpPr>
        <p:spPr>
          <a:xfrm>
            <a:off x="2905200" y="5048280"/>
            <a:ext cx="6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6" name="Text Box 38"/>
          <p:cNvSpPr/>
          <p:nvPr/>
        </p:nvSpPr>
        <p:spPr>
          <a:xfrm>
            <a:off x="4695840" y="505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Text Box 39"/>
          <p:cNvSpPr/>
          <p:nvPr/>
        </p:nvSpPr>
        <p:spPr>
          <a:xfrm>
            <a:off x="6527880" y="4929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Text Box 40"/>
          <p:cNvSpPr/>
          <p:nvPr/>
        </p:nvSpPr>
        <p:spPr>
          <a:xfrm>
            <a:off x="4699800" y="36590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itch/bridg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9" name="Text Box 41"/>
          <p:cNvSpPr/>
          <p:nvPr/>
        </p:nvSpPr>
        <p:spPr>
          <a:xfrm>
            <a:off x="1195920" y="6291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gmen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0" name="Text Box 42"/>
          <p:cNvSpPr/>
          <p:nvPr/>
        </p:nvSpPr>
        <p:spPr>
          <a:xfrm>
            <a:off x="3254760" y="63658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gmen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1" name="Text Box 43"/>
          <p:cNvSpPr/>
          <p:nvPr/>
        </p:nvSpPr>
        <p:spPr>
          <a:xfrm>
            <a:off x="3805200" y="635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2" name="Text Box 44"/>
          <p:cNvSpPr/>
          <p:nvPr/>
        </p:nvSpPr>
        <p:spPr>
          <a:xfrm>
            <a:off x="6975720" y="41860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gmen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B634-DF45-4E1D-8635-8D00DBDE78F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dvantages Over Hubs/Repeat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nly forwards frames as need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unnecessary load on se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ider geographic spa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e segments allow longer di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mproves privac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ts can “snoop” traffic traversing their seg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not all the rest of the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n join segments using different technolog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119C-30FF-4484-9CC8-23E65FABD54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lf Learning: Building the Tab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4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en a frame arriv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31440" indent="-24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pect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C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ociate the address with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com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e the mapping in the switch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 timer to eventually forget the map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968640" y="41148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3" name=""/>
          <p:cNvGraphicFramePr/>
          <p:nvPr/>
        </p:nvGraphicFramePr>
        <p:xfrm>
          <a:off x="2550960" y="4986360"/>
          <a:ext cx="513000" cy="44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50960" y="4986360"/>
                    <a:ext cx="5130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Rectangle 9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7" name="Rectangle 11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8" name="Rectangle 12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9" name="Line 13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0" name="Line 14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1" name="Line 15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2" name="Line 16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2108520" y="4925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4" name="Text Box 20"/>
          <p:cNvSpPr/>
          <p:nvPr/>
        </p:nvSpPr>
        <p:spPr>
          <a:xfrm>
            <a:off x="4605480" y="4038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6" name="Text Box 22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7" name="Rectangle 23"/>
          <p:cNvSpPr/>
          <p:nvPr/>
        </p:nvSpPr>
        <p:spPr>
          <a:xfrm>
            <a:off x="3421080" y="492768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8" name="Rectangle 24"/>
          <p:cNvSpPr/>
          <p:nvPr/>
        </p:nvSpPr>
        <p:spPr>
          <a:xfrm>
            <a:off x="3727440" y="492768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9" name="Text Box 25"/>
          <p:cNvSpPr/>
          <p:nvPr/>
        </p:nvSpPr>
        <p:spPr>
          <a:xfrm>
            <a:off x="457200" y="5486400"/>
            <a:ext cx="2666880" cy="703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witch learns how to reach A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0" name="Line 26"/>
          <p:cNvSpPr/>
          <p:nvPr/>
        </p:nvSpPr>
        <p:spPr>
          <a:xfrm>
            <a:off x="3227400" y="4695840"/>
            <a:ext cx="692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nk = Medium + Adapt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AED1-ABA8-4C79-A2BE-5BC7E9BBB74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0579-4D46-4A85-9F34-5A7424F1255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lf Learning: Handling Mis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61520" y="1277640"/>
            <a:ext cx="8458200" cy="21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en frame arrives with unfamiliar destin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the frame out all of the interf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pt for the one where the frame arri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pefully, this case won’t happen very ofte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3968640" y="412416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8" name=""/>
          <p:cNvGraphicFramePr/>
          <p:nvPr/>
        </p:nvGraphicFramePr>
        <p:xfrm>
          <a:off x="2550960" y="4986360"/>
          <a:ext cx="513000" cy="44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50960" y="4986360"/>
                    <a:ext cx="5130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Rectangle 9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5" name="Line 14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6" name="Line 15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7" name="Line 16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8" name="Text Box 19"/>
          <p:cNvSpPr/>
          <p:nvPr/>
        </p:nvSpPr>
        <p:spPr>
          <a:xfrm>
            <a:off x="2108520" y="4925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9" name="Text Box 20"/>
          <p:cNvSpPr/>
          <p:nvPr/>
        </p:nvSpPr>
        <p:spPr>
          <a:xfrm>
            <a:off x="4605480" y="38894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0" name="Text Box 21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380880" y="4594320"/>
            <a:ext cx="1306800" cy="1008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When in doubt, shout!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3" name="Rectangle 26"/>
          <p:cNvSpPr/>
          <p:nvPr/>
        </p:nvSpPr>
        <p:spPr>
          <a:xfrm>
            <a:off x="3421080" y="492768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Rectangle 27"/>
          <p:cNvSpPr/>
          <p:nvPr/>
        </p:nvSpPr>
        <p:spPr>
          <a:xfrm>
            <a:off x="3727440" y="492768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5" name="Freeform 28"/>
          <p:cNvSpPr/>
          <p:nvPr/>
        </p:nvSpPr>
        <p:spPr>
          <a:xfrm>
            <a:off x="3957480" y="4581360"/>
            <a:ext cx="179640" cy="3636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6" name="Freeform 29"/>
          <p:cNvSpPr/>
          <p:nvPr/>
        </p:nvSpPr>
        <p:spPr>
          <a:xfrm>
            <a:off x="3649680" y="5272200"/>
            <a:ext cx="498600" cy="5382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Line 30"/>
          <p:cNvSpPr/>
          <p:nvPr/>
        </p:nvSpPr>
        <p:spPr>
          <a:xfrm>
            <a:off x="3957480" y="5003640"/>
            <a:ext cx="12290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90E4-8074-4373-A3A5-E96C0A4928D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9" name="Rectangle 25"/>
          <p:cNvSpPr/>
          <p:nvPr/>
        </p:nvSpPr>
        <p:spPr>
          <a:xfrm>
            <a:off x="7607160" y="4619520"/>
            <a:ext cx="1074960" cy="730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0" name="Rectangle 24"/>
          <p:cNvSpPr/>
          <p:nvPr/>
        </p:nvSpPr>
        <p:spPr>
          <a:xfrm>
            <a:off x="6570720" y="4619520"/>
            <a:ext cx="1074600" cy="730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1" name="Rectangle 23"/>
          <p:cNvSpPr/>
          <p:nvPr/>
        </p:nvSpPr>
        <p:spPr>
          <a:xfrm>
            <a:off x="5532480" y="4619520"/>
            <a:ext cx="1074600" cy="730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2" name="Rectangle 19"/>
          <p:cNvSpPr/>
          <p:nvPr/>
        </p:nvSpPr>
        <p:spPr>
          <a:xfrm>
            <a:off x="4495680" y="4619520"/>
            <a:ext cx="1074960" cy="730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ummary: Multiple Lay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0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fferent devices switch different thing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layer: packets (rout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 layer: frames (bridges and switch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 layer: electrical signals (repeaters and hub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885960" y="3581280"/>
            <a:ext cx="2881080" cy="6145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885960" y="4195800"/>
            <a:ext cx="2881080" cy="614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885960" y="4811760"/>
            <a:ext cx="2881080" cy="614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885960" y="5425920"/>
            <a:ext cx="2881080" cy="6145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Rectangle 8"/>
          <p:cNvSpPr/>
          <p:nvPr/>
        </p:nvSpPr>
        <p:spPr>
          <a:xfrm>
            <a:off x="885960" y="6040440"/>
            <a:ext cx="2881080" cy="6145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1393920" y="36590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lic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538280" y="42991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2" name="Text Box 11"/>
          <p:cNvSpPr/>
          <p:nvPr/>
        </p:nvSpPr>
        <p:spPr>
          <a:xfrm>
            <a:off x="1754640" y="4875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ou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3" name="Text Box 12"/>
          <p:cNvSpPr/>
          <p:nvPr/>
        </p:nvSpPr>
        <p:spPr>
          <a:xfrm>
            <a:off x="1078920" y="548964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ridge, switch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1229760" y="61563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peater, hu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4477680" y="46641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d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5514480" y="46641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e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d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7" name="Text Box 16"/>
          <p:cNvSpPr/>
          <p:nvPr/>
        </p:nvSpPr>
        <p:spPr>
          <a:xfrm>
            <a:off x="6550920" y="46641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d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8" name="Text Box 17"/>
          <p:cNvSpPr/>
          <p:nvPr/>
        </p:nvSpPr>
        <p:spPr>
          <a:xfrm>
            <a:off x="7759800" y="466416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9" name="Rectangle 26"/>
          <p:cNvSpPr/>
          <p:nvPr/>
        </p:nvSpPr>
        <p:spPr>
          <a:xfrm>
            <a:off x="4495680" y="4619520"/>
            <a:ext cx="4186440" cy="730440"/>
          </a:xfrm>
          <a:prstGeom prst="rect">
            <a:avLst/>
          </a:prstGeom>
          <a:noFill/>
          <a:ln w="507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n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 two or more network adap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with a unique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a shared communication med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ing nex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iday: “links” between application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day: network layer (I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et start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assignment #0 on socket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74AC-1F81-4681-B38D-BE89012D77F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at is a Link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8CA3-7A56-4115-BFC9-11AB1F9CE07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12" name="Picture 2" descr="fibers2"/>
          <p:cNvPicPr/>
          <p:nvPr/>
        </p:nvPicPr>
        <p:blipFill>
          <a:blip r:embed="rId1"/>
          <a:stretch/>
        </p:blipFill>
        <p:spPr>
          <a:xfrm>
            <a:off x="304920" y="2054160"/>
            <a:ext cx="2071440" cy="2506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coaxial"/>
          <p:cNvPicPr/>
          <p:nvPr/>
        </p:nvPicPr>
        <p:blipFill>
          <a:blip r:embed="rId2"/>
          <a:stretch/>
        </p:blipFill>
        <p:spPr>
          <a:xfrm>
            <a:off x="763560" y="4564080"/>
            <a:ext cx="1065240" cy="2073240"/>
          </a:xfrm>
          <a:prstGeom prst="rect">
            <a:avLst/>
          </a:prstGeom>
          <a:ln w="0">
            <a:noFill/>
          </a:ln>
        </p:spPr>
      </p:pic>
      <p:sp>
        <p:nvSpPr>
          <p:cNvPr id="214" name="TextBox 8"/>
          <p:cNvSpPr/>
          <p:nvPr/>
        </p:nvSpPr>
        <p:spPr>
          <a:xfrm>
            <a:off x="166680" y="129528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unication Medium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TextBox 10"/>
          <p:cNvSpPr/>
          <p:nvPr/>
        </p:nvSpPr>
        <p:spPr>
          <a:xfrm>
            <a:off x="5421960" y="1295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work Adapte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16" name="Picture 6" descr="nic1000"/>
          <p:cNvPicPr/>
          <p:nvPr/>
        </p:nvPicPr>
        <p:blipFill>
          <a:blip r:embed="rId3"/>
          <a:stretch/>
        </p:blipFill>
        <p:spPr>
          <a:xfrm>
            <a:off x="5181480" y="2057400"/>
            <a:ext cx="1751040" cy="1630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180px-Homing_pigeon"/>
          <p:cNvPicPr/>
          <p:nvPr/>
        </p:nvPicPr>
        <p:blipFill>
          <a:blip r:embed="rId4"/>
          <a:stretch/>
        </p:blipFill>
        <p:spPr>
          <a:xfrm>
            <a:off x="2209680" y="3962520"/>
            <a:ext cx="2239920" cy="1805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"/>
          <p:cNvPicPr/>
          <p:nvPr/>
        </p:nvPicPr>
        <p:blipFill>
          <a:blip r:embed="rId5"/>
          <a:stretch/>
        </p:blipFill>
        <p:spPr>
          <a:xfrm>
            <a:off x="2514600" y="2133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6" descr=""/>
          <p:cNvPicPr/>
          <p:nvPr/>
        </p:nvPicPr>
        <p:blipFill>
          <a:blip r:embed="rId6"/>
          <a:stretch/>
        </p:blipFill>
        <p:spPr>
          <a:xfrm>
            <a:off x="6858000" y="4902120"/>
            <a:ext cx="2209680" cy="2160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"/>
          <p:cNvPicPr/>
          <p:nvPr/>
        </p:nvPicPr>
        <p:blipFill>
          <a:blip r:embed="rId7"/>
          <a:stretch/>
        </p:blipFill>
        <p:spPr>
          <a:xfrm>
            <a:off x="5029200" y="4343400"/>
            <a:ext cx="2190600" cy="1981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thumb220x174-images68380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29400" y="3132000"/>
            <a:ext cx="220680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roadcast Links: Shared Media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575B-11D1-4432-A8A4-33AF6DFC3BF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24" name="Picture 4" descr="5"/>
          <p:cNvPicPr/>
          <p:nvPr/>
        </p:nvPicPr>
        <p:blipFill>
          <a:blip r:embed="rId1"/>
          <a:stretch/>
        </p:blipFill>
        <p:spPr>
          <a:xfrm>
            <a:off x="208080" y="1727280"/>
            <a:ext cx="8707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daptors Communica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52280" y="3733560"/>
            <a:ext cx="42674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ing sid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apsulates pack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s error checking bits, flow contro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0" y="3733560"/>
            <a:ext cx="44956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ceiving sid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s for errors, flow contro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acts datagram and passes to receiving 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2141-C1B1-4A8D-A3A7-48BD93F2A8E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49120" y="286380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din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0" name="Group 6"/>
          <p:cNvGrpSpPr/>
          <p:nvPr/>
        </p:nvGrpSpPr>
        <p:grpSpPr>
          <a:xfrm>
            <a:off x="2344680" y="2389320"/>
            <a:ext cx="965160" cy="426960"/>
            <a:chOff x="2344680" y="2389320"/>
            <a:chExt cx="965160" cy="426960"/>
          </a:xfrm>
        </p:grpSpPr>
        <p:sp>
          <p:nvSpPr>
            <p:cNvPr id="231" name="Rectangle 7"/>
            <p:cNvSpPr/>
            <p:nvPr/>
          </p:nvSpPr>
          <p:spPr>
            <a:xfrm>
              <a:off x="2344680" y="2389320"/>
              <a:ext cx="965160" cy="426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2" name="Rectangle 8"/>
            <p:cNvSpPr/>
            <p:nvPr/>
          </p:nvSpPr>
          <p:spPr>
            <a:xfrm>
              <a:off x="2454120" y="2449800"/>
              <a:ext cx="757440" cy="2937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frame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33" name="Line 9"/>
          <p:cNvSpPr/>
          <p:nvPr/>
        </p:nvSpPr>
        <p:spPr>
          <a:xfrm>
            <a:off x="3297240" y="2657520"/>
            <a:ext cx="252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6783480" y="1595520"/>
            <a:ext cx="1125360" cy="122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7083360" y="1974960"/>
            <a:ext cx="487440" cy="280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1219320" y="1595520"/>
            <a:ext cx="1125360" cy="122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1544760" y="1967040"/>
            <a:ext cx="487080" cy="257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6661800" y="282564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eivin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1245960" y="16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acke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Freeform 17"/>
          <p:cNvSpPr/>
          <p:nvPr/>
        </p:nvSpPr>
        <p:spPr>
          <a:xfrm>
            <a:off x="1746360" y="2181240"/>
            <a:ext cx="695160" cy="460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1" name="Group 18"/>
          <p:cNvGrpSpPr/>
          <p:nvPr/>
        </p:nvGrpSpPr>
        <p:grpSpPr>
          <a:xfrm>
            <a:off x="5819760" y="2382840"/>
            <a:ext cx="965160" cy="426960"/>
            <a:chOff x="5819760" y="2382840"/>
            <a:chExt cx="965160" cy="426960"/>
          </a:xfrm>
        </p:grpSpPr>
        <p:sp>
          <p:nvSpPr>
            <p:cNvPr id="242" name="Rectangle 19"/>
            <p:cNvSpPr/>
            <p:nvPr/>
          </p:nvSpPr>
          <p:spPr>
            <a:xfrm>
              <a:off x="5819760" y="2382840"/>
              <a:ext cx="965160" cy="426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3" name="Rectangle 20"/>
            <p:cNvSpPr/>
            <p:nvPr/>
          </p:nvSpPr>
          <p:spPr>
            <a:xfrm>
              <a:off x="5929200" y="2443320"/>
              <a:ext cx="757440" cy="2937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frame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44" name="Text Box 21"/>
          <p:cNvSpPr/>
          <p:nvPr/>
        </p:nvSpPr>
        <p:spPr>
          <a:xfrm>
            <a:off x="2350440" y="28209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ap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Text Box 22"/>
          <p:cNvSpPr/>
          <p:nvPr/>
        </p:nvSpPr>
        <p:spPr>
          <a:xfrm>
            <a:off x="5763600" y="28274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ap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AutoShape 23"/>
          <p:cNvSpPr/>
          <p:nvPr/>
        </p:nvSpPr>
        <p:spPr>
          <a:xfrm rot="5399400">
            <a:off x="4533480" y="758520"/>
            <a:ext cx="220680" cy="2865240"/>
          </a:xfrm>
          <a:custGeom>
            <a:avLst/>
            <a:gdLst>
              <a:gd name="textAreaLeft" fmla="*/ 141120 w 220680"/>
              <a:gd name="textAreaRight" fmla="*/ 221040 w 220680"/>
              <a:gd name="textAreaTop" fmla="*/ 74520 h 2865240"/>
              <a:gd name="textAreaBottom" fmla="*/ 2790720 h 286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3293640" y="171468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nk layer protoco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Freeform 25"/>
          <p:cNvSpPr/>
          <p:nvPr/>
        </p:nvSpPr>
        <p:spPr>
          <a:xfrm>
            <a:off x="6703920" y="2266920"/>
            <a:ext cx="647640" cy="3430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Text Box 16"/>
          <p:cNvSpPr/>
          <p:nvPr/>
        </p:nvSpPr>
        <p:spPr>
          <a:xfrm>
            <a:off x="6818040" y="16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acke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nk-Layer Servic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520" y="11426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co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 the 0s and 1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ram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apsulate packet into frame, adding header/trai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rror det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detecting errors with checksu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rror corr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optionally correcting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low contr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ing between sending and receiving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8583-8089-47C1-A5E4-C3653F5D459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ddres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3245-A502-4B7E-8525-E27591A65FA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4:23:37Z</dcterms:created>
  <dc:creator>Kai Li</dc:creator>
  <dc:description/>
  <dc:language>en-US</dc:language>
  <cp:lastModifiedBy>Jennifer Rexford</cp:lastModifiedBy>
  <dcterms:modified xsi:type="dcterms:W3CDTF">2012-03-05T00:06:06Z</dcterms:modified>
  <cp:revision>863</cp:revision>
  <dc:subject/>
  <dc:title>Communication</dc:title>
</cp:coreProperties>
</file>