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5D51-C4A0-4D8D-B9E9-EC4ABF0AB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63D8-1A88-46E4-B164-EBAAA5D8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5C80-4AEE-4DEB-83A7-03E477F41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73CD-59F5-4A63-ADC9-FF2C5926C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36D4-A305-4875-9FFA-F6AE9AB60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DE13-FAB4-42D1-9359-0A4A6D3BD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F59F-F987-4AD2-B0CD-F6159A28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3B25-EADB-43DF-9F65-1F85EDC79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A718-F1F2-465D-B5A1-A2F8855B8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10AF-8809-4156-A303-4E36028F3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4ABA-6162-4CEA-95DE-7933EF4BB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5BBC-AC28-4AB0-80F0-93EB62695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444E-12C2-4927-8E46-A2CCD4AA7CAA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" name=""/>
          <p:cNvCxnSpPr>
            <a:stCxn id="79" idx="0"/>
            <a:endCxn id="80" idx="4"/>
          </p:cNvCxnSpPr>
          <p:nvPr/>
        </p:nvCxnSpPr>
        <p:spPr>
          <a:xfrm flipV="1">
            <a:off x="1522440" y="1370160"/>
            <a:ext cx="3600" cy="328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80" idx="5"/>
            <a:endCxn id="83" idx="1"/>
          </p:cNvCxnSpPr>
          <p:nvPr/>
        </p:nvCxnSpPr>
        <p:spPr>
          <a:xfrm>
            <a:off x="1632600" y="1325880"/>
            <a:ext cx="205668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" name=""/>
          <p:cNvCxnSpPr>
            <a:stCxn id="80" idx="6"/>
            <a:endCxn id="85" idx="1"/>
          </p:cNvCxnSpPr>
          <p:nvPr/>
        </p:nvCxnSpPr>
        <p:spPr>
          <a:xfrm>
            <a:off x="1676520" y="1218600"/>
            <a:ext cx="3238200" cy="14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" name=""/>
          <p:cNvCxnSpPr>
            <a:stCxn id="80" idx="4"/>
            <a:endCxn id="81" idx="1"/>
          </p:cNvCxnSpPr>
          <p:nvPr/>
        </p:nvCxnSpPr>
        <p:spPr>
          <a:xfrm>
            <a:off x="1525680" y="1370160"/>
            <a:ext cx="677520" cy="129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0" name=""/>
          <p:cNvCxnSpPr>
            <a:stCxn id="88" idx="2"/>
            <a:endCxn id="87" idx="6"/>
          </p:cNvCxnSpPr>
          <p:nvPr/>
        </p:nvCxnSpPr>
        <p:spPr>
          <a:xfrm flipH="1">
            <a:off x="2460600" y="3753000"/>
            <a:ext cx="118476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1" name=""/>
          <p:cNvCxnSpPr>
            <a:stCxn id="88" idx="3"/>
            <a:endCxn id="79" idx="6"/>
          </p:cNvCxnSpPr>
          <p:nvPr/>
        </p:nvCxnSpPr>
        <p:spPr>
          <a:xfrm flipH="1">
            <a:off x="1673280" y="3858480"/>
            <a:ext cx="2016000" cy="94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92" name=""/>
          <p:cNvCxnSpPr>
            <a:stCxn id="79" idx="7"/>
            <a:endCxn id="87" idx="3"/>
          </p:cNvCxnSpPr>
          <p:nvPr/>
        </p:nvCxnSpPr>
        <p:spPr>
          <a:xfrm flipV="1">
            <a:off x="1629360" y="3861360"/>
            <a:ext cx="573840" cy="83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3" name=""/>
          <p:cNvCxnSpPr>
            <a:stCxn id="88" idx="7"/>
            <a:endCxn id="85" idx="3"/>
          </p:cNvCxnSpPr>
          <p:nvPr/>
        </p:nvCxnSpPr>
        <p:spPr>
          <a:xfrm flipV="1">
            <a:off x="3902760" y="2873880"/>
            <a:ext cx="101196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4" name=""/>
          <p:cNvCxnSpPr>
            <a:stCxn id="87" idx="7"/>
            <a:endCxn id="83" idx="3"/>
          </p:cNvCxnSpPr>
          <p:nvPr/>
        </p:nvCxnSpPr>
        <p:spPr>
          <a:xfrm flipV="1">
            <a:off x="2416680" y="2872440"/>
            <a:ext cx="12726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6" name=""/>
          <p:cNvCxnSpPr>
            <a:stCxn id="95" idx="2"/>
            <a:endCxn id="79" idx="5"/>
          </p:cNvCxnSpPr>
          <p:nvPr/>
        </p:nvCxnSpPr>
        <p:spPr>
          <a:xfrm flipH="1" flipV="1">
            <a:off x="1629360" y="4910760"/>
            <a:ext cx="961920" cy="42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9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171F-3CC8-4D9C-806D-2FC3269B58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8" name=""/>
          <p:cNvCxnSpPr>
            <a:stCxn id="295" idx="0"/>
            <a:endCxn id="2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"/>
          <p:cNvCxnSpPr>
            <a:stCxn id="296" idx="5"/>
            <a:endCxn id="2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2" name=""/>
          <p:cNvCxnSpPr>
            <a:stCxn id="296" idx="6"/>
            <a:endCxn id="3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6" idx="4"/>
            <a:endCxn id="2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06" name=""/>
          <p:cNvCxnSpPr>
            <a:stCxn id="304" idx="2"/>
            <a:endCxn id="3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7" name=""/>
          <p:cNvCxnSpPr>
            <a:stCxn id="304" idx="3"/>
            <a:endCxn id="2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08" name=""/>
          <p:cNvCxnSpPr>
            <a:stCxn id="295" idx="7"/>
            <a:endCxn id="3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09" name=""/>
          <p:cNvCxnSpPr>
            <a:stCxn id="304" idx="7"/>
            <a:endCxn id="3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0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"/>
          <p:cNvCxnSpPr>
            <a:stCxn id="311" idx="2"/>
            <a:endCxn id="2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17" name=""/>
          <p:cNvCxnSpPr>
            <a:stCxn id="303" idx="7"/>
            <a:endCxn id="2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F36C-E8E7-4777-BFA3-DCC2B9C4D5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3" name=""/>
          <p:cNvCxnSpPr>
            <a:stCxn id="320" idx="0"/>
            <a:endCxn id="3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5" name=""/>
          <p:cNvCxnSpPr>
            <a:stCxn id="321" idx="5"/>
            <a:endCxn id="3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7" name=""/>
          <p:cNvCxnSpPr>
            <a:stCxn id="321" idx="6"/>
            <a:endCxn id="3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stCxn id="321" idx="4"/>
            <a:endCxn id="3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9" idx="2"/>
            <a:endCxn id="3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2" name=""/>
          <p:cNvCxnSpPr>
            <a:stCxn id="329" idx="3"/>
            <a:endCxn id="3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0" idx="7"/>
            <a:endCxn id="3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34" name=""/>
          <p:cNvCxnSpPr>
            <a:stCxn id="329" idx="7"/>
            <a:endCxn id="3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35" name=""/>
          <p:cNvCxnSpPr>
            <a:stCxn id="328" idx="7"/>
            <a:endCxn id="3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6" idx="2"/>
            <a:endCxn id="3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43" name=""/>
          <p:cNvCxnSpPr>
            <a:stCxn id="329" idx="0"/>
            <a:endCxn id="324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679E-3C24-4CDC-981D-2454417042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9" name=""/>
          <p:cNvCxnSpPr>
            <a:stCxn id="346" idx="0"/>
            <a:endCxn id="347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50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1" name=""/>
          <p:cNvCxnSpPr>
            <a:stCxn id="347" idx="5"/>
            <a:endCxn id="350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2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47" idx="6"/>
            <a:endCxn id="352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54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47" idx="4"/>
            <a:endCxn id="348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57" name=""/>
          <p:cNvCxnSpPr>
            <a:stCxn id="355" idx="2"/>
            <a:endCxn id="354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58" name=""/>
          <p:cNvCxnSpPr>
            <a:stCxn id="355" idx="3"/>
            <a:endCxn id="346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59" name=""/>
          <p:cNvCxnSpPr>
            <a:stCxn id="346" idx="7"/>
            <a:endCxn id="354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60" name=""/>
          <p:cNvCxnSpPr>
            <a:stCxn id="355" idx="7"/>
            <a:endCxn id="352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61" name=""/>
          <p:cNvCxnSpPr>
            <a:stCxn id="354" idx="7"/>
            <a:endCxn id="350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2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3" name=""/>
          <p:cNvCxnSpPr>
            <a:stCxn id="362" idx="2"/>
            <a:endCxn id="346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4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7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68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C4C5D-530E-4F1B-9A4A-506BEE4682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3" name=""/>
          <p:cNvCxnSpPr>
            <a:stCxn id="370" idx="0"/>
            <a:endCxn id="37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7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5" name=""/>
          <p:cNvCxnSpPr>
            <a:stCxn id="371" idx="5"/>
            <a:endCxn id="37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7" name=""/>
          <p:cNvCxnSpPr>
            <a:stCxn id="371" idx="6"/>
            <a:endCxn id="37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7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0" name=""/>
          <p:cNvCxnSpPr>
            <a:stCxn id="371" idx="4"/>
            <a:endCxn id="37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381" name=""/>
          <p:cNvCxnSpPr>
            <a:stCxn id="379" idx="2"/>
            <a:endCxn id="37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2" name=""/>
          <p:cNvCxnSpPr>
            <a:stCxn id="379" idx="3"/>
            <a:endCxn id="37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383" name=""/>
          <p:cNvCxnSpPr>
            <a:stCxn id="370" idx="7"/>
            <a:endCxn id="37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384" name=""/>
          <p:cNvCxnSpPr>
            <a:stCxn id="379" idx="7"/>
            <a:endCxn id="37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385" name=""/>
          <p:cNvCxnSpPr>
            <a:stCxn id="378" idx="7"/>
            <a:endCxn id="37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7" name=""/>
          <p:cNvCxnSpPr>
            <a:stCxn id="386" idx="2"/>
            <a:endCxn id="37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8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39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35C3-1C57-43EC-A175-736D65D823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8" name=""/>
          <p:cNvCxnSpPr>
            <a:stCxn id="395" idx="0"/>
            <a:endCxn id="39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9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0" name=""/>
          <p:cNvCxnSpPr>
            <a:stCxn id="396" idx="5"/>
            <a:endCxn id="39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2" name=""/>
          <p:cNvCxnSpPr>
            <a:stCxn id="396" idx="6"/>
            <a:endCxn id="40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0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396" idx="4"/>
            <a:endCxn id="39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06" name=""/>
          <p:cNvCxnSpPr>
            <a:stCxn id="404" idx="2"/>
            <a:endCxn id="40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7" name=""/>
          <p:cNvCxnSpPr>
            <a:stCxn id="404" idx="3"/>
            <a:endCxn id="39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08" name=""/>
          <p:cNvCxnSpPr>
            <a:stCxn id="395" idx="7"/>
            <a:endCxn id="40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09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410" name=""/>
          <p:cNvCxnSpPr>
            <a:stCxn id="403" idx="7"/>
            <a:endCxn id="39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39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0" name=""/>
          <p:cNvCxnSpPr>
            <a:stCxn id="404" idx="7"/>
            <a:endCxn id="40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0B3E-9AF8-4EED-B3C5-6570D0EE70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2" idx="0"/>
            <a:endCxn id="4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7" name=""/>
          <p:cNvCxnSpPr>
            <a:stCxn id="423" idx="5"/>
            <a:endCxn id="4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9" name=""/>
          <p:cNvCxnSpPr>
            <a:stCxn id="423" idx="6"/>
            <a:endCxn id="4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23" idx="4"/>
            <a:endCxn id="4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31" idx="2"/>
            <a:endCxn id="4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4" name=""/>
          <p:cNvCxnSpPr>
            <a:stCxn id="431" idx="3"/>
            <a:endCxn id="4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35" name=""/>
          <p:cNvCxnSpPr>
            <a:stCxn id="422" idx="7"/>
            <a:endCxn id="4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6" name=""/>
          <p:cNvCxnSpPr>
            <a:stCxn id="431" idx="7"/>
            <a:endCxn id="4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37" name=""/>
          <p:cNvCxnSpPr>
            <a:stCxn id="430" idx="7"/>
            <a:endCxn id="4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8" idx="2"/>
            <a:endCxn id="4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4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12F7-3265-43CD-8245-72F5476259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1" name=""/>
          <p:cNvCxnSpPr>
            <a:stCxn id="448" idx="0"/>
            <a:endCxn id="449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52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49" idx="5"/>
            <a:endCxn id="452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4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49" idx="6"/>
            <a:endCxn id="454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6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8" name=""/>
          <p:cNvCxnSpPr>
            <a:stCxn id="449" idx="4"/>
            <a:endCxn id="450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57" idx="2"/>
            <a:endCxn id="456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0" name=""/>
          <p:cNvCxnSpPr>
            <a:stCxn id="457" idx="3"/>
            <a:endCxn id="448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48" idx="7"/>
            <a:endCxn id="456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2" name=""/>
          <p:cNvCxnSpPr>
            <a:stCxn id="457" idx="7"/>
            <a:endCxn id="454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63" name=""/>
          <p:cNvCxnSpPr>
            <a:stCxn id="456" idx="7"/>
            <a:endCxn id="452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4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4" idx="2"/>
            <a:endCxn id="448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66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70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079B5-19DF-4BCC-AC93-38EBFF9664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8" name=""/>
          <p:cNvCxnSpPr>
            <a:stCxn id="475" idx="0"/>
            <a:endCxn id="47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47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0" name=""/>
          <p:cNvCxnSpPr>
            <a:stCxn id="476" idx="5"/>
            <a:endCxn id="47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2" name=""/>
          <p:cNvCxnSpPr>
            <a:stCxn id="476" idx="6"/>
            <a:endCxn id="48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8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76" idx="4"/>
            <a:endCxn id="47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86" name=""/>
          <p:cNvCxnSpPr>
            <a:stCxn id="484" idx="2"/>
            <a:endCxn id="48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7" name=""/>
          <p:cNvCxnSpPr>
            <a:stCxn id="484" idx="3"/>
            <a:endCxn id="47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488" name=""/>
          <p:cNvCxnSpPr>
            <a:stCxn id="475" idx="7"/>
            <a:endCxn id="48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89" name=""/>
          <p:cNvCxnSpPr>
            <a:stCxn id="484" idx="7"/>
            <a:endCxn id="48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490" name=""/>
          <p:cNvCxnSpPr>
            <a:stCxn id="483" idx="7"/>
            <a:endCxn id="47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2" name=""/>
          <p:cNvCxnSpPr>
            <a:stCxn id="491" idx="2"/>
            <a:endCxn id="47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3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497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1" name=""/>
          <p:cNvCxnSpPr>
            <a:stCxn id="479" idx="1"/>
            <a:endCxn id="476" idx="5"/>
          </p:cNvCxnSpPr>
          <p:nvPr/>
        </p:nvCxnSpPr>
        <p:spPr>
          <a:xfrm flipH="1" flipV="1">
            <a:off x="1631520" y="1324800"/>
            <a:ext cx="2057760" cy="13359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02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CF277-CEC7-43E5-A37A-20518E3C33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stCxn id="504" idx="0"/>
            <a:endCxn id="50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0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5" idx="5"/>
            <a:endCxn id="50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1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1" name=""/>
          <p:cNvCxnSpPr>
            <a:stCxn id="505" idx="6"/>
            <a:endCxn id="51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51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4" name=""/>
          <p:cNvCxnSpPr>
            <a:stCxn id="505" idx="4"/>
            <a:endCxn id="50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15" name=""/>
          <p:cNvCxnSpPr>
            <a:stCxn id="513" idx="2"/>
            <a:endCxn id="51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6" name=""/>
          <p:cNvCxnSpPr>
            <a:stCxn id="513" idx="3"/>
            <a:endCxn id="50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17" name=""/>
          <p:cNvCxnSpPr>
            <a:stCxn id="504" idx="7"/>
            <a:endCxn id="51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8" name=""/>
          <p:cNvCxnSpPr>
            <a:stCxn id="513" idx="7"/>
            <a:endCxn id="51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19" name=""/>
          <p:cNvCxnSpPr>
            <a:stCxn id="512" idx="7"/>
            <a:endCxn id="50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2"/>
            <a:endCxn id="50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2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5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26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0" name=""/>
          <p:cNvCxnSpPr>
            <a:stCxn id="510" idx="1"/>
            <a:endCxn id="505" idx="6"/>
          </p:cNvCxnSpPr>
          <p:nvPr/>
        </p:nvCxnSpPr>
        <p:spPr>
          <a:xfrm flipH="1" flipV="1">
            <a:off x="1676160" y="1218960"/>
            <a:ext cx="3239280" cy="144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A909-7A30-426E-ACEB-79F797A89A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53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8" name=""/>
          <p:cNvCxnSpPr>
            <a:stCxn id="534" idx="5"/>
            <a:endCxn id="53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3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4" idx="6"/>
            <a:endCxn id="53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4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3" name=""/>
          <p:cNvCxnSpPr>
            <a:stCxn id="534" idx="4"/>
            <a:endCxn id="535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44" name=""/>
          <p:cNvCxnSpPr>
            <a:stCxn id="542" idx="2"/>
            <a:endCxn id="541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5" name=""/>
          <p:cNvCxnSpPr>
            <a:stCxn id="542" idx="3"/>
            <a:endCxn id="533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46" name=""/>
          <p:cNvCxnSpPr>
            <a:stCxn id="533" idx="7"/>
            <a:endCxn id="54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7" name=""/>
          <p:cNvCxnSpPr>
            <a:stCxn id="542" idx="7"/>
            <a:endCxn id="53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48" name=""/>
          <p:cNvCxnSpPr>
            <a:stCxn id="541" idx="7"/>
            <a:endCxn id="53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4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0" name=""/>
          <p:cNvCxnSpPr>
            <a:stCxn id="549" idx="2"/>
            <a:endCxn id="533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55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9" name=""/>
          <p:cNvCxnSpPr>
            <a:stCxn id="533" idx="0"/>
            <a:endCxn id="534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60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4B2E-1A4C-4907-888A-AE56DE0487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99" idx="0"/>
            <a:endCxn id="10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0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" name=""/>
          <p:cNvCxnSpPr>
            <a:stCxn id="100" idx="5"/>
            <a:endCxn id="10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" name=""/>
          <p:cNvCxnSpPr>
            <a:stCxn id="100" idx="6"/>
            <a:endCxn id="10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0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0" idx="4"/>
            <a:endCxn id="10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0" name=""/>
          <p:cNvCxnSpPr>
            <a:stCxn id="108" idx="2"/>
            <a:endCxn id="10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1" name=""/>
          <p:cNvCxnSpPr>
            <a:stCxn id="108" idx="3"/>
            <a:endCxn id="9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12" name=""/>
          <p:cNvCxnSpPr>
            <a:stCxn id="99" idx="7"/>
            <a:endCxn id="10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3" name=""/>
          <p:cNvCxnSpPr>
            <a:stCxn id="108" idx="7"/>
            <a:endCxn id="10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14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" name=""/>
          <p:cNvCxnSpPr>
            <a:stCxn id="115" idx="2"/>
            <a:endCxn id="9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1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8" name=""/>
          <p:cNvCxnSpPr>
            <a:stCxn id="107" idx="7"/>
            <a:endCxn id="10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19" name=""/>
          <p:cNvCxnSpPr>
            <a:stCxn id="108" idx="0"/>
            <a:endCxn id="103" idx="4"/>
          </p:cNvCxnSpPr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FD89-2621-4317-A51A-24EEEC4AE3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stCxn id="562" idx="0"/>
            <a:endCxn id="56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6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7" name=""/>
          <p:cNvCxnSpPr>
            <a:stCxn id="563" idx="5"/>
            <a:endCxn id="56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6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3" idx="6"/>
            <a:endCxn id="56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7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2" name=""/>
          <p:cNvCxnSpPr>
            <a:stCxn id="563" idx="4"/>
            <a:endCxn id="56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573" name=""/>
          <p:cNvCxnSpPr>
            <a:stCxn id="571" idx="2"/>
            <a:endCxn id="57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4" name=""/>
          <p:cNvCxnSpPr>
            <a:stCxn id="571" idx="3"/>
            <a:endCxn id="56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575" name=""/>
          <p:cNvCxnSpPr>
            <a:stCxn id="562" idx="7"/>
            <a:endCxn id="57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6" name=""/>
          <p:cNvCxnSpPr>
            <a:stCxn id="571" idx="7"/>
            <a:endCxn id="56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577" name=""/>
          <p:cNvCxnSpPr>
            <a:stCxn id="570" idx="7"/>
            <a:endCxn id="56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7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9" name=""/>
          <p:cNvCxnSpPr>
            <a:stCxn id="578" idx="2"/>
            <a:endCxn id="56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0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3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84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8" name=""/>
          <p:cNvCxnSpPr>
            <a:stCxn id="564" idx="1"/>
            <a:endCxn id="563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589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0CF4-A290-4D0A-92BF-11BDC2C90F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91" idx="0"/>
            <a:endCxn id="592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595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6" name=""/>
          <p:cNvCxnSpPr>
            <a:stCxn id="592" idx="5"/>
            <a:endCxn id="595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7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8" name=""/>
          <p:cNvCxnSpPr>
            <a:stCxn id="592" idx="6"/>
            <a:endCxn id="597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599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1" name=""/>
          <p:cNvCxnSpPr>
            <a:stCxn id="592" idx="4"/>
            <a:endCxn id="593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2" name=""/>
          <p:cNvCxnSpPr>
            <a:stCxn id="600" idx="2"/>
            <a:endCxn id="599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3" name=""/>
          <p:cNvCxnSpPr>
            <a:stCxn id="600" idx="3"/>
            <a:endCxn id="591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04" name=""/>
          <p:cNvCxnSpPr>
            <a:stCxn id="591" idx="7"/>
            <a:endCxn id="599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5" name=""/>
          <p:cNvCxnSpPr>
            <a:stCxn id="600" idx="7"/>
            <a:endCxn id="597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06" name=""/>
          <p:cNvCxnSpPr>
            <a:stCxn id="599" idx="7"/>
            <a:endCxn id="595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8" name=""/>
          <p:cNvCxnSpPr>
            <a:stCxn id="607" idx="2"/>
            <a:endCxn id="591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0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13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8" name=""/>
          <p:cNvCxnSpPr>
            <a:stCxn id="593" idx="1"/>
            <a:endCxn id="592" idx="4"/>
          </p:cNvCxnSpPr>
          <p:nvPr/>
        </p:nvCxnSpPr>
        <p:spPr>
          <a:xfrm flipH="1" flipV="1">
            <a:off x="1524960" y="1369440"/>
            <a:ext cx="678600" cy="129132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12C2-B1EA-4B43-BE75-B5CF703113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3" name=""/>
          <p:cNvCxnSpPr>
            <a:stCxn id="620" idx="0"/>
            <a:endCxn id="621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24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5" name=""/>
          <p:cNvCxnSpPr>
            <a:stCxn id="621" idx="5"/>
            <a:endCxn id="624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6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7" name=""/>
          <p:cNvCxnSpPr>
            <a:stCxn id="621" idx="6"/>
            <a:endCxn id="626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28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0" name=""/>
          <p:cNvCxnSpPr>
            <a:stCxn id="621" idx="4"/>
            <a:endCxn id="622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1" name=""/>
          <p:cNvCxnSpPr>
            <a:stCxn id="629" idx="2"/>
            <a:endCxn id="628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2" name=""/>
          <p:cNvCxnSpPr>
            <a:stCxn id="629" idx="3"/>
            <a:endCxn id="620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33" name=""/>
          <p:cNvCxnSpPr>
            <a:stCxn id="620" idx="7"/>
            <a:endCxn id="628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4" name=""/>
          <p:cNvCxnSpPr>
            <a:stCxn id="629" idx="7"/>
            <a:endCxn id="626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35" name=""/>
          <p:cNvCxnSpPr>
            <a:stCxn id="628" idx="7"/>
            <a:endCxn id="624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6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7" name=""/>
          <p:cNvCxnSpPr>
            <a:stCxn id="636" idx="2"/>
            <a:endCxn id="620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38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42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6095880" y="1295280"/>
            <a:ext cx="9165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5084-7367-4AEA-85AD-F55C21185E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2" name=""/>
          <p:cNvCxnSpPr>
            <a:stCxn id="649" idx="0"/>
            <a:endCxn id="65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5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stCxn id="650" idx="5"/>
            <a:endCxn id="65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6" name=""/>
          <p:cNvCxnSpPr>
            <a:stCxn id="650" idx="6"/>
            <a:endCxn id="65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5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9" name=""/>
          <p:cNvCxnSpPr>
            <a:stCxn id="650" idx="4"/>
            <a:endCxn id="65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0" name=""/>
          <p:cNvCxnSpPr>
            <a:stCxn id="658" idx="2"/>
            <a:endCxn id="65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1" name=""/>
          <p:cNvCxnSpPr>
            <a:stCxn id="658" idx="3"/>
            <a:endCxn id="64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62" name=""/>
          <p:cNvCxnSpPr>
            <a:stCxn id="649" idx="7"/>
            <a:endCxn id="65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3" name=""/>
          <p:cNvCxnSpPr>
            <a:stCxn id="658" idx="7"/>
            <a:endCxn id="65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64" name=""/>
          <p:cNvCxnSpPr>
            <a:stCxn id="657" idx="7"/>
            <a:endCxn id="65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6" name=""/>
          <p:cNvCxnSpPr>
            <a:stCxn id="665" idx="2"/>
            <a:endCxn id="64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6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7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990BB-4E5B-4721-A931-ABB1908BBC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2" name=""/>
          <p:cNvCxnSpPr>
            <a:stCxn id="679" idx="0"/>
            <a:endCxn id="68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8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4" name=""/>
          <p:cNvCxnSpPr>
            <a:stCxn id="680" idx="5"/>
            <a:endCxn id="68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6" name=""/>
          <p:cNvCxnSpPr>
            <a:stCxn id="680" idx="6"/>
            <a:endCxn id="68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sp>
        <p:nvSpPr>
          <p:cNvPr id="68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9" name=""/>
          <p:cNvCxnSpPr>
            <a:stCxn id="680" idx="4"/>
            <a:endCxn id="68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0" name=""/>
          <p:cNvCxnSpPr>
            <a:stCxn id="688" idx="2"/>
            <a:endCxn id="68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1" name=""/>
          <p:cNvCxnSpPr>
            <a:stCxn id="688" idx="3"/>
            <a:endCxn id="67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692" name=""/>
          <p:cNvCxnSpPr>
            <a:stCxn id="679" idx="7"/>
            <a:endCxn id="68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3" name=""/>
          <p:cNvCxnSpPr>
            <a:stCxn id="688" idx="7"/>
            <a:endCxn id="68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694" name=""/>
          <p:cNvCxnSpPr>
            <a:stCxn id="687" idx="7"/>
            <a:endCxn id="68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6" name=""/>
          <p:cNvCxnSpPr>
            <a:stCxn id="695" idx="2"/>
            <a:endCxn id="67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69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2147400" y="393372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0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701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962160" y="2622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>
            <a:off x="5195520" y="26114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6095880" y="1295280"/>
            <a:ext cx="184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"/>
          <p:cNvSpPr/>
          <p:nvPr/>
        </p:nvSpPr>
        <p:spPr>
          <a:xfrm>
            <a:off x="2536560" y="261468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1042560" y="10746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3785400" y="5969160"/>
            <a:ext cx="431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cal order: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G B A D E F 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C5FB-E6E0-4692-9E8E-78FA8055EC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5" name=""/>
          <p:cNvCxnSpPr>
            <a:stCxn id="122" idx="0"/>
            <a:endCxn id="1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" name=""/>
          <p:cNvCxnSpPr>
            <a:stCxn id="123" idx="5"/>
            <a:endCxn id="1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" name=""/>
          <p:cNvCxnSpPr>
            <a:stCxn id="123" idx="6"/>
            <a:endCxn id="1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" name=""/>
          <p:cNvCxnSpPr>
            <a:stCxn id="123" idx="4"/>
            <a:endCxn id="1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4" name=""/>
          <p:cNvCxnSpPr>
            <a:stCxn id="131" idx="3"/>
            <a:endCxn id="1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122" idx="7"/>
            <a:endCxn id="1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6" name=""/>
          <p:cNvCxnSpPr>
            <a:stCxn id="131" idx="7"/>
            <a:endCxn id="1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37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8" idx="2"/>
            <a:endCxn id="122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0" name=""/>
          <p:cNvCxnSpPr>
            <a:stCxn id="131" idx="2"/>
            <a:endCxn id="1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42" name=""/>
          <p:cNvCxnSpPr>
            <a:stCxn id="130" idx="7"/>
            <a:endCxn id="1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A0EF-924B-41AA-A2AF-568BF0BB99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" name=""/>
          <p:cNvCxnSpPr>
            <a:stCxn id="145" idx="0"/>
            <a:endCxn id="146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0" name=""/>
          <p:cNvCxnSpPr>
            <a:stCxn id="146" idx="5"/>
            <a:endCxn id="149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1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" name=""/>
          <p:cNvCxnSpPr>
            <a:stCxn id="146" idx="6"/>
            <a:endCxn id="151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" name=""/>
          <p:cNvCxnSpPr>
            <a:stCxn id="146" idx="4"/>
            <a:endCxn id="147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57" name=""/>
          <p:cNvCxnSpPr>
            <a:stCxn id="154" idx="3"/>
            <a:endCxn id="145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5" idx="7"/>
            <a:endCxn id="153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59" name=""/>
          <p:cNvCxnSpPr>
            <a:stCxn id="154" idx="7"/>
            <a:endCxn id="151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0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61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" name=""/>
          <p:cNvCxnSpPr>
            <a:stCxn id="161" idx="2"/>
            <a:endCxn id="145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3" name=""/>
          <p:cNvCxnSpPr>
            <a:stCxn id="145" idx="6"/>
            <a:endCxn id="154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4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65" name=""/>
          <p:cNvCxnSpPr>
            <a:stCxn id="153" idx="7"/>
            <a:endCxn id="149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66" name=""/>
          <p:cNvCxnSpPr>
            <a:stCxn id="154" idx="2"/>
            <a:endCxn id="153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CFFA-98C4-4274-8A2A-55519A3BC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69" idx="0"/>
            <a:endCxn id="1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4" name=""/>
          <p:cNvCxnSpPr>
            <a:stCxn id="170" idx="5"/>
            <a:endCxn id="1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6" name=""/>
          <p:cNvCxnSpPr>
            <a:stCxn id="170" idx="6"/>
            <a:endCxn id="1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9" name=""/>
          <p:cNvCxnSpPr>
            <a:stCxn id="170" idx="4"/>
            <a:endCxn id="1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181" name=""/>
          <p:cNvCxnSpPr>
            <a:stCxn id="178" idx="3"/>
            <a:endCxn id="1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169" idx="7"/>
            <a:endCxn id="1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3" name=""/>
          <p:cNvCxnSpPr>
            <a:stCxn id="178" idx="7"/>
            <a:endCxn id="1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4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1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6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7" name=""/>
          <p:cNvCxnSpPr>
            <a:stCxn id="185" idx="2"/>
            <a:endCxn id="1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8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189" name=""/>
          <p:cNvCxnSpPr>
            <a:stCxn id="177" idx="7"/>
            <a:endCxn id="1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0" name=""/>
          <p:cNvCxnSpPr>
            <a:stCxn id="178" idx="2"/>
            <a:endCxn id="1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191" name=""/>
          <p:cNvCxnSpPr>
            <a:stCxn id="169" idx="6"/>
            <a:endCxn id="178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E746-79C4-4CE1-B0E9-245BB03BD3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6095520" y="1295280"/>
            <a:ext cx="20138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H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198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0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02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195" idx="4"/>
            <a:endCxn id="196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05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06" name=""/>
          <p:cNvCxnSpPr>
            <a:stCxn id="203" idx="3"/>
            <a:endCxn id="19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07" name=""/>
          <p:cNvCxnSpPr>
            <a:stCxn id="194" idx="7"/>
            <a:endCxn id="202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8" name=""/>
          <p:cNvCxnSpPr>
            <a:stCxn id="203" idx="7"/>
            <a:endCxn id="200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09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10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1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12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13" name=""/>
          <p:cNvCxnSpPr>
            <a:stCxn id="202" idx="7"/>
            <a:endCxn id="198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03" idx="2"/>
            <a:endCxn id="202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stCxn id="194" idx="6"/>
            <a:endCxn id="203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16" name=""/>
          <p:cNvCxnSpPr>
            <a:stCxn id="210" idx="2"/>
            <a:endCxn id="19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4B5E-B026-4140-826D-2ECE8538C7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295280"/>
            <a:ext cx="164808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F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219" idx="2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21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5" name=""/>
          <p:cNvCxnSpPr>
            <a:stCxn id="222" idx="0"/>
            <a:endCxn id="223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26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7" name=""/>
          <p:cNvCxnSpPr>
            <a:stCxn id="223" idx="5"/>
            <a:endCxn id="226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8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9" name=""/>
          <p:cNvCxnSpPr>
            <a:stCxn id="223" idx="6"/>
            <a:endCxn id="228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30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2" name=""/>
          <p:cNvCxnSpPr>
            <a:stCxn id="223" idx="4"/>
            <a:endCxn id="224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33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4" name=""/>
          <p:cNvCxnSpPr>
            <a:stCxn id="231" idx="3"/>
            <a:endCxn id="222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35" name=""/>
          <p:cNvCxnSpPr>
            <a:stCxn id="222" idx="7"/>
            <a:endCxn id="230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6" name=""/>
          <p:cNvCxnSpPr>
            <a:stCxn id="231" idx="7"/>
            <a:endCxn id="228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7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38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39" name=""/>
          <p:cNvCxnSpPr>
            <a:stCxn id="230" idx="7"/>
            <a:endCxn id="226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31" idx="2"/>
            <a:endCxn id="230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22" idx="6"/>
            <a:endCxn id="231" idx="3"/>
          </p:cNvCxnSpPr>
          <p:nvPr/>
        </p:nvCxnSpPr>
        <p:spPr>
          <a:xfrm flipV="1">
            <a:off x="1673280" y="3857400"/>
            <a:ext cx="2016720" cy="94680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4A54-AB67-4B4E-84AE-C2D6DCE417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6095520" y="1295280"/>
            <a:ext cx="1404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6" name=""/>
          <p:cNvCxnSpPr>
            <a:stCxn id="244" idx="0"/>
            <a:endCxn id="245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47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8" name=""/>
          <p:cNvCxnSpPr>
            <a:stCxn id="245" idx="5"/>
            <a:endCxn id="247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9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5" idx="6"/>
            <a:endCxn id="249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51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3" name=""/>
          <p:cNvCxnSpPr>
            <a:stCxn id="245" idx="4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54" name=""/>
          <p:cNvCxnSpPr>
            <a:stCxn id="252" idx="3"/>
            <a:endCxn id="244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55" name=""/>
          <p:cNvCxnSpPr>
            <a:stCxn id="244" idx="7"/>
            <a:endCxn id="251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56" name=""/>
          <p:cNvCxnSpPr>
            <a:stCxn id="252" idx="7"/>
            <a:endCxn id="249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57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8" name=""/>
          <p:cNvCxnSpPr>
            <a:stCxn id="257" idx="2"/>
            <a:endCxn id="244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59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62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3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4" name=""/>
          <p:cNvCxnSpPr/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65" name=""/>
          <p:cNvCxnSpPr>
            <a:stCxn id="251" idx="7"/>
            <a:endCxn id="247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66" name=""/>
          <p:cNvCxnSpPr/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48F0-2C18-4502-ABCF-1404DCD20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Topological Sort:  DFS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1295280"/>
            <a:ext cx="1160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A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fs(D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465300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374840" y="1066680"/>
            <a:ext cx="301680" cy="303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215892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69" idx="0"/>
            <a:endCxn id="270" idx="4"/>
          </p:cNvCxnSpPr>
          <p:nvPr/>
        </p:nvCxnSpPr>
        <p:spPr>
          <a:xfrm flipV="1">
            <a:off x="1522080" y="1369440"/>
            <a:ext cx="3960" cy="328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sp>
        <p:nvSpPr>
          <p:cNvPr id="273" name=""/>
          <p:cNvSpPr/>
          <p:nvPr/>
        </p:nvSpPr>
        <p:spPr>
          <a:xfrm>
            <a:off x="3645000" y="2616120"/>
            <a:ext cx="301680" cy="30024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5"/>
            <a:endCxn id="273" idx="1"/>
          </p:cNvCxnSpPr>
          <p:nvPr/>
        </p:nvCxnSpPr>
        <p:spPr>
          <a:xfrm>
            <a:off x="1631520" y="1325160"/>
            <a:ext cx="2057760" cy="133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5" name=""/>
          <p:cNvSpPr/>
          <p:nvPr/>
        </p:nvSpPr>
        <p:spPr>
          <a:xfrm>
            <a:off x="4870440" y="261612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6" name=""/>
          <p:cNvCxnSpPr>
            <a:stCxn id="270" idx="6"/>
            <a:endCxn id="275" idx="1"/>
          </p:cNvCxnSpPr>
          <p:nvPr/>
        </p:nvCxnSpPr>
        <p:spPr>
          <a:xfrm>
            <a:off x="1676520" y="1219320"/>
            <a:ext cx="323928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7" name=""/>
          <p:cNvSpPr/>
          <p:nvPr/>
        </p:nvSpPr>
        <p:spPr>
          <a:xfrm>
            <a:off x="2158920" y="3603600"/>
            <a:ext cx="301680" cy="301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3645000" y="3603600"/>
            <a:ext cx="301680" cy="29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9" name=""/>
          <p:cNvCxnSpPr>
            <a:stCxn id="270" idx="4"/>
            <a:endCxn id="271" idx="1"/>
          </p:cNvCxnSpPr>
          <p:nvPr/>
        </p:nvCxnSpPr>
        <p:spPr>
          <a:xfrm>
            <a:off x="1525320" y="1369800"/>
            <a:ext cx="678600" cy="129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80" name=""/>
          <p:cNvCxnSpPr>
            <a:stCxn id="278" idx="2"/>
            <a:endCxn id="277" idx="6"/>
          </p:cNvCxnSpPr>
          <p:nvPr/>
        </p:nvCxnSpPr>
        <p:spPr>
          <a:xfrm flipH="1">
            <a:off x="2460240" y="3753000"/>
            <a:ext cx="1185120" cy="216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cxnSp>
        <p:nvCxnSpPr>
          <p:cNvPr id="281" name=""/>
          <p:cNvCxnSpPr>
            <a:stCxn id="278" idx="3"/>
            <a:endCxn id="269" idx="6"/>
          </p:cNvCxnSpPr>
          <p:nvPr/>
        </p:nvCxnSpPr>
        <p:spPr>
          <a:xfrm flipH="1">
            <a:off x="1672920" y="3857760"/>
            <a:ext cx="2016720" cy="94680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sm" type="triangle" w="sm"/>
          </a:ln>
        </p:spPr>
      </p:cxnSp>
      <p:cxnSp>
        <p:nvCxnSpPr>
          <p:cNvPr id="282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3" name=""/>
          <p:cNvCxnSpPr>
            <a:stCxn id="278" idx="7"/>
            <a:endCxn id="275" idx="3"/>
          </p:cNvCxnSpPr>
          <p:nvPr/>
        </p:nvCxnSpPr>
        <p:spPr>
          <a:xfrm flipV="1">
            <a:off x="3902040" y="2873160"/>
            <a:ext cx="101376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84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5" name=""/>
          <p:cNvSpPr/>
          <p:nvPr/>
        </p:nvSpPr>
        <p:spPr>
          <a:xfrm>
            <a:off x="2590920" y="5181480"/>
            <a:ext cx="301680" cy="301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7777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6" name=""/>
          <p:cNvCxnSpPr>
            <a:stCxn id="285" idx="2"/>
            <a:endCxn id="269" idx="5"/>
          </p:cNvCxnSpPr>
          <p:nvPr/>
        </p:nvCxnSpPr>
        <p:spPr>
          <a:xfrm flipH="1" flipV="1">
            <a:off x="1627920" y="4909320"/>
            <a:ext cx="963000" cy="423000"/>
          </a:xfrm>
          <a:prstGeom prst="straightConnector1">
            <a:avLst/>
          </a:prstGeom>
          <a:ln w="9360">
            <a:solidFill>
              <a:srgbClr val="c0c0c0"/>
            </a:solidFill>
            <a:miter/>
            <a:headEnd len="sm" type="triangle" w="sm"/>
          </a:ln>
        </p:spPr>
      </p:cxnSp>
      <p:sp>
        <p:nvSpPr>
          <p:cNvPr id="287" name=""/>
          <p:cNvSpPr/>
          <p:nvPr/>
        </p:nvSpPr>
        <p:spPr>
          <a:xfrm>
            <a:off x="2590560" y="552600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1355400" y="50133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3641400" y="393696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Courier Ne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0" name=""/>
          <p:cNvCxnSpPr>
            <a:stCxn id="269" idx="7"/>
            <a:endCxn id="277" idx="3"/>
          </p:cNvCxnSpPr>
          <p:nvPr/>
        </p:nvCxnSpPr>
        <p:spPr>
          <a:xfrm flipV="1">
            <a:off x="1628280" y="3860280"/>
            <a:ext cx="575640" cy="83736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cxnSp>
        <p:nvCxnSpPr>
          <p:cNvPr id="291" name=""/>
          <p:cNvCxnSpPr/>
          <p:nvPr/>
        </p:nvCxnSpPr>
        <p:spPr>
          <a:xfrm flipV="1">
            <a:off x="3795480" y="2915640"/>
            <a:ext cx="10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triangle" w="sm"/>
          </a:ln>
        </p:spPr>
      </p:cxnSp>
      <p:cxnSp>
        <p:nvCxnSpPr>
          <p:cNvPr id="292" name=""/>
          <p:cNvCxnSpPr>
            <a:stCxn id="277" idx="7"/>
            <a:endCxn id="273" idx="3"/>
          </p:cNvCxnSpPr>
          <p:nvPr/>
        </p:nvCxnSpPr>
        <p:spPr>
          <a:xfrm flipV="1">
            <a:off x="2416320" y="2871000"/>
            <a:ext cx="1273680" cy="777240"/>
          </a:xfrm>
          <a:prstGeom prst="straightConnector1">
            <a:avLst/>
          </a:prstGeom>
          <a:ln w="50760">
            <a:solidFill>
              <a:srgbClr val="777777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A87D2-4E68-49BA-BB14-E0F5E0748A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2-01T17:33:21Z</dcterms:modified>
  <cp:revision>608</cp:revision>
  <dc:subject/>
  <dc:title>Trees</dc:title>
</cp:coreProperties>
</file>