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F307-AAD6-4F3A-A439-0287C8B5B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E6DC-C748-4EED-B5C7-F8599889E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7B28-AE4B-4C65-9085-1B8DFBD42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E39A-E949-4846-9707-0370B8170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92A8-CB0E-4A2C-ACF8-10858C04F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238B-E527-4CB1-B58D-011B237DF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D5BB-DEB3-475D-AC4E-480DC9157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B1DE-A9F5-4E83-997D-CD3805E57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6FF2-DD52-4321-83CB-E0AD9666B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D6EC-BD5D-41F2-889C-8ED129B76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7A93-0B61-4DB1-9900-ED2B8E089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C282-17A1-4327-85A7-1582A7B56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C299-9064-471F-AC8C-981B70B694FA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" name=""/>
          <p:cNvCxnSpPr>
            <a:stCxn id="79" idx="0"/>
            <a:endCxn id="80" idx="4"/>
          </p:cNvCxnSpPr>
          <p:nvPr/>
        </p:nvCxnSpPr>
        <p:spPr>
          <a:xfrm flipV="1">
            <a:off x="1522440" y="1370160"/>
            <a:ext cx="3600" cy="32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80" idx="5"/>
            <a:endCxn id="83" idx="1"/>
          </p:cNvCxnSpPr>
          <p:nvPr/>
        </p:nvCxnSpPr>
        <p:spPr>
          <a:xfrm>
            <a:off x="1632600" y="1325880"/>
            <a:ext cx="205668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" name=""/>
          <p:cNvCxnSpPr>
            <a:stCxn id="80" idx="6"/>
            <a:endCxn id="85" idx="1"/>
          </p:cNvCxnSpPr>
          <p:nvPr/>
        </p:nvCxnSpPr>
        <p:spPr>
          <a:xfrm>
            <a:off x="1676520" y="1218600"/>
            <a:ext cx="3238200" cy="14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0" idx="4"/>
            <a:endCxn id="81" idx="1"/>
          </p:cNvCxnSpPr>
          <p:nvPr/>
        </p:nvCxnSpPr>
        <p:spPr>
          <a:xfrm>
            <a:off x="1525680" y="1370160"/>
            <a:ext cx="677520" cy="129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0" name=""/>
          <p:cNvCxnSpPr>
            <a:stCxn id="88" idx="2"/>
            <a:endCxn id="87" idx="6"/>
          </p:cNvCxnSpPr>
          <p:nvPr/>
        </p:nvCxnSpPr>
        <p:spPr>
          <a:xfrm flipH="1">
            <a:off x="2460600" y="3753000"/>
            <a:ext cx="11847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1" name=""/>
          <p:cNvCxnSpPr>
            <a:stCxn id="88" idx="3"/>
            <a:endCxn id="79" idx="6"/>
          </p:cNvCxnSpPr>
          <p:nvPr/>
        </p:nvCxnSpPr>
        <p:spPr>
          <a:xfrm flipH="1">
            <a:off x="1673280" y="3858480"/>
            <a:ext cx="2016000" cy="94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2" name=""/>
          <p:cNvCxnSpPr>
            <a:stCxn id="79" idx="7"/>
            <a:endCxn id="87" idx="3"/>
          </p:cNvCxnSpPr>
          <p:nvPr/>
        </p:nvCxnSpPr>
        <p:spPr>
          <a:xfrm flipV="1">
            <a:off x="1629360" y="3861360"/>
            <a:ext cx="5738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3" name=""/>
          <p:cNvCxnSpPr>
            <a:stCxn id="88" idx="7"/>
            <a:endCxn id="85" idx="3"/>
          </p:cNvCxnSpPr>
          <p:nvPr/>
        </p:nvCxnSpPr>
        <p:spPr>
          <a:xfrm flipV="1">
            <a:off x="3902760" y="2873880"/>
            <a:ext cx="101196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4" name=""/>
          <p:cNvCxnSpPr>
            <a:stCxn id="87" idx="7"/>
            <a:endCxn id="83" idx="3"/>
          </p:cNvCxnSpPr>
          <p:nvPr/>
        </p:nvCxnSpPr>
        <p:spPr>
          <a:xfrm flipV="1">
            <a:off x="2416680" y="2872440"/>
            <a:ext cx="127260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" name=""/>
          <p:cNvCxnSpPr>
            <a:stCxn id="95" idx="2"/>
            <a:endCxn id="79" idx="5"/>
          </p:cNvCxnSpPr>
          <p:nvPr/>
        </p:nvCxnSpPr>
        <p:spPr>
          <a:xfrm flipH="1" flipV="1">
            <a:off x="1629360" y="4910760"/>
            <a:ext cx="961920" cy="42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2BC6-A835-4E2F-9EC7-8A322D2370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0"/>
            <a:endCxn id="2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0" name=""/>
          <p:cNvCxnSpPr>
            <a:stCxn id="296" idx="5"/>
            <a:endCxn id="2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6"/>
            <a:endCxn id="3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6" idx="4"/>
            <a:endCxn id="2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6" name=""/>
          <p:cNvCxnSpPr>
            <a:stCxn id="304" idx="2"/>
            <a:endCxn id="3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7" name=""/>
          <p:cNvCxnSpPr>
            <a:stCxn id="304" idx="3"/>
            <a:endCxn id="2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08" name=""/>
          <p:cNvCxnSpPr>
            <a:stCxn id="295" idx="7"/>
            <a:endCxn id="3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9" name=""/>
          <p:cNvCxnSpPr>
            <a:stCxn id="304" idx="7"/>
            <a:endCxn id="3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0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2" name=""/>
          <p:cNvCxnSpPr>
            <a:stCxn id="311" idx="2"/>
            <a:endCxn id="2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7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E589-281A-4B92-8284-4F9C51FE6E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3" name=""/>
          <p:cNvCxnSpPr>
            <a:stCxn id="320" idx="0"/>
            <a:endCxn id="3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" name=""/>
          <p:cNvCxnSpPr>
            <a:stCxn id="321" idx="5"/>
            <a:endCxn id="3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1" idx="6"/>
            <a:endCxn id="3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stCxn id="321" idx="4"/>
            <a:endCxn id="3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9" idx="2"/>
            <a:endCxn id="3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2" name=""/>
          <p:cNvCxnSpPr>
            <a:stCxn id="329" idx="3"/>
            <a:endCxn id="3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0" idx="7"/>
            <a:endCxn id="3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4" name=""/>
          <p:cNvCxnSpPr>
            <a:stCxn id="329" idx="7"/>
            <a:endCxn id="3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35" name=""/>
          <p:cNvCxnSpPr>
            <a:stCxn id="328" idx="7"/>
            <a:endCxn id="3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6" idx="2"/>
            <a:endCxn id="3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43" name=""/>
          <p:cNvCxnSpPr>
            <a:stCxn id="329" idx="0"/>
            <a:endCxn id="324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264B-AE9B-480A-9E8B-492A7599B6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0"/>
            <a:endCxn id="347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50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1" name=""/>
          <p:cNvCxnSpPr>
            <a:stCxn id="347" idx="5"/>
            <a:endCxn id="350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2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6"/>
            <a:endCxn id="352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4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47" idx="4"/>
            <a:endCxn id="348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57" name=""/>
          <p:cNvCxnSpPr>
            <a:stCxn id="355" idx="2"/>
            <a:endCxn id="354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58" name=""/>
          <p:cNvCxnSpPr>
            <a:stCxn id="355" idx="3"/>
            <a:endCxn id="346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59" name=""/>
          <p:cNvCxnSpPr>
            <a:stCxn id="346" idx="7"/>
            <a:endCxn id="354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60" name=""/>
          <p:cNvCxnSpPr>
            <a:stCxn id="355" idx="7"/>
            <a:endCxn id="352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61" name=""/>
          <p:cNvCxnSpPr>
            <a:stCxn id="354" idx="7"/>
            <a:endCxn id="350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3" name=""/>
          <p:cNvCxnSpPr>
            <a:stCxn id="362" idx="2"/>
            <a:endCxn id="346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4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8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415C-748B-44B9-BCCD-3FC129ED4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3" name=""/>
          <p:cNvCxnSpPr>
            <a:stCxn id="370" idx="0"/>
            <a:endCxn id="37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7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5" name=""/>
          <p:cNvCxnSpPr>
            <a:stCxn id="371" idx="5"/>
            <a:endCxn id="37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7" name=""/>
          <p:cNvCxnSpPr>
            <a:stCxn id="371" idx="6"/>
            <a:endCxn id="37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1" idx="4"/>
            <a:endCxn id="37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81" name=""/>
          <p:cNvCxnSpPr>
            <a:stCxn id="379" idx="2"/>
            <a:endCxn id="37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2" name=""/>
          <p:cNvCxnSpPr>
            <a:stCxn id="379" idx="3"/>
            <a:endCxn id="37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83" name=""/>
          <p:cNvCxnSpPr>
            <a:stCxn id="370" idx="7"/>
            <a:endCxn id="37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4" name=""/>
          <p:cNvCxnSpPr>
            <a:stCxn id="379" idx="7"/>
            <a:endCxn id="37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85" name=""/>
          <p:cNvCxnSpPr>
            <a:stCxn id="378" idx="7"/>
            <a:endCxn id="37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2"/>
            <a:endCxn id="37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9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1C16-FDA8-421A-9658-B36F2CFF12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5" idx="0"/>
            <a:endCxn id="3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"/>
          <p:cNvCxnSpPr>
            <a:stCxn id="396" idx="5"/>
            <a:endCxn id="3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2" name=""/>
          <p:cNvCxnSpPr>
            <a:stCxn id="396" idx="6"/>
            <a:endCxn id="4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396" idx="4"/>
            <a:endCxn id="3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06" name=""/>
          <p:cNvCxnSpPr>
            <a:stCxn id="404" idx="2"/>
            <a:endCxn id="4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7" name=""/>
          <p:cNvCxnSpPr>
            <a:stCxn id="404" idx="3"/>
            <a:endCxn id="3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08" name=""/>
          <p:cNvCxnSpPr>
            <a:stCxn id="395" idx="7"/>
            <a:endCxn id="4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9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410" name=""/>
          <p:cNvCxnSpPr>
            <a:stCxn id="403" idx="7"/>
            <a:endCxn id="3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3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6F39-9971-4EC1-95DA-E24F7DFE6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2" idx="0"/>
            <a:endCxn id="4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7" name=""/>
          <p:cNvCxnSpPr>
            <a:stCxn id="423" idx="5"/>
            <a:endCxn id="4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9" name=""/>
          <p:cNvCxnSpPr>
            <a:stCxn id="423" idx="6"/>
            <a:endCxn id="4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23" idx="4"/>
            <a:endCxn id="4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31" idx="2"/>
            <a:endCxn id="4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4" name=""/>
          <p:cNvCxnSpPr>
            <a:stCxn id="431" idx="3"/>
            <a:endCxn id="4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35" name=""/>
          <p:cNvCxnSpPr>
            <a:stCxn id="422" idx="7"/>
            <a:endCxn id="4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6" name=""/>
          <p:cNvCxnSpPr>
            <a:stCxn id="431" idx="7"/>
            <a:endCxn id="4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7" name=""/>
          <p:cNvCxnSpPr>
            <a:stCxn id="430" idx="7"/>
            <a:endCxn id="4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8" idx="2"/>
            <a:endCxn id="4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4B6B-0938-48D2-A029-9EFC1A095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1" name=""/>
          <p:cNvCxnSpPr>
            <a:stCxn id="448" idx="0"/>
            <a:endCxn id="449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52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5"/>
            <a:endCxn id="452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4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49" idx="6"/>
            <a:endCxn id="454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6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49" idx="4"/>
            <a:endCxn id="450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57" idx="2"/>
            <a:endCxn id="456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0" name=""/>
          <p:cNvCxnSpPr>
            <a:stCxn id="457" idx="3"/>
            <a:endCxn id="448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48" idx="7"/>
            <a:endCxn id="456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2" name=""/>
          <p:cNvCxnSpPr>
            <a:stCxn id="457" idx="7"/>
            <a:endCxn id="454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3" name=""/>
          <p:cNvCxnSpPr>
            <a:stCxn id="456" idx="7"/>
            <a:endCxn id="452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4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4" idx="2"/>
            <a:endCxn id="448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6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7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54C9-10CA-4FA0-8CD5-CF45B0EC3A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8" name=""/>
          <p:cNvCxnSpPr>
            <a:stCxn id="475" idx="0"/>
            <a:endCxn id="47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7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0" name=""/>
          <p:cNvCxnSpPr>
            <a:stCxn id="476" idx="5"/>
            <a:endCxn id="47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2" name=""/>
          <p:cNvCxnSpPr>
            <a:stCxn id="476" idx="6"/>
            <a:endCxn id="48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76" idx="4"/>
            <a:endCxn id="47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86" name=""/>
          <p:cNvCxnSpPr>
            <a:stCxn id="484" idx="2"/>
            <a:endCxn id="48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7" name=""/>
          <p:cNvCxnSpPr>
            <a:stCxn id="484" idx="3"/>
            <a:endCxn id="47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88" name=""/>
          <p:cNvCxnSpPr>
            <a:stCxn id="475" idx="7"/>
            <a:endCxn id="48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9" name=""/>
          <p:cNvCxnSpPr>
            <a:stCxn id="484" idx="7"/>
            <a:endCxn id="48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90" name=""/>
          <p:cNvCxnSpPr>
            <a:stCxn id="483" idx="7"/>
            <a:endCxn id="47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2" name=""/>
          <p:cNvCxnSpPr>
            <a:stCxn id="491" idx="2"/>
            <a:endCxn id="47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479" idx="1"/>
            <a:endCxn id="476" idx="5"/>
          </p:cNvCxnSpPr>
          <p:nvPr/>
        </p:nvCxnSpPr>
        <p:spPr>
          <a:xfrm flipH="1" flipV="1">
            <a:off x="1631520" y="1324800"/>
            <a:ext cx="2057760" cy="1335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7617-E5DB-4A36-B33A-99775C97F8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stCxn id="504" idx="0"/>
            <a:endCxn id="50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0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5" idx="5"/>
            <a:endCxn id="50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1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1" name=""/>
          <p:cNvCxnSpPr>
            <a:stCxn id="505" idx="6"/>
            <a:endCxn id="51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4" name=""/>
          <p:cNvCxnSpPr>
            <a:stCxn id="505" idx="4"/>
            <a:endCxn id="50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15" name=""/>
          <p:cNvCxnSpPr>
            <a:stCxn id="513" idx="2"/>
            <a:endCxn id="51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6" name=""/>
          <p:cNvCxnSpPr>
            <a:stCxn id="513" idx="3"/>
            <a:endCxn id="50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17" name=""/>
          <p:cNvCxnSpPr>
            <a:stCxn id="504" idx="7"/>
            <a:endCxn id="51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8" name=""/>
          <p:cNvCxnSpPr>
            <a:stCxn id="513" idx="7"/>
            <a:endCxn id="51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9" name=""/>
          <p:cNvCxnSpPr>
            <a:stCxn id="512" idx="7"/>
            <a:endCxn id="50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2"/>
            <a:endCxn id="50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2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6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10" idx="1"/>
            <a:endCxn id="505" idx="6"/>
          </p:cNvCxnSpPr>
          <p:nvPr/>
        </p:nvCxnSpPr>
        <p:spPr>
          <a:xfrm flipH="1" flipV="1">
            <a:off x="1676160" y="1218960"/>
            <a:ext cx="3239280" cy="144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A924-C063-474D-809D-3AC4011DCA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3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8" name=""/>
          <p:cNvCxnSpPr>
            <a:stCxn id="534" idx="5"/>
            <a:endCxn id="53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3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4" idx="6"/>
            <a:endCxn id="53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4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3" name=""/>
          <p:cNvCxnSpPr>
            <a:stCxn id="534" idx="4"/>
            <a:endCxn id="535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4" name=""/>
          <p:cNvCxnSpPr>
            <a:stCxn id="542" idx="2"/>
            <a:endCxn id="541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5" name=""/>
          <p:cNvCxnSpPr>
            <a:stCxn id="542" idx="3"/>
            <a:endCxn id="533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46" name=""/>
          <p:cNvCxnSpPr>
            <a:stCxn id="533" idx="7"/>
            <a:endCxn id="54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7" name=""/>
          <p:cNvCxnSpPr>
            <a:stCxn id="542" idx="7"/>
            <a:endCxn id="53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8" name=""/>
          <p:cNvCxnSpPr>
            <a:stCxn id="541" idx="7"/>
            <a:endCxn id="53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4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0" name=""/>
          <p:cNvCxnSpPr>
            <a:stCxn id="549" idx="2"/>
            <a:endCxn id="533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125D-7147-48F3-A07F-0C72F13E5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99" idx="0"/>
            <a:endCxn id="10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100" idx="5"/>
            <a:endCxn id="10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" name=""/>
          <p:cNvCxnSpPr>
            <a:stCxn id="100" idx="6"/>
            <a:endCxn id="10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0" idx="4"/>
            <a:endCxn id="10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08" idx="2"/>
            <a:endCxn id="10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1" name=""/>
          <p:cNvCxnSpPr>
            <a:stCxn id="108" idx="3"/>
            <a:endCxn id="9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>
            <a:stCxn id="99" idx="7"/>
            <a:endCxn id="10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3" name=""/>
          <p:cNvCxnSpPr>
            <a:stCxn id="108" idx="7"/>
            <a:endCxn id="10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4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" name=""/>
          <p:cNvCxnSpPr>
            <a:stCxn id="115" idx="2"/>
            <a:endCxn id="9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19" name=""/>
          <p:cNvCxnSpPr>
            <a:stCxn id="108" idx="0"/>
            <a:endCxn id="103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F86E-A9EF-41B3-A067-81EACDA62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2" idx="0"/>
            <a:endCxn id="56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6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3" idx="5"/>
            <a:endCxn id="56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6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3" idx="6"/>
            <a:endCxn id="56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7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63" idx="4"/>
            <a:endCxn id="56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3" name=""/>
          <p:cNvCxnSpPr>
            <a:stCxn id="571" idx="2"/>
            <a:endCxn id="57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4" name=""/>
          <p:cNvCxnSpPr>
            <a:stCxn id="571" idx="3"/>
            <a:endCxn id="56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75" name=""/>
          <p:cNvCxnSpPr>
            <a:stCxn id="562" idx="7"/>
            <a:endCxn id="57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6" name=""/>
          <p:cNvCxnSpPr>
            <a:stCxn id="571" idx="7"/>
            <a:endCxn id="56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7" name=""/>
          <p:cNvCxnSpPr>
            <a:stCxn id="570" idx="7"/>
            <a:endCxn id="56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7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9" name=""/>
          <p:cNvCxnSpPr>
            <a:stCxn id="578" idx="2"/>
            <a:endCxn id="56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8" name=""/>
          <p:cNvCxnSpPr>
            <a:stCxn id="564" idx="1"/>
            <a:endCxn id="563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DB7A-C180-4A6A-9C33-B6FFF284AE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91" idx="0"/>
            <a:endCxn id="592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95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6" name=""/>
          <p:cNvCxnSpPr>
            <a:stCxn id="592" idx="5"/>
            <a:endCxn id="595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7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8" name=""/>
          <p:cNvCxnSpPr>
            <a:stCxn id="592" idx="6"/>
            <a:endCxn id="597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9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2" idx="4"/>
            <a:endCxn id="593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600" idx="2"/>
            <a:endCxn id="599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3" name=""/>
          <p:cNvCxnSpPr>
            <a:stCxn id="600" idx="3"/>
            <a:endCxn id="591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4" name=""/>
          <p:cNvCxnSpPr>
            <a:stCxn id="591" idx="7"/>
            <a:endCxn id="599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5" name=""/>
          <p:cNvCxnSpPr>
            <a:stCxn id="600" idx="7"/>
            <a:endCxn id="597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6" name=""/>
          <p:cNvCxnSpPr>
            <a:stCxn id="599" idx="7"/>
            <a:endCxn id="595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8" name=""/>
          <p:cNvCxnSpPr>
            <a:stCxn id="607" idx="2"/>
            <a:endCxn id="591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13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8" name=""/>
          <p:cNvCxnSpPr>
            <a:stCxn id="593" idx="1"/>
            <a:endCxn id="592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3F36-60B3-49A4-A6C7-D18DE3EF62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3" name=""/>
          <p:cNvCxnSpPr>
            <a:stCxn id="620" idx="0"/>
            <a:endCxn id="6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5" name=""/>
          <p:cNvCxnSpPr>
            <a:stCxn id="621" idx="5"/>
            <a:endCxn id="6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1" idx="6"/>
            <a:endCxn id="6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0" name=""/>
          <p:cNvCxnSpPr>
            <a:stCxn id="621" idx="4"/>
            <a:endCxn id="6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1" name=""/>
          <p:cNvCxnSpPr>
            <a:stCxn id="629" idx="2"/>
            <a:endCxn id="6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2" name=""/>
          <p:cNvCxnSpPr>
            <a:stCxn id="629" idx="3"/>
            <a:endCxn id="6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3" name=""/>
          <p:cNvCxnSpPr>
            <a:stCxn id="620" idx="7"/>
            <a:endCxn id="6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4" name=""/>
          <p:cNvCxnSpPr>
            <a:stCxn id="629" idx="7"/>
            <a:endCxn id="6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5" name=""/>
          <p:cNvCxnSpPr>
            <a:stCxn id="628" idx="7"/>
            <a:endCxn id="6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7" name=""/>
          <p:cNvCxnSpPr>
            <a:stCxn id="636" idx="2"/>
            <a:endCxn id="6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4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4340-F158-4044-AE9A-A5AE71CB14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2" name=""/>
          <p:cNvCxnSpPr>
            <a:stCxn id="649" idx="0"/>
            <a:endCxn id="65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5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5"/>
            <a:endCxn id="65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6" name=""/>
          <p:cNvCxnSpPr>
            <a:stCxn id="650" idx="6"/>
            <a:endCxn id="65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9" name=""/>
          <p:cNvCxnSpPr>
            <a:stCxn id="650" idx="4"/>
            <a:endCxn id="65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0" name=""/>
          <p:cNvCxnSpPr>
            <a:stCxn id="658" idx="2"/>
            <a:endCxn id="65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1" name=""/>
          <p:cNvCxnSpPr>
            <a:stCxn id="658" idx="3"/>
            <a:endCxn id="64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2" name=""/>
          <p:cNvCxnSpPr>
            <a:stCxn id="649" idx="7"/>
            <a:endCxn id="65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3" name=""/>
          <p:cNvCxnSpPr>
            <a:stCxn id="658" idx="7"/>
            <a:endCxn id="65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4" name=""/>
          <p:cNvCxnSpPr>
            <a:stCxn id="657" idx="7"/>
            <a:endCxn id="65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6" name=""/>
          <p:cNvCxnSpPr>
            <a:stCxn id="665" idx="2"/>
            <a:endCxn id="64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7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D5CB-1134-4C7B-A293-36E501CBE8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2" name=""/>
          <p:cNvCxnSpPr>
            <a:stCxn id="679" idx="0"/>
            <a:endCxn id="68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4" name=""/>
          <p:cNvCxnSpPr>
            <a:stCxn id="680" idx="5"/>
            <a:endCxn id="68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6" name=""/>
          <p:cNvCxnSpPr>
            <a:stCxn id="680" idx="6"/>
            <a:endCxn id="68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9" name=""/>
          <p:cNvCxnSpPr>
            <a:stCxn id="680" idx="4"/>
            <a:endCxn id="68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0" name=""/>
          <p:cNvCxnSpPr>
            <a:stCxn id="688" idx="2"/>
            <a:endCxn id="68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1" name=""/>
          <p:cNvCxnSpPr>
            <a:stCxn id="688" idx="3"/>
            <a:endCxn id="67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2" name=""/>
          <p:cNvCxnSpPr>
            <a:stCxn id="679" idx="7"/>
            <a:endCxn id="68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3" name=""/>
          <p:cNvCxnSpPr>
            <a:stCxn id="688" idx="7"/>
            <a:endCxn id="68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4" name=""/>
          <p:cNvCxnSpPr>
            <a:stCxn id="687" idx="7"/>
            <a:endCxn id="68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6" name=""/>
          <p:cNvCxnSpPr>
            <a:stCxn id="695" idx="2"/>
            <a:endCxn id="67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70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785400" y="5969160"/>
            <a:ext cx="431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cal order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G B A D E F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20E7-7DE0-49DA-A204-F858D48DF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0"/>
            <a:endCxn id="1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3" idx="5"/>
            <a:endCxn id="1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3" idx="6"/>
            <a:endCxn id="1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" name=""/>
          <p:cNvCxnSpPr>
            <a:stCxn id="123" idx="4"/>
            <a:endCxn id="1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4" name=""/>
          <p:cNvCxnSpPr>
            <a:stCxn id="131" idx="3"/>
            <a:endCxn id="1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122" idx="7"/>
            <a:endCxn id="1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6" name=""/>
          <p:cNvCxnSpPr>
            <a:stCxn id="131" idx="7"/>
            <a:endCxn id="1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7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8" idx="2"/>
            <a:endCxn id="1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0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2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E007-E11E-4F5D-9CBE-A7A2C42584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"/>
          <p:cNvCxnSpPr>
            <a:stCxn id="145" idx="0"/>
            <a:endCxn id="14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0" name=""/>
          <p:cNvCxnSpPr>
            <a:stCxn id="146" idx="5"/>
            <a:endCxn id="14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" name=""/>
          <p:cNvCxnSpPr>
            <a:stCxn id="146" idx="6"/>
            <a:endCxn id="15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"/>
          <p:cNvCxnSpPr>
            <a:stCxn id="146" idx="4"/>
            <a:endCxn id="14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57" name=""/>
          <p:cNvCxnSpPr>
            <a:stCxn id="154" idx="3"/>
            <a:endCxn id="14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5" idx="7"/>
            <a:endCxn id="15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59" name=""/>
          <p:cNvCxnSpPr>
            <a:stCxn id="154" idx="7"/>
            <a:endCxn id="15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0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" name=""/>
          <p:cNvCxnSpPr>
            <a:stCxn id="161" idx="2"/>
            <a:endCxn id="14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3" name=""/>
          <p:cNvCxnSpPr>
            <a:stCxn id="145" idx="6"/>
            <a:endCxn id="154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5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598A-9069-49BF-A8B9-E9B759434D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0"/>
            <a:endCxn id="1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70" idx="5"/>
            <a:endCxn id="1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0" idx="6"/>
            <a:endCxn id="1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0" idx="4"/>
            <a:endCxn id="1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81" name=""/>
          <p:cNvCxnSpPr>
            <a:stCxn id="178" idx="3"/>
            <a:endCxn id="1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169" idx="7"/>
            <a:endCxn id="1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3" name=""/>
          <p:cNvCxnSpPr>
            <a:stCxn id="178" idx="7"/>
            <a:endCxn id="1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4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6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7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9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1" name=""/>
          <p:cNvCxnSpPr>
            <a:stCxn id="169" idx="6"/>
            <a:endCxn id="178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677C-4793-4439-8BFB-A1CB5586E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095520" y="1295280"/>
            <a:ext cx="20138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H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195" idx="4"/>
            <a:endCxn id="19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06" name=""/>
          <p:cNvCxnSpPr>
            <a:stCxn id="203" idx="3"/>
            <a:endCxn id="19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07" name=""/>
          <p:cNvCxnSpPr>
            <a:stCxn id="194" idx="7"/>
            <a:endCxn id="20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8" name=""/>
          <p:cNvCxnSpPr>
            <a:stCxn id="203" idx="7"/>
            <a:endCxn id="20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9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1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1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13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stCxn id="194" idx="6"/>
            <a:endCxn id="203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6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5CA4-3FFC-48C1-B4B2-6AD4212DA7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9" idx="2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22" idx="0"/>
            <a:endCxn id="2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7" name=""/>
          <p:cNvCxnSpPr>
            <a:stCxn id="223" idx="5"/>
            <a:endCxn id="2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9" name=""/>
          <p:cNvCxnSpPr>
            <a:stCxn id="223" idx="6"/>
            <a:endCxn id="2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2" name=""/>
          <p:cNvCxnSpPr>
            <a:stCxn id="223" idx="4"/>
            <a:endCxn id="2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3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4" name=""/>
          <p:cNvCxnSpPr>
            <a:stCxn id="231" idx="3"/>
            <a:endCxn id="2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35" name=""/>
          <p:cNvCxnSpPr>
            <a:stCxn id="222" idx="7"/>
            <a:endCxn id="2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6" name=""/>
          <p:cNvCxnSpPr>
            <a:stCxn id="231" idx="7"/>
            <a:endCxn id="2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7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9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22" idx="6"/>
            <a:endCxn id="231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AB55-0744-4803-A4BE-D495D61FE5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6" name=""/>
          <p:cNvCxnSpPr>
            <a:stCxn id="244" idx="0"/>
            <a:endCxn id="24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4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8" name=""/>
          <p:cNvCxnSpPr>
            <a:stCxn id="245" idx="5"/>
            <a:endCxn id="24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5" idx="6"/>
            <a:endCxn id="24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3" name=""/>
          <p:cNvCxnSpPr>
            <a:stCxn id="245" idx="4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52" idx="3"/>
            <a:endCxn id="24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55" name=""/>
          <p:cNvCxnSpPr>
            <a:stCxn id="244" idx="7"/>
            <a:endCxn id="25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56" name=""/>
          <p:cNvCxnSpPr>
            <a:stCxn id="252" idx="7"/>
            <a:endCxn id="24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8" name=""/>
          <p:cNvCxnSpPr>
            <a:stCxn id="257" idx="2"/>
            <a:endCxn id="24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5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3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4" name=""/>
          <p:cNvCxnSpPr/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5" name=""/>
          <p:cNvCxnSpPr>
            <a:stCxn id="251" idx="7"/>
            <a:endCxn id="24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66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49A0-2FD5-4AEE-B98C-047481BF5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9" idx="0"/>
            <a:endCxn id="2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5"/>
            <a:endCxn id="2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"/>
          <p:cNvCxnSpPr>
            <a:stCxn id="270" idx="6"/>
            <a:endCxn id="2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0" idx="4"/>
            <a:endCxn id="2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0" name=""/>
          <p:cNvCxnSpPr>
            <a:stCxn id="278" idx="2"/>
            <a:endCxn id="2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81" name=""/>
          <p:cNvCxnSpPr>
            <a:stCxn id="278" idx="3"/>
            <a:endCxn id="2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82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3" name=""/>
          <p:cNvCxnSpPr>
            <a:stCxn id="278" idx="7"/>
            <a:endCxn id="2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4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6" name=""/>
          <p:cNvCxnSpPr>
            <a:stCxn id="285" idx="2"/>
            <a:endCxn id="2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0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92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5774-45F9-40BC-9D37-8CE5E7E866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2-01T17:33:21Z</dcterms:modified>
  <cp:revision>608</cp:revision>
  <dc:subject/>
  <dc:title>Trees</dc:title>
</cp:coreProperties>
</file>