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33BD-A977-4358-B62C-48DDB3EC8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F028-6AF9-4ABA-8BCE-A71614313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8BE8-1835-4019-B9FC-A257ECD6D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3776-CF88-4DE6-8B44-C9CBC9862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2367-31A6-4480-8741-4767A4D71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CF1A-8DBB-45DA-8334-67D0B0C6C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8D44-012B-41F7-A7B5-262D5C503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C39E-19E5-42DA-80DD-E0CFB5258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B7C4-79BE-46DB-A9FE-4F68A75A6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4A4D-82E3-49CF-A3F9-A734FEA98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1F2A-375B-465E-8717-59A912645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E618-1AE1-4512-9EEE-52CC8BC35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5826-1D80-4A20-B330-FCBF45FA6D4E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" name=""/>
          <p:cNvCxnSpPr>
            <a:stCxn id="79" idx="0"/>
            <a:endCxn id="80" idx="4"/>
          </p:cNvCxnSpPr>
          <p:nvPr/>
        </p:nvCxnSpPr>
        <p:spPr>
          <a:xfrm flipV="1">
            <a:off x="1522440" y="1370160"/>
            <a:ext cx="3600" cy="328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8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" name=""/>
          <p:cNvCxnSpPr>
            <a:stCxn id="80" idx="5"/>
            <a:endCxn id="83" idx="1"/>
          </p:cNvCxnSpPr>
          <p:nvPr/>
        </p:nvCxnSpPr>
        <p:spPr>
          <a:xfrm>
            <a:off x="1632600" y="1325880"/>
            <a:ext cx="2056680" cy="133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" name=""/>
          <p:cNvCxnSpPr>
            <a:stCxn id="80" idx="6"/>
            <a:endCxn id="85" idx="1"/>
          </p:cNvCxnSpPr>
          <p:nvPr/>
        </p:nvCxnSpPr>
        <p:spPr>
          <a:xfrm>
            <a:off x="1676520" y="1218600"/>
            <a:ext cx="3238200" cy="144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" name=""/>
          <p:cNvCxnSpPr>
            <a:stCxn id="80" idx="4"/>
            <a:endCxn id="81" idx="1"/>
          </p:cNvCxnSpPr>
          <p:nvPr/>
        </p:nvCxnSpPr>
        <p:spPr>
          <a:xfrm>
            <a:off x="1525680" y="1370160"/>
            <a:ext cx="677520" cy="129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0" name=""/>
          <p:cNvCxnSpPr>
            <a:stCxn id="88" idx="2"/>
            <a:endCxn id="87" idx="6"/>
          </p:cNvCxnSpPr>
          <p:nvPr/>
        </p:nvCxnSpPr>
        <p:spPr>
          <a:xfrm flipH="1">
            <a:off x="2460600" y="3753000"/>
            <a:ext cx="11847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1" name=""/>
          <p:cNvCxnSpPr>
            <a:stCxn id="88" idx="3"/>
            <a:endCxn id="79" idx="6"/>
          </p:cNvCxnSpPr>
          <p:nvPr/>
        </p:nvCxnSpPr>
        <p:spPr>
          <a:xfrm flipH="1">
            <a:off x="1673280" y="3858480"/>
            <a:ext cx="2016000" cy="94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2" name=""/>
          <p:cNvCxnSpPr>
            <a:stCxn id="79" idx="7"/>
            <a:endCxn id="87" idx="3"/>
          </p:cNvCxnSpPr>
          <p:nvPr/>
        </p:nvCxnSpPr>
        <p:spPr>
          <a:xfrm flipV="1">
            <a:off x="1629360" y="3861360"/>
            <a:ext cx="5738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3" name=""/>
          <p:cNvCxnSpPr>
            <a:stCxn id="88" idx="7"/>
            <a:endCxn id="85" idx="3"/>
          </p:cNvCxnSpPr>
          <p:nvPr/>
        </p:nvCxnSpPr>
        <p:spPr>
          <a:xfrm flipV="1">
            <a:off x="3902760" y="2873880"/>
            <a:ext cx="101196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4" name=""/>
          <p:cNvCxnSpPr>
            <a:stCxn id="87" idx="7"/>
            <a:endCxn id="83" idx="3"/>
          </p:cNvCxnSpPr>
          <p:nvPr/>
        </p:nvCxnSpPr>
        <p:spPr>
          <a:xfrm flipV="1">
            <a:off x="2416680" y="2872440"/>
            <a:ext cx="127260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9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6" name=""/>
          <p:cNvCxnSpPr>
            <a:stCxn id="95" idx="2"/>
            <a:endCxn id="79" idx="5"/>
          </p:cNvCxnSpPr>
          <p:nvPr/>
        </p:nvCxnSpPr>
        <p:spPr>
          <a:xfrm flipH="1" flipV="1">
            <a:off x="1629360" y="4910760"/>
            <a:ext cx="961920" cy="42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7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750D-45AC-4176-B0C3-8E6331B5CB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8" name=""/>
          <p:cNvCxnSpPr>
            <a:stCxn id="295" idx="0"/>
            <a:endCxn id="29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9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0" name=""/>
          <p:cNvCxnSpPr>
            <a:stCxn id="296" idx="5"/>
            <a:endCxn id="29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2" name=""/>
          <p:cNvCxnSpPr>
            <a:stCxn id="296" idx="6"/>
            <a:endCxn id="30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5" name=""/>
          <p:cNvCxnSpPr>
            <a:stCxn id="296" idx="4"/>
            <a:endCxn id="29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06" name=""/>
          <p:cNvCxnSpPr>
            <a:stCxn id="304" idx="2"/>
            <a:endCxn id="30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07" name=""/>
          <p:cNvCxnSpPr>
            <a:stCxn id="304" idx="3"/>
            <a:endCxn id="29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08" name=""/>
          <p:cNvCxnSpPr>
            <a:stCxn id="295" idx="7"/>
            <a:endCxn id="30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09" name=""/>
          <p:cNvCxnSpPr>
            <a:stCxn id="304" idx="7"/>
            <a:endCxn id="3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10" name=""/>
          <p:cNvCxnSpPr>
            <a:stCxn id="303" idx="7"/>
            <a:endCxn id="2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1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2" name=""/>
          <p:cNvCxnSpPr>
            <a:stCxn id="311" idx="2"/>
            <a:endCxn id="29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1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17" name=""/>
          <p:cNvCxnSpPr>
            <a:stCxn id="303" idx="7"/>
            <a:endCxn id="2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2360-1BAE-472C-B70B-9A25DC3C79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3" name=""/>
          <p:cNvCxnSpPr>
            <a:stCxn id="320" idx="0"/>
            <a:endCxn id="32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2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5" name=""/>
          <p:cNvCxnSpPr>
            <a:stCxn id="321" idx="5"/>
            <a:endCxn id="32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7" name=""/>
          <p:cNvCxnSpPr>
            <a:stCxn id="321" idx="6"/>
            <a:endCxn id="32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0" name=""/>
          <p:cNvCxnSpPr>
            <a:stCxn id="321" idx="4"/>
            <a:endCxn id="32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31" name=""/>
          <p:cNvCxnSpPr>
            <a:stCxn id="329" idx="2"/>
            <a:endCxn id="32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32" name=""/>
          <p:cNvCxnSpPr>
            <a:stCxn id="329" idx="3"/>
            <a:endCxn id="32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33" name=""/>
          <p:cNvCxnSpPr>
            <a:stCxn id="320" idx="7"/>
            <a:endCxn id="32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34" name=""/>
          <p:cNvCxnSpPr>
            <a:stCxn id="329" idx="7"/>
            <a:endCxn id="32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35" name=""/>
          <p:cNvCxnSpPr>
            <a:stCxn id="328" idx="7"/>
            <a:endCxn id="32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3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6" idx="2"/>
            <a:endCxn id="32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3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43" name=""/>
          <p:cNvCxnSpPr>
            <a:stCxn id="329" idx="0"/>
            <a:endCxn id="324" idx="4"/>
          </p:cNvCxnSpPr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0ED2-708E-4E0A-A1BC-DCAF56E17A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9" name=""/>
          <p:cNvCxnSpPr>
            <a:stCxn id="346" idx="0"/>
            <a:endCxn id="347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50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1" name=""/>
          <p:cNvCxnSpPr>
            <a:stCxn id="347" idx="5"/>
            <a:endCxn id="350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52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47" idx="6"/>
            <a:endCxn id="352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54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6" name=""/>
          <p:cNvCxnSpPr>
            <a:stCxn id="347" idx="4"/>
            <a:endCxn id="348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57" name=""/>
          <p:cNvCxnSpPr>
            <a:stCxn id="355" idx="2"/>
            <a:endCxn id="354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58" name=""/>
          <p:cNvCxnSpPr>
            <a:stCxn id="355" idx="3"/>
            <a:endCxn id="346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59" name=""/>
          <p:cNvCxnSpPr>
            <a:stCxn id="346" idx="7"/>
            <a:endCxn id="354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60" name=""/>
          <p:cNvCxnSpPr>
            <a:stCxn id="355" idx="7"/>
            <a:endCxn id="352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61" name=""/>
          <p:cNvCxnSpPr>
            <a:stCxn id="354" idx="7"/>
            <a:endCxn id="350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2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3" name=""/>
          <p:cNvCxnSpPr>
            <a:stCxn id="362" idx="2"/>
            <a:endCxn id="346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4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7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8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BE17-BBC5-4261-B403-51F3DA6A17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3" name=""/>
          <p:cNvCxnSpPr>
            <a:stCxn id="370" idx="0"/>
            <a:endCxn id="37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7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5" name=""/>
          <p:cNvCxnSpPr>
            <a:stCxn id="371" idx="5"/>
            <a:endCxn id="37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7" name=""/>
          <p:cNvCxnSpPr>
            <a:stCxn id="371" idx="6"/>
            <a:endCxn id="37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0" name=""/>
          <p:cNvCxnSpPr>
            <a:stCxn id="371" idx="4"/>
            <a:endCxn id="37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81" name=""/>
          <p:cNvCxnSpPr>
            <a:stCxn id="379" idx="2"/>
            <a:endCxn id="37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82" name=""/>
          <p:cNvCxnSpPr>
            <a:stCxn id="379" idx="3"/>
            <a:endCxn id="37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83" name=""/>
          <p:cNvCxnSpPr>
            <a:stCxn id="370" idx="7"/>
            <a:endCxn id="37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84" name=""/>
          <p:cNvCxnSpPr>
            <a:stCxn id="379" idx="7"/>
            <a:endCxn id="37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85" name=""/>
          <p:cNvCxnSpPr>
            <a:stCxn id="378" idx="7"/>
            <a:endCxn id="37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8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7" name=""/>
          <p:cNvCxnSpPr>
            <a:stCxn id="386" idx="2"/>
            <a:endCxn id="37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8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92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1670-D7B2-417D-8B3B-2B13298AF8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8" name=""/>
          <p:cNvCxnSpPr>
            <a:stCxn id="395" idx="0"/>
            <a:endCxn id="39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9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0" name=""/>
          <p:cNvCxnSpPr>
            <a:stCxn id="396" idx="5"/>
            <a:endCxn id="39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0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2" name=""/>
          <p:cNvCxnSpPr>
            <a:stCxn id="396" idx="6"/>
            <a:endCxn id="40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0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5" name=""/>
          <p:cNvCxnSpPr>
            <a:stCxn id="396" idx="4"/>
            <a:endCxn id="39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06" name=""/>
          <p:cNvCxnSpPr>
            <a:stCxn id="404" idx="2"/>
            <a:endCxn id="40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07" name=""/>
          <p:cNvCxnSpPr>
            <a:stCxn id="404" idx="3"/>
            <a:endCxn id="39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08" name=""/>
          <p:cNvCxnSpPr>
            <a:stCxn id="395" idx="7"/>
            <a:endCxn id="40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09" name=""/>
          <p:cNvCxnSpPr>
            <a:stCxn id="404" idx="7"/>
            <a:endCxn id="4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410" name=""/>
          <p:cNvCxnSpPr>
            <a:stCxn id="403" idx="7"/>
            <a:endCxn id="3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2" name=""/>
          <p:cNvCxnSpPr>
            <a:stCxn id="411" idx="2"/>
            <a:endCxn id="39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7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0" name=""/>
          <p:cNvCxnSpPr>
            <a:stCxn id="404" idx="7"/>
            <a:endCxn id="4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044D-93E9-4D78-8793-583403E1C9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5" name=""/>
          <p:cNvCxnSpPr>
            <a:stCxn id="422" idx="0"/>
            <a:endCxn id="4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7" name=""/>
          <p:cNvCxnSpPr>
            <a:stCxn id="423" idx="5"/>
            <a:endCxn id="4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9" name=""/>
          <p:cNvCxnSpPr>
            <a:stCxn id="423" idx="6"/>
            <a:endCxn id="4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2" name=""/>
          <p:cNvCxnSpPr>
            <a:stCxn id="423" idx="4"/>
            <a:endCxn id="4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33" name=""/>
          <p:cNvCxnSpPr>
            <a:stCxn id="431" idx="2"/>
            <a:endCxn id="4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4" name=""/>
          <p:cNvCxnSpPr>
            <a:stCxn id="431" idx="3"/>
            <a:endCxn id="4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35" name=""/>
          <p:cNvCxnSpPr>
            <a:stCxn id="422" idx="7"/>
            <a:endCxn id="4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6" name=""/>
          <p:cNvCxnSpPr>
            <a:stCxn id="431" idx="7"/>
            <a:endCxn id="4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7" name=""/>
          <p:cNvCxnSpPr>
            <a:stCxn id="430" idx="7"/>
            <a:endCxn id="4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3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9" name=""/>
          <p:cNvCxnSpPr>
            <a:stCxn id="438" idx="2"/>
            <a:endCxn id="42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40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3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44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6E84-40BA-4672-A32A-F5B20F61AB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1" name=""/>
          <p:cNvCxnSpPr>
            <a:stCxn id="448" idx="0"/>
            <a:endCxn id="449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52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49" idx="5"/>
            <a:endCxn id="452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4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5" name=""/>
          <p:cNvCxnSpPr>
            <a:stCxn id="449" idx="6"/>
            <a:endCxn id="454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6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8" name=""/>
          <p:cNvCxnSpPr>
            <a:stCxn id="449" idx="4"/>
            <a:endCxn id="450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59" name=""/>
          <p:cNvCxnSpPr>
            <a:stCxn id="457" idx="2"/>
            <a:endCxn id="456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0" name=""/>
          <p:cNvCxnSpPr>
            <a:stCxn id="457" idx="3"/>
            <a:endCxn id="448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61" name=""/>
          <p:cNvCxnSpPr>
            <a:stCxn id="448" idx="7"/>
            <a:endCxn id="456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2" name=""/>
          <p:cNvCxnSpPr>
            <a:stCxn id="457" idx="7"/>
            <a:endCxn id="454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3" name=""/>
          <p:cNvCxnSpPr>
            <a:stCxn id="456" idx="7"/>
            <a:endCxn id="452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64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64" idx="2"/>
            <a:endCxn id="448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66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9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70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1B7A-D1A2-40A8-AF20-F9E36E11CB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8" name=""/>
          <p:cNvCxnSpPr>
            <a:stCxn id="475" idx="0"/>
            <a:endCxn id="47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7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0" name=""/>
          <p:cNvCxnSpPr>
            <a:stCxn id="476" idx="5"/>
            <a:endCxn id="47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2" name=""/>
          <p:cNvCxnSpPr>
            <a:stCxn id="476" idx="6"/>
            <a:endCxn id="48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5" name=""/>
          <p:cNvCxnSpPr>
            <a:stCxn id="476" idx="4"/>
            <a:endCxn id="47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86" name=""/>
          <p:cNvCxnSpPr>
            <a:stCxn id="484" idx="2"/>
            <a:endCxn id="48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87" name=""/>
          <p:cNvCxnSpPr>
            <a:stCxn id="484" idx="3"/>
            <a:endCxn id="47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88" name=""/>
          <p:cNvCxnSpPr>
            <a:stCxn id="475" idx="7"/>
            <a:endCxn id="48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89" name=""/>
          <p:cNvCxnSpPr>
            <a:stCxn id="484" idx="7"/>
            <a:endCxn id="48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90" name=""/>
          <p:cNvCxnSpPr>
            <a:stCxn id="483" idx="7"/>
            <a:endCxn id="47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2" name=""/>
          <p:cNvCxnSpPr>
            <a:stCxn id="491" idx="2"/>
            <a:endCxn id="47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7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1" name=""/>
          <p:cNvCxnSpPr>
            <a:stCxn id="479" idx="1"/>
            <a:endCxn id="476" idx="5"/>
          </p:cNvCxnSpPr>
          <p:nvPr/>
        </p:nvCxnSpPr>
        <p:spPr>
          <a:xfrm flipH="1" flipV="1">
            <a:off x="1631520" y="1324800"/>
            <a:ext cx="2057760" cy="13359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02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6935-8CE0-4351-9E10-B34F3C7FF4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7" name=""/>
          <p:cNvCxnSpPr>
            <a:stCxn id="504" idx="0"/>
            <a:endCxn id="50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508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5" idx="5"/>
            <a:endCxn id="508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10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1" name=""/>
          <p:cNvCxnSpPr>
            <a:stCxn id="505" idx="6"/>
            <a:endCxn id="510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12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4" name=""/>
          <p:cNvCxnSpPr>
            <a:stCxn id="505" idx="4"/>
            <a:endCxn id="506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15" name=""/>
          <p:cNvCxnSpPr>
            <a:stCxn id="513" idx="2"/>
            <a:endCxn id="51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6" name=""/>
          <p:cNvCxnSpPr>
            <a:stCxn id="513" idx="3"/>
            <a:endCxn id="50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17" name=""/>
          <p:cNvCxnSpPr>
            <a:stCxn id="504" idx="7"/>
            <a:endCxn id="512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8" name=""/>
          <p:cNvCxnSpPr>
            <a:stCxn id="513" idx="7"/>
            <a:endCxn id="510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9" name=""/>
          <p:cNvCxnSpPr>
            <a:stCxn id="512" idx="7"/>
            <a:endCxn id="50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0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20" idx="2"/>
            <a:endCxn id="50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2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5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6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0" name=""/>
          <p:cNvCxnSpPr>
            <a:stCxn id="510" idx="1"/>
            <a:endCxn id="505" idx="6"/>
          </p:cNvCxnSpPr>
          <p:nvPr/>
        </p:nvCxnSpPr>
        <p:spPr>
          <a:xfrm flipH="1" flipV="1">
            <a:off x="1676160" y="1218960"/>
            <a:ext cx="3239280" cy="144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FA72-3E2C-4652-B2EE-B82AD33FBD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stCxn id="533" idx="0"/>
            <a:endCxn id="534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537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8" name=""/>
          <p:cNvCxnSpPr>
            <a:stCxn id="534" idx="5"/>
            <a:endCxn id="537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39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0" name=""/>
          <p:cNvCxnSpPr>
            <a:stCxn id="534" idx="6"/>
            <a:endCxn id="539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41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3" name=""/>
          <p:cNvCxnSpPr>
            <a:stCxn id="534" idx="4"/>
            <a:endCxn id="535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44" name=""/>
          <p:cNvCxnSpPr>
            <a:stCxn id="542" idx="2"/>
            <a:endCxn id="541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5" name=""/>
          <p:cNvCxnSpPr>
            <a:stCxn id="542" idx="3"/>
            <a:endCxn id="533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46" name=""/>
          <p:cNvCxnSpPr>
            <a:stCxn id="533" idx="7"/>
            <a:endCxn id="541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7" name=""/>
          <p:cNvCxnSpPr>
            <a:stCxn id="542" idx="7"/>
            <a:endCxn id="539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8" name=""/>
          <p:cNvCxnSpPr>
            <a:stCxn id="541" idx="7"/>
            <a:endCxn id="537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49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0" name=""/>
          <p:cNvCxnSpPr>
            <a:stCxn id="549" idx="2"/>
            <a:endCxn id="533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51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4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55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9" name=""/>
          <p:cNvCxnSpPr>
            <a:stCxn id="533" idx="0"/>
            <a:endCxn id="534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60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215B-4769-4A22-8250-1AAC24A220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2" name=""/>
          <p:cNvCxnSpPr>
            <a:stCxn id="99" idx="0"/>
            <a:endCxn id="10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0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" name=""/>
          <p:cNvCxnSpPr>
            <a:stCxn id="100" idx="5"/>
            <a:endCxn id="10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" name=""/>
          <p:cNvCxnSpPr>
            <a:stCxn id="100" idx="6"/>
            <a:endCxn id="10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0" idx="4"/>
            <a:endCxn id="10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0" name=""/>
          <p:cNvCxnSpPr>
            <a:stCxn id="108" idx="2"/>
            <a:endCxn id="10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1" name=""/>
          <p:cNvCxnSpPr>
            <a:stCxn id="108" idx="3"/>
            <a:endCxn id="9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2" name=""/>
          <p:cNvCxnSpPr>
            <a:stCxn id="99" idx="7"/>
            <a:endCxn id="10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3" name=""/>
          <p:cNvCxnSpPr>
            <a:stCxn id="108" idx="7"/>
            <a:endCxn id="10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4" name=""/>
          <p:cNvCxnSpPr>
            <a:stCxn id="107" idx="7"/>
            <a:endCxn id="10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1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6" name=""/>
          <p:cNvCxnSpPr>
            <a:stCxn id="115" idx="2"/>
            <a:endCxn id="9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17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8" name=""/>
          <p:cNvCxnSpPr>
            <a:stCxn id="107" idx="7"/>
            <a:endCxn id="10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19" name=""/>
          <p:cNvCxnSpPr>
            <a:stCxn id="108" idx="0"/>
            <a:endCxn id="103" idx="4"/>
          </p:cNvCxnSpPr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C550-E70D-4D5D-90C5-0CE4905025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stCxn id="562" idx="0"/>
            <a:endCxn id="56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6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7" name=""/>
          <p:cNvCxnSpPr>
            <a:stCxn id="563" idx="5"/>
            <a:endCxn id="56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6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9" name=""/>
          <p:cNvCxnSpPr>
            <a:stCxn id="563" idx="6"/>
            <a:endCxn id="56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7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2" name=""/>
          <p:cNvCxnSpPr>
            <a:stCxn id="563" idx="4"/>
            <a:endCxn id="56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73" name=""/>
          <p:cNvCxnSpPr>
            <a:stCxn id="571" idx="2"/>
            <a:endCxn id="57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4" name=""/>
          <p:cNvCxnSpPr>
            <a:stCxn id="571" idx="3"/>
            <a:endCxn id="56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75" name=""/>
          <p:cNvCxnSpPr>
            <a:stCxn id="562" idx="7"/>
            <a:endCxn id="57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6" name=""/>
          <p:cNvCxnSpPr>
            <a:stCxn id="571" idx="7"/>
            <a:endCxn id="56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7" name=""/>
          <p:cNvCxnSpPr>
            <a:stCxn id="570" idx="7"/>
            <a:endCxn id="56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7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9" name=""/>
          <p:cNvCxnSpPr>
            <a:stCxn id="578" idx="2"/>
            <a:endCxn id="56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80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3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84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8" name=""/>
          <p:cNvCxnSpPr>
            <a:stCxn id="564" idx="1"/>
            <a:endCxn id="563" idx="4"/>
          </p:cNvCxnSpPr>
          <p:nvPr/>
        </p:nvCxnSpPr>
        <p:spPr>
          <a:xfrm flipH="1" flipV="1">
            <a:off x="1524960" y="1369440"/>
            <a:ext cx="678600" cy="129132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89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0DDF-6BF8-4848-94B2-45B7083CC8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stCxn id="591" idx="0"/>
            <a:endCxn id="592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95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6" name=""/>
          <p:cNvCxnSpPr>
            <a:stCxn id="592" idx="5"/>
            <a:endCxn id="595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97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8" name=""/>
          <p:cNvCxnSpPr>
            <a:stCxn id="592" idx="6"/>
            <a:endCxn id="597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99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1" name=""/>
          <p:cNvCxnSpPr>
            <a:stCxn id="592" idx="4"/>
            <a:endCxn id="593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02" name=""/>
          <p:cNvCxnSpPr>
            <a:stCxn id="600" idx="2"/>
            <a:endCxn id="599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3" name=""/>
          <p:cNvCxnSpPr>
            <a:stCxn id="600" idx="3"/>
            <a:endCxn id="591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04" name=""/>
          <p:cNvCxnSpPr>
            <a:stCxn id="591" idx="7"/>
            <a:endCxn id="599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5" name=""/>
          <p:cNvCxnSpPr>
            <a:stCxn id="600" idx="7"/>
            <a:endCxn id="597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6" name=""/>
          <p:cNvCxnSpPr>
            <a:stCxn id="599" idx="7"/>
            <a:endCxn id="595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07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8" name=""/>
          <p:cNvCxnSpPr>
            <a:stCxn id="607" idx="2"/>
            <a:endCxn id="591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09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13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G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8" name=""/>
          <p:cNvCxnSpPr>
            <a:stCxn id="593" idx="1"/>
            <a:endCxn id="592" idx="4"/>
          </p:cNvCxnSpPr>
          <p:nvPr/>
        </p:nvCxnSpPr>
        <p:spPr>
          <a:xfrm flipH="1" flipV="1">
            <a:off x="1524960" y="1369440"/>
            <a:ext cx="678600" cy="129132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F7FC-FEA1-4ADB-85AF-E1CC347CCB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3" name=""/>
          <p:cNvCxnSpPr>
            <a:stCxn id="620" idx="0"/>
            <a:endCxn id="62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2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5" name=""/>
          <p:cNvCxnSpPr>
            <a:stCxn id="621" idx="5"/>
            <a:endCxn id="62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2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7" name=""/>
          <p:cNvCxnSpPr>
            <a:stCxn id="621" idx="6"/>
            <a:endCxn id="62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2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0" name=""/>
          <p:cNvCxnSpPr>
            <a:stCxn id="621" idx="4"/>
            <a:endCxn id="62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31" name=""/>
          <p:cNvCxnSpPr>
            <a:stCxn id="629" idx="2"/>
            <a:endCxn id="62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2" name=""/>
          <p:cNvCxnSpPr>
            <a:stCxn id="629" idx="3"/>
            <a:endCxn id="62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33" name=""/>
          <p:cNvCxnSpPr>
            <a:stCxn id="620" idx="7"/>
            <a:endCxn id="62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4" name=""/>
          <p:cNvCxnSpPr>
            <a:stCxn id="629" idx="7"/>
            <a:endCxn id="62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5" name=""/>
          <p:cNvCxnSpPr>
            <a:stCxn id="628" idx="7"/>
            <a:endCxn id="62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3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7" name=""/>
          <p:cNvCxnSpPr>
            <a:stCxn id="636" idx="2"/>
            <a:endCxn id="62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3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42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EB54-5785-4B00-AFDB-CA3089BBFE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2" name=""/>
          <p:cNvCxnSpPr>
            <a:stCxn id="649" idx="0"/>
            <a:endCxn id="65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5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stCxn id="650" idx="5"/>
            <a:endCxn id="65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5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6" name=""/>
          <p:cNvCxnSpPr>
            <a:stCxn id="650" idx="6"/>
            <a:endCxn id="65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5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9" name=""/>
          <p:cNvCxnSpPr>
            <a:stCxn id="650" idx="4"/>
            <a:endCxn id="65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60" name=""/>
          <p:cNvCxnSpPr>
            <a:stCxn id="658" idx="2"/>
            <a:endCxn id="65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1" name=""/>
          <p:cNvCxnSpPr>
            <a:stCxn id="658" idx="3"/>
            <a:endCxn id="64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62" name=""/>
          <p:cNvCxnSpPr>
            <a:stCxn id="649" idx="7"/>
            <a:endCxn id="65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3" name=""/>
          <p:cNvCxnSpPr>
            <a:stCxn id="658" idx="7"/>
            <a:endCxn id="65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4" name=""/>
          <p:cNvCxnSpPr>
            <a:stCxn id="657" idx="7"/>
            <a:endCxn id="65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6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6" name=""/>
          <p:cNvCxnSpPr>
            <a:stCxn id="665" idx="2"/>
            <a:endCxn id="64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6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0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71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1042560" y="1074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3F5D-6B4C-46B8-B925-9AB9CFC514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2" name=""/>
          <p:cNvCxnSpPr>
            <a:stCxn id="679" idx="0"/>
            <a:endCxn id="68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8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4" name=""/>
          <p:cNvCxnSpPr>
            <a:stCxn id="680" idx="5"/>
            <a:endCxn id="68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8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6" name=""/>
          <p:cNvCxnSpPr>
            <a:stCxn id="680" idx="6"/>
            <a:endCxn id="68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8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9" name=""/>
          <p:cNvCxnSpPr>
            <a:stCxn id="680" idx="4"/>
            <a:endCxn id="68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90" name=""/>
          <p:cNvCxnSpPr>
            <a:stCxn id="688" idx="2"/>
            <a:endCxn id="68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1" name=""/>
          <p:cNvCxnSpPr>
            <a:stCxn id="688" idx="3"/>
            <a:endCxn id="67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92" name=""/>
          <p:cNvCxnSpPr>
            <a:stCxn id="679" idx="7"/>
            <a:endCxn id="68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3" name=""/>
          <p:cNvCxnSpPr>
            <a:stCxn id="688" idx="7"/>
            <a:endCxn id="68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4" name=""/>
          <p:cNvCxnSpPr>
            <a:stCxn id="687" idx="7"/>
            <a:endCxn id="68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9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6" name=""/>
          <p:cNvCxnSpPr>
            <a:stCxn id="695" idx="2"/>
            <a:endCxn id="67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9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0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701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1042560" y="1074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3785400" y="5969160"/>
            <a:ext cx="431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ological order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 G B A D E F 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E98B-8738-4DF1-8D9A-44523CDDD5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5" name=""/>
          <p:cNvCxnSpPr>
            <a:stCxn id="122" idx="0"/>
            <a:endCxn id="1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" name=""/>
          <p:cNvCxnSpPr>
            <a:stCxn id="123" idx="5"/>
            <a:endCxn id="1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" name=""/>
          <p:cNvCxnSpPr>
            <a:stCxn id="123" idx="6"/>
            <a:endCxn id="1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2" name=""/>
          <p:cNvCxnSpPr>
            <a:stCxn id="123" idx="4"/>
            <a:endCxn id="1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3" name=""/>
          <p:cNvCxnSpPr>
            <a:stCxn id="131" idx="2"/>
            <a:endCxn id="1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4" name=""/>
          <p:cNvCxnSpPr>
            <a:stCxn id="131" idx="3"/>
            <a:endCxn id="1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5" name=""/>
          <p:cNvCxnSpPr>
            <a:stCxn id="122" idx="7"/>
            <a:endCxn id="1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6" name=""/>
          <p:cNvCxnSpPr>
            <a:stCxn id="131" idx="7"/>
            <a:endCxn id="1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7" name=""/>
          <p:cNvCxnSpPr>
            <a:stCxn id="130" idx="7"/>
            <a:endCxn id="1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" name=""/>
          <p:cNvCxnSpPr>
            <a:stCxn id="138" idx="2"/>
            <a:endCxn id="12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40" name=""/>
          <p:cNvCxnSpPr>
            <a:stCxn id="131" idx="2"/>
            <a:endCxn id="1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4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42" name=""/>
          <p:cNvCxnSpPr>
            <a:stCxn id="130" idx="7"/>
            <a:endCxn id="1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CB8B-55EB-4079-AC96-F232E5D294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95520" y="1295280"/>
            <a:ext cx="1404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" name=""/>
          <p:cNvCxnSpPr>
            <a:stCxn id="145" idx="0"/>
            <a:endCxn id="14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0" name=""/>
          <p:cNvCxnSpPr>
            <a:stCxn id="146" idx="5"/>
            <a:endCxn id="14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2" name=""/>
          <p:cNvCxnSpPr>
            <a:stCxn id="146" idx="6"/>
            <a:endCxn id="15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" name=""/>
          <p:cNvCxnSpPr>
            <a:stCxn id="146" idx="4"/>
            <a:endCxn id="14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6" name=""/>
          <p:cNvCxnSpPr>
            <a:stCxn id="154" idx="2"/>
            <a:endCxn id="15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157" name=""/>
          <p:cNvCxnSpPr>
            <a:stCxn id="154" idx="3"/>
            <a:endCxn id="14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8" name=""/>
          <p:cNvCxnSpPr>
            <a:stCxn id="145" idx="7"/>
            <a:endCxn id="15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59" name=""/>
          <p:cNvCxnSpPr>
            <a:stCxn id="154" idx="7"/>
            <a:endCxn id="15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0" name=""/>
          <p:cNvCxnSpPr>
            <a:stCxn id="153" idx="7"/>
            <a:endCxn id="14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" name=""/>
          <p:cNvCxnSpPr>
            <a:stCxn id="161" idx="2"/>
            <a:endCxn id="14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3" name=""/>
          <p:cNvCxnSpPr>
            <a:stCxn id="145" idx="6"/>
            <a:endCxn id="154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64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5" name=""/>
          <p:cNvCxnSpPr>
            <a:stCxn id="153" idx="7"/>
            <a:endCxn id="14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66" name=""/>
          <p:cNvCxnSpPr>
            <a:stCxn id="154" idx="2"/>
            <a:endCxn id="15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B4BF-2D37-4005-A2B4-C27A1BE24B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1295280"/>
            <a:ext cx="164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69" idx="0"/>
            <a:endCxn id="17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7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4" name=""/>
          <p:cNvCxnSpPr>
            <a:stCxn id="170" idx="5"/>
            <a:endCxn id="17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6" name=""/>
          <p:cNvCxnSpPr>
            <a:stCxn id="170" idx="6"/>
            <a:endCxn id="17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9" name=""/>
          <p:cNvCxnSpPr>
            <a:stCxn id="170" idx="4"/>
            <a:endCxn id="17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0" name=""/>
          <p:cNvCxnSpPr>
            <a:stCxn id="178" idx="2"/>
            <a:endCxn id="1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181" name=""/>
          <p:cNvCxnSpPr>
            <a:stCxn id="178" idx="3"/>
            <a:endCxn id="16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182" name=""/>
          <p:cNvCxnSpPr>
            <a:stCxn id="169" idx="7"/>
            <a:endCxn id="1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3" name=""/>
          <p:cNvCxnSpPr>
            <a:stCxn id="178" idx="7"/>
            <a:endCxn id="17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4" name=""/>
          <p:cNvCxnSpPr>
            <a:stCxn id="177" idx="7"/>
            <a:endCxn id="1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8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6" name=""/>
          <p:cNvCxnSpPr>
            <a:stCxn id="185" idx="2"/>
            <a:endCxn id="1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7" name=""/>
          <p:cNvCxnSpPr>
            <a:stCxn id="185" idx="2"/>
            <a:endCxn id="1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88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9" name=""/>
          <p:cNvCxnSpPr>
            <a:stCxn id="177" idx="7"/>
            <a:endCxn id="1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90" name=""/>
          <p:cNvCxnSpPr>
            <a:stCxn id="178" idx="2"/>
            <a:endCxn id="1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91" name=""/>
          <p:cNvCxnSpPr>
            <a:stCxn id="169" idx="6"/>
            <a:endCxn id="178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381C-89FC-4A5E-9BE7-ECAA9809A7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095520" y="1295280"/>
            <a:ext cx="201384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H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>
            <a:stCxn id="194" idx="0"/>
            <a:endCxn id="19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98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9" name=""/>
          <p:cNvCxnSpPr>
            <a:stCxn id="195" idx="5"/>
            <a:endCxn id="198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0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5" idx="6"/>
            <a:endCxn id="200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2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4" name=""/>
          <p:cNvCxnSpPr>
            <a:stCxn id="195" idx="4"/>
            <a:endCxn id="196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5" name=""/>
          <p:cNvCxnSpPr>
            <a:stCxn id="203" idx="2"/>
            <a:endCxn id="20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06" name=""/>
          <p:cNvCxnSpPr>
            <a:stCxn id="203" idx="3"/>
            <a:endCxn id="19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07" name=""/>
          <p:cNvCxnSpPr>
            <a:stCxn id="194" idx="7"/>
            <a:endCxn id="202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08" name=""/>
          <p:cNvCxnSpPr>
            <a:stCxn id="203" idx="7"/>
            <a:endCxn id="200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09" name=""/>
          <p:cNvCxnSpPr>
            <a:stCxn id="202" idx="7"/>
            <a:endCxn id="19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10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1" name=""/>
          <p:cNvCxnSpPr>
            <a:stCxn id="210" idx="2"/>
            <a:endCxn id="19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1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13" name=""/>
          <p:cNvCxnSpPr>
            <a:stCxn id="202" idx="7"/>
            <a:endCxn id="19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4" name=""/>
          <p:cNvCxnSpPr>
            <a:stCxn id="203" idx="2"/>
            <a:endCxn id="20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stCxn id="194" idx="6"/>
            <a:endCxn id="203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6" name=""/>
          <p:cNvCxnSpPr>
            <a:stCxn id="210" idx="2"/>
            <a:endCxn id="19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5B3A-558D-449A-B23C-CA1E414A07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295280"/>
            <a:ext cx="164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219" idx="2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21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5" name=""/>
          <p:cNvCxnSpPr>
            <a:stCxn id="222" idx="0"/>
            <a:endCxn id="2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7" name=""/>
          <p:cNvCxnSpPr>
            <a:stCxn id="223" idx="5"/>
            <a:endCxn id="2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9" name=""/>
          <p:cNvCxnSpPr>
            <a:stCxn id="223" idx="6"/>
            <a:endCxn id="2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2" name=""/>
          <p:cNvCxnSpPr>
            <a:stCxn id="223" idx="4"/>
            <a:endCxn id="2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33" name=""/>
          <p:cNvCxnSpPr>
            <a:stCxn id="231" idx="2"/>
            <a:endCxn id="2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34" name=""/>
          <p:cNvCxnSpPr>
            <a:stCxn id="231" idx="3"/>
            <a:endCxn id="2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35" name=""/>
          <p:cNvCxnSpPr>
            <a:stCxn id="222" idx="7"/>
            <a:endCxn id="2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6" name=""/>
          <p:cNvCxnSpPr>
            <a:stCxn id="231" idx="7"/>
            <a:endCxn id="2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7" name=""/>
          <p:cNvCxnSpPr>
            <a:stCxn id="230" idx="7"/>
            <a:endCxn id="2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38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9" name=""/>
          <p:cNvCxnSpPr>
            <a:stCxn id="230" idx="7"/>
            <a:endCxn id="2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40" name=""/>
          <p:cNvCxnSpPr>
            <a:stCxn id="231" idx="2"/>
            <a:endCxn id="2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41" name=""/>
          <p:cNvCxnSpPr>
            <a:stCxn id="222" idx="6"/>
            <a:endCxn id="231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56FB-FC91-47B8-AB95-9AD4094201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6095520" y="1295280"/>
            <a:ext cx="1404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6" name=""/>
          <p:cNvCxnSpPr>
            <a:stCxn id="244" idx="0"/>
            <a:endCxn id="24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47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8" name=""/>
          <p:cNvCxnSpPr>
            <a:stCxn id="245" idx="5"/>
            <a:endCxn id="247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9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0" name=""/>
          <p:cNvCxnSpPr>
            <a:stCxn id="245" idx="6"/>
            <a:endCxn id="249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1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3" name=""/>
          <p:cNvCxnSpPr>
            <a:stCxn id="245" idx="4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4" name=""/>
          <p:cNvCxnSpPr>
            <a:stCxn id="252" idx="3"/>
            <a:endCxn id="24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55" name=""/>
          <p:cNvCxnSpPr>
            <a:stCxn id="244" idx="7"/>
            <a:endCxn id="251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56" name=""/>
          <p:cNvCxnSpPr>
            <a:stCxn id="252" idx="7"/>
            <a:endCxn id="249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57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8" name=""/>
          <p:cNvCxnSpPr>
            <a:stCxn id="257" idx="2"/>
            <a:endCxn id="24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59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6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3" name=""/>
          <p:cNvCxnSpPr/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64" name=""/>
          <p:cNvCxnSpPr/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65" name=""/>
          <p:cNvCxnSpPr>
            <a:stCxn id="251" idx="7"/>
            <a:endCxn id="247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66" name=""/>
          <p:cNvCxnSpPr/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95A6-0944-4191-A978-4AC4576225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69" idx="0"/>
            <a:endCxn id="27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7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4" name=""/>
          <p:cNvCxnSpPr>
            <a:stCxn id="270" idx="5"/>
            <a:endCxn id="27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6" name=""/>
          <p:cNvCxnSpPr>
            <a:stCxn id="270" idx="6"/>
            <a:endCxn id="27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9" name=""/>
          <p:cNvCxnSpPr>
            <a:stCxn id="270" idx="4"/>
            <a:endCxn id="27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0" name=""/>
          <p:cNvCxnSpPr>
            <a:stCxn id="278" idx="2"/>
            <a:endCxn id="2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81" name=""/>
          <p:cNvCxnSpPr>
            <a:stCxn id="278" idx="3"/>
            <a:endCxn id="26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82" name=""/>
          <p:cNvCxnSpPr>
            <a:stCxn id="269" idx="7"/>
            <a:endCxn id="2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83" name=""/>
          <p:cNvCxnSpPr>
            <a:stCxn id="278" idx="7"/>
            <a:endCxn id="27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84" name=""/>
          <p:cNvCxnSpPr>
            <a:stCxn id="277" idx="7"/>
            <a:endCxn id="2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8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6" name=""/>
          <p:cNvCxnSpPr>
            <a:stCxn id="285" idx="2"/>
            <a:endCxn id="2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8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0" name=""/>
          <p:cNvCxnSpPr>
            <a:stCxn id="269" idx="7"/>
            <a:endCxn id="2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9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92" name=""/>
          <p:cNvCxnSpPr>
            <a:stCxn id="277" idx="7"/>
            <a:endCxn id="2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E258-3FEC-4D0F-82B1-53D9BB1BC3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2-01T17:33:21Z</dcterms:modified>
  <cp:revision>608</cp:revision>
  <dc:subject/>
  <dc:title>Trees</dc:title>
</cp:coreProperties>
</file>