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9269413" cy="7019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AA98E-0C74-4FC4-8C78-7B6A8770F9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7D548-839D-4779-ADED-A1AFE486B6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D5F67-4124-42DF-9430-80D1EC4E55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6340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1732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6340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1732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A35D7-365B-4DF9-BFB3-21066CECEB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D4765-AF78-4E32-BC63-28140A692B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6340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1732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0948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6340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1732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D1104-213C-4B53-867E-3259C40227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60443-187B-42EA-85D9-58C73883DD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69D70-6861-4D5B-B4B1-97758FC90F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4977A-27A6-47B7-AC84-F21D42FB86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88D23-3D99-4A19-9370-FA7053438B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4AEB7-1D24-40B3-B993-A783D2F350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5BCC1-35A8-4834-B35C-155037EA99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Click to edit the title text format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345960" indent="-231480">
              <a:spcBef>
                <a:spcPts val="451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2" marL="627120" indent="-166680">
              <a:spcBef>
                <a:spcPts val="451"/>
              </a:spcBef>
              <a:buClr>
                <a:srgbClr val="006600"/>
              </a:buClr>
              <a:buSzPct val="8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3" marL="1147680" indent="-404640">
              <a:spcBef>
                <a:spcPts val="451"/>
              </a:spcBef>
              <a:buClr>
                <a:srgbClr val="000000"/>
              </a:buClr>
              <a:buFont typeface="Wingdings" charset="2"/>
              <a:buChar char="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4" marL="1539720" indent="-169560">
              <a:spcBef>
                <a:spcPts val="451"/>
              </a:spcBef>
              <a:buClr>
                <a:srgbClr val="ff66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5" marL="1539720" indent="-169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6" marL="1539720" indent="-169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2671E-3603-4E54-95A6-8576BBFD8200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660066"/>
              </a:solidFill>
              <a:latin typeface="Arial Narrow"/>
            </a:endParaRPr>
          </a:p>
        </p:txBody>
      </p:sp>
      <p:pic>
        <p:nvPicPr>
          <p:cNvPr id="41" name="datinfo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2341440" cy="4191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79" name=""/>
          <p:cNvSpPr/>
          <p:nvPr/>
        </p:nvSpPr>
        <p:spPr>
          <a:xfrm>
            <a:off x="6210360" y="2991600"/>
            <a:ext cx="1923840" cy="29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djacency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:  F C B G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:  A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 A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:  F 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:  G F 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:  A E 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:  E A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:  I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:  H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0" idx="0"/>
            <a:endCxn id="81" idx="4"/>
          </p:cNvCxnSpPr>
          <p:nvPr/>
        </p:nvCxnSpPr>
        <p:spPr>
          <a:xfrm flipV="1">
            <a:off x="2438640" y="1373040"/>
            <a:ext cx="360" cy="2818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4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"/>
          <p:cNvCxnSpPr>
            <a:stCxn id="81" idx="5"/>
            <a:endCxn id="84" idx="1"/>
          </p:cNvCxnSpPr>
          <p:nvPr/>
        </p:nvCxnSpPr>
        <p:spPr>
          <a:xfrm>
            <a:off x="2546280" y="1328400"/>
            <a:ext cx="1765800" cy="113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6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>
            <a:stCxn id="81" idx="6"/>
            <a:endCxn id="86" idx="1"/>
          </p:cNvCxnSpPr>
          <p:nvPr/>
        </p:nvCxnSpPr>
        <p:spPr>
          <a:xfrm>
            <a:off x="2590920" y="1219680"/>
            <a:ext cx="2788200" cy="12416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8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81" idx="4"/>
            <a:endCxn id="82" idx="1"/>
          </p:cNvCxnSpPr>
          <p:nvPr/>
        </p:nvCxnSpPr>
        <p:spPr>
          <a:xfrm>
            <a:off x="2438640" y="1373040"/>
            <a:ext cx="578160" cy="1088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1" name=""/>
          <p:cNvCxnSpPr>
            <a:stCxn id="89" idx="2"/>
            <a:endCxn id="88" idx="6"/>
          </p:cNvCxnSpPr>
          <p:nvPr/>
        </p:nvCxnSpPr>
        <p:spPr>
          <a:xfrm flipH="1">
            <a:off x="3276720" y="3429000"/>
            <a:ext cx="990720" cy="3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2" name=""/>
          <p:cNvCxnSpPr>
            <a:stCxn id="89" idx="3"/>
            <a:endCxn id="80" idx="6"/>
          </p:cNvCxnSpPr>
          <p:nvPr/>
        </p:nvCxnSpPr>
        <p:spPr>
          <a:xfrm flipH="1">
            <a:off x="2590920" y="3536640"/>
            <a:ext cx="1721160" cy="8071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3" name=""/>
          <p:cNvCxnSpPr>
            <a:stCxn id="80" idx="7"/>
            <a:endCxn id="88" idx="3"/>
          </p:cNvCxnSpPr>
          <p:nvPr/>
        </p:nvCxnSpPr>
        <p:spPr>
          <a:xfrm flipV="1">
            <a:off x="2546280" y="3536640"/>
            <a:ext cx="470520" cy="6994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4" name=""/>
          <p:cNvCxnSpPr>
            <a:stCxn id="89" idx="7"/>
            <a:endCxn id="86" idx="3"/>
          </p:cNvCxnSpPr>
          <p:nvPr/>
        </p:nvCxnSpPr>
        <p:spPr>
          <a:xfrm flipV="1">
            <a:off x="4527360" y="2676240"/>
            <a:ext cx="851760" cy="6454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5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5" idx="6"/>
            <a:endCxn id="96" idx="2"/>
          </p:cNvCxnSpPr>
          <p:nvPr/>
        </p:nvCxnSpPr>
        <p:spPr>
          <a:xfrm>
            <a:off x="5611680" y="1352520"/>
            <a:ext cx="529200" cy="3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2F61C-BEF9-42AE-ABA8-CCEF83F1742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510160" y="491184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A, F) (A, C) (A, B) (A,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357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0" name=""/>
          <p:cNvCxnSpPr>
            <a:stCxn id="357" idx="0"/>
            <a:endCxn id="358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61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2" name=""/>
          <p:cNvCxnSpPr>
            <a:stCxn id="358" idx="5"/>
            <a:endCxn id="361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63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4" name=""/>
          <p:cNvCxnSpPr>
            <a:stCxn id="358" idx="6"/>
            <a:endCxn id="363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65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7" name=""/>
          <p:cNvCxnSpPr>
            <a:stCxn id="358" idx="4"/>
            <a:endCxn id="359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68" name=""/>
          <p:cNvCxnSpPr>
            <a:stCxn id="366" idx="2"/>
            <a:endCxn id="365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69" name=""/>
          <p:cNvCxnSpPr>
            <a:stCxn id="366" idx="3"/>
            <a:endCxn id="357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70" name=""/>
          <p:cNvCxnSpPr>
            <a:stCxn id="357" idx="7"/>
            <a:endCxn id="365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71" name=""/>
          <p:cNvCxnSpPr>
            <a:stCxn id="366" idx="7"/>
            <a:endCxn id="363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72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2" idx="6"/>
            <a:endCxn id="377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79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894280" y="6237360"/>
            <a:ext cx="347760" cy="404640"/>
          </a:xfrm>
          <a:prstGeom prst="upArrow">
            <a:avLst>
              <a:gd name="adj1" fmla="val 49769"/>
              <a:gd name="adj2" fmla="val 6114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562720" y="403848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F, A) (F, E) (F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967440" y="541008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499000" y="312408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E, G) (E, F) (E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543800" y="449568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5" name=""/>
          <p:cNvCxnSpPr>
            <a:stCxn id="366" idx="2"/>
            <a:endCxn id="365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50760">
            <a:solidFill>
              <a:srgbClr val="a50021"/>
            </a:solidFill>
            <a:miter/>
          </a:ln>
        </p:spPr>
      </p:cxnSp>
      <p:grpSp>
        <p:nvGrpSpPr>
          <p:cNvPr id="386" name=""/>
          <p:cNvGrpSpPr/>
          <p:nvPr/>
        </p:nvGrpSpPr>
        <p:grpSpPr>
          <a:xfrm>
            <a:off x="914400" y="3124080"/>
            <a:ext cx="2362320" cy="609840"/>
            <a:chOff x="914400" y="3124080"/>
            <a:chExt cx="2362320" cy="609840"/>
          </a:xfrm>
        </p:grpSpPr>
        <p:sp>
          <p:nvSpPr>
            <p:cNvPr id="387" name=""/>
            <p:cNvSpPr/>
            <p:nvPr/>
          </p:nvSpPr>
          <p:spPr>
            <a:xfrm>
              <a:off x="914400" y="3124080"/>
              <a:ext cx="1676520" cy="60984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 newly discove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971800" y="3276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2F7DA-827A-4E07-B518-2130931AAD8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5510160" y="491184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A, F) (A, C) (A, B) (A,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391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4" name=""/>
          <p:cNvCxnSpPr>
            <a:stCxn id="391" idx="0"/>
            <a:endCxn id="392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95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6" name=""/>
          <p:cNvCxnSpPr>
            <a:stCxn id="392" idx="5"/>
            <a:endCxn id="395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97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8" name=""/>
          <p:cNvCxnSpPr>
            <a:stCxn id="392" idx="6"/>
            <a:endCxn id="397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99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1" name=""/>
          <p:cNvCxnSpPr>
            <a:stCxn id="392" idx="4"/>
            <a:endCxn id="393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02" name=""/>
          <p:cNvCxnSpPr>
            <a:stCxn id="400" idx="2"/>
            <a:endCxn id="399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03" name=""/>
          <p:cNvCxnSpPr>
            <a:stCxn id="400" idx="3"/>
            <a:endCxn id="391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04" name=""/>
          <p:cNvCxnSpPr>
            <a:stCxn id="391" idx="7"/>
            <a:endCxn id="399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05" name=""/>
          <p:cNvCxnSpPr>
            <a:stCxn id="400" idx="7"/>
            <a:endCxn id="397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06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2" name=""/>
          <p:cNvCxnSpPr>
            <a:stCxn id="406" idx="6"/>
            <a:endCxn id="411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13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894280" y="6237360"/>
            <a:ext cx="347760" cy="404640"/>
          </a:xfrm>
          <a:prstGeom prst="upArrow">
            <a:avLst>
              <a:gd name="adj1" fmla="val 49769"/>
              <a:gd name="adj2" fmla="val 6114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562720" y="403848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F, A) (F, E) (F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967440" y="541008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499000" y="312408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E, G) (E, F) (E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543800" y="449568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9" name=""/>
          <p:cNvCxnSpPr>
            <a:stCxn id="391" idx="7"/>
            <a:endCxn id="399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50760">
            <a:solidFill>
              <a:srgbClr val="a50021"/>
            </a:solidFill>
            <a:miter/>
          </a:ln>
        </p:spPr>
      </p:cxnSp>
      <p:sp>
        <p:nvSpPr>
          <p:cNvPr id="420" name=""/>
          <p:cNvSpPr/>
          <p:nvPr/>
        </p:nvSpPr>
        <p:spPr>
          <a:xfrm>
            <a:off x="5410080" y="225900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D, F) (D, 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477120" y="3630600"/>
            <a:ext cx="347400" cy="405000"/>
          </a:xfrm>
          <a:prstGeom prst="upArrow">
            <a:avLst>
              <a:gd name="adj1" fmla="val 49769"/>
              <a:gd name="adj2" fmla="val 61264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16000" y="2300400"/>
            <a:ext cx="1676160" cy="60948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alread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98592-8A18-4557-A719-86CA783DB0C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5510160" y="491184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A, F) (A, C) (A, B) (A,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425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8" name=""/>
          <p:cNvCxnSpPr>
            <a:stCxn id="425" idx="0"/>
            <a:endCxn id="426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29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0" name=""/>
          <p:cNvCxnSpPr>
            <a:stCxn id="426" idx="5"/>
            <a:endCxn id="429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31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2" name=""/>
          <p:cNvCxnSpPr>
            <a:stCxn id="426" idx="6"/>
            <a:endCxn id="431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33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5" name=""/>
          <p:cNvCxnSpPr>
            <a:stCxn id="426" idx="4"/>
            <a:endCxn id="427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36" name=""/>
          <p:cNvCxnSpPr>
            <a:stCxn id="434" idx="2"/>
            <a:endCxn id="433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37" name=""/>
          <p:cNvCxnSpPr>
            <a:stCxn id="434" idx="3"/>
            <a:endCxn id="425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38" name=""/>
          <p:cNvCxnSpPr>
            <a:stCxn id="425" idx="7"/>
            <a:endCxn id="433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39" name=""/>
          <p:cNvCxnSpPr>
            <a:stCxn id="434" idx="7"/>
            <a:endCxn id="431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40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6" name=""/>
          <p:cNvCxnSpPr>
            <a:stCxn id="440" idx="6"/>
            <a:endCxn id="445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894280" y="6237360"/>
            <a:ext cx="347760" cy="404640"/>
          </a:xfrm>
          <a:prstGeom prst="upArrow">
            <a:avLst>
              <a:gd name="adj1" fmla="val 49769"/>
              <a:gd name="adj2" fmla="val 6114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562720" y="403848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F, A) (F, E) (F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967440" y="541008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499000" y="312408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E, G) (E, F) (E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43800" y="449568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34" idx="2"/>
            <a:endCxn id="433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50760">
            <a:solidFill>
              <a:srgbClr val="a50021"/>
            </a:solidFill>
            <a:miter/>
          </a:ln>
        </p:spPr>
      </p:cxnSp>
      <p:sp>
        <p:nvSpPr>
          <p:cNvPr id="454" name=""/>
          <p:cNvSpPr/>
          <p:nvPr/>
        </p:nvSpPr>
        <p:spPr>
          <a:xfrm>
            <a:off x="5410080" y="225900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D, F) (D, 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162920" y="3630600"/>
            <a:ext cx="347400" cy="405000"/>
          </a:xfrm>
          <a:prstGeom prst="upArrow">
            <a:avLst>
              <a:gd name="adj1" fmla="val 49769"/>
              <a:gd name="adj2" fmla="val 61264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16000" y="2300400"/>
            <a:ext cx="1676160" cy="60948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alread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B7E7C-B0A8-4215-8B76-6588B65A6FC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5510160" y="491184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A, F) (A, C) (A, B) (A,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459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2" name=""/>
          <p:cNvCxnSpPr>
            <a:stCxn id="459" idx="0"/>
            <a:endCxn id="460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4" name=""/>
          <p:cNvCxnSpPr>
            <a:stCxn id="460" idx="5"/>
            <a:endCxn id="463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65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6" name=""/>
          <p:cNvCxnSpPr>
            <a:stCxn id="460" idx="6"/>
            <a:endCxn id="465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67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60" idx="4"/>
            <a:endCxn id="461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70" name=""/>
          <p:cNvCxnSpPr>
            <a:stCxn id="468" idx="2"/>
            <a:endCxn id="467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71" name=""/>
          <p:cNvCxnSpPr>
            <a:stCxn id="468" idx="3"/>
            <a:endCxn id="459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9" idx="7"/>
            <a:endCxn id="467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73" name=""/>
          <p:cNvCxnSpPr>
            <a:stCxn id="468" idx="7"/>
            <a:endCxn id="465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74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0" name=""/>
          <p:cNvCxnSpPr>
            <a:stCxn id="474" idx="6"/>
            <a:endCxn id="479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81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894280" y="6237360"/>
            <a:ext cx="347760" cy="404640"/>
          </a:xfrm>
          <a:prstGeom prst="upArrow">
            <a:avLst>
              <a:gd name="adj1" fmla="val 49769"/>
              <a:gd name="adj2" fmla="val 6114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562720" y="403848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F, A) (F, E) (F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967440" y="541008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499000" y="312408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E, G) (E, F) (E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543800" y="449568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410080" y="225900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D, F) (D, 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620120" y="3630600"/>
            <a:ext cx="347400" cy="405000"/>
          </a:xfrm>
          <a:prstGeom prst="upArrow">
            <a:avLst>
              <a:gd name="adj1" fmla="val 49769"/>
              <a:gd name="adj2" fmla="val 61264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010280" y="1905120"/>
            <a:ext cx="1447920" cy="685800"/>
          </a:xfrm>
          <a:prstGeom prst="downArrowCallout">
            <a:avLst>
              <a:gd name="adj1" fmla="val 24321"/>
              <a:gd name="adj2" fmla="val 28981"/>
              <a:gd name="adj3" fmla="val 20370"/>
              <a:gd name="adj4" fmla="val 55556"/>
            </a:avLst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ed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7BF8C-3DD7-4882-9E6D-EC3F08FCB41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5510160" y="491184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A, F) (A, C) (A, B) (A,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492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5" name=""/>
          <p:cNvCxnSpPr>
            <a:stCxn id="492" idx="0"/>
            <a:endCxn id="493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96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7" name=""/>
          <p:cNvCxnSpPr>
            <a:stCxn id="493" idx="5"/>
            <a:endCxn id="496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98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9" name=""/>
          <p:cNvCxnSpPr>
            <a:stCxn id="493" idx="6"/>
            <a:endCxn id="498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00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493" idx="4"/>
            <a:endCxn id="494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03" name=""/>
          <p:cNvCxnSpPr>
            <a:stCxn id="501" idx="2"/>
            <a:endCxn id="500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04" name=""/>
          <p:cNvCxnSpPr>
            <a:stCxn id="501" idx="3"/>
            <a:endCxn id="492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05" name=""/>
          <p:cNvCxnSpPr>
            <a:stCxn id="492" idx="7"/>
            <a:endCxn id="500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06" name=""/>
          <p:cNvCxnSpPr>
            <a:stCxn id="501" idx="7"/>
            <a:endCxn id="498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07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3" name=""/>
          <p:cNvCxnSpPr>
            <a:stCxn id="507" idx="6"/>
            <a:endCxn id="512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14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894280" y="6237360"/>
            <a:ext cx="347760" cy="404640"/>
          </a:xfrm>
          <a:prstGeom prst="upArrow">
            <a:avLst>
              <a:gd name="adj1" fmla="val 49769"/>
              <a:gd name="adj2" fmla="val 6114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562720" y="403848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F, A) (F, E) (F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967440" y="541008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499000" y="312408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E, G) (E, F) (E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8001000" y="449568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629400" y="2895480"/>
            <a:ext cx="1447920" cy="685800"/>
          </a:xfrm>
          <a:prstGeom prst="downArrowCallout">
            <a:avLst>
              <a:gd name="adj1" fmla="val 24321"/>
              <a:gd name="adj2" fmla="val 28981"/>
              <a:gd name="adj3" fmla="val 20370"/>
              <a:gd name="adj4" fmla="val 55556"/>
            </a:avLst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ed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0CC4C-9074-4E71-98D3-3616C3811E1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5510160" y="491184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A, F) (A, C) (A, B) (A,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523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6" name=""/>
          <p:cNvCxnSpPr>
            <a:stCxn id="523" idx="0"/>
            <a:endCxn id="524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27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8" name=""/>
          <p:cNvCxnSpPr>
            <a:stCxn id="524" idx="5"/>
            <a:endCxn id="527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29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0" name=""/>
          <p:cNvCxnSpPr>
            <a:stCxn id="524" idx="6"/>
            <a:endCxn id="529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31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3" name=""/>
          <p:cNvCxnSpPr>
            <a:stCxn id="524" idx="4"/>
            <a:endCxn id="525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34" name=""/>
          <p:cNvCxnSpPr>
            <a:stCxn id="532" idx="2"/>
            <a:endCxn id="531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35" name=""/>
          <p:cNvCxnSpPr>
            <a:stCxn id="532" idx="3"/>
            <a:endCxn id="523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36" name=""/>
          <p:cNvCxnSpPr>
            <a:stCxn id="523" idx="7"/>
            <a:endCxn id="531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37" name=""/>
          <p:cNvCxnSpPr>
            <a:stCxn id="532" idx="7"/>
            <a:endCxn id="529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38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4" name=""/>
          <p:cNvCxnSpPr>
            <a:stCxn id="538" idx="6"/>
            <a:endCxn id="543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45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894280" y="6237360"/>
            <a:ext cx="347760" cy="404640"/>
          </a:xfrm>
          <a:prstGeom prst="upArrow">
            <a:avLst>
              <a:gd name="adj1" fmla="val 49769"/>
              <a:gd name="adj2" fmla="val 6114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5562720" y="403848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F, A) (F, E) (F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620120" y="5410080"/>
            <a:ext cx="347400" cy="405000"/>
          </a:xfrm>
          <a:prstGeom prst="upArrow">
            <a:avLst>
              <a:gd name="adj1" fmla="val 49769"/>
              <a:gd name="adj2" fmla="val 61264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9" name=""/>
          <p:cNvCxnSpPr>
            <a:stCxn id="531" idx="3"/>
            <a:endCxn id="523" idx="7"/>
          </p:cNvCxnSpPr>
          <p:nvPr/>
        </p:nvCxnSpPr>
        <p:spPr>
          <a:xfrm flipH="1">
            <a:off x="2545560" y="3544920"/>
            <a:ext cx="470520" cy="682920"/>
          </a:xfrm>
          <a:prstGeom prst="straightConnector1">
            <a:avLst/>
          </a:prstGeom>
          <a:ln w="50760">
            <a:solidFill>
              <a:srgbClr val="a50021"/>
            </a:solidFill>
            <a:miter/>
          </a:ln>
        </p:spPr>
      </p:cxnSp>
      <p:sp>
        <p:nvSpPr>
          <p:cNvPr id="550" name=""/>
          <p:cNvSpPr/>
          <p:nvPr/>
        </p:nvSpPr>
        <p:spPr>
          <a:xfrm>
            <a:off x="216000" y="2300400"/>
            <a:ext cx="1676160" cy="60948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 alread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C5BBE-2177-4390-B5C4-53B9F0D2BBB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5510160" y="491184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A, F) (A, C) (A, B) (A,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553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6" name=""/>
          <p:cNvCxnSpPr>
            <a:stCxn id="553" idx="0"/>
            <a:endCxn id="554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57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8" name=""/>
          <p:cNvCxnSpPr>
            <a:stCxn id="554" idx="5"/>
            <a:endCxn id="557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59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0" name=""/>
          <p:cNvCxnSpPr>
            <a:stCxn id="554" idx="6"/>
            <a:endCxn id="559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61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3" name=""/>
          <p:cNvCxnSpPr>
            <a:stCxn id="554" idx="4"/>
            <a:endCxn id="555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64" name=""/>
          <p:cNvCxnSpPr>
            <a:stCxn id="562" idx="2"/>
            <a:endCxn id="561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65" name=""/>
          <p:cNvCxnSpPr>
            <a:stCxn id="562" idx="3"/>
            <a:endCxn id="553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66" name=""/>
          <p:cNvCxnSpPr>
            <a:stCxn id="553" idx="7"/>
            <a:endCxn id="561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67" name=""/>
          <p:cNvCxnSpPr>
            <a:stCxn id="562" idx="7"/>
            <a:endCxn id="559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68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4" name=""/>
          <p:cNvCxnSpPr>
            <a:stCxn id="568" idx="6"/>
            <a:endCxn id="573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75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894280" y="6237360"/>
            <a:ext cx="347760" cy="404640"/>
          </a:xfrm>
          <a:prstGeom prst="upArrow">
            <a:avLst>
              <a:gd name="adj1" fmla="val 49769"/>
              <a:gd name="adj2" fmla="val 6114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562720" y="403848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F, A) (F, E) (F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8077320" y="5410080"/>
            <a:ext cx="347400" cy="405000"/>
          </a:xfrm>
          <a:prstGeom prst="upArrow">
            <a:avLst>
              <a:gd name="adj1" fmla="val 49769"/>
              <a:gd name="adj2" fmla="val 61264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400800" y="3809880"/>
            <a:ext cx="1447920" cy="685800"/>
          </a:xfrm>
          <a:prstGeom prst="downArrowCallout">
            <a:avLst>
              <a:gd name="adj1" fmla="val 24321"/>
              <a:gd name="adj2" fmla="val 28981"/>
              <a:gd name="adj3" fmla="val 20370"/>
              <a:gd name="adj4" fmla="val 55556"/>
            </a:avLst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ed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2A35D-1454-40D9-86B8-75E36798917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5510160" y="491184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A, F) (A, C) (A, B) (A,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582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5" name=""/>
          <p:cNvCxnSpPr>
            <a:stCxn id="582" idx="0"/>
            <a:endCxn id="583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86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7" name=""/>
          <p:cNvCxnSpPr>
            <a:stCxn id="583" idx="5"/>
            <a:endCxn id="586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88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9" name=""/>
          <p:cNvCxnSpPr>
            <a:stCxn id="583" idx="6"/>
            <a:endCxn id="588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90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2" name=""/>
          <p:cNvCxnSpPr>
            <a:stCxn id="583" idx="4"/>
            <a:endCxn id="584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93" name=""/>
          <p:cNvCxnSpPr>
            <a:stCxn id="591" idx="2"/>
            <a:endCxn id="590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94" name=""/>
          <p:cNvCxnSpPr>
            <a:stCxn id="591" idx="3"/>
            <a:endCxn id="582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95" name=""/>
          <p:cNvCxnSpPr>
            <a:stCxn id="582" idx="7"/>
            <a:endCxn id="590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96" name=""/>
          <p:cNvCxnSpPr>
            <a:stCxn id="591" idx="7"/>
            <a:endCxn id="588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97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3" name=""/>
          <p:cNvCxnSpPr>
            <a:stCxn id="597" idx="6"/>
            <a:endCxn id="602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04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553080" y="6237360"/>
            <a:ext cx="347760" cy="404640"/>
          </a:xfrm>
          <a:prstGeom prst="upArrow">
            <a:avLst>
              <a:gd name="adj1" fmla="val 49769"/>
              <a:gd name="adj2" fmla="val 6114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6" name=""/>
          <p:cNvCxnSpPr>
            <a:stCxn id="586" idx="1"/>
            <a:endCxn id="583" idx="5"/>
          </p:cNvCxnSpPr>
          <p:nvPr/>
        </p:nvCxnSpPr>
        <p:spPr>
          <a:xfrm flipH="1" flipV="1">
            <a:off x="2545920" y="1336320"/>
            <a:ext cx="1766160" cy="1116720"/>
          </a:xfrm>
          <a:prstGeom prst="straightConnector1">
            <a:avLst/>
          </a:prstGeom>
          <a:ln w="50760">
            <a:solidFill>
              <a:srgbClr val="a50021"/>
            </a:solidFill>
            <a:miter/>
          </a:ln>
        </p:spPr>
      </p:cxnSp>
      <p:grpSp>
        <p:nvGrpSpPr>
          <p:cNvPr id="607" name=""/>
          <p:cNvGrpSpPr/>
          <p:nvPr/>
        </p:nvGrpSpPr>
        <p:grpSpPr>
          <a:xfrm>
            <a:off x="2201760" y="2260440"/>
            <a:ext cx="2362320" cy="609840"/>
            <a:chOff x="2201760" y="2260440"/>
            <a:chExt cx="2362320" cy="609840"/>
          </a:xfrm>
        </p:grpSpPr>
        <p:sp>
          <p:nvSpPr>
            <p:cNvPr id="608" name=""/>
            <p:cNvSpPr/>
            <p:nvPr/>
          </p:nvSpPr>
          <p:spPr>
            <a:xfrm>
              <a:off x="2201760" y="2260440"/>
              <a:ext cx="1676520" cy="60984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 newly discove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259160" y="2413080"/>
              <a:ext cx="304920" cy="3045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B94AB-1ABB-4908-9B69-EB1EE0AB416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5510160" y="491184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A, F) (A, C) (A, B) (A,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612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5" name=""/>
          <p:cNvCxnSpPr>
            <a:stCxn id="612" idx="0"/>
            <a:endCxn id="613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16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7" name=""/>
          <p:cNvCxnSpPr>
            <a:stCxn id="613" idx="5"/>
            <a:endCxn id="616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18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9" name=""/>
          <p:cNvCxnSpPr>
            <a:stCxn id="613" idx="6"/>
            <a:endCxn id="618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20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2" name=""/>
          <p:cNvCxnSpPr>
            <a:stCxn id="613" idx="4"/>
            <a:endCxn id="614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23" name=""/>
          <p:cNvCxnSpPr>
            <a:stCxn id="621" idx="2"/>
            <a:endCxn id="620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24" name=""/>
          <p:cNvCxnSpPr>
            <a:stCxn id="621" idx="3"/>
            <a:endCxn id="612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25" name=""/>
          <p:cNvCxnSpPr>
            <a:stCxn id="612" idx="7"/>
            <a:endCxn id="620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26" name=""/>
          <p:cNvCxnSpPr>
            <a:stCxn id="621" idx="7"/>
            <a:endCxn id="618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27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3" name=""/>
          <p:cNvCxnSpPr>
            <a:stCxn id="627" idx="6"/>
            <a:endCxn id="632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34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553080" y="6237360"/>
            <a:ext cx="347760" cy="404640"/>
          </a:xfrm>
          <a:prstGeom prst="upArrow">
            <a:avLst>
              <a:gd name="adj1" fmla="val 49769"/>
              <a:gd name="adj2" fmla="val 6114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6" name=""/>
          <p:cNvCxnSpPr>
            <a:stCxn id="616" idx="1"/>
            <a:endCxn id="613" idx="5"/>
          </p:cNvCxnSpPr>
          <p:nvPr/>
        </p:nvCxnSpPr>
        <p:spPr>
          <a:xfrm flipH="1" flipV="1">
            <a:off x="2545920" y="1336320"/>
            <a:ext cx="1766160" cy="1116720"/>
          </a:xfrm>
          <a:prstGeom prst="straightConnector1">
            <a:avLst/>
          </a:prstGeom>
          <a:ln w="50760">
            <a:solidFill>
              <a:srgbClr val="a50021"/>
            </a:solidFill>
            <a:miter/>
          </a:ln>
        </p:spPr>
      </p:cxnSp>
      <p:sp>
        <p:nvSpPr>
          <p:cNvPr id="637" name=""/>
          <p:cNvSpPr/>
          <p:nvPr/>
        </p:nvSpPr>
        <p:spPr>
          <a:xfrm>
            <a:off x="5423040" y="401148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C, 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858000" y="533700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216000" y="2300400"/>
            <a:ext cx="1676160" cy="60948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alread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E3024-7D6C-4EE9-8BC5-B0561E954B2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/>
          <p:nvPr/>
        </p:nvSpPr>
        <p:spPr>
          <a:xfrm>
            <a:off x="5510160" y="491184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A, F) (A, C) (A, B) (A,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642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5" name=""/>
          <p:cNvCxnSpPr>
            <a:stCxn id="642" idx="0"/>
            <a:endCxn id="643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46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7" name=""/>
          <p:cNvCxnSpPr>
            <a:stCxn id="643" idx="5"/>
            <a:endCxn id="646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48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9" name=""/>
          <p:cNvCxnSpPr>
            <a:stCxn id="643" idx="6"/>
            <a:endCxn id="648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50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2" name=""/>
          <p:cNvCxnSpPr>
            <a:stCxn id="643" idx="4"/>
            <a:endCxn id="644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53" name=""/>
          <p:cNvCxnSpPr>
            <a:stCxn id="651" idx="2"/>
            <a:endCxn id="650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54" name=""/>
          <p:cNvCxnSpPr>
            <a:stCxn id="651" idx="3"/>
            <a:endCxn id="642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55" name=""/>
          <p:cNvCxnSpPr>
            <a:stCxn id="642" idx="7"/>
            <a:endCxn id="650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56" name=""/>
          <p:cNvCxnSpPr>
            <a:stCxn id="651" idx="7"/>
            <a:endCxn id="648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57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3" name=""/>
          <p:cNvCxnSpPr>
            <a:stCxn id="657" idx="6"/>
            <a:endCxn id="662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64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553080" y="6237360"/>
            <a:ext cx="347760" cy="404640"/>
          </a:xfrm>
          <a:prstGeom prst="upArrow">
            <a:avLst>
              <a:gd name="adj1" fmla="val 49769"/>
              <a:gd name="adj2" fmla="val 6114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5423040" y="401148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C, 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7315200" y="533700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400800" y="3809880"/>
            <a:ext cx="1447920" cy="685800"/>
          </a:xfrm>
          <a:prstGeom prst="downArrowCallout">
            <a:avLst>
              <a:gd name="adj1" fmla="val 24321"/>
              <a:gd name="adj2" fmla="val 28981"/>
              <a:gd name="adj3" fmla="val 20370"/>
              <a:gd name="adj4" fmla="val 55556"/>
            </a:avLst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ed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1FD70-FA87-4473-A78A-906FC6514C7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510160" y="491184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A, F) (A, C) (A, B) (A,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"/>
          <p:cNvCxnSpPr>
            <a:stCxn id="100" idx="0"/>
            <a:endCxn id="101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04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"/>
          <p:cNvCxnSpPr>
            <a:stCxn id="101" idx="5"/>
            <a:endCxn id="104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06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>
            <a:stCxn id="101" idx="6"/>
            <a:endCxn id="106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08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"/>
          <p:cNvCxnSpPr>
            <a:stCxn id="101" idx="4"/>
            <a:endCxn id="102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1" name=""/>
          <p:cNvCxnSpPr>
            <a:stCxn id="109" idx="2"/>
            <a:endCxn id="108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2" name=""/>
          <p:cNvCxnSpPr>
            <a:stCxn id="109" idx="3"/>
            <a:endCxn id="100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3" name=""/>
          <p:cNvCxnSpPr>
            <a:stCxn id="100" idx="7"/>
            <a:endCxn id="108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4" name=""/>
          <p:cNvCxnSpPr>
            <a:stCxn id="109" idx="7"/>
            <a:endCxn id="106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15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15" idx="6"/>
            <a:endCxn id="120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22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894280" y="6237360"/>
            <a:ext cx="347760" cy="404640"/>
          </a:xfrm>
          <a:prstGeom prst="upArrow">
            <a:avLst>
              <a:gd name="adj1" fmla="val 49769"/>
              <a:gd name="adj2" fmla="val 6114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00" idx="0"/>
            <a:endCxn id="101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50760">
            <a:solidFill>
              <a:srgbClr val="a50021"/>
            </a:solidFill>
            <a:miter/>
          </a:ln>
        </p:spPr>
      </p:cxnSp>
      <p:sp>
        <p:nvSpPr>
          <p:cNvPr id="125" name=""/>
          <p:cNvSpPr/>
          <p:nvPr/>
        </p:nvSpPr>
        <p:spPr>
          <a:xfrm>
            <a:off x="304920" y="3962520"/>
            <a:ext cx="1676160" cy="60948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newly 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A706F-C1BB-4897-896C-C5E8269CB91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5510160" y="491184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A, F) (A, C) (A, B) (A,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671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4" name=""/>
          <p:cNvCxnSpPr>
            <a:stCxn id="671" idx="0"/>
            <a:endCxn id="672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75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6" name=""/>
          <p:cNvCxnSpPr>
            <a:stCxn id="672" idx="5"/>
            <a:endCxn id="675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77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8" name=""/>
          <p:cNvCxnSpPr>
            <a:stCxn id="672" idx="6"/>
            <a:endCxn id="677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79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1" name=""/>
          <p:cNvCxnSpPr>
            <a:stCxn id="672" idx="4"/>
            <a:endCxn id="673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82" name=""/>
          <p:cNvCxnSpPr>
            <a:stCxn id="680" idx="2"/>
            <a:endCxn id="679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83" name=""/>
          <p:cNvCxnSpPr>
            <a:stCxn id="680" idx="3"/>
            <a:endCxn id="671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84" name=""/>
          <p:cNvCxnSpPr>
            <a:stCxn id="671" idx="7"/>
            <a:endCxn id="679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85" name=""/>
          <p:cNvCxnSpPr>
            <a:stCxn id="680" idx="7"/>
            <a:endCxn id="677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86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2" name=""/>
          <p:cNvCxnSpPr>
            <a:stCxn id="686" idx="6"/>
            <a:endCxn id="691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93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7238880" y="6237360"/>
            <a:ext cx="347760" cy="404640"/>
          </a:xfrm>
          <a:prstGeom prst="upArrow">
            <a:avLst>
              <a:gd name="adj1" fmla="val 49769"/>
              <a:gd name="adj2" fmla="val 6114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5" name=""/>
          <p:cNvCxnSpPr>
            <a:stCxn id="673" idx="1"/>
            <a:endCxn id="672" idx="4"/>
          </p:cNvCxnSpPr>
          <p:nvPr/>
        </p:nvCxnSpPr>
        <p:spPr>
          <a:xfrm flipH="1" flipV="1">
            <a:off x="2437560" y="1380240"/>
            <a:ext cx="578520" cy="1072440"/>
          </a:xfrm>
          <a:prstGeom prst="straightConnector1">
            <a:avLst/>
          </a:prstGeom>
          <a:ln w="50760">
            <a:solidFill>
              <a:srgbClr val="a50021"/>
            </a:solidFill>
            <a:miter/>
          </a:ln>
        </p:spPr>
      </p:cxnSp>
      <p:grpSp>
        <p:nvGrpSpPr>
          <p:cNvPr id="696" name=""/>
          <p:cNvGrpSpPr/>
          <p:nvPr/>
        </p:nvGrpSpPr>
        <p:grpSpPr>
          <a:xfrm>
            <a:off x="914400" y="2260440"/>
            <a:ext cx="2362320" cy="609840"/>
            <a:chOff x="914400" y="2260440"/>
            <a:chExt cx="2362320" cy="609840"/>
          </a:xfrm>
        </p:grpSpPr>
        <p:sp>
          <p:nvSpPr>
            <p:cNvPr id="697" name=""/>
            <p:cNvSpPr/>
            <p:nvPr/>
          </p:nvSpPr>
          <p:spPr>
            <a:xfrm>
              <a:off x="914400" y="2260440"/>
              <a:ext cx="1676520" cy="60984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 newly discove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971800" y="2413080"/>
              <a:ext cx="304920" cy="3045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F502A-0206-408C-BAC6-3EB6419E038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/>
          <p:nvPr/>
        </p:nvSpPr>
        <p:spPr>
          <a:xfrm>
            <a:off x="5510160" y="491184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A, F) (A, C) (A, B) (A,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701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4" name=""/>
          <p:cNvCxnSpPr>
            <a:stCxn id="701" idx="0"/>
            <a:endCxn id="702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05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6" name=""/>
          <p:cNvCxnSpPr>
            <a:stCxn id="702" idx="5"/>
            <a:endCxn id="705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07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8" name=""/>
          <p:cNvCxnSpPr>
            <a:stCxn id="702" idx="6"/>
            <a:endCxn id="707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09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1" name=""/>
          <p:cNvCxnSpPr>
            <a:stCxn id="702" idx="4"/>
            <a:endCxn id="703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12" name=""/>
          <p:cNvCxnSpPr>
            <a:stCxn id="710" idx="2"/>
            <a:endCxn id="709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13" name=""/>
          <p:cNvCxnSpPr>
            <a:stCxn id="710" idx="3"/>
            <a:endCxn id="701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14" name=""/>
          <p:cNvCxnSpPr>
            <a:stCxn id="701" idx="7"/>
            <a:endCxn id="709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15" name=""/>
          <p:cNvCxnSpPr>
            <a:stCxn id="710" idx="7"/>
            <a:endCxn id="707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16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2" name=""/>
          <p:cNvCxnSpPr>
            <a:stCxn id="716" idx="6"/>
            <a:endCxn id="721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23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7238880" y="6237360"/>
            <a:ext cx="347760" cy="404640"/>
          </a:xfrm>
          <a:prstGeom prst="upArrow">
            <a:avLst>
              <a:gd name="adj1" fmla="val 49769"/>
              <a:gd name="adj2" fmla="val 6114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5" name=""/>
          <p:cNvCxnSpPr>
            <a:stCxn id="703" idx="1"/>
            <a:endCxn id="702" idx="4"/>
          </p:cNvCxnSpPr>
          <p:nvPr/>
        </p:nvCxnSpPr>
        <p:spPr>
          <a:xfrm flipH="1" flipV="1">
            <a:off x="2437560" y="1380240"/>
            <a:ext cx="578520" cy="1072440"/>
          </a:xfrm>
          <a:prstGeom prst="straightConnector1">
            <a:avLst/>
          </a:prstGeom>
          <a:ln w="50760">
            <a:solidFill>
              <a:srgbClr val="a50021"/>
            </a:solidFill>
            <a:miter/>
          </a:ln>
        </p:spPr>
      </p:cxnSp>
      <p:sp>
        <p:nvSpPr>
          <p:cNvPr id="726" name=""/>
          <p:cNvSpPr/>
          <p:nvPr/>
        </p:nvSpPr>
        <p:spPr>
          <a:xfrm>
            <a:off x="5423040" y="401148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B, 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6858000" y="533700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216000" y="2300400"/>
            <a:ext cx="1676160" cy="60948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alread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F5D98-838B-4D1E-B785-ECB6413CF29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5510160" y="491184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A, F) (A, C) (A, B) (A,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731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stCxn id="731" idx="0"/>
            <a:endCxn id="732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35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6" name=""/>
          <p:cNvCxnSpPr>
            <a:stCxn id="732" idx="5"/>
            <a:endCxn id="735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37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8" name=""/>
          <p:cNvCxnSpPr>
            <a:stCxn id="732" idx="6"/>
            <a:endCxn id="737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39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1" name=""/>
          <p:cNvCxnSpPr>
            <a:stCxn id="732" idx="4"/>
            <a:endCxn id="733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42" name=""/>
          <p:cNvCxnSpPr>
            <a:stCxn id="740" idx="2"/>
            <a:endCxn id="739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43" name=""/>
          <p:cNvCxnSpPr>
            <a:stCxn id="740" idx="3"/>
            <a:endCxn id="731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44" name=""/>
          <p:cNvCxnSpPr>
            <a:stCxn id="731" idx="7"/>
            <a:endCxn id="739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45" name=""/>
          <p:cNvCxnSpPr>
            <a:stCxn id="740" idx="7"/>
            <a:endCxn id="737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46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2" name=""/>
          <p:cNvCxnSpPr>
            <a:stCxn id="746" idx="6"/>
            <a:endCxn id="751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53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7238880" y="6237360"/>
            <a:ext cx="347760" cy="404640"/>
          </a:xfrm>
          <a:prstGeom prst="upArrow">
            <a:avLst>
              <a:gd name="adj1" fmla="val 49769"/>
              <a:gd name="adj2" fmla="val 6114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5423040" y="401148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B, 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7315200" y="533700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6400800" y="3809880"/>
            <a:ext cx="1447920" cy="685800"/>
          </a:xfrm>
          <a:prstGeom prst="downArrowCallout">
            <a:avLst>
              <a:gd name="adj1" fmla="val 24321"/>
              <a:gd name="adj2" fmla="val 28981"/>
              <a:gd name="adj3" fmla="val 20370"/>
              <a:gd name="adj4" fmla="val 55556"/>
            </a:avLst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ed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B6CA7-41A2-4377-81E4-B613F929430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5510160" y="491184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A, F) (A, C) (A, B) (A,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760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3" name=""/>
          <p:cNvCxnSpPr>
            <a:stCxn id="760" idx="0"/>
            <a:endCxn id="761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64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5" name=""/>
          <p:cNvCxnSpPr>
            <a:stCxn id="761" idx="5"/>
            <a:endCxn id="764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66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7" name=""/>
          <p:cNvCxnSpPr>
            <a:stCxn id="761" idx="6"/>
            <a:endCxn id="766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68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0" name=""/>
          <p:cNvCxnSpPr>
            <a:stCxn id="761" idx="4"/>
            <a:endCxn id="762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71" name=""/>
          <p:cNvCxnSpPr>
            <a:stCxn id="769" idx="2"/>
            <a:endCxn id="768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72" name=""/>
          <p:cNvCxnSpPr>
            <a:stCxn id="769" idx="3"/>
            <a:endCxn id="760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73" name=""/>
          <p:cNvCxnSpPr>
            <a:stCxn id="760" idx="7"/>
            <a:endCxn id="768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74" name=""/>
          <p:cNvCxnSpPr>
            <a:stCxn id="769" idx="7"/>
            <a:endCxn id="766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75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1" name=""/>
          <p:cNvCxnSpPr>
            <a:stCxn id="775" idx="6"/>
            <a:endCxn id="780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82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7848720" y="6237360"/>
            <a:ext cx="347400" cy="404640"/>
          </a:xfrm>
          <a:prstGeom prst="upArrow">
            <a:avLst>
              <a:gd name="adj1" fmla="val 49769"/>
              <a:gd name="adj2" fmla="val 61209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4" name=""/>
          <p:cNvCxnSpPr>
            <a:stCxn id="766" idx="1"/>
            <a:endCxn id="761" idx="6"/>
          </p:cNvCxnSpPr>
          <p:nvPr/>
        </p:nvCxnSpPr>
        <p:spPr>
          <a:xfrm flipH="1" flipV="1">
            <a:off x="2598120" y="1220760"/>
            <a:ext cx="2780280" cy="1232280"/>
          </a:xfrm>
          <a:prstGeom prst="straightConnector1">
            <a:avLst/>
          </a:prstGeom>
          <a:ln w="50760">
            <a:solidFill>
              <a:srgbClr val="a50021"/>
            </a:solidFill>
            <a:miter/>
          </a:ln>
        </p:spPr>
      </p:cxnSp>
      <p:sp>
        <p:nvSpPr>
          <p:cNvPr id="785" name=""/>
          <p:cNvSpPr/>
          <p:nvPr/>
        </p:nvSpPr>
        <p:spPr>
          <a:xfrm>
            <a:off x="216000" y="2300400"/>
            <a:ext cx="1676160" cy="60948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 alread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D27F9-E0DC-4E86-A05F-703663F38E3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/>
          <p:nvPr/>
        </p:nvSpPr>
        <p:spPr>
          <a:xfrm>
            <a:off x="5510160" y="491184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A, F) (A, C) (A, B) (A,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788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1" name=""/>
          <p:cNvCxnSpPr>
            <a:stCxn id="788" idx="0"/>
            <a:endCxn id="789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92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3" name=""/>
          <p:cNvCxnSpPr>
            <a:stCxn id="789" idx="5"/>
            <a:endCxn id="792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94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5" name=""/>
          <p:cNvCxnSpPr>
            <a:stCxn id="789" idx="6"/>
            <a:endCxn id="794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96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8" name=""/>
          <p:cNvCxnSpPr>
            <a:stCxn id="789" idx="4"/>
            <a:endCxn id="790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99" name=""/>
          <p:cNvCxnSpPr>
            <a:stCxn id="797" idx="2"/>
            <a:endCxn id="796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00" name=""/>
          <p:cNvCxnSpPr>
            <a:stCxn id="797" idx="3"/>
            <a:endCxn id="788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01" name=""/>
          <p:cNvCxnSpPr>
            <a:stCxn id="788" idx="7"/>
            <a:endCxn id="796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02" name=""/>
          <p:cNvCxnSpPr>
            <a:stCxn id="797" idx="7"/>
            <a:endCxn id="794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03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9" name=""/>
          <p:cNvCxnSpPr>
            <a:stCxn id="803" idx="6"/>
            <a:endCxn id="808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10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8381880" y="6237360"/>
            <a:ext cx="347760" cy="404640"/>
          </a:xfrm>
          <a:prstGeom prst="upArrow">
            <a:avLst>
              <a:gd name="adj1" fmla="val 49769"/>
              <a:gd name="adj2" fmla="val 6114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6400800" y="4648320"/>
            <a:ext cx="1447920" cy="685800"/>
          </a:xfrm>
          <a:prstGeom prst="downArrowCallout">
            <a:avLst>
              <a:gd name="adj1" fmla="val 24321"/>
              <a:gd name="adj2" fmla="val 28981"/>
              <a:gd name="adj3" fmla="val 20370"/>
              <a:gd name="adj4" fmla="val 55556"/>
            </a:avLst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ed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A905D-8336-4004-B7FE-2CF0C8CF4E5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814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7" name=""/>
          <p:cNvCxnSpPr>
            <a:stCxn id="814" idx="0"/>
            <a:endCxn id="815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18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9" name=""/>
          <p:cNvCxnSpPr>
            <a:stCxn id="815" idx="5"/>
            <a:endCxn id="818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20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1" name=""/>
          <p:cNvCxnSpPr>
            <a:stCxn id="815" idx="6"/>
            <a:endCxn id="820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22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4" name=""/>
          <p:cNvCxnSpPr>
            <a:stCxn id="815" idx="4"/>
            <a:endCxn id="816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25" name=""/>
          <p:cNvCxnSpPr>
            <a:stCxn id="823" idx="2"/>
            <a:endCxn id="822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26" name=""/>
          <p:cNvCxnSpPr>
            <a:stCxn id="823" idx="3"/>
            <a:endCxn id="814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27" name=""/>
          <p:cNvCxnSpPr>
            <a:stCxn id="814" idx="7"/>
            <a:endCxn id="822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28" name=""/>
          <p:cNvCxnSpPr>
            <a:stCxn id="823" idx="7"/>
            <a:endCxn id="820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29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5" name=""/>
          <p:cNvCxnSpPr>
            <a:stCxn id="829" idx="6"/>
            <a:endCxn id="834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36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D56D0-3841-4ADF-93DA-5E91B5A2DC7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838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1" name=""/>
          <p:cNvCxnSpPr>
            <a:stCxn id="838" idx="0"/>
            <a:endCxn id="839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42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3" name=""/>
          <p:cNvCxnSpPr>
            <a:stCxn id="839" idx="5"/>
            <a:endCxn id="842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44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5" name=""/>
          <p:cNvCxnSpPr>
            <a:stCxn id="839" idx="6"/>
            <a:endCxn id="844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46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8" name=""/>
          <p:cNvCxnSpPr>
            <a:stCxn id="839" idx="4"/>
            <a:endCxn id="840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49" name=""/>
          <p:cNvCxnSpPr>
            <a:stCxn id="847" idx="2"/>
            <a:endCxn id="846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50" name=""/>
          <p:cNvCxnSpPr>
            <a:stCxn id="847" idx="3"/>
            <a:endCxn id="838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51" name=""/>
          <p:cNvCxnSpPr>
            <a:stCxn id="838" idx="7"/>
            <a:endCxn id="846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52" name=""/>
          <p:cNvCxnSpPr>
            <a:stCxn id="847" idx="7"/>
            <a:endCxn id="844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53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9" name=""/>
          <p:cNvCxnSpPr>
            <a:stCxn id="853" idx="6"/>
            <a:endCxn id="858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60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5510160" y="485136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H, 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6934320" y="6176880"/>
            <a:ext cx="347400" cy="405000"/>
          </a:xfrm>
          <a:prstGeom prst="upArrow">
            <a:avLst>
              <a:gd name="adj1" fmla="val 49769"/>
              <a:gd name="adj2" fmla="val 61264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3" name=""/>
          <p:cNvCxnSpPr>
            <a:stCxn id="858" idx="2"/>
            <a:endCxn id="853" idx="6"/>
          </p:cNvCxnSpPr>
          <p:nvPr/>
        </p:nvCxnSpPr>
        <p:spPr>
          <a:xfrm flipH="1">
            <a:off x="5618880" y="1352160"/>
            <a:ext cx="513720" cy="1080"/>
          </a:xfrm>
          <a:prstGeom prst="straightConnector1">
            <a:avLst/>
          </a:prstGeom>
          <a:ln w="50760">
            <a:solidFill>
              <a:srgbClr val="a50021"/>
            </a:solidFill>
            <a:miter/>
          </a:ln>
        </p:spPr>
      </p:cxnSp>
      <p:grpSp>
        <p:nvGrpSpPr>
          <p:cNvPr id="864" name=""/>
          <p:cNvGrpSpPr/>
          <p:nvPr/>
        </p:nvGrpSpPr>
        <p:grpSpPr>
          <a:xfrm>
            <a:off x="6145200" y="1203480"/>
            <a:ext cx="2209320" cy="609480"/>
            <a:chOff x="6145200" y="1203480"/>
            <a:chExt cx="2209320" cy="609480"/>
          </a:xfrm>
        </p:grpSpPr>
        <p:sp>
          <p:nvSpPr>
            <p:cNvPr id="865" name=""/>
            <p:cNvSpPr/>
            <p:nvPr/>
          </p:nvSpPr>
          <p:spPr>
            <a:xfrm>
              <a:off x="6678360" y="1203480"/>
              <a:ext cx="1676160" cy="60948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 newly discove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145200" y="1203480"/>
              <a:ext cx="304560" cy="3045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D2B1D-96BA-4642-8AA4-EDB44AE84A3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868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1" name=""/>
          <p:cNvCxnSpPr>
            <a:stCxn id="868" idx="0"/>
            <a:endCxn id="869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72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3" name=""/>
          <p:cNvCxnSpPr>
            <a:stCxn id="869" idx="5"/>
            <a:endCxn id="872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74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5" name=""/>
          <p:cNvCxnSpPr>
            <a:stCxn id="869" idx="6"/>
            <a:endCxn id="874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76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8" name=""/>
          <p:cNvCxnSpPr>
            <a:stCxn id="869" idx="4"/>
            <a:endCxn id="870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79" name=""/>
          <p:cNvCxnSpPr>
            <a:stCxn id="877" idx="2"/>
            <a:endCxn id="876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80" name=""/>
          <p:cNvCxnSpPr>
            <a:stCxn id="877" idx="3"/>
            <a:endCxn id="868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81" name=""/>
          <p:cNvCxnSpPr>
            <a:stCxn id="868" idx="7"/>
            <a:endCxn id="876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82" name=""/>
          <p:cNvCxnSpPr>
            <a:stCxn id="877" idx="7"/>
            <a:endCxn id="874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83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9" name=""/>
          <p:cNvCxnSpPr>
            <a:stCxn id="883" idx="6"/>
            <a:endCxn id="888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90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5510160" y="485136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H, 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6934320" y="6176880"/>
            <a:ext cx="347400" cy="405000"/>
          </a:xfrm>
          <a:prstGeom prst="upArrow">
            <a:avLst>
              <a:gd name="adj1" fmla="val 49769"/>
              <a:gd name="adj2" fmla="val 61264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3" name=""/>
          <p:cNvCxnSpPr>
            <a:stCxn id="888" idx="2"/>
            <a:endCxn id="883" idx="6"/>
          </p:cNvCxnSpPr>
          <p:nvPr/>
        </p:nvCxnSpPr>
        <p:spPr>
          <a:xfrm flipH="1">
            <a:off x="5618880" y="1352160"/>
            <a:ext cx="513720" cy="1080"/>
          </a:xfrm>
          <a:prstGeom prst="straightConnector1">
            <a:avLst/>
          </a:prstGeom>
          <a:ln w="50760">
            <a:solidFill>
              <a:srgbClr val="a50021"/>
            </a:solidFill>
            <a:miter/>
          </a:ln>
        </p:spPr>
      </p:cxnSp>
      <p:sp>
        <p:nvSpPr>
          <p:cNvPr id="894" name=""/>
          <p:cNvSpPr/>
          <p:nvPr/>
        </p:nvSpPr>
        <p:spPr>
          <a:xfrm>
            <a:off x="5346720" y="396252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I, 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6770520" y="5288040"/>
            <a:ext cx="347760" cy="404640"/>
          </a:xfrm>
          <a:prstGeom prst="upArrow">
            <a:avLst>
              <a:gd name="adj1" fmla="val 49769"/>
              <a:gd name="adj2" fmla="val 6114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216000" y="2300400"/>
            <a:ext cx="1676160" cy="60948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 alread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72481-8979-48C8-951C-01C414A388A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898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1" name=""/>
          <p:cNvCxnSpPr>
            <a:stCxn id="898" idx="0"/>
            <a:endCxn id="899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02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3" name=""/>
          <p:cNvCxnSpPr>
            <a:stCxn id="899" idx="5"/>
            <a:endCxn id="902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04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5" name=""/>
          <p:cNvCxnSpPr>
            <a:stCxn id="899" idx="6"/>
            <a:endCxn id="904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06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8" name=""/>
          <p:cNvCxnSpPr>
            <a:stCxn id="899" idx="4"/>
            <a:endCxn id="900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09" name=""/>
          <p:cNvCxnSpPr>
            <a:stCxn id="907" idx="2"/>
            <a:endCxn id="906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10" name=""/>
          <p:cNvCxnSpPr>
            <a:stCxn id="907" idx="3"/>
            <a:endCxn id="898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11" name=""/>
          <p:cNvCxnSpPr>
            <a:stCxn id="898" idx="7"/>
            <a:endCxn id="906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12" name=""/>
          <p:cNvCxnSpPr>
            <a:stCxn id="907" idx="7"/>
            <a:endCxn id="904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13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9" name=""/>
          <p:cNvCxnSpPr>
            <a:stCxn id="913" idx="6"/>
            <a:endCxn id="918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20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5510160" y="485136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H, 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6934320" y="6176880"/>
            <a:ext cx="347400" cy="405000"/>
          </a:xfrm>
          <a:prstGeom prst="upArrow">
            <a:avLst>
              <a:gd name="adj1" fmla="val 49769"/>
              <a:gd name="adj2" fmla="val 61264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5346720" y="396252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I, 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7238880" y="5288040"/>
            <a:ext cx="347760" cy="404640"/>
          </a:xfrm>
          <a:prstGeom prst="upArrow">
            <a:avLst>
              <a:gd name="adj1" fmla="val 49769"/>
              <a:gd name="adj2" fmla="val 6114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6248520" y="3657600"/>
            <a:ext cx="1447560" cy="685800"/>
          </a:xfrm>
          <a:prstGeom prst="downArrowCallout">
            <a:avLst>
              <a:gd name="adj1" fmla="val 24315"/>
              <a:gd name="adj2" fmla="val 28974"/>
              <a:gd name="adj3" fmla="val 20370"/>
              <a:gd name="adj4" fmla="val 55556"/>
            </a:avLst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ed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01E9D-15E3-45CF-AD8E-6EBC0F65FE7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927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0" name=""/>
          <p:cNvCxnSpPr>
            <a:stCxn id="927" idx="0"/>
            <a:endCxn id="928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31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2" name=""/>
          <p:cNvCxnSpPr>
            <a:stCxn id="928" idx="5"/>
            <a:endCxn id="931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33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4" name=""/>
          <p:cNvCxnSpPr>
            <a:stCxn id="928" idx="6"/>
            <a:endCxn id="933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35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7" name=""/>
          <p:cNvCxnSpPr>
            <a:stCxn id="928" idx="4"/>
            <a:endCxn id="929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38" name=""/>
          <p:cNvCxnSpPr>
            <a:stCxn id="936" idx="2"/>
            <a:endCxn id="935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39" name=""/>
          <p:cNvCxnSpPr>
            <a:stCxn id="936" idx="3"/>
            <a:endCxn id="927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40" name=""/>
          <p:cNvCxnSpPr>
            <a:stCxn id="927" idx="7"/>
            <a:endCxn id="935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41" name=""/>
          <p:cNvCxnSpPr>
            <a:stCxn id="936" idx="7"/>
            <a:endCxn id="933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42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8" name=""/>
          <p:cNvCxnSpPr>
            <a:stCxn id="942" idx="6"/>
            <a:endCxn id="947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49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5510160" y="485136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H, 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7467480" y="617688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6248520" y="4572000"/>
            <a:ext cx="1447560" cy="685800"/>
          </a:xfrm>
          <a:prstGeom prst="downArrowCallout">
            <a:avLst>
              <a:gd name="adj1" fmla="val 24315"/>
              <a:gd name="adj2" fmla="val 28974"/>
              <a:gd name="adj3" fmla="val 20370"/>
              <a:gd name="adj4" fmla="val 55556"/>
            </a:avLst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ed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D840F-7916-4F8B-B056-970CD83ACA6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5510160" y="491184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A, F) (A, C) (A, B) (A,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stCxn id="128" idx="0"/>
            <a:endCxn id="129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"/>
          <p:cNvCxnSpPr>
            <a:stCxn id="129" idx="5"/>
            <a:endCxn id="132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34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6"/>
            <a:endCxn id="134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36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29" idx="4"/>
            <a:endCxn id="130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7" idx="2"/>
            <a:endCxn id="136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7" idx="3"/>
            <a:endCxn id="128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28" idx="7"/>
            <a:endCxn id="136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2" name=""/>
          <p:cNvCxnSpPr>
            <a:stCxn id="137" idx="7"/>
            <a:endCxn id="134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43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"/>
          <p:cNvCxnSpPr>
            <a:stCxn id="143" idx="6"/>
            <a:endCxn id="148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50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894280" y="6237360"/>
            <a:ext cx="347760" cy="404640"/>
          </a:xfrm>
          <a:prstGeom prst="upArrow">
            <a:avLst>
              <a:gd name="adj1" fmla="val 49769"/>
              <a:gd name="adj2" fmla="val 6114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28" idx="0"/>
            <a:endCxn id="129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50760">
            <a:solidFill>
              <a:srgbClr val="a50021"/>
            </a:solidFill>
            <a:miter/>
          </a:ln>
        </p:spPr>
      </p:cxnSp>
      <p:sp>
        <p:nvSpPr>
          <p:cNvPr id="153" name=""/>
          <p:cNvSpPr/>
          <p:nvPr/>
        </p:nvSpPr>
        <p:spPr>
          <a:xfrm>
            <a:off x="5562720" y="403848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F, A) (F, E) (F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324480" y="541008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16000" y="2300400"/>
            <a:ext cx="1676160" cy="60948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alread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03867-D84B-4EF4-BCD3-525308463D0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954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7" name=""/>
          <p:cNvCxnSpPr>
            <a:stCxn id="954" idx="0"/>
            <a:endCxn id="955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58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9" name=""/>
          <p:cNvCxnSpPr>
            <a:stCxn id="955" idx="5"/>
            <a:endCxn id="958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60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1" name=""/>
          <p:cNvCxnSpPr>
            <a:stCxn id="955" idx="6"/>
            <a:endCxn id="960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62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4" name=""/>
          <p:cNvCxnSpPr>
            <a:stCxn id="955" idx="4"/>
            <a:endCxn id="956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65" name=""/>
          <p:cNvCxnSpPr>
            <a:stCxn id="963" idx="2"/>
            <a:endCxn id="962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66" name=""/>
          <p:cNvCxnSpPr>
            <a:stCxn id="963" idx="3"/>
            <a:endCxn id="954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67" name=""/>
          <p:cNvCxnSpPr>
            <a:stCxn id="954" idx="7"/>
            <a:endCxn id="962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68" name=""/>
          <p:cNvCxnSpPr>
            <a:stCxn id="963" idx="7"/>
            <a:endCxn id="960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69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5" name=""/>
          <p:cNvCxnSpPr>
            <a:stCxn id="969" idx="6"/>
            <a:endCxn id="974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76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39C6D-D14A-4834-8EA1-2885E7794C3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510160" y="491184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A, F) (A, C) (A, B) (A,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" name=""/>
          <p:cNvCxnSpPr>
            <a:stCxn id="158" idx="0"/>
            <a:endCxn id="159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62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"/>
          <p:cNvCxnSpPr>
            <a:stCxn id="159" idx="5"/>
            <a:endCxn id="162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64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"/>
          <p:cNvCxnSpPr>
            <a:stCxn id="159" idx="6"/>
            <a:endCxn id="164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66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59" idx="4"/>
            <a:endCxn id="160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67" idx="2"/>
            <a:endCxn id="166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70" name=""/>
          <p:cNvCxnSpPr>
            <a:stCxn id="167" idx="3"/>
            <a:endCxn id="158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71" name=""/>
          <p:cNvCxnSpPr>
            <a:stCxn id="158" idx="7"/>
            <a:endCxn id="166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72" name=""/>
          <p:cNvCxnSpPr>
            <a:stCxn id="167" idx="7"/>
            <a:endCxn id="164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"/>
          <p:cNvCxnSpPr>
            <a:stCxn id="173" idx="6"/>
            <a:endCxn id="178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80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894280" y="6237360"/>
            <a:ext cx="347760" cy="404640"/>
          </a:xfrm>
          <a:prstGeom prst="upArrow">
            <a:avLst>
              <a:gd name="adj1" fmla="val 49769"/>
              <a:gd name="adj2" fmla="val 6114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" name=""/>
          <p:cNvCxnSpPr>
            <a:stCxn id="158" idx="6"/>
            <a:endCxn id="167" idx="3"/>
          </p:cNvCxnSpPr>
          <p:nvPr/>
        </p:nvCxnSpPr>
        <p:spPr>
          <a:xfrm flipV="1">
            <a:off x="2598840" y="3544560"/>
            <a:ext cx="1713600" cy="799200"/>
          </a:xfrm>
          <a:prstGeom prst="straightConnector1">
            <a:avLst/>
          </a:prstGeom>
          <a:ln w="50760">
            <a:solidFill>
              <a:srgbClr val="a50021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5562720" y="403848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F, A) (F, E) (F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967440" y="541008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4267080" y="3276720"/>
            <a:ext cx="2210040" cy="609480"/>
            <a:chOff x="4267080" y="3276720"/>
            <a:chExt cx="2210040" cy="609480"/>
          </a:xfrm>
        </p:grpSpPr>
        <p:sp>
          <p:nvSpPr>
            <p:cNvPr id="186" name=""/>
            <p:cNvSpPr/>
            <p:nvPr/>
          </p:nvSpPr>
          <p:spPr>
            <a:xfrm>
              <a:off x="4800600" y="3276720"/>
              <a:ext cx="1676520" cy="60948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 newly discove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267080" y="3276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51803-65AE-465E-9D93-49050158744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5510160" y="491184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A, F) (A, C) (A, B) (A,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0" idx="0"/>
            <a:endCxn id="191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94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"/>
          <p:cNvCxnSpPr>
            <a:stCxn id="191" idx="5"/>
            <a:endCxn id="194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96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" name=""/>
          <p:cNvCxnSpPr>
            <a:stCxn id="191" idx="6"/>
            <a:endCxn id="196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98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stCxn id="191" idx="4"/>
            <a:endCxn id="192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01" name=""/>
          <p:cNvCxnSpPr>
            <a:stCxn id="199" idx="2"/>
            <a:endCxn id="198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02" name=""/>
          <p:cNvCxnSpPr>
            <a:stCxn id="199" idx="3"/>
            <a:endCxn id="190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03" name=""/>
          <p:cNvCxnSpPr>
            <a:stCxn id="190" idx="7"/>
            <a:endCxn id="198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04" name=""/>
          <p:cNvCxnSpPr>
            <a:stCxn id="199" idx="7"/>
            <a:endCxn id="196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05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205" idx="6"/>
            <a:endCxn id="210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12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894280" y="6237360"/>
            <a:ext cx="347760" cy="404640"/>
          </a:xfrm>
          <a:prstGeom prst="upArrow">
            <a:avLst>
              <a:gd name="adj1" fmla="val 49769"/>
              <a:gd name="adj2" fmla="val 6114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562720" y="403848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F, A) (F, E) (F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67440" y="541008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499000" y="312408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E, G) (E, F) (E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81640" y="449568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8" name=""/>
          <p:cNvCxnSpPr>
            <a:stCxn id="196" idx="3"/>
            <a:endCxn id="199" idx="7"/>
          </p:cNvCxnSpPr>
          <p:nvPr/>
        </p:nvCxnSpPr>
        <p:spPr>
          <a:xfrm flipH="1">
            <a:off x="4527000" y="2684520"/>
            <a:ext cx="851400" cy="629280"/>
          </a:xfrm>
          <a:prstGeom prst="straightConnector1">
            <a:avLst/>
          </a:prstGeom>
          <a:ln w="50760">
            <a:solidFill>
              <a:srgbClr val="a50021"/>
            </a:solidFill>
            <a:miter/>
          </a:ln>
        </p:spPr>
      </p:cxnSp>
      <p:grpSp>
        <p:nvGrpSpPr>
          <p:cNvPr id="219" name=""/>
          <p:cNvGrpSpPr/>
          <p:nvPr/>
        </p:nvGrpSpPr>
        <p:grpSpPr>
          <a:xfrm>
            <a:off x="5334120" y="2413080"/>
            <a:ext cx="2209320" cy="609480"/>
            <a:chOff x="5334120" y="2413080"/>
            <a:chExt cx="2209320" cy="609480"/>
          </a:xfrm>
        </p:grpSpPr>
        <p:sp>
          <p:nvSpPr>
            <p:cNvPr id="220" name=""/>
            <p:cNvSpPr/>
            <p:nvPr/>
          </p:nvSpPr>
          <p:spPr>
            <a:xfrm>
              <a:off x="5867280" y="2413080"/>
              <a:ext cx="1676160" cy="60948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 newly discove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334120" y="2413080"/>
              <a:ext cx="304560" cy="3045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A6237-8024-488E-94EC-91F593967F8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5510160" y="491184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A, F) (A, C) (A, B) (A,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224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7" name=""/>
          <p:cNvCxnSpPr>
            <a:stCxn id="224" idx="0"/>
            <a:endCxn id="225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28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9" name=""/>
          <p:cNvCxnSpPr>
            <a:stCxn id="225" idx="5"/>
            <a:endCxn id="228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30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1" name=""/>
          <p:cNvCxnSpPr>
            <a:stCxn id="225" idx="6"/>
            <a:endCxn id="230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32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4" name=""/>
          <p:cNvCxnSpPr>
            <a:stCxn id="225" idx="4"/>
            <a:endCxn id="226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35" name=""/>
          <p:cNvCxnSpPr>
            <a:stCxn id="233" idx="2"/>
            <a:endCxn id="232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36" name=""/>
          <p:cNvCxnSpPr>
            <a:stCxn id="233" idx="3"/>
            <a:endCxn id="224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37" name=""/>
          <p:cNvCxnSpPr>
            <a:stCxn id="224" idx="7"/>
            <a:endCxn id="232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38" name=""/>
          <p:cNvCxnSpPr>
            <a:stCxn id="233" idx="7"/>
            <a:endCxn id="230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39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39" idx="6"/>
            <a:endCxn id="244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46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894280" y="6237360"/>
            <a:ext cx="347760" cy="404640"/>
          </a:xfrm>
          <a:prstGeom prst="upArrow">
            <a:avLst>
              <a:gd name="adj1" fmla="val 49769"/>
              <a:gd name="adj2" fmla="val 6114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562720" y="403848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F, A) (F, E) (F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967440" y="541008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499000" y="312408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E, G) (E, F) (E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281640" y="449568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2" name=""/>
          <p:cNvCxnSpPr>
            <a:stCxn id="230" idx="3"/>
            <a:endCxn id="233" idx="7"/>
          </p:cNvCxnSpPr>
          <p:nvPr/>
        </p:nvCxnSpPr>
        <p:spPr>
          <a:xfrm flipH="1">
            <a:off x="4527000" y="2684520"/>
            <a:ext cx="851400" cy="629280"/>
          </a:xfrm>
          <a:prstGeom prst="straightConnector1">
            <a:avLst/>
          </a:prstGeom>
          <a:ln w="50760">
            <a:solidFill>
              <a:srgbClr val="a50021"/>
            </a:solidFill>
            <a:miter/>
          </a:ln>
        </p:spPr>
      </p:cxnSp>
      <p:sp>
        <p:nvSpPr>
          <p:cNvPr id="253" name=""/>
          <p:cNvSpPr/>
          <p:nvPr/>
        </p:nvSpPr>
        <p:spPr>
          <a:xfrm>
            <a:off x="5562720" y="220968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G, E) (G, 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629400" y="358128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16000" y="2300400"/>
            <a:ext cx="1676160" cy="60948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alread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DAA31-D79C-45B1-B208-A4901CF96E5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5510160" y="491184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A, F) (A, C) (A, B) (A,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258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1" name=""/>
          <p:cNvCxnSpPr>
            <a:stCxn id="258" idx="0"/>
            <a:endCxn id="259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62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3" name=""/>
          <p:cNvCxnSpPr>
            <a:stCxn id="259" idx="5"/>
            <a:endCxn id="262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64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5" name=""/>
          <p:cNvCxnSpPr>
            <a:stCxn id="259" idx="6"/>
            <a:endCxn id="264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66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8" name=""/>
          <p:cNvCxnSpPr>
            <a:stCxn id="259" idx="4"/>
            <a:endCxn id="260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69" name=""/>
          <p:cNvCxnSpPr>
            <a:stCxn id="267" idx="2"/>
            <a:endCxn id="266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70" name=""/>
          <p:cNvCxnSpPr>
            <a:stCxn id="267" idx="3"/>
            <a:endCxn id="258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71" name=""/>
          <p:cNvCxnSpPr>
            <a:stCxn id="258" idx="7"/>
            <a:endCxn id="266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67" idx="7"/>
            <a:endCxn id="264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73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9" name=""/>
          <p:cNvCxnSpPr>
            <a:stCxn id="273" idx="6"/>
            <a:endCxn id="278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80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894280" y="6237360"/>
            <a:ext cx="347760" cy="404640"/>
          </a:xfrm>
          <a:prstGeom prst="upArrow">
            <a:avLst>
              <a:gd name="adj1" fmla="val 49769"/>
              <a:gd name="adj2" fmla="val 6114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403848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F, A) (F, E) (F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967440" y="541008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499000" y="312408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E, G) (E, F) (E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281640" y="449568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6" name=""/>
          <p:cNvCxnSpPr>
            <a:stCxn id="264" idx="1"/>
            <a:endCxn id="259" idx="6"/>
          </p:cNvCxnSpPr>
          <p:nvPr/>
        </p:nvCxnSpPr>
        <p:spPr>
          <a:xfrm flipH="1" flipV="1">
            <a:off x="2598120" y="1220760"/>
            <a:ext cx="2780280" cy="1232280"/>
          </a:xfrm>
          <a:prstGeom prst="straightConnector1">
            <a:avLst/>
          </a:prstGeom>
          <a:ln w="50760">
            <a:solidFill>
              <a:srgbClr val="a50021"/>
            </a:solidFill>
            <a:miter/>
          </a:ln>
        </p:spPr>
      </p:cxnSp>
      <p:sp>
        <p:nvSpPr>
          <p:cNvPr id="287" name=""/>
          <p:cNvSpPr/>
          <p:nvPr/>
        </p:nvSpPr>
        <p:spPr>
          <a:xfrm>
            <a:off x="5562720" y="220968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G, E) (G, 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348680" y="3581280"/>
            <a:ext cx="347400" cy="405000"/>
          </a:xfrm>
          <a:prstGeom prst="upArrow">
            <a:avLst>
              <a:gd name="adj1" fmla="val 49769"/>
              <a:gd name="adj2" fmla="val 61264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16000" y="2300400"/>
            <a:ext cx="1676160" cy="60948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alread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C580B-D654-463F-B741-42935B004C3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5510160" y="491184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A, F) (A, C) (A, B) (A,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292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5" name=""/>
          <p:cNvCxnSpPr>
            <a:stCxn id="292" idx="0"/>
            <a:endCxn id="293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96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7" name=""/>
          <p:cNvCxnSpPr>
            <a:stCxn id="293" idx="5"/>
            <a:endCxn id="296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98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9" name=""/>
          <p:cNvCxnSpPr>
            <a:stCxn id="293" idx="6"/>
            <a:endCxn id="298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00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2" name=""/>
          <p:cNvCxnSpPr>
            <a:stCxn id="293" idx="4"/>
            <a:endCxn id="294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301" idx="2"/>
            <a:endCxn id="300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04" name=""/>
          <p:cNvCxnSpPr>
            <a:stCxn id="301" idx="3"/>
            <a:endCxn id="292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05" name=""/>
          <p:cNvCxnSpPr>
            <a:stCxn id="292" idx="7"/>
            <a:endCxn id="300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06" name=""/>
          <p:cNvCxnSpPr>
            <a:stCxn id="301" idx="7"/>
            <a:endCxn id="298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07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3" name=""/>
          <p:cNvCxnSpPr>
            <a:stCxn id="307" idx="6"/>
            <a:endCxn id="312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894280" y="6237360"/>
            <a:ext cx="347760" cy="404640"/>
          </a:xfrm>
          <a:prstGeom prst="upArrow">
            <a:avLst>
              <a:gd name="adj1" fmla="val 49769"/>
              <a:gd name="adj2" fmla="val 6114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562720" y="403848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F, A) (F, E) (F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967440" y="541008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499000" y="312408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E, G) (E, F) (E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281640" y="449568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562720" y="220968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G, E) (G, 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805880" y="3581280"/>
            <a:ext cx="347400" cy="405000"/>
          </a:xfrm>
          <a:prstGeom prst="upArrow">
            <a:avLst>
              <a:gd name="adj1" fmla="val 49769"/>
              <a:gd name="adj2" fmla="val 61264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010280" y="1905120"/>
            <a:ext cx="1447920" cy="685800"/>
          </a:xfrm>
          <a:prstGeom prst="downArrowCallout">
            <a:avLst>
              <a:gd name="adj1" fmla="val 24321"/>
              <a:gd name="adj2" fmla="val 28981"/>
              <a:gd name="adj3" fmla="val 20370"/>
              <a:gd name="adj4" fmla="val 55556"/>
            </a:avLst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ed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E10E4-81B5-417B-9265-D868F84CB9F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5510160" y="491184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A, F) (A, C) (A, B) (A,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325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8" name=""/>
          <p:cNvCxnSpPr>
            <a:stCxn id="325" idx="0"/>
            <a:endCxn id="326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29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0" name=""/>
          <p:cNvCxnSpPr>
            <a:stCxn id="326" idx="5"/>
            <a:endCxn id="329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31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2" name=""/>
          <p:cNvCxnSpPr>
            <a:stCxn id="326" idx="6"/>
            <a:endCxn id="331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33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5" name=""/>
          <p:cNvCxnSpPr>
            <a:stCxn id="326" idx="4"/>
            <a:endCxn id="327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36" name=""/>
          <p:cNvCxnSpPr>
            <a:stCxn id="334" idx="2"/>
            <a:endCxn id="333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37" name=""/>
          <p:cNvCxnSpPr>
            <a:stCxn id="334" idx="3"/>
            <a:endCxn id="325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38" name=""/>
          <p:cNvCxnSpPr>
            <a:stCxn id="325" idx="7"/>
            <a:endCxn id="333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39" name=""/>
          <p:cNvCxnSpPr>
            <a:stCxn id="334" idx="7"/>
            <a:endCxn id="331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40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6" name=""/>
          <p:cNvCxnSpPr>
            <a:stCxn id="340" idx="6"/>
            <a:endCxn id="345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47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894280" y="6237360"/>
            <a:ext cx="347760" cy="404640"/>
          </a:xfrm>
          <a:prstGeom prst="upArrow">
            <a:avLst>
              <a:gd name="adj1" fmla="val 49769"/>
              <a:gd name="adj2" fmla="val 6114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562720" y="403848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F, A) (F, E) (F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967440" y="541008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499000" y="312408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E, G) (E, F) (E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934320" y="4495680"/>
            <a:ext cx="347400" cy="405000"/>
          </a:xfrm>
          <a:prstGeom prst="upArrow">
            <a:avLst>
              <a:gd name="adj1" fmla="val 49769"/>
              <a:gd name="adj2" fmla="val 61264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3" name=""/>
          <p:cNvCxnSpPr>
            <a:stCxn id="334" idx="3"/>
            <a:endCxn id="325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50760">
            <a:solidFill>
              <a:srgbClr val="a50021"/>
            </a:solidFill>
            <a:miter/>
          </a:ln>
        </p:spPr>
      </p:cxnSp>
      <p:sp>
        <p:nvSpPr>
          <p:cNvPr id="354" name=""/>
          <p:cNvSpPr/>
          <p:nvPr/>
        </p:nvSpPr>
        <p:spPr>
          <a:xfrm>
            <a:off x="216000" y="2300400"/>
            <a:ext cx="1676160" cy="60948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alread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7C152-A721-4077-84CD-7B4FE736BAD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31T01:41:01Z</dcterms:created>
  <dc:creator>Kevin Wayne</dc:creator>
  <dc:description/>
  <dc:language>en-US</dc:language>
  <cp:lastModifiedBy>Kevin Wayne</cp:lastModifiedBy>
  <dcterms:modified xsi:type="dcterms:W3CDTF">2001-04-10T14:29:02Z</dcterms:modified>
  <cp:revision>606</cp:revision>
  <dc:subject/>
  <dc:title>Trees</dc:title>
</cp:coreProperties>
</file>