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D4B5-6A5C-4985-B781-721686D90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7C69-D713-459E-BA7E-B56EB4DAB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BE18-FD84-45FE-96E6-D64E38704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CD25-6157-4EF8-B610-ED1373242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4763-127B-4AA8-8B8C-6E34DE241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E152-C075-4B7C-9319-7CC95935B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A26D-CF65-4C78-BE33-A2425E433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8660-0AD8-4AB1-A47C-7ABCDF9DE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D388-E7A9-49D6-B442-CCCDA7776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543E-F7B6-42AB-9015-4F5F5BC3E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5A65-0A44-4712-A611-F98F4BEB0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68F5-661F-4C29-959D-38C60063D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5960" indent="-231480">
              <a:spcBef>
                <a:spcPts val="451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627120" indent="-166680">
              <a:spcBef>
                <a:spcPts val="451"/>
              </a:spcBef>
              <a:buClr>
                <a:srgbClr val="0066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147680" indent="-404640">
              <a:spcBef>
                <a:spcPts val="451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539720" indent="-16956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53972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53972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710A-45C4-4B70-808D-DFF67AA0B4C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pic>
        <p:nvPicPr>
          <p:cNvPr id="41" name="datinfo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144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9" name=""/>
          <p:cNvSpPr/>
          <p:nvPr/>
        </p:nvSpPr>
        <p:spPr>
          <a:xfrm>
            <a:off x="6210360" y="2991600"/>
            <a:ext cx="19238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jacency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:  F C B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 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:  F 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:  G F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:  A E 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:  E 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:  I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:  H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0" idx="0"/>
            <a:endCxn id="81" idx="4"/>
          </p:cNvCxnSpPr>
          <p:nvPr/>
        </p:nvCxnSpPr>
        <p:spPr>
          <a:xfrm flipV="1">
            <a:off x="2438640" y="1373040"/>
            <a:ext cx="360" cy="2818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5"/>
            <a:endCxn id="84" idx="1"/>
          </p:cNvCxnSpPr>
          <p:nvPr/>
        </p:nvCxnSpPr>
        <p:spPr>
          <a:xfrm>
            <a:off x="2546280" y="1328400"/>
            <a:ext cx="1765800" cy="113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1" idx="6"/>
            <a:endCxn id="86" idx="1"/>
          </p:cNvCxnSpPr>
          <p:nvPr/>
        </p:nvCxnSpPr>
        <p:spPr>
          <a:xfrm>
            <a:off x="2590920" y="1219680"/>
            <a:ext cx="2788200" cy="1241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1" idx="4"/>
            <a:endCxn id="82" idx="1"/>
          </p:cNvCxnSpPr>
          <p:nvPr/>
        </p:nvCxnSpPr>
        <p:spPr>
          <a:xfrm>
            <a:off x="2438640" y="1373040"/>
            <a:ext cx="578160" cy="1088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9" idx="2"/>
            <a:endCxn id="88" idx="6"/>
          </p:cNvCxnSpPr>
          <p:nvPr/>
        </p:nvCxnSpPr>
        <p:spPr>
          <a:xfrm flipH="1">
            <a:off x="3276720" y="3429000"/>
            <a:ext cx="9907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9" idx="3"/>
            <a:endCxn id="80" idx="6"/>
          </p:cNvCxnSpPr>
          <p:nvPr/>
        </p:nvCxnSpPr>
        <p:spPr>
          <a:xfrm flipH="1">
            <a:off x="2590920" y="3536640"/>
            <a:ext cx="1721160" cy="80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0" idx="7"/>
            <a:endCxn id="88" idx="3"/>
          </p:cNvCxnSpPr>
          <p:nvPr/>
        </p:nvCxnSpPr>
        <p:spPr>
          <a:xfrm flipV="1">
            <a:off x="2546280" y="3536640"/>
            <a:ext cx="470520" cy="699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9" idx="7"/>
            <a:endCxn id="86" idx="3"/>
          </p:cNvCxnSpPr>
          <p:nvPr/>
        </p:nvCxnSpPr>
        <p:spPr>
          <a:xfrm flipV="1">
            <a:off x="4527360" y="2676240"/>
            <a:ext cx="851760" cy="645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5" idx="6"/>
            <a:endCxn id="96" idx="2"/>
          </p:cNvCxnSpPr>
          <p:nvPr/>
        </p:nvCxnSpPr>
        <p:spPr>
          <a:xfrm>
            <a:off x="5611680" y="1352520"/>
            <a:ext cx="5292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BB81-A8C5-4F01-AECD-E99536124A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"/>
          <p:cNvCxnSpPr>
            <a:stCxn id="357" idx="0"/>
            <a:endCxn id="358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58" idx="5"/>
            <a:endCxn id="361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8" idx="6"/>
            <a:endCxn id="363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"/>
          <p:cNvCxnSpPr>
            <a:stCxn id="358" idx="4"/>
            <a:endCxn id="359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6" idx="2"/>
            <a:endCxn id="36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6" idx="3"/>
            <a:endCxn id="35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57" idx="7"/>
            <a:endCxn id="36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6" idx="7"/>
            <a:endCxn id="36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2" idx="6"/>
            <a:endCxn id="377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"/>
          <p:cNvCxnSpPr>
            <a:stCxn id="366" idx="2"/>
            <a:endCxn id="36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914400" y="3124080"/>
            <a:ext cx="2362320" cy="609840"/>
            <a:chOff x="914400" y="3124080"/>
            <a:chExt cx="2362320" cy="609840"/>
          </a:xfrm>
        </p:grpSpPr>
        <p:sp>
          <p:nvSpPr>
            <p:cNvPr id="387" name=""/>
            <p:cNvSpPr/>
            <p:nvPr/>
          </p:nvSpPr>
          <p:spPr>
            <a:xfrm>
              <a:off x="914400" y="312408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718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F99A-2EAE-4C4C-9853-28F47FE887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91" idx="0"/>
            <a:endCxn id="39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"/>
          <p:cNvCxnSpPr>
            <a:stCxn id="392" idx="5"/>
            <a:endCxn id="39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2" idx="6"/>
            <a:endCxn id="39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392" idx="4"/>
            <a:endCxn id="39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2" name=""/>
          <p:cNvCxnSpPr>
            <a:stCxn id="400" idx="2"/>
            <a:endCxn id="39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3" name=""/>
          <p:cNvCxnSpPr>
            <a:stCxn id="400" idx="3"/>
            <a:endCxn id="39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4" name=""/>
          <p:cNvCxnSpPr>
            <a:stCxn id="391" idx="7"/>
            <a:endCxn id="39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400" idx="7"/>
            <a:endCxn id="39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0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406" idx="6"/>
            <a:endCxn id="41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1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391" idx="7"/>
            <a:endCxn id="39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19E3-C7E5-46CE-AE38-F18C5A519E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>
            <a:stCxn id="425" idx="0"/>
            <a:endCxn id="426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"/>
          <p:cNvCxnSpPr>
            <a:stCxn id="426" idx="5"/>
            <a:endCxn id="429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>
            <a:stCxn id="426" idx="6"/>
            <a:endCxn id="431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>
            <a:stCxn id="426" idx="4"/>
            <a:endCxn id="427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6" name=""/>
          <p:cNvCxnSpPr>
            <a:stCxn id="434" idx="2"/>
            <a:endCxn id="4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7" name=""/>
          <p:cNvCxnSpPr>
            <a:stCxn id="434" idx="3"/>
            <a:endCxn id="4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8" name=""/>
          <p:cNvCxnSpPr>
            <a:stCxn id="425" idx="7"/>
            <a:endCxn id="433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9" name=""/>
          <p:cNvCxnSpPr>
            <a:stCxn id="434" idx="7"/>
            <a:endCxn id="431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stCxn id="440" idx="6"/>
            <a:endCxn id="445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34" idx="2"/>
            <a:endCxn id="4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629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4B6D-EAAF-4DD3-8990-3AACDA6FBC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9" idx="0"/>
            <a:endCxn id="460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60" idx="5"/>
            <a:endCxn id="463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"/>
          <p:cNvCxnSpPr>
            <a:stCxn id="460" idx="6"/>
            <a:endCxn id="465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60" idx="4"/>
            <a:endCxn id="461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8" idx="2"/>
            <a:endCxn id="467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68" idx="3"/>
            <a:endCxn id="459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9" idx="7"/>
            <a:endCxn id="467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8" idx="7"/>
            <a:endCxn id="465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74" idx="6"/>
            <a:endCxn id="479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81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01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10280" y="19051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E3F2-B7A5-4A8E-94F9-F6CAEAB8EB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"/>
          <p:cNvCxnSpPr>
            <a:stCxn id="492" idx="0"/>
            <a:endCxn id="49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"/>
          <p:cNvCxnSpPr>
            <a:stCxn id="493" idx="5"/>
            <a:endCxn id="49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"/>
          <p:cNvCxnSpPr>
            <a:stCxn id="493" idx="6"/>
            <a:endCxn id="49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493" idx="4"/>
            <a:endCxn id="49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501" idx="2"/>
            <a:endCxn id="50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501" idx="3"/>
            <a:endCxn id="49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92" idx="7"/>
            <a:endCxn id="50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501" idx="7"/>
            <a:endCxn id="49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"/>
          <p:cNvCxnSpPr>
            <a:stCxn id="507" idx="6"/>
            <a:endCxn id="51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0010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28954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DB15-0F04-4B2C-91F0-434AC599E9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"/>
          <p:cNvCxnSpPr>
            <a:stCxn id="523" idx="0"/>
            <a:endCxn id="524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7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"/>
          <p:cNvCxnSpPr>
            <a:stCxn id="524" idx="5"/>
            <a:endCxn id="527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9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"/>
          <p:cNvCxnSpPr>
            <a:stCxn id="524" idx="6"/>
            <a:endCxn id="529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"/>
          <p:cNvCxnSpPr>
            <a:stCxn id="524" idx="4"/>
            <a:endCxn id="525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32" idx="2"/>
            <a:endCxn id="531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32" idx="3"/>
            <a:endCxn id="523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3" idx="7"/>
            <a:endCxn id="531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2" idx="7"/>
            <a:endCxn id="529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38" idx="6"/>
            <a:endCxn id="543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45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620120" y="54100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"/>
          <p:cNvCxnSpPr>
            <a:stCxn id="531" idx="3"/>
            <a:endCxn id="523" idx="7"/>
          </p:cNvCxnSpPr>
          <p:nvPr/>
        </p:nvCxnSpPr>
        <p:spPr>
          <a:xfrm flipH="1">
            <a:off x="2545560" y="3544920"/>
            <a:ext cx="470520" cy="6829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D694-818C-42C5-BC03-69150A8BFE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"/>
          <p:cNvCxnSpPr>
            <a:stCxn id="553" idx="0"/>
            <a:endCxn id="554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"/>
          <p:cNvCxnSpPr>
            <a:stCxn id="554" idx="5"/>
            <a:endCxn id="557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"/>
          <p:cNvCxnSpPr>
            <a:stCxn id="554" idx="6"/>
            <a:endCxn id="559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1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"/>
          <p:cNvCxnSpPr>
            <a:stCxn id="554" idx="4"/>
            <a:endCxn id="555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62" idx="2"/>
            <a:endCxn id="561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2" idx="3"/>
            <a:endCxn id="553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3" idx="7"/>
            <a:endCxn id="561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62" idx="7"/>
            <a:endCxn id="559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8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"/>
          <p:cNvCxnSpPr>
            <a:stCxn id="568" idx="6"/>
            <a:endCxn id="573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077320" y="54100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D29E-5E3B-4BB0-A139-8A26B14FC4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"/>
          <p:cNvCxnSpPr>
            <a:stCxn id="582" idx="0"/>
            <a:endCxn id="58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"/>
          <p:cNvCxnSpPr>
            <a:stCxn id="583" idx="5"/>
            <a:endCxn id="58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"/>
          <p:cNvCxnSpPr>
            <a:stCxn id="583" idx="6"/>
            <a:endCxn id="58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9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"/>
          <p:cNvCxnSpPr>
            <a:stCxn id="583" idx="4"/>
            <a:endCxn id="58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3" name=""/>
          <p:cNvCxnSpPr>
            <a:stCxn id="591" idx="2"/>
            <a:endCxn id="59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91" idx="3"/>
            <a:endCxn id="58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82" idx="7"/>
            <a:endCxn id="59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1" idx="7"/>
            <a:endCxn id="58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9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597" idx="6"/>
            <a:endCxn id="60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"/>
          <p:cNvCxnSpPr>
            <a:stCxn id="586" idx="1"/>
            <a:endCxn id="583" idx="5"/>
          </p:cNvCxnSpPr>
          <p:nvPr/>
        </p:nvCxnSpPr>
        <p:spPr>
          <a:xfrm flipH="1" flipV="1">
            <a:off x="2545920" y="1336320"/>
            <a:ext cx="1766160" cy="11167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607" name=""/>
          <p:cNvGrpSpPr/>
          <p:nvPr/>
        </p:nvGrpSpPr>
        <p:grpSpPr>
          <a:xfrm>
            <a:off x="2201760" y="2260440"/>
            <a:ext cx="2362320" cy="609840"/>
            <a:chOff x="2201760" y="2260440"/>
            <a:chExt cx="2362320" cy="609840"/>
          </a:xfrm>
        </p:grpSpPr>
        <p:sp>
          <p:nvSpPr>
            <p:cNvPr id="608" name=""/>
            <p:cNvSpPr/>
            <p:nvPr/>
          </p:nvSpPr>
          <p:spPr>
            <a:xfrm>
              <a:off x="2201760" y="226044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59160" y="24130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0C96-22BE-45E9-8EBF-5E425658B5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"/>
          <p:cNvCxnSpPr>
            <a:stCxn id="612" idx="0"/>
            <a:endCxn id="61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13" idx="5"/>
            <a:endCxn id="61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"/>
          <p:cNvCxnSpPr>
            <a:stCxn id="613" idx="6"/>
            <a:endCxn id="61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2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"/>
          <p:cNvCxnSpPr>
            <a:stCxn id="613" idx="4"/>
            <a:endCxn id="61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621" idx="2"/>
            <a:endCxn id="62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621" idx="3"/>
            <a:endCxn id="61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12" idx="7"/>
            <a:endCxn id="62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21" idx="7"/>
            <a:endCxn id="61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27" idx="6"/>
            <a:endCxn id="63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"/>
          <p:cNvCxnSpPr>
            <a:stCxn id="616" idx="1"/>
            <a:endCxn id="613" idx="5"/>
          </p:cNvCxnSpPr>
          <p:nvPr/>
        </p:nvCxnSpPr>
        <p:spPr>
          <a:xfrm flipH="1" flipV="1">
            <a:off x="2545920" y="1336320"/>
            <a:ext cx="1766160" cy="11167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637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C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768A-2AF7-446B-8C9D-94EEECD208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"/>
          <p:cNvCxnSpPr>
            <a:stCxn id="642" idx="0"/>
            <a:endCxn id="64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"/>
          <p:cNvCxnSpPr>
            <a:stCxn id="643" idx="5"/>
            <a:endCxn id="64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4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"/>
          <p:cNvCxnSpPr>
            <a:stCxn id="643" idx="6"/>
            <a:endCxn id="64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"/>
          <p:cNvCxnSpPr>
            <a:stCxn id="643" idx="4"/>
            <a:endCxn id="64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1" idx="2"/>
            <a:endCxn id="65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3"/>
            <a:endCxn id="64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42" idx="7"/>
            <a:endCxn id="65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51" idx="7"/>
            <a:endCxn id="64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5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"/>
          <p:cNvCxnSpPr>
            <a:stCxn id="657" idx="6"/>
            <a:endCxn id="66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C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152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D5FA-C3EF-4468-93DF-0A19C78D5B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0"/>
            <a:endCxn id="10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1" idx="5"/>
            <a:endCxn id="10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1" idx="6"/>
            <a:endCxn id="10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1" idx="4"/>
            <a:endCxn id="10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9" idx="2"/>
            <a:endCxn id="10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9" idx="3"/>
            <a:endCxn id="10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0" idx="7"/>
            <a:endCxn id="10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9" idx="7"/>
            <a:endCxn id="10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5" idx="6"/>
            <a:endCxn id="12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0" idx="0"/>
            <a:endCxn id="10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04920" y="396252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newly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2EE0-BE77-4C06-8EFD-35BBF35D14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"/>
          <p:cNvCxnSpPr>
            <a:stCxn id="671" idx="0"/>
            <a:endCxn id="67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"/>
          <p:cNvCxnSpPr>
            <a:stCxn id="672" idx="5"/>
            <a:endCxn id="67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72" idx="6"/>
            <a:endCxn id="67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72" idx="4"/>
            <a:endCxn id="67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2" name=""/>
          <p:cNvCxnSpPr>
            <a:stCxn id="680" idx="2"/>
            <a:endCxn id="67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3" name=""/>
          <p:cNvCxnSpPr>
            <a:stCxn id="680" idx="3"/>
            <a:endCxn id="67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71" idx="7"/>
            <a:endCxn id="67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5" name=""/>
          <p:cNvCxnSpPr>
            <a:stCxn id="680" idx="7"/>
            <a:endCxn id="67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"/>
          <p:cNvCxnSpPr>
            <a:stCxn id="686" idx="6"/>
            <a:endCxn id="69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9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"/>
          <p:cNvCxnSpPr>
            <a:stCxn id="673" idx="1"/>
            <a:endCxn id="672" idx="4"/>
          </p:cNvCxnSpPr>
          <p:nvPr/>
        </p:nvCxnSpPr>
        <p:spPr>
          <a:xfrm flipH="1" flipV="1">
            <a:off x="2437560" y="1380240"/>
            <a:ext cx="578520" cy="107244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696" name=""/>
          <p:cNvGrpSpPr/>
          <p:nvPr/>
        </p:nvGrpSpPr>
        <p:grpSpPr>
          <a:xfrm>
            <a:off x="914400" y="2260440"/>
            <a:ext cx="2362320" cy="609840"/>
            <a:chOff x="914400" y="2260440"/>
            <a:chExt cx="2362320" cy="609840"/>
          </a:xfrm>
        </p:grpSpPr>
        <p:sp>
          <p:nvSpPr>
            <p:cNvPr id="697" name=""/>
            <p:cNvSpPr/>
            <p:nvPr/>
          </p:nvSpPr>
          <p:spPr>
            <a:xfrm>
              <a:off x="914400" y="226044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71800" y="24130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A1C2-E59D-46AC-8363-AF9CFE9917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4" name=""/>
          <p:cNvCxnSpPr>
            <a:stCxn id="701" idx="0"/>
            <a:endCxn id="70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6" name=""/>
          <p:cNvCxnSpPr>
            <a:stCxn id="702" idx="5"/>
            <a:endCxn id="70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"/>
          <p:cNvCxnSpPr>
            <a:stCxn id="702" idx="6"/>
            <a:endCxn id="70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"/>
          <p:cNvCxnSpPr>
            <a:stCxn id="702" idx="4"/>
            <a:endCxn id="70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2" name=""/>
          <p:cNvCxnSpPr>
            <a:stCxn id="710" idx="2"/>
            <a:endCxn id="70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3" name=""/>
          <p:cNvCxnSpPr>
            <a:stCxn id="710" idx="3"/>
            <a:endCxn id="70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4" name=""/>
          <p:cNvCxnSpPr>
            <a:stCxn id="701" idx="7"/>
            <a:endCxn id="70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5" name=""/>
          <p:cNvCxnSpPr>
            <a:stCxn id="710" idx="7"/>
            <a:endCxn id="70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16" idx="6"/>
            <a:endCxn id="72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5" name=""/>
          <p:cNvCxnSpPr>
            <a:stCxn id="703" idx="1"/>
            <a:endCxn id="702" idx="4"/>
          </p:cNvCxnSpPr>
          <p:nvPr/>
        </p:nvCxnSpPr>
        <p:spPr>
          <a:xfrm flipH="1" flipV="1">
            <a:off x="2437560" y="1380240"/>
            <a:ext cx="578520" cy="107244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726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B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8407-631A-4D12-AF8F-E2C366BA2C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stCxn id="731" idx="0"/>
            <a:endCxn id="73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"/>
          <p:cNvCxnSpPr>
            <a:stCxn id="732" idx="5"/>
            <a:endCxn id="73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"/>
          <p:cNvCxnSpPr>
            <a:stCxn id="732" idx="6"/>
            <a:endCxn id="73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"/>
          <p:cNvCxnSpPr>
            <a:stCxn id="732" idx="4"/>
            <a:endCxn id="73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2"/>
            <a:endCxn id="73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3" name=""/>
          <p:cNvCxnSpPr>
            <a:stCxn id="740" idx="3"/>
            <a:endCxn id="73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4" name=""/>
          <p:cNvCxnSpPr>
            <a:stCxn id="731" idx="7"/>
            <a:endCxn id="73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40" idx="7"/>
            <a:endCxn id="73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>
            <a:stCxn id="746" idx="6"/>
            <a:endCxn id="75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B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3152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5313-C47F-405D-9D4A-C6B02EBAE3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3" name=""/>
          <p:cNvCxnSpPr>
            <a:stCxn id="760" idx="0"/>
            <a:endCxn id="76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5" name=""/>
          <p:cNvCxnSpPr>
            <a:stCxn id="761" idx="5"/>
            <a:endCxn id="76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"/>
          <p:cNvCxnSpPr>
            <a:stCxn id="761" idx="6"/>
            <a:endCxn id="76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"/>
          <p:cNvCxnSpPr>
            <a:stCxn id="761" idx="4"/>
            <a:endCxn id="76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1" name=""/>
          <p:cNvCxnSpPr>
            <a:stCxn id="769" idx="2"/>
            <a:endCxn id="76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2" name=""/>
          <p:cNvCxnSpPr>
            <a:stCxn id="769" idx="3"/>
            <a:endCxn id="76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3" name=""/>
          <p:cNvCxnSpPr>
            <a:stCxn id="760" idx="7"/>
            <a:endCxn id="76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69" idx="7"/>
            <a:endCxn id="76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7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"/>
          <p:cNvCxnSpPr>
            <a:stCxn id="775" idx="6"/>
            <a:endCxn id="78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8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848720" y="6237360"/>
            <a:ext cx="347400" cy="404640"/>
          </a:xfrm>
          <a:prstGeom prst="upArrow">
            <a:avLst>
              <a:gd name="adj1" fmla="val 49769"/>
              <a:gd name="adj2" fmla="val 61209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4" name=""/>
          <p:cNvCxnSpPr>
            <a:stCxn id="766" idx="1"/>
            <a:endCxn id="761" idx="6"/>
          </p:cNvCxnSpPr>
          <p:nvPr/>
        </p:nvCxnSpPr>
        <p:spPr>
          <a:xfrm flipH="1" flipV="1">
            <a:off x="2598120" y="1220760"/>
            <a:ext cx="2780280" cy="1232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9406-1D22-47EA-A7E1-B472CBDE21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1" name=""/>
          <p:cNvCxnSpPr>
            <a:stCxn id="788" idx="0"/>
            <a:endCxn id="78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"/>
          <p:cNvCxnSpPr>
            <a:stCxn id="789" idx="5"/>
            <a:endCxn id="79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5" name=""/>
          <p:cNvCxnSpPr>
            <a:stCxn id="789" idx="6"/>
            <a:endCxn id="79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"/>
          <p:cNvCxnSpPr>
            <a:stCxn id="789" idx="4"/>
            <a:endCxn id="79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9" name=""/>
          <p:cNvCxnSpPr>
            <a:stCxn id="797" idx="2"/>
            <a:endCxn id="79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0" name=""/>
          <p:cNvCxnSpPr>
            <a:stCxn id="797" idx="3"/>
            <a:endCxn id="78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1" name=""/>
          <p:cNvCxnSpPr>
            <a:stCxn id="788" idx="7"/>
            <a:endCxn id="79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2" name=""/>
          <p:cNvCxnSpPr>
            <a:stCxn id="797" idx="7"/>
            <a:endCxn id="79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9" name=""/>
          <p:cNvCxnSpPr>
            <a:stCxn id="803" idx="6"/>
            <a:endCxn id="80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381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400800" y="46483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F6DD-20EC-4487-87BB-51E3BE747D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1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"/>
          <p:cNvCxnSpPr>
            <a:stCxn id="814" idx="0"/>
            <a:endCxn id="81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"/>
          <p:cNvCxnSpPr>
            <a:stCxn id="815" idx="5"/>
            <a:endCxn id="81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"/>
          <p:cNvCxnSpPr>
            <a:stCxn id="815" idx="6"/>
            <a:endCxn id="82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"/>
          <p:cNvCxnSpPr>
            <a:stCxn id="815" idx="4"/>
            <a:endCxn id="81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5" name=""/>
          <p:cNvCxnSpPr>
            <a:stCxn id="823" idx="2"/>
            <a:endCxn id="82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23" idx="3"/>
            <a:endCxn id="81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7" name=""/>
          <p:cNvCxnSpPr>
            <a:stCxn id="814" idx="7"/>
            <a:endCxn id="82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8" name=""/>
          <p:cNvCxnSpPr>
            <a:stCxn id="823" idx="7"/>
            <a:endCxn id="82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"/>
          <p:cNvCxnSpPr>
            <a:stCxn id="829" idx="6"/>
            <a:endCxn id="83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3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8A72-4708-4210-80E7-B756DB98AC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3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"/>
          <p:cNvCxnSpPr>
            <a:stCxn id="838" idx="0"/>
            <a:endCxn id="83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"/>
          <p:cNvCxnSpPr>
            <a:stCxn id="839" idx="5"/>
            <a:endCxn id="84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5" name=""/>
          <p:cNvCxnSpPr>
            <a:stCxn id="839" idx="6"/>
            <a:endCxn id="84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"/>
          <p:cNvCxnSpPr>
            <a:stCxn id="839" idx="4"/>
            <a:endCxn id="84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9" name=""/>
          <p:cNvCxnSpPr>
            <a:stCxn id="847" idx="2"/>
            <a:endCxn id="84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0" name=""/>
          <p:cNvCxnSpPr>
            <a:stCxn id="847" idx="3"/>
            <a:endCxn id="83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1" name=""/>
          <p:cNvCxnSpPr>
            <a:stCxn id="838" idx="7"/>
            <a:endCxn id="84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2" name=""/>
          <p:cNvCxnSpPr>
            <a:stCxn id="847" idx="7"/>
            <a:endCxn id="84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"/>
          <p:cNvCxnSpPr>
            <a:stCxn id="853" idx="6"/>
            <a:endCxn id="85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3" name=""/>
          <p:cNvCxnSpPr>
            <a:stCxn id="858" idx="2"/>
            <a:endCxn id="853" idx="6"/>
          </p:cNvCxnSpPr>
          <p:nvPr/>
        </p:nvCxnSpPr>
        <p:spPr>
          <a:xfrm flipH="1">
            <a:off x="5618880" y="1352160"/>
            <a:ext cx="51372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864" name=""/>
          <p:cNvGrpSpPr/>
          <p:nvPr/>
        </p:nvGrpSpPr>
        <p:grpSpPr>
          <a:xfrm>
            <a:off x="6145200" y="1203480"/>
            <a:ext cx="2209320" cy="609480"/>
            <a:chOff x="6145200" y="1203480"/>
            <a:chExt cx="2209320" cy="609480"/>
          </a:xfrm>
        </p:grpSpPr>
        <p:sp>
          <p:nvSpPr>
            <p:cNvPr id="865" name=""/>
            <p:cNvSpPr/>
            <p:nvPr/>
          </p:nvSpPr>
          <p:spPr>
            <a:xfrm>
              <a:off x="6678360" y="1203480"/>
              <a:ext cx="167616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145200" y="12034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0DD7-02F8-42A5-97AC-69696B5111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"/>
          <p:cNvCxnSpPr>
            <a:stCxn id="868" idx="0"/>
            <a:endCxn id="86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9" idx="5"/>
            <a:endCxn id="87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5" name=""/>
          <p:cNvCxnSpPr>
            <a:stCxn id="869" idx="6"/>
            <a:endCxn id="87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"/>
          <p:cNvCxnSpPr>
            <a:stCxn id="869" idx="4"/>
            <a:endCxn id="87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stCxn id="877" idx="2"/>
            <a:endCxn id="87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0" name=""/>
          <p:cNvCxnSpPr>
            <a:stCxn id="877" idx="3"/>
            <a:endCxn id="86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stCxn id="868" idx="7"/>
            <a:endCxn id="87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77" idx="7"/>
            <a:endCxn id="87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"/>
          <p:cNvCxnSpPr>
            <a:stCxn id="883" idx="6"/>
            <a:endCxn id="88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3" name=""/>
          <p:cNvCxnSpPr>
            <a:stCxn id="888" idx="2"/>
            <a:endCxn id="883" idx="6"/>
          </p:cNvCxnSpPr>
          <p:nvPr/>
        </p:nvCxnSpPr>
        <p:spPr>
          <a:xfrm flipH="1">
            <a:off x="5618880" y="1352160"/>
            <a:ext cx="51372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894" name=""/>
          <p:cNvSpPr/>
          <p:nvPr/>
        </p:nvSpPr>
        <p:spPr>
          <a:xfrm>
            <a:off x="5346720" y="39625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I,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70520" y="528804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08A9-2206-4737-A16F-B470A89C61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1" name=""/>
          <p:cNvCxnSpPr>
            <a:stCxn id="898" idx="0"/>
            <a:endCxn id="89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3" name=""/>
          <p:cNvCxnSpPr>
            <a:stCxn id="899" idx="5"/>
            <a:endCxn id="90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5" name=""/>
          <p:cNvCxnSpPr>
            <a:stCxn id="899" idx="6"/>
            <a:endCxn id="90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"/>
          <p:cNvCxnSpPr>
            <a:stCxn id="899" idx="4"/>
            <a:endCxn id="90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7" idx="2"/>
            <a:endCxn id="90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0" name=""/>
          <p:cNvCxnSpPr>
            <a:stCxn id="907" idx="3"/>
            <a:endCxn id="89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1" name=""/>
          <p:cNvCxnSpPr>
            <a:stCxn id="898" idx="7"/>
            <a:endCxn id="90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907" idx="7"/>
            <a:endCxn id="90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1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9" name=""/>
          <p:cNvCxnSpPr>
            <a:stCxn id="913" idx="6"/>
            <a:endCxn id="91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346720" y="39625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I,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238880" y="528804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248520" y="3657600"/>
            <a:ext cx="1447560" cy="685800"/>
          </a:xfrm>
          <a:prstGeom prst="downArrowCallout">
            <a:avLst>
              <a:gd name="adj1" fmla="val 24315"/>
              <a:gd name="adj2" fmla="val 28974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E0F3-049C-49FE-AE38-612BD00A06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2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0" name=""/>
          <p:cNvCxnSpPr>
            <a:stCxn id="927" idx="0"/>
            <a:endCxn id="928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"/>
          <p:cNvCxnSpPr>
            <a:stCxn id="928" idx="5"/>
            <a:endCxn id="931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4" name=""/>
          <p:cNvCxnSpPr>
            <a:stCxn id="928" idx="6"/>
            <a:endCxn id="933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"/>
          <p:cNvCxnSpPr>
            <a:stCxn id="928" idx="4"/>
            <a:endCxn id="929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36" idx="2"/>
            <a:endCxn id="93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6" idx="3"/>
            <a:endCxn id="92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27" idx="7"/>
            <a:endCxn id="93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36" idx="7"/>
            <a:endCxn id="93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2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8" name=""/>
          <p:cNvCxnSpPr>
            <a:stCxn id="942" idx="6"/>
            <a:endCxn id="947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9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467480" y="61768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48520" y="4572000"/>
            <a:ext cx="1447560" cy="685800"/>
          </a:xfrm>
          <a:prstGeom prst="downArrowCallout">
            <a:avLst>
              <a:gd name="adj1" fmla="val 24315"/>
              <a:gd name="adj2" fmla="val 28974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5E1D-F080-4DC7-B54D-7F92FCCEF5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8" idx="0"/>
            <a:endCxn id="12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5"/>
            <a:endCxn id="13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6"/>
            <a:endCxn id="13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9" idx="4"/>
            <a:endCxn id="13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7" idx="2"/>
            <a:endCxn id="13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7" idx="3"/>
            <a:endCxn id="12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28" idx="7"/>
            <a:endCxn id="13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7" idx="7"/>
            <a:endCxn id="13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3" idx="6"/>
            <a:endCxn id="14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28" idx="0"/>
            <a:endCxn id="12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10F7-B42A-46C7-BF35-08B4BC5BE9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5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"/>
          <p:cNvCxnSpPr>
            <a:stCxn id="954" idx="0"/>
            <a:endCxn id="95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"/>
          <p:cNvCxnSpPr>
            <a:stCxn id="955" idx="5"/>
            <a:endCxn id="95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1" name=""/>
          <p:cNvCxnSpPr>
            <a:stCxn id="955" idx="6"/>
            <a:endCxn id="96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4" name=""/>
          <p:cNvCxnSpPr>
            <a:stCxn id="955" idx="4"/>
            <a:endCxn id="95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5" name=""/>
          <p:cNvCxnSpPr>
            <a:stCxn id="963" idx="2"/>
            <a:endCxn id="96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6" name=""/>
          <p:cNvCxnSpPr>
            <a:stCxn id="963" idx="3"/>
            <a:endCxn id="95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7" name=""/>
          <p:cNvCxnSpPr>
            <a:stCxn id="954" idx="7"/>
            <a:endCxn id="96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8" name=""/>
          <p:cNvCxnSpPr>
            <a:stCxn id="963" idx="7"/>
            <a:endCxn id="96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"/>
          <p:cNvCxnSpPr>
            <a:stCxn id="969" idx="6"/>
            <a:endCxn id="97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7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6D90-29CD-46D0-8B96-307B076AD1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0"/>
            <a:endCxn id="15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9" idx="5"/>
            <a:endCxn id="16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9" idx="6"/>
            <a:endCxn id="16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9" idx="4"/>
            <a:endCxn id="16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7" idx="2"/>
            <a:endCxn id="16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7" idx="3"/>
            <a:endCxn id="15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8" idx="7"/>
            <a:endCxn id="16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7" idx="7"/>
            <a:endCxn id="16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3" idx="6"/>
            <a:endCxn id="17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58" idx="6"/>
            <a:endCxn id="167" idx="3"/>
          </p:cNvCxnSpPr>
          <p:nvPr/>
        </p:nvCxnSpPr>
        <p:spPr>
          <a:xfrm flipV="1">
            <a:off x="2598840" y="3544560"/>
            <a:ext cx="1713600" cy="7992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67080" y="3276720"/>
            <a:ext cx="2210040" cy="609480"/>
            <a:chOff x="4267080" y="3276720"/>
            <a:chExt cx="2210040" cy="609480"/>
          </a:xfrm>
        </p:grpSpPr>
        <p:sp>
          <p:nvSpPr>
            <p:cNvPr id="186" name=""/>
            <p:cNvSpPr/>
            <p:nvPr/>
          </p:nvSpPr>
          <p:spPr>
            <a:xfrm>
              <a:off x="4800600" y="3276720"/>
              <a:ext cx="167652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6708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C117-4A7E-4042-84D4-E108748432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0" idx="0"/>
            <a:endCxn id="19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1" idx="5"/>
            <a:endCxn id="19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1" idx="6"/>
            <a:endCxn id="19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1" idx="4"/>
            <a:endCxn id="19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99" idx="2"/>
            <a:endCxn id="19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9" idx="3"/>
            <a:endCxn id="19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0" idx="7"/>
            <a:endCxn id="19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7"/>
            <a:endCxn id="19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05" idx="6"/>
            <a:endCxn id="21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196" idx="3"/>
            <a:endCxn id="199" idx="7"/>
          </p:cNvCxnSpPr>
          <p:nvPr/>
        </p:nvCxnSpPr>
        <p:spPr>
          <a:xfrm flipH="1">
            <a:off x="4527000" y="2684520"/>
            <a:ext cx="851400" cy="629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219" name=""/>
          <p:cNvGrpSpPr/>
          <p:nvPr/>
        </p:nvGrpSpPr>
        <p:grpSpPr>
          <a:xfrm>
            <a:off x="5334120" y="2413080"/>
            <a:ext cx="2209320" cy="609480"/>
            <a:chOff x="5334120" y="2413080"/>
            <a:chExt cx="2209320" cy="609480"/>
          </a:xfrm>
        </p:grpSpPr>
        <p:sp>
          <p:nvSpPr>
            <p:cNvPr id="220" name=""/>
            <p:cNvSpPr/>
            <p:nvPr/>
          </p:nvSpPr>
          <p:spPr>
            <a:xfrm>
              <a:off x="5867280" y="2413080"/>
              <a:ext cx="167616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4120" y="24130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B37A-D177-446F-A41A-4D7A09714F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4" idx="0"/>
            <a:endCxn id="22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5" idx="5"/>
            <a:endCxn id="22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5" idx="6"/>
            <a:endCxn id="23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25" idx="4"/>
            <a:endCxn id="22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33" idx="2"/>
            <a:endCxn id="23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33" idx="3"/>
            <a:endCxn id="22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4" idx="7"/>
            <a:endCxn id="23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33" idx="7"/>
            <a:endCxn id="23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39" idx="6"/>
            <a:endCxn id="24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30" idx="3"/>
            <a:endCxn id="233" idx="7"/>
          </p:cNvCxnSpPr>
          <p:nvPr/>
        </p:nvCxnSpPr>
        <p:spPr>
          <a:xfrm flipH="1">
            <a:off x="4527000" y="2684520"/>
            <a:ext cx="851400" cy="629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35812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4842-D1B7-460C-8A12-C76ABFE1CE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8" idx="0"/>
            <a:endCxn id="25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9" idx="5"/>
            <a:endCxn id="26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59" idx="6"/>
            <a:endCxn id="26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"/>
          <p:cNvCxnSpPr>
            <a:stCxn id="259" idx="4"/>
            <a:endCxn id="26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67" idx="2"/>
            <a:endCxn id="26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67" idx="3"/>
            <a:endCxn id="25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58" idx="7"/>
            <a:endCxn id="26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67" idx="7"/>
            <a:endCxn id="26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6"/>
            <a:endCxn id="27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64" idx="1"/>
            <a:endCxn id="259" idx="6"/>
          </p:cNvCxnSpPr>
          <p:nvPr/>
        </p:nvCxnSpPr>
        <p:spPr>
          <a:xfrm flipH="1" flipV="1">
            <a:off x="2598120" y="1220760"/>
            <a:ext cx="2780280" cy="1232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48680" y="35812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D6DC-3D46-4375-8CB9-D82BF3076C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2" idx="0"/>
            <a:endCxn id="29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3" idx="5"/>
            <a:endCxn id="29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3" idx="6"/>
            <a:endCxn id="29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93" idx="4"/>
            <a:endCxn id="29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301" idx="2"/>
            <a:endCxn id="30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301" idx="3"/>
            <a:endCxn id="29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2" idx="7"/>
            <a:endCxn id="30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1" idx="7"/>
            <a:endCxn id="29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307" idx="6"/>
            <a:endCxn id="31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05880" y="35812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19051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C10A-D4B6-4BE4-B37C-D6EC6FC13A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5" idx="0"/>
            <a:endCxn id="326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>
            <a:stCxn id="326" idx="5"/>
            <a:endCxn id="329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26" idx="6"/>
            <a:endCxn id="331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26" idx="4"/>
            <a:endCxn id="327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34" idx="2"/>
            <a:endCxn id="3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34" idx="3"/>
            <a:endCxn id="3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25" idx="7"/>
            <a:endCxn id="333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34" idx="7"/>
            <a:endCxn id="331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0" idx="6"/>
            <a:endCxn id="345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44956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34" idx="3"/>
            <a:endCxn id="3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8E0C-32DD-42BB-94E3-9E71765ED3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1-04-10T14:29:02Z</dcterms:modified>
  <cp:revision>606</cp:revision>
  <dc:subject/>
  <dc:title>Trees</dc:title>
</cp:coreProperties>
</file>