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69413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2B32-FB26-480D-B9A4-312BEF4BB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2B0A-AF62-4411-9C06-6A2AAA3ED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8E70-08CD-48D8-BA3E-9B7E081E6E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D1262-62B9-40D1-B638-ECA1EBA6D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6129-FE2C-446F-A14B-08C0EF2F5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9C86-FEB8-4B8C-83C6-87398B3E7F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D387-3E93-47D2-86C3-1002EE393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7DF7-9CC5-48D9-80E8-5E8974B6A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4F24-3707-4B42-8019-68A3ED8E2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9375-53F4-4462-A672-428164187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29DA-BD69-4776-A7DE-478B2654D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7A1B-8CF2-4F85-8B0E-298E092FF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8E60-7368-4931-B2E7-7F6BCB7CDB7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590160" y="1607040"/>
            <a:ext cx="1808280" cy="29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djacency Lis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:  F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:  A 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A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:  C F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:  C D 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:  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: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:  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:  H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3" name=""/>
          <p:cNvCxnSpPr>
            <a:stCxn id="80" idx="0"/>
            <a:endCxn id="81" idx="3"/>
          </p:cNvCxnSpPr>
          <p:nvPr/>
        </p:nvCxnSpPr>
        <p:spPr>
          <a:xfrm flipV="1">
            <a:off x="736560" y="1328400"/>
            <a:ext cx="95940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" name=""/>
          <p:cNvCxnSpPr>
            <a:stCxn id="81" idx="5"/>
            <a:endCxn id="84" idx="1"/>
          </p:cNvCxnSpPr>
          <p:nvPr/>
        </p:nvCxnSpPr>
        <p:spPr>
          <a:xfrm>
            <a:off x="1911240" y="1328400"/>
            <a:ext cx="1829520" cy="113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" name=""/>
          <p:cNvCxnSpPr>
            <a:stCxn id="81" idx="6"/>
            <a:endCxn id="86" idx="1"/>
          </p:cNvCxnSpPr>
          <p:nvPr/>
        </p:nvCxnSpPr>
        <p:spPr>
          <a:xfrm>
            <a:off x="1955880" y="1219680"/>
            <a:ext cx="3029400" cy="125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"/>
          <p:cNvCxnSpPr>
            <a:stCxn id="89" idx="2"/>
            <a:endCxn id="88" idx="5"/>
          </p:cNvCxnSpPr>
          <p:nvPr/>
        </p:nvCxnSpPr>
        <p:spPr>
          <a:xfrm flipH="1" flipV="1">
            <a:off x="2660400" y="3803400"/>
            <a:ext cx="103572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3"/>
            <a:endCxn id="80" idx="6"/>
          </p:cNvCxnSpPr>
          <p:nvPr/>
        </p:nvCxnSpPr>
        <p:spPr>
          <a:xfrm flipH="1">
            <a:off x="888840" y="4603680"/>
            <a:ext cx="28519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80" idx="7"/>
            <a:endCxn id="88" idx="3"/>
          </p:cNvCxnSpPr>
          <p:nvPr/>
        </p:nvCxnSpPr>
        <p:spPr>
          <a:xfrm flipV="1">
            <a:off x="844200" y="3803400"/>
            <a:ext cx="1601280" cy="69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89" idx="7"/>
            <a:endCxn id="86" idx="3"/>
          </p:cNvCxnSpPr>
          <p:nvPr/>
        </p:nvCxnSpPr>
        <p:spPr>
          <a:xfrm flipV="1">
            <a:off x="3956040" y="2689200"/>
            <a:ext cx="102924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9" idx="0"/>
            <a:endCxn id="84" idx="4"/>
          </p:cNvCxnSpPr>
          <p:nvPr/>
        </p:nvCxnSpPr>
        <p:spPr>
          <a:xfrm flipV="1">
            <a:off x="3848400" y="2720880"/>
            <a:ext cx="360" cy="162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4" idx="3"/>
            <a:endCxn id="88" idx="7"/>
          </p:cNvCxnSpPr>
          <p:nvPr/>
        </p:nvCxnSpPr>
        <p:spPr>
          <a:xfrm flipH="1">
            <a:off x="2660400" y="2676240"/>
            <a:ext cx="1080360" cy="91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8" idx="0"/>
            <a:endCxn id="84" idx="2"/>
          </p:cNvCxnSpPr>
          <p:nvPr/>
        </p:nvCxnSpPr>
        <p:spPr>
          <a:xfrm flipV="1">
            <a:off x="2552760" y="2568600"/>
            <a:ext cx="1143360" cy="97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1" idx="4"/>
            <a:endCxn id="82" idx="0"/>
          </p:cNvCxnSpPr>
          <p:nvPr/>
        </p:nvCxnSpPr>
        <p:spPr>
          <a:xfrm>
            <a:off x="1803600" y="1373040"/>
            <a:ext cx="360" cy="99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" name=""/>
          <p:cNvCxnSpPr>
            <a:stCxn id="82" idx="6"/>
            <a:endCxn id="98" idx="2"/>
          </p:cNvCxnSpPr>
          <p:nvPr/>
        </p:nvCxnSpPr>
        <p:spPr>
          <a:xfrm>
            <a:off x="1955880" y="2517840"/>
            <a:ext cx="6130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0" name=""/>
          <p:cNvCxnSpPr>
            <a:stCxn id="101" idx="7"/>
            <a:endCxn id="98" idx="3"/>
          </p:cNvCxnSpPr>
          <p:nvPr/>
        </p:nvCxnSpPr>
        <p:spPr>
          <a:xfrm flipV="1">
            <a:off x="1914480" y="2625480"/>
            <a:ext cx="69912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2" name=""/>
          <p:cNvCxnSpPr>
            <a:stCxn id="101" idx="0"/>
            <a:endCxn id="82" idx="4"/>
          </p:cNvCxnSpPr>
          <p:nvPr/>
        </p:nvCxnSpPr>
        <p:spPr>
          <a:xfrm flipH="1" flipV="1">
            <a:off x="1803600" y="2670120"/>
            <a:ext cx="3600" cy="46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86E70-0EB2-4F27-AB59-FFED6DE1FC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2" name=""/>
          <p:cNvCxnSpPr>
            <a:stCxn id="369" idx="0"/>
            <a:endCxn id="37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4" name=""/>
          <p:cNvCxnSpPr>
            <a:stCxn id="370" idx="5"/>
            <a:endCxn id="37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6" name=""/>
          <p:cNvCxnSpPr>
            <a:stCxn id="370" idx="6"/>
            <a:endCxn id="37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79" name=""/>
          <p:cNvCxnSpPr>
            <a:stCxn id="378" idx="2"/>
            <a:endCxn id="37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8" idx="3"/>
            <a:endCxn id="36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1" name=""/>
          <p:cNvCxnSpPr>
            <a:stCxn id="369" idx="7"/>
            <a:endCxn id="37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2" name=""/>
          <p:cNvCxnSpPr>
            <a:stCxn id="378" idx="7"/>
            <a:endCxn id="37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8" idx="0"/>
            <a:endCxn id="37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3"/>
            <a:endCxn id="37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7" idx="0"/>
            <a:endCxn id="37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70" idx="4"/>
            <a:endCxn id="37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8" name=""/>
          <p:cNvCxnSpPr>
            <a:stCxn id="371" idx="6"/>
            <a:endCxn id="38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89" name=""/>
          <p:cNvCxnSpPr>
            <a:stCxn id="390" idx="7"/>
            <a:endCxn id="38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1" name=""/>
          <p:cNvCxnSpPr>
            <a:stCxn id="390" idx="0"/>
            <a:endCxn id="37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9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34560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EE6C-6467-43CE-8776-3F2491D428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5" name=""/>
          <p:cNvCxnSpPr>
            <a:stCxn id="402" idx="0"/>
            <a:endCxn id="40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7" name=""/>
          <p:cNvCxnSpPr>
            <a:stCxn id="403" idx="5"/>
            <a:endCxn id="40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9" name=""/>
          <p:cNvCxnSpPr>
            <a:stCxn id="403" idx="6"/>
            <a:endCxn id="40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2" name=""/>
          <p:cNvCxnSpPr>
            <a:stCxn id="411" idx="2"/>
            <a:endCxn id="41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411" idx="3"/>
            <a:endCxn id="40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4" name=""/>
          <p:cNvCxnSpPr>
            <a:stCxn id="402" idx="7"/>
            <a:endCxn id="41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15" name=""/>
          <p:cNvCxnSpPr>
            <a:stCxn id="411" idx="7"/>
            <a:endCxn id="40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11" idx="0"/>
            <a:endCxn id="40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6" idx="3"/>
            <a:endCxn id="41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8" name=""/>
          <p:cNvCxnSpPr>
            <a:stCxn id="410" idx="0"/>
            <a:endCxn id="40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03" idx="4"/>
            <a:endCxn id="40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1" name=""/>
          <p:cNvCxnSpPr>
            <a:stCxn id="404" idx="6"/>
            <a:endCxn id="42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22" name=""/>
          <p:cNvCxnSpPr>
            <a:stCxn id="423" idx="7"/>
            <a:endCxn id="42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4" name=""/>
          <p:cNvCxnSpPr>
            <a:stCxn id="423" idx="0"/>
            <a:endCxn id="40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69692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2" name=""/>
          <p:cNvCxnSpPr>
            <a:stCxn id="410" idx="5"/>
            <a:endCxn id="411" idx="2"/>
          </p:cNvCxnSpPr>
          <p:nvPr/>
        </p:nvCxnSpPr>
        <p:spPr>
          <a:xfrm>
            <a:off x="2660400" y="3803760"/>
            <a:ext cx="1035720" cy="6926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2C043-7CA7-4DED-A1C2-099EB8D794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7" name=""/>
          <p:cNvCxnSpPr>
            <a:stCxn id="434" idx="0"/>
            <a:endCxn id="4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9" name=""/>
          <p:cNvCxnSpPr>
            <a:stCxn id="435" idx="5"/>
            <a:endCxn id="4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1" name=""/>
          <p:cNvCxnSpPr>
            <a:stCxn id="435" idx="6"/>
            <a:endCxn id="4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4" name=""/>
          <p:cNvCxnSpPr>
            <a:stCxn id="443" idx="2"/>
            <a:endCxn id="4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43" idx="3"/>
            <a:endCxn id="4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6" name=""/>
          <p:cNvCxnSpPr>
            <a:stCxn id="434" idx="7"/>
            <a:endCxn id="4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47" name=""/>
          <p:cNvCxnSpPr>
            <a:stCxn id="443" idx="7"/>
            <a:endCxn id="4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3" idx="0"/>
            <a:endCxn id="4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8" idx="3"/>
            <a:endCxn id="4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2" idx="0"/>
            <a:endCxn id="4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35" idx="4"/>
            <a:endCxn id="4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3" name=""/>
          <p:cNvCxnSpPr>
            <a:stCxn id="436" idx="6"/>
            <a:endCxn id="4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54" name=""/>
          <p:cNvCxnSpPr>
            <a:stCxn id="455" idx="7"/>
            <a:endCxn id="4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6" name=""/>
          <p:cNvCxnSpPr>
            <a:stCxn id="455" idx="0"/>
            <a:endCxn id="4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4" name=""/>
          <p:cNvCxnSpPr>
            <a:stCxn id="440" idx="3"/>
            <a:endCxn id="443" idx="7"/>
          </p:cNvCxnSpPr>
          <p:nvPr/>
        </p:nvCxnSpPr>
        <p:spPr>
          <a:xfrm flipH="1">
            <a:off x="3955680" y="2689200"/>
            <a:ext cx="1029600" cy="1699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7E6F-EFB3-48B4-9FF4-4D839B03BC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9" name=""/>
          <p:cNvCxnSpPr>
            <a:stCxn id="466" idx="0"/>
            <a:endCxn id="467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1" name=""/>
          <p:cNvCxnSpPr>
            <a:stCxn id="467" idx="5"/>
            <a:endCxn id="470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3" name=""/>
          <p:cNvCxnSpPr>
            <a:stCxn id="467" idx="6"/>
            <a:endCxn id="472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stCxn id="475" idx="2"/>
            <a:endCxn id="474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5" idx="3"/>
            <a:endCxn id="466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8" name=""/>
          <p:cNvCxnSpPr>
            <a:stCxn id="466" idx="7"/>
            <a:endCxn id="474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79" name=""/>
          <p:cNvCxnSpPr>
            <a:stCxn id="475" idx="7"/>
            <a:endCxn id="472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5" idx="0"/>
            <a:endCxn id="470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3"/>
            <a:endCxn id="474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4" idx="0"/>
            <a:endCxn id="470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3" name=""/>
          <p:cNvCxnSpPr>
            <a:stCxn id="467" idx="4"/>
            <a:endCxn id="468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4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5" name=""/>
          <p:cNvCxnSpPr>
            <a:stCxn id="468" idx="6"/>
            <a:endCxn id="484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86" name=""/>
          <p:cNvCxnSpPr>
            <a:stCxn id="487" idx="7"/>
            <a:endCxn id="484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8" name=""/>
          <p:cNvCxnSpPr>
            <a:stCxn id="487" idx="0"/>
            <a:endCxn id="468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745164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7004160" y="336852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758D-4C74-4A45-BC35-3B1629B0ED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2" name=""/>
          <p:cNvCxnSpPr>
            <a:stCxn id="499" idx="0"/>
            <a:endCxn id="50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4" name=""/>
          <p:cNvCxnSpPr>
            <a:stCxn id="500" idx="5"/>
            <a:endCxn id="50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6" name=""/>
          <p:cNvCxnSpPr>
            <a:stCxn id="500" idx="6"/>
            <a:endCxn id="50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9" name=""/>
          <p:cNvCxnSpPr>
            <a:stCxn id="508" idx="2"/>
            <a:endCxn id="50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8" idx="3"/>
            <a:endCxn id="49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1" name=""/>
          <p:cNvCxnSpPr>
            <a:stCxn id="499" idx="7"/>
            <a:endCxn id="50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2" name=""/>
          <p:cNvCxnSpPr>
            <a:stCxn id="508" idx="7"/>
            <a:endCxn id="50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8" idx="0"/>
            <a:endCxn id="50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3" idx="3"/>
            <a:endCxn id="50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7" idx="0"/>
            <a:endCxn id="50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0" idx="4"/>
            <a:endCxn id="50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8" name=""/>
          <p:cNvCxnSpPr>
            <a:stCxn id="501" idx="6"/>
            <a:endCxn id="51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9" name=""/>
          <p:cNvCxnSpPr>
            <a:stCxn id="520" idx="7"/>
            <a:endCxn id="51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21" name=""/>
          <p:cNvCxnSpPr>
            <a:stCxn id="520" idx="0"/>
            <a:endCxn id="50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2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7794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E01C-E2F0-42CF-BCAE-555B841669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0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3" name=""/>
          <p:cNvCxnSpPr>
            <a:stCxn id="530" idx="0"/>
            <a:endCxn id="531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5" name=""/>
          <p:cNvCxnSpPr>
            <a:stCxn id="531" idx="5"/>
            <a:endCxn id="534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7" name=""/>
          <p:cNvCxnSpPr>
            <a:stCxn id="531" idx="6"/>
            <a:endCxn id="536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0" name=""/>
          <p:cNvCxnSpPr>
            <a:stCxn id="539" idx="2"/>
            <a:endCxn id="538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1" name=""/>
          <p:cNvCxnSpPr>
            <a:stCxn id="539" idx="3"/>
            <a:endCxn id="530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2" name=""/>
          <p:cNvCxnSpPr>
            <a:stCxn id="530" idx="7"/>
            <a:endCxn id="538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43" name=""/>
          <p:cNvCxnSpPr>
            <a:stCxn id="539" idx="7"/>
            <a:endCxn id="536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9" idx="0"/>
            <a:endCxn id="534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4" idx="3"/>
            <a:endCxn id="538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0"/>
            <a:endCxn id="534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1" idx="4"/>
            <a:endCxn id="532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9" name=""/>
          <p:cNvCxnSpPr>
            <a:stCxn id="532" idx="6"/>
            <a:endCxn id="548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50" name=""/>
          <p:cNvCxnSpPr>
            <a:stCxn id="551" idx="7"/>
            <a:endCxn id="548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52" name=""/>
          <p:cNvCxnSpPr>
            <a:stCxn id="551" idx="0"/>
            <a:endCxn id="532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738972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FBCC7-F35F-44BD-9397-600119A2FB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2" name=""/>
          <p:cNvCxnSpPr>
            <a:stCxn id="559" idx="0"/>
            <a:endCxn id="560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4" name=""/>
          <p:cNvCxnSpPr>
            <a:stCxn id="560" idx="5"/>
            <a:endCxn id="563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65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6" name=""/>
          <p:cNvCxnSpPr>
            <a:stCxn id="560" idx="6"/>
            <a:endCxn id="565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9" name=""/>
          <p:cNvCxnSpPr>
            <a:stCxn id="568" idx="2"/>
            <a:endCxn id="567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0" name=""/>
          <p:cNvCxnSpPr>
            <a:stCxn id="568" idx="3"/>
            <a:endCxn id="559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1" name=""/>
          <p:cNvCxnSpPr>
            <a:stCxn id="559" idx="7"/>
            <a:endCxn id="567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2" name=""/>
          <p:cNvCxnSpPr>
            <a:stCxn id="568" idx="7"/>
            <a:endCxn id="565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68" idx="0"/>
            <a:endCxn id="563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63" idx="3"/>
            <a:endCxn id="567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7" idx="0"/>
            <a:endCxn id="563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0" idx="4"/>
            <a:endCxn id="561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77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8" name=""/>
          <p:cNvCxnSpPr>
            <a:stCxn id="561" idx="6"/>
            <a:endCxn id="577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79" name=""/>
          <p:cNvCxnSpPr>
            <a:stCxn id="580" idx="7"/>
            <a:endCxn id="577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1" name=""/>
          <p:cNvCxnSpPr>
            <a:stCxn id="580" idx="0"/>
            <a:endCxn id="561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720252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85" name=""/>
          <p:cNvCxnSpPr>
            <a:stCxn id="565" idx="1"/>
            <a:endCxn id="560" idx="6"/>
          </p:cNvCxnSpPr>
          <p:nvPr/>
        </p:nvCxnSpPr>
        <p:spPr>
          <a:xfrm flipH="1" flipV="1">
            <a:off x="1955520" y="1220040"/>
            <a:ext cx="3029760" cy="12531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9D59-63F0-4AEC-ACD5-A84C3977A4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0" name=""/>
          <p:cNvCxnSpPr>
            <a:stCxn id="587" idx="0"/>
            <a:endCxn id="588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2" name=""/>
          <p:cNvCxnSpPr>
            <a:stCxn id="588" idx="5"/>
            <a:endCxn id="591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3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stCxn id="588" idx="6"/>
            <a:endCxn id="593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7" name=""/>
          <p:cNvCxnSpPr>
            <a:stCxn id="596" idx="2"/>
            <a:endCxn id="595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"/>
          <p:cNvCxnSpPr>
            <a:stCxn id="596" idx="3"/>
            <a:endCxn id="587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99" name=""/>
          <p:cNvCxnSpPr>
            <a:stCxn id="587" idx="7"/>
            <a:endCxn id="595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0" name=""/>
          <p:cNvCxnSpPr>
            <a:stCxn id="596" idx="7"/>
            <a:endCxn id="593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6" idx="0"/>
            <a:endCxn id="591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1" idx="3"/>
            <a:endCxn id="595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"/>
          <p:cNvCxnSpPr>
            <a:stCxn id="595" idx="0"/>
            <a:endCxn id="591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"/>
          <p:cNvCxnSpPr>
            <a:stCxn id="588" idx="4"/>
            <a:endCxn id="589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6" name=""/>
          <p:cNvCxnSpPr>
            <a:stCxn id="589" idx="6"/>
            <a:endCxn id="605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07" name=""/>
          <p:cNvCxnSpPr>
            <a:stCxn id="608" idx="7"/>
            <a:endCxn id="605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9" name=""/>
          <p:cNvCxnSpPr>
            <a:stCxn id="608" idx="0"/>
            <a:endCxn id="589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755820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8475-394E-460D-8E03-C002A99875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7" name=""/>
          <p:cNvCxnSpPr>
            <a:stCxn id="614" idx="0"/>
            <a:endCxn id="61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9" name=""/>
          <p:cNvCxnSpPr>
            <a:stCxn id="615" idx="5"/>
            <a:endCxn id="61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2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1" name=""/>
          <p:cNvCxnSpPr>
            <a:stCxn id="615" idx="6"/>
            <a:endCxn id="62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stCxn id="623" idx="2"/>
            <a:endCxn id="62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3"/>
            <a:endCxn id="61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6" name=""/>
          <p:cNvCxnSpPr>
            <a:stCxn id="614" idx="7"/>
            <a:endCxn id="62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27" name=""/>
          <p:cNvCxnSpPr>
            <a:stCxn id="623" idx="7"/>
            <a:endCxn id="62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23" idx="0"/>
            <a:endCxn id="61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9" name=""/>
          <p:cNvCxnSpPr>
            <a:stCxn id="618" idx="3"/>
            <a:endCxn id="62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22" idx="0"/>
            <a:endCxn id="61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15" idx="4"/>
            <a:endCxn id="61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634" name=""/>
          <p:cNvCxnSpPr>
            <a:stCxn id="635" idx="7"/>
            <a:endCxn id="63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6" name=""/>
          <p:cNvCxnSpPr>
            <a:stCxn id="635" idx="0"/>
            <a:endCxn id="61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2674800" y="6316560"/>
            <a:ext cx="4783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reachable from A:   A, C, D, E, F, G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884A-4FE4-4B01-9574-3C9CEF0BA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" name=""/>
          <p:cNvCxnSpPr>
            <a:stCxn id="105" idx="5"/>
            <a:endCxn id="10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1" name=""/>
          <p:cNvCxnSpPr>
            <a:stCxn id="105" idx="6"/>
            <a:endCxn id="11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" name=""/>
          <p:cNvCxnSpPr>
            <a:stCxn id="113" idx="2"/>
            <a:endCxn id="11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3"/>
            <a:endCxn id="10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6" name=""/>
          <p:cNvCxnSpPr>
            <a:stCxn id="104" idx="7"/>
            <a:endCxn id="11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17" name=""/>
          <p:cNvCxnSpPr>
            <a:stCxn id="113" idx="7"/>
            <a:endCxn id="11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3" idx="0"/>
            <a:endCxn id="10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8" idx="3"/>
            <a:endCxn id="11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0"/>
            <a:endCxn id="10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5" idx="4"/>
            <a:endCxn id="10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"/>
          <p:cNvCxnSpPr>
            <a:stCxn id="106" idx="6"/>
            <a:endCxn id="12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4" name=""/>
          <p:cNvCxnSpPr>
            <a:stCxn id="125" idx="7"/>
            <a:endCxn id="12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6" name=""/>
          <p:cNvCxnSpPr>
            <a:stCxn id="125" idx="0"/>
            <a:endCxn id="10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" name=""/>
          <p:cNvCxnSpPr>
            <a:stCxn id="104" idx="0"/>
            <a:endCxn id="10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D1F0-2D8F-49F1-BCEF-A886EE3F05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" name=""/>
          <p:cNvCxnSpPr>
            <a:stCxn id="132" idx="0"/>
            <a:endCxn id="13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" name=""/>
          <p:cNvCxnSpPr>
            <a:stCxn id="133" idx="5"/>
            <a:endCxn id="13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9" name=""/>
          <p:cNvCxnSpPr>
            <a:stCxn id="133" idx="6"/>
            <a:endCxn id="13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"/>
          <p:cNvCxnSpPr>
            <a:stCxn id="141" idx="2"/>
            <a:endCxn id="14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4" name=""/>
          <p:cNvCxnSpPr>
            <a:stCxn id="132" idx="7"/>
            <a:endCxn id="14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5" name=""/>
          <p:cNvCxnSpPr>
            <a:stCxn id="141" idx="7"/>
            <a:endCxn id="13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0"/>
            <a:endCxn id="13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6" idx="3"/>
            <a:endCxn id="14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0" idx="0"/>
            <a:endCxn id="13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3" idx="4"/>
            <a:endCxn id="13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" name=""/>
          <p:cNvCxnSpPr>
            <a:stCxn id="134" idx="6"/>
            <a:endCxn id="15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53" idx="7"/>
            <a:endCxn id="15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4" name=""/>
          <p:cNvCxnSpPr>
            <a:stCxn id="153" idx="0"/>
            <a:endCxn id="13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" name=""/>
          <p:cNvCxnSpPr>
            <a:stCxn id="141" idx="3"/>
            <a:endCxn id="13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visit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0F45-CF84-4468-80E5-2985344DF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2" idx="0"/>
            <a:endCxn id="1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7" name=""/>
          <p:cNvCxnSpPr>
            <a:stCxn id="163" idx="5"/>
            <a:endCxn id="1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9" name=""/>
          <p:cNvCxnSpPr>
            <a:stCxn id="163" idx="6"/>
            <a:endCxn id="1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2" name=""/>
          <p:cNvCxnSpPr>
            <a:stCxn id="171" idx="2"/>
            <a:endCxn id="1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1" idx="3"/>
            <a:endCxn id="1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4" name=""/>
          <p:cNvCxnSpPr>
            <a:stCxn id="162" idx="7"/>
            <a:endCxn id="1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5" name=""/>
          <p:cNvCxnSpPr>
            <a:stCxn id="171" idx="7"/>
            <a:endCxn id="1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0"/>
            <a:endCxn id="1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6" idx="3"/>
            <a:endCxn id="1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0" idx="0"/>
            <a:endCxn id="1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3" idx="4"/>
            <a:endCxn id="1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1" name=""/>
          <p:cNvCxnSpPr>
            <a:stCxn id="164" idx="6"/>
            <a:endCxn id="1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"/>
          <p:cNvCxnSpPr>
            <a:stCxn id="183" idx="7"/>
            <a:endCxn id="1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4" name=""/>
          <p:cNvCxnSpPr>
            <a:stCxn id="183" idx="0"/>
            <a:endCxn id="1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88" name=""/>
          <p:cNvCxnSpPr>
            <a:stCxn id="166" idx="4"/>
            <a:endCxn id="171" idx="0"/>
          </p:cNvCxnSpPr>
          <p:nvPr/>
        </p:nvCxnSpPr>
        <p:spPr>
          <a:xfrm>
            <a:off x="3847680" y="2720520"/>
            <a:ext cx="1080" cy="162324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E860-6AAF-47AC-A23C-C27F32602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7" name=""/>
          <p:cNvCxnSpPr>
            <a:stCxn id="194" idx="0"/>
            <a:endCxn id="19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9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5" idx="6"/>
            <a:endCxn id="20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4" name=""/>
          <p:cNvCxnSpPr>
            <a:stCxn id="203" idx="2"/>
            <a:endCxn id="20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19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"/>
          <p:cNvCxnSpPr>
            <a:stCxn id="194" idx="7"/>
            <a:endCxn id="20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7" name=""/>
          <p:cNvCxnSpPr>
            <a:stCxn id="203" idx="7"/>
            <a:endCxn id="20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3" idx="0"/>
            <a:endCxn id="19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8" idx="3"/>
            <a:endCxn id="20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0"/>
            <a:endCxn id="19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195" idx="4"/>
            <a:endCxn id="19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3" name=""/>
          <p:cNvCxnSpPr>
            <a:stCxn id="196" idx="6"/>
            <a:endCxn id="21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4" name=""/>
          <p:cNvCxnSpPr>
            <a:stCxn id="215" idx="7"/>
            <a:endCxn id="21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6" name=""/>
          <p:cNvCxnSpPr>
            <a:stCxn id="215" idx="0"/>
            <a:endCxn id="19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0" name=""/>
          <p:cNvCxnSpPr>
            <a:stCxn id="195" idx="5"/>
            <a:endCxn id="19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76440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DB60E-AA34-4F0A-BDDC-E49CCBC806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1" name=""/>
          <p:cNvCxnSpPr>
            <a:stCxn id="228" idx="0"/>
            <a:endCxn id="22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3" name=""/>
          <p:cNvCxnSpPr>
            <a:stCxn id="229" idx="5"/>
            <a:endCxn id="23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29" idx="6"/>
            <a:endCxn id="23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8" name=""/>
          <p:cNvCxnSpPr>
            <a:stCxn id="237" idx="2"/>
            <a:endCxn id="23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3"/>
            <a:endCxn id="22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0" name=""/>
          <p:cNvCxnSpPr>
            <a:stCxn id="228" idx="7"/>
            <a:endCxn id="23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1" name=""/>
          <p:cNvCxnSpPr>
            <a:stCxn id="237" idx="7"/>
            <a:endCxn id="23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7" idx="0"/>
            <a:endCxn id="23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2" idx="3"/>
            <a:endCxn id="23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6" idx="0"/>
            <a:endCxn id="23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9" idx="4"/>
            <a:endCxn id="23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7" name=""/>
          <p:cNvCxnSpPr>
            <a:stCxn id="230" idx="6"/>
            <a:endCxn id="24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48" name=""/>
          <p:cNvCxnSpPr>
            <a:stCxn id="249" idx="7"/>
            <a:endCxn id="24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0" name=""/>
          <p:cNvCxnSpPr>
            <a:stCxn id="249" idx="0"/>
            <a:endCxn id="23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4" name=""/>
          <p:cNvCxnSpPr>
            <a:stCxn id="236" idx="7"/>
            <a:endCxn id="232" idx="3"/>
          </p:cNvCxnSpPr>
          <p:nvPr/>
        </p:nvCxnSpPr>
        <p:spPr>
          <a:xfrm flipV="1">
            <a:off x="2660760" y="2675880"/>
            <a:ext cx="1080000" cy="91188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4BF4-AB43-44E3-8A29-6EF072429A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5" name=""/>
          <p:cNvCxnSpPr>
            <a:stCxn id="262" idx="0"/>
            <a:endCxn id="263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7" name=""/>
          <p:cNvCxnSpPr>
            <a:stCxn id="263" idx="5"/>
            <a:endCxn id="266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9" name=""/>
          <p:cNvCxnSpPr>
            <a:stCxn id="263" idx="6"/>
            <a:endCxn id="268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2" name=""/>
          <p:cNvCxnSpPr>
            <a:stCxn id="271" idx="2"/>
            <a:endCxn id="270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1" idx="3"/>
            <a:endCxn id="262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7"/>
            <a:endCxn id="270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71" idx="7"/>
            <a:endCxn id="268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1" idx="0"/>
            <a:endCxn id="266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6" idx="3"/>
            <a:endCxn id="270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0" idx="0"/>
            <a:endCxn id="266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63" idx="4"/>
            <a:endCxn id="264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1" name=""/>
          <p:cNvCxnSpPr>
            <a:stCxn id="264" idx="6"/>
            <a:endCxn id="280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82" name=""/>
          <p:cNvCxnSpPr>
            <a:stCxn id="283" idx="7"/>
            <a:endCxn id="280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3" idx="0"/>
            <a:endCxn id="264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8" name=""/>
          <p:cNvCxnSpPr>
            <a:stCxn id="266" idx="2"/>
            <a:endCxn id="270" idx="0"/>
          </p:cNvCxnSpPr>
          <p:nvPr/>
        </p:nvCxnSpPr>
        <p:spPr>
          <a:xfrm flipH="1">
            <a:off x="2552040" y="2568600"/>
            <a:ext cx="1143720" cy="97560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672624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1137-4A04-4D70-BBA5-F714900F34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1" name=""/>
          <p:cNvCxnSpPr>
            <a:stCxn id="298" idx="0"/>
            <a:endCxn id="299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3" name=""/>
          <p:cNvCxnSpPr>
            <a:stCxn id="299" idx="5"/>
            <a:endCxn id="302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5" name=""/>
          <p:cNvCxnSpPr>
            <a:stCxn id="299" idx="6"/>
            <a:endCxn id="304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"/>
          <p:cNvCxnSpPr>
            <a:stCxn id="307" idx="2"/>
            <a:endCxn id="306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307" idx="3"/>
            <a:endCxn id="298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0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1" name=""/>
          <p:cNvCxnSpPr>
            <a:stCxn id="307" idx="7"/>
            <a:endCxn id="304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7" idx="0"/>
            <a:endCxn id="302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2" idx="3"/>
            <a:endCxn id="306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6" idx="0"/>
            <a:endCxn id="302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299" idx="4"/>
            <a:endCxn id="300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00" idx="6"/>
            <a:endCxn id="316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18" name=""/>
          <p:cNvCxnSpPr>
            <a:stCxn id="319" idx="7"/>
            <a:endCxn id="316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0" name=""/>
          <p:cNvCxnSpPr>
            <a:stCxn id="319" idx="0"/>
            <a:endCxn id="300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4" name=""/>
          <p:cNvCxnSpPr>
            <a:stCxn id="298" idx="7"/>
            <a:endCxn id="306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50760">
            <a:solidFill>
              <a:srgbClr val="cc0000"/>
            </a:solidFill>
            <a:miter/>
            <a:head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7234200" y="25938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F9FD-B1EA-4505-882C-3715572364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Directed Dep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84280" y="4457880"/>
            <a:ext cx="30456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650960" y="1066680"/>
            <a:ext cx="304920" cy="3063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65096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7" name=""/>
          <p:cNvCxnSpPr>
            <a:stCxn id="334" idx="0"/>
            <a:endCxn id="335" idx="3"/>
          </p:cNvCxnSpPr>
          <p:nvPr/>
        </p:nvCxnSpPr>
        <p:spPr>
          <a:xfrm flipV="1">
            <a:off x="736560" y="1328400"/>
            <a:ext cx="959760" cy="312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695760" y="2416320"/>
            <a:ext cx="304920" cy="30456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9" name=""/>
          <p:cNvCxnSpPr>
            <a:stCxn id="335" idx="5"/>
            <a:endCxn id="338" idx="1"/>
          </p:cNvCxnSpPr>
          <p:nvPr/>
        </p:nvCxnSpPr>
        <p:spPr>
          <a:xfrm>
            <a:off x="1911240" y="1328760"/>
            <a:ext cx="1829520" cy="11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0" name=""/>
          <p:cNvSpPr/>
          <p:nvPr/>
        </p:nvSpPr>
        <p:spPr>
          <a:xfrm>
            <a:off x="4940280" y="242892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1" name=""/>
          <p:cNvCxnSpPr>
            <a:stCxn id="335" idx="6"/>
            <a:endCxn id="340" idx="1"/>
          </p:cNvCxnSpPr>
          <p:nvPr/>
        </p:nvCxnSpPr>
        <p:spPr>
          <a:xfrm>
            <a:off x="1955880" y="1220400"/>
            <a:ext cx="3029760" cy="12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2" name=""/>
          <p:cNvSpPr/>
          <p:nvPr/>
        </p:nvSpPr>
        <p:spPr>
          <a:xfrm>
            <a:off x="2400480" y="3543480"/>
            <a:ext cx="304560" cy="304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3695760" y="4343400"/>
            <a:ext cx="304920" cy="30492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4" name=""/>
          <p:cNvCxnSpPr>
            <a:stCxn id="343" idx="2"/>
            <a:endCxn id="342" idx="5"/>
          </p:cNvCxnSpPr>
          <p:nvPr/>
        </p:nvCxnSpPr>
        <p:spPr>
          <a:xfrm flipH="1" flipV="1">
            <a:off x="2660040" y="3803400"/>
            <a:ext cx="1035720" cy="69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43" idx="3"/>
            <a:endCxn id="334" idx="6"/>
          </p:cNvCxnSpPr>
          <p:nvPr/>
        </p:nvCxnSpPr>
        <p:spPr>
          <a:xfrm flipH="1">
            <a:off x="888480" y="4603680"/>
            <a:ext cx="2851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6" name=""/>
          <p:cNvCxnSpPr>
            <a:stCxn id="334" idx="7"/>
            <a:endCxn id="342" idx="3"/>
          </p:cNvCxnSpPr>
          <p:nvPr/>
        </p:nvCxnSpPr>
        <p:spPr>
          <a:xfrm flipV="1">
            <a:off x="844200" y="3803400"/>
            <a:ext cx="1600920" cy="69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7" name=""/>
          <p:cNvCxnSpPr>
            <a:stCxn id="343" idx="7"/>
            <a:endCxn id="340" idx="3"/>
          </p:cNvCxnSpPr>
          <p:nvPr/>
        </p:nvCxnSpPr>
        <p:spPr>
          <a:xfrm flipV="1">
            <a:off x="3956040" y="2688840"/>
            <a:ext cx="1029600" cy="16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3" idx="0"/>
            <a:endCxn id="338" idx="4"/>
          </p:cNvCxnSpPr>
          <p:nvPr/>
        </p:nvCxnSpPr>
        <p:spPr>
          <a:xfrm flipV="1">
            <a:off x="3847680" y="2720160"/>
            <a:ext cx="1080" cy="162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8" idx="3"/>
            <a:endCxn id="342" idx="7"/>
          </p:cNvCxnSpPr>
          <p:nvPr/>
        </p:nvCxnSpPr>
        <p:spPr>
          <a:xfrm flipH="1">
            <a:off x="2660400" y="2676240"/>
            <a:ext cx="108000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38" idx="2"/>
          </p:cNvCxnSpPr>
          <p:nvPr/>
        </p:nvCxnSpPr>
        <p:spPr>
          <a:xfrm flipV="1">
            <a:off x="2552400" y="2568240"/>
            <a:ext cx="114372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35" idx="4"/>
            <a:endCxn id="336" idx="0"/>
          </p:cNvCxnSpPr>
          <p:nvPr/>
        </p:nvCxnSpPr>
        <p:spPr>
          <a:xfrm>
            <a:off x="1802880" y="1373040"/>
            <a:ext cx="108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2568600" y="236520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3" name=""/>
          <p:cNvCxnSpPr>
            <a:stCxn id="336" idx="6"/>
            <a:endCxn id="352" idx="2"/>
          </p:cNvCxnSpPr>
          <p:nvPr/>
        </p:nvCxnSpPr>
        <p:spPr>
          <a:xfrm>
            <a:off x="1955880" y="2517480"/>
            <a:ext cx="61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54" name=""/>
          <p:cNvCxnSpPr>
            <a:stCxn id="355" idx="7"/>
            <a:endCxn id="352" idx="3"/>
          </p:cNvCxnSpPr>
          <p:nvPr/>
        </p:nvCxnSpPr>
        <p:spPr>
          <a:xfrm flipV="1">
            <a:off x="1914480" y="2625120"/>
            <a:ext cx="699120" cy="54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1654200" y="313056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6" name=""/>
          <p:cNvCxnSpPr>
            <a:stCxn id="355" idx="0"/>
            <a:endCxn id="336" idx="4"/>
          </p:cNvCxnSpPr>
          <p:nvPr/>
        </p:nvCxnSpPr>
        <p:spPr>
          <a:xfrm flipH="1" flipV="1">
            <a:off x="1802520" y="2669400"/>
            <a:ext cx="396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57" name=""/>
          <p:cNvSpPr/>
          <p:nvPr/>
        </p:nvSpPr>
        <p:spPr>
          <a:xfrm>
            <a:off x="5510160" y="4843440"/>
            <a:ext cx="3187800" cy="19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A-F  A-G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674800" y="63165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ction call stack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6707160" y="61689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562720" y="394956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F-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7008840" y="52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5499000" y="306072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E-C  E-D  E-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>
            <a:off x="6435720" y="438156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2133720"/>
            <a:ext cx="318744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C-A  C-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272360" y="3456000"/>
            <a:ext cx="274680" cy="320760"/>
          </a:xfrm>
          <a:prstGeom prst="upArrow">
            <a:avLst>
              <a:gd name="adj1" fmla="val 49769"/>
              <a:gd name="adj2" fmla="val 61366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537160" y="1257480"/>
            <a:ext cx="3187800" cy="205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cc0000"/>
                </a:solidFill>
                <a:latin typeface="Comic Sans MS"/>
              </a:rPr>
              <a:t>dfs(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mic Sans MS"/>
              </a:rPr>
              <a:t>D-C  D-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7577280" y="2593800"/>
            <a:ext cx="274320" cy="320760"/>
          </a:xfrm>
          <a:prstGeom prst="upArrow">
            <a:avLst>
              <a:gd name="adj1" fmla="val 49769"/>
              <a:gd name="adj2" fmla="val 61447"/>
            </a:avLst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E77C-67E7-4E99-B7F7-176F04AFDA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01:41:01Z</dcterms:created>
  <dc:creator>Kevin Wayne</dc:creator>
  <dc:description/>
  <dc:language>en-US</dc:language>
  <cp:lastModifiedBy>Kevin Wayne</cp:lastModifiedBy>
  <dcterms:modified xsi:type="dcterms:W3CDTF">2005-11-30T22:31:59Z</dcterms:modified>
  <cp:revision>614</cp:revision>
  <dc:subject/>
  <dc:title>Trees</dc:title>
</cp:coreProperties>
</file>