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A5F0-A855-4002-9EC9-3DA1C0D16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6F1F-2F47-4339-B2CA-FCC9E8550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614E-7553-485C-8667-A064A7ADD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D2F1-47CB-4D7D-B03F-C59C45298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188E-E42A-441F-B61B-DFDDC1EAD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384A-3B0A-4428-B8FA-6799E6C0E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B800-0F25-4889-AB1F-E9A0D5B1B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F1EC-28D5-442A-B003-3ED921A91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1DD7A-035B-4C82-A525-9956EC567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D571E-3637-4920-91AF-8184F14FC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5CF5A-6811-4D2C-A733-2A023A7D2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A0712-ACBD-4F3E-816E-3EE175AD0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3E62-2FC1-468D-948B-FB5C321EE257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6590160" y="1607040"/>
            <a:ext cx="180828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djacency Li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:  F 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:  A 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 A 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:  C F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:  C D 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:  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: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:  B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:  H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3" name=""/>
          <p:cNvCxnSpPr>
            <a:stCxn id="80" idx="0"/>
            <a:endCxn id="81" idx="3"/>
          </p:cNvCxnSpPr>
          <p:nvPr/>
        </p:nvCxnSpPr>
        <p:spPr>
          <a:xfrm flipV="1">
            <a:off x="736560" y="1328400"/>
            <a:ext cx="95940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5" name=""/>
          <p:cNvCxnSpPr>
            <a:stCxn id="81" idx="5"/>
            <a:endCxn id="84" idx="1"/>
          </p:cNvCxnSpPr>
          <p:nvPr/>
        </p:nvCxnSpPr>
        <p:spPr>
          <a:xfrm>
            <a:off x="1911240" y="1328400"/>
            <a:ext cx="1829520" cy="113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" name=""/>
          <p:cNvCxnSpPr>
            <a:stCxn id="81" idx="6"/>
            <a:endCxn id="86" idx="1"/>
          </p:cNvCxnSpPr>
          <p:nvPr/>
        </p:nvCxnSpPr>
        <p:spPr>
          <a:xfrm>
            <a:off x="1955880" y="1219680"/>
            <a:ext cx="3029400" cy="125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0" name=""/>
          <p:cNvCxnSpPr>
            <a:stCxn id="89" idx="2"/>
            <a:endCxn id="88" idx="5"/>
          </p:cNvCxnSpPr>
          <p:nvPr/>
        </p:nvCxnSpPr>
        <p:spPr>
          <a:xfrm flipH="1" flipV="1">
            <a:off x="2660400" y="3803400"/>
            <a:ext cx="1035720" cy="69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9" idx="3"/>
            <a:endCxn id="80" idx="6"/>
          </p:cNvCxnSpPr>
          <p:nvPr/>
        </p:nvCxnSpPr>
        <p:spPr>
          <a:xfrm flipH="1">
            <a:off x="888840" y="4603680"/>
            <a:ext cx="28519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80" idx="7"/>
            <a:endCxn id="88" idx="3"/>
          </p:cNvCxnSpPr>
          <p:nvPr/>
        </p:nvCxnSpPr>
        <p:spPr>
          <a:xfrm flipV="1">
            <a:off x="844200" y="3803400"/>
            <a:ext cx="1601280" cy="69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89" idx="7"/>
            <a:endCxn id="86" idx="3"/>
          </p:cNvCxnSpPr>
          <p:nvPr/>
        </p:nvCxnSpPr>
        <p:spPr>
          <a:xfrm flipV="1">
            <a:off x="3956040" y="2689200"/>
            <a:ext cx="102924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9" idx="0"/>
            <a:endCxn id="84" idx="4"/>
          </p:cNvCxnSpPr>
          <p:nvPr/>
        </p:nvCxnSpPr>
        <p:spPr>
          <a:xfrm flipV="1">
            <a:off x="3848400" y="2720880"/>
            <a:ext cx="360" cy="162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4" idx="3"/>
            <a:endCxn id="88" idx="7"/>
          </p:cNvCxnSpPr>
          <p:nvPr/>
        </p:nvCxnSpPr>
        <p:spPr>
          <a:xfrm flipH="1">
            <a:off x="2660400" y="2676240"/>
            <a:ext cx="1080360" cy="91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8" idx="0"/>
            <a:endCxn id="84" idx="2"/>
          </p:cNvCxnSpPr>
          <p:nvPr/>
        </p:nvCxnSpPr>
        <p:spPr>
          <a:xfrm flipV="1">
            <a:off x="2552760" y="2568600"/>
            <a:ext cx="1143360" cy="9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1" idx="4"/>
            <a:endCxn id="82" idx="0"/>
          </p:cNvCxnSpPr>
          <p:nvPr/>
        </p:nvCxnSpPr>
        <p:spPr>
          <a:xfrm>
            <a:off x="1803600" y="1373040"/>
            <a:ext cx="360" cy="99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9" name=""/>
          <p:cNvCxnSpPr>
            <a:stCxn id="82" idx="6"/>
            <a:endCxn id="98" idx="2"/>
          </p:cNvCxnSpPr>
          <p:nvPr/>
        </p:nvCxnSpPr>
        <p:spPr>
          <a:xfrm>
            <a:off x="1955880" y="2517840"/>
            <a:ext cx="613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00" name=""/>
          <p:cNvCxnSpPr>
            <a:stCxn id="101" idx="7"/>
            <a:endCxn id="98" idx="3"/>
          </p:cNvCxnSpPr>
          <p:nvPr/>
        </p:nvCxnSpPr>
        <p:spPr>
          <a:xfrm flipV="1">
            <a:off x="1914480" y="2625480"/>
            <a:ext cx="699120" cy="5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2" name=""/>
          <p:cNvCxnSpPr>
            <a:stCxn id="101" idx="0"/>
            <a:endCxn id="82" idx="4"/>
          </p:cNvCxnSpPr>
          <p:nvPr/>
        </p:nvCxnSpPr>
        <p:spPr>
          <a:xfrm flipH="1" flipV="1">
            <a:off x="1803600" y="2670120"/>
            <a:ext cx="3600" cy="46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3C96-3CA6-49FA-BFBE-D912A68D00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2" name=""/>
          <p:cNvCxnSpPr>
            <a:stCxn id="369" idx="0"/>
            <a:endCxn id="370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73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4" name=""/>
          <p:cNvCxnSpPr>
            <a:stCxn id="370" idx="5"/>
            <a:endCxn id="373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6" name=""/>
          <p:cNvCxnSpPr>
            <a:stCxn id="370" idx="6"/>
            <a:endCxn id="375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9" name=""/>
          <p:cNvCxnSpPr>
            <a:stCxn id="378" idx="2"/>
            <a:endCxn id="377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8" idx="3"/>
            <a:endCxn id="369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1" name=""/>
          <p:cNvCxnSpPr>
            <a:stCxn id="369" idx="7"/>
            <a:endCxn id="377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2" name=""/>
          <p:cNvCxnSpPr>
            <a:stCxn id="378" idx="7"/>
            <a:endCxn id="375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78" idx="0"/>
            <a:endCxn id="373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73" idx="3"/>
            <a:endCxn id="377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77" idx="0"/>
            <a:endCxn id="373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stCxn id="370" idx="4"/>
            <a:endCxn id="371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8" name=""/>
          <p:cNvCxnSpPr>
            <a:stCxn id="371" idx="6"/>
            <a:endCxn id="387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9" name=""/>
          <p:cNvCxnSpPr>
            <a:stCxn id="390" idx="7"/>
            <a:endCxn id="387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1" name=""/>
          <p:cNvCxnSpPr>
            <a:stCxn id="390" idx="0"/>
            <a:endCxn id="371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7577280" y="3456000"/>
            <a:ext cx="274320" cy="320760"/>
          </a:xfrm>
          <a:prstGeom prst="upArrow">
            <a:avLst>
              <a:gd name="adj1" fmla="val 49769"/>
              <a:gd name="adj2" fmla="val 61447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9E4A-790F-4D85-8F1F-D173D0D0B1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5" name=""/>
          <p:cNvCxnSpPr>
            <a:stCxn id="402" idx="0"/>
            <a:endCxn id="403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7" name=""/>
          <p:cNvCxnSpPr>
            <a:stCxn id="403" idx="5"/>
            <a:endCxn id="406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08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9" name=""/>
          <p:cNvCxnSpPr>
            <a:stCxn id="403" idx="6"/>
            <a:endCxn id="408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2" name=""/>
          <p:cNvCxnSpPr>
            <a:stCxn id="411" idx="2"/>
            <a:endCxn id="410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11" idx="3"/>
            <a:endCxn id="40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14" name=""/>
          <p:cNvCxnSpPr>
            <a:stCxn id="402" idx="7"/>
            <a:endCxn id="410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15" name=""/>
          <p:cNvCxnSpPr>
            <a:stCxn id="411" idx="7"/>
            <a:endCxn id="408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411" idx="0"/>
            <a:endCxn id="406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406" idx="3"/>
            <a:endCxn id="410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"/>
          <p:cNvCxnSpPr>
            <a:stCxn id="410" idx="0"/>
            <a:endCxn id="406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"/>
          <p:cNvCxnSpPr>
            <a:stCxn id="403" idx="4"/>
            <a:endCxn id="404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1" name=""/>
          <p:cNvCxnSpPr>
            <a:stCxn id="404" idx="6"/>
            <a:endCxn id="420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22" name=""/>
          <p:cNvCxnSpPr>
            <a:stCxn id="423" idx="7"/>
            <a:endCxn id="420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4" name=""/>
          <p:cNvCxnSpPr>
            <a:stCxn id="423" idx="0"/>
            <a:endCxn id="404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696924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2" name=""/>
          <p:cNvCxnSpPr>
            <a:stCxn id="410" idx="5"/>
            <a:endCxn id="411" idx="2"/>
          </p:cNvCxnSpPr>
          <p:nvPr/>
        </p:nvCxnSpPr>
        <p:spPr>
          <a:xfrm>
            <a:off x="2660400" y="3803760"/>
            <a:ext cx="1035720" cy="69264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745F-8726-4EE2-AEAA-9F5E0752DB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7" name=""/>
          <p:cNvCxnSpPr>
            <a:stCxn id="434" idx="0"/>
            <a:endCxn id="43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9" name=""/>
          <p:cNvCxnSpPr>
            <a:stCxn id="435" idx="5"/>
            <a:endCxn id="43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1" name=""/>
          <p:cNvCxnSpPr>
            <a:stCxn id="435" idx="6"/>
            <a:endCxn id="44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4" name=""/>
          <p:cNvCxnSpPr>
            <a:stCxn id="443" idx="2"/>
            <a:endCxn id="44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5" name=""/>
          <p:cNvCxnSpPr>
            <a:stCxn id="443" idx="3"/>
            <a:endCxn id="43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46" name=""/>
          <p:cNvCxnSpPr>
            <a:stCxn id="434" idx="7"/>
            <a:endCxn id="44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47" name=""/>
          <p:cNvCxnSpPr>
            <a:stCxn id="443" idx="7"/>
            <a:endCxn id="44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43" idx="0"/>
            <a:endCxn id="43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38" idx="3"/>
            <a:endCxn id="44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"/>
          <p:cNvCxnSpPr>
            <a:stCxn id="442" idx="0"/>
            <a:endCxn id="43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"/>
          <p:cNvCxnSpPr>
            <a:stCxn id="435" idx="4"/>
            <a:endCxn id="43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3" name=""/>
          <p:cNvCxnSpPr>
            <a:stCxn id="436" idx="6"/>
            <a:endCxn id="45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54" name=""/>
          <p:cNvCxnSpPr>
            <a:stCxn id="455" idx="7"/>
            <a:endCxn id="45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6" name=""/>
          <p:cNvCxnSpPr>
            <a:stCxn id="455" idx="0"/>
            <a:endCxn id="43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57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745164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4" name=""/>
          <p:cNvCxnSpPr>
            <a:stCxn id="440" idx="3"/>
            <a:endCxn id="443" idx="7"/>
          </p:cNvCxnSpPr>
          <p:nvPr/>
        </p:nvCxnSpPr>
        <p:spPr>
          <a:xfrm flipH="1">
            <a:off x="3955680" y="2689200"/>
            <a:ext cx="1029600" cy="169920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77955-108E-4DC6-8378-E52BB607FF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9" name=""/>
          <p:cNvCxnSpPr>
            <a:stCxn id="466" idx="0"/>
            <a:endCxn id="467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1" name=""/>
          <p:cNvCxnSpPr>
            <a:stCxn id="467" idx="5"/>
            <a:endCxn id="470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3" name=""/>
          <p:cNvCxnSpPr>
            <a:stCxn id="467" idx="6"/>
            <a:endCxn id="472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6" name=""/>
          <p:cNvCxnSpPr>
            <a:stCxn id="475" idx="2"/>
            <a:endCxn id="474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475" idx="3"/>
            <a:endCxn id="466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78" name=""/>
          <p:cNvCxnSpPr>
            <a:stCxn id="466" idx="7"/>
            <a:endCxn id="474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79" name=""/>
          <p:cNvCxnSpPr>
            <a:stCxn id="475" idx="7"/>
            <a:endCxn id="472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5" idx="0"/>
            <a:endCxn id="470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70" idx="3"/>
            <a:endCxn id="474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"/>
          <p:cNvCxnSpPr>
            <a:stCxn id="474" idx="0"/>
            <a:endCxn id="470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3" name=""/>
          <p:cNvCxnSpPr>
            <a:stCxn id="467" idx="4"/>
            <a:endCxn id="468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5" name=""/>
          <p:cNvCxnSpPr>
            <a:stCxn id="468" idx="6"/>
            <a:endCxn id="484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86" name=""/>
          <p:cNvCxnSpPr>
            <a:stCxn id="487" idx="7"/>
            <a:endCxn id="484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8" name=""/>
          <p:cNvCxnSpPr>
            <a:stCxn id="487" idx="0"/>
            <a:endCxn id="468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745164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G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7004160" y="336852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3475-0611-4168-82C4-DCE89C8442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2" name=""/>
          <p:cNvCxnSpPr>
            <a:stCxn id="499" idx="0"/>
            <a:endCxn id="500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4" name=""/>
          <p:cNvCxnSpPr>
            <a:stCxn id="500" idx="5"/>
            <a:endCxn id="503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6" name=""/>
          <p:cNvCxnSpPr>
            <a:stCxn id="500" idx="6"/>
            <a:endCxn id="505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9" name=""/>
          <p:cNvCxnSpPr>
            <a:stCxn id="508" idx="2"/>
            <a:endCxn id="507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8" idx="3"/>
            <a:endCxn id="499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11" name=""/>
          <p:cNvCxnSpPr>
            <a:stCxn id="499" idx="7"/>
            <a:endCxn id="507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12" name=""/>
          <p:cNvCxnSpPr>
            <a:stCxn id="508" idx="7"/>
            <a:endCxn id="505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8" idx="0"/>
            <a:endCxn id="503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3" idx="3"/>
            <a:endCxn id="507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7" idx="0"/>
            <a:endCxn id="503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00" idx="4"/>
            <a:endCxn id="501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8" name=""/>
          <p:cNvCxnSpPr>
            <a:stCxn id="501" idx="6"/>
            <a:endCxn id="517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19" name=""/>
          <p:cNvCxnSpPr>
            <a:stCxn id="520" idx="7"/>
            <a:endCxn id="517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0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1" name=""/>
          <p:cNvCxnSpPr>
            <a:stCxn id="520" idx="0"/>
            <a:endCxn id="501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22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7794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4B51-61B7-43EC-A694-4AC39D361A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0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3" name=""/>
          <p:cNvCxnSpPr>
            <a:stCxn id="530" idx="0"/>
            <a:endCxn id="531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34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5" name=""/>
          <p:cNvCxnSpPr>
            <a:stCxn id="531" idx="5"/>
            <a:endCxn id="534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36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7" name=""/>
          <p:cNvCxnSpPr>
            <a:stCxn id="531" idx="6"/>
            <a:endCxn id="536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8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0" name=""/>
          <p:cNvCxnSpPr>
            <a:stCxn id="539" idx="2"/>
            <a:endCxn id="538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"/>
          <p:cNvCxnSpPr>
            <a:stCxn id="539" idx="3"/>
            <a:endCxn id="530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42" name=""/>
          <p:cNvCxnSpPr>
            <a:stCxn id="530" idx="7"/>
            <a:endCxn id="538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43" name=""/>
          <p:cNvCxnSpPr>
            <a:stCxn id="539" idx="7"/>
            <a:endCxn id="536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9" idx="0"/>
            <a:endCxn id="534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4" idx="3"/>
            <a:endCxn id="538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0"/>
            <a:endCxn id="534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1" idx="4"/>
            <a:endCxn id="532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9" name=""/>
          <p:cNvCxnSpPr>
            <a:stCxn id="532" idx="6"/>
            <a:endCxn id="548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50" name=""/>
          <p:cNvCxnSpPr>
            <a:stCxn id="551" idx="7"/>
            <a:endCxn id="548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2" name=""/>
          <p:cNvCxnSpPr>
            <a:stCxn id="551" idx="0"/>
            <a:endCxn id="532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53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738972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F1D5B-7D3F-4C7E-AF4F-26D2897221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2" name=""/>
          <p:cNvCxnSpPr>
            <a:stCxn id="559" idx="0"/>
            <a:endCxn id="560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63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4" name=""/>
          <p:cNvCxnSpPr>
            <a:stCxn id="560" idx="5"/>
            <a:endCxn id="563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65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6" name=""/>
          <p:cNvCxnSpPr>
            <a:stCxn id="560" idx="6"/>
            <a:endCxn id="565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9" name=""/>
          <p:cNvCxnSpPr>
            <a:stCxn id="568" idx="2"/>
            <a:endCxn id="567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8" idx="3"/>
            <a:endCxn id="559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71" name=""/>
          <p:cNvCxnSpPr>
            <a:stCxn id="559" idx="7"/>
            <a:endCxn id="567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72" name=""/>
          <p:cNvCxnSpPr>
            <a:stCxn id="568" idx="7"/>
            <a:endCxn id="565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68" idx="0"/>
            <a:endCxn id="563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63" idx="3"/>
            <a:endCxn id="567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67" idx="0"/>
            <a:endCxn id="563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0" idx="4"/>
            <a:endCxn id="561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77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8" name=""/>
          <p:cNvCxnSpPr>
            <a:stCxn id="561" idx="6"/>
            <a:endCxn id="577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79" name=""/>
          <p:cNvCxnSpPr>
            <a:stCxn id="580" idx="7"/>
            <a:endCxn id="577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1" name=""/>
          <p:cNvCxnSpPr>
            <a:stCxn id="580" idx="0"/>
            <a:endCxn id="561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720252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5" name=""/>
          <p:cNvCxnSpPr>
            <a:stCxn id="565" idx="1"/>
            <a:endCxn id="560" idx="6"/>
          </p:cNvCxnSpPr>
          <p:nvPr/>
        </p:nvCxnSpPr>
        <p:spPr>
          <a:xfrm flipH="1" flipV="1">
            <a:off x="1955520" y="1220040"/>
            <a:ext cx="3029760" cy="125316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390F-F7D9-4B82-83C2-0A94BC1666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0" name=""/>
          <p:cNvCxnSpPr>
            <a:stCxn id="587" idx="0"/>
            <a:endCxn id="588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91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2" name=""/>
          <p:cNvCxnSpPr>
            <a:stCxn id="588" idx="5"/>
            <a:endCxn id="591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93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4" name=""/>
          <p:cNvCxnSpPr>
            <a:stCxn id="588" idx="6"/>
            <a:endCxn id="593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5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7" name=""/>
          <p:cNvCxnSpPr>
            <a:stCxn id="596" idx="2"/>
            <a:endCxn id="595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"/>
          <p:cNvCxnSpPr>
            <a:stCxn id="596" idx="3"/>
            <a:endCxn id="587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99" name=""/>
          <p:cNvCxnSpPr>
            <a:stCxn id="587" idx="7"/>
            <a:endCxn id="595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00" name=""/>
          <p:cNvCxnSpPr>
            <a:stCxn id="596" idx="7"/>
            <a:endCxn id="593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1" name=""/>
          <p:cNvCxnSpPr>
            <a:stCxn id="596" idx="0"/>
            <a:endCxn id="591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"/>
          <p:cNvCxnSpPr>
            <a:stCxn id="591" idx="3"/>
            <a:endCxn id="595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3" name=""/>
          <p:cNvCxnSpPr>
            <a:stCxn id="595" idx="0"/>
            <a:endCxn id="591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4" name=""/>
          <p:cNvCxnSpPr>
            <a:stCxn id="588" idx="4"/>
            <a:endCxn id="589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05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6" name=""/>
          <p:cNvCxnSpPr>
            <a:stCxn id="589" idx="6"/>
            <a:endCxn id="605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07" name=""/>
          <p:cNvCxnSpPr>
            <a:stCxn id="608" idx="7"/>
            <a:endCxn id="605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8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9" name=""/>
          <p:cNvCxnSpPr>
            <a:stCxn id="608" idx="0"/>
            <a:endCxn id="589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10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755820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8D82-A195-4CEA-9839-DEFDCC0365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7" name=""/>
          <p:cNvCxnSpPr>
            <a:stCxn id="614" idx="0"/>
            <a:endCxn id="61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1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9" name=""/>
          <p:cNvCxnSpPr>
            <a:stCxn id="615" idx="5"/>
            <a:endCxn id="61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2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1" name=""/>
          <p:cNvCxnSpPr>
            <a:stCxn id="615" idx="6"/>
            <a:endCxn id="62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4" name=""/>
          <p:cNvCxnSpPr>
            <a:stCxn id="623" idx="2"/>
            <a:endCxn id="62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23" idx="3"/>
            <a:endCxn id="61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26" name=""/>
          <p:cNvCxnSpPr>
            <a:stCxn id="614" idx="7"/>
            <a:endCxn id="62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27" name=""/>
          <p:cNvCxnSpPr>
            <a:stCxn id="623" idx="7"/>
            <a:endCxn id="62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23" idx="0"/>
            <a:endCxn id="61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9" name=""/>
          <p:cNvCxnSpPr>
            <a:stCxn id="618" idx="3"/>
            <a:endCxn id="62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0" name=""/>
          <p:cNvCxnSpPr>
            <a:stCxn id="622" idx="0"/>
            <a:endCxn id="61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1" name=""/>
          <p:cNvCxnSpPr>
            <a:stCxn id="615" idx="4"/>
            <a:endCxn id="61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3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3" name=""/>
          <p:cNvCxnSpPr>
            <a:stCxn id="616" idx="6"/>
            <a:endCxn id="63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34" name=""/>
          <p:cNvCxnSpPr>
            <a:stCxn id="635" idx="7"/>
            <a:endCxn id="63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6" name=""/>
          <p:cNvCxnSpPr>
            <a:stCxn id="635" idx="0"/>
            <a:endCxn id="61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37" name=""/>
          <p:cNvSpPr/>
          <p:nvPr/>
        </p:nvSpPr>
        <p:spPr>
          <a:xfrm>
            <a:off x="2674800" y="6316560"/>
            <a:ext cx="478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des reachable from A:   A, C, D, E, F, G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D4B98-CD5A-4F13-AF93-4498E5ABEE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7" name=""/>
          <p:cNvCxnSpPr>
            <a:stCxn id="104" idx="0"/>
            <a:endCxn id="10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9" name=""/>
          <p:cNvCxnSpPr>
            <a:stCxn id="105" idx="5"/>
            <a:endCxn id="10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1" name=""/>
          <p:cNvCxnSpPr>
            <a:stCxn id="105" idx="6"/>
            <a:endCxn id="11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4" name=""/>
          <p:cNvCxnSpPr>
            <a:stCxn id="113" idx="2"/>
            <a:endCxn id="11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3"/>
            <a:endCxn id="10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16" name=""/>
          <p:cNvCxnSpPr>
            <a:stCxn id="104" idx="7"/>
            <a:endCxn id="11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17" name=""/>
          <p:cNvCxnSpPr>
            <a:stCxn id="113" idx="7"/>
            <a:endCxn id="11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3" idx="0"/>
            <a:endCxn id="10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8" idx="3"/>
            <a:endCxn id="11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2" idx="0"/>
            <a:endCxn id="10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5" idx="4"/>
            <a:endCxn id="10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3" name=""/>
          <p:cNvCxnSpPr>
            <a:stCxn id="106" idx="6"/>
            <a:endCxn id="12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24" name=""/>
          <p:cNvCxnSpPr>
            <a:stCxn id="125" idx="7"/>
            <a:endCxn id="12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6" name=""/>
          <p:cNvCxnSpPr>
            <a:stCxn id="125" idx="0"/>
            <a:endCxn id="10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0" name=""/>
          <p:cNvCxnSpPr>
            <a:stCxn id="104" idx="0"/>
            <a:endCxn id="10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5C0B4-9384-46F9-BDD9-E9A2501F8E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5" name=""/>
          <p:cNvCxnSpPr>
            <a:stCxn id="132" idx="0"/>
            <a:endCxn id="133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7" name=""/>
          <p:cNvCxnSpPr>
            <a:stCxn id="133" idx="5"/>
            <a:endCxn id="136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9" name=""/>
          <p:cNvCxnSpPr>
            <a:stCxn id="133" idx="6"/>
            <a:endCxn id="138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2" name=""/>
          <p:cNvCxnSpPr>
            <a:stCxn id="141" idx="2"/>
            <a:endCxn id="140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1" idx="3"/>
            <a:endCxn id="13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4" name=""/>
          <p:cNvCxnSpPr>
            <a:stCxn id="132" idx="7"/>
            <a:endCxn id="140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5" name=""/>
          <p:cNvCxnSpPr>
            <a:stCxn id="141" idx="7"/>
            <a:endCxn id="138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0"/>
            <a:endCxn id="136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6" idx="3"/>
            <a:endCxn id="140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0" idx="0"/>
            <a:endCxn id="136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3" idx="4"/>
            <a:endCxn id="134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1" name=""/>
          <p:cNvCxnSpPr>
            <a:stCxn id="134" idx="6"/>
            <a:endCxn id="150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53" idx="7"/>
            <a:endCxn id="150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4" name=""/>
          <p:cNvCxnSpPr>
            <a:stCxn id="153" idx="0"/>
            <a:endCxn id="134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8" name=""/>
          <p:cNvCxnSpPr>
            <a:stCxn id="141" idx="3"/>
            <a:endCxn id="13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D3F4-CF60-4397-A018-B7182F49CD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5" name=""/>
          <p:cNvCxnSpPr>
            <a:stCxn id="162" idx="0"/>
            <a:endCxn id="163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7" name=""/>
          <p:cNvCxnSpPr>
            <a:stCxn id="163" idx="5"/>
            <a:endCxn id="166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9" name=""/>
          <p:cNvCxnSpPr>
            <a:stCxn id="163" idx="6"/>
            <a:endCxn id="168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2" name=""/>
          <p:cNvCxnSpPr>
            <a:stCxn id="171" idx="2"/>
            <a:endCxn id="170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71" idx="3"/>
            <a:endCxn id="16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74" name=""/>
          <p:cNvCxnSpPr>
            <a:stCxn id="162" idx="7"/>
            <a:endCxn id="170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75" name=""/>
          <p:cNvCxnSpPr>
            <a:stCxn id="171" idx="7"/>
            <a:endCxn id="168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1" idx="0"/>
            <a:endCxn id="166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6" idx="3"/>
            <a:endCxn id="170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0" idx="0"/>
            <a:endCxn id="166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3" idx="4"/>
            <a:endCxn id="164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1" name=""/>
          <p:cNvCxnSpPr>
            <a:stCxn id="164" idx="6"/>
            <a:endCxn id="180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2" name=""/>
          <p:cNvCxnSpPr>
            <a:stCxn id="183" idx="7"/>
            <a:endCxn id="180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4" name=""/>
          <p:cNvCxnSpPr>
            <a:stCxn id="183" idx="0"/>
            <a:endCxn id="164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8" name=""/>
          <p:cNvCxnSpPr>
            <a:stCxn id="166" idx="4"/>
            <a:endCxn id="171" idx="0"/>
          </p:cNvCxnSpPr>
          <p:nvPr/>
        </p:nvCxnSpPr>
        <p:spPr>
          <a:xfrm>
            <a:off x="3847680" y="2720520"/>
            <a:ext cx="1080" cy="162324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7F61-CCBF-47D9-BD26-DD0354A5D5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7" name=""/>
          <p:cNvCxnSpPr>
            <a:stCxn id="194" idx="0"/>
            <a:endCxn id="19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9" name=""/>
          <p:cNvCxnSpPr>
            <a:stCxn id="195" idx="5"/>
            <a:endCxn id="19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1" name=""/>
          <p:cNvCxnSpPr>
            <a:stCxn id="195" idx="6"/>
            <a:endCxn id="20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4" name=""/>
          <p:cNvCxnSpPr>
            <a:stCxn id="203" idx="2"/>
            <a:endCxn id="20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3" idx="3"/>
            <a:endCxn id="19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"/>
          <p:cNvCxnSpPr>
            <a:stCxn id="194" idx="7"/>
            <a:endCxn id="20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7" name=""/>
          <p:cNvCxnSpPr>
            <a:stCxn id="203" idx="7"/>
            <a:endCxn id="20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203" idx="0"/>
            <a:endCxn id="19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98" idx="3"/>
            <a:endCxn id="20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2" idx="0"/>
            <a:endCxn id="19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195" idx="4"/>
            <a:endCxn id="19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3" name=""/>
          <p:cNvCxnSpPr>
            <a:stCxn id="196" idx="6"/>
            <a:endCxn id="21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4" name=""/>
          <p:cNvCxnSpPr>
            <a:stCxn id="215" idx="7"/>
            <a:endCxn id="21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6" name=""/>
          <p:cNvCxnSpPr>
            <a:stCxn id="215" idx="0"/>
            <a:endCxn id="19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0" name=""/>
          <p:cNvCxnSpPr>
            <a:stCxn id="195" idx="5"/>
            <a:endCxn id="19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676440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24DD2-7786-4FBA-8A7C-51F2B2C168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1" name=""/>
          <p:cNvCxnSpPr>
            <a:stCxn id="228" idx="0"/>
            <a:endCxn id="229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3" name=""/>
          <p:cNvCxnSpPr>
            <a:stCxn id="229" idx="5"/>
            <a:endCxn id="232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5" name=""/>
          <p:cNvCxnSpPr>
            <a:stCxn id="229" idx="6"/>
            <a:endCxn id="234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8" name=""/>
          <p:cNvCxnSpPr>
            <a:stCxn id="237" idx="2"/>
            <a:endCxn id="236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3"/>
            <a:endCxn id="228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0" name=""/>
          <p:cNvCxnSpPr>
            <a:stCxn id="228" idx="7"/>
            <a:endCxn id="236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1" name=""/>
          <p:cNvCxnSpPr>
            <a:stCxn id="237" idx="7"/>
            <a:endCxn id="234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7" idx="0"/>
            <a:endCxn id="232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2" idx="3"/>
            <a:endCxn id="236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36" idx="0"/>
            <a:endCxn id="232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29" idx="4"/>
            <a:endCxn id="230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7" name=""/>
          <p:cNvCxnSpPr>
            <a:stCxn id="230" idx="6"/>
            <a:endCxn id="246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8" name=""/>
          <p:cNvCxnSpPr>
            <a:stCxn id="249" idx="7"/>
            <a:endCxn id="246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0" name=""/>
          <p:cNvCxnSpPr>
            <a:stCxn id="249" idx="0"/>
            <a:endCxn id="230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4" name=""/>
          <p:cNvCxnSpPr>
            <a:stCxn id="236" idx="7"/>
            <a:endCxn id="232" idx="3"/>
          </p:cNvCxnSpPr>
          <p:nvPr/>
        </p:nvCxnSpPr>
        <p:spPr>
          <a:xfrm flipV="1">
            <a:off x="2660760" y="2675880"/>
            <a:ext cx="1080000" cy="91188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727236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704F-7C6C-4577-83BC-BFD285519B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5" name=""/>
          <p:cNvCxnSpPr>
            <a:stCxn id="262" idx="0"/>
            <a:endCxn id="263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7" name=""/>
          <p:cNvCxnSpPr>
            <a:stCxn id="263" idx="5"/>
            <a:endCxn id="266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9" name=""/>
          <p:cNvCxnSpPr>
            <a:stCxn id="263" idx="6"/>
            <a:endCxn id="268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2" name=""/>
          <p:cNvCxnSpPr>
            <a:stCxn id="271" idx="2"/>
            <a:endCxn id="270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3"/>
            <a:endCxn id="26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74" name=""/>
          <p:cNvCxnSpPr>
            <a:stCxn id="262" idx="7"/>
            <a:endCxn id="270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75" name=""/>
          <p:cNvCxnSpPr>
            <a:stCxn id="271" idx="7"/>
            <a:endCxn id="268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1" idx="0"/>
            <a:endCxn id="266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66" idx="3"/>
            <a:endCxn id="270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0" idx="0"/>
            <a:endCxn id="266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63" idx="4"/>
            <a:endCxn id="264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1" name=""/>
          <p:cNvCxnSpPr>
            <a:stCxn id="264" idx="6"/>
            <a:endCxn id="280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82" name=""/>
          <p:cNvCxnSpPr>
            <a:stCxn id="283" idx="7"/>
            <a:endCxn id="280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4" name=""/>
          <p:cNvCxnSpPr>
            <a:stCxn id="283" idx="0"/>
            <a:endCxn id="264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8" name=""/>
          <p:cNvCxnSpPr>
            <a:stCxn id="266" idx="2"/>
            <a:endCxn id="270" idx="0"/>
          </p:cNvCxnSpPr>
          <p:nvPr/>
        </p:nvCxnSpPr>
        <p:spPr>
          <a:xfrm flipH="1">
            <a:off x="2552040" y="2568600"/>
            <a:ext cx="1143720" cy="97560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289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727236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5537160" y="12574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D-C  D-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6726240" y="25938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87AE-A4B5-4575-8314-D9FE1E9E51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1" name=""/>
          <p:cNvCxnSpPr>
            <a:stCxn id="298" idx="0"/>
            <a:endCxn id="299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3" name=""/>
          <p:cNvCxnSpPr>
            <a:stCxn id="299" idx="5"/>
            <a:endCxn id="302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5" name=""/>
          <p:cNvCxnSpPr>
            <a:stCxn id="299" idx="6"/>
            <a:endCxn id="304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8" name=""/>
          <p:cNvCxnSpPr>
            <a:stCxn id="307" idx="2"/>
            <a:endCxn id="306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307" idx="3"/>
            <a:endCxn id="298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10" name=""/>
          <p:cNvCxnSpPr>
            <a:stCxn id="298" idx="7"/>
            <a:endCxn id="306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11" name=""/>
          <p:cNvCxnSpPr>
            <a:stCxn id="307" idx="7"/>
            <a:endCxn id="304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7" idx="0"/>
            <a:endCxn id="302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02" idx="3"/>
            <a:endCxn id="306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06" idx="0"/>
            <a:endCxn id="302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299" idx="4"/>
            <a:endCxn id="300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7" name=""/>
          <p:cNvCxnSpPr>
            <a:stCxn id="300" idx="6"/>
            <a:endCxn id="316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18" name=""/>
          <p:cNvCxnSpPr>
            <a:stCxn id="319" idx="7"/>
            <a:endCxn id="316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0" name=""/>
          <p:cNvCxnSpPr>
            <a:stCxn id="319" idx="0"/>
            <a:endCxn id="300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4" name=""/>
          <p:cNvCxnSpPr>
            <a:stCxn id="298" idx="7"/>
            <a:endCxn id="306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727236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5537160" y="12574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D-C  D-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7234200" y="25938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76C99-CDA5-456B-AA37-9A5D2E28B1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7" name=""/>
          <p:cNvCxnSpPr>
            <a:stCxn id="334" idx="0"/>
            <a:endCxn id="33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9" name=""/>
          <p:cNvCxnSpPr>
            <a:stCxn id="335" idx="5"/>
            <a:endCxn id="33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4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1" name=""/>
          <p:cNvCxnSpPr>
            <a:stCxn id="335" idx="6"/>
            <a:endCxn id="34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4" name=""/>
          <p:cNvCxnSpPr>
            <a:stCxn id="343" idx="2"/>
            <a:endCxn id="34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43" idx="3"/>
            <a:endCxn id="33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46" name=""/>
          <p:cNvCxnSpPr>
            <a:stCxn id="334" idx="7"/>
            <a:endCxn id="34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47" name=""/>
          <p:cNvCxnSpPr>
            <a:stCxn id="343" idx="7"/>
            <a:endCxn id="34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43" idx="0"/>
            <a:endCxn id="33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8" idx="3"/>
            <a:endCxn id="34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2" idx="0"/>
            <a:endCxn id="33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35" idx="4"/>
            <a:endCxn id="33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3" name=""/>
          <p:cNvCxnSpPr>
            <a:stCxn id="336" idx="6"/>
            <a:endCxn id="35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54" name=""/>
          <p:cNvCxnSpPr>
            <a:stCxn id="355" idx="7"/>
            <a:endCxn id="35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6" name=""/>
          <p:cNvCxnSpPr>
            <a:stCxn id="355" idx="0"/>
            <a:endCxn id="33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57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727236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5537160" y="12574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D-C  D-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7577280" y="2593800"/>
            <a:ext cx="274320" cy="320760"/>
          </a:xfrm>
          <a:prstGeom prst="upArrow">
            <a:avLst>
              <a:gd name="adj1" fmla="val 49769"/>
              <a:gd name="adj2" fmla="val 61447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7C2E-638C-4CD3-8FA6-904C3B8B39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5-11-30T22:31:59Z</dcterms:modified>
  <cp:revision>614</cp:revision>
  <dc:subject/>
  <dc:title>Trees</dc:title>
</cp:coreProperties>
</file>