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B5AB-6439-47EB-8081-1BB6BBBDB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CCD5-9EEB-4772-8FB5-CFB5DD17A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0CF8-A0BC-4573-A315-D21F7E004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83E2-8C6D-4914-B99C-27DD2F79C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3188-495C-4240-A79D-B43553779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8FA5-20A3-41D2-99DF-61ADD2C60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2E36-31D8-4C3A-8349-6D6EFF7EA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3810-32F3-428B-BEBF-9B5D08F56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2A30-3F44-4FF9-840F-9D018E4DC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3913-ED17-49DE-A9D4-9C38017E2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4A6B4-9221-480F-9433-E8DF2E11A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E3CD-BB52-4498-8D96-874EE8593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73B2-20FC-417F-91F7-7071F8AD0647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bert Sedgewick and Kevin Wayne   •   Copyright © 2005   •   http://www.Princeton.EDU/~cos226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"/>
          <p:cNvCxnSpPr>
            <a:stCxn id="79" idx="4"/>
            <a:endCxn id="82" idx="0"/>
          </p:cNvCxnSpPr>
          <p:nvPr/>
        </p:nvCxnSpPr>
        <p:spPr>
          <a:xfrm>
            <a:off x="1648800" y="1795320"/>
            <a:ext cx="1800" cy="224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1" idx="0"/>
            <a:endCxn id="80" idx="4"/>
          </p:cNvCxnSpPr>
          <p:nvPr/>
        </p:nvCxnSpPr>
        <p:spPr>
          <a:xfrm flipV="1">
            <a:off x="4458600" y="1795320"/>
            <a:ext cx="360" cy="1126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3" idx="6"/>
            <a:endCxn id="81" idx="2"/>
          </p:cNvCxnSpPr>
          <p:nvPr/>
        </p:nvCxnSpPr>
        <p:spPr>
          <a:xfrm>
            <a:off x="3070080" y="3058560"/>
            <a:ext cx="12513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2" idx="7"/>
            <a:endCxn id="83" idx="3"/>
          </p:cNvCxnSpPr>
          <p:nvPr/>
        </p:nvCxnSpPr>
        <p:spPr>
          <a:xfrm flipV="1">
            <a:off x="1747440" y="3155760"/>
            <a:ext cx="1088640" cy="923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9" idx="6"/>
            <a:endCxn id="80" idx="2"/>
          </p:cNvCxnSpPr>
          <p:nvPr/>
        </p:nvCxnSpPr>
        <p:spPr>
          <a:xfrm>
            <a:off x="1785960" y="1658160"/>
            <a:ext cx="25354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5"/>
            <a:endCxn id="81" idx="3"/>
          </p:cNvCxnSpPr>
          <p:nvPr/>
        </p:nvCxnSpPr>
        <p:spPr>
          <a:xfrm flipV="1">
            <a:off x="1747440" y="315576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" name=""/>
          <p:cNvCxnSpPr>
            <a:stCxn id="92" idx="5"/>
            <a:endCxn id="90" idx="1"/>
          </p:cNvCxnSpPr>
          <p:nvPr/>
        </p:nvCxnSpPr>
        <p:spPr>
          <a:xfrm>
            <a:off x="6252840" y="1744560"/>
            <a:ext cx="1488600" cy="12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3" idx="6"/>
            <a:endCxn id="90" idx="2"/>
          </p:cNvCxnSpPr>
          <p:nvPr/>
        </p:nvCxnSpPr>
        <p:spPr>
          <a:xfrm>
            <a:off x="6291360" y="3058560"/>
            <a:ext cx="141012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2" idx="4"/>
            <a:endCxn id="93" idx="0"/>
          </p:cNvCxnSpPr>
          <p:nvPr/>
        </p:nvCxnSpPr>
        <p:spPr>
          <a:xfrm flipH="1">
            <a:off x="6154200" y="1784520"/>
            <a:ext cx="1800" cy="1136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2" idx="6"/>
            <a:endCxn id="91" idx="2"/>
          </p:cNvCxnSpPr>
          <p:nvPr/>
        </p:nvCxnSpPr>
        <p:spPr>
          <a:xfrm>
            <a:off x="6292800" y="1647360"/>
            <a:ext cx="141480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81" idx="6"/>
            <a:endCxn id="93" idx="2"/>
          </p:cNvCxnSpPr>
          <p:nvPr/>
        </p:nvCxnSpPr>
        <p:spPr>
          <a:xfrm>
            <a:off x="4595760" y="3058560"/>
            <a:ext cx="142128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30" name=""/>
          <p:cNvCxnSpPr>
            <a:endCxn id="32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2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9" idx="6"/>
            <a:endCxn id="32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28" idx="7"/>
            <a:endCxn id="32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28" idx="5"/>
            <a:endCxn id="32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40" name=""/>
          <p:cNvCxnSpPr>
            <a:stCxn id="338" idx="5"/>
            <a:endCxn id="33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6"/>
            <a:endCxn id="33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38" idx="4"/>
            <a:endCxn id="33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8" idx="6"/>
            <a:endCxn id="33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27" idx="6"/>
            <a:endCxn id="33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58" name=""/>
          <p:cNvCxnSpPr>
            <a:endCxn id="35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9" name=""/>
          <p:cNvCxnSpPr>
            <a:stCxn id="355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7" idx="6"/>
            <a:endCxn id="35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7"/>
            <a:endCxn id="35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356" idx="5"/>
            <a:endCxn id="35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68" name=""/>
          <p:cNvCxnSpPr>
            <a:stCxn id="366" idx="5"/>
            <a:endCxn id="36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7" idx="6"/>
            <a:endCxn id="36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66" idx="4"/>
            <a:endCxn id="36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6" idx="6"/>
            <a:endCxn id="36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55" idx="6"/>
            <a:endCxn id="36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86" name=""/>
          <p:cNvCxnSpPr>
            <a:endCxn id="38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5" idx="6"/>
            <a:endCxn id="38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4" idx="7"/>
            <a:endCxn id="38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4" idx="5"/>
            <a:endCxn id="38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96" name=""/>
          <p:cNvCxnSpPr>
            <a:stCxn id="394" idx="5"/>
            <a:endCxn id="39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"/>
          <p:cNvCxnSpPr>
            <a:stCxn id="395" idx="6"/>
            <a:endCxn id="39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stCxn id="394" idx="4"/>
            <a:endCxn id="39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4" idx="6"/>
            <a:endCxn id="39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83" idx="6"/>
            <a:endCxn id="39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06" name=""/>
          <p:cNvCxnSpPr>
            <a:stCxn id="402" idx="4"/>
            <a:endCxn id="38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15" name=""/>
          <p:cNvCxnSpPr>
            <a:endCxn id="41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1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14" idx="6"/>
            <a:endCxn id="41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413" idx="7"/>
            <a:endCxn id="41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413" idx="5"/>
            <a:endCxn id="41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25" name=""/>
          <p:cNvCxnSpPr>
            <a:stCxn id="423" idx="5"/>
            <a:endCxn id="42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24" idx="6"/>
            <a:endCxn id="42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3" idx="4"/>
            <a:endCxn id="42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3" idx="6"/>
            <a:endCxn id="42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12" idx="6"/>
            <a:endCxn id="42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3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35" name=""/>
          <p:cNvCxnSpPr>
            <a:stCxn id="431" idx="4"/>
            <a:endCxn id="41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45" name=""/>
          <p:cNvCxnSpPr>
            <a:endCxn id="4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4" idx="6"/>
            <a:endCxn id="4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3" idx="7"/>
            <a:endCxn id="4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43" idx="5"/>
            <a:endCxn id="4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55" name=""/>
          <p:cNvCxnSpPr>
            <a:stCxn id="453" idx="5"/>
            <a:endCxn id="4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6" name=""/>
          <p:cNvCxnSpPr>
            <a:stCxn id="454" idx="6"/>
            <a:endCxn id="4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7" name=""/>
          <p:cNvCxnSpPr>
            <a:stCxn id="453" idx="4"/>
            <a:endCxn id="4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6"/>
            <a:endCxn id="4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42" idx="6"/>
            <a:endCxn id="4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65" name=""/>
          <p:cNvCxnSpPr>
            <a:stCxn id="461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66" name=""/>
          <p:cNvCxnSpPr>
            <a:stCxn id="461" idx="4"/>
            <a:endCxn id="442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6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7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76" name=""/>
          <p:cNvCxnSpPr>
            <a:endCxn id="47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6"/>
            <a:endCxn id="47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7"/>
            <a:endCxn id="4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4" idx="5"/>
            <a:endCxn id="47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86" name=""/>
          <p:cNvCxnSpPr>
            <a:stCxn id="484" idx="5"/>
            <a:endCxn id="4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7" name=""/>
          <p:cNvCxnSpPr>
            <a:stCxn id="485" idx="6"/>
            <a:endCxn id="4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4" idx="4"/>
            <a:endCxn id="4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89" name=""/>
          <p:cNvCxnSpPr>
            <a:stCxn id="484" idx="6"/>
            <a:endCxn id="4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90" name=""/>
          <p:cNvCxnSpPr>
            <a:stCxn id="473" idx="6"/>
            <a:endCxn id="4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496" name=""/>
          <p:cNvCxnSpPr>
            <a:stCxn id="492" idx="4"/>
            <a:endCxn id="473" idx="0"/>
          </p:cNvCxnSpPr>
          <p:nvPr/>
        </p:nvCxnSpPr>
        <p:spPr>
          <a:xfrm>
            <a:off x="4458960" y="180288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497" name=""/>
          <p:cNvCxnSpPr>
            <a:stCxn id="492" idx="2"/>
          </p:cNvCxnSpPr>
          <p:nvPr/>
        </p:nvCxnSpPr>
        <p:spPr>
          <a:xfrm flipH="1">
            <a:off x="179352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07" name=""/>
          <p:cNvCxnSpPr>
            <a:endCxn id="50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50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6" idx="6"/>
            <a:endCxn id="50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5" idx="7"/>
            <a:endCxn id="50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5" idx="5"/>
            <a:endCxn id="50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17" name=""/>
          <p:cNvCxnSpPr>
            <a:stCxn id="515" idx="5"/>
            <a:endCxn id="51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16" idx="6"/>
            <a:endCxn id="51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5" idx="4"/>
            <a:endCxn id="51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5" idx="6"/>
            <a:endCxn id="51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4" idx="6"/>
            <a:endCxn id="51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B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36" name=""/>
          <p:cNvCxnSpPr>
            <a:endCxn id="5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35" idx="6"/>
            <a:endCxn id="5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4" idx="7"/>
            <a:endCxn id="5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4" idx="5"/>
            <a:endCxn id="5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46" name=""/>
          <p:cNvCxnSpPr>
            <a:stCxn id="544" idx="5"/>
            <a:endCxn id="5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5" idx="6"/>
            <a:endCxn id="5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4" idx="4"/>
            <a:endCxn id="5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4" idx="6"/>
            <a:endCxn id="5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33" idx="6"/>
            <a:endCxn id="5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65" name=""/>
          <p:cNvCxnSpPr>
            <a:endCxn id="5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6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64" idx="6"/>
            <a:endCxn id="5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63" idx="7"/>
            <a:endCxn id="5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6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0" name=""/>
          <p:cNvCxnSpPr>
            <a:stCxn id="563" idx="5"/>
            <a:endCxn id="5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75" name=""/>
          <p:cNvCxnSpPr>
            <a:stCxn id="573" idx="5"/>
            <a:endCxn id="5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4" idx="6"/>
            <a:endCxn id="5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73" idx="4"/>
            <a:endCxn id="5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8" name=""/>
          <p:cNvCxnSpPr>
            <a:stCxn id="573" idx="6"/>
            <a:endCxn id="5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62" idx="6"/>
            <a:endCxn id="5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8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594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5" name=""/>
          <p:cNvCxnSpPr>
            <a:stCxn id="59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6"/>
            <a:endCxn id="59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92" idx="7"/>
            <a:endCxn id="59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99" name=""/>
          <p:cNvCxnSpPr>
            <a:stCxn id="592" idx="5"/>
            <a:endCxn id="59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04" name=""/>
          <p:cNvCxnSpPr>
            <a:stCxn id="602" idx="5"/>
            <a:endCxn id="60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5" name=""/>
          <p:cNvCxnSpPr>
            <a:stCxn id="603" idx="6"/>
            <a:endCxn id="60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2" idx="4"/>
            <a:endCxn id="60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602" idx="6"/>
            <a:endCxn id="60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stCxn id="591" idx="6"/>
            <a:endCxn id="60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13" name=""/>
          <p:cNvCxnSpPr>
            <a:endCxn id="59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1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" name=""/>
          <p:cNvCxnSpPr>
            <a:stCxn id="105" idx="4"/>
            <a:endCxn id="10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7" idx="0"/>
            <a:endCxn id="106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9" idx="6"/>
            <a:endCxn id="10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" name=""/>
          <p:cNvCxnSpPr>
            <a:stCxn id="108" idx="7"/>
            <a:endCxn id="10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5" idx="6"/>
            <a:endCxn id="106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8" idx="5"/>
            <a:endCxn id="10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" name=""/>
          <p:cNvCxnSpPr>
            <a:stCxn id="118" idx="5"/>
            <a:endCxn id="11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9" idx="6"/>
            <a:endCxn id="11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8" idx="4"/>
            <a:endCxn id="11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8" idx="6"/>
            <a:endCxn id="11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07" idx="6"/>
            <a:endCxn id="11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queue source no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24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62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623" idx="6"/>
            <a:endCxn id="62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622" idx="7"/>
            <a:endCxn id="62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29" name=""/>
          <p:cNvCxnSpPr>
            <a:stCxn id="622" idx="5"/>
            <a:endCxn id="62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34" name=""/>
          <p:cNvCxnSpPr>
            <a:stCxn id="632" idx="5"/>
            <a:endCxn id="63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5" name=""/>
          <p:cNvCxnSpPr>
            <a:stCxn id="633" idx="6"/>
            <a:endCxn id="63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6" name=""/>
          <p:cNvCxnSpPr>
            <a:stCxn id="632" idx="4"/>
            <a:endCxn id="63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7" name=""/>
          <p:cNvCxnSpPr>
            <a:stCxn id="632" idx="6"/>
            <a:endCxn id="63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38" name=""/>
          <p:cNvCxnSpPr>
            <a:stCxn id="621" idx="6"/>
            <a:endCxn id="63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3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43" name=""/>
          <p:cNvCxnSpPr>
            <a:endCxn id="62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4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4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5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5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53" idx="6"/>
            <a:endCxn id="65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52" idx="7"/>
            <a:endCxn id="65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52" idx="5"/>
            <a:endCxn id="65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64" name=""/>
          <p:cNvCxnSpPr>
            <a:stCxn id="662" idx="5"/>
            <a:endCxn id="66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5" name=""/>
          <p:cNvCxnSpPr>
            <a:stCxn id="663" idx="6"/>
            <a:endCxn id="66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2" idx="4"/>
            <a:endCxn id="66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7" name=""/>
          <p:cNvCxnSpPr>
            <a:stCxn id="662" idx="6"/>
            <a:endCxn id="66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51" idx="6"/>
            <a:endCxn id="66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6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73" name=""/>
          <p:cNvCxnSpPr>
            <a:stCxn id="653" idx="3"/>
            <a:endCxn id="652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674" name=""/>
          <p:cNvCxnSpPr>
            <a:endCxn id="65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85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6" name=""/>
          <p:cNvCxnSpPr>
            <a:stCxn id="68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7" name=""/>
          <p:cNvCxnSpPr>
            <a:stCxn id="684" idx="6"/>
            <a:endCxn id="68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83" idx="7"/>
            <a:endCxn id="68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8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0" name=""/>
          <p:cNvCxnSpPr>
            <a:stCxn id="683" idx="5"/>
            <a:endCxn id="68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695" name=""/>
          <p:cNvCxnSpPr>
            <a:stCxn id="693" idx="5"/>
            <a:endCxn id="69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94" idx="6"/>
            <a:endCxn id="69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93" idx="4"/>
            <a:endCxn id="69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93" idx="6"/>
            <a:endCxn id="69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82" idx="6"/>
            <a:endCxn id="69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0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04" name=""/>
          <p:cNvCxnSpPr>
            <a:endCxn id="68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05" name=""/>
          <p:cNvCxnSpPr>
            <a:stCxn id="684" idx="3"/>
            <a:endCxn id="683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1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stCxn id="71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19" name=""/>
          <p:cNvCxnSpPr>
            <a:stCxn id="716" idx="6"/>
            <a:endCxn id="71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stCxn id="715" idx="7"/>
            <a:endCxn id="716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stCxn id="715" idx="5"/>
            <a:endCxn id="71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2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27" name=""/>
          <p:cNvCxnSpPr>
            <a:stCxn id="725" idx="5"/>
            <a:endCxn id="72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stCxn id="726" idx="6"/>
            <a:endCxn id="72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29" name=""/>
          <p:cNvCxnSpPr>
            <a:stCxn id="725" idx="4"/>
            <a:endCxn id="726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0" name=""/>
          <p:cNvCxnSpPr>
            <a:stCxn id="725" idx="6"/>
            <a:endCxn id="72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31" name=""/>
          <p:cNvCxnSpPr>
            <a:stCxn id="714" idx="6"/>
            <a:endCxn id="726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32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36" name=""/>
          <p:cNvCxnSpPr>
            <a:stCxn id="714" idx="3"/>
            <a:endCxn id="715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7" name=""/>
          <p:cNvCxnSpPr>
            <a:endCxn id="715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38" name=""/>
          <p:cNvCxnSpPr>
            <a:stCxn id="716" idx="3"/>
            <a:endCxn id="715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50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7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9" idx="6"/>
            <a:endCxn id="747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8" idx="7"/>
            <a:endCxn id="74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5"/>
            <a:endCxn id="747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0" name=""/>
          <p:cNvCxnSpPr>
            <a:stCxn id="758" idx="5"/>
            <a:endCxn id="75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59" idx="6"/>
            <a:endCxn id="75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58" idx="4"/>
            <a:endCxn id="759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3" name=""/>
          <p:cNvCxnSpPr>
            <a:stCxn id="758" idx="6"/>
            <a:endCxn id="75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47" idx="6"/>
            <a:endCxn id="759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already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69" name=""/>
          <p:cNvCxnSpPr>
            <a:endCxn id="748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0" name=""/>
          <p:cNvCxnSpPr>
            <a:stCxn id="749" idx="3"/>
            <a:endCxn id="748" idx="7"/>
          </p:cNvCxnSpPr>
          <p:nvPr/>
        </p:nvCxnSpPr>
        <p:spPr>
          <a:xfrm flipH="1">
            <a:off x="1747080" y="316404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771" name=""/>
          <p:cNvCxnSpPr>
            <a:stCxn id="747" idx="3"/>
            <a:endCxn id="748" idx="5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77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83" name=""/>
          <p:cNvCxnSpPr>
            <a:endCxn id="781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4" name=""/>
          <p:cNvCxnSpPr>
            <a:stCxn id="78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5" name=""/>
          <p:cNvCxnSpPr>
            <a:stCxn id="782" idx="6"/>
            <a:endCxn id="78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6" name=""/>
          <p:cNvCxnSpPr>
            <a:stCxn id="781" idx="7"/>
            <a:endCxn id="782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88" name=""/>
          <p:cNvCxnSpPr>
            <a:stCxn id="781" idx="5"/>
            <a:endCxn id="78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8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93" name=""/>
          <p:cNvCxnSpPr>
            <a:stCxn id="791" idx="5"/>
            <a:endCxn id="78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92" idx="6"/>
            <a:endCxn id="78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91" idx="4"/>
            <a:endCxn id="79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91" idx="6"/>
            <a:endCxn id="79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0" idx="6"/>
            <a:endCxn id="79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0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1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81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11" idx="6"/>
            <a:endCxn id="81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endCxn id="81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17" name=""/>
          <p:cNvCxnSpPr>
            <a:endCxn id="81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1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22" name=""/>
          <p:cNvCxnSpPr>
            <a:stCxn id="820" idx="5"/>
            <a:endCxn id="81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21" idx="6"/>
            <a:endCxn id="81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4" name=""/>
          <p:cNvCxnSpPr>
            <a:stCxn id="820" idx="4"/>
            <a:endCxn id="82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5" name=""/>
          <p:cNvCxnSpPr>
            <a:stCxn id="820" idx="6"/>
            <a:endCxn id="81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0" idx="6"/>
            <a:endCxn id="82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3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41" idx="6"/>
            <a:endCxn id="840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5" name=""/>
          <p:cNvCxnSpPr>
            <a:endCxn id="84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endCxn id="840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52" name=""/>
          <p:cNvCxnSpPr>
            <a:stCxn id="850" idx="5"/>
            <a:endCxn id="84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3" name=""/>
          <p:cNvCxnSpPr>
            <a:stCxn id="851" idx="6"/>
            <a:endCxn id="84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50" idx="4"/>
            <a:endCxn id="85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50" idx="6"/>
            <a:endCxn id="84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56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F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61" name=""/>
          <p:cNvCxnSpPr>
            <a:stCxn id="840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2" name=""/>
          <p:cNvCxnSpPr>
            <a:stCxn id="840" idx="2"/>
            <a:endCxn id="84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3" name=""/>
          <p:cNvCxnSpPr>
            <a:stCxn id="840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64" name=""/>
          <p:cNvCxnSpPr>
            <a:stCxn id="840" idx="6"/>
            <a:endCxn id="85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7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75" idx="6"/>
            <a:endCxn id="874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79" name=""/>
          <p:cNvCxnSpPr>
            <a:endCxn id="87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1" name=""/>
          <p:cNvCxnSpPr>
            <a:endCxn id="874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86" name=""/>
          <p:cNvCxnSpPr>
            <a:stCxn id="884" idx="5"/>
            <a:endCxn id="88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7" name=""/>
          <p:cNvCxnSpPr>
            <a:stCxn id="885" idx="6"/>
            <a:endCxn id="88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8" name=""/>
          <p:cNvCxnSpPr>
            <a:stCxn id="884" idx="4"/>
            <a:endCxn id="88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89" name=""/>
          <p:cNvCxnSpPr>
            <a:stCxn id="884" idx="6"/>
            <a:endCxn id="88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890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89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95" name=""/>
          <p:cNvCxnSpPr>
            <a:stCxn id="874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6" name=""/>
          <p:cNvCxnSpPr>
            <a:stCxn id="874" idx="2"/>
            <a:endCxn id="875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7" name=""/>
          <p:cNvCxnSpPr>
            <a:stCxn id="874" idx="3"/>
          </p:cNvCxnSpPr>
          <p:nvPr/>
        </p:nvCxnSpPr>
        <p:spPr>
          <a:xfrm flipH="1">
            <a:off x="1747080" y="3164040"/>
            <a:ext cx="2613960" cy="11178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898" name=""/>
          <p:cNvCxnSpPr>
            <a:stCxn id="874" idx="6"/>
            <a:endCxn id="88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0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909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910" idx="6"/>
            <a:endCxn id="909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endCxn id="91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16" name=""/>
          <p:cNvCxnSpPr>
            <a:endCxn id="909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21" name=""/>
          <p:cNvCxnSpPr>
            <a:stCxn id="919" idx="5"/>
            <a:endCxn id="9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2" name=""/>
          <p:cNvCxnSpPr>
            <a:stCxn id="920" idx="6"/>
            <a:endCxn id="9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3" name=""/>
          <p:cNvCxnSpPr>
            <a:stCxn id="919" idx="4"/>
            <a:endCxn id="92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4" name=""/>
          <p:cNvCxnSpPr>
            <a:stCxn id="919" idx="6"/>
            <a:endCxn id="9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25" name=""/>
          <p:cNvCxnSpPr>
            <a:stCxn id="909" idx="6"/>
            <a:endCxn id="92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2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6" name=""/>
          <p:cNvCxnSpPr>
            <a:stCxn id="131" idx="4"/>
            <a:endCxn id="134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3" idx="0"/>
            <a:endCxn id="132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5" idx="6"/>
            <a:endCxn id="133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4" idx="7"/>
            <a:endCxn id="135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1" idx="6"/>
            <a:endCxn id="13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4" idx="5"/>
            <a:endCxn id="133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"/>
          <p:cNvCxnSpPr>
            <a:stCxn id="144" idx="5"/>
            <a:endCxn id="14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5" idx="6"/>
            <a:endCxn id="14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4" idx="4"/>
            <a:endCxn id="14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6"/>
            <a:endCxn id="14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33" idx="6"/>
            <a:endCxn id="14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4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3" name=""/>
          <p:cNvCxnSpPr>
            <a:stCxn id="940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4" name=""/>
          <p:cNvCxnSpPr>
            <a:endCxn id="94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4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1" name=""/>
          <p:cNvCxnSpPr>
            <a:stCxn id="949" idx="5"/>
            <a:endCxn id="94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stCxn id="950" idx="6"/>
            <a:endCxn id="94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stCxn id="949" idx="4"/>
            <a:endCxn id="95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4" name=""/>
          <p:cNvCxnSpPr>
            <a:stCxn id="949" idx="6"/>
            <a:endCxn id="94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55" name=""/>
          <p:cNvCxnSpPr>
            <a:endCxn id="95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72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3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4" name=""/>
          <p:cNvCxnSpPr>
            <a:stCxn id="971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5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6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77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82" name=""/>
          <p:cNvCxnSpPr>
            <a:stCxn id="980" idx="5"/>
            <a:endCxn id="978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3" name=""/>
          <p:cNvCxnSpPr>
            <a:stCxn id="981" idx="6"/>
            <a:endCxn id="978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4" name=""/>
          <p:cNvCxnSpPr>
            <a:stCxn id="980" idx="4"/>
            <a:endCxn id="981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5" name=""/>
          <p:cNvCxnSpPr>
            <a:stCxn id="980" idx="6"/>
            <a:endCxn id="979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endCxn id="981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91" name=""/>
          <p:cNvCxnSpPr>
            <a:endCxn id="971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992" name=""/>
          <p:cNvCxnSpPr>
            <a:endCxn id="971" idx="6"/>
          </p:cNvCxnSpPr>
          <p:nvPr/>
        </p:nvCxnSpPr>
        <p:spPr>
          <a:xfrm flipH="1">
            <a:off x="3077280" y="3058920"/>
            <a:ext cx="123588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99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14" name=""/>
          <p:cNvCxnSpPr>
            <a:stCxn id="1012" idx="5"/>
            <a:endCxn id="10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13" idx="6"/>
            <a:endCxn id="10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12" idx="4"/>
            <a:endCxn id="10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2" idx="6"/>
            <a:endCxn id="10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endCxn id="10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3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3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3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45" name=""/>
          <p:cNvCxnSpPr>
            <a:stCxn id="1043" idx="5"/>
            <a:endCxn id="104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6" name=""/>
          <p:cNvCxnSpPr>
            <a:stCxn id="1044" idx="6"/>
            <a:endCxn id="104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7" name=""/>
          <p:cNvCxnSpPr>
            <a:stCxn id="1043" idx="4"/>
            <a:endCxn id="104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8" name=""/>
          <p:cNvCxnSpPr>
            <a:stCxn id="1043" idx="6"/>
            <a:endCxn id="104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49" name=""/>
          <p:cNvCxnSpPr>
            <a:endCxn id="104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5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6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6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6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7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76" name=""/>
          <p:cNvCxnSpPr>
            <a:stCxn id="1074" idx="5"/>
            <a:endCxn id="107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75" idx="6"/>
            <a:endCxn id="107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4"/>
            <a:endCxn id="1075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4" idx="6"/>
            <a:endCxn id="107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endCxn id="1075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08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88" name=""/>
          <p:cNvCxnSpPr>
            <a:stCxn id="1075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089" name=""/>
          <p:cNvCxnSpPr>
            <a:stCxn id="1075" idx="0"/>
            <a:endCxn id="1074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99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0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1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2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3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04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0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09" name=""/>
          <p:cNvCxnSpPr>
            <a:stCxn id="1107" idx="5"/>
            <a:endCxn id="1105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108" idx="6"/>
            <a:endCxn id="1105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7" idx="4"/>
            <a:endCxn id="1108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7" idx="6"/>
            <a:endCxn id="1106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13" name=""/>
          <p:cNvCxnSpPr>
            <a:endCxn id="1108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1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21" name=""/>
          <p:cNvCxnSpPr>
            <a:stCxn id="1108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22" name=""/>
          <p:cNvCxnSpPr>
            <a:stCxn id="1108" idx="0"/>
            <a:endCxn id="1107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23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6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3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3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3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43" name=""/>
          <p:cNvCxnSpPr>
            <a:stCxn id="1141" idx="5"/>
            <a:endCxn id="113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1" idx="4"/>
            <a:endCxn id="1142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1" idx="6"/>
            <a:endCxn id="114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endCxn id="1142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4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5" name=""/>
          <p:cNvCxnSpPr>
            <a:stCxn id="1142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56" name=""/>
          <p:cNvCxnSpPr>
            <a:stCxn id="1142" idx="0"/>
            <a:endCxn id="1141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58" name=""/>
          <p:cNvCxnSpPr>
            <a:stCxn id="1142" idx="6"/>
            <a:endCxn id="113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6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68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69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0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1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2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3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7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78" name=""/>
          <p:cNvCxnSpPr>
            <a:stCxn id="1176" idx="5"/>
            <a:endCxn id="117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76" idx="4"/>
            <a:endCxn id="117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1" name=""/>
          <p:cNvCxnSpPr>
            <a:stCxn id="1176" idx="6"/>
            <a:endCxn id="117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7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18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0" name=""/>
          <p:cNvCxnSpPr>
            <a:stCxn id="1177" idx="2"/>
          </p:cNvCxnSpPr>
          <p:nvPr/>
        </p:nvCxnSpPr>
        <p:spPr>
          <a:xfrm flipH="1">
            <a:off x="4603320" y="3058920"/>
            <a:ext cx="14054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191" name=""/>
          <p:cNvCxnSpPr>
            <a:stCxn id="1177" idx="0"/>
            <a:endCxn id="1176" idx="4"/>
          </p:cNvCxnSpPr>
          <p:nvPr/>
        </p:nvCxnSpPr>
        <p:spPr>
          <a:xfrm flipV="1">
            <a:off x="6154200" y="179172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193" name=""/>
          <p:cNvCxnSpPr>
            <a:stCxn id="1177" idx="6"/>
            <a:endCxn id="117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0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0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0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14" name=""/>
          <p:cNvCxnSpPr>
            <a:stCxn id="1212" idx="5"/>
            <a:endCxn id="12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5" name=""/>
          <p:cNvCxnSpPr>
            <a:stCxn id="1213" idx="6"/>
            <a:endCxn id="12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6" name=""/>
          <p:cNvCxnSpPr>
            <a:stCxn id="1212" idx="4"/>
            <a:endCxn id="12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7" name=""/>
          <p:cNvCxnSpPr>
            <a:stCxn id="1212" idx="6"/>
            <a:endCxn id="12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18" name=""/>
          <p:cNvCxnSpPr>
            <a:endCxn id="12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3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 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3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4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46" name=""/>
          <p:cNvCxnSpPr>
            <a:stCxn id="1245" idx="5"/>
            <a:endCxn id="124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endCxn id="124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245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245" idx="6"/>
            <a:endCxn id="124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5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5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5" name=""/>
          <p:cNvCxnSpPr>
            <a:stCxn id="160" idx="4"/>
            <a:endCxn id="16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162" idx="0"/>
            <a:endCxn id="161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4" idx="6"/>
            <a:endCxn id="16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3" idx="7"/>
            <a:endCxn id="16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6"/>
            <a:endCxn id="161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3" idx="5"/>
            <a:endCxn id="16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75" name=""/>
          <p:cNvCxnSpPr>
            <a:stCxn id="173" idx="5"/>
            <a:endCxn id="17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6" name=""/>
          <p:cNvCxnSpPr>
            <a:stCxn id="174" idx="6"/>
            <a:endCxn id="17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7" name=""/>
          <p:cNvCxnSpPr>
            <a:stCxn id="173" idx="4"/>
            <a:endCxn id="17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8" name=""/>
          <p:cNvCxnSpPr>
            <a:stCxn id="173" idx="6"/>
            <a:endCxn id="17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62" idx="6"/>
            <a:endCxn id="17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6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7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79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8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93" name=""/>
          <p:cNvCxnSpPr>
            <a:stCxn id="1278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4" name=""/>
          <p:cNvCxnSpPr>
            <a:stCxn id="1278" idx="5"/>
            <a:endCxn id="127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295" name=""/>
          <p:cNvCxnSpPr>
            <a:stCxn id="1278" idx="6"/>
            <a:endCxn id="127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29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04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06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7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8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09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0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1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15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6" name=""/>
          <p:cNvCxnSpPr>
            <a:endCxn id="1312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7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8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1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2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29" name=""/>
          <p:cNvCxnSpPr>
            <a:stCxn id="1314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0" name=""/>
          <p:cNvCxnSpPr>
            <a:stCxn id="1314" idx="5"/>
            <a:endCxn id="1312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331" name=""/>
          <p:cNvCxnSpPr>
            <a:stCxn id="1314" idx="6"/>
            <a:endCxn id="131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33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41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43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4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5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6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7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48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49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52" name=""/>
          <p:cNvCxnSpPr>
            <a:stCxn id="1351" idx="5"/>
            <a:endCxn id="1349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3" name=""/>
          <p:cNvCxnSpPr>
            <a:endCxn id="1349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4" name=""/>
          <p:cNvCxnSpPr>
            <a:stCxn id="1351" idx="4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5" name=""/>
          <p:cNvCxnSpPr>
            <a:stCxn id="1351" idx="6"/>
            <a:endCxn id="1350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5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5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 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7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7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83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5" name=""/>
          <p:cNvCxnSpPr>
            <a:endCxn id="1383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endCxn id="1383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7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endCxn id="1384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38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39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t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0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1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1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19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0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1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2" name=""/>
          <p:cNvCxnSpPr>
            <a:endCxn id="141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23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24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34" name=""/>
          <p:cNvCxnSpPr>
            <a:endCxn id="141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1435" name=""/>
          <p:cNvCxnSpPr>
            <a:endCxn id="141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4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45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47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8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49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0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1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2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53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54" name=""/>
          <p:cNvCxnSpPr>
            <a:stCxn id="1455" idx="5"/>
          </p:cNvCxnSpPr>
          <p:nvPr/>
        </p:nvCxnSpPr>
        <p:spPr>
          <a:xfrm>
            <a:off x="6253200" y="1752480"/>
            <a:ext cx="1489680" cy="1215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6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7" name=""/>
          <p:cNvCxnSpPr>
            <a:stCxn id="1455" idx="4"/>
          </p:cNvCxnSpPr>
          <p:nvPr/>
        </p:nvCxnSpPr>
        <p:spPr>
          <a:xfrm>
            <a:off x="6156000" y="1792080"/>
            <a:ext cx="108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8" name=""/>
          <p:cNvCxnSpPr>
            <a:stCxn id="1455" idx="6"/>
            <a:endCxn id="1453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59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60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5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6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7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8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9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0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1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3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4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5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6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79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0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1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2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3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4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5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6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8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88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89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1" name=""/>
          <p:cNvCxnSpPr>
            <a:endCxn id="148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49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49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6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7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8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9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2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7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9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1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15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6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7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8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19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0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22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3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4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5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26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2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6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37" name=""/>
          <p:cNvCxnSpPr>
            <a:endCxn id="152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153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5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4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5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2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3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6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7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8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59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60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3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 finish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5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6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8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9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0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1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5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8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82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584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5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6" name=""/>
          <p:cNvCxnSpPr/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7" name=""/>
          <p:cNvCxnSpPr/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8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89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0" name=""/>
          <p:cNvCxnSpPr/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1" name=""/>
          <p:cNvCxnSpPr/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2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3" name=""/>
          <p:cNvCxnSpPr/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94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595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queue next verte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0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1" name=""/>
          <p:cNvCxnSpPr>
            <a:stCxn id="186" idx="4"/>
            <a:endCxn id="189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8" idx="0"/>
            <a:endCxn id="187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90" idx="6"/>
            <a:endCxn id="188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89" idx="7"/>
            <a:endCxn id="190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6" name=""/>
          <p:cNvCxnSpPr>
            <a:stCxn id="189" idx="5"/>
            <a:endCxn id="188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01" name=""/>
          <p:cNvCxnSpPr>
            <a:stCxn id="199" idx="5"/>
            <a:endCxn id="197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200" idx="6"/>
            <a:endCxn id="197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99" idx="4"/>
            <a:endCxn id="200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4" name=""/>
          <p:cNvCxnSpPr>
            <a:stCxn id="199" idx="6"/>
            <a:endCxn id="198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188" idx="6"/>
            <a:endCxn id="200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86" idx="6"/>
            <a:endCxn id="187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16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7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8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0" name=""/>
          <p:cNvCxnSpPr/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1" name=""/>
          <p:cNvCxnSpPr/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2" name=""/>
          <p:cNvCxnSpPr>
            <a:stCxn id="1619" idx="6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3" name=""/>
          <p:cNvCxnSpPr>
            <a:endCxn id="1619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4" name=""/>
          <p:cNvCxnSpPr/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5" name=""/>
          <p:cNvCxnSpPr/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26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7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628" name=""/>
          <p:cNvCxnSpPr>
            <a:endCxn id="1626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29" name=""/>
          <p:cNvCxnSpPr>
            <a:endCxn id="1626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0" name=""/>
          <p:cNvCxnSpPr/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1" name=""/>
          <p:cNvCxnSpPr>
            <a:endCxn id="1627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632" name=""/>
          <p:cNvCxnSpPr/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6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6" name=""/>
          <p:cNvSpPr/>
          <p:nvPr/>
        </p:nvSpPr>
        <p:spPr>
          <a:xfrm>
            <a:off x="4307040" y="320832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7" name=""/>
          <p:cNvSpPr/>
          <p:nvPr/>
        </p:nvSpPr>
        <p:spPr>
          <a:xfrm>
            <a:off x="2786040" y="320688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8" name=""/>
          <p:cNvSpPr/>
          <p:nvPr/>
        </p:nvSpPr>
        <p:spPr>
          <a:xfrm>
            <a:off x="6004080" y="321624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9" name=""/>
          <p:cNvSpPr/>
          <p:nvPr/>
        </p:nvSpPr>
        <p:spPr>
          <a:xfrm>
            <a:off x="5996160" y="105408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0" name=""/>
          <p:cNvSpPr/>
          <p:nvPr/>
        </p:nvSpPr>
        <p:spPr>
          <a:xfrm>
            <a:off x="7689960" y="32241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1" name=""/>
          <p:cNvSpPr/>
          <p:nvPr/>
        </p:nvSpPr>
        <p:spPr>
          <a:xfrm>
            <a:off x="7670880" y="106200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2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4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5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6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8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discove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18" name=""/>
          <p:cNvCxnSpPr>
            <a:stCxn id="213" idx="4"/>
            <a:endCxn id="216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0"/>
            <a:endCxn id="214" idx="4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17" idx="6"/>
            <a:endCxn id="215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6" idx="7"/>
            <a:endCxn id="217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6" idx="5"/>
            <a:endCxn id="215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28" name=""/>
          <p:cNvCxnSpPr>
            <a:stCxn id="226" idx="5"/>
            <a:endCxn id="224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7" idx="6"/>
            <a:endCxn id="224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4"/>
            <a:endCxn id="227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215" idx="6"/>
            <a:endCxn id="227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35" name=""/>
          <p:cNvCxnSpPr>
            <a:stCxn id="213" idx="6"/>
            <a:endCxn id="214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isit neighbors of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45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2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44" idx="6"/>
            <a:endCxn id="242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43" idx="7"/>
            <a:endCxn id="244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1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5"/>
            <a:endCxn id="242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55" name=""/>
          <p:cNvCxnSpPr>
            <a:stCxn id="253" idx="5"/>
            <a:endCxn id="251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54" idx="6"/>
            <a:endCxn id="251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53" idx="4"/>
            <a:endCxn id="254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53" idx="6"/>
            <a:endCxn id="252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42" idx="6"/>
            <a:endCxn id="254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1" idx="4"/>
            <a:endCxn id="243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64" name=""/>
          <p:cNvCxnSpPr>
            <a:stCxn id="241" idx="6"/>
            <a:endCxn id="262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6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discover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c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7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6" name=""/>
          <p:cNvCxnSpPr>
            <a:stCxn id="273" idx="6"/>
            <a:endCxn id="27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2" idx="7"/>
            <a:endCxn id="27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72" idx="5"/>
            <a:endCxn id="27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84" name=""/>
          <p:cNvCxnSpPr>
            <a:stCxn id="282" idx="5"/>
            <a:endCxn id="28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3" idx="6"/>
            <a:endCxn id="28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82" idx="4"/>
            <a:endCxn id="28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2" idx="6"/>
            <a:endCxn id="28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71" idx="6"/>
            <a:endCxn id="28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293" name=""/>
          <p:cNvCxnSpPr>
            <a:stCxn id="270" idx="6"/>
            <a:endCxn id="290" idx="2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cxnSp>
        <p:nvCxnSpPr>
          <p:cNvPr id="294" name=""/>
          <p:cNvCxnSpPr>
            <a:stCxn id="270" idx="4"/>
            <a:endCxn id="27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76320">
            <a:solidFill>
              <a:srgbClr val="003399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Breadth First Search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4025880" y="5372280"/>
            <a:ext cx="3861000" cy="44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287880" y="5454720"/>
            <a:ext cx="745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291960" y="5372280"/>
            <a:ext cx="22608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nished with 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1511280" y="1521000"/>
            <a:ext cx="274680" cy="2743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Comic Sans MS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43210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12720" y="4038480"/>
            <a:ext cx="274680" cy="27468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279576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4" name=""/>
          <p:cNvCxnSpPr>
            <a:stCxn id="300" idx="4"/>
            <a:endCxn id="302" idx="0"/>
          </p:cNvCxnSpPr>
          <p:nvPr/>
        </p:nvCxnSpPr>
        <p:spPr>
          <a:xfrm>
            <a:off x="1649520" y="1802880"/>
            <a:ext cx="2160" cy="2228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301" idx="0"/>
          </p:cNvCxnSpPr>
          <p:nvPr/>
        </p:nvCxnSpPr>
        <p:spPr>
          <a:xfrm flipV="1">
            <a:off x="4458960" y="1802520"/>
            <a:ext cx="1080" cy="1110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303" idx="6"/>
            <a:endCxn id="301" idx="2"/>
          </p:cNvCxnSpPr>
          <p:nvPr/>
        </p:nvCxnSpPr>
        <p:spPr>
          <a:xfrm>
            <a:off x="3077640" y="3058920"/>
            <a:ext cx="1235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302" idx="7"/>
            <a:endCxn id="303" idx="3"/>
          </p:cNvCxnSpPr>
          <p:nvPr/>
        </p:nvCxnSpPr>
        <p:spPr>
          <a:xfrm flipV="1">
            <a:off x="1747440" y="3163680"/>
            <a:ext cx="1088280" cy="907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300" idx="6"/>
          </p:cNvCxnSpPr>
          <p:nvPr/>
        </p:nvCxnSpPr>
        <p:spPr>
          <a:xfrm>
            <a:off x="1793880" y="1658520"/>
            <a:ext cx="2520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5"/>
            <a:endCxn id="301" idx="3"/>
          </p:cNvCxnSpPr>
          <p:nvPr/>
        </p:nvCxnSpPr>
        <p:spPr>
          <a:xfrm flipV="1">
            <a:off x="1747440" y="3164040"/>
            <a:ext cx="2613960" cy="1117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7701120" y="2921040"/>
            <a:ext cx="27432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0724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18120" y="15098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6016680" y="2921040"/>
            <a:ext cx="274680" cy="27468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4" name=""/>
          <p:cNvCxnSpPr>
            <a:stCxn id="312" idx="5"/>
            <a:endCxn id="310" idx="1"/>
          </p:cNvCxnSpPr>
          <p:nvPr/>
        </p:nvCxnSpPr>
        <p:spPr>
          <a:xfrm>
            <a:off x="6253200" y="1752480"/>
            <a:ext cx="1488240" cy="1200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3" idx="6"/>
            <a:endCxn id="310" idx="2"/>
          </p:cNvCxnSpPr>
          <p:nvPr/>
        </p:nvCxnSpPr>
        <p:spPr>
          <a:xfrm>
            <a:off x="6299280" y="3058920"/>
            <a:ext cx="13946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12" idx="4"/>
            <a:endCxn id="313" idx="0"/>
          </p:cNvCxnSpPr>
          <p:nvPr/>
        </p:nvCxnSpPr>
        <p:spPr>
          <a:xfrm flipH="1">
            <a:off x="6153840" y="1792080"/>
            <a:ext cx="2520" cy="1121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7" name=""/>
          <p:cNvCxnSpPr>
            <a:stCxn id="312" idx="6"/>
            <a:endCxn id="311" idx="2"/>
          </p:cNvCxnSpPr>
          <p:nvPr/>
        </p:nvCxnSpPr>
        <p:spPr>
          <a:xfrm>
            <a:off x="6300360" y="1647360"/>
            <a:ext cx="13993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1" idx="6"/>
            <a:endCxn id="313" idx="2"/>
          </p:cNvCxnSpPr>
          <p:nvPr/>
        </p:nvCxnSpPr>
        <p:spPr>
          <a:xfrm>
            <a:off x="4603320" y="3058920"/>
            <a:ext cx="14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1484280" y="106056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321080" y="1521000"/>
            <a:ext cx="274680" cy="274320"/>
          </a:xfrm>
          <a:prstGeom prst="ellipse">
            <a:avLst/>
          </a:prstGeom>
          <a:solidFill>
            <a:srgbClr val="0033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4309920" y="1057320"/>
            <a:ext cx="33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498680" y="4381560"/>
            <a:ext cx="33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4024440" y="5886360"/>
            <a:ext cx="38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FO Que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5:33:47Z</dcterms:created>
  <dc:creator>Kevin Wayne</dc:creator>
  <dc:description/>
  <dc:language>en-US</dc:language>
  <cp:lastModifiedBy>Kevin Wayne</cp:lastModifiedBy>
  <dcterms:modified xsi:type="dcterms:W3CDTF">2005-11-21T15:43:35Z</dcterms:modified>
  <cp:revision>3</cp:revision>
  <dc:subject/>
  <dc:title>Breadth First Search</dc:title>
</cp:coreProperties>
</file>