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C304-F918-4778-812F-DB2FC462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B801-D986-44D7-85F0-AAA6D767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AD6B-8C1C-4394-8B9B-B8713A1DE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085C-D5F4-45A6-B3FC-CBBBE0218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8BB5-3250-4272-BB1E-E2F76847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4C07-B714-445B-B20B-291DBD0D6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CD71-0049-4D9F-8FDF-351A4D853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4DDA-B0A2-4B56-A267-7704618A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62F1-FD4D-49CA-BA2F-10A972CC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F82E-3E47-415C-B59E-BCE0B4F5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B0DF-CCC6-4006-A7C1-E7668B2EA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9EC4-8098-4934-AE52-878B0B85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D2B3-FF9A-4A2E-9D6A-CD828E03647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M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arted in 199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fer Based approa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riginally developed by computational linguists from Herzen University (St. Petersburg), who remain stakeholder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ne of the leading web-based translation engi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nguage Pai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4 Language Direction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7 Langu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mited to most widely spoken European languag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me example translation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radig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ER bas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ims to be using “Multi-dimensional cybernetic dictionary paradigms”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tree structure (but not linguistic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form</a:t>
            </a:r>
            <a:r>
              <a:rPr b="0" lang="en-GB" sz="3200" spc="-1" strike="noStrike">
                <a:solidFill>
                  <a:srgbClr val="000000"/>
                </a:solidFill>
                <a:latin typeface="ヒラギノ角ゴ Pro W3"/>
              </a:rPr>
              <a:t>_x0005_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 Source Tree- Target Tre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mposes from target tree to target language;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nowledge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Uses “Dictionary Volum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 translation of words, semantic morphologic and syntactic ta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nslation Modules (describe morphological and grammatical structu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number of additional software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for extendibilit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- BLEU sc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86040" y="6248520"/>
            <a:ext cx="33526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it &amp; Wong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10480" cy="419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9T00:14:36Z</dcterms:created>
  <dc:creator>Princeton University</dc:creator>
  <dc:description/>
  <dc:language>en-US</dc:language>
  <cp:lastModifiedBy>Princeton University</cp:lastModifiedBy>
  <dcterms:modified xsi:type="dcterms:W3CDTF">2009-04-29T01:59:47Z</dcterms:modified>
  <cp:revision>3</cp:revision>
  <dc:subject/>
  <dc:title>ProMT</dc:title>
</cp:coreProperties>
</file>