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0D71-758F-4CD2-9F30-44A1018F7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structure that can be mapped directly to IS of other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s additional tags (language pair depend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Removes determiners &amp; rearranges le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24E0-1611-4E36-933F-7B2C7CA275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6C0B-D44C-44AC-8295-436AA7B5E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based MT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s rules and a diction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intermediate steps v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032-43AE-4F0E-8184-A251ACF9F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FF6-8E16-47A5-BCD5-552CED9F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3E90-3B5D-4C02-A4B1-8B854F05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998-5813-47B4-94F0-D63D380E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90E6-690F-4E9F-8086-A51461550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9788-815E-4E68-92B3-1C74233CA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7C37-B6B3-43DE-BA1C-814E61DC5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93E8-3C9B-41C4-89F1-E08A69903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EAE8-29C8-47C8-9F73-A9F1BFF62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6807-8144-4EE2-86DD-1E5117B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EE27-832A-4D06-BAE6-248CDA6FA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DB3-AF16-4FCC-B367-3CEFB160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193B1-5B9C-4386-96FA-1556A76CD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portal.acm.org/citation.cfm?id=974264" TargetMode="External"/><Relationship Id="rId2" Type="http://schemas.openxmlformats.org/officeDocument/2006/relationships/hyperlink" Target="http://www.hutchinsweb.me.uk/IntroMT-TOC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rcRect l="0" t="2476" r="0" b="1086"/>
          <a:stretch/>
        </p:blipFill>
        <p:spPr>
          <a:xfrm>
            <a:off x="-76320" y="609480"/>
            <a:ext cx="9315720" cy="5943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Kozuka Gothic Pro H"/>
                <a:ea typeface="Kozuka Gothic Pro H"/>
              </a:rPr>
              <a:t>Eurotra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43828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aitlin Rena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ttina Burget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1"/>
          <p:cNvGrpSpPr/>
          <p:nvPr/>
        </p:nvGrpSpPr>
        <p:grpSpPr>
          <a:xfrm>
            <a:off x="914400" y="1371600"/>
            <a:ext cx="7315200" cy="5333760"/>
            <a:chOff x="914400" y="1371600"/>
            <a:chExt cx="7315200" cy="5333760"/>
          </a:xfrm>
        </p:grpSpPr>
        <p:pic>
          <p:nvPicPr>
            <p:cNvPr id="163" name="Picture 4" descr="Picture 4"/>
            <p:cNvPicPr/>
            <p:nvPr/>
          </p:nvPicPr>
          <p:blipFill>
            <a:blip r:embed="rId1"/>
            <a:stretch/>
          </p:blipFill>
          <p:spPr>
            <a:xfrm>
              <a:off x="990720" y="1562040"/>
              <a:ext cx="6858000" cy="51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Rectangle 5"/>
            <p:cNvSpPr/>
            <p:nvPr/>
          </p:nvSpPr>
          <p:spPr>
            <a:xfrm>
              <a:off x="7391520" y="1371600"/>
              <a:ext cx="838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7"/>
            <p:cNvSpPr/>
            <p:nvPr/>
          </p:nvSpPr>
          <p:spPr>
            <a:xfrm>
              <a:off x="914400" y="1600200"/>
              <a:ext cx="83808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Constituent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0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2"/>
          <p:cNvSpPr/>
          <p:nvPr/>
        </p:nvSpPr>
        <p:spPr>
          <a:xfrm>
            <a:off x="1905120" y="990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Reorganizes tree into syntactic constitue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4"/>
          <p:cNvSpPr/>
          <p:nvPr/>
        </p:nvSpPr>
        <p:spPr>
          <a:xfrm>
            <a:off x="7391520" y="9907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914400" y="12193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6" descr="Picture 5"/>
          <p:cNvPicPr/>
          <p:nvPr/>
        </p:nvPicPr>
        <p:blipFill>
          <a:blip r:embed="rId1"/>
          <a:stretch/>
        </p:blipFill>
        <p:spPr>
          <a:xfrm>
            <a:off x="1143000" y="1447920"/>
            <a:ext cx="7238880" cy="55148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7"/>
          <p:cNvSpPr/>
          <p:nvPr/>
        </p:nvSpPr>
        <p:spPr>
          <a:xfrm>
            <a:off x="1066680" y="13716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828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Relational Structur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1905120" y="99072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Incorporates grammatical relations into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3"/>
          <p:cNvSpPr/>
          <p:nvPr/>
        </p:nvSpPr>
        <p:spPr>
          <a:xfrm>
            <a:off x="7391520" y="11430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914400" y="12193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1066680" y="13716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7" descr="Picture 6"/>
          <p:cNvPicPr/>
          <p:nvPr/>
        </p:nvPicPr>
        <p:blipFill>
          <a:blip r:embed="rId1"/>
          <a:stretch/>
        </p:blipFill>
        <p:spPr>
          <a:xfrm>
            <a:off x="1447920" y="1353960"/>
            <a:ext cx="7005600" cy="565632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8"/>
          <p:cNvSpPr/>
          <p:nvPr/>
        </p:nvSpPr>
        <p:spPr>
          <a:xfrm>
            <a:off x="1447920" y="137160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9"/>
          <p:cNvSpPr/>
          <p:nvPr/>
        </p:nvSpPr>
        <p:spPr>
          <a:xfrm>
            <a:off x="18288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Interface Structure (Germa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0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7391520" y="129528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914400" y="1219320"/>
            <a:ext cx="838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5"/>
          <p:cNvSpPr/>
          <p:nvPr/>
        </p:nvSpPr>
        <p:spPr>
          <a:xfrm>
            <a:off x="1066680" y="13716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1295280" y="1143000"/>
            <a:ext cx="838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8" descr="Picture 7"/>
          <p:cNvPicPr/>
          <p:nvPr/>
        </p:nvPicPr>
        <p:blipFill>
          <a:blip r:embed="rId1"/>
          <a:stretch/>
        </p:blipFill>
        <p:spPr>
          <a:xfrm>
            <a:off x="1866960" y="1219320"/>
            <a:ext cx="6210360" cy="55594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9"/>
          <p:cNvSpPr/>
          <p:nvPr/>
        </p:nvSpPr>
        <p:spPr>
          <a:xfrm>
            <a:off x="1981080" y="1219320"/>
            <a:ext cx="685800" cy="53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182880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Interface Structure (English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1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3"/>
          <p:cNvSpPr/>
          <p:nvPr/>
        </p:nvSpPr>
        <p:spPr>
          <a:xfrm>
            <a:off x="1905120" y="914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Lexical items translated to target langu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solidFill>
            <a:srgbClr val="cc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solidFill>
            <a:srgbClr val="66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The project was shut down in 199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Didn’t produce a functional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End 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5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6" descr=""/>
          <p:cNvPicPr/>
          <p:nvPr/>
        </p:nvPicPr>
        <p:blipFill>
          <a:blip r:embed="rId2"/>
          <a:stretch/>
        </p:blipFill>
        <p:spPr>
          <a:xfrm>
            <a:off x="2743200" y="2895480"/>
            <a:ext cx="3753000" cy="37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Too ambit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blems of management and lack of cent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Insufficient computation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Why it failed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4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posed in 1978 by the European Commission to make proceedings accessible in all official langu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ject began in 1982 with teams in each member country working with different language p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Languages: Danish, Dutch, English, French, German, Italian, Greek, Portuguese, Spa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457200" y="17985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gress in the specification of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Promoted computational linguistic resea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title"/>
          </p:nvPr>
        </p:nvSpPr>
        <p:spPr>
          <a:xfrm>
            <a:off x="1828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6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Eurotra: practical experience with a multilingual machine translation system under development (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Kozuka Gothic Pro M"/>
                <a:ea typeface="Kozuka Gothic Pro M"/>
                <a:hlinkClick r:id="rId1"/>
              </a:rPr>
              <a:t>http://portal.acm.org/citation.cfm?id=974264</a:t>
            </a: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ozuka Gothic Pro 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Kozuka Gothic Pro M"/>
                <a:ea typeface="Kozuka Gothic Pro M"/>
                <a:hlinkClick r:id="rId2"/>
              </a:rPr>
              <a:t>An introduction to machine translation</a:t>
            </a:r>
            <a:r>
              <a:rPr b="0" lang="en-US" sz="32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, W. John Hutchins and Harold L. Somers, London: Academic Press, 199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"/>
          <p:cNvSpPr/>
          <p:nvPr/>
        </p:nvSpPr>
        <p:spPr>
          <a:xfrm>
            <a:off x="18288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Source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5" descr=""/>
          <p:cNvPicPr/>
          <p:nvPr/>
        </p:nvPicPr>
        <p:blipFill>
          <a:blip r:embed="rId3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Die Industrie kennt dieses Problem seit einiger Ze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Industry has known about this problem for some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4"/>
          <p:cNvSpPr/>
          <p:nvPr/>
        </p:nvSpPr>
        <p:spPr>
          <a:xfrm>
            <a:off x="4495680" y="312408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18288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Exampl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6" descr=""/>
          <p:cNvPicPr/>
          <p:nvPr/>
        </p:nvPicPr>
        <p:blipFill>
          <a:blip r:embed="rId1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6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4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7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9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1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2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4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6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228600" y="2066760"/>
            <a:ext cx="8610480" cy="41054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Kozuka Gothic Pro H"/>
                <a:ea typeface="Kozuka Gothic Pro H"/>
              </a:rPr>
              <a:t>Morphologica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rcRect l="18465" t="9303" r="20003" b="6980"/>
          <a:stretch/>
        </p:blipFill>
        <p:spPr>
          <a:xfrm>
            <a:off x="152280" y="15228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10"/>
          <p:cNvSpPr/>
          <p:nvPr/>
        </p:nvSpPr>
        <p:spPr>
          <a:xfrm>
            <a:off x="1577880" y="1066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Kozuka Gothic Pro M"/>
                <a:ea typeface="Kozuka Gothic Pro M"/>
              </a:rPr>
              <a:t>Represents sentence as a tree of morphe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2"/>
          <p:cNvSpPr/>
          <p:nvPr/>
        </p:nvSpPr>
        <p:spPr>
          <a:xfrm>
            <a:off x="1676520" y="6024600"/>
            <a:ext cx="1752480" cy="3682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ex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1676520" y="4911840"/>
            <a:ext cx="1752480" cy="642600"/>
          </a:xfrm>
          <a:prstGeom prst="rect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Normalized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676520" y="3809880"/>
            <a:ext cx="1752480" cy="64260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Morphologic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676520" y="2666880"/>
            <a:ext cx="1752480" cy="64260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Constituent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1676520" y="152388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Relational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1676520" y="339840"/>
            <a:ext cx="17524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8"/>
          <p:cNvSpPr/>
          <p:nvPr/>
        </p:nvSpPr>
        <p:spPr>
          <a:xfrm flipV="1">
            <a:off x="2438280" y="5638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9"/>
          <p:cNvSpPr/>
          <p:nvPr/>
        </p:nvSpPr>
        <p:spPr>
          <a:xfrm flipV="1">
            <a:off x="2438280" y="4495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0"/>
          <p:cNvSpPr/>
          <p:nvPr/>
        </p:nvSpPr>
        <p:spPr>
          <a:xfrm flipV="1">
            <a:off x="2438280" y="342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1"/>
          <p:cNvSpPr/>
          <p:nvPr/>
        </p:nvSpPr>
        <p:spPr>
          <a:xfrm flipV="1">
            <a:off x="2438280" y="2285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2"/>
          <p:cNvSpPr/>
          <p:nvPr/>
        </p:nvSpPr>
        <p:spPr>
          <a:xfrm flipV="1">
            <a:off x="2438280" y="1142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13"/>
          <p:cNvSpPr/>
          <p:nvPr/>
        </p:nvSpPr>
        <p:spPr>
          <a:xfrm>
            <a:off x="3581280" y="609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4114800" y="1522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>
            <a:off x="6553080" y="1066680"/>
            <a:ext cx="0" cy="4800600"/>
          </a:xfrm>
          <a:prstGeom prst="line">
            <a:avLst/>
          </a:prstGeom>
          <a:ln cap="rnd" w="4140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5638680" y="304920"/>
            <a:ext cx="17528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Interface Structu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7"/>
          <p:cNvSpPr/>
          <p:nvPr/>
        </p:nvSpPr>
        <p:spPr>
          <a:xfrm>
            <a:off x="5715000" y="6019920"/>
            <a:ext cx="175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arget Te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18"/>
          <p:cNvSpPr/>
          <p:nvPr/>
        </p:nvSpPr>
        <p:spPr>
          <a:xfrm>
            <a:off x="3581280" y="62485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9"/>
          <p:cNvSpPr/>
          <p:nvPr/>
        </p:nvSpPr>
        <p:spPr>
          <a:xfrm>
            <a:off x="3886200" y="5791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ingLiU"/>
              </a:rPr>
              <a:t>trans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20"/>
          <p:cNvSpPr/>
          <p:nvPr/>
        </p:nvSpPr>
        <p:spPr>
          <a:xfrm rot="10800000">
            <a:off x="761760" y="60948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cc"/>
                </a:solidFill>
                <a:latin typeface="Arial"/>
                <a:ea typeface="MingLiU"/>
              </a:rPr>
              <a:t>Source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1"/>
          <p:cNvSpPr/>
          <p:nvPr/>
        </p:nvSpPr>
        <p:spPr>
          <a:xfrm>
            <a:off x="7395120" y="533520"/>
            <a:ext cx="6678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  <a:ea typeface="MingLiU"/>
              </a:rPr>
              <a:t>Target Languag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5:58:25Z</dcterms:created>
  <dc:creator>Administrator</dc:creator>
  <dc:description/>
  <dc:language>en-US</dc:language>
  <cp:lastModifiedBy>Kaitlin Renaud</cp:lastModifiedBy>
  <dcterms:modified xsi:type="dcterms:W3CDTF">2009-04-30T17:42:16Z</dcterms:modified>
  <cp:revision>7</cp:revision>
  <dc:subject/>
  <dc:title>Eurotra</dc:title>
</cp:coreProperties>
</file>