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D20C-2FE7-47FA-9201-DECE7F72D2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1 - meteorological condi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C) = condition n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&gt; expressed by adjectival or nominal group (ADJ or GN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+ optional complement (Cmo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T) = optional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(L) = optional lo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2 - maximum and minimum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introductory GN (nominal grou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optional T (time) and L (place) before or after the tem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emp or pair of temper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ET3 - weather outloo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imilar to MET1 - but + a nominal group (GN) before metheorological con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what ambiguiti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Word Sense Disambig. (heavy rain, wind, fo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arget Language altern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coordination ambig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hey tried the approach for translating Aviation manuals - also highly technical langu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ore morphological and syntactic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lexical prolif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it is described as a direct MT system with a distinctive charac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the archetypal direct MT system has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more primitive software desig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orphological analysis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uninflected forms - input into a large bilingual 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look-up program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no analysis of syntactic structure or of semant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relationshi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ome local reordering rules to give more acceptable target language output, perhaps moving some adjectives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verb particles, and then the target language text would be produc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Meteo - starts with short pre-processing and look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edede"/>
                </a:solidFill>
                <a:latin typeface="Trebuchet MS"/>
              </a:rPr>
              <a:t>- small-scale syntactic analysis used for disambig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BFD5-7415-4C88-8D7B-C7AC1A2D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4CA8-9A6C-4E72-AC5F-0BC1C312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BEE-7729-4E05-AE5D-FEC700468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A88-D056-4E98-BD60-E425309A2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B39C-87EA-4A4E-AAB7-279A9E4E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8E3D-65A9-4070-9FCB-810C052EF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77CB-1C36-49D8-94E8-E81B5837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BE2D-1228-4A74-A1FB-FB929F22C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A80-CF25-4D60-837E-F5466A58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3CC3-958A-49BD-8E5E-B566F549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B1EF-9EDB-4480-96A8-FC2CD0C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794B-5B90-4D0E-90B1-D20D0EB8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4F17-ADA4-4415-81A4-108F3EA80E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2139480"/>
            <a:ext cx="84441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rebuchet MS"/>
              </a:rPr>
              <a:t>Mété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83920" y="5497560"/>
            <a:ext cx="66135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edede"/>
                </a:solidFill>
                <a:latin typeface="Trebuchet MS"/>
              </a:rPr>
              <a:t>周巧慧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, Anca Chereche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dedede"/>
                </a:solidFill>
                <a:latin typeface="Trebuchet MS"/>
              </a:rPr>
              <a:t>04.30.2009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Phrase typ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1480" y="1157040"/>
            <a:ext cx="9658440" cy="58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5 phras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0 - a list of place n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--------------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1 - meteorological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2 - maximum and minimum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MET3 - weather outl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----------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RG - the bulleting header - invariant, stereoptypi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(8) FORECAST FOR MANITOBA ISSUED BY ENVIRONMENT CANADA AT 6A CST APRIL 8TH 1976 FOR TODAY AND FRI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MET1 and MET2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857840" y="1890720"/>
            <a:ext cx="4968720" cy="44132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173160" y="1889280"/>
            <a:ext cx="4589280" cy="44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MET3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254320" y="1812960"/>
            <a:ext cx="518004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3 Syntactic Analysis - Proced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1880" y="1196640"/>
            <a:ext cx="9659880" cy="578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st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fairly traditional bottom-up par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reates all possible partial solu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runes solutions as they are comb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ates, hours and degrees of tempera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maining noun phrases (meteorological conditi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atches syntactic categories and semantic features of lexical items (treats ambiguiti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tage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onjoining phrase types into larger units =&gt; single S 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4 Syntactic and Morphological Gener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2800" y="2295000"/>
            <a:ext cx="965988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yntactic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rules about French word ord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election of correct preposi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morphological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adjective end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contextual adjustments (contractions etc.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rcRect l="4067" t="0" r="0" b="0"/>
          <a:stretch/>
        </p:blipFill>
        <p:spPr>
          <a:xfrm>
            <a:off x="4546440" y="228600"/>
            <a:ext cx="5435640" cy="312588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5 Data Structur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10159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: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ne arc for each reading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of each lexical it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As each rule is applied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pattern matcher loo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   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for sequence of arcs that fits the 'pattern-match' part,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builds a new arc labeled with the rule's 'action'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dedede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rcs are not consumed, so alternative partial structures can participate in alternate ru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 is cleaned up and passed to generation (same proces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2971800" y="5791320"/>
            <a:ext cx="6046920" cy="16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6 Rule Formalism and Applic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9160" y="1179360"/>
            <a:ext cx="9647280" cy="622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ule formalis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eft hand side is a sequence of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ight hand side is the new a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WORSE == ADJ(BAD,/) + *(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DJ(A*,/,U*) + *(ER) == ADJ(A*,/,U*,INV(MORE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ule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hart controls the rule application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hen more than one rule can be applied, the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should theoretically all be tried in parall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n practice, this generates a large number of cha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             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with only very small vari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nstead, alternative rules are tested in sequence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backtracked if inapplicable the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5. Evalu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2400" y="1138320"/>
            <a:ext cx="9658440" cy="58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étéo: a success! - still in use tod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good accuracy - 90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rrors due to faulty inpu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erfectly tailored to the characteristics of the translation task - a unique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idiosyncratic nature of meteorological bullet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NG to FRE translation (in one direc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he Météo approach: limi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he one and only successful sublanguage M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other sublanguages - much more complicat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require a more transfer-based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require greater modula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6. Sunny Prospec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05040" y="1195560"/>
            <a:ext cx="8565840" cy="60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Outlin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1. Over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2. Hist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3. MT paradig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 Translation proce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1 Preprocess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2  Lexical data extr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3 Syntactic analysi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4 Syntactic and morphological gener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5 Data Structu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4.6 Rule Formalism and Applic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5. Evalu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6. Conclu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1. Overvi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4080" y="1426680"/>
            <a:ext cx="9658080" cy="548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anguage pair: English -&gt;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ask: translation of weather foreca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irect MT system - with a distinctive charac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inguistic d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bilingual dictionaries for "idioms", place names, general (meteorological) vo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3 processing modu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ntactic analysis of Engli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ntactic generation of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7480" indent="-22860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orphological generation of Fren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omputation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ingle unified system (production syste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data structure - 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2. Histor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TAUM (Traduction Automatique de l'Université de Montréal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5 received a contract to develop a weather forecast translat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6 Prototype demonstrated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77 Météo began full-time operation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1984 Météo-2, a faster, more reliable, and more cost-effective version replaced the previous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Météo has been used to translate weather bulletins in Montreal and Quebec ever si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Currently translates ~37,000 words/day (8M+/year) at an accuracy of over 90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3. MT Paradig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5000" y="1197000"/>
            <a:ext cx="9717120" cy="593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'direct translation', with a twist - Why?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articular, telegraphic style -&gt; analysis procedures based on semantic features =&gt; no need for a transfer module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tructural similarity between English reports and French re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stricted syntactic r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limited range of vocabulary, very few homograp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stricted morphological var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system aimed exclusively at English-French transl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Trebuchet MS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gular ambiguity problems mostly abs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=&gt; morphological information encoded lexically, in the diction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 Translation proces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 Input - Weather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2920" y="4383000"/>
            <a:ext cx="954900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Weather reports are received in standard format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Coded hea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Statement of the origin of the bulle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List of regions to which bulletin appl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Forecast itsel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700" spc="-1" strike="noStrike">
                <a:solidFill>
                  <a:srgbClr val="dedede"/>
                </a:solidFill>
                <a:latin typeface="Trebuchet MS"/>
              </a:rPr>
              <a:t>- Terminator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96920" y="1244520"/>
            <a:ext cx="740556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1 Preprocessing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4600" y="1018800"/>
            <a:ext cx="95187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Unknown vocab sent to human edi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Words are separated by '+'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Phrases are marked at beginning with '-01-'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    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and at the end with '-02-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buClr>
                <a:srgbClr val="dedede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Phrases are marked with an identifier (source + running 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number) for easy location of original phra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Regularisation: 11.30 -&gt; 11 + H + 3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edede"/>
                </a:solidFill>
                <a:latin typeface="Trebuchet MS"/>
              </a:rPr>
              <a:t>- Expansion of abbreviations: kmh -&gt; kilometres per h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065240" y="4691160"/>
            <a:ext cx="730404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00"/>
                </a:solidFill>
                <a:latin typeface="Trebuchet MS"/>
              </a:rPr>
              <a:t>4.2 Lexical data extrac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066320"/>
            <a:ext cx="9629640" cy="617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Idiom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Sequences of more than one word to be treated as one word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blowing snow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poudreri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lace-names diction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Names that are different between English and Fre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Newfoundland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Terre Neuv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hrasal names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       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Greater Vancouver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-&gt; </a:t>
            </a:r>
            <a:r>
              <a:rPr b="0" i="1" lang="en-US" sz="2400" spc="-1" strike="noStrike">
                <a:solidFill>
                  <a:srgbClr val="dedede"/>
                </a:solidFill>
                <a:latin typeface="Trebuchet MS"/>
              </a:rPr>
              <a:t>Vancouver et banlieue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Phrases with linguistic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  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(plural, gendered, or containing definite artic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Main dictionary: ENG word -&gt; FRE equival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Grammatical category, semantic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Morphological inform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N: gender/plur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dj: precede or follow N? Modifications for plural/F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                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V: transitive/intransitive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dv: modifies Adj, V, or Adv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        </a:t>
            </a:r>
            <a:r>
              <a:rPr b="0" lang="en-US" sz="2400" spc="-1" strike="noStrike">
                <a:solidFill>
                  <a:srgbClr val="dedede"/>
                </a:solidFill>
                <a:latin typeface="Trebuchet MS"/>
              </a:rPr>
              <a:t>- AMOUNT = N((F,MSR), QUANT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Lillian Zhou</cp:lastModifiedBy>
  <dcterms:modified xsi:type="dcterms:W3CDTF">2009-04-30T17:34:33Z</dcterms:modified>
  <cp:revision>2</cp:revision>
  <dc:subject/>
  <dc:title>PowerPoint Presentation</dc:title>
</cp:coreProperties>
</file>