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052C-8B00-4964-AFF3-2E4C6F127A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A61F3-CEAE-417E-89DA-C23CE6A533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16AF-4C0C-435F-B4A4-5C25296F19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B2DF-4F7B-476A-9E00-F61C90727F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6311-4FCA-4DB9-A569-8CDBAD453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50E85-E4E7-4981-A880-B0591BA911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71F0E-9507-417C-99EA-10F285C293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937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7840" cy="40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A11-1CA3-45ED-8CB3-CAC1F814F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525A-A1B3-4AC7-8F8A-C0BCB480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B9D4-3759-477A-B76C-590AE176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C654-ECEE-4325-9A77-BC8DE1A0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6CBD2-207A-4EF4-8547-9B94E1317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64B77-BD24-4BA9-AC39-8FDF5062E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7F34E-10F0-471F-B4BD-933D08985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F2BF4-3813-44A0-9C04-9748C971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8AAB8-39E5-4691-9D19-5DF2E6A09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E9A83-3402-4C2D-AE46-EEDFFE4EC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7927-3866-45EC-853F-7CDDC3A4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5E3C-715F-43C8-923C-0B101052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4D4A-7097-41EB-A57B-4F00ADB0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75E8-456B-406B-9408-3698009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F1A53-A625-4C19-85A8-78BF4135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5B6F0-B8F5-4E4B-8411-594A8A23A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CADE-1C52-483F-98B6-DAB1F78A3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B09D2-EEBF-403A-953C-788B0AFD6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4482F-FDE6-4422-9EB6-AB6B74C1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19DBF-A03A-4A1C-81D9-5A4A408DB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E6946-D93B-4EB9-B75F-6887B990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2C389E-E8BA-400A-9137-1B53FE68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6DE-8E13-4C43-BCED-19E38B24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95EF8-B8F2-4F0C-98C4-D273A6260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BBEBC-DEAF-46FC-8183-8DD73BAE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5C165-9589-432B-BF96-001E6169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85B8-F16E-4EE6-AEA3-3C7A7207F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340F-B21A-48E2-96DA-387D58E3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206642-DA8E-4BBC-9A39-372C55BAF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B4C82-8AF6-4A1B-AA40-F17D48FE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C12F5-FCA6-4D84-9245-011DD567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19D46A-3000-45AA-B121-2405506C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AC8EF-F111-4E50-8904-D470CA2FE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692F-78F0-4863-9A05-3C6B65B0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774EC-C577-492E-8CB7-3679EE4A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BA740-3D30-4C10-BEEF-AECB892C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A9ED6-FD5C-4413-A883-56104EB8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14B64-3C20-4B92-A028-17D9B49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B4F82-4399-491D-9FDD-D0019EB3A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0E12EF-7C71-455B-A075-5E86EEE04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0572D-F2FD-4677-B6F0-2620A9122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EDC8F-8F9B-4D4F-952B-83849764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42BE5-88FC-4430-B7F1-271321312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864E79-AA02-4B6C-8758-0DAD81A5A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815-E5A7-4BEA-9822-513CFEC88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C35E9-3711-4C85-A4A3-B510A6DA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C677B-8635-46B3-844B-27E927BF5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3C7F0-8C1B-4313-8856-B1B0E396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8EBF1-9E93-48C0-B90C-279971AC4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B62F5-C686-4683-A7A9-D617A1E0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BB757-296E-445E-AA1B-D7F23619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DDDC3-D9DE-4237-A345-051936A8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F4C5D7-6D8C-45DF-8251-256A5D1C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983C85-B0C0-4DB9-9F47-FBA3C5CF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AD370E-294F-4156-9BE2-08074CF1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6AE2-2C3F-4061-988E-798CD0B14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974415-AAB0-461D-AF06-926AAD54C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09876-7770-4FA0-8B83-5072A314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07D9B-7B98-44E9-B9B5-8EDA35FC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D1CB6-B26E-4408-B8E6-5C5333F1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2D107-9C6F-47CD-9D4F-4FB5C6B6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A9ABA-CACF-4641-9EF1-BEF7D45A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BDBC1-7486-4F74-B503-E85A81E61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D35BE-737D-462A-B786-27FC2A97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DA139-8003-43BE-9BC6-6BE34C26E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0F333-01E4-432C-BF8F-2DF30745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5A82-25B7-4283-B211-6D9FA099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E1F80F-7C32-4B25-899D-F8BF1B4AD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19D17D-0850-452F-B1A3-F2B891956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C9E53-7380-4FB7-ABED-10BB0FBE4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F9FC4-75E5-4171-8D63-C681E64B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BABCA3-68CC-4598-99AB-86445D00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FFE0D2-F8E0-451C-B61C-5AB186F58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FD548-F85B-420E-8973-4667C357F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E90ECA-AC54-45E1-9139-8B1CF15F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62FA6-FCE4-45B7-9D62-22DA9F74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5F0B6-4890-4E5E-BC0D-916F60246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ADFD-257C-4AEB-BAE4-DE91CA08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FB2F64-7BE1-445E-8A5A-44AEFF63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AED03-71CE-4CCC-9D4E-C818D3D85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6E9D7-2EE2-4645-821D-D5162861A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D2592-0A15-4A7E-A38E-C7856725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6432D-D8BC-4804-92B4-19B9CB3C2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05FA5-19B2-4297-BA35-8CBA84671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225A1C-99AC-46B5-96BA-C7E2C4FF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3B9F04-DB2D-4DB6-A04F-F588C736D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529460-5CC9-4E0F-8BC7-54952D77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B2C63-63A2-4A62-89E8-4CC9282A5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BCD-C0F5-4664-B6D6-571A1161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3144E-E028-4385-B283-9B84D23A8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FB09C-753A-4714-BBEA-E47C335CC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10838-8A43-4AE3-8BBD-9654C5CC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817AD-5B2C-4D77-A316-05AEA7558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8B194C-FC9D-4153-9AF8-F3A48419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8F7D0-D07F-4B30-B7EA-8B7FE2351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D980CD-7FAF-49C3-A003-E9C68711B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A8A5-51D3-476B-9F89-0B9FC198ACA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71E3-F940-4E40-BB04-D61342926ED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1479-587E-4DA3-8D90-FBA3A1968EC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1521D-E6D2-49B6-99E7-2A39785A1B0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59F4-EBD3-41D6-BAC3-8E78B924F28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C9214-513B-4F1D-AF30-5FD3B5C48E77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7B52-D77E-44B0-92CB-3D358302979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66528-B396-462D-BDD1-ED54D00422F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2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I: A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lign the hatched parts of source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sentence to corresponding target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 algn="ctr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dezain/ga/ki/ni/iri/masen 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X/ga/ki/ni/iri/masen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 algn="ctr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 do not like the design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I do not like the X , X=”iro”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 algn="ctr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II: Pattern selection – three criteria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Maximize frequency of patter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Maximize sum of frequency of words in 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generated patter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SzPct val="127532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Pick one randomly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2" descr=""/>
          <p:cNvPicPr/>
          <p:nvPr/>
        </p:nvPicPr>
        <p:blipFill>
          <a:blip r:embed="rId6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603360" y="646200"/>
            <a:ext cx="8559720" cy="338292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" descr=""/>
          <p:cNvPicPr/>
          <p:nvPr/>
        </p:nvPicPr>
        <p:blipFill>
          <a:blip r:embed="rId2"/>
          <a:stretch/>
        </p:blipFill>
        <p:spPr>
          <a:xfrm>
            <a:off x="257040" y="4151160"/>
            <a:ext cx="4086360" cy="23623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3" descr=""/>
          <p:cNvPicPr/>
          <p:nvPr/>
        </p:nvPicPr>
        <p:blipFill>
          <a:blip r:embed="rId3"/>
          <a:stretch/>
        </p:blipFill>
        <p:spPr>
          <a:xfrm>
            <a:off x="4343400" y="4114800"/>
            <a:ext cx="464832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450720" y="706320"/>
            <a:ext cx="8242560" cy="20433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" descr=""/>
          <p:cNvPicPr/>
          <p:nvPr/>
        </p:nvPicPr>
        <p:blipFill>
          <a:blip r:embed="rId2"/>
          <a:stretch/>
        </p:blipFill>
        <p:spPr>
          <a:xfrm>
            <a:off x="5029200" y="3038400"/>
            <a:ext cx="3657600" cy="221940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3" descr=""/>
          <p:cNvPicPr/>
          <p:nvPr/>
        </p:nvPicPr>
        <p:blipFill>
          <a:blip r:embed="rId3"/>
          <a:stretch/>
        </p:blipFill>
        <p:spPr>
          <a:xfrm>
            <a:off x="457200" y="3164040"/>
            <a:ext cx="445932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ashi wa ongaku wo kiku no ga suki na hito desu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X na hito desu -&gt; I am a X pers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ki na hito desu -&gt; It's a person that I lik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onger sentences means more difficulty in aligning phr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0680"/>
            <a:ext cx="8229600" cy="539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T – partial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N -preprocessing N-gram b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 T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u desu ka ee kekkou desu jaa tsuin de o negai shimasu2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u desu ka | ee | kekkou desu | jaa | tsuin de onegai shi masu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i see | yes | that's fine | then | a twin please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Criteria: fault-length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rtial translation cou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27417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             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mbined reliability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9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Rectangle 1" descr=""/>
          <p:cNvPicPr/>
          <p:nvPr/>
        </p:nvPicPr>
        <p:blipFill>
          <a:blip r:embed="rId7"/>
          <a:stretch/>
        </p:blipFill>
        <p:spPr>
          <a:xfrm>
            <a:off x="152280" y="311040"/>
            <a:ext cx="875376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22824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hai wakari mashi ta =&gt; yes i see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re to ne cyoushoku na n desu kedomo dou nat teru n deshou ka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&gt; and what about breakfas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fault-length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0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Partial-translation-count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2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hai wakari mashi ta sore to ne choushoku na n desu kedomo =&gt; FAIL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dou nat teru n deshou ka =&gt; what happened to i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fault-length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12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Partial-translation-count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1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hai wakari mashi ta =&gt; yes i see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sore to ne choushoku na n desu kedomo =&gt; and i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breakfas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dou nat teru n deshou ka =&gt; what happened to it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fault-length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0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i="1" lang="en-US" sz="1300" spc="-1" strike="noStrike">
                <a:solidFill>
                  <a:srgbClr val="000000"/>
                </a:solidFill>
                <a:latin typeface="Lucida Sans Unicode"/>
                <a:ea typeface="TimesNewRoman,Italic"/>
              </a:rPr>
              <a:t>partial-translation-count </a:t>
            </a:r>
            <a:r>
              <a:rPr b="0" lang="en-US" sz="13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= 3</a:t>
            </a:r>
            <a:endParaRPr b="0" lang="en-US" sz="13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457200" y="1508040"/>
            <a:ext cx="8229600" cy="283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T and D</a:t>
            </a:r>
            <a:r>
              <a:rPr b="0" lang="en-US" sz="2700" spc="-1" strike="noStrike" baseline="33000">
                <a:solidFill>
                  <a:srgbClr val="000000"/>
                </a:solidFill>
                <a:latin typeface="Lucida Sans Unicode"/>
              </a:rPr>
              <a:t>3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ighted” dist function – combined reliability to help with long sentence proble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3"/>
          <a:stretch/>
        </p:blipFill>
        <p:spPr>
          <a:xfrm>
            <a:off x="685800" y="3429000"/>
            <a:ext cx="423864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457200" y="228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ethod-N (Takezawa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er splitting positions – where we can put perio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ick a threshold value and calculate plausibility 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also use additional heuristics - like part-of-speech and conjugation type, which work particularly well for Japane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95000"/>
              </a:lnSpc>
              <a:spcBef>
                <a:spcPts val="400"/>
              </a:spcBef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NewRoman"/>
                <a:ea typeface="TimesNew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lnSpc>
                <a:spcPct val="100000"/>
              </a:lnSpc>
              <a:spcBef>
                <a:spcPts val="400"/>
              </a:spcBef>
              <a:spcAft>
                <a:spcPts val="1426"/>
              </a:spcAft>
              <a:buClr>
                <a:srgbClr val="2da2bf"/>
              </a:buClr>
              <a:buSzPct val="124000"/>
              <a:buFont typeface="Times New Roman"/>
              <a:buChar char="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0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2" descr=""/>
          <p:cNvPicPr/>
          <p:nvPr/>
        </p:nvPicPr>
        <p:blipFill>
          <a:blip r:embed="rId5"/>
          <a:stretch/>
        </p:blipFill>
        <p:spPr>
          <a:xfrm>
            <a:off x="2333520" y="4343400"/>
            <a:ext cx="4067280" cy="94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457200" y="456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mary of experiment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spcAft>
                <a:spcPts val="1426"/>
              </a:spcAft>
              <a:buSzPct val="12741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ust for splitting, Method-N does much better, both with respect to recall and precision, but for Split-and-Translate combination, Method-T is much bett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3"/>
          <a:stretch/>
        </p:blipFill>
        <p:spPr>
          <a:xfrm>
            <a:off x="685800" y="3886200"/>
            <a:ext cx="5153040" cy="20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xample Base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anslate piece by piece by using phrases with known translation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tch phras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combine into target languag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rst developed by Nagao for English &lt;-&gt; Japanese, 1984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odel based on fundamental function of language processing in the human brain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apanese and English are really differ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istinction between present and future tens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gnificantly more verb forms – i.e. “didn’t want to study” -&gt; benkyoushitagatteimasendeshi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 order differences – OVS -&gt; SOV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Japanese noun phrases stay the same regardless of where they are used –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The handsome bo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entered the room -&gt;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suteki shoune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wa heya ni kimas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saw the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handsome boy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-&gt; watashi wa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suteki shoune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wo mimashita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Verb phrases also -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Listen to music -&gt; ongaku wo kik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I like to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listen to music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&gt; 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Lucida Sans Unicode"/>
              </a:rPr>
              <a:t>ongaku wo kiku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no ga suki desu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akes recombination much easie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457200" y="1600200"/>
            <a:ext cx="8229600" cy="429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400"/>
              </a:spcBef>
              <a:buSzPct val="156296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Reduction of redundant expressions and getting an essential sentence struc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Analysis of sentence structure by case grammar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Retrieval of example phrases and words from dictionary (equipped with examples)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Recognition of similarity between example phrases and input sentenc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Choice of global sentential form for translation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marL="431640" indent="-323640">
              <a:spcBef>
                <a:spcPts val="400"/>
              </a:spcBef>
              <a:buSzPct val="156296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Lucida Sans Unicode"/>
                <a:ea typeface="TimesNewRoman"/>
              </a:rPr>
              <a:t>Choice of local structure in accordance with chosen global structure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4/30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Rectangle 1" descr=""/>
          <p:cNvPicPr/>
          <p:nvPr/>
        </p:nvPicPr>
        <p:blipFill>
          <a:blip r:embed="rId7"/>
          <a:stretch/>
        </p:blipFill>
        <p:spPr>
          <a:xfrm>
            <a:off x="103320" y="268200"/>
            <a:ext cx="8589960" cy="115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ech translation system – Japanese -&gt; Engli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eveloped by ATR Interpreting Telecommunications Research Laboratories, Kyoto, ~1998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Eiichiro Sumit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peech recognition system interesting, but we focus on transl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ies to find “semantically close” exampl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ord-based edit distance using insertion, deletion, and a variable substitution cost depending on “semantic distance” (Sumita 1999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2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"/>
          <p:cNvPicPr/>
          <p:nvPr/>
        </p:nvPicPr>
        <p:blipFill>
          <a:blip r:embed="rId2"/>
          <a:stretch/>
        </p:blipFill>
        <p:spPr>
          <a:xfrm>
            <a:off x="3276720" y="3657600"/>
            <a:ext cx="33620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fter finding closest example – input pairing, try to match pieces of the input that differ from the example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をする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. Look for closest exampl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Example sentence X</a:t>
            </a: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をする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-&gt; To play X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and X are different, so try to find an example for </a:t>
            </a: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-&gt; Tenn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combine, so </a:t>
            </a:r>
            <a:r>
              <a:rPr b="0" lang="ja-JP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テニスをする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-&gt; To play tenni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umita 1999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京都に来て下さい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X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て下さい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Please 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X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に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Y</a:t>
            </a: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Y to X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Recombine to get “Please Y to X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京都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Kyo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来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Com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京都に来て下さい　－＞　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  <a:ea typeface="ＭＳ Ｐゴシック"/>
              </a:rPr>
              <a:t>Please come to Kyot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18:43:17Z</dcterms:created>
  <dc:creator>Val</dc:creator>
  <dc:description/>
  <dc:language>en-US</dc:language>
  <cp:lastModifiedBy>srini</cp:lastModifiedBy>
  <dcterms:modified xsi:type="dcterms:W3CDTF">2009-04-30T20:54:44Z</dcterms:modified>
  <cp:revision>2</cp:revision>
  <dc:subject/>
  <dc:title>EBMT in Japan</dc:title>
</cp:coreProperties>
</file>