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2669-E799-4BC5-A248-5767937D7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C870-2DC2-4E04-86E6-01537EC5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705B-F240-4885-AB12-6E215D3C5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06EC-7113-4708-9492-A331AF69E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F5B3-8E2B-40F7-B0FC-CF3647ED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195C-8128-4651-9EC9-2827086B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C55C-DA37-402A-9C61-BF6B6E7DD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B00C-9EE7-449A-AD90-6738220F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3263-91C5-4AE4-A593-6640E9D3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85E9-3FEB-4F72-A8EB-CA8CB3C91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A38E-223B-4DA6-8B87-A649EE0CA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A592-9FFB-437F-8E4B-3D4BC64B2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4a452a"/>
            </a:gs>
          </a:gsLst>
          <a:lin ang="13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FAF4-0440-4C82-8325-A3E364D32A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8605-6D48-4F94-9129-4D543063ED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4a452a"/>
            </a:gs>
          </a:gsLst>
          <a:lin ang="13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ystr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alibri"/>
              </a:rPr>
              <a:t>Presented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alibri"/>
              </a:rPr>
              <a:t>Nicholas Persaud &amp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e1c11"/>
                </a:solidFill>
                <a:latin typeface="Calibri"/>
              </a:rPr>
              <a:t>Minh 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4a452a"/>
            </a:gs>
          </a:gsLst>
          <a:lin ang="13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velopments &amp; Adaptabil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ystems have been modularized to facilitate the creation of new system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the first 25 years, about 15 systems were develope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anks to European Union funded initiatives, 10 years later, 35 systems are now available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systems are being reworked to make better use of Finite State Machi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order to improve their systems, Systran recognizes a need to focus on building/fixing the dictionaries to better express each languag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4a452a"/>
            </a:gs>
          </a:gsLst>
          <a:lin ang="13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reator: Peter Tom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ed in Russian-English trans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SERNA implementation of the Georgetown University GAT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utotran (atomic energy domai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chnotran (medicine domai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68, Latsec Inc. (later called Systran) develops a Russian-English system for the United States Air Force. (USAF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AF has been using Systran since July 197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4a452a"/>
            </a:gs>
          </a:gsLst>
          <a:lin ang="13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ystran’s Histo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976, work began on Eng-French, Fr-English, and Eng-Italian by the Commission of the European Communities.  (CE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 variety of companies develop their own versions of system for various language pair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986 Gachot (France) acquires all US and European version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nitel Network (France) is the first translation system available to the public and uses Systra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4a452a"/>
            </a:gs>
          </a:gsLst>
          <a:lin ang="13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ystran’s Found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2" descr=""/>
          <p:cNvPicPr/>
          <p:nvPr/>
        </p:nvPicPr>
        <p:blipFill>
          <a:blip r:embed="rId1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4a452a"/>
            </a:gs>
          </a:gsLst>
          <a:lin ang="13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tretch/>
        </p:blipFill>
        <p:spPr>
          <a:xfrm>
            <a:off x="1752480" y="0"/>
            <a:ext cx="5211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4a452a"/>
            </a:gs>
          </a:gsLst>
          <a:lin ang="13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proces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Identify formatting (indenting, etc.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Look up idiom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manently marked, so “kicked the bucket” will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lway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be translated as “died”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ain look-up and morphological analys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romance language dictionaries contain only stems so  analysis is required.  English is stored in full form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e “Limited Semantics” dictionary is used to find special cases like compound nouns.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f a sequence of words that matches one in the dictionary, it will be permanently marked, like for idio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4a452a"/>
            </a:gs>
          </a:gsLst>
          <a:lin ang="13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homograph dictionary is used to resolve ambiguity using adjacent words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e. “states” can be a singular verb or plural noun, but after “many”, it must be the latt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ntences are segmented into clauses using punctuation marks, conjuctions, etc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numerations are identified by semantic/syntactic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Smog and pollution control) are important factor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(Smog and pollution) control is under consideration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4a452a"/>
            </a:gs>
          </a:gsLst>
          <a:lin ang="13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fer &amp;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bject/predicate, and other relations are found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nditional Sematics finds “conditional idioms”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dioms that require some cont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xical routine transl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ranslate words whose transfer is more context depend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ranslate everything else using the default from the main dictionary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rphological genesi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earrange word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4a452a"/>
            </a:gs>
          </a:gsLst>
          <a:lin ang="13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ystran’s Limi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assified as “direct translation” due to heavy use of bilingual dictionaries and lack of linguistically motivated translation rul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ch system only provides one-directional transl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mantic markers are defined in an ad-hoc manner to facilitate language-to-language specific translation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ussian preposition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do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has markers “+increase” and “+decrease” to disambiguate it’s meaning as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up to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down t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00:10:54Z</dcterms:created>
  <dc:creator>User</dc:creator>
  <dc:description/>
  <dc:language>en-US</dc:language>
  <cp:lastModifiedBy>Minh Do</cp:lastModifiedBy>
  <dcterms:modified xsi:type="dcterms:W3CDTF">2009-04-30T17:48:27Z</dcterms:modified>
  <cp:revision>9</cp:revision>
  <dc:subject/>
  <dc:title>Systran</dc:title>
</cp:coreProperties>
</file>