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D4A61-2DE5-4A8A-9DBC-AF57CCB04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EE42-B113-4A05-8020-1AFAF56E33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97F1-C1B8-46FE-A2C4-7EFD4125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F760-5FBA-40C8-8A17-320BC649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E3DD-7372-484B-8CD1-DFD7A9B0A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697E-5197-41A4-9380-788E63224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21AC-4E0C-437E-BD16-433892DB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84C1-849B-4E6D-A6EA-00262174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774-27C7-4BF5-A897-1511EDC9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63CA-688E-4D5F-9E38-044252ED1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0BD4-25D3-4D49-9444-633B3CC0A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AAF0-EE90-4001-968B-4F9557D1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511D-8E50-49A4-9D02-DF78FAEF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92DE-FE2A-436F-87D2-D2887FAF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5A00-5895-46AC-A9BC-0DE44C88F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AL: MEchanical Translation and Analysis of Langua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Ayse Gursoy and Erik A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OS 401 Pres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etalsh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Metalshop screen.jpg"/>
          <p:cNvPicPr/>
          <p:nvPr/>
        </p:nvPicPr>
        <p:blipFill>
          <a:blip r:embed="rId1"/>
          <a:stretch/>
        </p:blipFill>
        <p:spPr>
          <a:xfrm>
            <a:off x="512640" y="969840"/>
            <a:ext cx="796608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flue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rld War II and the Cold Wa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itial grant from US Arm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oby Dic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harles Sanders Peirce and C.V. Pollar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b-languag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ree grou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inguistics Research Cent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1966 Academy report by John Pier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uman strengths and shortcoming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s in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itial grant from US Arm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by Dic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-langu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grou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guistics Research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 strengths and shortcomin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C:\Users\Ruw\Documents\COS 401\fig 15-1.jpg"/>
          <p:cNvPicPr/>
          <p:nvPr/>
        </p:nvPicPr>
        <p:blipFill>
          <a:blip r:embed="rId1"/>
          <a:stretch/>
        </p:blipFill>
        <p:spPr>
          <a:xfrm>
            <a:off x="2724120" y="133200"/>
            <a:ext cx="3365640" cy="641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assification and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7848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-direction transfer-based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uman-aided post-process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tional human-aided pre-proces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enu-based user interf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olingual and bilingual lexical data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se frames with lexical and semantic constrai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ft corner, bottom up chart pars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FG extended by additional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yntactic / morphological information about constitu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-occurrence ru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uccessful rules produce new nodes with complex proper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arsing rules separated into levels by prior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Prunes unlikely parses, limited parsing attemp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ursive function c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-directional transfer of feature-valu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sing rules include transfer protoc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ltiple transfer rules with preference val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ows for alteration of constituents as part of trans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nsitive to left-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y META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25146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ink between transfer and analy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coder and Metalsh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rasal analysi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Intercoder screen.jpg"/>
          <p:cNvPicPr/>
          <p:nvPr/>
        </p:nvPicPr>
        <p:blipFill>
          <a:blip r:embed="rId1"/>
          <a:stretch/>
        </p:blipFill>
        <p:spPr>
          <a:xfrm>
            <a:off x="669960" y="817560"/>
            <a:ext cx="7578720" cy="5662440"/>
          </a:xfrm>
          <a:prstGeom prst="rect">
            <a:avLst/>
          </a:prstGeom>
          <a:ln w="0">
            <a:noFill/>
          </a:ln>
        </p:spPr>
      </p:pic>
      <p:sp>
        <p:nvSpPr>
          <p:cNvPr id="64" name="TextBox 4"/>
          <p:cNvSpPr/>
          <p:nvPr/>
        </p:nvSpPr>
        <p:spPr>
          <a:xfrm>
            <a:off x="1752480" y="22860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tercod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30T05:01:25Z</dcterms:created>
  <dc:creator>Ruw</dc:creator>
  <dc:description/>
  <dc:language>en-US</dc:language>
  <cp:lastModifiedBy>Ruw</cp:lastModifiedBy>
  <dcterms:modified xsi:type="dcterms:W3CDTF">2009-04-30T06:21:24Z</dcterms:modified>
  <cp:revision>11</cp:revision>
  <dc:subject/>
  <dc:title>METAL: MEchanical Translation and Analysis of Languages</dc:title>
</cp:coreProperties>
</file>