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B668-DEAA-456A-9972-784EA3FF6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8DCE-E135-479A-952D-8CE980B94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17C4-69ED-4C45-838D-0EFAED310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2D7E-273B-4C7D-A19A-083F9061A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AE6F-C2DF-4DC3-9A7F-158EE48B8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3993-C43A-4422-9033-354463E99E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F656-B402-49F6-B20C-D67D9630D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79AA-76A5-419A-89EA-D1049446F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5B70-7CC1-4627-864A-BF12306A3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B320-77BD-426A-8FBC-3ABBCA96D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CD85-48ED-4744-940F-76E5D2E19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93BB-E465-4FB0-B08E-7F1B2065D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6BB1-3701-47C3-ACF8-77CED17530BF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" name=""/>
          <p:cNvCxnSpPr>
            <a:stCxn id="79" idx="0"/>
            <a:endCxn id="80" idx="4"/>
          </p:cNvCxnSpPr>
          <p:nvPr/>
        </p:nvCxnSpPr>
        <p:spPr>
          <a:xfrm flipV="1">
            <a:off x="1522440" y="1370160"/>
            <a:ext cx="3600" cy="32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80" idx="5"/>
            <a:endCxn id="83" idx="1"/>
          </p:cNvCxnSpPr>
          <p:nvPr/>
        </p:nvCxnSpPr>
        <p:spPr>
          <a:xfrm>
            <a:off x="1632600" y="1325880"/>
            <a:ext cx="2056680" cy="133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" name=""/>
          <p:cNvCxnSpPr>
            <a:stCxn id="80" idx="6"/>
            <a:endCxn id="85" idx="1"/>
          </p:cNvCxnSpPr>
          <p:nvPr/>
        </p:nvCxnSpPr>
        <p:spPr>
          <a:xfrm>
            <a:off x="1676520" y="1218600"/>
            <a:ext cx="3238200" cy="14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0" idx="4"/>
            <a:endCxn id="81" idx="1"/>
          </p:cNvCxnSpPr>
          <p:nvPr/>
        </p:nvCxnSpPr>
        <p:spPr>
          <a:xfrm>
            <a:off x="1525680" y="1370160"/>
            <a:ext cx="677520" cy="129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0" name=""/>
          <p:cNvCxnSpPr>
            <a:stCxn id="88" idx="2"/>
            <a:endCxn id="87" idx="6"/>
          </p:cNvCxnSpPr>
          <p:nvPr/>
        </p:nvCxnSpPr>
        <p:spPr>
          <a:xfrm flipH="1">
            <a:off x="2460600" y="3753000"/>
            <a:ext cx="11847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1" name=""/>
          <p:cNvCxnSpPr>
            <a:stCxn id="88" idx="3"/>
            <a:endCxn id="79" idx="6"/>
          </p:cNvCxnSpPr>
          <p:nvPr/>
        </p:nvCxnSpPr>
        <p:spPr>
          <a:xfrm flipH="1">
            <a:off x="1673280" y="3858480"/>
            <a:ext cx="2016000" cy="94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2" name=""/>
          <p:cNvCxnSpPr>
            <a:stCxn id="79" idx="7"/>
            <a:endCxn id="87" idx="3"/>
          </p:cNvCxnSpPr>
          <p:nvPr/>
        </p:nvCxnSpPr>
        <p:spPr>
          <a:xfrm flipV="1">
            <a:off x="1629360" y="3861360"/>
            <a:ext cx="5738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3" name=""/>
          <p:cNvCxnSpPr>
            <a:stCxn id="88" idx="7"/>
            <a:endCxn id="85" idx="3"/>
          </p:cNvCxnSpPr>
          <p:nvPr/>
        </p:nvCxnSpPr>
        <p:spPr>
          <a:xfrm flipV="1">
            <a:off x="3902760" y="2873880"/>
            <a:ext cx="101196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4" name=""/>
          <p:cNvCxnSpPr>
            <a:stCxn id="87" idx="7"/>
            <a:endCxn id="83" idx="3"/>
          </p:cNvCxnSpPr>
          <p:nvPr/>
        </p:nvCxnSpPr>
        <p:spPr>
          <a:xfrm flipV="1">
            <a:off x="2416680" y="2872440"/>
            <a:ext cx="127260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6" name=""/>
          <p:cNvCxnSpPr>
            <a:stCxn id="95" idx="2"/>
            <a:endCxn id="79" idx="5"/>
          </p:cNvCxnSpPr>
          <p:nvPr/>
        </p:nvCxnSpPr>
        <p:spPr>
          <a:xfrm flipH="1" flipV="1">
            <a:off x="1629360" y="4910760"/>
            <a:ext cx="961920" cy="42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DA5B-0488-41C6-A9B5-0B9ADE3777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0"/>
            <a:endCxn id="2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0" name=""/>
          <p:cNvCxnSpPr>
            <a:stCxn id="296" idx="5"/>
            <a:endCxn id="2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6"/>
            <a:endCxn id="3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6" idx="4"/>
            <a:endCxn id="2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6" name=""/>
          <p:cNvCxnSpPr>
            <a:stCxn id="304" idx="2"/>
            <a:endCxn id="3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7" name=""/>
          <p:cNvCxnSpPr>
            <a:stCxn id="304" idx="3"/>
            <a:endCxn id="2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08" name=""/>
          <p:cNvCxnSpPr>
            <a:stCxn id="295" idx="7"/>
            <a:endCxn id="3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9" name=""/>
          <p:cNvCxnSpPr>
            <a:stCxn id="304" idx="7"/>
            <a:endCxn id="3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0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2" name=""/>
          <p:cNvCxnSpPr>
            <a:stCxn id="311" idx="2"/>
            <a:endCxn id="2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7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1DD0-4795-4767-9FBC-B2BE89395A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3" name=""/>
          <p:cNvCxnSpPr>
            <a:stCxn id="320" idx="0"/>
            <a:endCxn id="3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5" name=""/>
          <p:cNvCxnSpPr>
            <a:stCxn id="321" idx="5"/>
            <a:endCxn id="3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1" idx="6"/>
            <a:endCxn id="3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stCxn id="321" idx="4"/>
            <a:endCxn id="3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1" name=""/>
          <p:cNvCxnSpPr>
            <a:stCxn id="329" idx="2"/>
            <a:endCxn id="3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2" name=""/>
          <p:cNvCxnSpPr>
            <a:stCxn id="329" idx="3"/>
            <a:endCxn id="3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33" name=""/>
          <p:cNvCxnSpPr>
            <a:stCxn id="320" idx="7"/>
            <a:endCxn id="3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4" name=""/>
          <p:cNvCxnSpPr>
            <a:stCxn id="329" idx="7"/>
            <a:endCxn id="3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35" name=""/>
          <p:cNvCxnSpPr>
            <a:stCxn id="328" idx="7"/>
            <a:endCxn id="3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6" idx="2"/>
            <a:endCxn id="3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43" name=""/>
          <p:cNvCxnSpPr>
            <a:stCxn id="329" idx="0"/>
            <a:endCxn id="324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023F-7BC1-4CC7-BACB-8D16F52393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0"/>
            <a:endCxn id="347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50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1" name=""/>
          <p:cNvCxnSpPr>
            <a:stCxn id="347" idx="5"/>
            <a:endCxn id="350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2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6"/>
            <a:endCxn id="352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4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47" idx="4"/>
            <a:endCxn id="348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57" name=""/>
          <p:cNvCxnSpPr>
            <a:stCxn id="355" idx="2"/>
            <a:endCxn id="354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58" name=""/>
          <p:cNvCxnSpPr>
            <a:stCxn id="355" idx="3"/>
            <a:endCxn id="346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59" name=""/>
          <p:cNvCxnSpPr>
            <a:stCxn id="346" idx="7"/>
            <a:endCxn id="354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60" name=""/>
          <p:cNvCxnSpPr>
            <a:stCxn id="355" idx="7"/>
            <a:endCxn id="352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61" name=""/>
          <p:cNvCxnSpPr>
            <a:stCxn id="354" idx="7"/>
            <a:endCxn id="350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2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3" name=""/>
          <p:cNvCxnSpPr>
            <a:stCxn id="362" idx="2"/>
            <a:endCxn id="346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4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8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AE63-69B7-47E3-9FE3-D1FA814E26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3" name=""/>
          <p:cNvCxnSpPr>
            <a:stCxn id="370" idx="0"/>
            <a:endCxn id="37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7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5" name=""/>
          <p:cNvCxnSpPr>
            <a:stCxn id="371" idx="5"/>
            <a:endCxn id="37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7" name=""/>
          <p:cNvCxnSpPr>
            <a:stCxn id="371" idx="6"/>
            <a:endCxn id="37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1" idx="4"/>
            <a:endCxn id="37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81" name=""/>
          <p:cNvCxnSpPr>
            <a:stCxn id="379" idx="2"/>
            <a:endCxn id="37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2" name=""/>
          <p:cNvCxnSpPr>
            <a:stCxn id="379" idx="3"/>
            <a:endCxn id="37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83" name=""/>
          <p:cNvCxnSpPr>
            <a:stCxn id="370" idx="7"/>
            <a:endCxn id="37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4" name=""/>
          <p:cNvCxnSpPr>
            <a:stCxn id="379" idx="7"/>
            <a:endCxn id="37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85" name=""/>
          <p:cNvCxnSpPr>
            <a:stCxn id="378" idx="7"/>
            <a:endCxn id="37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2"/>
            <a:endCxn id="37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9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44AC-76FC-4239-B283-B094FF7D7D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5" idx="0"/>
            <a:endCxn id="3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0" name=""/>
          <p:cNvCxnSpPr>
            <a:stCxn id="396" idx="5"/>
            <a:endCxn id="3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2" name=""/>
          <p:cNvCxnSpPr>
            <a:stCxn id="396" idx="6"/>
            <a:endCxn id="4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396" idx="4"/>
            <a:endCxn id="3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06" name=""/>
          <p:cNvCxnSpPr>
            <a:stCxn id="404" idx="2"/>
            <a:endCxn id="4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7" name=""/>
          <p:cNvCxnSpPr>
            <a:stCxn id="404" idx="3"/>
            <a:endCxn id="3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08" name=""/>
          <p:cNvCxnSpPr>
            <a:stCxn id="395" idx="7"/>
            <a:endCxn id="4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9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410" name=""/>
          <p:cNvCxnSpPr>
            <a:stCxn id="403" idx="7"/>
            <a:endCxn id="3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3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BA2B-F984-4B44-AFA6-1726E58F94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2" idx="0"/>
            <a:endCxn id="4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7" name=""/>
          <p:cNvCxnSpPr>
            <a:stCxn id="423" idx="5"/>
            <a:endCxn id="4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9" name=""/>
          <p:cNvCxnSpPr>
            <a:stCxn id="423" idx="6"/>
            <a:endCxn id="4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23" idx="4"/>
            <a:endCxn id="4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33" name=""/>
          <p:cNvCxnSpPr>
            <a:stCxn id="431" idx="2"/>
            <a:endCxn id="4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4" name=""/>
          <p:cNvCxnSpPr>
            <a:stCxn id="431" idx="3"/>
            <a:endCxn id="4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35" name=""/>
          <p:cNvCxnSpPr>
            <a:stCxn id="422" idx="7"/>
            <a:endCxn id="4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6" name=""/>
          <p:cNvCxnSpPr>
            <a:stCxn id="431" idx="7"/>
            <a:endCxn id="4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7" name=""/>
          <p:cNvCxnSpPr>
            <a:stCxn id="430" idx="7"/>
            <a:endCxn id="4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8" idx="2"/>
            <a:endCxn id="4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F571-4A68-49EC-B7A3-3485BE00E6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1" name=""/>
          <p:cNvCxnSpPr>
            <a:stCxn id="448" idx="0"/>
            <a:endCxn id="449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52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5"/>
            <a:endCxn id="452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4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49" idx="6"/>
            <a:endCxn id="454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6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49" idx="4"/>
            <a:endCxn id="450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59" name=""/>
          <p:cNvCxnSpPr>
            <a:stCxn id="457" idx="2"/>
            <a:endCxn id="456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0" name=""/>
          <p:cNvCxnSpPr>
            <a:stCxn id="457" idx="3"/>
            <a:endCxn id="448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48" idx="7"/>
            <a:endCxn id="456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2" name=""/>
          <p:cNvCxnSpPr>
            <a:stCxn id="457" idx="7"/>
            <a:endCxn id="454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3" name=""/>
          <p:cNvCxnSpPr>
            <a:stCxn id="456" idx="7"/>
            <a:endCxn id="452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4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4" idx="2"/>
            <a:endCxn id="448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6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7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7909-FFC7-4545-B61F-EB74C735CB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8" name=""/>
          <p:cNvCxnSpPr>
            <a:stCxn id="475" idx="0"/>
            <a:endCxn id="47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7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0" name=""/>
          <p:cNvCxnSpPr>
            <a:stCxn id="476" idx="5"/>
            <a:endCxn id="47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2" name=""/>
          <p:cNvCxnSpPr>
            <a:stCxn id="476" idx="6"/>
            <a:endCxn id="48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76" idx="4"/>
            <a:endCxn id="47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86" name=""/>
          <p:cNvCxnSpPr>
            <a:stCxn id="484" idx="2"/>
            <a:endCxn id="48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7" name=""/>
          <p:cNvCxnSpPr>
            <a:stCxn id="484" idx="3"/>
            <a:endCxn id="47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88" name=""/>
          <p:cNvCxnSpPr>
            <a:stCxn id="475" idx="7"/>
            <a:endCxn id="48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9" name=""/>
          <p:cNvCxnSpPr>
            <a:stCxn id="484" idx="7"/>
            <a:endCxn id="48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90" name=""/>
          <p:cNvCxnSpPr>
            <a:stCxn id="483" idx="7"/>
            <a:endCxn id="47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2" name=""/>
          <p:cNvCxnSpPr>
            <a:stCxn id="491" idx="2"/>
            <a:endCxn id="47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479" idx="1"/>
            <a:endCxn id="476" idx="5"/>
          </p:cNvCxnSpPr>
          <p:nvPr/>
        </p:nvCxnSpPr>
        <p:spPr>
          <a:xfrm flipH="1" flipV="1">
            <a:off x="1631520" y="1324800"/>
            <a:ext cx="2057760" cy="1335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AD3A-9927-4B13-914E-A14433F550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stCxn id="504" idx="0"/>
            <a:endCxn id="50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0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5" idx="5"/>
            <a:endCxn id="50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1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1" name=""/>
          <p:cNvCxnSpPr>
            <a:stCxn id="505" idx="6"/>
            <a:endCxn id="51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4" name=""/>
          <p:cNvCxnSpPr>
            <a:stCxn id="505" idx="4"/>
            <a:endCxn id="50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15" name=""/>
          <p:cNvCxnSpPr>
            <a:stCxn id="513" idx="2"/>
            <a:endCxn id="51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6" name=""/>
          <p:cNvCxnSpPr>
            <a:stCxn id="513" idx="3"/>
            <a:endCxn id="50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17" name=""/>
          <p:cNvCxnSpPr>
            <a:stCxn id="504" idx="7"/>
            <a:endCxn id="51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8" name=""/>
          <p:cNvCxnSpPr>
            <a:stCxn id="513" idx="7"/>
            <a:endCxn id="51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9" name=""/>
          <p:cNvCxnSpPr>
            <a:stCxn id="512" idx="7"/>
            <a:endCxn id="50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2"/>
            <a:endCxn id="50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2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6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10" idx="1"/>
            <a:endCxn id="505" idx="6"/>
          </p:cNvCxnSpPr>
          <p:nvPr/>
        </p:nvCxnSpPr>
        <p:spPr>
          <a:xfrm flipH="1" flipV="1">
            <a:off x="1676160" y="1218960"/>
            <a:ext cx="3239280" cy="144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E2E6-DC76-420E-A1A5-9A783B2B28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3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8" name=""/>
          <p:cNvCxnSpPr>
            <a:stCxn id="534" idx="5"/>
            <a:endCxn id="53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3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4" idx="6"/>
            <a:endCxn id="53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4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3" name=""/>
          <p:cNvCxnSpPr>
            <a:stCxn id="534" idx="4"/>
            <a:endCxn id="535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44" name=""/>
          <p:cNvCxnSpPr>
            <a:stCxn id="542" idx="2"/>
            <a:endCxn id="541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5" name=""/>
          <p:cNvCxnSpPr>
            <a:stCxn id="542" idx="3"/>
            <a:endCxn id="533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46" name=""/>
          <p:cNvCxnSpPr>
            <a:stCxn id="533" idx="7"/>
            <a:endCxn id="54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7" name=""/>
          <p:cNvCxnSpPr>
            <a:stCxn id="542" idx="7"/>
            <a:endCxn id="53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8" name=""/>
          <p:cNvCxnSpPr>
            <a:stCxn id="541" idx="7"/>
            <a:endCxn id="53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4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0" name=""/>
          <p:cNvCxnSpPr>
            <a:stCxn id="549" idx="2"/>
            <a:endCxn id="533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9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CFDE-0BB3-408B-85E2-D5D9D1B2A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99" idx="0"/>
            <a:endCxn id="10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0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100" idx="5"/>
            <a:endCxn id="10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" name=""/>
          <p:cNvCxnSpPr>
            <a:stCxn id="100" idx="6"/>
            <a:endCxn id="10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0" idx="4"/>
            <a:endCxn id="10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0" name=""/>
          <p:cNvCxnSpPr>
            <a:stCxn id="108" idx="2"/>
            <a:endCxn id="10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1" name=""/>
          <p:cNvCxnSpPr>
            <a:stCxn id="108" idx="3"/>
            <a:endCxn id="9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2" name=""/>
          <p:cNvCxnSpPr>
            <a:stCxn id="99" idx="7"/>
            <a:endCxn id="10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3" name=""/>
          <p:cNvCxnSpPr>
            <a:stCxn id="108" idx="7"/>
            <a:endCxn id="10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4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" name=""/>
          <p:cNvCxnSpPr>
            <a:stCxn id="115" idx="2"/>
            <a:endCxn id="9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19" name=""/>
          <p:cNvCxnSpPr>
            <a:stCxn id="108" idx="0"/>
            <a:endCxn id="103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24F4-EA68-4280-B7CF-02C21F752C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2" idx="0"/>
            <a:endCxn id="56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6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3" idx="5"/>
            <a:endCxn id="56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6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3" idx="6"/>
            <a:endCxn id="56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7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63" idx="4"/>
            <a:endCxn id="56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3" name=""/>
          <p:cNvCxnSpPr>
            <a:stCxn id="571" idx="2"/>
            <a:endCxn id="57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4" name=""/>
          <p:cNvCxnSpPr>
            <a:stCxn id="571" idx="3"/>
            <a:endCxn id="56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75" name=""/>
          <p:cNvCxnSpPr>
            <a:stCxn id="562" idx="7"/>
            <a:endCxn id="57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6" name=""/>
          <p:cNvCxnSpPr>
            <a:stCxn id="571" idx="7"/>
            <a:endCxn id="56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7" name=""/>
          <p:cNvCxnSpPr>
            <a:stCxn id="570" idx="7"/>
            <a:endCxn id="56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7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9" name=""/>
          <p:cNvCxnSpPr>
            <a:stCxn id="578" idx="2"/>
            <a:endCxn id="56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8" name=""/>
          <p:cNvCxnSpPr>
            <a:stCxn id="564" idx="1"/>
            <a:endCxn id="563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452BD-0565-43DE-B0BC-E24960FAAB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91" idx="0"/>
            <a:endCxn id="592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95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6" name=""/>
          <p:cNvCxnSpPr>
            <a:stCxn id="592" idx="5"/>
            <a:endCxn id="595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7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8" name=""/>
          <p:cNvCxnSpPr>
            <a:stCxn id="592" idx="6"/>
            <a:endCxn id="597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9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2" idx="4"/>
            <a:endCxn id="593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2" name=""/>
          <p:cNvCxnSpPr>
            <a:stCxn id="600" idx="2"/>
            <a:endCxn id="599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3" name=""/>
          <p:cNvCxnSpPr>
            <a:stCxn id="600" idx="3"/>
            <a:endCxn id="591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4" name=""/>
          <p:cNvCxnSpPr>
            <a:stCxn id="591" idx="7"/>
            <a:endCxn id="599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5" name=""/>
          <p:cNvCxnSpPr>
            <a:stCxn id="600" idx="7"/>
            <a:endCxn id="597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6" name=""/>
          <p:cNvCxnSpPr>
            <a:stCxn id="599" idx="7"/>
            <a:endCxn id="595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8" name=""/>
          <p:cNvCxnSpPr>
            <a:stCxn id="607" idx="2"/>
            <a:endCxn id="591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13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G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8" name=""/>
          <p:cNvCxnSpPr>
            <a:stCxn id="593" idx="1"/>
            <a:endCxn id="592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86E2-FACC-4DB2-846C-2294A44451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3" name=""/>
          <p:cNvCxnSpPr>
            <a:stCxn id="620" idx="0"/>
            <a:endCxn id="6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5" name=""/>
          <p:cNvCxnSpPr>
            <a:stCxn id="621" idx="5"/>
            <a:endCxn id="6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1" idx="6"/>
            <a:endCxn id="6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0" name=""/>
          <p:cNvCxnSpPr>
            <a:stCxn id="621" idx="4"/>
            <a:endCxn id="6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1" name=""/>
          <p:cNvCxnSpPr>
            <a:stCxn id="629" idx="2"/>
            <a:endCxn id="6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2" name=""/>
          <p:cNvCxnSpPr>
            <a:stCxn id="629" idx="3"/>
            <a:endCxn id="6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3" name=""/>
          <p:cNvCxnSpPr>
            <a:stCxn id="620" idx="7"/>
            <a:endCxn id="6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4" name=""/>
          <p:cNvCxnSpPr>
            <a:stCxn id="629" idx="7"/>
            <a:endCxn id="6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5" name=""/>
          <p:cNvCxnSpPr>
            <a:stCxn id="628" idx="7"/>
            <a:endCxn id="6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7" name=""/>
          <p:cNvCxnSpPr>
            <a:stCxn id="636" idx="2"/>
            <a:endCxn id="6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4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93BD-1FF8-4D44-93FD-304AEDBD31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2" name=""/>
          <p:cNvCxnSpPr>
            <a:stCxn id="649" idx="0"/>
            <a:endCxn id="65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5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5"/>
            <a:endCxn id="65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6" name=""/>
          <p:cNvCxnSpPr>
            <a:stCxn id="650" idx="6"/>
            <a:endCxn id="65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9" name=""/>
          <p:cNvCxnSpPr>
            <a:stCxn id="650" idx="4"/>
            <a:endCxn id="65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0" name=""/>
          <p:cNvCxnSpPr>
            <a:stCxn id="658" idx="2"/>
            <a:endCxn id="65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1" name=""/>
          <p:cNvCxnSpPr>
            <a:stCxn id="658" idx="3"/>
            <a:endCxn id="64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2" name=""/>
          <p:cNvCxnSpPr>
            <a:stCxn id="649" idx="7"/>
            <a:endCxn id="65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3" name=""/>
          <p:cNvCxnSpPr>
            <a:stCxn id="658" idx="7"/>
            <a:endCxn id="65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4" name=""/>
          <p:cNvCxnSpPr>
            <a:stCxn id="657" idx="7"/>
            <a:endCxn id="65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6" name=""/>
          <p:cNvCxnSpPr>
            <a:stCxn id="665" idx="2"/>
            <a:endCxn id="64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7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B2FE-1842-431C-95AE-CB7302EFCA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2" name=""/>
          <p:cNvCxnSpPr>
            <a:stCxn id="679" idx="0"/>
            <a:endCxn id="68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4" name=""/>
          <p:cNvCxnSpPr>
            <a:stCxn id="680" idx="5"/>
            <a:endCxn id="68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6" name=""/>
          <p:cNvCxnSpPr>
            <a:stCxn id="680" idx="6"/>
            <a:endCxn id="68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9" name=""/>
          <p:cNvCxnSpPr>
            <a:stCxn id="680" idx="4"/>
            <a:endCxn id="68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0" name=""/>
          <p:cNvCxnSpPr>
            <a:stCxn id="688" idx="2"/>
            <a:endCxn id="68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1" name=""/>
          <p:cNvCxnSpPr>
            <a:stCxn id="688" idx="3"/>
            <a:endCxn id="67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2" name=""/>
          <p:cNvCxnSpPr>
            <a:stCxn id="679" idx="7"/>
            <a:endCxn id="68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3" name=""/>
          <p:cNvCxnSpPr>
            <a:stCxn id="688" idx="7"/>
            <a:endCxn id="68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4" name=""/>
          <p:cNvCxnSpPr>
            <a:stCxn id="687" idx="7"/>
            <a:endCxn id="68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6" name=""/>
          <p:cNvCxnSpPr>
            <a:stCxn id="695" idx="2"/>
            <a:endCxn id="67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70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785400" y="5969160"/>
            <a:ext cx="431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cal order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G B A D E F 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2957-03CF-4211-8F2E-8B6044E555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0"/>
            <a:endCxn id="1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3" idx="5"/>
            <a:endCxn id="1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3" idx="6"/>
            <a:endCxn id="1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" name=""/>
          <p:cNvCxnSpPr>
            <a:stCxn id="123" idx="4"/>
            <a:endCxn id="1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4" name=""/>
          <p:cNvCxnSpPr>
            <a:stCxn id="131" idx="3"/>
            <a:endCxn id="1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122" idx="7"/>
            <a:endCxn id="1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6" name=""/>
          <p:cNvCxnSpPr>
            <a:stCxn id="131" idx="7"/>
            <a:endCxn id="1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7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8" idx="2"/>
            <a:endCxn id="1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0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2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A84E-A743-4340-96C0-1ED67E7E5F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" name=""/>
          <p:cNvCxnSpPr>
            <a:stCxn id="145" idx="0"/>
            <a:endCxn id="14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0" name=""/>
          <p:cNvCxnSpPr>
            <a:stCxn id="146" idx="5"/>
            <a:endCxn id="14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" name=""/>
          <p:cNvCxnSpPr>
            <a:stCxn id="146" idx="6"/>
            <a:endCxn id="15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" name=""/>
          <p:cNvCxnSpPr>
            <a:stCxn id="146" idx="4"/>
            <a:endCxn id="14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57" name=""/>
          <p:cNvCxnSpPr>
            <a:stCxn id="154" idx="3"/>
            <a:endCxn id="14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5" idx="7"/>
            <a:endCxn id="15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59" name=""/>
          <p:cNvCxnSpPr>
            <a:stCxn id="154" idx="7"/>
            <a:endCxn id="15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0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" name=""/>
          <p:cNvCxnSpPr>
            <a:stCxn id="161" idx="2"/>
            <a:endCxn id="14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3" name=""/>
          <p:cNvCxnSpPr>
            <a:stCxn id="145" idx="6"/>
            <a:endCxn id="154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5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C78C-C746-4E35-87D1-2086D486EE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0"/>
            <a:endCxn id="1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70" idx="5"/>
            <a:endCxn id="1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0" idx="6"/>
            <a:endCxn id="1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0" idx="4"/>
            <a:endCxn id="1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81" name=""/>
          <p:cNvCxnSpPr>
            <a:stCxn id="178" idx="3"/>
            <a:endCxn id="1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169" idx="7"/>
            <a:endCxn id="1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3" name=""/>
          <p:cNvCxnSpPr>
            <a:stCxn id="178" idx="7"/>
            <a:endCxn id="1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4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6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7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9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1" name=""/>
          <p:cNvCxnSpPr>
            <a:stCxn id="169" idx="6"/>
            <a:endCxn id="178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A3AA-5865-4D5B-957B-673F8A39B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095520" y="1295280"/>
            <a:ext cx="20138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H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195" idx="4"/>
            <a:endCxn id="19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5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06" name=""/>
          <p:cNvCxnSpPr>
            <a:stCxn id="203" idx="3"/>
            <a:endCxn id="19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07" name=""/>
          <p:cNvCxnSpPr>
            <a:stCxn id="194" idx="7"/>
            <a:endCxn id="20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8" name=""/>
          <p:cNvCxnSpPr>
            <a:stCxn id="203" idx="7"/>
            <a:endCxn id="20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9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1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1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13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stCxn id="194" idx="6"/>
            <a:endCxn id="203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6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D1F3-9A2E-4A48-B19D-A5A02EDF03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9" idx="2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2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22" idx="0"/>
            <a:endCxn id="2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7" name=""/>
          <p:cNvCxnSpPr>
            <a:stCxn id="223" idx="5"/>
            <a:endCxn id="2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9" name=""/>
          <p:cNvCxnSpPr>
            <a:stCxn id="223" idx="6"/>
            <a:endCxn id="2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2" name=""/>
          <p:cNvCxnSpPr>
            <a:stCxn id="223" idx="4"/>
            <a:endCxn id="2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3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4" name=""/>
          <p:cNvCxnSpPr>
            <a:stCxn id="231" idx="3"/>
            <a:endCxn id="2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35" name=""/>
          <p:cNvCxnSpPr>
            <a:stCxn id="222" idx="7"/>
            <a:endCxn id="2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6" name=""/>
          <p:cNvCxnSpPr>
            <a:stCxn id="231" idx="7"/>
            <a:endCxn id="2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7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9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22" idx="6"/>
            <a:endCxn id="231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279B-BF60-4167-94AB-C058DA9021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6" name=""/>
          <p:cNvCxnSpPr>
            <a:stCxn id="244" idx="0"/>
            <a:endCxn id="24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4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8" name=""/>
          <p:cNvCxnSpPr>
            <a:stCxn id="245" idx="5"/>
            <a:endCxn id="24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5" idx="6"/>
            <a:endCxn id="24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3" name=""/>
          <p:cNvCxnSpPr>
            <a:stCxn id="245" idx="4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52" idx="3"/>
            <a:endCxn id="24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55" name=""/>
          <p:cNvCxnSpPr>
            <a:stCxn id="244" idx="7"/>
            <a:endCxn id="25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56" name=""/>
          <p:cNvCxnSpPr>
            <a:stCxn id="252" idx="7"/>
            <a:endCxn id="24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8" name=""/>
          <p:cNvCxnSpPr>
            <a:stCxn id="257" idx="2"/>
            <a:endCxn id="24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5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3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4" name=""/>
          <p:cNvCxnSpPr/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5" name=""/>
          <p:cNvCxnSpPr>
            <a:stCxn id="251" idx="7"/>
            <a:endCxn id="24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66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C1EC-E165-446B-B166-75E9C66F9D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9" idx="0"/>
            <a:endCxn id="2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5"/>
            <a:endCxn id="2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6" name=""/>
          <p:cNvCxnSpPr>
            <a:stCxn id="270" idx="6"/>
            <a:endCxn id="2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0" idx="4"/>
            <a:endCxn id="2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0" name=""/>
          <p:cNvCxnSpPr>
            <a:stCxn id="278" idx="2"/>
            <a:endCxn id="2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81" name=""/>
          <p:cNvCxnSpPr>
            <a:stCxn id="278" idx="3"/>
            <a:endCxn id="2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82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3" name=""/>
          <p:cNvCxnSpPr>
            <a:stCxn id="278" idx="7"/>
            <a:endCxn id="2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4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6" name=""/>
          <p:cNvCxnSpPr>
            <a:stCxn id="285" idx="2"/>
            <a:endCxn id="2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0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92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8F41-F79F-4CA6-AC59-3F7E25B0EB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2-01T17:33:21Z</dcterms:modified>
  <cp:revision>608</cp:revision>
  <dc:subject/>
  <dc:title>Trees</dc:title>
</cp:coreProperties>
</file>