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70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165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2879640" y="52668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move the slide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1238040" y="3335040"/>
            <a:ext cx="6792840" cy="3157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2"/>
          </p:nvPr>
        </p:nvSpPr>
        <p:spPr>
          <a:xfrm>
            <a:off x="5253120" y="-360"/>
            <a:ext cx="40161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0A7B85-E402-4B5A-8F8E-E4FE7650E9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6668640"/>
            <a:ext cx="40165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5253120" y="6668640"/>
            <a:ext cx="40161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97EE51-4F44-4B3C-8509-E0823C2167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2879640" y="52704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1238040" y="3335040"/>
            <a:ext cx="6792840" cy="3157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to find the critical path(s) itself? Either store pred[v] values or look at all edges with fin[w] = fin[v] + time[w]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ABA2-7744-4B2E-8122-1C558FD00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1FD7-EAB9-4FD9-9350-2023A5327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EF67-28E6-420C-A6F1-C49685BFC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C0A2-3174-4459-9F23-524271877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1046-2A20-4BE2-A6C9-D4F5CEA38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F78A-6140-4902-85E4-AE8306185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63A9-5272-43CC-98C0-AF061C16A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A5E5-0BEB-4FFF-B317-2268B10E3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2958-EC5E-45EE-A61B-8E3EF37D1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CAA1-C67F-4FA0-BC98-6EE1E98BA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9C31-570D-4218-8F39-C995CFB38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8087-96EB-425E-AEC2-B84A0F80A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EF27-BB93-41BD-95F3-B040E331F55C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7" idx="2"/>
            <a:endCxn id="88" idx="6"/>
          </p:cNvCxnSpPr>
          <p:nvPr/>
        </p:nvCxnSpPr>
        <p:spPr>
          <a:xfrm>
            <a:off x="1452240" y="5710320"/>
            <a:ext cx="953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" name=""/>
          <p:cNvCxnSpPr>
            <a:stCxn id="88" idx="2"/>
            <a:endCxn id="90" idx="6"/>
          </p:cNvCxnSpPr>
          <p:nvPr/>
        </p:nvCxnSpPr>
        <p:spPr>
          <a:xfrm flipV="1">
            <a:off x="2725560" y="5705640"/>
            <a:ext cx="81828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" name=""/>
          <p:cNvCxnSpPr>
            <a:stCxn id="90" idx="2"/>
            <a:endCxn id="92" idx="6"/>
          </p:cNvCxnSpPr>
          <p:nvPr/>
        </p:nvCxnSpPr>
        <p:spPr>
          <a:xfrm>
            <a:off x="3863880" y="5705640"/>
            <a:ext cx="110232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" name=""/>
          <p:cNvCxnSpPr>
            <a:stCxn id="92" idx="2"/>
            <a:endCxn id="94" idx="6"/>
          </p:cNvCxnSpPr>
          <p:nvPr/>
        </p:nvCxnSpPr>
        <p:spPr>
          <a:xfrm flipV="1">
            <a:off x="5286240" y="5705640"/>
            <a:ext cx="107064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" name=""/>
          <p:cNvCxnSpPr>
            <a:stCxn id="88" idx="0"/>
            <a:endCxn id="96" idx="5"/>
          </p:cNvCxnSpPr>
          <p:nvPr/>
        </p:nvCxnSpPr>
        <p:spPr>
          <a:xfrm flipV="1">
            <a:off x="2565720" y="4088520"/>
            <a:ext cx="562680" cy="146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96" idx="3"/>
            <a:endCxn id="98" idx="7"/>
          </p:cNvCxnSpPr>
          <p:nvPr/>
        </p:nvCxnSpPr>
        <p:spPr>
          <a:xfrm>
            <a:off x="3355200" y="4088520"/>
            <a:ext cx="1113120" cy="41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" name=""/>
          <p:cNvCxnSpPr>
            <a:stCxn id="96" idx="2"/>
            <a:endCxn id="100" idx="6"/>
          </p:cNvCxnSpPr>
          <p:nvPr/>
        </p:nvCxnSpPr>
        <p:spPr>
          <a:xfrm flipV="1">
            <a:off x="3401640" y="3795840"/>
            <a:ext cx="1526040" cy="17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8" idx="3"/>
            <a:endCxn id="94" idx="7"/>
          </p:cNvCxnSpPr>
          <p:nvPr/>
        </p:nvCxnSpPr>
        <p:spPr>
          <a:xfrm>
            <a:off x="4695120" y="4726800"/>
            <a:ext cx="1708920" cy="86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94" idx="2"/>
            <a:endCxn id="103" idx="6"/>
          </p:cNvCxnSpPr>
          <p:nvPr/>
        </p:nvCxnSpPr>
        <p:spPr>
          <a:xfrm>
            <a:off x="6676920" y="5705640"/>
            <a:ext cx="8334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0" idx="3"/>
            <a:endCxn id="103" idx="7"/>
          </p:cNvCxnSpPr>
          <p:nvPr/>
        </p:nvCxnSpPr>
        <p:spPr>
          <a:xfrm>
            <a:off x="5201640" y="3909240"/>
            <a:ext cx="2355840" cy="168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0" idx="3"/>
            <a:endCxn id="94" idx="5"/>
          </p:cNvCxnSpPr>
          <p:nvPr/>
        </p:nvCxnSpPr>
        <p:spPr>
          <a:xfrm>
            <a:off x="3817440" y="5819040"/>
            <a:ext cx="2586600" cy="360"/>
          </a:xfrm>
          <a:prstGeom prst="curved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8" idx="4"/>
            <a:endCxn id="92" idx="7"/>
          </p:cNvCxnSpPr>
          <p:nvPr/>
        </p:nvCxnSpPr>
        <p:spPr>
          <a:xfrm>
            <a:off x="4581360" y="4773600"/>
            <a:ext cx="432000" cy="82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30640" y="4848120"/>
            <a:ext cx="155520" cy="122400"/>
          </a:xfrm>
          <a:prstGeom prst="rightArrow">
            <a:avLst>
              <a:gd name="adj1" fmla="val 50222"/>
              <a:gd name="adj2" fmla="val 45847"/>
            </a:avLst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479400" y="473868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0848-AD00-4D07-A8C3-9D92577F52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1" name=""/>
          <p:cNvCxnSpPr>
            <a:stCxn id="589" idx="2"/>
            <a:endCxn id="590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3" name=""/>
          <p:cNvCxnSpPr>
            <a:stCxn id="590" idx="2"/>
            <a:endCxn id="592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4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5" name=""/>
          <p:cNvCxnSpPr>
            <a:stCxn id="592" idx="2"/>
            <a:endCxn id="594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4" idx="2"/>
            <a:endCxn id="596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9" name=""/>
          <p:cNvCxnSpPr>
            <a:stCxn id="590" idx="0"/>
            <a:endCxn id="598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8" idx="3"/>
            <a:endCxn id="600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3" name=""/>
          <p:cNvCxnSpPr>
            <a:stCxn id="598" idx="2"/>
            <a:endCxn id="602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600" idx="3"/>
            <a:endCxn id="596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96" idx="2"/>
            <a:endCxn id="605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2" idx="3"/>
            <a:endCxn id="605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592" idx="3"/>
            <a:endCxn id="596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0" idx="4"/>
            <a:endCxn id="594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0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628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631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634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637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640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2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644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647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650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653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656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659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481880" y="4978440"/>
            <a:ext cx="622080" cy="440280"/>
            <a:chOff x="7481880" y="4978440"/>
            <a:chExt cx="622080" cy="440280"/>
          </a:xfrm>
        </p:grpSpPr>
        <p:sp>
          <p:nvSpPr>
            <p:cNvPr id="662" name=""/>
            <p:cNvSpPr/>
            <p:nvPr/>
          </p:nvSpPr>
          <p:spPr>
            <a:xfrm flipH="1">
              <a:off x="7481880" y="49784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714440" y="51130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3A71-A21E-4628-B9D5-81A3DE853B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8" name=""/>
          <p:cNvCxnSpPr>
            <a:stCxn id="666" idx="2"/>
            <a:endCxn id="667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>
            <a:stCxn id="667" idx="2"/>
            <a:endCxn id="669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2" name=""/>
          <p:cNvCxnSpPr>
            <a:stCxn id="669" idx="2"/>
            <a:endCxn id="671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4" name=""/>
          <p:cNvCxnSpPr>
            <a:stCxn id="671" idx="2"/>
            <a:endCxn id="673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6" name=""/>
          <p:cNvCxnSpPr>
            <a:stCxn id="667" idx="0"/>
            <a:endCxn id="675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8" name=""/>
          <p:cNvCxnSpPr>
            <a:stCxn id="675" idx="3"/>
            <a:endCxn id="677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0" name=""/>
          <p:cNvCxnSpPr>
            <a:stCxn id="675" idx="2"/>
            <a:endCxn id="679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7" idx="3"/>
            <a:endCxn id="673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3" name=""/>
          <p:cNvCxnSpPr>
            <a:stCxn id="673" idx="2"/>
            <a:endCxn id="682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79" idx="3"/>
            <a:endCxn id="682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69" idx="3"/>
            <a:endCxn id="673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77" idx="4"/>
            <a:endCxn id="671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7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705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708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711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714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717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721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724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727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730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733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736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7481880" y="4978440"/>
            <a:ext cx="622080" cy="440280"/>
            <a:chOff x="7481880" y="4978440"/>
            <a:chExt cx="622080" cy="440280"/>
          </a:xfrm>
        </p:grpSpPr>
        <p:sp>
          <p:nvSpPr>
            <p:cNvPr id="739" name=""/>
            <p:cNvSpPr/>
            <p:nvPr/>
          </p:nvSpPr>
          <p:spPr>
            <a:xfrm flipH="1">
              <a:off x="7481880" y="49784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714440" y="51130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BBD1-0BDA-4F97-99E1-A01C58C239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5" name=""/>
          <p:cNvCxnSpPr>
            <a:stCxn id="743" idx="2"/>
            <a:endCxn id="744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7" name=""/>
          <p:cNvCxnSpPr>
            <a:stCxn id="744" idx="2"/>
            <a:endCxn id="746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8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9" name=""/>
          <p:cNvCxnSpPr>
            <a:stCxn id="746" idx="2"/>
            <a:endCxn id="748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1" name=""/>
          <p:cNvCxnSpPr>
            <a:stCxn id="748" idx="2"/>
            <a:endCxn id="750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3" name=""/>
          <p:cNvCxnSpPr>
            <a:stCxn id="744" idx="0"/>
            <a:endCxn id="752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5" name=""/>
          <p:cNvCxnSpPr>
            <a:stCxn id="752" idx="3"/>
            <a:endCxn id="754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6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7" name=""/>
          <p:cNvCxnSpPr>
            <a:stCxn id="752" idx="2"/>
            <a:endCxn id="756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8" name=""/>
          <p:cNvCxnSpPr>
            <a:stCxn id="754" idx="3"/>
            <a:endCxn id="750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9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0" idx="2"/>
            <a:endCxn id="759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56" idx="3"/>
            <a:endCxn id="759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6" idx="3"/>
            <a:endCxn id="750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4" idx="4"/>
            <a:endCxn id="748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984560" y="522756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65160" y="523872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527240" y="523548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947840" y="328140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088440" y="346248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439880" y="415764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553760" y="4537080"/>
            <a:ext cx="116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critical pa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872E-8EEB-42FB-8907-CE84FC88DF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21" idx="2"/>
            <a:endCxn id="122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2"/>
            <a:endCxn id="124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4" idx="2"/>
            <a:endCxn id="126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6" idx="2"/>
            <a:endCxn id="128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" name=""/>
          <p:cNvCxnSpPr>
            <a:stCxn id="122" idx="0"/>
            <a:endCxn id="130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3" name=""/>
          <p:cNvCxnSpPr>
            <a:stCxn id="130" idx="3"/>
            <a:endCxn id="132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0" idx="2"/>
            <a:endCxn id="134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2" idx="3"/>
            <a:endCxn id="128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" name=""/>
          <p:cNvCxnSpPr>
            <a:stCxn id="128" idx="2"/>
            <a:endCxn id="137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4" idx="3"/>
            <a:endCxn id="128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2" idx="4"/>
            <a:endCxn id="126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78200" y="3533760"/>
            <a:ext cx="155520" cy="122400"/>
          </a:xfrm>
          <a:prstGeom prst="rightArrow">
            <a:avLst>
              <a:gd name="adj1" fmla="val 50222"/>
              <a:gd name="adj2" fmla="val 45847"/>
            </a:avLst>
          </a:prstGeom>
          <a:solidFill>
            <a:srgbClr val="00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021320" y="3436920"/>
            <a:ext cx="1725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earliest finish 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F1C8-FFBE-4850-8543-A7408993A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6" name=""/>
          <p:cNvCxnSpPr>
            <a:stCxn id="164" idx="2"/>
            <a:endCxn id="16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" name=""/>
          <p:cNvCxnSpPr>
            <a:stCxn id="165" idx="2"/>
            <a:endCxn id="16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0" name=""/>
          <p:cNvCxnSpPr>
            <a:stCxn id="167" idx="2"/>
            <a:endCxn id="16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2"/>
            <a:endCxn id="17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65" idx="0"/>
            <a:endCxn id="17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3" idx="3"/>
            <a:endCxn id="17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8" name=""/>
          <p:cNvCxnSpPr>
            <a:stCxn id="173" idx="2"/>
            <a:endCxn id="17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3"/>
            <a:endCxn id="17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1" idx="2"/>
            <a:endCxn id="18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7" idx="3"/>
            <a:endCxn id="18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7" idx="3"/>
            <a:endCxn id="17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5" idx="4"/>
            <a:endCxn id="16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02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1A67-C8BE-4699-B6D3-2D13544BB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0" name=""/>
          <p:cNvCxnSpPr>
            <a:stCxn id="208" idx="2"/>
            <a:endCxn id="209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2" name=""/>
          <p:cNvCxnSpPr>
            <a:stCxn id="209" idx="2"/>
            <a:endCxn id="211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4" name=""/>
          <p:cNvCxnSpPr>
            <a:stCxn id="211" idx="2"/>
            <a:endCxn id="213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3" idx="2"/>
            <a:endCxn id="215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09" idx="0"/>
            <a:endCxn id="217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7" idx="3"/>
            <a:endCxn id="219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2" name=""/>
          <p:cNvCxnSpPr>
            <a:stCxn id="217" idx="2"/>
            <a:endCxn id="221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3"/>
            <a:endCxn id="215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15" idx="2"/>
            <a:endCxn id="224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1" idx="3"/>
            <a:endCxn id="224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1" idx="3"/>
            <a:endCxn id="215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4"/>
            <a:endCxn id="213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46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249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252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0FFF-B8E4-4B31-A4C6-6249C8E356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0" name=""/>
          <p:cNvCxnSpPr>
            <a:stCxn id="258" idx="2"/>
            <a:endCxn id="259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2" name=""/>
          <p:cNvCxnSpPr>
            <a:stCxn id="259" idx="2"/>
            <a:endCxn id="261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61" idx="2"/>
            <a:endCxn id="263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6" name=""/>
          <p:cNvCxnSpPr>
            <a:stCxn id="263" idx="2"/>
            <a:endCxn id="265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8" name=""/>
          <p:cNvCxnSpPr>
            <a:stCxn id="259" idx="0"/>
            <a:endCxn id="267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0" name=""/>
          <p:cNvCxnSpPr>
            <a:stCxn id="267" idx="3"/>
            <a:endCxn id="269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7" idx="2"/>
            <a:endCxn id="271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9" idx="3"/>
            <a:endCxn id="265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5" name=""/>
          <p:cNvCxnSpPr>
            <a:stCxn id="265" idx="2"/>
            <a:endCxn id="274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3"/>
            <a:endCxn id="274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1" idx="3"/>
            <a:endCxn id="265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4"/>
            <a:endCxn id="263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97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300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303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306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310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868F-89B9-4B16-A468-7B116DA64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>
            <a:stCxn id="314" idx="2"/>
            <a:endCxn id="31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8" name=""/>
          <p:cNvCxnSpPr>
            <a:stCxn id="315" idx="2"/>
            <a:endCxn id="31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7" idx="2"/>
            <a:endCxn id="31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2" name=""/>
          <p:cNvCxnSpPr>
            <a:stCxn id="319" idx="2"/>
            <a:endCxn id="32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315" idx="0"/>
            <a:endCxn id="32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6" name=""/>
          <p:cNvCxnSpPr>
            <a:stCxn id="323" idx="3"/>
            <a:endCxn id="32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8" name=""/>
          <p:cNvCxnSpPr>
            <a:stCxn id="323" idx="2"/>
            <a:endCxn id="32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5" idx="3"/>
            <a:endCxn id="32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"/>
          <p:cNvCxnSpPr>
            <a:stCxn id="321" idx="2"/>
            <a:endCxn id="33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7" idx="3"/>
            <a:endCxn id="33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17" idx="3"/>
            <a:endCxn id="32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25" idx="4"/>
            <a:endCxn id="31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353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356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359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362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366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369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372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E55A-ED6E-4732-A21D-C4CDD2121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8" name=""/>
          <p:cNvCxnSpPr>
            <a:stCxn id="376" idx="2"/>
            <a:endCxn id="377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7" idx="2"/>
            <a:endCxn id="379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2" name=""/>
          <p:cNvCxnSpPr>
            <a:stCxn id="379" idx="2"/>
            <a:endCxn id="381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4" name=""/>
          <p:cNvCxnSpPr>
            <a:stCxn id="381" idx="2"/>
            <a:endCxn id="383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stCxn id="377" idx="0"/>
            <a:endCxn id="385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85" idx="3"/>
            <a:endCxn id="387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0" name=""/>
          <p:cNvCxnSpPr>
            <a:stCxn id="385" idx="2"/>
            <a:endCxn id="389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87" idx="3"/>
            <a:endCxn id="383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3" name=""/>
          <p:cNvCxnSpPr>
            <a:stCxn id="383" idx="2"/>
            <a:endCxn id="392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9" idx="3"/>
            <a:endCxn id="392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9" idx="3"/>
            <a:endCxn id="383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87" idx="4"/>
            <a:endCxn id="381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415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418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421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424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427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431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434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437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440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EEB8-8BE0-43B3-9D67-3107E0EB18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44" idx="2"/>
            <a:endCxn id="44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8" name=""/>
          <p:cNvCxnSpPr>
            <a:stCxn id="445" idx="2"/>
            <a:endCxn id="44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0" name=""/>
          <p:cNvCxnSpPr>
            <a:stCxn id="447" idx="2"/>
            <a:endCxn id="44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2" name=""/>
          <p:cNvCxnSpPr>
            <a:stCxn id="449" idx="2"/>
            <a:endCxn id="45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4" name=""/>
          <p:cNvCxnSpPr>
            <a:stCxn id="445" idx="0"/>
            <a:endCxn id="45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3" idx="3"/>
            <a:endCxn id="45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53" idx="2"/>
            <a:endCxn id="45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55" idx="3"/>
            <a:endCxn id="45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1" name=""/>
          <p:cNvCxnSpPr>
            <a:stCxn id="451" idx="2"/>
            <a:endCxn id="46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7" idx="3"/>
            <a:endCxn id="46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47" idx="3"/>
            <a:endCxn id="45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4"/>
            <a:endCxn id="44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483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486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489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492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495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499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502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505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508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511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9137-C6BB-46C3-B3E7-35373318B2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2"/>
            <a:endCxn id="516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9" name=""/>
          <p:cNvCxnSpPr>
            <a:stCxn id="516" idx="2"/>
            <a:endCxn id="518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18" idx="2"/>
            <a:endCxn id="520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3" name=""/>
          <p:cNvCxnSpPr>
            <a:stCxn id="520" idx="2"/>
            <a:endCxn id="522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4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>
            <a:stCxn id="516" idx="0"/>
            <a:endCxn id="524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7" name=""/>
          <p:cNvCxnSpPr>
            <a:stCxn id="524" idx="3"/>
            <a:endCxn id="526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9" name=""/>
          <p:cNvCxnSpPr>
            <a:stCxn id="524" idx="2"/>
            <a:endCxn id="528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6" idx="3"/>
            <a:endCxn id="522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2" name=""/>
          <p:cNvCxnSpPr>
            <a:stCxn id="522" idx="2"/>
            <a:endCxn id="531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8" idx="3"/>
            <a:endCxn id="531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18" idx="3"/>
            <a:endCxn id="522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26" idx="4"/>
            <a:endCxn id="520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554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557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560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563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566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570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573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576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579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582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585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3437-0EFC-45D7-909B-697A77A847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20:53Z</dcterms:modified>
  <cp:revision>622</cp:revision>
  <dc:subject/>
  <dc:title>Trees</dc:title>
</cp:coreProperties>
</file>