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70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165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2879640" y="52668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move the slide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1238040" y="3335040"/>
            <a:ext cx="6792840" cy="3157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2"/>
          </p:nvPr>
        </p:nvSpPr>
        <p:spPr>
          <a:xfrm>
            <a:off x="5253120" y="-360"/>
            <a:ext cx="40161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7FC18A-AF35-4541-B495-FC284E15F5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6668640"/>
            <a:ext cx="40165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5253120" y="6668640"/>
            <a:ext cx="40161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02154E-73F5-4F78-9BEC-7D1FC7236F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2879640" y="52704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1238040" y="3335040"/>
            <a:ext cx="6792840" cy="3157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to find the critical path(s) itself? Either store pred[v] values or look at all edges with fin[w] = fin[v] + time[w]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8D1C-3AB6-4E66-A9E0-C33AE9650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0028-4422-4886-AC50-181C06C37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2027-E0C7-4D62-AB85-F545B3461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FB7E-3C50-4749-96B3-089BD5DAE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40DD-751F-45A1-B4E0-3D2A6346A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C103-D001-44CC-844E-277477E34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1847-A9F9-4570-8056-B1C49A77F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65E9-2129-41C8-B39D-184F18637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9E97-69AC-4F14-8F16-454DDBC31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41EB-208D-4AEE-AAB4-8B20AA764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B5A1-2B8E-4CD5-B055-879372E3C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9E22-44DB-491F-90A6-0B85B0C86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A640-04E4-4AAF-9D21-F6C67CBD9C8D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7" idx="2"/>
            <a:endCxn id="88" idx="6"/>
          </p:cNvCxnSpPr>
          <p:nvPr/>
        </p:nvCxnSpPr>
        <p:spPr>
          <a:xfrm>
            <a:off x="1452240" y="5710320"/>
            <a:ext cx="9532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" name=""/>
          <p:cNvCxnSpPr>
            <a:stCxn id="88" idx="2"/>
            <a:endCxn id="90" idx="6"/>
          </p:cNvCxnSpPr>
          <p:nvPr/>
        </p:nvCxnSpPr>
        <p:spPr>
          <a:xfrm flipV="1">
            <a:off x="2725560" y="5705640"/>
            <a:ext cx="818280" cy="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3" name=""/>
          <p:cNvCxnSpPr>
            <a:stCxn id="90" idx="2"/>
            <a:endCxn id="92" idx="6"/>
          </p:cNvCxnSpPr>
          <p:nvPr/>
        </p:nvCxnSpPr>
        <p:spPr>
          <a:xfrm>
            <a:off x="3863880" y="5705640"/>
            <a:ext cx="1102320" cy="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" name=""/>
          <p:cNvCxnSpPr>
            <a:stCxn id="92" idx="2"/>
            <a:endCxn id="94" idx="6"/>
          </p:cNvCxnSpPr>
          <p:nvPr/>
        </p:nvCxnSpPr>
        <p:spPr>
          <a:xfrm flipV="1">
            <a:off x="5286240" y="5705640"/>
            <a:ext cx="1070640" cy="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7" name=""/>
          <p:cNvCxnSpPr>
            <a:stCxn id="88" idx="0"/>
            <a:endCxn id="96" idx="5"/>
          </p:cNvCxnSpPr>
          <p:nvPr/>
        </p:nvCxnSpPr>
        <p:spPr>
          <a:xfrm flipV="1">
            <a:off x="2565720" y="4088520"/>
            <a:ext cx="562680" cy="146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" name=""/>
          <p:cNvCxnSpPr>
            <a:stCxn id="96" idx="3"/>
            <a:endCxn id="98" idx="7"/>
          </p:cNvCxnSpPr>
          <p:nvPr/>
        </p:nvCxnSpPr>
        <p:spPr>
          <a:xfrm>
            <a:off x="3355200" y="4088520"/>
            <a:ext cx="1113120" cy="41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" name=""/>
          <p:cNvCxnSpPr>
            <a:stCxn id="96" idx="2"/>
            <a:endCxn id="100" idx="6"/>
          </p:cNvCxnSpPr>
          <p:nvPr/>
        </p:nvCxnSpPr>
        <p:spPr>
          <a:xfrm flipV="1">
            <a:off x="3401640" y="3795840"/>
            <a:ext cx="1526040" cy="17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8" idx="3"/>
            <a:endCxn id="94" idx="7"/>
          </p:cNvCxnSpPr>
          <p:nvPr/>
        </p:nvCxnSpPr>
        <p:spPr>
          <a:xfrm>
            <a:off x="4695120" y="4726800"/>
            <a:ext cx="1708920" cy="86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" name=""/>
          <p:cNvCxnSpPr>
            <a:stCxn id="94" idx="2"/>
            <a:endCxn id="103" idx="6"/>
          </p:cNvCxnSpPr>
          <p:nvPr/>
        </p:nvCxnSpPr>
        <p:spPr>
          <a:xfrm>
            <a:off x="6676920" y="5705640"/>
            <a:ext cx="8334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0" idx="3"/>
            <a:endCxn id="103" idx="7"/>
          </p:cNvCxnSpPr>
          <p:nvPr/>
        </p:nvCxnSpPr>
        <p:spPr>
          <a:xfrm>
            <a:off x="5201640" y="3909240"/>
            <a:ext cx="2355840" cy="168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0" idx="3"/>
            <a:endCxn id="94" idx="5"/>
          </p:cNvCxnSpPr>
          <p:nvPr/>
        </p:nvCxnSpPr>
        <p:spPr>
          <a:xfrm>
            <a:off x="3817440" y="5819040"/>
            <a:ext cx="2586600" cy="360"/>
          </a:xfrm>
          <a:prstGeom prst="curved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8" idx="4"/>
            <a:endCxn id="92" idx="7"/>
          </p:cNvCxnSpPr>
          <p:nvPr/>
        </p:nvCxnSpPr>
        <p:spPr>
          <a:xfrm>
            <a:off x="4581360" y="4773600"/>
            <a:ext cx="432000" cy="82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30640" y="4848120"/>
            <a:ext cx="155520" cy="122400"/>
          </a:xfrm>
          <a:prstGeom prst="rightArrow">
            <a:avLst>
              <a:gd name="adj1" fmla="val 50222"/>
              <a:gd name="adj2" fmla="val 45847"/>
            </a:avLst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479400" y="473868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A651-BCCF-4AFC-B26E-1F1C4F4F80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1" name=""/>
          <p:cNvCxnSpPr>
            <a:stCxn id="589" idx="2"/>
            <a:endCxn id="590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3" name=""/>
          <p:cNvCxnSpPr>
            <a:stCxn id="590" idx="2"/>
            <a:endCxn id="592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4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5" name=""/>
          <p:cNvCxnSpPr>
            <a:stCxn id="592" idx="2"/>
            <a:endCxn id="594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6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4" idx="2"/>
            <a:endCxn id="596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9" name=""/>
          <p:cNvCxnSpPr>
            <a:stCxn id="590" idx="0"/>
            <a:endCxn id="598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1" name=""/>
          <p:cNvCxnSpPr>
            <a:stCxn id="598" idx="3"/>
            <a:endCxn id="600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3" name=""/>
          <p:cNvCxnSpPr>
            <a:stCxn id="598" idx="2"/>
            <a:endCxn id="602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600" idx="3"/>
            <a:endCxn id="596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6" name=""/>
          <p:cNvCxnSpPr>
            <a:stCxn id="596" idx="2"/>
            <a:endCxn id="605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602" idx="3"/>
            <a:endCxn id="605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592" idx="3"/>
            <a:endCxn id="596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0" idx="4"/>
            <a:endCxn id="594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0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628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631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634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637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640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2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644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647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650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653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656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6566040" y="5099040"/>
            <a:ext cx="622080" cy="440640"/>
            <a:chOff x="6566040" y="5099040"/>
            <a:chExt cx="622080" cy="440640"/>
          </a:xfrm>
        </p:grpSpPr>
        <p:sp>
          <p:nvSpPr>
            <p:cNvPr id="659" name=""/>
            <p:cNvSpPr/>
            <p:nvPr/>
          </p:nvSpPr>
          <p:spPr>
            <a:xfrm flipH="1">
              <a:off x="6566040" y="50990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98600" y="52340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7481880" y="4978440"/>
            <a:ext cx="622080" cy="440280"/>
            <a:chOff x="7481880" y="4978440"/>
            <a:chExt cx="622080" cy="440280"/>
          </a:xfrm>
        </p:grpSpPr>
        <p:sp>
          <p:nvSpPr>
            <p:cNvPr id="662" name=""/>
            <p:cNvSpPr/>
            <p:nvPr/>
          </p:nvSpPr>
          <p:spPr>
            <a:xfrm flipH="1">
              <a:off x="7481880" y="49784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7714440" y="51130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4952-7975-45DF-8CF5-46A9CF23B8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8" name=""/>
          <p:cNvCxnSpPr>
            <a:stCxn id="666" idx="2"/>
            <a:endCxn id="667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9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0" name=""/>
          <p:cNvCxnSpPr>
            <a:stCxn id="667" idx="2"/>
            <a:endCxn id="669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1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2" name=""/>
          <p:cNvCxnSpPr>
            <a:stCxn id="669" idx="2"/>
            <a:endCxn id="671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4" name=""/>
          <p:cNvCxnSpPr>
            <a:stCxn id="671" idx="2"/>
            <a:endCxn id="673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5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6" name=""/>
          <p:cNvCxnSpPr>
            <a:stCxn id="667" idx="0"/>
            <a:endCxn id="675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8" name=""/>
          <p:cNvCxnSpPr>
            <a:stCxn id="675" idx="3"/>
            <a:endCxn id="677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9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0" name=""/>
          <p:cNvCxnSpPr>
            <a:stCxn id="675" idx="2"/>
            <a:endCxn id="679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1" name=""/>
          <p:cNvCxnSpPr>
            <a:stCxn id="677" idx="3"/>
            <a:endCxn id="673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3" name=""/>
          <p:cNvCxnSpPr>
            <a:stCxn id="673" idx="2"/>
            <a:endCxn id="682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79" idx="3"/>
            <a:endCxn id="682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69" idx="3"/>
            <a:endCxn id="673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77" idx="4"/>
            <a:endCxn id="671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7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705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708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711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714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717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721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724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727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730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733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566040" y="5099040"/>
            <a:ext cx="622080" cy="440640"/>
            <a:chOff x="6566040" y="5099040"/>
            <a:chExt cx="622080" cy="440640"/>
          </a:xfrm>
        </p:grpSpPr>
        <p:sp>
          <p:nvSpPr>
            <p:cNvPr id="736" name=""/>
            <p:cNvSpPr/>
            <p:nvPr/>
          </p:nvSpPr>
          <p:spPr>
            <a:xfrm flipH="1">
              <a:off x="6566040" y="50990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6798600" y="52340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7481880" y="4978440"/>
            <a:ext cx="622080" cy="440280"/>
            <a:chOff x="7481880" y="4978440"/>
            <a:chExt cx="622080" cy="440280"/>
          </a:xfrm>
        </p:grpSpPr>
        <p:sp>
          <p:nvSpPr>
            <p:cNvPr id="739" name=""/>
            <p:cNvSpPr/>
            <p:nvPr/>
          </p:nvSpPr>
          <p:spPr>
            <a:xfrm flipH="1">
              <a:off x="7481880" y="49784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714440" y="51130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20FD-322F-4235-81B6-696504EA8F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45" name=""/>
          <p:cNvCxnSpPr>
            <a:stCxn id="743" idx="2"/>
            <a:endCxn id="744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46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47" name=""/>
          <p:cNvCxnSpPr>
            <a:stCxn id="744" idx="2"/>
            <a:endCxn id="746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8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49" name=""/>
          <p:cNvCxnSpPr>
            <a:stCxn id="746" idx="2"/>
            <a:endCxn id="748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1" name=""/>
          <p:cNvCxnSpPr>
            <a:stCxn id="748" idx="2"/>
            <a:endCxn id="750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52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3" name=""/>
          <p:cNvCxnSpPr>
            <a:stCxn id="744" idx="0"/>
            <a:endCxn id="752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54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5" name=""/>
          <p:cNvCxnSpPr>
            <a:stCxn id="752" idx="3"/>
            <a:endCxn id="754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56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7" name=""/>
          <p:cNvCxnSpPr>
            <a:stCxn id="752" idx="2"/>
            <a:endCxn id="756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8" name=""/>
          <p:cNvCxnSpPr>
            <a:stCxn id="754" idx="3"/>
            <a:endCxn id="750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9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0" name=""/>
          <p:cNvCxnSpPr>
            <a:stCxn id="750" idx="2"/>
            <a:endCxn id="759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56" idx="3"/>
            <a:endCxn id="759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6" idx="3"/>
            <a:endCxn id="750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4" idx="4"/>
            <a:endCxn id="748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64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4984560" y="522756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6365160" y="523872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527240" y="523548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947840" y="328140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088440" y="346248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4439880" y="415764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1553760" y="4537080"/>
            <a:ext cx="1160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critical pa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954B-DCA6-4677-9174-C2A9F83857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" name=""/>
          <p:cNvCxnSpPr>
            <a:stCxn id="121" idx="2"/>
            <a:endCxn id="122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5" name=""/>
          <p:cNvCxnSpPr>
            <a:stCxn id="122" idx="2"/>
            <a:endCxn id="124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" name=""/>
          <p:cNvCxnSpPr>
            <a:stCxn id="124" idx="2"/>
            <a:endCxn id="126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" name=""/>
          <p:cNvCxnSpPr>
            <a:stCxn id="126" idx="2"/>
            <a:endCxn id="128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1" name=""/>
          <p:cNvCxnSpPr>
            <a:stCxn id="122" idx="0"/>
            <a:endCxn id="130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3" name=""/>
          <p:cNvCxnSpPr>
            <a:stCxn id="130" idx="3"/>
            <a:endCxn id="132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" name=""/>
          <p:cNvCxnSpPr>
            <a:stCxn id="130" idx="2"/>
            <a:endCxn id="134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2" idx="3"/>
            <a:endCxn id="128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8" name=""/>
          <p:cNvCxnSpPr>
            <a:stCxn id="128" idx="2"/>
            <a:endCxn id="137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4" idx="3"/>
            <a:endCxn id="137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4" idx="3"/>
            <a:endCxn id="128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2" idx="4"/>
            <a:endCxn id="126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78200" y="3533760"/>
            <a:ext cx="155520" cy="122400"/>
          </a:xfrm>
          <a:prstGeom prst="rightArrow">
            <a:avLst>
              <a:gd name="adj1" fmla="val 50222"/>
              <a:gd name="adj2" fmla="val 45847"/>
            </a:avLst>
          </a:prstGeom>
          <a:solidFill>
            <a:srgbClr val="00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021320" y="3436920"/>
            <a:ext cx="1725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earliest finish 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6AF9-50BD-4691-AAF6-8702E6BF80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6" name=""/>
          <p:cNvCxnSpPr>
            <a:stCxn id="164" idx="2"/>
            <a:endCxn id="165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8" name=""/>
          <p:cNvCxnSpPr>
            <a:stCxn id="165" idx="2"/>
            <a:endCxn id="167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0" name=""/>
          <p:cNvCxnSpPr>
            <a:stCxn id="167" idx="2"/>
            <a:endCxn id="169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69" idx="2"/>
            <a:endCxn id="171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4" name=""/>
          <p:cNvCxnSpPr>
            <a:stCxn id="165" idx="0"/>
            <a:endCxn id="173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3" idx="3"/>
            <a:endCxn id="175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8" name=""/>
          <p:cNvCxnSpPr>
            <a:stCxn id="173" idx="2"/>
            <a:endCxn id="177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5" idx="3"/>
            <a:endCxn id="171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71" idx="2"/>
            <a:endCxn id="180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7" idx="3"/>
            <a:endCxn id="180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7" idx="3"/>
            <a:endCxn id="171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5" idx="4"/>
            <a:endCxn id="169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202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585F-A065-4456-974C-AE0F67D3BD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0" name=""/>
          <p:cNvCxnSpPr>
            <a:stCxn id="208" idx="2"/>
            <a:endCxn id="209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2" name=""/>
          <p:cNvCxnSpPr>
            <a:stCxn id="209" idx="2"/>
            <a:endCxn id="211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4" name=""/>
          <p:cNvCxnSpPr>
            <a:stCxn id="211" idx="2"/>
            <a:endCxn id="213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"/>
          <p:cNvCxnSpPr>
            <a:stCxn id="213" idx="2"/>
            <a:endCxn id="215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8" name=""/>
          <p:cNvCxnSpPr>
            <a:stCxn id="209" idx="0"/>
            <a:endCxn id="217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7" idx="3"/>
            <a:endCxn id="219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2" name=""/>
          <p:cNvCxnSpPr>
            <a:stCxn id="217" idx="2"/>
            <a:endCxn id="221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9" idx="3"/>
            <a:endCxn id="215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5" name=""/>
          <p:cNvCxnSpPr>
            <a:stCxn id="215" idx="2"/>
            <a:endCxn id="224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1" idx="3"/>
            <a:endCxn id="224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1" idx="3"/>
            <a:endCxn id="215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4"/>
            <a:endCxn id="213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246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249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252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FCB2-B0C3-4CED-921D-0DA839EC79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0" name=""/>
          <p:cNvCxnSpPr>
            <a:stCxn id="258" idx="2"/>
            <a:endCxn id="259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2" name=""/>
          <p:cNvCxnSpPr>
            <a:stCxn id="259" idx="2"/>
            <a:endCxn id="261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4" name=""/>
          <p:cNvCxnSpPr>
            <a:stCxn id="261" idx="2"/>
            <a:endCxn id="263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6" name=""/>
          <p:cNvCxnSpPr>
            <a:stCxn id="263" idx="2"/>
            <a:endCxn id="265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8" name=""/>
          <p:cNvCxnSpPr>
            <a:stCxn id="259" idx="0"/>
            <a:endCxn id="267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0" name=""/>
          <p:cNvCxnSpPr>
            <a:stCxn id="267" idx="3"/>
            <a:endCxn id="269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67" idx="2"/>
            <a:endCxn id="271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9" idx="3"/>
            <a:endCxn id="265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5" name=""/>
          <p:cNvCxnSpPr>
            <a:stCxn id="265" idx="2"/>
            <a:endCxn id="274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3"/>
            <a:endCxn id="274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1" idx="3"/>
            <a:endCxn id="265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4"/>
            <a:endCxn id="263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297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300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303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306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310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532D-4445-4A3E-BC4A-B1AB22D990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6" name=""/>
          <p:cNvCxnSpPr>
            <a:stCxn id="314" idx="2"/>
            <a:endCxn id="315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8" name=""/>
          <p:cNvCxnSpPr>
            <a:stCxn id="315" idx="2"/>
            <a:endCxn id="317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0" name=""/>
          <p:cNvCxnSpPr>
            <a:stCxn id="317" idx="2"/>
            <a:endCxn id="319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2" name=""/>
          <p:cNvCxnSpPr>
            <a:stCxn id="319" idx="2"/>
            <a:endCxn id="321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4" name=""/>
          <p:cNvCxnSpPr>
            <a:stCxn id="315" idx="0"/>
            <a:endCxn id="323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6" name=""/>
          <p:cNvCxnSpPr>
            <a:stCxn id="323" idx="3"/>
            <a:endCxn id="325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8" name=""/>
          <p:cNvCxnSpPr>
            <a:stCxn id="323" idx="2"/>
            <a:endCxn id="327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5" idx="3"/>
            <a:endCxn id="321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1" name=""/>
          <p:cNvCxnSpPr>
            <a:stCxn id="321" idx="2"/>
            <a:endCxn id="330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27" idx="3"/>
            <a:endCxn id="330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17" idx="3"/>
            <a:endCxn id="321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25" idx="4"/>
            <a:endCxn id="319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353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356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359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362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366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369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372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70C2-64CC-41D2-A571-ECB8A9801E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8" name=""/>
          <p:cNvCxnSpPr>
            <a:stCxn id="376" idx="2"/>
            <a:endCxn id="377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0" name=""/>
          <p:cNvCxnSpPr>
            <a:stCxn id="377" idx="2"/>
            <a:endCxn id="379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2" name=""/>
          <p:cNvCxnSpPr>
            <a:stCxn id="379" idx="2"/>
            <a:endCxn id="381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4" name=""/>
          <p:cNvCxnSpPr>
            <a:stCxn id="381" idx="2"/>
            <a:endCxn id="383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6" name=""/>
          <p:cNvCxnSpPr>
            <a:stCxn id="377" idx="0"/>
            <a:endCxn id="385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8" name=""/>
          <p:cNvCxnSpPr>
            <a:stCxn id="385" idx="3"/>
            <a:endCxn id="387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0" name=""/>
          <p:cNvCxnSpPr>
            <a:stCxn id="385" idx="2"/>
            <a:endCxn id="389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87" idx="3"/>
            <a:endCxn id="383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3" name=""/>
          <p:cNvCxnSpPr>
            <a:stCxn id="383" idx="2"/>
            <a:endCxn id="392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89" idx="3"/>
            <a:endCxn id="392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9" idx="3"/>
            <a:endCxn id="383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87" idx="4"/>
            <a:endCxn id="381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415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418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421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424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427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431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434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437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440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8EA8-EDA9-43D1-8A07-8533F5D852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6" name=""/>
          <p:cNvCxnSpPr>
            <a:stCxn id="444" idx="2"/>
            <a:endCxn id="445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8" name=""/>
          <p:cNvCxnSpPr>
            <a:stCxn id="445" idx="2"/>
            <a:endCxn id="447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0" name=""/>
          <p:cNvCxnSpPr>
            <a:stCxn id="447" idx="2"/>
            <a:endCxn id="449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2" name=""/>
          <p:cNvCxnSpPr>
            <a:stCxn id="449" idx="2"/>
            <a:endCxn id="451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4" name=""/>
          <p:cNvCxnSpPr>
            <a:stCxn id="445" idx="0"/>
            <a:endCxn id="453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6" name=""/>
          <p:cNvCxnSpPr>
            <a:stCxn id="453" idx="3"/>
            <a:endCxn id="455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8" name=""/>
          <p:cNvCxnSpPr>
            <a:stCxn id="453" idx="2"/>
            <a:endCxn id="457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55" idx="3"/>
            <a:endCxn id="451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1" name=""/>
          <p:cNvCxnSpPr>
            <a:stCxn id="451" idx="2"/>
            <a:endCxn id="460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7" idx="3"/>
            <a:endCxn id="460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47" idx="3"/>
            <a:endCxn id="451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4"/>
            <a:endCxn id="449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483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486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489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492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495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7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499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502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505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508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511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79FD-4100-423F-A101-3B5CF2DE44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7" name=""/>
          <p:cNvCxnSpPr>
            <a:stCxn id="515" idx="2"/>
            <a:endCxn id="516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8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9" name=""/>
          <p:cNvCxnSpPr>
            <a:stCxn id="516" idx="2"/>
            <a:endCxn id="518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18" idx="2"/>
            <a:endCxn id="520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3" name=""/>
          <p:cNvCxnSpPr>
            <a:stCxn id="520" idx="2"/>
            <a:endCxn id="522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4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5" name=""/>
          <p:cNvCxnSpPr>
            <a:stCxn id="516" idx="0"/>
            <a:endCxn id="524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7" name=""/>
          <p:cNvCxnSpPr>
            <a:stCxn id="524" idx="3"/>
            <a:endCxn id="526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9" name=""/>
          <p:cNvCxnSpPr>
            <a:stCxn id="524" idx="2"/>
            <a:endCxn id="528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6" idx="3"/>
            <a:endCxn id="522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2" name=""/>
          <p:cNvCxnSpPr>
            <a:stCxn id="522" idx="2"/>
            <a:endCxn id="531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28" idx="3"/>
            <a:endCxn id="531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18" idx="3"/>
            <a:endCxn id="522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26" idx="4"/>
            <a:endCxn id="520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554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557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560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563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566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8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570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573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576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579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582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566040" y="5099040"/>
            <a:ext cx="622080" cy="440640"/>
            <a:chOff x="6566040" y="5099040"/>
            <a:chExt cx="622080" cy="440640"/>
          </a:xfrm>
        </p:grpSpPr>
        <p:sp>
          <p:nvSpPr>
            <p:cNvPr id="585" name=""/>
            <p:cNvSpPr/>
            <p:nvPr/>
          </p:nvSpPr>
          <p:spPr>
            <a:xfrm flipH="1">
              <a:off x="6566040" y="50990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798600" y="52340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BC80-0007-493A-B005-C1D4C8FC1F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1-30T22:20:53Z</dcterms:modified>
  <cp:revision>622</cp:revision>
  <dc:subject/>
  <dc:title>Trees</dc:title>
</cp:coreProperties>
</file>