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70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165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2879640" y="52668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move the slide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1238040" y="3335040"/>
            <a:ext cx="6792840" cy="3157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2"/>
          </p:nvPr>
        </p:nvSpPr>
        <p:spPr>
          <a:xfrm>
            <a:off x="5253120" y="-360"/>
            <a:ext cx="40161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07EE58-F5C5-4327-A033-9908BF9B7B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-360" y="6668640"/>
            <a:ext cx="40165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5253120" y="6668640"/>
            <a:ext cx="40161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5C9DE2B-7E59-4029-B92A-1FD7312073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2879640" y="52704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1238040" y="3335040"/>
            <a:ext cx="6792840" cy="3157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to find the critical path(s) itself? Either store pred[v] values or look at all edges with fin[w] = fin[v] + time[w]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A3276-0864-4487-AFF1-783E54F3A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09963-7B26-4868-8316-AABE58478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E001-06CE-4ACF-9D63-FEB159ED8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047C-AD80-4190-A42C-77103C224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B4E1-590B-4C61-8763-0CE5514D8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854C-3C29-443B-8C4E-AB2C2A0C8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1A79-903F-416D-A0BC-FE1EC24C7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79C7-BC33-4026-9ADC-C948F0AAC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33104-D58E-450D-BEA6-780D8161A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DD6C-B1EA-4509-A89C-4395F1EF9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020C-13A9-4106-9CEB-DAAFC3BAC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7800-5627-447B-B04B-C0D2AD6C1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8E8A-0392-4180-8335-CA5F9FF7EB9E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7" idx="2"/>
            <a:endCxn id="88" idx="6"/>
          </p:cNvCxnSpPr>
          <p:nvPr/>
        </p:nvCxnSpPr>
        <p:spPr>
          <a:xfrm>
            <a:off x="1452240" y="5710320"/>
            <a:ext cx="953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" name=""/>
          <p:cNvCxnSpPr>
            <a:stCxn id="88" idx="2"/>
            <a:endCxn id="90" idx="6"/>
          </p:cNvCxnSpPr>
          <p:nvPr/>
        </p:nvCxnSpPr>
        <p:spPr>
          <a:xfrm flipV="1">
            <a:off x="2725560" y="5705640"/>
            <a:ext cx="81828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" name=""/>
          <p:cNvCxnSpPr>
            <a:stCxn id="90" idx="2"/>
            <a:endCxn id="92" idx="6"/>
          </p:cNvCxnSpPr>
          <p:nvPr/>
        </p:nvCxnSpPr>
        <p:spPr>
          <a:xfrm>
            <a:off x="3863880" y="5705640"/>
            <a:ext cx="110232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" name=""/>
          <p:cNvCxnSpPr>
            <a:stCxn id="92" idx="2"/>
            <a:endCxn id="94" idx="6"/>
          </p:cNvCxnSpPr>
          <p:nvPr/>
        </p:nvCxnSpPr>
        <p:spPr>
          <a:xfrm flipV="1">
            <a:off x="5286240" y="5705640"/>
            <a:ext cx="1070640" cy="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" name=""/>
          <p:cNvCxnSpPr>
            <a:stCxn id="88" idx="0"/>
            <a:endCxn id="96" idx="5"/>
          </p:cNvCxnSpPr>
          <p:nvPr/>
        </p:nvCxnSpPr>
        <p:spPr>
          <a:xfrm flipV="1">
            <a:off x="2565720" y="4088520"/>
            <a:ext cx="562680" cy="146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96" idx="3"/>
            <a:endCxn id="98" idx="7"/>
          </p:cNvCxnSpPr>
          <p:nvPr/>
        </p:nvCxnSpPr>
        <p:spPr>
          <a:xfrm>
            <a:off x="3355200" y="4088520"/>
            <a:ext cx="1113120" cy="411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" name=""/>
          <p:cNvCxnSpPr>
            <a:stCxn id="96" idx="2"/>
            <a:endCxn id="100" idx="6"/>
          </p:cNvCxnSpPr>
          <p:nvPr/>
        </p:nvCxnSpPr>
        <p:spPr>
          <a:xfrm flipV="1">
            <a:off x="3401640" y="3795840"/>
            <a:ext cx="1526040" cy="17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8" idx="3"/>
            <a:endCxn id="94" idx="7"/>
          </p:cNvCxnSpPr>
          <p:nvPr/>
        </p:nvCxnSpPr>
        <p:spPr>
          <a:xfrm>
            <a:off x="4695120" y="4726800"/>
            <a:ext cx="1708920" cy="86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94" idx="2"/>
            <a:endCxn id="103" idx="6"/>
          </p:cNvCxnSpPr>
          <p:nvPr/>
        </p:nvCxnSpPr>
        <p:spPr>
          <a:xfrm>
            <a:off x="6676920" y="5705640"/>
            <a:ext cx="8334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0" idx="3"/>
            <a:endCxn id="103" idx="7"/>
          </p:cNvCxnSpPr>
          <p:nvPr/>
        </p:nvCxnSpPr>
        <p:spPr>
          <a:xfrm>
            <a:off x="5201640" y="3909240"/>
            <a:ext cx="2355840" cy="168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0" idx="3"/>
            <a:endCxn id="94" idx="5"/>
          </p:cNvCxnSpPr>
          <p:nvPr/>
        </p:nvCxnSpPr>
        <p:spPr>
          <a:xfrm>
            <a:off x="3817440" y="5819040"/>
            <a:ext cx="2586600" cy="360"/>
          </a:xfrm>
          <a:prstGeom prst="curved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8" idx="4"/>
            <a:endCxn id="92" idx="7"/>
          </p:cNvCxnSpPr>
          <p:nvPr/>
        </p:nvCxnSpPr>
        <p:spPr>
          <a:xfrm>
            <a:off x="4581360" y="4773600"/>
            <a:ext cx="432000" cy="82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30640" y="4848120"/>
            <a:ext cx="155520" cy="122400"/>
          </a:xfrm>
          <a:prstGeom prst="rightArrow">
            <a:avLst>
              <a:gd name="adj1" fmla="val 50222"/>
              <a:gd name="adj2" fmla="val 45847"/>
            </a:avLst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479400" y="473868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3D6D-1957-4D19-89D9-02AC96AD56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1" name=""/>
          <p:cNvCxnSpPr>
            <a:stCxn id="589" idx="2"/>
            <a:endCxn id="590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2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3" name=""/>
          <p:cNvCxnSpPr>
            <a:stCxn id="590" idx="2"/>
            <a:endCxn id="592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4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5" name=""/>
          <p:cNvCxnSpPr>
            <a:stCxn id="592" idx="2"/>
            <a:endCxn id="594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6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4" idx="2"/>
            <a:endCxn id="596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9" name=""/>
          <p:cNvCxnSpPr>
            <a:stCxn id="590" idx="0"/>
            <a:endCxn id="598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8" idx="3"/>
            <a:endCxn id="600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2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3" name=""/>
          <p:cNvCxnSpPr>
            <a:stCxn id="598" idx="2"/>
            <a:endCxn id="602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600" idx="3"/>
            <a:endCxn id="596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96" idx="2"/>
            <a:endCxn id="605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"/>
          <p:cNvCxnSpPr>
            <a:stCxn id="602" idx="3"/>
            <a:endCxn id="605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592" idx="3"/>
            <a:endCxn id="596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0" idx="4"/>
            <a:endCxn id="594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0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628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631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634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637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640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2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644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647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650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653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656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659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481880" y="4978440"/>
            <a:ext cx="622080" cy="440280"/>
            <a:chOff x="7481880" y="4978440"/>
            <a:chExt cx="622080" cy="440280"/>
          </a:xfrm>
        </p:grpSpPr>
        <p:sp>
          <p:nvSpPr>
            <p:cNvPr id="662" name=""/>
            <p:cNvSpPr/>
            <p:nvPr/>
          </p:nvSpPr>
          <p:spPr>
            <a:xfrm flipH="1">
              <a:off x="7481880" y="49784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714440" y="51130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AB61-FEA1-48B4-B078-37F108F006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8" name=""/>
          <p:cNvCxnSpPr>
            <a:stCxn id="666" idx="2"/>
            <a:endCxn id="667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9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>
            <a:stCxn id="667" idx="2"/>
            <a:endCxn id="669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1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2" name=""/>
          <p:cNvCxnSpPr>
            <a:stCxn id="669" idx="2"/>
            <a:endCxn id="671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4" name=""/>
          <p:cNvCxnSpPr>
            <a:stCxn id="671" idx="2"/>
            <a:endCxn id="673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5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6" name=""/>
          <p:cNvCxnSpPr>
            <a:stCxn id="667" idx="0"/>
            <a:endCxn id="675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8" name=""/>
          <p:cNvCxnSpPr>
            <a:stCxn id="675" idx="3"/>
            <a:endCxn id="677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0" name=""/>
          <p:cNvCxnSpPr>
            <a:stCxn id="675" idx="2"/>
            <a:endCxn id="679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7" idx="3"/>
            <a:endCxn id="673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3" name=""/>
          <p:cNvCxnSpPr>
            <a:stCxn id="673" idx="2"/>
            <a:endCxn id="682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79" idx="3"/>
            <a:endCxn id="682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69" idx="3"/>
            <a:endCxn id="673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77" idx="4"/>
            <a:endCxn id="671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7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705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708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711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714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717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721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724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727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730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733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736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7481880" y="4978440"/>
            <a:ext cx="622080" cy="440280"/>
            <a:chOff x="7481880" y="4978440"/>
            <a:chExt cx="622080" cy="440280"/>
          </a:xfrm>
        </p:grpSpPr>
        <p:sp>
          <p:nvSpPr>
            <p:cNvPr id="739" name=""/>
            <p:cNvSpPr/>
            <p:nvPr/>
          </p:nvSpPr>
          <p:spPr>
            <a:xfrm flipH="1">
              <a:off x="7481880" y="49784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714440" y="51130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3B0C-A00F-4C41-8270-00215E5B6B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5" name=""/>
          <p:cNvCxnSpPr>
            <a:stCxn id="743" idx="2"/>
            <a:endCxn id="744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7" name=""/>
          <p:cNvCxnSpPr>
            <a:stCxn id="744" idx="2"/>
            <a:endCxn id="746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8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49" name=""/>
          <p:cNvCxnSpPr>
            <a:stCxn id="746" idx="2"/>
            <a:endCxn id="748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1" name=""/>
          <p:cNvCxnSpPr>
            <a:stCxn id="748" idx="2"/>
            <a:endCxn id="750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3" name=""/>
          <p:cNvCxnSpPr>
            <a:stCxn id="744" idx="0"/>
            <a:endCxn id="752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4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5" name=""/>
          <p:cNvCxnSpPr>
            <a:stCxn id="752" idx="3"/>
            <a:endCxn id="754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56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7" name=""/>
          <p:cNvCxnSpPr>
            <a:stCxn id="752" idx="2"/>
            <a:endCxn id="756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8" name=""/>
          <p:cNvCxnSpPr>
            <a:stCxn id="754" idx="3"/>
            <a:endCxn id="750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9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0" idx="2"/>
            <a:endCxn id="759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56" idx="3"/>
            <a:endCxn id="759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6" idx="3"/>
            <a:endCxn id="750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4" idx="4"/>
            <a:endCxn id="748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4984560" y="522756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6365160" y="523872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527240" y="523548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947840" y="328140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088440" y="346248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439880" y="4157640"/>
            <a:ext cx="38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1553760" y="4537080"/>
            <a:ext cx="116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critical pa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A719-7A44-4F3A-9108-39FAF06362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21" idx="2"/>
            <a:endCxn id="122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2"/>
            <a:endCxn id="124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4" idx="2"/>
            <a:endCxn id="126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6" idx="2"/>
            <a:endCxn id="128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" name=""/>
          <p:cNvCxnSpPr>
            <a:stCxn id="122" idx="0"/>
            <a:endCxn id="130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3" name=""/>
          <p:cNvCxnSpPr>
            <a:stCxn id="130" idx="3"/>
            <a:endCxn id="132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0" idx="2"/>
            <a:endCxn id="134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2" idx="3"/>
            <a:endCxn id="128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" name=""/>
          <p:cNvCxnSpPr>
            <a:stCxn id="128" idx="2"/>
            <a:endCxn id="137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4" idx="3"/>
            <a:endCxn id="128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2" idx="4"/>
            <a:endCxn id="126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78200" y="3533760"/>
            <a:ext cx="155520" cy="122400"/>
          </a:xfrm>
          <a:prstGeom prst="rightArrow">
            <a:avLst>
              <a:gd name="adj1" fmla="val 50222"/>
              <a:gd name="adj2" fmla="val 45847"/>
            </a:avLst>
          </a:prstGeom>
          <a:solidFill>
            <a:srgbClr val="00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021320" y="3436920"/>
            <a:ext cx="1725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earliest finish 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4C3B-4376-4A19-AEBA-720E5146C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6" name=""/>
          <p:cNvCxnSpPr>
            <a:stCxn id="164" idx="2"/>
            <a:endCxn id="16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" name=""/>
          <p:cNvCxnSpPr>
            <a:stCxn id="165" idx="2"/>
            <a:endCxn id="16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0" name=""/>
          <p:cNvCxnSpPr>
            <a:stCxn id="167" idx="2"/>
            <a:endCxn id="16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2"/>
            <a:endCxn id="17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65" idx="0"/>
            <a:endCxn id="17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3" idx="3"/>
            <a:endCxn id="17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8" name=""/>
          <p:cNvCxnSpPr>
            <a:stCxn id="173" idx="2"/>
            <a:endCxn id="17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3"/>
            <a:endCxn id="17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1" idx="2"/>
            <a:endCxn id="18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7" idx="3"/>
            <a:endCxn id="18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7" idx="3"/>
            <a:endCxn id="17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5" idx="4"/>
            <a:endCxn id="16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02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AB6B-383A-40F7-B344-7E50CDC89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0" name=""/>
          <p:cNvCxnSpPr>
            <a:stCxn id="208" idx="2"/>
            <a:endCxn id="209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2" name=""/>
          <p:cNvCxnSpPr>
            <a:stCxn id="209" idx="2"/>
            <a:endCxn id="211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4" name=""/>
          <p:cNvCxnSpPr>
            <a:stCxn id="211" idx="2"/>
            <a:endCxn id="213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3" idx="2"/>
            <a:endCxn id="215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09" idx="0"/>
            <a:endCxn id="217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7" idx="3"/>
            <a:endCxn id="219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2" name=""/>
          <p:cNvCxnSpPr>
            <a:stCxn id="217" idx="2"/>
            <a:endCxn id="221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9" idx="3"/>
            <a:endCxn id="215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15" idx="2"/>
            <a:endCxn id="224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1" idx="3"/>
            <a:endCxn id="224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1" idx="3"/>
            <a:endCxn id="215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9" idx="4"/>
            <a:endCxn id="213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46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249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252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B4B0-9FFF-46AA-B7D8-749CBD1294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0" name=""/>
          <p:cNvCxnSpPr>
            <a:stCxn id="258" idx="2"/>
            <a:endCxn id="259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2" name=""/>
          <p:cNvCxnSpPr>
            <a:stCxn id="259" idx="2"/>
            <a:endCxn id="261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61" idx="2"/>
            <a:endCxn id="263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6" name=""/>
          <p:cNvCxnSpPr>
            <a:stCxn id="263" idx="2"/>
            <a:endCxn id="265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8" name=""/>
          <p:cNvCxnSpPr>
            <a:stCxn id="259" idx="0"/>
            <a:endCxn id="267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0" name=""/>
          <p:cNvCxnSpPr>
            <a:stCxn id="267" idx="3"/>
            <a:endCxn id="269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7" idx="2"/>
            <a:endCxn id="271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9" idx="3"/>
            <a:endCxn id="265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5" name=""/>
          <p:cNvCxnSpPr>
            <a:stCxn id="265" idx="2"/>
            <a:endCxn id="274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3"/>
            <a:endCxn id="274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1" idx="3"/>
            <a:endCxn id="265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4"/>
            <a:endCxn id="263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297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300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303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306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310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F431-139C-419B-A5FE-D15E9546B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>
            <a:stCxn id="314" idx="2"/>
            <a:endCxn id="31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8" name=""/>
          <p:cNvCxnSpPr>
            <a:stCxn id="315" idx="2"/>
            <a:endCxn id="31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7" idx="2"/>
            <a:endCxn id="31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2" name=""/>
          <p:cNvCxnSpPr>
            <a:stCxn id="319" idx="2"/>
            <a:endCxn id="32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315" idx="0"/>
            <a:endCxn id="32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6" name=""/>
          <p:cNvCxnSpPr>
            <a:stCxn id="323" idx="3"/>
            <a:endCxn id="32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8" name=""/>
          <p:cNvCxnSpPr>
            <a:stCxn id="323" idx="2"/>
            <a:endCxn id="32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5" idx="3"/>
            <a:endCxn id="32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"/>
          <p:cNvCxnSpPr>
            <a:stCxn id="321" idx="2"/>
            <a:endCxn id="33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7" idx="3"/>
            <a:endCxn id="33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17" idx="3"/>
            <a:endCxn id="32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25" idx="4"/>
            <a:endCxn id="31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353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356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359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362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366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369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372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E996-812F-4769-A94E-9F1029F341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8" name=""/>
          <p:cNvCxnSpPr>
            <a:stCxn id="376" idx="2"/>
            <a:endCxn id="377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7" idx="2"/>
            <a:endCxn id="379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2" name=""/>
          <p:cNvCxnSpPr>
            <a:stCxn id="379" idx="2"/>
            <a:endCxn id="381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4" name=""/>
          <p:cNvCxnSpPr>
            <a:stCxn id="381" idx="2"/>
            <a:endCxn id="383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stCxn id="377" idx="0"/>
            <a:endCxn id="385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85" idx="3"/>
            <a:endCxn id="387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0" name=""/>
          <p:cNvCxnSpPr>
            <a:stCxn id="385" idx="2"/>
            <a:endCxn id="389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>
            <a:stCxn id="387" idx="3"/>
            <a:endCxn id="383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2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3" name=""/>
          <p:cNvCxnSpPr>
            <a:stCxn id="383" idx="2"/>
            <a:endCxn id="392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89" idx="3"/>
            <a:endCxn id="392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9" idx="3"/>
            <a:endCxn id="383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87" idx="4"/>
            <a:endCxn id="381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415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418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421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424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427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9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431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434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437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440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A7EE-AC96-4F8F-9E2B-E7D8E19782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44" idx="2"/>
            <a:endCxn id="445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8" name=""/>
          <p:cNvCxnSpPr>
            <a:stCxn id="445" idx="2"/>
            <a:endCxn id="447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0" name=""/>
          <p:cNvCxnSpPr>
            <a:stCxn id="447" idx="2"/>
            <a:endCxn id="449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2" name=""/>
          <p:cNvCxnSpPr>
            <a:stCxn id="449" idx="2"/>
            <a:endCxn id="451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4" name=""/>
          <p:cNvCxnSpPr>
            <a:stCxn id="445" idx="0"/>
            <a:endCxn id="453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3" idx="3"/>
            <a:endCxn id="455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53" idx="2"/>
            <a:endCxn id="457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55" idx="3"/>
            <a:endCxn id="451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1" name=""/>
          <p:cNvCxnSpPr>
            <a:stCxn id="451" idx="2"/>
            <a:endCxn id="460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7" idx="3"/>
            <a:endCxn id="460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47" idx="3"/>
            <a:endCxn id="451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4"/>
            <a:endCxn id="449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483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486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489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492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495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499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502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505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508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511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ECF7-8146-4257-B980-BD1B19516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PERT/CPM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679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ERT/CPM algorithm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 topological order of vertices: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B C D E F G H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itializ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for all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der vertic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n topological order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each edg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-w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e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w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x(fin[w]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[v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[w]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131120" y="554976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405160" y="554976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2"/>
            <a:endCxn id="516" idx="6"/>
          </p:cNvCxnSpPr>
          <p:nvPr/>
        </p:nvCxnSpPr>
        <p:spPr>
          <a:xfrm>
            <a:off x="1460520" y="5708160"/>
            <a:ext cx="937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8" name=""/>
          <p:cNvSpPr/>
          <p:nvPr/>
        </p:nvSpPr>
        <p:spPr>
          <a:xfrm flipH="1">
            <a:off x="3543480" y="5545080"/>
            <a:ext cx="32040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9" name=""/>
          <p:cNvCxnSpPr>
            <a:stCxn id="516" idx="2"/>
            <a:endCxn id="518" idx="6"/>
          </p:cNvCxnSpPr>
          <p:nvPr/>
        </p:nvCxnSpPr>
        <p:spPr>
          <a:xfrm flipV="1">
            <a:off x="2733840" y="5703120"/>
            <a:ext cx="8020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 flipH="1">
            <a:off x="4965840" y="5549760"/>
            <a:ext cx="320400" cy="3207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18" idx="2"/>
            <a:endCxn id="520" idx="6"/>
          </p:cNvCxnSpPr>
          <p:nvPr/>
        </p:nvCxnSpPr>
        <p:spPr>
          <a:xfrm>
            <a:off x="3871440" y="5703480"/>
            <a:ext cx="108684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"/>
          <p:cNvSpPr/>
          <p:nvPr/>
        </p:nvSpPr>
        <p:spPr>
          <a:xfrm flipH="1">
            <a:off x="6356520" y="5545080"/>
            <a:ext cx="32040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3" name=""/>
          <p:cNvCxnSpPr>
            <a:stCxn id="520" idx="2"/>
            <a:endCxn id="522" idx="6"/>
          </p:cNvCxnSpPr>
          <p:nvPr/>
        </p:nvCxnSpPr>
        <p:spPr>
          <a:xfrm flipV="1">
            <a:off x="5294160" y="5703120"/>
            <a:ext cx="105480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4" name=""/>
          <p:cNvSpPr/>
          <p:nvPr/>
        </p:nvSpPr>
        <p:spPr>
          <a:xfrm flipH="1">
            <a:off x="3080520" y="3814920"/>
            <a:ext cx="320760" cy="32040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>
            <a:stCxn id="516" idx="0"/>
            <a:endCxn id="524" idx="5"/>
          </p:cNvCxnSpPr>
          <p:nvPr/>
        </p:nvCxnSpPr>
        <p:spPr>
          <a:xfrm flipV="1">
            <a:off x="2565000" y="4095000"/>
            <a:ext cx="562680" cy="144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 flipH="1">
            <a:off x="4420440" y="445284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7" name=""/>
          <p:cNvCxnSpPr>
            <a:stCxn id="524" idx="3"/>
            <a:endCxn id="526" idx="7"/>
          </p:cNvCxnSpPr>
          <p:nvPr/>
        </p:nvCxnSpPr>
        <p:spPr>
          <a:xfrm>
            <a:off x="3354120" y="4095720"/>
            <a:ext cx="11131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 flipH="1">
            <a:off x="4926960" y="3635280"/>
            <a:ext cx="320760" cy="320760"/>
          </a:xfrm>
          <a:prstGeom prst="ellipse">
            <a:avLst/>
          </a:prstGeom>
          <a:solidFill>
            <a:srgbClr val="01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9" name=""/>
          <p:cNvCxnSpPr>
            <a:stCxn id="524" idx="2"/>
            <a:endCxn id="528" idx="6"/>
          </p:cNvCxnSpPr>
          <p:nvPr/>
        </p:nvCxnSpPr>
        <p:spPr>
          <a:xfrm flipV="1">
            <a:off x="3409920" y="3793320"/>
            <a:ext cx="1510560" cy="1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26" idx="3"/>
            <a:endCxn id="522" idx="7"/>
          </p:cNvCxnSpPr>
          <p:nvPr/>
        </p:nvCxnSpPr>
        <p:spPr>
          <a:xfrm>
            <a:off x="4694400" y="4733640"/>
            <a:ext cx="1708560" cy="849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 flipH="1">
            <a:off x="7509600" y="5545080"/>
            <a:ext cx="320760" cy="3207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2" name=""/>
          <p:cNvCxnSpPr>
            <a:stCxn id="522" idx="2"/>
            <a:endCxn id="531" idx="6"/>
          </p:cNvCxnSpPr>
          <p:nvPr/>
        </p:nvCxnSpPr>
        <p:spPr>
          <a:xfrm>
            <a:off x="6684480" y="5703480"/>
            <a:ext cx="81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8" idx="3"/>
            <a:endCxn id="531" idx="7"/>
          </p:cNvCxnSpPr>
          <p:nvPr/>
        </p:nvCxnSpPr>
        <p:spPr>
          <a:xfrm>
            <a:off x="5200560" y="3916440"/>
            <a:ext cx="2356560" cy="166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18" idx="3"/>
            <a:endCxn id="522" idx="5"/>
          </p:cNvCxnSpPr>
          <p:nvPr/>
        </p:nvCxnSpPr>
        <p:spPr>
          <a:xfrm flipH="1" rot="16200000">
            <a:off x="5107680" y="4533840"/>
            <a:ext cx="2160" cy="2586600"/>
          </a:xfrm>
          <a:prstGeom prst="curvedConnector5">
            <a:avLst>
              <a:gd name="adj1" fmla="val 31480000"/>
              <a:gd name="adj2" fmla="val 50000"/>
              <a:gd name="adj3" fmla="val 31480000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26" idx="4"/>
            <a:endCxn id="520" idx="7"/>
          </p:cNvCxnSpPr>
          <p:nvPr/>
        </p:nvCxnSpPr>
        <p:spPr>
          <a:xfrm>
            <a:off x="4581000" y="4780080"/>
            <a:ext cx="430920" cy="80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 flipH="1">
            <a:off x="2417040" y="591336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115440" y="418320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548160" y="59180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293360" y="4756320"/>
            <a:ext cx="36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912560" y="40086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66560" y="593892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372360" y="589932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155600" y="59133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7547040" y="5883120"/>
            <a:ext cx="36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28120" y="525312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60760" y="5232240"/>
            <a:ext cx="36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992120" y="5227560"/>
            <a:ext cx="36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6358680" y="5238720"/>
            <a:ext cx="365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155600" y="522756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20760" y="523548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4952160" y="328140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097080" y="3462480"/>
            <a:ext cx="362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2308320" y="5011560"/>
            <a:ext cx="390240" cy="564480"/>
            <a:chOff x="2308320" y="5011560"/>
            <a:chExt cx="390240" cy="564480"/>
          </a:xfrm>
        </p:grpSpPr>
        <p:sp>
          <p:nvSpPr>
            <p:cNvPr id="554" name=""/>
            <p:cNvSpPr/>
            <p:nvPr/>
          </p:nvSpPr>
          <p:spPr>
            <a:xfrm flipH="1">
              <a:off x="2308320" y="52401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331360" y="501156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029040" y="3214800"/>
            <a:ext cx="410760" cy="564480"/>
            <a:chOff x="3029040" y="3214800"/>
            <a:chExt cx="410760" cy="564480"/>
          </a:xfrm>
        </p:grpSpPr>
        <p:sp>
          <p:nvSpPr>
            <p:cNvPr id="557" name=""/>
            <p:cNvSpPr/>
            <p:nvPr/>
          </p:nvSpPr>
          <p:spPr>
            <a:xfrm flipH="1">
              <a:off x="3072600" y="344340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028680" y="321480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533760" y="4975200"/>
            <a:ext cx="390240" cy="564480"/>
            <a:chOff x="3533760" y="4975200"/>
            <a:chExt cx="390240" cy="564480"/>
          </a:xfrm>
        </p:grpSpPr>
        <p:sp>
          <p:nvSpPr>
            <p:cNvPr id="560" name=""/>
            <p:cNvSpPr/>
            <p:nvPr/>
          </p:nvSpPr>
          <p:spPr>
            <a:xfrm flipH="1">
              <a:off x="3533760" y="520380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556800" y="4975200"/>
              <a:ext cx="366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917960" y="4998960"/>
            <a:ext cx="410760" cy="564480"/>
            <a:chOff x="4917960" y="4998960"/>
            <a:chExt cx="410760" cy="564480"/>
          </a:xfrm>
        </p:grpSpPr>
        <p:sp>
          <p:nvSpPr>
            <p:cNvPr id="563" name=""/>
            <p:cNvSpPr/>
            <p:nvPr/>
          </p:nvSpPr>
          <p:spPr>
            <a:xfrm flipH="1">
              <a:off x="4961520" y="522756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4917600" y="4998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291360" y="4994280"/>
            <a:ext cx="410760" cy="564480"/>
            <a:chOff x="6291360" y="4994280"/>
            <a:chExt cx="410760" cy="564480"/>
          </a:xfrm>
        </p:grpSpPr>
        <p:sp>
          <p:nvSpPr>
            <p:cNvPr id="566" name=""/>
            <p:cNvSpPr/>
            <p:nvPr/>
          </p:nvSpPr>
          <p:spPr>
            <a:xfrm flipH="1">
              <a:off x="6334920" y="522288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91000" y="499428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H="1">
            <a:off x="4444200" y="4157640"/>
            <a:ext cx="366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381560" y="3914640"/>
            <a:ext cx="410760" cy="564480"/>
            <a:chOff x="4381560" y="3914640"/>
            <a:chExt cx="410760" cy="564480"/>
          </a:xfrm>
        </p:grpSpPr>
        <p:sp>
          <p:nvSpPr>
            <p:cNvPr id="570" name=""/>
            <p:cNvSpPr/>
            <p:nvPr/>
          </p:nvSpPr>
          <p:spPr>
            <a:xfrm flipH="1">
              <a:off x="4425120" y="4143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4381200" y="3914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878360" y="3041640"/>
            <a:ext cx="410760" cy="564480"/>
            <a:chOff x="4878360" y="3041640"/>
            <a:chExt cx="410760" cy="564480"/>
          </a:xfrm>
        </p:grpSpPr>
        <p:sp>
          <p:nvSpPr>
            <p:cNvPr id="573" name=""/>
            <p:cNvSpPr/>
            <p:nvPr/>
          </p:nvSpPr>
          <p:spPr>
            <a:xfrm flipH="1">
              <a:off x="4921920" y="327024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878000" y="30416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62600" y="4998960"/>
            <a:ext cx="607680" cy="440640"/>
            <a:chOff x="4962600" y="4998960"/>
            <a:chExt cx="607680" cy="440640"/>
          </a:xfrm>
        </p:grpSpPr>
        <p:sp>
          <p:nvSpPr>
            <p:cNvPr id="576" name=""/>
            <p:cNvSpPr/>
            <p:nvPr/>
          </p:nvSpPr>
          <p:spPr>
            <a:xfrm flipH="1">
              <a:off x="4962600" y="499896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5180760" y="51339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330960" y="4970520"/>
            <a:ext cx="607680" cy="440280"/>
            <a:chOff x="6330960" y="4970520"/>
            <a:chExt cx="607680" cy="440280"/>
          </a:xfrm>
        </p:grpSpPr>
        <p:sp>
          <p:nvSpPr>
            <p:cNvPr id="579" name=""/>
            <p:cNvSpPr/>
            <p:nvPr/>
          </p:nvSpPr>
          <p:spPr>
            <a:xfrm flipH="1">
              <a:off x="6330960" y="497052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549120" y="510516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7446960" y="4995720"/>
            <a:ext cx="410760" cy="564480"/>
            <a:chOff x="7446960" y="4995720"/>
            <a:chExt cx="410760" cy="564480"/>
          </a:xfrm>
        </p:grpSpPr>
        <p:sp>
          <p:nvSpPr>
            <p:cNvPr id="582" name=""/>
            <p:cNvSpPr/>
            <p:nvPr/>
          </p:nvSpPr>
          <p:spPr>
            <a:xfrm flipH="1">
              <a:off x="7490520" y="5224320"/>
              <a:ext cx="366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446600" y="499572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566040" y="5099040"/>
            <a:ext cx="622080" cy="440640"/>
            <a:chOff x="6566040" y="5099040"/>
            <a:chExt cx="622080" cy="440640"/>
          </a:xfrm>
        </p:grpSpPr>
        <p:sp>
          <p:nvSpPr>
            <p:cNvPr id="585" name=""/>
            <p:cNvSpPr/>
            <p:nvPr/>
          </p:nvSpPr>
          <p:spPr>
            <a:xfrm flipH="1">
              <a:off x="6566040" y="5099040"/>
              <a:ext cx="366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798600" y="5234040"/>
              <a:ext cx="38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00"/>
                  </a:solidFill>
                  <a:latin typeface="Comic Sans MS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BCAF-470F-4AAC-9892-0C06F59AA8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20:53Z</dcterms:modified>
  <cp:revision>622</cp:revision>
  <dc:subject/>
  <dc:title>Trees</dc:title>
</cp:coreProperties>
</file>