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3E3C-A81A-4BC5-81D9-178D418C5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12DD-26C2-4B77-8604-540EBF019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EA2D6-5FC0-499A-8DFB-CE8367D3D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1D29-0EE9-46AA-877D-4D1429B79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277F-376C-41C4-87DE-9FE1C1270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9CC2-449F-444D-99EC-2BE8B9AF0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CE37-A500-4655-9ADB-860C4F08E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251E-370D-4674-94CE-A0C8478A3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9771-57B9-4386-9A7D-FF41FA6D5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B291-465B-4111-AF26-38E36888E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575D-2B1F-4D01-BC74-59160CB33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893D-A562-436F-A9CB-6C27C82B1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spcBef>
                <a:spcPts val="224"/>
              </a:spcBef>
              <a:buClr>
                <a:srgbClr val="0066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spcBef>
                <a:spcPts val="224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spcBef>
                <a:spcPts val="224"/>
              </a:spcBef>
              <a:buClr>
                <a:srgbClr val="ff66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spcBef>
                <a:spcPts val="224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spcBef>
                <a:spcPts val="224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9E3F-6BFC-4287-AC50-7B5BB3FF87E5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0000" cy="4178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248520"/>
            <a:ext cx="381240" cy="3045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62485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791320"/>
            <a:ext cx="380880" cy="3045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57913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tion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57913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7913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partitio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DEE3-B288-4F13-92D0-153E00B7F6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905120" y="3657600"/>
            <a:ext cx="1295280" cy="685800"/>
            <a:chOff x="1905120" y="3657600"/>
            <a:chExt cx="1295280" cy="685800"/>
          </a:xfrm>
        </p:grpSpPr>
        <p:sp>
          <p:nvSpPr>
            <p:cNvPr id="303" name=""/>
            <p:cNvSpPr/>
            <p:nvPr/>
          </p:nvSpPr>
          <p:spPr>
            <a:xfrm>
              <a:off x="23623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051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105520" y="3657600"/>
            <a:ext cx="1295280" cy="685800"/>
            <a:chOff x="5105520" y="3657600"/>
            <a:chExt cx="1295280" cy="685800"/>
          </a:xfrm>
        </p:grpSpPr>
        <p:sp>
          <p:nvSpPr>
            <p:cNvPr id="306" name=""/>
            <p:cNvSpPr/>
            <p:nvPr/>
          </p:nvSpPr>
          <p:spPr>
            <a:xfrm>
              <a:off x="55627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55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538A-9673-4333-ADBE-F52CEAFCB7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05120" y="3657600"/>
            <a:ext cx="1295280" cy="685800"/>
            <a:chOff x="1905120" y="3657600"/>
            <a:chExt cx="1295280" cy="685800"/>
          </a:xfrm>
        </p:grpSpPr>
        <p:sp>
          <p:nvSpPr>
            <p:cNvPr id="329" name=""/>
            <p:cNvSpPr/>
            <p:nvPr/>
          </p:nvSpPr>
          <p:spPr>
            <a:xfrm>
              <a:off x="23623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51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le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2EF4-092F-4A7B-8F53-742830706E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1202-8D79-4EB5-8084-C07FCCBFF5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438280" y="3657600"/>
            <a:ext cx="1295280" cy="685800"/>
            <a:chOff x="2438280" y="3657600"/>
            <a:chExt cx="1295280" cy="685800"/>
          </a:xfrm>
        </p:grpSpPr>
        <p:sp>
          <p:nvSpPr>
            <p:cNvPr id="372" name=""/>
            <p:cNvSpPr/>
            <p:nvPr/>
          </p:nvSpPr>
          <p:spPr>
            <a:xfrm>
              <a:off x="28954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4382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2A13-AB73-4359-93FC-39FE3DEE99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438280" y="3657600"/>
            <a:ext cx="1295280" cy="685800"/>
            <a:chOff x="2438280" y="3657600"/>
            <a:chExt cx="1295280" cy="685800"/>
          </a:xfrm>
        </p:grpSpPr>
        <p:sp>
          <p:nvSpPr>
            <p:cNvPr id="395" name=""/>
            <p:cNvSpPr/>
            <p:nvPr/>
          </p:nvSpPr>
          <p:spPr>
            <a:xfrm>
              <a:off x="28954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382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2000" y="3657600"/>
            <a:ext cx="1295280" cy="685800"/>
            <a:chOff x="4572000" y="3657600"/>
            <a:chExt cx="1295280" cy="685800"/>
          </a:xfrm>
        </p:grpSpPr>
        <p:sp>
          <p:nvSpPr>
            <p:cNvPr id="398" name=""/>
            <p:cNvSpPr/>
            <p:nvPr/>
          </p:nvSpPr>
          <p:spPr>
            <a:xfrm>
              <a:off x="50292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874E-8A73-4503-932A-10B5BA2B27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4572000" y="3657600"/>
            <a:ext cx="1295280" cy="685800"/>
            <a:chOff x="4572000" y="3657600"/>
            <a:chExt cx="1295280" cy="685800"/>
          </a:xfrm>
        </p:grpSpPr>
        <p:sp>
          <p:nvSpPr>
            <p:cNvPr id="421" name=""/>
            <p:cNvSpPr/>
            <p:nvPr/>
          </p:nvSpPr>
          <p:spPr>
            <a:xfrm>
              <a:off x="50292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2000" y="36576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E166-61B3-4D40-8570-8E34E73FFC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5B1B-7283-4F8E-BE9B-F7F3B5B610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464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5A8C-A4AC-4FB4-8777-7FD8C85A88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487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038480" y="3657600"/>
            <a:ext cx="1295280" cy="685800"/>
            <a:chOff x="4038480" y="3657600"/>
            <a:chExt cx="1295280" cy="685800"/>
          </a:xfrm>
        </p:grpSpPr>
        <p:sp>
          <p:nvSpPr>
            <p:cNvPr id="490" name=""/>
            <p:cNvSpPr/>
            <p:nvPr/>
          </p:nvSpPr>
          <p:spPr>
            <a:xfrm>
              <a:off x="44956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384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ACCF-B09B-4117-8FBA-00F547483F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1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513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le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BE4A-C101-4E49-90E9-BF4FC6323F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5935-9959-41BB-861F-1AC1AFB39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8660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16292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038480" y="3657600"/>
            <a:ext cx="1295280" cy="685800"/>
            <a:chOff x="4038480" y="3657600"/>
            <a:chExt cx="1295280" cy="685800"/>
          </a:xfrm>
        </p:grpSpPr>
        <p:sp>
          <p:nvSpPr>
            <p:cNvPr id="534" name=""/>
            <p:cNvSpPr/>
            <p:nvPr/>
          </p:nvSpPr>
          <p:spPr>
            <a:xfrm>
              <a:off x="44956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38480" y="36576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9DA9-0894-4F32-910D-A966372529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185D3-B432-42DA-BC08-637F1664B3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505320" y="3657600"/>
            <a:ext cx="1295280" cy="685800"/>
            <a:chOff x="3505320" y="3657600"/>
            <a:chExt cx="1295280" cy="685800"/>
          </a:xfrm>
        </p:grpSpPr>
        <p:sp>
          <p:nvSpPr>
            <p:cNvPr id="579" name=""/>
            <p:cNvSpPr/>
            <p:nvPr/>
          </p:nvSpPr>
          <p:spPr>
            <a:xfrm>
              <a:off x="39625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053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1290-E98B-4E81-AD1E-D66D358E5D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20040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pointers cr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86200" y="4910040"/>
            <a:ext cx="380880" cy="2714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886200" y="4038480"/>
            <a:ext cx="380880" cy="2714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5A8C-E6FD-4120-A587-195D5FB29C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971800" y="3657600"/>
            <a:ext cx="1295280" cy="685800"/>
            <a:chOff x="2971800" y="3657600"/>
            <a:chExt cx="1295280" cy="685800"/>
          </a:xfrm>
        </p:grpSpPr>
        <p:sp>
          <p:nvSpPr>
            <p:cNvPr id="624" name=""/>
            <p:cNvSpPr/>
            <p:nvPr/>
          </p:nvSpPr>
          <p:spPr>
            <a:xfrm>
              <a:off x="34290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9718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04920" y="3657600"/>
            <a:ext cx="1295280" cy="685800"/>
            <a:chOff x="304920" y="3657600"/>
            <a:chExt cx="1295280" cy="685800"/>
          </a:xfrm>
        </p:grpSpPr>
        <p:sp>
          <p:nvSpPr>
            <p:cNvPr id="627" name=""/>
            <p:cNvSpPr/>
            <p:nvPr/>
          </p:nvSpPr>
          <p:spPr>
            <a:xfrm>
              <a:off x="7621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49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A01C-19D1-4009-BA4C-67ADC3C2A7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438280" y="3657600"/>
            <a:ext cx="1295280" cy="685800"/>
            <a:chOff x="2438280" y="3657600"/>
            <a:chExt cx="1295280" cy="685800"/>
          </a:xfrm>
        </p:grpSpPr>
        <p:sp>
          <p:nvSpPr>
            <p:cNvPr id="650" name=""/>
            <p:cNvSpPr/>
            <p:nvPr/>
          </p:nvSpPr>
          <p:spPr>
            <a:xfrm>
              <a:off x="28954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838080" y="3657600"/>
            <a:ext cx="1295280" cy="685800"/>
            <a:chOff x="838080" y="3657600"/>
            <a:chExt cx="1295280" cy="685800"/>
          </a:xfrm>
        </p:grpSpPr>
        <p:sp>
          <p:nvSpPr>
            <p:cNvPr id="653" name=""/>
            <p:cNvSpPr/>
            <p:nvPr/>
          </p:nvSpPr>
          <p:spPr>
            <a:xfrm>
              <a:off x="12952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80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0A3B9-F2E8-4898-B437-5978E73030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3C05-955F-4EF4-A5EF-4BC784C92F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505320" y="3657600"/>
            <a:ext cx="1295280" cy="685800"/>
            <a:chOff x="3505320" y="3657600"/>
            <a:chExt cx="1295280" cy="685800"/>
          </a:xfrm>
        </p:grpSpPr>
        <p:sp>
          <p:nvSpPr>
            <p:cNvPr id="697" name=""/>
            <p:cNvSpPr/>
            <p:nvPr/>
          </p:nvSpPr>
          <p:spPr>
            <a:xfrm>
              <a:off x="39625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053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238880" y="3657600"/>
            <a:ext cx="1295280" cy="685800"/>
            <a:chOff x="7238880" y="3657600"/>
            <a:chExt cx="1295280" cy="685800"/>
          </a:xfrm>
        </p:grpSpPr>
        <p:sp>
          <p:nvSpPr>
            <p:cNvPr id="700" name=""/>
            <p:cNvSpPr/>
            <p:nvPr/>
          </p:nvSpPr>
          <p:spPr>
            <a:xfrm>
              <a:off x="76960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88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8BFD-5DB5-454D-BC4F-0FCC5C8DB4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4038480" y="3657600"/>
            <a:ext cx="1295280" cy="685800"/>
            <a:chOff x="4038480" y="3657600"/>
            <a:chExt cx="1295280" cy="685800"/>
          </a:xfrm>
        </p:grpSpPr>
        <p:sp>
          <p:nvSpPr>
            <p:cNvPr id="725" name=""/>
            <p:cNvSpPr/>
            <p:nvPr/>
          </p:nvSpPr>
          <p:spPr>
            <a:xfrm>
              <a:off x="44956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384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705720" y="3657600"/>
            <a:ext cx="1295280" cy="685800"/>
            <a:chOff x="6705720" y="3657600"/>
            <a:chExt cx="1295280" cy="685800"/>
          </a:xfrm>
        </p:grpSpPr>
        <p:sp>
          <p:nvSpPr>
            <p:cNvPr id="728" name=""/>
            <p:cNvSpPr/>
            <p:nvPr/>
          </p:nvSpPr>
          <p:spPr>
            <a:xfrm>
              <a:off x="71629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057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0747-A7FE-4EC2-B530-3FE46ACACB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4572000" y="3657600"/>
            <a:ext cx="1295280" cy="685800"/>
            <a:chOff x="4572000" y="3657600"/>
            <a:chExt cx="1295280" cy="685800"/>
          </a:xfrm>
        </p:grpSpPr>
        <p:sp>
          <p:nvSpPr>
            <p:cNvPr id="752" name=""/>
            <p:cNvSpPr/>
            <p:nvPr/>
          </p:nvSpPr>
          <p:spPr>
            <a:xfrm>
              <a:off x="50292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720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172200" y="3657600"/>
            <a:ext cx="1295280" cy="685800"/>
            <a:chOff x="6172200" y="3657600"/>
            <a:chExt cx="1295280" cy="685800"/>
          </a:xfrm>
        </p:grpSpPr>
        <p:sp>
          <p:nvSpPr>
            <p:cNvPr id="755" name=""/>
            <p:cNvSpPr/>
            <p:nvPr/>
          </p:nvSpPr>
          <p:spPr>
            <a:xfrm>
              <a:off x="66294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22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E622-5D4D-4508-9F59-C540D91992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89BF-6F4A-46A4-8577-116D08D9E4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lef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ap elements on right with elements in midd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760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2193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952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53080" y="5073480"/>
            <a:ext cx="30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4906800"/>
            <a:ext cx="152280" cy="228600"/>
          </a:xfrm>
          <a:prstGeom prst="upArrow">
            <a:avLst>
              <a:gd name="adj1" fmla="val 38333"/>
              <a:gd name="adj2" fmla="val 46467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5480" y="40384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71800" y="5562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3-way partition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6A6D-2419-4DB0-8777-22AE12C791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165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A1AE-A71E-43D7-8A9D-F21BDA46A3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188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3BD1-65A8-4407-8D0D-F0406795EC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211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9765-11F1-430D-B6AB-AE6FFE6C98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371600" y="3657600"/>
            <a:ext cx="1295280" cy="685800"/>
            <a:chOff x="1371600" y="3657600"/>
            <a:chExt cx="1295280" cy="685800"/>
          </a:xfrm>
        </p:grpSpPr>
        <p:sp>
          <p:nvSpPr>
            <p:cNvPr id="234" name=""/>
            <p:cNvSpPr/>
            <p:nvPr/>
          </p:nvSpPr>
          <p:spPr>
            <a:xfrm>
              <a:off x="182880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7160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38680" y="3657600"/>
            <a:ext cx="1295280" cy="685800"/>
            <a:chOff x="5638680" y="3657600"/>
            <a:chExt cx="1295280" cy="685800"/>
          </a:xfrm>
        </p:grpSpPr>
        <p:sp>
          <p:nvSpPr>
            <p:cNvPr id="237" name=""/>
            <p:cNvSpPr/>
            <p:nvPr/>
          </p:nvSpPr>
          <p:spPr>
            <a:xfrm>
              <a:off x="609588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3868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7265-9E0F-41B8-BC66-8A5E014AAC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8952-AFD6-404E-B2D3-86EAEFB05D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3-Way Partitioning</a:t>
            </a:r>
            <a:endParaRPr b="0" lang="en-US" sz="20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3-way partitioning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oose partitioning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lef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 from right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elem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e to left or right end if equ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spcBef>
                <a:spcPts val="224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eat until pointers cro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  <a:p>
            <a:pPr lvl="1" marL="3459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6271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4449600"/>
            <a:ext cx="533520" cy="3812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98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4449600"/>
            <a:ext cx="53316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10080" y="4449600"/>
            <a:ext cx="5335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7120" y="4449600"/>
            <a:ext cx="53316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4449600"/>
            <a:ext cx="5335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43800" y="4449600"/>
            <a:ext cx="533520" cy="3812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0120" y="5073480"/>
            <a:ext cx="30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96080" y="4906800"/>
            <a:ext cx="152640" cy="228600"/>
          </a:xfrm>
          <a:prstGeom prst="upArrow">
            <a:avLst>
              <a:gd name="adj1" fmla="val 38333"/>
              <a:gd name="adj2" fmla="val 46358"/>
            </a:avLst>
          </a:prstGeom>
          <a:solidFill>
            <a:srgbClr val="00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905120" y="3657600"/>
            <a:ext cx="1295280" cy="685800"/>
            <a:chOff x="1905120" y="3657600"/>
            <a:chExt cx="1295280" cy="685800"/>
          </a:xfrm>
        </p:grpSpPr>
        <p:sp>
          <p:nvSpPr>
            <p:cNvPr id="280" name=""/>
            <p:cNvSpPr/>
            <p:nvPr/>
          </p:nvSpPr>
          <p:spPr>
            <a:xfrm>
              <a:off x="2362320" y="4038840"/>
              <a:ext cx="228600" cy="304560"/>
            </a:xfrm>
            <a:prstGeom prst="downArrow">
              <a:avLst>
                <a:gd name="adj1" fmla="val 50000"/>
                <a:gd name="adj2" fmla="val 33307"/>
              </a:avLst>
            </a:pr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05120" y="3657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Comic Sans MS"/>
                </a:rPr>
                <a:t>swap 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3AEA-C9A9-4B2D-9E6C-4620D5D9B6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9:32:41Z</dcterms:created>
  <dc:creator>Kevin Wayne</dc:creator>
  <dc:description/>
  <dc:language>en-US</dc:language>
  <cp:lastModifiedBy>Kevin Wayne</cp:lastModifiedBy>
  <dcterms:modified xsi:type="dcterms:W3CDTF">2004-03-03T14:01:13Z</dcterms:modified>
  <cp:revision>71</cp:revision>
  <dc:subject/>
  <dc:title>Computability</dc:title>
</cp:coreProperties>
</file>