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15CE-6EBA-4D08-B6A7-EEC85C78D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8CEF-C3CF-41B7-B3E4-A662A8990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B4BA9-91CA-4BD1-8A2E-B10F8AD527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F788-3A5A-4886-8601-06C306759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4F30-3E0F-4273-9EA6-B65F65F2E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29D8-95BC-493A-ADD2-8E2D4E00E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3D529-CE73-47FF-AB81-E4F358FF2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F08C-43B1-446F-8B51-F730A97B9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390F-CB00-4656-A23D-263232E45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152E-7DCE-407E-B05D-E3446B969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910D-A1FA-4DFD-8530-4A6D6D702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79C4-26C6-4EAC-8324-18E4BCE05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spcBef>
                <a:spcPts val="224"/>
              </a:spcBef>
              <a:buClr>
                <a:srgbClr val="0066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spcBef>
                <a:spcPts val="224"/>
              </a:spcBef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spcBef>
                <a:spcPts val="224"/>
              </a:spcBef>
              <a:buClr>
                <a:srgbClr val="ff66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spcBef>
                <a:spcPts val="224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spcBef>
                <a:spcPts val="224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C2CE-3169-4578-9CB3-A15AF4DA1CCD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2340000" cy="41785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6248520"/>
            <a:ext cx="381240" cy="3045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6248520"/>
            <a:ext cx="1981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5791320"/>
            <a:ext cx="380880" cy="3045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5791320"/>
            <a:ext cx="1981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57913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5791320"/>
            <a:ext cx="1981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partitio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3B2A-65D8-46E2-8394-93E23993F5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905120" y="3657600"/>
            <a:ext cx="1295280" cy="685800"/>
            <a:chOff x="1905120" y="3657600"/>
            <a:chExt cx="1295280" cy="685800"/>
          </a:xfrm>
        </p:grpSpPr>
        <p:sp>
          <p:nvSpPr>
            <p:cNvPr id="303" name=""/>
            <p:cNvSpPr/>
            <p:nvPr/>
          </p:nvSpPr>
          <p:spPr>
            <a:xfrm>
              <a:off x="236232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0512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05520" y="3657600"/>
            <a:ext cx="1295280" cy="685800"/>
            <a:chOff x="5105520" y="3657600"/>
            <a:chExt cx="1295280" cy="685800"/>
          </a:xfrm>
        </p:grpSpPr>
        <p:sp>
          <p:nvSpPr>
            <p:cNvPr id="306" name=""/>
            <p:cNvSpPr/>
            <p:nvPr/>
          </p:nvSpPr>
          <p:spPr>
            <a:xfrm>
              <a:off x="556272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0552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9A61-078D-4D69-BF2D-DEC4B3C7DC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05120" y="3657600"/>
            <a:ext cx="1295280" cy="685800"/>
            <a:chOff x="1905120" y="3657600"/>
            <a:chExt cx="1295280" cy="685800"/>
          </a:xfrm>
        </p:grpSpPr>
        <p:sp>
          <p:nvSpPr>
            <p:cNvPr id="329" name=""/>
            <p:cNvSpPr/>
            <p:nvPr/>
          </p:nvSpPr>
          <p:spPr>
            <a:xfrm>
              <a:off x="236232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0512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le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7918-7642-4E12-96C3-B3FE1C3517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952B-F394-4AB0-A20B-00833AF17D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438280" y="3657600"/>
            <a:ext cx="1295280" cy="685800"/>
            <a:chOff x="2438280" y="3657600"/>
            <a:chExt cx="1295280" cy="685800"/>
          </a:xfrm>
        </p:grpSpPr>
        <p:sp>
          <p:nvSpPr>
            <p:cNvPr id="372" name=""/>
            <p:cNvSpPr/>
            <p:nvPr/>
          </p:nvSpPr>
          <p:spPr>
            <a:xfrm>
              <a:off x="28954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43828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2195-DD80-4D71-A212-99066D4F78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438280" y="3657600"/>
            <a:ext cx="1295280" cy="685800"/>
            <a:chOff x="2438280" y="3657600"/>
            <a:chExt cx="1295280" cy="685800"/>
          </a:xfrm>
        </p:grpSpPr>
        <p:sp>
          <p:nvSpPr>
            <p:cNvPr id="395" name=""/>
            <p:cNvSpPr/>
            <p:nvPr/>
          </p:nvSpPr>
          <p:spPr>
            <a:xfrm>
              <a:off x="28954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3828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572000" y="3657600"/>
            <a:ext cx="1295280" cy="685800"/>
            <a:chOff x="4572000" y="3657600"/>
            <a:chExt cx="1295280" cy="685800"/>
          </a:xfrm>
        </p:grpSpPr>
        <p:sp>
          <p:nvSpPr>
            <p:cNvPr id="398" name=""/>
            <p:cNvSpPr/>
            <p:nvPr/>
          </p:nvSpPr>
          <p:spPr>
            <a:xfrm>
              <a:off x="50292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20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8DC0-525F-4C4B-A3BC-A64941559F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4572000" y="3657600"/>
            <a:ext cx="1295280" cy="685800"/>
            <a:chOff x="4572000" y="3657600"/>
            <a:chExt cx="1295280" cy="685800"/>
          </a:xfrm>
        </p:grpSpPr>
        <p:sp>
          <p:nvSpPr>
            <p:cNvPr id="421" name=""/>
            <p:cNvSpPr/>
            <p:nvPr/>
          </p:nvSpPr>
          <p:spPr>
            <a:xfrm>
              <a:off x="50292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72000" y="36576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r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A316-62D6-455A-AD56-915E2D297F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0866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1629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B7513-F595-4CB2-A18E-5AFC2C0976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21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0866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1629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971800" y="3657600"/>
            <a:ext cx="1295280" cy="685800"/>
            <a:chOff x="2971800" y="3657600"/>
            <a:chExt cx="1295280" cy="685800"/>
          </a:xfrm>
        </p:grpSpPr>
        <p:sp>
          <p:nvSpPr>
            <p:cNvPr id="464" name=""/>
            <p:cNvSpPr/>
            <p:nvPr/>
          </p:nvSpPr>
          <p:spPr>
            <a:xfrm>
              <a:off x="34290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718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F5647-181F-4579-9A1F-4205322AD8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621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866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971800" y="3657600"/>
            <a:ext cx="1295280" cy="685800"/>
            <a:chOff x="2971800" y="3657600"/>
            <a:chExt cx="1295280" cy="685800"/>
          </a:xfrm>
        </p:grpSpPr>
        <p:sp>
          <p:nvSpPr>
            <p:cNvPr id="487" name=""/>
            <p:cNvSpPr/>
            <p:nvPr/>
          </p:nvSpPr>
          <p:spPr>
            <a:xfrm>
              <a:off x="34290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718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038480" y="3657600"/>
            <a:ext cx="1295280" cy="685800"/>
            <a:chOff x="4038480" y="3657600"/>
            <a:chExt cx="1295280" cy="685800"/>
          </a:xfrm>
        </p:grpSpPr>
        <p:sp>
          <p:nvSpPr>
            <p:cNvPr id="490" name=""/>
            <p:cNvSpPr/>
            <p:nvPr/>
          </p:nvSpPr>
          <p:spPr>
            <a:xfrm>
              <a:off x="44956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3848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B920-75FA-4DE1-87B1-1028E7003A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621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1629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971800" y="3657600"/>
            <a:ext cx="1295280" cy="685800"/>
            <a:chOff x="2971800" y="3657600"/>
            <a:chExt cx="1295280" cy="685800"/>
          </a:xfrm>
        </p:grpSpPr>
        <p:sp>
          <p:nvSpPr>
            <p:cNvPr id="513" name=""/>
            <p:cNvSpPr/>
            <p:nvPr/>
          </p:nvSpPr>
          <p:spPr>
            <a:xfrm>
              <a:off x="34290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le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62D19-BFC1-485A-8721-71C8F1FBA8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D109-C415-412E-AECF-99831D73EB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0866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1629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4038480" y="3657600"/>
            <a:ext cx="1295280" cy="685800"/>
            <a:chOff x="4038480" y="3657600"/>
            <a:chExt cx="1295280" cy="685800"/>
          </a:xfrm>
        </p:grpSpPr>
        <p:sp>
          <p:nvSpPr>
            <p:cNvPr id="534" name=""/>
            <p:cNvSpPr/>
            <p:nvPr/>
          </p:nvSpPr>
          <p:spPr>
            <a:xfrm>
              <a:off x="44956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38480" y="36576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r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172B-7F5A-4630-8C83-F59F3292C4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76E8-8EBD-497E-B01B-B0996D1D92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3505320" y="3657600"/>
            <a:ext cx="1295280" cy="685800"/>
            <a:chOff x="3505320" y="3657600"/>
            <a:chExt cx="1295280" cy="685800"/>
          </a:xfrm>
        </p:grpSpPr>
        <p:sp>
          <p:nvSpPr>
            <p:cNvPr id="579" name=""/>
            <p:cNvSpPr/>
            <p:nvPr/>
          </p:nvSpPr>
          <p:spPr>
            <a:xfrm>
              <a:off x="396252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0532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B38B6-5CB9-4617-867E-AAEA32A402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00400" y="5562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pointers cr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86200" y="4910040"/>
            <a:ext cx="380880" cy="2714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886200" y="4038480"/>
            <a:ext cx="380880" cy="2714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92207-BD3F-4C25-A3F0-9DD2D7B4E5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lef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righ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606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2971800" y="3657600"/>
            <a:ext cx="1295280" cy="685800"/>
            <a:chOff x="2971800" y="3657600"/>
            <a:chExt cx="1295280" cy="685800"/>
          </a:xfrm>
        </p:grpSpPr>
        <p:sp>
          <p:nvSpPr>
            <p:cNvPr id="624" name=""/>
            <p:cNvSpPr/>
            <p:nvPr/>
          </p:nvSpPr>
          <p:spPr>
            <a:xfrm>
              <a:off x="34290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9718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04920" y="3657600"/>
            <a:ext cx="1295280" cy="685800"/>
            <a:chOff x="304920" y="3657600"/>
            <a:chExt cx="1295280" cy="685800"/>
          </a:xfrm>
        </p:grpSpPr>
        <p:sp>
          <p:nvSpPr>
            <p:cNvPr id="627" name=""/>
            <p:cNvSpPr/>
            <p:nvPr/>
          </p:nvSpPr>
          <p:spPr>
            <a:xfrm>
              <a:off x="76212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0492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FB41-89B5-45C4-A76B-3F21F5CBC4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lef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righ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2438280" y="3657600"/>
            <a:ext cx="1295280" cy="685800"/>
            <a:chOff x="2438280" y="3657600"/>
            <a:chExt cx="1295280" cy="685800"/>
          </a:xfrm>
        </p:grpSpPr>
        <p:sp>
          <p:nvSpPr>
            <p:cNvPr id="650" name=""/>
            <p:cNvSpPr/>
            <p:nvPr/>
          </p:nvSpPr>
          <p:spPr>
            <a:xfrm>
              <a:off x="28954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43828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838080" y="3657600"/>
            <a:ext cx="1295280" cy="685800"/>
            <a:chOff x="838080" y="3657600"/>
            <a:chExt cx="1295280" cy="685800"/>
          </a:xfrm>
        </p:grpSpPr>
        <p:sp>
          <p:nvSpPr>
            <p:cNvPr id="653" name=""/>
            <p:cNvSpPr/>
            <p:nvPr/>
          </p:nvSpPr>
          <p:spPr>
            <a:xfrm>
              <a:off x="12952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808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684B-E7F4-4ED0-93CA-A1598C6F5C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lef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righ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895480" y="40384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26E4-5CD2-496C-B0BB-4EAFF61F1A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lef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righ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3505320" y="3657600"/>
            <a:ext cx="1295280" cy="685800"/>
            <a:chOff x="3505320" y="3657600"/>
            <a:chExt cx="1295280" cy="685800"/>
          </a:xfrm>
        </p:grpSpPr>
        <p:sp>
          <p:nvSpPr>
            <p:cNvPr id="697" name=""/>
            <p:cNvSpPr/>
            <p:nvPr/>
          </p:nvSpPr>
          <p:spPr>
            <a:xfrm>
              <a:off x="396252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0532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7238880" y="3657600"/>
            <a:ext cx="1295280" cy="685800"/>
            <a:chOff x="7238880" y="3657600"/>
            <a:chExt cx="1295280" cy="685800"/>
          </a:xfrm>
        </p:grpSpPr>
        <p:sp>
          <p:nvSpPr>
            <p:cNvPr id="700" name=""/>
            <p:cNvSpPr/>
            <p:nvPr/>
          </p:nvSpPr>
          <p:spPr>
            <a:xfrm>
              <a:off x="76960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3888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2895480" y="40384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68CDB-5400-45F6-AE8A-2923167421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lef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righ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706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4038480" y="3657600"/>
            <a:ext cx="1295280" cy="685800"/>
            <a:chOff x="4038480" y="3657600"/>
            <a:chExt cx="1295280" cy="685800"/>
          </a:xfrm>
        </p:grpSpPr>
        <p:sp>
          <p:nvSpPr>
            <p:cNvPr id="725" name=""/>
            <p:cNvSpPr/>
            <p:nvPr/>
          </p:nvSpPr>
          <p:spPr>
            <a:xfrm>
              <a:off x="44956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03848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705720" y="3657600"/>
            <a:ext cx="1295280" cy="685800"/>
            <a:chOff x="6705720" y="3657600"/>
            <a:chExt cx="1295280" cy="685800"/>
          </a:xfrm>
        </p:grpSpPr>
        <p:sp>
          <p:nvSpPr>
            <p:cNvPr id="728" name=""/>
            <p:cNvSpPr/>
            <p:nvPr/>
          </p:nvSpPr>
          <p:spPr>
            <a:xfrm>
              <a:off x="716292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0572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2895480" y="40384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634C-E4F1-4185-9916-99B9EFD950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lef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righ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4572000" y="3657600"/>
            <a:ext cx="1295280" cy="685800"/>
            <a:chOff x="4572000" y="3657600"/>
            <a:chExt cx="1295280" cy="685800"/>
          </a:xfrm>
        </p:grpSpPr>
        <p:sp>
          <p:nvSpPr>
            <p:cNvPr id="752" name=""/>
            <p:cNvSpPr/>
            <p:nvPr/>
          </p:nvSpPr>
          <p:spPr>
            <a:xfrm>
              <a:off x="50292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720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6172200" y="3657600"/>
            <a:ext cx="1295280" cy="685800"/>
            <a:chOff x="6172200" y="3657600"/>
            <a:chExt cx="1295280" cy="685800"/>
          </a:xfrm>
        </p:grpSpPr>
        <p:sp>
          <p:nvSpPr>
            <p:cNvPr id="755" name=""/>
            <p:cNvSpPr/>
            <p:nvPr/>
          </p:nvSpPr>
          <p:spPr>
            <a:xfrm>
              <a:off x="66294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722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2895480" y="40384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EDC5-92FC-4F31-A64D-CB2518712F1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2F3E-2D39-4E9C-8928-B97D25279F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lef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righ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029200" y="40384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895480" y="40384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971800" y="5562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3-way partition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E812C-3EAA-4E7E-ACA2-F4056CA414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71600" y="3657600"/>
            <a:ext cx="1295280" cy="685800"/>
            <a:chOff x="1371600" y="3657600"/>
            <a:chExt cx="1295280" cy="685800"/>
          </a:xfrm>
        </p:grpSpPr>
        <p:sp>
          <p:nvSpPr>
            <p:cNvPr id="165" name=""/>
            <p:cNvSpPr/>
            <p:nvPr/>
          </p:nvSpPr>
          <p:spPr>
            <a:xfrm>
              <a:off x="18288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FCAC-1688-43D9-9D30-B2B5CB796C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371600" y="3657600"/>
            <a:ext cx="1295280" cy="685800"/>
            <a:chOff x="1371600" y="3657600"/>
            <a:chExt cx="1295280" cy="685800"/>
          </a:xfrm>
        </p:grpSpPr>
        <p:sp>
          <p:nvSpPr>
            <p:cNvPr id="188" name=""/>
            <p:cNvSpPr/>
            <p:nvPr/>
          </p:nvSpPr>
          <p:spPr>
            <a:xfrm>
              <a:off x="18288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F01C-A6C3-4BD9-A0A2-68176BD0EF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371600" y="3657600"/>
            <a:ext cx="1295280" cy="685800"/>
            <a:chOff x="1371600" y="3657600"/>
            <a:chExt cx="1295280" cy="685800"/>
          </a:xfrm>
        </p:grpSpPr>
        <p:sp>
          <p:nvSpPr>
            <p:cNvPr id="211" name=""/>
            <p:cNvSpPr/>
            <p:nvPr/>
          </p:nvSpPr>
          <p:spPr>
            <a:xfrm>
              <a:off x="18288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716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3A571-400C-41AF-AC07-BF555371E4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371600" y="3657600"/>
            <a:ext cx="1295280" cy="685800"/>
            <a:chOff x="1371600" y="3657600"/>
            <a:chExt cx="1295280" cy="685800"/>
          </a:xfrm>
        </p:grpSpPr>
        <p:sp>
          <p:nvSpPr>
            <p:cNvPr id="234" name=""/>
            <p:cNvSpPr/>
            <p:nvPr/>
          </p:nvSpPr>
          <p:spPr>
            <a:xfrm>
              <a:off x="18288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716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638680" y="3657600"/>
            <a:ext cx="1295280" cy="685800"/>
            <a:chOff x="5638680" y="3657600"/>
            <a:chExt cx="1295280" cy="685800"/>
          </a:xfrm>
        </p:grpSpPr>
        <p:sp>
          <p:nvSpPr>
            <p:cNvPr id="237" name=""/>
            <p:cNvSpPr/>
            <p:nvPr/>
          </p:nvSpPr>
          <p:spPr>
            <a:xfrm>
              <a:off x="60958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3868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ED96-09EA-44E2-A9EB-5E570A8371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D016-4010-487F-967F-D4FA0DF4E2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905120" y="3657600"/>
            <a:ext cx="1295280" cy="685800"/>
            <a:chOff x="1905120" y="3657600"/>
            <a:chExt cx="1295280" cy="685800"/>
          </a:xfrm>
        </p:grpSpPr>
        <p:sp>
          <p:nvSpPr>
            <p:cNvPr id="280" name=""/>
            <p:cNvSpPr/>
            <p:nvPr/>
          </p:nvSpPr>
          <p:spPr>
            <a:xfrm>
              <a:off x="236232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0512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D837-825F-4D19-A639-61E461D1DE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19:32:41Z</dcterms:created>
  <dc:creator>Kevin Wayne</dc:creator>
  <dc:description/>
  <dc:language>en-US</dc:language>
  <cp:lastModifiedBy>Kevin Wayne</cp:lastModifiedBy>
  <dcterms:modified xsi:type="dcterms:W3CDTF">2004-03-03T14:01:13Z</dcterms:modified>
  <cp:revision>71</cp:revision>
  <dc:subject/>
  <dc:title>Computability</dc:title>
</cp:coreProperties>
</file>