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F99E-D735-4318-8BB0-01E484ADC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D63A-4FBE-4A4C-B8DD-D351FDF8A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C1DA-B685-48AF-B95E-0D8B72950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4C49-1A9A-4831-B388-21FE302F0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CA4A-9843-4651-A4EF-8DA56B24C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8053-D4BD-4C71-B03D-9FBC56C87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8BD6-8300-4C9D-A18C-464B6EFCA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1454-E103-4A9B-A551-F90E34399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844A-C6B5-4E86-8FF4-C4934774C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9319-AEC6-4DFE-9E4D-30378CEDB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39C0-F9DF-4C83-96AB-E92868116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4180-C137-438B-B2C5-24C9D3285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spcBef>
                <a:spcPts val="224"/>
              </a:spcBef>
              <a:buClr>
                <a:srgbClr val="0066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spcBef>
                <a:spcPts val="224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spcBef>
                <a:spcPts val="224"/>
              </a:spcBef>
              <a:buClr>
                <a:srgbClr val="ff66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spcBef>
                <a:spcPts val="224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spcBef>
                <a:spcPts val="224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F827-DEB5-45CC-889A-949CAB895D2E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0000" cy="4178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248520"/>
            <a:ext cx="381240" cy="3045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624852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5791320"/>
            <a:ext cx="380880" cy="3045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579132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57913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79132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partitio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7B5B-A4C6-427C-95A3-01A58FED16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905120" y="3657600"/>
            <a:ext cx="1295280" cy="685800"/>
            <a:chOff x="1905120" y="3657600"/>
            <a:chExt cx="1295280" cy="685800"/>
          </a:xfrm>
        </p:grpSpPr>
        <p:sp>
          <p:nvSpPr>
            <p:cNvPr id="303" name=""/>
            <p:cNvSpPr/>
            <p:nvPr/>
          </p:nvSpPr>
          <p:spPr>
            <a:xfrm>
              <a:off x="23623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051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05520" y="3657600"/>
            <a:ext cx="1295280" cy="685800"/>
            <a:chOff x="5105520" y="3657600"/>
            <a:chExt cx="1295280" cy="685800"/>
          </a:xfrm>
        </p:grpSpPr>
        <p:sp>
          <p:nvSpPr>
            <p:cNvPr id="306" name=""/>
            <p:cNvSpPr/>
            <p:nvPr/>
          </p:nvSpPr>
          <p:spPr>
            <a:xfrm>
              <a:off x="55627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055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E4A1-4512-4504-8219-F6BA1C858A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05120" y="3657600"/>
            <a:ext cx="1295280" cy="685800"/>
            <a:chOff x="1905120" y="3657600"/>
            <a:chExt cx="1295280" cy="685800"/>
          </a:xfrm>
        </p:grpSpPr>
        <p:sp>
          <p:nvSpPr>
            <p:cNvPr id="329" name=""/>
            <p:cNvSpPr/>
            <p:nvPr/>
          </p:nvSpPr>
          <p:spPr>
            <a:xfrm>
              <a:off x="23623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051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le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A0D1-CCE8-4D46-9632-3D6584B1B2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8FA9-0ED4-4023-8D9D-F07FBEE811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438280" y="3657600"/>
            <a:ext cx="1295280" cy="685800"/>
            <a:chOff x="2438280" y="3657600"/>
            <a:chExt cx="1295280" cy="685800"/>
          </a:xfrm>
        </p:grpSpPr>
        <p:sp>
          <p:nvSpPr>
            <p:cNvPr id="372" name=""/>
            <p:cNvSpPr/>
            <p:nvPr/>
          </p:nvSpPr>
          <p:spPr>
            <a:xfrm>
              <a:off x="28954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382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5704-EDC8-47F2-8590-43CDF121F4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438280" y="3657600"/>
            <a:ext cx="1295280" cy="685800"/>
            <a:chOff x="2438280" y="3657600"/>
            <a:chExt cx="1295280" cy="685800"/>
          </a:xfrm>
        </p:grpSpPr>
        <p:sp>
          <p:nvSpPr>
            <p:cNvPr id="395" name=""/>
            <p:cNvSpPr/>
            <p:nvPr/>
          </p:nvSpPr>
          <p:spPr>
            <a:xfrm>
              <a:off x="28954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82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2000" y="3657600"/>
            <a:ext cx="1295280" cy="685800"/>
            <a:chOff x="4572000" y="3657600"/>
            <a:chExt cx="1295280" cy="685800"/>
          </a:xfrm>
        </p:grpSpPr>
        <p:sp>
          <p:nvSpPr>
            <p:cNvPr id="398" name=""/>
            <p:cNvSpPr/>
            <p:nvPr/>
          </p:nvSpPr>
          <p:spPr>
            <a:xfrm>
              <a:off x="50292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4CF6-0D8D-47C6-A7B9-BAF8033CD5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4572000" y="3657600"/>
            <a:ext cx="1295280" cy="685800"/>
            <a:chOff x="4572000" y="3657600"/>
            <a:chExt cx="1295280" cy="685800"/>
          </a:xfrm>
        </p:grpSpPr>
        <p:sp>
          <p:nvSpPr>
            <p:cNvPr id="421" name=""/>
            <p:cNvSpPr/>
            <p:nvPr/>
          </p:nvSpPr>
          <p:spPr>
            <a:xfrm>
              <a:off x="50292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72000" y="36576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48C4-3C90-4E78-ACDD-5EB435F6BF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EECB-9E58-414A-8DB8-224ECD353A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971800" y="3657600"/>
            <a:ext cx="1295280" cy="685800"/>
            <a:chOff x="2971800" y="3657600"/>
            <a:chExt cx="1295280" cy="685800"/>
          </a:xfrm>
        </p:grpSpPr>
        <p:sp>
          <p:nvSpPr>
            <p:cNvPr id="464" name=""/>
            <p:cNvSpPr/>
            <p:nvPr/>
          </p:nvSpPr>
          <p:spPr>
            <a:xfrm>
              <a:off x="34290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718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45F4-3EE0-4542-B7B8-90F1197A14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971800" y="3657600"/>
            <a:ext cx="1295280" cy="685800"/>
            <a:chOff x="2971800" y="3657600"/>
            <a:chExt cx="1295280" cy="685800"/>
          </a:xfrm>
        </p:grpSpPr>
        <p:sp>
          <p:nvSpPr>
            <p:cNvPr id="487" name=""/>
            <p:cNvSpPr/>
            <p:nvPr/>
          </p:nvSpPr>
          <p:spPr>
            <a:xfrm>
              <a:off x="34290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038480" y="3657600"/>
            <a:ext cx="1295280" cy="685800"/>
            <a:chOff x="4038480" y="3657600"/>
            <a:chExt cx="1295280" cy="685800"/>
          </a:xfrm>
        </p:grpSpPr>
        <p:sp>
          <p:nvSpPr>
            <p:cNvPr id="490" name=""/>
            <p:cNvSpPr/>
            <p:nvPr/>
          </p:nvSpPr>
          <p:spPr>
            <a:xfrm>
              <a:off x="44956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384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456A-B1EC-496B-B36D-C60A2068E3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971800" y="3657600"/>
            <a:ext cx="1295280" cy="685800"/>
            <a:chOff x="2971800" y="3657600"/>
            <a:chExt cx="1295280" cy="685800"/>
          </a:xfrm>
        </p:grpSpPr>
        <p:sp>
          <p:nvSpPr>
            <p:cNvPr id="513" name=""/>
            <p:cNvSpPr/>
            <p:nvPr/>
          </p:nvSpPr>
          <p:spPr>
            <a:xfrm>
              <a:off x="34290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le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8406-4C0A-4037-AE35-C3AEA0858A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C9BE-8E29-4EC6-9320-42EAF3D2F5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038480" y="3657600"/>
            <a:ext cx="1295280" cy="685800"/>
            <a:chOff x="4038480" y="3657600"/>
            <a:chExt cx="1295280" cy="685800"/>
          </a:xfrm>
        </p:grpSpPr>
        <p:sp>
          <p:nvSpPr>
            <p:cNvPr id="534" name=""/>
            <p:cNvSpPr/>
            <p:nvPr/>
          </p:nvSpPr>
          <p:spPr>
            <a:xfrm>
              <a:off x="44956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38480" y="36576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91B1-7490-440F-AAEE-55A9A477CA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BEDA-8895-4DF6-B40D-3A8214E06F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505320" y="3657600"/>
            <a:ext cx="1295280" cy="685800"/>
            <a:chOff x="3505320" y="3657600"/>
            <a:chExt cx="1295280" cy="685800"/>
          </a:xfrm>
        </p:grpSpPr>
        <p:sp>
          <p:nvSpPr>
            <p:cNvPr id="579" name=""/>
            <p:cNvSpPr/>
            <p:nvPr/>
          </p:nvSpPr>
          <p:spPr>
            <a:xfrm>
              <a:off x="39625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053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E057-7274-4D77-96DC-B5AEE67BDA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00400" y="5562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pointers cr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86200" y="4910040"/>
            <a:ext cx="380880" cy="2714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86200" y="4038480"/>
            <a:ext cx="380880" cy="2714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D28B-300E-4369-930F-223AD060E9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971800" y="3657600"/>
            <a:ext cx="1295280" cy="685800"/>
            <a:chOff x="2971800" y="3657600"/>
            <a:chExt cx="1295280" cy="685800"/>
          </a:xfrm>
        </p:grpSpPr>
        <p:sp>
          <p:nvSpPr>
            <p:cNvPr id="624" name=""/>
            <p:cNvSpPr/>
            <p:nvPr/>
          </p:nvSpPr>
          <p:spPr>
            <a:xfrm>
              <a:off x="34290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718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04920" y="3657600"/>
            <a:ext cx="1295280" cy="685800"/>
            <a:chOff x="304920" y="3657600"/>
            <a:chExt cx="1295280" cy="685800"/>
          </a:xfrm>
        </p:grpSpPr>
        <p:sp>
          <p:nvSpPr>
            <p:cNvPr id="627" name=""/>
            <p:cNvSpPr/>
            <p:nvPr/>
          </p:nvSpPr>
          <p:spPr>
            <a:xfrm>
              <a:off x="7621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49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26F8-6C88-4B9D-813D-3A8E8F348B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438280" y="3657600"/>
            <a:ext cx="1295280" cy="685800"/>
            <a:chOff x="2438280" y="3657600"/>
            <a:chExt cx="1295280" cy="685800"/>
          </a:xfrm>
        </p:grpSpPr>
        <p:sp>
          <p:nvSpPr>
            <p:cNvPr id="650" name=""/>
            <p:cNvSpPr/>
            <p:nvPr/>
          </p:nvSpPr>
          <p:spPr>
            <a:xfrm>
              <a:off x="28954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382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838080" y="3657600"/>
            <a:ext cx="1295280" cy="685800"/>
            <a:chOff x="838080" y="3657600"/>
            <a:chExt cx="1295280" cy="685800"/>
          </a:xfrm>
        </p:grpSpPr>
        <p:sp>
          <p:nvSpPr>
            <p:cNvPr id="653" name=""/>
            <p:cNvSpPr/>
            <p:nvPr/>
          </p:nvSpPr>
          <p:spPr>
            <a:xfrm>
              <a:off x="12952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80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6B3C-C139-409D-984B-E15A072BAF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1C2F-7FA4-4B3F-B174-452F587D8A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3505320" y="3657600"/>
            <a:ext cx="1295280" cy="685800"/>
            <a:chOff x="3505320" y="3657600"/>
            <a:chExt cx="1295280" cy="685800"/>
          </a:xfrm>
        </p:grpSpPr>
        <p:sp>
          <p:nvSpPr>
            <p:cNvPr id="697" name=""/>
            <p:cNvSpPr/>
            <p:nvPr/>
          </p:nvSpPr>
          <p:spPr>
            <a:xfrm>
              <a:off x="39625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053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238880" y="3657600"/>
            <a:ext cx="1295280" cy="685800"/>
            <a:chOff x="7238880" y="3657600"/>
            <a:chExt cx="1295280" cy="685800"/>
          </a:xfrm>
        </p:grpSpPr>
        <p:sp>
          <p:nvSpPr>
            <p:cNvPr id="700" name=""/>
            <p:cNvSpPr/>
            <p:nvPr/>
          </p:nvSpPr>
          <p:spPr>
            <a:xfrm>
              <a:off x="76960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88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196F-2464-4D74-B9F8-4E502E0DE0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4038480" y="3657600"/>
            <a:ext cx="1295280" cy="685800"/>
            <a:chOff x="4038480" y="3657600"/>
            <a:chExt cx="1295280" cy="685800"/>
          </a:xfrm>
        </p:grpSpPr>
        <p:sp>
          <p:nvSpPr>
            <p:cNvPr id="725" name=""/>
            <p:cNvSpPr/>
            <p:nvPr/>
          </p:nvSpPr>
          <p:spPr>
            <a:xfrm>
              <a:off x="44956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384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705720" y="3657600"/>
            <a:ext cx="1295280" cy="685800"/>
            <a:chOff x="6705720" y="3657600"/>
            <a:chExt cx="1295280" cy="685800"/>
          </a:xfrm>
        </p:grpSpPr>
        <p:sp>
          <p:nvSpPr>
            <p:cNvPr id="728" name=""/>
            <p:cNvSpPr/>
            <p:nvPr/>
          </p:nvSpPr>
          <p:spPr>
            <a:xfrm>
              <a:off x="71629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057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E55B-9D93-4FD4-A644-49A8FF2710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572000" y="3657600"/>
            <a:ext cx="1295280" cy="685800"/>
            <a:chOff x="4572000" y="3657600"/>
            <a:chExt cx="1295280" cy="685800"/>
          </a:xfrm>
        </p:grpSpPr>
        <p:sp>
          <p:nvSpPr>
            <p:cNvPr id="752" name=""/>
            <p:cNvSpPr/>
            <p:nvPr/>
          </p:nvSpPr>
          <p:spPr>
            <a:xfrm>
              <a:off x="50292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720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172200" y="3657600"/>
            <a:ext cx="1295280" cy="685800"/>
            <a:chOff x="6172200" y="3657600"/>
            <a:chExt cx="1295280" cy="685800"/>
          </a:xfrm>
        </p:grpSpPr>
        <p:sp>
          <p:nvSpPr>
            <p:cNvPr id="755" name=""/>
            <p:cNvSpPr/>
            <p:nvPr/>
          </p:nvSpPr>
          <p:spPr>
            <a:xfrm>
              <a:off x="66294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722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FC07-BDF9-4189-B8BC-16B9FD0A31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6257-5EEF-4408-9983-BE04681531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71800" y="5562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3-way partition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454B-973F-441C-B518-7E86E1BA0A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71600" y="3657600"/>
            <a:ext cx="1295280" cy="685800"/>
            <a:chOff x="1371600" y="3657600"/>
            <a:chExt cx="1295280" cy="685800"/>
          </a:xfrm>
        </p:grpSpPr>
        <p:sp>
          <p:nvSpPr>
            <p:cNvPr id="165" name=""/>
            <p:cNvSpPr/>
            <p:nvPr/>
          </p:nvSpPr>
          <p:spPr>
            <a:xfrm>
              <a:off x="18288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A78D-1F07-4DA2-91AC-795AEBE315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371600" y="3657600"/>
            <a:ext cx="1295280" cy="685800"/>
            <a:chOff x="1371600" y="3657600"/>
            <a:chExt cx="1295280" cy="685800"/>
          </a:xfrm>
        </p:grpSpPr>
        <p:sp>
          <p:nvSpPr>
            <p:cNvPr id="188" name=""/>
            <p:cNvSpPr/>
            <p:nvPr/>
          </p:nvSpPr>
          <p:spPr>
            <a:xfrm>
              <a:off x="18288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2023-4C7D-4D80-8298-4351D65EF2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71600" y="3657600"/>
            <a:ext cx="1295280" cy="685800"/>
            <a:chOff x="1371600" y="3657600"/>
            <a:chExt cx="1295280" cy="685800"/>
          </a:xfrm>
        </p:grpSpPr>
        <p:sp>
          <p:nvSpPr>
            <p:cNvPr id="211" name=""/>
            <p:cNvSpPr/>
            <p:nvPr/>
          </p:nvSpPr>
          <p:spPr>
            <a:xfrm>
              <a:off x="18288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716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DB8F-B767-46FB-AB53-571DFCA352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371600" y="3657600"/>
            <a:ext cx="1295280" cy="685800"/>
            <a:chOff x="1371600" y="3657600"/>
            <a:chExt cx="1295280" cy="685800"/>
          </a:xfrm>
        </p:grpSpPr>
        <p:sp>
          <p:nvSpPr>
            <p:cNvPr id="234" name=""/>
            <p:cNvSpPr/>
            <p:nvPr/>
          </p:nvSpPr>
          <p:spPr>
            <a:xfrm>
              <a:off x="18288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716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38680" y="3657600"/>
            <a:ext cx="1295280" cy="685800"/>
            <a:chOff x="5638680" y="3657600"/>
            <a:chExt cx="1295280" cy="685800"/>
          </a:xfrm>
        </p:grpSpPr>
        <p:sp>
          <p:nvSpPr>
            <p:cNvPr id="237" name=""/>
            <p:cNvSpPr/>
            <p:nvPr/>
          </p:nvSpPr>
          <p:spPr>
            <a:xfrm>
              <a:off x="60958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386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D9BE-D41C-4E10-BA42-2D012397C7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FAB4-16D3-4C35-8DA7-625443F099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905120" y="3657600"/>
            <a:ext cx="1295280" cy="685800"/>
            <a:chOff x="1905120" y="3657600"/>
            <a:chExt cx="1295280" cy="685800"/>
          </a:xfrm>
        </p:grpSpPr>
        <p:sp>
          <p:nvSpPr>
            <p:cNvPr id="280" name=""/>
            <p:cNvSpPr/>
            <p:nvPr/>
          </p:nvSpPr>
          <p:spPr>
            <a:xfrm>
              <a:off x="23623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051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016D-0F5E-4D19-ADB8-0A9BF26D17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9:32:41Z</dcterms:created>
  <dc:creator>Kevin Wayne</dc:creator>
  <dc:description/>
  <dc:language>en-US</dc:language>
  <cp:lastModifiedBy>Kevin Wayne</cp:lastModifiedBy>
  <dcterms:modified xsi:type="dcterms:W3CDTF">2004-03-03T14:01:13Z</dcterms:modified>
  <cp:revision>71</cp:revision>
  <dc:subject/>
  <dc:title>Computability</dc:title>
</cp:coreProperties>
</file>