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5B6A-F56A-4E08-BD5D-E3A3C16E8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E1BA-66F3-4B62-BF86-F3C76F4FD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6AEA-F0B6-4CBB-AE7F-C95F1DF67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27B0-E6AA-4B00-8336-17C5116A3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1BDA-4BBE-4F93-80D6-50024A740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E001-3A6F-4F15-AE77-423491A8C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EF3A-8A15-4082-AE99-B781A7369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512D-22A5-4B5B-BE98-380919175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E534-F0AB-4281-95C9-CBC8726E1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25AF-416A-4D77-8969-AA7A3D2AB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FD38-6072-45CF-B351-CC948F612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8EF6-8DC8-4DEA-B69D-5966C6F31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CA53-AD6F-445A-BB29-6BC6452AE0BD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" y="4267080"/>
            <a:ext cx="8001000" cy="380880"/>
            <a:chOff x="457200" y="4267080"/>
            <a:chExt cx="8001000" cy="380880"/>
          </a:xfrm>
        </p:grpSpPr>
        <p:sp>
          <p:nvSpPr>
            <p:cNvPr id="81" name=""/>
            <p:cNvSpPr/>
            <p:nvPr/>
          </p:nvSpPr>
          <p:spPr>
            <a:xfrm>
              <a:off x="4572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907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38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74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76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911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42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578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913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24680" y="4267080"/>
              <a:ext cx="53352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97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A2A2-2C99-4E06-AB2C-B4FD86B27C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37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965A-9DFA-4E1D-8662-66B10F6A26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40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4FE7-4988-40FF-8C3E-F437F0BF16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43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6593-EA84-4994-9B06-4FCD008330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46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EAF4-9EA8-435C-9F0D-73515736FC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498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01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2295-B669-4957-A7D2-69C032986B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31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542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60D8-DCA9-4620-B832-C5F9F9D503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64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575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96AB-2ACA-406C-9A5B-64D47F443F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97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608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8711-7A80-417D-B098-32C97BC932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3623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pointers cro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3809880"/>
            <a:ext cx="533520" cy="3812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3276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swap with partitioning e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633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24EC-C5A1-43EF-9BB2-7EC968B8C2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663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791320" y="3352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partition is comple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DBD9-05F1-4D70-969E-6734F44882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111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114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269D-3E08-4C4D-9A98-A14950B73D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144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155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E106-22C7-472F-82F6-A43BEFB27E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177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188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6AED-3508-4ECC-A677-4F2B1A4D07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210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221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19920" y="3505320"/>
            <a:ext cx="1295280" cy="685800"/>
            <a:chOff x="6019920" y="3505320"/>
            <a:chExt cx="1295280" cy="685800"/>
          </a:xfrm>
        </p:grpSpPr>
        <p:sp>
          <p:nvSpPr>
            <p:cNvPr id="239" name=""/>
            <p:cNvSpPr/>
            <p:nvPr/>
          </p:nvSpPr>
          <p:spPr>
            <a:xfrm>
              <a:off x="64771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199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4FD3-C3F5-428D-9BBE-CDF074A689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246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46FF-0C3F-4122-8CEF-F5AE5F4BAB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85800" y="3505320"/>
            <a:ext cx="1295280" cy="685800"/>
            <a:chOff x="685800" y="3505320"/>
            <a:chExt cx="1295280" cy="685800"/>
          </a:xfrm>
        </p:grpSpPr>
        <p:sp>
          <p:nvSpPr>
            <p:cNvPr id="276" name=""/>
            <p:cNvSpPr/>
            <p:nvPr/>
          </p:nvSpPr>
          <p:spPr>
            <a:xfrm>
              <a:off x="114300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279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5711-8A98-43D0-B303-34FEB17B77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309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800" y="3505320"/>
            <a:ext cx="1295280" cy="685800"/>
            <a:chOff x="685800" y="3505320"/>
            <a:chExt cx="1295280" cy="685800"/>
          </a:xfrm>
        </p:grpSpPr>
        <p:sp>
          <p:nvSpPr>
            <p:cNvPr id="320" name=""/>
            <p:cNvSpPr/>
            <p:nvPr/>
          </p:nvSpPr>
          <p:spPr>
            <a:xfrm>
              <a:off x="114300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7AF0-920B-4A80-AD7F-9C679AE38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342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85800" y="3505320"/>
            <a:ext cx="1295280" cy="685800"/>
            <a:chOff x="685800" y="3505320"/>
            <a:chExt cx="1295280" cy="685800"/>
          </a:xfrm>
        </p:grpSpPr>
        <p:sp>
          <p:nvSpPr>
            <p:cNvPr id="353" name=""/>
            <p:cNvSpPr/>
            <p:nvPr/>
          </p:nvSpPr>
          <p:spPr>
            <a:xfrm>
              <a:off x="114300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580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952880" y="3505320"/>
            <a:ext cx="1295280" cy="685800"/>
            <a:chOff x="4952880" y="3505320"/>
            <a:chExt cx="1295280" cy="685800"/>
          </a:xfrm>
        </p:grpSpPr>
        <p:sp>
          <p:nvSpPr>
            <p:cNvPr id="371" name=""/>
            <p:cNvSpPr/>
            <p:nvPr/>
          </p:nvSpPr>
          <p:spPr>
            <a:xfrm>
              <a:off x="54100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A089-42CE-4A63-82C6-38797A2314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9:32:41Z</dcterms:created>
  <dc:creator>Kevin Wayne</dc:creator>
  <dc:description/>
  <dc:language>en-US</dc:language>
  <cp:lastModifiedBy>Kevin Wayne</cp:lastModifiedBy>
  <dcterms:modified xsi:type="dcterms:W3CDTF">2005-09-26T16:34:18Z</dcterms:modified>
  <cp:revision>68</cp:revision>
  <dc:subject/>
  <dc:title>Computability</dc:title>
</cp:coreProperties>
</file>