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0FBD2-E9C7-4E2A-926E-328A6CB400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17A86-D44A-44B2-A5ED-9F45A8606F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797A4-18BB-4A3D-A85E-CA45AEC297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34BA2-6430-41BF-A3A7-5CB203023A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3503F-58F7-4B45-AAF0-B912B674D3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C06DD-0DEA-4C26-8DBC-711BDBD70A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A5877-F645-41EC-ACF1-0A17C4BC43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AFD13-C83C-472C-A29A-314113E767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EBD16-5B3B-4DC3-A9FF-C219147C20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EB1BD-434F-4EC2-A211-971D89B88B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52659-7B55-404D-818E-1461E3A9D4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0FC3B-7582-49A3-A7CB-347232E716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A8E1-1A28-4DFE-98BC-20E28C26BB9D}" type="slidenum">
              <a:rPr b="0" lang="en-US" sz="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613560"/>
            <a:ext cx="9144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obert Sedgewick and Kevin Wayne   •   Copyright © 2005   •   http://www.Princeton.EDU/~cos226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artitioning in Quicksor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How do we partition in-place efficiently?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 = rightmost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for larg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small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0">
              <a:lnSpc>
                <a:spcPts val="2599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57200" y="4267080"/>
            <a:ext cx="8001000" cy="380880"/>
            <a:chOff x="457200" y="4267080"/>
            <a:chExt cx="8001000" cy="380880"/>
          </a:xfrm>
        </p:grpSpPr>
        <p:sp>
          <p:nvSpPr>
            <p:cNvPr id="81" name=""/>
            <p:cNvSpPr/>
            <p:nvPr/>
          </p:nvSpPr>
          <p:spPr>
            <a:xfrm>
              <a:off x="457200" y="4267080"/>
              <a:ext cx="53352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90720" y="4267080"/>
              <a:ext cx="53316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523880" y="4267080"/>
              <a:ext cx="53352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57400" y="4267080"/>
              <a:ext cx="53352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590920" y="4267080"/>
              <a:ext cx="53316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4267080"/>
              <a:ext cx="53352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657600" y="4267080"/>
              <a:ext cx="53352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91120" y="4267080"/>
              <a:ext cx="53316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24280" y="4267080"/>
              <a:ext cx="53352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57800" y="4267080"/>
              <a:ext cx="53352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791320" y="4267080"/>
              <a:ext cx="53316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324480" y="4267080"/>
              <a:ext cx="53352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58000" y="4267080"/>
              <a:ext cx="53352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91520" y="4267080"/>
              <a:ext cx="53316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24680" y="4267080"/>
              <a:ext cx="533520" cy="3808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685800" y="5791320"/>
            <a:ext cx="7620120" cy="761760"/>
            <a:chOff x="685800" y="5791320"/>
            <a:chExt cx="7620120" cy="761760"/>
          </a:xfrm>
        </p:grpSpPr>
        <p:sp>
          <p:nvSpPr>
            <p:cNvPr id="97" name=""/>
            <p:cNvSpPr/>
            <p:nvPr/>
          </p:nvSpPr>
          <p:spPr>
            <a:xfrm>
              <a:off x="3809880" y="6248520"/>
              <a:ext cx="38124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343400" y="62485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85800" y="5791320"/>
              <a:ext cx="38088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932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 elem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781680" y="5791320"/>
              <a:ext cx="381240" cy="3045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315200" y="57913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781680" y="6248520"/>
              <a:ext cx="381240" cy="304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15200" y="62485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09880" y="5791320"/>
              <a:ext cx="381240" cy="304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34340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774720" y="1800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"/>
          <p:cNvSpPr/>
          <p:nvPr/>
        </p:nvSpPr>
        <p:spPr>
          <a:xfrm>
            <a:off x="744480" y="2882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F7F63-66BD-4B6D-AA93-2B3A311A6D6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artitioning in Quicksor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685800" y="5791320"/>
            <a:ext cx="7620120" cy="761760"/>
            <a:chOff x="685800" y="5791320"/>
            <a:chExt cx="7620120" cy="761760"/>
          </a:xfrm>
        </p:grpSpPr>
        <p:sp>
          <p:nvSpPr>
            <p:cNvPr id="378" name=""/>
            <p:cNvSpPr/>
            <p:nvPr/>
          </p:nvSpPr>
          <p:spPr>
            <a:xfrm>
              <a:off x="3809880" y="6248520"/>
              <a:ext cx="38124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343400" y="62485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5800" y="5791320"/>
              <a:ext cx="38088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21932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 elem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781680" y="5791320"/>
              <a:ext cx="381240" cy="3045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315200" y="57913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781680" y="6248520"/>
              <a:ext cx="381240" cy="304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15200" y="62485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09880" y="5791320"/>
              <a:ext cx="381240" cy="304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4340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4572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"/>
          <p:cNvSpPr/>
          <p:nvPr/>
        </p:nvSpPr>
        <p:spPr>
          <a:xfrm>
            <a:off x="9907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"/>
          <p:cNvSpPr/>
          <p:nvPr/>
        </p:nvSpPr>
        <p:spPr>
          <a:xfrm>
            <a:off x="15238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"/>
          <p:cNvSpPr/>
          <p:nvPr/>
        </p:nvSpPr>
        <p:spPr>
          <a:xfrm>
            <a:off x="20574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"/>
          <p:cNvSpPr/>
          <p:nvPr/>
        </p:nvSpPr>
        <p:spPr>
          <a:xfrm>
            <a:off x="25909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"/>
          <p:cNvSpPr/>
          <p:nvPr/>
        </p:nvSpPr>
        <p:spPr>
          <a:xfrm>
            <a:off x="36576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"/>
          <p:cNvSpPr/>
          <p:nvPr/>
        </p:nvSpPr>
        <p:spPr>
          <a:xfrm>
            <a:off x="41911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"/>
          <p:cNvSpPr/>
          <p:nvPr/>
        </p:nvSpPr>
        <p:spPr>
          <a:xfrm>
            <a:off x="47242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"/>
          <p:cNvSpPr/>
          <p:nvPr/>
        </p:nvSpPr>
        <p:spPr>
          <a:xfrm>
            <a:off x="52578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57913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"/>
          <p:cNvSpPr/>
          <p:nvPr/>
        </p:nvSpPr>
        <p:spPr>
          <a:xfrm>
            <a:off x="63244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"/>
          <p:cNvSpPr/>
          <p:nvPr/>
        </p:nvSpPr>
        <p:spPr>
          <a:xfrm>
            <a:off x="68580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73915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"/>
          <p:cNvSpPr/>
          <p:nvPr/>
        </p:nvSpPr>
        <p:spPr>
          <a:xfrm>
            <a:off x="7924680" y="4267080"/>
            <a:ext cx="5335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How do we partition in-place efficiently?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 = rightmost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for larg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small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0">
              <a:lnSpc>
                <a:spcPts val="2599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>
            <a:off x="774720" y="1800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"/>
          <p:cNvSpPr/>
          <p:nvPr/>
        </p:nvSpPr>
        <p:spPr>
          <a:xfrm>
            <a:off x="744480" y="2882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63456-1B32-42E0-854C-FFED4CFE17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artitioning in Quicksor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685800" y="5791320"/>
            <a:ext cx="7620120" cy="761760"/>
            <a:chOff x="685800" y="5791320"/>
            <a:chExt cx="7620120" cy="761760"/>
          </a:xfrm>
        </p:grpSpPr>
        <p:sp>
          <p:nvSpPr>
            <p:cNvPr id="408" name=""/>
            <p:cNvSpPr/>
            <p:nvPr/>
          </p:nvSpPr>
          <p:spPr>
            <a:xfrm>
              <a:off x="3809880" y="6248520"/>
              <a:ext cx="38124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343400" y="62485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85800" y="5791320"/>
              <a:ext cx="38088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1932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 elem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781680" y="5791320"/>
              <a:ext cx="381240" cy="3045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315200" y="57913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81680" y="6248520"/>
              <a:ext cx="381240" cy="304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315200" y="62485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809880" y="5791320"/>
              <a:ext cx="381240" cy="304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34340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4572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"/>
          <p:cNvSpPr/>
          <p:nvPr/>
        </p:nvSpPr>
        <p:spPr>
          <a:xfrm>
            <a:off x="9907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"/>
          <p:cNvSpPr/>
          <p:nvPr/>
        </p:nvSpPr>
        <p:spPr>
          <a:xfrm>
            <a:off x="1523880" y="426708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"/>
          <p:cNvSpPr/>
          <p:nvPr/>
        </p:nvSpPr>
        <p:spPr>
          <a:xfrm>
            <a:off x="20574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"/>
          <p:cNvSpPr/>
          <p:nvPr/>
        </p:nvSpPr>
        <p:spPr>
          <a:xfrm>
            <a:off x="25909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"/>
          <p:cNvSpPr/>
          <p:nvPr/>
        </p:nvSpPr>
        <p:spPr>
          <a:xfrm>
            <a:off x="31240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"/>
          <p:cNvSpPr/>
          <p:nvPr/>
        </p:nvSpPr>
        <p:spPr>
          <a:xfrm>
            <a:off x="36576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41911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"/>
          <p:cNvSpPr/>
          <p:nvPr/>
        </p:nvSpPr>
        <p:spPr>
          <a:xfrm>
            <a:off x="47242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"/>
          <p:cNvSpPr/>
          <p:nvPr/>
        </p:nvSpPr>
        <p:spPr>
          <a:xfrm>
            <a:off x="52578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"/>
          <p:cNvSpPr/>
          <p:nvPr/>
        </p:nvSpPr>
        <p:spPr>
          <a:xfrm>
            <a:off x="57913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"/>
          <p:cNvSpPr/>
          <p:nvPr/>
        </p:nvSpPr>
        <p:spPr>
          <a:xfrm>
            <a:off x="63244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"/>
          <p:cNvSpPr/>
          <p:nvPr/>
        </p:nvSpPr>
        <p:spPr>
          <a:xfrm>
            <a:off x="73915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"/>
          <p:cNvSpPr/>
          <p:nvPr/>
        </p:nvSpPr>
        <p:spPr>
          <a:xfrm>
            <a:off x="7924680" y="4267080"/>
            <a:ext cx="5335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How do we partition in-place efficiently?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 = rightmost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for larg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small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0">
              <a:lnSpc>
                <a:spcPts val="2599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"/>
          <p:cNvSpPr/>
          <p:nvPr/>
        </p:nvSpPr>
        <p:spPr>
          <a:xfrm>
            <a:off x="774720" y="1800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744480" y="2882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22D53-5386-47DC-BDC2-C975F6C23D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artitioning in Quicksor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685800" y="5791320"/>
            <a:ext cx="7620120" cy="761760"/>
            <a:chOff x="685800" y="5791320"/>
            <a:chExt cx="7620120" cy="761760"/>
          </a:xfrm>
        </p:grpSpPr>
        <p:sp>
          <p:nvSpPr>
            <p:cNvPr id="438" name=""/>
            <p:cNvSpPr/>
            <p:nvPr/>
          </p:nvSpPr>
          <p:spPr>
            <a:xfrm>
              <a:off x="3809880" y="6248520"/>
              <a:ext cx="38124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343400" y="62485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85800" y="5791320"/>
              <a:ext cx="38088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1932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 elem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781680" y="5791320"/>
              <a:ext cx="381240" cy="3045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315200" y="57913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781680" y="6248520"/>
              <a:ext cx="381240" cy="304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315200" y="62485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09880" y="5791320"/>
              <a:ext cx="381240" cy="304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34340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4572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"/>
          <p:cNvSpPr/>
          <p:nvPr/>
        </p:nvSpPr>
        <p:spPr>
          <a:xfrm>
            <a:off x="9907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"/>
          <p:cNvSpPr/>
          <p:nvPr/>
        </p:nvSpPr>
        <p:spPr>
          <a:xfrm>
            <a:off x="15238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"/>
          <p:cNvSpPr/>
          <p:nvPr/>
        </p:nvSpPr>
        <p:spPr>
          <a:xfrm>
            <a:off x="2057400" y="426708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"/>
          <p:cNvSpPr/>
          <p:nvPr/>
        </p:nvSpPr>
        <p:spPr>
          <a:xfrm>
            <a:off x="31240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"/>
          <p:cNvSpPr/>
          <p:nvPr/>
        </p:nvSpPr>
        <p:spPr>
          <a:xfrm>
            <a:off x="36576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"/>
          <p:cNvSpPr/>
          <p:nvPr/>
        </p:nvSpPr>
        <p:spPr>
          <a:xfrm>
            <a:off x="41911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"/>
          <p:cNvSpPr/>
          <p:nvPr/>
        </p:nvSpPr>
        <p:spPr>
          <a:xfrm>
            <a:off x="47242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"/>
          <p:cNvSpPr/>
          <p:nvPr/>
        </p:nvSpPr>
        <p:spPr>
          <a:xfrm>
            <a:off x="52578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"/>
          <p:cNvSpPr/>
          <p:nvPr/>
        </p:nvSpPr>
        <p:spPr>
          <a:xfrm>
            <a:off x="57913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"/>
          <p:cNvSpPr/>
          <p:nvPr/>
        </p:nvSpPr>
        <p:spPr>
          <a:xfrm>
            <a:off x="63244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"/>
          <p:cNvSpPr/>
          <p:nvPr/>
        </p:nvSpPr>
        <p:spPr>
          <a:xfrm>
            <a:off x="73915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7924680" y="4267080"/>
            <a:ext cx="5335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How do we partition in-place efficiently?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 = rightmost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for larg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small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0">
              <a:lnSpc>
                <a:spcPts val="2599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774720" y="1800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"/>
          <p:cNvSpPr/>
          <p:nvPr/>
        </p:nvSpPr>
        <p:spPr>
          <a:xfrm>
            <a:off x="744480" y="2882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FB360-F4F7-4546-9E9D-7732F08317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artitioning in Quicksor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685800" y="5791320"/>
            <a:ext cx="7620120" cy="761760"/>
            <a:chOff x="685800" y="5791320"/>
            <a:chExt cx="7620120" cy="761760"/>
          </a:xfrm>
        </p:grpSpPr>
        <p:sp>
          <p:nvSpPr>
            <p:cNvPr id="468" name=""/>
            <p:cNvSpPr/>
            <p:nvPr/>
          </p:nvSpPr>
          <p:spPr>
            <a:xfrm>
              <a:off x="3809880" y="6248520"/>
              <a:ext cx="38124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343400" y="62485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85800" y="5791320"/>
              <a:ext cx="38088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21932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 elem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781680" y="5791320"/>
              <a:ext cx="381240" cy="3045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315200" y="57913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781680" y="6248520"/>
              <a:ext cx="381240" cy="304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315200" y="62485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809880" y="5791320"/>
              <a:ext cx="381240" cy="304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34340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4572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"/>
          <p:cNvSpPr/>
          <p:nvPr/>
        </p:nvSpPr>
        <p:spPr>
          <a:xfrm>
            <a:off x="9907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"/>
          <p:cNvSpPr/>
          <p:nvPr/>
        </p:nvSpPr>
        <p:spPr>
          <a:xfrm>
            <a:off x="15238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"/>
          <p:cNvSpPr/>
          <p:nvPr/>
        </p:nvSpPr>
        <p:spPr>
          <a:xfrm>
            <a:off x="20574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"/>
          <p:cNvSpPr/>
          <p:nvPr/>
        </p:nvSpPr>
        <p:spPr>
          <a:xfrm>
            <a:off x="2590920" y="4267080"/>
            <a:ext cx="53316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"/>
          <p:cNvSpPr/>
          <p:nvPr/>
        </p:nvSpPr>
        <p:spPr>
          <a:xfrm>
            <a:off x="31240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6576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"/>
          <p:cNvSpPr/>
          <p:nvPr/>
        </p:nvSpPr>
        <p:spPr>
          <a:xfrm>
            <a:off x="41911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"/>
          <p:cNvSpPr/>
          <p:nvPr/>
        </p:nvSpPr>
        <p:spPr>
          <a:xfrm>
            <a:off x="47242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"/>
          <p:cNvSpPr/>
          <p:nvPr/>
        </p:nvSpPr>
        <p:spPr>
          <a:xfrm>
            <a:off x="57913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63244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"/>
          <p:cNvSpPr/>
          <p:nvPr/>
        </p:nvSpPr>
        <p:spPr>
          <a:xfrm>
            <a:off x="73915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"/>
          <p:cNvSpPr/>
          <p:nvPr/>
        </p:nvSpPr>
        <p:spPr>
          <a:xfrm>
            <a:off x="7924680" y="4267080"/>
            <a:ext cx="5335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How do we partition in-place efficiently?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 = rightmost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for larg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small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0">
              <a:lnSpc>
                <a:spcPts val="2599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"/>
          <p:cNvSpPr/>
          <p:nvPr/>
        </p:nvSpPr>
        <p:spPr>
          <a:xfrm>
            <a:off x="774720" y="1800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"/>
          <p:cNvSpPr/>
          <p:nvPr/>
        </p:nvSpPr>
        <p:spPr>
          <a:xfrm>
            <a:off x="744480" y="2882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6A21D-5A44-42E0-BE60-58018EC503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artitioning in Quicksor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2819520" y="3505320"/>
            <a:ext cx="1295280" cy="685800"/>
            <a:chOff x="2819520" y="3505320"/>
            <a:chExt cx="1295280" cy="685800"/>
          </a:xfrm>
        </p:grpSpPr>
        <p:sp>
          <p:nvSpPr>
            <p:cNvPr id="498" name=""/>
            <p:cNvSpPr/>
            <p:nvPr/>
          </p:nvSpPr>
          <p:spPr>
            <a:xfrm>
              <a:off x="3276720" y="388656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819520" y="35053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685800" y="5791320"/>
            <a:ext cx="7620120" cy="761760"/>
            <a:chOff x="685800" y="5791320"/>
            <a:chExt cx="7620120" cy="761760"/>
          </a:xfrm>
        </p:grpSpPr>
        <p:sp>
          <p:nvSpPr>
            <p:cNvPr id="501" name=""/>
            <p:cNvSpPr/>
            <p:nvPr/>
          </p:nvSpPr>
          <p:spPr>
            <a:xfrm>
              <a:off x="3809880" y="6248520"/>
              <a:ext cx="38124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343400" y="62485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85800" y="5791320"/>
              <a:ext cx="38088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21932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 elem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781680" y="5791320"/>
              <a:ext cx="381240" cy="3045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315200" y="57913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781680" y="6248520"/>
              <a:ext cx="381240" cy="304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15200" y="62485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809880" y="5791320"/>
              <a:ext cx="381240" cy="304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34340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4572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"/>
          <p:cNvSpPr/>
          <p:nvPr/>
        </p:nvSpPr>
        <p:spPr>
          <a:xfrm>
            <a:off x="9907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"/>
          <p:cNvSpPr/>
          <p:nvPr/>
        </p:nvSpPr>
        <p:spPr>
          <a:xfrm>
            <a:off x="15238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"/>
          <p:cNvSpPr/>
          <p:nvPr/>
        </p:nvSpPr>
        <p:spPr>
          <a:xfrm>
            <a:off x="20574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"/>
          <p:cNvSpPr/>
          <p:nvPr/>
        </p:nvSpPr>
        <p:spPr>
          <a:xfrm>
            <a:off x="25909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"/>
          <p:cNvSpPr/>
          <p:nvPr/>
        </p:nvSpPr>
        <p:spPr>
          <a:xfrm>
            <a:off x="3124080" y="426708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"/>
          <p:cNvSpPr/>
          <p:nvPr/>
        </p:nvSpPr>
        <p:spPr>
          <a:xfrm>
            <a:off x="36576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"/>
          <p:cNvSpPr/>
          <p:nvPr/>
        </p:nvSpPr>
        <p:spPr>
          <a:xfrm>
            <a:off x="41911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"/>
          <p:cNvSpPr/>
          <p:nvPr/>
        </p:nvSpPr>
        <p:spPr>
          <a:xfrm>
            <a:off x="47242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"/>
          <p:cNvSpPr/>
          <p:nvPr/>
        </p:nvSpPr>
        <p:spPr>
          <a:xfrm>
            <a:off x="52578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"/>
          <p:cNvSpPr/>
          <p:nvPr/>
        </p:nvSpPr>
        <p:spPr>
          <a:xfrm>
            <a:off x="57913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"/>
          <p:cNvSpPr/>
          <p:nvPr/>
        </p:nvSpPr>
        <p:spPr>
          <a:xfrm>
            <a:off x="63244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"/>
          <p:cNvSpPr/>
          <p:nvPr/>
        </p:nvSpPr>
        <p:spPr>
          <a:xfrm>
            <a:off x="73915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"/>
          <p:cNvSpPr/>
          <p:nvPr/>
        </p:nvSpPr>
        <p:spPr>
          <a:xfrm>
            <a:off x="7924680" y="4267080"/>
            <a:ext cx="5335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How do we partition in-place efficiently?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 = rightmost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for larg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small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0">
              <a:lnSpc>
                <a:spcPts val="2599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"/>
          <p:cNvSpPr/>
          <p:nvPr/>
        </p:nvSpPr>
        <p:spPr>
          <a:xfrm>
            <a:off x="774720" y="1800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"/>
          <p:cNvSpPr/>
          <p:nvPr/>
        </p:nvSpPr>
        <p:spPr>
          <a:xfrm>
            <a:off x="744480" y="2882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33200-24D7-4FCD-B65B-2C4871D23C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artitioning in Quicksor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685800" y="5791320"/>
            <a:ext cx="7620120" cy="761760"/>
            <a:chOff x="685800" y="5791320"/>
            <a:chExt cx="7620120" cy="761760"/>
          </a:xfrm>
        </p:grpSpPr>
        <p:sp>
          <p:nvSpPr>
            <p:cNvPr id="531" name=""/>
            <p:cNvSpPr/>
            <p:nvPr/>
          </p:nvSpPr>
          <p:spPr>
            <a:xfrm>
              <a:off x="3809880" y="6248520"/>
              <a:ext cx="38124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343400" y="62485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85800" y="5791320"/>
              <a:ext cx="38088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1932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 elem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781680" y="5791320"/>
              <a:ext cx="381240" cy="3045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315200" y="57913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781680" y="6248520"/>
              <a:ext cx="381240" cy="304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315200" y="62485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809880" y="5791320"/>
              <a:ext cx="381240" cy="304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34340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2819520" y="3505320"/>
            <a:ext cx="1295280" cy="685800"/>
            <a:chOff x="2819520" y="3505320"/>
            <a:chExt cx="1295280" cy="685800"/>
          </a:xfrm>
        </p:grpSpPr>
        <p:sp>
          <p:nvSpPr>
            <p:cNvPr id="542" name=""/>
            <p:cNvSpPr/>
            <p:nvPr/>
          </p:nvSpPr>
          <p:spPr>
            <a:xfrm>
              <a:off x="3276720" y="388656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819520" y="35053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4572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"/>
          <p:cNvSpPr/>
          <p:nvPr/>
        </p:nvSpPr>
        <p:spPr>
          <a:xfrm>
            <a:off x="9907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"/>
          <p:cNvSpPr/>
          <p:nvPr/>
        </p:nvSpPr>
        <p:spPr>
          <a:xfrm>
            <a:off x="15238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20574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"/>
          <p:cNvSpPr/>
          <p:nvPr/>
        </p:nvSpPr>
        <p:spPr>
          <a:xfrm>
            <a:off x="25909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124080" y="426708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"/>
          <p:cNvSpPr/>
          <p:nvPr/>
        </p:nvSpPr>
        <p:spPr>
          <a:xfrm>
            <a:off x="36576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"/>
          <p:cNvSpPr/>
          <p:nvPr/>
        </p:nvSpPr>
        <p:spPr>
          <a:xfrm>
            <a:off x="41911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"/>
          <p:cNvSpPr/>
          <p:nvPr/>
        </p:nvSpPr>
        <p:spPr>
          <a:xfrm>
            <a:off x="4724280" y="4267080"/>
            <a:ext cx="533520" cy="3812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"/>
          <p:cNvSpPr/>
          <p:nvPr/>
        </p:nvSpPr>
        <p:spPr>
          <a:xfrm>
            <a:off x="52578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"/>
          <p:cNvSpPr/>
          <p:nvPr/>
        </p:nvSpPr>
        <p:spPr>
          <a:xfrm>
            <a:off x="57913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"/>
          <p:cNvSpPr/>
          <p:nvPr/>
        </p:nvSpPr>
        <p:spPr>
          <a:xfrm>
            <a:off x="63244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"/>
          <p:cNvSpPr/>
          <p:nvPr/>
        </p:nvSpPr>
        <p:spPr>
          <a:xfrm>
            <a:off x="68580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73915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"/>
          <p:cNvSpPr/>
          <p:nvPr/>
        </p:nvSpPr>
        <p:spPr>
          <a:xfrm>
            <a:off x="7924680" y="4267080"/>
            <a:ext cx="5335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How do we partition in-place efficiently?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 = rightmost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for larg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small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0">
              <a:lnSpc>
                <a:spcPts val="2599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"/>
          <p:cNvSpPr/>
          <p:nvPr/>
        </p:nvSpPr>
        <p:spPr>
          <a:xfrm>
            <a:off x="774720" y="1800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"/>
          <p:cNvSpPr/>
          <p:nvPr/>
        </p:nvSpPr>
        <p:spPr>
          <a:xfrm>
            <a:off x="744480" y="2882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71970-22B4-4BA8-AED5-D8A48158A4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artitioning in Quicksor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685800" y="5791320"/>
            <a:ext cx="7620120" cy="761760"/>
            <a:chOff x="685800" y="5791320"/>
            <a:chExt cx="7620120" cy="761760"/>
          </a:xfrm>
        </p:grpSpPr>
        <p:sp>
          <p:nvSpPr>
            <p:cNvPr id="564" name=""/>
            <p:cNvSpPr/>
            <p:nvPr/>
          </p:nvSpPr>
          <p:spPr>
            <a:xfrm>
              <a:off x="3809880" y="6248520"/>
              <a:ext cx="38124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343400" y="62485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85800" y="5791320"/>
              <a:ext cx="38088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21932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 elem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781680" y="5791320"/>
              <a:ext cx="381240" cy="3045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315200" y="57913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781680" y="6248520"/>
              <a:ext cx="381240" cy="304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315200" y="62485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9880" y="5791320"/>
              <a:ext cx="381240" cy="304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34340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2819520" y="3505320"/>
            <a:ext cx="1295280" cy="685800"/>
            <a:chOff x="2819520" y="3505320"/>
            <a:chExt cx="1295280" cy="685800"/>
          </a:xfrm>
        </p:grpSpPr>
        <p:sp>
          <p:nvSpPr>
            <p:cNvPr id="575" name=""/>
            <p:cNvSpPr/>
            <p:nvPr/>
          </p:nvSpPr>
          <p:spPr>
            <a:xfrm>
              <a:off x="3276720" y="388656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819520" y="35053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4572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9907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"/>
          <p:cNvSpPr/>
          <p:nvPr/>
        </p:nvSpPr>
        <p:spPr>
          <a:xfrm>
            <a:off x="15238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"/>
          <p:cNvSpPr/>
          <p:nvPr/>
        </p:nvSpPr>
        <p:spPr>
          <a:xfrm>
            <a:off x="20574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"/>
          <p:cNvSpPr/>
          <p:nvPr/>
        </p:nvSpPr>
        <p:spPr>
          <a:xfrm>
            <a:off x="25909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3124080" y="426708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191120" y="4267080"/>
            <a:ext cx="533160" cy="3812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"/>
          <p:cNvSpPr/>
          <p:nvPr/>
        </p:nvSpPr>
        <p:spPr>
          <a:xfrm>
            <a:off x="47242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52578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"/>
          <p:cNvSpPr/>
          <p:nvPr/>
        </p:nvSpPr>
        <p:spPr>
          <a:xfrm>
            <a:off x="57913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63244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"/>
          <p:cNvSpPr/>
          <p:nvPr/>
        </p:nvSpPr>
        <p:spPr>
          <a:xfrm>
            <a:off x="68580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"/>
          <p:cNvSpPr/>
          <p:nvPr/>
        </p:nvSpPr>
        <p:spPr>
          <a:xfrm>
            <a:off x="73915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"/>
          <p:cNvSpPr/>
          <p:nvPr/>
        </p:nvSpPr>
        <p:spPr>
          <a:xfrm>
            <a:off x="7924680" y="4267080"/>
            <a:ext cx="5335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How do we partition in-place efficiently?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 = rightmost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for larg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small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0">
              <a:lnSpc>
                <a:spcPts val="2599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"/>
          <p:cNvSpPr/>
          <p:nvPr/>
        </p:nvSpPr>
        <p:spPr>
          <a:xfrm>
            <a:off x="774720" y="1800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"/>
          <p:cNvSpPr/>
          <p:nvPr/>
        </p:nvSpPr>
        <p:spPr>
          <a:xfrm>
            <a:off x="744480" y="2882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1BDFD-D007-4D07-A802-8C80C6B8D9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artitioning in Quicksor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685800" y="5791320"/>
            <a:ext cx="7620120" cy="761760"/>
            <a:chOff x="685800" y="5791320"/>
            <a:chExt cx="7620120" cy="761760"/>
          </a:xfrm>
        </p:grpSpPr>
        <p:sp>
          <p:nvSpPr>
            <p:cNvPr id="597" name=""/>
            <p:cNvSpPr/>
            <p:nvPr/>
          </p:nvSpPr>
          <p:spPr>
            <a:xfrm>
              <a:off x="3809880" y="6248520"/>
              <a:ext cx="38124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343400" y="62485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5800" y="5791320"/>
              <a:ext cx="38088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21932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 elem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781680" y="5791320"/>
              <a:ext cx="381240" cy="3045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315200" y="57913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781680" y="6248520"/>
              <a:ext cx="381240" cy="304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315200" y="62485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809880" y="5791320"/>
              <a:ext cx="381240" cy="304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34340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2819520" y="3505320"/>
            <a:ext cx="1295280" cy="685800"/>
            <a:chOff x="2819520" y="3505320"/>
            <a:chExt cx="1295280" cy="685800"/>
          </a:xfrm>
        </p:grpSpPr>
        <p:sp>
          <p:nvSpPr>
            <p:cNvPr id="608" name=""/>
            <p:cNvSpPr/>
            <p:nvPr/>
          </p:nvSpPr>
          <p:spPr>
            <a:xfrm>
              <a:off x="3276720" y="388656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819520" y="35053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4572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"/>
          <p:cNvSpPr/>
          <p:nvPr/>
        </p:nvSpPr>
        <p:spPr>
          <a:xfrm>
            <a:off x="9907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"/>
          <p:cNvSpPr/>
          <p:nvPr/>
        </p:nvSpPr>
        <p:spPr>
          <a:xfrm>
            <a:off x="15238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"/>
          <p:cNvSpPr/>
          <p:nvPr/>
        </p:nvSpPr>
        <p:spPr>
          <a:xfrm>
            <a:off x="20574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"/>
          <p:cNvSpPr/>
          <p:nvPr/>
        </p:nvSpPr>
        <p:spPr>
          <a:xfrm>
            <a:off x="25909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"/>
          <p:cNvSpPr/>
          <p:nvPr/>
        </p:nvSpPr>
        <p:spPr>
          <a:xfrm>
            <a:off x="3124080" y="426708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"/>
          <p:cNvSpPr/>
          <p:nvPr/>
        </p:nvSpPr>
        <p:spPr>
          <a:xfrm>
            <a:off x="3657600" y="4267080"/>
            <a:ext cx="533520" cy="3812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"/>
          <p:cNvSpPr/>
          <p:nvPr/>
        </p:nvSpPr>
        <p:spPr>
          <a:xfrm>
            <a:off x="41911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"/>
          <p:cNvSpPr/>
          <p:nvPr/>
        </p:nvSpPr>
        <p:spPr>
          <a:xfrm>
            <a:off x="47242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"/>
          <p:cNvSpPr/>
          <p:nvPr/>
        </p:nvSpPr>
        <p:spPr>
          <a:xfrm>
            <a:off x="52578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"/>
          <p:cNvSpPr/>
          <p:nvPr/>
        </p:nvSpPr>
        <p:spPr>
          <a:xfrm>
            <a:off x="57913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"/>
          <p:cNvSpPr/>
          <p:nvPr/>
        </p:nvSpPr>
        <p:spPr>
          <a:xfrm>
            <a:off x="63244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"/>
          <p:cNvSpPr/>
          <p:nvPr/>
        </p:nvSpPr>
        <p:spPr>
          <a:xfrm>
            <a:off x="68580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"/>
          <p:cNvSpPr/>
          <p:nvPr/>
        </p:nvSpPr>
        <p:spPr>
          <a:xfrm>
            <a:off x="73915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"/>
          <p:cNvSpPr/>
          <p:nvPr/>
        </p:nvSpPr>
        <p:spPr>
          <a:xfrm>
            <a:off x="7924680" y="4267080"/>
            <a:ext cx="5335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How do we partition in-place efficiently?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 = rightmost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for larg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small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0">
              <a:lnSpc>
                <a:spcPts val="2599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"/>
          <p:cNvSpPr/>
          <p:nvPr/>
        </p:nvSpPr>
        <p:spPr>
          <a:xfrm>
            <a:off x="774720" y="1800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"/>
          <p:cNvSpPr/>
          <p:nvPr/>
        </p:nvSpPr>
        <p:spPr>
          <a:xfrm>
            <a:off x="744480" y="2882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BDD34-181B-4541-9576-B413F233308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artitioning in Quicksor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29" name=""/>
          <p:cNvSpPr/>
          <p:nvPr/>
        </p:nvSpPr>
        <p:spPr>
          <a:xfrm>
            <a:off x="2362320" y="3429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pointers cro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"/>
          <p:cNvSpPr/>
          <p:nvPr/>
        </p:nvSpPr>
        <p:spPr>
          <a:xfrm>
            <a:off x="3124080" y="3809880"/>
            <a:ext cx="533520" cy="38124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"/>
          <p:cNvSpPr/>
          <p:nvPr/>
        </p:nvSpPr>
        <p:spPr>
          <a:xfrm>
            <a:off x="5562720" y="32767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Comic Sans MS"/>
              </a:rPr>
              <a:t>swap with partitioning ele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685800" y="5791320"/>
            <a:ext cx="7620120" cy="761760"/>
            <a:chOff x="685800" y="5791320"/>
            <a:chExt cx="7620120" cy="761760"/>
          </a:xfrm>
        </p:grpSpPr>
        <p:sp>
          <p:nvSpPr>
            <p:cNvPr id="633" name=""/>
            <p:cNvSpPr/>
            <p:nvPr/>
          </p:nvSpPr>
          <p:spPr>
            <a:xfrm>
              <a:off x="3809880" y="6248520"/>
              <a:ext cx="38124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343400" y="62485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85800" y="5791320"/>
              <a:ext cx="38088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21932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 elem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781680" y="5791320"/>
              <a:ext cx="381240" cy="3045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315200" y="57913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781680" y="6248520"/>
              <a:ext cx="381240" cy="304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315200" y="62485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809880" y="5791320"/>
              <a:ext cx="381240" cy="304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34340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572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"/>
          <p:cNvSpPr/>
          <p:nvPr/>
        </p:nvSpPr>
        <p:spPr>
          <a:xfrm>
            <a:off x="9907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15238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20574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909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4267080"/>
            <a:ext cx="5335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"/>
          <p:cNvSpPr/>
          <p:nvPr/>
        </p:nvSpPr>
        <p:spPr>
          <a:xfrm>
            <a:off x="36576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41911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"/>
          <p:cNvSpPr/>
          <p:nvPr/>
        </p:nvSpPr>
        <p:spPr>
          <a:xfrm>
            <a:off x="47242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"/>
          <p:cNvSpPr/>
          <p:nvPr/>
        </p:nvSpPr>
        <p:spPr>
          <a:xfrm>
            <a:off x="52578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57913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"/>
          <p:cNvSpPr/>
          <p:nvPr/>
        </p:nvSpPr>
        <p:spPr>
          <a:xfrm>
            <a:off x="63244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"/>
          <p:cNvSpPr/>
          <p:nvPr/>
        </p:nvSpPr>
        <p:spPr>
          <a:xfrm>
            <a:off x="68580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73915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"/>
          <p:cNvSpPr/>
          <p:nvPr/>
        </p:nvSpPr>
        <p:spPr>
          <a:xfrm>
            <a:off x="7924680" y="4267080"/>
            <a:ext cx="5335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How do we partition in-place efficiently?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 = rightmost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for larg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small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0">
              <a:lnSpc>
                <a:spcPts val="2599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"/>
          <p:cNvSpPr/>
          <p:nvPr/>
        </p:nvSpPr>
        <p:spPr>
          <a:xfrm>
            <a:off x="774720" y="1800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"/>
          <p:cNvSpPr/>
          <p:nvPr/>
        </p:nvSpPr>
        <p:spPr>
          <a:xfrm>
            <a:off x="744480" y="2882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8C32A-5B98-4CC7-861B-D8724BF194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artitioning in Quicksor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685800" y="5791320"/>
            <a:ext cx="7620120" cy="761760"/>
            <a:chOff x="685800" y="5791320"/>
            <a:chExt cx="7620120" cy="761760"/>
          </a:xfrm>
        </p:grpSpPr>
        <p:sp>
          <p:nvSpPr>
            <p:cNvPr id="663" name=""/>
            <p:cNvSpPr/>
            <p:nvPr/>
          </p:nvSpPr>
          <p:spPr>
            <a:xfrm>
              <a:off x="3809880" y="6248520"/>
              <a:ext cx="38124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343400" y="62485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85800" y="5791320"/>
              <a:ext cx="38088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21932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 elem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781680" y="5791320"/>
              <a:ext cx="381240" cy="3045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315200" y="57913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781680" y="6248520"/>
              <a:ext cx="381240" cy="304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315200" y="62485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809880" y="5791320"/>
              <a:ext cx="381240" cy="304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34340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5791320" y="33526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Comic Sans MS"/>
              </a:rPr>
              <a:t>partition is comple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"/>
          <p:cNvSpPr/>
          <p:nvPr/>
        </p:nvSpPr>
        <p:spPr>
          <a:xfrm>
            <a:off x="4572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"/>
          <p:cNvSpPr/>
          <p:nvPr/>
        </p:nvSpPr>
        <p:spPr>
          <a:xfrm>
            <a:off x="9907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"/>
          <p:cNvSpPr/>
          <p:nvPr/>
        </p:nvSpPr>
        <p:spPr>
          <a:xfrm>
            <a:off x="15238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"/>
          <p:cNvSpPr/>
          <p:nvPr/>
        </p:nvSpPr>
        <p:spPr>
          <a:xfrm>
            <a:off x="20574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"/>
          <p:cNvSpPr/>
          <p:nvPr/>
        </p:nvSpPr>
        <p:spPr>
          <a:xfrm>
            <a:off x="25909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"/>
          <p:cNvSpPr/>
          <p:nvPr/>
        </p:nvSpPr>
        <p:spPr>
          <a:xfrm>
            <a:off x="3124080" y="4267080"/>
            <a:ext cx="5335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"/>
          <p:cNvSpPr/>
          <p:nvPr/>
        </p:nvSpPr>
        <p:spPr>
          <a:xfrm>
            <a:off x="36576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"/>
          <p:cNvSpPr/>
          <p:nvPr/>
        </p:nvSpPr>
        <p:spPr>
          <a:xfrm>
            <a:off x="41911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"/>
          <p:cNvSpPr/>
          <p:nvPr/>
        </p:nvSpPr>
        <p:spPr>
          <a:xfrm>
            <a:off x="47242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"/>
          <p:cNvSpPr/>
          <p:nvPr/>
        </p:nvSpPr>
        <p:spPr>
          <a:xfrm>
            <a:off x="52578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"/>
          <p:cNvSpPr/>
          <p:nvPr/>
        </p:nvSpPr>
        <p:spPr>
          <a:xfrm>
            <a:off x="57913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"/>
          <p:cNvSpPr/>
          <p:nvPr/>
        </p:nvSpPr>
        <p:spPr>
          <a:xfrm>
            <a:off x="63244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"/>
          <p:cNvSpPr/>
          <p:nvPr/>
        </p:nvSpPr>
        <p:spPr>
          <a:xfrm>
            <a:off x="73915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"/>
          <p:cNvSpPr/>
          <p:nvPr/>
        </p:nvSpPr>
        <p:spPr>
          <a:xfrm>
            <a:off x="79246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How do we partition in-place efficiently?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 = rightmost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for larg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small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0">
              <a:lnSpc>
                <a:spcPts val="2599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"/>
          <p:cNvSpPr/>
          <p:nvPr/>
        </p:nvSpPr>
        <p:spPr>
          <a:xfrm>
            <a:off x="774720" y="1800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"/>
          <p:cNvSpPr/>
          <p:nvPr/>
        </p:nvSpPr>
        <p:spPr>
          <a:xfrm>
            <a:off x="744480" y="2882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FB709-A1ED-44C8-80ED-F7C2D23986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artitioning in Quicksor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52280" y="3505320"/>
            <a:ext cx="1295280" cy="685800"/>
            <a:chOff x="152280" y="3505320"/>
            <a:chExt cx="1295280" cy="685800"/>
          </a:xfrm>
        </p:grpSpPr>
        <p:sp>
          <p:nvSpPr>
            <p:cNvPr id="111" name=""/>
            <p:cNvSpPr/>
            <p:nvPr/>
          </p:nvSpPr>
          <p:spPr>
            <a:xfrm>
              <a:off x="609480" y="388656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2280" y="35053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85800" y="5791320"/>
            <a:ext cx="7620120" cy="761760"/>
            <a:chOff x="685800" y="5791320"/>
            <a:chExt cx="7620120" cy="761760"/>
          </a:xfrm>
        </p:grpSpPr>
        <p:sp>
          <p:nvSpPr>
            <p:cNvPr id="114" name=""/>
            <p:cNvSpPr/>
            <p:nvPr/>
          </p:nvSpPr>
          <p:spPr>
            <a:xfrm>
              <a:off x="3809880" y="6248520"/>
              <a:ext cx="38124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43400" y="62485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5800" y="5791320"/>
              <a:ext cx="38088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1932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 elem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781680" y="5791320"/>
              <a:ext cx="381240" cy="3045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15200" y="57913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81680" y="6248520"/>
              <a:ext cx="381240" cy="304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5200" y="62485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09880" y="5791320"/>
              <a:ext cx="381240" cy="304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34340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457200" y="426708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20574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25909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36576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41911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47242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52578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57913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>
            <a:off x="63244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"/>
          <p:cNvSpPr/>
          <p:nvPr/>
        </p:nvSpPr>
        <p:spPr>
          <a:xfrm>
            <a:off x="73915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4267080"/>
            <a:ext cx="5335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How do we partition in-place efficiently?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 = rightmost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for larg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small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0">
              <a:lnSpc>
                <a:spcPts val="2599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774720" y="1800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744480" y="2882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0DD92-6291-4ADD-B8AC-99AFFB8EC6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artitioning in Quicksor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85800" y="5791320"/>
            <a:ext cx="7620120" cy="761760"/>
            <a:chOff x="685800" y="5791320"/>
            <a:chExt cx="7620120" cy="761760"/>
          </a:xfrm>
        </p:grpSpPr>
        <p:sp>
          <p:nvSpPr>
            <p:cNvPr id="144" name=""/>
            <p:cNvSpPr/>
            <p:nvPr/>
          </p:nvSpPr>
          <p:spPr>
            <a:xfrm>
              <a:off x="3809880" y="6248520"/>
              <a:ext cx="38124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3400" y="62485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5800" y="5791320"/>
              <a:ext cx="38088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1932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 elem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81680" y="5791320"/>
              <a:ext cx="381240" cy="3045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315200" y="57913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781680" y="6248520"/>
              <a:ext cx="381240" cy="304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15200" y="62485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09880" y="5791320"/>
              <a:ext cx="381240" cy="304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4340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52280" y="3505320"/>
            <a:ext cx="1295280" cy="685800"/>
            <a:chOff x="152280" y="3505320"/>
            <a:chExt cx="1295280" cy="685800"/>
          </a:xfrm>
        </p:grpSpPr>
        <p:sp>
          <p:nvSpPr>
            <p:cNvPr id="155" name=""/>
            <p:cNvSpPr/>
            <p:nvPr/>
          </p:nvSpPr>
          <p:spPr>
            <a:xfrm>
              <a:off x="609480" y="388656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52280" y="35053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457200" y="426708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36576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41911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52578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57913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63244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7391520" y="4267080"/>
            <a:ext cx="533160" cy="3812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7924680" y="4267080"/>
            <a:ext cx="5335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How do we partition in-place efficiently?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 = rightmost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for larg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small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0">
              <a:lnSpc>
                <a:spcPts val="2599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774720" y="1800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744480" y="2882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12FC4-08AA-48FC-BDE2-651CF2F4E2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artitioning in Quicksor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85800" y="5791320"/>
            <a:ext cx="7620120" cy="761760"/>
            <a:chOff x="685800" y="5791320"/>
            <a:chExt cx="7620120" cy="761760"/>
          </a:xfrm>
        </p:grpSpPr>
        <p:sp>
          <p:nvSpPr>
            <p:cNvPr id="177" name=""/>
            <p:cNvSpPr/>
            <p:nvPr/>
          </p:nvSpPr>
          <p:spPr>
            <a:xfrm>
              <a:off x="3809880" y="6248520"/>
              <a:ext cx="38124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343400" y="62485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5800" y="5791320"/>
              <a:ext cx="38088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1932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 elem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81680" y="5791320"/>
              <a:ext cx="381240" cy="3045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15200" y="57913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81680" y="6248520"/>
              <a:ext cx="381240" cy="304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315200" y="62485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09880" y="5791320"/>
              <a:ext cx="381240" cy="304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34340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52280" y="3505320"/>
            <a:ext cx="1295280" cy="685800"/>
            <a:chOff x="152280" y="3505320"/>
            <a:chExt cx="1295280" cy="685800"/>
          </a:xfrm>
        </p:grpSpPr>
        <p:sp>
          <p:nvSpPr>
            <p:cNvPr id="188" name=""/>
            <p:cNvSpPr/>
            <p:nvPr/>
          </p:nvSpPr>
          <p:spPr>
            <a:xfrm>
              <a:off x="609480" y="388656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2280" y="35053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457200" y="426708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5909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31240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36576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41911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47242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52578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57913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63244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0" y="4267080"/>
            <a:ext cx="533520" cy="3812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73915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"/>
          <p:cNvSpPr/>
          <p:nvPr/>
        </p:nvSpPr>
        <p:spPr>
          <a:xfrm>
            <a:off x="7924680" y="4267080"/>
            <a:ext cx="5335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How do we partition in-place efficiently?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 = rightmost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for larg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small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0">
              <a:lnSpc>
                <a:spcPts val="2599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774720" y="1800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744480" y="2882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39A05-532F-4B0A-92F2-247C862F2E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artitioning in Quicksor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85800" y="5791320"/>
            <a:ext cx="7620120" cy="761760"/>
            <a:chOff x="685800" y="5791320"/>
            <a:chExt cx="7620120" cy="761760"/>
          </a:xfrm>
        </p:grpSpPr>
        <p:sp>
          <p:nvSpPr>
            <p:cNvPr id="210" name=""/>
            <p:cNvSpPr/>
            <p:nvPr/>
          </p:nvSpPr>
          <p:spPr>
            <a:xfrm>
              <a:off x="3809880" y="6248520"/>
              <a:ext cx="38124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43400" y="62485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5791320"/>
              <a:ext cx="38088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1932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 elem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781680" y="5791320"/>
              <a:ext cx="381240" cy="3045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315200" y="57913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81680" y="6248520"/>
              <a:ext cx="381240" cy="304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315200" y="62485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9880" y="5791320"/>
              <a:ext cx="381240" cy="304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4340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152280" y="3505320"/>
            <a:ext cx="1295280" cy="685800"/>
            <a:chOff x="152280" y="3505320"/>
            <a:chExt cx="1295280" cy="685800"/>
          </a:xfrm>
        </p:grpSpPr>
        <p:sp>
          <p:nvSpPr>
            <p:cNvPr id="221" name=""/>
            <p:cNvSpPr/>
            <p:nvPr/>
          </p:nvSpPr>
          <p:spPr>
            <a:xfrm>
              <a:off x="609480" y="388656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2280" y="35053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57200" y="426708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9907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/>
          <p:nvPr/>
        </p:nvSpPr>
        <p:spPr>
          <a:xfrm>
            <a:off x="25909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>
            <a:off x="31240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"/>
          <p:cNvSpPr/>
          <p:nvPr/>
        </p:nvSpPr>
        <p:spPr>
          <a:xfrm>
            <a:off x="36576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"/>
          <p:cNvSpPr/>
          <p:nvPr/>
        </p:nvSpPr>
        <p:spPr>
          <a:xfrm>
            <a:off x="41911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47242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"/>
          <p:cNvSpPr/>
          <p:nvPr/>
        </p:nvSpPr>
        <p:spPr>
          <a:xfrm>
            <a:off x="52578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57913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4267080"/>
            <a:ext cx="533520" cy="3812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"/>
          <p:cNvSpPr/>
          <p:nvPr/>
        </p:nvSpPr>
        <p:spPr>
          <a:xfrm>
            <a:off x="73915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"/>
          <p:cNvSpPr/>
          <p:nvPr/>
        </p:nvSpPr>
        <p:spPr>
          <a:xfrm>
            <a:off x="7924680" y="4267080"/>
            <a:ext cx="5335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019920" y="3505320"/>
            <a:ext cx="1295280" cy="685800"/>
            <a:chOff x="6019920" y="3505320"/>
            <a:chExt cx="1295280" cy="685800"/>
          </a:xfrm>
        </p:grpSpPr>
        <p:sp>
          <p:nvSpPr>
            <p:cNvPr id="239" name=""/>
            <p:cNvSpPr/>
            <p:nvPr/>
          </p:nvSpPr>
          <p:spPr>
            <a:xfrm>
              <a:off x="6477120" y="388656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019920" y="35053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How do we partition in-place efficiently?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 = rightmost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for larg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small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0">
              <a:lnSpc>
                <a:spcPts val="2599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"/>
          <p:cNvSpPr/>
          <p:nvPr/>
        </p:nvSpPr>
        <p:spPr>
          <a:xfrm>
            <a:off x="774720" y="1800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"/>
          <p:cNvSpPr/>
          <p:nvPr/>
        </p:nvSpPr>
        <p:spPr>
          <a:xfrm>
            <a:off x="744480" y="2882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86FD6-DE38-48CC-B505-D610FB9DA1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artitioning in Quicksor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85800" y="5791320"/>
            <a:ext cx="7620120" cy="761760"/>
            <a:chOff x="685800" y="5791320"/>
            <a:chExt cx="7620120" cy="761760"/>
          </a:xfrm>
        </p:grpSpPr>
        <p:sp>
          <p:nvSpPr>
            <p:cNvPr id="246" name=""/>
            <p:cNvSpPr/>
            <p:nvPr/>
          </p:nvSpPr>
          <p:spPr>
            <a:xfrm>
              <a:off x="3809880" y="6248520"/>
              <a:ext cx="38124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343400" y="62485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5800" y="5791320"/>
              <a:ext cx="38088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1932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 elem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781680" y="5791320"/>
              <a:ext cx="381240" cy="3045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15200" y="57913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81680" y="6248520"/>
              <a:ext cx="381240" cy="304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315200" y="62485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09880" y="5791320"/>
              <a:ext cx="381240" cy="304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34340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4572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/>
          <p:nvPr/>
        </p:nvSpPr>
        <p:spPr>
          <a:xfrm>
            <a:off x="9907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15238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20574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/>
          <p:nvPr/>
        </p:nvSpPr>
        <p:spPr>
          <a:xfrm>
            <a:off x="25909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>
            <a:off x="36576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41911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"/>
          <p:cNvSpPr/>
          <p:nvPr/>
        </p:nvSpPr>
        <p:spPr>
          <a:xfrm>
            <a:off x="47242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"/>
          <p:cNvSpPr/>
          <p:nvPr/>
        </p:nvSpPr>
        <p:spPr>
          <a:xfrm>
            <a:off x="52578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"/>
          <p:cNvSpPr/>
          <p:nvPr/>
        </p:nvSpPr>
        <p:spPr>
          <a:xfrm>
            <a:off x="57913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63244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"/>
          <p:cNvSpPr/>
          <p:nvPr/>
        </p:nvSpPr>
        <p:spPr>
          <a:xfrm>
            <a:off x="73915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7924680" y="4267080"/>
            <a:ext cx="5335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How do we partition in-place efficiently?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 = rightmost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for larg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small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0">
              <a:lnSpc>
                <a:spcPts val="2599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"/>
          <p:cNvSpPr/>
          <p:nvPr/>
        </p:nvSpPr>
        <p:spPr>
          <a:xfrm>
            <a:off x="774720" y="1800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744480" y="2882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4BFFD-CE68-4A2C-97F5-9AE3BAEA05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artitioning in Quicksor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85800" y="3505320"/>
            <a:ext cx="1295280" cy="685800"/>
            <a:chOff x="685800" y="3505320"/>
            <a:chExt cx="1295280" cy="685800"/>
          </a:xfrm>
        </p:grpSpPr>
        <p:sp>
          <p:nvSpPr>
            <p:cNvPr id="276" name=""/>
            <p:cNvSpPr/>
            <p:nvPr/>
          </p:nvSpPr>
          <p:spPr>
            <a:xfrm>
              <a:off x="1143000" y="388656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5800" y="35053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85800" y="5791320"/>
            <a:ext cx="7620120" cy="761760"/>
            <a:chOff x="685800" y="5791320"/>
            <a:chExt cx="7620120" cy="761760"/>
          </a:xfrm>
        </p:grpSpPr>
        <p:sp>
          <p:nvSpPr>
            <p:cNvPr id="279" name=""/>
            <p:cNvSpPr/>
            <p:nvPr/>
          </p:nvSpPr>
          <p:spPr>
            <a:xfrm>
              <a:off x="3809880" y="6248520"/>
              <a:ext cx="38124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43400" y="62485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5800" y="5791320"/>
              <a:ext cx="38088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1932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 elem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781680" y="5791320"/>
              <a:ext cx="381240" cy="3045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315200" y="57913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781680" y="6248520"/>
              <a:ext cx="381240" cy="304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315200" y="62485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809880" y="5791320"/>
              <a:ext cx="381240" cy="304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34340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4572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4267080"/>
            <a:ext cx="53316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15238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"/>
          <p:cNvSpPr/>
          <p:nvPr/>
        </p:nvSpPr>
        <p:spPr>
          <a:xfrm>
            <a:off x="20574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25909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>
            <a:off x="36576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"/>
          <p:cNvSpPr/>
          <p:nvPr/>
        </p:nvSpPr>
        <p:spPr>
          <a:xfrm>
            <a:off x="47242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52578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"/>
          <p:cNvSpPr/>
          <p:nvPr/>
        </p:nvSpPr>
        <p:spPr>
          <a:xfrm>
            <a:off x="57913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"/>
          <p:cNvSpPr/>
          <p:nvPr/>
        </p:nvSpPr>
        <p:spPr>
          <a:xfrm>
            <a:off x="63244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"/>
          <p:cNvSpPr/>
          <p:nvPr/>
        </p:nvSpPr>
        <p:spPr>
          <a:xfrm>
            <a:off x="73915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"/>
          <p:cNvSpPr/>
          <p:nvPr/>
        </p:nvSpPr>
        <p:spPr>
          <a:xfrm>
            <a:off x="7924680" y="4267080"/>
            <a:ext cx="5335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How do we partition in-place efficiently?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 = rightmost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for larg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small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0">
              <a:lnSpc>
                <a:spcPts val="2599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"/>
          <p:cNvSpPr/>
          <p:nvPr/>
        </p:nvSpPr>
        <p:spPr>
          <a:xfrm>
            <a:off x="774720" y="1800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"/>
          <p:cNvSpPr/>
          <p:nvPr/>
        </p:nvSpPr>
        <p:spPr>
          <a:xfrm>
            <a:off x="744480" y="2882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40DD8-0E9D-4078-8EBF-765865E7FC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artitioning in Quicksor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685800" y="5791320"/>
            <a:ext cx="7620120" cy="761760"/>
            <a:chOff x="685800" y="5791320"/>
            <a:chExt cx="7620120" cy="761760"/>
          </a:xfrm>
        </p:grpSpPr>
        <p:sp>
          <p:nvSpPr>
            <p:cNvPr id="309" name=""/>
            <p:cNvSpPr/>
            <p:nvPr/>
          </p:nvSpPr>
          <p:spPr>
            <a:xfrm>
              <a:off x="3809880" y="6248520"/>
              <a:ext cx="38124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343400" y="62485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85800" y="5791320"/>
              <a:ext cx="38088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1932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 elem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781680" y="5791320"/>
              <a:ext cx="381240" cy="3045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315200" y="57913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81680" y="6248520"/>
              <a:ext cx="381240" cy="304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315200" y="62485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809880" y="5791320"/>
              <a:ext cx="381240" cy="304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34340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685800" y="3505320"/>
            <a:ext cx="1295280" cy="685800"/>
            <a:chOff x="685800" y="3505320"/>
            <a:chExt cx="1295280" cy="685800"/>
          </a:xfrm>
        </p:grpSpPr>
        <p:sp>
          <p:nvSpPr>
            <p:cNvPr id="320" name=""/>
            <p:cNvSpPr/>
            <p:nvPr/>
          </p:nvSpPr>
          <p:spPr>
            <a:xfrm>
              <a:off x="1143000" y="388656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85800" y="35053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4572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"/>
          <p:cNvSpPr/>
          <p:nvPr/>
        </p:nvSpPr>
        <p:spPr>
          <a:xfrm>
            <a:off x="990720" y="4267080"/>
            <a:ext cx="53316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15238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"/>
          <p:cNvSpPr/>
          <p:nvPr/>
        </p:nvSpPr>
        <p:spPr>
          <a:xfrm>
            <a:off x="20574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"/>
          <p:cNvSpPr/>
          <p:nvPr/>
        </p:nvSpPr>
        <p:spPr>
          <a:xfrm>
            <a:off x="25909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31240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6576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"/>
          <p:cNvSpPr/>
          <p:nvPr/>
        </p:nvSpPr>
        <p:spPr>
          <a:xfrm>
            <a:off x="41911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"/>
          <p:cNvSpPr/>
          <p:nvPr/>
        </p:nvSpPr>
        <p:spPr>
          <a:xfrm>
            <a:off x="47242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52578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791320" y="4267080"/>
            <a:ext cx="533160" cy="3812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"/>
          <p:cNvSpPr/>
          <p:nvPr/>
        </p:nvSpPr>
        <p:spPr>
          <a:xfrm>
            <a:off x="63244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"/>
          <p:cNvSpPr/>
          <p:nvPr/>
        </p:nvSpPr>
        <p:spPr>
          <a:xfrm>
            <a:off x="68580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"/>
          <p:cNvSpPr/>
          <p:nvPr/>
        </p:nvSpPr>
        <p:spPr>
          <a:xfrm>
            <a:off x="7924680" y="4267080"/>
            <a:ext cx="5335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How do we partition in-place efficiently?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 = rightmost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for larg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small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0">
              <a:lnSpc>
                <a:spcPts val="2599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774720" y="1800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744480" y="2882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7E6CB-2301-45AA-B2BC-FC002866E8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artitioning in Quicksor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685800" y="5791320"/>
            <a:ext cx="7620120" cy="761760"/>
            <a:chOff x="685800" y="5791320"/>
            <a:chExt cx="7620120" cy="761760"/>
          </a:xfrm>
        </p:grpSpPr>
        <p:sp>
          <p:nvSpPr>
            <p:cNvPr id="342" name=""/>
            <p:cNvSpPr/>
            <p:nvPr/>
          </p:nvSpPr>
          <p:spPr>
            <a:xfrm>
              <a:off x="3809880" y="6248520"/>
              <a:ext cx="38124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343400" y="62485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85800" y="5791320"/>
              <a:ext cx="38088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1932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 elem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81680" y="5791320"/>
              <a:ext cx="381240" cy="3045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315200" y="57913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81680" y="6248520"/>
              <a:ext cx="381240" cy="304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15200" y="62485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809880" y="5791320"/>
              <a:ext cx="381240" cy="304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34340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85800" y="3505320"/>
            <a:ext cx="1295280" cy="685800"/>
            <a:chOff x="685800" y="3505320"/>
            <a:chExt cx="1295280" cy="685800"/>
          </a:xfrm>
        </p:grpSpPr>
        <p:sp>
          <p:nvSpPr>
            <p:cNvPr id="353" name=""/>
            <p:cNvSpPr/>
            <p:nvPr/>
          </p:nvSpPr>
          <p:spPr>
            <a:xfrm>
              <a:off x="1143000" y="388656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85800" y="35053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4572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990720" y="4267080"/>
            <a:ext cx="53316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15238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20574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"/>
          <p:cNvSpPr/>
          <p:nvPr/>
        </p:nvSpPr>
        <p:spPr>
          <a:xfrm>
            <a:off x="25909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"/>
          <p:cNvSpPr/>
          <p:nvPr/>
        </p:nvSpPr>
        <p:spPr>
          <a:xfrm>
            <a:off x="31240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>
            <a:off x="36576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41911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"/>
          <p:cNvSpPr/>
          <p:nvPr/>
        </p:nvSpPr>
        <p:spPr>
          <a:xfrm>
            <a:off x="47242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"/>
          <p:cNvSpPr/>
          <p:nvPr/>
        </p:nvSpPr>
        <p:spPr>
          <a:xfrm>
            <a:off x="5257800" y="4267080"/>
            <a:ext cx="533520" cy="3812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"/>
          <p:cNvSpPr/>
          <p:nvPr/>
        </p:nvSpPr>
        <p:spPr>
          <a:xfrm>
            <a:off x="57913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3244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"/>
          <p:cNvSpPr/>
          <p:nvPr/>
        </p:nvSpPr>
        <p:spPr>
          <a:xfrm>
            <a:off x="73915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"/>
          <p:cNvSpPr/>
          <p:nvPr/>
        </p:nvSpPr>
        <p:spPr>
          <a:xfrm>
            <a:off x="7924680" y="4267080"/>
            <a:ext cx="5335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4952880" y="3505320"/>
            <a:ext cx="1295280" cy="685800"/>
            <a:chOff x="4952880" y="3505320"/>
            <a:chExt cx="1295280" cy="685800"/>
          </a:xfrm>
        </p:grpSpPr>
        <p:sp>
          <p:nvSpPr>
            <p:cNvPr id="371" name=""/>
            <p:cNvSpPr/>
            <p:nvPr/>
          </p:nvSpPr>
          <p:spPr>
            <a:xfrm>
              <a:off x="5410080" y="388656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52880" y="35053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How do we partition in-place efficiently?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 = rightmost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for larg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small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0">
              <a:lnSpc>
                <a:spcPts val="2599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774720" y="1800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"/>
          <p:cNvSpPr/>
          <p:nvPr/>
        </p:nvSpPr>
        <p:spPr>
          <a:xfrm>
            <a:off x="744480" y="2882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F0135-C75D-4441-839C-B1A47957DB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19:32:41Z</dcterms:created>
  <dc:creator>Kevin Wayne</dc:creator>
  <dc:description/>
  <dc:language>en-US</dc:language>
  <cp:lastModifiedBy>Kevin Wayne</cp:lastModifiedBy>
  <dcterms:modified xsi:type="dcterms:W3CDTF">2005-09-26T16:34:18Z</dcterms:modified>
  <cp:revision>68</cp:revision>
  <dc:subject/>
  <dc:title>Computability</dc:title>
</cp:coreProperties>
</file>