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6D8C-8C30-4816-AAAB-A876A758F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8E65-D5FD-43DD-B1F1-0813149BC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71632-511B-45C5-A704-B2EF84C2F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031D-364D-476A-991A-3AAD39603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F48E-07AD-4ED1-A641-768F8117F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CF6B-414C-4997-B487-0E9598523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1E5B-3B4B-4809-9A33-3C025FAAD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6E06-484B-4362-86F6-40756EE9A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DF59-CF04-451D-861D-EA0EA19C1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0B21-8F66-485C-A4D0-406566570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40E3-DF81-4172-8111-8E99E3013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AD5E-BE9D-4D8F-9996-E73542DC9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F3AF-1F44-40FB-B6A8-A02E314C3B10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" y="4267080"/>
            <a:ext cx="8001000" cy="380880"/>
            <a:chOff x="457200" y="4267080"/>
            <a:chExt cx="8001000" cy="380880"/>
          </a:xfrm>
        </p:grpSpPr>
        <p:sp>
          <p:nvSpPr>
            <p:cNvPr id="81" name=""/>
            <p:cNvSpPr/>
            <p:nvPr/>
          </p:nvSpPr>
          <p:spPr>
            <a:xfrm>
              <a:off x="4572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907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38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574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576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911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242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578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913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2448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58000" y="426708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91520" y="426708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24680" y="4267080"/>
              <a:ext cx="53352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97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ACFA-4CE1-41E3-8B33-F771A0E66A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37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59C2-09E1-4B38-B6CF-B0E2D22426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40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DEA9-9547-4C0C-B9AC-65BAD42A1E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43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8526-5F65-453D-9A5E-AF8DB65C2B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468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F241-6B4B-4F47-A2FE-732769439E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498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01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4969-BAD2-4B2A-B5CA-9F670E4B39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31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542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27D5-5E51-4DE1-8927-85AB22B73E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64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575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4C19-C46E-4196-9388-E595DA7766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597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819520" y="3505320"/>
            <a:ext cx="1295280" cy="685800"/>
            <a:chOff x="2819520" y="3505320"/>
            <a:chExt cx="1295280" cy="685800"/>
          </a:xfrm>
        </p:grpSpPr>
        <p:sp>
          <p:nvSpPr>
            <p:cNvPr id="608" name=""/>
            <p:cNvSpPr/>
            <p:nvPr/>
          </p:nvSpPr>
          <p:spPr>
            <a:xfrm>
              <a:off x="32767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195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9EB7-7513-4D3C-A31F-67BFEC0CCB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23623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pointers cro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3809880"/>
            <a:ext cx="533520" cy="3812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5562720" y="3276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swap with partitioning el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633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8FE2-3521-493C-9E02-8E0298F561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663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5791320" y="3352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Comic Sans MS"/>
              </a:rPr>
              <a:t>partition is comple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21BE-2252-4616-B118-0517D8C60D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111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114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4145-3303-45D4-AAF7-58EA9F855A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144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155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3AA1-4501-4061-A17E-54E905E5BC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177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188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3533-99EF-43E5-AA0C-811780D2B0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210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52280" y="3505320"/>
            <a:ext cx="1295280" cy="685800"/>
            <a:chOff x="152280" y="3505320"/>
            <a:chExt cx="1295280" cy="685800"/>
          </a:xfrm>
        </p:grpSpPr>
        <p:sp>
          <p:nvSpPr>
            <p:cNvPr id="221" name=""/>
            <p:cNvSpPr/>
            <p:nvPr/>
          </p:nvSpPr>
          <p:spPr>
            <a:xfrm>
              <a:off x="6094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2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19920" y="3505320"/>
            <a:ext cx="1295280" cy="685800"/>
            <a:chOff x="6019920" y="3505320"/>
            <a:chExt cx="1295280" cy="685800"/>
          </a:xfrm>
        </p:grpSpPr>
        <p:sp>
          <p:nvSpPr>
            <p:cNvPr id="239" name=""/>
            <p:cNvSpPr/>
            <p:nvPr/>
          </p:nvSpPr>
          <p:spPr>
            <a:xfrm>
              <a:off x="647712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1992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CD72-4739-4AA3-A4C3-A6F6C8820F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246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7866-47CD-46BD-90AA-2E1BAAC47A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85800" y="3505320"/>
            <a:ext cx="1295280" cy="685800"/>
            <a:chOff x="685800" y="3505320"/>
            <a:chExt cx="1295280" cy="685800"/>
          </a:xfrm>
        </p:grpSpPr>
        <p:sp>
          <p:nvSpPr>
            <p:cNvPr id="276" name=""/>
            <p:cNvSpPr/>
            <p:nvPr/>
          </p:nvSpPr>
          <p:spPr>
            <a:xfrm>
              <a:off x="114300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279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FB72-0CC2-418B-881B-E1ACC5DBD5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309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85800" y="3505320"/>
            <a:ext cx="1295280" cy="685800"/>
            <a:chOff x="685800" y="3505320"/>
            <a:chExt cx="1295280" cy="685800"/>
          </a:xfrm>
        </p:grpSpPr>
        <p:sp>
          <p:nvSpPr>
            <p:cNvPr id="320" name=""/>
            <p:cNvSpPr/>
            <p:nvPr/>
          </p:nvSpPr>
          <p:spPr>
            <a:xfrm>
              <a:off x="114300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580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3C86-15ED-4015-A08B-AACD85E631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artitioning in Quicksor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5791320"/>
            <a:ext cx="7620120" cy="761760"/>
            <a:chOff x="685800" y="5791320"/>
            <a:chExt cx="7620120" cy="761760"/>
          </a:xfrm>
        </p:grpSpPr>
        <p:sp>
          <p:nvSpPr>
            <p:cNvPr id="342" name=""/>
            <p:cNvSpPr/>
            <p:nvPr/>
          </p:nvSpPr>
          <p:spPr>
            <a:xfrm>
              <a:off x="3809880" y="6248520"/>
              <a:ext cx="381240" cy="30456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3400" y="62485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5800" y="5791320"/>
              <a:ext cx="38088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932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tion eleme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81680" y="5791320"/>
              <a:ext cx="381240" cy="3045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15200" y="57913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81680" y="6248520"/>
              <a:ext cx="381240" cy="30456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15200" y="624852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9880" y="5791320"/>
              <a:ext cx="381240" cy="304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43400" y="5791320"/>
              <a:ext cx="1981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partitioned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85800" y="3505320"/>
            <a:ext cx="1295280" cy="685800"/>
            <a:chOff x="685800" y="3505320"/>
            <a:chExt cx="1295280" cy="685800"/>
          </a:xfrm>
        </p:grpSpPr>
        <p:sp>
          <p:nvSpPr>
            <p:cNvPr id="353" name=""/>
            <p:cNvSpPr/>
            <p:nvPr/>
          </p:nvSpPr>
          <p:spPr>
            <a:xfrm>
              <a:off x="114300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580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72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426708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31240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365760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4191120" y="426708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426708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57913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0" y="426708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7391520" y="426708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7924680" y="4267080"/>
            <a:ext cx="5335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952880" y="3505320"/>
            <a:ext cx="1295280" cy="685800"/>
            <a:chOff x="4952880" y="3505320"/>
            <a:chExt cx="1295280" cy="685800"/>
          </a:xfrm>
        </p:grpSpPr>
        <p:sp>
          <p:nvSpPr>
            <p:cNvPr id="371" name=""/>
            <p:cNvSpPr/>
            <p:nvPr/>
          </p:nvSpPr>
          <p:spPr>
            <a:xfrm>
              <a:off x="5410080" y="388656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2880" y="35053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How do we partition in-place efficiently?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 = rightmost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for larg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smaller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0">
              <a:lnSpc>
                <a:spcPts val="2599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774720" y="180036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744480" y="2882880"/>
            <a:ext cx="8892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D095-89CA-4DA8-97E0-70528D6F74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9:32:41Z</dcterms:created>
  <dc:creator>Kevin Wayne</dc:creator>
  <dc:description/>
  <dc:language>en-US</dc:language>
  <cp:lastModifiedBy>Kevin Wayne</cp:lastModifiedBy>
  <dcterms:modified xsi:type="dcterms:W3CDTF">2005-09-26T16:34:18Z</dcterms:modified>
  <cp:revision>68</cp:revision>
  <dc:subject/>
  <dc:title>Computability</dc:title>
</cp:coreProperties>
</file>