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4E9D-A861-4B92-9618-77EEE88DE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7912-8B48-4A84-84F4-46407DE3F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A038-3095-4999-8137-3708F2737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4060-0F1A-4AA8-A52F-0D38D739E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28A4-F192-4B1D-B35B-C111275C7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81B8-315B-40DE-8ACD-DBE9C8CEE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7555-F900-4DA9-9A9A-E39E3B414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9731-5BE5-4917-BA6C-D5D7F3C2A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F8F8-6B31-44DF-A4A4-FEB9B108A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2D24-0E3B-44A8-AF10-7E406CDE9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D4A4-D4AE-4E2C-85C1-546EE8B79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CC6C-05A7-4DCD-8370-37033D4BD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89FA-4FBB-4F82-B5A5-4344D9F91515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066680" y="4343400"/>
            <a:ext cx="2667240" cy="380880"/>
            <a:chOff x="1066680" y="4343400"/>
            <a:chExt cx="2667240" cy="380880"/>
          </a:xfrm>
        </p:grpSpPr>
        <p:sp>
          <p:nvSpPr>
            <p:cNvPr id="79" name=""/>
            <p:cNvSpPr/>
            <p:nvPr/>
          </p:nvSpPr>
          <p:spPr>
            <a:xfrm>
              <a:off x="106668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020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434340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688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190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35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65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65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3865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470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30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35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828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35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28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688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828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94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354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94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354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43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7652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43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5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43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6:14:10Z</dcterms:created>
  <dc:creator>Kevin Wayne</dc:creator>
  <dc:description/>
  <dc:language>en-US</dc:language>
  <cp:lastModifiedBy>Kevin Wayne</cp:lastModifiedBy>
  <dcterms:modified xsi:type="dcterms:W3CDTF">2006-10-10T13:15:52Z</dcterms:modified>
  <cp:revision>4</cp:revision>
  <dc:subject/>
  <dc:title>Merging</dc:title>
</cp:coreProperties>
</file>