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3283-8530-4304-8D67-23D8B5EAE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B5E6-3012-4BC6-A242-00CD7F25B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7EF22-8CB6-414F-9788-8B108CF8D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2C17-01CD-4724-908C-9E4C8BC66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718F-F825-4122-A7DF-511589A92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4B1AA-EB73-406D-BA1B-E3579B29F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A16E-A065-4E59-B2B1-FACAAE548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F56F-CF00-4C58-ABA2-64CE90289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3161-552D-4AC2-B197-3FEDC1022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8DED-ACA2-49DF-A5EE-3E4AE337C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60D3-BF9B-40C4-9E95-15CE3D792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0BC5-BE21-4736-9DF4-185D2878B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DA6C-B722-404C-A196-E28C17F93F41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066680" y="4343400"/>
            <a:ext cx="2667240" cy="380880"/>
            <a:chOff x="1066680" y="4343400"/>
            <a:chExt cx="2667240" cy="380880"/>
          </a:xfrm>
        </p:grpSpPr>
        <p:sp>
          <p:nvSpPr>
            <p:cNvPr id="79" name=""/>
            <p:cNvSpPr/>
            <p:nvPr/>
          </p:nvSpPr>
          <p:spPr>
            <a:xfrm>
              <a:off x="1066680" y="434340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00200" y="434340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33720" y="4343400"/>
              <a:ext cx="53316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66880" y="434340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4343400"/>
              <a:ext cx="533520" cy="380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190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356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656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6576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38656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470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30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356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828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356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828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688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828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944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354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9440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354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4376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7652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4376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0666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337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434340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00800" y="434340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23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290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2920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5880" y="5334120"/>
            <a:ext cx="53352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Merging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rge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track of smallest element in each sorted hal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smaller of two elem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d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5334120"/>
            <a:ext cx="53316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6568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4376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6:14:10Z</dcterms:created>
  <dc:creator>Kevin Wayne</dc:creator>
  <dc:description/>
  <dc:language>en-US</dc:language>
  <cp:lastModifiedBy>Kevin Wayne</cp:lastModifiedBy>
  <dcterms:modified xsi:type="dcterms:W3CDTF">2006-10-10T13:15:52Z</dcterms:modified>
  <cp:revision>4</cp:revision>
  <dc:subject/>
  <dc:title>Merging</dc:title>
</cp:coreProperties>
</file>