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39C0-9639-4A6F-B90E-37FC63052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93FA-DAC9-453B-98AA-998AD0C4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E908-1513-4835-9199-13D5DF105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B9FD-AD02-416C-AF59-462FB28DA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3668-31EE-4CAD-9CFF-BD6A39E8E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009B-4E45-49F6-8680-D8F5AE828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594C-A54A-4157-87B1-8744BA1F5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555B-162B-431B-A497-60C54B12B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641E-9148-41DA-9806-8CEAC1A8F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0CDE-BB4F-46A3-ACD2-B50744C5B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DB5A-201A-404B-B3E9-4F3BBA542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C63D-3685-44C8-9F87-04EDDD941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FAE2-74F0-4B6E-8E7A-F4DD75EBBE10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066680" y="4343400"/>
            <a:ext cx="2667240" cy="380880"/>
            <a:chOff x="1066680" y="4343400"/>
            <a:chExt cx="2667240" cy="380880"/>
          </a:xfrm>
        </p:grpSpPr>
        <p:sp>
          <p:nvSpPr>
            <p:cNvPr id="79" name=""/>
            <p:cNvSpPr/>
            <p:nvPr/>
          </p:nvSpPr>
          <p:spPr>
            <a:xfrm>
              <a:off x="106668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34340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90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65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70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30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688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94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354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94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354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765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6:14:10Z</dcterms:created>
  <dc:creator>Kevin Wayne</dc:creator>
  <dc:description/>
  <dc:language>en-US</dc:language>
  <cp:lastModifiedBy>Kevin Wayne</cp:lastModifiedBy>
  <dcterms:modified xsi:type="dcterms:W3CDTF">2006-10-10T13:15:52Z</dcterms:modified>
  <cp:revision>4</cp:revision>
  <dc:subject/>
  <dc:title>Merging</dc:title>
</cp:coreProperties>
</file>