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2DB7-B3A5-42E1-883D-EDD0F86F4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0395-CB04-4232-AA4F-D083369E0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24A7-0AFD-4C17-88D5-492D1AF67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9D70-64D1-45C6-9D7A-9C2B310AB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E4B6-C6B1-44DA-BA28-D360DB339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FF4D-C046-404E-890A-3DC747C0F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01BB-DD05-4348-830A-A2D86B53C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A9E7-DB4D-4F84-8CF0-A2B5A7B28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6A69-20D3-4411-AF51-1120E8F78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D196-C092-47C7-8A99-2886541B3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F6D7-58DA-4EFB-A911-CB5DA7EC4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64C4-CC0A-484B-BC42-A35763A62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451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spcBef>
                <a:spcPts val="451"/>
              </a:spcBef>
              <a:buClr>
                <a:srgbClr val="0066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spcBef>
                <a:spcPts val="451"/>
              </a:spcBef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spcBef>
                <a:spcPts val="451"/>
              </a:spcBef>
              <a:buClr>
                <a:srgbClr val="ff66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C78D-8B4D-411A-A571-FAB12013C55F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2340000" cy="41785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inceton University     •     COS 226     •     Algorithms and Data Structures     •     Spring 2003     •    http://www.Princeton.EDU/~c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8" name=""/>
          <p:cNvCxnSpPr>
            <a:stCxn id="81" idx="6"/>
            <a:endCxn id="84" idx="1"/>
          </p:cNvCxnSpPr>
          <p:nvPr/>
        </p:nvCxnSpPr>
        <p:spPr>
          <a:xfrm>
            <a:off x="4313160" y="1534320"/>
            <a:ext cx="1424520" cy="10047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81" idx="5"/>
            <a:endCxn id="85" idx="0"/>
          </p:cNvCxnSpPr>
          <p:nvPr/>
        </p:nvCxnSpPr>
        <p:spPr>
          <a:xfrm>
            <a:off x="4273200" y="1631520"/>
            <a:ext cx="460440" cy="8676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81" idx="4"/>
            <a:endCxn id="86" idx="0"/>
          </p:cNvCxnSpPr>
          <p:nvPr/>
        </p:nvCxnSpPr>
        <p:spPr>
          <a:xfrm>
            <a:off x="4176000" y="1671480"/>
            <a:ext cx="360" cy="26150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83" idx="7"/>
            <a:endCxn id="82" idx="4"/>
          </p:cNvCxnSpPr>
          <p:nvPr/>
        </p:nvCxnSpPr>
        <p:spPr>
          <a:xfrm flipV="1">
            <a:off x="6480000" y="2773440"/>
            <a:ext cx="365040" cy="746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87" idx="6"/>
            <a:endCxn id="83" idx="2"/>
          </p:cNvCxnSpPr>
          <p:nvPr/>
        </p:nvCxnSpPr>
        <p:spPr>
          <a:xfrm>
            <a:off x="5418000" y="3617280"/>
            <a:ext cx="827640" cy="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1" idx="7"/>
            <a:endCxn id="82" idx="1"/>
          </p:cNvCxnSpPr>
          <p:nvPr/>
        </p:nvCxnSpPr>
        <p:spPr>
          <a:xfrm>
            <a:off x="4273200" y="1437120"/>
            <a:ext cx="2474280" cy="11019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6" idx="6"/>
            <a:endCxn id="83" idx="3"/>
          </p:cNvCxnSpPr>
          <p:nvPr/>
        </p:nvCxnSpPr>
        <p:spPr>
          <a:xfrm flipV="1">
            <a:off x="4313160" y="3714480"/>
            <a:ext cx="1972440" cy="7095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5" idx="6"/>
            <a:endCxn id="84" idx="2"/>
          </p:cNvCxnSpPr>
          <p:nvPr/>
        </p:nvCxnSpPr>
        <p:spPr>
          <a:xfrm>
            <a:off x="4870440" y="2636280"/>
            <a:ext cx="827280" cy="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87" idx="0"/>
            <a:endCxn id="84" idx="3"/>
          </p:cNvCxnSpPr>
          <p:nvPr/>
        </p:nvCxnSpPr>
        <p:spPr>
          <a:xfrm flipV="1">
            <a:off x="5280840" y="2733480"/>
            <a:ext cx="456840" cy="746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3" idx="1"/>
            <a:endCxn id="84" idx="5"/>
          </p:cNvCxnSpPr>
          <p:nvPr/>
        </p:nvCxnSpPr>
        <p:spPr>
          <a:xfrm flipH="1" flipV="1">
            <a:off x="5932080" y="2733480"/>
            <a:ext cx="353520" cy="7866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2A05-91C8-496D-8503-271C5FE4D6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7" name=""/>
          <p:cNvCxnSpPr>
            <a:stCxn id="410" idx="6"/>
            <a:endCxn id="413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410" idx="5"/>
            <a:endCxn id="414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410" idx="4"/>
            <a:endCxn id="415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412" idx="7"/>
            <a:endCxn id="411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416" idx="6"/>
            <a:endCxn id="412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10" idx="7"/>
            <a:endCxn id="411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415" idx="6"/>
            <a:endCxn id="412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24" name=""/>
          <p:cNvCxnSpPr>
            <a:stCxn id="414" idx="6"/>
            <a:endCxn id="413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16" idx="0"/>
            <a:endCxn id="413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26" name=""/>
          <p:cNvCxnSpPr>
            <a:stCxn id="412" idx="1"/>
            <a:endCxn id="413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27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430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8191440" y="1460520"/>
            <a:ext cx="762120" cy="671040"/>
            <a:chOff x="8191440" y="1460520"/>
            <a:chExt cx="762120" cy="671040"/>
          </a:xfrm>
        </p:grpSpPr>
        <p:sp>
          <p:nvSpPr>
            <p:cNvPr id="454" name=""/>
            <p:cNvSpPr/>
            <p:nvPr/>
          </p:nvSpPr>
          <p:spPr>
            <a:xfrm>
              <a:off x="8191440" y="146052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6200000">
              <a:off x="8420040" y="190296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379D-E46B-47D2-8A6D-63DBFE7015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5" name=""/>
          <p:cNvCxnSpPr>
            <a:stCxn id="458" idx="6"/>
            <a:endCxn id="461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58" idx="5"/>
            <a:endCxn id="462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67" name=""/>
          <p:cNvCxnSpPr>
            <a:stCxn id="458" idx="4"/>
            <a:endCxn id="463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68" name=""/>
          <p:cNvCxnSpPr>
            <a:stCxn id="460" idx="7"/>
            <a:endCxn id="459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4" idx="6"/>
            <a:endCxn id="460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58" idx="7"/>
            <a:endCxn id="459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63" idx="6"/>
            <a:endCxn id="460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62" idx="6"/>
            <a:endCxn id="461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4" idx="0"/>
            <a:endCxn id="461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60" idx="1"/>
            <a:endCxn id="461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478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8191440" y="1816200"/>
            <a:ext cx="762120" cy="671040"/>
            <a:chOff x="8191440" y="1816200"/>
            <a:chExt cx="762120" cy="671040"/>
          </a:xfrm>
        </p:grpSpPr>
        <p:sp>
          <p:nvSpPr>
            <p:cNvPr id="501" name=""/>
            <p:cNvSpPr/>
            <p:nvPr/>
          </p:nvSpPr>
          <p:spPr>
            <a:xfrm>
              <a:off x="8191440" y="18162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16200000">
              <a:off x="8420040" y="225864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2E6D-0E75-4CAC-B4C2-1E30F58527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2" name=""/>
          <p:cNvCxnSpPr>
            <a:stCxn id="505" idx="6"/>
            <a:endCxn id="508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3" name=""/>
          <p:cNvCxnSpPr>
            <a:stCxn id="505" idx="5"/>
            <a:endCxn id="509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05" idx="4"/>
            <a:endCxn id="510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507" idx="7"/>
            <a:endCxn id="506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6" name=""/>
          <p:cNvCxnSpPr>
            <a:stCxn id="511" idx="6"/>
            <a:endCxn id="507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505" idx="7"/>
            <a:endCxn id="506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10" idx="6"/>
            <a:endCxn id="507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9" name=""/>
          <p:cNvCxnSpPr>
            <a:stCxn id="509" idx="6"/>
            <a:endCxn id="508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1" idx="0"/>
            <a:endCxn id="508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stCxn id="507" idx="1"/>
            <a:endCxn id="508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546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8191440" y="1473120"/>
            <a:ext cx="762120" cy="671400"/>
            <a:chOff x="8191440" y="1473120"/>
            <a:chExt cx="762120" cy="671400"/>
          </a:xfrm>
        </p:grpSpPr>
        <p:sp>
          <p:nvSpPr>
            <p:cNvPr id="551" name=""/>
            <p:cNvSpPr/>
            <p:nvPr/>
          </p:nvSpPr>
          <p:spPr>
            <a:xfrm>
              <a:off x="8191440" y="147312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6200000">
              <a:off x="8420040" y="191592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5B3E-570B-439D-A706-AE86BF2E97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2" name=""/>
          <p:cNvCxnSpPr>
            <a:stCxn id="555" idx="6"/>
            <a:endCxn id="558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55" idx="5"/>
            <a:endCxn id="559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55" idx="4"/>
            <a:endCxn id="560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57" idx="7"/>
            <a:endCxn id="556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61" idx="6"/>
            <a:endCxn id="557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55" idx="7"/>
            <a:endCxn id="556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60" idx="6"/>
            <a:endCxn id="557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59" idx="6"/>
            <a:endCxn id="558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70" name=""/>
          <p:cNvCxnSpPr>
            <a:stCxn id="561" idx="0"/>
            <a:endCxn id="558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71" name=""/>
          <p:cNvCxnSpPr>
            <a:stCxn id="557" idx="1"/>
            <a:endCxn id="558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572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598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8381880" y="1905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8191440" y="1066680"/>
            <a:ext cx="762120" cy="671400"/>
            <a:chOff x="8191440" y="1066680"/>
            <a:chExt cx="762120" cy="671400"/>
          </a:xfrm>
        </p:grpSpPr>
        <p:sp>
          <p:nvSpPr>
            <p:cNvPr id="604" name=""/>
            <p:cNvSpPr/>
            <p:nvPr/>
          </p:nvSpPr>
          <p:spPr>
            <a:xfrm>
              <a:off x="8191440" y="10666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6200000">
              <a:off x="8420040" y="150948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52E6-0C86-4EA4-8ED9-94C64B4DAF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5" name=""/>
          <p:cNvCxnSpPr>
            <a:stCxn id="608" idx="6"/>
            <a:endCxn id="611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608" idx="5"/>
            <a:endCxn id="612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8" idx="4"/>
            <a:endCxn id="613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610" idx="7"/>
            <a:endCxn id="609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614" idx="6"/>
            <a:endCxn id="610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608" idx="7"/>
            <a:endCxn id="609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613" idx="6"/>
            <a:endCxn id="610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612" idx="6"/>
            <a:endCxn id="611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614" idx="0"/>
            <a:endCxn id="611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610" idx="1"/>
            <a:endCxn id="611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625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653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>
            <a:off x="8381880" y="1905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8381880" y="1523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8191440" y="698400"/>
            <a:ext cx="762120" cy="671400"/>
            <a:chOff x="8191440" y="698400"/>
            <a:chExt cx="762120" cy="671400"/>
          </a:xfrm>
        </p:grpSpPr>
        <p:sp>
          <p:nvSpPr>
            <p:cNvPr id="660" name=""/>
            <p:cNvSpPr/>
            <p:nvPr/>
          </p:nvSpPr>
          <p:spPr>
            <a:xfrm>
              <a:off x="8191440" y="6984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6200000">
              <a:off x="8420040" y="114120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7BF9-B297-4D69-8AFE-B0C90D98F1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1" name=""/>
          <p:cNvCxnSpPr>
            <a:stCxn id="664" idx="6"/>
            <a:endCxn id="667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64" idx="5"/>
            <a:endCxn id="668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64" idx="4"/>
            <a:endCxn id="669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66" idx="7"/>
            <a:endCxn id="665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5" name=""/>
          <p:cNvCxnSpPr>
            <a:stCxn id="670" idx="6"/>
            <a:endCxn id="666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6" name=""/>
          <p:cNvCxnSpPr>
            <a:stCxn id="664" idx="7"/>
            <a:endCxn id="665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69" idx="6"/>
            <a:endCxn id="666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8" name=""/>
          <p:cNvCxnSpPr>
            <a:stCxn id="668" idx="6"/>
            <a:endCxn id="667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9" name=""/>
          <p:cNvCxnSpPr>
            <a:stCxn id="670" idx="0"/>
            <a:endCxn id="667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80" name=""/>
          <p:cNvCxnSpPr>
            <a:stCxn id="666" idx="1"/>
            <a:endCxn id="667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681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709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8381880" y="1905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8191440" y="1066680"/>
            <a:ext cx="762120" cy="671400"/>
            <a:chOff x="8191440" y="1066680"/>
            <a:chExt cx="762120" cy="671400"/>
          </a:xfrm>
        </p:grpSpPr>
        <p:sp>
          <p:nvSpPr>
            <p:cNvPr id="715" name=""/>
            <p:cNvSpPr/>
            <p:nvPr/>
          </p:nvSpPr>
          <p:spPr>
            <a:xfrm>
              <a:off x="8191440" y="10666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16200000">
              <a:off x="8420040" y="150948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4431-FFF4-4F1E-B349-B8D2125A45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18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26" name=""/>
          <p:cNvCxnSpPr>
            <a:stCxn id="719" idx="6"/>
            <a:endCxn id="722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19" idx="5"/>
            <a:endCxn id="723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28" name=""/>
          <p:cNvCxnSpPr>
            <a:stCxn id="719" idx="4"/>
            <a:endCxn id="724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29" name=""/>
          <p:cNvCxnSpPr>
            <a:stCxn id="721" idx="7"/>
            <a:endCxn id="720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stCxn id="725" idx="6"/>
            <a:endCxn id="721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31" name=""/>
          <p:cNvCxnSpPr>
            <a:stCxn id="719" idx="7"/>
            <a:endCxn id="720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24" idx="6"/>
            <a:endCxn id="721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23" idx="6"/>
            <a:endCxn id="722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34" name=""/>
          <p:cNvCxnSpPr>
            <a:stCxn id="725" idx="0"/>
            <a:endCxn id="722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35" name=""/>
          <p:cNvCxnSpPr>
            <a:stCxn id="721" idx="1"/>
            <a:endCxn id="722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736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764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8191440" y="1498680"/>
            <a:ext cx="762120" cy="671040"/>
            <a:chOff x="8191440" y="1498680"/>
            <a:chExt cx="762120" cy="671040"/>
          </a:xfrm>
        </p:grpSpPr>
        <p:sp>
          <p:nvSpPr>
            <p:cNvPr id="769" name=""/>
            <p:cNvSpPr/>
            <p:nvPr/>
          </p:nvSpPr>
          <p:spPr>
            <a:xfrm>
              <a:off x="8191440" y="14986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6200000">
              <a:off x="8420040" y="194112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2A85-F836-4ADC-BEB3-63900B8C7E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72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80" name=""/>
          <p:cNvCxnSpPr>
            <a:stCxn id="773" idx="6"/>
            <a:endCxn id="776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1" name=""/>
          <p:cNvCxnSpPr>
            <a:stCxn id="773" idx="5"/>
            <a:endCxn id="777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2" name=""/>
          <p:cNvCxnSpPr>
            <a:stCxn id="773" idx="4"/>
            <a:endCxn id="778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3" name=""/>
          <p:cNvCxnSpPr>
            <a:stCxn id="775" idx="7"/>
            <a:endCxn id="774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4" name=""/>
          <p:cNvCxnSpPr>
            <a:stCxn id="779" idx="6"/>
            <a:endCxn id="775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5" name=""/>
          <p:cNvCxnSpPr>
            <a:stCxn id="773" idx="7"/>
            <a:endCxn id="774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6" name=""/>
          <p:cNvCxnSpPr>
            <a:stCxn id="778" idx="6"/>
            <a:endCxn id="775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7" name=""/>
          <p:cNvCxnSpPr>
            <a:stCxn id="777" idx="6"/>
            <a:endCxn id="776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8" name=""/>
          <p:cNvCxnSpPr>
            <a:stCxn id="779" idx="0"/>
            <a:endCxn id="776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9" name=""/>
          <p:cNvCxnSpPr>
            <a:stCxn id="775" idx="1"/>
            <a:endCxn id="776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790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818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8191440" y="1866960"/>
            <a:ext cx="762120" cy="671040"/>
            <a:chOff x="8191440" y="1866960"/>
            <a:chExt cx="762120" cy="671040"/>
          </a:xfrm>
        </p:grpSpPr>
        <p:sp>
          <p:nvSpPr>
            <p:cNvPr id="822" name=""/>
            <p:cNvSpPr/>
            <p:nvPr/>
          </p:nvSpPr>
          <p:spPr>
            <a:xfrm>
              <a:off x="8191440" y="186696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16200000">
              <a:off x="8420040" y="230940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4C23-FBFE-4561-A9FC-17B6B6D850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25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33" name=""/>
          <p:cNvCxnSpPr>
            <a:stCxn id="826" idx="6"/>
            <a:endCxn id="829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34" name=""/>
          <p:cNvCxnSpPr>
            <a:stCxn id="826" idx="5"/>
            <a:endCxn id="830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35" name=""/>
          <p:cNvCxnSpPr>
            <a:stCxn id="826" idx="4"/>
            <a:endCxn id="831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36" name=""/>
          <p:cNvCxnSpPr>
            <a:stCxn id="828" idx="7"/>
            <a:endCxn id="827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37" name=""/>
          <p:cNvCxnSpPr>
            <a:stCxn id="832" idx="6"/>
            <a:endCxn id="828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38" name=""/>
          <p:cNvCxnSpPr>
            <a:stCxn id="826" idx="7"/>
            <a:endCxn id="827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39" name=""/>
          <p:cNvCxnSpPr>
            <a:stCxn id="831" idx="6"/>
            <a:endCxn id="828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40" name=""/>
          <p:cNvCxnSpPr>
            <a:stCxn id="830" idx="6"/>
            <a:endCxn id="829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41" name=""/>
          <p:cNvCxnSpPr>
            <a:stCxn id="832" idx="0"/>
            <a:endCxn id="829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28" idx="1"/>
            <a:endCxn id="829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871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 4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8191440" y="2235240"/>
            <a:ext cx="762120" cy="671040"/>
            <a:chOff x="8191440" y="2235240"/>
            <a:chExt cx="762120" cy="671040"/>
          </a:xfrm>
        </p:grpSpPr>
        <p:sp>
          <p:nvSpPr>
            <p:cNvPr id="874" name=""/>
            <p:cNvSpPr/>
            <p:nvPr/>
          </p:nvSpPr>
          <p:spPr>
            <a:xfrm>
              <a:off x="8191440" y="223524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6200000">
              <a:off x="8420040" y="267768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88AD-8877-4724-9036-C8365128C1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77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85" name=""/>
          <p:cNvCxnSpPr>
            <a:stCxn id="878" idx="6"/>
            <a:endCxn id="881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86" name=""/>
          <p:cNvCxnSpPr>
            <a:stCxn id="878" idx="5"/>
            <a:endCxn id="882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87" name=""/>
          <p:cNvCxnSpPr>
            <a:stCxn id="878" idx="4"/>
            <a:endCxn id="883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88" name=""/>
          <p:cNvCxnSpPr>
            <a:stCxn id="880" idx="7"/>
            <a:endCxn id="879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89" name=""/>
          <p:cNvCxnSpPr>
            <a:stCxn id="884" idx="6"/>
            <a:endCxn id="880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90" name=""/>
          <p:cNvCxnSpPr>
            <a:stCxn id="878" idx="7"/>
            <a:endCxn id="879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3" idx="6"/>
            <a:endCxn id="880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92" name=""/>
          <p:cNvCxnSpPr>
            <a:stCxn id="882" idx="6"/>
            <a:endCxn id="881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93" name=""/>
          <p:cNvCxnSpPr>
            <a:stCxn id="884" idx="0"/>
            <a:endCxn id="881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94" name=""/>
          <p:cNvCxnSpPr>
            <a:stCxn id="880" idx="1"/>
            <a:endCxn id="881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922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 4 5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8191440" y="2654280"/>
            <a:ext cx="762120" cy="671040"/>
            <a:chOff x="8191440" y="2654280"/>
            <a:chExt cx="762120" cy="671040"/>
          </a:xfrm>
        </p:grpSpPr>
        <p:sp>
          <p:nvSpPr>
            <p:cNvPr id="925" name=""/>
            <p:cNvSpPr/>
            <p:nvPr/>
          </p:nvSpPr>
          <p:spPr>
            <a:xfrm>
              <a:off x="8191440" y="26542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16200000">
              <a:off x="8420040" y="309672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58C8-A553-44D9-80C1-1CA1E02427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" name=""/>
          <p:cNvCxnSpPr>
            <a:stCxn id="102" idx="6"/>
            <a:endCxn id="105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102" idx="5"/>
            <a:endCxn id="106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2" idx="4"/>
            <a:endCxn id="107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4" idx="7"/>
            <a:endCxn id="103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8" idx="6"/>
            <a:endCxn id="104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2" idx="7"/>
            <a:endCxn id="103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7" idx="6"/>
            <a:endCxn id="104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106" idx="6"/>
            <a:endCxn id="105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08" idx="0"/>
            <a:endCxn id="105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04" idx="1"/>
            <a:endCxn id="105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123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8191440" y="3733920"/>
            <a:ext cx="762120" cy="671040"/>
            <a:chOff x="8191440" y="3733920"/>
            <a:chExt cx="762120" cy="671040"/>
          </a:xfrm>
        </p:grpSpPr>
        <p:sp>
          <p:nvSpPr>
            <p:cNvPr id="126" name=""/>
            <p:cNvSpPr/>
            <p:nvPr/>
          </p:nvSpPr>
          <p:spPr>
            <a:xfrm>
              <a:off x="8191440" y="373392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8420040" y="417636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2969-C84C-4A59-837D-903620809D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928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36" name=""/>
          <p:cNvCxnSpPr>
            <a:stCxn id="929" idx="6"/>
            <a:endCxn id="932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37" name=""/>
          <p:cNvCxnSpPr>
            <a:stCxn id="929" idx="5"/>
            <a:endCxn id="933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38" name=""/>
          <p:cNvCxnSpPr>
            <a:stCxn id="929" idx="4"/>
            <a:endCxn id="934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39" name=""/>
          <p:cNvCxnSpPr>
            <a:stCxn id="931" idx="7"/>
            <a:endCxn id="930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40" name=""/>
          <p:cNvCxnSpPr>
            <a:stCxn id="935" idx="6"/>
            <a:endCxn id="931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41" name=""/>
          <p:cNvCxnSpPr>
            <a:stCxn id="929" idx="7"/>
            <a:endCxn id="930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42" name=""/>
          <p:cNvCxnSpPr>
            <a:stCxn id="934" idx="6"/>
            <a:endCxn id="931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43" name=""/>
          <p:cNvCxnSpPr>
            <a:stCxn id="933" idx="6"/>
            <a:endCxn id="932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44" name=""/>
          <p:cNvCxnSpPr>
            <a:stCxn id="935" idx="0"/>
            <a:endCxn id="932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45" name=""/>
          <p:cNvCxnSpPr>
            <a:stCxn id="931" idx="1"/>
            <a:endCxn id="932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972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 4 5 0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8191440" y="2984400"/>
            <a:ext cx="762120" cy="671400"/>
            <a:chOff x="8191440" y="2984400"/>
            <a:chExt cx="762120" cy="671400"/>
          </a:xfrm>
        </p:grpSpPr>
        <p:sp>
          <p:nvSpPr>
            <p:cNvPr id="975" name=""/>
            <p:cNvSpPr/>
            <p:nvPr/>
          </p:nvSpPr>
          <p:spPr>
            <a:xfrm>
              <a:off x="8191440" y="29844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16200000">
              <a:off x="8420040" y="342720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8A44-CD64-4991-A767-CC3FEB2DFC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978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86" name=""/>
          <p:cNvCxnSpPr>
            <a:stCxn id="979" idx="6"/>
            <a:endCxn id="982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87" name=""/>
          <p:cNvCxnSpPr>
            <a:stCxn id="979" idx="5"/>
            <a:endCxn id="983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88" name=""/>
          <p:cNvCxnSpPr>
            <a:stCxn id="979" idx="4"/>
            <a:endCxn id="984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1" idx="7"/>
            <a:endCxn id="980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90" name=""/>
          <p:cNvCxnSpPr>
            <a:stCxn id="985" idx="6"/>
            <a:endCxn id="981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91" name=""/>
          <p:cNvCxnSpPr>
            <a:stCxn id="979" idx="7"/>
            <a:endCxn id="980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4" idx="6"/>
            <a:endCxn id="981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83" idx="6"/>
            <a:endCxn id="982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5" idx="0"/>
            <a:endCxn id="982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95" name=""/>
          <p:cNvCxnSpPr>
            <a:stCxn id="981" idx="1"/>
            <a:endCxn id="982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1021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 4 5 0 2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8191440" y="3378240"/>
            <a:ext cx="762120" cy="671040"/>
            <a:chOff x="8191440" y="3378240"/>
            <a:chExt cx="762120" cy="671040"/>
          </a:xfrm>
        </p:grpSpPr>
        <p:sp>
          <p:nvSpPr>
            <p:cNvPr id="1024" name=""/>
            <p:cNvSpPr/>
            <p:nvPr/>
          </p:nvSpPr>
          <p:spPr>
            <a:xfrm>
              <a:off x="8191440" y="337824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6200000">
              <a:off x="8420040" y="382068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D2D1-9B6B-4489-AA10-9D16968206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027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35" name=""/>
          <p:cNvCxnSpPr>
            <a:stCxn id="1028" idx="6"/>
            <a:endCxn id="1031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36" name=""/>
          <p:cNvCxnSpPr>
            <a:stCxn id="1028" idx="5"/>
            <a:endCxn id="1032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37" name=""/>
          <p:cNvCxnSpPr>
            <a:stCxn id="1028" idx="4"/>
            <a:endCxn id="1033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38" name=""/>
          <p:cNvCxnSpPr>
            <a:stCxn id="1030" idx="7"/>
            <a:endCxn id="1029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39" name=""/>
          <p:cNvCxnSpPr>
            <a:stCxn id="1034" idx="6"/>
            <a:endCxn id="1030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40" name=""/>
          <p:cNvCxnSpPr>
            <a:stCxn id="1028" idx="7"/>
            <a:endCxn id="1029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41" name=""/>
          <p:cNvCxnSpPr>
            <a:stCxn id="1033" idx="6"/>
            <a:endCxn id="1030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42" name=""/>
          <p:cNvCxnSpPr>
            <a:stCxn id="1032" idx="6"/>
            <a:endCxn id="1031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43" name=""/>
          <p:cNvCxnSpPr>
            <a:stCxn id="1034" idx="0"/>
            <a:endCxn id="1031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44" name=""/>
          <p:cNvCxnSpPr>
            <a:stCxn id="1030" idx="1"/>
            <a:endCxn id="1031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045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1069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 4 5 0 2 1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8191440" y="3809880"/>
            <a:ext cx="762120" cy="671400"/>
            <a:chOff x="8191440" y="3809880"/>
            <a:chExt cx="762120" cy="671400"/>
          </a:xfrm>
        </p:grpSpPr>
        <p:sp>
          <p:nvSpPr>
            <p:cNvPr id="1072" name=""/>
            <p:cNvSpPr/>
            <p:nvPr/>
          </p:nvSpPr>
          <p:spPr>
            <a:xfrm>
              <a:off x="8191440" y="38098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6200000">
              <a:off x="8420040" y="425268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B316-6D97-41CA-97BC-0AAAA40BCE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075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83" name=""/>
          <p:cNvCxnSpPr>
            <a:stCxn id="1076" idx="6"/>
            <a:endCxn id="1079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84" name=""/>
          <p:cNvCxnSpPr>
            <a:stCxn id="1076" idx="5"/>
            <a:endCxn id="1080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85" name=""/>
          <p:cNvCxnSpPr>
            <a:stCxn id="1076" idx="4"/>
            <a:endCxn id="1081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86" name=""/>
          <p:cNvCxnSpPr>
            <a:stCxn id="1078" idx="7"/>
            <a:endCxn id="1077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87" name=""/>
          <p:cNvCxnSpPr>
            <a:stCxn id="1082" idx="6"/>
            <a:endCxn id="1078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88" name=""/>
          <p:cNvCxnSpPr>
            <a:stCxn id="1076" idx="7"/>
            <a:endCxn id="1077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81" idx="6"/>
            <a:endCxn id="1078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90" name=""/>
          <p:cNvCxnSpPr>
            <a:stCxn id="1080" idx="6"/>
            <a:endCxn id="1079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91" name=""/>
          <p:cNvCxnSpPr>
            <a:stCxn id="1082" idx="0"/>
            <a:endCxn id="1079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92" name=""/>
          <p:cNvCxnSpPr>
            <a:stCxn id="1078" idx="1"/>
            <a:endCxn id="1079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093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1116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 4 5 0 2 1 0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DBC8-1CC1-462C-AE45-E617B936C2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7" name=""/>
          <p:cNvCxnSpPr>
            <a:stCxn id="130" idx="6"/>
            <a:endCxn id="133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0" idx="5"/>
            <a:endCxn id="134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0" idx="4"/>
            <a:endCxn id="135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2" idx="7"/>
            <a:endCxn id="131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6" idx="6"/>
            <a:endCxn id="132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30" idx="7"/>
            <a:endCxn id="131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35" idx="6"/>
            <a:endCxn id="132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34" idx="6"/>
            <a:endCxn id="133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36" idx="0"/>
            <a:endCxn id="133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2" idx="1"/>
            <a:endCxn id="133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191440" y="3352680"/>
            <a:ext cx="762120" cy="671400"/>
            <a:chOff x="8191440" y="3352680"/>
            <a:chExt cx="762120" cy="671400"/>
          </a:xfrm>
        </p:grpSpPr>
        <p:sp>
          <p:nvSpPr>
            <p:cNvPr id="149" name=""/>
            <p:cNvSpPr/>
            <p:nvPr/>
          </p:nvSpPr>
          <p:spPr>
            <a:xfrm>
              <a:off x="8191440" y="33526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8420040" y="379548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156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2D83-7243-4D64-B18B-81884EB56F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8" name=""/>
          <p:cNvCxnSpPr>
            <a:stCxn id="161" idx="6"/>
            <a:endCxn id="164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1" idx="5"/>
            <a:endCxn id="165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1" idx="4"/>
            <a:endCxn id="166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3" idx="7"/>
            <a:endCxn id="162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7" idx="6"/>
            <a:endCxn id="163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1" idx="7"/>
            <a:endCxn id="162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66" idx="6"/>
            <a:endCxn id="163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65" idx="6"/>
            <a:endCxn id="164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67" idx="0"/>
            <a:endCxn id="164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63" idx="1"/>
            <a:endCxn id="164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187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191440" y="2971800"/>
            <a:ext cx="762120" cy="671040"/>
            <a:chOff x="8191440" y="2971800"/>
            <a:chExt cx="762120" cy="671040"/>
          </a:xfrm>
        </p:grpSpPr>
        <p:sp>
          <p:nvSpPr>
            <p:cNvPr id="191" name=""/>
            <p:cNvSpPr/>
            <p:nvPr/>
          </p:nvSpPr>
          <p:spPr>
            <a:xfrm>
              <a:off x="8191440" y="2971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8420040" y="341424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1569-52E8-4231-A17B-B639F48D89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2" name=""/>
          <p:cNvCxnSpPr>
            <a:stCxn id="195" idx="6"/>
            <a:endCxn id="198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5" idx="5"/>
            <a:endCxn id="199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5" idx="4"/>
            <a:endCxn id="200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97" idx="7"/>
            <a:endCxn id="196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201" idx="6"/>
            <a:endCxn id="197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5" idx="7"/>
            <a:endCxn id="196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0" idx="6"/>
            <a:endCxn id="197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9" idx="6"/>
            <a:endCxn id="198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201" idx="0"/>
            <a:endCxn id="198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197" idx="1"/>
            <a:endCxn id="198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224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191440" y="2552760"/>
            <a:ext cx="762120" cy="671040"/>
            <a:chOff x="8191440" y="2552760"/>
            <a:chExt cx="762120" cy="671040"/>
          </a:xfrm>
        </p:grpSpPr>
        <p:sp>
          <p:nvSpPr>
            <p:cNvPr id="228" name=""/>
            <p:cNvSpPr/>
            <p:nvPr/>
          </p:nvSpPr>
          <p:spPr>
            <a:xfrm>
              <a:off x="8191440" y="255276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8420040" y="299520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6C0A-BA95-4D92-8781-35B8DB09D5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9" name=""/>
          <p:cNvCxnSpPr>
            <a:stCxn id="232" idx="6"/>
            <a:endCxn id="235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232" idx="5"/>
            <a:endCxn id="236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41" name=""/>
          <p:cNvCxnSpPr>
            <a:stCxn id="232" idx="4"/>
            <a:endCxn id="237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42" name=""/>
          <p:cNvCxnSpPr>
            <a:stCxn id="234" idx="7"/>
            <a:endCxn id="233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38" idx="6"/>
            <a:endCxn id="234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2" idx="7"/>
            <a:endCxn id="233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5" name=""/>
          <p:cNvCxnSpPr>
            <a:stCxn id="237" idx="6"/>
            <a:endCxn id="234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36" idx="6"/>
            <a:endCxn id="235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38" idx="0"/>
            <a:endCxn id="235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34" idx="1"/>
            <a:endCxn id="235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264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191440" y="2133720"/>
            <a:ext cx="762120" cy="671040"/>
            <a:chOff x="8191440" y="2133720"/>
            <a:chExt cx="762120" cy="671040"/>
          </a:xfrm>
        </p:grpSpPr>
        <p:sp>
          <p:nvSpPr>
            <p:cNvPr id="268" name=""/>
            <p:cNvSpPr/>
            <p:nvPr/>
          </p:nvSpPr>
          <p:spPr>
            <a:xfrm>
              <a:off x="8191440" y="213372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8420040" y="257616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0CAB-91D1-4E93-8A65-18B08A0207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9" name=""/>
          <p:cNvCxnSpPr>
            <a:stCxn id="272" idx="6"/>
            <a:endCxn id="275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80" name=""/>
          <p:cNvCxnSpPr>
            <a:stCxn id="272" idx="5"/>
            <a:endCxn id="276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72" idx="4"/>
            <a:endCxn id="277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82" name=""/>
          <p:cNvCxnSpPr>
            <a:stCxn id="274" idx="7"/>
            <a:endCxn id="273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83" name=""/>
          <p:cNvCxnSpPr>
            <a:stCxn id="278" idx="6"/>
            <a:endCxn id="274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84" name=""/>
          <p:cNvCxnSpPr>
            <a:stCxn id="272" idx="7"/>
            <a:endCxn id="273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77" idx="6"/>
            <a:endCxn id="274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86" name=""/>
          <p:cNvCxnSpPr>
            <a:stCxn id="276" idx="6"/>
            <a:endCxn id="275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87" name=""/>
          <p:cNvCxnSpPr>
            <a:stCxn id="278" idx="0"/>
            <a:endCxn id="275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74" idx="1"/>
            <a:endCxn id="275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307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191440" y="1765440"/>
            <a:ext cx="762120" cy="671040"/>
            <a:chOff x="8191440" y="1765440"/>
            <a:chExt cx="762120" cy="671040"/>
          </a:xfrm>
        </p:grpSpPr>
        <p:sp>
          <p:nvSpPr>
            <p:cNvPr id="311" name=""/>
            <p:cNvSpPr/>
            <p:nvPr/>
          </p:nvSpPr>
          <p:spPr>
            <a:xfrm>
              <a:off x="8191440" y="176544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6200000">
              <a:off x="8420040" y="220788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2004-E4FE-4AD6-9210-9ACE0F91E4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2" name=""/>
          <p:cNvCxnSpPr>
            <a:stCxn id="315" idx="6"/>
            <a:endCxn id="318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5"/>
            <a:endCxn id="319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15" idx="4"/>
            <a:endCxn id="320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7" idx="7"/>
            <a:endCxn id="316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21" idx="6"/>
            <a:endCxn id="317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15" idx="7"/>
            <a:endCxn id="316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20" idx="6"/>
            <a:endCxn id="317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9" idx="6"/>
            <a:endCxn id="318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21" idx="0"/>
            <a:endCxn id="318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7" idx="1"/>
            <a:endCxn id="318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335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8191440" y="1434960"/>
            <a:ext cx="762120" cy="671400"/>
            <a:chOff x="8191440" y="1434960"/>
            <a:chExt cx="762120" cy="671400"/>
          </a:xfrm>
        </p:grpSpPr>
        <p:sp>
          <p:nvSpPr>
            <p:cNvPr id="357" name=""/>
            <p:cNvSpPr/>
            <p:nvPr/>
          </p:nvSpPr>
          <p:spPr>
            <a:xfrm>
              <a:off x="8191440" y="143496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8420040" y="187776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CB90-EC05-48FF-AA29-FCBFD945FD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8" name=""/>
          <p:cNvCxnSpPr>
            <a:stCxn id="361" idx="6"/>
            <a:endCxn id="364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61" idx="5"/>
            <a:endCxn id="365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61" idx="4"/>
            <a:endCxn id="366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3" idx="7"/>
            <a:endCxn id="362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67" idx="6"/>
            <a:endCxn id="363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61" idx="7"/>
            <a:endCxn id="362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66" idx="6"/>
            <a:endCxn id="363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5" idx="6"/>
            <a:endCxn id="364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67" idx="0"/>
            <a:endCxn id="364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3" idx="1"/>
            <a:endCxn id="364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381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8381880" y="1905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8191440" y="1079640"/>
            <a:ext cx="762120" cy="671040"/>
            <a:chOff x="8191440" y="1079640"/>
            <a:chExt cx="762120" cy="671040"/>
          </a:xfrm>
        </p:grpSpPr>
        <p:sp>
          <p:nvSpPr>
            <p:cNvPr id="406" name=""/>
            <p:cNvSpPr/>
            <p:nvPr/>
          </p:nvSpPr>
          <p:spPr>
            <a:xfrm>
              <a:off x="8191440" y="107964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6200000">
              <a:off x="8420040" y="152208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670E-1A0E-4971-A3E6-8171EDAF3A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4-03-31T17:57:03Z</dcterms:modified>
  <cp:revision>957</cp:revision>
  <dc:subject/>
  <dc:title>Trees</dc:title>
</cp:coreProperties>
</file>