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1699-B0F6-4D6B-8060-904FCC57A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1BB7-C04A-495E-8DA0-EEFE4607D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4E36-79BA-4D4B-A403-0373B28C4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4EF1-8620-451F-A1E3-01A91160B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408F-D440-4B22-8170-0573923A6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78C3-10B5-401E-9481-E7AD872F7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FF4D-BB7A-40CC-BC12-AC5E532B0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4276-ECE2-48CF-9C6B-461294BF0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B6FE-28EA-4338-9CBB-8875FCC2B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744B-DCA4-427F-90F3-368528803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18F7-8DA5-4125-B4FF-35A650DC1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FA9F-4792-4BBF-9663-BBDBE17C0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451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spcBef>
                <a:spcPts val="451"/>
              </a:spcBef>
              <a:buClr>
                <a:srgbClr val="0066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spcBef>
                <a:spcPts val="451"/>
              </a:spcBef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spcBef>
                <a:spcPts val="451"/>
              </a:spcBef>
              <a:buClr>
                <a:srgbClr val="ff66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93DE-B2A8-4C8E-A0FB-66B850BA4CB1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2340000" cy="41785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inceton University     •     COS 226     •     Algorithms and Data Structures     •     Spring 2003     •    http://www.Princeton.EDU/~c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8" name=""/>
          <p:cNvCxnSpPr>
            <a:stCxn id="81" idx="6"/>
            <a:endCxn id="84" idx="1"/>
          </p:cNvCxnSpPr>
          <p:nvPr/>
        </p:nvCxnSpPr>
        <p:spPr>
          <a:xfrm>
            <a:off x="4313160" y="1534320"/>
            <a:ext cx="1424520" cy="10047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81" idx="5"/>
            <a:endCxn id="85" idx="0"/>
          </p:cNvCxnSpPr>
          <p:nvPr/>
        </p:nvCxnSpPr>
        <p:spPr>
          <a:xfrm>
            <a:off x="4273200" y="1631520"/>
            <a:ext cx="460440" cy="8676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81" idx="4"/>
            <a:endCxn id="86" idx="0"/>
          </p:cNvCxnSpPr>
          <p:nvPr/>
        </p:nvCxnSpPr>
        <p:spPr>
          <a:xfrm>
            <a:off x="4176000" y="1671480"/>
            <a:ext cx="360" cy="26150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83" idx="7"/>
            <a:endCxn id="82" idx="4"/>
          </p:cNvCxnSpPr>
          <p:nvPr/>
        </p:nvCxnSpPr>
        <p:spPr>
          <a:xfrm flipV="1">
            <a:off x="6480000" y="2773440"/>
            <a:ext cx="365040" cy="746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87" idx="6"/>
            <a:endCxn id="83" idx="2"/>
          </p:cNvCxnSpPr>
          <p:nvPr/>
        </p:nvCxnSpPr>
        <p:spPr>
          <a:xfrm>
            <a:off x="5418000" y="3617280"/>
            <a:ext cx="827640" cy="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1" idx="7"/>
            <a:endCxn id="82" idx="1"/>
          </p:cNvCxnSpPr>
          <p:nvPr/>
        </p:nvCxnSpPr>
        <p:spPr>
          <a:xfrm>
            <a:off x="4273200" y="1437120"/>
            <a:ext cx="2474280" cy="11019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6" idx="6"/>
            <a:endCxn id="83" idx="3"/>
          </p:cNvCxnSpPr>
          <p:nvPr/>
        </p:nvCxnSpPr>
        <p:spPr>
          <a:xfrm flipV="1">
            <a:off x="4313160" y="3714480"/>
            <a:ext cx="1972440" cy="7095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5" idx="6"/>
            <a:endCxn id="84" idx="2"/>
          </p:cNvCxnSpPr>
          <p:nvPr/>
        </p:nvCxnSpPr>
        <p:spPr>
          <a:xfrm>
            <a:off x="4870440" y="2636280"/>
            <a:ext cx="827280" cy="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87" idx="0"/>
            <a:endCxn id="84" idx="3"/>
          </p:cNvCxnSpPr>
          <p:nvPr/>
        </p:nvCxnSpPr>
        <p:spPr>
          <a:xfrm flipV="1">
            <a:off x="5280840" y="2733480"/>
            <a:ext cx="456840" cy="746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3" idx="1"/>
            <a:endCxn id="84" idx="5"/>
          </p:cNvCxnSpPr>
          <p:nvPr/>
        </p:nvCxnSpPr>
        <p:spPr>
          <a:xfrm flipH="1" flipV="1">
            <a:off x="5932080" y="2733480"/>
            <a:ext cx="353520" cy="7866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A62F7-D24F-44E5-AC30-B77D63F4D7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7" name=""/>
          <p:cNvCxnSpPr>
            <a:stCxn id="410" idx="6"/>
            <a:endCxn id="413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410" idx="5"/>
            <a:endCxn id="414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410" idx="4"/>
            <a:endCxn id="415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412" idx="7"/>
            <a:endCxn id="411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416" idx="6"/>
            <a:endCxn id="412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10" idx="7"/>
            <a:endCxn id="411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415" idx="6"/>
            <a:endCxn id="412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24" name=""/>
          <p:cNvCxnSpPr>
            <a:stCxn id="414" idx="6"/>
            <a:endCxn id="413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16" idx="0"/>
            <a:endCxn id="413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26" name=""/>
          <p:cNvCxnSpPr>
            <a:stCxn id="412" idx="1"/>
            <a:endCxn id="413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27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430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8191440" y="1460520"/>
            <a:ext cx="762120" cy="671040"/>
            <a:chOff x="8191440" y="1460520"/>
            <a:chExt cx="762120" cy="671040"/>
          </a:xfrm>
        </p:grpSpPr>
        <p:sp>
          <p:nvSpPr>
            <p:cNvPr id="454" name=""/>
            <p:cNvSpPr/>
            <p:nvPr/>
          </p:nvSpPr>
          <p:spPr>
            <a:xfrm>
              <a:off x="8191440" y="146052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6200000">
              <a:off x="8420040" y="190296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13BE-62EE-4C6A-A94F-1DF5595914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5" name=""/>
          <p:cNvCxnSpPr>
            <a:stCxn id="458" idx="6"/>
            <a:endCxn id="461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58" idx="5"/>
            <a:endCxn id="462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67" name=""/>
          <p:cNvCxnSpPr>
            <a:stCxn id="458" idx="4"/>
            <a:endCxn id="463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68" name=""/>
          <p:cNvCxnSpPr>
            <a:stCxn id="460" idx="7"/>
            <a:endCxn id="459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4" idx="6"/>
            <a:endCxn id="460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58" idx="7"/>
            <a:endCxn id="459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63" idx="6"/>
            <a:endCxn id="460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62" idx="6"/>
            <a:endCxn id="461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4" idx="0"/>
            <a:endCxn id="461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60" idx="1"/>
            <a:endCxn id="461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478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8191440" y="1816200"/>
            <a:ext cx="762120" cy="671040"/>
            <a:chOff x="8191440" y="1816200"/>
            <a:chExt cx="762120" cy="671040"/>
          </a:xfrm>
        </p:grpSpPr>
        <p:sp>
          <p:nvSpPr>
            <p:cNvPr id="501" name=""/>
            <p:cNvSpPr/>
            <p:nvPr/>
          </p:nvSpPr>
          <p:spPr>
            <a:xfrm>
              <a:off x="8191440" y="18162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16200000">
              <a:off x="8420040" y="225864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3D0E-7F33-43C5-84F1-44533DE34F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2" name=""/>
          <p:cNvCxnSpPr>
            <a:stCxn id="505" idx="6"/>
            <a:endCxn id="508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3" name=""/>
          <p:cNvCxnSpPr>
            <a:stCxn id="505" idx="5"/>
            <a:endCxn id="509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05" idx="4"/>
            <a:endCxn id="510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507" idx="7"/>
            <a:endCxn id="506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6" name=""/>
          <p:cNvCxnSpPr>
            <a:stCxn id="511" idx="6"/>
            <a:endCxn id="507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505" idx="7"/>
            <a:endCxn id="506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10" idx="6"/>
            <a:endCxn id="507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19" name=""/>
          <p:cNvCxnSpPr>
            <a:stCxn id="509" idx="6"/>
            <a:endCxn id="508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1" idx="0"/>
            <a:endCxn id="508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stCxn id="507" idx="1"/>
            <a:endCxn id="508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546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8191440" y="1473120"/>
            <a:ext cx="762120" cy="671400"/>
            <a:chOff x="8191440" y="1473120"/>
            <a:chExt cx="762120" cy="671400"/>
          </a:xfrm>
        </p:grpSpPr>
        <p:sp>
          <p:nvSpPr>
            <p:cNvPr id="551" name=""/>
            <p:cNvSpPr/>
            <p:nvPr/>
          </p:nvSpPr>
          <p:spPr>
            <a:xfrm>
              <a:off x="8191440" y="147312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6200000">
              <a:off x="8420040" y="191592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A907-5EC6-4D20-8216-DE2172377B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2" name=""/>
          <p:cNvCxnSpPr>
            <a:stCxn id="555" idx="6"/>
            <a:endCxn id="558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55" idx="5"/>
            <a:endCxn id="559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55" idx="4"/>
            <a:endCxn id="560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57" idx="7"/>
            <a:endCxn id="556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61" idx="6"/>
            <a:endCxn id="557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55" idx="7"/>
            <a:endCxn id="556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60" idx="6"/>
            <a:endCxn id="557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59" idx="6"/>
            <a:endCxn id="558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70" name=""/>
          <p:cNvCxnSpPr>
            <a:stCxn id="561" idx="0"/>
            <a:endCxn id="558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571" name=""/>
          <p:cNvCxnSpPr>
            <a:stCxn id="557" idx="1"/>
            <a:endCxn id="558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572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598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8381880" y="1905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8191440" y="1066680"/>
            <a:ext cx="762120" cy="671400"/>
            <a:chOff x="8191440" y="1066680"/>
            <a:chExt cx="762120" cy="671400"/>
          </a:xfrm>
        </p:grpSpPr>
        <p:sp>
          <p:nvSpPr>
            <p:cNvPr id="604" name=""/>
            <p:cNvSpPr/>
            <p:nvPr/>
          </p:nvSpPr>
          <p:spPr>
            <a:xfrm>
              <a:off x="8191440" y="10666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6200000">
              <a:off x="8420040" y="150948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EBB4-BF63-4CC5-8C3B-F2886E37D8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5" name=""/>
          <p:cNvCxnSpPr>
            <a:stCxn id="608" idx="6"/>
            <a:endCxn id="611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608" idx="5"/>
            <a:endCxn id="612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8" idx="4"/>
            <a:endCxn id="613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610" idx="7"/>
            <a:endCxn id="609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614" idx="6"/>
            <a:endCxn id="610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608" idx="7"/>
            <a:endCxn id="609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613" idx="6"/>
            <a:endCxn id="610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612" idx="6"/>
            <a:endCxn id="611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614" idx="0"/>
            <a:endCxn id="611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610" idx="1"/>
            <a:endCxn id="611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625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653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>
            <a:off x="8381880" y="1905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8381880" y="1523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8191440" y="698400"/>
            <a:ext cx="762120" cy="671400"/>
            <a:chOff x="8191440" y="698400"/>
            <a:chExt cx="762120" cy="671400"/>
          </a:xfrm>
        </p:grpSpPr>
        <p:sp>
          <p:nvSpPr>
            <p:cNvPr id="660" name=""/>
            <p:cNvSpPr/>
            <p:nvPr/>
          </p:nvSpPr>
          <p:spPr>
            <a:xfrm>
              <a:off x="8191440" y="6984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6200000">
              <a:off x="8420040" y="114120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EFF1-8C9E-416E-96DA-38AEF7C1F7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1" name=""/>
          <p:cNvCxnSpPr>
            <a:stCxn id="664" idx="6"/>
            <a:endCxn id="667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64" idx="5"/>
            <a:endCxn id="668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64" idx="4"/>
            <a:endCxn id="669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66" idx="7"/>
            <a:endCxn id="665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5" name=""/>
          <p:cNvCxnSpPr>
            <a:stCxn id="670" idx="6"/>
            <a:endCxn id="666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6" name=""/>
          <p:cNvCxnSpPr>
            <a:stCxn id="664" idx="7"/>
            <a:endCxn id="665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69" idx="6"/>
            <a:endCxn id="666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8" name=""/>
          <p:cNvCxnSpPr>
            <a:stCxn id="668" idx="6"/>
            <a:endCxn id="667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79" name=""/>
          <p:cNvCxnSpPr>
            <a:stCxn id="670" idx="0"/>
            <a:endCxn id="667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680" name=""/>
          <p:cNvCxnSpPr>
            <a:stCxn id="666" idx="1"/>
            <a:endCxn id="667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681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709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8381880" y="1905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8191440" y="1066680"/>
            <a:ext cx="762120" cy="671400"/>
            <a:chOff x="8191440" y="1066680"/>
            <a:chExt cx="762120" cy="671400"/>
          </a:xfrm>
        </p:grpSpPr>
        <p:sp>
          <p:nvSpPr>
            <p:cNvPr id="715" name=""/>
            <p:cNvSpPr/>
            <p:nvPr/>
          </p:nvSpPr>
          <p:spPr>
            <a:xfrm>
              <a:off x="8191440" y="10666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16200000">
              <a:off x="8420040" y="150948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4F69-C152-415A-8F0A-77324FB208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18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26" name=""/>
          <p:cNvCxnSpPr>
            <a:stCxn id="719" idx="6"/>
            <a:endCxn id="722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19" idx="5"/>
            <a:endCxn id="723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28" name=""/>
          <p:cNvCxnSpPr>
            <a:stCxn id="719" idx="4"/>
            <a:endCxn id="724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29" name=""/>
          <p:cNvCxnSpPr>
            <a:stCxn id="721" idx="7"/>
            <a:endCxn id="720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stCxn id="725" idx="6"/>
            <a:endCxn id="721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31" name=""/>
          <p:cNvCxnSpPr>
            <a:stCxn id="719" idx="7"/>
            <a:endCxn id="720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24" idx="6"/>
            <a:endCxn id="721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23" idx="6"/>
            <a:endCxn id="722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34" name=""/>
          <p:cNvCxnSpPr>
            <a:stCxn id="725" idx="0"/>
            <a:endCxn id="722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35" name=""/>
          <p:cNvCxnSpPr>
            <a:stCxn id="721" idx="1"/>
            <a:endCxn id="722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736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764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8191440" y="1498680"/>
            <a:ext cx="762120" cy="671040"/>
            <a:chOff x="8191440" y="1498680"/>
            <a:chExt cx="762120" cy="671040"/>
          </a:xfrm>
        </p:grpSpPr>
        <p:sp>
          <p:nvSpPr>
            <p:cNvPr id="769" name=""/>
            <p:cNvSpPr/>
            <p:nvPr/>
          </p:nvSpPr>
          <p:spPr>
            <a:xfrm>
              <a:off x="8191440" y="14986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6200000">
              <a:off x="8420040" y="194112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04D9-EADC-4FB3-9CC4-EC13CBFCB2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72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80" name=""/>
          <p:cNvCxnSpPr>
            <a:stCxn id="773" idx="6"/>
            <a:endCxn id="776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1" name=""/>
          <p:cNvCxnSpPr>
            <a:stCxn id="773" idx="5"/>
            <a:endCxn id="777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2" name=""/>
          <p:cNvCxnSpPr>
            <a:stCxn id="773" idx="4"/>
            <a:endCxn id="778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3" name=""/>
          <p:cNvCxnSpPr>
            <a:stCxn id="775" idx="7"/>
            <a:endCxn id="774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4" name=""/>
          <p:cNvCxnSpPr>
            <a:stCxn id="779" idx="6"/>
            <a:endCxn id="775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5" name=""/>
          <p:cNvCxnSpPr>
            <a:stCxn id="773" idx="7"/>
            <a:endCxn id="774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6" name=""/>
          <p:cNvCxnSpPr>
            <a:stCxn id="778" idx="6"/>
            <a:endCxn id="775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7" name=""/>
          <p:cNvCxnSpPr>
            <a:stCxn id="777" idx="6"/>
            <a:endCxn id="776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8" name=""/>
          <p:cNvCxnSpPr>
            <a:stCxn id="779" idx="0"/>
            <a:endCxn id="776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789" name=""/>
          <p:cNvCxnSpPr>
            <a:stCxn id="775" idx="1"/>
            <a:endCxn id="776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790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818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8191440" y="1866960"/>
            <a:ext cx="762120" cy="671040"/>
            <a:chOff x="8191440" y="1866960"/>
            <a:chExt cx="762120" cy="671040"/>
          </a:xfrm>
        </p:grpSpPr>
        <p:sp>
          <p:nvSpPr>
            <p:cNvPr id="822" name=""/>
            <p:cNvSpPr/>
            <p:nvPr/>
          </p:nvSpPr>
          <p:spPr>
            <a:xfrm>
              <a:off x="8191440" y="186696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16200000">
              <a:off x="8420040" y="230940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7525-8113-47C1-9B63-D220CA7182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25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33" name=""/>
          <p:cNvCxnSpPr>
            <a:stCxn id="826" idx="6"/>
            <a:endCxn id="829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34" name=""/>
          <p:cNvCxnSpPr>
            <a:stCxn id="826" idx="5"/>
            <a:endCxn id="830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35" name=""/>
          <p:cNvCxnSpPr>
            <a:stCxn id="826" idx="4"/>
            <a:endCxn id="831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36" name=""/>
          <p:cNvCxnSpPr>
            <a:stCxn id="828" idx="7"/>
            <a:endCxn id="827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37" name=""/>
          <p:cNvCxnSpPr>
            <a:stCxn id="832" idx="6"/>
            <a:endCxn id="828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38" name=""/>
          <p:cNvCxnSpPr>
            <a:stCxn id="826" idx="7"/>
            <a:endCxn id="827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39" name=""/>
          <p:cNvCxnSpPr>
            <a:stCxn id="831" idx="6"/>
            <a:endCxn id="828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40" name=""/>
          <p:cNvCxnSpPr>
            <a:stCxn id="830" idx="6"/>
            <a:endCxn id="829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41" name=""/>
          <p:cNvCxnSpPr>
            <a:stCxn id="832" idx="0"/>
            <a:endCxn id="829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28" idx="1"/>
            <a:endCxn id="829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871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 4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8191440" y="2235240"/>
            <a:ext cx="762120" cy="671040"/>
            <a:chOff x="8191440" y="2235240"/>
            <a:chExt cx="762120" cy="671040"/>
          </a:xfrm>
        </p:grpSpPr>
        <p:sp>
          <p:nvSpPr>
            <p:cNvPr id="874" name=""/>
            <p:cNvSpPr/>
            <p:nvPr/>
          </p:nvSpPr>
          <p:spPr>
            <a:xfrm>
              <a:off x="8191440" y="223524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6200000">
              <a:off x="8420040" y="267768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74E4-47BC-4CF6-A611-10BE23325F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77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85" name=""/>
          <p:cNvCxnSpPr>
            <a:stCxn id="878" idx="6"/>
            <a:endCxn id="881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86" name=""/>
          <p:cNvCxnSpPr>
            <a:stCxn id="878" idx="5"/>
            <a:endCxn id="882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87" name=""/>
          <p:cNvCxnSpPr>
            <a:stCxn id="878" idx="4"/>
            <a:endCxn id="883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88" name=""/>
          <p:cNvCxnSpPr>
            <a:stCxn id="880" idx="7"/>
            <a:endCxn id="879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89" name=""/>
          <p:cNvCxnSpPr>
            <a:stCxn id="884" idx="6"/>
            <a:endCxn id="880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90" name=""/>
          <p:cNvCxnSpPr>
            <a:stCxn id="878" idx="7"/>
            <a:endCxn id="879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3" idx="6"/>
            <a:endCxn id="880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92" name=""/>
          <p:cNvCxnSpPr>
            <a:stCxn id="882" idx="6"/>
            <a:endCxn id="881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93" name=""/>
          <p:cNvCxnSpPr>
            <a:stCxn id="884" idx="0"/>
            <a:endCxn id="881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894" name=""/>
          <p:cNvCxnSpPr>
            <a:stCxn id="880" idx="1"/>
            <a:endCxn id="881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922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 4 5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8191440" y="2654280"/>
            <a:ext cx="762120" cy="671040"/>
            <a:chOff x="8191440" y="2654280"/>
            <a:chExt cx="762120" cy="671040"/>
          </a:xfrm>
        </p:grpSpPr>
        <p:sp>
          <p:nvSpPr>
            <p:cNvPr id="925" name=""/>
            <p:cNvSpPr/>
            <p:nvPr/>
          </p:nvSpPr>
          <p:spPr>
            <a:xfrm>
              <a:off x="8191440" y="26542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16200000">
              <a:off x="8420040" y="309672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30D6-0331-42A0-A641-14254809F1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" name=""/>
          <p:cNvCxnSpPr>
            <a:stCxn id="102" idx="6"/>
            <a:endCxn id="105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102" idx="5"/>
            <a:endCxn id="106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2" idx="4"/>
            <a:endCxn id="107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4" idx="7"/>
            <a:endCxn id="103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8" idx="6"/>
            <a:endCxn id="104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2" idx="7"/>
            <a:endCxn id="103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7" idx="6"/>
            <a:endCxn id="104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106" idx="6"/>
            <a:endCxn id="105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08" idx="0"/>
            <a:endCxn id="105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04" idx="1"/>
            <a:endCxn id="105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119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123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8191440" y="3733920"/>
            <a:ext cx="762120" cy="671040"/>
            <a:chOff x="8191440" y="3733920"/>
            <a:chExt cx="762120" cy="671040"/>
          </a:xfrm>
        </p:grpSpPr>
        <p:sp>
          <p:nvSpPr>
            <p:cNvPr id="126" name=""/>
            <p:cNvSpPr/>
            <p:nvPr/>
          </p:nvSpPr>
          <p:spPr>
            <a:xfrm>
              <a:off x="8191440" y="373392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8420040" y="417636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89CD-F215-4862-8A94-2AB4B3EECD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928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36" name=""/>
          <p:cNvCxnSpPr>
            <a:stCxn id="929" idx="6"/>
            <a:endCxn id="932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37" name=""/>
          <p:cNvCxnSpPr>
            <a:stCxn id="929" idx="5"/>
            <a:endCxn id="933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38" name=""/>
          <p:cNvCxnSpPr>
            <a:stCxn id="929" idx="4"/>
            <a:endCxn id="934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39" name=""/>
          <p:cNvCxnSpPr>
            <a:stCxn id="931" idx="7"/>
            <a:endCxn id="930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40" name=""/>
          <p:cNvCxnSpPr>
            <a:stCxn id="935" idx="6"/>
            <a:endCxn id="931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41" name=""/>
          <p:cNvCxnSpPr>
            <a:stCxn id="929" idx="7"/>
            <a:endCxn id="930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42" name=""/>
          <p:cNvCxnSpPr>
            <a:stCxn id="934" idx="6"/>
            <a:endCxn id="931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43" name=""/>
          <p:cNvCxnSpPr>
            <a:stCxn id="933" idx="6"/>
            <a:endCxn id="932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44" name=""/>
          <p:cNvCxnSpPr>
            <a:stCxn id="935" idx="0"/>
            <a:endCxn id="932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45" name=""/>
          <p:cNvCxnSpPr>
            <a:stCxn id="931" idx="1"/>
            <a:endCxn id="932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972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 4 5 0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8191440" y="2984400"/>
            <a:ext cx="762120" cy="671400"/>
            <a:chOff x="8191440" y="2984400"/>
            <a:chExt cx="762120" cy="671400"/>
          </a:xfrm>
        </p:grpSpPr>
        <p:sp>
          <p:nvSpPr>
            <p:cNvPr id="975" name=""/>
            <p:cNvSpPr/>
            <p:nvPr/>
          </p:nvSpPr>
          <p:spPr>
            <a:xfrm>
              <a:off x="8191440" y="29844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16200000">
              <a:off x="8420040" y="342720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D358-6E02-49EE-B07E-6EE84F2952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978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86" name=""/>
          <p:cNvCxnSpPr>
            <a:stCxn id="979" idx="6"/>
            <a:endCxn id="982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87" name=""/>
          <p:cNvCxnSpPr>
            <a:stCxn id="979" idx="5"/>
            <a:endCxn id="983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88" name=""/>
          <p:cNvCxnSpPr>
            <a:stCxn id="979" idx="4"/>
            <a:endCxn id="984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1" idx="7"/>
            <a:endCxn id="980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90" name=""/>
          <p:cNvCxnSpPr>
            <a:stCxn id="985" idx="6"/>
            <a:endCxn id="981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91" name=""/>
          <p:cNvCxnSpPr>
            <a:stCxn id="979" idx="7"/>
            <a:endCxn id="980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4" idx="6"/>
            <a:endCxn id="981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83" idx="6"/>
            <a:endCxn id="982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5" idx="0"/>
            <a:endCxn id="982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995" name=""/>
          <p:cNvCxnSpPr>
            <a:stCxn id="981" idx="1"/>
            <a:endCxn id="982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1021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 4 5 0 2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8191440" y="3378240"/>
            <a:ext cx="762120" cy="671040"/>
            <a:chOff x="8191440" y="3378240"/>
            <a:chExt cx="762120" cy="671040"/>
          </a:xfrm>
        </p:grpSpPr>
        <p:sp>
          <p:nvSpPr>
            <p:cNvPr id="1024" name=""/>
            <p:cNvSpPr/>
            <p:nvPr/>
          </p:nvSpPr>
          <p:spPr>
            <a:xfrm>
              <a:off x="8191440" y="337824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6200000">
              <a:off x="8420040" y="382068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D991-8727-423B-A59D-21AE2D23E4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027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35" name=""/>
          <p:cNvCxnSpPr>
            <a:stCxn id="1028" idx="6"/>
            <a:endCxn id="1031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36" name=""/>
          <p:cNvCxnSpPr>
            <a:stCxn id="1028" idx="5"/>
            <a:endCxn id="1032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37" name=""/>
          <p:cNvCxnSpPr>
            <a:stCxn id="1028" idx="4"/>
            <a:endCxn id="1033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38" name=""/>
          <p:cNvCxnSpPr>
            <a:stCxn id="1030" idx="7"/>
            <a:endCxn id="1029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39" name=""/>
          <p:cNvCxnSpPr>
            <a:stCxn id="1034" idx="6"/>
            <a:endCxn id="1030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40" name=""/>
          <p:cNvCxnSpPr>
            <a:stCxn id="1028" idx="7"/>
            <a:endCxn id="1029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41" name=""/>
          <p:cNvCxnSpPr>
            <a:stCxn id="1033" idx="6"/>
            <a:endCxn id="1030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42" name=""/>
          <p:cNvCxnSpPr>
            <a:stCxn id="1032" idx="6"/>
            <a:endCxn id="1031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43" name=""/>
          <p:cNvCxnSpPr>
            <a:stCxn id="1034" idx="0"/>
            <a:endCxn id="1031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44" name=""/>
          <p:cNvCxnSpPr>
            <a:stCxn id="1030" idx="1"/>
            <a:endCxn id="1031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045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1069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 4 5 0 2 1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8191440" y="3809880"/>
            <a:ext cx="762120" cy="671400"/>
            <a:chOff x="8191440" y="3809880"/>
            <a:chExt cx="762120" cy="671400"/>
          </a:xfrm>
        </p:grpSpPr>
        <p:sp>
          <p:nvSpPr>
            <p:cNvPr id="1072" name=""/>
            <p:cNvSpPr/>
            <p:nvPr/>
          </p:nvSpPr>
          <p:spPr>
            <a:xfrm>
              <a:off x="8191440" y="38098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3" name=""/>
            <p:cNvSpPr/>
            <p:nvPr/>
          </p:nvSpPr>
          <p:spPr>
            <a:xfrm rot="16200000">
              <a:off x="8420040" y="425268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E347-6F00-41C6-AD8D-4037341761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075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83" name=""/>
          <p:cNvCxnSpPr>
            <a:stCxn id="1076" idx="6"/>
            <a:endCxn id="1079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84" name=""/>
          <p:cNvCxnSpPr>
            <a:stCxn id="1076" idx="5"/>
            <a:endCxn id="1080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85" name=""/>
          <p:cNvCxnSpPr>
            <a:stCxn id="1076" idx="4"/>
            <a:endCxn id="1081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86" name=""/>
          <p:cNvCxnSpPr>
            <a:stCxn id="1078" idx="7"/>
            <a:endCxn id="1077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87" name=""/>
          <p:cNvCxnSpPr>
            <a:stCxn id="1082" idx="6"/>
            <a:endCxn id="1078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88" name=""/>
          <p:cNvCxnSpPr>
            <a:stCxn id="1076" idx="7"/>
            <a:endCxn id="1077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81" idx="6"/>
            <a:endCxn id="1078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90" name=""/>
          <p:cNvCxnSpPr>
            <a:stCxn id="1080" idx="6"/>
            <a:endCxn id="1079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91" name=""/>
          <p:cNvCxnSpPr>
            <a:stCxn id="1082" idx="0"/>
            <a:endCxn id="1079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092" name=""/>
          <p:cNvCxnSpPr>
            <a:stCxn id="1078" idx="1"/>
            <a:endCxn id="1079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093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"/>
          <p:cNvSpPr/>
          <p:nvPr/>
        </p:nvSpPr>
        <p:spPr>
          <a:xfrm>
            <a:off x="139716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"/>
          <p:cNvSpPr/>
          <p:nvPr/>
        </p:nvSpPr>
        <p:spPr>
          <a:xfrm>
            <a:off x="1943280" y="3492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"/>
          <p:cNvSpPr/>
          <p:nvPr/>
        </p:nvSpPr>
        <p:spPr>
          <a:xfrm>
            <a:off x="1676520" y="32004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"/>
          <p:cNvSpPr/>
          <p:nvPr/>
        </p:nvSpPr>
        <p:spPr>
          <a:xfrm>
            <a:off x="1676520" y="29336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"/>
          <p:cNvSpPr/>
          <p:nvPr/>
        </p:nvSpPr>
        <p:spPr>
          <a:xfrm>
            <a:off x="1955880" y="292104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"/>
          <p:cNvSpPr/>
          <p:nvPr/>
        </p:nvSpPr>
        <p:spPr>
          <a:xfrm>
            <a:off x="2222640" y="34797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1116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10000"/>
                  </a:solidFill>
                  <a:latin typeface="Courier New"/>
                </a:rPr>
                <a:t>0 6 4 2 3 4 5 0 2 1 0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B8F8-D6F3-4B65-ABDA-357BDFB1C5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7" name=""/>
          <p:cNvCxnSpPr>
            <a:stCxn id="130" idx="6"/>
            <a:endCxn id="133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0" idx="5"/>
            <a:endCxn id="134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0" idx="4"/>
            <a:endCxn id="135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2" idx="7"/>
            <a:endCxn id="131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6" idx="6"/>
            <a:endCxn id="132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30" idx="7"/>
            <a:endCxn id="131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35" idx="6"/>
            <a:endCxn id="132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34" idx="6"/>
            <a:endCxn id="133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36" idx="0"/>
            <a:endCxn id="133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2" idx="1"/>
            <a:endCxn id="133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191440" y="3352680"/>
            <a:ext cx="762120" cy="671400"/>
            <a:chOff x="8191440" y="3352680"/>
            <a:chExt cx="762120" cy="671400"/>
          </a:xfrm>
        </p:grpSpPr>
        <p:sp>
          <p:nvSpPr>
            <p:cNvPr id="149" name=""/>
            <p:cNvSpPr/>
            <p:nvPr/>
          </p:nvSpPr>
          <p:spPr>
            <a:xfrm>
              <a:off x="8191440" y="335268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6200000">
              <a:off x="8420040" y="379548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156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7B05-A854-4762-9B33-2CDDFF0A2C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8" name=""/>
          <p:cNvCxnSpPr>
            <a:stCxn id="161" idx="6"/>
            <a:endCxn id="164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1" idx="5"/>
            <a:endCxn id="165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1" idx="4"/>
            <a:endCxn id="166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3" idx="7"/>
            <a:endCxn id="162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7" idx="6"/>
            <a:endCxn id="163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1" idx="7"/>
            <a:endCxn id="162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66" idx="6"/>
            <a:endCxn id="163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65" idx="6"/>
            <a:endCxn id="164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67" idx="0"/>
            <a:endCxn id="164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63" idx="1"/>
            <a:endCxn id="164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187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191440" y="2971800"/>
            <a:ext cx="762120" cy="671040"/>
            <a:chOff x="8191440" y="2971800"/>
            <a:chExt cx="762120" cy="671040"/>
          </a:xfrm>
        </p:grpSpPr>
        <p:sp>
          <p:nvSpPr>
            <p:cNvPr id="191" name=""/>
            <p:cNvSpPr/>
            <p:nvPr/>
          </p:nvSpPr>
          <p:spPr>
            <a:xfrm>
              <a:off x="8191440" y="2971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8420040" y="341424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E22D-EF24-4726-821D-286E380B14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2" name=""/>
          <p:cNvCxnSpPr>
            <a:stCxn id="195" idx="6"/>
            <a:endCxn id="198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5" idx="5"/>
            <a:endCxn id="199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5" idx="4"/>
            <a:endCxn id="200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97" idx="7"/>
            <a:endCxn id="196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201" idx="6"/>
            <a:endCxn id="197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5" idx="7"/>
            <a:endCxn id="196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0" idx="6"/>
            <a:endCxn id="197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9" idx="6"/>
            <a:endCxn id="198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201" idx="0"/>
            <a:endCxn id="198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197" idx="1"/>
            <a:endCxn id="198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224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8191440" y="2552760"/>
            <a:ext cx="762120" cy="671040"/>
            <a:chOff x="8191440" y="2552760"/>
            <a:chExt cx="762120" cy="671040"/>
          </a:xfrm>
        </p:grpSpPr>
        <p:sp>
          <p:nvSpPr>
            <p:cNvPr id="228" name=""/>
            <p:cNvSpPr/>
            <p:nvPr/>
          </p:nvSpPr>
          <p:spPr>
            <a:xfrm>
              <a:off x="8191440" y="255276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8420040" y="299520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4B8F-5D2E-4B99-A239-62757C4516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9" name=""/>
          <p:cNvCxnSpPr>
            <a:stCxn id="232" idx="6"/>
            <a:endCxn id="235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232" idx="5"/>
            <a:endCxn id="236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41" name=""/>
          <p:cNvCxnSpPr>
            <a:stCxn id="232" idx="4"/>
            <a:endCxn id="237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42" name=""/>
          <p:cNvCxnSpPr>
            <a:stCxn id="234" idx="7"/>
            <a:endCxn id="233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38" idx="6"/>
            <a:endCxn id="234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2" idx="7"/>
            <a:endCxn id="233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5" name=""/>
          <p:cNvCxnSpPr>
            <a:stCxn id="237" idx="6"/>
            <a:endCxn id="234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36" idx="6"/>
            <a:endCxn id="235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38" idx="0"/>
            <a:endCxn id="235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34" idx="1"/>
            <a:endCxn id="235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264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191440" y="2133720"/>
            <a:ext cx="762120" cy="671040"/>
            <a:chOff x="8191440" y="2133720"/>
            <a:chExt cx="762120" cy="671040"/>
          </a:xfrm>
        </p:grpSpPr>
        <p:sp>
          <p:nvSpPr>
            <p:cNvPr id="268" name=""/>
            <p:cNvSpPr/>
            <p:nvPr/>
          </p:nvSpPr>
          <p:spPr>
            <a:xfrm>
              <a:off x="8191440" y="213372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8420040" y="257616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D8EB-44E2-4CC9-927C-92C8E7129E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9" name=""/>
          <p:cNvCxnSpPr>
            <a:stCxn id="272" idx="6"/>
            <a:endCxn id="275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80" name=""/>
          <p:cNvCxnSpPr>
            <a:stCxn id="272" idx="5"/>
            <a:endCxn id="276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72" idx="4"/>
            <a:endCxn id="277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82" name=""/>
          <p:cNvCxnSpPr>
            <a:stCxn id="274" idx="7"/>
            <a:endCxn id="273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83" name=""/>
          <p:cNvCxnSpPr>
            <a:stCxn id="278" idx="6"/>
            <a:endCxn id="274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84" name=""/>
          <p:cNvCxnSpPr>
            <a:stCxn id="272" idx="7"/>
            <a:endCxn id="273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77" idx="6"/>
            <a:endCxn id="274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86" name=""/>
          <p:cNvCxnSpPr>
            <a:stCxn id="276" idx="6"/>
            <a:endCxn id="275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287" name=""/>
          <p:cNvCxnSpPr>
            <a:stCxn id="278" idx="0"/>
            <a:endCxn id="275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74" idx="1"/>
            <a:endCxn id="275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307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191440" y="1765440"/>
            <a:ext cx="762120" cy="671040"/>
            <a:chOff x="8191440" y="1765440"/>
            <a:chExt cx="762120" cy="671040"/>
          </a:xfrm>
        </p:grpSpPr>
        <p:sp>
          <p:nvSpPr>
            <p:cNvPr id="311" name=""/>
            <p:cNvSpPr/>
            <p:nvPr/>
          </p:nvSpPr>
          <p:spPr>
            <a:xfrm>
              <a:off x="8191440" y="176544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6200000">
              <a:off x="8420040" y="220788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CC87-CB1B-4713-A4ED-4B286554CF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2" name=""/>
          <p:cNvCxnSpPr>
            <a:stCxn id="315" idx="6"/>
            <a:endCxn id="318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5"/>
            <a:endCxn id="319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15" idx="4"/>
            <a:endCxn id="320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7" idx="7"/>
            <a:endCxn id="316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21" idx="6"/>
            <a:endCxn id="317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15" idx="7"/>
            <a:endCxn id="316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20" idx="6"/>
            <a:endCxn id="317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19" idx="6"/>
            <a:endCxn id="318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321" idx="0"/>
            <a:endCxn id="318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7" idx="1"/>
            <a:endCxn id="318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335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8191440" y="1434960"/>
            <a:ext cx="762120" cy="671400"/>
            <a:chOff x="8191440" y="1434960"/>
            <a:chExt cx="762120" cy="671400"/>
          </a:xfrm>
        </p:grpSpPr>
        <p:sp>
          <p:nvSpPr>
            <p:cNvPr id="357" name=""/>
            <p:cNvSpPr/>
            <p:nvPr/>
          </p:nvSpPr>
          <p:spPr>
            <a:xfrm>
              <a:off x="8191440" y="143496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8420040" y="187776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CC57-9488-43D4-B67C-7AF50CDD39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Euler Tour:  Example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1009800" y="2374920"/>
            <a:ext cx="17413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 2 5 6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2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 3 4 1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4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6 5 3 2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5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br>
              <a:rPr sz="1800"/>
            </a:b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4 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4038480" y="1397160"/>
            <a:ext cx="274680" cy="27432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7071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6245280" y="3479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56973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4595760" y="24987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4038480" y="428616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5143680" y="347976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8" name=""/>
          <p:cNvCxnSpPr>
            <a:stCxn id="361" idx="6"/>
            <a:endCxn id="364" idx="1"/>
          </p:cNvCxnSpPr>
          <p:nvPr/>
        </p:nvCxnSpPr>
        <p:spPr>
          <a:xfrm>
            <a:off x="4321080" y="1534680"/>
            <a:ext cx="1416960" cy="9961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61" idx="5"/>
            <a:endCxn id="365" idx="0"/>
          </p:cNvCxnSpPr>
          <p:nvPr/>
        </p:nvCxnSpPr>
        <p:spPr>
          <a:xfrm>
            <a:off x="4273200" y="1639800"/>
            <a:ext cx="461160" cy="8517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61" idx="4"/>
            <a:endCxn id="366" idx="0"/>
          </p:cNvCxnSpPr>
          <p:nvPr/>
        </p:nvCxnSpPr>
        <p:spPr>
          <a:xfrm>
            <a:off x="4176360" y="1679040"/>
            <a:ext cx="1080" cy="25995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3" idx="7"/>
            <a:endCxn id="362" idx="4"/>
          </p:cNvCxnSpPr>
          <p:nvPr/>
        </p:nvCxnSpPr>
        <p:spPr>
          <a:xfrm flipV="1">
            <a:off x="6479640" y="2781000"/>
            <a:ext cx="366120" cy="7308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67" idx="6"/>
            <a:endCxn id="363" idx="2"/>
          </p:cNvCxnSpPr>
          <p:nvPr/>
        </p:nvCxnSpPr>
        <p:spPr>
          <a:xfrm>
            <a:off x="5425920" y="3617640"/>
            <a:ext cx="8121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61" idx="7"/>
            <a:endCxn id="362" idx="1"/>
          </p:cNvCxnSpPr>
          <p:nvPr/>
        </p:nvCxnSpPr>
        <p:spPr>
          <a:xfrm>
            <a:off x="4273560" y="1428840"/>
            <a:ext cx="2473920" cy="110232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66" idx="6"/>
            <a:endCxn id="363" idx="3"/>
          </p:cNvCxnSpPr>
          <p:nvPr/>
        </p:nvCxnSpPr>
        <p:spPr>
          <a:xfrm flipV="1">
            <a:off x="4320720" y="3722040"/>
            <a:ext cx="1964520" cy="7023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5" idx="6"/>
            <a:endCxn id="364" idx="2"/>
          </p:cNvCxnSpPr>
          <p:nvPr/>
        </p:nvCxnSpPr>
        <p:spPr>
          <a:xfrm>
            <a:off x="4878000" y="2636640"/>
            <a:ext cx="811800" cy="108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67" idx="0"/>
            <a:endCxn id="364" idx="3"/>
          </p:cNvCxnSpPr>
          <p:nvPr/>
        </p:nvCxnSpPr>
        <p:spPr>
          <a:xfrm flipV="1">
            <a:off x="5281560" y="2741400"/>
            <a:ext cx="456480" cy="730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3" idx="1"/>
            <a:endCxn id="364" idx="5"/>
          </p:cNvCxnSpPr>
          <p:nvPr/>
        </p:nvCxnSpPr>
        <p:spPr>
          <a:xfrm flipH="1" flipV="1">
            <a:off x="5931720" y="2741400"/>
            <a:ext cx="353160" cy="7704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990720" y="18954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Adjacency li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2276640"/>
            <a:ext cx="1905120" cy="0"/>
          </a:xfrm>
          <a:prstGeom prst="line">
            <a:avLst/>
          </a:prstGeom>
          <a:ln w="158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438280" y="5410080"/>
            <a:ext cx="3124440" cy="1172880"/>
            <a:chOff x="2438280" y="5410080"/>
            <a:chExt cx="3124440" cy="1172880"/>
          </a:xfrm>
        </p:grpSpPr>
        <p:sp>
          <p:nvSpPr>
            <p:cNvPr id="381" name=""/>
            <p:cNvSpPr/>
            <p:nvPr/>
          </p:nvSpPr>
          <p:spPr>
            <a:xfrm>
              <a:off x="2438280" y="5410080"/>
              <a:ext cx="3124440" cy="11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38280" y="5410080"/>
              <a:ext cx="3124440" cy="366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stdou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38420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1397160" y="264312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1397160" y="2922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1663560" y="26431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2197080" y="29224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1663560" y="2389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1955880" y="23763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140328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1670040" y="37479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1657440" y="348156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1415880" y="402732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1403280" y="3481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3763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1673280" y="403056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8381880" y="4191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8381880" y="3809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8381880" y="3429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8381880" y="3048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8381880" y="2666880"/>
            <a:ext cx="381240" cy="38124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8381880" y="2286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8381880" y="190512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8381880" y="4572000"/>
            <a:ext cx="381240" cy="380880"/>
          </a:xfrm>
          <a:prstGeom prst="rect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8191440" y="1079640"/>
            <a:ext cx="762120" cy="671040"/>
            <a:chOff x="8191440" y="1079640"/>
            <a:chExt cx="762120" cy="671040"/>
          </a:xfrm>
        </p:grpSpPr>
        <p:sp>
          <p:nvSpPr>
            <p:cNvPr id="406" name=""/>
            <p:cNvSpPr/>
            <p:nvPr/>
          </p:nvSpPr>
          <p:spPr>
            <a:xfrm>
              <a:off x="8191440" y="107964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stac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6200000">
              <a:off x="8420040" y="1522080"/>
              <a:ext cx="304560" cy="1522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33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EA92-2983-4243-82C1-95EA2CA813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4-03-31T17:57:03Z</dcterms:modified>
  <cp:revision>957</cp:revision>
  <dc:subject/>
  <dc:title>Trees</dc:title>
</cp:coreProperties>
</file>