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197B-B58E-4098-9BA7-67CA74011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2F39-8147-4D3C-9992-14FCE0357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FC4F-A319-4F1C-B9CD-ED6215836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728E-90CE-4E60-9EAE-C0FE83DDC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F789-2D48-46D5-9B49-254C15C2D3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6625-9B39-4278-80B5-4D8371AB6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C596-82E1-4F14-83F7-7315AA5E4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050D-4FBF-4EB1-AFEA-FE1304A4D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68B3-C42C-4B8E-B871-3416C3233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2C9A-2302-4337-8BE3-185A39666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89B1-C474-49D4-A0F0-06B2D7A34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ADAB-5A47-4A4D-9FE4-52749B0F5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451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spcBef>
                <a:spcPts val="451"/>
              </a:spcBef>
              <a:buClr>
                <a:srgbClr val="0066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spcBef>
                <a:spcPts val="451"/>
              </a:spcBef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spcBef>
                <a:spcPts val="451"/>
              </a:spcBef>
              <a:buClr>
                <a:srgbClr val="ff66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11CA-7E8E-4CF5-A7C9-930DEC4477C4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2340000" cy="41785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inceton University     •     COS 226     •     Algorithms and Data Structures     •     Spring 2003     •    http://www.Princeton.EDU/~c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nd shortest path from s to t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9" name=""/>
          <p:cNvCxnSpPr>
            <a:stCxn id="81" idx="7"/>
            <a:endCxn id="84" idx="2"/>
          </p:cNvCxnSpPr>
          <p:nvPr/>
        </p:nvCxnSpPr>
        <p:spPr>
          <a:xfrm flipV="1">
            <a:off x="557640" y="3057480"/>
            <a:ext cx="1519200" cy="3873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1" idx="6"/>
            <a:endCxn id="85" idx="1"/>
          </p:cNvCxnSpPr>
          <p:nvPr/>
        </p:nvCxnSpPr>
        <p:spPr>
          <a:xfrm>
            <a:off x="601560" y="3551400"/>
            <a:ext cx="2325600" cy="569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1" idx="5"/>
            <a:endCxn id="86" idx="0"/>
          </p:cNvCxnSpPr>
          <p:nvPr/>
        </p:nvCxnSpPr>
        <p:spPr>
          <a:xfrm>
            <a:off x="557640" y="3657960"/>
            <a:ext cx="1731960" cy="2362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5" idx="7"/>
            <a:endCxn id="82" idx="2"/>
          </p:cNvCxnSpPr>
          <p:nvPr/>
        </p:nvCxnSpPr>
        <p:spPr>
          <a:xfrm flipV="1">
            <a:off x="3140640" y="3057480"/>
            <a:ext cx="4827240" cy="10634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7"/>
            <a:endCxn id="82" idx="4"/>
          </p:cNvCxnSpPr>
          <p:nvPr/>
        </p:nvCxnSpPr>
        <p:spPr>
          <a:xfrm flipV="1">
            <a:off x="7282440" y="3208320"/>
            <a:ext cx="836280" cy="1261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5" idx="5"/>
            <a:endCxn id="88" idx="1"/>
          </p:cNvCxnSpPr>
          <p:nvPr/>
        </p:nvCxnSpPr>
        <p:spPr>
          <a:xfrm>
            <a:off x="3140640" y="4334400"/>
            <a:ext cx="1193040" cy="478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8" idx="5"/>
            <a:endCxn id="83" idx="2"/>
          </p:cNvCxnSpPr>
          <p:nvPr/>
        </p:nvCxnSpPr>
        <p:spPr>
          <a:xfrm>
            <a:off x="4547160" y="5026680"/>
            <a:ext cx="3732120" cy="1031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8" idx="6"/>
            <a:endCxn id="87" idx="2"/>
          </p:cNvCxnSpPr>
          <p:nvPr/>
        </p:nvCxnSpPr>
        <p:spPr>
          <a:xfrm flipV="1">
            <a:off x="4591080" y="4576680"/>
            <a:ext cx="2433960" cy="3434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7" idx="4"/>
            <a:endCxn id="83" idx="1"/>
          </p:cNvCxnSpPr>
          <p:nvPr/>
        </p:nvCxnSpPr>
        <p:spPr>
          <a:xfrm>
            <a:off x="7175520" y="4727520"/>
            <a:ext cx="1147680" cy="12240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2" idx="3"/>
            <a:endCxn id="88" idx="7"/>
          </p:cNvCxnSpPr>
          <p:nvPr/>
        </p:nvCxnSpPr>
        <p:spPr>
          <a:xfrm flipH="1">
            <a:off x="4547160" y="3164400"/>
            <a:ext cx="3464640" cy="1648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85" idx="4"/>
            <a:endCxn id="86" idx="7"/>
          </p:cNvCxnSpPr>
          <p:nvPr/>
        </p:nvCxnSpPr>
        <p:spPr>
          <a:xfrm flipH="1">
            <a:off x="2396160" y="4378320"/>
            <a:ext cx="637920" cy="1685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86" idx="6"/>
            <a:endCxn id="88" idx="2"/>
          </p:cNvCxnSpPr>
          <p:nvPr/>
        </p:nvCxnSpPr>
        <p:spPr>
          <a:xfrm flipV="1">
            <a:off x="2440080" y="4919760"/>
            <a:ext cx="1849680" cy="12513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4" idx="6"/>
            <a:endCxn id="82" idx="1"/>
          </p:cNvCxnSpPr>
          <p:nvPr/>
        </p:nvCxnSpPr>
        <p:spPr>
          <a:xfrm flipV="1">
            <a:off x="2378160" y="2950560"/>
            <a:ext cx="5633640" cy="1072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6" idx="6"/>
            <a:endCxn id="83" idx="3"/>
          </p:cNvCxnSpPr>
          <p:nvPr/>
        </p:nvCxnSpPr>
        <p:spPr>
          <a:xfrm flipV="1">
            <a:off x="2440080" y="6164640"/>
            <a:ext cx="5883120" cy="6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82" idx="5"/>
            <a:endCxn id="83" idx="0"/>
          </p:cNvCxnSpPr>
          <p:nvPr/>
        </p:nvCxnSpPr>
        <p:spPr>
          <a:xfrm>
            <a:off x="8225280" y="3164400"/>
            <a:ext cx="204840" cy="27432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E2B6-31DA-40E4-AEE8-F0E495629D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74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2" name=""/>
          <p:cNvCxnSpPr>
            <a:stCxn id="574" idx="7"/>
            <a:endCxn id="577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583" name=""/>
          <p:cNvCxnSpPr>
            <a:stCxn id="574" idx="6"/>
            <a:endCxn id="578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584" name=""/>
          <p:cNvCxnSpPr>
            <a:stCxn id="574" idx="5"/>
            <a:endCxn id="579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585" name=""/>
          <p:cNvCxnSpPr>
            <a:stCxn id="578" idx="7"/>
            <a:endCxn id="575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6" name=""/>
          <p:cNvCxnSpPr>
            <a:stCxn id="580" idx="7"/>
            <a:endCxn id="575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7" name=""/>
          <p:cNvCxnSpPr>
            <a:stCxn id="578" idx="5"/>
            <a:endCxn id="581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588" name=""/>
          <p:cNvCxnSpPr>
            <a:stCxn id="581" idx="5"/>
            <a:endCxn id="576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9" name=""/>
          <p:cNvCxnSpPr>
            <a:stCxn id="581" idx="6"/>
            <a:endCxn id="580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0" name=""/>
          <p:cNvCxnSpPr>
            <a:stCxn id="580" idx="4"/>
            <a:endCxn id="576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1" name=""/>
          <p:cNvCxnSpPr>
            <a:stCxn id="575" idx="3"/>
            <a:endCxn id="581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2" name=""/>
          <p:cNvCxnSpPr>
            <a:stCxn id="578" idx="4"/>
            <a:endCxn id="579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3" name=""/>
          <p:cNvCxnSpPr>
            <a:stCxn id="579" idx="6"/>
            <a:endCxn id="581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4" name=""/>
          <p:cNvCxnSpPr>
            <a:stCxn id="577" idx="6"/>
            <a:endCxn id="575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595" name=""/>
          <p:cNvCxnSpPr>
            <a:stCxn id="579" idx="6"/>
            <a:endCxn id="576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6" name=""/>
          <p:cNvCxnSpPr>
            <a:stCxn id="575" idx="5"/>
            <a:endCxn id="576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7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6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3, 4, 5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165240" y="2273400"/>
            <a:ext cx="3670200" cy="2419200"/>
          </a:xfrm>
          <a:custGeom>
            <a:avLst/>
            <a:gdLst/>
            <a:ahLst/>
            <a:rect l="l" t="t" r="r" b="b"/>
            <a:pathLst>
              <a:path w="2312" h="1524">
                <a:moveTo>
                  <a:pt x="0" y="704"/>
                </a:moveTo>
                <a:cubicBezTo>
                  <a:pt x="21" y="641"/>
                  <a:pt x="35" y="583"/>
                  <a:pt x="72" y="528"/>
                </a:cubicBezTo>
                <a:cubicBezTo>
                  <a:pt x="94" y="495"/>
                  <a:pt x="136" y="477"/>
                  <a:pt x="168" y="456"/>
                </a:cubicBezTo>
                <a:cubicBezTo>
                  <a:pt x="205" y="431"/>
                  <a:pt x="184" y="445"/>
                  <a:pt x="232" y="416"/>
                </a:cubicBezTo>
                <a:cubicBezTo>
                  <a:pt x="264" y="397"/>
                  <a:pt x="328" y="400"/>
                  <a:pt x="360" y="384"/>
                </a:cubicBezTo>
                <a:cubicBezTo>
                  <a:pt x="404" y="362"/>
                  <a:pt x="449" y="356"/>
                  <a:pt x="496" y="344"/>
                </a:cubicBezTo>
                <a:cubicBezTo>
                  <a:pt x="533" y="335"/>
                  <a:pt x="570" y="319"/>
                  <a:pt x="608" y="312"/>
                </a:cubicBezTo>
                <a:cubicBezTo>
                  <a:pt x="658" y="303"/>
                  <a:pt x="709" y="295"/>
                  <a:pt x="760" y="288"/>
                </a:cubicBezTo>
                <a:cubicBezTo>
                  <a:pt x="797" y="283"/>
                  <a:pt x="884" y="278"/>
                  <a:pt x="928" y="256"/>
                </a:cubicBezTo>
                <a:cubicBezTo>
                  <a:pt x="974" y="233"/>
                  <a:pt x="1012" y="182"/>
                  <a:pt x="1056" y="152"/>
                </a:cubicBezTo>
                <a:cubicBezTo>
                  <a:pt x="1140" y="96"/>
                  <a:pt x="1233" y="64"/>
                  <a:pt x="1328" y="32"/>
                </a:cubicBezTo>
                <a:cubicBezTo>
                  <a:pt x="1359" y="22"/>
                  <a:pt x="1384" y="8"/>
                  <a:pt x="1416" y="0"/>
                </a:cubicBezTo>
                <a:cubicBezTo>
                  <a:pt x="1493" y="5"/>
                  <a:pt x="1571" y="10"/>
                  <a:pt x="1648" y="16"/>
                </a:cubicBezTo>
                <a:cubicBezTo>
                  <a:pt x="1667" y="18"/>
                  <a:pt x="1686" y="17"/>
                  <a:pt x="1704" y="24"/>
                </a:cubicBezTo>
                <a:cubicBezTo>
                  <a:pt x="1722" y="31"/>
                  <a:pt x="1736" y="45"/>
                  <a:pt x="1752" y="56"/>
                </a:cubicBezTo>
                <a:cubicBezTo>
                  <a:pt x="1775" y="71"/>
                  <a:pt x="1815" y="75"/>
                  <a:pt x="1840" y="88"/>
                </a:cubicBezTo>
                <a:cubicBezTo>
                  <a:pt x="1887" y="111"/>
                  <a:pt x="1934" y="135"/>
                  <a:pt x="1984" y="152"/>
                </a:cubicBezTo>
                <a:cubicBezTo>
                  <a:pt x="2019" y="187"/>
                  <a:pt x="2044" y="225"/>
                  <a:pt x="2072" y="264"/>
                </a:cubicBezTo>
                <a:cubicBezTo>
                  <a:pt x="2096" y="297"/>
                  <a:pt x="2143" y="322"/>
                  <a:pt x="2176" y="344"/>
                </a:cubicBezTo>
                <a:cubicBezTo>
                  <a:pt x="2205" y="403"/>
                  <a:pt x="2250" y="453"/>
                  <a:pt x="2280" y="512"/>
                </a:cubicBezTo>
                <a:cubicBezTo>
                  <a:pt x="2308" y="568"/>
                  <a:pt x="2305" y="644"/>
                  <a:pt x="2312" y="704"/>
                </a:cubicBezTo>
                <a:cubicBezTo>
                  <a:pt x="2309" y="827"/>
                  <a:pt x="2309" y="949"/>
                  <a:pt x="2304" y="1072"/>
                </a:cubicBezTo>
                <a:cubicBezTo>
                  <a:pt x="2303" y="1098"/>
                  <a:pt x="2293" y="1145"/>
                  <a:pt x="2280" y="1168"/>
                </a:cubicBezTo>
                <a:cubicBezTo>
                  <a:pt x="2248" y="1225"/>
                  <a:pt x="2205" y="1261"/>
                  <a:pt x="2152" y="1296"/>
                </a:cubicBezTo>
                <a:cubicBezTo>
                  <a:pt x="2136" y="1307"/>
                  <a:pt x="2120" y="1317"/>
                  <a:pt x="2104" y="1328"/>
                </a:cubicBezTo>
                <a:cubicBezTo>
                  <a:pt x="2096" y="1333"/>
                  <a:pt x="2080" y="1344"/>
                  <a:pt x="2080" y="1344"/>
                </a:cubicBezTo>
                <a:cubicBezTo>
                  <a:pt x="2040" y="1405"/>
                  <a:pt x="2021" y="1431"/>
                  <a:pt x="1960" y="1472"/>
                </a:cubicBezTo>
                <a:cubicBezTo>
                  <a:pt x="1943" y="1483"/>
                  <a:pt x="1923" y="1490"/>
                  <a:pt x="1904" y="1496"/>
                </a:cubicBezTo>
                <a:cubicBezTo>
                  <a:pt x="1883" y="1503"/>
                  <a:pt x="1840" y="1512"/>
                  <a:pt x="1840" y="1512"/>
                </a:cubicBezTo>
                <a:cubicBezTo>
                  <a:pt x="1717" y="1508"/>
                  <a:pt x="1591" y="1524"/>
                  <a:pt x="1472" y="1496"/>
                </a:cubicBezTo>
                <a:cubicBezTo>
                  <a:pt x="1453" y="1492"/>
                  <a:pt x="1443" y="1469"/>
                  <a:pt x="1424" y="1464"/>
                </a:cubicBezTo>
                <a:cubicBezTo>
                  <a:pt x="1343" y="1444"/>
                  <a:pt x="1259" y="1436"/>
                  <a:pt x="1176" y="1424"/>
                </a:cubicBezTo>
                <a:cubicBezTo>
                  <a:pt x="1137" y="1398"/>
                  <a:pt x="1120" y="1355"/>
                  <a:pt x="1080" y="1328"/>
                </a:cubicBezTo>
                <a:cubicBezTo>
                  <a:pt x="1016" y="1285"/>
                  <a:pt x="939" y="1273"/>
                  <a:pt x="864" y="1264"/>
                </a:cubicBezTo>
                <a:cubicBezTo>
                  <a:pt x="779" y="1236"/>
                  <a:pt x="697" y="1226"/>
                  <a:pt x="608" y="1216"/>
                </a:cubicBezTo>
                <a:cubicBezTo>
                  <a:pt x="551" y="1209"/>
                  <a:pt x="496" y="1189"/>
                  <a:pt x="440" y="1176"/>
                </a:cubicBezTo>
                <a:cubicBezTo>
                  <a:pt x="392" y="1165"/>
                  <a:pt x="342" y="1159"/>
                  <a:pt x="296" y="1144"/>
                </a:cubicBezTo>
                <a:cubicBezTo>
                  <a:pt x="277" y="1116"/>
                  <a:pt x="264" y="1099"/>
                  <a:pt x="232" y="1088"/>
                </a:cubicBezTo>
                <a:cubicBezTo>
                  <a:pt x="194" y="1050"/>
                  <a:pt x="217" y="1070"/>
                  <a:pt x="160" y="1032"/>
                </a:cubicBezTo>
                <a:cubicBezTo>
                  <a:pt x="118" y="1004"/>
                  <a:pt x="110" y="967"/>
                  <a:pt x="64" y="952"/>
                </a:cubicBezTo>
                <a:cubicBezTo>
                  <a:pt x="17" y="881"/>
                  <a:pt x="20" y="785"/>
                  <a:pt x="0" y="704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 rot="5400000">
            <a:off x="2950920" y="638172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"/>
          <p:cNvSpPr/>
          <p:nvPr/>
        </p:nvSpPr>
        <p:spPr>
          <a:xfrm>
            <a:off x="3224160" y="6324480"/>
            <a:ext cx="127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314C-D122-4C88-BC61-E4E7061BBF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45" name=""/>
          <p:cNvCxnSpPr>
            <a:stCxn id="637" idx="7"/>
            <a:endCxn id="640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646" name=""/>
          <p:cNvCxnSpPr>
            <a:stCxn id="637" idx="6"/>
            <a:endCxn id="641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647" name=""/>
          <p:cNvCxnSpPr>
            <a:stCxn id="637" idx="5"/>
            <a:endCxn id="642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648" name=""/>
          <p:cNvCxnSpPr>
            <a:stCxn id="641" idx="7"/>
            <a:endCxn id="638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9" name=""/>
          <p:cNvCxnSpPr>
            <a:stCxn id="643" idx="7"/>
            <a:endCxn id="638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0" name=""/>
          <p:cNvCxnSpPr>
            <a:stCxn id="641" idx="5"/>
            <a:endCxn id="644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1" name=""/>
          <p:cNvCxnSpPr>
            <a:stCxn id="644" idx="5"/>
            <a:endCxn id="639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"/>
          <p:cNvCxnSpPr>
            <a:stCxn id="644" idx="6"/>
            <a:endCxn id="643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3" name=""/>
          <p:cNvCxnSpPr>
            <a:stCxn id="643" idx="4"/>
            <a:endCxn id="639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4" name=""/>
          <p:cNvCxnSpPr>
            <a:stCxn id="638" idx="3"/>
            <a:endCxn id="644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41" idx="4"/>
            <a:endCxn id="642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42" idx="6"/>
            <a:endCxn id="644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40" idx="6"/>
            <a:endCxn id="638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42" idx="6"/>
            <a:endCxn id="639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38" idx="5"/>
            <a:endCxn id="639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0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3, 4, 5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190440" y="2298600"/>
            <a:ext cx="3632400" cy="4454640"/>
          </a:xfrm>
          <a:custGeom>
            <a:avLst/>
            <a:gdLst/>
            <a:ahLst/>
            <a:rect l="l" t="t" r="r" b="b"/>
            <a:pathLst>
              <a:path w="2288" h="2806">
                <a:moveTo>
                  <a:pt x="0" y="736"/>
                </a:moveTo>
                <a:cubicBezTo>
                  <a:pt x="7" y="699"/>
                  <a:pt x="11" y="671"/>
                  <a:pt x="32" y="640"/>
                </a:cubicBezTo>
                <a:cubicBezTo>
                  <a:pt x="57" y="542"/>
                  <a:pt x="149" y="409"/>
                  <a:pt x="248" y="376"/>
                </a:cubicBezTo>
                <a:cubicBezTo>
                  <a:pt x="302" y="322"/>
                  <a:pt x="240" y="376"/>
                  <a:pt x="304" y="344"/>
                </a:cubicBezTo>
                <a:cubicBezTo>
                  <a:pt x="316" y="338"/>
                  <a:pt x="324" y="327"/>
                  <a:pt x="336" y="320"/>
                </a:cubicBezTo>
                <a:cubicBezTo>
                  <a:pt x="400" y="283"/>
                  <a:pt x="471" y="255"/>
                  <a:pt x="544" y="240"/>
                </a:cubicBezTo>
                <a:cubicBezTo>
                  <a:pt x="602" y="211"/>
                  <a:pt x="667" y="172"/>
                  <a:pt x="728" y="152"/>
                </a:cubicBezTo>
                <a:cubicBezTo>
                  <a:pt x="762" y="118"/>
                  <a:pt x="833" y="89"/>
                  <a:pt x="880" y="80"/>
                </a:cubicBezTo>
                <a:cubicBezTo>
                  <a:pt x="972" y="34"/>
                  <a:pt x="1058" y="15"/>
                  <a:pt x="1160" y="0"/>
                </a:cubicBezTo>
                <a:cubicBezTo>
                  <a:pt x="1309" y="4"/>
                  <a:pt x="1460" y="3"/>
                  <a:pt x="1608" y="24"/>
                </a:cubicBezTo>
                <a:cubicBezTo>
                  <a:pt x="1662" y="42"/>
                  <a:pt x="1715" y="65"/>
                  <a:pt x="1768" y="88"/>
                </a:cubicBezTo>
                <a:cubicBezTo>
                  <a:pt x="1801" y="102"/>
                  <a:pt x="1844" y="111"/>
                  <a:pt x="1872" y="136"/>
                </a:cubicBezTo>
                <a:cubicBezTo>
                  <a:pt x="1926" y="184"/>
                  <a:pt x="1904" y="176"/>
                  <a:pt x="1952" y="208"/>
                </a:cubicBezTo>
                <a:cubicBezTo>
                  <a:pt x="1985" y="230"/>
                  <a:pt x="1993" y="227"/>
                  <a:pt x="2016" y="256"/>
                </a:cubicBezTo>
                <a:cubicBezTo>
                  <a:pt x="2027" y="270"/>
                  <a:pt x="2051" y="316"/>
                  <a:pt x="2072" y="328"/>
                </a:cubicBezTo>
                <a:cubicBezTo>
                  <a:pt x="2097" y="342"/>
                  <a:pt x="2126" y="347"/>
                  <a:pt x="2152" y="360"/>
                </a:cubicBezTo>
                <a:cubicBezTo>
                  <a:pt x="2175" y="391"/>
                  <a:pt x="2196" y="427"/>
                  <a:pt x="2208" y="464"/>
                </a:cubicBezTo>
                <a:cubicBezTo>
                  <a:pt x="2214" y="520"/>
                  <a:pt x="2215" y="593"/>
                  <a:pt x="2232" y="648"/>
                </a:cubicBezTo>
                <a:cubicBezTo>
                  <a:pt x="2240" y="675"/>
                  <a:pt x="2257" y="698"/>
                  <a:pt x="2264" y="728"/>
                </a:cubicBezTo>
                <a:cubicBezTo>
                  <a:pt x="2269" y="779"/>
                  <a:pt x="2272" y="824"/>
                  <a:pt x="2288" y="872"/>
                </a:cubicBezTo>
                <a:cubicBezTo>
                  <a:pt x="2285" y="909"/>
                  <a:pt x="2286" y="947"/>
                  <a:pt x="2280" y="984"/>
                </a:cubicBezTo>
                <a:cubicBezTo>
                  <a:pt x="2277" y="1000"/>
                  <a:pt x="2235" y="1059"/>
                  <a:pt x="2232" y="1064"/>
                </a:cubicBezTo>
                <a:cubicBezTo>
                  <a:pt x="2206" y="1103"/>
                  <a:pt x="2194" y="1145"/>
                  <a:pt x="2168" y="1184"/>
                </a:cubicBezTo>
                <a:cubicBezTo>
                  <a:pt x="2161" y="1224"/>
                  <a:pt x="2162" y="1265"/>
                  <a:pt x="2152" y="1304"/>
                </a:cubicBezTo>
                <a:cubicBezTo>
                  <a:pt x="2144" y="1336"/>
                  <a:pt x="2134" y="1324"/>
                  <a:pt x="2112" y="1336"/>
                </a:cubicBezTo>
                <a:cubicBezTo>
                  <a:pt x="2076" y="1356"/>
                  <a:pt x="2054" y="1379"/>
                  <a:pt x="2016" y="1392"/>
                </a:cubicBezTo>
                <a:cubicBezTo>
                  <a:pt x="2000" y="1439"/>
                  <a:pt x="2021" y="1396"/>
                  <a:pt x="1976" y="1432"/>
                </a:cubicBezTo>
                <a:cubicBezTo>
                  <a:pt x="1958" y="1446"/>
                  <a:pt x="1948" y="1470"/>
                  <a:pt x="1928" y="1480"/>
                </a:cubicBezTo>
                <a:cubicBezTo>
                  <a:pt x="1906" y="1491"/>
                  <a:pt x="1881" y="1501"/>
                  <a:pt x="1864" y="1520"/>
                </a:cubicBezTo>
                <a:cubicBezTo>
                  <a:pt x="1844" y="1543"/>
                  <a:pt x="1827" y="1569"/>
                  <a:pt x="1808" y="1592"/>
                </a:cubicBezTo>
                <a:cubicBezTo>
                  <a:pt x="1740" y="1674"/>
                  <a:pt x="1737" y="1836"/>
                  <a:pt x="1704" y="1936"/>
                </a:cubicBezTo>
                <a:cubicBezTo>
                  <a:pt x="1701" y="2149"/>
                  <a:pt x="1701" y="2363"/>
                  <a:pt x="1696" y="2576"/>
                </a:cubicBezTo>
                <a:cubicBezTo>
                  <a:pt x="1695" y="2616"/>
                  <a:pt x="1649" y="2722"/>
                  <a:pt x="1624" y="2752"/>
                </a:cubicBezTo>
                <a:cubicBezTo>
                  <a:pt x="1596" y="2785"/>
                  <a:pt x="1598" y="2777"/>
                  <a:pt x="1552" y="2792"/>
                </a:cubicBezTo>
                <a:cubicBezTo>
                  <a:pt x="1544" y="2795"/>
                  <a:pt x="1528" y="2800"/>
                  <a:pt x="1528" y="2800"/>
                </a:cubicBezTo>
                <a:cubicBezTo>
                  <a:pt x="1292" y="2792"/>
                  <a:pt x="1345" y="2806"/>
                  <a:pt x="1208" y="2760"/>
                </a:cubicBezTo>
                <a:cubicBezTo>
                  <a:pt x="1174" y="2709"/>
                  <a:pt x="1111" y="2694"/>
                  <a:pt x="1056" y="2672"/>
                </a:cubicBezTo>
                <a:cubicBezTo>
                  <a:pt x="1022" y="2638"/>
                  <a:pt x="1022" y="2600"/>
                  <a:pt x="1000" y="2560"/>
                </a:cubicBezTo>
                <a:cubicBezTo>
                  <a:pt x="973" y="2511"/>
                  <a:pt x="932" y="2481"/>
                  <a:pt x="888" y="2448"/>
                </a:cubicBezTo>
                <a:cubicBezTo>
                  <a:pt x="859" y="2360"/>
                  <a:pt x="834" y="2336"/>
                  <a:pt x="760" y="2280"/>
                </a:cubicBezTo>
                <a:cubicBezTo>
                  <a:pt x="745" y="2221"/>
                  <a:pt x="718" y="2168"/>
                  <a:pt x="696" y="2112"/>
                </a:cubicBezTo>
                <a:cubicBezTo>
                  <a:pt x="686" y="2086"/>
                  <a:pt x="683" y="2058"/>
                  <a:pt x="672" y="2032"/>
                </a:cubicBezTo>
                <a:cubicBezTo>
                  <a:pt x="659" y="2001"/>
                  <a:pt x="631" y="1975"/>
                  <a:pt x="616" y="1944"/>
                </a:cubicBezTo>
                <a:cubicBezTo>
                  <a:pt x="611" y="1918"/>
                  <a:pt x="603" y="1854"/>
                  <a:pt x="592" y="1832"/>
                </a:cubicBezTo>
                <a:cubicBezTo>
                  <a:pt x="585" y="1819"/>
                  <a:pt x="571" y="1811"/>
                  <a:pt x="560" y="1800"/>
                </a:cubicBezTo>
                <a:cubicBezTo>
                  <a:pt x="538" y="1735"/>
                  <a:pt x="503" y="1670"/>
                  <a:pt x="472" y="1608"/>
                </a:cubicBezTo>
                <a:cubicBezTo>
                  <a:pt x="454" y="1572"/>
                  <a:pt x="458" y="1555"/>
                  <a:pt x="432" y="1520"/>
                </a:cubicBezTo>
                <a:cubicBezTo>
                  <a:pt x="424" y="1486"/>
                  <a:pt x="411" y="1461"/>
                  <a:pt x="392" y="1432"/>
                </a:cubicBezTo>
                <a:cubicBezTo>
                  <a:pt x="361" y="1310"/>
                  <a:pt x="283" y="1196"/>
                  <a:pt x="208" y="1096"/>
                </a:cubicBezTo>
                <a:cubicBezTo>
                  <a:pt x="196" y="1060"/>
                  <a:pt x="173" y="1031"/>
                  <a:pt x="152" y="1000"/>
                </a:cubicBezTo>
                <a:cubicBezTo>
                  <a:pt x="143" y="986"/>
                  <a:pt x="145" y="966"/>
                  <a:pt x="136" y="952"/>
                </a:cubicBezTo>
                <a:cubicBezTo>
                  <a:pt x="131" y="944"/>
                  <a:pt x="127" y="934"/>
                  <a:pt x="120" y="928"/>
                </a:cubicBezTo>
                <a:cubicBezTo>
                  <a:pt x="106" y="915"/>
                  <a:pt x="72" y="896"/>
                  <a:pt x="72" y="896"/>
                </a:cubicBezTo>
                <a:cubicBezTo>
                  <a:pt x="67" y="888"/>
                  <a:pt x="60" y="881"/>
                  <a:pt x="56" y="872"/>
                </a:cubicBezTo>
                <a:cubicBezTo>
                  <a:pt x="52" y="864"/>
                  <a:pt x="52" y="855"/>
                  <a:pt x="48" y="848"/>
                </a:cubicBezTo>
                <a:cubicBezTo>
                  <a:pt x="39" y="831"/>
                  <a:pt x="16" y="800"/>
                  <a:pt x="16" y="800"/>
                </a:cubicBezTo>
                <a:cubicBezTo>
                  <a:pt x="8" y="724"/>
                  <a:pt x="25" y="711"/>
                  <a:pt x="0" y="736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38AE-BA93-4F23-AF5D-31CB8D4774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0" name=""/>
          <p:cNvCxnSpPr>
            <a:stCxn id="702" idx="7"/>
            <a:endCxn id="705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702" idx="6"/>
            <a:endCxn id="706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702" idx="5"/>
            <a:endCxn id="707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706" idx="7"/>
            <a:endCxn id="703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708" idx="7"/>
            <a:endCxn id="703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706" idx="5"/>
            <a:endCxn id="709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709" idx="5"/>
            <a:endCxn id="704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09" idx="6"/>
            <a:endCxn id="708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708" idx="4"/>
            <a:endCxn id="704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703" idx="3"/>
            <a:endCxn id="709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0" name=""/>
          <p:cNvCxnSpPr>
            <a:stCxn id="706" idx="4"/>
            <a:endCxn id="707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1" name=""/>
          <p:cNvCxnSpPr>
            <a:stCxn id="707" idx="6"/>
            <a:endCxn id="709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722" name=""/>
          <p:cNvCxnSpPr>
            <a:stCxn id="705" idx="6"/>
            <a:endCxn id="703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723" name=""/>
          <p:cNvCxnSpPr>
            <a:stCxn id="707" idx="6"/>
            <a:endCxn id="704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724" name=""/>
          <p:cNvCxnSpPr>
            <a:stCxn id="703" idx="5"/>
            <a:endCxn id="704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3, 4, 5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"/>
          <p:cNvSpPr/>
          <p:nvPr/>
        </p:nvSpPr>
        <p:spPr>
          <a:xfrm>
            <a:off x="190440" y="2298600"/>
            <a:ext cx="3632400" cy="4454640"/>
          </a:xfrm>
          <a:custGeom>
            <a:avLst/>
            <a:gdLst/>
            <a:ahLst/>
            <a:rect l="l" t="t" r="r" b="b"/>
            <a:pathLst>
              <a:path w="2288" h="2806">
                <a:moveTo>
                  <a:pt x="0" y="736"/>
                </a:moveTo>
                <a:cubicBezTo>
                  <a:pt x="7" y="699"/>
                  <a:pt x="11" y="671"/>
                  <a:pt x="32" y="640"/>
                </a:cubicBezTo>
                <a:cubicBezTo>
                  <a:pt x="57" y="542"/>
                  <a:pt x="149" y="409"/>
                  <a:pt x="248" y="376"/>
                </a:cubicBezTo>
                <a:cubicBezTo>
                  <a:pt x="302" y="322"/>
                  <a:pt x="240" y="376"/>
                  <a:pt x="304" y="344"/>
                </a:cubicBezTo>
                <a:cubicBezTo>
                  <a:pt x="316" y="338"/>
                  <a:pt x="324" y="327"/>
                  <a:pt x="336" y="320"/>
                </a:cubicBezTo>
                <a:cubicBezTo>
                  <a:pt x="400" y="283"/>
                  <a:pt x="471" y="255"/>
                  <a:pt x="544" y="240"/>
                </a:cubicBezTo>
                <a:cubicBezTo>
                  <a:pt x="602" y="211"/>
                  <a:pt x="667" y="172"/>
                  <a:pt x="728" y="152"/>
                </a:cubicBezTo>
                <a:cubicBezTo>
                  <a:pt x="762" y="118"/>
                  <a:pt x="833" y="89"/>
                  <a:pt x="880" y="80"/>
                </a:cubicBezTo>
                <a:cubicBezTo>
                  <a:pt x="972" y="34"/>
                  <a:pt x="1058" y="15"/>
                  <a:pt x="1160" y="0"/>
                </a:cubicBezTo>
                <a:cubicBezTo>
                  <a:pt x="1309" y="4"/>
                  <a:pt x="1460" y="3"/>
                  <a:pt x="1608" y="24"/>
                </a:cubicBezTo>
                <a:cubicBezTo>
                  <a:pt x="1662" y="42"/>
                  <a:pt x="1715" y="65"/>
                  <a:pt x="1768" y="88"/>
                </a:cubicBezTo>
                <a:cubicBezTo>
                  <a:pt x="1801" y="102"/>
                  <a:pt x="1844" y="111"/>
                  <a:pt x="1872" y="136"/>
                </a:cubicBezTo>
                <a:cubicBezTo>
                  <a:pt x="1926" y="184"/>
                  <a:pt x="1904" y="176"/>
                  <a:pt x="1952" y="208"/>
                </a:cubicBezTo>
                <a:cubicBezTo>
                  <a:pt x="1985" y="230"/>
                  <a:pt x="1993" y="227"/>
                  <a:pt x="2016" y="256"/>
                </a:cubicBezTo>
                <a:cubicBezTo>
                  <a:pt x="2027" y="270"/>
                  <a:pt x="2051" y="316"/>
                  <a:pt x="2072" y="328"/>
                </a:cubicBezTo>
                <a:cubicBezTo>
                  <a:pt x="2097" y="342"/>
                  <a:pt x="2126" y="347"/>
                  <a:pt x="2152" y="360"/>
                </a:cubicBezTo>
                <a:cubicBezTo>
                  <a:pt x="2175" y="391"/>
                  <a:pt x="2196" y="427"/>
                  <a:pt x="2208" y="464"/>
                </a:cubicBezTo>
                <a:cubicBezTo>
                  <a:pt x="2214" y="520"/>
                  <a:pt x="2215" y="593"/>
                  <a:pt x="2232" y="648"/>
                </a:cubicBezTo>
                <a:cubicBezTo>
                  <a:pt x="2240" y="675"/>
                  <a:pt x="2257" y="698"/>
                  <a:pt x="2264" y="728"/>
                </a:cubicBezTo>
                <a:cubicBezTo>
                  <a:pt x="2269" y="779"/>
                  <a:pt x="2272" y="824"/>
                  <a:pt x="2288" y="872"/>
                </a:cubicBezTo>
                <a:cubicBezTo>
                  <a:pt x="2285" y="909"/>
                  <a:pt x="2286" y="947"/>
                  <a:pt x="2280" y="984"/>
                </a:cubicBezTo>
                <a:cubicBezTo>
                  <a:pt x="2277" y="1000"/>
                  <a:pt x="2235" y="1059"/>
                  <a:pt x="2232" y="1064"/>
                </a:cubicBezTo>
                <a:cubicBezTo>
                  <a:pt x="2206" y="1103"/>
                  <a:pt x="2194" y="1145"/>
                  <a:pt x="2168" y="1184"/>
                </a:cubicBezTo>
                <a:cubicBezTo>
                  <a:pt x="2161" y="1224"/>
                  <a:pt x="2162" y="1265"/>
                  <a:pt x="2152" y="1304"/>
                </a:cubicBezTo>
                <a:cubicBezTo>
                  <a:pt x="2144" y="1336"/>
                  <a:pt x="2134" y="1324"/>
                  <a:pt x="2112" y="1336"/>
                </a:cubicBezTo>
                <a:cubicBezTo>
                  <a:pt x="2076" y="1356"/>
                  <a:pt x="2054" y="1379"/>
                  <a:pt x="2016" y="1392"/>
                </a:cubicBezTo>
                <a:cubicBezTo>
                  <a:pt x="2000" y="1439"/>
                  <a:pt x="2021" y="1396"/>
                  <a:pt x="1976" y="1432"/>
                </a:cubicBezTo>
                <a:cubicBezTo>
                  <a:pt x="1958" y="1446"/>
                  <a:pt x="1948" y="1470"/>
                  <a:pt x="1928" y="1480"/>
                </a:cubicBezTo>
                <a:cubicBezTo>
                  <a:pt x="1906" y="1491"/>
                  <a:pt x="1881" y="1501"/>
                  <a:pt x="1864" y="1520"/>
                </a:cubicBezTo>
                <a:cubicBezTo>
                  <a:pt x="1844" y="1543"/>
                  <a:pt x="1827" y="1569"/>
                  <a:pt x="1808" y="1592"/>
                </a:cubicBezTo>
                <a:cubicBezTo>
                  <a:pt x="1740" y="1674"/>
                  <a:pt x="1737" y="1836"/>
                  <a:pt x="1704" y="1936"/>
                </a:cubicBezTo>
                <a:cubicBezTo>
                  <a:pt x="1701" y="2149"/>
                  <a:pt x="1701" y="2363"/>
                  <a:pt x="1696" y="2576"/>
                </a:cubicBezTo>
                <a:cubicBezTo>
                  <a:pt x="1695" y="2616"/>
                  <a:pt x="1649" y="2722"/>
                  <a:pt x="1624" y="2752"/>
                </a:cubicBezTo>
                <a:cubicBezTo>
                  <a:pt x="1596" y="2785"/>
                  <a:pt x="1598" y="2777"/>
                  <a:pt x="1552" y="2792"/>
                </a:cubicBezTo>
                <a:cubicBezTo>
                  <a:pt x="1544" y="2795"/>
                  <a:pt x="1528" y="2800"/>
                  <a:pt x="1528" y="2800"/>
                </a:cubicBezTo>
                <a:cubicBezTo>
                  <a:pt x="1292" y="2792"/>
                  <a:pt x="1345" y="2806"/>
                  <a:pt x="1208" y="2760"/>
                </a:cubicBezTo>
                <a:cubicBezTo>
                  <a:pt x="1174" y="2709"/>
                  <a:pt x="1111" y="2694"/>
                  <a:pt x="1056" y="2672"/>
                </a:cubicBezTo>
                <a:cubicBezTo>
                  <a:pt x="1022" y="2638"/>
                  <a:pt x="1022" y="2600"/>
                  <a:pt x="1000" y="2560"/>
                </a:cubicBezTo>
                <a:cubicBezTo>
                  <a:pt x="973" y="2511"/>
                  <a:pt x="932" y="2481"/>
                  <a:pt x="888" y="2448"/>
                </a:cubicBezTo>
                <a:cubicBezTo>
                  <a:pt x="859" y="2360"/>
                  <a:pt x="834" y="2336"/>
                  <a:pt x="760" y="2280"/>
                </a:cubicBezTo>
                <a:cubicBezTo>
                  <a:pt x="745" y="2221"/>
                  <a:pt x="718" y="2168"/>
                  <a:pt x="696" y="2112"/>
                </a:cubicBezTo>
                <a:cubicBezTo>
                  <a:pt x="686" y="2086"/>
                  <a:pt x="683" y="2058"/>
                  <a:pt x="672" y="2032"/>
                </a:cubicBezTo>
                <a:cubicBezTo>
                  <a:pt x="659" y="2001"/>
                  <a:pt x="631" y="1975"/>
                  <a:pt x="616" y="1944"/>
                </a:cubicBezTo>
                <a:cubicBezTo>
                  <a:pt x="611" y="1918"/>
                  <a:pt x="603" y="1854"/>
                  <a:pt x="592" y="1832"/>
                </a:cubicBezTo>
                <a:cubicBezTo>
                  <a:pt x="585" y="1819"/>
                  <a:pt x="571" y="1811"/>
                  <a:pt x="560" y="1800"/>
                </a:cubicBezTo>
                <a:cubicBezTo>
                  <a:pt x="538" y="1735"/>
                  <a:pt x="503" y="1670"/>
                  <a:pt x="472" y="1608"/>
                </a:cubicBezTo>
                <a:cubicBezTo>
                  <a:pt x="454" y="1572"/>
                  <a:pt x="458" y="1555"/>
                  <a:pt x="432" y="1520"/>
                </a:cubicBezTo>
                <a:cubicBezTo>
                  <a:pt x="424" y="1486"/>
                  <a:pt x="411" y="1461"/>
                  <a:pt x="392" y="1432"/>
                </a:cubicBezTo>
                <a:cubicBezTo>
                  <a:pt x="361" y="1310"/>
                  <a:pt x="283" y="1196"/>
                  <a:pt x="208" y="1096"/>
                </a:cubicBezTo>
                <a:cubicBezTo>
                  <a:pt x="196" y="1060"/>
                  <a:pt x="173" y="1031"/>
                  <a:pt x="152" y="1000"/>
                </a:cubicBezTo>
                <a:cubicBezTo>
                  <a:pt x="143" y="986"/>
                  <a:pt x="145" y="966"/>
                  <a:pt x="136" y="952"/>
                </a:cubicBezTo>
                <a:cubicBezTo>
                  <a:pt x="131" y="944"/>
                  <a:pt x="127" y="934"/>
                  <a:pt x="120" y="928"/>
                </a:cubicBezTo>
                <a:cubicBezTo>
                  <a:pt x="106" y="915"/>
                  <a:pt x="72" y="896"/>
                  <a:pt x="72" y="896"/>
                </a:cubicBezTo>
                <a:cubicBezTo>
                  <a:pt x="67" y="888"/>
                  <a:pt x="60" y="881"/>
                  <a:pt x="56" y="872"/>
                </a:cubicBezTo>
                <a:cubicBezTo>
                  <a:pt x="52" y="864"/>
                  <a:pt x="52" y="855"/>
                  <a:pt x="48" y="848"/>
                </a:cubicBezTo>
                <a:cubicBezTo>
                  <a:pt x="39" y="831"/>
                  <a:pt x="16" y="800"/>
                  <a:pt x="16" y="800"/>
                </a:cubicBezTo>
                <a:cubicBezTo>
                  <a:pt x="8" y="724"/>
                  <a:pt x="25" y="711"/>
                  <a:pt x="0" y="736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"/>
          <p:cNvSpPr/>
          <p:nvPr/>
        </p:nvSpPr>
        <p:spPr>
          <a:xfrm rot="19510800">
            <a:off x="8070480" y="178416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"/>
          <p:cNvSpPr/>
          <p:nvPr/>
        </p:nvSpPr>
        <p:spPr>
          <a:xfrm>
            <a:off x="7391520" y="13716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BD43-E584-4262-BD20-6641D703FB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69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77" name=""/>
          <p:cNvCxnSpPr>
            <a:stCxn id="769" idx="7"/>
            <a:endCxn id="772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78" name=""/>
          <p:cNvCxnSpPr>
            <a:stCxn id="769" idx="6"/>
            <a:endCxn id="773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79" name=""/>
          <p:cNvCxnSpPr>
            <a:stCxn id="769" idx="5"/>
            <a:endCxn id="774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80" name=""/>
          <p:cNvCxnSpPr>
            <a:stCxn id="773" idx="7"/>
            <a:endCxn id="770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81" name=""/>
          <p:cNvCxnSpPr>
            <a:stCxn id="775" idx="7"/>
            <a:endCxn id="770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2" name=""/>
          <p:cNvCxnSpPr>
            <a:stCxn id="773" idx="5"/>
            <a:endCxn id="776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3" name=""/>
          <p:cNvCxnSpPr>
            <a:stCxn id="776" idx="5"/>
            <a:endCxn id="771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4" name=""/>
          <p:cNvCxnSpPr>
            <a:stCxn id="776" idx="6"/>
            <a:endCxn id="775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5" name=""/>
          <p:cNvCxnSpPr>
            <a:stCxn id="775" idx="4"/>
            <a:endCxn id="771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6" name=""/>
          <p:cNvCxnSpPr>
            <a:stCxn id="770" idx="3"/>
            <a:endCxn id="776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787" name=""/>
          <p:cNvCxnSpPr>
            <a:stCxn id="773" idx="4"/>
            <a:endCxn id="774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8" name=""/>
          <p:cNvCxnSpPr>
            <a:stCxn id="774" idx="6"/>
            <a:endCxn id="776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9" name=""/>
          <p:cNvCxnSpPr>
            <a:stCxn id="772" idx="6"/>
            <a:endCxn id="770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790" name=""/>
          <p:cNvCxnSpPr>
            <a:stCxn id="774" idx="6"/>
            <a:endCxn id="771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1" name=""/>
          <p:cNvCxnSpPr>
            <a:stCxn id="770" idx="5"/>
            <a:endCxn id="771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792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3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4, 5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"/>
          <p:cNvSpPr/>
          <p:nvPr/>
        </p:nvSpPr>
        <p:spPr>
          <a:xfrm>
            <a:off x="806760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"/>
          <p:cNvSpPr/>
          <p:nvPr/>
        </p:nvSpPr>
        <p:spPr>
          <a:xfrm>
            <a:off x="748656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"/>
          <p:cNvSpPr/>
          <p:nvPr/>
        </p:nvSpPr>
        <p:spPr>
          <a:xfrm>
            <a:off x="4651200" y="4233960"/>
            <a:ext cx="27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"/>
          <p:cNvSpPr/>
          <p:nvPr/>
        </p:nvSpPr>
        <p:spPr>
          <a:xfrm>
            <a:off x="475632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"/>
          <p:cNvSpPr/>
          <p:nvPr/>
        </p:nvSpPr>
        <p:spPr>
          <a:xfrm>
            <a:off x="139680" y="1981080"/>
            <a:ext cx="8547120" cy="4737240"/>
          </a:xfrm>
          <a:custGeom>
            <a:avLst/>
            <a:gdLst/>
            <a:ahLst/>
            <a:rect l="l" t="t" r="r" b="b"/>
            <a:pathLst>
              <a:path w="5384" h="2984">
                <a:moveTo>
                  <a:pt x="0" y="992"/>
                </a:moveTo>
                <a:cubicBezTo>
                  <a:pt x="12" y="932"/>
                  <a:pt x="8" y="824"/>
                  <a:pt x="40" y="776"/>
                </a:cubicBezTo>
                <a:cubicBezTo>
                  <a:pt x="95" y="694"/>
                  <a:pt x="199" y="659"/>
                  <a:pt x="280" y="608"/>
                </a:cubicBezTo>
                <a:cubicBezTo>
                  <a:pt x="312" y="587"/>
                  <a:pt x="346" y="569"/>
                  <a:pt x="376" y="544"/>
                </a:cubicBezTo>
                <a:cubicBezTo>
                  <a:pt x="385" y="537"/>
                  <a:pt x="390" y="526"/>
                  <a:pt x="400" y="520"/>
                </a:cubicBezTo>
                <a:cubicBezTo>
                  <a:pt x="458" y="485"/>
                  <a:pt x="523" y="488"/>
                  <a:pt x="584" y="464"/>
                </a:cubicBezTo>
                <a:cubicBezTo>
                  <a:pt x="772" y="389"/>
                  <a:pt x="964" y="328"/>
                  <a:pt x="1168" y="312"/>
                </a:cubicBezTo>
                <a:cubicBezTo>
                  <a:pt x="1259" y="297"/>
                  <a:pt x="1348" y="286"/>
                  <a:pt x="1440" y="280"/>
                </a:cubicBezTo>
                <a:cubicBezTo>
                  <a:pt x="1507" y="269"/>
                  <a:pt x="1574" y="269"/>
                  <a:pt x="1640" y="256"/>
                </a:cubicBezTo>
                <a:cubicBezTo>
                  <a:pt x="1896" y="259"/>
                  <a:pt x="2152" y="257"/>
                  <a:pt x="2408" y="264"/>
                </a:cubicBezTo>
                <a:cubicBezTo>
                  <a:pt x="2435" y="265"/>
                  <a:pt x="2488" y="280"/>
                  <a:pt x="2488" y="280"/>
                </a:cubicBezTo>
                <a:cubicBezTo>
                  <a:pt x="2543" y="317"/>
                  <a:pt x="2594" y="308"/>
                  <a:pt x="2664" y="312"/>
                </a:cubicBezTo>
                <a:cubicBezTo>
                  <a:pt x="2779" y="318"/>
                  <a:pt x="2893" y="322"/>
                  <a:pt x="3008" y="328"/>
                </a:cubicBezTo>
                <a:cubicBezTo>
                  <a:pt x="3277" y="395"/>
                  <a:pt x="3886" y="336"/>
                  <a:pt x="3928" y="336"/>
                </a:cubicBezTo>
                <a:cubicBezTo>
                  <a:pt x="4164" y="334"/>
                  <a:pt x="4305" y="322"/>
                  <a:pt x="4422" y="318"/>
                </a:cubicBezTo>
                <a:cubicBezTo>
                  <a:pt x="4539" y="314"/>
                  <a:pt x="4574" y="320"/>
                  <a:pt x="4632" y="312"/>
                </a:cubicBezTo>
                <a:cubicBezTo>
                  <a:pt x="4679" y="300"/>
                  <a:pt x="4722" y="287"/>
                  <a:pt x="4768" y="272"/>
                </a:cubicBezTo>
                <a:cubicBezTo>
                  <a:pt x="4804" y="260"/>
                  <a:pt x="4803" y="251"/>
                  <a:pt x="4840" y="243"/>
                </a:cubicBezTo>
                <a:cubicBezTo>
                  <a:pt x="4908" y="228"/>
                  <a:pt x="4912" y="89"/>
                  <a:pt x="4979" y="72"/>
                </a:cubicBezTo>
                <a:cubicBezTo>
                  <a:pt x="5003" y="75"/>
                  <a:pt x="5105" y="0"/>
                  <a:pt x="5128" y="8"/>
                </a:cubicBezTo>
                <a:cubicBezTo>
                  <a:pt x="5137" y="11"/>
                  <a:pt x="5258" y="62"/>
                  <a:pt x="5267" y="64"/>
                </a:cubicBezTo>
                <a:cubicBezTo>
                  <a:pt x="5309" y="73"/>
                  <a:pt x="5288" y="178"/>
                  <a:pt x="5331" y="181"/>
                </a:cubicBezTo>
                <a:cubicBezTo>
                  <a:pt x="5358" y="221"/>
                  <a:pt x="5324" y="299"/>
                  <a:pt x="5368" y="328"/>
                </a:cubicBezTo>
                <a:cubicBezTo>
                  <a:pt x="5372" y="339"/>
                  <a:pt x="5384" y="374"/>
                  <a:pt x="5384" y="384"/>
                </a:cubicBezTo>
                <a:cubicBezTo>
                  <a:pt x="5384" y="532"/>
                  <a:pt x="5383" y="642"/>
                  <a:pt x="5320" y="768"/>
                </a:cubicBezTo>
                <a:cubicBezTo>
                  <a:pt x="5310" y="787"/>
                  <a:pt x="5312" y="803"/>
                  <a:pt x="5304" y="824"/>
                </a:cubicBezTo>
                <a:cubicBezTo>
                  <a:pt x="5284" y="876"/>
                  <a:pt x="5228" y="915"/>
                  <a:pt x="5176" y="928"/>
                </a:cubicBezTo>
                <a:cubicBezTo>
                  <a:pt x="5135" y="969"/>
                  <a:pt x="5094" y="1019"/>
                  <a:pt x="5032" y="1024"/>
                </a:cubicBezTo>
                <a:cubicBezTo>
                  <a:pt x="4971" y="1029"/>
                  <a:pt x="4909" y="1029"/>
                  <a:pt x="4848" y="1032"/>
                </a:cubicBezTo>
                <a:cubicBezTo>
                  <a:pt x="4741" y="1019"/>
                  <a:pt x="4635" y="1005"/>
                  <a:pt x="4528" y="992"/>
                </a:cubicBezTo>
                <a:cubicBezTo>
                  <a:pt x="4455" y="968"/>
                  <a:pt x="4378" y="955"/>
                  <a:pt x="4304" y="936"/>
                </a:cubicBezTo>
                <a:cubicBezTo>
                  <a:pt x="4229" y="939"/>
                  <a:pt x="4146" y="996"/>
                  <a:pt x="4072" y="1003"/>
                </a:cubicBezTo>
                <a:cubicBezTo>
                  <a:pt x="4037" y="1006"/>
                  <a:pt x="3979" y="1051"/>
                  <a:pt x="3944" y="1056"/>
                </a:cubicBezTo>
                <a:cubicBezTo>
                  <a:pt x="3901" y="1070"/>
                  <a:pt x="3810" y="1070"/>
                  <a:pt x="3763" y="1077"/>
                </a:cubicBezTo>
                <a:cubicBezTo>
                  <a:pt x="3680" y="1089"/>
                  <a:pt x="3612" y="1117"/>
                  <a:pt x="3539" y="1120"/>
                </a:cubicBezTo>
                <a:cubicBezTo>
                  <a:pt x="3495" y="1127"/>
                  <a:pt x="3398" y="1153"/>
                  <a:pt x="3357" y="1173"/>
                </a:cubicBezTo>
                <a:cubicBezTo>
                  <a:pt x="3302" y="1201"/>
                  <a:pt x="3307" y="1156"/>
                  <a:pt x="3240" y="1173"/>
                </a:cubicBezTo>
                <a:cubicBezTo>
                  <a:pt x="3240" y="1162"/>
                  <a:pt x="3215" y="1181"/>
                  <a:pt x="3187" y="1184"/>
                </a:cubicBezTo>
                <a:cubicBezTo>
                  <a:pt x="3159" y="1187"/>
                  <a:pt x="3138" y="1181"/>
                  <a:pt x="3072" y="1192"/>
                </a:cubicBezTo>
                <a:cubicBezTo>
                  <a:pt x="2978" y="1215"/>
                  <a:pt x="2888" y="1239"/>
                  <a:pt x="2792" y="1248"/>
                </a:cubicBezTo>
                <a:cubicBezTo>
                  <a:pt x="2755" y="1257"/>
                  <a:pt x="2718" y="1275"/>
                  <a:pt x="2680" y="1280"/>
                </a:cubicBezTo>
                <a:cubicBezTo>
                  <a:pt x="2552" y="1298"/>
                  <a:pt x="2428" y="1323"/>
                  <a:pt x="2304" y="1360"/>
                </a:cubicBezTo>
                <a:cubicBezTo>
                  <a:pt x="2240" y="1379"/>
                  <a:pt x="2163" y="1394"/>
                  <a:pt x="2104" y="1424"/>
                </a:cubicBezTo>
                <a:cubicBezTo>
                  <a:pt x="2064" y="1444"/>
                  <a:pt x="2018" y="1466"/>
                  <a:pt x="1976" y="1480"/>
                </a:cubicBezTo>
                <a:cubicBezTo>
                  <a:pt x="1971" y="1488"/>
                  <a:pt x="1967" y="1497"/>
                  <a:pt x="1960" y="1504"/>
                </a:cubicBezTo>
                <a:cubicBezTo>
                  <a:pt x="1953" y="1511"/>
                  <a:pt x="1942" y="1513"/>
                  <a:pt x="1936" y="1520"/>
                </a:cubicBezTo>
                <a:cubicBezTo>
                  <a:pt x="1923" y="1534"/>
                  <a:pt x="1915" y="1552"/>
                  <a:pt x="1904" y="1568"/>
                </a:cubicBezTo>
                <a:cubicBezTo>
                  <a:pt x="1876" y="1610"/>
                  <a:pt x="1876" y="1671"/>
                  <a:pt x="1848" y="1712"/>
                </a:cubicBezTo>
                <a:cubicBezTo>
                  <a:pt x="1829" y="1740"/>
                  <a:pt x="1819" y="1768"/>
                  <a:pt x="1808" y="1800"/>
                </a:cubicBezTo>
                <a:cubicBezTo>
                  <a:pt x="1792" y="1911"/>
                  <a:pt x="1754" y="1978"/>
                  <a:pt x="1720" y="2080"/>
                </a:cubicBezTo>
                <a:cubicBezTo>
                  <a:pt x="1695" y="2255"/>
                  <a:pt x="1609" y="2517"/>
                  <a:pt x="1792" y="2608"/>
                </a:cubicBezTo>
                <a:cubicBezTo>
                  <a:pt x="1817" y="2682"/>
                  <a:pt x="1831" y="2706"/>
                  <a:pt x="1800" y="2808"/>
                </a:cubicBezTo>
                <a:cubicBezTo>
                  <a:pt x="1790" y="2841"/>
                  <a:pt x="1751" y="2835"/>
                  <a:pt x="1728" y="2848"/>
                </a:cubicBezTo>
                <a:cubicBezTo>
                  <a:pt x="1711" y="2857"/>
                  <a:pt x="1680" y="2880"/>
                  <a:pt x="1680" y="2880"/>
                </a:cubicBezTo>
                <a:cubicBezTo>
                  <a:pt x="1649" y="2926"/>
                  <a:pt x="1640" y="2965"/>
                  <a:pt x="1584" y="2984"/>
                </a:cubicBezTo>
                <a:cubicBezTo>
                  <a:pt x="1367" y="2979"/>
                  <a:pt x="1271" y="2973"/>
                  <a:pt x="1088" y="2960"/>
                </a:cubicBezTo>
                <a:cubicBezTo>
                  <a:pt x="1072" y="2957"/>
                  <a:pt x="1055" y="2958"/>
                  <a:pt x="1040" y="2952"/>
                </a:cubicBezTo>
                <a:cubicBezTo>
                  <a:pt x="1012" y="2942"/>
                  <a:pt x="960" y="2912"/>
                  <a:pt x="960" y="2912"/>
                </a:cubicBezTo>
                <a:cubicBezTo>
                  <a:pt x="915" y="2844"/>
                  <a:pt x="899" y="2774"/>
                  <a:pt x="864" y="2704"/>
                </a:cubicBezTo>
                <a:cubicBezTo>
                  <a:pt x="836" y="2649"/>
                  <a:pt x="784" y="2586"/>
                  <a:pt x="752" y="2536"/>
                </a:cubicBezTo>
                <a:cubicBezTo>
                  <a:pt x="746" y="2527"/>
                  <a:pt x="739" y="2487"/>
                  <a:pt x="736" y="2480"/>
                </a:cubicBezTo>
                <a:cubicBezTo>
                  <a:pt x="711" y="2413"/>
                  <a:pt x="701" y="2342"/>
                  <a:pt x="664" y="2280"/>
                </a:cubicBezTo>
                <a:cubicBezTo>
                  <a:pt x="641" y="2165"/>
                  <a:pt x="673" y="2307"/>
                  <a:pt x="640" y="2208"/>
                </a:cubicBezTo>
                <a:cubicBezTo>
                  <a:pt x="625" y="2164"/>
                  <a:pt x="623" y="2116"/>
                  <a:pt x="608" y="2072"/>
                </a:cubicBezTo>
                <a:cubicBezTo>
                  <a:pt x="587" y="2010"/>
                  <a:pt x="530" y="1952"/>
                  <a:pt x="496" y="1896"/>
                </a:cubicBezTo>
                <a:cubicBezTo>
                  <a:pt x="488" y="1865"/>
                  <a:pt x="471" y="1839"/>
                  <a:pt x="464" y="1808"/>
                </a:cubicBezTo>
                <a:cubicBezTo>
                  <a:pt x="447" y="1731"/>
                  <a:pt x="448" y="1655"/>
                  <a:pt x="408" y="1584"/>
                </a:cubicBezTo>
                <a:cubicBezTo>
                  <a:pt x="397" y="1564"/>
                  <a:pt x="383" y="1545"/>
                  <a:pt x="368" y="1528"/>
                </a:cubicBezTo>
                <a:cubicBezTo>
                  <a:pt x="350" y="1508"/>
                  <a:pt x="312" y="1472"/>
                  <a:pt x="312" y="1472"/>
                </a:cubicBezTo>
                <a:cubicBezTo>
                  <a:pt x="302" y="1434"/>
                  <a:pt x="269" y="1354"/>
                  <a:pt x="240" y="1328"/>
                </a:cubicBezTo>
                <a:cubicBezTo>
                  <a:pt x="226" y="1315"/>
                  <a:pt x="192" y="1296"/>
                  <a:pt x="192" y="1296"/>
                </a:cubicBezTo>
                <a:cubicBezTo>
                  <a:pt x="184" y="1283"/>
                  <a:pt x="177" y="1268"/>
                  <a:pt x="168" y="1256"/>
                </a:cubicBezTo>
                <a:cubicBezTo>
                  <a:pt x="161" y="1247"/>
                  <a:pt x="150" y="1241"/>
                  <a:pt x="144" y="1232"/>
                </a:cubicBezTo>
                <a:cubicBezTo>
                  <a:pt x="139" y="1225"/>
                  <a:pt x="140" y="1215"/>
                  <a:pt x="136" y="1208"/>
                </a:cubicBezTo>
                <a:cubicBezTo>
                  <a:pt x="112" y="1165"/>
                  <a:pt x="83" y="1123"/>
                  <a:pt x="48" y="1088"/>
                </a:cubicBezTo>
                <a:cubicBezTo>
                  <a:pt x="34" y="1046"/>
                  <a:pt x="24" y="1028"/>
                  <a:pt x="0" y="992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C16B-4167-4BF1-B950-E8616AA35E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38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6" name=""/>
          <p:cNvCxnSpPr>
            <a:stCxn id="838" idx="7"/>
            <a:endCxn id="841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38" idx="6"/>
            <a:endCxn id="842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38" idx="5"/>
            <a:endCxn id="843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42" idx="7"/>
            <a:endCxn id="839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44" idx="7"/>
            <a:endCxn id="839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42" idx="5"/>
            <a:endCxn id="845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45" idx="5"/>
            <a:endCxn id="840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45" idx="6"/>
            <a:endCxn id="844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44" idx="4"/>
            <a:endCxn id="840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9" idx="3"/>
            <a:endCxn id="845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42" idx="4"/>
            <a:endCxn id="843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7" name=""/>
          <p:cNvCxnSpPr>
            <a:stCxn id="843" idx="6"/>
            <a:endCxn id="845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8" name=""/>
          <p:cNvCxnSpPr>
            <a:stCxn id="841" idx="6"/>
            <a:endCxn id="839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859" name=""/>
          <p:cNvCxnSpPr>
            <a:stCxn id="843" idx="6"/>
            <a:endCxn id="840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0" name=""/>
          <p:cNvCxnSpPr>
            <a:stCxn id="839" idx="5"/>
            <a:endCxn id="840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861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3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4, 5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"/>
          <p:cNvSpPr/>
          <p:nvPr/>
        </p:nvSpPr>
        <p:spPr>
          <a:xfrm>
            <a:off x="806760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"/>
          <p:cNvSpPr/>
          <p:nvPr/>
        </p:nvSpPr>
        <p:spPr>
          <a:xfrm>
            <a:off x="748656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"/>
          <p:cNvSpPr/>
          <p:nvPr/>
        </p:nvSpPr>
        <p:spPr>
          <a:xfrm>
            <a:off x="4651200" y="4233960"/>
            <a:ext cx="27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"/>
          <p:cNvSpPr/>
          <p:nvPr/>
        </p:nvSpPr>
        <p:spPr>
          <a:xfrm>
            <a:off x="475632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"/>
          <p:cNvSpPr/>
          <p:nvPr/>
        </p:nvSpPr>
        <p:spPr>
          <a:xfrm rot="10800000">
            <a:off x="4360680" y="514944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"/>
          <p:cNvSpPr/>
          <p:nvPr/>
        </p:nvSpPr>
        <p:spPr>
          <a:xfrm>
            <a:off x="4056120" y="5430960"/>
            <a:ext cx="127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"/>
          <p:cNvSpPr/>
          <p:nvPr/>
        </p:nvSpPr>
        <p:spPr>
          <a:xfrm>
            <a:off x="139680" y="1981080"/>
            <a:ext cx="8547120" cy="4737240"/>
          </a:xfrm>
          <a:custGeom>
            <a:avLst/>
            <a:gdLst/>
            <a:ahLst/>
            <a:rect l="l" t="t" r="r" b="b"/>
            <a:pathLst>
              <a:path w="5384" h="2984">
                <a:moveTo>
                  <a:pt x="0" y="992"/>
                </a:moveTo>
                <a:cubicBezTo>
                  <a:pt x="12" y="932"/>
                  <a:pt x="8" y="824"/>
                  <a:pt x="40" y="776"/>
                </a:cubicBezTo>
                <a:cubicBezTo>
                  <a:pt x="95" y="694"/>
                  <a:pt x="199" y="659"/>
                  <a:pt x="280" y="608"/>
                </a:cubicBezTo>
                <a:cubicBezTo>
                  <a:pt x="312" y="587"/>
                  <a:pt x="346" y="569"/>
                  <a:pt x="376" y="544"/>
                </a:cubicBezTo>
                <a:cubicBezTo>
                  <a:pt x="385" y="537"/>
                  <a:pt x="390" y="526"/>
                  <a:pt x="400" y="520"/>
                </a:cubicBezTo>
                <a:cubicBezTo>
                  <a:pt x="458" y="485"/>
                  <a:pt x="523" y="488"/>
                  <a:pt x="584" y="464"/>
                </a:cubicBezTo>
                <a:cubicBezTo>
                  <a:pt x="772" y="389"/>
                  <a:pt x="964" y="328"/>
                  <a:pt x="1168" y="312"/>
                </a:cubicBezTo>
                <a:cubicBezTo>
                  <a:pt x="1259" y="297"/>
                  <a:pt x="1348" y="286"/>
                  <a:pt x="1440" y="280"/>
                </a:cubicBezTo>
                <a:cubicBezTo>
                  <a:pt x="1507" y="269"/>
                  <a:pt x="1574" y="269"/>
                  <a:pt x="1640" y="256"/>
                </a:cubicBezTo>
                <a:cubicBezTo>
                  <a:pt x="1896" y="259"/>
                  <a:pt x="2152" y="257"/>
                  <a:pt x="2408" y="264"/>
                </a:cubicBezTo>
                <a:cubicBezTo>
                  <a:pt x="2435" y="265"/>
                  <a:pt x="2488" y="280"/>
                  <a:pt x="2488" y="280"/>
                </a:cubicBezTo>
                <a:cubicBezTo>
                  <a:pt x="2543" y="317"/>
                  <a:pt x="2594" y="308"/>
                  <a:pt x="2664" y="312"/>
                </a:cubicBezTo>
                <a:cubicBezTo>
                  <a:pt x="2779" y="318"/>
                  <a:pt x="2893" y="322"/>
                  <a:pt x="3008" y="328"/>
                </a:cubicBezTo>
                <a:cubicBezTo>
                  <a:pt x="3277" y="395"/>
                  <a:pt x="3886" y="336"/>
                  <a:pt x="3928" y="336"/>
                </a:cubicBezTo>
                <a:cubicBezTo>
                  <a:pt x="4164" y="334"/>
                  <a:pt x="4305" y="322"/>
                  <a:pt x="4422" y="318"/>
                </a:cubicBezTo>
                <a:cubicBezTo>
                  <a:pt x="4539" y="314"/>
                  <a:pt x="4574" y="320"/>
                  <a:pt x="4632" y="312"/>
                </a:cubicBezTo>
                <a:cubicBezTo>
                  <a:pt x="4679" y="300"/>
                  <a:pt x="4722" y="287"/>
                  <a:pt x="4768" y="272"/>
                </a:cubicBezTo>
                <a:cubicBezTo>
                  <a:pt x="4804" y="260"/>
                  <a:pt x="4803" y="251"/>
                  <a:pt x="4840" y="243"/>
                </a:cubicBezTo>
                <a:cubicBezTo>
                  <a:pt x="4908" y="228"/>
                  <a:pt x="4912" y="89"/>
                  <a:pt x="4979" y="72"/>
                </a:cubicBezTo>
                <a:cubicBezTo>
                  <a:pt x="5003" y="75"/>
                  <a:pt x="5105" y="0"/>
                  <a:pt x="5128" y="8"/>
                </a:cubicBezTo>
                <a:cubicBezTo>
                  <a:pt x="5137" y="11"/>
                  <a:pt x="5258" y="62"/>
                  <a:pt x="5267" y="64"/>
                </a:cubicBezTo>
                <a:cubicBezTo>
                  <a:pt x="5309" y="73"/>
                  <a:pt x="5288" y="178"/>
                  <a:pt x="5331" y="181"/>
                </a:cubicBezTo>
                <a:cubicBezTo>
                  <a:pt x="5358" y="221"/>
                  <a:pt x="5324" y="299"/>
                  <a:pt x="5368" y="328"/>
                </a:cubicBezTo>
                <a:cubicBezTo>
                  <a:pt x="5372" y="339"/>
                  <a:pt x="5384" y="374"/>
                  <a:pt x="5384" y="384"/>
                </a:cubicBezTo>
                <a:cubicBezTo>
                  <a:pt x="5384" y="532"/>
                  <a:pt x="5383" y="642"/>
                  <a:pt x="5320" y="768"/>
                </a:cubicBezTo>
                <a:cubicBezTo>
                  <a:pt x="5310" y="787"/>
                  <a:pt x="5312" y="803"/>
                  <a:pt x="5304" y="824"/>
                </a:cubicBezTo>
                <a:cubicBezTo>
                  <a:pt x="5284" y="876"/>
                  <a:pt x="5228" y="915"/>
                  <a:pt x="5176" y="928"/>
                </a:cubicBezTo>
                <a:cubicBezTo>
                  <a:pt x="5135" y="969"/>
                  <a:pt x="5094" y="1019"/>
                  <a:pt x="5032" y="1024"/>
                </a:cubicBezTo>
                <a:cubicBezTo>
                  <a:pt x="4971" y="1029"/>
                  <a:pt x="4909" y="1029"/>
                  <a:pt x="4848" y="1032"/>
                </a:cubicBezTo>
                <a:cubicBezTo>
                  <a:pt x="4741" y="1019"/>
                  <a:pt x="4635" y="1005"/>
                  <a:pt x="4528" y="992"/>
                </a:cubicBezTo>
                <a:cubicBezTo>
                  <a:pt x="4455" y="968"/>
                  <a:pt x="4378" y="955"/>
                  <a:pt x="4304" y="936"/>
                </a:cubicBezTo>
                <a:cubicBezTo>
                  <a:pt x="4229" y="939"/>
                  <a:pt x="4146" y="996"/>
                  <a:pt x="4072" y="1003"/>
                </a:cubicBezTo>
                <a:cubicBezTo>
                  <a:pt x="4037" y="1006"/>
                  <a:pt x="3979" y="1051"/>
                  <a:pt x="3944" y="1056"/>
                </a:cubicBezTo>
                <a:cubicBezTo>
                  <a:pt x="3901" y="1070"/>
                  <a:pt x="3810" y="1070"/>
                  <a:pt x="3763" y="1077"/>
                </a:cubicBezTo>
                <a:cubicBezTo>
                  <a:pt x="3680" y="1089"/>
                  <a:pt x="3612" y="1117"/>
                  <a:pt x="3539" y="1120"/>
                </a:cubicBezTo>
                <a:cubicBezTo>
                  <a:pt x="3495" y="1127"/>
                  <a:pt x="3398" y="1153"/>
                  <a:pt x="3357" y="1173"/>
                </a:cubicBezTo>
                <a:cubicBezTo>
                  <a:pt x="3302" y="1201"/>
                  <a:pt x="3307" y="1156"/>
                  <a:pt x="3240" y="1173"/>
                </a:cubicBezTo>
                <a:cubicBezTo>
                  <a:pt x="3240" y="1162"/>
                  <a:pt x="3215" y="1181"/>
                  <a:pt x="3187" y="1184"/>
                </a:cubicBezTo>
                <a:cubicBezTo>
                  <a:pt x="3159" y="1187"/>
                  <a:pt x="3138" y="1181"/>
                  <a:pt x="3072" y="1192"/>
                </a:cubicBezTo>
                <a:cubicBezTo>
                  <a:pt x="2978" y="1215"/>
                  <a:pt x="2888" y="1239"/>
                  <a:pt x="2792" y="1248"/>
                </a:cubicBezTo>
                <a:cubicBezTo>
                  <a:pt x="2755" y="1257"/>
                  <a:pt x="2718" y="1275"/>
                  <a:pt x="2680" y="1280"/>
                </a:cubicBezTo>
                <a:cubicBezTo>
                  <a:pt x="2552" y="1298"/>
                  <a:pt x="2428" y="1323"/>
                  <a:pt x="2304" y="1360"/>
                </a:cubicBezTo>
                <a:cubicBezTo>
                  <a:pt x="2240" y="1379"/>
                  <a:pt x="2163" y="1394"/>
                  <a:pt x="2104" y="1424"/>
                </a:cubicBezTo>
                <a:cubicBezTo>
                  <a:pt x="2064" y="1444"/>
                  <a:pt x="2018" y="1466"/>
                  <a:pt x="1976" y="1480"/>
                </a:cubicBezTo>
                <a:cubicBezTo>
                  <a:pt x="1971" y="1488"/>
                  <a:pt x="1967" y="1497"/>
                  <a:pt x="1960" y="1504"/>
                </a:cubicBezTo>
                <a:cubicBezTo>
                  <a:pt x="1953" y="1511"/>
                  <a:pt x="1942" y="1513"/>
                  <a:pt x="1936" y="1520"/>
                </a:cubicBezTo>
                <a:cubicBezTo>
                  <a:pt x="1923" y="1534"/>
                  <a:pt x="1915" y="1552"/>
                  <a:pt x="1904" y="1568"/>
                </a:cubicBezTo>
                <a:cubicBezTo>
                  <a:pt x="1876" y="1610"/>
                  <a:pt x="1876" y="1671"/>
                  <a:pt x="1848" y="1712"/>
                </a:cubicBezTo>
                <a:cubicBezTo>
                  <a:pt x="1829" y="1740"/>
                  <a:pt x="1819" y="1768"/>
                  <a:pt x="1808" y="1800"/>
                </a:cubicBezTo>
                <a:cubicBezTo>
                  <a:pt x="1792" y="1911"/>
                  <a:pt x="1754" y="1978"/>
                  <a:pt x="1720" y="2080"/>
                </a:cubicBezTo>
                <a:cubicBezTo>
                  <a:pt x="1695" y="2255"/>
                  <a:pt x="1609" y="2517"/>
                  <a:pt x="1792" y="2608"/>
                </a:cubicBezTo>
                <a:cubicBezTo>
                  <a:pt x="1817" y="2682"/>
                  <a:pt x="1831" y="2706"/>
                  <a:pt x="1800" y="2808"/>
                </a:cubicBezTo>
                <a:cubicBezTo>
                  <a:pt x="1790" y="2841"/>
                  <a:pt x="1751" y="2835"/>
                  <a:pt x="1728" y="2848"/>
                </a:cubicBezTo>
                <a:cubicBezTo>
                  <a:pt x="1711" y="2857"/>
                  <a:pt x="1680" y="2880"/>
                  <a:pt x="1680" y="2880"/>
                </a:cubicBezTo>
                <a:cubicBezTo>
                  <a:pt x="1649" y="2926"/>
                  <a:pt x="1640" y="2965"/>
                  <a:pt x="1584" y="2984"/>
                </a:cubicBezTo>
                <a:cubicBezTo>
                  <a:pt x="1367" y="2979"/>
                  <a:pt x="1271" y="2973"/>
                  <a:pt x="1088" y="2960"/>
                </a:cubicBezTo>
                <a:cubicBezTo>
                  <a:pt x="1072" y="2957"/>
                  <a:pt x="1055" y="2958"/>
                  <a:pt x="1040" y="2952"/>
                </a:cubicBezTo>
                <a:cubicBezTo>
                  <a:pt x="1012" y="2942"/>
                  <a:pt x="960" y="2912"/>
                  <a:pt x="960" y="2912"/>
                </a:cubicBezTo>
                <a:cubicBezTo>
                  <a:pt x="915" y="2844"/>
                  <a:pt x="899" y="2774"/>
                  <a:pt x="864" y="2704"/>
                </a:cubicBezTo>
                <a:cubicBezTo>
                  <a:pt x="836" y="2649"/>
                  <a:pt x="784" y="2586"/>
                  <a:pt x="752" y="2536"/>
                </a:cubicBezTo>
                <a:cubicBezTo>
                  <a:pt x="746" y="2527"/>
                  <a:pt x="739" y="2487"/>
                  <a:pt x="736" y="2480"/>
                </a:cubicBezTo>
                <a:cubicBezTo>
                  <a:pt x="711" y="2413"/>
                  <a:pt x="701" y="2342"/>
                  <a:pt x="664" y="2280"/>
                </a:cubicBezTo>
                <a:cubicBezTo>
                  <a:pt x="641" y="2165"/>
                  <a:pt x="673" y="2307"/>
                  <a:pt x="640" y="2208"/>
                </a:cubicBezTo>
                <a:cubicBezTo>
                  <a:pt x="625" y="2164"/>
                  <a:pt x="623" y="2116"/>
                  <a:pt x="608" y="2072"/>
                </a:cubicBezTo>
                <a:cubicBezTo>
                  <a:pt x="587" y="2010"/>
                  <a:pt x="530" y="1952"/>
                  <a:pt x="496" y="1896"/>
                </a:cubicBezTo>
                <a:cubicBezTo>
                  <a:pt x="488" y="1865"/>
                  <a:pt x="471" y="1839"/>
                  <a:pt x="464" y="1808"/>
                </a:cubicBezTo>
                <a:cubicBezTo>
                  <a:pt x="447" y="1731"/>
                  <a:pt x="448" y="1655"/>
                  <a:pt x="408" y="1584"/>
                </a:cubicBezTo>
                <a:cubicBezTo>
                  <a:pt x="397" y="1564"/>
                  <a:pt x="383" y="1545"/>
                  <a:pt x="368" y="1528"/>
                </a:cubicBezTo>
                <a:cubicBezTo>
                  <a:pt x="350" y="1508"/>
                  <a:pt x="312" y="1472"/>
                  <a:pt x="312" y="1472"/>
                </a:cubicBezTo>
                <a:cubicBezTo>
                  <a:pt x="302" y="1434"/>
                  <a:pt x="269" y="1354"/>
                  <a:pt x="240" y="1328"/>
                </a:cubicBezTo>
                <a:cubicBezTo>
                  <a:pt x="226" y="1315"/>
                  <a:pt x="192" y="1296"/>
                  <a:pt x="192" y="1296"/>
                </a:cubicBezTo>
                <a:cubicBezTo>
                  <a:pt x="184" y="1283"/>
                  <a:pt x="177" y="1268"/>
                  <a:pt x="168" y="1256"/>
                </a:cubicBezTo>
                <a:cubicBezTo>
                  <a:pt x="161" y="1247"/>
                  <a:pt x="150" y="1241"/>
                  <a:pt x="144" y="1232"/>
                </a:cubicBezTo>
                <a:cubicBezTo>
                  <a:pt x="139" y="1225"/>
                  <a:pt x="140" y="1215"/>
                  <a:pt x="136" y="1208"/>
                </a:cubicBezTo>
                <a:cubicBezTo>
                  <a:pt x="112" y="1165"/>
                  <a:pt x="83" y="1123"/>
                  <a:pt x="48" y="1088"/>
                </a:cubicBezTo>
                <a:cubicBezTo>
                  <a:pt x="34" y="1046"/>
                  <a:pt x="24" y="1028"/>
                  <a:pt x="0" y="992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02E4-ABCC-436E-8CF8-2587F617ED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909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17" name=""/>
          <p:cNvCxnSpPr>
            <a:stCxn id="909" idx="7"/>
            <a:endCxn id="912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18" name=""/>
          <p:cNvCxnSpPr>
            <a:stCxn id="909" idx="6"/>
            <a:endCxn id="913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19" name=""/>
          <p:cNvCxnSpPr>
            <a:stCxn id="909" idx="5"/>
            <a:endCxn id="914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20" name=""/>
          <p:cNvCxnSpPr>
            <a:stCxn id="913" idx="7"/>
            <a:endCxn id="910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21" name=""/>
          <p:cNvCxnSpPr>
            <a:stCxn id="915" idx="7"/>
            <a:endCxn id="910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2" name=""/>
          <p:cNvCxnSpPr>
            <a:stCxn id="913" idx="5"/>
            <a:endCxn id="916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3" name=""/>
          <p:cNvCxnSpPr>
            <a:stCxn id="916" idx="5"/>
            <a:endCxn id="911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24" name=""/>
          <p:cNvCxnSpPr>
            <a:stCxn id="916" idx="6"/>
            <a:endCxn id="915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25" name=""/>
          <p:cNvCxnSpPr>
            <a:stCxn id="915" idx="4"/>
            <a:endCxn id="911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10" idx="3"/>
            <a:endCxn id="916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13" idx="4"/>
            <a:endCxn id="914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4" idx="6"/>
            <a:endCxn id="916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12" idx="6"/>
            <a:endCxn id="910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14" idx="6"/>
            <a:endCxn id="911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10" idx="5"/>
            <a:endCxn id="911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3, 5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4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"/>
          <p:cNvSpPr/>
          <p:nvPr/>
        </p:nvSpPr>
        <p:spPr>
          <a:xfrm>
            <a:off x="806760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"/>
          <p:cNvSpPr/>
          <p:nvPr/>
        </p:nvSpPr>
        <p:spPr>
          <a:xfrm>
            <a:off x="748656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"/>
          <p:cNvSpPr/>
          <p:nvPr/>
        </p:nvSpPr>
        <p:spPr>
          <a:xfrm>
            <a:off x="4651200" y="4233960"/>
            <a:ext cx="27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"/>
          <p:cNvSpPr/>
          <p:nvPr/>
        </p:nvSpPr>
        <p:spPr>
          <a:xfrm>
            <a:off x="475632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"/>
          <p:cNvSpPr/>
          <p:nvPr/>
        </p:nvSpPr>
        <p:spPr>
          <a:xfrm>
            <a:off x="177840" y="2028960"/>
            <a:ext cx="8534520" cy="4752720"/>
          </a:xfrm>
          <a:custGeom>
            <a:avLst/>
            <a:gdLst/>
            <a:ahLst/>
            <a:rect l="l" t="t" r="r" b="b"/>
            <a:pathLst>
              <a:path w="5376" h="2994">
                <a:moveTo>
                  <a:pt x="0" y="882"/>
                </a:moveTo>
                <a:cubicBezTo>
                  <a:pt x="45" y="791"/>
                  <a:pt x="44" y="682"/>
                  <a:pt x="112" y="602"/>
                </a:cubicBezTo>
                <a:cubicBezTo>
                  <a:pt x="158" y="548"/>
                  <a:pt x="244" y="531"/>
                  <a:pt x="304" y="498"/>
                </a:cubicBezTo>
                <a:cubicBezTo>
                  <a:pt x="354" y="470"/>
                  <a:pt x="386" y="444"/>
                  <a:pt x="440" y="426"/>
                </a:cubicBezTo>
                <a:cubicBezTo>
                  <a:pt x="500" y="406"/>
                  <a:pt x="562" y="404"/>
                  <a:pt x="624" y="394"/>
                </a:cubicBezTo>
                <a:cubicBezTo>
                  <a:pt x="693" y="382"/>
                  <a:pt x="764" y="371"/>
                  <a:pt x="832" y="354"/>
                </a:cubicBezTo>
                <a:cubicBezTo>
                  <a:pt x="869" y="329"/>
                  <a:pt x="911" y="328"/>
                  <a:pt x="952" y="314"/>
                </a:cubicBezTo>
                <a:cubicBezTo>
                  <a:pt x="1113" y="260"/>
                  <a:pt x="1260" y="256"/>
                  <a:pt x="1432" y="250"/>
                </a:cubicBezTo>
                <a:cubicBezTo>
                  <a:pt x="1618" y="257"/>
                  <a:pt x="1740" y="283"/>
                  <a:pt x="1928" y="290"/>
                </a:cubicBezTo>
                <a:cubicBezTo>
                  <a:pt x="2165" y="314"/>
                  <a:pt x="2402" y="317"/>
                  <a:pt x="2640" y="322"/>
                </a:cubicBezTo>
                <a:cubicBezTo>
                  <a:pt x="3273" y="355"/>
                  <a:pt x="3932" y="189"/>
                  <a:pt x="4571" y="183"/>
                </a:cubicBezTo>
                <a:cubicBezTo>
                  <a:pt x="4711" y="165"/>
                  <a:pt x="4828" y="88"/>
                  <a:pt x="4955" y="34"/>
                </a:cubicBezTo>
                <a:cubicBezTo>
                  <a:pt x="5034" y="0"/>
                  <a:pt x="5151" y="26"/>
                  <a:pt x="5221" y="23"/>
                </a:cubicBezTo>
                <a:cubicBezTo>
                  <a:pt x="5277" y="29"/>
                  <a:pt x="5310" y="102"/>
                  <a:pt x="5349" y="141"/>
                </a:cubicBezTo>
                <a:cubicBezTo>
                  <a:pt x="5354" y="160"/>
                  <a:pt x="5376" y="255"/>
                  <a:pt x="5376" y="274"/>
                </a:cubicBezTo>
                <a:cubicBezTo>
                  <a:pt x="5376" y="391"/>
                  <a:pt x="5373" y="509"/>
                  <a:pt x="5368" y="626"/>
                </a:cubicBezTo>
                <a:cubicBezTo>
                  <a:pt x="5365" y="705"/>
                  <a:pt x="5312" y="785"/>
                  <a:pt x="5288" y="858"/>
                </a:cubicBezTo>
                <a:cubicBezTo>
                  <a:pt x="5275" y="898"/>
                  <a:pt x="5274" y="967"/>
                  <a:pt x="5240" y="994"/>
                </a:cubicBezTo>
                <a:cubicBezTo>
                  <a:pt x="5195" y="1030"/>
                  <a:pt x="5111" y="1036"/>
                  <a:pt x="5056" y="1042"/>
                </a:cubicBezTo>
                <a:cubicBezTo>
                  <a:pt x="4981" y="1061"/>
                  <a:pt x="4909" y="1101"/>
                  <a:pt x="4832" y="1114"/>
                </a:cubicBezTo>
                <a:cubicBezTo>
                  <a:pt x="4765" y="1125"/>
                  <a:pt x="4765" y="1118"/>
                  <a:pt x="4704" y="1130"/>
                </a:cubicBezTo>
                <a:cubicBezTo>
                  <a:pt x="4540" y="1163"/>
                  <a:pt x="4378" y="1210"/>
                  <a:pt x="4216" y="1250"/>
                </a:cubicBezTo>
                <a:cubicBezTo>
                  <a:pt x="4189" y="1257"/>
                  <a:pt x="4170" y="1273"/>
                  <a:pt x="4144" y="1282"/>
                </a:cubicBezTo>
                <a:cubicBezTo>
                  <a:pt x="4089" y="1337"/>
                  <a:pt x="4009" y="1362"/>
                  <a:pt x="3936" y="1386"/>
                </a:cubicBezTo>
                <a:cubicBezTo>
                  <a:pt x="3905" y="1478"/>
                  <a:pt x="3805" y="1471"/>
                  <a:pt x="3728" y="1490"/>
                </a:cubicBezTo>
                <a:cubicBezTo>
                  <a:pt x="3665" y="1506"/>
                  <a:pt x="3598" y="1517"/>
                  <a:pt x="3536" y="1538"/>
                </a:cubicBezTo>
                <a:cubicBezTo>
                  <a:pt x="3504" y="1549"/>
                  <a:pt x="3457" y="1567"/>
                  <a:pt x="3424" y="1570"/>
                </a:cubicBezTo>
                <a:cubicBezTo>
                  <a:pt x="3360" y="1576"/>
                  <a:pt x="3308" y="1582"/>
                  <a:pt x="3248" y="1602"/>
                </a:cubicBezTo>
                <a:cubicBezTo>
                  <a:pt x="3211" y="1614"/>
                  <a:pt x="3183" y="1653"/>
                  <a:pt x="3152" y="1674"/>
                </a:cubicBezTo>
                <a:cubicBezTo>
                  <a:pt x="3115" y="1730"/>
                  <a:pt x="3136" y="1711"/>
                  <a:pt x="3096" y="1738"/>
                </a:cubicBezTo>
                <a:cubicBezTo>
                  <a:pt x="3082" y="1780"/>
                  <a:pt x="3093" y="1755"/>
                  <a:pt x="3056" y="1810"/>
                </a:cubicBezTo>
                <a:cubicBezTo>
                  <a:pt x="3004" y="1888"/>
                  <a:pt x="3084" y="1830"/>
                  <a:pt x="3008" y="1906"/>
                </a:cubicBezTo>
                <a:cubicBezTo>
                  <a:pt x="2945" y="1969"/>
                  <a:pt x="2885" y="2014"/>
                  <a:pt x="2800" y="2042"/>
                </a:cubicBezTo>
                <a:cubicBezTo>
                  <a:pt x="2768" y="2053"/>
                  <a:pt x="2738" y="2079"/>
                  <a:pt x="2704" y="2090"/>
                </a:cubicBezTo>
                <a:cubicBezTo>
                  <a:pt x="2655" y="2106"/>
                  <a:pt x="2602" y="2104"/>
                  <a:pt x="2552" y="2114"/>
                </a:cubicBezTo>
                <a:cubicBezTo>
                  <a:pt x="2477" y="2111"/>
                  <a:pt x="2482" y="2225"/>
                  <a:pt x="2408" y="2218"/>
                </a:cubicBezTo>
                <a:cubicBezTo>
                  <a:pt x="2336" y="2212"/>
                  <a:pt x="2372" y="2305"/>
                  <a:pt x="2304" y="2282"/>
                </a:cubicBezTo>
                <a:cubicBezTo>
                  <a:pt x="2244" y="2327"/>
                  <a:pt x="2104" y="2446"/>
                  <a:pt x="2048" y="2490"/>
                </a:cubicBezTo>
                <a:cubicBezTo>
                  <a:pt x="2032" y="2485"/>
                  <a:pt x="1968" y="2546"/>
                  <a:pt x="1968" y="2546"/>
                </a:cubicBezTo>
                <a:cubicBezTo>
                  <a:pt x="1908" y="2569"/>
                  <a:pt x="1945" y="2638"/>
                  <a:pt x="1904" y="2666"/>
                </a:cubicBezTo>
                <a:cubicBezTo>
                  <a:pt x="1871" y="2699"/>
                  <a:pt x="1893" y="2723"/>
                  <a:pt x="1856" y="2778"/>
                </a:cubicBezTo>
                <a:cubicBezTo>
                  <a:pt x="1916" y="2868"/>
                  <a:pt x="1776" y="2962"/>
                  <a:pt x="1680" y="2994"/>
                </a:cubicBezTo>
                <a:cubicBezTo>
                  <a:pt x="1552" y="2908"/>
                  <a:pt x="1310" y="2956"/>
                  <a:pt x="1208" y="2954"/>
                </a:cubicBezTo>
                <a:cubicBezTo>
                  <a:pt x="1140" y="2937"/>
                  <a:pt x="1074" y="2920"/>
                  <a:pt x="1008" y="2898"/>
                </a:cubicBezTo>
                <a:cubicBezTo>
                  <a:pt x="984" y="2890"/>
                  <a:pt x="955" y="2885"/>
                  <a:pt x="936" y="2866"/>
                </a:cubicBezTo>
                <a:cubicBezTo>
                  <a:pt x="901" y="2831"/>
                  <a:pt x="906" y="2795"/>
                  <a:pt x="888" y="2754"/>
                </a:cubicBezTo>
                <a:cubicBezTo>
                  <a:pt x="871" y="2715"/>
                  <a:pt x="819" y="2689"/>
                  <a:pt x="792" y="2658"/>
                </a:cubicBezTo>
                <a:cubicBezTo>
                  <a:pt x="776" y="2640"/>
                  <a:pt x="747" y="2594"/>
                  <a:pt x="736" y="2578"/>
                </a:cubicBezTo>
                <a:cubicBezTo>
                  <a:pt x="673" y="2484"/>
                  <a:pt x="762" y="2587"/>
                  <a:pt x="704" y="2506"/>
                </a:cubicBezTo>
                <a:cubicBezTo>
                  <a:pt x="697" y="2497"/>
                  <a:pt x="687" y="2491"/>
                  <a:pt x="680" y="2482"/>
                </a:cubicBezTo>
                <a:cubicBezTo>
                  <a:pt x="640" y="2426"/>
                  <a:pt x="682" y="2473"/>
                  <a:pt x="656" y="2426"/>
                </a:cubicBezTo>
                <a:cubicBezTo>
                  <a:pt x="606" y="2336"/>
                  <a:pt x="506" y="2296"/>
                  <a:pt x="472" y="2194"/>
                </a:cubicBezTo>
                <a:cubicBezTo>
                  <a:pt x="469" y="2171"/>
                  <a:pt x="458" y="2084"/>
                  <a:pt x="440" y="2066"/>
                </a:cubicBezTo>
                <a:cubicBezTo>
                  <a:pt x="395" y="2021"/>
                  <a:pt x="364" y="1962"/>
                  <a:pt x="336" y="1906"/>
                </a:cubicBezTo>
                <a:cubicBezTo>
                  <a:pt x="315" y="1864"/>
                  <a:pt x="302" y="1822"/>
                  <a:pt x="272" y="1786"/>
                </a:cubicBezTo>
                <a:cubicBezTo>
                  <a:pt x="154" y="1644"/>
                  <a:pt x="240" y="1770"/>
                  <a:pt x="192" y="1698"/>
                </a:cubicBezTo>
                <a:cubicBezTo>
                  <a:pt x="167" y="1547"/>
                  <a:pt x="133" y="1399"/>
                  <a:pt x="96" y="1250"/>
                </a:cubicBezTo>
                <a:cubicBezTo>
                  <a:pt x="91" y="1230"/>
                  <a:pt x="34" y="1150"/>
                  <a:pt x="24" y="1122"/>
                </a:cubicBezTo>
                <a:cubicBezTo>
                  <a:pt x="20" y="1112"/>
                  <a:pt x="19" y="1101"/>
                  <a:pt x="16" y="1090"/>
                </a:cubicBezTo>
                <a:cubicBezTo>
                  <a:pt x="11" y="1074"/>
                  <a:pt x="0" y="1042"/>
                  <a:pt x="0" y="1042"/>
                </a:cubicBezTo>
                <a:cubicBezTo>
                  <a:pt x="9" y="908"/>
                  <a:pt x="16" y="961"/>
                  <a:pt x="0" y="882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"/>
          <p:cNvSpPr/>
          <p:nvPr/>
        </p:nvSpPr>
        <p:spPr>
          <a:xfrm>
            <a:off x="771192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"/>
          <p:cNvSpPr/>
          <p:nvPr/>
        </p:nvSpPr>
        <p:spPr>
          <a:xfrm>
            <a:off x="713088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"/>
          <p:cNvSpPr/>
          <p:nvPr/>
        </p:nvSpPr>
        <p:spPr>
          <a:xfrm>
            <a:off x="6950160" y="41911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"/>
          <p:cNvSpPr/>
          <p:nvPr/>
        </p:nvSpPr>
        <p:spPr>
          <a:xfrm>
            <a:off x="6445080" y="41385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C419-18FC-4C2D-B433-4360AF6203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982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90" name=""/>
          <p:cNvCxnSpPr>
            <a:stCxn id="982" idx="7"/>
            <a:endCxn id="985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91" name=""/>
          <p:cNvCxnSpPr>
            <a:stCxn id="982" idx="6"/>
            <a:endCxn id="986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92" name=""/>
          <p:cNvCxnSpPr>
            <a:stCxn id="982" idx="5"/>
            <a:endCxn id="987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93" name=""/>
          <p:cNvCxnSpPr>
            <a:stCxn id="986" idx="7"/>
            <a:endCxn id="983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94" name=""/>
          <p:cNvCxnSpPr>
            <a:stCxn id="988" idx="7"/>
            <a:endCxn id="983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5" name=""/>
          <p:cNvCxnSpPr>
            <a:stCxn id="986" idx="5"/>
            <a:endCxn id="989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6" name=""/>
          <p:cNvCxnSpPr>
            <a:stCxn id="989" idx="5"/>
            <a:endCxn id="984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97" name=""/>
          <p:cNvCxnSpPr>
            <a:stCxn id="989" idx="6"/>
            <a:endCxn id="988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98" name=""/>
          <p:cNvCxnSpPr>
            <a:stCxn id="988" idx="4"/>
            <a:endCxn id="984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9" name=""/>
          <p:cNvCxnSpPr>
            <a:stCxn id="983" idx="3"/>
            <a:endCxn id="989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000" name=""/>
          <p:cNvCxnSpPr>
            <a:stCxn id="986" idx="4"/>
            <a:endCxn id="987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1" name=""/>
          <p:cNvCxnSpPr>
            <a:stCxn id="987" idx="6"/>
            <a:endCxn id="989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2" name=""/>
          <p:cNvCxnSpPr>
            <a:stCxn id="985" idx="6"/>
            <a:endCxn id="983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1003" name=""/>
          <p:cNvCxnSpPr>
            <a:stCxn id="987" idx="6"/>
            <a:endCxn id="984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4" name=""/>
          <p:cNvCxnSpPr>
            <a:stCxn id="983" idx="5"/>
            <a:endCxn id="984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1005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3, 5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4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"/>
          <p:cNvSpPr/>
          <p:nvPr/>
        </p:nvSpPr>
        <p:spPr>
          <a:xfrm>
            <a:off x="806760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"/>
          <p:cNvSpPr/>
          <p:nvPr/>
        </p:nvSpPr>
        <p:spPr>
          <a:xfrm>
            <a:off x="748656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"/>
          <p:cNvSpPr/>
          <p:nvPr/>
        </p:nvSpPr>
        <p:spPr>
          <a:xfrm>
            <a:off x="4651200" y="4233960"/>
            <a:ext cx="27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"/>
          <p:cNvSpPr/>
          <p:nvPr/>
        </p:nvSpPr>
        <p:spPr>
          <a:xfrm>
            <a:off x="475632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"/>
          <p:cNvSpPr/>
          <p:nvPr/>
        </p:nvSpPr>
        <p:spPr>
          <a:xfrm>
            <a:off x="771192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"/>
          <p:cNvSpPr/>
          <p:nvPr/>
        </p:nvSpPr>
        <p:spPr>
          <a:xfrm>
            <a:off x="713088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"/>
          <p:cNvSpPr/>
          <p:nvPr/>
        </p:nvSpPr>
        <p:spPr>
          <a:xfrm>
            <a:off x="6950160" y="41911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"/>
          <p:cNvSpPr/>
          <p:nvPr/>
        </p:nvSpPr>
        <p:spPr>
          <a:xfrm>
            <a:off x="6445080" y="41385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"/>
          <p:cNvSpPr/>
          <p:nvPr/>
        </p:nvSpPr>
        <p:spPr>
          <a:xfrm rot="11701800">
            <a:off x="6544800" y="445104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"/>
          <p:cNvSpPr/>
          <p:nvPr/>
        </p:nvSpPr>
        <p:spPr>
          <a:xfrm>
            <a:off x="6248520" y="477036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"/>
          <p:cNvSpPr/>
          <p:nvPr/>
        </p:nvSpPr>
        <p:spPr>
          <a:xfrm>
            <a:off x="177840" y="2028960"/>
            <a:ext cx="8534520" cy="4752720"/>
          </a:xfrm>
          <a:custGeom>
            <a:avLst/>
            <a:gdLst/>
            <a:ahLst/>
            <a:rect l="l" t="t" r="r" b="b"/>
            <a:pathLst>
              <a:path w="5376" h="2994">
                <a:moveTo>
                  <a:pt x="0" y="882"/>
                </a:moveTo>
                <a:cubicBezTo>
                  <a:pt x="45" y="791"/>
                  <a:pt x="44" y="682"/>
                  <a:pt x="112" y="602"/>
                </a:cubicBezTo>
                <a:cubicBezTo>
                  <a:pt x="158" y="548"/>
                  <a:pt x="244" y="531"/>
                  <a:pt x="304" y="498"/>
                </a:cubicBezTo>
                <a:cubicBezTo>
                  <a:pt x="354" y="470"/>
                  <a:pt x="386" y="444"/>
                  <a:pt x="440" y="426"/>
                </a:cubicBezTo>
                <a:cubicBezTo>
                  <a:pt x="500" y="406"/>
                  <a:pt x="562" y="404"/>
                  <a:pt x="624" y="394"/>
                </a:cubicBezTo>
                <a:cubicBezTo>
                  <a:pt x="693" y="382"/>
                  <a:pt x="764" y="371"/>
                  <a:pt x="832" y="354"/>
                </a:cubicBezTo>
                <a:cubicBezTo>
                  <a:pt x="869" y="329"/>
                  <a:pt x="911" y="328"/>
                  <a:pt x="952" y="314"/>
                </a:cubicBezTo>
                <a:cubicBezTo>
                  <a:pt x="1113" y="260"/>
                  <a:pt x="1260" y="256"/>
                  <a:pt x="1432" y="250"/>
                </a:cubicBezTo>
                <a:cubicBezTo>
                  <a:pt x="1618" y="257"/>
                  <a:pt x="1740" y="283"/>
                  <a:pt x="1928" y="290"/>
                </a:cubicBezTo>
                <a:cubicBezTo>
                  <a:pt x="2165" y="314"/>
                  <a:pt x="2402" y="317"/>
                  <a:pt x="2640" y="322"/>
                </a:cubicBezTo>
                <a:cubicBezTo>
                  <a:pt x="3273" y="355"/>
                  <a:pt x="3932" y="189"/>
                  <a:pt x="4571" y="183"/>
                </a:cubicBezTo>
                <a:cubicBezTo>
                  <a:pt x="4711" y="165"/>
                  <a:pt x="4828" y="88"/>
                  <a:pt x="4955" y="34"/>
                </a:cubicBezTo>
                <a:cubicBezTo>
                  <a:pt x="5034" y="0"/>
                  <a:pt x="5151" y="26"/>
                  <a:pt x="5221" y="23"/>
                </a:cubicBezTo>
                <a:cubicBezTo>
                  <a:pt x="5277" y="29"/>
                  <a:pt x="5310" y="102"/>
                  <a:pt x="5349" y="141"/>
                </a:cubicBezTo>
                <a:cubicBezTo>
                  <a:pt x="5354" y="160"/>
                  <a:pt x="5376" y="255"/>
                  <a:pt x="5376" y="274"/>
                </a:cubicBezTo>
                <a:cubicBezTo>
                  <a:pt x="5376" y="391"/>
                  <a:pt x="5373" y="509"/>
                  <a:pt x="5368" y="626"/>
                </a:cubicBezTo>
                <a:cubicBezTo>
                  <a:pt x="5365" y="705"/>
                  <a:pt x="5312" y="785"/>
                  <a:pt x="5288" y="858"/>
                </a:cubicBezTo>
                <a:cubicBezTo>
                  <a:pt x="5275" y="898"/>
                  <a:pt x="5274" y="967"/>
                  <a:pt x="5240" y="994"/>
                </a:cubicBezTo>
                <a:cubicBezTo>
                  <a:pt x="5195" y="1030"/>
                  <a:pt x="5111" y="1036"/>
                  <a:pt x="5056" y="1042"/>
                </a:cubicBezTo>
                <a:cubicBezTo>
                  <a:pt x="4981" y="1061"/>
                  <a:pt x="4909" y="1101"/>
                  <a:pt x="4832" y="1114"/>
                </a:cubicBezTo>
                <a:cubicBezTo>
                  <a:pt x="4765" y="1125"/>
                  <a:pt x="4765" y="1118"/>
                  <a:pt x="4704" y="1130"/>
                </a:cubicBezTo>
                <a:cubicBezTo>
                  <a:pt x="4540" y="1163"/>
                  <a:pt x="4378" y="1210"/>
                  <a:pt x="4216" y="1250"/>
                </a:cubicBezTo>
                <a:cubicBezTo>
                  <a:pt x="4189" y="1257"/>
                  <a:pt x="4170" y="1273"/>
                  <a:pt x="4144" y="1282"/>
                </a:cubicBezTo>
                <a:cubicBezTo>
                  <a:pt x="4089" y="1337"/>
                  <a:pt x="4009" y="1362"/>
                  <a:pt x="3936" y="1386"/>
                </a:cubicBezTo>
                <a:cubicBezTo>
                  <a:pt x="3905" y="1478"/>
                  <a:pt x="3805" y="1471"/>
                  <a:pt x="3728" y="1490"/>
                </a:cubicBezTo>
                <a:cubicBezTo>
                  <a:pt x="3665" y="1506"/>
                  <a:pt x="3598" y="1517"/>
                  <a:pt x="3536" y="1538"/>
                </a:cubicBezTo>
                <a:cubicBezTo>
                  <a:pt x="3504" y="1549"/>
                  <a:pt x="3457" y="1567"/>
                  <a:pt x="3424" y="1570"/>
                </a:cubicBezTo>
                <a:cubicBezTo>
                  <a:pt x="3360" y="1576"/>
                  <a:pt x="3308" y="1582"/>
                  <a:pt x="3248" y="1602"/>
                </a:cubicBezTo>
                <a:cubicBezTo>
                  <a:pt x="3211" y="1614"/>
                  <a:pt x="3183" y="1653"/>
                  <a:pt x="3152" y="1674"/>
                </a:cubicBezTo>
                <a:cubicBezTo>
                  <a:pt x="3115" y="1730"/>
                  <a:pt x="3136" y="1711"/>
                  <a:pt x="3096" y="1738"/>
                </a:cubicBezTo>
                <a:cubicBezTo>
                  <a:pt x="3082" y="1780"/>
                  <a:pt x="3093" y="1755"/>
                  <a:pt x="3056" y="1810"/>
                </a:cubicBezTo>
                <a:cubicBezTo>
                  <a:pt x="3004" y="1888"/>
                  <a:pt x="3084" y="1830"/>
                  <a:pt x="3008" y="1906"/>
                </a:cubicBezTo>
                <a:cubicBezTo>
                  <a:pt x="2945" y="1969"/>
                  <a:pt x="2885" y="2014"/>
                  <a:pt x="2800" y="2042"/>
                </a:cubicBezTo>
                <a:cubicBezTo>
                  <a:pt x="2768" y="2053"/>
                  <a:pt x="2738" y="2079"/>
                  <a:pt x="2704" y="2090"/>
                </a:cubicBezTo>
                <a:cubicBezTo>
                  <a:pt x="2655" y="2106"/>
                  <a:pt x="2602" y="2104"/>
                  <a:pt x="2552" y="2114"/>
                </a:cubicBezTo>
                <a:cubicBezTo>
                  <a:pt x="2477" y="2111"/>
                  <a:pt x="2482" y="2225"/>
                  <a:pt x="2408" y="2218"/>
                </a:cubicBezTo>
                <a:cubicBezTo>
                  <a:pt x="2336" y="2212"/>
                  <a:pt x="2372" y="2305"/>
                  <a:pt x="2304" y="2282"/>
                </a:cubicBezTo>
                <a:cubicBezTo>
                  <a:pt x="2244" y="2327"/>
                  <a:pt x="2104" y="2446"/>
                  <a:pt x="2048" y="2490"/>
                </a:cubicBezTo>
                <a:cubicBezTo>
                  <a:pt x="2032" y="2485"/>
                  <a:pt x="1968" y="2546"/>
                  <a:pt x="1968" y="2546"/>
                </a:cubicBezTo>
                <a:cubicBezTo>
                  <a:pt x="1908" y="2569"/>
                  <a:pt x="1945" y="2638"/>
                  <a:pt x="1904" y="2666"/>
                </a:cubicBezTo>
                <a:cubicBezTo>
                  <a:pt x="1871" y="2699"/>
                  <a:pt x="1893" y="2723"/>
                  <a:pt x="1856" y="2778"/>
                </a:cubicBezTo>
                <a:cubicBezTo>
                  <a:pt x="1916" y="2868"/>
                  <a:pt x="1776" y="2962"/>
                  <a:pt x="1680" y="2994"/>
                </a:cubicBezTo>
                <a:cubicBezTo>
                  <a:pt x="1552" y="2908"/>
                  <a:pt x="1310" y="2956"/>
                  <a:pt x="1208" y="2954"/>
                </a:cubicBezTo>
                <a:cubicBezTo>
                  <a:pt x="1140" y="2937"/>
                  <a:pt x="1074" y="2920"/>
                  <a:pt x="1008" y="2898"/>
                </a:cubicBezTo>
                <a:cubicBezTo>
                  <a:pt x="984" y="2890"/>
                  <a:pt x="955" y="2885"/>
                  <a:pt x="936" y="2866"/>
                </a:cubicBezTo>
                <a:cubicBezTo>
                  <a:pt x="901" y="2831"/>
                  <a:pt x="906" y="2795"/>
                  <a:pt x="888" y="2754"/>
                </a:cubicBezTo>
                <a:cubicBezTo>
                  <a:pt x="871" y="2715"/>
                  <a:pt x="819" y="2689"/>
                  <a:pt x="792" y="2658"/>
                </a:cubicBezTo>
                <a:cubicBezTo>
                  <a:pt x="776" y="2640"/>
                  <a:pt x="747" y="2594"/>
                  <a:pt x="736" y="2578"/>
                </a:cubicBezTo>
                <a:cubicBezTo>
                  <a:pt x="673" y="2484"/>
                  <a:pt x="762" y="2587"/>
                  <a:pt x="704" y="2506"/>
                </a:cubicBezTo>
                <a:cubicBezTo>
                  <a:pt x="697" y="2497"/>
                  <a:pt x="687" y="2491"/>
                  <a:pt x="680" y="2482"/>
                </a:cubicBezTo>
                <a:cubicBezTo>
                  <a:pt x="640" y="2426"/>
                  <a:pt x="682" y="2473"/>
                  <a:pt x="656" y="2426"/>
                </a:cubicBezTo>
                <a:cubicBezTo>
                  <a:pt x="606" y="2336"/>
                  <a:pt x="506" y="2296"/>
                  <a:pt x="472" y="2194"/>
                </a:cubicBezTo>
                <a:cubicBezTo>
                  <a:pt x="469" y="2171"/>
                  <a:pt x="458" y="2084"/>
                  <a:pt x="440" y="2066"/>
                </a:cubicBezTo>
                <a:cubicBezTo>
                  <a:pt x="395" y="2021"/>
                  <a:pt x="364" y="1962"/>
                  <a:pt x="336" y="1906"/>
                </a:cubicBezTo>
                <a:cubicBezTo>
                  <a:pt x="315" y="1864"/>
                  <a:pt x="302" y="1822"/>
                  <a:pt x="272" y="1786"/>
                </a:cubicBezTo>
                <a:cubicBezTo>
                  <a:pt x="154" y="1644"/>
                  <a:pt x="240" y="1770"/>
                  <a:pt x="192" y="1698"/>
                </a:cubicBezTo>
                <a:cubicBezTo>
                  <a:pt x="167" y="1547"/>
                  <a:pt x="133" y="1399"/>
                  <a:pt x="96" y="1250"/>
                </a:cubicBezTo>
                <a:cubicBezTo>
                  <a:pt x="91" y="1230"/>
                  <a:pt x="34" y="1150"/>
                  <a:pt x="24" y="1122"/>
                </a:cubicBezTo>
                <a:cubicBezTo>
                  <a:pt x="20" y="1112"/>
                  <a:pt x="19" y="1101"/>
                  <a:pt x="16" y="1090"/>
                </a:cubicBezTo>
                <a:cubicBezTo>
                  <a:pt x="11" y="1074"/>
                  <a:pt x="0" y="1042"/>
                  <a:pt x="0" y="1042"/>
                </a:cubicBezTo>
                <a:cubicBezTo>
                  <a:pt x="9" y="908"/>
                  <a:pt x="16" y="961"/>
                  <a:pt x="0" y="882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60A6-61F7-4FCB-AFA2-31B857E2E8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057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65" name=""/>
          <p:cNvCxnSpPr>
            <a:stCxn id="1057" idx="7"/>
            <a:endCxn id="1060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066" name=""/>
          <p:cNvCxnSpPr>
            <a:stCxn id="1057" idx="6"/>
            <a:endCxn id="1061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067" name=""/>
          <p:cNvCxnSpPr>
            <a:stCxn id="1057" idx="5"/>
            <a:endCxn id="1062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068" name=""/>
          <p:cNvCxnSpPr>
            <a:stCxn id="1061" idx="7"/>
            <a:endCxn id="1058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069" name=""/>
          <p:cNvCxnSpPr>
            <a:stCxn id="1063" idx="7"/>
            <a:endCxn id="1058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0" name=""/>
          <p:cNvCxnSpPr>
            <a:stCxn id="1061" idx="5"/>
            <a:endCxn id="1064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1" name=""/>
          <p:cNvCxnSpPr>
            <a:stCxn id="1064" idx="5"/>
            <a:endCxn id="1059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1072" name=""/>
          <p:cNvCxnSpPr>
            <a:stCxn id="1064" idx="6"/>
            <a:endCxn id="1063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073" name=""/>
          <p:cNvCxnSpPr>
            <a:stCxn id="1063" idx="4"/>
            <a:endCxn id="1059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4" name=""/>
          <p:cNvCxnSpPr>
            <a:stCxn id="1058" idx="3"/>
            <a:endCxn id="1064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075" name=""/>
          <p:cNvCxnSpPr>
            <a:stCxn id="1061" idx="4"/>
            <a:endCxn id="1062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6" name=""/>
          <p:cNvCxnSpPr>
            <a:stCxn id="1062" idx="6"/>
            <a:endCxn id="1064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7" name=""/>
          <p:cNvCxnSpPr>
            <a:stCxn id="1060" idx="6"/>
            <a:endCxn id="1058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1078" name=""/>
          <p:cNvCxnSpPr>
            <a:stCxn id="1062" idx="6"/>
            <a:endCxn id="1059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9" name=""/>
          <p:cNvCxnSpPr>
            <a:stCxn id="1058" idx="5"/>
            <a:endCxn id="1059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1080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3, 4, 5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"/>
          <p:cNvSpPr/>
          <p:nvPr/>
        </p:nvSpPr>
        <p:spPr>
          <a:xfrm>
            <a:off x="806760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"/>
          <p:cNvSpPr/>
          <p:nvPr/>
        </p:nvSpPr>
        <p:spPr>
          <a:xfrm>
            <a:off x="748656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"/>
          <p:cNvSpPr/>
          <p:nvPr/>
        </p:nvSpPr>
        <p:spPr>
          <a:xfrm>
            <a:off x="4651200" y="4233960"/>
            <a:ext cx="27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"/>
          <p:cNvSpPr/>
          <p:nvPr/>
        </p:nvSpPr>
        <p:spPr>
          <a:xfrm>
            <a:off x="475632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"/>
          <p:cNvSpPr/>
          <p:nvPr/>
        </p:nvSpPr>
        <p:spPr>
          <a:xfrm>
            <a:off x="177840" y="1995480"/>
            <a:ext cx="8534520" cy="4786200"/>
          </a:xfrm>
          <a:custGeom>
            <a:avLst/>
            <a:gdLst/>
            <a:ahLst/>
            <a:rect l="l" t="t" r="r" b="b"/>
            <a:pathLst>
              <a:path w="5376" h="3015">
                <a:moveTo>
                  <a:pt x="0" y="903"/>
                </a:moveTo>
                <a:cubicBezTo>
                  <a:pt x="45" y="812"/>
                  <a:pt x="44" y="703"/>
                  <a:pt x="112" y="623"/>
                </a:cubicBezTo>
                <a:cubicBezTo>
                  <a:pt x="158" y="569"/>
                  <a:pt x="244" y="552"/>
                  <a:pt x="304" y="519"/>
                </a:cubicBezTo>
                <a:cubicBezTo>
                  <a:pt x="354" y="491"/>
                  <a:pt x="386" y="465"/>
                  <a:pt x="440" y="447"/>
                </a:cubicBezTo>
                <a:cubicBezTo>
                  <a:pt x="500" y="427"/>
                  <a:pt x="562" y="425"/>
                  <a:pt x="624" y="415"/>
                </a:cubicBezTo>
                <a:cubicBezTo>
                  <a:pt x="693" y="403"/>
                  <a:pt x="764" y="392"/>
                  <a:pt x="832" y="375"/>
                </a:cubicBezTo>
                <a:cubicBezTo>
                  <a:pt x="869" y="350"/>
                  <a:pt x="911" y="349"/>
                  <a:pt x="952" y="335"/>
                </a:cubicBezTo>
                <a:cubicBezTo>
                  <a:pt x="1113" y="281"/>
                  <a:pt x="1260" y="277"/>
                  <a:pt x="1432" y="271"/>
                </a:cubicBezTo>
                <a:cubicBezTo>
                  <a:pt x="1618" y="278"/>
                  <a:pt x="1740" y="304"/>
                  <a:pt x="1928" y="311"/>
                </a:cubicBezTo>
                <a:cubicBezTo>
                  <a:pt x="2165" y="335"/>
                  <a:pt x="2402" y="338"/>
                  <a:pt x="2640" y="343"/>
                </a:cubicBezTo>
                <a:cubicBezTo>
                  <a:pt x="3273" y="376"/>
                  <a:pt x="3889" y="136"/>
                  <a:pt x="4528" y="130"/>
                </a:cubicBezTo>
                <a:cubicBezTo>
                  <a:pt x="4668" y="112"/>
                  <a:pt x="4828" y="88"/>
                  <a:pt x="4955" y="34"/>
                </a:cubicBezTo>
                <a:cubicBezTo>
                  <a:pt x="5034" y="0"/>
                  <a:pt x="5162" y="37"/>
                  <a:pt x="5232" y="34"/>
                </a:cubicBezTo>
                <a:cubicBezTo>
                  <a:pt x="5288" y="40"/>
                  <a:pt x="5332" y="123"/>
                  <a:pt x="5371" y="162"/>
                </a:cubicBezTo>
                <a:cubicBezTo>
                  <a:pt x="5376" y="181"/>
                  <a:pt x="5376" y="276"/>
                  <a:pt x="5376" y="295"/>
                </a:cubicBezTo>
                <a:cubicBezTo>
                  <a:pt x="5376" y="412"/>
                  <a:pt x="5373" y="530"/>
                  <a:pt x="5368" y="647"/>
                </a:cubicBezTo>
                <a:cubicBezTo>
                  <a:pt x="5365" y="726"/>
                  <a:pt x="5312" y="806"/>
                  <a:pt x="5288" y="879"/>
                </a:cubicBezTo>
                <a:cubicBezTo>
                  <a:pt x="5275" y="919"/>
                  <a:pt x="5274" y="988"/>
                  <a:pt x="5240" y="1015"/>
                </a:cubicBezTo>
                <a:cubicBezTo>
                  <a:pt x="5195" y="1051"/>
                  <a:pt x="5271" y="1105"/>
                  <a:pt x="5216" y="1111"/>
                </a:cubicBezTo>
                <a:cubicBezTo>
                  <a:pt x="5165" y="1181"/>
                  <a:pt x="5057" y="1323"/>
                  <a:pt x="4936" y="1439"/>
                </a:cubicBezTo>
                <a:cubicBezTo>
                  <a:pt x="4772" y="1472"/>
                  <a:pt x="4650" y="1767"/>
                  <a:pt x="4488" y="1807"/>
                </a:cubicBezTo>
                <a:cubicBezTo>
                  <a:pt x="4461" y="1814"/>
                  <a:pt x="4082" y="1902"/>
                  <a:pt x="4056" y="1911"/>
                </a:cubicBezTo>
                <a:cubicBezTo>
                  <a:pt x="4001" y="1966"/>
                  <a:pt x="3777" y="1927"/>
                  <a:pt x="3704" y="1951"/>
                </a:cubicBezTo>
                <a:cubicBezTo>
                  <a:pt x="3673" y="2043"/>
                  <a:pt x="3525" y="1972"/>
                  <a:pt x="3448" y="1991"/>
                </a:cubicBezTo>
                <a:cubicBezTo>
                  <a:pt x="3385" y="2007"/>
                  <a:pt x="3150" y="2050"/>
                  <a:pt x="3088" y="2071"/>
                </a:cubicBezTo>
                <a:cubicBezTo>
                  <a:pt x="3056" y="2082"/>
                  <a:pt x="2945" y="2092"/>
                  <a:pt x="2912" y="2095"/>
                </a:cubicBezTo>
                <a:cubicBezTo>
                  <a:pt x="2864" y="2094"/>
                  <a:pt x="2835" y="2060"/>
                  <a:pt x="2800" y="2063"/>
                </a:cubicBezTo>
                <a:cubicBezTo>
                  <a:pt x="2768" y="2074"/>
                  <a:pt x="2738" y="2100"/>
                  <a:pt x="2704" y="2111"/>
                </a:cubicBezTo>
                <a:cubicBezTo>
                  <a:pt x="2655" y="2127"/>
                  <a:pt x="2602" y="2125"/>
                  <a:pt x="2552" y="2135"/>
                </a:cubicBezTo>
                <a:cubicBezTo>
                  <a:pt x="2477" y="2132"/>
                  <a:pt x="2482" y="2246"/>
                  <a:pt x="2408" y="2239"/>
                </a:cubicBezTo>
                <a:cubicBezTo>
                  <a:pt x="2336" y="2233"/>
                  <a:pt x="2372" y="2326"/>
                  <a:pt x="2304" y="2303"/>
                </a:cubicBezTo>
                <a:cubicBezTo>
                  <a:pt x="2244" y="2348"/>
                  <a:pt x="2104" y="2467"/>
                  <a:pt x="2048" y="2511"/>
                </a:cubicBezTo>
                <a:cubicBezTo>
                  <a:pt x="2032" y="2506"/>
                  <a:pt x="1968" y="2567"/>
                  <a:pt x="1968" y="2567"/>
                </a:cubicBezTo>
                <a:cubicBezTo>
                  <a:pt x="1908" y="2590"/>
                  <a:pt x="1945" y="2659"/>
                  <a:pt x="1904" y="2687"/>
                </a:cubicBezTo>
                <a:cubicBezTo>
                  <a:pt x="1871" y="2720"/>
                  <a:pt x="1893" y="2744"/>
                  <a:pt x="1856" y="2799"/>
                </a:cubicBezTo>
                <a:cubicBezTo>
                  <a:pt x="1916" y="2889"/>
                  <a:pt x="1776" y="2983"/>
                  <a:pt x="1680" y="3015"/>
                </a:cubicBezTo>
                <a:cubicBezTo>
                  <a:pt x="1552" y="2929"/>
                  <a:pt x="1310" y="2977"/>
                  <a:pt x="1208" y="2975"/>
                </a:cubicBezTo>
                <a:cubicBezTo>
                  <a:pt x="1140" y="2958"/>
                  <a:pt x="1074" y="2941"/>
                  <a:pt x="1008" y="2919"/>
                </a:cubicBezTo>
                <a:cubicBezTo>
                  <a:pt x="984" y="2911"/>
                  <a:pt x="955" y="2906"/>
                  <a:pt x="936" y="2887"/>
                </a:cubicBezTo>
                <a:cubicBezTo>
                  <a:pt x="901" y="2852"/>
                  <a:pt x="906" y="2816"/>
                  <a:pt x="888" y="2775"/>
                </a:cubicBezTo>
                <a:cubicBezTo>
                  <a:pt x="871" y="2736"/>
                  <a:pt x="819" y="2710"/>
                  <a:pt x="792" y="2679"/>
                </a:cubicBezTo>
                <a:cubicBezTo>
                  <a:pt x="776" y="2661"/>
                  <a:pt x="747" y="2615"/>
                  <a:pt x="736" y="2599"/>
                </a:cubicBezTo>
                <a:cubicBezTo>
                  <a:pt x="673" y="2505"/>
                  <a:pt x="762" y="2608"/>
                  <a:pt x="704" y="2527"/>
                </a:cubicBezTo>
                <a:cubicBezTo>
                  <a:pt x="697" y="2518"/>
                  <a:pt x="687" y="2512"/>
                  <a:pt x="680" y="2503"/>
                </a:cubicBezTo>
                <a:cubicBezTo>
                  <a:pt x="640" y="2447"/>
                  <a:pt x="682" y="2494"/>
                  <a:pt x="656" y="2447"/>
                </a:cubicBezTo>
                <a:cubicBezTo>
                  <a:pt x="606" y="2357"/>
                  <a:pt x="506" y="2317"/>
                  <a:pt x="472" y="2215"/>
                </a:cubicBezTo>
                <a:cubicBezTo>
                  <a:pt x="469" y="2192"/>
                  <a:pt x="458" y="2105"/>
                  <a:pt x="440" y="2087"/>
                </a:cubicBezTo>
                <a:cubicBezTo>
                  <a:pt x="395" y="2042"/>
                  <a:pt x="364" y="1983"/>
                  <a:pt x="336" y="1927"/>
                </a:cubicBezTo>
                <a:cubicBezTo>
                  <a:pt x="315" y="1885"/>
                  <a:pt x="302" y="1843"/>
                  <a:pt x="272" y="1807"/>
                </a:cubicBezTo>
                <a:cubicBezTo>
                  <a:pt x="154" y="1665"/>
                  <a:pt x="240" y="1791"/>
                  <a:pt x="192" y="1719"/>
                </a:cubicBezTo>
                <a:cubicBezTo>
                  <a:pt x="167" y="1568"/>
                  <a:pt x="133" y="1420"/>
                  <a:pt x="96" y="1271"/>
                </a:cubicBezTo>
                <a:cubicBezTo>
                  <a:pt x="91" y="1251"/>
                  <a:pt x="34" y="1171"/>
                  <a:pt x="24" y="1143"/>
                </a:cubicBezTo>
                <a:cubicBezTo>
                  <a:pt x="20" y="1133"/>
                  <a:pt x="19" y="1122"/>
                  <a:pt x="16" y="1111"/>
                </a:cubicBezTo>
                <a:cubicBezTo>
                  <a:pt x="11" y="1095"/>
                  <a:pt x="0" y="1063"/>
                  <a:pt x="0" y="1063"/>
                </a:cubicBezTo>
                <a:cubicBezTo>
                  <a:pt x="9" y="929"/>
                  <a:pt x="16" y="982"/>
                  <a:pt x="0" y="903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"/>
          <p:cNvSpPr/>
          <p:nvPr/>
        </p:nvSpPr>
        <p:spPr>
          <a:xfrm>
            <a:off x="771192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"/>
          <p:cNvSpPr/>
          <p:nvPr/>
        </p:nvSpPr>
        <p:spPr>
          <a:xfrm>
            <a:off x="713088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"/>
          <p:cNvSpPr/>
          <p:nvPr/>
        </p:nvSpPr>
        <p:spPr>
          <a:xfrm>
            <a:off x="6950160" y="41911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"/>
          <p:cNvSpPr/>
          <p:nvPr/>
        </p:nvSpPr>
        <p:spPr>
          <a:xfrm>
            <a:off x="6445080" y="41385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14E6-8281-4022-ACB9-516C549529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130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38" name=""/>
          <p:cNvCxnSpPr>
            <a:stCxn id="1130" idx="7"/>
            <a:endCxn id="1133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139" name=""/>
          <p:cNvCxnSpPr>
            <a:stCxn id="1130" idx="6"/>
            <a:endCxn id="1134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30" idx="5"/>
            <a:endCxn id="1135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34" idx="7"/>
            <a:endCxn id="1131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142" name=""/>
          <p:cNvCxnSpPr>
            <a:stCxn id="1136" idx="7"/>
            <a:endCxn id="1131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3" name=""/>
          <p:cNvCxnSpPr>
            <a:stCxn id="1134" idx="5"/>
            <a:endCxn id="1137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4" name=""/>
          <p:cNvCxnSpPr>
            <a:stCxn id="1137" idx="5"/>
            <a:endCxn id="1132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1145" name=""/>
          <p:cNvCxnSpPr>
            <a:stCxn id="1137" idx="6"/>
            <a:endCxn id="1136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146" name=""/>
          <p:cNvCxnSpPr>
            <a:stCxn id="1136" idx="4"/>
            <a:endCxn id="1132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7" name=""/>
          <p:cNvCxnSpPr>
            <a:stCxn id="1131" idx="3"/>
            <a:endCxn id="1137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148" name=""/>
          <p:cNvCxnSpPr>
            <a:stCxn id="1134" idx="4"/>
            <a:endCxn id="1135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9" name=""/>
          <p:cNvCxnSpPr>
            <a:stCxn id="1135" idx="6"/>
            <a:endCxn id="1137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0" name=""/>
          <p:cNvCxnSpPr>
            <a:stCxn id="1133" idx="6"/>
            <a:endCxn id="1131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1151" name=""/>
          <p:cNvCxnSpPr>
            <a:stCxn id="1135" idx="6"/>
            <a:endCxn id="1132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2" name=""/>
          <p:cNvCxnSpPr>
            <a:stCxn id="1131" idx="5"/>
            <a:endCxn id="1132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1153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3, 4, 5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"/>
          <p:cNvSpPr/>
          <p:nvPr/>
        </p:nvSpPr>
        <p:spPr>
          <a:xfrm>
            <a:off x="806760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"/>
          <p:cNvSpPr/>
          <p:nvPr/>
        </p:nvSpPr>
        <p:spPr>
          <a:xfrm>
            <a:off x="748656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"/>
          <p:cNvSpPr/>
          <p:nvPr/>
        </p:nvSpPr>
        <p:spPr>
          <a:xfrm>
            <a:off x="4651200" y="4233960"/>
            <a:ext cx="27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"/>
          <p:cNvSpPr/>
          <p:nvPr/>
        </p:nvSpPr>
        <p:spPr>
          <a:xfrm>
            <a:off x="475632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"/>
          <p:cNvSpPr/>
          <p:nvPr/>
        </p:nvSpPr>
        <p:spPr>
          <a:xfrm>
            <a:off x="771192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"/>
          <p:cNvSpPr/>
          <p:nvPr/>
        </p:nvSpPr>
        <p:spPr>
          <a:xfrm>
            <a:off x="713088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"/>
          <p:cNvSpPr/>
          <p:nvPr/>
        </p:nvSpPr>
        <p:spPr>
          <a:xfrm>
            <a:off x="6950160" y="41911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"/>
          <p:cNvSpPr/>
          <p:nvPr/>
        </p:nvSpPr>
        <p:spPr>
          <a:xfrm>
            <a:off x="6445080" y="41385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 rot="16200000">
            <a:off x="6862680" y="626724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"/>
          <p:cNvSpPr/>
          <p:nvPr/>
        </p:nvSpPr>
        <p:spPr>
          <a:xfrm>
            <a:off x="5867280" y="6256440"/>
            <a:ext cx="946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"/>
          <p:cNvSpPr/>
          <p:nvPr/>
        </p:nvSpPr>
        <p:spPr>
          <a:xfrm>
            <a:off x="177840" y="1995480"/>
            <a:ext cx="8534520" cy="4786200"/>
          </a:xfrm>
          <a:custGeom>
            <a:avLst/>
            <a:gdLst/>
            <a:ahLst/>
            <a:rect l="l" t="t" r="r" b="b"/>
            <a:pathLst>
              <a:path w="5376" h="3015">
                <a:moveTo>
                  <a:pt x="0" y="903"/>
                </a:moveTo>
                <a:cubicBezTo>
                  <a:pt x="45" y="812"/>
                  <a:pt x="44" y="703"/>
                  <a:pt x="112" y="623"/>
                </a:cubicBezTo>
                <a:cubicBezTo>
                  <a:pt x="158" y="569"/>
                  <a:pt x="244" y="552"/>
                  <a:pt x="304" y="519"/>
                </a:cubicBezTo>
                <a:cubicBezTo>
                  <a:pt x="354" y="491"/>
                  <a:pt x="386" y="465"/>
                  <a:pt x="440" y="447"/>
                </a:cubicBezTo>
                <a:cubicBezTo>
                  <a:pt x="500" y="427"/>
                  <a:pt x="562" y="425"/>
                  <a:pt x="624" y="415"/>
                </a:cubicBezTo>
                <a:cubicBezTo>
                  <a:pt x="693" y="403"/>
                  <a:pt x="764" y="392"/>
                  <a:pt x="832" y="375"/>
                </a:cubicBezTo>
                <a:cubicBezTo>
                  <a:pt x="869" y="350"/>
                  <a:pt x="911" y="349"/>
                  <a:pt x="952" y="335"/>
                </a:cubicBezTo>
                <a:cubicBezTo>
                  <a:pt x="1113" y="281"/>
                  <a:pt x="1260" y="277"/>
                  <a:pt x="1432" y="271"/>
                </a:cubicBezTo>
                <a:cubicBezTo>
                  <a:pt x="1618" y="278"/>
                  <a:pt x="1740" y="304"/>
                  <a:pt x="1928" y="311"/>
                </a:cubicBezTo>
                <a:cubicBezTo>
                  <a:pt x="2165" y="335"/>
                  <a:pt x="2402" y="338"/>
                  <a:pt x="2640" y="343"/>
                </a:cubicBezTo>
                <a:cubicBezTo>
                  <a:pt x="3273" y="376"/>
                  <a:pt x="3889" y="136"/>
                  <a:pt x="4528" y="130"/>
                </a:cubicBezTo>
                <a:cubicBezTo>
                  <a:pt x="4668" y="112"/>
                  <a:pt x="4828" y="88"/>
                  <a:pt x="4955" y="34"/>
                </a:cubicBezTo>
                <a:cubicBezTo>
                  <a:pt x="5034" y="0"/>
                  <a:pt x="5162" y="37"/>
                  <a:pt x="5232" y="34"/>
                </a:cubicBezTo>
                <a:cubicBezTo>
                  <a:pt x="5288" y="40"/>
                  <a:pt x="5332" y="123"/>
                  <a:pt x="5371" y="162"/>
                </a:cubicBezTo>
                <a:cubicBezTo>
                  <a:pt x="5376" y="181"/>
                  <a:pt x="5376" y="276"/>
                  <a:pt x="5376" y="295"/>
                </a:cubicBezTo>
                <a:cubicBezTo>
                  <a:pt x="5376" y="412"/>
                  <a:pt x="5373" y="530"/>
                  <a:pt x="5368" y="647"/>
                </a:cubicBezTo>
                <a:cubicBezTo>
                  <a:pt x="5365" y="726"/>
                  <a:pt x="5312" y="806"/>
                  <a:pt x="5288" y="879"/>
                </a:cubicBezTo>
                <a:cubicBezTo>
                  <a:pt x="5275" y="919"/>
                  <a:pt x="5274" y="988"/>
                  <a:pt x="5240" y="1015"/>
                </a:cubicBezTo>
                <a:cubicBezTo>
                  <a:pt x="5195" y="1051"/>
                  <a:pt x="5271" y="1105"/>
                  <a:pt x="5216" y="1111"/>
                </a:cubicBezTo>
                <a:cubicBezTo>
                  <a:pt x="5165" y="1181"/>
                  <a:pt x="5057" y="1323"/>
                  <a:pt x="4936" y="1439"/>
                </a:cubicBezTo>
                <a:cubicBezTo>
                  <a:pt x="4772" y="1472"/>
                  <a:pt x="4650" y="1767"/>
                  <a:pt x="4488" y="1807"/>
                </a:cubicBezTo>
                <a:cubicBezTo>
                  <a:pt x="4461" y="1814"/>
                  <a:pt x="4082" y="1902"/>
                  <a:pt x="4056" y="1911"/>
                </a:cubicBezTo>
                <a:cubicBezTo>
                  <a:pt x="4001" y="1966"/>
                  <a:pt x="3777" y="1927"/>
                  <a:pt x="3704" y="1951"/>
                </a:cubicBezTo>
                <a:cubicBezTo>
                  <a:pt x="3673" y="2043"/>
                  <a:pt x="3525" y="1972"/>
                  <a:pt x="3448" y="1991"/>
                </a:cubicBezTo>
                <a:cubicBezTo>
                  <a:pt x="3385" y="2007"/>
                  <a:pt x="3150" y="2050"/>
                  <a:pt x="3088" y="2071"/>
                </a:cubicBezTo>
                <a:cubicBezTo>
                  <a:pt x="3056" y="2082"/>
                  <a:pt x="2945" y="2092"/>
                  <a:pt x="2912" y="2095"/>
                </a:cubicBezTo>
                <a:cubicBezTo>
                  <a:pt x="2864" y="2094"/>
                  <a:pt x="2835" y="2060"/>
                  <a:pt x="2800" y="2063"/>
                </a:cubicBezTo>
                <a:cubicBezTo>
                  <a:pt x="2768" y="2074"/>
                  <a:pt x="2738" y="2100"/>
                  <a:pt x="2704" y="2111"/>
                </a:cubicBezTo>
                <a:cubicBezTo>
                  <a:pt x="2655" y="2127"/>
                  <a:pt x="2602" y="2125"/>
                  <a:pt x="2552" y="2135"/>
                </a:cubicBezTo>
                <a:cubicBezTo>
                  <a:pt x="2477" y="2132"/>
                  <a:pt x="2482" y="2246"/>
                  <a:pt x="2408" y="2239"/>
                </a:cubicBezTo>
                <a:cubicBezTo>
                  <a:pt x="2336" y="2233"/>
                  <a:pt x="2372" y="2326"/>
                  <a:pt x="2304" y="2303"/>
                </a:cubicBezTo>
                <a:cubicBezTo>
                  <a:pt x="2244" y="2348"/>
                  <a:pt x="2104" y="2467"/>
                  <a:pt x="2048" y="2511"/>
                </a:cubicBezTo>
                <a:cubicBezTo>
                  <a:pt x="2032" y="2506"/>
                  <a:pt x="1968" y="2567"/>
                  <a:pt x="1968" y="2567"/>
                </a:cubicBezTo>
                <a:cubicBezTo>
                  <a:pt x="1908" y="2590"/>
                  <a:pt x="1945" y="2659"/>
                  <a:pt x="1904" y="2687"/>
                </a:cubicBezTo>
                <a:cubicBezTo>
                  <a:pt x="1871" y="2720"/>
                  <a:pt x="1893" y="2744"/>
                  <a:pt x="1856" y="2799"/>
                </a:cubicBezTo>
                <a:cubicBezTo>
                  <a:pt x="1916" y="2889"/>
                  <a:pt x="1776" y="2983"/>
                  <a:pt x="1680" y="3015"/>
                </a:cubicBezTo>
                <a:cubicBezTo>
                  <a:pt x="1552" y="2929"/>
                  <a:pt x="1310" y="2977"/>
                  <a:pt x="1208" y="2975"/>
                </a:cubicBezTo>
                <a:cubicBezTo>
                  <a:pt x="1140" y="2958"/>
                  <a:pt x="1074" y="2941"/>
                  <a:pt x="1008" y="2919"/>
                </a:cubicBezTo>
                <a:cubicBezTo>
                  <a:pt x="984" y="2911"/>
                  <a:pt x="955" y="2906"/>
                  <a:pt x="936" y="2887"/>
                </a:cubicBezTo>
                <a:cubicBezTo>
                  <a:pt x="901" y="2852"/>
                  <a:pt x="906" y="2816"/>
                  <a:pt x="888" y="2775"/>
                </a:cubicBezTo>
                <a:cubicBezTo>
                  <a:pt x="871" y="2736"/>
                  <a:pt x="819" y="2710"/>
                  <a:pt x="792" y="2679"/>
                </a:cubicBezTo>
                <a:cubicBezTo>
                  <a:pt x="776" y="2661"/>
                  <a:pt x="747" y="2615"/>
                  <a:pt x="736" y="2599"/>
                </a:cubicBezTo>
                <a:cubicBezTo>
                  <a:pt x="673" y="2505"/>
                  <a:pt x="762" y="2608"/>
                  <a:pt x="704" y="2527"/>
                </a:cubicBezTo>
                <a:cubicBezTo>
                  <a:pt x="697" y="2518"/>
                  <a:pt x="687" y="2512"/>
                  <a:pt x="680" y="2503"/>
                </a:cubicBezTo>
                <a:cubicBezTo>
                  <a:pt x="640" y="2447"/>
                  <a:pt x="682" y="2494"/>
                  <a:pt x="656" y="2447"/>
                </a:cubicBezTo>
                <a:cubicBezTo>
                  <a:pt x="606" y="2357"/>
                  <a:pt x="506" y="2317"/>
                  <a:pt x="472" y="2215"/>
                </a:cubicBezTo>
                <a:cubicBezTo>
                  <a:pt x="469" y="2192"/>
                  <a:pt x="458" y="2105"/>
                  <a:pt x="440" y="2087"/>
                </a:cubicBezTo>
                <a:cubicBezTo>
                  <a:pt x="395" y="2042"/>
                  <a:pt x="364" y="1983"/>
                  <a:pt x="336" y="1927"/>
                </a:cubicBezTo>
                <a:cubicBezTo>
                  <a:pt x="315" y="1885"/>
                  <a:pt x="302" y="1843"/>
                  <a:pt x="272" y="1807"/>
                </a:cubicBezTo>
                <a:cubicBezTo>
                  <a:pt x="154" y="1665"/>
                  <a:pt x="240" y="1791"/>
                  <a:pt x="192" y="1719"/>
                </a:cubicBezTo>
                <a:cubicBezTo>
                  <a:pt x="167" y="1568"/>
                  <a:pt x="133" y="1420"/>
                  <a:pt x="96" y="1271"/>
                </a:cubicBezTo>
                <a:cubicBezTo>
                  <a:pt x="91" y="1251"/>
                  <a:pt x="34" y="1171"/>
                  <a:pt x="24" y="1143"/>
                </a:cubicBezTo>
                <a:cubicBezTo>
                  <a:pt x="20" y="1133"/>
                  <a:pt x="19" y="1122"/>
                  <a:pt x="16" y="1111"/>
                </a:cubicBezTo>
                <a:cubicBezTo>
                  <a:pt x="11" y="1095"/>
                  <a:pt x="0" y="1063"/>
                  <a:pt x="0" y="1063"/>
                </a:cubicBezTo>
                <a:cubicBezTo>
                  <a:pt x="9" y="929"/>
                  <a:pt x="16" y="982"/>
                  <a:pt x="0" y="903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2632-E06B-4838-A928-984BBCEC0D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205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8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13" name=""/>
          <p:cNvCxnSpPr>
            <a:stCxn id="1205" idx="7"/>
            <a:endCxn id="1208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214" name=""/>
          <p:cNvCxnSpPr>
            <a:stCxn id="1205" idx="6"/>
            <a:endCxn id="1209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215" name=""/>
          <p:cNvCxnSpPr>
            <a:stCxn id="1205" idx="5"/>
            <a:endCxn id="1210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216" name=""/>
          <p:cNvCxnSpPr>
            <a:stCxn id="1209" idx="7"/>
            <a:endCxn id="1206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217" name=""/>
          <p:cNvCxnSpPr>
            <a:stCxn id="1211" idx="7"/>
            <a:endCxn id="1206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8" name=""/>
          <p:cNvCxnSpPr>
            <a:stCxn id="1209" idx="5"/>
            <a:endCxn id="1212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9" name=""/>
          <p:cNvCxnSpPr>
            <a:stCxn id="1212" idx="5"/>
            <a:endCxn id="1207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220" name=""/>
          <p:cNvCxnSpPr>
            <a:stCxn id="1212" idx="6"/>
            <a:endCxn id="1211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221" name=""/>
          <p:cNvCxnSpPr>
            <a:stCxn id="1211" idx="4"/>
            <a:endCxn id="1207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2" name=""/>
          <p:cNvCxnSpPr>
            <a:stCxn id="1206" idx="3"/>
            <a:endCxn id="1212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223" name=""/>
          <p:cNvCxnSpPr>
            <a:stCxn id="1209" idx="4"/>
            <a:endCxn id="1210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4" name=""/>
          <p:cNvCxnSpPr>
            <a:stCxn id="1210" idx="6"/>
            <a:endCxn id="1212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5" name=""/>
          <p:cNvCxnSpPr>
            <a:stCxn id="1208" idx="6"/>
            <a:endCxn id="1206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1226" name=""/>
          <p:cNvCxnSpPr>
            <a:stCxn id="1210" idx="6"/>
            <a:endCxn id="1207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7" name=""/>
          <p:cNvCxnSpPr>
            <a:stCxn id="1206" idx="5"/>
            <a:endCxn id="1207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1228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"/>
          <p:cNvSpPr/>
          <p:nvPr/>
        </p:nvSpPr>
        <p:spPr>
          <a:xfrm>
            <a:off x="806760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"/>
          <p:cNvSpPr/>
          <p:nvPr/>
        </p:nvSpPr>
        <p:spPr>
          <a:xfrm>
            <a:off x="748656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"/>
          <p:cNvSpPr/>
          <p:nvPr/>
        </p:nvSpPr>
        <p:spPr>
          <a:xfrm>
            <a:off x="4651200" y="4233960"/>
            <a:ext cx="27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"/>
          <p:cNvSpPr/>
          <p:nvPr/>
        </p:nvSpPr>
        <p:spPr>
          <a:xfrm>
            <a:off x="475632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"/>
          <p:cNvSpPr/>
          <p:nvPr/>
        </p:nvSpPr>
        <p:spPr>
          <a:xfrm>
            <a:off x="771192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"/>
          <p:cNvSpPr/>
          <p:nvPr/>
        </p:nvSpPr>
        <p:spPr>
          <a:xfrm>
            <a:off x="713088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"/>
          <p:cNvSpPr/>
          <p:nvPr/>
        </p:nvSpPr>
        <p:spPr>
          <a:xfrm>
            <a:off x="6950160" y="41911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"/>
          <p:cNvSpPr/>
          <p:nvPr/>
        </p:nvSpPr>
        <p:spPr>
          <a:xfrm>
            <a:off x="6445080" y="41385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30DAA-C132-4BE2-AEA8-AAAF3B9C9C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8" name=""/>
          <p:cNvCxnSpPr>
            <a:stCxn id="120" idx="7"/>
            <a:endCxn id="123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0" idx="6"/>
            <a:endCxn id="124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0" idx="5"/>
            <a:endCxn id="125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4" idx="7"/>
            <a:endCxn id="121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7"/>
            <a:endCxn id="121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4" idx="5"/>
            <a:endCxn id="127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5"/>
            <a:endCxn id="122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7" idx="6"/>
            <a:endCxn id="126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6" idx="4"/>
            <a:endCxn id="122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1" idx="3"/>
            <a:endCxn id="127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24" idx="4"/>
            <a:endCxn id="125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25" idx="6"/>
            <a:endCxn id="127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23" idx="6"/>
            <a:endCxn id="121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5" idx="6"/>
            <a:endCxn id="122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21" idx="5"/>
            <a:endCxn id="122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84240" y="631980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distance lab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1703520" y="6426360"/>
            <a:ext cx="276120" cy="13788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s, 2,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013F-5AE8-4454-B2C2-8E45A50D94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8" name=""/>
          <p:cNvCxnSpPr>
            <a:stCxn id="170" idx="7"/>
            <a:endCxn id="173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0" idx="6"/>
            <a:endCxn id="174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0" idx="5"/>
            <a:endCxn id="175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4" idx="7"/>
            <a:endCxn id="171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6" idx="7"/>
            <a:endCxn id="171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4" idx="5"/>
            <a:endCxn id="177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7" idx="5"/>
            <a:endCxn id="172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7" idx="6"/>
            <a:endCxn id="176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6" idx="4"/>
            <a:endCxn id="172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71" idx="3"/>
            <a:endCxn id="177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74" idx="4"/>
            <a:endCxn id="175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75" idx="6"/>
            <a:endCxn id="177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73" idx="6"/>
            <a:endCxn id="171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75" idx="6"/>
            <a:endCxn id="172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1" idx="5"/>
            <a:endCxn id="172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84240" y="631980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distance lab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1703520" y="6426360"/>
            <a:ext cx="276120" cy="13788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s, 2,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376200" y="266688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120600" y="2279520"/>
            <a:ext cx="109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766B-78B9-4509-9678-D229981BA3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0" name=""/>
          <p:cNvCxnSpPr>
            <a:stCxn id="222" idx="7"/>
            <a:endCxn id="225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2" idx="6"/>
            <a:endCxn id="226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2" idx="5"/>
            <a:endCxn id="227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6" idx="7"/>
            <a:endCxn id="223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28" idx="7"/>
            <a:endCxn id="223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6" idx="5"/>
            <a:endCxn id="229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9" idx="5"/>
            <a:endCxn id="224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29" idx="6"/>
            <a:endCxn id="228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8" idx="4"/>
            <a:endCxn id="224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3" idx="3"/>
            <a:endCxn id="229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26" idx="4"/>
            <a:endCxn id="227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27" idx="6"/>
            <a:endCxn id="229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25" idx="6"/>
            <a:endCxn id="223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27" idx="6"/>
            <a:endCxn id="224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23" idx="5"/>
            <a:endCxn id="224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100080" y="3068640"/>
            <a:ext cx="1027080" cy="914400"/>
          </a:xfrm>
          <a:custGeom>
            <a:avLst/>
            <a:gdLst/>
            <a:ahLst/>
            <a:rect l="l" t="t" r="r" b="b"/>
            <a:pathLst>
              <a:path w="647" h="576">
                <a:moveTo>
                  <a:pt x="142" y="489"/>
                </a:moveTo>
                <a:cubicBezTo>
                  <a:pt x="87" y="470"/>
                  <a:pt x="111" y="478"/>
                  <a:pt x="71" y="465"/>
                </a:cubicBezTo>
                <a:cubicBezTo>
                  <a:pt x="63" y="462"/>
                  <a:pt x="47" y="457"/>
                  <a:pt x="47" y="457"/>
                </a:cubicBezTo>
                <a:cubicBezTo>
                  <a:pt x="24" y="434"/>
                  <a:pt x="10" y="417"/>
                  <a:pt x="0" y="386"/>
                </a:cubicBezTo>
                <a:cubicBezTo>
                  <a:pt x="3" y="326"/>
                  <a:pt x="3" y="265"/>
                  <a:pt x="8" y="205"/>
                </a:cubicBezTo>
                <a:cubicBezTo>
                  <a:pt x="10" y="174"/>
                  <a:pt x="38" y="156"/>
                  <a:pt x="55" y="134"/>
                </a:cubicBezTo>
                <a:cubicBezTo>
                  <a:pt x="78" y="104"/>
                  <a:pt x="98" y="71"/>
                  <a:pt x="118" y="39"/>
                </a:cubicBezTo>
                <a:cubicBezTo>
                  <a:pt x="124" y="30"/>
                  <a:pt x="139" y="34"/>
                  <a:pt x="150" y="31"/>
                </a:cubicBezTo>
                <a:cubicBezTo>
                  <a:pt x="247" y="1"/>
                  <a:pt x="150" y="18"/>
                  <a:pt x="316" y="8"/>
                </a:cubicBezTo>
                <a:cubicBezTo>
                  <a:pt x="379" y="10"/>
                  <a:pt x="444" y="0"/>
                  <a:pt x="505" y="15"/>
                </a:cubicBezTo>
                <a:cubicBezTo>
                  <a:pt x="533" y="22"/>
                  <a:pt x="530" y="81"/>
                  <a:pt x="576" y="94"/>
                </a:cubicBezTo>
                <a:cubicBezTo>
                  <a:pt x="592" y="118"/>
                  <a:pt x="614" y="138"/>
                  <a:pt x="623" y="165"/>
                </a:cubicBezTo>
                <a:cubicBezTo>
                  <a:pt x="628" y="181"/>
                  <a:pt x="639" y="213"/>
                  <a:pt x="639" y="213"/>
                </a:cubicBezTo>
                <a:cubicBezTo>
                  <a:pt x="642" y="247"/>
                  <a:pt x="647" y="281"/>
                  <a:pt x="647" y="315"/>
                </a:cubicBezTo>
                <a:cubicBezTo>
                  <a:pt x="647" y="360"/>
                  <a:pt x="644" y="404"/>
                  <a:pt x="639" y="449"/>
                </a:cubicBezTo>
                <a:cubicBezTo>
                  <a:pt x="633" y="508"/>
                  <a:pt x="516" y="558"/>
                  <a:pt x="466" y="576"/>
                </a:cubicBezTo>
                <a:cubicBezTo>
                  <a:pt x="408" y="573"/>
                  <a:pt x="350" y="575"/>
                  <a:pt x="292" y="568"/>
                </a:cubicBezTo>
                <a:cubicBezTo>
                  <a:pt x="282" y="567"/>
                  <a:pt x="277" y="556"/>
                  <a:pt x="268" y="552"/>
                </a:cubicBezTo>
                <a:cubicBezTo>
                  <a:pt x="239" y="539"/>
                  <a:pt x="197" y="520"/>
                  <a:pt x="166" y="513"/>
                </a:cubicBezTo>
                <a:cubicBezTo>
                  <a:pt x="149" y="487"/>
                  <a:pt x="160" y="489"/>
                  <a:pt x="142" y="489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84240" y="631980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distance lab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1703520" y="6426360"/>
            <a:ext cx="276120" cy="13788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2,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 rot="18303600">
            <a:off x="1827360" y="230328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1225440" y="1979640"/>
            <a:ext cx="1652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decrease ke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BF51B-42F0-480A-8AE1-893AC26BDC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9" name=""/>
          <p:cNvCxnSpPr>
            <a:stCxn id="281" idx="7"/>
            <a:endCxn id="284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1" idx="6"/>
            <a:endCxn id="285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1" idx="5"/>
            <a:endCxn id="286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85" idx="7"/>
            <a:endCxn id="282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87" idx="7"/>
            <a:endCxn id="282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85" idx="5"/>
            <a:endCxn id="288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88" idx="5"/>
            <a:endCxn id="283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88" idx="6"/>
            <a:endCxn id="287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87" idx="4"/>
            <a:endCxn id="283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82" idx="3"/>
            <a:endCxn id="288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85" idx="4"/>
            <a:endCxn id="286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86" idx="6"/>
            <a:endCxn id="288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84" idx="6"/>
            <a:endCxn id="282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86" idx="6"/>
            <a:endCxn id="283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82" idx="5"/>
            <a:endCxn id="283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100080" y="3068640"/>
            <a:ext cx="1027080" cy="914400"/>
          </a:xfrm>
          <a:custGeom>
            <a:avLst/>
            <a:gdLst/>
            <a:ahLst/>
            <a:rect l="l" t="t" r="r" b="b"/>
            <a:pathLst>
              <a:path w="647" h="576">
                <a:moveTo>
                  <a:pt x="142" y="489"/>
                </a:moveTo>
                <a:cubicBezTo>
                  <a:pt x="87" y="470"/>
                  <a:pt x="111" y="478"/>
                  <a:pt x="71" y="465"/>
                </a:cubicBezTo>
                <a:cubicBezTo>
                  <a:pt x="63" y="462"/>
                  <a:pt x="47" y="457"/>
                  <a:pt x="47" y="457"/>
                </a:cubicBezTo>
                <a:cubicBezTo>
                  <a:pt x="24" y="434"/>
                  <a:pt x="10" y="417"/>
                  <a:pt x="0" y="386"/>
                </a:cubicBezTo>
                <a:cubicBezTo>
                  <a:pt x="3" y="326"/>
                  <a:pt x="3" y="265"/>
                  <a:pt x="8" y="205"/>
                </a:cubicBezTo>
                <a:cubicBezTo>
                  <a:pt x="10" y="174"/>
                  <a:pt x="38" y="156"/>
                  <a:pt x="55" y="134"/>
                </a:cubicBezTo>
                <a:cubicBezTo>
                  <a:pt x="78" y="104"/>
                  <a:pt x="98" y="71"/>
                  <a:pt x="118" y="39"/>
                </a:cubicBezTo>
                <a:cubicBezTo>
                  <a:pt x="124" y="30"/>
                  <a:pt x="139" y="34"/>
                  <a:pt x="150" y="31"/>
                </a:cubicBezTo>
                <a:cubicBezTo>
                  <a:pt x="247" y="1"/>
                  <a:pt x="150" y="18"/>
                  <a:pt x="316" y="8"/>
                </a:cubicBezTo>
                <a:cubicBezTo>
                  <a:pt x="379" y="10"/>
                  <a:pt x="444" y="0"/>
                  <a:pt x="505" y="15"/>
                </a:cubicBezTo>
                <a:cubicBezTo>
                  <a:pt x="533" y="22"/>
                  <a:pt x="530" y="81"/>
                  <a:pt x="576" y="94"/>
                </a:cubicBezTo>
                <a:cubicBezTo>
                  <a:pt x="592" y="118"/>
                  <a:pt x="614" y="138"/>
                  <a:pt x="623" y="165"/>
                </a:cubicBezTo>
                <a:cubicBezTo>
                  <a:pt x="628" y="181"/>
                  <a:pt x="639" y="213"/>
                  <a:pt x="639" y="213"/>
                </a:cubicBezTo>
                <a:cubicBezTo>
                  <a:pt x="642" y="247"/>
                  <a:pt x="647" y="281"/>
                  <a:pt x="647" y="315"/>
                </a:cubicBezTo>
                <a:cubicBezTo>
                  <a:pt x="647" y="360"/>
                  <a:pt x="644" y="404"/>
                  <a:pt x="639" y="449"/>
                </a:cubicBezTo>
                <a:cubicBezTo>
                  <a:pt x="633" y="508"/>
                  <a:pt x="516" y="558"/>
                  <a:pt x="466" y="576"/>
                </a:cubicBezTo>
                <a:cubicBezTo>
                  <a:pt x="408" y="573"/>
                  <a:pt x="350" y="575"/>
                  <a:pt x="292" y="568"/>
                </a:cubicBezTo>
                <a:cubicBezTo>
                  <a:pt x="282" y="567"/>
                  <a:pt x="277" y="556"/>
                  <a:pt x="268" y="552"/>
                </a:cubicBezTo>
                <a:cubicBezTo>
                  <a:pt x="239" y="539"/>
                  <a:pt x="197" y="520"/>
                  <a:pt x="166" y="513"/>
                </a:cubicBezTo>
                <a:cubicBezTo>
                  <a:pt x="149" y="487"/>
                  <a:pt x="160" y="489"/>
                  <a:pt x="142" y="489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84240" y="631980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distance lab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1703520" y="6426360"/>
            <a:ext cx="276120" cy="13788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2,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 rot="2983800">
            <a:off x="2658600" y="231768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2982960" y="2192400"/>
            <a:ext cx="127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B2F1-4079-43C8-9F62-8D3DACA2BF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8" name=""/>
          <p:cNvCxnSpPr>
            <a:stCxn id="340" idx="7"/>
            <a:endCxn id="343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0" idx="6"/>
            <a:endCxn id="344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0" idx="5"/>
            <a:endCxn id="345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4" idx="7"/>
            <a:endCxn id="341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6" idx="7"/>
            <a:endCxn id="341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44" idx="5"/>
            <a:endCxn id="347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47" idx="5"/>
            <a:endCxn id="342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47" idx="6"/>
            <a:endCxn id="346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46" idx="4"/>
            <a:endCxn id="342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41" idx="3"/>
            <a:endCxn id="347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44" idx="4"/>
            <a:endCxn id="345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45" idx="6"/>
            <a:endCxn id="347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43" idx="6"/>
            <a:endCxn id="341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45" idx="6"/>
            <a:endCxn id="342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1" idx="5"/>
            <a:endCxn id="342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133200" y="2224080"/>
            <a:ext cx="3113280" cy="1859040"/>
          </a:xfrm>
          <a:custGeom>
            <a:avLst/>
            <a:gdLst/>
            <a:ahLst/>
            <a:rect l="l" t="t" r="r" b="b"/>
            <a:pathLst>
              <a:path w="1961" h="1171">
                <a:moveTo>
                  <a:pt x="3" y="824"/>
                </a:moveTo>
                <a:cubicBezTo>
                  <a:pt x="9" y="747"/>
                  <a:pt x="0" y="721"/>
                  <a:pt x="34" y="666"/>
                </a:cubicBezTo>
                <a:cubicBezTo>
                  <a:pt x="53" y="592"/>
                  <a:pt x="84" y="534"/>
                  <a:pt x="121" y="469"/>
                </a:cubicBezTo>
                <a:cubicBezTo>
                  <a:pt x="128" y="456"/>
                  <a:pt x="140" y="425"/>
                  <a:pt x="153" y="414"/>
                </a:cubicBezTo>
                <a:cubicBezTo>
                  <a:pt x="189" y="383"/>
                  <a:pt x="227" y="372"/>
                  <a:pt x="271" y="359"/>
                </a:cubicBezTo>
                <a:cubicBezTo>
                  <a:pt x="332" y="297"/>
                  <a:pt x="301" y="311"/>
                  <a:pt x="350" y="295"/>
                </a:cubicBezTo>
                <a:cubicBezTo>
                  <a:pt x="402" y="258"/>
                  <a:pt x="447" y="213"/>
                  <a:pt x="500" y="177"/>
                </a:cubicBezTo>
                <a:cubicBezTo>
                  <a:pt x="545" y="147"/>
                  <a:pt x="600" y="145"/>
                  <a:pt x="650" y="130"/>
                </a:cubicBezTo>
                <a:cubicBezTo>
                  <a:pt x="750" y="100"/>
                  <a:pt x="845" y="83"/>
                  <a:pt x="950" y="75"/>
                </a:cubicBezTo>
                <a:cubicBezTo>
                  <a:pt x="1011" y="65"/>
                  <a:pt x="1070" y="52"/>
                  <a:pt x="1131" y="43"/>
                </a:cubicBezTo>
                <a:cubicBezTo>
                  <a:pt x="1260" y="0"/>
                  <a:pt x="1469" y="39"/>
                  <a:pt x="1565" y="43"/>
                </a:cubicBezTo>
                <a:cubicBezTo>
                  <a:pt x="1628" y="56"/>
                  <a:pt x="1691" y="68"/>
                  <a:pt x="1754" y="82"/>
                </a:cubicBezTo>
                <a:cubicBezTo>
                  <a:pt x="1765" y="87"/>
                  <a:pt x="1775" y="94"/>
                  <a:pt x="1786" y="98"/>
                </a:cubicBezTo>
                <a:cubicBezTo>
                  <a:pt x="1801" y="104"/>
                  <a:pt x="1833" y="114"/>
                  <a:pt x="1833" y="114"/>
                </a:cubicBezTo>
                <a:cubicBezTo>
                  <a:pt x="1862" y="157"/>
                  <a:pt x="1890" y="197"/>
                  <a:pt x="1920" y="240"/>
                </a:cubicBezTo>
                <a:cubicBezTo>
                  <a:pt x="1916" y="374"/>
                  <a:pt x="1961" y="523"/>
                  <a:pt x="1841" y="603"/>
                </a:cubicBezTo>
                <a:cubicBezTo>
                  <a:pt x="1814" y="640"/>
                  <a:pt x="1785" y="672"/>
                  <a:pt x="1747" y="698"/>
                </a:cubicBezTo>
                <a:cubicBezTo>
                  <a:pt x="1717" y="742"/>
                  <a:pt x="1663" y="759"/>
                  <a:pt x="1612" y="769"/>
                </a:cubicBezTo>
                <a:cubicBezTo>
                  <a:pt x="1561" y="790"/>
                  <a:pt x="1509" y="789"/>
                  <a:pt x="1455" y="800"/>
                </a:cubicBezTo>
                <a:cubicBezTo>
                  <a:pt x="1310" y="831"/>
                  <a:pt x="1188" y="835"/>
                  <a:pt x="1036" y="840"/>
                </a:cubicBezTo>
                <a:cubicBezTo>
                  <a:pt x="982" y="847"/>
                  <a:pt x="931" y="855"/>
                  <a:pt x="879" y="871"/>
                </a:cubicBezTo>
                <a:cubicBezTo>
                  <a:pt x="809" y="923"/>
                  <a:pt x="740" y="980"/>
                  <a:pt x="673" y="1037"/>
                </a:cubicBezTo>
                <a:cubicBezTo>
                  <a:pt x="646" y="1060"/>
                  <a:pt x="582" y="1123"/>
                  <a:pt x="547" y="1132"/>
                </a:cubicBezTo>
                <a:cubicBezTo>
                  <a:pt x="453" y="1156"/>
                  <a:pt x="370" y="1165"/>
                  <a:pt x="271" y="1171"/>
                </a:cubicBezTo>
                <a:cubicBezTo>
                  <a:pt x="207" y="1165"/>
                  <a:pt x="172" y="1158"/>
                  <a:pt x="121" y="1124"/>
                </a:cubicBezTo>
                <a:cubicBezTo>
                  <a:pt x="103" y="1072"/>
                  <a:pt x="74" y="1030"/>
                  <a:pt x="50" y="982"/>
                </a:cubicBezTo>
                <a:cubicBezTo>
                  <a:pt x="41" y="964"/>
                  <a:pt x="38" y="937"/>
                  <a:pt x="34" y="919"/>
                </a:cubicBezTo>
                <a:cubicBezTo>
                  <a:pt x="26" y="887"/>
                  <a:pt x="13" y="855"/>
                  <a:pt x="3" y="824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380D5-F282-4B69-B164-DE3013E599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3" name=""/>
          <p:cNvCxnSpPr>
            <a:stCxn id="395" idx="7"/>
            <a:endCxn id="398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5" idx="6"/>
            <a:endCxn id="399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5"/>
            <a:endCxn id="400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9" idx="7"/>
            <a:endCxn id="396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401" idx="7"/>
            <a:endCxn id="396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9" idx="5"/>
            <a:endCxn id="402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402" idx="5"/>
            <a:endCxn id="397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"/>
          <p:cNvCxnSpPr>
            <a:stCxn id="402" idx="6"/>
            <a:endCxn id="401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401" idx="4"/>
            <a:endCxn id="397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96" idx="3"/>
            <a:endCxn id="402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99" idx="4"/>
            <a:endCxn id="400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400" idx="6"/>
            <a:endCxn id="402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8" idx="6"/>
            <a:endCxn id="396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400" idx="6"/>
            <a:endCxn id="397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96" idx="5"/>
            <a:endCxn id="397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"/>
          <p:cNvSpPr/>
          <p:nvPr/>
        </p:nvSpPr>
        <p:spPr>
          <a:xfrm rot="18303600">
            <a:off x="7707240" y="217620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7105680" y="1852560"/>
            <a:ext cx="165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decrease ke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133200" y="2224080"/>
            <a:ext cx="3113280" cy="1859040"/>
          </a:xfrm>
          <a:custGeom>
            <a:avLst/>
            <a:gdLst/>
            <a:ahLst/>
            <a:rect l="l" t="t" r="r" b="b"/>
            <a:pathLst>
              <a:path w="1961" h="1171">
                <a:moveTo>
                  <a:pt x="3" y="824"/>
                </a:moveTo>
                <a:cubicBezTo>
                  <a:pt x="9" y="747"/>
                  <a:pt x="0" y="721"/>
                  <a:pt x="34" y="666"/>
                </a:cubicBezTo>
                <a:cubicBezTo>
                  <a:pt x="53" y="592"/>
                  <a:pt x="84" y="534"/>
                  <a:pt x="121" y="469"/>
                </a:cubicBezTo>
                <a:cubicBezTo>
                  <a:pt x="128" y="456"/>
                  <a:pt x="140" y="425"/>
                  <a:pt x="153" y="414"/>
                </a:cubicBezTo>
                <a:cubicBezTo>
                  <a:pt x="189" y="383"/>
                  <a:pt x="227" y="372"/>
                  <a:pt x="271" y="359"/>
                </a:cubicBezTo>
                <a:cubicBezTo>
                  <a:pt x="332" y="297"/>
                  <a:pt x="301" y="311"/>
                  <a:pt x="350" y="295"/>
                </a:cubicBezTo>
                <a:cubicBezTo>
                  <a:pt x="402" y="258"/>
                  <a:pt x="447" y="213"/>
                  <a:pt x="500" y="177"/>
                </a:cubicBezTo>
                <a:cubicBezTo>
                  <a:pt x="545" y="147"/>
                  <a:pt x="600" y="145"/>
                  <a:pt x="650" y="130"/>
                </a:cubicBezTo>
                <a:cubicBezTo>
                  <a:pt x="750" y="100"/>
                  <a:pt x="845" y="83"/>
                  <a:pt x="950" y="75"/>
                </a:cubicBezTo>
                <a:cubicBezTo>
                  <a:pt x="1011" y="65"/>
                  <a:pt x="1070" y="52"/>
                  <a:pt x="1131" y="43"/>
                </a:cubicBezTo>
                <a:cubicBezTo>
                  <a:pt x="1260" y="0"/>
                  <a:pt x="1469" y="39"/>
                  <a:pt x="1565" y="43"/>
                </a:cubicBezTo>
                <a:cubicBezTo>
                  <a:pt x="1628" y="56"/>
                  <a:pt x="1691" y="68"/>
                  <a:pt x="1754" y="82"/>
                </a:cubicBezTo>
                <a:cubicBezTo>
                  <a:pt x="1765" y="87"/>
                  <a:pt x="1775" y="94"/>
                  <a:pt x="1786" y="98"/>
                </a:cubicBezTo>
                <a:cubicBezTo>
                  <a:pt x="1801" y="104"/>
                  <a:pt x="1833" y="114"/>
                  <a:pt x="1833" y="114"/>
                </a:cubicBezTo>
                <a:cubicBezTo>
                  <a:pt x="1862" y="157"/>
                  <a:pt x="1890" y="197"/>
                  <a:pt x="1920" y="240"/>
                </a:cubicBezTo>
                <a:cubicBezTo>
                  <a:pt x="1916" y="374"/>
                  <a:pt x="1961" y="523"/>
                  <a:pt x="1841" y="603"/>
                </a:cubicBezTo>
                <a:cubicBezTo>
                  <a:pt x="1814" y="640"/>
                  <a:pt x="1785" y="672"/>
                  <a:pt x="1747" y="698"/>
                </a:cubicBezTo>
                <a:cubicBezTo>
                  <a:pt x="1717" y="742"/>
                  <a:pt x="1663" y="759"/>
                  <a:pt x="1612" y="769"/>
                </a:cubicBezTo>
                <a:cubicBezTo>
                  <a:pt x="1561" y="790"/>
                  <a:pt x="1509" y="789"/>
                  <a:pt x="1455" y="800"/>
                </a:cubicBezTo>
                <a:cubicBezTo>
                  <a:pt x="1310" y="831"/>
                  <a:pt x="1188" y="835"/>
                  <a:pt x="1036" y="840"/>
                </a:cubicBezTo>
                <a:cubicBezTo>
                  <a:pt x="982" y="847"/>
                  <a:pt x="931" y="855"/>
                  <a:pt x="879" y="871"/>
                </a:cubicBezTo>
                <a:cubicBezTo>
                  <a:pt x="809" y="923"/>
                  <a:pt x="740" y="980"/>
                  <a:pt x="673" y="1037"/>
                </a:cubicBezTo>
                <a:cubicBezTo>
                  <a:pt x="646" y="1060"/>
                  <a:pt x="582" y="1123"/>
                  <a:pt x="547" y="1132"/>
                </a:cubicBezTo>
                <a:cubicBezTo>
                  <a:pt x="453" y="1156"/>
                  <a:pt x="370" y="1165"/>
                  <a:pt x="271" y="1171"/>
                </a:cubicBezTo>
                <a:cubicBezTo>
                  <a:pt x="207" y="1165"/>
                  <a:pt x="172" y="1158"/>
                  <a:pt x="121" y="1124"/>
                </a:cubicBezTo>
                <a:cubicBezTo>
                  <a:pt x="103" y="1072"/>
                  <a:pt x="74" y="1030"/>
                  <a:pt x="50" y="982"/>
                </a:cubicBezTo>
                <a:cubicBezTo>
                  <a:pt x="41" y="964"/>
                  <a:pt x="38" y="937"/>
                  <a:pt x="34" y="919"/>
                </a:cubicBezTo>
                <a:cubicBezTo>
                  <a:pt x="26" y="887"/>
                  <a:pt x="13" y="855"/>
                  <a:pt x="3" y="824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7C95-3E29-47F5-B3AE-9F45339B34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2" name=""/>
          <p:cNvCxnSpPr>
            <a:stCxn id="454" idx="7"/>
            <a:endCxn id="457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4" idx="6"/>
            <a:endCxn id="458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4" idx="5"/>
            <a:endCxn id="459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465" name=""/>
          <p:cNvCxnSpPr>
            <a:stCxn id="458" idx="7"/>
            <a:endCxn id="455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6" name=""/>
          <p:cNvCxnSpPr>
            <a:stCxn id="460" idx="7"/>
            <a:endCxn id="455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58" idx="5"/>
            <a:endCxn id="461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8" name=""/>
          <p:cNvCxnSpPr>
            <a:stCxn id="461" idx="5"/>
            <a:endCxn id="456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1" idx="6"/>
            <a:endCxn id="460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0" idx="4"/>
            <a:endCxn id="456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>
            <a:stCxn id="455" idx="3"/>
            <a:endCxn id="461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2" name=""/>
          <p:cNvCxnSpPr>
            <a:stCxn id="458" idx="4"/>
            <a:endCxn id="459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59" idx="6"/>
            <a:endCxn id="461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4" name=""/>
          <p:cNvCxnSpPr>
            <a:stCxn id="457" idx="6"/>
            <a:endCxn id="455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stCxn id="459" idx="6"/>
            <a:endCxn id="456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55" idx="5"/>
            <a:endCxn id="456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/>
          <p:nvPr/>
        </p:nvSpPr>
        <p:spPr>
          <a:xfrm>
            <a:off x="133200" y="2224080"/>
            <a:ext cx="3113280" cy="1859040"/>
          </a:xfrm>
          <a:custGeom>
            <a:avLst/>
            <a:gdLst/>
            <a:ahLst/>
            <a:rect l="l" t="t" r="r" b="b"/>
            <a:pathLst>
              <a:path w="1961" h="1171">
                <a:moveTo>
                  <a:pt x="3" y="824"/>
                </a:moveTo>
                <a:cubicBezTo>
                  <a:pt x="9" y="747"/>
                  <a:pt x="0" y="721"/>
                  <a:pt x="34" y="666"/>
                </a:cubicBezTo>
                <a:cubicBezTo>
                  <a:pt x="53" y="592"/>
                  <a:pt x="84" y="534"/>
                  <a:pt x="121" y="469"/>
                </a:cubicBezTo>
                <a:cubicBezTo>
                  <a:pt x="128" y="456"/>
                  <a:pt x="140" y="425"/>
                  <a:pt x="153" y="414"/>
                </a:cubicBezTo>
                <a:cubicBezTo>
                  <a:pt x="189" y="383"/>
                  <a:pt x="227" y="372"/>
                  <a:pt x="271" y="359"/>
                </a:cubicBezTo>
                <a:cubicBezTo>
                  <a:pt x="332" y="297"/>
                  <a:pt x="301" y="311"/>
                  <a:pt x="350" y="295"/>
                </a:cubicBezTo>
                <a:cubicBezTo>
                  <a:pt x="402" y="258"/>
                  <a:pt x="447" y="213"/>
                  <a:pt x="500" y="177"/>
                </a:cubicBezTo>
                <a:cubicBezTo>
                  <a:pt x="545" y="147"/>
                  <a:pt x="600" y="145"/>
                  <a:pt x="650" y="130"/>
                </a:cubicBezTo>
                <a:cubicBezTo>
                  <a:pt x="750" y="100"/>
                  <a:pt x="845" y="83"/>
                  <a:pt x="950" y="75"/>
                </a:cubicBezTo>
                <a:cubicBezTo>
                  <a:pt x="1011" y="65"/>
                  <a:pt x="1070" y="52"/>
                  <a:pt x="1131" y="43"/>
                </a:cubicBezTo>
                <a:cubicBezTo>
                  <a:pt x="1260" y="0"/>
                  <a:pt x="1469" y="39"/>
                  <a:pt x="1565" y="43"/>
                </a:cubicBezTo>
                <a:cubicBezTo>
                  <a:pt x="1628" y="56"/>
                  <a:pt x="1691" y="68"/>
                  <a:pt x="1754" y="82"/>
                </a:cubicBezTo>
                <a:cubicBezTo>
                  <a:pt x="1765" y="87"/>
                  <a:pt x="1775" y="94"/>
                  <a:pt x="1786" y="98"/>
                </a:cubicBezTo>
                <a:cubicBezTo>
                  <a:pt x="1801" y="104"/>
                  <a:pt x="1833" y="114"/>
                  <a:pt x="1833" y="114"/>
                </a:cubicBezTo>
                <a:cubicBezTo>
                  <a:pt x="1862" y="157"/>
                  <a:pt x="1890" y="197"/>
                  <a:pt x="1920" y="240"/>
                </a:cubicBezTo>
                <a:cubicBezTo>
                  <a:pt x="1916" y="374"/>
                  <a:pt x="1961" y="523"/>
                  <a:pt x="1841" y="603"/>
                </a:cubicBezTo>
                <a:cubicBezTo>
                  <a:pt x="1814" y="640"/>
                  <a:pt x="1785" y="672"/>
                  <a:pt x="1747" y="698"/>
                </a:cubicBezTo>
                <a:cubicBezTo>
                  <a:pt x="1717" y="742"/>
                  <a:pt x="1663" y="759"/>
                  <a:pt x="1612" y="769"/>
                </a:cubicBezTo>
                <a:cubicBezTo>
                  <a:pt x="1561" y="790"/>
                  <a:pt x="1509" y="789"/>
                  <a:pt x="1455" y="800"/>
                </a:cubicBezTo>
                <a:cubicBezTo>
                  <a:pt x="1310" y="831"/>
                  <a:pt x="1188" y="835"/>
                  <a:pt x="1036" y="840"/>
                </a:cubicBezTo>
                <a:cubicBezTo>
                  <a:pt x="982" y="847"/>
                  <a:pt x="931" y="855"/>
                  <a:pt x="879" y="871"/>
                </a:cubicBezTo>
                <a:cubicBezTo>
                  <a:pt x="809" y="923"/>
                  <a:pt x="740" y="980"/>
                  <a:pt x="673" y="1037"/>
                </a:cubicBezTo>
                <a:cubicBezTo>
                  <a:pt x="646" y="1060"/>
                  <a:pt x="582" y="1123"/>
                  <a:pt x="547" y="1132"/>
                </a:cubicBezTo>
                <a:cubicBezTo>
                  <a:pt x="453" y="1156"/>
                  <a:pt x="370" y="1165"/>
                  <a:pt x="271" y="1171"/>
                </a:cubicBezTo>
                <a:cubicBezTo>
                  <a:pt x="207" y="1165"/>
                  <a:pt x="172" y="1158"/>
                  <a:pt x="121" y="1124"/>
                </a:cubicBezTo>
                <a:cubicBezTo>
                  <a:pt x="103" y="1072"/>
                  <a:pt x="74" y="1030"/>
                  <a:pt x="50" y="982"/>
                </a:cubicBezTo>
                <a:cubicBezTo>
                  <a:pt x="41" y="964"/>
                  <a:pt x="38" y="937"/>
                  <a:pt x="34" y="919"/>
                </a:cubicBezTo>
                <a:cubicBezTo>
                  <a:pt x="26" y="887"/>
                  <a:pt x="13" y="855"/>
                  <a:pt x="3" y="824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"/>
          <p:cNvSpPr/>
          <p:nvPr/>
        </p:nvSpPr>
        <p:spPr>
          <a:xfrm rot="2983800">
            <a:off x="3509640" y="349884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/>
          <p:cNvSpPr/>
          <p:nvPr/>
        </p:nvSpPr>
        <p:spPr>
          <a:xfrm>
            <a:off x="3465360" y="3195720"/>
            <a:ext cx="127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07A7-18D3-4B15-970E-CA53861141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1" name=""/>
          <p:cNvCxnSpPr>
            <a:stCxn id="513" idx="7"/>
            <a:endCxn id="516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13" idx="6"/>
            <a:endCxn id="517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13" idx="5"/>
            <a:endCxn id="518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7" idx="7"/>
            <a:endCxn id="514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9" idx="7"/>
            <a:endCxn id="514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7" idx="5"/>
            <a:endCxn id="520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527" name=""/>
          <p:cNvCxnSpPr>
            <a:stCxn id="520" idx="5"/>
            <a:endCxn id="515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"/>
          <p:cNvCxnSpPr>
            <a:stCxn id="520" idx="6"/>
            <a:endCxn id="519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9" name=""/>
          <p:cNvCxnSpPr>
            <a:stCxn id="519" idx="4"/>
            <a:endCxn id="515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"/>
          <p:cNvCxnSpPr>
            <a:stCxn id="514" idx="3"/>
            <a:endCxn id="520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1" name=""/>
          <p:cNvCxnSpPr>
            <a:stCxn id="517" idx="4"/>
            <a:endCxn id="518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>
            <a:stCxn id="518" idx="6"/>
            <a:endCxn id="520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3" name=""/>
          <p:cNvCxnSpPr>
            <a:stCxn id="516" idx="6"/>
            <a:endCxn id="514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534" name=""/>
          <p:cNvCxnSpPr>
            <a:stCxn id="518" idx="6"/>
            <a:endCxn id="515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14" idx="5"/>
            <a:endCxn id="515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6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6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3, 4, 5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"/>
          <p:cNvSpPr/>
          <p:nvPr/>
        </p:nvSpPr>
        <p:spPr>
          <a:xfrm>
            <a:off x="165240" y="2273400"/>
            <a:ext cx="3670200" cy="2419200"/>
          </a:xfrm>
          <a:custGeom>
            <a:avLst/>
            <a:gdLst/>
            <a:ahLst/>
            <a:rect l="l" t="t" r="r" b="b"/>
            <a:pathLst>
              <a:path w="2312" h="1524">
                <a:moveTo>
                  <a:pt x="0" y="704"/>
                </a:moveTo>
                <a:cubicBezTo>
                  <a:pt x="21" y="641"/>
                  <a:pt x="35" y="583"/>
                  <a:pt x="72" y="528"/>
                </a:cubicBezTo>
                <a:cubicBezTo>
                  <a:pt x="94" y="495"/>
                  <a:pt x="136" y="477"/>
                  <a:pt x="168" y="456"/>
                </a:cubicBezTo>
                <a:cubicBezTo>
                  <a:pt x="205" y="431"/>
                  <a:pt x="184" y="445"/>
                  <a:pt x="232" y="416"/>
                </a:cubicBezTo>
                <a:cubicBezTo>
                  <a:pt x="264" y="397"/>
                  <a:pt x="328" y="400"/>
                  <a:pt x="360" y="384"/>
                </a:cubicBezTo>
                <a:cubicBezTo>
                  <a:pt x="404" y="362"/>
                  <a:pt x="449" y="356"/>
                  <a:pt x="496" y="344"/>
                </a:cubicBezTo>
                <a:cubicBezTo>
                  <a:pt x="533" y="335"/>
                  <a:pt x="570" y="319"/>
                  <a:pt x="608" y="312"/>
                </a:cubicBezTo>
                <a:cubicBezTo>
                  <a:pt x="658" y="303"/>
                  <a:pt x="709" y="295"/>
                  <a:pt x="760" y="288"/>
                </a:cubicBezTo>
                <a:cubicBezTo>
                  <a:pt x="797" y="283"/>
                  <a:pt x="884" y="278"/>
                  <a:pt x="928" y="256"/>
                </a:cubicBezTo>
                <a:cubicBezTo>
                  <a:pt x="974" y="233"/>
                  <a:pt x="1012" y="182"/>
                  <a:pt x="1056" y="152"/>
                </a:cubicBezTo>
                <a:cubicBezTo>
                  <a:pt x="1140" y="96"/>
                  <a:pt x="1233" y="64"/>
                  <a:pt x="1328" y="32"/>
                </a:cubicBezTo>
                <a:cubicBezTo>
                  <a:pt x="1359" y="22"/>
                  <a:pt x="1384" y="8"/>
                  <a:pt x="1416" y="0"/>
                </a:cubicBezTo>
                <a:cubicBezTo>
                  <a:pt x="1493" y="5"/>
                  <a:pt x="1571" y="10"/>
                  <a:pt x="1648" y="16"/>
                </a:cubicBezTo>
                <a:cubicBezTo>
                  <a:pt x="1667" y="18"/>
                  <a:pt x="1686" y="17"/>
                  <a:pt x="1704" y="24"/>
                </a:cubicBezTo>
                <a:cubicBezTo>
                  <a:pt x="1722" y="31"/>
                  <a:pt x="1736" y="45"/>
                  <a:pt x="1752" y="56"/>
                </a:cubicBezTo>
                <a:cubicBezTo>
                  <a:pt x="1775" y="71"/>
                  <a:pt x="1815" y="75"/>
                  <a:pt x="1840" y="88"/>
                </a:cubicBezTo>
                <a:cubicBezTo>
                  <a:pt x="1887" y="111"/>
                  <a:pt x="1934" y="135"/>
                  <a:pt x="1984" y="152"/>
                </a:cubicBezTo>
                <a:cubicBezTo>
                  <a:pt x="2019" y="187"/>
                  <a:pt x="2044" y="225"/>
                  <a:pt x="2072" y="264"/>
                </a:cubicBezTo>
                <a:cubicBezTo>
                  <a:pt x="2096" y="297"/>
                  <a:pt x="2143" y="322"/>
                  <a:pt x="2176" y="344"/>
                </a:cubicBezTo>
                <a:cubicBezTo>
                  <a:pt x="2205" y="403"/>
                  <a:pt x="2250" y="453"/>
                  <a:pt x="2280" y="512"/>
                </a:cubicBezTo>
                <a:cubicBezTo>
                  <a:pt x="2308" y="568"/>
                  <a:pt x="2305" y="644"/>
                  <a:pt x="2312" y="704"/>
                </a:cubicBezTo>
                <a:cubicBezTo>
                  <a:pt x="2309" y="827"/>
                  <a:pt x="2309" y="949"/>
                  <a:pt x="2304" y="1072"/>
                </a:cubicBezTo>
                <a:cubicBezTo>
                  <a:pt x="2303" y="1098"/>
                  <a:pt x="2293" y="1145"/>
                  <a:pt x="2280" y="1168"/>
                </a:cubicBezTo>
                <a:cubicBezTo>
                  <a:pt x="2248" y="1225"/>
                  <a:pt x="2205" y="1261"/>
                  <a:pt x="2152" y="1296"/>
                </a:cubicBezTo>
                <a:cubicBezTo>
                  <a:pt x="2136" y="1307"/>
                  <a:pt x="2120" y="1317"/>
                  <a:pt x="2104" y="1328"/>
                </a:cubicBezTo>
                <a:cubicBezTo>
                  <a:pt x="2096" y="1333"/>
                  <a:pt x="2080" y="1344"/>
                  <a:pt x="2080" y="1344"/>
                </a:cubicBezTo>
                <a:cubicBezTo>
                  <a:pt x="2040" y="1405"/>
                  <a:pt x="2021" y="1431"/>
                  <a:pt x="1960" y="1472"/>
                </a:cubicBezTo>
                <a:cubicBezTo>
                  <a:pt x="1943" y="1483"/>
                  <a:pt x="1923" y="1490"/>
                  <a:pt x="1904" y="1496"/>
                </a:cubicBezTo>
                <a:cubicBezTo>
                  <a:pt x="1883" y="1503"/>
                  <a:pt x="1840" y="1512"/>
                  <a:pt x="1840" y="1512"/>
                </a:cubicBezTo>
                <a:cubicBezTo>
                  <a:pt x="1717" y="1508"/>
                  <a:pt x="1591" y="1524"/>
                  <a:pt x="1472" y="1496"/>
                </a:cubicBezTo>
                <a:cubicBezTo>
                  <a:pt x="1453" y="1492"/>
                  <a:pt x="1443" y="1469"/>
                  <a:pt x="1424" y="1464"/>
                </a:cubicBezTo>
                <a:cubicBezTo>
                  <a:pt x="1343" y="1444"/>
                  <a:pt x="1259" y="1436"/>
                  <a:pt x="1176" y="1424"/>
                </a:cubicBezTo>
                <a:cubicBezTo>
                  <a:pt x="1137" y="1398"/>
                  <a:pt x="1120" y="1355"/>
                  <a:pt x="1080" y="1328"/>
                </a:cubicBezTo>
                <a:cubicBezTo>
                  <a:pt x="1016" y="1285"/>
                  <a:pt x="939" y="1273"/>
                  <a:pt x="864" y="1264"/>
                </a:cubicBezTo>
                <a:cubicBezTo>
                  <a:pt x="779" y="1236"/>
                  <a:pt x="697" y="1226"/>
                  <a:pt x="608" y="1216"/>
                </a:cubicBezTo>
                <a:cubicBezTo>
                  <a:pt x="551" y="1209"/>
                  <a:pt x="496" y="1189"/>
                  <a:pt x="440" y="1176"/>
                </a:cubicBezTo>
                <a:cubicBezTo>
                  <a:pt x="392" y="1165"/>
                  <a:pt x="342" y="1159"/>
                  <a:pt x="296" y="1144"/>
                </a:cubicBezTo>
                <a:cubicBezTo>
                  <a:pt x="277" y="1116"/>
                  <a:pt x="264" y="1099"/>
                  <a:pt x="232" y="1088"/>
                </a:cubicBezTo>
                <a:cubicBezTo>
                  <a:pt x="194" y="1050"/>
                  <a:pt x="217" y="1070"/>
                  <a:pt x="160" y="1032"/>
                </a:cubicBezTo>
                <a:cubicBezTo>
                  <a:pt x="118" y="1004"/>
                  <a:pt x="110" y="967"/>
                  <a:pt x="64" y="952"/>
                </a:cubicBezTo>
                <a:cubicBezTo>
                  <a:pt x="17" y="881"/>
                  <a:pt x="20" y="785"/>
                  <a:pt x="0" y="704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FC21-32AA-4C44-9148-BDD10BC4D0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4-04-06T17:24:50Z</dcterms:modified>
  <cp:revision>819</cp:revision>
  <dc:subject/>
  <dc:title>Trees</dc:title>
</cp:coreProperties>
</file>