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3FD6-74BF-4559-BFF8-B6D9516F8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8F16-A7EC-492E-981F-AA4899A1D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0154-179F-4079-839C-76B008BA6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4CC9-6B44-43DE-B784-C2230913E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0122-500D-46C9-BA73-C7DA0DD0A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08EB-FE91-45F8-AE60-ACE8F5523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BE9AD-AEDB-49F1-A048-3BE78E611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146D-485F-4E22-A348-87C470AC5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5633-8BCC-4483-8079-710FC7C31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1A3E-39FA-419C-871A-D81D5B46E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C6FF-0878-4E5C-8E05-E85A26E44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0321-0059-46A6-AEB4-3EEF89E7F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345960" indent="-231480">
              <a:spcBef>
                <a:spcPts val="451"/>
              </a:spcBef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627120" indent="-166680">
              <a:spcBef>
                <a:spcPts val="451"/>
              </a:spcBef>
              <a:buClr>
                <a:srgbClr val="0066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147680" indent="-404640">
              <a:spcBef>
                <a:spcPts val="451"/>
              </a:spcBef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1539720" indent="-16956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5" marL="1539720" indent="-169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  <a:p>
            <a:pPr lvl="6" marL="1539720" indent="-169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E15E-D65D-4DFC-9A8F-C84276CB876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660066"/>
              </a:solidFill>
              <a:latin typeface="Arial Narrow"/>
            </a:endParaRPr>
          </a:p>
        </p:txBody>
      </p:sp>
      <p:pic>
        <p:nvPicPr>
          <p:cNvPr id="41" name="datinfo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341440" cy="419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9" name=""/>
          <p:cNvSpPr/>
          <p:nvPr/>
        </p:nvSpPr>
        <p:spPr>
          <a:xfrm>
            <a:off x="6210360" y="2991600"/>
            <a:ext cx="192384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jacency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:  F C B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:  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:  F 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:  G F 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:  A E 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:  E A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:  I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:  H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0" idx="0"/>
            <a:endCxn id="81" idx="4"/>
          </p:cNvCxnSpPr>
          <p:nvPr/>
        </p:nvCxnSpPr>
        <p:spPr>
          <a:xfrm flipV="1">
            <a:off x="2438640" y="1373040"/>
            <a:ext cx="360" cy="2818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81" idx="5"/>
            <a:endCxn id="84" idx="1"/>
          </p:cNvCxnSpPr>
          <p:nvPr/>
        </p:nvCxnSpPr>
        <p:spPr>
          <a:xfrm>
            <a:off x="2546280" y="1328400"/>
            <a:ext cx="1765800" cy="113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1" idx="6"/>
            <a:endCxn id="86" idx="1"/>
          </p:cNvCxnSpPr>
          <p:nvPr/>
        </p:nvCxnSpPr>
        <p:spPr>
          <a:xfrm>
            <a:off x="2590920" y="1219680"/>
            <a:ext cx="2788200" cy="1241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81" idx="4"/>
            <a:endCxn id="82" idx="1"/>
          </p:cNvCxnSpPr>
          <p:nvPr/>
        </p:nvCxnSpPr>
        <p:spPr>
          <a:xfrm>
            <a:off x="2438640" y="1373040"/>
            <a:ext cx="578160" cy="1088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89" idx="2"/>
            <a:endCxn id="88" idx="6"/>
          </p:cNvCxnSpPr>
          <p:nvPr/>
        </p:nvCxnSpPr>
        <p:spPr>
          <a:xfrm flipH="1">
            <a:off x="3276720" y="3429000"/>
            <a:ext cx="99072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89" idx="3"/>
            <a:endCxn id="80" idx="6"/>
          </p:cNvCxnSpPr>
          <p:nvPr/>
        </p:nvCxnSpPr>
        <p:spPr>
          <a:xfrm flipH="1">
            <a:off x="2590920" y="3536640"/>
            <a:ext cx="1721160" cy="8071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80" idx="7"/>
            <a:endCxn id="88" idx="3"/>
          </p:cNvCxnSpPr>
          <p:nvPr/>
        </p:nvCxnSpPr>
        <p:spPr>
          <a:xfrm flipV="1">
            <a:off x="2546280" y="3536640"/>
            <a:ext cx="470520" cy="699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89" idx="7"/>
            <a:endCxn id="86" idx="3"/>
          </p:cNvCxnSpPr>
          <p:nvPr/>
        </p:nvCxnSpPr>
        <p:spPr>
          <a:xfrm flipV="1">
            <a:off x="4527360" y="2676240"/>
            <a:ext cx="851760" cy="645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5" idx="6"/>
            <a:endCxn id="96" idx="2"/>
          </p:cNvCxnSpPr>
          <p:nvPr/>
        </p:nvCxnSpPr>
        <p:spPr>
          <a:xfrm>
            <a:off x="5611680" y="1352520"/>
            <a:ext cx="5292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35B9-69BB-4CD4-AF0A-1F2B6539F6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"/>
          <p:cNvCxnSpPr>
            <a:stCxn id="357" idx="0"/>
            <a:endCxn id="358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1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58" idx="5"/>
            <a:endCxn id="361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8" idx="6"/>
            <a:endCxn id="363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"/>
          <p:cNvCxnSpPr>
            <a:stCxn id="358" idx="4"/>
            <a:endCxn id="359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66" idx="2"/>
            <a:endCxn id="36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6" idx="3"/>
            <a:endCxn id="357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57" idx="7"/>
            <a:endCxn id="365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6" idx="7"/>
            <a:endCxn id="363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2" idx="6"/>
            <a:endCxn id="377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"/>
          <p:cNvCxnSpPr>
            <a:stCxn id="366" idx="2"/>
            <a:endCxn id="36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386" name=""/>
          <p:cNvGrpSpPr/>
          <p:nvPr/>
        </p:nvGrpSpPr>
        <p:grpSpPr>
          <a:xfrm>
            <a:off x="914400" y="3124080"/>
            <a:ext cx="2362320" cy="609840"/>
            <a:chOff x="914400" y="3124080"/>
            <a:chExt cx="2362320" cy="609840"/>
          </a:xfrm>
        </p:grpSpPr>
        <p:sp>
          <p:nvSpPr>
            <p:cNvPr id="387" name=""/>
            <p:cNvSpPr/>
            <p:nvPr/>
          </p:nvSpPr>
          <p:spPr>
            <a:xfrm>
              <a:off x="914400" y="3124080"/>
              <a:ext cx="1676520" cy="6098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7180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6D27-CD80-4325-B76F-C86E717FE1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>
            <a:stCxn id="391" idx="0"/>
            <a:endCxn id="39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"/>
          <p:cNvCxnSpPr>
            <a:stCxn id="392" idx="5"/>
            <a:endCxn id="39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>
            <a:stCxn id="392" idx="6"/>
            <a:endCxn id="39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"/>
          <p:cNvCxnSpPr>
            <a:stCxn id="392" idx="4"/>
            <a:endCxn id="39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2" name=""/>
          <p:cNvCxnSpPr>
            <a:stCxn id="400" idx="2"/>
            <a:endCxn id="39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3" name=""/>
          <p:cNvCxnSpPr>
            <a:stCxn id="400" idx="3"/>
            <a:endCxn id="39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4" name=""/>
          <p:cNvCxnSpPr>
            <a:stCxn id="391" idx="7"/>
            <a:endCxn id="39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5" name=""/>
          <p:cNvCxnSpPr>
            <a:stCxn id="400" idx="7"/>
            <a:endCxn id="39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0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"/>
          <p:cNvCxnSpPr>
            <a:stCxn id="406" idx="6"/>
            <a:endCxn id="41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1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"/>
          <p:cNvCxnSpPr>
            <a:stCxn id="391" idx="7"/>
            <a:endCxn id="39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420" name=""/>
          <p:cNvSpPr/>
          <p:nvPr/>
        </p:nvSpPr>
        <p:spPr>
          <a:xfrm>
            <a:off x="5410080" y="225900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D, F) (D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363060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E369-EA4D-4338-934D-2049927DAB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"/>
          <p:cNvCxnSpPr>
            <a:stCxn id="425" idx="0"/>
            <a:endCxn id="426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"/>
          <p:cNvCxnSpPr>
            <a:stCxn id="426" idx="5"/>
            <a:endCxn id="429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>
            <a:stCxn id="426" idx="6"/>
            <a:endCxn id="431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"/>
          <p:cNvCxnSpPr>
            <a:stCxn id="426" idx="4"/>
            <a:endCxn id="427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6" name=""/>
          <p:cNvCxnSpPr>
            <a:stCxn id="434" idx="2"/>
            <a:endCxn id="43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7" name=""/>
          <p:cNvCxnSpPr>
            <a:stCxn id="434" idx="3"/>
            <a:endCxn id="42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8" name=""/>
          <p:cNvCxnSpPr>
            <a:stCxn id="425" idx="7"/>
            <a:endCxn id="433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9" name=""/>
          <p:cNvCxnSpPr>
            <a:stCxn id="434" idx="7"/>
            <a:endCxn id="431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"/>
          <p:cNvCxnSpPr>
            <a:stCxn id="440" idx="6"/>
            <a:endCxn id="445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34" idx="2"/>
            <a:endCxn id="43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5410080" y="225900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D, F) (D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162920" y="363060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7B2E-12D8-4219-BE2F-C7A92A746E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"/>
          <p:cNvCxnSpPr>
            <a:stCxn id="459" idx="0"/>
            <a:endCxn id="460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"/>
          <p:cNvCxnSpPr>
            <a:stCxn id="460" idx="5"/>
            <a:endCxn id="463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5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6" name=""/>
          <p:cNvCxnSpPr>
            <a:stCxn id="460" idx="6"/>
            <a:endCxn id="465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60" idx="4"/>
            <a:endCxn id="461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8" idx="2"/>
            <a:endCxn id="467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68" idx="3"/>
            <a:endCxn id="459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9" idx="7"/>
            <a:endCxn id="467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8" idx="7"/>
            <a:endCxn id="465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"/>
          <p:cNvCxnSpPr>
            <a:stCxn id="474" idx="6"/>
            <a:endCxn id="479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81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438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225900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D, F) (D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0120" y="363060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10280" y="190512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9C3A-2414-4AAC-BF6A-FF04FA6DF9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49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"/>
          <p:cNvCxnSpPr>
            <a:stCxn id="492" idx="0"/>
            <a:endCxn id="49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7" name=""/>
          <p:cNvCxnSpPr>
            <a:stCxn id="493" idx="5"/>
            <a:endCxn id="49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"/>
          <p:cNvCxnSpPr>
            <a:stCxn id="493" idx="6"/>
            <a:endCxn id="49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493" idx="4"/>
            <a:endCxn id="49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501" idx="2"/>
            <a:endCxn id="50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501" idx="3"/>
            <a:endCxn id="49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92" idx="7"/>
            <a:endCxn id="50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501" idx="7"/>
            <a:endCxn id="49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0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"/>
          <p:cNvCxnSpPr>
            <a:stCxn id="507" idx="6"/>
            <a:endCxn id="51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00100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28954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F6DC-95EA-4ED8-9950-1A14F3C32A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23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"/>
          <p:cNvCxnSpPr>
            <a:stCxn id="523" idx="0"/>
            <a:endCxn id="524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27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"/>
          <p:cNvCxnSpPr>
            <a:stCxn id="524" idx="5"/>
            <a:endCxn id="527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29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0" name=""/>
          <p:cNvCxnSpPr>
            <a:stCxn id="524" idx="6"/>
            <a:endCxn id="529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31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3" name=""/>
          <p:cNvCxnSpPr>
            <a:stCxn id="524" idx="4"/>
            <a:endCxn id="525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32" idx="2"/>
            <a:endCxn id="531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32" idx="3"/>
            <a:endCxn id="523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3" idx="7"/>
            <a:endCxn id="531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2" idx="7"/>
            <a:endCxn id="529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4" name=""/>
          <p:cNvCxnSpPr>
            <a:stCxn id="538" idx="6"/>
            <a:endCxn id="543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45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620120" y="54100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"/>
          <p:cNvCxnSpPr>
            <a:stCxn id="531" idx="3"/>
            <a:endCxn id="523" idx="7"/>
          </p:cNvCxnSpPr>
          <p:nvPr/>
        </p:nvCxnSpPr>
        <p:spPr>
          <a:xfrm flipH="1">
            <a:off x="2545560" y="3544920"/>
            <a:ext cx="470520" cy="6829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2EE6-C8BE-4E52-909D-FC6E2944C6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6" name=""/>
          <p:cNvCxnSpPr>
            <a:stCxn id="553" idx="0"/>
            <a:endCxn id="554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7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"/>
          <p:cNvCxnSpPr>
            <a:stCxn id="554" idx="5"/>
            <a:endCxn id="557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"/>
          <p:cNvCxnSpPr>
            <a:stCxn id="554" idx="6"/>
            <a:endCxn id="559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61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3" name=""/>
          <p:cNvCxnSpPr>
            <a:stCxn id="554" idx="4"/>
            <a:endCxn id="555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62" idx="2"/>
            <a:endCxn id="561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62" idx="3"/>
            <a:endCxn id="553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3" idx="7"/>
            <a:endCxn id="561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62" idx="7"/>
            <a:endCxn id="559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68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"/>
          <p:cNvCxnSpPr>
            <a:stCxn id="568" idx="6"/>
            <a:endCxn id="573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077320" y="54100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00800" y="38098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AD3A-F32A-4655-91AA-D9EB2BEFE6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"/>
          <p:cNvCxnSpPr>
            <a:stCxn id="582" idx="0"/>
            <a:endCxn id="58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"/>
          <p:cNvCxnSpPr>
            <a:stCxn id="583" idx="5"/>
            <a:endCxn id="58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"/>
          <p:cNvCxnSpPr>
            <a:stCxn id="583" idx="6"/>
            <a:endCxn id="58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9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"/>
          <p:cNvCxnSpPr>
            <a:stCxn id="583" idx="4"/>
            <a:endCxn id="58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3" name=""/>
          <p:cNvCxnSpPr>
            <a:stCxn id="591" idx="2"/>
            <a:endCxn id="59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4" name=""/>
          <p:cNvCxnSpPr>
            <a:stCxn id="591" idx="3"/>
            <a:endCxn id="58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5" name=""/>
          <p:cNvCxnSpPr>
            <a:stCxn id="582" idx="7"/>
            <a:endCxn id="59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1" idx="7"/>
            <a:endCxn id="58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9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"/>
          <p:cNvCxnSpPr>
            <a:stCxn id="597" idx="6"/>
            <a:endCxn id="60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5530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"/>
          <p:cNvCxnSpPr>
            <a:stCxn id="586" idx="1"/>
            <a:endCxn id="583" idx="5"/>
          </p:cNvCxnSpPr>
          <p:nvPr/>
        </p:nvCxnSpPr>
        <p:spPr>
          <a:xfrm flipH="1" flipV="1">
            <a:off x="2545920" y="1336320"/>
            <a:ext cx="1766160" cy="11167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607" name=""/>
          <p:cNvGrpSpPr/>
          <p:nvPr/>
        </p:nvGrpSpPr>
        <p:grpSpPr>
          <a:xfrm>
            <a:off x="2201760" y="2260440"/>
            <a:ext cx="2362320" cy="609840"/>
            <a:chOff x="2201760" y="2260440"/>
            <a:chExt cx="2362320" cy="609840"/>
          </a:xfrm>
        </p:grpSpPr>
        <p:sp>
          <p:nvSpPr>
            <p:cNvPr id="608" name=""/>
            <p:cNvSpPr/>
            <p:nvPr/>
          </p:nvSpPr>
          <p:spPr>
            <a:xfrm>
              <a:off x="2201760" y="2260440"/>
              <a:ext cx="1676520" cy="6098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59160" y="24130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59E9-635D-48F0-B7C3-AF6DEE42FC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"/>
          <p:cNvCxnSpPr>
            <a:stCxn id="612" idx="0"/>
            <a:endCxn id="61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1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"/>
          <p:cNvCxnSpPr>
            <a:stCxn id="613" idx="5"/>
            <a:endCxn id="61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"/>
          <p:cNvCxnSpPr>
            <a:stCxn id="613" idx="6"/>
            <a:endCxn id="61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2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"/>
          <p:cNvCxnSpPr>
            <a:stCxn id="613" idx="4"/>
            <a:endCxn id="61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621" idx="2"/>
            <a:endCxn id="62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621" idx="3"/>
            <a:endCxn id="61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612" idx="7"/>
            <a:endCxn id="62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621" idx="7"/>
            <a:endCxn id="61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"/>
          <p:cNvCxnSpPr>
            <a:stCxn id="627" idx="6"/>
            <a:endCxn id="63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530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"/>
          <p:cNvCxnSpPr>
            <a:stCxn id="616" idx="1"/>
            <a:endCxn id="613" idx="5"/>
          </p:cNvCxnSpPr>
          <p:nvPr/>
        </p:nvCxnSpPr>
        <p:spPr>
          <a:xfrm flipH="1" flipV="1">
            <a:off x="2545920" y="1336320"/>
            <a:ext cx="1766160" cy="111672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637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C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9EBA-15F7-4F68-A444-B0E46A90C1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"/>
          <p:cNvCxnSpPr>
            <a:stCxn id="642" idx="0"/>
            <a:endCxn id="64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7" name=""/>
          <p:cNvCxnSpPr>
            <a:stCxn id="643" idx="5"/>
            <a:endCxn id="64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4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9" name=""/>
          <p:cNvCxnSpPr>
            <a:stCxn id="643" idx="6"/>
            <a:endCxn id="64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2" name=""/>
          <p:cNvCxnSpPr>
            <a:stCxn id="643" idx="4"/>
            <a:endCxn id="64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1" idx="2"/>
            <a:endCxn id="65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3"/>
            <a:endCxn id="64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42" idx="7"/>
            <a:endCxn id="65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651" idx="7"/>
            <a:endCxn id="64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5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3" name=""/>
          <p:cNvCxnSpPr>
            <a:stCxn id="657" idx="6"/>
            <a:endCxn id="66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530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C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152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400800" y="38098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D9D2-80D6-4E71-A725-B5CAE35DDC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0" idx="0"/>
            <a:endCxn id="10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1" idx="5"/>
            <a:endCxn id="104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101" idx="6"/>
            <a:endCxn id="106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01" idx="4"/>
            <a:endCxn id="102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9" idx="2"/>
            <a:endCxn id="10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9" idx="3"/>
            <a:endCxn id="10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0" idx="7"/>
            <a:endCxn id="10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9" idx="7"/>
            <a:endCxn id="10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5" idx="6"/>
            <a:endCxn id="120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00" idx="0"/>
            <a:endCxn id="10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04920" y="396252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newly 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7DF8-047F-403D-B6F4-04A314BF12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67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4" name=""/>
          <p:cNvCxnSpPr>
            <a:stCxn id="671" idx="0"/>
            <a:endCxn id="67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"/>
          <p:cNvCxnSpPr>
            <a:stCxn id="672" idx="5"/>
            <a:endCxn id="67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7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8" name=""/>
          <p:cNvCxnSpPr>
            <a:stCxn id="672" idx="6"/>
            <a:endCxn id="67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"/>
          <p:cNvCxnSpPr>
            <a:stCxn id="672" idx="4"/>
            <a:endCxn id="67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2" name=""/>
          <p:cNvCxnSpPr>
            <a:stCxn id="680" idx="2"/>
            <a:endCxn id="67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3" name=""/>
          <p:cNvCxnSpPr>
            <a:stCxn id="680" idx="3"/>
            <a:endCxn id="67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71" idx="7"/>
            <a:endCxn id="67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5" name=""/>
          <p:cNvCxnSpPr>
            <a:stCxn id="680" idx="7"/>
            <a:endCxn id="67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"/>
          <p:cNvCxnSpPr>
            <a:stCxn id="686" idx="6"/>
            <a:endCxn id="69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9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238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5" name=""/>
          <p:cNvCxnSpPr>
            <a:stCxn id="673" idx="1"/>
            <a:endCxn id="672" idx="4"/>
          </p:cNvCxnSpPr>
          <p:nvPr/>
        </p:nvCxnSpPr>
        <p:spPr>
          <a:xfrm flipH="1" flipV="1">
            <a:off x="2437560" y="1380240"/>
            <a:ext cx="578520" cy="107244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696" name=""/>
          <p:cNvGrpSpPr/>
          <p:nvPr/>
        </p:nvGrpSpPr>
        <p:grpSpPr>
          <a:xfrm>
            <a:off x="914400" y="2260440"/>
            <a:ext cx="2362320" cy="609840"/>
            <a:chOff x="914400" y="2260440"/>
            <a:chExt cx="2362320" cy="609840"/>
          </a:xfrm>
        </p:grpSpPr>
        <p:sp>
          <p:nvSpPr>
            <p:cNvPr id="697" name=""/>
            <p:cNvSpPr/>
            <p:nvPr/>
          </p:nvSpPr>
          <p:spPr>
            <a:xfrm>
              <a:off x="914400" y="2260440"/>
              <a:ext cx="1676520" cy="60984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971800" y="241308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4B3F-8E0E-49DA-B7F4-CE9EF513F9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4" name=""/>
          <p:cNvCxnSpPr>
            <a:stCxn id="701" idx="0"/>
            <a:endCxn id="70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6" name=""/>
          <p:cNvCxnSpPr>
            <a:stCxn id="702" idx="5"/>
            <a:endCxn id="70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8" name=""/>
          <p:cNvCxnSpPr>
            <a:stCxn id="702" idx="6"/>
            <a:endCxn id="70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1" name=""/>
          <p:cNvCxnSpPr>
            <a:stCxn id="702" idx="4"/>
            <a:endCxn id="70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2" name=""/>
          <p:cNvCxnSpPr>
            <a:stCxn id="710" idx="2"/>
            <a:endCxn id="70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3" name=""/>
          <p:cNvCxnSpPr>
            <a:stCxn id="710" idx="3"/>
            <a:endCxn id="70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4" name=""/>
          <p:cNvCxnSpPr>
            <a:stCxn id="701" idx="7"/>
            <a:endCxn id="70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5" name=""/>
          <p:cNvCxnSpPr>
            <a:stCxn id="710" idx="7"/>
            <a:endCxn id="70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"/>
          <p:cNvCxnSpPr>
            <a:stCxn id="716" idx="6"/>
            <a:endCxn id="72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2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238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5" name=""/>
          <p:cNvCxnSpPr>
            <a:stCxn id="703" idx="1"/>
            <a:endCxn id="702" idx="4"/>
          </p:cNvCxnSpPr>
          <p:nvPr/>
        </p:nvCxnSpPr>
        <p:spPr>
          <a:xfrm flipH="1" flipV="1">
            <a:off x="2437560" y="1380240"/>
            <a:ext cx="578520" cy="107244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726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B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8580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084B-950F-4B05-8BDF-95D123E778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stCxn id="731" idx="0"/>
            <a:endCxn id="732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5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6" name=""/>
          <p:cNvCxnSpPr>
            <a:stCxn id="732" idx="5"/>
            <a:endCxn id="735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"/>
          <p:cNvCxnSpPr>
            <a:stCxn id="732" idx="6"/>
            <a:endCxn id="737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1" name=""/>
          <p:cNvCxnSpPr>
            <a:stCxn id="732" idx="4"/>
            <a:endCxn id="733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40" idx="2"/>
            <a:endCxn id="739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3" name=""/>
          <p:cNvCxnSpPr>
            <a:stCxn id="740" idx="3"/>
            <a:endCxn id="731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4" name=""/>
          <p:cNvCxnSpPr>
            <a:stCxn id="731" idx="7"/>
            <a:endCxn id="739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40" idx="7"/>
            <a:endCxn id="737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2" name=""/>
          <p:cNvCxnSpPr>
            <a:stCxn id="746" idx="6"/>
            <a:endCxn id="751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238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423040" y="4011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B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315200" y="533700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400800" y="380988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BD7D-E776-414C-8D43-7FE5620D4D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3" name=""/>
          <p:cNvCxnSpPr>
            <a:stCxn id="760" idx="0"/>
            <a:endCxn id="76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5" name=""/>
          <p:cNvCxnSpPr>
            <a:stCxn id="761" idx="5"/>
            <a:endCxn id="764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" name=""/>
          <p:cNvCxnSpPr>
            <a:stCxn id="761" idx="6"/>
            <a:endCxn id="766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"/>
          <p:cNvCxnSpPr>
            <a:stCxn id="761" idx="4"/>
            <a:endCxn id="762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1" name=""/>
          <p:cNvCxnSpPr>
            <a:stCxn id="769" idx="2"/>
            <a:endCxn id="76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2" name=""/>
          <p:cNvCxnSpPr>
            <a:stCxn id="769" idx="3"/>
            <a:endCxn id="76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3" name=""/>
          <p:cNvCxnSpPr>
            <a:stCxn id="760" idx="7"/>
            <a:endCxn id="76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69" idx="7"/>
            <a:endCxn id="76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7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"/>
          <p:cNvCxnSpPr>
            <a:stCxn id="775" idx="6"/>
            <a:endCxn id="780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82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848720" y="6237360"/>
            <a:ext cx="347400" cy="404640"/>
          </a:xfrm>
          <a:prstGeom prst="upArrow">
            <a:avLst>
              <a:gd name="adj1" fmla="val 49769"/>
              <a:gd name="adj2" fmla="val 61209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4" name=""/>
          <p:cNvCxnSpPr>
            <a:stCxn id="766" idx="1"/>
            <a:endCxn id="761" idx="6"/>
          </p:cNvCxnSpPr>
          <p:nvPr/>
        </p:nvCxnSpPr>
        <p:spPr>
          <a:xfrm flipH="1" flipV="1">
            <a:off x="2598120" y="1220760"/>
            <a:ext cx="2780280" cy="1232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8308-9468-482C-AD75-D60F46188E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1" name=""/>
          <p:cNvCxnSpPr>
            <a:stCxn id="788" idx="0"/>
            <a:endCxn id="78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"/>
          <p:cNvCxnSpPr>
            <a:stCxn id="789" idx="5"/>
            <a:endCxn id="79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5" name=""/>
          <p:cNvCxnSpPr>
            <a:stCxn id="789" idx="6"/>
            <a:endCxn id="79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8" name=""/>
          <p:cNvCxnSpPr>
            <a:stCxn id="789" idx="4"/>
            <a:endCxn id="79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9" name=""/>
          <p:cNvCxnSpPr>
            <a:stCxn id="797" idx="2"/>
            <a:endCxn id="79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00" name=""/>
          <p:cNvCxnSpPr>
            <a:stCxn id="797" idx="3"/>
            <a:endCxn id="78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01" name=""/>
          <p:cNvCxnSpPr>
            <a:stCxn id="788" idx="7"/>
            <a:endCxn id="79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02" name=""/>
          <p:cNvCxnSpPr>
            <a:stCxn id="797" idx="7"/>
            <a:endCxn id="79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9" name=""/>
          <p:cNvCxnSpPr>
            <a:stCxn id="803" idx="6"/>
            <a:endCxn id="80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3818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400800" y="464832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2789-7784-4545-A2C5-9737E7836D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1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"/>
          <p:cNvCxnSpPr>
            <a:stCxn id="814" idx="0"/>
            <a:endCxn id="815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1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"/>
          <p:cNvCxnSpPr>
            <a:stCxn id="815" idx="5"/>
            <a:endCxn id="818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"/>
          <p:cNvCxnSpPr>
            <a:stCxn id="815" idx="6"/>
            <a:endCxn id="820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4" name=""/>
          <p:cNvCxnSpPr>
            <a:stCxn id="815" idx="4"/>
            <a:endCxn id="816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5" name=""/>
          <p:cNvCxnSpPr>
            <a:stCxn id="823" idx="2"/>
            <a:endCxn id="82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stCxn id="823" idx="3"/>
            <a:endCxn id="81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7" name=""/>
          <p:cNvCxnSpPr>
            <a:stCxn id="814" idx="7"/>
            <a:endCxn id="82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8" name=""/>
          <p:cNvCxnSpPr>
            <a:stCxn id="823" idx="7"/>
            <a:endCxn id="82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"/>
          <p:cNvCxnSpPr>
            <a:stCxn id="829" idx="6"/>
            <a:endCxn id="834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36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E75B-C08A-4D2E-8ED6-C97C1DA7F3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3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1" name=""/>
          <p:cNvCxnSpPr>
            <a:stCxn id="838" idx="0"/>
            <a:endCxn id="83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"/>
          <p:cNvCxnSpPr>
            <a:stCxn id="839" idx="5"/>
            <a:endCxn id="84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5" name=""/>
          <p:cNvCxnSpPr>
            <a:stCxn id="839" idx="6"/>
            <a:endCxn id="84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8" name=""/>
          <p:cNvCxnSpPr>
            <a:stCxn id="839" idx="4"/>
            <a:endCxn id="84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9" name=""/>
          <p:cNvCxnSpPr>
            <a:stCxn id="847" idx="2"/>
            <a:endCxn id="84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0" name=""/>
          <p:cNvCxnSpPr>
            <a:stCxn id="847" idx="3"/>
            <a:endCxn id="83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1" name=""/>
          <p:cNvCxnSpPr>
            <a:stCxn id="838" idx="7"/>
            <a:endCxn id="84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2" name=""/>
          <p:cNvCxnSpPr>
            <a:stCxn id="847" idx="7"/>
            <a:endCxn id="84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9" name=""/>
          <p:cNvCxnSpPr>
            <a:stCxn id="853" idx="6"/>
            <a:endCxn id="85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934320" y="61768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3" name=""/>
          <p:cNvCxnSpPr>
            <a:stCxn id="858" idx="2"/>
            <a:endCxn id="853" idx="6"/>
          </p:cNvCxnSpPr>
          <p:nvPr/>
        </p:nvCxnSpPr>
        <p:spPr>
          <a:xfrm flipH="1">
            <a:off x="5618880" y="1352160"/>
            <a:ext cx="51372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864" name=""/>
          <p:cNvGrpSpPr/>
          <p:nvPr/>
        </p:nvGrpSpPr>
        <p:grpSpPr>
          <a:xfrm>
            <a:off x="6145200" y="1203480"/>
            <a:ext cx="2209320" cy="609480"/>
            <a:chOff x="6145200" y="1203480"/>
            <a:chExt cx="2209320" cy="609480"/>
          </a:xfrm>
        </p:grpSpPr>
        <p:sp>
          <p:nvSpPr>
            <p:cNvPr id="865" name=""/>
            <p:cNvSpPr/>
            <p:nvPr/>
          </p:nvSpPr>
          <p:spPr>
            <a:xfrm>
              <a:off x="6678360" y="1203480"/>
              <a:ext cx="1676160" cy="6094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145200" y="1203480"/>
              <a:ext cx="30456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6ACD-9C08-482C-AF4C-8A89E5B2A4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1" name=""/>
          <p:cNvCxnSpPr>
            <a:stCxn id="868" idx="0"/>
            <a:endCxn id="86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3" name=""/>
          <p:cNvCxnSpPr>
            <a:stCxn id="869" idx="5"/>
            <a:endCxn id="87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5" name=""/>
          <p:cNvCxnSpPr>
            <a:stCxn id="869" idx="6"/>
            <a:endCxn id="87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7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"/>
          <p:cNvCxnSpPr>
            <a:stCxn id="869" idx="4"/>
            <a:endCxn id="87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9" name=""/>
          <p:cNvCxnSpPr>
            <a:stCxn id="877" idx="2"/>
            <a:endCxn id="87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0" name=""/>
          <p:cNvCxnSpPr>
            <a:stCxn id="877" idx="3"/>
            <a:endCxn id="86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1" name=""/>
          <p:cNvCxnSpPr>
            <a:stCxn id="868" idx="7"/>
            <a:endCxn id="87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2" name=""/>
          <p:cNvCxnSpPr>
            <a:stCxn id="877" idx="7"/>
            <a:endCxn id="87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8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9" name=""/>
          <p:cNvCxnSpPr>
            <a:stCxn id="883" idx="6"/>
            <a:endCxn id="88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9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34320" y="61768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3" name=""/>
          <p:cNvCxnSpPr>
            <a:stCxn id="888" idx="2"/>
            <a:endCxn id="883" idx="6"/>
          </p:cNvCxnSpPr>
          <p:nvPr/>
        </p:nvCxnSpPr>
        <p:spPr>
          <a:xfrm flipH="1">
            <a:off x="5618880" y="1352160"/>
            <a:ext cx="513720" cy="10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894" name=""/>
          <p:cNvSpPr/>
          <p:nvPr/>
        </p:nvSpPr>
        <p:spPr>
          <a:xfrm>
            <a:off x="5346720" y="39625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I, 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770520" y="528804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6A07-5D42-49DA-8FD6-24B4FD51AD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1" name=""/>
          <p:cNvCxnSpPr>
            <a:stCxn id="898" idx="0"/>
            <a:endCxn id="89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3" name=""/>
          <p:cNvCxnSpPr>
            <a:stCxn id="899" idx="5"/>
            <a:endCxn id="90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5" name=""/>
          <p:cNvCxnSpPr>
            <a:stCxn id="899" idx="6"/>
            <a:endCxn id="90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8" name=""/>
          <p:cNvCxnSpPr>
            <a:stCxn id="899" idx="4"/>
            <a:endCxn id="90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09" name=""/>
          <p:cNvCxnSpPr>
            <a:stCxn id="907" idx="2"/>
            <a:endCxn id="90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0" name=""/>
          <p:cNvCxnSpPr>
            <a:stCxn id="907" idx="3"/>
            <a:endCxn id="89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1" name=""/>
          <p:cNvCxnSpPr>
            <a:stCxn id="898" idx="7"/>
            <a:endCxn id="90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2" name=""/>
          <p:cNvCxnSpPr>
            <a:stCxn id="907" idx="7"/>
            <a:endCxn id="90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1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9" name=""/>
          <p:cNvCxnSpPr>
            <a:stCxn id="913" idx="6"/>
            <a:endCxn id="91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934320" y="61768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5346720" y="39625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I, 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238880" y="528804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248520" y="3657600"/>
            <a:ext cx="1447560" cy="685800"/>
          </a:xfrm>
          <a:prstGeom prst="downArrowCallout">
            <a:avLst>
              <a:gd name="adj1" fmla="val 24315"/>
              <a:gd name="adj2" fmla="val 28974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9411-3109-4489-A428-34665B67AE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27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0" name=""/>
          <p:cNvCxnSpPr>
            <a:stCxn id="927" idx="0"/>
            <a:endCxn id="928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2" name=""/>
          <p:cNvCxnSpPr>
            <a:stCxn id="928" idx="5"/>
            <a:endCxn id="931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33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4" name=""/>
          <p:cNvCxnSpPr>
            <a:stCxn id="928" idx="6"/>
            <a:endCxn id="933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35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"/>
          <p:cNvCxnSpPr>
            <a:stCxn id="928" idx="4"/>
            <a:endCxn id="929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8" name=""/>
          <p:cNvCxnSpPr>
            <a:stCxn id="936" idx="2"/>
            <a:endCxn id="935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39" name=""/>
          <p:cNvCxnSpPr>
            <a:stCxn id="936" idx="3"/>
            <a:endCxn id="927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0" name=""/>
          <p:cNvCxnSpPr>
            <a:stCxn id="927" idx="7"/>
            <a:endCxn id="935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1" name=""/>
          <p:cNvCxnSpPr>
            <a:stCxn id="936" idx="7"/>
            <a:endCxn id="933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2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8" name=""/>
          <p:cNvCxnSpPr>
            <a:stCxn id="942" idx="6"/>
            <a:endCxn id="947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9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510160" y="485136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H,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467480" y="61768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248520" y="4572000"/>
            <a:ext cx="1447560" cy="685800"/>
          </a:xfrm>
          <a:prstGeom prst="downArrowCallout">
            <a:avLst>
              <a:gd name="adj1" fmla="val 24315"/>
              <a:gd name="adj2" fmla="val 28974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602C-179D-4E33-9DFA-5F1B1F9B44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8" idx="0"/>
            <a:endCxn id="12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5"/>
            <a:endCxn id="13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6"/>
            <a:endCxn id="13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9" idx="4"/>
            <a:endCxn id="13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7" idx="2"/>
            <a:endCxn id="13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7" idx="3"/>
            <a:endCxn id="12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28" idx="7"/>
            <a:endCxn id="13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37" idx="7"/>
            <a:endCxn id="13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3" idx="6"/>
            <a:endCxn id="14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28" idx="0"/>
            <a:endCxn id="12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8C80-A69A-4ECE-B438-1D0753F769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95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7" name=""/>
          <p:cNvCxnSpPr>
            <a:stCxn id="954" idx="0"/>
            <a:endCxn id="955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9" name=""/>
          <p:cNvCxnSpPr>
            <a:stCxn id="955" idx="5"/>
            <a:endCxn id="958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1" name=""/>
          <p:cNvCxnSpPr>
            <a:stCxn id="955" idx="6"/>
            <a:endCxn id="960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4" name=""/>
          <p:cNvCxnSpPr>
            <a:stCxn id="955" idx="4"/>
            <a:endCxn id="956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5" name=""/>
          <p:cNvCxnSpPr>
            <a:stCxn id="963" idx="2"/>
            <a:endCxn id="96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6" name=""/>
          <p:cNvCxnSpPr>
            <a:stCxn id="963" idx="3"/>
            <a:endCxn id="95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7" name=""/>
          <p:cNvCxnSpPr>
            <a:stCxn id="954" idx="7"/>
            <a:endCxn id="96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8" name=""/>
          <p:cNvCxnSpPr>
            <a:stCxn id="963" idx="7"/>
            <a:endCxn id="96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69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5" name=""/>
          <p:cNvCxnSpPr>
            <a:stCxn id="969" idx="6"/>
            <a:endCxn id="974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76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882E-9CBF-4EED-883D-CE9DAEE8D1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58" idx="0"/>
            <a:endCxn id="15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9" idx="5"/>
            <a:endCxn id="16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9" idx="6"/>
            <a:endCxn id="16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59" idx="4"/>
            <a:endCxn id="16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7" idx="2"/>
            <a:endCxn id="16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7" idx="3"/>
            <a:endCxn id="15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8" idx="7"/>
            <a:endCxn id="16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7" idx="7"/>
            <a:endCxn id="16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3" idx="6"/>
            <a:endCxn id="17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58" idx="6"/>
            <a:endCxn id="167" idx="3"/>
          </p:cNvCxnSpPr>
          <p:nvPr/>
        </p:nvCxnSpPr>
        <p:spPr>
          <a:xfrm flipV="1">
            <a:off x="2598840" y="3544560"/>
            <a:ext cx="1713600" cy="79920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267080" y="3276720"/>
            <a:ext cx="2210040" cy="609480"/>
            <a:chOff x="4267080" y="3276720"/>
            <a:chExt cx="2210040" cy="609480"/>
          </a:xfrm>
        </p:grpSpPr>
        <p:sp>
          <p:nvSpPr>
            <p:cNvPr id="186" name=""/>
            <p:cNvSpPr/>
            <p:nvPr/>
          </p:nvSpPr>
          <p:spPr>
            <a:xfrm>
              <a:off x="4800600" y="3276720"/>
              <a:ext cx="1676520" cy="6094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67080" y="3276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BD95-906D-4F4B-BA7F-09AE76EF16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0" idx="0"/>
            <a:endCxn id="191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1" idx="5"/>
            <a:endCxn id="194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1" idx="6"/>
            <a:endCxn id="196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1" idx="4"/>
            <a:endCxn id="192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1" name=""/>
          <p:cNvCxnSpPr>
            <a:stCxn id="199" idx="2"/>
            <a:endCxn id="198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99" idx="3"/>
            <a:endCxn id="190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0" idx="7"/>
            <a:endCxn id="198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9" idx="7"/>
            <a:endCxn id="196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205" idx="6"/>
            <a:endCxn id="210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"/>
          <p:cNvCxnSpPr>
            <a:stCxn id="196" idx="3"/>
            <a:endCxn id="199" idx="7"/>
          </p:cNvCxnSpPr>
          <p:nvPr/>
        </p:nvCxnSpPr>
        <p:spPr>
          <a:xfrm flipH="1">
            <a:off x="4527000" y="2684520"/>
            <a:ext cx="851400" cy="629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grpSp>
        <p:nvGrpSpPr>
          <p:cNvPr id="219" name=""/>
          <p:cNvGrpSpPr/>
          <p:nvPr/>
        </p:nvGrpSpPr>
        <p:grpSpPr>
          <a:xfrm>
            <a:off x="5334120" y="2413080"/>
            <a:ext cx="2209320" cy="609480"/>
            <a:chOff x="5334120" y="2413080"/>
            <a:chExt cx="2209320" cy="609480"/>
          </a:xfrm>
        </p:grpSpPr>
        <p:sp>
          <p:nvSpPr>
            <p:cNvPr id="220" name=""/>
            <p:cNvSpPr/>
            <p:nvPr/>
          </p:nvSpPr>
          <p:spPr>
            <a:xfrm>
              <a:off x="5867280" y="2413080"/>
              <a:ext cx="1676160" cy="6094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 newly discove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34120" y="2413080"/>
              <a:ext cx="30456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2C72-9BAD-4F8D-9200-0FFF9BA38C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4" idx="0"/>
            <a:endCxn id="225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5" idx="5"/>
            <a:endCxn id="228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25" idx="6"/>
            <a:endCxn id="230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25" idx="4"/>
            <a:endCxn id="226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33" idx="2"/>
            <a:endCxn id="232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33" idx="3"/>
            <a:endCxn id="224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4" idx="7"/>
            <a:endCxn id="232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33" idx="7"/>
            <a:endCxn id="230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39" idx="6"/>
            <a:endCxn id="244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30" idx="3"/>
            <a:endCxn id="233" idx="7"/>
          </p:cNvCxnSpPr>
          <p:nvPr/>
        </p:nvCxnSpPr>
        <p:spPr>
          <a:xfrm flipH="1">
            <a:off x="4527000" y="2684520"/>
            <a:ext cx="851400" cy="629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5562720" y="22096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G, E) (G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35812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AA8F-D997-42FE-B244-02463CE331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58" idx="0"/>
            <a:endCxn id="259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59" idx="5"/>
            <a:endCxn id="262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59" idx="6"/>
            <a:endCxn id="264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"/>
          <p:cNvCxnSpPr>
            <a:stCxn id="259" idx="4"/>
            <a:endCxn id="260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9" name=""/>
          <p:cNvCxnSpPr>
            <a:stCxn id="267" idx="2"/>
            <a:endCxn id="266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67" idx="3"/>
            <a:endCxn id="258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58" idx="7"/>
            <a:endCxn id="266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67" idx="7"/>
            <a:endCxn id="264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6"/>
            <a:endCxn id="278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64" idx="1"/>
            <a:endCxn id="259" idx="6"/>
          </p:cNvCxnSpPr>
          <p:nvPr/>
        </p:nvCxnSpPr>
        <p:spPr>
          <a:xfrm flipH="1" flipV="1">
            <a:off x="2598120" y="1220760"/>
            <a:ext cx="2780280" cy="123228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5562720" y="22096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G, E) (G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48680" y="35812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F489-7EBC-4659-AEEC-9FF11233C4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2" idx="0"/>
            <a:endCxn id="293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96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3" idx="5"/>
            <a:endCxn id="296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98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3" idx="6"/>
            <a:endCxn id="298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93" idx="4"/>
            <a:endCxn id="294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301" idx="2"/>
            <a:endCxn id="300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301" idx="3"/>
            <a:endCxn id="292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292" idx="7"/>
            <a:endCxn id="300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301" idx="7"/>
            <a:endCxn id="298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307" idx="6"/>
            <a:endCxn id="312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81640" y="44956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2096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G, E) (G,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05880" y="35812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10280" y="1905120"/>
            <a:ext cx="1447920" cy="685800"/>
          </a:xfrm>
          <a:prstGeom prst="downArrowCallout">
            <a:avLst>
              <a:gd name="adj1" fmla="val 24321"/>
              <a:gd name="adj2" fmla="val 28981"/>
              <a:gd name="adj3" fmla="val 20370"/>
              <a:gd name="adj4" fmla="val 55556"/>
            </a:avLst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9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e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CFF1-A0DA-4DB6-87D3-650F1EE552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510160" y="491184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A, F) (A, C) (A, B)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 Narrow"/>
              </a:rPr>
              <a:t>Undirected Depth First Search</a:t>
            </a:r>
            <a:endParaRPr b="1" lang="en-US" sz="3200" spc="-1" strike="noStrike">
              <a:solidFill>
                <a:srgbClr val="660066"/>
              </a:solidFill>
              <a:latin typeface="Arial Narrow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4191120"/>
            <a:ext cx="304920" cy="3045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1066680"/>
            <a:ext cx="304920" cy="30636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5" idx="0"/>
            <a:endCxn id="326" idx="4"/>
          </p:cNvCxnSpPr>
          <p:nvPr/>
        </p:nvCxnSpPr>
        <p:spPr>
          <a:xfrm flipV="1">
            <a:off x="2437920" y="1380600"/>
            <a:ext cx="1080" cy="2802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4267080" y="24163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"/>
          <p:cNvCxnSpPr>
            <a:stCxn id="326" idx="5"/>
            <a:endCxn id="329" idx="1"/>
          </p:cNvCxnSpPr>
          <p:nvPr/>
        </p:nvCxnSpPr>
        <p:spPr>
          <a:xfrm>
            <a:off x="2546280" y="1336680"/>
            <a:ext cx="1766160" cy="11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5334120" y="2416320"/>
            <a:ext cx="304560" cy="304560"/>
          </a:xfrm>
          <a:prstGeom prst="ellipse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26" idx="6"/>
            <a:endCxn id="331" idx="1"/>
          </p:cNvCxnSpPr>
          <p:nvPr/>
        </p:nvCxnSpPr>
        <p:spPr>
          <a:xfrm>
            <a:off x="2598480" y="1220760"/>
            <a:ext cx="2780280" cy="12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2971800" y="3276720"/>
            <a:ext cx="30492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67080" y="3276720"/>
            <a:ext cx="304920" cy="304560"/>
          </a:xfrm>
          <a:prstGeom prst="ellipse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26" idx="4"/>
            <a:endCxn id="327" idx="1"/>
          </p:cNvCxnSpPr>
          <p:nvPr/>
        </p:nvCxnSpPr>
        <p:spPr>
          <a:xfrm>
            <a:off x="2437920" y="1380600"/>
            <a:ext cx="578520" cy="1072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6" name=""/>
          <p:cNvCxnSpPr>
            <a:stCxn id="334" idx="2"/>
            <a:endCxn id="333" idx="6"/>
          </p:cNvCxnSpPr>
          <p:nvPr/>
        </p:nvCxnSpPr>
        <p:spPr>
          <a:xfrm flipH="1">
            <a:off x="3283920" y="3428640"/>
            <a:ext cx="975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stCxn id="334" idx="3"/>
            <a:endCxn id="32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8" name=""/>
          <p:cNvCxnSpPr>
            <a:stCxn id="325" idx="7"/>
            <a:endCxn id="333" idx="3"/>
          </p:cNvCxnSpPr>
          <p:nvPr/>
        </p:nvCxnSpPr>
        <p:spPr>
          <a:xfrm flipV="1">
            <a:off x="2545920" y="3544920"/>
            <a:ext cx="470520" cy="68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9" name=""/>
          <p:cNvCxnSpPr>
            <a:stCxn id="334" idx="7"/>
            <a:endCxn id="331" idx="3"/>
          </p:cNvCxnSpPr>
          <p:nvPr/>
        </p:nvCxnSpPr>
        <p:spPr>
          <a:xfrm flipV="1">
            <a:off x="4527360" y="2684160"/>
            <a:ext cx="851400" cy="629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3071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5105520"/>
            <a:ext cx="1904760" cy="380880"/>
          </a:xfrm>
          <a:prstGeom prst="rect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is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47920" y="5486400"/>
            <a:ext cx="1904760" cy="380880"/>
          </a:xfrm>
          <a:prstGeom prst="rect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47920" y="6248520"/>
            <a:ext cx="1904760" cy="380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5867280"/>
            <a:ext cx="1904760" cy="381240"/>
          </a:xfrm>
          <a:prstGeom prst="rect">
            <a:avLst/>
          </a:prstGeom>
          <a:solidFill>
            <a:srgbClr val="a5002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7360" bIns="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40520" y="1200240"/>
            <a:ext cx="304560" cy="304560"/>
          </a:xfrm>
          <a:prstGeom prst="ellipse">
            <a:avLst/>
          </a:prstGeom>
          <a:solidFill>
            <a:srgbClr val="808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"/>
          <p:cNvCxnSpPr>
            <a:stCxn id="340" idx="6"/>
            <a:endCxn id="345" idx="2"/>
          </p:cNvCxnSpPr>
          <p:nvPr/>
        </p:nvCxnSpPr>
        <p:spPr>
          <a:xfrm>
            <a:off x="5619240" y="1352160"/>
            <a:ext cx="51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7" name=""/>
          <p:cNvSpPr/>
          <p:nvPr/>
        </p:nvSpPr>
        <p:spPr>
          <a:xfrm>
            <a:off x="3801960" y="6461280"/>
            <a:ext cx="1239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94280" y="6237360"/>
            <a:ext cx="347760" cy="404640"/>
          </a:xfrm>
          <a:prstGeom prst="upArrow">
            <a:avLst>
              <a:gd name="adj1" fmla="val 49769"/>
              <a:gd name="adj2" fmla="val 6114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403848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F, A) (F, E) (F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67440" y="5410080"/>
            <a:ext cx="347760" cy="405000"/>
          </a:xfrm>
          <a:prstGeom prst="upArrow">
            <a:avLst>
              <a:gd name="adj1" fmla="val 49769"/>
              <a:gd name="adj2" fmla="val 61200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99000" y="31240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visit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(E, G) (E, F) (E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4495680"/>
            <a:ext cx="347400" cy="405000"/>
          </a:xfrm>
          <a:prstGeom prst="upArrow">
            <a:avLst>
              <a:gd name="adj1" fmla="val 49769"/>
              <a:gd name="adj2" fmla="val 61264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34" idx="3"/>
            <a:endCxn id="325" idx="6"/>
          </p:cNvCxnSpPr>
          <p:nvPr/>
        </p:nvCxnSpPr>
        <p:spPr>
          <a:xfrm flipH="1">
            <a:off x="2598480" y="3544920"/>
            <a:ext cx="1713600" cy="799200"/>
          </a:xfrm>
          <a:prstGeom prst="straightConnector1">
            <a:avLst/>
          </a:prstGeom>
          <a:ln w="50760">
            <a:solidFill>
              <a:srgbClr val="a50021"/>
            </a:solidFill>
            <a:miter/>
          </a:ln>
        </p:spPr>
      </p:cxnSp>
      <p:sp>
        <p:nvSpPr>
          <p:cNvPr id="354" name=""/>
          <p:cNvSpPr/>
          <p:nvPr/>
        </p:nvSpPr>
        <p:spPr>
          <a:xfrm>
            <a:off x="216000" y="2300400"/>
            <a:ext cx="1676160" cy="609480"/>
          </a:xfrm>
          <a:prstGeom prst="rect">
            <a:avLst/>
          </a:prstGeom>
          <a:solidFill>
            <a:srgbClr val="ff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alr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07D4-B483-42C4-99AE-26F5858FE2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1-04-10T14:29:02Z</dcterms:modified>
  <cp:revision>606</cp:revision>
  <dc:subject/>
  <dc:title>Trees</dc:title>
</cp:coreProperties>
</file>