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9D9D-7854-4D56-98FF-97FB7533A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61B7-5984-449A-8B77-EE72C58A9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C760-C607-4AB6-98B4-E832D51B1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E9AD-EA5A-4F6B-A22A-28B687C50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B829-1FC1-4BDC-ADF7-702594E5D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6648-81E1-448D-9E6D-A8B3FC597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1F61-7747-4528-80F7-8B2774283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289B-F1D7-4665-8BF4-997A67CFF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E127-281B-4660-BC4C-ED4FE184E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1123-E929-427E-A275-5EB15B9E3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616C-06F8-484F-AD6B-3C04C29F8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C92C-D18A-4C55-93E5-044FBF13B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4152-8054-41AC-AAAA-DBC2E1139E6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41" name="datinfo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14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>
            <a:off x="6210360" y="2991600"/>
            <a:ext cx="19238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C B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F 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G F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A E 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E 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I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0" idx="0"/>
            <a:endCxn id="81" idx="4"/>
          </p:cNvCxnSpPr>
          <p:nvPr/>
        </p:nvCxnSpPr>
        <p:spPr>
          <a:xfrm flipV="1">
            <a:off x="2438640" y="1373040"/>
            <a:ext cx="360" cy="2818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2546280" y="1328400"/>
            <a:ext cx="1765800" cy="113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2590920" y="1219680"/>
            <a:ext cx="2788200" cy="1241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1" idx="4"/>
            <a:endCxn id="82" idx="1"/>
          </p:cNvCxnSpPr>
          <p:nvPr/>
        </p:nvCxnSpPr>
        <p:spPr>
          <a:xfrm>
            <a:off x="2438640" y="1373040"/>
            <a:ext cx="578160" cy="1088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9" idx="2"/>
            <a:endCxn id="88" idx="6"/>
          </p:cNvCxnSpPr>
          <p:nvPr/>
        </p:nvCxnSpPr>
        <p:spPr>
          <a:xfrm flipH="1">
            <a:off x="3276720" y="3429000"/>
            <a:ext cx="9907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9" idx="3"/>
            <a:endCxn id="80" idx="6"/>
          </p:cNvCxnSpPr>
          <p:nvPr/>
        </p:nvCxnSpPr>
        <p:spPr>
          <a:xfrm flipH="1">
            <a:off x="2590920" y="3536640"/>
            <a:ext cx="172116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0" idx="7"/>
            <a:endCxn id="88" idx="3"/>
          </p:cNvCxnSpPr>
          <p:nvPr/>
        </p:nvCxnSpPr>
        <p:spPr>
          <a:xfrm flipV="1">
            <a:off x="2546280" y="3536640"/>
            <a:ext cx="470520" cy="69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9" idx="7"/>
            <a:endCxn id="86" idx="3"/>
          </p:cNvCxnSpPr>
          <p:nvPr/>
        </p:nvCxnSpPr>
        <p:spPr>
          <a:xfrm flipV="1">
            <a:off x="4527360" y="2676240"/>
            <a:ext cx="851760" cy="645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5" idx="6"/>
            <a:endCxn id="96" idx="2"/>
          </p:cNvCxnSpPr>
          <p:nvPr/>
        </p:nvCxnSpPr>
        <p:spPr>
          <a:xfrm>
            <a:off x="5611680" y="1352520"/>
            <a:ext cx="5292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BC9B-921D-4834-B878-92FBE27725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7" idx="0"/>
            <a:endCxn id="35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8" idx="5"/>
            <a:endCxn id="36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8" idx="6"/>
            <a:endCxn id="36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58" idx="4"/>
            <a:endCxn id="35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6" idx="3"/>
            <a:endCxn id="35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7" idx="7"/>
            <a:endCxn id="36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7"/>
            <a:endCxn id="36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2" idx="6"/>
            <a:endCxn id="37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914400" y="3124080"/>
            <a:ext cx="2362320" cy="609840"/>
            <a:chOff x="914400" y="3124080"/>
            <a:chExt cx="2362320" cy="609840"/>
          </a:xfrm>
        </p:grpSpPr>
        <p:sp>
          <p:nvSpPr>
            <p:cNvPr id="387" name=""/>
            <p:cNvSpPr/>
            <p:nvPr/>
          </p:nvSpPr>
          <p:spPr>
            <a:xfrm>
              <a:off x="914400" y="312408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71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6B4B-35C2-4960-8158-D40F87E6A6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1" idx="0"/>
            <a:endCxn id="39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2" idx="5"/>
            <a:endCxn id="39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2" idx="6"/>
            <a:endCxn id="39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2" idx="4"/>
            <a:endCxn id="39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400" idx="2"/>
            <a:endCxn id="39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400" idx="3"/>
            <a:endCxn id="39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0" idx="7"/>
            <a:endCxn id="39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6" idx="6"/>
            <a:endCxn id="41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B3BF-5A9E-4AF4-ABED-26F1EC8E55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5" idx="0"/>
            <a:endCxn id="4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26" idx="5"/>
            <a:endCxn id="4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6" idx="6"/>
            <a:endCxn id="4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26" idx="4"/>
            <a:endCxn id="4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434" idx="3"/>
            <a:endCxn id="4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25" idx="7"/>
            <a:endCxn id="4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4" idx="7"/>
            <a:endCxn id="4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0" idx="6"/>
            <a:endCxn id="4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3F03-DF3F-4102-B9CE-6A44F1678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9" idx="0"/>
            <a:endCxn id="460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60" idx="5"/>
            <a:endCxn id="463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0" idx="6"/>
            <a:endCxn id="465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60" idx="4"/>
            <a:endCxn id="461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8" idx="2"/>
            <a:endCxn id="467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8" idx="3"/>
            <a:endCxn id="459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9" idx="7"/>
            <a:endCxn id="467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8" idx="7"/>
            <a:endCxn id="465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4" idx="6"/>
            <a:endCxn id="479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0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CD51-ED15-42E9-B85B-7ECDD36233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"/>
          <p:cNvCxnSpPr>
            <a:stCxn id="492" idx="0"/>
            <a:endCxn id="4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3" idx="5"/>
            <a:endCxn id="4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3" idx="6"/>
            <a:endCxn id="4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93" idx="4"/>
            <a:endCxn id="4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501" idx="2"/>
            <a:endCxn id="5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501" idx="3"/>
            <a:endCxn id="4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2" idx="7"/>
            <a:endCxn id="5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1" idx="7"/>
            <a:endCxn id="4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07" idx="6"/>
            <a:endCxn id="5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0010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8954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A751-3F8C-4658-8094-3C3E1CA16C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3" idx="0"/>
            <a:endCxn id="52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4" idx="5"/>
            <a:endCxn id="52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>
            <a:stCxn id="524" idx="6"/>
            <a:endCxn id="52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24" idx="4"/>
            <a:endCxn id="52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32" idx="2"/>
            <a:endCxn id="53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32" idx="3"/>
            <a:endCxn id="52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3" idx="7"/>
            <a:endCxn id="53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2" idx="7"/>
            <a:endCxn id="52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8" idx="6"/>
            <a:endCxn id="54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01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31" idx="3"/>
            <a:endCxn id="523" idx="7"/>
          </p:cNvCxnSpPr>
          <p:nvPr/>
        </p:nvCxnSpPr>
        <p:spPr>
          <a:xfrm flipH="1">
            <a:off x="254556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EB77-AA3B-41C3-B1BA-D78F13809B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"/>
          <p:cNvCxnSpPr>
            <a:stCxn id="553" idx="0"/>
            <a:endCxn id="55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54" idx="5"/>
            <a:endCxn id="55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4" idx="6"/>
            <a:endCxn id="55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>
            <a:stCxn id="554" idx="4"/>
            <a:endCxn id="55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62" idx="2"/>
            <a:endCxn id="56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2" idx="3"/>
            <a:endCxn id="55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3" idx="7"/>
            <a:endCxn id="56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2" idx="7"/>
            <a:endCxn id="55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68" idx="6"/>
            <a:endCxn id="57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773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DAD3-8E93-44FF-8BCF-2060CEFBA8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2" idx="0"/>
            <a:endCxn id="58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83" idx="5"/>
            <a:endCxn id="58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3" idx="6"/>
            <a:endCxn id="58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"/>
          <p:cNvCxnSpPr>
            <a:stCxn id="583" idx="4"/>
            <a:endCxn id="58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91" idx="2"/>
            <a:endCxn id="59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1" idx="3"/>
            <a:endCxn id="58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2" idx="7"/>
            <a:endCxn id="59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1" idx="7"/>
            <a:endCxn id="58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7" idx="6"/>
            <a:endCxn id="60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586" idx="1"/>
            <a:endCxn id="58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07" name=""/>
          <p:cNvGrpSpPr/>
          <p:nvPr/>
        </p:nvGrpSpPr>
        <p:grpSpPr>
          <a:xfrm>
            <a:off x="2201760" y="2260440"/>
            <a:ext cx="2362320" cy="609840"/>
            <a:chOff x="2201760" y="2260440"/>
            <a:chExt cx="2362320" cy="609840"/>
          </a:xfrm>
        </p:grpSpPr>
        <p:sp>
          <p:nvSpPr>
            <p:cNvPr id="608" name=""/>
            <p:cNvSpPr/>
            <p:nvPr/>
          </p:nvSpPr>
          <p:spPr>
            <a:xfrm>
              <a:off x="220176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916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71EB-E64F-4BB4-96B2-BB494FC6E9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2" idx="0"/>
            <a:endCxn id="61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5"/>
            <a:endCxn id="61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3" idx="6"/>
            <a:endCxn id="61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13" idx="4"/>
            <a:endCxn id="61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21" idx="2"/>
            <a:endCxn id="62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21" idx="3"/>
            <a:endCxn id="61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12" idx="7"/>
            <a:endCxn id="62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1" idx="7"/>
            <a:endCxn id="61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27" idx="6"/>
            <a:endCxn id="63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16" idx="1"/>
            <a:endCxn id="61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11DD-0858-414E-8390-B7E7870CC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42" idx="0"/>
            <a:endCxn id="64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"/>
          <p:cNvCxnSpPr>
            <a:stCxn id="643" idx="5"/>
            <a:endCxn id="64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3" idx="6"/>
            <a:endCxn id="64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643" idx="4"/>
            <a:endCxn id="64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1" idx="2"/>
            <a:endCxn id="65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3"/>
            <a:endCxn id="64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42" idx="7"/>
            <a:endCxn id="65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1" idx="7"/>
            <a:endCxn id="64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57" idx="6"/>
            <a:endCxn id="66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A81A-5936-4318-8CAF-2A1C85F83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1" idx="5"/>
            <a:endCxn id="10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1" idx="6"/>
            <a:endCxn id="10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1" idx="4"/>
            <a:endCxn id="10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9" idx="2"/>
            <a:endCxn id="10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3"/>
            <a:endCxn id="10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0" idx="7"/>
            <a:endCxn id="10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9" idx="7"/>
            <a:endCxn id="10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6"/>
            <a:endCxn id="12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04920" y="396252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newly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F25A-02FC-4942-91B8-177ED66CD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stCxn id="671" idx="0"/>
            <a:endCxn id="67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2" idx="5"/>
            <a:endCxn id="67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2" idx="6"/>
            <a:endCxn id="67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2" idx="4"/>
            <a:endCxn id="67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80" idx="2"/>
            <a:endCxn id="67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80" idx="3"/>
            <a:endCxn id="67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71" idx="7"/>
            <a:endCxn id="67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80" idx="7"/>
            <a:endCxn id="67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"/>
          <p:cNvCxnSpPr>
            <a:stCxn id="686" idx="6"/>
            <a:endCxn id="69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73" idx="1"/>
            <a:endCxn id="67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96" name=""/>
          <p:cNvGrpSpPr/>
          <p:nvPr/>
        </p:nvGrpSpPr>
        <p:grpSpPr>
          <a:xfrm>
            <a:off x="914400" y="2260440"/>
            <a:ext cx="2362320" cy="609840"/>
            <a:chOff x="914400" y="2260440"/>
            <a:chExt cx="2362320" cy="609840"/>
          </a:xfrm>
        </p:grpSpPr>
        <p:sp>
          <p:nvSpPr>
            <p:cNvPr id="697" name=""/>
            <p:cNvSpPr/>
            <p:nvPr/>
          </p:nvSpPr>
          <p:spPr>
            <a:xfrm>
              <a:off x="91440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7180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8A1D-1461-41F6-8067-8F7999090B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"/>
          <p:cNvCxnSpPr>
            <a:stCxn id="701" idx="0"/>
            <a:endCxn id="70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"/>
          <p:cNvCxnSpPr>
            <a:stCxn id="702" idx="5"/>
            <a:endCxn id="70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2" idx="6"/>
            <a:endCxn id="70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"/>
          <p:cNvCxnSpPr>
            <a:stCxn id="702" idx="4"/>
            <a:endCxn id="70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2" name=""/>
          <p:cNvCxnSpPr>
            <a:stCxn id="710" idx="2"/>
            <a:endCxn id="70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10" idx="3"/>
            <a:endCxn id="70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4" name=""/>
          <p:cNvCxnSpPr>
            <a:stCxn id="701" idx="7"/>
            <a:endCxn id="70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10" idx="7"/>
            <a:endCxn id="70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16" idx="6"/>
            <a:endCxn id="72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"/>
          <p:cNvCxnSpPr>
            <a:stCxn id="703" idx="1"/>
            <a:endCxn id="70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2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165E-4A0E-4B3B-8652-CCCCA9F762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31" idx="0"/>
            <a:endCxn id="73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2" idx="5"/>
            <a:endCxn id="73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2" idx="6"/>
            <a:endCxn id="73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>
            <a:stCxn id="732" idx="4"/>
            <a:endCxn id="73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2"/>
            <a:endCxn id="73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3" name=""/>
          <p:cNvCxnSpPr>
            <a:stCxn id="740" idx="3"/>
            <a:endCxn id="73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4" name=""/>
          <p:cNvCxnSpPr>
            <a:stCxn id="731" idx="7"/>
            <a:endCxn id="73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40" idx="7"/>
            <a:endCxn id="73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>
            <a:stCxn id="746" idx="6"/>
            <a:endCxn id="75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23CC-33CC-40A2-90F8-7742458667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3" name=""/>
          <p:cNvCxnSpPr>
            <a:stCxn id="760" idx="0"/>
            <a:endCxn id="76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"/>
          <p:cNvCxnSpPr>
            <a:stCxn id="761" idx="5"/>
            <a:endCxn id="76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"/>
          <p:cNvCxnSpPr>
            <a:stCxn id="761" idx="6"/>
            <a:endCxn id="76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"/>
          <p:cNvCxnSpPr>
            <a:stCxn id="761" idx="4"/>
            <a:endCxn id="76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1" name=""/>
          <p:cNvCxnSpPr>
            <a:stCxn id="769" idx="2"/>
            <a:endCxn id="76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stCxn id="769" idx="3"/>
            <a:endCxn id="76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3" name=""/>
          <p:cNvCxnSpPr>
            <a:stCxn id="760" idx="7"/>
            <a:endCxn id="76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69" idx="7"/>
            <a:endCxn id="76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"/>
          <p:cNvCxnSpPr>
            <a:stCxn id="775" idx="6"/>
            <a:endCxn id="78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848720" y="6237360"/>
            <a:ext cx="347400" cy="404640"/>
          </a:xfrm>
          <a:prstGeom prst="upArrow">
            <a:avLst>
              <a:gd name="adj1" fmla="val 49769"/>
              <a:gd name="adj2" fmla="val 61209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"/>
          <p:cNvCxnSpPr>
            <a:stCxn id="766" idx="1"/>
            <a:endCxn id="761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1924-78B4-487D-9E48-D7D65059B4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"/>
          <p:cNvCxnSpPr>
            <a:stCxn id="788" idx="0"/>
            <a:endCxn id="78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89" idx="5"/>
            <a:endCxn id="79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"/>
          <p:cNvCxnSpPr>
            <a:stCxn id="789" idx="6"/>
            <a:endCxn id="79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89" idx="4"/>
            <a:endCxn id="79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97" idx="2"/>
            <a:endCxn id="79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0" name=""/>
          <p:cNvCxnSpPr>
            <a:stCxn id="797" idx="3"/>
            <a:endCxn id="78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88" idx="7"/>
            <a:endCxn id="79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2" name=""/>
          <p:cNvCxnSpPr>
            <a:stCxn id="797" idx="7"/>
            <a:endCxn id="79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"/>
          <p:cNvCxnSpPr>
            <a:stCxn id="803" idx="6"/>
            <a:endCxn id="80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381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00800" y="46483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BC17-6D07-4CC1-966E-5E9F2D38C1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"/>
          <p:cNvCxnSpPr>
            <a:stCxn id="814" idx="0"/>
            <a:endCxn id="81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"/>
          <p:cNvCxnSpPr>
            <a:stCxn id="815" idx="5"/>
            <a:endCxn id="81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"/>
          <p:cNvCxnSpPr>
            <a:stCxn id="815" idx="6"/>
            <a:endCxn id="82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"/>
          <p:cNvCxnSpPr>
            <a:stCxn id="815" idx="4"/>
            <a:endCxn id="81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3" idx="2"/>
            <a:endCxn id="82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23" idx="3"/>
            <a:endCxn id="81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7" name=""/>
          <p:cNvCxnSpPr>
            <a:stCxn id="814" idx="7"/>
            <a:endCxn id="82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823" idx="7"/>
            <a:endCxn id="82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"/>
          <p:cNvCxnSpPr>
            <a:stCxn id="829" idx="6"/>
            <a:endCxn id="83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0C81-AD2A-4229-8E6C-82DDFF9BE1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3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38" idx="0"/>
            <a:endCxn id="83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"/>
          <p:cNvCxnSpPr>
            <a:stCxn id="839" idx="5"/>
            <a:endCxn id="84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"/>
          <p:cNvCxnSpPr>
            <a:stCxn id="839" idx="6"/>
            <a:endCxn id="84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39" idx="4"/>
            <a:endCxn id="84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9" name=""/>
          <p:cNvCxnSpPr>
            <a:stCxn id="847" idx="2"/>
            <a:endCxn id="84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0" name=""/>
          <p:cNvCxnSpPr>
            <a:stCxn id="847" idx="3"/>
            <a:endCxn id="83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1" name=""/>
          <p:cNvCxnSpPr>
            <a:stCxn id="838" idx="7"/>
            <a:endCxn id="84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2" name=""/>
          <p:cNvCxnSpPr>
            <a:stCxn id="847" idx="7"/>
            <a:endCxn id="84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"/>
          <p:cNvCxnSpPr>
            <a:stCxn id="853" idx="6"/>
            <a:endCxn id="85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"/>
          <p:cNvCxnSpPr>
            <a:stCxn id="858" idx="2"/>
            <a:endCxn id="85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864" name=""/>
          <p:cNvGrpSpPr/>
          <p:nvPr/>
        </p:nvGrpSpPr>
        <p:grpSpPr>
          <a:xfrm>
            <a:off x="6145200" y="1203480"/>
            <a:ext cx="2209320" cy="609480"/>
            <a:chOff x="6145200" y="1203480"/>
            <a:chExt cx="2209320" cy="609480"/>
          </a:xfrm>
        </p:grpSpPr>
        <p:sp>
          <p:nvSpPr>
            <p:cNvPr id="865" name=""/>
            <p:cNvSpPr/>
            <p:nvPr/>
          </p:nvSpPr>
          <p:spPr>
            <a:xfrm>
              <a:off x="6678360" y="12034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45200" y="12034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9973-CEF9-4FBC-87DD-B8DD8051E4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"/>
          <p:cNvCxnSpPr>
            <a:stCxn id="868" idx="0"/>
            <a:endCxn id="86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9" idx="5"/>
            <a:endCxn id="87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5" name=""/>
          <p:cNvCxnSpPr>
            <a:stCxn id="869" idx="6"/>
            <a:endCxn id="87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"/>
          <p:cNvCxnSpPr>
            <a:stCxn id="869" idx="4"/>
            <a:endCxn id="87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stCxn id="877" idx="2"/>
            <a:endCxn id="87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7" idx="3"/>
            <a:endCxn id="86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stCxn id="868" idx="7"/>
            <a:endCxn id="87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77" idx="7"/>
            <a:endCxn id="87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"/>
          <p:cNvCxnSpPr>
            <a:stCxn id="883" idx="6"/>
            <a:endCxn id="88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"/>
          <p:cNvCxnSpPr>
            <a:stCxn id="888" idx="2"/>
            <a:endCxn id="88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94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7052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0A59-CB97-42F9-82B0-9F70D7F94C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"/>
          <p:cNvCxnSpPr>
            <a:stCxn id="898" idx="0"/>
            <a:endCxn id="89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"/>
          <p:cNvCxnSpPr>
            <a:stCxn id="899" idx="5"/>
            <a:endCxn id="90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"/>
          <p:cNvCxnSpPr>
            <a:stCxn id="899" idx="6"/>
            <a:endCxn id="90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"/>
          <p:cNvCxnSpPr>
            <a:stCxn id="899" idx="4"/>
            <a:endCxn id="90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7" idx="2"/>
            <a:endCxn id="90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0" name=""/>
          <p:cNvCxnSpPr>
            <a:stCxn id="907" idx="3"/>
            <a:endCxn id="89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898" idx="7"/>
            <a:endCxn id="90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7" idx="7"/>
            <a:endCxn id="90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>
            <a:stCxn id="913" idx="6"/>
            <a:endCxn id="91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248520" y="36576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B714-62BA-4BFE-AC43-19C2E82BA3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2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"/>
          <p:cNvCxnSpPr>
            <a:stCxn id="927" idx="0"/>
            <a:endCxn id="92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"/>
          <p:cNvCxnSpPr>
            <a:stCxn id="928" idx="5"/>
            <a:endCxn id="93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"/>
          <p:cNvCxnSpPr>
            <a:stCxn id="928" idx="6"/>
            <a:endCxn id="93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"/>
          <p:cNvCxnSpPr>
            <a:stCxn id="928" idx="4"/>
            <a:endCxn id="92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6" idx="2"/>
            <a:endCxn id="93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6" idx="3"/>
            <a:endCxn id="92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27" idx="7"/>
            <a:endCxn id="93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36" idx="7"/>
            <a:endCxn id="93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8" name=""/>
          <p:cNvCxnSpPr>
            <a:stCxn id="942" idx="6"/>
            <a:endCxn id="94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467480" y="61768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48520" y="45720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FD89-7BD1-4918-B228-BBE7C73990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5"/>
            <a:endCxn id="13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6"/>
            <a:endCxn id="13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4"/>
            <a:endCxn id="13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7" idx="2"/>
            <a:endCxn id="13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7" idx="3"/>
            <a:endCxn id="12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8" idx="7"/>
            <a:endCxn id="13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7"/>
            <a:endCxn id="13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3" idx="6"/>
            <a:endCxn id="14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005D-8F8E-4619-A23B-2FDC42170F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>
            <a:stCxn id="954" idx="0"/>
            <a:endCxn id="95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>
            <a:stCxn id="955" idx="5"/>
            <a:endCxn id="95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>
            <a:stCxn id="955" idx="6"/>
            <a:endCxn id="96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>
            <a:stCxn id="955" idx="4"/>
            <a:endCxn id="95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5" name=""/>
          <p:cNvCxnSpPr>
            <a:stCxn id="963" idx="2"/>
            <a:endCxn id="96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6" name=""/>
          <p:cNvCxnSpPr>
            <a:stCxn id="963" idx="3"/>
            <a:endCxn id="95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7" name=""/>
          <p:cNvCxnSpPr>
            <a:stCxn id="954" idx="7"/>
            <a:endCxn id="96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8" name=""/>
          <p:cNvCxnSpPr>
            <a:stCxn id="963" idx="7"/>
            <a:endCxn id="96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"/>
          <p:cNvCxnSpPr>
            <a:stCxn id="969" idx="6"/>
            <a:endCxn id="97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76B9-9B9F-4E11-A00E-1C37443DCB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0"/>
            <a:endCxn id="1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9" idx="5"/>
            <a:endCxn id="1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9" idx="6"/>
            <a:endCxn id="1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9" idx="4"/>
            <a:endCxn id="1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7" idx="2"/>
            <a:endCxn id="1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7" idx="3"/>
            <a:endCxn id="1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8" idx="7"/>
            <a:endCxn id="1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7"/>
            <a:endCxn id="1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3" idx="6"/>
            <a:endCxn id="1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58" idx="6"/>
            <a:endCxn id="167" idx="3"/>
          </p:cNvCxnSpPr>
          <p:nvPr/>
        </p:nvCxnSpPr>
        <p:spPr>
          <a:xfrm flipV="1">
            <a:off x="2598840" y="354456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67080" y="3276720"/>
            <a:ext cx="2210040" cy="609480"/>
            <a:chOff x="4267080" y="3276720"/>
            <a:chExt cx="2210040" cy="609480"/>
          </a:xfrm>
        </p:grpSpPr>
        <p:sp>
          <p:nvSpPr>
            <p:cNvPr id="186" name=""/>
            <p:cNvSpPr/>
            <p:nvPr/>
          </p:nvSpPr>
          <p:spPr>
            <a:xfrm>
              <a:off x="4800600" y="3276720"/>
              <a:ext cx="167652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08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A017-DEAD-4451-AC76-9C9F93989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0" idx="0"/>
            <a:endCxn id="19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1" idx="5"/>
            <a:endCxn id="19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1" idx="6"/>
            <a:endCxn id="19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1" idx="4"/>
            <a:endCxn id="19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9" idx="2"/>
            <a:endCxn id="19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9" idx="3"/>
            <a:endCxn id="19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0" idx="7"/>
            <a:endCxn id="19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7"/>
            <a:endCxn id="19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5" idx="6"/>
            <a:endCxn id="21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196" idx="3"/>
            <a:endCxn id="199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219" name=""/>
          <p:cNvGrpSpPr/>
          <p:nvPr/>
        </p:nvGrpSpPr>
        <p:grpSpPr>
          <a:xfrm>
            <a:off x="5334120" y="2413080"/>
            <a:ext cx="2209320" cy="609480"/>
            <a:chOff x="5334120" y="2413080"/>
            <a:chExt cx="2209320" cy="609480"/>
          </a:xfrm>
        </p:grpSpPr>
        <p:sp>
          <p:nvSpPr>
            <p:cNvPr id="220" name=""/>
            <p:cNvSpPr/>
            <p:nvPr/>
          </p:nvSpPr>
          <p:spPr>
            <a:xfrm>
              <a:off x="5867280" y="24130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4120" y="24130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4E57-B9DD-4067-86A9-AE13F83A9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4" idx="0"/>
            <a:endCxn id="22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5" idx="5"/>
            <a:endCxn id="22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5" idx="6"/>
            <a:endCxn id="23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5" idx="4"/>
            <a:endCxn id="22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3" idx="2"/>
            <a:endCxn id="23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3" idx="3"/>
            <a:endCxn id="22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4" idx="7"/>
            <a:endCxn id="23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3" idx="7"/>
            <a:endCxn id="23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9" idx="6"/>
            <a:endCxn id="24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30" idx="3"/>
            <a:endCxn id="233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5812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E271-1337-4394-8B6C-CB66B9A126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8" idx="0"/>
            <a:endCxn id="2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9" idx="5"/>
            <a:endCxn id="2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9" idx="6"/>
            <a:endCxn id="2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59" idx="4"/>
            <a:endCxn id="2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7" idx="2"/>
            <a:endCxn id="2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67" idx="3"/>
            <a:endCxn id="2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58" idx="7"/>
            <a:endCxn id="2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7" idx="7"/>
            <a:endCxn id="2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6"/>
            <a:endCxn id="2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64" idx="1"/>
            <a:endCxn id="259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486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61E9-59F0-43F5-9BFA-9048C30CB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0"/>
            <a:endCxn id="2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3" idx="5"/>
            <a:endCxn id="2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3" idx="6"/>
            <a:endCxn id="2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3" idx="4"/>
            <a:endCxn id="2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301" idx="2"/>
            <a:endCxn id="3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1" idx="3"/>
            <a:endCxn id="2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2" idx="7"/>
            <a:endCxn id="3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1" idx="7"/>
            <a:endCxn id="2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7" idx="6"/>
            <a:endCxn id="3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058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D76F-83E7-4164-82C8-8D57814406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5" idx="0"/>
            <a:endCxn id="3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26" idx="5"/>
            <a:endCxn id="3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26" idx="6"/>
            <a:endCxn id="3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6" idx="4"/>
            <a:endCxn id="3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4" idx="2"/>
            <a:endCxn id="3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5" idx="7"/>
            <a:endCxn id="3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4" idx="7"/>
            <a:endCxn id="3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0" idx="6"/>
            <a:endCxn id="3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44956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216D-3486-4F7D-AE80-4A9B1031D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1-04-10T14:29:02Z</dcterms:modified>
  <cp:revision>606</cp:revision>
  <dc:subject/>
  <dc:title>Trees</dc:title>
</cp:coreProperties>
</file>