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1A5D-DA35-4B43-9EE2-BA261EDBB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BD53-3FCC-4F0D-80B0-FDF7B5BBD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E18F-4C3F-4982-85E0-D3816A621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9943-5774-4DF5-A5FE-4E8D6335D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2F12-3521-4F3A-99E8-8F574D9EB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A92F-8E61-42CC-8558-A5F358CE4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E108-F132-418B-8D5D-199646BE7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64D2-5A69-472E-9F6E-E2ABEB796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63CF-6708-48A4-8D7E-A5C3DF2A4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99BE-3913-4D37-B8C3-C49F3D7A9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3A17-1475-410F-B3BA-2E13B1B9F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A4EF-DE24-40B8-9C00-933192D48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58A-BB1C-4EBE-A8A2-66477D30352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41" name="datinfo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14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>
            <a:off x="6210360" y="2991600"/>
            <a:ext cx="19238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C B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F 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G F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A E 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E 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I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0" idx="0"/>
            <a:endCxn id="81" idx="4"/>
          </p:cNvCxnSpPr>
          <p:nvPr/>
        </p:nvCxnSpPr>
        <p:spPr>
          <a:xfrm flipV="1">
            <a:off x="2438640" y="1373040"/>
            <a:ext cx="360" cy="2818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2546280" y="1328400"/>
            <a:ext cx="1765800" cy="113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2590920" y="1219680"/>
            <a:ext cx="2788200" cy="1241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1" idx="4"/>
            <a:endCxn id="82" idx="1"/>
          </p:cNvCxnSpPr>
          <p:nvPr/>
        </p:nvCxnSpPr>
        <p:spPr>
          <a:xfrm>
            <a:off x="2438640" y="1373040"/>
            <a:ext cx="578160" cy="1088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9" idx="2"/>
            <a:endCxn id="88" idx="6"/>
          </p:cNvCxnSpPr>
          <p:nvPr/>
        </p:nvCxnSpPr>
        <p:spPr>
          <a:xfrm flipH="1">
            <a:off x="3276720" y="3429000"/>
            <a:ext cx="990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9" idx="3"/>
            <a:endCxn id="80" idx="6"/>
          </p:cNvCxnSpPr>
          <p:nvPr/>
        </p:nvCxnSpPr>
        <p:spPr>
          <a:xfrm flipH="1">
            <a:off x="2590920" y="3536640"/>
            <a:ext cx="172116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0" idx="7"/>
            <a:endCxn id="88" idx="3"/>
          </p:cNvCxnSpPr>
          <p:nvPr/>
        </p:nvCxnSpPr>
        <p:spPr>
          <a:xfrm flipV="1">
            <a:off x="2546280" y="3536640"/>
            <a:ext cx="470520" cy="69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9" idx="7"/>
            <a:endCxn id="86" idx="3"/>
          </p:cNvCxnSpPr>
          <p:nvPr/>
        </p:nvCxnSpPr>
        <p:spPr>
          <a:xfrm flipV="1">
            <a:off x="4527360" y="2676240"/>
            <a:ext cx="851760" cy="645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6"/>
            <a:endCxn id="96" idx="2"/>
          </p:cNvCxnSpPr>
          <p:nvPr/>
        </p:nvCxnSpPr>
        <p:spPr>
          <a:xfrm>
            <a:off x="5611680" y="1352520"/>
            <a:ext cx="5292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D65A-1FD6-41DE-B210-233FB89EC5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7" idx="0"/>
            <a:endCxn id="35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8" idx="5"/>
            <a:endCxn id="36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8" idx="6"/>
            <a:endCxn id="36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58" idx="4"/>
            <a:endCxn id="35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3"/>
            <a:endCxn id="35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7" idx="7"/>
            <a:endCxn id="36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7"/>
            <a:endCxn id="36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2" idx="6"/>
            <a:endCxn id="37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914400" y="3124080"/>
            <a:ext cx="2362320" cy="609840"/>
            <a:chOff x="914400" y="3124080"/>
            <a:chExt cx="2362320" cy="609840"/>
          </a:xfrm>
        </p:grpSpPr>
        <p:sp>
          <p:nvSpPr>
            <p:cNvPr id="387" name=""/>
            <p:cNvSpPr/>
            <p:nvPr/>
          </p:nvSpPr>
          <p:spPr>
            <a:xfrm>
              <a:off x="914400" y="312408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71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E6AF-EDC6-46B6-885C-654709679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0"/>
            <a:endCxn id="39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2" idx="5"/>
            <a:endCxn id="39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2" idx="6"/>
            <a:endCxn id="39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2" idx="4"/>
            <a:endCxn id="39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400" idx="2"/>
            <a:endCxn id="39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400" idx="3"/>
            <a:endCxn id="39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0" idx="7"/>
            <a:endCxn id="39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6" idx="6"/>
            <a:endCxn id="41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ECE5-8136-4E6F-90D8-19D4D934D0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5" idx="0"/>
            <a:endCxn id="4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6" idx="5"/>
            <a:endCxn id="4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6" idx="6"/>
            <a:endCxn id="4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26" idx="4"/>
            <a:endCxn id="4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434" idx="3"/>
            <a:endCxn id="4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25" idx="7"/>
            <a:endCxn id="4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4" idx="7"/>
            <a:endCxn id="4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0" idx="6"/>
            <a:endCxn id="4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20E2-6F03-42D2-AC3C-8DF5178654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  <a:endCxn id="460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60" idx="5"/>
            <a:endCxn id="463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6"/>
            <a:endCxn id="465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0" idx="4"/>
            <a:endCxn id="461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8" idx="2"/>
            <a:endCxn id="467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8" idx="3"/>
            <a:endCxn id="459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9" idx="7"/>
            <a:endCxn id="467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8" idx="7"/>
            <a:endCxn id="465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4" idx="6"/>
            <a:endCxn id="479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0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4988-08CE-485D-9903-6D2133452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92" idx="0"/>
            <a:endCxn id="4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3" idx="5"/>
            <a:endCxn id="4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3" idx="6"/>
            <a:endCxn id="4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3" idx="4"/>
            <a:endCxn id="4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501" idx="2"/>
            <a:endCxn id="5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501" idx="3"/>
            <a:endCxn id="4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7"/>
            <a:endCxn id="5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1" idx="7"/>
            <a:endCxn id="4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07" idx="6"/>
            <a:endCxn id="5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010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8954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75CC-84F0-43CC-B5CF-B4F246D08D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3" idx="0"/>
            <a:endCxn id="52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4" idx="5"/>
            <a:endCxn id="52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4" idx="6"/>
            <a:endCxn id="52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4" idx="4"/>
            <a:endCxn id="52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32" idx="2"/>
            <a:endCxn id="53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32" idx="3"/>
            <a:endCxn id="52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7"/>
            <a:endCxn id="53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2" idx="7"/>
            <a:endCxn id="52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8" idx="6"/>
            <a:endCxn id="54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01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1" idx="3"/>
            <a:endCxn id="523" idx="7"/>
          </p:cNvCxnSpPr>
          <p:nvPr/>
        </p:nvCxnSpPr>
        <p:spPr>
          <a:xfrm flipH="1">
            <a:off x="254556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28F2-39DD-4DE6-B443-984ED8C90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"/>
          <p:cNvCxnSpPr>
            <a:stCxn id="553" idx="0"/>
            <a:endCxn id="55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4" idx="5"/>
            <a:endCxn id="55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4" idx="6"/>
            <a:endCxn id="55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stCxn id="554" idx="4"/>
            <a:endCxn id="55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62" idx="2"/>
            <a:endCxn id="56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2" idx="3"/>
            <a:endCxn id="55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3" idx="7"/>
            <a:endCxn id="56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2" idx="7"/>
            <a:endCxn id="55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68" idx="6"/>
            <a:endCxn id="57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773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8516-AB9B-4D51-B232-AA2F2BD3F8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2" idx="0"/>
            <a:endCxn id="58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83" idx="5"/>
            <a:endCxn id="58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3" idx="6"/>
            <a:endCxn id="58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"/>
          <p:cNvCxnSpPr>
            <a:stCxn id="583" idx="4"/>
            <a:endCxn id="58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91" idx="2"/>
            <a:endCxn id="59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1" idx="3"/>
            <a:endCxn id="58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2" idx="7"/>
            <a:endCxn id="59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1" idx="7"/>
            <a:endCxn id="58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7" idx="6"/>
            <a:endCxn id="60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86" idx="1"/>
            <a:endCxn id="58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07" name=""/>
          <p:cNvGrpSpPr/>
          <p:nvPr/>
        </p:nvGrpSpPr>
        <p:grpSpPr>
          <a:xfrm>
            <a:off x="2201760" y="2260440"/>
            <a:ext cx="2362320" cy="609840"/>
            <a:chOff x="2201760" y="2260440"/>
            <a:chExt cx="2362320" cy="609840"/>
          </a:xfrm>
        </p:grpSpPr>
        <p:sp>
          <p:nvSpPr>
            <p:cNvPr id="608" name=""/>
            <p:cNvSpPr/>
            <p:nvPr/>
          </p:nvSpPr>
          <p:spPr>
            <a:xfrm>
              <a:off x="220176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916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02C6-A9B1-4A4D-B19D-3719739D78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2" idx="0"/>
            <a:endCxn id="61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5"/>
            <a:endCxn id="61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3" idx="6"/>
            <a:endCxn id="61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13" idx="4"/>
            <a:endCxn id="61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21" idx="2"/>
            <a:endCxn id="62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21" idx="3"/>
            <a:endCxn id="61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2" idx="7"/>
            <a:endCxn id="62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1" idx="7"/>
            <a:endCxn id="61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27" idx="6"/>
            <a:endCxn id="63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16" idx="1"/>
            <a:endCxn id="61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13CD-376D-4DFE-B869-F44886DF63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42" idx="0"/>
            <a:endCxn id="64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"/>
          <p:cNvCxnSpPr>
            <a:stCxn id="643" idx="5"/>
            <a:endCxn id="64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3" idx="6"/>
            <a:endCxn id="64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4"/>
            <a:endCxn id="64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1" idx="2"/>
            <a:endCxn id="65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3"/>
            <a:endCxn id="64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42" idx="7"/>
            <a:endCxn id="65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1" idx="7"/>
            <a:endCxn id="64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57" idx="6"/>
            <a:endCxn id="66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80B7-44D9-433E-B2B3-4C44789612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1" idx="5"/>
            <a:endCxn id="10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6"/>
            <a:endCxn id="10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1" idx="4"/>
            <a:endCxn id="10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9" idx="2"/>
            <a:endCxn id="10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3"/>
            <a:endCxn id="10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0" idx="7"/>
            <a:endCxn id="10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9" idx="7"/>
            <a:endCxn id="10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6"/>
            <a:endCxn id="12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04920" y="396252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newly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C177-6417-410F-BCC5-9561168683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71" idx="0"/>
            <a:endCxn id="67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2" idx="5"/>
            <a:endCxn id="67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2" idx="6"/>
            <a:endCxn id="67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2" idx="4"/>
            <a:endCxn id="67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80" idx="2"/>
            <a:endCxn id="67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80" idx="3"/>
            <a:endCxn id="67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71" idx="7"/>
            <a:endCxn id="67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80" idx="7"/>
            <a:endCxn id="67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>
            <a:stCxn id="686" idx="6"/>
            <a:endCxn id="69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73" idx="1"/>
            <a:endCxn id="67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96" name=""/>
          <p:cNvGrpSpPr/>
          <p:nvPr/>
        </p:nvGrpSpPr>
        <p:grpSpPr>
          <a:xfrm>
            <a:off x="914400" y="2260440"/>
            <a:ext cx="2362320" cy="609840"/>
            <a:chOff x="914400" y="2260440"/>
            <a:chExt cx="2362320" cy="609840"/>
          </a:xfrm>
        </p:grpSpPr>
        <p:sp>
          <p:nvSpPr>
            <p:cNvPr id="697" name=""/>
            <p:cNvSpPr/>
            <p:nvPr/>
          </p:nvSpPr>
          <p:spPr>
            <a:xfrm>
              <a:off x="91440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7180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099F-F688-4BDA-9F54-467EFE6F1E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"/>
          <p:cNvCxnSpPr>
            <a:stCxn id="701" idx="0"/>
            <a:endCxn id="70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>
            <a:stCxn id="702" idx="5"/>
            <a:endCxn id="70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2" idx="6"/>
            <a:endCxn id="70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"/>
          <p:cNvCxnSpPr>
            <a:stCxn id="702" idx="4"/>
            <a:endCxn id="70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10" idx="2"/>
            <a:endCxn id="70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10" idx="3"/>
            <a:endCxn id="70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701" idx="7"/>
            <a:endCxn id="70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0" idx="7"/>
            <a:endCxn id="70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16" idx="6"/>
            <a:endCxn id="72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"/>
          <p:cNvCxnSpPr>
            <a:stCxn id="703" idx="1"/>
            <a:endCxn id="70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2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3A84-CE0C-4DB9-A1F9-E401106479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1" idx="0"/>
            <a:endCxn id="73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2" idx="5"/>
            <a:endCxn id="73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2" idx="6"/>
            <a:endCxn id="73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2" idx="4"/>
            <a:endCxn id="73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2"/>
            <a:endCxn id="73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3" name=""/>
          <p:cNvCxnSpPr>
            <a:stCxn id="740" idx="3"/>
            <a:endCxn id="73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4" name=""/>
          <p:cNvCxnSpPr>
            <a:stCxn id="731" idx="7"/>
            <a:endCxn id="73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40" idx="7"/>
            <a:endCxn id="73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46" idx="6"/>
            <a:endCxn id="75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4019-7EFA-4AEC-9BDA-D8C97467F8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"/>
          <p:cNvCxnSpPr>
            <a:stCxn id="760" idx="0"/>
            <a:endCxn id="76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"/>
          <p:cNvCxnSpPr>
            <a:stCxn id="761" idx="5"/>
            <a:endCxn id="76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"/>
          <p:cNvCxnSpPr>
            <a:stCxn id="761" idx="6"/>
            <a:endCxn id="76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"/>
          <p:cNvCxnSpPr>
            <a:stCxn id="761" idx="4"/>
            <a:endCxn id="76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1" name=""/>
          <p:cNvCxnSpPr>
            <a:stCxn id="769" idx="2"/>
            <a:endCxn id="7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stCxn id="769" idx="3"/>
            <a:endCxn id="76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3" name=""/>
          <p:cNvCxnSpPr>
            <a:stCxn id="760" idx="7"/>
            <a:endCxn id="76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7"/>
            <a:endCxn id="76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5" idx="6"/>
            <a:endCxn id="78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848720" y="6237360"/>
            <a:ext cx="347400" cy="404640"/>
          </a:xfrm>
          <a:prstGeom prst="upArrow">
            <a:avLst>
              <a:gd name="adj1" fmla="val 49769"/>
              <a:gd name="adj2" fmla="val 61209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"/>
          <p:cNvCxnSpPr>
            <a:stCxn id="766" idx="1"/>
            <a:endCxn id="761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A994-4CC6-4F83-9E11-5FB9EFACD9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"/>
          <p:cNvCxnSpPr>
            <a:stCxn id="788" idx="0"/>
            <a:endCxn id="78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89" idx="5"/>
            <a:endCxn id="79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stCxn id="789" idx="6"/>
            <a:endCxn id="79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89" idx="4"/>
            <a:endCxn id="79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97" idx="2"/>
            <a:endCxn id="79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7" idx="3"/>
            <a:endCxn id="78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88" idx="7"/>
            <a:endCxn id="79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2" name=""/>
          <p:cNvCxnSpPr>
            <a:stCxn id="797" idx="7"/>
            <a:endCxn id="79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"/>
          <p:cNvCxnSpPr>
            <a:stCxn id="803" idx="6"/>
            <a:endCxn id="80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381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0800" y="46483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A2BF-C672-4B5B-8FB6-BD4064E381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"/>
          <p:cNvCxnSpPr>
            <a:stCxn id="814" idx="0"/>
            <a:endCxn id="81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5"/>
            <a:endCxn id="81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"/>
          <p:cNvCxnSpPr>
            <a:stCxn id="815" idx="6"/>
            <a:endCxn id="82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"/>
          <p:cNvCxnSpPr>
            <a:stCxn id="815" idx="4"/>
            <a:endCxn id="81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3" idx="2"/>
            <a:endCxn id="82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23" idx="3"/>
            <a:endCxn id="81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stCxn id="814" idx="7"/>
            <a:endCxn id="82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23" idx="7"/>
            <a:endCxn id="82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"/>
          <p:cNvCxnSpPr>
            <a:stCxn id="829" idx="6"/>
            <a:endCxn id="83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B3EE-19F1-48A2-9145-F5E9DC0C5B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8" idx="0"/>
            <a:endCxn id="83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"/>
          <p:cNvCxnSpPr>
            <a:stCxn id="839" idx="5"/>
            <a:endCxn id="84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"/>
          <p:cNvCxnSpPr>
            <a:stCxn id="839" idx="6"/>
            <a:endCxn id="84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39" idx="4"/>
            <a:endCxn id="84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9" name=""/>
          <p:cNvCxnSpPr>
            <a:stCxn id="847" idx="2"/>
            <a:endCxn id="84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0" name=""/>
          <p:cNvCxnSpPr>
            <a:stCxn id="847" idx="3"/>
            <a:endCxn id="83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38" idx="7"/>
            <a:endCxn id="84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2" name=""/>
          <p:cNvCxnSpPr>
            <a:stCxn id="847" idx="7"/>
            <a:endCxn id="84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6"/>
            <a:endCxn id="85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"/>
          <p:cNvCxnSpPr>
            <a:stCxn id="858" idx="2"/>
            <a:endCxn id="85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864" name=""/>
          <p:cNvGrpSpPr/>
          <p:nvPr/>
        </p:nvGrpSpPr>
        <p:grpSpPr>
          <a:xfrm>
            <a:off x="6145200" y="1203480"/>
            <a:ext cx="2209320" cy="609480"/>
            <a:chOff x="6145200" y="1203480"/>
            <a:chExt cx="2209320" cy="609480"/>
          </a:xfrm>
        </p:grpSpPr>
        <p:sp>
          <p:nvSpPr>
            <p:cNvPr id="865" name=""/>
            <p:cNvSpPr/>
            <p:nvPr/>
          </p:nvSpPr>
          <p:spPr>
            <a:xfrm>
              <a:off x="6678360" y="12034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5200" y="12034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82E3-9F9D-41C7-BFC2-750B736EED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"/>
          <p:cNvCxnSpPr>
            <a:stCxn id="868" idx="0"/>
            <a:endCxn id="86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9" idx="5"/>
            <a:endCxn id="87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"/>
          <p:cNvCxnSpPr>
            <a:stCxn id="869" idx="6"/>
            <a:endCxn id="87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"/>
          <p:cNvCxnSpPr>
            <a:stCxn id="869" idx="4"/>
            <a:endCxn id="87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7" idx="2"/>
            <a:endCxn id="87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7" idx="3"/>
            <a:endCxn id="86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68" idx="7"/>
            <a:endCxn id="87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7" idx="7"/>
            <a:endCxn id="87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"/>
          <p:cNvCxnSpPr>
            <a:stCxn id="883" idx="6"/>
            <a:endCxn id="88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"/>
          <p:cNvCxnSpPr>
            <a:stCxn id="888" idx="2"/>
            <a:endCxn id="88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7052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220E-8FA2-4C1A-B6C2-3C8C4344F1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"/>
          <p:cNvCxnSpPr>
            <a:stCxn id="898" idx="0"/>
            <a:endCxn id="89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"/>
          <p:cNvCxnSpPr>
            <a:stCxn id="899" idx="5"/>
            <a:endCxn id="90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"/>
          <p:cNvCxnSpPr>
            <a:stCxn id="899" idx="6"/>
            <a:endCxn id="90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"/>
          <p:cNvCxnSpPr>
            <a:stCxn id="899" idx="4"/>
            <a:endCxn id="90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7" idx="2"/>
            <a:endCxn id="90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907" idx="3"/>
            <a:endCxn id="89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98" idx="7"/>
            <a:endCxn id="90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7" idx="7"/>
            <a:endCxn id="90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>
            <a:stCxn id="913" idx="6"/>
            <a:endCxn id="91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248520" y="36576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3867-54FB-4C4F-B3B2-F24BAF1131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7" idx="0"/>
            <a:endCxn id="92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"/>
          <p:cNvCxnSpPr>
            <a:stCxn id="928" idx="5"/>
            <a:endCxn id="93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"/>
          <p:cNvCxnSpPr>
            <a:stCxn id="928" idx="6"/>
            <a:endCxn id="93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"/>
          <p:cNvCxnSpPr>
            <a:stCxn id="928" idx="4"/>
            <a:endCxn id="92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6" idx="2"/>
            <a:endCxn id="93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6" idx="3"/>
            <a:endCxn id="92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27" idx="7"/>
            <a:endCxn id="93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36" idx="7"/>
            <a:endCxn id="93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2" idx="6"/>
            <a:endCxn id="94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467480" y="61768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45720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D358-1E6F-4242-854F-DF1BB6E842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5"/>
            <a:endCxn id="13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6"/>
            <a:endCxn id="13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4"/>
            <a:endCxn id="13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7" idx="2"/>
            <a:endCxn id="13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2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8" idx="7"/>
            <a:endCxn id="13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7"/>
            <a:endCxn id="13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3" idx="6"/>
            <a:endCxn id="14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CA9A-5A22-4B8E-B848-F62B0B42B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>
            <a:stCxn id="954" idx="0"/>
            <a:endCxn id="95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>
            <a:stCxn id="955" idx="5"/>
            <a:endCxn id="95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>
            <a:stCxn id="955" idx="6"/>
            <a:endCxn id="96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>
            <a:stCxn id="955" idx="4"/>
            <a:endCxn id="95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5" name=""/>
          <p:cNvCxnSpPr>
            <a:stCxn id="963" idx="2"/>
            <a:endCxn id="96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6" name=""/>
          <p:cNvCxnSpPr>
            <a:stCxn id="963" idx="3"/>
            <a:endCxn id="95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54" idx="7"/>
            <a:endCxn id="96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8" name=""/>
          <p:cNvCxnSpPr>
            <a:stCxn id="963" idx="7"/>
            <a:endCxn id="96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"/>
          <p:cNvCxnSpPr>
            <a:stCxn id="969" idx="6"/>
            <a:endCxn id="97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2915-3AD9-4739-A377-D90730E545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0"/>
            <a:endCxn id="1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9" idx="5"/>
            <a:endCxn id="1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9" idx="6"/>
            <a:endCxn id="1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9" idx="4"/>
            <a:endCxn id="1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7" idx="2"/>
            <a:endCxn id="1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7" idx="3"/>
            <a:endCxn id="1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8" idx="7"/>
            <a:endCxn id="1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7"/>
            <a:endCxn id="1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3" idx="6"/>
            <a:endCxn id="1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58" idx="6"/>
            <a:endCxn id="167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3276720"/>
            <a:ext cx="2210040" cy="609480"/>
            <a:chOff x="4267080" y="3276720"/>
            <a:chExt cx="2210040" cy="609480"/>
          </a:xfrm>
        </p:grpSpPr>
        <p:sp>
          <p:nvSpPr>
            <p:cNvPr id="186" name=""/>
            <p:cNvSpPr/>
            <p:nvPr/>
          </p:nvSpPr>
          <p:spPr>
            <a:xfrm>
              <a:off x="4800600" y="3276720"/>
              <a:ext cx="167652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1BB5-C955-4EC9-8AB3-A06444570F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0"/>
            <a:endCxn id="19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1" idx="5"/>
            <a:endCxn id="19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1" idx="6"/>
            <a:endCxn id="19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1" idx="4"/>
            <a:endCxn id="19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9" idx="2"/>
            <a:endCxn id="19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9" idx="3"/>
            <a:endCxn id="19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0" idx="7"/>
            <a:endCxn id="19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7"/>
            <a:endCxn id="19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5" idx="6"/>
            <a:endCxn id="21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96" idx="3"/>
            <a:endCxn id="199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219" name=""/>
          <p:cNvGrpSpPr/>
          <p:nvPr/>
        </p:nvGrpSpPr>
        <p:grpSpPr>
          <a:xfrm>
            <a:off x="5334120" y="2413080"/>
            <a:ext cx="2209320" cy="609480"/>
            <a:chOff x="5334120" y="2413080"/>
            <a:chExt cx="2209320" cy="609480"/>
          </a:xfrm>
        </p:grpSpPr>
        <p:sp>
          <p:nvSpPr>
            <p:cNvPr id="220" name=""/>
            <p:cNvSpPr/>
            <p:nvPr/>
          </p:nvSpPr>
          <p:spPr>
            <a:xfrm>
              <a:off x="5867280" y="24130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4120" y="24130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CA54-6DCC-4D95-B7C1-C8570BFD6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4" idx="0"/>
            <a:endCxn id="22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5" idx="5"/>
            <a:endCxn id="22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5" idx="6"/>
            <a:endCxn id="23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5" idx="4"/>
            <a:endCxn id="22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3" idx="2"/>
            <a:endCxn id="23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3"/>
            <a:endCxn id="22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7"/>
            <a:endCxn id="23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3" idx="7"/>
            <a:endCxn id="23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6"/>
            <a:endCxn id="24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0" idx="3"/>
            <a:endCxn id="233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5812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BDEC-3406-418E-809C-AEC5569E6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8" idx="0"/>
            <a:endCxn id="2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9" idx="5"/>
            <a:endCxn id="2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9" idx="6"/>
            <a:endCxn id="2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9" idx="4"/>
            <a:endCxn id="2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7" idx="2"/>
            <a:endCxn id="2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7" idx="3"/>
            <a:endCxn id="2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8" idx="7"/>
            <a:endCxn id="2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7" idx="7"/>
            <a:endCxn id="2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6"/>
            <a:endCxn id="2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64" idx="1"/>
            <a:endCxn id="259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486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1575-9944-44CE-9C7E-ADF48FE8C1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0"/>
            <a:endCxn id="2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3" idx="5"/>
            <a:endCxn id="2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3" idx="6"/>
            <a:endCxn id="2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3" idx="4"/>
            <a:endCxn id="2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301" idx="2"/>
            <a:endCxn id="3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1" idx="3"/>
            <a:endCxn id="2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2" idx="7"/>
            <a:endCxn id="3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1" idx="7"/>
            <a:endCxn id="2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7" idx="6"/>
            <a:endCxn id="3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58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B497-7604-40F3-A80E-32ECFC2C3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5" idx="0"/>
            <a:endCxn id="3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26" idx="5"/>
            <a:endCxn id="3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26" idx="6"/>
            <a:endCxn id="3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6" idx="4"/>
            <a:endCxn id="3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2"/>
            <a:endCxn id="3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5" idx="7"/>
            <a:endCxn id="3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4" idx="7"/>
            <a:endCxn id="3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6"/>
            <a:endCxn id="3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44956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422F-D39A-4974-96DA-90682505B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1-04-10T14:29:02Z</dcterms:modified>
  <cp:revision>606</cp:revision>
  <dc:subject/>
  <dc:title>Trees</dc:title>
</cp:coreProperties>
</file>