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D243-48FF-4199-84EA-2C740B747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FA09-718E-4CAE-B423-6BD02567D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410D-BC7C-4EAA-93FB-23043C46C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014F-B86B-476C-B1A5-E8975DAA1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0CEB-E636-4C0D-99B8-D3B204E4F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5385-3D5F-49C7-8AA5-6D3E90DF0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05B3-634B-4C6B-9235-85E2AB149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A26A-3840-4539-A9B5-455943E76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16E2-0575-44FE-A38D-9E1C75322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70E9-BF5D-431B-9890-B1C2449FB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D974-D2E8-4844-B84B-CF4B19692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A132-ACFE-494A-8B85-67EFEA693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959C-981B-4E44-A10F-DDD976168E7F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590160" y="1607040"/>
            <a:ext cx="18082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 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C 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C D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" name=""/>
          <p:cNvCxnSpPr>
            <a:stCxn id="80" idx="0"/>
            <a:endCxn id="81" idx="3"/>
          </p:cNvCxnSpPr>
          <p:nvPr/>
        </p:nvCxnSpPr>
        <p:spPr>
          <a:xfrm flipV="1">
            <a:off x="736560" y="1328400"/>
            <a:ext cx="95940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1911240" y="1328400"/>
            <a:ext cx="18295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1955880" y="1219680"/>
            <a:ext cx="3029400" cy="125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0" name=""/>
          <p:cNvCxnSpPr>
            <a:stCxn id="89" idx="2"/>
            <a:endCxn id="88" idx="5"/>
          </p:cNvCxnSpPr>
          <p:nvPr/>
        </p:nvCxnSpPr>
        <p:spPr>
          <a:xfrm flipH="1" flipV="1">
            <a:off x="2660400" y="3803400"/>
            <a:ext cx="103572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3"/>
            <a:endCxn id="80" idx="6"/>
          </p:cNvCxnSpPr>
          <p:nvPr/>
        </p:nvCxnSpPr>
        <p:spPr>
          <a:xfrm flipH="1">
            <a:off x="888840" y="4603680"/>
            <a:ext cx="28519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80" idx="7"/>
            <a:endCxn id="88" idx="3"/>
          </p:cNvCxnSpPr>
          <p:nvPr/>
        </p:nvCxnSpPr>
        <p:spPr>
          <a:xfrm flipV="1">
            <a:off x="844200" y="3803400"/>
            <a:ext cx="16012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89" idx="7"/>
            <a:endCxn id="86" idx="3"/>
          </p:cNvCxnSpPr>
          <p:nvPr/>
        </p:nvCxnSpPr>
        <p:spPr>
          <a:xfrm flipV="1">
            <a:off x="3956040" y="2689200"/>
            <a:ext cx="102924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9" idx="0"/>
            <a:endCxn id="84" idx="4"/>
          </p:cNvCxnSpPr>
          <p:nvPr/>
        </p:nvCxnSpPr>
        <p:spPr>
          <a:xfrm flipV="1">
            <a:off x="3848400" y="2720880"/>
            <a:ext cx="360" cy="162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4" idx="3"/>
            <a:endCxn id="88" idx="7"/>
          </p:cNvCxnSpPr>
          <p:nvPr/>
        </p:nvCxnSpPr>
        <p:spPr>
          <a:xfrm flipH="1">
            <a:off x="2660400" y="2676240"/>
            <a:ext cx="108036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0"/>
            <a:endCxn id="84" idx="2"/>
          </p:cNvCxnSpPr>
          <p:nvPr/>
        </p:nvCxnSpPr>
        <p:spPr>
          <a:xfrm flipV="1">
            <a:off x="2552760" y="2568600"/>
            <a:ext cx="1143360" cy="9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1" idx="4"/>
            <a:endCxn id="82" idx="0"/>
          </p:cNvCxnSpPr>
          <p:nvPr/>
        </p:nvCxnSpPr>
        <p:spPr>
          <a:xfrm>
            <a:off x="1803600" y="1373040"/>
            <a:ext cx="360" cy="99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" name=""/>
          <p:cNvCxnSpPr>
            <a:stCxn id="82" idx="6"/>
            <a:endCxn id="98" idx="2"/>
          </p:cNvCxnSpPr>
          <p:nvPr/>
        </p:nvCxnSpPr>
        <p:spPr>
          <a:xfrm>
            <a:off x="1955880" y="2517840"/>
            <a:ext cx="61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0" name=""/>
          <p:cNvCxnSpPr>
            <a:stCxn id="101" idx="7"/>
            <a:endCxn id="98" idx="3"/>
          </p:cNvCxnSpPr>
          <p:nvPr/>
        </p:nvCxnSpPr>
        <p:spPr>
          <a:xfrm flipV="1">
            <a:off x="1914480" y="2625480"/>
            <a:ext cx="69912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101" idx="0"/>
            <a:endCxn id="82" idx="4"/>
          </p:cNvCxnSpPr>
          <p:nvPr/>
        </p:nvCxnSpPr>
        <p:spPr>
          <a:xfrm flipH="1" flipV="1">
            <a:off x="1803600" y="2670120"/>
            <a:ext cx="3600" cy="46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469E-C46F-4695-B774-D3C9BC1110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2" name=""/>
          <p:cNvCxnSpPr>
            <a:stCxn id="369" idx="0"/>
            <a:endCxn id="37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4" name=""/>
          <p:cNvCxnSpPr>
            <a:stCxn id="370" idx="5"/>
            <a:endCxn id="37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6" name=""/>
          <p:cNvCxnSpPr>
            <a:stCxn id="370" idx="6"/>
            <a:endCxn id="37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9" name=""/>
          <p:cNvCxnSpPr>
            <a:stCxn id="378" idx="2"/>
            <a:endCxn id="37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8" idx="3"/>
            <a:endCxn id="36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1" name=""/>
          <p:cNvCxnSpPr>
            <a:stCxn id="369" idx="7"/>
            <a:endCxn id="37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2" name=""/>
          <p:cNvCxnSpPr>
            <a:stCxn id="378" idx="7"/>
            <a:endCxn id="37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8" idx="0"/>
            <a:endCxn id="37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3" idx="3"/>
            <a:endCxn id="37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7" idx="0"/>
            <a:endCxn id="37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70" idx="4"/>
            <a:endCxn id="37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"/>
          <p:cNvCxnSpPr>
            <a:stCxn id="371" idx="6"/>
            <a:endCxn id="38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9" name=""/>
          <p:cNvCxnSpPr>
            <a:stCxn id="390" idx="7"/>
            <a:endCxn id="38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>
            <a:stCxn id="390" idx="0"/>
            <a:endCxn id="37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7577280" y="34560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0740-CF7C-4690-AD7C-653DA9BE6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402" idx="0"/>
            <a:endCxn id="40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7" name=""/>
          <p:cNvCxnSpPr>
            <a:stCxn id="403" idx="5"/>
            <a:endCxn id="40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9" name=""/>
          <p:cNvCxnSpPr>
            <a:stCxn id="403" idx="6"/>
            <a:endCxn id="40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41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3"/>
            <a:endCxn id="40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4" name=""/>
          <p:cNvCxnSpPr>
            <a:stCxn id="402" idx="7"/>
            <a:endCxn id="41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5" name=""/>
          <p:cNvCxnSpPr>
            <a:stCxn id="411" idx="7"/>
            <a:endCxn id="40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1" idx="0"/>
            <a:endCxn id="40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06" idx="3"/>
            <a:endCxn id="41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0" idx="0"/>
            <a:endCxn id="40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03" idx="4"/>
            <a:endCxn id="40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1" name=""/>
          <p:cNvCxnSpPr>
            <a:stCxn id="404" idx="6"/>
            <a:endCxn id="42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22" name=""/>
          <p:cNvCxnSpPr>
            <a:stCxn id="423" idx="7"/>
            <a:endCxn id="42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4" name=""/>
          <p:cNvCxnSpPr>
            <a:stCxn id="423" idx="0"/>
            <a:endCxn id="40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69692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10" idx="5"/>
            <a:endCxn id="411" idx="2"/>
          </p:cNvCxnSpPr>
          <p:nvPr/>
        </p:nvCxnSpPr>
        <p:spPr>
          <a:xfrm>
            <a:off x="2660400" y="3803760"/>
            <a:ext cx="1035720" cy="6926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B1DB-A75D-46EB-8102-27DAA0B8A3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7" name=""/>
          <p:cNvCxnSpPr>
            <a:stCxn id="434" idx="0"/>
            <a:endCxn id="4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5" idx="5"/>
            <a:endCxn id="4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1" name=""/>
          <p:cNvCxnSpPr>
            <a:stCxn id="435" idx="6"/>
            <a:endCxn id="4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4" name=""/>
          <p:cNvCxnSpPr>
            <a:stCxn id="443" idx="2"/>
            <a:endCxn id="4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43" idx="3"/>
            <a:endCxn id="4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6" name=""/>
          <p:cNvCxnSpPr>
            <a:stCxn id="434" idx="7"/>
            <a:endCxn id="4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7" name=""/>
          <p:cNvCxnSpPr>
            <a:stCxn id="443" idx="7"/>
            <a:endCxn id="4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3" idx="0"/>
            <a:endCxn id="4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8" idx="3"/>
            <a:endCxn id="4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2" idx="0"/>
            <a:endCxn id="4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35" idx="4"/>
            <a:endCxn id="4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36" idx="6"/>
            <a:endCxn id="4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54" name=""/>
          <p:cNvCxnSpPr>
            <a:stCxn id="455" idx="7"/>
            <a:endCxn id="4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6" name=""/>
          <p:cNvCxnSpPr>
            <a:stCxn id="455" idx="0"/>
            <a:endCxn id="4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4" name=""/>
          <p:cNvCxnSpPr>
            <a:stCxn id="440" idx="3"/>
            <a:endCxn id="443" idx="7"/>
          </p:cNvCxnSpPr>
          <p:nvPr/>
        </p:nvCxnSpPr>
        <p:spPr>
          <a:xfrm flipH="1">
            <a:off x="3955680" y="2689200"/>
            <a:ext cx="1029600" cy="1699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60A8-B976-45D1-A006-A1699BDEB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>
            <a:stCxn id="466" idx="0"/>
            <a:endCxn id="467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1" name=""/>
          <p:cNvCxnSpPr>
            <a:stCxn id="467" idx="5"/>
            <a:endCxn id="470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3" name=""/>
          <p:cNvCxnSpPr>
            <a:stCxn id="467" idx="6"/>
            <a:endCxn id="472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stCxn id="475" idx="2"/>
            <a:endCxn id="474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5" idx="3"/>
            <a:endCxn id="466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8" name=""/>
          <p:cNvCxnSpPr>
            <a:stCxn id="466" idx="7"/>
            <a:endCxn id="474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9" name=""/>
          <p:cNvCxnSpPr>
            <a:stCxn id="475" idx="7"/>
            <a:endCxn id="472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5" idx="0"/>
            <a:endCxn id="470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0" idx="3"/>
            <a:endCxn id="474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4" idx="0"/>
            <a:endCxn id="470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67" idx="4"/>
            <a:endCxn id="468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68" idx="6"/>
            <a:endCxn id="484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6" name=""/>
          <p:cNvCxnSpPr>
            <a:stCxn id="487" idx="7"/>
            <a:endCxn id="484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8" name=""/>
          <p:cNvCxnSpPr>
            <a:stCxn id="487" idx="0"/>
            <a:endCxn id="468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7004160" y="336852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AC0E-11B1-40E8-875F-CC4526D68D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2" name=""/>
          <p:cNvCxnSpPr>
            <a:stCxn id="499" idx="0"/>
            <a:endCxn id="50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4" name=""/>
          <p:cNvCxnSpPr>
            <a:stCxn id="500" idx="5"/>
            <a:endCxn id="50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6" name=""/>
          <p:cNvCxnSpPr>
            <a:stCxn id="500" idx="6"/>
            <a:endCxn id="50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8" idx="2"/>
            <a:endCxn id="50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8" idx="3"/>
            <a:endCxn id="49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1" name=""/>
          <p:cNvCxnSpPr>
            <a:stCxn id="499" idx="7"/>
            <a:endCxn id="50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2" name=""/>
          <p:cNvCxnSpPr>
            <a:stCxn id="508" idx="7"/>
            <a:endCxn id="50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0"/>
            <a:endCxn id="50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3" idx="3"/>
            <a:endCxn id="50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7" idx="0"/>
            <a:endCxn id="50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0" idx="4"/>
            <a:endCxn id="50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8" name=""/>
          <p:cNvCxnSpPr>
            <a:stCxn id="501" idx="6"/>
            <a:endCxn id="51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9" name=""/>
          <p:cNvCxnSpPr>
            <a:stCxn id="520" idx="7"/>
            <a:endCxn id="51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0"/>
            <a:endCxn id="50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794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2553-2FC2-46D2-8367-0952D637BF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3" name=""/>
          <p:cNvCxnSpPr>
            <a:stCxn id="530" idx="0"/>
            <a:endCxn id="531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5" name=""/>
          <p:cNvCxnSpPr>
            <a:stCxn id="531" idx="5"/>
            <a:endCxn id="534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7" name=""/>
          <p:cNvCxnSpPr>
            <a:stCxn id="531" idx="6"/>
            <a:endCxn id="536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9" idx="2"/>
            <a:endCxn id="538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9" idx="3"/>
            <a:endCxn id="530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2" name=""/>
          <p:cNvCxnSpPr>
            <a:stCxn id="530" idx="7"/>
            <a:endCxn id="538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3" name=""/>
          <p:cNvCxnSpPr>
            <a:stCxn id="539" idx="7"/>
            <a:endCxn id="536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9" idx="0"/>
            <a:endCxn id="534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4" idx="3"/>
            <a:endCxn id="538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0"/>
            <a:endCxn id="534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4"/>
            <a:endCxn id="532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9" name=""/>
          <p:cNvCxnSpPr>
            <a:stCxn id="532" idx="6"/>
            <a:endCxn id="548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50" name=""/>
          <p:cNvCxnSpPr>
            <a:stCxn id="551" idx="7"/>
            <a:endCxn id="548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2" name=""/>
          <p:cNvCxnSpPr>
            <a:stCxn id="551" idx="0"/>
            <a:endCxn id="532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738972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FAB7-CD24-42B2-8643-0E0BF0E1FC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2" name=""/>
          <p:cNvCxnSpPr>
            <a:stCxn id="559" idx="0"/>
            <a:endCxn id="56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4" name=""/>
          <p:cNvCxnSpPr>
            <a:stCxn id="560" idx="5"/>
            <a:endCxn id="56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6" name=""/>
          <p:cNvCxnSpPr>
            <a:stCxn id="560" idx="6"/>
            <a:endCxn id="56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8" idx="2"/>
            <a:endCxn id="56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8" idx="3"/>
            <a:endCxn id="55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1" name=""/>
          <p:cNvCxnSpPr>
            <a:stCxn id="559" idx="7"/>
            <a:endCxn id="56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2" name=""/>
          <p:cNvCxnSpPr>
            <a:stCxn id="568" idx="7"/>
            <a:endCxn id="56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8" idx="0"/>
            <a:endCxn id="56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3" idx="3"/>
            <a:endCxn id="56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7" idx="0"/>
            <a:endCxn id="56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0" idx="4"/>
            <a:endCxn id="56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8" name=""/>
          <p:cNvCxnSpPr>
            <a:stCxn id="561" idx="6"/>
            <a:endCxn id="57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9" name=""/>
          <p:cNvCxnSpPr>
            <a:stCxn id="580" idx="7"/>
            <a:endCxn id="57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1" name=""/>
          <p:cNvCxnSpPr>
            <a:stCxn id="580" idx="0"/>
            <a:endCxn id="56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720252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5" name=""/>
          <p:cNvCxnSpPr>
            <a:stCxn id="565" idx="1"/>
            <a:endCxn id="560" idx="6"/>
          </p:cNvCxnSpPr>
          <p:nvPr/>
        </p:nvCxnSpPr>
        <p:spPr>
          <a:xfrm flipH="1" flipV="1">
            <a:off x="1955520" y="1220040"/>
            <a:ext cx="3029760" cy="12531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44AA-AAEE-40A5-B257-E75D76C77F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0" name=""/>
          <p:cNvCxnSpPr>
            <a:stCxn id="587" idx="0"/>
            <a:endCxn id="588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2" name=""/>
          <p:cNvCxnSpPr>
            <a:stCxn id="588" idx="5"/>
            <a:endCxn id="591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88" idx="6"/>
            <a:endCxn id="593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6" idx="2"/>
            <a:endCxn id="595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6" idx="3"/>
            <a:endCxn id="587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99" name=""/>
          <p:cNvCxnSpPr>
            <a:stCxn id="587" idx="7"/>
            <a:endCxn id="595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0" name=""/>
          <p:cNvCxnSpPr>
            <a:stCxn id="596" idx="7"/>
            <a:endCxn id="593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6" idx="0"/>
            <a:endCxn id="591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91" idx="3"/>
            <a:endCxn id="595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5" idx="0"/>
            <a:endCxn id="591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588" idx="4"/>
            <a:endCxn id="589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6" name=""/>
          <p:cNvCxnSpPr>
            <a:stCxn id="589" idx="6"/>
            <a:endCxn id="605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7" name=""/>
          <p:cNvCxnSpPr>
            <a:stCxn id="608" idx="7"/>
            <a:endCxn id="605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9" name=""/>
          <p:cNvCxnSpPr>
            <a:stCxn id="608" idx="0"/>
            <a:endCxn id="589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0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5820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836D-6669-4B0A-AE2C-7A69545FBC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7" name=""/>
          <p:cNvCxnSpPr>
            <a:stCxn id="614" idx="0"/>
            <a:endCxn id="61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9" name=""/>
          <p:cNvCxnSpPr>
            <a:stCxn id="615" idx="5"/>
            <a:endCxn id="61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1" name=""/>
          <p:cNvCxnSpPr>
            <a:stCxn id="615" idx="6"/>
            <a:endCxn id="62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stCxn id="623" idx="2"/>
            <a:endCxn id="62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3"/>
            <a:endCxn id="61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6" name=""/>
          <p:cNvCxnSpPr>
            <a:stCxn id="614" idx="7"/>
            <a:endCxn id="62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7" name=""/>
          <p:cNvCxnSpPr>
            <a:stCxn id="623" idx="7"/>
            <a:endCxn id="62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23" idx="0"/>
            <a:endCxn id="61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18" idx="3"/>
            <a:endCxn id="62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22" idx="0"/>
            <a:endCxn id="61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15" idx="4"/>
            <a:endCxn id="61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3" name=""/>
          <p:cNvCxnSpPr>
            <a:stCxn id="616" idx="6"/>
            <a:endCxn id="63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4" name=""/>
          <p:cNvCxnSpPr>
            <a:stCxn id="635" idx="7"/>
            <a:endCxn id="63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6" name=""/>
          <p:cNvCxnSpPr>
            <a:stCxn id="635" idx="0"/>
            <a:endCxn id="61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2674800" y="6316560"/>
            <a:ext cx="478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s reachable from A:   A, C, D, E, F, G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50C9-85FE-4926-B604-87655F6F38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5" idx="5"/>
            <a:endCxn id="10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" name=""/>
          <p:cNvCxnSpPr>
            <a:stCxn id="105" idx="6"/>
            <a:endCxn id="11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" name=""/>
          <p:cNvCxnSpPr>
            <a:stCxn id="113" idx="2"/>
            <a:endCxn id="11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3"/>
            <a:endCxn id="10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6" name=""/>
          <p:cNvCxnSpPr>
            <a:stCxn id="104" idx="7"/>
            <a:endCxn id="11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7" name=""/>
          <p:cNvCxnSpPr>
            <a:stCxn id="113" idx="7"/>
            <a:endCxn id="11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3" idx="0"/>
            <a:endCxn id="10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8" idx="3"/>
            <a:endCxn id="11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0"/>
            <a:endCxn id="10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5" idx="4"/>
            <a:endCxn id="10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"/>
          <p:cNvCxnSpPr>
            <a:stCxn id="106" idx="6"/>
            <a:endCxn id="12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4" name=""/>
          <p:cNvCxnSpPr>
            <a:stCxn id="125" idx="7"/>
            <a:endCxn id="12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" name=""/>
          <p:cNvCxnSpPr>
            <a:stCxn id="125" idx="0"/>
            <a:endCxn id="10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BAC8-F809-4A76-AF9A-A513416154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" name=""/>
          <p:cNvCxnSpPr>
            <a:stCxn id="132" idx="0"/>
            <a:endCxn id="13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33" idx="5"/>
            <a:endCxn id="13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3" idx="6"/>
            <a:endCxn id="13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2" name=""/>
          <p:cNvCxnSpPr>
            <a:stCxn id="141" idx="2"/>
            <a:endCxn id="14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>
            <a:stCxn id="132" idx="7"/>
            <a:endCxn id="14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5" name=""/>
          <p:cNvCxnSpPr>
            <a:stCxn id="141" idx="7"/>
            <a:endCxn id="13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0"/>
            <a:endCxn id="13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6" idx="3"/>
            <a:endCxn id="14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0" idx="0"/>
            <a:endCxn id="13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3" idx="4"/>
            <a:endCxn id="13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" name=""/>
          <p:cNvCxnSpPr>
            <a:stCxn id="134" idx="6"/>
            <a:endCxn id="15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53" idx="7"/>
            <a:endCxn id="15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4" name=""/>
          <p:cNvCxnSpPr>
            <a:stCxn id="153" idx="0"/>
            <a:endCxn id="13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311C-AD14-4CEA-81BF-2C5F96F039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2" idx="0"/>
            <a:endCxn id="1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63" idx="5"/>
            <a:endCxn id="1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9" name=""/>
          <p:cNvCxnSpPr>
            <a:stCxn id="163" idx="6"/>
            <a:endCxn id="1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71" idx="2"/>
            <a:endCxn id="1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3"/>
            <a:endCxn id="1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4" name=""/>
          <p:cNvCxnSpPr>
            <a:stCxn id="162" idx="7"/>
            <a:endCxn id="1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5" name=""/>
          <p:cNvCxnSpPr>
            <a:stCxn id="171" idx="7"/>
            <a:endCxn id="1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1" idx="0"/>
            <a:endCxn id="1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6" idx="3"/>
            <a:endCxn id="1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0"/>
            <a:endCxn id="1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3" idx="4"/>
            <a:endCxn id="1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64" idx="6"/>
            <a:endCxn id="1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2" name=""/>
          <p:cNvCxnSpPr>
            <a:stCxn id="183" idx="7"/>
            <a:endCxn id="1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4" name=""/>
          <p:cNvCxnSpPr>
            <a:stCxn id="183" idx="0"/>
            <a:endCxn id="1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8" name=""/>
          <p:cNvCxnSpPr>
            <a:stCxn id="166" idx="4"/>
            <a:endCxn id="171" idx="0"/>
          </p:cNvCxnSpPr>
          <p:nvPr/>
        </p:nvCxnSpPr>
        <p:spPr>
          <a:xfrm>
            <a:off x="3847680" y="2720520"/>
            <a:ext cx="1080" cy="16232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06F0-4C06-46BF-9E03-846319701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203" idx="2"/>
            <a:endCxn id="20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19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"/>
          <p:cNvCxnSpPr>
            <a:stCxn id="194" idx="7"/>
            <a:endCxn id="20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7" name=""/>
          <p:cNvCxnSpPr>
            <a:stCxn id="203" idx="7"/>
            <a:endCxn id="20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3" idx="0"/>
            <a:endCxn id="19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8" idx="3"/>
            <a:endCxn id="20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2" idx="0"/>
            <a:endCxn id="19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5" idx="4"/>
            <a:endCxn id="19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3" name=""/>
          <p:cNvCxnSpPr>
            <a:stCxn id="196" idx="6"/>
            <a:endCxn id="21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15" idx="7"/>
            <a:endCxn id="21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"/>
          <p:cNvCxnSpPr>
            <a:stCxn id="215" idx="0"/>
            <a:endCxn id="19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76440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8143-5E7C-47E1-9F5E-7F41D7A8F3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1" name=""/>
          <p:cNvCxnSpPr>
            <a:stCxn id="228" idx="0"/>
            <a:endCxn id="22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3" name=""/>
          <p:cNvCxnSpPr>
            <a:stCxn id="229" idx="5"/>
            <a:endCxn id="23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29" idx="6"/>
            <a:endCxn id="23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8" name=""/>
          <p:cNvCxnSpPr>
            <a:stCxn id="237" idx="2"/>
            <a:endCxn id="23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3"/>
            <a:endCxn id="22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28" idx="7"/>
            <a:endCxn id="23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37" idx="7"/>
            <a:endCxn id="23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7" idx="0"/>
            <a:endCxn id="23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2" idx="3"/>
            <a:endCxn id="23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6" idx="0"/>
            <a:endCxn id="23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9" idx="4"/>
            <a:endCxn id="23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"/>
          <p:cNvCxnSpPr>
            <a:stCxn id="230" idx="6"/>
            <a:endCxn id="24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8" name=""/>
          <p:cNvCxnSpPr>
            <a:stCxn id="249" idx="7"/>
            <a:endCxn id="24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9" idx="0"/>
            <a:endCxn id="23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4" name=""/>
          <p:cNvCxnSpPr>
            <a:stCxn id="236" idx="7"/>
            <a:endCxn id="232" idx="3"/>
          </p:cNvCxnSpPr>
          <p:nvPr/>
        </p:nvCxnSpPr>
        <p:spPr>
          <a:xfrm flipV="1">
            <a:off x="2660760" y="2675880"/>
            <a:ext cx="1080000" cy="91188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FE49-A482-4077-9B18-D2CCFD7DAD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5" name=""/>
          <p:cNvCxnSpPr>
            <a:stCxn id="262" idx="0"/>
            <a:endCxn id="2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7" name=""/>
          <p:cNvCxnSpPr>
            <a:stCxn id="263" idx="5"/>
            <a:endCxn id="2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9" name=""/>
          <p:cNvCxnSpPr>
            <a:stCxn id="263" idx="6"/>
            <a:endCxn id="2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71" idx="2"/>
            <a:endCxn id="2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3"/>
            <a:endCxn id="2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62" idx="7"/>
            <a:endCxn id="2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5" name=""/>
          <p:cNvCxnSpPr>
            <a:stCxn id="271" idx="7"/>
            <a:endCxn id="2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0"/>
            <a:endCxn id="2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6" idx="3"/>
            <a:endCxn id="2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0" idx="0"/>
            <a:endCxn id="2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3" idx="4"/>
            <a:endCxn id="2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1" name=""/>
          <p:cNvCxnSpPr>
            <a:stCxn id="264" idx="6"/>
            <a:endCxn id="2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82" name=""/>
          <p:cNvCxnSpPr>
            <a:stCxn id="283" idx="7"/>
            <a:endCxn id="2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3" idx="0"/>
            <a:endCxn id="2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"/>
          <p:cNvCxnSpPr>
            <a:stCxn id="266" idx="2"/>
            <a:endCxn id="270" idx="0"/>
          </p:cNvCxnSpPr>
          <p:nvPr/>
        </p:nvCxnSpPr>
        <p:spPr>
          <a:xfrm flipH="1">
            <a:off x="2552040" y="2568600"/>
            <a:ext cx="1143720" cy="9756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672624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4296-1E73-4C5E-8D3C-5C7DD38312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1" name=""/>
          <p:cNvCxnSpPr>
            <a:stCxn id="298" idx="0"/>
            <a:endCxn id="29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3" name=""/>
          <p:cNvCxnSpPr>
            <a:stCxn id="299" idx="5"/>
            <a:endCxn id="30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9" idx="6"/>
            <a:endCxn id="30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"/>
          <p:cNvCxnSpPr>
            <a:stCxn id="307" idx="2"/>
            <a:endCxn id="30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7" idx="3"/>
            <a:endCxn id="29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0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1" name=""/>
          <p:cNvCxnSpPr>
            <a:stCxn id="307" idx="7"/>
            <a:endCxn id="30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7" idx="0"/>
            <a:endCxn id="30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2" idx="3"/>
            <a:endCxn id="30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6" idx="0"/>
            <a:endCxn id="30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99" idx="4"/>
            <a:endCxn id="30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7" name=""/>
          <p:cNvCxnSpPr>
            <a:stCxn id="300" idx="6"/>
            <a:endCxn id="31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8" name=""/>
          <p:cNvCxnSpPr>
            <a:stCxn id="319" idx="7"/>
            <a:endCxn id="31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"/>
          <p:cNvCxnSpPr>
            <a:stCxn id="319" idx="0"/>
            <a:endCxn id="30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4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723420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E990-0D87-4E7A-B4F5-5A86139FE9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4" idx="0"/>
            <a:endCxn id="3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9" name=""/>
          <p:cNvCxnSpPr>
            <a:stCxn id="335" idx="5"/>
            <a:endCxn id="3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1" name=""/>
          <p:cNvCxnSpPr>
            <a:stCxn id="335" idx="6"/>
            <a:endCxn id="3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4" name=""/>
          <p:cNvCxnSpPr>
            <a:stCxn id="343" idx="2"/>
            <a:endCxn id="3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3" idx="3"/>
            <a:endCxn id="3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6" name=""/>
          <p:cNvCxnSpPr>
            <a:stCxn id="334" idx="7"/>
            <a:endCxn id="3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7" name=""/>
          <p:cNvCxnSpPr>
            <a:stCxn id="343" idx="7"/>
            <a:endCxn id="3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3" idx="0"/>
            <a:endCxn id="3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8" idx="3"/>
            <a:endCxn id="3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2" idx="0"/>
            <a:endCxn id="3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5" idx="4"/>
            <a:endCxn id="3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36" idx="6"/>
            <a:endCxn id="3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4" name=""/>
          <p:cNvCxnSpPr>
            <a:stCxn id="355" idx="7"/>
            <a:endCxn id="3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55" idx="0"/>
            <a:endCxn id="3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7577280" y="25938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CA7F-7CF7-4C59-84FB-13F7B32230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1-30T22:31:59Z</dcterms:modified>
  <cp:revision>614</cp:revision>
  <dc:subject/>
  <dc:title>Trees</dc:title>
</cp:coreProperties>
</file>