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280800" cy="69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2"/>
          </p:nvPr>
        </p:nvSpPr>
        <p:spPr>
          <a:xfrm>
            <a:off x="5261040" y="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6297F0-15AB-4727-962A-06D2E5AA8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5261040" y="6642000"/>
            <a:ext cx="40212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B592AF-464E-45F2-B1FC-99D05222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0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1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2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7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3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5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7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89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sldImg"/>
          </p:nvPr>
        </p:nvSpPr>
        <p:spPr>
          <a:xfrm>
            <a:off x="2894040" y="525600"/>
            <a:ext cx="3494160" cy="2620800"/>
          </a:xfrm>
          <a:prstGeom prst="rect">
            <a:avLst/>
          </a:prstGeom>
          <a:ln w="0">
            <a:noFill/>
          </a:ln>
        </p:spPr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1238400" y="3321000"/>
            <a:ext cx="6805440" cy="3144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DCE7-737E-461A-875D-5AC47DC27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4C95-DC8C-4961-A83B-F4F0AC765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07A1-49A9-400F-A4C4-C1B389C4F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67B1-0AB1-41A5-B7E1-3E411219A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4D4D-A245-4252-BC8B-524F0E230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E85F-D284-4DC0-B2D2-78C4EA85D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7B2D-03A3-4D4A-A056-55EEAB82F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3F98-C8E5-457C-8278-D6448E017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0FD5-7933-494B-8685-B2838C84D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7545-974E-4370-AAC2-6A7199304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DA5F-1852-4C32-801B-BE9E9383D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EA60-95B7-48EE-9B21-3F0E13CE12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110-8B90-46C7-9F4E-D4BA7433F571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540000" indent="-472680">
              <a:lnSpc>
                <a:spcPts val="2599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3738960" indent="-319860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3806280" indent="-326592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3972240" indent="-343188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3972240" indent="-34318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3972240" indent="-34318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ZW Encod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952880"/>
            <a:ext cx="4419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input message was taken from: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www-mtl.mit.edu/Courses/6.095/notes/LZW-examples.html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4D4B-57DB-4FBC-A3E9-535D625615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24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CEA5-5220-4F8B-9F0A-90C1E1BD9F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8353-0C8B-4C76-9700-A696FC31C7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84EC-92E6-4590-B55A-2DBD7D48C7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9058-CA06-4AB6-8125-84AA046555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96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B28F-0ED1-4D4F-A5DA-218E18D866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88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6D24-871E-49C6-8A31-CED7B9D7DA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5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22" name=""/>
          <p:cNvSpPr/>
          <p:nvPr/>
        </p:nvSpPr>
        <p:spPr>
          <a:xfrm>
            <a:off x="5029200" y="2438280"/>
            <a:ext cx="9907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"/>
          <p:cNvSpPr/>
          <p:nvPr/>
        </p:nvSpPr>
        <p:spPr>
          <a:xfrm>
            <a:off x="2666880" y="2819520"/>
            <a:ext cx="2362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"/>
          <p:cNvSpPr/>
          <p:nvPr/>
        </p:nvSpPr>
        <p:spPr>
          <a:xfrm>
            <a:off x="2666880" y="2438280"/>
            <a:ext cx="236232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"/>
          <p:cNvSpPr/>
          <p:nvPr/>
        </p:nvSpPr>
        <p:spPr>
          <a:xfrm>
            <a:off x="5029200" y="2819520"/>
            <a:ext cx="9907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"/>
          <p:cNvSpPr/>
          <p:nvPr/>
        </p:nvSpPr>
        <p:spPr>
          <a:xfrm>
            <a:off x="2666880" y="2057400"/>
            <a:ext cx="6096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mic Sans MS"/>
              </a:rPr>
              <a:t>Compression Achie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"/>
          <p:cNvSpPr/>
          <p:nvPr/>
        </p:nvSpPr>
        <p:spPr>
          <a:xfrm>
            <a:off x="6019920" y="2438280"/>
            <a:ext cx="137160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its /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6019920" y="281952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7391520" y="2438280"/>
            <a:ext cx="1371600" cy="3812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7391520" y="281952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2666880" y="3200400"/>
            <a:ext cx="2362320" cy="380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ZW messag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5029200" y="3200400"/>
            <a:ext cx="9907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19920" y="320040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7391520" y="3200400"/>
            <a:ext cx="13716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95C5-CAEC-40FD-A635-1F1635AD61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LZW Decod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3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5DC5-8C31-425D-B565-707F7EFC3D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82BE-EFED-4D09-A901-ADE71CA3A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9DF7-009B-4178-A176-CB20EE0349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2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62C5-A327-4773-A576-790DA0E0EE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1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993F-0E9A-47F6-AE43-1DBEC47A00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0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C77B-2BF1-4D09-9B48-0972B76E25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9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C634-16C0-4C79-BB1A-80A4FCED4F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8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9FC3-478F-424E-8E40-571003A41A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53BB-67FD-4C3E-85BC-2D22E8D147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7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A69A-97BC-424B-8CB6-4C05064BA6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6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E659-F380-4D3E-942F-AE093E79315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5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8164-08C0-4ADB-BAC1-16FCCB91BE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9880-7253-4448-B177-A8B1AD58C7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4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F0C2-1C55-4921-81B1-128062E400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4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A5AD-9A66-46E5-8F24-AC1D1806E9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DC1C-A861-4F68-BE45-3E9CF71DC7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2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EF56-3DEA-4E28-9EF8-FC9A773F82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17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9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8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9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2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3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4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1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2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8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0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9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0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2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3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1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2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3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4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DFD5-4B57-41BE-B5AC-7B6F6F10CC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0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4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EE387-56C8-469C-B029-02EDC7DB56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01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7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8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9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6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7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3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C1D2-1048-4B1A-A86B-154EF42DE8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E709-2595-4BE4-A4C2-48EFDE5538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De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8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"/>
          <p:cNvSpPr/>
          <p:nvPr/>
        </p:nvSpPr>
        <p:spPr>
          <a:xfrm>
            <a:off x="304920" y="83988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"/>
          <p:cNvSpPr/>
          <p:nvPr/>
        </p:nvSpPr>
        <p:spPr>
          <a:xfrm>
            <a:off x="304920" y="136440"/>
            <a:ext cx="121896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"/>
          <p:cNvSpPr/>
          <p:nvPr/>
        </p:nvSpPr>
        <p:spPr>
          <a:xfrm>
            <a:off x="304920" y="114768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"/>
          <p:cNvSpPr/>
          <p:nvPr/>
        </p:nvSpPr>
        <p:spPr>
          <a:xfrm>
            <a:off x="304920" y="1455840"/>
            <a:ext cx="1218960" cy="312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"/>
          <p:cNvSpPr/>
          <p:nvPr/>
        </p:nvSpPr>
        <p:spPr>
          <a:xfrm>
            <a:off x="304920" y="1768320"/>
            <a:ext cx="1218960" cy="3081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"/>
          <p:cNvSpPr/>
          <p:nvPr/>
        </p:nvSpPr>
        <p:spPr>
          <a:xfrm>
            <a:off x="304920" y="20764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"/>
          <p:cNvSpPr/>
          <p:nvPr/>
        </p:nvSpPr>
        <p:spPr>
          <a:xfrm>
            <a:off x="304920" y="238608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"/>
          <p:cNvSpPr/>
          <p:nvPr/>
        </p:nvSpPr>
        <p:spPr>
          <a:xfrm>
            <a:off x="304920" y="30020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"/>
          <p:cNvSpPr/>
          <p:nvPr/>
        </p:nvSpPr>
        <p:spPr>
          <a:xfrm>
            <a:off x="304920" y="33116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"/>
          <p:cNvSpPr/>
          <p:nvPr/>
        </p:nvSpPr>
        <p:spPr>
          <a:xfrm>
            <a:off x="304920" y="362124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"/>
          <p:cNvSpPr/>
          <p:nvPr/>
        </p:nvSpPr>
        <p:spPr>
          <a:xfrm>
            <a:off x="304920" y="3930480"/>
            <a:ext cx="1218960" cy="3067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"/>
          <p:cNvSpPr/>
          <p:nvPr/>
        </p:nvSpPr>
        <p:spPr>
          <a:xfrm>
            <a:off x="1523880" y="83988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"/>
          <p:cNvSpPr/>
          <p:nvPr/>
        </p:nvSpPr>
        <p:spPr>
          <a:xfrm>
            <a:off x="152388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"/>
          <p:cNvSpPr/>
          <p:nvPr/>
        </p:nvSpPr>
        <p:spPr>
          <a:xfrm>
            <a:off x="1523880" y="114768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"/>
          <p:cNvSpPr/>
          <p:nvPr/>
        </p:nvSpPr>
        <p:spPr>
          <a:xfrm>
            <a:off x="1523880" y="1455840"/>
            <a:ext cx="80028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"/>
          <p:cNvSpPr/>
          <p:nvPr/>
        </p:nvSpPr>
        <p:spPr>
          <a:xfrm>
            <a:off x="1523880" y="1768320"/>
            <a:ext cx="80028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"/>
          <p:cNvSpPr/>
          <p:nvPr/>
        </p:nvSpPr>
        <p:spPr>
          <a:xfrm>
            <a:off x="1523880" y="20764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"/>
          <p:cNvSpPr/>
          <p:nvPr/>
        </p:nvSpPr>
        <p:spPr>
          <a:xfrm>
            <a:off x="1523880" y="238608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"/>
          <p:cNvSpPr/>
          <p:nvPr/>
        </p:nvSpPr>
        <p:spPr>
          <a:xfrm>
            <a:off x="1523880" y="30020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"/>
          <p:cNvSpPr/>
          <p:nvPr/>
        </p:nvSpPr>
        <p:spPr>
          <a:xfrm>
            <a:off x="1523880" y="33116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"/>
          <p:cNvSpPr/>
          <p:nvPr/>
        </p:nvSpPr>
        <p:spPr>
          <a:xfrm>
            <a:off x="1523880" y="362124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"/>
          <p:cNvSpPr/>
          <p:nvPr/>
        </p:nvSpPr>
        <p:spPr>
          <a:xfrm>
            <a:off x="1523880" y="3930480"/>
            <a:ext cx="80028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"/>
          <p:cNvSpPr/>
          <p:nvPr/>
        </p:nvSpPr>
        <p:spPr>
          <a:xfrm>
            <a:off x="304920" y="42372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"/>
          <p:cNvSpPr/>
          <p:nvPr/>
        </p:nvSpPr>
        <p:spPr>
          <a:xfrm>
            <a:off x="304920" y="45464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"/>
          <p:cNvSpPr/>
          <p:nvPr/>
        </p:nvSpPr>
        <p:spPr>
          <a:xfrm>
            <a:off x="1523880" y="42372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"/>
          <p:cNvSpPr/>
          <p:nvPr/>
        </p:nvSpPr>
        <p:spPr>
          <a:xfrm>
            <a:off x="1523880" y="45464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0" name=""/>
          <p:cNvSpPr/>
          <p:nvPr/>
        </p:nvSpPr>
        <p:spPr>
          <a:xfrm>
            <a:off x="304920" y="4857840"/>
            <a:ext cx="1218960" cy="307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"/>
          <p:cNvSpPr/>
          <p:nvPr/>
        </p:nvSpPr>
        <p:spPr>
          <a:xfrm>
            <a:off x="1523880" y="4857840"/>
            <a:ext cx="80028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"/>
          <p:cNvSpPr/>
          <p:nvPr/>
        </p:nvSpPr>
        <p:spPr>
          <a:xfrm>
            <a:off x="304920" y="269244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"/>
          <p:cNvSpPr/>
          <p:nvPr/>
        </p:nvSpPr>
        <p:spPr>
          <a:xfrm>
            <a:off x="1523880" y="269244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"/>
          <p:cNvSpPr/>
          <p:nvPr/>
        </p:nvSpPr>
        <p:spPr>
          <a:xfrm>
            <a:off x="304920" y="5165640"/>
            <a:ext cx="1218960" cy="311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"/>
          <p:cNvSpPr/>
          <p:nvPr/>
        </p:nvSpPr>
        <p:spPr>
          <a:xfrm>
            <a:off x="1523880" y="5165640"/>
            <a:ext cx="80028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"/>
          <p:cNvSpPr/>
          <p:nvPr/>
        </p:nvSpPr>
        <p:spPr>
          <a:xfrm>
            <a:off x="304920" y="5477040"/>
            <a:ext cx="1218960" cy="30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"/>
          <p:cNvSpPr/>
          <p:nvPr/>
        </p:nvSpPr>
        <p:spPr>
          <a:xfrm>
            <a:off x="304920" y="578340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"/>
          <p:cNvSpPr/>
          <p:nvPr/>
        </p:nvSpPr>
        <p:spPr>
          <a:xfrm>
            <a:off x="1523880" y="5477040"/>
            <a:ext cx="80028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"/>
          <p:cNvSpPr/>
          <p:nvPr/>
        </p:nvSpPr>
        <p:spPr>
          <a:xfrm>
            <a:off x="1523880" y="578340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"/>
          <p:cNvSpPr/>
          <p:nvPr/>
        </p:nvSpPr>
        <p:spPr>
          <a:xfrm>
            <a:off x="304920" y="6093000"/>
            <a:ext cx="1218960" cy="3092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"/>
          <p:cNvSpPr/>
          <p:nvPr/>
        </p:nvSpPr>
        <p:spPr>
          <a:xfrm>
            <a:off x="1523880" y="6093000"/>
            <a:ext cx="80028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"/>
          <p:cNvSpPr/>
          <p:nvPr/>
        </p:nvSpPr>
        <p:spPr>
          <a:xfrm>
            <a:off x="304920" y="639612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"/>
          <p:cNvSpPr/>
          <p:nvPr/>
        </p:nvSpPr>
        <p:spPr>
          <a:xfrm>
            <a:off x="1523880" y="639612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"/>
          <p:cNvSpPr/>
          <p:nvPr/>
        </p:nvSpPr>
        <p:spPr>
          <a:xfrm>
            <a:off x="304920" y="530280"/>
            <a:ext cx="1218960" cy="309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"/>
          <p:cNvSpPr/>
          <p:nvPr/>
        </p:nvSpPr>
        <p:spPr>
          <a:xfrm>
            <a:off x="1523880" y="530280"/>
            <a:ext cx="80028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DC57-22FE-4691-ADF2-4857ECFF63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0F27-87AD-491E-9FC4-DB4CB73FA6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01C4-DA53-4856-AD6B-031685C4AA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4258-59AC-4E28-AF3F-2F63B7825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DD13-D764-49C9-BB30-E703185697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1AD7-6F41-438A-AF4D-B54A62794E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LZW Encod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6477120" y="1981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6477120" y="1600200"/>
            <a:ext cx="76176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6477120" y="2362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2743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6477120" y="3124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6477120" y="3505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3886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4648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571500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5715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571500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571500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571500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571500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6477120" y="502920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6477120" y="5410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571500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571500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477120" y="5791320"/>
            <a:ext cx="76176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571500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6477120" y="4267080"/>
            <a:ext cx="76176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8001000" y="1981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800100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8001000" y="2362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8001000" y="2743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8001000" y="3124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3505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8001000" y="4648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ty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8001000" y="502920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8001000" y="5410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8001000" y="5791320"/>
            <a:ext cx="762120" cy="3808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_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1981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1600200"/>
            <a:ext cx="762120" cy="38088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d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362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743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3124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3505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3886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4648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502920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5410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5791320"/>
            <a:ext cx="7621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>
            <a:off x="8001000" y="4267080"/>
            <a:ext cx="762120" cy="381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mic Sans MS"/>
              </a:rPr>
              <a:t>it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"/>
          <p:cNvSpPr/>
          <p:nvPr/>
        </p:nvSpPr>
        <p:spPr>
          <a:xfrm>
            <a:off x="7238880" y="4267080"/>
            <a:ext cx="7621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6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5715000" y="1219320"/>
            <a:ext cx="3048120" cy="3808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1104840" y="83988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"/>
          <p:cNvSpPr/>
          <p:nvPr/>
        </p:nvSpPr>
        <p:spPr>
          <a:xfrm>
            <a:off x="1104840" y="136440"/>
            <a:ext cx="80028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1104840" y="114768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1104840" y="1455840"/>
            <a:ext cx="800280" cy="3124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1104840" y="1768320"/>
            <a:ext cx="800280" cy="3081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104840" y="20764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104840" y="238608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1104840" y="30020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104840" y="33116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1104840" y="362124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104840" y="3930480"/>
            <a:ext cx="800280" cy="30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304920" y="83988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304920" y="136440"/>
            <a:ext cx="799920" cy="39384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304920" y="114768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304920" y="1455840"/>
            <a:ext cx="799920" cy="312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304920" y="1768320"/>
            <a:ext cx="799920" cy="308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304920" y="20764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304920" y="238608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0020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304920" y="33116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304920" y="362124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3930480"/>
            <a:ext cx="799920" cy="30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1104840" y="42372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1104840" y="45464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304920" y="42372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304920" y="45464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104840" y="4857840"/>
            <a:ext cx="800280" cy="3078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304920" y="4857840"/>
            <a:ext cx="799920" cy="307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104840" y="269244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304920" y="269244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1104840" y="5165640"/>
            <a:ext cx="800280" cy="3114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04920" y="5165640"/>
            <a:ext cx="799920" cy="311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1104840" y="5477040"/>
            <a:ext cx="800280" cy="30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1104840" y="578340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6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304920" y="5477040"/>
            <a:ext cx="799920" cy="30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304920" y="578340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1104840" y="6093000"/>
            <a:ext cx="800280" cy="3092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6093000"/>
            <a:ext cx="799920" cy="309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1104840" y="639612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mic Sans MS"/>
              </a:rPr>
              <a:t>25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304920" y="639612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1104840" y="530280"/>
            <a:ext cx="800280" cy="3096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304920" y="530280"/>
            <a:ext cx="799920" cy="309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8001000" y="3886200"/>
            <a:ext cx="7621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b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5DD9-5B3A-47B8-BFCC-1E60853A78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cp:lastPrinted>2000-12-31T20:44:51Z</cp:lastPrinted>
  <dcterms:modified xsi:type="dcterms:W3CDTF">2005-11-03T21:12:31Z</dcterms:modified>
  <cp:revision>948</cp:revision>
  <dc:subject/>
  <dc:title>Trees</dc:title>
</cp:coreProperties>
</file>