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280800" cy="69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2"/>
          </p:nvPr>
        </p:nvSpPr>
        <p:spPr>
          <a:xfrm>
            <a:off x="5261040" y="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3CD221-2F01-47C8-B603-B2DE3C21C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664200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5261040" y="664200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E73B38-485A-44C4-9E52-402798BB3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7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7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4A1B-8D2A-409F-834E-15279806C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E77B-8849-4F9E-ABAE-FF6FC8F9F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2265-ED1A-4028-824F-EB327755C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5F52-2695-43B1-9694-A0D38EC3C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40AC-3AD6-4F81-84B0-4305E9D51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4218-4D5E-4A7B-842C-EEF6D8F70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A08B-F666-4D67-BD68-6652CD1F9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8113-CA2A-4DA2-9B6B-083CB11E8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E42E-DB8A-4F93-961C-AF68B5EFA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7727-96FE-4AC8-9C94-FBEBE8EFE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F2AC-A0D7-4C6B-8648-5B4354CFC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EFF6-C66F-4E00-ADE6-6F825B2BB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25EB-C147-45E5-91AC-A32B4C9EE1E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540000" indent="-472680">
              <a:lnSpc>
                <a:spcPts val="2599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3738960" indent="-319860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3806280" indent="-326592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3972240" indent="-343188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3972240" indent="-34318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3972240" indent="-34318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LZW Encod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952880"/>
            <a:ext cx="4419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input message was taken from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52AF-5D49-454F-A6CE-20D47D905A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24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9FE0-4DD0-4ADD-9369-00362D4931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D208-4795-4C5E-9899-0B9C47C2F3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D870-ACFE-42C6-86B6-1B4A126509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18F7-7615-4D89-B930-7B04DBA0F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96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03D3-9E31-4CBD-A140-86CAF3BCD5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88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B0D0-FA0E-4719-9CAC-99B54475D9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5029200" y="2438280"/>
            <a:ext cx="9907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2666880" y="2819520"/>
            <a:ext cx="236232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"/>
          <p:cNvSpPr/>
          <p:nvPr/>
        </p:nvSpPr>
        <p:spPr>
          <a:xfrm>
            <a:off x="2666880" y="2438280"/>
            <a:ext cx="23623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"/>
          <p:cNvSpPr/>
          <p:nvPr/>
        </p:nvSpPr>
        <p:spPr>
          <a:xfrm>
            <a:off x="5029200" y="2819520"/>
            <a:ext cx="9907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"/>
          <p:cNvSpPr/>
          <p:nvPr/>
        </p:nvSpPr>
        <p:spPr>
          <a:xfrm>
            <a:off x="2666880" y="2057400"/>
            <a:ext cx="6096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mic Sans MS"/>
              </a:rPr>
              <a:t>Compression 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"/>
          <p:cNvSpPr/>
          <p:nvPr/>
        </p:nvSpPr>
        <p:spPr>
          <a:xfrm>
            <a:off x="6019920" y="2438280"/>
            <a:ext cx="137160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its / 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6019920" y="281952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7391520" y="2438280"/>
            <a:ext cx="137160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7391520" y="281952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2666880" y="3200400"/>
            <a:ext cx="236232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ZW mess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5029200" y="3200400"/>
            <a:ext cx="9907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6019920" y="320040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7391520" y="320040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AEB1-EEA6-4AEB-87FC-86464C19B7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LZW Decod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3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6505-685A-494F-9C07-7263335EA3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C9F1-32DF-4F54-8E0C-F051C9DB1B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AC24-F20B-4BCF-B9D6-EE1D71A020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2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C1D6-9EDE-43BA-9B86-13FA6136DE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1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2B45-950D-417E-9DC6-A7F2B03625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0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7B29-0642-4499-8A2C-3447573B9D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9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8075-E876-4885-8A98-98CA08912B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8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10C5-A529-468C-A997-E415279C64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8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8151-C124-424B-BE88-220516B1E8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7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3686-4D33-4381-9EC0-C624B51B7D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6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B746-0ECD-4145-8C63-37D09A0750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5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6DB9-1DD8-4370-92F7-E87238AE20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2747-840A-4F41-B205-B0D9E32FFF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4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8422-8A41-46DE-8B7B-C40FB0522E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4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C9D8-126F-4489-B8AF-0A67504CAB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3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8200-2EA1-4293-8D4D-351B4017C6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2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E4AA-5FAD-4EF9-B7D4-D472641715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1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2E42-D874-4D69-B62B-A55C62E713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00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09CC-F82D-42AB-8842-68E6E2A707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0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7C2B-000D-4879-9576-F7AB06BA87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F226-3B2C-4059-B743-EF099C4FA3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8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A213-4DAB-4F2C-AE55-BAC38DF79E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E156-33D5-44C1-81A6-682FDD14A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5210-E773-4C19-A32C-DCC804705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198F-F82C-4E8B-91C1-5357DBB2C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08D1-4D79-41EE-AEEB-EEC40909C5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F9BC-F4BB-4CA4-B996-9BEE63C8F2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8015-E189-4A4A-A5C8-FE74242827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cp:lastPrinted>2000-12-31T20:44:51Z</cp:lastPrinted>
  <dcterms:modified xsi:type="dcterms:W3CDTF">2005-11-03T21:12:31Z</dcterms:modified>
  <cp:revision>948</cp:revision>
  <dc:subject/>
  <dc:title>Trees</dc:title>
</cp:coreProperties>
</file>