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25BE-FECD-4F26-8CAC-57D6D9EF2B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772A7-9235-4870-B30F-43F2A56CD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4AF09-3AED-4632-AC06-485B9EAC4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7922F-2405-4AD3-811F-43346278D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AAC5D-E5B3-42E7-98E7-B0BB60D808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FF2EE-F788-4478-862A-63EDD0647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6957F-4725-4EE2-A7C3-882A827B1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6C98-3C62-40DD-9C2E-B0796F6BA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0CDBF-FD1C-46C9-829B-14BEDFD26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4082F-EFD2-4D7A-892A-655727C31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0EC8-FFB6-4C64-A687-57D69D74C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CBCD5-D8D0-4349-88DF-EB095744F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8D52-4113-4FA7-81D2-B9FAAC68B1D2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haracter count in text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1295280"/>
            <a:ext cx="91440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914400"/>
            <a:ext cx="914400" cy="38088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6095880" y="1676520"/>
            <a:ext cx="9144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2057400"/>
            <a:ext cx="9144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2438280"/>
            <a:ext cx="91440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2819520"/>
            <a:ext cx="9144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3200400"/>
            <a:ext cx="9144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3962520"/>
            <a:ext cx="9144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4343400"/>
            <a:ext cx="9144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4724280"/>
            <a:ext cx="91440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5105520"/>
            <a:ext cx="9144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1295280"/>
            <a:ext cx="7617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914400"/>
            <a:ext cx="761760" cy="38088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ha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1676520"/>
            <a:ext cx="7617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057400"/>
            <a:ext cx="7617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438280"/>
            <a:ext cx="7617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2819520"/>
            <a:ext cx="7617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3200400"/>
            <a:ext cx="7617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3962520"/>
            <a:ext cx="7617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4343400"/>
            <a:ext cx="7617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4724280"/>
            <a:ext cx="7617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5105520"/>
            <a:ext cx="7617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5486400"/>
            <a:ext cx="9144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5867280"/>
            <a:ext cx="91440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5486400"/>
            <a:ext cx="7617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5867280"/>
            <a:ext cx="7617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581280"/>
            <a:ext cx="91440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3581280"/>
            <a:ext cx="7617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F1F00-B957-4493-B1CE-BB73CC6E75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7" name=""/>
          <p:cNvSpPr/>
          <p:nvPr/>
        </p:nvSpPr>
        <p:spPr>
          <a:xfrm>
            <a:off x="7464600" y="3166920"/>
            <a:ext cx="155520" cy="155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8" name=""/>
          <p:cNvCxnSpPr>
            <a:stCxn id="437" idx="3"/>
          </p:cNvCxnSpPr>
          <p:nvPr/>
        </p:nvCxnSpPr>
        <p:spPr>
          <a:xfrm flipH="1">
            <a:off x="6857640" y="3300120"/>
            <a:ext cx="6292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9" name=""/>
          <p:cNvCxnSpPr>
            <a:stCxn id="437" idx="5"/>
          </p:cNvCxnSpPr>
          <p:nvPr/>
        </p:nvCxnSpPr>
        <p:spPr>
          <a:xfrm>
            <a:off x="7597440" y="3300120"/>
            <a:ext cx="6310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7238880" y="35481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3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66400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2" name=""/>
          <p:cNvCxnSpPr>
            <a:stCxn id="441" idx="3"/>
          </p:cNvCxnSpPr>
          <p:nvPr/>
        </p:nvCxnSpPr>
        <p:spPr>
          <a:xfrm flipH="1">
            <a:off x="2283840" y="3181320"/>
            <a:ext cx="4021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41" idx="5"/>
          </p:cNvCxnSpPr>
          <p:nvPr/>
        </p:nvCxnSpPr>
        <p:spPr>
          <a:xfrm>
            <a:off x="2797200" y="3181320"/>
            <a:ext cx="4039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2438280" y="34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7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91116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6" name=""/>
          <p:cNvCxnSpPr>
            <a:stCxn id="445" idx="3"/>
          </p:cNvCxnSpPr>
          <p:nvPr/>
        </p:nvCxnSpPr>
        <p:spPr>
          <a:xfrm flipH="1">
            <a:off x="609120" y="3181320"/>
            <a:ext cx="3247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5" idx="5"/>
          </p:cNvCxnSpPr>
          <p:nvPr/>
        </p:nvCxnSpPr>
        <p:spPr>
          <a:xfrm>
            <a:off x="1044720" y="3181320"/>
            <a:ext cx="32760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8" name=""/>
          <p:cNvSpPr/>
          <p:nvPr/>
        </p:nvSpPr>
        <p:spPr>
          <a:xfrm>
            <a:off x="685800" y="34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"/>
          <p:cNvSpPr/>
          <p:nvPr/>
        </p:nvSpPr>
        <p:spPr>
          <a:xfrm>
            <a:off x="41115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57117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3" name=""/>
          <p:cNvCxnSpPr>
            <a:stCxn id="449" idx="3"/>
            <a:endCxn id="451" idx="0"/>
          </p:cNvCxnSpPr>
          <p:nvPr/>
        </p:nvCxnSpPr>
        <p:spPr>
          <a:xfrm flipH="1">
            <a:off x="37332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49" idx="5"/>
            <a:endCxn id="452" idx="0"/>
          </p:cNvCxnSpPr>
          <p:nvPr/>
        </p:nvCxnSpPr>
        <p:spPr>
          <a:xfrm>
            <a:off x="42451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5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7" name=""/>
          <p:cNvCxnSpPr>
            <a:stCxn id="450" idx="3"/>
            <a:endCxn id="455" idx="0"/>
          </p:cNvCxnSpPr>
          <p:nvPr/>
        </p:nvCxnSpPr>
        <p:spPr>
          <a:xfrm flipH="1">
            <a:off x="53334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50" idx="5"/>
            <a:endCxn id="456" idx="0"/>
          </p:cNvCxnSpPr>
          <p:nvPr/>
        </p:nvCxnSpPr>
        <p:spPr>
          <a:xfrm>
            <a:off x="58453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9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1504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3" name=""/>
          <p:cNvCxnSpPr>
            <a:stCxn id="460" idx="3"/>
            <a:endCxn id="461" idx="0"/>
          </p:cNvCxnSpPr>
          <p:nvPr/>
        </p:nvCxnSpPr>
        <p:spPr>
          <a:xfrm flipH="1">
            <a:off x="7770240" y="4095720"/>
            <a:ext cx="4021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4" name=""/>
          <p:cNvCxnSpPr>
            <a:stCxn id="460" idx="5"/>
            <a:endCxn id="462" idx="0"/>
          </p:cNvCxnSpPr>
          <p:nvPr/>
        </p:nvCxnSpPr>
        <p:spPr>
          <a:xfrm>
            <a:off x="8283600" y="4095720"/>
            <a:ext cx="4039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5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7" name=""/>
          <p:cNvCxnSpPr>
            <a:stCxn id="461" idx="3"/>
            <a:endCxn id="465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8" name=""/>
          <p:cNvCxnSpPr>
            <a:stCxn id="461" idx="5"/>
            <a:endCxn id="466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9" name=""/>
          <p:cNvSpPr/>
          <p:nvPr/>
        </p:nvSpPr>
        <p:spPr>
          <a:xfrm>
            <a:off x="54864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4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3" name=""/>
          <p:cNvCxnSpPr>
            <a:stCxn id="470" idx="3"/>
            <a:endCxn id="471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5"/>
            <a:endCxn id="472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5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"/>
          <p:cNvSpPr/>
          <p:nvPr/>
        </p:nvSpPr>
        <p:spPr>
          <a:xfrm>
            <a:off x="79246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38862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1798-4708-4AEB-BE63-F82E9CF56A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96" name=""/>
          <p:cNvSpPr/>
          <p:nvPr/>
        </p:nvSpPr>
        <p:spPr>
          <a:xfrm>
            <a:off x="495000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97" name=""/>
          <p:cNvCxnSpPr>
            <a:stCxn id="496" idx="3"/>
          </p:cNvCxnSpPr>
          <p:nvPr/>
        </p:nvCxnSpPr>
        <p:spPr>
          <a:xfrm flipH="1">
            <a:off x="4188960" y="3181320"/>
            <a:ext cx="7833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8" name=""/>
          <p:cNvCxnSpPr>
            <a:stCxn id="496" idx="5"/>
          </p:cNvCxnSpPr>
          <p:nvPr/>
        </p:nvCxnSpPr>
        <p:spPr>
          <a:xfrm>
            <a:off x="5083200" y="3181320"/>
            <a:ext cx="707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99" name=""/>
          <p:cNvSpPr/>
          <p:nvPr/>
        </p:nvSpPr>
        <p:spPr>
          <a:xfrm>
            <a:off x="4724280" y="34290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7464600" y="3166920"/>
            <a:ext cx="155520" cy="155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1" name=""/>
          <p:cNvCxnSpPr>
            <a:stCxn id="500" idx="3"/>
          </p:cNvCxnSpPr>
          <p:nvPr/>
        </p:nvCxnSpPr>
        <p:spPr>
          <a:xfrm flipH="1">
            <a:off x="6857640" y="3300120"/>
            <a:ext cx="6292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2" name=""/>
          <p:cNvCxnSpPr>
            <a:stCxn id="500" idx="5"/>
          </p:cNvCxnSpPr>
          <p:nvPr/>
        </p:nvCxnSpPr>
        <p:spPr>
          <a:xfrm>
            <a:off x="7597440" y="3300120"/>
            <a:ext cx="6310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7238880" y="35481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3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266400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5" name=""/>
          <p:cNvCxnSpPr>
            <a:stCxn id="504" idx="3"/>
          </p:cNvCxnSpPr>
          <p:nvPr/>
        </p:nvCxnSpPr>
        <p:spPr>
          <a:xfrm flipH="1">
            <a:off x="2283840" y="3181320"/>
            <a:ext cx="4021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6" name=""/>
          <p:cNvCxnSpPr>
            <a:stCxn id="504" idx="5"/>
          </p:cNvCxnSpPr>
          <p:nvPr/>
        </p:nvCxnSpPr>
        <p:spPr>
          <a:xfrm>
            <a:off x="2797200" y="3181320"/>
            <a:ext cx="4039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7" name=""/>
          <p:cNvSpPr/>
          <p:nvPr/>
        </p:nvSpPr>
        <p:spPr>
          <a:xfrm>
            <a:off x="2438280" y="34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7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91116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9" name=""/>
          <p:cNvCxnSpPr>
            <a:stCxn id="508" idx="3"/>
          </p:cNvCxnSpPr>
          <p:nvPr/>
        </p:nvCxnSpPr>
        <p:spPr>
          <a:xfrm flipH="1">
            <a:off x="609120" y="3181320"/>
            <a:ext cx="3247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508" idx="5"/>
          </p:cNvCxnSpPr>
          <p:nvPr/>
        </p:nvCxnSpPr>
        <p:spPr>
          <a:xfrm>
            <a:off x="1044720" y="3181320"/>
            <a:ext cx="32760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685800" y="34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"/>
          <p:cNvSpPr/>
          <p:nvPr/>
        </p:nvSpPr>
        <p:spPr>
          <a:xfrm>
            <a:off x="41115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"/>
          <p:cNvSpPr/>
          <p:nvPr/>
        </p:nvSpPr>
        <p:spPr>
          <a:xfrm>
            <a:off x="57117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6" name=""/>
          <p:cNvCxnSpPr>
            <a:stCxn id="512" idx="3"/>
            <a:endCxn id="514" idx="0"/>
          </p:cNvCxnSpPr>
          <p:nvPr/>
        </p:nvCxnSpPr>
        <p:spPr>
          <a:xfrm flipH="1">
            <a:off x="37332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512" idx="5"/>
            <a:endCxn id="515" idx="0"/>
          </p:cNvCxnSpPr>
          <p:nvPr/>
        </p:nvCxnSpPr>
        <p:spPr>
          <a:xfrm>
            <a:off x="42451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8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0" name=""/>
          <p:cNvCxnSpPr>
            <a:stCxn id="513" idx="3"/>
            <a:endCxn id="518" idx="0"/>
          </p:cNvCxnSpPr>
          <p:nvPr/>
        </p:nvCxnSpPr>
        <p:spPr>
          <a:xfrm flipH="1">
            <a:off x="53334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stCxn id="513" idx="5"/>
            <a:endCxn id="519" idx="0"/>
          </p:cNvCxnSpPr>
          <p:nvPr/>
        </p:nvCxnSpPr>
        <p:spPr>
          <a:xfrm>
            <a:off x="58453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2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81504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6" name=""/>
          <p:cNvCxnSpPr>
            <a:stCxn id="523" idx="3"/>
            <a:endCxn id="524" idx="0"/>
          </p:cNvCxnSpPr>
          <p:nvPr/>
        </p:nvCxnSpPr>
        <p:spPr>
          <a:xfrm flipH="1">
            <a:off x="7770240" y="4095720"/>
            <a:ext cx="4021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7" name=""/>
          <p:cNvCxnSpPr>
            <a:stCxn id="523" idx="5"/>
            <a:endCxn id="525" idx="0"/>
          </p:cNvCxnSpPr>
          <p:nvPr/>
        </p:nvCxnSpPr>
        <p:spPr>
          <a:xfrm>
            <a:off x="8283600" y="4095720"/>
            <a:ext cx="4039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8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0" name=""/>
          <p:cNvCxnSpPr>
            <a:stCxn id="524" idx="3"/>
            <a:endCxn id="528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stCxn id="524" idx="5"/>
            <a:endCxn id="529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54864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4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6" name=""/>
          <p:cNvCxnSpPr>
            <a:stCxn id="533" idx="3"/>
            <a:endCxn id="534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33" idx="5"/>
            <a:endCxn id="535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8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"/>
          <p:cNvSpPr/>
          <p:nvPr/>
        </p:nvSpPr>
        <p:spPr>
          <a:xfrm>
            <a:off x="79246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33184-CEE6-4A80-AD22-74A8C8DC06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1749600" y="207180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0" name=""/>
          <p:cNvCxnSpPr>
            <a:stCxn id="559" idx="3"/>
          </p:cNvCxnSpPr>
          <p:nvPr/>
        </p:nvCxnSpPr>
        <p:spPr>
          <a:xfrm flipH="1">
            <a:off x="988560" y="2205000"/>
            <a:ext cx="783360" cy="82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1" name=""/>
          <p:cNvCxnSpPr>
            <a:stCxn id="559" idx="5"/>
          </p:cNvCxnSpPr>
          <p:nvPr/>
        </p:nvCxnSpPr>
        <p:spPr>
          <a:xfrm>
            <a:off x="1882800" y="2205000"/>
            <a:ext cx="859680" cy="82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2" name=""/>
          <p:cNvSpPr/>
          <p:nvPr/>
        </p:nvSpPr>
        <p:spPr>
          <a:xfrm>
            <a:off x="1523880" y="236232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3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"/>
          <p:cNvSpPr/>
          <p:nvPr/>
        </p:nvSpPr>
        <p:spPr>
          <a:xfrm>
            <a:off x="495000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4" name=""/>
          <p:cNvCxnSpPr>
            <a:stCxn id="563" idx="3"/>
          </p:cNvCxnSpPr>
          <p:nvPr/>
        </p:nvCxnSpPr>
        <p:spPr>
          <a:xfrm flipH="1">
            <a:off x="4188960" y="3181320"/>
            <a:ext cx="7833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5" name=""/>
          <p:cNvCxnSpPr>
            <a:stCxn id="563" idx="5"/>
          </p:cNvCxnSpPr>
          <p:nvPr/>
        </p:nvCxnSpPr>
        <p:spPr>
          <a:xfrm>
            <a:off x="5083200" y="3181320"/>
            <a:ext cx="707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6" name=""/>
          <p:cNvSpPr/>
          <p:nvPr/>
        </p:nvSpPr>
        <p:spPr>
          <a:xfrm>
            <a:off x="4724280" y="34290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7464600" y="3166920"/>
            <a:ext cx="155520" cy="155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8" name=""/>
          <p:cNvCxnSpPr>
            <a:stCxn id="567" idx="3"/>
          </p:cNvCxnSpPr>
          <p:nvPr/>
        </p:nvCxnSpPr>
        <p:spPr>
          <a:xfrm flipH="1">
            <a:off x="6857640" y="3300120"/>
            <a:ext cx="6292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9" name=""/>
          <p:cNvCxnSpPr>
            <a:stCxn id="567" idx="5"/>
          </p:cNvCxnSpPr>
          <p:nvPr/>
        </p:nvCxnSpPr>
        <p:spPr>
          <a:xfrm>
            <a:off x="7597440" y="3300120"/>
            <a:ext cx="6310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0" name=""/>
          <p:cNvSpPr/>
          <p:nvPr/>
        </p:nvSpPr>
        <p:spPr>
          <a:xfrm>
            <a:off x="7238880" y="35481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3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"/>
          <p:cNvSpPr/>
          <p:nvPr/>
        </p:nvSpPr>
        <p:spPr>
          <a:xfrm>
            <a:off x="266400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2" name=""/>
          <p:cNvCxnSpPr>
            <a:stCxn id="571" idx="3"/>
          </p:cNvCxnSpPr>
          <p:nvPr/>
        </p:nvCxnSpPr>
        <p:spPr>
          <a:xfrm flipH="1">
            <a:off x="2283840" y="3181320"/>
            <a:ext cx="4021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3" name=""/>
          <p:cNvCxnSpPr>
            <a:stCxn id="571" idx="5"/>
          </p:cNvCxnSpPr>
          <p:nvPr/>
        </p:nvCxnSpPr>
        <p:spPr>
          <a:xfrm>
            <a:off x="2797200" y="3181320"/>
            <a:ext cx="4039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4" name=""/>
          <p:cNvSpPr/>
          <p:nvPr/>
        </p:nvSpPr>
        <p:spPr>
          <a:xfrm>
            <a:off x="2438280" y="34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7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91116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6" name=""/>
          <p:cNvCxnSpPr>
            <a:stCxn id="575" idx="3"/>
          </p:cNvCxnSpPr>
          <p:nvPr/>
        </p:nvCxnSpPr>
        <p:spPr>
          <a:xfrm flipH="1">
            <a:off x="609120" y="3181320"/>
            <a:ext cx="3247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7" name=""/>
          <p:cNvCxnSpPr>
            <a:stCxn id="575" idx="5"/>
          </p:cNvCxnSpPr>
          <p:nvPr/>
        </p:nvCxnSpPr>
        <p:spPr>
          <a:xfrm>
            <a:off x="1044720" y="3181320"/>
            <a:ext cx="32760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8" name=""/>
          <p:cNvSpPr/>
          <p:nvPr/>
        </p:nvSpPr>
        <p:spPr>
          <a:xfrm>
            <a:off x="685800" y="34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"/>
          <p:cNvSpPr/>
          <p:nvPr/>
        </p:nvSpPr>
        <p:spPr>
          <a:xfrm>
            <a:off x="41115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"/>
          <p:cNvSpPr/>
          <p:nvPr/>
        </p:nvSpPr>
        <p:spPr>
          <a:xfrm>
            <a:off x="57117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3" name=""/>
          <p:cNvCxnSpPr>
            <a:stCxn id="579" idx="3"/>
            <a:endCxn id="581" idx="0"/>
          </p:cNvCxnSpPr>
          <p:nvPr/>
        </p:nvCxnSpPr>
        <p:spPr>
          <a:xfrm flipH="1">
            <a:off x="37332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4" name=""/>
          <p:cNvCxnSpPr>
            <a:stCxn id="579" idx="5"/>
            <a:endCxn id="582" idx="0"/>
          </p:cNvCxnSpPr>
          <p:nvPr/>
        </p:nvCxnSpPr>
        <p:spPr>
          <a:xfrm>
            <a:off x="42451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5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7" name=""/>
          <p:cNvCxnSpPr>
            <a:stCxn id="580" idx="3"/>
            <a:endCxn id="585" idx="0"/>
          </p:cNvCxnSpPr>
          <p:nvPr/>
        </p:nvCxnSpPr>
        <p:spPr>
          <a:xfrm flipH="1">
            <a:off x="53334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8" name=""/>
          <p:cNvCxnSpPr>
            <a:stCxn id="580" idx="5"/>
            <a:endCxn id="586" idx="0"/>
          </p:cNvCxnSpPr>
          <p:nvPr/>
        </p:nvCxnSpPr>
        <p:spPr>
          <a:xfrm>
            <a:off x="58453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"/>
          <p:cNvSpPr/>
          <p:nvPr/>
        </p:nvSpPr>
        <p:spPr>
          <a:xfrm>
            <a:off x="81504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3" name=""/>
          <p:cNvCxnSpPr>
            <a:stCxn id="590" idx="3"/>
            <a:endCxn id="591" idx="0"/>
          </p:cNvCxnSpPr>
          <p:nvPr/>
        </p:nvCxnSpPr>
        <p:spPr>
          <a:xfrm flipH="1">
            <a:off x="7770240" y="4095720"/>
            <a:ext cx="4021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4" name=""/>
          <p:cNvCxnSpPr>
            <a:stCxn id="590" idx="5"/>
            <a:endCxn id="592" idx="0"/>
          </p:cNvCxnSpPr>
          <p:nvPr/>
        </p:nvCxnSpPr>
        <p:spPr>
          <a:xfrm>
            <a:off x="8283600" y="4095720"/>
            <a:ext cx="4039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95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7" name=""/>
          <p:cNvCxnSpPr>
            <a:stCxn id="591" idx="3"/>
            <a:endCxn id="595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8" name=""/>
          <p:cNvCxnSpPr>
            <a:stCxn id="591" idx="5"/>
            <a:endCxn id="596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54864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4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3" name=""/>
          <p:cNvCxnSpPr>
            <a:stCxn id="600" idx="3"/>
            <a:endCxn id="601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4" name=""/>
          <p:cNvCxnSpPr>
            <a:stCxn id="600" idx="5"/>
            <a:endCxn id="602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5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"/>
          <p:cNvSpPr/>
          <p:nvPr/>
        </p:nvSpPr>
        <p:spPr>
          <a:xfrm>
            <a:off x="79246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>
            <a:off x="38862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0EA4C-C353-40BE-A328-9DD9CC965B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>
            <a:off x="6168960" y="205740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7" name=""/>
          <p:cNvCxnSpPr>
            <a:stCxn id="626" idx="5"/>
          </p:cNvCxnSpPr>
          <p:nvPr/>
        </p:nvCxnSpPr>
        <p:spPr>
          <a:xfrm>
            <a:off x="6302160" y="2190600"/>
            <a:ext cx="1184760" cy="983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8" name=""/>
          <p:cNvCxnSpPr>
            <a:stCxn id="626" idx="3"/>
          </p:cNvCxnSpPr>
          <p:nvPr/>
        </p:nvCxnSpPr>
        <p:spPr>
          <a:xfrm flipH="1">
            <a:off x="5082840" y="2190240"/>
            <a:ext cx="110880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9" name=""/>
          <p:cNvSpPr/>
          <p:nvPr/>
        </p:nvSpPr>
        <p:spPr>
          <a:xfrm>
            <a:off x="5943600" y="23623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0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"/>
          <p:cNvSpPr/>
          <p:nvPr/>
        </p:nvSpPr>
        <p:spPr>
          <a:xfrm>
            <a:off x="1749600" y="207180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1" name=""/>
          <p:cNvCxnSpPr>
            <a:stCxn id="630" idx="3"/>
          </p:cNvCxnSpPr>
          <p:nvPr/>
        </p:nvCxnSpPr>
        <p:spPr>
          <a:xfrm flipH="1">
            <a:off x="988560" y="2205000"/>
            <a:ext cx="783360" cy="82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2" name=""/>
          <p:cNvCxnSpPr>
            <a:stCxn id="630" idx="5"/>
          </p:cNvCxnSpPr>
          <p:nvPr/>
        </p:nvCxnSpPr>
        <p:spPr>
          <a:xfrm>
            <a:off x="1882800" y="2205000"/>
            <a:ext cx="859680" cy="82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3" name=""/>
          <p:cNvSpPr/>
          <p:nvPr/>
        </p:nvSpPr>
        <p:spPr>
          <a:xfrm>
            <a:off x="1523880" y="236232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3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"/>
          <p:cNvSpPr/>
          <p:nvPr/>
        </p:nvSpPr>
        <p:spPr>
          <a:xfrm>
            <a:off x="495000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5" name=""/>
          <p:cNvCxnSpPr>
            <a:stCxn id="634" idx="3"/>
          </p:cNvCxnSpPr>
          <p:nvPr/>
        </p:nvCxnSpPr>
        <p:spPr>
          <a:xfrm flipH="1">
            <a:off x="4188960" y="3181320"/>
            <a:ext cx="7833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6" name=""/>
          <p:cNvCxnSpPr>
            <a:stCxn id="634" idx="5"/>
          </p:cNvCxnSpPr>
          <p:nvPr/>
        </p:nvCxnSpPr>
        <p:spPr>
          <a:xfrm>
            <a:off x="5083200" y="3181320"/>
            <a:ext cx="707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7" name=""/>
          <p:cNvSpPr/>
          <p:nvPr/>
        </p:nvSpPr>
        <p:spPr>
          <a:xfrm>
            <a:off x="4724280" y="34290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"/>
          <p:cNvSpPr/>
          <p:nvPr/>
        </p:nvSpPr>
        <p:spPr>
          <a:xfrm>
            <a:off x="7464600" y="3166920"/>
            <a:ext cx="155520" cy="155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9" name=""/>
          <p:cNvCxnSpPr>
            <a:stCxn id="638" idx="3"/>
          </p:cNvCxnSpPr>
          <p:nvPr/>
        </p:nvCxnSpPr>
        <p:spPr>
          <a:xfrm flipH="1">
            <a:off x="6857640" y="3300120"/>
            <a:ext cx="6292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0" name=""/>
          <p:cNvCxnSpPr>
            <a:stCxn id="638" idx="5"/>
          </p:cNvCxnSpPr>
          <p:nvPr/>
        </p:nvCxnSpPr>
        <p:spPr>
          <a:xfrm>
            <a:off x="7597440" y="3300120"/>
            <a:ext cx="6310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41" name=""/>
          <p:cNvSpPr/>
          <p:nvPr/>
        </p:nvSpPr>
        <p:spPr>
          <a:xfrm>
            <a:off x="7238880" y="35481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3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/>
          <p:nvPr/>
        </p:nvSpPr>
        <p:spPr>
          <a:xfrm>
            <a:off x="266400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43" name=""/>
          <p:cNvCxnSpPr>
            <a:stCxn id="642" idx="3"/>
          </p:cNvCxnSpPr>
          <p:nvPr/>
        </p:nvCxnSpPr>
        <p:spPr>
          <a:xfrm flipH="1">
            <a:off x="2283840" y="3181320"/>
            <a:ext cx="4021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4" name=""/>
          <p:cNvCxnSpPr>
            <a:stCxn id="642" idx="5"/>
          </p:cNvCxnSpPr>
          <p:nvPr/>
        </p:nvCxnSpPr>
        <p:spPr>
          <a:xfrm>
            <a:off x="2797200" y="3181320"/>
            <a:ext cx="4039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45" name=""/>
          <p:cNvSpPr/>
          <p:nvPr/>
        </p:nvSpPr>
        <p:spPr>
          <a:xfrm>
            <a:off x="2438280" y="34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7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91116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47" name=""/>
          <p:cNvCxnSpPr>
            <a:stCxn id="646" idx="3"/>
          </p:cNvCxnSpPr>
          <p:nvPr/>
        </p:nvCxnSpPr>
        <p:spPr>
          <a:xfrm flipH="1">
            <a:off x="609120" y="3181320"/>
            <a:ext cx="3247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8" name=""/>
          <p:cNvCxnSpPr>
            <a:stCxn id="646" idx="5"/>
          </p:cNvCxnSpPr>
          <p:nvPr/>
        </p:nvCxnSpPr>
        <p:spPr>
          <a:xfrm>
            <a:off x="1044720" y="3181320"/>
            <a:ext cx="32760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49" name=""/>
          <p:cNvSpPr/>
          <p:nvPr/>
        </p:nvSpPr>
        <p:spPr>
          <a:xfrm>
            <a:off x="685800" y="34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41115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57117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4" name=""/>
          <p:cNvCxnSpPr>
            <a:stCxn id="650" idx="3"/>
            <a:endCxn id="652" idx="0"/>
          </p:cNvCxnSpPr>
          <p:nvPr/>
        </p:nvCxnSpPr>
        <p:spPr>
          <a:xfrm flipH="1">
            <a:off x="37332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50" idx="5"/>
            <a:endCxn id="653" idx="0"/>
          </p:cNvCxnSpPr>
          <p:nvPr/>
        </p:nvCxnSpPr>
        <p:spPr>
          <a:xfrm>
            <a:off x="42451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6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8" name=""/>
          <p:cNvCxnSpPr>
            <a:stCxn id="651" idx="3"/>
            <a:endCxn id="656" idx="0"/>
          </p:cNvCxnSpPr>
          <p:nvPr/>
        </p:nvCxnSpPr>
        <p:spPr>
          <a:xfrm flipH="1">
            <a:off x="53334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9" name=""/>
          <p:cNvCxnSpPr>
            <a:stCxn id="651" idx="5"/>
            <a:endCxn id="657" idx="0"/>
          </p:cNvCxnSpPr>
          <p:nvPr/>
        </p:nvCxnSpPr>
        <p:spPr>
          <a:xfrm>
            <a:off x="58453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0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>
            <a:off x="81504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64" name=""/>
          <p:cNvCxnSpPr>
            <a:stCxn id="661" idx="3"/>
            <a:endCxn id="662" idx="0"/>
          </p:cNvCxnSpPr>
          <p:nvPr/>
        </p:nvCxnSpPr>
        <p:spPr>
          <a:xfrm flipH="1">
            <a:off x="7770240" y="4095720"/>
            <a:ext cx="4021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5" name=""/>
          <p:cNvCxnSpPr>
            <a:stCxn id="661" idx="5"/>
            <a:endCxn id="663" idx="0"/>
          </p:cNvCxnSpPr>
          <p:nvPr/>
        </p:nvCxnSpPr>
        <p:spPr>
          <a:xfrm>
            <a:off x="8283600" y="4095720"/>
            <a:ext cx="4039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6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68" name=""/>
          <p:cNvCxnSpPr>
            <a:stCxn id="662" idx="3"/>
            <a:endCxn id="666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9" name=""/>
          <p:cNvCxnSpPr>
            <a:stCxn id="662" idx="5"/>
            <a:endCxn id="667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0" name=""/>
          <p:cNvSpPr/>
          <p:nvPr/>
        </p:nvSpPr>
        <p:spPr>
          <a:xfrm>
            <a:off x="54864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4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4" name=""/>
          <p:cNvCxnSpPr>
            <a:stCxn id="671" idx="3"/>
            <a:endCxn id="672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5" name=""/>
          <p:cNvCxnSpPr>
            <a:stCxn id="671" idx="5"/>
            <a:endCxn id="673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6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79246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7311B-83C1-4066-9B5A-5397CC86C2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304920" y="1295280"/>
            <a:ext cx="8686800" cy="5182560"/>
            <a:chOff x="304920" y="1295280"/>
            <a:chExt cx="8686800" cy="5182560"/>
          </a:xfrm>
        </p:grpSpPr>
        <p:sp>
          <p:nvSpPr>
            <p:cNvPr id="698" name=""/>
            <p:cNvSpPr/>
            <p:nvPr/>
          </p:nvSpPr>
          <p:spPr>
            <a:xfrm>
              <a:off x="3882960" y="129528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699" name=""/>
            <p:cNvCxnSpPr>
              <a:stCxn id="698" idx="5"/>
            </p:cNvCxnSpPr>
            <p:nvPr/>
          </p:nvCxnSpPr>
          <p:spPr>
            <a:xfrm>
              <a:off x="4016160" y="1428840"/>
              <a:ext cx="2175480" cy="63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0" name=""/>
            <p:cNvCxnSpPr>
              <a:stCxn id="698" idx="3"/>
            </p:cNvCxnSpPr>
            <p:nvPr/>
          </p:nvCxnSpPr>
          <p:spPr>
            <a:xfrm flipH="1">
              <a:off x="1882800" y="1428480"/>
              <a:ext cx="2022840" cy="64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01" name=""/>
            <p:cNvSpPr/>
            <p:nvPr/>
          </p:nvSpPr>
          <p:spPr>
            <a:xfrm>
              <a:off x="3657600" y="164448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838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168960" y="205740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03" name=""/>
            <p:cNvCxnSpPr>
              <a:stCxn id="702" idx="5"/>
            </p:cNvCxnSpPr>
            <p:nvPr/>
          </p:nvCxnSpPr>
          <p:spPr>
            <a:xfrm>
              <a:off x="6302160" y="2190600"/>
              <a:ext cx="1184760" cy="983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4" name=""/>
            <p:cNvCxnSpPr>
              <a:stCxn id="702" idx="3"/>
            </p:cNvCxnSpPr>
            <p:nvPr/>
          </p:nvCxnSpPr>
          <p:spPr>
            <a:xfrm flipH="1">
              <a:off x="5082840" y="2190240"/>
              <a:ext cx="1108800" cy="86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05" name=""/>
            <p:cNvSpPr/>
            <p:nvPr/>
          </p:nvSpPr>
          <p:spPr>
            <a:xfrm>
              <a:off x="5943600" y="236232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508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749600" y="207180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07" name=""/>
            <p:cNvCxnSpPr>
              <a:stCxn id="706" idx="3"/>
            </p:cNvCxnSpPr>
            <p:nvPr/>
          </p:nvCxnSpPr>
          <p:spPr>
            <a:xfrm flipH="1">
              <a:off x="988560" y="2205000"/>
              <a:ext cx="783360" cy="82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8" name=""/>
            <p:cNvCxnSpPr>
              <a:stCxn id="706" idx="5"/>
            </p:cNvCxnSpPr>
            <p:nvPr/>
          </p:nvCxnSpPr>
          <p:spPr>
            <a:xfrm>
              <a:off x="1882800" y="2205000"/>
              <a:ext cx="859680" cy="82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09" name=""/>
            <p:cNvSpPr/>
            <p:nvPr/>
          </p:nvSpPr>
          <p:spPr>
            <a:xfrm>
              <a:off x="1523880" y="2362320"/>
              <a:ext cx="60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33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950000" y="304812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11" name=""/>
            <p:cNvCxnSpPr>
              <a:stCxn id="710" idx="3"/>
            </p:cNvCxnSpPr>
            <p:nvPr/>
          </p:nvCxnSpPr>
          <p:spPr>
            <a:xfrm flipH="1">
              <a:off x="4188960" y="3181320"/>
              <a:ext cx="783360" cy="76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12" name=""/>
            <p:cNvCxnSpPr>
              <a:stCxn id="710" idx="5"/>
            </p:cNvCxnSpPr>
            <p:nvPr/>
          </p:nvCxnSpPr>
          <p:spPr>
            <a:xfrm>
              <a:off x="5083200" y="3181320"/>
              <a:ext cx="707040" cy="76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13" name=""/>
            <p:cNvSpPr/>
            <p:nvPr/>
          </p:nvSpPr>
          <p:spPr>
            <a:xfrm>
              <a:off x="4724280" y="3429000"/>
              <a:ext cx="60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27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464600" y="3166920"/>
              <a:ext cx="155520" cy="1558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15" name=""/>
            <p:cNvCxnSpPr>
              <a:stCxn id="714" idx="3"/>
            </p:cNvCxnSpPr>
            <p:nvPr/>
          </p:nvCxnSpPr>
          <p:spPr>
            <a:xfrm flipH="1">
              <a:off x="6857640" y="3300120"/>
              <a:ext cx="629280" cy="64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16" name=""/>
            <p:cNvCxnSpPr>
              <a:stCxn id="714" idx="5"/>
            </p:cNvCxnSpPr>
            <p:nvPr/>
          </p:nvCxnSpPr>
          <p:spPr>
            <a:xfrm>
              <a:off x="7597440" y="3300120"/>
              <a:ext cx="631080" cy="64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17" name=""/>
            <p:cNvSpPr/>
            <p:nvPr/>
          </p:nvSpPr>
          <p:spPr>
            <a:xfrm>
              <a:off x="7238880" y="3548160"/>
              <a:ext cx="60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238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664000" y="304812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19" name=""/>
            <p:cNvCxnSpPr>
              <a:stCxn id="718" idx="3"/>
            </p:cNvCxnSpPr>
            <p:nvPr/>
          </p:nvCxnSpPr>
          <p:spPr>
            <a:xfrm flipH="1">
              <a:off x="2283840" y="3181320"/>
              <a:ext cx="402120" cy="76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20" name=""/>
            <p:cNvCxnSpPr>
              <a:stCxn id="718" idx="5"/>
            </p:cNvCxnSpPr>
            <p:nvPr/>
          </p:nvCxnSpPr>
          <p:spPr>
            <a:xfrm>
              <a:off x="2797200" y="3181320"/>
              <a:ext cx="403920" cy="76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21" name=""/>
            <p:cNvSpPr/>
            <p:nvPr/>
          </p:nvSpPr>
          <p:spPr>
            <a:xfrm>
              <a:off x="2438280" y="3443400"/>
              <a:ext cx="60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17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1160" y="304812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23" name=""/>
            <p:cNvCxnSpPr>
              <a:stCxn id="722" idx="3"/>
            </p:cNvCxnSpPr>
            <p:nvPr/>
          </p:nvCxnSpPr>
          <p:spPr>
            <a:xfrm flipH="1">
              <a:off x="609120" y="3181320"/>
              <a:ext cx="324720" cy="76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24" name=""/>
            <p:cNvCxnSpPr>
              <a:stCxn id="722" idx="5"/>
            </p:cNvCxnSpPr>
            <p:nvPr/>
          </p:nvCxnSpPr>
          <p:spPr>
            <a:xfrm>
              <a:off x="1044720" y="3181320"/>
              <a:ext cx="327600" cy="76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25" name=""/>
            <p:cNvSpPr/>
            <p:nvPr/>
          </p:nvSpPr>
          <p:spPr>
            <a:xfrm>
              <a:off x="685800" y="344340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15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111560" y="396252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711760" y="396252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581280" y="4952880"/>
              <a:ext cx="304920" cy="30492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495680" y="4952880"/>
              <a:ext cx="304920" cy="30492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30" name=""/>
            <p:cNvCxnSpPr>
              <a:stCxn id="726" idx="3"/>
              <a:endCxn id="728" idx="0"/>
            </p:cNvCxnSpPr>
            <p:nvPr/>
          </p:nvCxnSpPr>
          <p:spPr>
            <a:xfrm flipH="1">
              <a:off x="3733200" y="4095360"/>
              <a:ext cx="400680" cy="85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31" name=""/>
            <p:cNvCxnSpPr>
              <a:stCxn id="726" idx="5"/>
              <a:endCxn id="729" idx="0"/>
            </p:cNvCxnSpPr>
            <p:nvPr/>
          </p:nvCxnSpPr>
          <p:spPr>
            <a:xfrm>
              <a:off x="4245120" y="4095360"/>
              <a:ext cx="403920" cy="85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32" name=""/>
            <p:cNvSpPr/>
            <p:nvPr/>
          </p:nvSpPr>
          <p:spPr>
            <a:xfrm>
              <a:off x="5181480" y="4952880"/>
              <a:ext cx="304920" cy="30492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095880" y="4952880"/>
              <a:ext cx="304920" cy="30492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34" name=""/>
            <p:cNvCxnSpPr>
              <a:stCxn id="727" idx="3"/>
              <a:endCxn id="732" idx="0"/>
            </p:cNvCxnSpPr>
            <p:nvPr/>
          </p:nvCxnSpPr>
          <p:spPr>
            <a:xfrm flipH="1">
              <a:off x="5333400" y="4095360"/>
              <a:ext cx="400680" cy="85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35" name=""/>
            <p:cNvCxnSpPr>
              <a:stCxn id="727" idx="5"/>
              <a:endCxn id="733" idx="0"/>
            </p:cNvCxnSpPr>
            <p:nvPr/>
          </p:nvCxnSpPr>
          <p:spPr>
            <a:xfrm>
              <a:off x="5845320" y="4095360"/>
              <a:ext cx="403920" cy="85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36" name=""/>
            <p:cNvSpPr/>
            <p:nvPr/>
          </p:nvSpPr>
          <p:spPr>
            <a:xfrm>
              <a:off x="6705720" y="3962520"/>
              <a:ext cx="304560" cy="3045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150400" y="396252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693200" y="495612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534520" y="4956120"/>
              <a:ext cx="304560" cy="30492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40" name=""/>
            <p:cNvCxnSpPr>
              <a:stCxn id="737" idx="3"/>
              <a:endCxn id="738" idx="0"/>
            </p:cNvCxnSpPr>
            <p:nvPr/>
          </p:nvCxnSpPr>
          <p:spPr>
            <a:xfrm flipH="1">
              <a:off x="7770240" y="4095720"/>
              <a:ext cx="402120" cy="861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41" name=""/>
            <p:cNvCxnSpPr>
              <a:stCxn id="737" idx="5"/>
              <a:endCxn id="739" idx="0"/>
            </p:cNvCxnSpPr>
            <p:nvPr/>
          </p:nvCxnSpPr>
          <p:spPr>
            <a:xfrm>
              <a:off x="8283600" y="4095720"/>
              <a:ext cx="403920" cy="861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2" name=""/>
            <p:cNvSpPr/>
            <p:nvPr/>
          </p:nvSpPr>
          <p:spPr>
            <a:xfrm>
              <a:off x="7238880" y="5867280"/>
              <a:ext cx="304920" cy="30492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001000" y="5867280"/>
              <a:ext cx="304920" cy="30492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44" name=""/>
            <p:cNvCxnSpPr>
              <a:stCxn id="738" idx="3"/>
              <a:endCxn id="742" idx="0"/>
            </p:cNvCxnSpPr>
            <p:nvPr/>
          </p:nvCxnSpPr>
          <p:spPr>
            <a:xfrm flipH="1">
              <a:off x="7390800" y="5089680"/>
              <a:ext cx="32436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45" name=""/>
            <p:cNvCxnSpPr>
              <a:stCxn id="738" idx="5"/>
              <a:endCxn id="743" idx="0"/>
            </p:cNvCxnSpPr>
            <p:nvPr/>
          </p:nvCxnSpPr>
          <p:spPr>
            <a:xfrm>
              <a:off x="7826400" y="5089680"/>
              <a:ext cx="32760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6" name=""/>
            <p:cNvSpPr/>
            <p:nvPr/>
          </p:nvSpPr>
          <p:spPr>
            <a:xfrm>
              <a:off x="5486400" y="434340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14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206800" y="396252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752480" y="4952880"/>
              <a:ext cx="304920" cy="30492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514600" y="4952880"/>
              <a:ext cx="304920" cy="30492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50" name=""/>
            <p:cNvCxnSpPr>
              <a:stCxn id="747" idx="3"/>
              <a:endCxn id="748" idx="0"/>
            </p:cNvCxnSpPr>
            <p:nvPr/>
          </p:nvCxnSpPr>
          <p:spPr>
            <a:xfrm flipH="1">
              <a:off x="1904400" y="4095360"/>
              <a:ext cx="324360" cy="85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1" name=""/>
            <p:cNvCxnSpPr>
              <a:stCxn id="747" idx="5"/>
              <a:endCxn id="749" idx="0"/>
            </p:cNvCxnSpPr>
            <p:nvPr/>
          </p:nvCxnSpPr>
          <p:spPr>
            <a:xfrm>
              <a:off x="2340000" y="4095360"/>
              <a:ext cx="327600" cy="85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52" name=""/>
            <p:cNvSpPr/>
            <p:nvPr/>
          </p:nvSpPr>
          <p:spPr>
            <a:xfrm>
              <a:off x="457200" y="3962520"/>
              <a:ext cx="304920" cy="3045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19320" y="3962520"/>
              <a:ext cx="304560" cy="3045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048120" y="3962520"/>
              <a:ext cx="304560" cy="3045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924680" y="4343400"/>
              <a:ext cx="60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1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86600" y="617220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3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848720" y="617220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27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381880" y="5270400"/>
              <a:ext cx="60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5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029200" y="525924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7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43600" y="525924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7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429000" y="525924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6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343400" y="525924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6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553080" y="4343400"/>
              <a:ext cx="60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12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600200" y="527040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362320" y="527040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4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895480" y="4343400"/>
              <a:ext cx="60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9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04920" y="431172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66680" y="4327560"/>
              <a:ext cx="60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7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467480" y="5302080"/>
              <a:ext cx="60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58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886200" y="434340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12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AEA8-A723-461E-97EA-108F3E5946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73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75" name=""/>
          <p:cNvCxnSpPr>
            <a:endCxn id="773" idx="0"/>
          </p:cNvCxnSpPr>
          <p:nvPr/>
        </p:nvCxnSpPr>
        <p:spPr>
          <a:xfrm flipH="1">
            <a:off x="7390800" y="5097600"/>
            <a:ext cx="324360" cy="7624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776" name=""/>
          <p:cNvCxnSpPr>
            <a:endCxn id="774" idx="0"/>
          </p:cNvCxnSpPr>
          <p:nvPr/>
        </p:nvCxnSpPr>
        <p:spPr>
          <a:xfrm>
            <a:off x="7826400" y="5097600"/>
            <a:ext cx="327600" cy="7624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777" name=""/>
          <p:cNvSpPr/>
          <p:nvPr/>
        </p:nvSpPr>
        <p:spPr>
          <a:xfrm>
            <a:off x="7086600" y="6172200"/>
            <a:ext cx="60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"/>
          <p:cNvSpPr/>
          <p:nvPr/>
        </p:nvSpPr>
        <p:spPr>
          <a:xfrm>
            <a:off x="7848720" y="6172200"/>
            <a:ext cx="60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"/>
          <p:cNvSpPr/>
          <p:nvPr/>
        </p:nvSpPr>
        <p:spPr>
          <a:xfrm>
            <a:off x="3882960" y="129528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80" name=""/>
          <p:cNvCxnSpPr>
            <a:stCxn id="779" idx="5"/>
          </p:cNvCxnSpPr>
          <p:nvPr/>
        </p:nvCxnSpPr>
        <p:spPr>
          <a:xfrm>
            <a:off x="4016160" y="1428840"/>
            <a:ext cx="2175480" cy="635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1" name=""/>
          <p:cNvCxnSpPr>
            <a:stCxn id="779" idx="3"/>
          </p:cNvCxnSpPr>
          <p:nvPr/>
        </p:nvCxnSpPr>
        <p:spPr>
          <a:xfrm flipH="1">
            <a:off x="1882800" y="1428480"/>
            <a:ext cx="2022840" cy="64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82" name=""/>
          <p:cNvSpPr/>
          <p:nvPr/>
        </p:nvSpPr>
        <p:spPr>
          <a:xfrm>
            <a:off x="3657600" y="164448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3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"/>
          <p:cNvSpPr/>
          <p:nvPr/>
        </p:nvSpPr>
        <p:spPr>
          <a:xfrm>
            <a:off x="6168960" y="205740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84" name=""/>
          <p:cNvCxnSpPr>
            <a:stCxn id="783" idx="5"/>
          </p:cNvCxnSpPr>
          <p:nvPr/>
        </p:nvCxnSpPr>
        <p:spPr>
          <a:xfrm>
            <a:off x="6302160" y="2190600"/>
            <a:ext cx="1184760" cy="983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5" name=""/>
          <p:cNvCxnSpPr>
            <a:stCxn id="783" idx="3"/>
          </p:cNvCxnSpPr>
          <p:nvPr/>
        </p:nvCxnSpPr>
        <p:spPr>
          <a:xfrm flipH="1">
            <a:off x="5082840" y="2190240"/>
            <a:ext cx="110880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86" name=""/>
          <p:cNvSpPr/>
          <p:nvPr/>
        </p:nvSpPr>
        <p:spPr>
          <a:xfrm>
            <a:off x="5943600" y="23623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0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"/>
          <p:cNvSpPr/>
          <p:nvPr/>
        </p:nvSpPr>
        <p:spPr>
          <a:xfrm>
            <a:off x="1749600" y="207180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88" name=""/>
          <p:cNvCxnSpPr>
            <a:stCxn id="787" idx="3"/>
          </p:cNvCxnSpPr>
          <p:nvPr/>
        </p:nvCxnSpPr>
        <p:spPr>
          <a:xfrm flipH="1">
            <a:off x="988560" y="2205000"/>
            <a:ext cx="783360" cy="82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9" name=""/>
          <p:cNvCxnSpPr>
            <a:stCxn id="787" idx="5"/>
          </p:cNvCxnSpPr>
          <p:nvPr/>
        </p:nvCxnSpPr>
        <p:spPr>
          <a:xfrm>
            <a:off x="1882800" y="2205000"/>
            <a:ext cx="859680" cy="82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0" name=""/>
          <p:cNvSpPr/>
          <p:nvPr/>
        </p:nvSpPr>
        <p:spPr>
          <a:xfrm>
            <a:off x="1523880" y="236232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3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"/>
          <p:cNvSpPr/>
          <p:nvPr/>
        </p:nvSpPr>
        <p:spPr>
          <a:xfrm>
            <a:off x="495000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92" name=""/>
          <p:cNvCxnSpPr>
            <a:stCxn id="791" idx="3"/>
          </p:cNvCxnSpPr>
          <p:nvPr/>
        </p:nvCxnSpPr>
        <p:spPr>
          <a:xfrm flipH="1">
            <a:off x="4188960" y="3181320"/>
            <a:ext cx="7833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3" name=""/>
          <p:cNvCxnSpPr>
            <a:stCxn id="791" idx="5"/>
          </p:cNvCxnSpPr>
          <p:nvPr/>
        </p:nvCxnSpPr>
        <p:spPr>
          <a:xfrm>
            <a:off x="5083200" y="3181320"/>
            <a:ext cx="707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4" name=""/>
          <p:cNvSpPr/>
          <p:nvPr/>
        </p:nvSpPr>
        <p:spPr>
          <a:xfrm>
            <a:off x="4724280" y="34290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"/>
          <p:cNvSpPr/>
          <p:nvPr/>
        </p:nvSpPr>
        <p:spPr>
          <a:xfrm>
            <a:off x="7464600" y="3166920"/>
            <a:ext cx="155520" cy="155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96" name=""/>
          <p:cNvCxnSpPr>
            <a:stCxn id="795" idx="3"/>
          </p:cNvCxnSpPr>
          <p:nvPr/>
        </p:nvCxnSpPr>
        <p:spPr>
          <a:xfrm flipH="1">
            <a:off x="6857640" y="3300120"/>
            <a:ext cx="6292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7" name=""/>
          <p:cNvCxnSpPr>
            <a:stCxn id="795" idx="5"/>
          </p:cNvCxnSpPr>
          <p:nvPr/>
        </p:nvCxnSpPr>
        <p:spPr>
          <a:xfrm>
            <a:off x="7597440" y="3300120"/>
            <a:ext cx="6310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8" name=""/>
          <p:cNvSpPr/>
          <p:nvPr/>
        </p:nvSpPr>
        <p:spPr>
          <a:xfrm>
            <a:off x="7238880" y="35481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3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"/>
          <p:cNvSpPr/>
          <p:nvPr/>
        </p:nvSpPr>
        <p:spPr>
          <a:xfrm>
            <a:off x="266400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00" name=""/>
          <p:cNvCxnSpPr>
            <a:stCxn id="799" idx="3"/>
          </p:cNvCxnSpPr>
          <p:nvPr/>
        </p:nvCxnSpPr>
        <p:spPr>
          <a:xfrm flipH="1">
            <a:off x="2283840" y="3181320"/>
            <a:ext cx="4021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1" name=""/>
          <p:cNvCxnSpPr>
            <a:stCxn id="799" idx="5"/>
          </p:cNvCxnSpPr>
          <p:nvPr/>
        </p:nvCxnSpPr>
        <p:spPr>
          <a:xfrm>
            <a:off x="2797200" y="3181320"/>
            <a:ext cx="4039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2" name=""/>
          <p:cNvSpPr/>
          <p:nvPr/>
        </p:nvSpPr>
        <p:spPr>
          <a:xfrm>
            <a:off x="2438280" y="34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7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"/>
          <p:cNvSpPr/>
          <p:nvPr/>
        </p:nvSpPr>
        <p:spPr>
          <a:xfrm>
            <a:off x="91116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04" name=""/>
          <p:cNvCxnSpPr>
            <a:stCxn id="803" idx="3"/>
          </p:cNvCxnSpPr>
          <p:nvPr/>
        </p:nvCxnSpPr>
        <p:spPr>
          <a:xfrm flipH="1">
            <a:off x="609120" y="3181320"/>
            <a:ext cx="3247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5" name=""/>
          <p:cNvCxnSpPr>
            <a:stCxn id="803" idx="5"/>
          </p:cNvCxnSpPr>
          <p:nvPr/>
        </p:nvCxnSpPr>
        <p:spPr>
          <a:xfrm>
            <a:off x="1044720" y="3181320"/>
            <a:ext cx="32760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6" name=""/>
          <p:cNvSpPr/>
          <p:nvPr/>
        </p:nvSpPr>
        <p:spPr>
          <a:xfrm>
            <a:off x="685800" y="34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"/>
          <p:cNvSpPr/>
          <p:nvPr/>
        </p:nvSpPr>
        <p:spPr>
          <a:xfrm>
            <a:off x="41115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"/>
          <p:cNvSpPr/>
          <p:nvPr/>
        </p:nvSpPr>
        <p:spPr>
          <a:xfrm>
            <a:off x="57117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11" name=""/>
          <p:cNvCxnSpPr>
            <a:stCxn id="807" idx="3"/>
            <a:endCxn id="809" idx="0"/>
          </p:cNvCxnSpPr>
          <p:nvPr/>
        </p:nvCxnSpPr>
        <p:spPr>
          <a:xfrm flipH="1">
            <a:off x="37332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2" name=""/>
          <p:cNvCxnSpPr>
            <a:stCxn id="807" idx="5"/>
            <a:endCxn id="810" idx="0"/>
          </p:cNvCxnSpPr>
          <p:nvPr/>
        </p:nvCxnSpPr>
        <p:spPr>
          <a:xfrm>
            <a:off x="42451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3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15" name=""/>
          <p:cNvCxnSpPr>
            <a:stCxn id="808" idx="3"/>
            <a:endCxn id="813" idx="0"/>
          </p:cNvCxnSpPr>
          <p:nvPr/>
        </p:nvCxnSpPr>
        <p:spPr>
          <a:xfrm flipH="1">
            <a:off x="53334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6" name=""/>
          <p:cNvCxnSpPr>
            <a:stCxn id="808" idx="5"/>
            <a:endCxn id="814" idx="0"/>
          </p:cNvCxnSpPr>
          <p:nvPr/>
        </p:nvCxnSpPr>
        <p:spPr>
          <a:xfrm>
            <a:off x="58453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7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"/>
          <p:cNvSpPr/>
          <p:nvPr/>
        </p:nvSpPr>
        <p:spPr>
          <a:xfrm>
            <a:off x="81504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21" name=""/>
          <p:cNvCxnSpPr>
            <a:stCxn id="818" idx="3"/>
            <a:endCxn id="819" idx="0"/>
          </p:cNvCxnSpPr>
          <p:nvPr/>
        </p:nvCxnSpPr>
        <p:spPr>
          <a:xfrm flipH="1">
            <a:off x="7770240" y="4095720"/>
            <a:ext cx="4021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2" name=""/>
          <p:cNvCxnSpPr>
            <a:stCxn id="818" idx="5"/>
            <a:endCxn id="820" idx="0"/>
          </p:cNvCxnSpPr>
          <p:nvPr/>
        </p:nvCxnSpPr>
        <p:spPr>
          <a:xfrm>
            <a:off x="8283600" y="4095720"/>
            <a:ext cx="4039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23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25" name=""/>
          <p:cNvCxnSpPr>
            <a:stCxn id="819" idx="3"/>
            <a:endCxn id="823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6" name=""/>
          <p:cNvCxnSpPr>
            <a:stCxn id="819" idx="5"/>
            <a:endCxn id="824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27" name=""/>
          <p:cNvSpPr/>
          <p:nvPr/>
        </p:nvSpPr>
        <p:spPr>
          <a:xfrm>
            <a:off x="54864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4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31" name=""/>
          <p:cNvCxnSpPr>
            <a:stCxn id="828" idx="3"/>
            <a:endCxn id="829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2" name=""/>
          <p:cNvCxnSpPr>
            <a:stCxn id="828" idx="5"/>
            <a:endCxn id="830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3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"/>
          <p:cNvSpPr/>
          <p:nvPr/>
        </p:nvSpPr>
        <p:spPr>
          <a:xfrm>
            <a:off x="79246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"/>
          <p:cNvSpPr/>
          <p:nvPr/>
        </p:nvSpPr>
        <p:spPr>
          <a:xfrm>
            <a:off x="38862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5197320" y="1219320"/>
            <a:ext cx="3108600" cy="5181480"/>
            <a:chOff x="5197320" y="1219320"/>
            <a:chExt cx="3108600" cy="5181480"/>
          </a:xfrm>
        </p:grpSpPr>
        <p:sp>
          <p:nvSpPr>
            <p:cNvPr id="853" name=""/>
            <p:cNvSpPr/>
            <p:nvPr/>
          </p:nvSpPr>
          <p:spPr>
            <a:xfrm>
              <a:off x="5888160" y="1565280"/>
              <a:ext cx="82872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2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888160" y="1219320"/>
              <a:ext cx="828720" cy="34596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Freq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888160" y="1909800"/>
              <a:ext cx="82872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9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888160" y="2255760"/>
              <a:ext cx="82872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888160" y="2600280"/>
              <a:ext cx="82872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7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888160" y="2946240"/>
              <a:ext cx="82872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7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888160" y="3292560"/>
              <a:ext cx="82872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7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88160" y="3983040"/>
              <a:ext cx="82872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6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888160" y="4327560"/>
              <a:ext cx="82872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5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888160" y="4673520"/>
              <a:ext cx="82872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4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888160" y="5019840"/>
              <a:ext cx="828720" cy="34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197320" y="1565280"/>
              <a:ext cx="69084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197320" y="1219320"/>
              <a:ext cx="690840" cy="34596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Cha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197320" y="1909800"/>
              <a:ext cx="69084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197320" y="2255760"/>
              <a:ext cx="69084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197320" y="2600280"/>
              <a:ext cx="69084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197320" y="2946240"/>
              <a:ext cx="69084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197320" y="3292560"/>
              <a:ext cx="69084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197320" y="3983040"/>
              <a:ext cx="69084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197320" y="4327560"/>
              <a:ext cx="69084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197320" y="4673520"/>
              <a:ext cx="69084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97320" y="5019840"/>
              <a:ext cx="690840" cy="34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888160" y="5364000"/>
              <a:ext cx="82872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3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888160" y="5710320"/>
              <a:ext cx="82872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27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197320" y="5364000"/>
              <a:ext cx="69084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197320" y="5710320"/>
              <a:ext cx="69084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888160" y="3637080"/>
              <a:ext cx="82872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6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197320" y="3637080"/>
              <a:ext cx="69084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716880" y="1565280"/>
              <a:ext cx="82836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0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716880" y="1219320"/>
              <a:ext cx="828360" cy="34596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Fixed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716880" y="1909800"/>
              <a:ext cx="82836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00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716880" y="2255760"/>
              <a:ext cx="82836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0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716880" y="2600280"/>
              <a:ext cx="82836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01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716880" y="2946240"/>
              <a:ext cx="82836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1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716880" y="3292560"/>
              <a:ext cx="82836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10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716880" y="3983040"/>
              <a:ext cx="82836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11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16880" y="4327560"/>
              <a:ext cx="82836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16880" y="4673520"/>
              <a:ext cx="82836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00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716880" y="5019840"/>
              <a:ext cx="828360" cy="34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0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716880" y="5364000"/>
              <a:ext cx="82836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01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16880" y="5710320"/>
              <a:ext cx="82836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1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16880" y="3637080"/>
              <a:ext cx="82836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1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477200" y="1565280"/>
              <a:ext cx="82872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477200" y="1219320"/>
              <a:ext cx="828720" cy="34596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Huff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477200" y="1909800"/>
              <a:ext cx="82872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1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477200" y="2255760"/>
              <a:ext cx="82872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477200" y="2600280"/>
              <a:ext cx="82872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0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477200" y="2946240"/>
              <a:ext cx="82872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01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477200" y="3292560"/>
              <a:ext cx="82872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0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477200" y="3983040"/>
              <a:ext cx="82872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477200" y="4327560"/>
              <a:ext cx="82872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11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477200" y="4673520"/>
              <a:ext cx="82872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10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477200" y="5019840"/>
              <a:ext cx="828720" cy="34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1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477200" y="5364000"/>
              <a:ext cx="82872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11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477200" y="5710320"/>
              <a:ext cx="82872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110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477200" y="3637080"/>
              <a:ext cx="82872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00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888160" y="6054840"/>
              <a:ext cx="828720" cy="34596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838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197320" y="6054840"/>
              <a:ext cx="690840" cy="34596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Total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716880" y="6054840"/>
              <a:ext cx="828360" cy="34596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4.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477200" y="6054840"/>
              <a:ext cx="828720" cy="34596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3.6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F14C8-5C13-4EBE-BBCA-78F9AB0BD2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4ED2F-DEA2-439E-A21D-0EF3FE24FA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5" name=""/>
          <p:cNvCxnSpPr>
            <a:stCxn id="141" idx="3"/>
            <a:endCxn id="143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stCxn id="141" idx="5"/>
            <a:endCxn id="144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BA06-DE53-4B8E-B0BE-2B8B27E2C3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6" name=""/>
          <p:cNvCxnSpPr>
            <a:stCxn id="172" idx="3"/>
            <a:endCxn id="174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stCxn id="172" idx="5"/>
            <a:endCxn id="175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1" name=""/>
          <p:cNvCxnSpPr>
            <a:stCxn id="178" idx="3"/>
            <a:endCxn id="179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" name=""/>
          <p:cNvCxnSpPr>
            <a:stCxn id="178" idx="5"/>
            <a:endCxn id="180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05A58-381A-43FC-958B-76782B0A24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81504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0" name=""/>
          <p:cNvCxnSpPr>
            <a:stCxn id="207" idx="3"/>
            <a:endCxn id="208" idx="0"/>
          </p:cNvCxnSpPr>
          <p:nvPr/>
        </p:nvCxnSpPr>
        <p:spPr>
          <a:xfrm flipH="1">
            <a:off x="7770240" y="4095720"/>
            <a:ext cx="4021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1" name=""/>
          <p:cNvCxnSpPr>
            <a:stCxn id="207" idx="5"/>
            <a:endCxn id="209" idx="0"/>
          </p:cNvCxnSpPr>
          <p:nvPr/>
        </p:nvCxnSpPr>
        <p:spPr>
          <a:xfrm>
            <a:off x="8283600" y="4095720"/>
            <a:ext cx="4039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4" name=""/>
          <p:cNvCxnSpPr>
            <a:stCxn id="208" idx="3"/>
            <a:endCxn id="212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208" idx="5"/>
            <a:endCxn id="213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6" name=""/>
          <p:cNvSpPr/>
          <p:nvPr/>
        </p:nvSpPr>
        <p:spPr>
          <a:xfrm>
            <a:off x="79246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0" name=""/>
          <p:cNvCxnSpPr>
            <a:stCxn id="217" idx="3"/>
            <a:endCxn id="218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217" idx="5"/>
            <a:endCxn id="219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2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22354-0C32-43AA-A362-3A6E7451B4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41115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4" name=""/>
          <p:cNvCxnSpPr>
            <a:stCxn id="241" idx="3"/>
            <a:endCxn id="242" idx="0"/>
          </p:cNvCxnSpPr>
          <p:nvPr/>
        </p:nvCxnSpPr>
        <p:spPr>
          <a:xfrm flipH="1">
            <a:off x="37332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5" name=""/>
          <p:cNvCxnSpPr>
            <a:stCxn id="241" idx="5"/>
            <a:endCxn id="243" idx="0"/>
          </p:cNvCxnSpPr>
          <p:nvPr/>
        </p:nvCxnSpPr>
        <p:spPr>
          <a:xfrm>
            <a:off x="42451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81504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2" name=""/>
          <p:cNvCxnSpPr>
            <a:stCxn id="249" idx="3"/>
            <a:endCxn id="250" idx="0"/>
          </p:cNvCxnSpPr>
          <p:nvPr/>
        </p:nvCxnSpPr>
        <p:spPr>
          <a:xfrm flipH="1">
            <a:off x="7770240" y="4095720"/>
            <a:ext cx="4021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9" idx="5"/>
            <a:endCxn id="251" idx="0"/>
          </p:cNvCxnSpPr>
          <p:nvPr/>
        </p:nvCxnSpPr>
        <p:spPr>
          <a:xfrm>
            <a:off x="8283600" y="4095720"/>
            <a:ext cx="4039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4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6" name=""/>
          <p:cNvCxnSpPr>
            <a:stCxn id="250" idx="3"/>
            <a:endCxn id="254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" name=""/>
          <p:cNvCxnSpPr>
            <a:stCxn id="250" idx="5"/>
            <a:endCxn id="255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38862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2" name=""/>
          <p:cNvCxnSpPr>
            <a:stCxn id="259" idx="3"/>
            <a:endCxn id="260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" name=""/>
          <p:cNvCxnSpPr>
            <a:stCxn id="259" idx="5"/>
            <a:endCxn id="261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79246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A87FA-B6C8-459F-A0F2-E6B4B92EE4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41115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57117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8" name=""/>
          <p:cNvCxnSpPr>
            <a:stCxn id="284" idx="3"/>
            <a:endCxn id="286" idx="0"/>
          </p:cNvCxnSpPr>
          <p:nvPr/>
        </p:nvCxnSpPr>
        <p:spPr>
          <a:xfrm flipH="1">
            <a:off x="37332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" name=""/>
          <p:cNvCxnSpPr>
            <a:stCxn id="284" idx="5"/>
            <a:endCxn id="287" idx="0"/>
          </p:cNvCxnSpPr>
          <p:nvPr/>
        </p:nvCxnSpPr>
        <p:spPr>
          <a:xfrm>
            <a:off x="42451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0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92" name=""/>
          <p:cNvCxnSpPr>
            <a:stCxn id="285" idx="3"/>
            <a:endCxn id="290" idx="0"/>
          </p:cNvCxnSpPr>
          <p:nvPr/>
        </p:nvCxnSpPr>
        <p:spPr>
          <a:xfrm flipH="1">
            <a:off x="53334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" name=""/>
          <p:cNvCxnSpPr>
            <a:stCxn id="285" idx="5"/>
            <a:endCxn id="291" idx="0"/>
          </p:cNvCxnSpPr>
          <p:nvPr/>
        </p:nvCxnSpPr>
        <p:spPr>
          <a:xfrm>
            <a:off x="58453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81504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98" name=""/>
          <p:cNvCxnSpPr>
            <a:stCxn id="295" idx="3"/>
            <a:endCxn id="296" idx="0"/>
          </p:cNvCxnSpPr>
          <p:nvPr/>
        </p:nvCxnSpPr>
        <p:spPr>
          <a:xfrm flipH="1">
            <a:off x="7770240" y="4095720"/>
            <a:ext cx="4021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" name=""/>
          <p:cNvCxnSpPr>
            <a:stCxn id="295" idx="5"/>
            <a:endCxn id="297" idx="0"/>
          </p:cNvCxnSpPr>
          <p:nvPr/>
        </p:nvCxnSpPr>
        <p:spPr>
          <a:xfrm>
            <a:off x="8283600" y="4095720"/>
            <a:ext cx="4039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0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2" name=""/>
          <p:cNvCxnSpPr>
            <a:stCxn id="296" idx="3"/>
            <a:endCxn id="300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96" idx="5"/>
            <a:endCxn id="301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54864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4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8" name=""/>
          <p:cNvCxnSpPr>
            <a:stCxn id="305" idx="3"/>
            <a:endCxn id="306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9" name=""/>
          <p:cNvCxnSpPr>
            <a:stCxn id="305" idx="5"/>
            <a:endCxn id="307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0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79246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8862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237D-50DC-4138-BFEC-E067B9F735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91116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2" name=""/>
          <p:cNvCxnSpPr>
            <a:stCxn id="331" idx="3"/>
          </p:cNvCxnSpPr>
          <p:nvPr/>
        </p:nvCxnSpPr>
        <p:spPr>
          <a:xfrm flipH="1">
            <a:off x="609120" y="3181320"/>
            <a:ext cx="3247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3" name=""/>
          <p:cNvCxnSpPr>
            <a:stCxn id="331" idx="5"/>
          </p:cNvCxnSpPr>
          <p:nvPr/>
        </p:nvCxnSpPr>
        <p:spPr>
          <a:xfrm>
            <a:off x="1044720" y="3181320"/>
            <a:ext cx="32760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4" name=""/>
          <p:cNvSpPr/>
          <p:nvPr/>
        </p:nvSpPr>
        <p:spPr>
          <a:xfrm>
            <a:off x="685800" y="34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41115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57117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9" name=""/>
          <p:cNvCxnSpPr>
            <a:stCxn id="335" idx="3"/>
            <a:endCxn id="337" idx="0"/>
          </p:cNvCxnSpPr>
          <p:nvPr/>
        </p:nvCxnSpPr>
        <p:spPr>
          <a:xfrm flipH="1">
            <a:off x="37332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"/>
          <p:cNvCxnSpPr>
            <a:stCxn id="335" idx="5"/>
            <a:endCxn id="338" idx="0"/>
          </p:cNvCxnSpPr>
          <p:nvPr/>
        </p:nvCxnSpPr>
        <p:spPr>
          <a:xfrm>
            <a:off x="42451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3" name=""/>
          <p:cNvCxnSpPr>
            <a:stCxn id="336" idx="3"/>
            <a:endCxn id="341" idx="0"/>
          </p:cNvCxnSpPr>
          <p:nvPr/>
        </p:nvCxnSpPr>
        <p:spPr>
          <a:xfrm flipH="1">
            <a:off x="53334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36" idx="5"/>
            <a:endCxn id="342" idx="0"/>
          </p:cNvCxnSpPr>
          <p:nvPr/>
        </p:nvCxnSpPr>
        <p:spPr>
          <a:xfrm>
            <a:off x="58453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5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81504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9" name=""/>
          <p:cNvCxnSpPr>
            <a:stCxn id="346" idx="3"/>
            <a:endCxn id="347" idx="0"/>
          </p:cNvCxnSpPr>
          <p:nvPr/>
        </p:nvCxnSpPr>
        <p:spPr>
          <a:xfrm flipH="1">
            <a:off x="7770240" y="4095720"/>
            <a:ext cx="4021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0" name=""/>
          <p:cNvCxnSpPr>
            <a:stCxn id="346" idx="5"/>
            <a:endCxn id="348" idx="0"/>
          </p:cNvCxnSpPr>
          <p:nvPr/>
        </p:nvCxnSpPr>
        <p:spPr>
          <a:xfrm>
            <a:off x="8283600" y="4095720"/>
            <a:ext cx="4039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1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3" name=""/>
          <p:cNvCxnSpPr>
            <a:stCxn id="347" idx="3"/>
            <a:endCxn id="351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4" name=""/>
          <p:cNvCxnSpPr>
            <a:stCxn id="347" idx="5"/>
            <a:endCxn id="352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54864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4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9" name=""/>
          <p:cNvCxnSpPr>
            <a:stCxn id="356" idx="3"/>
            <a:endCxn id="357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56" idx="5"/>
            <a:endCxn id="358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1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79246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38862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3174E-9291-4781-BFC1-35A8EBA284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>
            <a:off x="266400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3" name=""/>
          <p:cNvCxnSpPr>
            <a:stCxn id="382" idx="3"/>
          </p:cNvCxnSpPr>
          <p:nvPr/>
        </p:nvCxnSpPr>
        <p:spPr>
          <a:xfrm flipH="1">
            <a:off x="2283840" y="3181320"/>
            <a:ext cx="4021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82" idx="5"/>
          </p:cNvCxnSpPr>
          <p:nvPr/>
        </p:nvCxnSpPr>
        <p:spPr>
          <a:xfrm>
            <a:off x="2797200" y="3181320"/>
            <a:ext cx="4039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2438280" y="34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7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"/>
          <p:cNvSpPr/>
          <p:nvPr/>
        </p:nvSpPr>
        <p:spPr>
          <a:xfrm>
            <a:off x="91116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7" name=""/>
          <p:cNvCxnSpPr>
            <a:stCxn id="386" idx="3"/>
          </p:cNvCxnSpPr>
          <p:nvPr/>
        </p:nvCxnSpPr>
        <p:spPr>
          <a:xfrm flipH="1">
            <a:off x="609120" y="3181320"/>
            <a:ext cx="3247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86" idx="5"/>
          </p:cNvCxnSpPr>
          <p:nvPr/>
        </p:nvCxnSpPr>
        <p:spPr>
          <a:xfrm>
            <a:off x="1044720" y="3181320"/>
            <a:ext cx="32760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9" name=""/>
          <p:cNvSpPr/>
          <p:nvPr/>
        </p:nvSpPr>
        <p:spPr>
          <a:xfrm>
            <a:off x="685800" y="34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41115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57117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4" name=""/>
          <p:cNvCxnSpPr>
            <a:stCxn id="390" idx="3"/>
            <a:endCxn id="392" idx="0"/>
          </p:cNvCxnSpPr>
          <p:nvPr/>
        </p:nvCxnSpPr>
        <p:spPr>
          <a:xfrm flipH="1">
            <a:off x="37332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5" name=""/>
          <p:cNvCxnSpPr>
            <a:stCxn id="390" idx="5"/>
            <a:endCxn id="393" idx="0"/>
          </p:cNvCxnSpPr>
          <p:nvPr/>
        </p:nvCxnSpPr>
        <p:spPr>
          <a:xfrm>
            <a:off x="42451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96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8" name=""/>
          <p:cNvCxnSpPr>
            <a:stCxn id="391" idx="3"/>
            <a:endCxn id="396" idx="0"/>
          </p:cNvCxnSpPr>
          <p:nvPr/>
        </p:nvCxnSpPr>
        <p:spPr>
          <a:xfrm flipH="1">
            <a:off x="53334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9" name=""/>
          <p:cNvCxnSpPr>
            <a:stCxn id="391" idx="5"/>
            <a:endCxn id="397" idx="0"/>
          </p:cNvCxnSpPr>
          <p:nvPr/>
        </p:nvCxnSpPr>
        <p:spPr>
          <a:xfrm>
            <a:off x="58453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00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81504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4" name=""/>
          <p:cNvCxnSpPr>
            <a:stCxn id="401" idx="3"/>
            <a:endCxn id="402" idx="0"/>
          </p:cNvCxnSpPr>
          <p:nvPr/>
        </p:nvCxnSpPr>
        <p:spPr>
          <a:xfrm flipH="1">
            <a:off x="7770240" y="4095720"/>
            <a:ext cx="4021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5" name=""/>
          <p:cNvCxnSpPr>
            <a:stCxn id="401" idx="5"/>
            <a:endCxn id="403" idx="0"/>
          </p:cNvCxnSpPr>
          <p:nvPr/>
        </p:nvCxnSpPr>
        <p:spPr>
          <a:xfrm>
            <a:off x="8283600" y="4095720"/>
            <a:ext cx="4039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06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8" name=""/>
          <p:cNvCxnSpPr>
            <a:stCxn id="402" idx="3"/>
            <a:endCxn id="406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9" name=""/>
          <p:cNvCxnSpPr>
            <a:stCxn id="402" idx="5"/>
            <a:endCxn id="407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0" name=""/>
          <p:cNvSpPr/>
          <p:nvPr/>
        </p:nvSpPr>
        <p:spPr>
          <a:xfrm>
            <a:off x="54864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4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4" name=""/>
          <p:cNvCxnSpPr>
            <a:stCxn id="411" idx="3"/>
            <a:endCxn id="412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5" name=""/>
          <p:cNvCxnSpPr>
            <a:stCxn id="411" idx="5"/>
            <a:endCxn id="413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6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"/>
          <p:cNvSpPr/>
          <p:nvPr/>
        </p:nvSpPr>
        <p:spPr>
          <a:xfrm>
            <a:off x="79246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38862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77A9A-1837-4AB4-84C3-8B053A21B0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cp:lastPrinted>2000-12-31T20:44:51Z</cp:lastPrinted>
  <dcterms:modified xsi:type="dcterms:W3CDTF">2005-11-10T19:39:44Z</dcterms:modified>
  <cp:revision>892</cp:revision>
  <dc:subject/>
  <dc:title>Trees</dc:title>
</cp:coreProperties>
</file>