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CF3A-D5BF-48E3-A63B-75627B174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CFB4-681D-45CE-9FEE-639D4109A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9E86-C588-4FEB-97A5-51D183307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712D-52A1-454C-82A6-52E97C03A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4341-E117-436C-B6B7-1F0E6BAB6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061B-4425-4CA7-AFB9-CCE8E504D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72F8-9F27-4DA9-A1CF-30693A157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F79E-2DDB-4240-B88A-368FD5FE1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12A7-DB39-4D6D-BA33-7826835B9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4C10-BAED-4D36-A2AB-CE51A1F45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7E09-008A-45CB-8935-C575F9B6B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9EEC-BB7F-4A08-8353-5CCE0314F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AA92-AD23-4934-838A-4A483C13CCC3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haracter count in text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295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914400"/>
            <a:ext cx="9144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1676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2057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819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200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962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4724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5105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1295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914400"/>
            <a:ext cx="76176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1676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057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438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2819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200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962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4343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724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105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5486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5867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5486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867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581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581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E26E-B87B-43BD-8204-6AF83DF491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8" name=""/>
          <p:cNvCxnSpPr>
            <a:stCxn id="437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7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2" name=""/>
          <p:cNvCxnSpPr>
            <a:stCxn id="441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41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45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5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3"/>
            <a:endCxn id="451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49" idx="5"/>
            <a:endCxn id="452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5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7" name=""/>
          <p:cNvCxnSpPr>
            <a:stCxn id="450" idx="3"/>
            <a:endCxn id="455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0" idx="5"/>
            <a:endCxn id="456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3" name=""/>
          <p:cNvCxnSpPr>
            <a:stCxn id="460" idx="3"/>
            <a:endCxn id="461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60" idx="5"/>
            <a:endCxn id="462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7" name=""/>
          <p:cNvCxnSpPr>
            <a:stCxn id="461" idx="3"/>
            <a:endCxn id="465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61" idx="5"/>
            <a:endCxn id="466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70" idx="3"/>
            <a:endCxn id="471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5"/>
            <a:endCxn id="472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A0CA-F5C4-4348-A5FE-98B07709AD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7" name=""/>
          <p:cNvCxnSpPr>
            <a:stCxn id="496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96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500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500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5" name=""/>
          <p:cNvCxnSpPr>
            <a:stCxn id="504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504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8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6" name=""/>
          <p:cNvCxnSpPr>
            <a:stCxn id="512" idx="3"/>
            <a:endCxn id="514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12" idx="5"/>
            <a:endCxn id="515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0" name=""/>
          <p:cNvCxnSpPr>
            <a:stCxn id="513" idx="3"/>
            <a:endCxn id="518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13" idx="5"/>
            <a:endCxn id="519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6" name=""/>
          <p:cNvCxnSpPr>
            <a:stCxn id="523" idx="3"/>
            <a:endCxn id="524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3" idx="5"/>
            <a:endCxn id="525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24" idx="3"/>
            <a:endCxn id="528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4" idx="5"/>
            <a:endCxn id="529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3"/>
            <a:endCxn id="534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5"/>
            <a:endCxn id="535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22E5-A432-46F3-BA69-08CC4D0912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0" name=""/>
          <p:cNvCxnSpPr>
            <a:stCxn id="559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9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3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3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8" name=""/>
          <p:cNvCxnSpPr>
            <a:stCxn id="567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67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71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"/>
          <p:cNvCxnSpPr>
            <a:stCxn id="571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4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6" name=""/>
          <p:cNvCxnSpPr>
            <a:stCxn id="575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5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>
            <a:stCxn id="579" idx="3"/>
            <a:endCxn id="581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9" idx="5"/>
            <a:endCxn id="582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7" name=""/>
          <p:cNvCxnSpPr>
            <a:stCxn id="580" idx="3"/>
            <a:endCxn id="585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"/>
          <p:cNvCxnSpPr>
            <a:stCxn id="580" idx="5"/>
            <a:endCxn id="586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3" name=""/>
          <p:cNvCxnSpPr>
            <a:stCxn id="590" idx="3"/>
            <a:endCxn id="591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0" idx="5"/>
            <a:endCxn id="592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1" idx="3"/>
            <a:endCxn id="595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"/>
          <p:cNvCxnSpPr>
            <a:stCxn id="591" idx="5"/>
            <a:endCxn id="596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3" name=""/>
          <p:cNvCxnSpPr>
            <a:stCxn id="600" idx="3"/>
            <a:endCxn id="601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4" name=""/>
          <p:cNvCxnSpPr>
            <a:stCxn id="600" idx="5"/>
            <a:endCxn id="602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5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5A8B-FA21-42E3-AB4A-33988BB29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6168960" y="20574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6" idx="5"/>
          </p:cNvCxnSpPr>
          <p:nvPr/>
        </p:nvCxnSpPr>
        <p:spPr>
          <a:xfrm>
            <a:off x="6302160" y="2190600"/>
            <a:ext cx="118476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8" name=""/>
          <p:cNvCxnSpPr>
            <a:stCxn id="626" idx="3"/>
          </p:cNvCxnSpPr>
          <p:nvPr/>
        </p:nvCxnSpPr>
        <p:spPr>
          <a:xfrm flipH="1">
            <a:off x="5082840" y="2190240"/>
            <a:ext cx="1108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5943600" y="23623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1" name=""/>
          <p:cNvCxnSpPr>
            <a:stCxn id="630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2" name=""/>
          <p:cNvCxnSpPr>
            <a:stCxn id="630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5" name=""/>
          <p:cNvCxnSpPr>
            <a:stCxn id="634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4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9" name=""/>
          <p:cNvCxnSpPr>
            <a:stCxn id="638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8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1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stCxn id="642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4" name=""/>
          <p:cNvCxnSpPr>
            <a:stCxn id="642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7" name=""/>
          <p:cNvCxnSpPr>
            <a:stCxn id="646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8" name=""/>
          <p:cNvCxnSpPr>
            <a:stCxn id="646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3"/>
            <a:endCxn id="65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0" idx="5"/>
            <a:endCxn id="65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8" name=""/>
          <p:cNvCxnSpPr>
            <a:stCxn id="651" idx="3"/>
            <a:endCxn id="656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1" idx="5"/>
            <a:endCxn id="657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1" idx="3"/>
            <a:endCxn id="662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1" idx="5"/>
            <a:endCxn id="663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6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8" name=""/>
          <p:cNvCxnSpPr>
            <a:stCxn id="662" idx="3"/>
            <a:endCxn id="666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62" idx="5"/>
            <a:endCxn id="667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4" name=""/>
          <p:cNvCxnSpPr>
            <a:stCxn id="671" idx="3"/>
            <a:endCxn id="672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71" idx="5"/>
            <a:endCxn id="673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492A-599B-44CA-A2D4-9BF08C3BE0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04920" y="1295280"/>
            <a:ext cx="8686800" cy="5182560"/>
            <a:chOff x="304920" y="1295280"/>
            <a:chExt cx="8686800" cy="5182560"/>
          </a:xfrm>
        </p:grpSpPr>
        <p:sp>
          <p:nvSpPr>
            <p:cNvPr id="698" name=""/>
            <p:cNvSpPr/>
            <p:nvPr/>
          </p:nvSpPr>
          <p:spPr>
            <a:xfrm>
              <a:off x="3882960" y="129528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99" name=""/>
            <p:cNvCxnSpPr>
              <a:stCxn id="698" idx="5"/>
            </p:cNvCxnSpPr>
            <p:nvPr/>
          </p:nvCxnSpPr>
          <p:spPr>
            <a:xfrm>
              <a:off x="4016160" y="1428840"/>
              <a:ext cx="2175480" cy="63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0" name=""/>
            <p:cNvCxnSpPr>
              <a:stCxn id="698" idx="3"/>
            </p:cNvCxnSpPr>
            <p:nvPr/>
          </p:nvCxnSpPr>
          <p:spPr>
            <a:xfrm flipH="1">
              <a:off x="1882800" y="1428480"/>
              <a:ext cx="2022840" cy="6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1" name=""/>
            <p:cNvSpPr/>
            <p:nvPr/>
          </p:nvSpPr>
          <p:spPr>
            <a:xfrm>
              <a:off x="3657600" y="164448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8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68960" y="205740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03" name=""/>
            <p:cNvCxnSpPr>
              <a:stCxn id="702" idx="5"/>
            </p:cNvCxnSpPr>
            <p:nvPr/>
          </p:nvCxnSpPr>
          <p:spPr>
            <a:xfrm>
              <a:off x="6302160" y="2190600"/>
              <a:ext cx="1184760" cy="98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4" name=""/>
            <p:cNvCxnSpPr>
              <a:stCxn id="702" idx="3"/>
            </p:cNvCxnSpPr>
            <p:nvPr/>
          </p:nvCxnSpPr>
          <p:spPr>
            <a:xfrm flipH="1">
              <a:off x="5082840" y="2190240"/>
              <a:ext cx="1108800" cy="86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5" name=""/>
            <p:cNvSpPr/>
            <p:nvPr/>
          </p:nvSpPr>
          <p:spPr>
            <a:xfrm>
              <a:off x="5943600" y="236232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0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9600" y="207180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07" name=""/>
            <p:cNvCxnSpPr>
              <a:stCxn id="706" idx="3"/>
            </p:cNvCxnSpPr>
            <p:nvPr/>
          </p:nvCxnSpPr>
          <p:spPr>
            <a:xfrm flipH="1">
              <a:off x="988560" y="2205000"/>
              <a:ext cx="783360" cy="82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8" name=""/>
            <p:cNvCxnSpPr>
              <a:stCxn id="706" idx="5"/>
            </p:cNvCxnSpPr>
            <p:nvPr/>
          </p:nvCxnSpPr>
          <p:spPr>
            <a:xfrm>
              <a:off x="1882800" y="2205000"/>
              <a:ext cx="859680" cy="82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9" name=""/>
            <p:cNvSpPr/>
            <p:nvPr/>
          </p:nvSpPr>
          <p:spPr>
            <a:xfrm>
              <a:off x="1523880" y="236232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33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000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1" name=""/>
            <p:cNvCxnSpPr>
              <a:stCxn id="710" idx="3"/>
            </p:cNvCxnSpPr>
            <p:nvPr/>
          </p:nvCxnSpPr>
          <p:spPr>
            <a:xfrm flipH="1">
              <a:off x="4188960" y="3181320"/>
              <a:ext cx="78336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10" idx="5"/>
            </p:cNvCxnSpPr>
            <p:nvPr/>
          </p:nvCxnSpPr>
          <p:spPr>
            <a:xfrm>
              <a:off x="5083200" y="3181320"/>
              <a:ext cx="70704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3" name=""/>
            <p:cNvSpPr/>
            <p:nvPr/>
          </p:nvSpPr>
          <p:spPr>
            <a:xfrm>
              <a:off x="4724280" y="34290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7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64600" y="3166920"/>
              <a:ext cx="155520" cy="155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5" name=""/>
            <p:cNvCxnSpPr>
              <a:stCxn id="714" idx="3"/>
            </p:cNvCxnSpPr>
            <p:nvPr/>
          </p:nvCxnSpPr>
          <p:spPr>
            <a:xfrm flipH="1">
              <a:off x="6857640" y="3300120"/>
              <a:ext cx="62928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6" name=""/>
            <p:cNvCxnSpPr>
              <a:stCxn id="714" idx="5"/>
            </p:cNvCxnSpPr>
            <p:nvPr/>
          </p:nvCxnSpPr>
          <p:spPr>
            <a:xfrm>
              <a:off x="7597440" y="3300120"/>
              <a:ext cx="63108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7" name=""/>
            <p:cNvSpPr/>
            <p:nvPr/>
          </p:nvSpPr>
          <p:spPr>
            <a:xfrm>
              <a:off x="7238880" y="354816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66400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9" name=""/>
            <p:cNvCxnSpPr>
              <a:stCxn id="718" idx="3"/>
            </p:cNvCxnSpPr>
            <p:nvPr/>
          </p:nvCxnSpPr>
          <p:spPr>
            <a:xfrm flipH="1">
              <a:off x="2283840" y="3181320"/>
              <a:ext cx="4021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0" name=""/>
            <p:cNvCxnSpPr>
              <a:stCxn id="718" idx="5"/>
            </p:cNvCxnSpPr>
            <p:nvPr/>
          </p:nvCxnSpPr>
          <p:spPr>
            <a:xfrm>
              <a:off x="2797200" y="3181320"/>
              <a:ext cx="4039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1" name=""/>
            <p:cNvSpPr/>
            <p:nvPr/>
          </p:nvSpPr>
          <p:spPr>
            <a:xfrm>
              <a:off x="2438280" y="34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7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116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23" name=""/>
            <p:cNvCxnSpPr>
              <a:stCxn id="722" idx="3"/>
            </p:cNvCxnSpPr>
            <p:nvPr/>
          </p:nvCxnSpPr>
          <p:spPr>
            <a:xfrm flipH="1">
              <a:off x="609120" y="3181320"/>
              <a:ext cx="3247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4" name=""/>
            <p:cNvCxnSpPr>
              <a:stCxn id="722" idx="5"/>
            </p:cNvCxnSpPr>
            <p:nvPr/>
          </p:nvCxnSpPr>
          <p:spPr>
            <a:xfrm>
              <a:off x="1044720" y="3181320"/>
              <a:ext cx="32760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5" name=""/>
            <p:cNvSpPr/>
            <p:nvPr/>
          </p:nvSpPr>
          <p:spPr>
            <a:xfrm>
              <a:off x="685800" y="34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1156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1176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812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956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30" name=""/>
            <p:cNvCxnSpPr>
              <a:stCxn id="726" idx="3"/>
              <a:endCxn id="728" idx="0"/>
            </p:cNvCxnSpPr>
            <p:nvPr/>
          </p:nvCxnSpPr>
          <p:spPr>
            <a:xfrm flipH="1">
              <a:off x="3733200" y="4095360"/>
              <a:ext cx="40068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1" name=""/>
            <p:cNvCxnSpPr>
              <a:stCxn id="726" idx="5"/>
              <a:endCxn id="729" idx="0"/>
            </p:cNvCxnSpPr>
            <p:nvPr/>
          </p:nvCxnSpPr>
          <p:spPr>
            <a:xfrm>
              <a:off x="4245120" y="4095360"/>
              <a:ext cx="40392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2" name=""/>
            <p:cNvSpPr/>
            <p:nvPr/>
          </p:nvSpPr>
          <p:spPr>
            <a:xfrm>
              <a:off x="51814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58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34" name=""/>
            <p:cNvCxnSpPr>
              <a:stCxn id="727" idx="3"/>
              <a:endCxn id="732" idx="0"/>
            </p:cNvCxnSpPr>
            <p:nvPr/>
          </p:nvCxnSpPr>
          <p:spPr>
            <a:xfrm flipH="1">
              <a:off x="5333400" y="4095360"/>
              <a:ext cx="40068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5" name=""/>
            <p:cNvCxnSpPr>
              <a:stCxn id="727" idx="5"/>
              <a:endCxn id="733" idx="0"/>
            </p:cNvCxnSpPr>
            <p:nvPr/>
          </p:nvCxnSpPr>
          <p:spPr>
            <a:xfrm>
              <a:off x="5845320" y="4095360"/>
              <a:ext cx="40392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67057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15040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93200" y="4956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534520" y="4956120"/>
              <a:ext cx="30456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40" name=""/>
            <p:cNvCxnSpPr>
              <a:stCxn id="737" idx="3"/>
              <a:endCxn id="738" idx="0"/>
            </p:cNvCxnSpPr>
            <p:nvPr/>
          </p:nvCxnSpPr>
          <p:spPr>
            <a:xfrm flipH="1">
              <a:off x="7770240" y="4095720"/>
              <a:ext cx="402120" cy="86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1" name=""/>
            <p:cNvCxnSpPr>
              <a:stCxn id="737" idx="5"/>
              <a:endCxn id="739" idx="0"/>
            </p:cNvCxnSpPr>
            <p:nvPr/>
          </p:nvCxnSpPr>
          <p:spPr>
            <a:xfrm>
              <a:off x="8283600" y="4095720"/>
              <a:ext cx="403920" cy="86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2" name=""/>
            <p:cNvSpPr/>
            <p:nvPr/>
          </p:nvSpPr>
          <p:spPr>
            <a:xfrm>
              <a:off x="7238880" y="58672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01000" y="58672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44" name=""/>
            <p:cNvCxnSpPr>
              <a:stCxn id="738" idx="3"/>
              <a:endCxn id="742" idx="0"/>
            </p:cNvCxnSpPr>
            <p:nvPr/>
          </p:nvCxnSpPr>
          <p:spPr>
            <a:xfrm flipH="1">
              <a:off x="7390800" y="5089680"/>
              <a:ext cx="3243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5" name=""/>
            <p:cNvCxnSpPr>
              <a:stCxn id="738" idx="5"/>
              <a:endCxn id="743" idx="0"/>
            </p:cNvCxnSpPr>
            <p:nvPr/>
          </p:nvCxnSpPr>
          <p:spPr>
            <a:xfrm>
              <a:off x="7826400" y="5089680"/>
              <a:ext cx="3276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486400" y="43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4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0680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524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1460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50" name=""/>
            <p:cNvCxnSpPr>
              <a:stCxn id="747" idx="3"/>
              <a:endCxn id="748" idx="0"/>
            </p:cNvCxnSpPr>
            <p:nvPr/>
          </p:nvCxnSpPr>
          <p:spPr>
            <a:xfrm flipH="1">
              <a:off x="1904400" y="4095360"/>
              <a:ext cx="32436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1" name=""/>
            <p:cNvCxnSpPr>
              <a:stCxn id="747" idx="5"/>
              <a:endCxn id="749" idx="0"/>
            </p:cNvCxnSpPr>
            <p:nvPr/>
          </p:nvCxnSpPr>
          <p:spPr>
            <a:xfrm>
              <a:off x="2340000" y="4095360"/>
              <a:ext cx="32760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52" name=""/>
            <p:cNvSpPr/>
            <p:nvPr/>
          </p:nvSpPr>
          <p:spPr>
            <a:xfrm>
              <a:off x="457200" y="3962520"/>
              <a:ext cx="30492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193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481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246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86600" y="61722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848720" y="61722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1880" y="5270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292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436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290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6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434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30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00200" y="5270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62320" y="5270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4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954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9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4920" y="431172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66680" y="432756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67480" y="530208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86200" y="43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2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ED82-2B91-4C64-A1BC-1F2B5C47B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5" name=""/>
          <p:cNvCxnSpPr>
            <a:endCxn id="773" idx="0"/>
          </p:cNvCxnSpPr>
          <p:nvPr/>
        </p:nvCxnSpPr>
        <p:spPr>
          <a:xfrm flipH="1">
            <a:off x="7390800" y="5097600"/>
            <a:ext cx="324360" cy="7624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endCxn id="774" idx="0"/>
          </p:cNvCxnSpPr>
          <p:nvPr/>
        </p:nvCxnSpPr>
        <p:spPr>
          <a:xfrm>
            <a:off x="7826400" y="5097600"/>
            <a:ext cx="327600" cy="7624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7086600" y="6172200"/>
            <a:ext cx="60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7848720" y="6172200"/>
            <a:ext cx="60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882960" y="129528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0" name=""/>
          <p:cNvCxnSpPr>
            <a:stCxn id="779" idx="5"/>
          </p:cNvCxnSpPr>
          <p:nvPr/>
        </p:nvCxnSpPr>
        <p:spPr>
          <a:xfrm>
            <a:off x="4016160" y="1428840"/>
            <a:ext cx="217548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79" idx="3"/>
          </p:cNvCxnSpPr>
          <p:nvPr/>
        </p:nvCxnSpPr>
        <p:spPr>
          <a:xfrm flipH="1">
            <a:off x="1882800" y="1428480"/>
            <a:ext cx="20228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657600" y="164448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6168960" y="20574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4" name=""/>
          <p:cNvCxnSpPr>
            <a:stCxn id="783" idx="5"/>
          </p:cNvCxnSpPr>
          <p:nvPr/>
        </p:nvCxnSpPr>
        <p:spPr>
          <a:xfrm>
            <a:off x="6302160" y="2190600"/>
            <a:ext cx="118476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3" idx="3"/>
          </p:cNvCxnSpPr>
          <p:nvPr/>
        </p:nvCxnSpPr>
        <p:spPr>
          <a:xfrm flipH="1">
            <a:off x="5082840" y="2190240"/>
            <a:ext cx="1108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5943600" y="23623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8" name=""/>
          <p:cNvCxnSpPr>
            <a:stCxn id="787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87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2" name=""/>
          <p:cNvCxnSpPr>
            <a:stCxn id="791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"/>
          <p:cNvCxnSpPr>
            <a:stCxn id="791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6" name=""/>
          <p:cNvCxnSpPr>
            <a:stCxn id="795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95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00" name=""/>
          <p:cNvCxnSpPr>
            <a:stCxn id="799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99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2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04" name=""/>
          <p:cNvCxnSpPr>
            <a:stCxn id="803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3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6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1" name=""/>
          <p:cNvCxnSpPr>
            <a:stCxn id="807" idx="3"/>
            <a:endCxn id="809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2" name=""/>
          <p:cNvCxnSpPr>
            <a:stCxn id="807" idx="5"/>
            <a:endCxn id="810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3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5" name=""/>
          <p:cNvCxnSpPr>
            <a:stCxn id="808" idx="3"/>
            <a:endCxn id="813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6" name=""/>
          <p:cNvCxnSpPr>
            <a:stCxn id="808" idx="5"/>
            <a:endCxn id="814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7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1" name=""/>
          <p:cNvCxnSpPr>
            <a:stCxn id="818" idx="3"/>
            <a:endCxn id="819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"/>
          <p:cNvCxnSpPr>
            <a:stCxn id="818" idx="5"/>
            <a:endCxn id="820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5" name=""/>
          <p:cNvCxnSpPr>
            <a:stCxn id="819" idx="3"/>
            <a:endCxn id="823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9" idx="5"/>
            <a:endCxn id="824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1" name=""/>
          <p:cNvCxnSpPr>
            <a:stCxn id="828" idx="3"/>
            <a:endCxn id="829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2" name=""/>
          <p:cNvCxnSpPr>
            <a:stCxn id="828" idx="5"/>
            <a:endCxn id="830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3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197320" y="1219320"/>
            <a:ext cx="3108600" cy="5181480"/>
            <a:chOff x="5197320" y="1219320"/>
            <a:chExt cx="3108600" cy="5181480"/>
          </a:xfrm>
        </p:grpSpPr>
        <p:sp>
          <p:nvSpPr>
            <p:cNvPr id="853" name=""/>
            <p:cNvSpPr/>
            <p:nvPr/>
          </p:nvSpPr>
          <p:spPr>
            <a:xfrm>
              <a:off x="5888160" y="156528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88160" y="1219320"/>
              <a:ext cx="82872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88160" y="190980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9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88160" y="22557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88160" y="26002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88160" y="294624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88160" y="32925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88160" y="398304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88160" y="432756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88160" y="467352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88160" y="5019840"/>
              <a:ext cx="82872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97320" y="156528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97320" y="1219320"/>
              <a:ext cx="69084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Ch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97320" y="190980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97320" y="225576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97320" y="260028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97320" y="294624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97320" y="329256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97320" y="398304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97320" y="432756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97320" y="467352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97320" y="5019840"/>
              <a:ext cx="69084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88160" y="536400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88160" y="571032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97320" y="536400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97320" y="571032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88160" y="36370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97320" y="363708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16880" y="156528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16880" y="1219320"/>
              <a:ext cx="82836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Fixe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16880" y="190980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16880" y="225576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16880" y="260028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16880" y="294624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16880" y="329256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16880" y="398304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6880" y="432756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16880" y="467352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16880" y="5019840"/>
              <a:ext cx="82836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6880" y="536400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6880" y="571032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16880" y="363708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77200" y="156528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477200" y="1219320"/>
              <a:ext cx="82872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Huf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77200" y="190980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477200" y="22557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77200" y="26002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77200" y="294624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77200" y="32925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77200" y="398304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77200" y="432756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77200" y="467352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77200" y="5019840"/>
              <a:ext cx="82872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77200" y="536400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477200" y="571032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7200" y="36370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88160" y="6054840"/>
              <a:ext cx="82872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97320" y="6054840"/>
              <a:ext cx="69084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16880" y="6054840"/>
              <a:ext cx="82836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.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77200" y="6054840"/>
              <a:ext cx="82872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.6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64AE-7841-41EF-967D-EA460BB4B2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6D23-D623-47F9-85DF-4028AE9C86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" name=""/>
          <p:cNvCxnSpPr>
            <a:stCxn id="141" idx="3"/>
            <a:endCxn id="143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41" idx="5"/>
            <a:endCxn id="144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1041-FAEB-4079-9CA1-769029869A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2" idx="3"/>
            <a:endCxn id="174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2" idx="5"/>
            <a:endCxn id="175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78" idx="3"/>
            <a:endCxn id="179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78" idx="5"/>
            <a:endCxn id="180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5188-E83C-4FA6-AD6E-EAE985B24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0" name=""/>
          <p:cNvCxnSpPr>
            <a:stCxn id="207" idx="3"/>
            <a:endCxn id="208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7" idx="5"/>
            <a:endCxn id="209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4" name=""/>
          <p:cNvCxnSpPr>
            <a:stCxn id="208" idx="3"/>
            <a:endCxn id="212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8" idx="5"/>
            <a:endCxn id="213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7" idx="3"/>
            <a:endCxn id="218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7" idx="5"/>
            <a:endCxn id="219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9EA7-AA4B-4E34-9DAA-18FC21002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4" name=""/>
          <p:cNvCxnSpPr>
            <a:stCxn id="241" idx="3"/>
            <a:endCxn id="24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41" idx="5"/>
            <a:endCxn id="24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2" name=""/>
          <p:cNvCxnSpPr>
            <a:stCxn id="249" idx="3"/>
            <a:endCxn id="250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9" idx="5"/>
            <a:endCxn id="251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6" name=""/>
          <p:cNvCxnSpPr>
            <a:stCxn id="250" idx="3"/>
            <a:endCxn id="254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0" idx="5"/>
            <a:endCxn id="255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2" name=""/>
          <p:cNvCxnSpPr>
            <a:stCxn id="259" idx="3"/>
            <a:endCxn id="260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59" idx="5"/>
            <a:endCxn id="261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E73A-6E93-4731-9C19-E2A6D7E97F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84" idx="3"/>
            <a:endCxn id="286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4" idx="5"/>
            <a:endCxn id="287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2" name=""/>
          <p:cNvCxnSpPr>
            <a:stCxn id="285" idx="3"/>
            <a:endCxn id="290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5" idx="5"/>
            <a:endCxn id="291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3"/>
            <a:endCxn id="296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5" idx="5"/>
            <a:endCxn id="297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3"/>
            <a:endCxn id="300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6" idx="5"/>
            <a:endCxn id="301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5" idx="3"/>
            <a:endCxn id="306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5" idx="5"/>
            <a:endCxn id="307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08EA-B548-4158-8B75-EFD0F1F8B7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2" name=""/>
          <p:cNvCxnSpPr>
            <a:stCxn id="331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31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3"/>
            <a:endCxn id="337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5" idx="5"/>
            <a:endCxn id="338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3" name=""/>
          <p:cNvCxnSpPr>
            <a:stCxn id="336" idx="3"/>
            <a:endCxn id="341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6" idx="5"/>
            <a:endCxn id="342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3"/>
            <a:endCxn id="347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46" idx="5"/>
            <a:endCxn id="348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3"/>
            <a:endCxn id="351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stCxn id="347" idx="5"/>
            <a:endCxn id="352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9" name=""/>
          <p:cNvCxnSpPr>
            <a:stCxn id="356" idx="3"/>
            <a:endCxn id="357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6" idx="5"/>
            <a:endCxn id="358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0284-F0C5-4F73-9E30-7187F3690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3" name=""/>
          <p:cNvCxnSpPr>
            <a:stCxn id="382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82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6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4" name=""/>
          <p:cNvCxnSpPr>
            <a:stCxn id="390" idx="3"/>
            <a:endCxn id="39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stCxn id="390" idx="5"/>
            <a:endCxn id="39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1" idx="3"/>
            <a:endCxn id="396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1" idx="5"/>
            <a:endCxn id="397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4" name=""/>
          <p:cNvCxnSpPr>
            <a:stCxn id="401" idx="3"/>
            <a:endCxn id="402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1" idx="5"/>
            <a:endCxn id="403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8" name=""/>
          <p:cNvCxnSpPr>
            <a:stCxn id="402" idx="3"/>
            <a:endCxn id="406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402" idx="5"/>
            <a:endCxn id="407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4" name=""/>
          <p:cNvCxnSpPr>
            <a:stCxn id="411" idx="3"/>
            <a:endCxn id="412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411" idx="5"/>
            <a:endCxn id="413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B7F2-0D5C-4721-A72A-439C7B52F0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cp:lastPrinted>2000-12-31T20:44:51Z</cp:lastPrinted>
  <dcterms:modified xsi:type="dcterms:W3CDTF">2005-11-10T19:39:44Z</dcterms:modified>
  <cp:revision>892</cp:revision>
  <dc:subject/>
  <dc:title>Trees</dc:title>
</cp:coreProperties>
</file>