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1CF3-40CB-4A64-8348-2AE5C2C05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FE09-CEFF-4D70-9B91-0DF254685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4C35-E476-4924-9E38-B3D7DAD70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FD09-EABB-4E4C-AB73-12B427EB2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64E5-17CB-46F2-9EAA-65784E8F4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3826-1BEA-4F93-8DC2-5BF539DBA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E839-4650-4262-99AF-8AF30B007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8CF4-6AB2-48A2-BE5E-0E4B480BA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19B2-63AC-4C08-92A6-FE9E67006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A64E-4EAB-4350-8836-9FF813DBE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4C01-9802-47D7-AAAB-53AD90060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A904-EE13-479E-981D-35FE7EA9C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6373-764D-4361-B0B0-EF89999734E0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haracter count in text.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295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914400"/>
            <a:ext cx="9144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167652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205740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2438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281952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320040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7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96252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434340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4724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510552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1295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914400"/>
            <a:ext cx="76176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ha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167652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05740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438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281952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320040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396252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434340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4724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510552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5486400"/>
            <a:ext cx="91440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5867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5486400"/>
            <a:ext cx="7617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867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581280"/>
            <a:ext cx="91440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581280"/>
            <a:ext cx="7617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C9BC-5AE2-41E7-A363-7510F7F50A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8" name=""/>
          <p:cNvCxnSpPr>
            <a:stCxn id="437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>
            <a:stCxn id="437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2" name=""/>
          <p:cNvCxnSpPr>
            <a:stCxn id="441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41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6" name=""/>
          <p:cNvCxnSpPr>
            <a:stCxn id="445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5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49" idx="3"/>
            <a:endCxn id="451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49" idx="5"/>
            <a:endCxn id="452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5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7" name=""/>
          <p:cNvCxnSpPr>
            <a:stCxn id="450" idx="3"/>
            <a:endCxn id="455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0" idx="5"/>
            <a:endCxn id="456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3" name=""/>
          <p:cNvCxnSpPr>
            <a:stCxn id="460" idx="3"/>
            <a:endCxn id="461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60" idx="5"/>
            <a:endCxn id="462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5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7" name=""/>
          <p:cNvCxnSpPr>
            <a:stCxn id="461" idx="3"/>
            <a:endCxn id="465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8" name=""/>
          <p:cNvCxnSpPr>
            <a:stCxn id="461" idx="5"/>
            <a:endCxn id="466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3" name=""/>
          <p:cNvCxnSpPr>
            <a:stCxn id="470" idx="3"/>
            <a:endCxn id="471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5"/>
            <a:endCxn id="472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460B-EF62-4F72-8F13-F6C7441C04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4950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7" name=""/>
          <p:cNvCxnSpPr>
            <a:stCxn id="496" idx="3"/>
          </p:cNvCxnSpPr>
          <p:nvPr/>
        </p:nvCxnSpPr>
        <p:spPr>
          <a:xfrm flipH="1">
            <a:off x="4188960" y="3181320"/>
            <a:ext cx="7833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96" idx="5"/>
          </p:cNvCxnSpPr>
          <p:nvPr/>
        </p:nvCxnSpPr>
        <p:spPr>
          <a:xfrm>
            <a:off x="5083200" y="3181320"/>
            <a:ext cx="707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99" name=""/>
          <p:cNvSpPr/>
          <p:nvPr/>
        </p:nvSpPr>
        <p:spPr>
          <a:xfrm>
            <a:off x="4724280" y="34290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1" name=""/>
          <p:cNvCxnSpPr>
            <a:stCxn id="500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500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5" name=""/>
          <p:cNvCxnSpPr>
            <a:stCxn id="504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504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7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8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8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6" name=""/>
          <p:cNvCxnSpPr>
            <a:stCxn id="512" idx="3"/>
            <a:endCxn id="514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12" idx="5"/>
            <a:endCxn id="515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0" name=""/>
          <p:cNvCxnSpPr>
            <a:stCxn id="513" idx="3"/>
            <a:endCxn id="518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13" idx="5"/>
            <a:endCxn id="519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6" name=""/>
          <p:cNvCxnSpPr>
            <a:stCxn id="523" idx="3"/>
            <a:endCxn id="524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523" idx="5"/>
            <a:endCxn id="525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0" name=""/>
          <p:cNvCxnSpPr>
            <a:stCxn id="524" idx="3"/>
            <a:endCxn id="528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24" idx="5"/>
            <a:endCxn id="529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stCxn id="533" idx="3"/>
            <a:endCxn id="534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5"/>
            <a:endCxn id="535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29B8-B279-4BC5-AF46-3858945828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1749600" y="20718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0" name=""/>
          <p:cNvCxnSpPr>
            <a:stCxn id="559" idx="3"/>
          </p:cNvCxnSpPr>
          <p:nvPr/>
        </p:nvCxnSpPr>
        <p:spPr>
          <a:xfrm flipH="1">
            <a:off x="988560" y="2205000"/>
            <a:ext cx="78336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9" idx="5"/>
          </p:cNvCxnSpPr>
          <p:nvPr/>
        </p:nvCxnSpPr>
        <p:spPr>
          <a:xfrm>
            <a:off x="1882800" y="2205000"/>
            <a:ext cx="85968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"/>
          <p:cNvSpPr/>
          <p:nvPr/>
        </p:nvSpPr>
        <p:spPr>
          <a:xfrm>
            <a:off x="1523880" y="236232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4950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4" name=""/>
          <p:cNvCxnSpPr>
            <a:stCxn id="563" idx="3"/>
          </p:cNvCxnSpPr>
          <p:nvPr/>
        </p:nvCxnSpPr>
        <p:spPr>
          <a:xfrm flipH="1">
            <a:off x="4188960" y="3181320"/>
            <a:ext cx="7833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3" idx="5"/>
          </p:cNvCxnSpPr>
          <p:nvPr/>
        </p:nvCxnSpPr>
        <p:spPr>
          <a:xfrm>
            <a:off x="5083200" y="3181320"/>
            <a:ext cx="707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6" name=""/>
          <p:cNvSpPr/>
          <p:nvPr/>
        </p:nvSpPr>
        <p:spPr>
          <a:xfrm>
            <a:off x="4724280" y="34290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8" name=""/>
          <p:cNvCxnSpPr>
            <a:stCxn id="567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67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2" name=""/>
          <p:cNvCxnSpPr>
            <a:stCxn id="571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3" name=""/>
          <p:cNvCxnSpPr>
            <a:stCxn id="571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4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6" name=""/>
          <p:cNvCxnSpPr>
            <a:stCxn id="575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75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3" name=""/>
          <p:cNvCxnSpPr>
            <a:stCxn id="579" idx="3"/>
            <a:endCxn id="581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79" idx="5"/>
            <a:endCxn id="582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7" name=""/>
          <p:cNvCxnSpPr>
            <a:stCxn id="580" idx="3"/>
            <a:endCxn id="585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8" name=""/>
          <p:cNvCxnSpPr>
            <a:stCxn id="580" idx="5"/>
            <a:endCxn id="586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3" name=""/>
          <p:cNvCxnSpPr>
            <a:stCxn id="590" idx="3"/>
            <a:endCxn id="591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90" idx="5"/>
            <a:endCxn id="592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7" name=""/>
          <p:cNvCxnSpPr>
            <a:stCxn id="591" idx="3"/>
            <a:endCxn id="595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8" name=""/>
          <p:cNvCxnSpPr>
            <a:stCxn id="591" idx="5"/>
            <a:endCxn id="596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3" name=""/>
          <p:cNvCxnSpPr>
            <a:stCxn id="600" idx="3"/>
            <a:endCxn id="601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4" name=""/>
          <p:cNvCxnSpPr>
            <a:stCxn id="600" idx="5"/>
            <a:endCxn id="602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5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3FB7-1DB4-41D4-AB00-7AE72F44A4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6168960" y="20574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7" name=""/>
          <p:cNvCxnSpPr>
            <a:stCxn id="626" idx="5"/>
          </p:cNvCxnSpPr>
          <p:nvPr/>
        </p:nvCxnSpPr>
        <p:spPr>
          <a:xfrm>
            <a:off x="6302160" y="2190600"/>
            <a:ext cx="118476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8" name=""/>
          <p:cNvCxnSpPr>
            <a:stCxn id="626" idx="3"/>
          </p:cNvCxnSpPr>
          <p:nvPr/>
        </p:nvCxnSpPr>
        <p:spPr>
          <a:xfrm flipH="1">
            <a:off x="5082840" y="2190240"/>
            <a:ext cx="11088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9" name=""/>
          <p:cNvSpPr/>
          <p:nvPr/>
        </p:nvSpPr>
        <p:spPr>
          <a:xfrm>
            <a:off x="5943600" y="23623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1749600" y="20718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1" name=""/>
          <p:cNvCxnSpPr>
            <a:stCxn id="630" idx="3"/>
          </p:cNvCxnSpPr>
          <p:nvPr/>
        </p:nvCxnSpPr>
        <p:spPr>
          <a:xfrm flipH="1">
            <a:off x="988560" y="2205000"/>
            <a:ext cx="78336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2" name=""/>
          <p:cNvCxnSpPr>
            <a:stCxn id="630" idx="5"/>
          </p:cNvCxnSpPr>
          <p:nvPr/>
        </p:nvCxnSpPr>
        <p:spPr>
          <a:xfrm>
            <a:off x="1882800" y="2205000"/>
            <a:ext cx="85968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1523880" y="236232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4950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5" name=""/>
          <p:cNvCxnSpPr>
            <a:stCxn id="634" idx="3"/>
          </p:cNvCxnSpPr>
          <p:nvPr/>
        </p:nvCxnSpPr>
        <p:spPr>
          <a:xfrm flipH="1">
            <a:off x="4188960" y="3181320"/>
            <a:ext cx="7833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6" name=""/>
          <p:cNvCxnSpPr>
            <a:stCxn id="634" idx="5"/>
          </p:cNvCxnSpPr>
          <p:nvPr/>
        </p:nvCxnSpPr>
        <p:spPr>
          <a:xfrm>
            <a:off x="5083200" y="3181320"/>
            <a:ext cx="707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7" name=""/>
          <p:cNvSpPr/>
          <p:nvPr/>
        </p:nvSpPr>
        <p:spPr>
          <a:xfrm>
            <a:off x="4724280" y="34290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9" name=""/>
          <p:cNvCxnSpPr>
            <a:stCxn id="638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0" name=""/>
          <p:cNvCxnSpPr>
            <a:stCxn id="638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1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3" name=""/>
          <p:cNvCxnSpPr>
            <a:stCxn id="642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4" name=""/>
          <p:cNvCxnSpPr>
            <a:stCxn id="642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7" name=""/>
          <p:cNvCxnSpPr>
            <a:stCxn id="646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8" name=""/>
          <p:cNvCxnSpPr>
            <a:stCxn id="646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9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stCxn id="650" idx="3"/>
            <a:endCxn id="652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50" idx="5"/>
            <a:endCxn id="653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8" name=""/>
          <p:cNvCxnSpPr>
            <a:stCxn id="651" idx="3"/>
            <a:endCxn id="656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51" idx="5"/>
            <a:endCxn id="657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0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4" name=""/>
          <p:cNvCxnSpPr>
            <a:stCxn id="661" idx="3"/>
            <a:endCxn id="662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5" name=""/>
          <p:cNvCxnSpPr>
            <a:stCxn id="661" idx="5"/>
            <a:endCxn id="663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6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8" name=""/>
          <p:cNvCxnSpPr>
            <a:stCxn id="662" idx="3"/>
            <a:endCxn id="666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62" idx="5"/>
            <a:endCxn id="667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4" name=""/>
          <p:cNvCxnSpPr>
            <a:stCxn id="671" idx="3"/>
            <a:endCxn id="672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5" name=""/>
          <p:cNvCxnSpPr>
            <a:stCxn id="671" idx="5"/>
            <a:endCxn id="673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91BC-718A-44D8-A525-7AC00E6B08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04920" y="1295280"/>
            <a:ext cx="8686800" cy="5182560"/>
            <a:chOff x="304920" y="1295280"/>
            <a:chExt cx="8686800" cy="5182560"/>
          </a:xfrm>
        </p:grpSpPr>
        <p:sp>
          <p:nvSpPr>
            <p:cNvPr id="698" name=""/>
            <p:cNvSpPr/>
            <p:nvPr/>
          </p:nvSpPr>
          <p:spPr>
            <a:xfrm>
              <a:off x="3882960" y="129528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699" name=""/>
            <p:cNvCxnSpPr>
              <a:stCxn id="698" idx="5"/>
            </p:cNvCxnSpPr>
            <p:nvPr/>
          </p:nvCxnSpPr>
          <p:spPr>
            <a:xfrm>
              <a:off x="4016160" y="1428840"/>
              <a:ext cx="2175480" cy="63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0" name=""/>
            <p:cNvCxnSpPr>
              <a:stCxn id="698" idx="3"/>
            </p:cNvCxnSpPr>
            <p:nvPr/>
          </p:nvCxnSpPr>
          <p:spPr>
            <a:xfrm flipH="1">
              <a:off x="1882800" y="1428480"/>
              <a:ext cx="2022840" cy="64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1" name=""/>
            <p:cNvSpPr/>
            <p:nvPr/>
          </p:nvSpPr>
          <p:spPr>
            <a:xfrm>
              <a:off x="3657600" y="164448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83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68960" y="205740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03" name=""/>
            <p:cNvCxnSpPr>
              <a:stCxn id="702" idx="5"/>
            </p:cNvCxnSpPr>
            <p:nvPr/>
          </p:nvCxnSpPr>
          <p:spPr>
            <a:xfrm>
              <a:off x="6302160" y="2190600"/>
              <a:ext cx="1184760" cy="98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4" name=""/>
            <p:cNvCxnSpPr>
              <a:stCxn id="702" idx="3"/>
            </p:cNvCxnSpPr>
            <p:nvPr/>
          </p:nvCxnSpPr>
          <p:spPr>
            <a:xfrm flipH="1">
              <a:off x="5082840" y="2190240"/>
              <a:ext cx="1108800" cy="86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5" name=""/>
            <p:cNvSpPr/>
            <p:nvPr/>
          </p:nvSpPr>
          <p:spPr>
            <a:xfrm>
              <a:off x="5943600" y="236232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50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9600" y="207180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07" name=""/>
            <p:cNvCxnSpPr>
              <a:stCxn id="706" idx="3"/>
            </p:cNvCxnSpPr>
            <p:nvPr/>
          </p:nvCxnSpPr>
          <p:spPr>
            <a:xfrm flipH="1">
              <a:off x="988560" y="2205000"/>
              <a:ext cx="783360" cy="82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8" name=""/>
            <p:cNvCxnSpPr>
              <a:stCxn id="706" idx="5"/>
            </p:cNvCxnSpPr>
            <p:nvPr/>
          </p:nvCxnSpPr>
          <p:spPr>
            <a:xfrm>
              <a:off x="1882800" y="2205000"/>
              <a:ext cx="859680" cy="82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9" name=""/>
            <p:cNvSpPr/>
            <p:nvPr/>
          </p:nvSpPr>
          <p:spPr>
            <a:xfrm>
              <a:off x="1523880" y="236232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33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50000" y="30481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11" name=""/>
            <p:cNvCxnSpPr>
              <a:stCxn id="710" idx="3"/>
            </p:cNvCxnSpPr>
            <p:nvPr/>
          </p:nvCxnSpPr>
          <p:spPr>
            <a:xfrm flipH="1">
              <a:off x="4188960" y="3181320"/>
              <a:ext cx="78336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10" idx="5"/>
            </p:cNvCxnSpPr>
            <p:nvPr/>
          </p:nvCxnSpPr>
          <p:spPr>
            <a:xfrm>
              <a:off x="5083200" y="3181320"/>
              <a:ext cx="70704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3" name=""/>
            <p:cNvSpPr/>
            <p:nvPr/>
          </p:nvSpPr>
          <p:spPr>
            <a:xfrm>
              <a:off x="4724280" y="34290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27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64600" y="3166920"/>
              <a:ext cx="155520" cy="155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15" name=""/>
            <p:cNvCxnSpPr>
              <a:stCxn id="714" idx="3"/>
            </p:cNvCxnSpPr>
            <p:nvPr/>
          </p:nvCxnSpPr>
          <p:spPr>
            <a:xfrm flipH="1">
              <a:off x="6857640" y="3300120"/>
              <a:ext cx="629280" cy="64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6" name=""/>
            <p:cNvCxnSpPr>
              <a:stCxn id="714" idx="5"/>
            </p:cNvCxnSpPr>
            <p:nvPr/>
          </p:nvCxnSpPr>
          <p:spPr>
            <a:xfrm>
              <a:off x="7597440" y="3300120"/>
              <a:ext cx="631080" cy="64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17" name=""/>
            <p:cNvSpPr/>
            <p:nvPr/>
          </p:nvSpPr>
          <p:spPr>
            <a:xfrm>
              <a:off x="7238880" y="354816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23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664000" y="30481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19" name=""/>
            <p:cNvCxnSpPr>
              <a:stCxn id="718" idx="3"/>
            </p:cNvCxnSpPr>
            <p:nvPr/>
          </p:nvCxnSpPr>
          <p:spPr>
            <a:xfrm flipH="1">
              <a:off x="2283840" y="3181320"/>
              <a:ext cx="40212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0" name=""/>
            <p:cNvCxnSpPr>
              <a:stCxn id="718" idx="5"/>
            </p:cNvCxnSpPr>
            <p:nvPr/>
          </p:nvCxnSpPr>
          <p:spPr>
            <a:xfrm>
              <a:off x="2797200" y="3181320"/>
              <a:ext cx="40392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1" name=""/>
            <p:cNvSpPr/>
            <p:nvPr/>
          </p:nvSpPr>
          <p:spPr>
            <a:xfrm>
              <a:off x="2438280" y="3443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7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1160" y="30481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23" name=""/>
            <p:cNvCxnSpPr>
              <a:stCxn id="722" idx="3"/>
            </p:cNvCxnSpPr>
            <p:nvPr/>
          </p:nvCxnSpPr>
          <p:spPr>
            <a:xfrm flipH="1">
              <a:off x="609120" y="3181320"/>
              <a:ext cx="32472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4" name=""/>
            <p:cNvCxnSpPr>
              <a:stCxn id="722" idx="5"/>
            </p:cNvCxnSpPr>
            <p:nvPr/>
          </p:nvCxnSpPr>
          <p:spPr>
            <a:xfrm>
              <a:off x="1044720" y="3181320"/>
              <a:ext cx="327600" cy="76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5" name=""/>
            <p:cNvSpPr/>
            <p:nvPr/>
          </p:nvSpPr>
          <p:spPr>
            <a:xfrm>
              <a:off x="685800" y="3443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5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111560" y="39625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711760" y="39625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812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4956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30" name=""/>
            <p:cNvCxnSpPr>
              <a:stCxn id="726" idx="3"/>
              <a:endCxn id="728" idx="0"/>
            </p:cNvCxnSpPr>
            <p:nvPr/>
          </p:nvCxnSpPr>
          <p:spPr>
            <a:xfrm flipH="1">
              <a:off x="3733200" y="4095360"/>
              <a:ext cx="40068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1" name=""/>
            <p:cNvCxnSpPr>
              <a:stCxn id="726" idx="5"/>
              <a:endCxn id="729" idx="0"/>
            </p:cNvCxnSpPr>
            <p:nvPr/>
          </p:nvCxnSpPr>
          <p:spPr>
            <a:xfrm>
              <a:off x="4245120" y="4095360"/>
              <a:ext cx="40392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32" name=""/>
            <p:cNvSpPr/>
            <p:nvPr/>
          </p:nvSpPr>
          <p:spPr>
            <a:xfrm>
              <a:off x="51814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958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34" name=""/>
            <p:cNvCxnSpPr>
              <a:stCxn id="727" idx="3"/>
              <a:endCxn id="732" idx="0"/>
            </p:cNvCxnSpPr>
            <p:nvPr/>
          </p:nvCxnSpPr>
          <p:spPr>
            <a:xfrm flipH="1">
              <a:off x="5333400" y="4095360"/>
              <a:ext cx="40068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5" name=""/>
            <p:cNvCxnSpPr>
              <a:stCxn id="727" idx="5"/>
              <a:endCxn id="733" idx="0"/>
            </p:cNvCxnSpPr>
            <p:nvPr/>
          </p:nvCxnSpPr>
          <p:spPr>
            <a:xfrm>
              <a:off x="5845320" y="4095360"/>
              <a:ext cx="40392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36" name=""/>
            <p:cNvSpPr/>
            <p:nvPr/>
          </p:nvSpPr>
          <p:spPr>
            <a:xfrm>
              <a:off x="6705720" y="3962520"/>
              <a:ext cx="304560" cy="304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150400" y="39625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93200" y="49561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534520" y="4956120"/>
              <a:ext cx="30456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40" name=""/>
            <p:cNvCxnSpPr>
              <a:stCxn id="737" idx="3"/>
              <a:endCxn id="738" idx="0"/>
            </p:cNvCxnSpPr>
            <p:nvPr/>
          </p:nvCxnSpPr>
          <p:spPr>
            <a:xfrm flipH="1">
              <a:off x="7770240" y="4095720"/>
              <a:ext cx="402120" cy="86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1" name=""/>
            <p:cNvCxnSpPr>
              <a:stCxn id="737" idx="5"/>
              <a:endCxn id="739" idx="0"/>
            </p:cNvCxnSpPr>
            <p:nvPr/>
          </p:nvCxnSpPr>
          <p:spPr>
            <a:xfrm>
              <a:off x="8283600" y="4095720"/>
              <a:ext cx="403920" cy="86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2" name=""/>
            <p:cNvSpPr/>
            <p:nvPr/>
          </p:nvSpPr>
          <p:spPr>
            <a:xfrm>
              <a:off x="7238880" y="58672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01000" y="58672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44" name=""/>
            <p:cNvCxnSpPr>
              <a:stCxn id="738" idx="3"/>
              <a:endCxn id="742" idx="0"/>
            </p:cNvCxnSpPr>
            <p:nvPr/>
          </p:nvCxnSpPr>
          <p:spPr>
            <a:xfrm flipH="1">
              <a:off x="7390800" y="5089680"/>
              <a:ext cx="3243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5" name=""/>
            <p:cNvCxnSpPr>
              <a:stCxn id="738" idx="5"/>
              <a:endCxn id="743" idx="0"/>
            </p:cNvCxnSpPr>
            <p:nvPr/>
          </p:nvCxnSpPr>
          <p:spPr>
            <a:xfrm>
              <a:off x="7826400" y="5089680"/>
              <a:ext cx="3276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6" name=""/>
            <p:cNvSpPr/>
            <p:nvPr/>
          </p:nvSpPr>
          <p:spPr>
            <a:xfrm>
              <a:off x="5486400" y="4343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44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06800" y="3962520"/>
              <a:ext cx="155520" cy="155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75248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14600" y="4952880"/>
              <a:ext cx="304920" cy="30492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50" name=""/>
            <p:cNvCxnSpPr>
              <a:stCxn id="747" idx="3"/>
              <a:endCxn id="748" idx="0"/>
            </p:cNvCxnSpPr>
            <p:nvPr/>
          </p:nvCxnSpPr>
          <p:spPr>
            <a:xfrm flipH="1">
              <a:off x="1904400" y="4095360"/>
              <a:ext cx="32436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1" name=""/>
            <p:cNvCxnSpPr>
              <a:stCxn id="747" idx="5"/>
              <a:endCxn id="749" idx="0"/>
            </p:cNvCxnSpPr>
            <p:nvPr/>
          </p:nvCxnSpPr>
          <p:spPr>
            <a:xfrm>
              <a:off x="2340000" y="4095360"/>
              <a:ext cx="327600" cy="85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52" name=""/>
            <p:cNvSpPr/>
            <p:nvPr/>
          </p:nvSpPr>
          <p:spPr>
            <a:xfrm>
              <a:off x="457200" y="3962520"/>
              <a:ext cx="304920" cy="304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219320" y="3962520"/>
              <a:ext cx="304560" cy="304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48120" y="3962520"/>
              <a:ext cx="304560" cy="304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924680" y="4343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1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86600" y="61722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848720" y="61722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81880" y="5270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29200" y="525924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7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43600" y="525924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7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29000" y="525924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6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343400" y="525924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53080" y="4343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00200" y="5270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62320" y="5270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4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95480" y="434340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9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04920" y="431172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66680" y="432756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7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467480" y="5302080"/>
              <a:ext cx="60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5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886200" y="434340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Comic Sans MS"/>
                </a:rPr>
                <a:t>12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C91D-EF5D-4F6A-9221-F7B555F8EE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5" name=""/>
          <p:cNvCxnSpPr>
            <a:endCxn id="773" idx="0"/>
          </p:cNvCxnSpPr>
          <p:nvPr/>
        </p:nvCxnSpPr>
        <p:spPr>
          <a:xfrm flipH="1">
            <a:off x="7390800" y="5097600"/>
            <a:ext cx="324360" cy="7624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776" name=""/>
          <p:cNvCxnSpPr>
            <a:endCxn id="774" idx="0"/>
          </p:cNvCxnSpPr>
          <p:nvPr/>
        </p:nvCxnSpPr>
        <p:spPr>
          <a:xfrm>
            <a:off x="7826400" y="5097600"/>
            <a:ext cx="327600" cy="7624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777" name=""/>
          <p:cNvSpPr/>
          <p:nvPr/>
        </p:nvSpPr>
        <p:spPr>
          <a:xfrm>
            <a:off x="7086600" y="6172200"/>
            <a:ext cx="60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7848720" y="6172200"/>
            <a:ext cx="60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omic Sans MS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3882960" y="129528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0" name=""/>
          <p:cNvCxnSpPr>
            <a:stCxn id="779" idx="5"/>
          </p:cNvCxnSpPr>
          <p:nvPr/>
        </p:nvCxnSpPr>
        <p:spPr>
          <a:xfrm>
            <a:off x="4016160" y="1428840"/>
            <a:ext cx="2175480" cy="635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1" name=""/>
          <p:cNvCxnSpPr>
            <a:stCxn id="779" idx="3"/>
          </p:cNvCxnSpPr>
          <p:nvPr/>
        </p:nvCxnSpPr>
        <p:spPr>
          <a:xfrm flipH="1">
            <a:off x="1882800" y="1428480"/>
            <a:ext cx="2022840" cy="64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2" name=""/>
          <p:cNvSpPr/>
          <p:nvPr/>
        </p:nvSpPr>
        <p:spPr>
          <a:xfrm>
            <a:off x="3657600" y="164448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6168960" y="20574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4" name=""/>
          <p:cNvCxnSpPr>
            <a:stCxn id="783" idx="5"/>
          </p:cNvCxnSpPr>
          <p:nvPr/>
        </p:nvCxnSpPr>
        <p:spPr>
          <a:xfrm>
            <a:off x="6302160" y="2190600"/>
            <a:ext cx="118476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5" name=""/>
          <p:cNvCxnSpPr>
            <a:stCxn id="783" idx="3"/>
          </p:cNvCxnSpPr>
          <p:nvPr/>
        </p:nvCxnSpPr>
        <p:spPr>
          <a:xfrm flipH="1">
            <a:off x="5082840" y="2190240"/>
            <a:ext cx="11088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5943600" y="23623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1749600" y="207180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8" name=""/>
          <p:cNvCxnSpPr>
            <a:stCxn id="787" idx="3"/>
          </p:cNvCxnSpPr>
          <p:nvPr/>
        </p:nvCxnSpPr>
        <p:spPr>
          <a:xfrm flipH="1">
            <a:off x="988560" y="2205000"/>
            <a:ext cx="78336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9" name=""/>
          <p:cNvCxnSpPr>
            <a:stCxn id="787" idx="5"/>
          </p:cNvCxnSpPr>
          <p:nvPr/>
        </p:nvCxnSpPr>
        <p:spPr>
          <a:xfrm>
            <a:off x="1882800" y="2205000"/>
            <a:ext cx="859680" cy="82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0" name=""/>
          <p:cNvSpPr/>
          <p:nvPr/>
        </p:nvSpPr>
        <p:spPr>
          <a:xfrm>
            <a:off x="1523880" y="236232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4950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92" name=""/>
          <p:cNvCxnSpPr>
            <a:stCxn id="791" idx="3"/>
          </p:cNvCxnSpPr>
          <p:nvPr/>
        </p:nvCxnSpPr>
        <p:spPr>
          <a:xfrm flipH="1">
            <a:off x="4188960" y="3181320"/>
            <a:ext cx="7833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3" name=""/>
          <p:cNvCxnSpPr>
            <a:stCxn id="791" idx="5"/>
          </p:cNvCxnSpPr>
          <p:nvPr/>
        </p:nvCxnSpPr>
        <p:spPr>
          <a:xfrm>
            <a:off x="5083200" y="3181320"/>
            <a:ext cx="7070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4724280" y="34290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7464600" y="3166920"/>
            <a:ext cx="155520" cy="155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96" name=""/>
          <p:cNvCxnSpPr>
            <a:stCxn id="795" idx="3"/>
          </p:cNvCxnSpPr>
          <p:nvPr/>
        </p:nvCxnSpPr>
        <p:spPr>
          <a:xfrm flipH="1">
            <a:off x="6857640" y="3300120"/>
            <a:ext cx="6292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95" idx="5"/>
          </p:cNvCxnSpPr>
          <p:nvPr/>
        </p:nvCxnSpPr>
        <p:spPr>
          <a:xfrm>
            <a:off x="7597440" y="3300120"/>
            <a:ext cx="63108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7238880" y="35481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3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00" name=""/>
          <p:cNvCxnSpPr>
            <a:stCxn id="799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1" name=""/>
          <p:cNvCxnSpPr>
            <a:stCxn id="799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2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04" name=""/>
          <p:cNvCxnSpPr>
            <a:stCxn id="803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3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6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11" name=""/>
          <p:cNvCxnSpPr>
            <a:stCxn id="807" idx="3"/>
            <a:endCxn id="809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2" name=""/>
          <p:cNvCxnSpPr>
            <a:stCxn id="807" idx="5"/>
            <a:endCxn id="810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3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15" name=""/>
          <p:cNvCxnSpPr>
            <a:stCxn id="808" idx="3"/>
            <a:endCxn id="813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6" name=""/>
          <p:cNvCxnSpPr>
            <a:stCxn id="808" idx="5"/>
            <a:endCxn id="814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7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1" name=""/>
          <p:cNvCxnSpPr>
            <a:stCxn id="818" idx="3"/>
            <a:endCxn id="819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2" name=""/>
          <p:cNvCxnSpPr>
            <a:stCxn id="818" idx="5"/>
            <a:endCxn id="820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5" name=""/>
          <p:cNvCxnSpPr>
            <a:stCxn id="819" idx="3"/>
            <a:endCxn id="823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19" idx="5"/>
            <a:endCxn id="824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7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31" name=""/>
          <p:cNvCxnSpPr>
            <a:stCxn id="828" idx="3"/>
            <a:endCxn id="829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2" name=""/>
          <p:cNvCxnSpPr>
            <a:stCxn id="828" idx="5"/>
            <a:endCxn id="830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3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5197320" y="1219320"/>
            <a:ext cx="3108600" cy="5181480"/>
            <a:chOff x="5197320" y="1219320"/>
            <a:chExt cx="3108600" cy="5181480"/>
          </a:xfrm>
        </p:grpSpPr>
        <p:sp>
          <p:nvSpPr>
            <p:cNvPr id="853" name=""/>
            <p:cNvSpPr/>
            <p:nvPr/>
          </p:nvSpPr>
          <p:spPr>
            <a:xfrm>
              <a:off x="5888160" y="156528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2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88160" y="1219320"/>
              <a:ext cx="828720" cy="3459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Freq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888160" y="190980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9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88160" y="225576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88160" y="260028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76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88160" y="294624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73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88160" y="329256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7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88160" y="398304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88160" y="432756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88160" y="467352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4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88160" y="5019840"/>
              <a:ext cx="828720" cy="34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97320" y="156528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97320" y="1219320"/>
              <a:ext cx="690840" cy="3459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Cha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197320" y="1909800"/>
              <a:ext cx="69084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97320" y="225576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97320" y="2600280"/>
              <a:ext cx="69084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197320" y="2946240"/>
              <a:ext cx="69084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197320" y="329256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197320" y="398304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97320" y="4327560"/>
              <a:ext cx="69084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97320" y="4673520"/>
              <a:ext cx="69084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97320" y="5019840"/>
              <a:ext cx="690840" cy="34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888160" y="536400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888160" y="571032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97320" y="5364000"/>
              <a:ext cx="69084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97320" y="5710320"/>
              <a:ext cx="69084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888160" y="363708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97320" y="3637080"/>
              <a:ext cx="69084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716880" y="156528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716880" y="1219320"/>
              <a:ext cx="828360" cy="3459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Fixed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16880" y="1909800"/>
              <a:ext cx="82836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16880" y="225576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716880" y="2600280"/>
              <a:ext cx="82836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16880" y="2946240"/>
              <a:ext cx="82836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716880" y="329256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16880" y="398304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16880" y="4327560"/>
              <a:ext cx="82836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16880" y="4673520"/>
              <a:ext cx="82836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716880" y="5019840"/>
              <a:ext cx="828360" cy="34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716880" y="5364000"/>
              <a:ext cx="82836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16880" y="5710320"/>
              <a:ext cx="82836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716880" y="3637080"/>
              <a:ext cx="82836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477200" y="156528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477200" y="1219320"/>
              <a:ext cx="828720" cy="34596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Huff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477200" y="190980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477200" y="225576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477200" y="260028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477200" y="294624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477200" y="329256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1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477200" y="398304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77200" y="432756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1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477200" y="467352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77200" y="5019840"/>
              <a:ext cx="828720" cy="344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77200" y="5364000"/>
              <a:ext cx="828720" cy="346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1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477200" y="5710320"/>
              <a:ext cx="828720" cy="344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11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77200" y="3637080"/>
              <a:ext cx="828720" cy="345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00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888160" y="6054840"/>
              <a:ext cx="828720" cy="3459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838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97320" y="6054840"/>
              <a:ext cx="690840" cy="3459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716880" y="6054840"/>
              <a:ext cx="828360" cy="3459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4.00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477200" y="6054840"/>
              <a:ext cx="828720" cy="34596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3.6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C432-A229-489E-ABDF-DA079FB18F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9001-8E40-4F47-B618-1A7607C352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5" name=""/>
          <p:cNvCxnSpPr>
            <a:stCxn id="141" idx="3"/>
            <a:endCxn id="143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41" idx="5"/>
            <a:endCxn id="144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5E20-38B3-4901-BDD1-15FB6FB36B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6" name=""/>
          <p:cNvCxnSpPr>
            <a:stCxn id="172" idx="3"/>
            <a:endCxn id="174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72" idx="5"/>
            <a:endCxn id="175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1" name=""/>
          <p:cNvCxnSpPr>
            <a:stCxn id="178" idx="3"/>
            <a:endCxn id="179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78" idx="5"/>
            <a:endCxn id="180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2C1E-5989-41B1-8BE5-ED51CFC5DA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0" name=""/>
          <p:cNvCxnSpPr>
            <a:stCxn id="207" idx="3"/>
            <a:endCxn id="208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207" idx="5"/>
            <a:endCxn id="209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4" name=""/>
          <p:cNvCxnSpPr>
            <a:stCxn id="208" idx="3"/>
            <a:endCxn id="212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08" idx="5"/>
            <a:endCxn id="213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217" idx="3"/>
            <a:endCxn id="218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7" idx="5"/>
            <a:endCxn id="219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AA26-8A26-4F3D-AF02-83B40D76F9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4" name=""/>
          <p:cNvCxnSpPr>
            <a:stCxn id="241" idx="3"/>
            <a:endCxn id="242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41" idx="5"/>
            <a:endCxn id="243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2" name=""/>
          <p:cNvCxnSpPr>
            <a:stCxn id="249" idx="3"/>
            <a:endCxn id="250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9" idx="5"/>
            <a:endCxn id="251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4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6" name=""/>
          <p:cNvCxnSpPr>
            <a:stCxn id="250" idx="3"/>
            <a:endCxn id="254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50" idx="5"/>
            <a:endCxn id="255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2" name=""/>
          <p:cNvCxnSpPr>
            <a:stCxn id="259" idx="3"/>
            <a:endCxn id="260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"/>
          <p:cNvCxnSpPr>
            <a:stCxn id="259" idx="5"/>
            <a:endCxn id="261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448E-66F8-42E8-9D6C-C29750EBB1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8" name=""/>
          <p:cNvCxnSpPr>
            <a:stCxn id="284" idx="3"/>
            <a:endCxn id="286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84" idx="5"/>
            <a:endCxn id="287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0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2" name=""/>
          <p:cNvCxnSpPr>
            <a:stCxn id="285" idx="3"/>
            <a:endCxn id="290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85" idx="5"/>
            <a:endCxn id="291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8" name=""/>
          <p:cNvCxnSpPr>
            <a:stCxn id="295" idx="3"/>
            <a:endCxn id="296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95" idx="5"/>
            <a:endCxn id="297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2" name=""/>
          <p:cNvCxnSpPr>
            <a:stCxn id="296" idx="3"/>
            <a:endCxn id="300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96" idx="5"/>
            <a:endCxn id="301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8" name=""/>
          <p:cNvCxnSpPr>
            <a:stCxn id="305" idx="3"/>
            <a:endCxn id="306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305" idx="5"/>
            <a:endCxn id="307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63C2-049D-4C2B-A1F7-76188FCA75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2" name=""/>
          <p:cNvCxnSpPr>
            <a:stCxn id="331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31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4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9" name=""/>
          <p:cNvCxnSpPr>
            <a:stCxn id="335" idx="3"/>
            <a:endCxn id="337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0" name=""/>
          <p:cNvCxnSpPr>
            <a:stCxn id="335" idx="5"/>
            <a:endCxn id="338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3" name=""/>
          <p:cNvCxnSpPr>
            <a:stCxn id="336" idx="3"/>
            <a:endCxn id="341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36" idx="5"/>
            <a:endCxn id="342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9" name=""/>
          <p:cNvCxnSpPr>
            <a:stCxn id="346" idx="3"/>
            <a:endCxn id="347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0" name=""/>
          <p:cNvCxnSpPr>
            <a:stCxn id="346" idx="5"/>
            <a:endCxn id="348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47" idx="3"/>
            <a:endCxn id="351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"/>
          <p:cNvCxnSpPr>
            <a:stCxn id="347" idx="5"/>
            <a:endCxn id="352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9" name=""/>
          <p:cNvCxnSpPr>
            <a:stCxn id="356" idx="3"/>
            <a:endCxn id="357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6" idx="5"/>
            <a:endCxn id="358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1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DE31-1F45-48AF-9FD1-3CB97682A5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Huffman Code Construction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266400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3" name=""/>
          <p:cNvCxnSpPr>
            <a:stCxn id="382" idx="3"/>
          </p:cNvCxnSpPr>
          <p:nvPr/>
        </p:nvCxnSpPr>
        <p:spPr>
          <a:xfrm flipH="1">
            <a:off x="2283840" y="3181320"/>
            <a:ext cx="4021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82" idx="5"/>
          </p:cNvCxnSpPr>
          <p:nvPr/>
        </p:nvCxnSpPr>
        <p:spPr>
          <a:xfrm>
            <a:off x="2797200" y="3181320"/>
            <a:ext cx="4039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2438280" y="34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7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911160" y="3048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7" name=""/>
          <p:cNvCxnSpPr>
            <a:stCxn id="386" idx="3"/>
          </p:cNvCxnSpPr>
          <p:nvPr/>
        </p:nvCxnSpPr>
        <p:spPr>
          <a:xfrm flipH="1">
            <a:off x="609120" y="3181320"/>
            <a:ext cx="32472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6" idx="5"/>
          </p:cNvCxnSpPr>
          <p:nvPr/>
        </p:nvCxnSpPr>
        <p:spPr>
          <a:xfrm>
            <a:off x="1044720" y="3181320"/>
            <a:ext cx="32760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9" name=""/>
          <p:cNvSpPr/>
          <p:nvPr/>
        </p:nvSpPr>
        <p:spPr>
          <a:xfrm>
            <a:off x="685800" y="34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5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41115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571176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35812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44956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4" name=""/>
          <p:cNvCxnSpPr>
            <a:stCxn id="390" idx="3"/>
            <a:endCxn id="392" idx="0"/>
          </p:cNvCxnSpPr>
          <p:nvPr/>
        </p:nvCxnSpPr>
        <p:spPr>
          <a:xfrm flipH="1">
            <a:off x="37332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5" name=""/>
          <p:cNvCxnSpPr>
            <a:stCxn id="390" idx="5"/>
            <a:endCxn id="393" idx="0"/>
          </p:cNvCxnSpPr>
          <p:nvPr/>
        </p:nvCxnSpPr>
        <p:spPr>
          <a:xfrm>
            <a:off x="42451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6" name=""/>
          <p:cNvSpPr/>
          <p:nvPr/>
        </p:nvSpPr>
        <p:spPr>
          <a:xfrm>
            <a:off x="5181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60958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8" name=""/>
          <p:cNvCxnSpPr>
            <a:stCxn id="391" idx="3"/>
            <a:endCxn id="396" idx="0"/>
          </p:cNvCxnSpPr>
          <p:nvPr/>
        </p:nvCxnSpPr>
        <p:spPr>
          <a:xfrm flipH="1">
            <a:off x="5333400" y="4095360"/>
            <a:ext cx="40068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91" idx="5"/>
            <a:endCxn id="397" idx="0"/>
          </p:cNvCxnSpPr>
          <p:nvPr/>
        </p:nvCxnSpPr>
        <p:spPr>
          <a:xfrm>
            <a:off x="5845320" y="4095360"/>
            <a:ext cx="40392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67057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81504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693200" y="49561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8534520" y="4956120"/>
            <a:ext cx="30456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4" name=""/>
          <p:cNvCxnSpPr>
            <a:stCxn id="401" idx="3"/>
            <a:endCxn id="402" idx="0"/>
          </p:cNvCxnSpPr>
          <p:nvPr/>
        </p:nvCxnSpPr>
        <p:spPr>
          <a:xfrm flipH="1">
            <a:off x="7770240" y="4095720"/>
            <a:ext cx="4021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401" idx="5"/>
            <a:endCxn id="403" idx="0"/>
          </p:cNvCxnSpPr>
          <p:nvPr/>
        </p:nvCxnSpPr>
        <p:spPr>
          <a:xfrm>
            <a:off x="8283600" y="4095720"/>
            <a:ext cx="403920" cy="861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6" name=""/>
          <p:cNvSpPr/>
          <p:nvPr/>
        </p:nvSpPr>
        <p:spPr>
          <a:xfrm>
            <a:off x="723888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8001000" y="58672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8" name=""/>
          <p:cNvCxnSpPr>
            <a:stCxn id="402" idx="3"/>
            <a:endCxn id="406" idx="0"/>
          </p:cNvCxnSpPr>
          <p:nvPr/>
        </p:nvCxnSpPr>
        <p:spPr>
          <a:xfrm flipH="1">
            <a:off x="7390800" y="5089680"/>
            <a:ext cx="32436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9" name=""/>
          <p:cNvCxnSpPr>
            <a:stCxn id="402" idx="5"/>
            <a:endCxn id="407" idx="0"/>
          </p:cNvCxnSpPr>
          <p:nvPr/>
        </p:nvCxnSpPr>
        <p:spPr>
          <a:xfrm>
            <a:off x="7826400" y="5089680"/>
            <a:ext cx="32760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54864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2206800" y="3962520"/>
            <a:ext cx="155520" cy="155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175248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2514600" y="495288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4" name=""/>
          <p:cNvCxnSpPr>
            <a:stCxn id="411" idx="3"/>
            <a:endCxn id="412" idx="0"/>
          </p:cNvCxnSpPr>
          <p:nvPr/>
        </p:nvCxnSpPr>
        <p:spPr>
          <a:xfrm flipH="1">
            <a:off x="1904400" y="4095360"/>
            <a:ext cx="32436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411" idx="5"/>
            <a:endCxn id="413" idx="0"/>
          </p:cNvCxnSpPr>
          <p:nvPr/>
        </p:nvCxnSpPr>
        <p:spPr>
          <a:xfrm>
            <a:off x="2340000" y="4095360"/>
            <a:ext cx="32760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457200" y="39625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396252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79246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708660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7848720" y="61722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8381880" y="5270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59436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4343400" y="525924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65530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2362320" y="5270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4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895480" y="434340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9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431172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432756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7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7467480" y="53020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5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3886200" y="4343400"/>
            <a:ext cx="609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12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1981080" y="4335480"/>
            <a:ext cx="60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Comic Sans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A79D-7B34-49CC-B4EC-9C71ECFC52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cp:lastPrinted>2000-12-31T20:44:51Z</cp:lastPrinted>
  <dcterms:modified xsi:type="dcterms:W3CDTF">2005-11-10T19:39:44Z</dcterms:modified>
  <cp:revision>892</cp:revision>
  <dc:subject/>
  <dc:title>Trees</dc:title>
</cp:coreProperties>
</file>