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1E17-2849-49F0-891A-7353226D7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02F8-0FA1-4353-971B-F4FD71651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2E7A-4905-4321-A6C8-6723449AB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F7EA-B395-4C3D-9BF6-2C217D03F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D695-CD66-497D-B96D-F5F407987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6133-23CC-440D-BDA0-3BC830E43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AF87-B0D2-4AC4-BBCE-143BE33BC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8DE3-F9AB-4FCA-A0A9-CCE6AACFC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CB79-E10B-4C98-BC1F-C2355D20C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B844-2325-4605-ABF7-8085D52F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3B02-5DFD-4476-B959-223A44FF6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11F7-8D4E-4247-A24F-BB2236729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108-72F8-4396-8794-420DC362806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4" idx="6"/>
            <a:endCxn id="125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56640" y="140256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6"/>
            <a:endCxn id="174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4" idx="6"/>
            <a:endCxn id="178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3"/>
            <a:endCxn id="173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256640" y="16992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46" idx="6"/>
            <a:endCxn id="240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9" name=""/>
          <p:cNvCxnSpPr>
            <a:stCxn id="242" idx="6"/>
            <a:endCxn id="246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2" idx="3"/>
            <a:endCxn id="241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256640" y="199152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5" idx="6"/>
            <a:endCxn id="32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9" idx="6"/>
            <a:endCxn id="33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5" name=""/>
          <p:cNvCxnSpPr>
            <a:stCxn id="334" idx="6"/>
            <a:endCxn id="32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0" idx="6"/>
            <a:endCxn id="33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0" idx="3"/>
            <a:endCxn id="32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25" idx="4"/>
            <a:endCxn id="32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4248720" y="23090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4" name=""/>
          <p:cNvCxnSpPr>
            <a:stCxn id="429" idx="6"/>
            <a:endCxn id="43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5" idx="6"/>
            <a:endCxn id="43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40" idx="6"/>
            <a:endCxn id="42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>
            <a:stCxn id="436" idx="6"/>
            <a:endCxn id="44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6" idx="3"/>
            <a:endCxn id="43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29" idx="1"/>
            <a:endCxn id="43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28" idx="4"/>
            <a:endCxn id="43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4248720" y="26010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1" name=""/>
          <p:cNvCxnSpPr>
            <a:stCxn id="549" idx="6"/>
            <a:endCxn id="550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6" name=""/>
          <p:cNvCxnSpPr>
            <a:stCxn id="554" idx="6"/>
            <a:endCxn id="555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8" name=""/>
          <p:cNvCxnSpPr>
            <a:stCxn id="550" idx="6"/>
            <a:endCxn id="554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1" name=""/>
          <p:cNvCxnSpPr>
            <a:stCxn id="559" idx="6"/>
            <a:endCxn id="56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4" idx="6"/>
            <a:endCxn id="549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0" idx="6"/>
            <a:endCxn id="56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5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0" name=""/>
          <p:cNvCxnSpPr>
            <a:stCxn id="554" idx="3"/>
            <a:endCxn id="549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50" idx="1"/>
            <a:endCxn id="559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4" name=""/>
          <p:cNvCxnSpPr>
            <a:stCxn id="549" idx="4"/>
            <a:endCxn id="55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4248720" y="29138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0" name=""/>
          <p:cNvCxnSpPr>
            <a:stCxn id="688" idx="6"/>
            <a:endCxn id="68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6"/>
            <a:endCxn id="694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7" name=""/>
          <p:cNvCxnSpPr>
            <a:stCxn id="689" idx="6"/>
            <a:endCxn id="69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>
            <a:stCxn id="698" idx="6"/>
            <a:endCxn id="699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stCxn id="703" idx="6"/>
            <a:endCxn id="68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6" name=""/>
          <p:cNvCxnSpPr>
            <a:stCxn id="699" idx="6"/>
            <a:endCxn id="703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7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9" name=""/>
          <p:cNvCxnSpPr>
            <a:stCxn id="694" idx="6"/>
            <a:endCxn id="708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9" idx="3"/>
            <a:endCxn id="698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2" name=""/>
          <p:cNvCxnSpPr>
            <a:stCxn id="693" idx="3"/>
            <a:endCxn id="688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4" name=""/>
          <p:cNvCxnSpPr>
            <a:stCxn id="689" idx="1"/>
            <a:endCxn id="698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6" name=""/>
          <p:cNvCxnSpPr>
            <a:stCxn id="688" idx="4"/>
            <a:endCxn id="698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8" name=""/>
          <p:cNvCxnSpPr>
            <a:stCxn id="694" idx="4"/>
            <a:endCxn id="703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4248720" y="321048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4876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6019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400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7162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495680" y="34290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82296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7" name=""/>
          <p:cNvCxnSpPr>
            <a:stCxn id="845" idx="6"/>
            <a:endCxn id="84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6"/>
            <a:endCxn id="851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4" name=""/>
          <p:cNvCxnSpPr>
            <a:stCxn id="846" idx="6"/>
            <a:endCxn id="850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7" name=""/>
          <p:cNvCxnSpPr>
            <a:stCxn id="855" idx="6"/>
            <a:endCxn id="85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60" idx="6"/>
            <a:endCxn id="84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3" name=""/>
          <p:cNvCxnSpPr>
            <a:stCxn id="856" idx="6"/>
            <a:endCxn id="86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85345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7" name=""/>
          <p:cNvCxnSpPr>
            <a:stCxn id="865" idx="6"/>
            <a:endCxn id="866" idx="2"/>
          </p:cNvCxnSpPr>
          <p:nvPr/>
        </p:nvCxnSpPr>
        <p:spPr>
          <a:xfrm>
            <a:off x="78483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"/>
          <p:cNvSpPr/>
          <p:nvPr/>
        </p:nvSpPr>
        <p:spPr>
          <a:xfrm>
            <a:off x="800100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9" name=""/>
          <p:cNvCxnSpPr>
            <a:stCxn id="851" idx="6"/>
            <a:endCxn id="865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3"/>
            <a:endCxn id="85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2" name=""/>
          <p:cNvCxnSpPr>
            <a:stCxn id="850" idx="3"/>
            <a:endCxn id="845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4" name=""/>
          <p:cNvCxnSpPr>
            <a:stCxn id="865" idx="1"/>
            <a:endCxn id="846" idx="0"/>
          </p:cNvCxnSpPr>
          <p:nvPr/>
        </p:nvCxnSpPr>
        <p:spPr>
          <a:xfrm flipV="1" rot="16200000">
            <a:off x="6133320" y="3999960"/>
            <a:ext cx="45360" cy="2864520"/>
          </a:xfrm>
          <a:prstGeom prst="curvedConnector5">
            <a:avLst>
              <a:gd name="adj1" fmla="val 1156800"/>
              <a:gd name="adj2" fmla="val 50000"/>
              <a:gd name="adj3" fmla="val 1156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019920" y="46036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>
            <a:stCxn id="846" idx="1"/>
            <a:endCxn id="85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8" name=""/>
          <p:cNvCxnSpPr>
            <a:stCxn id="845" idx="4"/>
            <a:endCxn id="85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0" name=""/>
          <p:cNvCxnSpPr>
            <a:stCxn id="851" idx="4"/>
            <a:endCxn id="860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4248720" y="35186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6:11Z</dcterms:created>
  <dc:creator>Kevin Wayne</dc:creator>
  <dc:description/>
  <dc:language>en-US</dc:language>
  <cp:lastModifiedBy>Kevin Wayne</cp:lastModifiedBy>
  <dcterms:modified xsi:type="dcterms:W3CDTF">2005-11-07T15:57:26Z</dcterms:modified>
  <cp:revision>1</cp:revision>
  <dc:subject/>
  <dc:title>DFA Construction for KMP</dc:title>
</cp:coreProperties>
</file>