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92B6-14FE-426F-9096-A35F71E8B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514B-2B34-4619-AB4B-2E978A926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B9B6-455E-46CE-97DC-572A48E1D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D7A9-4FCF-4B46-B12D-832900E44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315F-D7AD-41E3-B31E-77DB66614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54AA-CB52-4E5D-AD33-841575EEF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F631-536A-4C32-83B0-81F838B6F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EEE4-ED9C-4F3D-B52E-7B862B5E8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B9C8-748D-4626-A7C6-0596A04BE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5E69-1A62-4FB0-95F9-1220307B1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EDDF-8E84-4D9D-9CA9-50EE04E7D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E66D-6546-4017-B10A-70FF6E620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8C3E-936B-40D5-826C-3263AFC03B5E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" name=""/>
          <p:cNvCxnSpPr>
            <a:stCxn id="124" idx="6"/>
            <a:endCxn id="125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256640" y="140256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5" name=""/>
          <p:cNvCxnSpPr>
            <a:stCxn id="173" idx="6"/>
            <a:endCxn id="174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9" name=""/>
          <p:cNvCxnSpPr>
            <a:stCxn id="174" idx="6"/>
            <a:endCxn id="178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3"/>
            <a:endCxn id="173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256640" y="1699200"/>
            <a:ext cx="15228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3" name=""/>
          <p:cNvCxnSpPr>
            <a:stCxn id="241" idx="6"/>
            <a:endCxn id="242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"/>
          <p:cNvCxnSpPr>
            <a:stCxn id="246" idx="6"/>
            <a:endCxn id="240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9" name=""/>
          <p:cNvCxnSpPr>
            <a:stCxn id="242" idx="6"/>
            <a:endCxn id="246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2" idx="3"/>
            <a:endCxn id="241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4256640" y="199152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7" name=""/>
          <p:cNvCxnSpPr>
            <a:stCxn id="325" idx="6"/>
            <a:endCxn id="326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1" name=""/>
          <p:cNvCxnSpPr>
            <a:stCxn id="329" idx="6"/>
            <a:endCxn id="330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5" name=""/>
          <p:cNvCxnSpPr>
            <a:stCxn id="334" idx="6"/>
            <a:endCxn id="325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0" idx="6"/>
            <a:endCxn id="334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0" idx="3"/>
            <a:endCxn id="329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"/>
          <p:cNvCxnSpPr>
            <a:stCxn id="325" idx="4"/>
            <a:endCxn id="329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 rot="5400000">
            <a:off x="4248720" y="230904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0" name=""/>
          <p:cNvCxnSpPr>
            <a:stCxn id="428" idx="6"/>
            <a:endCxn id="429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4" name=""/>
          <p:cNvCxnSpPr>
            <a:stCxn id="429" idx="6"/>
            <a:endCxn id="433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7" name=""/>
          <p:cNvCxnSpPr>
            <a:stCxn id="435" idx="6"/>
            <a:endCxn id="436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1" name=""/>
          <p:cNvCxnSpPr>
            <a:stCxn id="440" idx="6"/>
            <a:endCxn id="428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3" name=""/>
          <p:cNvCxnSpPr>
            <a:stCxn id="436" idx="6"/>
            <a:endCxn id="440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36" idx="3"/>
            <a:endCxn id="435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6" name=""/>
          <p:cNvCxnSpPr>
            <a:stCxn id="429" idx="1"/>
            <a:endCxn id="435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8" name=""/>
          <p:cNvCxnSpPr>
            <a:stCxn id="428" idx="4"/>
            <a:endCxn id="435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 rot="5400000">
            <a:off x="4248720" y="2601000"/>
            <a:ext cx="15228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266688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438280" y="2362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4876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5257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6781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75438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4495680" y="28195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82296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1" name=""/>
          <p:cNvCxnSpPr>
            <a:stCxn id="549" idx="6"/>
            <a:endCxn id="550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6" name=""/>
          <p:cNvCxnSpPr>
            <a:stCxn id="554" idx="6"/>
            <a:endCxn id="555" idx="2"/>
          </p:cNvCxnSpPr>
          <p:nvPr/>
        </p:nvCxnSpPr>
        <p:spPr>
          <a:xfrm>
            <a:off x="586692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7" name=""/>
          <p:cNvSpPr/>
          <p:nvPr/>
        </p:nvSpPr>
        <p:spPr>
          <a:xfrm>
            <a:off x="60199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8" name=""/>
          <p:cNvCxnSpPr>
            <a:stCxn id="550" idx="6"/>
            <a:endCxn id="554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9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1" name=""/>
          <p:cNvCxnSpPr>
            <a:stCxn id="559" idx="6"/>
            <a:endCxn id="560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stCxn id="564" idx="6"/>
            <a:endCxn id="549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7" name=""/>
          <p:cNvCxnSpPr>
            <a:stCxn id="560" idx="6"/>
            <a:endCxn id="564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60" idx="3"/>
            <a:endCxn id="559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0" name=""/>
          <p:cNvCxnSpPr>
            <a:stCxn id="554" idx="3"/>
            <a:endCxn id="549" idx="5"/>
          </p:cNvCxnSpPr>
          <p:nvPr/>
        </p:nvCxnSpPr>
        <p:spPr>
          <a:xfrm flipV="1" rot="16200000">
            <a:off x="4722840" y="4786560"/>
            <a:ext cx="2520" cy="176580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4572000" y="59436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50" idx="1"/>
            <a:endCxn id="559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4" name=""/>
          <p:cNvCxnSpPr>
            <a:stCxn id="549" idx="4"/>
            <a:endCxn id="559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4248720" y="291384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2438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2438280" y="266688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362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2819520" y="26668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"/>
          <p:cNvSpPr/>
          <p:nvPr/>
        </p:nvSpPr>
        <p:spPr>
          <a:xfrm>
            <a:off x="2819520" y="2362320"/>
            <a:ext cx="38088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4876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5257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75438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4876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5638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>
            <a:off x="6019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"/>
          <p:cNvSpPr/>
          <p:nvPr/>
        </p:nvSpPr>
        <p:spPr>
          <a:xfrm>
            <a:off x="6400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"/>
          <p:cNvSpPr/>
          <p:nvPr/>
        </p:nvSpPr>
        <p:spPr>
          <a:xfrm>
            <a:off x="7162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4495680" y="28195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31240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82296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82296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0" name=""/>
          <p:cNvCxnSpPr>
            <a:stCxn id="688" idx="6"/>
            <a:endCxn id="689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1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5" name=""/>
          <p:cNvCxnSpPr>
            <a:stCxn id="693" idx="6"/>
            <a:endCxn id="694" idx="2"/>
          </p:cNvCxnSpPr>
          <p:nvPr/>
        </p:nvCxnSpPr>
        <p:spPr>
          <a:xfrm>
            <a:off x="586692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"/>
          <p:cNvSpPr/>
          <p:nvPr/>
        </p:nvSpPr>
        <p:spPr>
          <a:xfrm>
            <a:off x="60199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7" name=""/>
          <p:cNvCxnSpPr>
            <a:stCxn id="689" idx="6"/>
            <a:endCxn id="693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0" name=""/>
          <p:cNvCxnSpPr>
            <a:stCxn id="698" idx="6"/>
            <a:endCxn id="699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4" name=""/>
          <p:cNvCxnSpPr>
            <a:stCxn id="703" idx="6"/>
            <a:endCxn id="688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5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6" name=""/>
          <p:cNvCxnSpPr>
            <a:stCxn id="699" idx="6"/>
            <a:endCxn id="703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7" name=""/>
          <p:cNvSpPr/>
          <p:nvPr/>
        </p:nvSpPr>
        <p:spPr>
          <a:xfrm>
            <a:off x="70102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75438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9" name=""/>
          <p:cNvCxnSpPr>
            <a:stCxn id="694" idx="6"/>
            <a:endCxn id="708" idx="2"/>
          </p:cNvCxnSpPr>
          <p:nvPr/>
        </p:nvCxnSpPr>
        <p:spPr>
          <a:xfrm flipV="1">
            <a:off x="68576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9" idx="3"/>
            <a:endCxn id="698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2" name=""/>
          <p:cNvCxnSpPr>
            <a:stCxn id="693" idx="3"/>
            <a:endCxn id="688" idx="5"/>
          </p:cNvCxnSpPr>
          <p:nvPr/>
        </p:nvCxnSpPr>
        <p:spPr>
          <a:xfrm flipV="1" rot="16200000">
            <a:off x="4722840" y="4786560"/>
            <a:ext cx="2520" cy="176580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3" name=""/>
          <p:cNvSpPr/>
          <p:nvPr/>
        </p:nvSpPr>
        <p:spPr>
          <a:xfrm>
            <a:off x="4572000" y="59436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4" name=""/>
          <p:cNvCxnSpPr>
            <a:stCxn id="689" idx="1"/>
            <a:endCxn id="698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6" name=""/>
          <p:cNvCxnSpPr>
            <a:stCxn id="688" idx="4"/>
            <a:endCxn id="698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7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8" name=""/>
          <p:cNvCxnSpPr>
            <a:stCxn id="694" idx="4"/>
            <a:endCxn id="703" idx="5"/>
          </p:cNvCxnSpPr>
          <p:nvPr/>
        </p:nvCxnSpPr>
        <p:spPr>
          <a:xfrm flipV="1" rot="16200000">
            <a:off x="4755600" y="3764880"/>
            <a:ext cx="45000" cy="3855240"/>
          </a:xfrm>
          <a:prstGeom prst="curvedConnector5">
            <a:avLst>
              <a:gd name="adj1" fmla="val -1513709"/>
              <a:gd name="adj2" fmla="val 50000"/>
              <a:gd name="adj3" fmla="val -15137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4572000" y="63388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4248720" y="3210480"/>
            <a:ext cx="15228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FA Construction for KMP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152280" y="26668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533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"/>
          <p:cNvSpPr/>
          <p:nvPr/>
        </p:nvSpPr>
        <p:spPr>
          <a:xfrm>
            <a:off x="152280" y="23623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>
            <a:off x="914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1295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1676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2057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20574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281952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2057400"/>
            <a:ext cx="38088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"/>
          <p:cNvSpPr/>
          <p:nvPr/>
        </p:nvSpPr>
        <p:spPr>
          <a:xfrm>
            <a:off x="914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1295280" y="26668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1295280" y="2362320"/>
            <a:ext cx="38124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67652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2666880"/>
            <a:ext cx="38088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2057400" y="23623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2666880"/>
            <a:ext cx="38124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2438280" y="2362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26668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819520" y="2362320"/>
            <a:ext cx="38088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"/>
          <p:cNvSpPr/>
          <p:nvPr/>
        </p:nvSpPr>
        <p:spPr>
          <a:xfrm>
            <a:off x="3200400" y="26668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"/>
          <p:cNvSpPr/>
          <p:nvPr/>
        </p:nvSpPr>
        <p:spPr>
          <a:xfrm>
            <a:off x="3200400" y="2362320"/>
            <a:ext cx="380880" cy="3045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"/>
          <p:cNvSpPr/>
          <p:nvPr/>
        </p:nvSpPr>
        <p:spPr>
          <a:xfrm>
            <a:off x="5257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"/>
          <p:cNvSpPr/>
          <p:nvPr/>
        </p:nvSpPr>
        <p:spPr>
          <a:xfrm>
            <a:off x="5638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"/>
          <p:cNvSpPr/>
          <p:nvPr/>
        </p:nvSpPr>
        <p:spPr>
          <a:xfrm>
            <a:off x="6019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640080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6781680" y="2514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7162920" y="2514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"/>
          <p:cNvSpPr/>
          <p:nvPr/>
        </p:nvSpPr>
        <p:spPr>
          <a:xfrm>
            <a:off x="4876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"/>
          <p:cNvSpPr/>
          <p:nvPr/>
        </p:nvSpPr>
        <p:spPr>
          <a:xfrm>
            <a:off x="5257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"/>
          <p:cNvSpPr/>
          <p:nvPr/>
        </p:nvSpPr>
        <p:spPr>
          <a:xfrm>
            <a:off x="5638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"/>
          <p:cNvSpPr/>
          <p:nvPr/>
        </p:nvSpPr>
        <p:spPr>
          <a:xfrm>
            <a:off x="6019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640080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6781680" y="28195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"/>
          <p:cNvSpPr/>
          <p:nvPr/>
        </p:nvSpPr>
        <p:spPr>
          <a:xfrm>
            <a:off x="4876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5257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"/>
          <p:cNvSpPr/>
          <p:nvPr/>
        </p:nvSpPr>
        <p:spPr>
          <a:xfrm>
            <a:off x="5638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"/>
          <p:cNvSpPr/>
          <p:nvPr/>
        </p:nvSpPr>
        <p:spPr>
          <a:xfrm>
            <a:off x="6019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640080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6781680" y="31240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7162920" y="31240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4876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5257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5638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6019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64008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71629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"/>
          <p:cNvSpPr/>
          <p:nvPr/>
        </p:nvSpPr>
        <p:spPr>
          <a:xfrm>
            <a:off x="75438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"/>
          <p:cNvSpPr/>
          <p:nvPr/>
        </p:nvSpPr>
        <p:spPr>
          <a:xfrm>
            <a:off x="4876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"/>
          <p:cNvSpPr/>
          <p:nvPr/>
        </p:nvSpPr>
        <p:spPr>
          <a:xfrm>
            <a:off x="5257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5638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"/>
          <p:cNvSpPr/>
          <p:nvPr/>
        </p:nvSpPr>
        <p:spPr>
          <a:xfrm>
            <a:off x="6019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"/>
          <p:cNvSpPr/>
          <p:nvPr/>
        </p:nvSpPr>
        <p:spPr>
          <a:xfrm>
            <a:off x="640080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1905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7162920" y="1905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75438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4876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5638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"/>
          <p:cNvSpPr/>
          <p:nvPr/>
        </p:nvSpPr>
        <p:spPr>
          <a:xfrm>
            <a:off x="640080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"/>
          <p:cNvSpPr/>
          <p:nvPr/>
        </p:nvSpPr>
        <p:spPr>
          <a:xfrm>
            <a:off x="6781680" y="2209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7162920" y="2209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4876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5257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5638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6019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640080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6781680" y="1600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7162920" y="1600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75438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4495680" y="19051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16002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4495680" y="25146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"/>
          <p:cNvSpPr/>
          <p:nvPr/>
        </p:nvSpPr>
        <p:spPr>
          <a:xfrm>
            <a:off x="4495680" y="22096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"/>
          <p:cNvSpPr/>
          <p:nvPr/>
        </p:nvSpPr>
        <p:spPr>
          <a:xfrm>
            <a:off x="4495680" y="28195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"/>
          <p:cNvSpPr/>
          <p:nvPr/>
        </p:nvSpPr>
        <p:spPr>
          <a:xfrm>
            <a:off x="4495680" y="12952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"/>
          <p:cNvSpPr/>
          <p:nvPr/>
        </p:nvSpPr>
        <p:spPr>
          <a:xfrm>
            <a:off x="4495680" y="312408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"/>
          <p:cNvSpPr/>
          <p:nvPr/>
        </p:nvSpPr>
        <p:spPr>
          <a:xfrm>
            <a:off x="487692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"/>
          <p:cNvSpPr/>
          <p:nvPr/>
        </p:nvSpPr>
        <p:spPr>
          <a:xfrm>
            <a:off x="525780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5638680" y="34290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601992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640080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34290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"/>
          <p:cNvSpPr/>
          <p:nvPr/>
        </p:nvSpPr>
        <p:spPr>
          <a:xfrm>
            <a:off x="7162920" y="34290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34290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"/>
          <p:cNvSpPr/>
          <p:nvPr/>
        </p:nvSpPr>
        <p:spPr>
          <a:xfrm>
            <a:off x="4495680" y="3429000"/>
            <a:ext cx="38124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"/>
          <p:cNvSpPr/>
          <p:nvPr/>
        </p:nvSpPr>
        <p:spPr>
          <a:xfrm>
            <a:off x="533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"/>
          <p:cNvSpPr/>
          <p:nvPr/>
        </p:nvSpPr>
        <p:spPr>
          <a:xfrm>
            <a:off x="914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1676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2057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438280" y="12952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281952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3200400" y="12952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533520" y="990720"/>
            <a:ext cx="304776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Patter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4876920" y="990720"/>
            <a:ext cx="266688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attern[1..j]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4495680" y="990720"/>
            <a:ext cx="38124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8229600" y="990720"/>
            <a:ext cx="685800" cy="30456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"/>
          <p:cNvSpPr/>
          <p:nvPr/>
        </p:nvSpPr>
        <p:spPr>
          <a:xfrm>
            <a:off x="8229600" y="25146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8229600" y="28195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8229600" y="31240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8229600" y="12952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8229600" y="1905120"/>
            <a:ext cx="6858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"/>
          <p:cNvSpPr/>
          <p:nvPr/>
        </p:nvSpPr>
        <p:spPr>
          <a:xfrm>
            <a:off x="8229600" y="220968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"/>
          <p:cNvSpPr/>
          <p:nvPr/>
        </p:nvSpPr>
        <p:spPr>
          <a:xfrm>
            <a:off x="8229600" y="16002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"/>
          <p:cNvSpPr/>
          <p:nvPr/>
        </p:nvSpPr>
        <p:spPr>
          <a:xfrm>
            <a:off x="8229600" y="3429000"/>
            <a:ext cx="68580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7" name=""/>
          <p:cNvCxnSpPr>
            <a:stCxn id="845" idx="6"/>
            <a:endCxn id="846" idx="2"/>
          </p:cNvCxnSpPr>
          <p:nvPr/>
        </p:nvCxnSpPr>
        <p:spPr>
          <a:xfrm>
            <a:off x="38858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8" name=""/>
          <p:cNvSpPr/>
          <p:nvPr/>
        </p:nvSpPr>
        <p:spPr>
          <a:xfrm>
            <a:off x="40384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50292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2" name=""/>
          <p:cNvCxnSpPr>
            <a:stCxn id="850" idx="6"/>
            <a:endCxn id="851" idx="2"/>
          </p:cNvCxnSpPr>
          <p:nvPr/>
        </p:nvCxnSpPr>
        <p:spPr>
          <a:xfrm>
            <a:off x="586692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3" name=""/>
          <p:cNvSpPr/>
          <p:nvPr/>
        </p:nvSpPr>
        <p:spPr>
          <a:xfrm>
            <a:off x="60199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4" name=""/>
          <p:cNvCxnSpPr>
            <a:stCxn id="846" idx="6"/>
            <a:endCxn id="850" idx="2"/>
          </p:cNvCxnSpPr>
          <p:nvPr/>
        </p:nvCxnSpPr>
        <p:spPr>
          <a:xfrm>
            <a:off x="48765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5" name=""/>
          <p:cNvSpPr/>
          <p:nvPr/>
        </p:nvSpPr>
        <p:spPr>
          <a:xfrm>
            <a:off x="60948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7" name=""/>
          <p:cNvCxnSpPr>
            <a:stCxn id="855" idx="6"/>
            <a:endCxn id="856" idx="2"/>
          </p:cNvCxnSpPr>
          <p:nvPr/>
        </p:nvCxnSpPr>
        <p:spPr>
          <a:xfrm>
            <a:off x="91404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8" name=""/>
          <p:cNvSpPr/>
          <p:nvPr/>
        </p:nvSpPr>
        <p:spPr>
          <a:xfrm>
            <a:off x="10666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2057400" y="52419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1" name=""/>
          <p:cNvCxnSpPr>
            <a:stCxn id="860" idx="6"/>
            <a:endCxn id="845" idx="2"/>
          </p:cNvCxnSpPr>
          <p:nvPr/>
        </p:nvCxnSpPr>
        <p:spPr>
          <a:xfrm flipV="1">
            <a:off x="289512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2" name=""/>
          <p:cNvSpPr/>
          <p:nvPr/>
        </p:nvSpPr>
        <p:spPr>
          <a:xfrm>
            <a:off x="304812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3" name=""/>
          <p:cNvCxnSpPr>
            <a:stCxn id="856" idx="6"/>
            <a:endCxn id="860" idx="2"/>
          </p:cNvCxnSpPr>
          <p:nvPr/>
        </p:nvCxnSpPr>
        <p:spPr>
          <a:xfrm>
            <a:off x="19047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"/>
          <p:cNvSpPr/>
          <p:nvPr/>
        </p:nvSpPr>
        <p:spPr>
          <a:xfrm>
            <a:off x="7010280" y="52419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75438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8534520" y="5411880"/>
            <a:ext cx="30456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7" name=""/>
          <p:cNvCxnSpPr>
            <a:stCxn id="865" idx="6"/>
            <a:endCxn id="866" idx="2"/>
          </p:cNvCxnSpPr>
          <p:nvPr/>
        </p:nvCxnSpPr>
        <p:spPr>
          <a:xfrm>
            <a:off x="784836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8" name=""/>
          <p:cNvSpPr/>
          <p:nvPr/>
        </p:nvSpPr>
        <p:spPr>
          <a:xfrm>
            <a:off x="8001000" y="52434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9" name=""/>
          <p:cNvCxnSpPr>
            <a:stCxn id="851" idx="6"/>
            <a:endCxn id="865" idx="2"/>
          </p:cNvCxnSpPr>
          <p:nvPr/>
        </p:nvCxnSpPr>
        <p:spPr>
          <a:xfrm flipV="1">
            <a:off x="68576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0" name=""/>
          <p:cNvCxnSpPr>
            <a:stCxn id="856" idx="3"/>
            <a:endCxn id="855" idx="5"/>
          </p:cNvCxnSpPr>
          <p:nvPr/>
        </p:nvCxnSpPr>
        <p:spPr>
          <a:xfrm rot="5400000">
            <a:off x="1255680" y="5282280"/>
            <a:ext cx="2520" cy="775080"/>
          </a:xfrm>
          <a:prstGeom prst="curvedConnector5">
            <a:avLst>
              <a:gd name="adj1" fmla="val 9883333"/>
              <a:gd name="adj2" fmla="val 50000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1066680" y="57913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2" name=""/>
          <p:cNvCxnSpPr>
            <a:stCxn id="850" idx="3"/>
            <a:endCxn id="845" idx="5"/>
          </p:cNvCxnSpPr>
          <p:nvPr/>
        </p:nvCxnSpPr>
        <p:spPr>
          <a:xfrm flipV="1" rot="16200000">
            <a:off x="4722840" y="4786560"/>
            <a:ext cx="2520" cy="1765800"/>
          </a:xfrm>
          <a:prstGeom prst="curvedConnector5">
            <a:avLst>
              <a:gd name="adj1" fmla="val -17200000"/>
              <a:gd name="adj2" fmla="val 50000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3" name=""/>
          <p:cNvSpPr/>
          <p:nvPr/>
        </p:nvSpPr>
        <p:spPr>
          <a:xfrm>
            <a:off x="4572000" y="594360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4" name=""/>
          <p:cNvCxnSpPr>
            <a:stCxn id="865" idx="1"/>
            <a:endCxn id="846" idx="0"/>
          </p:cNvCxnSpPr>
          <p:nvPr/>
        </p:nvCxnSpPr>
        <p:spPr>
          <a:xfrm flipV="1" rot="16200000">
            <a:off x="6133320" y="3999960"/>
            <a:ext cx="45360" cy="2864520"/>
          </a:xfrm>
          <a:prstGeom prst="curvedConnector5">
            <a:avLst>
              <a:gd name="adj1" fmla="val 1156800"/>
              <a:gd name="adj2" fmla="val 50000"/>
              <a:gd name="adj3" fmla="val 11568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5" name=""/>
          <p:cNvSpPr/>
          <p:nvPr/>
        </p:nvSpPr>
        <p:spPr>
          <a:xfrm>
            <a:off x="6019920" y="46036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6" name=""/>
          <p:cNvCxnSpPr>
            <a:stCxn id="846" idx="1"/>
            <a:endCxn id="855" idx="7"/>
          </p:cNvCxnSpPr>
          <p:nvPr/>
        </p:nvCxnSpPr>
        <p:spPr>
          <a:xfrm rot="5400000">
            <a:off x="2741760" y="3582360"/>
            <a:ext cx="2160" cy="3746880"/>
          </a:xfrm>
          <a:prstGeom prst="curvedConnector5">
            <a:avLst>
              <a:gd name="adj1" fmla="val -44300000"/>
              <a:gd name="adj2" fmla="val 49995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7" name=""/>
          <p:cNvSpPr/>
          <p:nvPr/>
        </p:nvSpPr>
        <p:spPr>
          <a:xfrm>
            <a:off x="2630520" y="44355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8" name=""/>
          <p:cNvCxnSpPr>
            <a:stCxn id="845" idx="4"/>
            <a:endCxn id="855" idx="3"/>
          </p:cNvCxnSpPr>
          <p:nvPr/>
        </p:nvCxnSpPr>
        <p:spPr>
          <a:xfrm flipV="1" rot="16200000">
            <a:off x="217116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2057400" y="63244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0" name=""/>
          <p:cNvCxnSpPr>
            <a:stCxn id="851" idx="4"/>
            <a:endCxn id="860" idx="5"/>
          </p:cNvCxnSpPr>
          <p:nvPr/>
        </p:nvCxnSpPr>
        <p:spPr>
          <a:xfrm flipV="1" rot="16200000">
            <a:off x="4755600" y="3764880"/>
            <a:ext cx="45000" cy="3855240"/>
          </a:xfrm>
          <a:prstGeom prst="curvedConnector5">
            <a:avLst>
              <a:gd name="adj1" fmla="val -1513709"/>
              <a:gd name="adj2" fmla="val 50000"/>
              <a:gd name="adj3" fmla="val -15137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1" name=""/>
          <p:cNvSpPr/>
          <p:nvPr/>
        </p:nvSpPr>
        <p:spPr>
          <a:xfrm>
            <a:off x="4572000" y="63388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"/>
          <p:cNvSpPr/>
          <p:nvPr/>
        </p:nvSpPr>
        <p:spPr>
          <a:xfrm flipH="1" rot="5400000">
            <a:off x="240480" y="5244840"/>
            <a:ext cx="480960" cy="50652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304920" y="4983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 rot="11899200">
            <a:off x="2590200" y="5121000"/>
            <a:ext cx="33156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2630520" y="48308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4248720" y="3518640"/>
            <a:ext cx="152640" cy="1317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5:56:11Z</dcterms:created>
  <dc:creator>Kevin Wayne</dc:creator>
  <dc:description/>
  <dc:language>en-US</dc:language>
  <cp:lastModifiedBy>Kevin Wayne</cp:lastModifiedBy>
  <dcterms:modified xsi:type="dcterms:W3CDTF">2005-11-07T15:57:26Z</dcterms:modified>
  <cp:revision>1</cp:revision>
  <dc:subject/>
  <dc:title>DFA Construction for KMP</dc:title>
</cp:coreProperties>
</file>