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B992-C7D0-450B-B5FD-BFF4EF743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2082-3818-4B02-B9ED-F8ADFC421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C9DB-5CC0-40E1-80D1-4F4D7C50E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2C2F-6CC5-4F63-9C3C-8B96008DA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AC37-59B8-4348-AE9F-63AA93727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786C-4146-4765-B11F-3556434D8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AB887-258A-41AA-87E0-8A2E068FD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95D8-3D4D-419B-9F6E-1A36567DE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832E-9139-466B-A84D-19B45CC73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A15D-77A4-4556-92C7-0BDA5E8F0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3A6B-2E95-456E-A8F8-18F78A428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8EBB-004A-4C73-A39F-6F5FA95E8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AD37-D3B0-49EB-BB3D-86AE3FE3055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6"/>
            <a:endCxn id="81" idx="2"/>
          </p:cNvCxnSpPr>
          <p:nvPr/>
        </p:nvCxnSpPr>
        <p:spPr>
          <a:xfrm>
            <a:off x="48769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6"/>
            <a:endCxn id="86" idx="2"/>
          </p:cNvCxnSpPr>
          <p:nvPr/>
        </p:nvCxnSpPr>
        <p:spPr>
          <a:xfrm>
            <a:off x="6858000" y="556344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1" idx="6"/>
            <a:endCxn id="85" idx="2"/>
          </p:cNvCxnSpPr>
          <p:nvPr/>
        </p:nvCxnSpPr>
        <p:spPr>
          <a:xfrm>
            <a:off x="58672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6"/>
            <a:endCxn id="91" idx="2"/>
          </p:cNvCxnSpPr>
          <p:nvPr/>
        </p:nvCxnSpPr>
        <p:spPr>
          <a:xfrm>
            <a:off x="1905120" y="5562000"/>
            <a:ext cx="686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5" idx="6"/>
            <a:endCxn id="80" idx="2"/>
          </p:cNvCxnSpPr>
          <p:nvPr/>
        </p:nvCxnSpPr>
        <p:spPr>
          <a:xfrm flipV="1">
            <a:off x="388620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6"/>
            <a:endCxn id="95" idx="2"/>
          </p:cNvCxnSpPr>
          <p:nvPr/>
        </p:nvCxnSpPr>
        <p:spPr>
          <a:xfrm>
            <a:off x="2895480" y="5562000"/>
            <a:ext cx="6861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3"/>
            <a:endCxn id="90" idx="5"/>
          </p:cNvCxnSpPr>
          <p:nvPr/>
        </p:nvCxnSpPr>
        <p:spPr>
          <a:xfrm rot="10800000">
            <a:off x="1860120" y="5669280"/>
            <a:ext cx="7754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85" idx="3"/>
            <a:endCxn id="80" idx="5"/>
          </p:cNvCxnSpPr>
          <p:nvPr/>
        </p:nvCxnSpPr>
        <p:spPr>
          <a:xfrm rot="10800000">
            <a:off x="4832280" y="5669280"/>
            <a:ext cx="1765800" cy="18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1" idx="1"/>
            <a:endCxn id="90" idx="7"/>
          </p:cNvCxnSpPr>
          <p:nvPr/>
        </p:nvCxnSpPr>
        <p:spPr>
          <a:xfrm rot="10800000">
            <a:off x="1860480" y="5454360"/>
            <a:ext cx="374724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80" idx="4"/>
            <a:endCxn id="90" idx="3"/>
          </p:cNvCxnSpPr>
          <p:nvPr/>
        </p:nvCxnSpPr>
        <p:spPr>
          <a:xfrm flipV="1" rot="16200000">
            <a:off x="3162600" y="4151160"/>
            <a:ext cx="44640" cy="3080160"/>
          </a:xfrm>
          <a:prstGeom prst="curvedConnector3">
            <a:avLst>
              <a:gd name="adj1" fmla="val -203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6" idx="6"/>
            <a:endCxn id="59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601" idx="6"/>
            <a:endCxn id="60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"/>
          <p:cNvCxnSpPr>
            <a:stCxn id="597" idx="6"/>
            <a:endCxn id="60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"/>
          <p:cNvCxnSpPr>
            <a:stCxn id="606" idx="6"/>
            <a:endCxn id="60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stCxn id="611" idx="6"/>
            <a:endCxn id="59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stCxn id="607" idx="6"/>
            <a:endCxn id="61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07" idx="3"/>
            <a:endCxn id="60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01" idx="3"/>
            <a:endCxn id="59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597" idx="1"/>
            <a:endCxn id="60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"/>
          <p:cNvCxnSpPr>
            <a:stCxn id="596" idx="4"/>
            <a:endCxn id="60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"/>
          <p:cNvCxnSpPr>
            <a:stCxn id="660" idx="6"/>
            <a:endCxn id="66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7" name=""/>
          <p:cNvCxnSpPr>
            <a:stCxn id="665" idx="6"/>
            <a:endCxn id="66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stCxn id="661" idx="6"/>
            <a:endCxn id="66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"/>
          <p:cNvCxnSpPr>
            <a:stCxn id="670" idx="6"/>
            <a:endCxn id="67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5" idx="6"/>
            <a:endCxn id="66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1" idx="6"/>
            <a:endCxn id="67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9" name=""/>
          <p:cNvCxnSpPr>
            <a:stCxn id="671" idx="3"/>
            <a:endCxn id="67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65" idx="3"/>
            <a:endCxn id="66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3" name=""/>
          <p:cNvCxnSpPr>
            <a:stCxn id="661" idx="1"/>
            <a:endCxn id="67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60" idx="4"/>
            <a:endCxn id="67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"/>
          <p:cNvCxnSpPr>
            <a:stCxn id="724" idx="6"/>
            <a:endCxn id="72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"/>
          <p:cNvCxnSpPr>
            <a:stCxn id="729" idx="6"/>
            <a:endCxn id="73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3" name=""/>
          <p:cNvCxnSpPr>
            <a:stCxn id="725" idx="6"/>
            <a:endCxn id="72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4" idx="6"/>
            <a:endCxn id="73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"/>
          <p:cNvCxnSpPr>
            <a:stCxn id="739" idx="6"/>
            <a:endCxn id="72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35" idx="6"/>
            <a:endCxn id="73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3" name=""/>
          <p:cNvCxnSpPr>
            <a:stCxn id="735" idx="3"/>
            <a:endCxn id="73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5" name=""/>
          <p:cNvCxnSpPr>
            <a:stCxn id="729" idx="3"/>
            <a:endCxn id="72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"/>
          <p:cNvCxnSpPr>
            <a:stCxn id="725" idx="1"/>
            <a:endCxn id="73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stCxn id="724" idx="4"/>
            <a:endCxn id="73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6"/>
            <a:endCxn id="1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6"/>
            <a:endCxn id="1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3" idx="6"/>
            <a:endCxn id="1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6"/>
            <a:endCxn id="1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6"/>
            <a:endCxn id="1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3" idx="6"/>
            <a:endCxn id="1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3"/>
            <a:endCxn id="1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37" idx="3"/>
            <a:endCxn id="1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33" idx="1"/>
            <a:endCxn id="1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32" idx="4"/>
            <a:endCxn id="1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6"/>
            <a:endCxn id="18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9" idx="6"/>
            <a:endCxn id="19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85" idx="6"/>
            <a:endCxn id="18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4" idx="6"/>
            <a:endCxn id="19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9" idx="6"/>
            <a:endCxn id="18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5" idx="6"/>
            <a:endCxn id="19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5" idx="3"/>
            <a:endCxn id="19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89" idx="3"/>
            <a:endCxn id="18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85" idx="1"/>
            <a:endCxn id="19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4" idx="4"/>
            <a:endCxn id="19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6"/>
            <a:endCxn id="237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41" idx="6"/>
            <a:endCxn id="242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7" idx="6"/>
            <a:endCxn id="241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6" idx="6"/>
            <a:endCxn id="247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6"/>
            <a:endCxn id="236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7" idx="6"/>
            <a:endCxn id="251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7" idx="3"/>
            <a:endCxn id="246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41" idx="3"/>
            <a:endCxn id="236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37" idx="1"/>
            <a:endCxn id="246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36" idx="4"/>
            <a:endCxn id="246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94" idx="6"/>
            <a:endCxn id="295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9" idx="6"/>
            <a:endCxn id="300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295" idx="6"/>
            <a:endCxn id="299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304" idx="6"/>
            <a:endCxn id="305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7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6"/>
            <a:endCxn id="294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5" idx="6"/>
            <a:endCxn id="309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5" idx="3"/>
            <a:endCxn id="304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299" idx="3"/>
            <a:endCxn id="294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"/>
          <p:cNvCxnSpPr>
            <a:stCxn id="295" idx="1"/>
            <a:endCxn id="304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294" idx="4"/>
            <a:endCxn id="304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2" idx="6"/>
            <a:endCxn id="35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"/>
          <p:cNvCxnSpPr>
            <a:stCxn id="357" idx="6"/>
            <a:endCxn id="35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53" idx="6"/>
            <a:endCxn id="35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2" idx="6"/>
            <a:endCxn id="36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7" idx="6"/>
            <a:endCxn id="35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6"/>
            <a:endCxn id="36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3" idx="3"/>
            <a:endCxn id="36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57" idx="3"/>
            <a:endCxn id="35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53" idx="1"/>
            <a:endCxn id="36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52" idx="4"/>
            <a:endCxn id="36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10" idx="6"/>
            <a:endCxn id="411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3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5" idx="6"/>
            <a:endCxn id="416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1" idx="6"/>
            <a:endCxn id="415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20" idx="6"/>
            <a:endCxn id="421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5" idx="6"/>
            <a:endCxn id="410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1" idx="6"/>
            <a:endCxn id="425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1" idx="3"/>
            <a:endCxn id="420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>
            <a:stCxn id="415" idx="3"/>
            <a:endCxn id="410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11" idx="1"/>
            <a:endCxn id="420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10" idx="4"/>
            <a:endCxn id="420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"/>
          <p:cNvCxnSpPr>
            <a:stCxn id="468" idx="6"/>
            <a:endCxn id="469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"/>
          <p:cNvCxnSpPr>
            <a:stCxn id="473" idx="6"/>
            <a:endCxn id="474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69" idx="6"/>
            <a:endCxn id="473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8" idx="6"/>
            <a:endCxn id="479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3" idx="6"/>
            <a:endCxn id="468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79" idx="6"/>
            <a:endCxn id="483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79" idx="3"/>
            <a:endCxn id="478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8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73" idx="3"/>
            <a:endCxn id="468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1" name=""/>
          <p:cNvCxnSpPr>
            <a:stCxn id="469" idx="1"/>
            <a:endCxn id="478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2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68" idx="4"/>
            <a:endCxn id="478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Knuth-Morris-Prat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KMP algorithm.   </a:t>
            </a: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[over binary alphabet]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omic Sans MS"/>
              </a:rPr>
              <a:t>Build DFA from patter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n DFA on t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62720" y="5410080"/>
            <a:ext cx="30456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"/>
          <p:cNvCxnSpPr>
            <a:stCxn id="532" idx="6"/>
            <a:endCxn id="533" idx="2"/>
          </p:cNvCxnSpPr>
          <p:nvPr/>
        </p:nvCxnSpPr>
        <p:spPr>
          <a:xfrm>
            <a:off x="48765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0292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0199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4380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7" idx="6"/>
            <a:endCxn id="538" idx="2"/>
          </p:cNvCxnSpPr>
          <p:nvPr/>
        </p:nvCxnSpPr>
        <p:spPr>
          <a:xfrm>
            <a:off x="6857640" y="556380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70102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33" idx="6"/>
            <a:endCxn id="537" idx="2"/>
          </p:cNvCxnSpPr>
          <p:nvPr/>
        </p:nvCxnSpPr>
        <p:spPr>
          <a:xfrm>
            <a:off x="58669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1600200" y="5410080"/>
            <a:ext cx="30492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5410080"/>
            <a:ext cx="30456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42" idx="6"/>
            <a:endCxn id="543" idx="2"/>
          </p:cNvCxnSpPr>
          <p:nvPr/>
        </p:nvCxnSpPr>
        <p:spPr>
          <a:xfrm>
            <a:off x="1904760" y="5562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"/>
          <p:cNvSpPr/>
          <p:nvPr/>
        </p:nvSpPr>
        <p:spPr>
          <a:xfrm>
            <a:off x="205740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521028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411880"/>
            <a:ext cx="304920" cy="303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"/>
          <p:cNvCxnSpPr>
            <a:stCxn id="547" idx="6"/>
            <a:endCxn id="532" idx="2"/>
          </p:cNvCxnSpPr>
          <p:nvPr/>
        </p:nvCxnSpPr>
        <p:spPr>
          <a:xfrm flipV="1">
            <a:off x="3885840" y="556236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9" name=""/>
          <p:cNvSpPr/>
          <p:nvPr/>
        </p:nvSpPr>
        <p:spPr>
          <a:xfrm>
            <a:off x="4038480" y="521172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"/>
          <p:cNvCxnSpPr>
            <a:stCxn id="543" idx="6"/>
            <a:endCxn id="547" idx="2"/>
          </p:cNvCxnSpPr>
          <p:nvPr/>
        </p:nvCxnSpPr>
        <p:spPr>
          <a:xfrm>
            <a:off x="2895120" y="5562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3" idx="3"/>
            <a:endCxn id="542" idx="5"/>
          </p:cNvCxnSpPr>
          <p:nvPr/>
        </p:nvCxnSpPr>
        <p:spPr>
          <a:xfrm rot="5400000">
            <a:off x="2246400" y="5282280"/>
            <a:ext cx="2520" cy="775440"/>
          </a:xfrm>
          <a:prstGeom prst="curvedConnector5">
            <a:avLst>
              <a:gd name="adj1" fmla="val 9883333"/>
              <a:gd name="adj2" fmla="val 49976"/>
              <a:gd name="adj3" fmla="val 9883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2057400" y="580716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"/>
          <p:cNvCxnSpPr>
            <a:stCxn id="537" idx="3"/>
            <a:endCxn id="532" idx="5"/>
          </p:cNvCxnSpPr>
          <p:nvPr/>
        </p:nvCxnSpPr>
        <p:spPr>
          <a:xfrm flipV="1" rot="16200000">
            <a:off x="5713560" y="4786200"/>
            <a:ext cx="2520" cy="1766160"/>
          </a:xfrm>
          <a:prstGeom prst="curvedConnector5">
            <a:avLst>
              <a:gd name="adj1" fmla="val -17200000"/>
              <a:gd name="adj2" fmla="val 49989"/>
              <a:gd name="adj3" fmla="val -17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4" name=""/>
          <p:cNvSpPr/>
          <p:nvPr/>
        </p:nvSpPr>
        <p:spPr>
          <a:xfrm>
            <a:off x="5562720" y="595944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3" idx="1"/>
            <a:endCxn id="542" idx="7"/>
          </p:cNvCxnSpPr>
          <p:nvPr/>
        </p:nvCxnSpPr>
        <p:spPr>
          <a:xfrm rot="5400000">
            <a:off x="3732120" y="3582000"/>
            <a:ext cx="2160" cy="3747240"/>
          </a:xfrm>
          <a:prstGeom prst="curvedConnector5">
            <a:avLst>
              <a:gd name="adj1" fmla="val -44300000"/>
              <a:gd name="adj2" fmla="val 50000"/>
              <a:gd name="adj3" fmla="val -4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6" name=""/>
          <p:cNvSpPr/>
          <p:nvPr/>
        </p:nvSpPr>
        <p:spPr>
          <a:xfrm>
            <a:off x="3581280" y="443556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"/>
          <p:cNvCxnSpPr>
            <a:stCxn id="532" idx="4"/>
            <a:endCxn id="542" idx="3"/>
          </p:cNvCxnSpPr>
          <p:nvPr/>
        </p:nvCxnSpPr>
        <p:spPr>
          <a:xfrm flipV="1" rot="16200000">
            <a:off x="3161520" y="4150800"/>
            <a:ext cx="45360" cy="3080520"/>
          </a:xfrm>
          <a:prstGeom prst="curvedConnector5">
            <a:avLst>
              <a:gd name="adj1" fmla="val -1385600"/>
              <a:gd name="adj2" fmla="val 50000"/>
              <a:gd name="adj3" fmla="val -13856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8" name=""/>
          <p:cNvSpPr/>
          <p:nvPr/>
        </p:nvSpPr>
        <p:spPr>
          <a:xfrm>
            <a:off x="3035160" y="601488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rot="5400000">
            <a:off x="1231920" y="5245200"/>
            <a:ext cx="480960" cy="50616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5334120"/>
            <a:ext cx="38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1899200">
            <a:off x="3580920" y="5105160"/>
            <a:ext cx="331920" cy="353880"/>
          </a:xfrm>
          <a:custGeom>
            <a:avLst/>
            <a:gdLst/>
            <a:ahLst/>
            <a:rect l="l" t="t" r="r" b="b"/>
            <a:pathLst>
              <a:path w="303" h="319">
                <a:moveTo>
                  <a:pt x="44" y="69"/>
                </a:moveTo>
                <a:cubicBezTo>
                  <a:pt x="40" y="96"/>
                  <a:pt x="0" y="189"/>
                  <a:pt x="22" y="230"/>
                </a:cubicBezTo>
                <a:cubicBezTo>
                  <a:pt x="44" y="271"/>
                  <a:pt x="130" y="319"/>
                  <a:pt x="176" y="315"/>
                </a:cubicBezTo>
                <a:cubicBezTo>
                  <a:pt x="222" y="311"/>
                  <a:pt x="289" y="256"/>
                  <a:pt x="296" y="204"/>
                </a:cubicBezTo>
                <a:cubicBezTo>
                  <a:pt x="303" y="152"/>
                  <a:pt x="233" y="42"/>
                  <a:pt x="217" y="0"/>
                </a:cubicBezTo>
              </a:path>
            </a:pathLst>
          </a:custGeom>
          <a:noFill/>
          <a:ln w="9360">
            <a:solidFill>
              <a:srgbClr val="01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4830840"/>
            <a:ext cx="38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0840" y="578340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ccep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335268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35268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33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14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76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57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133720" y="2438280"/>
            <a:ext cx="4190760" cy="30492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earch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19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800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27432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6272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43600" y="27432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14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95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57600" y="3048120"/>
            <a:ext cx="38088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3048120"/>
            <a:ext cx="38124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57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038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419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657600"/>
            <a:ext cx="3812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3657600"/>
            <a:ext cx="3808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5:51:00Z</dcterms:created>
  <dc:creator>Kevin Wayne</dc:creator>
  <dc:description/>
  <dc:language>en-US</dc:language>
  <cp:lastModifiedBy>Kevin Wayne</cp:lastModifiedBy>
  <dcterms:modified xsi:type="dcterms:W3CDTF">2005-11-07T15:53:24Z</dcterms:modified>
  <cp:revision>1</cp:revision>
  <dc:subject/>
  <dc:title>Knuth-Morris-Pratt</dc:title>
</cp:coreProperties>
</file>