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1A82-7AAB-4B57-AF64-8D9A54C66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53E8-6ABB-434B-8903-657490361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E4D5-DC0C-4EAF-9573-08710E03D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EDBB-DF2D-4D83-8DD4-02E8B6567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37C1-1389-4074-9114-85417BA94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1297-73F6-4AF9-A5AB-55164F0AA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2464-50C7-463F-BCC0-6C5CB269C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4F64-F2F2-46FF-96CD-F0DE2F95E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5F9C-7AF8-47CB-9D72-DC0B5C1EA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A519-93AB-44E1-8300-DA5A39C91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19DA-9461-468C-85FE-112FE360B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0195-2A89-48EF-BDD4-D1F7D0A08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DDDD-079E-4AD4-B2A3-60FE69E2296B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6"/>
            <a:endCxn id="81" idx="2"/>
          </p:cNvCxnSpPr>
          <p:nvPr/>
        </p:nvCxnSpPr>
        <p:spPr>
          <a:xfrm>
            <a:off x="4876920" y="556200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6"/>
            <a:endCxn id="86" idx="2"/>
          </p:cNvCxnSpPr>
          <p:nvPr/>
        </p:nvCxnSpPr>
        <p:spPr>
          <a:xfrm>
            <a:off x="6858000" y="556344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1" idx="6"/>
            <a:endCxn id="85" idx="2"/>
          </p:cNvCxnSpPr>
          <p:nvPr/>
        </p:nvCxnSpPr>
        <p:spPr>
          <a:xfrm>
            <a:off x="5867280" y="5562000"/>
            <a:ext cx="6861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6"/>
            <a:endCxn id="91" idx="2"/>
          </p:cNvCxnSpPr>
          <p:nvPr/>
        </p:nvCxnSpPr>
        <p:spPr>
          <a:xfrm>
            <a:off x="1905120" y="556200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5" idx="6"/>
            <a:endCxn id="80" idx="2"/>
          </p:cNvCxnSpPr>
          <p:nvPr/>
        </p:nvCxnSpPr>
        <p:spPr>
          <a:xfrm flipV="1">
            <a:off x="3886200" y="5562000"/>
            <a:ext cx="6861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1" idx="6"/>
            <a:endCxn id="95" idx="2"/>
          </p:cNvCxnSpPr>
          <p:nvPr/>
        </p:nvCxnSpPr>
        <p:spPr>
          <a:xfrm>
            <a:off x="2895480" y="5562000"/>
            <a:ext cx="6861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3"/>
            <a:endCxn id="90" idx="5"/>
          </p:cNvCxnSpPr>
          <p:nvPr/>
        </p:nvCxnSpPr>
        <p:spPr>
          <a:xfrm rot="10800000">
            <a:off x="1860120" y="5669280"/>
            <a:ext cx="775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85" idx="3"/>
            <a:endCxn id="80" idx="5"/>
          </p:cNvCxnSpPr>
          <p:nvPr/>
        </p:nvCxnSpPr>
        <p:spPr>
          <a:xfrm rot="10800000">
            <a:off x="4832280" y="5669280"/>
            <a:ext cx="176580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1" idx="1"/>
            <a:endCxn id="90" idx="7"/>
          </p:cNvCxnSpPr>
          <p:nvPr/>
        </p:nvCxnSpPr>
        <p:spPr>
          <a:xfrm rot="10800000">
            <a:off x="1860480" y="5454360"/>
            <a:ext cx="37472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80" idx="4"/>
            <a:endCxn id="90" idx="3"/>
          </p:cNvCxnSpPr>
          <p:nvPr/>
        </p:nvCxnSpPr>
        <p:spPr>
          <a:xfrm flipV="1" rot="16200000">
            <a:off x="3162600" y="4151160"/>
            <a:ext cx="44640" cy="3080160"/>
          </a:xfrm>
          <a:prstGeom prst="curvedConnector3">
            <a:avLst>
              <a:gd name="adj1" fmla="val -203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"/>
          <p:cNvCxnSpPr>
            <a:stCxn id="596" idx="6"/>
            <a:endCxn id="597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9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601" idx="6"/>
            <a:endCxn id="602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"/>
          <p:cNvCxnSpPr>
            <a:stCxn id="597" idx="6"/>
            <a:endCxn id="601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"/>
          <p:cNvCxnSpPr>
            <a:stCxn id="606" idx="6"/>
            <a:endCxn id="607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611" idx="6"/>
            <a:endCxn id="596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stCxn id="607" idx="6"/>
            <a:endCxn id="611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07" idx="3"/>
            <a:endCxn id="606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01" idx="3"/>
            <a:endCxn id="596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597" idx="1"/>
            <a:endCxn id="606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0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"/>
          <p:cNvCxnSpPr>
            <a:stCxn id="596" idx="4"/>
            <a:endCxn id="606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"/>
          <p:cNvCxnSpPr>
            <a:stCxn id="660" idx="6"/>
            <a:endCxn id="661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665" idx="6"/>
            <a:endCxn id="666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9" name=""/>
          <p:cNvCxnSpPr>
            <a:stCxn id="661" idx="6"/>
            <a:endCxn id="665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70" idx="6"/>
            <a:endCxn id="671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"/>
          <p:cNvCxnSpPr>
            <a:stCxn id="675" idx="6"/>
            <a:endCxn id="660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1" idx="6"/>
            <a:endCxn id="675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71" idx="3"/>
            <a:endCxn id="670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0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65" idx="3"/>
            <a:endCxn id="660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"/>
          <p:cNvCxnSpPr>
            <a:stCxn id="661" idx="1"/>
            <a:endCxn id="670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"/>
          <p:cNvCxnSpPr>
            <a:stCxn id="660" idx="4"/>
            <a:endCxn id="670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"/>
          <p:cNvCxnSpPr>
            <a:stCxn id="724" idx="6"/>
            <a:endCxn id="725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"/>
          <p:cNvCxnSpPr>
            <a:stCxn id="729" idx="6"/>
            <a:endCxn id="730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2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"/>
          <p:cNvCxnSpPr>
            <a:stCxn id="725" idx="6"/>
            <a:endCxn id="729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"/>
          <p:cNvCxnSpPr>
            <a:stCxn id="734" idx="6"/>
            <a:endCxn id="735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"/>
          <p:cNvCxnSpPr>
            <a:stCxn id="739" idx="6"/>
            <a:endCxn id="724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1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"/>
          <p:cNvCxnSpPr>
            <a:stCxn id="735" idx="6"/>
            <a:endCxn id="739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735" idx="3"/>
            <a:endCxn id="734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"/>
          <p:cNvCxnSpPr>
            <a:stCxn id="729" idx="3"/>
            <a:endCxn id="724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6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"/>
          <p:cNvCxnSpPr>
            <a:stCxn id="725" idx="1"/>
            <a:endCxn id="734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8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stCxn id="724" idx="4"/>
            <a:endCxn id="734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6"/>
            <a:endCxn id="133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6"/>
            <a:endCxn id="138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3" idx="6"/>
            <a:endCxn id="137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6"/>
            <a:endCxn id="143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6"/>
            <a:endCxn id="132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3" idx="6"/>
            <a:endCxn id="147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3"/>
            <a:endCxn id="142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37" idx="3"/>
            <a:endCxn id="132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33" idx="1"/>
            <a:endCxn id="142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32" idx="4"/>
            <a:endCxn id="142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4" idx="6"/>
            <a:endCxn id="185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89" idx="6"/>
            <a:endCxn id="190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5" idx="6"/>
            <a:endCxn id="189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4" idx="6"/>
            <a:endCxn id="195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9" idx="6"/>
            <a:endCxn id="184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5" idx="6"/>
            <a:endCxn id="199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5" idx="3"/>
            <a:endCxn id="194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189" idx="3"/>
            <a:endCxn id="184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85" idx="1"/>
            <a:endCxn id="194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4" idx="4"/>
            <a:endCxn id="194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6"/>
            <a:endCxn id="237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1" idx="6"/>
            <a:endCxn id="242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7" idx="6"/>
            <a:endCxn id="241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6" idx="6"/>
            <a:endCxn id="247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1" idx="6"/>
            <a:endCxn id="236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47" idx="6"/>
            <a:endCxn id="251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7" idx="3"/>
            <a:endCxn id="246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41" idx="3"/>
            <a:endCxn id="236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>
            <a:stCxn id="237" idx="1"/>
            <a:endCxn id="246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36" idx="4"/>
            <a:endCxn id="246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>
            <a:stCxn id="294" idx="6"/>
            <a:endCxn id="295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9" idx="6"/>
            <a:endCxn id="300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5" idx="6"/>
            <a:endCxn id="299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"/>
          <p:cNvCxnSpPr>
            <a:stCxn id="304" idx="6"/>
            <a:endCxn id="305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7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9" idx="6"/>
            <a:endCxn id="294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5" idx="6"/>
            <a:endCxn id="309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5" idx="3"/>
            <a:endCxn id="304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299" idx="3"/>
            <a:endCxn id="294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295" idx="1"/>
            <a:endCxn id="304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294" idx="4"/>
            <a:endCxn id="304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2" idx="6"/>
            <a:endCxn id="353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"/>
          <p:cNvCxnSpPr>
            <a:stCxn id="357" idx="6"/>
            <a:endCxn id="358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53" idx="6"/>
            <a:endCxn id="357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62" idx="6"/>
            <a:endCxn id="363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>
            <a:stCxn id="367" idx="6"/>
            <a:endCxn id="352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6"/>
            <a:endCxn id="367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3" idx="3"/>
            <a:endCxn id="362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57" idx="3"/>
            <a:endCxn id="352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53" idx="1"/>
            <a:endCxn id="362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52" idx="4"/>
            <a:endCxn id="362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10" idx="6"/>
            <a:endCxn id="411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15" idx="6"/>
            <a:endCxn id="416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411" idx="6"/>
            <a:endCxn id="415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420" idx="6"/>
            <a:endCxn id="421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25" idx="6"/>
            <a:endCxn id="410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1" idx="6"/>
            <a:endCxn id="425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1" idx="3"/>
            <a:endCxn id="420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"/>
          <p:cNvCxnSpPr>
            <a:stCxn id="415" idx="3"/>
            <a:endCxn id="410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"/>
          <p:cNvCxnSpPr>
            <a:stCxn id="411" idx="1"/>
            <a:endCxn id="420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10" idx="4"/>
            <a:endCxn id="420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>
            <a:stCxn id="468" idx="6"/>
            <a:endCxn id="469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"/>
          <p:cNvCxnSpPr>
            <a:stCxn id="473" idx="6"/>
            <a:endCxn id="474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69" idx="6"/>
            <a:endCxn id="473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8" idx="6"/>
            <a:endCxn id="479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"/>
          <p:cNvCxnSpPr>
            <a:stCxn id="483" idx="6"/>
            <a:endCxn id="468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79" idx="6"/>
            <a:endCxn id="483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79" idx="3"/>
            <a:endCxn id="478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"/>
          <p:cNvCxnSpPr>
            <a:stCxn id="473" idx="3"/>
            <a:endCxn id="468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"/>
          <p:cNvCxnSpPr>
            <a:stCxn id="469" idx="1"/>
            <a:endCxn id="478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2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68" idx="4"/>
            <a:endCxn id="478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"/>
          <p:cNvCxnSpPr>
            <a:stCxn id="532" idx="6"/>
            <a:endCxn id="533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"/>
          <p:cNvCxnSpPr>
            <a:stCxn id="537" idx="6"/>
            <a:endCxn id="538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33" idx="6"/>
            <a:endCxn id="537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42" idx="6"/>
            <a:endCxn id="543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"/>
          <p:cNvCxnSpPr>
            <a:stCxn id="547" idx="6"/>
            <a:endCxn id="532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"/>
          <p:cNvCxnSpPr>
            <a:stCxn id="543" idx="6"/>
            <a:endCxn id="547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43" idx="3"/>
            <a:endCxn id="542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37" idx="3"/>
            <a:endCxn id="532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4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533" idx="1"/>
            <a:endCxn id="542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6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"/>
          <p:cNvCxnSpPr>
            <a:stCxn id="532" idx="4"/>
            <a:endCxn id="542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8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5:51:00Z</dcterms:created>
  <dc:creator>Kevin Wayne</dc:creator>
  <dc:description/>
  <dc:language>en-US</dc:language>
  <cp:lastModifiedBy>Kevin Wayne</cp:lastModifiedBy>
  <dcterms:modified xsi:type="dcterms:W3CDTF">2005-11-07T15:53:24Z</dcterms:modified>
  <cp:revision>1</cp:revision>
  <dc:subject/>
  <dc:title>Knuth-Morris-Pratt</dc:title>
</cp:coreProperties>
</file>