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B62E-16B9-41A4-96D7-C634C415E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E729-C80C-47B8-ACC4-21865C85D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5A65-7269-4087-9777-DCA3CDFF7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C685-169B-4070-A6E9-8FC0A0992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FDE5-C692-44A4-9125-9F8C4947E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0B8A-BD08-489D-ADF9-36644A8C3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4D6A-8246-481D-9B44-C193D04C8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245B-4279-4B50-BD98-0017BE73D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03B8-C4E5-46CE-9B07-EE1DED223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2A26-8C75-46BE-9CA4-207E507FF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A5E7-51D8-4198-AA2E-65E1B9597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E271-FBC0-4E2A-B662-885D86A09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EFE-4319-4C6E-BD5F-573EB74547D5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79" idx="4"/>
            <a:endCxn id="82" idx="0"/>
          </p:cNvCxnSpPr>
          <p:nvPr/>
        </p:nvCxnSpPr>
        <p:spPr>
          <a:xfrm>
            <a:off x="1648800" y="1795320"/>
            <a:ext cx="1800" cy="22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4"/>
          </p:cNvCxnSpPr>
          <p:nvPr/>
        </p:nvCxnSpPr>
        <p:spPr>
          <a:xfrm flipV="1">
            <a:off x="4458600" y="1795320"/>
            <a:ext cx="360" cy="112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6"/>
            <a:endCxn id="81" idx="2"/>
          </p:cNvCxnSpPr>
          <p:nvPr/>
        </p:nvCxnSpPr>
        <p:spPr>
          <a:xfrm>
            <a:off x="3070080" y="3058560"/>
            <a:ext cx="12513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7"/>
            <a:endCxn id="83" idx="3"/>
          </p:cNvCxnSpPr>
          <p:nvPr/>
        </p:nvCxnSpPr>
        <p:spPr>
          <a:xfrm flipV="1">
            <a:off x="1747440" y="3155760"/>
            <a:ext cx="1088640" cy="923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9" idx="6"/>
            <a:endCxn id="80" idx="2"/>
          </p:cNvCxnSpPr>
          <p:nvPr/>
        </p:nvCxnSpPr>
        <p:spPr>
          <a:xfrm>
            <a:off x="1785960" y="1658160"/>
            <a:ext cx="25354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5"/>
            <a:endCxn id="81" idx="3"/>
          </p:cNvCxnSpPr>
          <p:nvPr/>
        </p:nvCxnSpPr>
        <p:spPr>
          <a:xfrm flipV="1">
            <a:off x="1747440" y="315576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" name=""/>
          <p:cNvCxnSpPr>
            <a:stCxn id="92" idx="5"/>
            <a:endCxn id="90" idx="1"/>
          </p:cNvCxnSpPr>
          <p:nvPr/>
        </p:nvCxnSpPr>
        <p:spPr>
          <a:xfrm>
            <a:off x="6252840" y="1744560"/>
            <a:ext cx="148860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3" idx="6"/>
            <a:endCxn id="90" idx="2"/>
          </p:cNvCxnSpPr>
          <p:nvPr/>
        </p:nvCxnSpPr>
        <p:spPr>
          <a:xfrm>
            <a:off x="6291360" y="3058560"/>
            <a:ext cx="14101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4"/>
            <a:endCxn id="93" idx="0"/>
          </p:cNvCxnSpPr>
          <p:nvPr/>
        </p:nvCxnSpPr>
        <p:spPr>
          <a:xfrm flipH="1">
            <a:off x="6154200" y="1784520"/>
            <a:ext cx="1800" cy="113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2" idx="6"/>
            <a:endCxn id="91" idx="2"/>
          </p:cNvCxnSpPr>
          <p:nvPr/>
        </p:nvCxnSpPr>
        <p:spPr>
          <a:xfrm>
            <a:off x="6292800" y="1647360"/>
            <a:ext cx="1414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1" idx="6"/>
            <a:endCxn id="93" idx="2"/>
          </p:cNvCxnSpPr>
          <p:nvPr/>
        </p:nvCxnSpPr>
        <p:spPr>
          <a:xfrm>
            <a:off x="4595760" y="3058560"/>
            <a:ext cx="1421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endCxn id="32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2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7"/>
            <a:endCxn id="32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8" idx="5"/>
            <a:endCxn id="32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38" idx="5"/>
            <a:endCxn id="33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6"/>
            <a:endCxn id="33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8" idx="6"/>
            <a:endCxn id="33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7" idx="6"/>
            <a:endCxn id="33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8" name=""/>
          <p:cNvCxnSpPr>
            <a:endCxn id="35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5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7"/>
            <a:endCxn id="35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6" idx="5"/>
            <a:endCxn id="35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6" idx="5"/>
            <a:endCxn id="36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7" idx="6"/>
            <a:endCxn id="36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6" idx="4"/>
            <a:endCxn id="36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6"/>
            <a:endCxn id="36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6"/>
            <a:endCxn id="36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endCxn id="38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5" idx="6"/>
            <a:endCxn id="38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4" idx="7"/>
            <a:endCxn id="38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5"/>
            <a:endCxn id="38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6" name=""/>
          <p:cNvCxnSpPr>
            <a:stCxn id="394" idx="5"/>
            <a:endCxn id="39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5" idx="6"/>
            <a:endCxn id="39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4"/>
            <a:endCxn id="39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6"/>
            <a:endCxn id="39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3" idx="6"/>
            <a:endCxn id="39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"/>
          <p:cNvCxnSpPr>
            <a:stCxn id="402" idx="4"/>
            <a:endCxn id="38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5" name=""/>
          <p:cNvCxnSpPr>
            <a:endCxn id="41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4" idx="6"/>
            <a:endCxn id="41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3" idx="7"/>
            <a:endCxn id="41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3" idx="5"/>
            <a:endCxn id="41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3" idx="5"/>
            <a:endCxn id="42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24" idx="6"/>
            <a:endCxn id="42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3" idx="4"/>
            <a:endCxn id="42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6"/>
            <a:endCxn id="42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2" idx="6"/>
            <a:endCxn id="42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5" name=""/>
          <p:cNvCxnSpPr>
            <a:stCxn id="431" idx="4"/>
            <a:endCxn id="41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4" idx="6"/>
            <a:endCxn id="4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3" idx="7"/>
            <a:endCxn id="4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3" idx="5"/>
            <a:endCxn id="4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53" idx="5"/>
            <a:endCxn id="4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54" idx="6"/>
            <a:endCxn id="4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6"/>
            <a:endCxn id="4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2" idx="6"/>
            <a:endCxn id="4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1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66" name=""/>
          <p:cNvCxnSpPr>
            <a:stCxn id="461" idx="4"/>
            <a:endCxn id="44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endCxn id="47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6"/>
            <a:endCxn id="47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7"/>
            <a:endCxn id="4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4" idx="5"/>
            <a:endCxn id="47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6" name=""/>
          <p:cNvCxnSpPr>
            <a:stCxn id="484" idx="5"/>
            <a:endCxn id="4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85" idx="6"/>
            <a:endCxn id="4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4" idx="4"/>
            <a:endCxn id="4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4" idx="6"/>
            <a:endCxn id="4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3" idx="6"/>
            <a:endCxn id="4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>
            <a:stCxn id="492" idx="4"/>
            <a:endCxn id="47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97" name=""/>
          <p:cNvCxnSpPr>
            <a:stCxn id="492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endCxn id="50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6" idx="6"/>
            <a:endCxn id="50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5" idx="7"/>
            <a:endCxn id="50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5" idx="5"/>
            <a:endCxn id="50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5"/>
            <a:endCxn id="51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6"/>
            <a:endCxn id="51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5" idx="4"/>
            <a:endCxn id="51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5" idx="6"/>
            <a:endCxn id="51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4" idx="6"/>
            <a:endCxn id="51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endCxn id="5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6"/>
            <a:endCxn id="5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4" idx="7"/>
            <a:endCxn id="5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4" idx="5"/>
            <a:endCxn id="5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6" name=""/>
          <p:cNvCxnSpPr>
            <a:stCxn id="544" idx="5"/>
            <a:endCxn id="5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5" idx="6"/>
            <a:endCxn id="5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4" idx="4"/>
            <a:endCxn id="5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4" idx="6"/>
            <a:endCxn id="5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3" idx="6"/>
            <a:endCxn id="5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endCxn id="5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4" idx="6"/>
            <a:endCxn id="5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3" idx="7"/>
            <a:endCxn id="5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3" idx="5"/>
            <a:endCxn id="5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5" name=""/>
          <p:cNvCxnSpPr>
            <a:stCxn id="573" idx="5"/>
            <a:endCxn id="5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4" idx="6"/>
            <a:endCxn id="5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3" idx="4"/>
            <a:endCxn id="5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3" idx="6"/>
            <a:endCxn id="5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2" idx="6"/>
            <a:endCxn id="5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9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6"/>
            <a:endCxn id="59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2" idx="7"/>
            <a:endCxn id="59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92" idx="5"/>
            <a:endCxn id="59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4" name=""/>
          <p:cNvCxnSpPr>
            <a:stCxn id="602" idx="5"/>
            <a:endCxn id="60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"/>
          <p:cNvCxnSpPr>
            <a:stCxn id="603" idx="6"/>
            <a:endCxn id="60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602" idx="6"/>
            <a:endCxn id="60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1" idx="6"/>
            <a:endCxn id="60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3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" name=""/>
          <p:cNvCxnSpPr>
            <a:stCxn id="105" idx="4"/>
            <a:endCxn id="10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0"/>
            <a:endCxn id="106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6"/>
            <a:endCxn id="10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7"/>
            <a:endCxn id="10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5" idx="6"/>
            <a:endCxn id="106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8" idx="5"/>
            <a:endCxn id="10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" name=""/>
          <p:cNvCxnSpPr>
            <a:stCxn id="118" idx="5"/>
            <a:endCxn id="11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9" idx="6"/>
            <a:endCxn id="11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8" idx="4"/>
            <a:endCxn id="11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8" idx="6"/>
            <a:endCxn id="11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7" idx="6"/>
            <a:endCxn id="11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queue source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2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6"/>
            <a:endCxn id="62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622" idx="7"/>
            <a:endCxn id="62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622" idx="5"/>
            <a:endCxn id="62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4" name=""/>
          <p:cNvCxnSpPr>
            <a:stCxn id="632" idx="5"/>
            <a:endCxn id="63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3" idx="6"/>
            <a:endCxn id="63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2" idx="4"/>
            <a:endCxn id="63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2" idx="6"/>
            <a:endCxn id="63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1" idx="6"/>
            <a:endCxn id="63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6"/>
            <a:endCxn id="65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52" idx="7"/>
            <a:endCxn id="65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2" idx="5"/>
            <a:endCxn id="65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2" idx="5"/>
            <a:endCxn id="66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3" idx="6"/>
            <a:endCxn id="66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2" idx="4"/>
            <a:endCxn id="66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62" idx="6"/>
            <a:endCxn id="66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51" idx="6"/>
            <a:endCxn id="66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3" name=""/>
          <p:cNvCxnSpPr>
            <a:stCxn id="653" idx="3"/>
            <a:endCxn id="652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67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5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6"/>
            <a:endCxn id="68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3" idx="7"/>
            <a:endCxn id="68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3" idx="5"/>
            <a:endCxn id="68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5"/>
            <a:endCxn id="69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4" idx="6"/>
            <a:endCxn id="69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3" idx="4"/>
            <a:endCxn id="69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3" idx="6"/>
            <a:endCxn id="69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82" idx="6"/>
            <a:endCxn id="69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05" name=""/>
          <p:cNvCxnSpPr>
            <a:stCxn id="684" idx="3"/>
            <a:endCxn id="683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6" idx="6"/>
            <a:endCxn id="71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15" idx="7"/>
            <a:endCxn id="71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5" idx="5"/>
            <a:endCxn id="71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7" name=""/>
          <p:cNvCxnSpPr>
            <a:stCxn id="725" idx="5"/>
            <a:endCxn id="72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26" idx="6"/>
            <a:endCxn id="72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5" idx="4"/>
            <a:endCxn id="72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4" idx="6"/>
            <a:endCxn id="72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6" name=""/>
          <p:cNvCxnSpPr>
            <a:stCxn id="714" idx="3"/>
            <a:endCxn id="715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8" name=""/>
          <p:cNvCxnSpPr>
            <a:stCxn id="716" idx="3"/>
            <a:endCxn id="715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0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9" idx="6"/>
            <a:endCxn id="74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8" idx="7"/>
            <a:endCxn id="74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5"/>
            <a:endCxn id="74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8" idx="5"/>
            <a:endCxn id="75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9" idx="6"/>
            <a:endCxn id="75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8" idx="4"/>
            <a:endCxn id="75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3" name=""/>
          <p:cNvCxnSpPr>
            <a:stCxn id="758" idx="6"/>
            <a:endCxn id="75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47" idx="6"/>
            <a:endCxn id="75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9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0" name=""/>
          <p:cNvCxnSpPr>
            <a:stCxn id="749" idx="3"/>
            <a:endCxn id="748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1" name=""/>
          <p:cNvCxnSpPr>
            <a:stCxn id="747" idx="3"/>
            <a:endCxn id="748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3" name=""/>
          <p:cNvCxnSpPr>
            <a:endCxn id="781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8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2" idx="6"/>
            <a:endCxn id="78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81" idx="7"/>
            <a:endCxn id="782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1" idx="5"/>
            <a:endCxn id="78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3" name=""/>
          <p:cNvCxnSpPr>
            <a:stCxn id="791" idx="5"/>
            <a:endCxn id="78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2" idx="6"/>
            <a:endCxn id="78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91" idx="4"/>
            <a:endCxn id="79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91" idx="6"/>
            <a:endCxn id="79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0" idx="6"/>
            <a:endCxn id="79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81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11" idx="6"/>
            <a:endCxn id="81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endCxn id="81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7" name=""/>
          <p:cNvCxnSpPr>
            <a:endCxn id="81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2" name=""/>
          <p:cNvCxnSpPr>
            <a:stCxn id="820" idx="5"/>
            <a:endCxn id="81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1" idx="6"/>
            <a:endCxn id="81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4"/>
            <a:endCxn id="82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0" idx="6"/>
            <a:endCxn id="81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0" idx="6"/>
            <a:endCxn id="82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3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6"/>
            <a:endCxn id="84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endCxn id="84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endCxn id="84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5"/>
            <a:endCxn id="84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51" idx="6"/>
            <a:endCxn id="84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50" idx="4"/>
            <a:endCxn id="85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50" idx="6"/>
            <a:endCxn id="84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2" name=""/>
          <p:cNvCxnSpPr>
            <a:stCxn id="840" idx="2"/>
            <a:endCxn id="84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3" name=""/>
          <p:cNvCxnSpPr>
            <a:stCxn id="840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4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6"/>
            <a:endCxn id="87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endCxn id="8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endCxn id="87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6" name=""/>
          <p:cNvCxnSpPr>
            <a:stCxn id="884" idx="5"/>
            <a:endCxn id="8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85" idx="6"/>
            <a:endCxn id="8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4" idx="4"/>
            <a:endCxn id="8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5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6" name=""/>
          <p:cNvCxnSpPr>
            <a:stCxn id="874" idx="2"/>
            <a:endCxn id="875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7" name=""/>
          <p:cNvCxnSpPr>
            <a:stCxn id="874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8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9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10" idx="6"/>
            <a:endCxn id="909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endCxn id="91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6" name=""/>
          <p:cNvCxnSpPr>
            <a:endCxn id="909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21" name=""/>
          <p:cNvCxnSpPr>
            <a:stCxn id="919" idx="5"/>
            <a:endCxn id="9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20" idx="6"/>
            <a:endCxn id="9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9" idx="4"/>
            <a:endCxn id="92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919" idx="6"/>
            <a:endCxn id="9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909" idx="6"/>
            <a:endCxn id="92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" name=""/>
          <p:cNvCxnSpPr>
            <a:stCxn id="131" idx="4"/>
            <a:endCxn id="1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3" idx="0"/>
            <a:endCxn id="132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5" idx="6"/>
            <a:endCxn id="1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1" idx="6"/>
            <a:endCxn id="13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4" idx="5"/>
            <a:endCxn id="1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"/>
          <p:cNvCxnSpPr>
            <a:stCxn id="144" idx="5"/>
            <a:endCxn id="1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5" idx="6"/>
            <a:endCxn id="1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4" idx="4"/>
            <a:endCxn id="1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6"/>
            <a:endCxn id="1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33" idx="6"/>
            <a:endCxn id="1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40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endCxn id="94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1" name=""/>
          <p:cNvCxnSpPr>
            <a:stCxn id="949" idx="5"/>
            <a:endCxn id="94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50" idx="6"/>
            <a:endCxn id="94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49" idx="4"/>
            <a:endCxn id="95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49" idx="6"/>
            <a:endCxn id="94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endCxn id="95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3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71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2" name=""/>
          <p:cNvCxnSpPr>
            <a:stCxn id="980" idx="5"/>
            <a:endCxn id="97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81" idx="6"/>
            <a:endCxn id="97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80" idx="4"/>
            <a:endCxn id="98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80" idx="6"/>
            <a:endCxn id="97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endCxn id="98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1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992" name=""/>
          <p:cNvCxnSpPr>
            <a:endCxn id="97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99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4" name=""/>
          <p:cNvCxnSpPr>
            <a:stCxn id="1012" idx="5"/>
            <a:endCxn id="10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13" idx="6"/>
            <a:endCxn id="10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2" idx="6"/>
            <a:endCxn id="10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endCxn id="10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"/>
          <p:cNvCxnSpPr>
            <a:stCxn id="1043" idx="5"/>
            <a:endCxn id="104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6"/>
            <a:endCxn id="104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3" idx="4"/>
            <a:endCxn id="104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3" idx="6"/>
            <a:endCxn id="104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endCxn id="104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"/>
          <p:cNvCxnSpPr>
            <a:stCxn id="1074" idx="5"/>
            <a:endCxn id="107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75" idx="6"/>
            <a:endCxn id="107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4"/>
            <a:endCxn id="107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4" idx="6"/>
            <a:endCxn id="107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endCxn id="107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8" name=""/>
          <p:cNvCxnSpPr>
            <a:stCxn id="1075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089" name=""/>
          <p:cNvCxnSpPr>
            <a:stCxn id="1075" idx="0"/>
            <a:endCxn id="1074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9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0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1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2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3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4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0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"/>
          <p:cNvCxnSpPr>
            <a:stCxn id="1107" idx="5"/>
            <a:endCxn id="1105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108" idx="6"/>
            <a:endCxn id="1105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7" idx="4"/>
            <a:endCxn id="1108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7" idx="6"/>
            <a:endCxn id="1106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endCxn id="1108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21" name=""/>
          <p:cNvCxnSpPr>
            <a:stCxn id="1108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22" name=""/>
          <p:cNvCxnSpPr>
            <a:stCxn id="1108" idx="0"/>
            <a:endCxn id="1107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3" name=""/>
          <p:cNvCxnSpPr>
            <a:stCxn id="1141" idx="5"/>
            <a:endCxn id="113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1" idx="4"/>
            <a:endCxn id="114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1" idx="6"/>
            <a:endCxn id="114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endCxn id="114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"/>
          <p:cNvCxnSpPr>
            <a:stCxn id="1142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56" name=""/>
          <p:cNvCxnSpPr>
            <a:stCxn id="1142" idx="0"/>
            <a:endCxn id="1141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8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69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7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8" name=""/>
          <p:cNvCxnSpPr>
            <a:stCxn id="1176" idx="5"/>
            <a:endCxn id="117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76" idx="4"/>
            <a:endCxn id="117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6" idx="6"/>
            <a:endCxn id="117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7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"/>
          <p:cNvCxnSpPr>
            <a:stCxn id="1177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91" name=""/>
          <p:cNvCxnSpPr>
            <a:stCxn id="1177" idx="0"/>
            <a:endCxn id="1176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3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4" name=""/>
          <p:cNvCxnSpPr>
            <a:stCxn id="1212" idx="5"/>
            <a:endCxn id="12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13" idx="6"/>
            <a:endCxn id="12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12" idx="4"/>
            <a:endCxn id="12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2" idx="6"/>
            <a:endCxn id="12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endCxn id="12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6" name=""/>
          <p:cNvCxnSpPr>
            <a:stCxn id="1245" idx="5"/>
            <a:endCxn id="124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endCxn id="124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45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45" idx="6"/>
            <a:endCxn id="124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0" idx="4"/>
            <a:endCxn id="1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2" idx="0"/>
            <a:endCxn id="161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4" idx="6"/>
            <a:endCxn id="1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6"/>
            <a:endCxn id="161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5"/>
            <a:endCxn id="1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5"/>
            <a:endCxn id="1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4" idx="6"/>
            <a:endCxn id="1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6"/>
            <a:endCxn id="1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2" idx="6"/>
            <a:endCxn id="1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9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3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4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5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2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5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6" name=""/>
          <p:cNvCxnSpPr>
            <a:endCxn id="131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7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9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0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1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33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4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2" name=""/>
          <p:cNvCxnSpPr>
            <a:stCxn id="1351" idx="5"/>
            <a:endCxn id="134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3" name=""/>
          <p:cNvCxnSpPr>
            <a:endCxn id="134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4" name=""/>
          <p:cNvCxnSpPr>
            <a:stCxn id="1351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5" name=""/>
          <p:cNvCxnSpPr>
            <a:stCxn id="1351" idx="6"/>
            <a:endCxn id="135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5" name=""/>
          <p:cNvCxnSpPr>
            <a:endCxn id="138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endCxn id="138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7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endCxn id="138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9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1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endCxn id="14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4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435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4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4" name=""/>
          <p:cNvCxnSpPr>
            <a:stCxn id="1455" idx="5"/>
          </p:cNvCxnSpPr>
          <p:nvPr/>
        </p:nvCxnSpPr>
        <p:spPr>
          <a:xfrm>
            <a:off x="6253200" y="1752480"/>
            <a:ext cx="1489680" cy="121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6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5" idx="4"/>
          </p:cNvCxnSpPr>
          <p:nvPr/>
        </p:nvCxnSpPr>
        <p:spPr>
          <a:xfrm>
            <a:off x="6156000" y="1792080"/>
            <a:ext cx="108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8" name=""/>
          <p:cNvCxnSpPr>
            <a:stCxn id="1455" idx="6"/>
            <a:endCxn id="145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8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9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1" name=""/>
          <p:cNvCxnSpPr>
            <a:endCxn id="148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9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2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3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4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5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37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6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7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8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9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0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1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2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3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4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"/>
          <p:cNvCxnSpPr>
            <a:stCxn id="186" idx="4"/>
            <a:endCxn id="189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87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90" idx="6"/>
            <a:endCxn id="188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89" idx="7"/>
            <a:endCxn id="19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9" idx="5"/>
            <a:endCxn id="188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9" idx="5"/>
            <a:endCxn id="19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  <a:endCxn id="19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4"/>
            <a:endCxn id="20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6"/>
            <a:endCxn id="19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8" idx="6"/>
            <a:endCxn id="20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2" name=""/>
          <p:cNvCxnSpPr>
            <a:stCxn id="1619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3" name=""/>
          <p:cNvCxnSpPr>
            <a:endCxn id="161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8" name=""/>
          <p:cNvCxnSpPr>
            <a:endCxn id="162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9" name=""/>
          <p:cNvCxnSpPr>
            <a:endCxn id="162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endCxn id="162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13" idx="4"/>
            <a:endCxn id="21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0"/>
            <a:endCxn id="214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7" idx="6"/>
            <a:endCxn id="21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7"/>
            <a:endCxn id="21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6" idx="5"/>
            <a:endCxn id="21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8" name=""/>
          <p:cNvCxnSpPr>
            <a:stCxn id="226" idx="5"/>
            <a:endCxn id="22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7" idx="6"/>
            <a:endCxn id="22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15" idx="6"/>
            <a:endCxn id="22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5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44" idx="6"/>
            <a:endCxn id="2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3" idx="7"/>
            <a:endCxn id="2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5"/>
            <a:endCxn id="2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5" name=""/>
          <p:cNvCxnSpPr>
            <a:stCxn id="253" idx="5"/>
            <a:endCxn id="2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4" idx="6"/>
            <a:endCxn id="2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4"/>
            <a:endCxn id="2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3" idx="6"/>
            <a:endCxn id="2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6"/>
            <a:endCxn id="2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41" idx="6"/>
            <a:endCxn id="26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3" idx="6"/>
            <a:endCxn id="27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2" idx="7"/>
            <a:endCxn id="27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2" idx="5"/>
            <a:endCxn id="27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2" idx="5"/>
            <a:endCxn id="28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3" idx="6"/>
            <a:endCxn id="28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2" idx="4"/>
            <a:endCxn id="28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2" idx="6"/>
            <a:endCxn id="28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1" idx="6"/>
            <a:endCxn id="28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3" name=""/>
          <p:cNvCxnSpPr>
            <a:stCxn id="270" idx="6"/>
            <a:endCxn id="290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29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"/>
          <p:cNvCxnSpPr>
            <a:stCxn id="300" idx="4"/>
            <a:endCxn id="30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3" idx="6"/>
            <a:endCxn id="30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2" idx="7"/>
            <a:endCxn id="30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5"/>
            <a:endCxn id="30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4" name=""/>
          <p:cNvCxnSpPr>
            <a:stCxn id="312" idx="5"/>
            <a:endCxn id="3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3" idx="6"/>
            <a:endCxn id="3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12" idx="4"/>
            <a:endCxn id="3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2" idx="6"/>
            <a:endCxn id="3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1" idx="6"/>
            <a:endCxn id="3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5:33:47Z</dcterms:created>
  <dc:creator>Kevin Wayne</dc:creator>
  <dc:description/>
  <dc:language>en-US</dc:language>
  <cp:lastModifiedBy>Kevin Wayne</cp:lastModifiedBy>
  <dcterms:modified xsi:type="dcterms:W3CDTF">2005-11-21T15:43:35Z</dcterms:modified>
  <cp:revision>3</cp:revision>
  <dc:subject/>
  <dc:title>Breadth First Search</dc:title>
</cp:coreProperties>
</file>