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FB15-6543-4083-8205-366F91AF3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D80D-FD63-42AD-B8FE-E4ADDE865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BA73-031F-44FF-9ADD-FB4189EEE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7070-C6BE-4026-8551-F90C860C2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DC56-F0E9-4930-B1DA-4567D892A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C01A-C6A2-47C9-B995-9CF24BAB3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62D03-1F5B-4054-BF43-1B09EAA03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B6885-A59F-48FF-B295-6930E5DBA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085E5-A470-4C72-8BC6-A2B7468C1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E876-8B29-4715-8978-73A327FF9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CAA41-273B-4987-B331-4DC6A6DB6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A8DF9-BC2E-4D43-B9EE-E2E5C1362E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01AA-9018-4678-BB41-E0F89480885C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4" name=""/>
          <p:cNvCxnSpPr>
            <a:stCxn id="79" idx="4"/>
            <a:endCxn id="82" idx="0"/>
          </p:cNvCxnSpPr>
          <p:nvPr/>
        </p:nvCxnSpPr>
        <p:spPr>
          <a:xfrm>
            <a:off x="1648800" y="1795320"/>
            <a:ext cx="1800" cy="2243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81" idx="0"/>
            <a:endCxn id="80" idx="4"/>
          </p:cNvCxnSpPr>
          <p:nvPr/>
        </p:nvCxnSpPr>
        <p:spPr>
          <a:xfrm flipV="1">
            <a:off x="4458600" y="1795320"/>
            <a:ext cx="360" cy="1126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83" idx="6"/>
            <a:endCxn id="81" idx="2"/>
          </p:cNvCxnSpPr>
          <p:nvPr/>
        </p:nvCxnSpPr>
        <p:spPr>
          <a:xfrm>
            <a:off x="3070080" y="3058560"/>
            <a:ext cx="125136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82" idx="7"/>
            <a:endCxn id="83" idx="3"/>
          </p:cNvCxnSpPr>
          <p:nvPr/>
        </p:nvCxnSpPr>
        <p:spPr>
          <a:xfrm flipV="1">
            <a:off x="1747440" y="3155760"/>
            <a:ext cx="1088640" cy="923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79" idx="6"/>
            <a:endCxn id="80" idx="2"/>
          </p:cNvCxnSpPr>
          <p:nvPr/>
        </p:nvCxnSpPr>
        <p:spPr>
          <a:xfrm>
            <a:off x="1785960" y="1658160"/>
            <a:ext cx="253548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82" idx="5"/>
            <a:endCxn id="81" idx="3"/>
          </p:cNvCxnSpPr>
          <p:nvPr/>
        </p:nvCxnSpPr>
        <p:spPr>
          <a:xfrm flipV="1">
            <a:off x="1747440" y="315576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4" name=""/>
          <p:cNvCxnSpPr>
            <a:stCxn id="92" idx="5"/>
            <a:endCxn id="90" idx="1"/>
          </p:cNvCxnSpPr>
          <p:nvPr/>
        </p:nvCxnSpPr>
        <p:spPr>
          <a:xfrm>
            <a:off x="6252840" y="1744560"/>
            <a:ext cx="1488600" cy="1216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93" idx="6"/>
            <a:endCxn id="90" idx="2"/>
          </p:cNvCxnSpPr>
          <p:nvPr/>
        </p:nvCxnSpPr>
        <p:spPr>
          <a:xfrm>
            <a:off x="6291360" y="3058560"/>
            <a:ext cx="141012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92" idx="4"/>
            <a:endCxn id="93" idx="0"/>
          </p:cNvCxnSpPr>
          <p:nvPr/>
        </p:nvCxnSpPr>
        <p:spPr>
          <a:xfrm flipH="1">
            <a:off x="6154200" y="1784520"/>
            <a:ext cx="1800" cy="1136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2" idx="6"/>
            <a:endCxn id="91" idx="2"/>
          </p:cNvCxnSpPr>
          <p:nvPr/>
        </p:nvCxnSpPr>
        <p:spPr>
          <a:xfrm>
            <a:off x="6292800" y="1647360"/>
            <a:ext cx="141480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81" idx="6"/>
            <a:endCxn id="93" idx="2"/>
          </p:cNvCxnSpPr>
          <p:nvPr/>
        </p:nvCxnSpPr>
        <p:spPr>
          <a:xfrm>
            <a:off x="4595760" y="3058560"/>
            <a:ext cx="142128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0" name=""/>
          <p:cNvCxnSpPr>
            <a:endCxn id="328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27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2" name=""/>
          <p:cNvCxnSpPr>
            <a:stCxn id="329" idx="6"/>
            <a:endCxn id="327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3" name=""/>
          <p:cNvCxnSpPr>
            <a:stCxn id="328" idx="7"/>
            <a:endCxn id="329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328" idx="5"/>
            <a:endCxn id="327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0" name=""/>
          <p:cNvCxnSpPr>
            <a:stCxn id="338" idx="5"/>
            <a:endCxn id="33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9" idx="6"/>
            <a:endCxn id="33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42" name=""/>
          <p:cNvCxnSpPr>
            <a:stCxn id="338" idx="4"/>
            <a:endCxn id="339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8" idx="6"/>
            <a:endCxn id="33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27" idx="6"/>
            <a:endCxn id="339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8" name=""/>
          <p:cNvCxnSpPr>
            <a:endCxn id="356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59" name=""/>
          <p:cNvCxnSpPr>
            <a:stCxn id="355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57" idx="6"/>
            <a:endCxn id="355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6" idx="7"/>
            <a:endCxn id="357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2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3" name=""/>
          <p:cNvCxnSpPr>
            <a:stCxn id="356" idx="5"/>
            <a:endCxn id="355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8" name=""/>
          <p:cNvCxnSpPr>
            <a:stCxn id="366" idx="5"/>
            <a:endCxn id="364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67" idx="6"/>
            <a:endCxn id="364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66" idx="4"/>
            <a:endCxn id="367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366" idx="6"/>
            <a:endCxn id="365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55" idx="6"/>
            <a:endCxn id="367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7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6" name=""/>
          <p:cNvCxnSpPr>
            <a:endCxn id="384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83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5" idx="6"/>
            <a:endCxn id="383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84" idx="7"/>
            <a:endCxn id="38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4" idx="5"/>
            <a:endCxn id="383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6" name=""/>
          <p:cNvCxnSpPr>
            <a:stCxn id="394" idx="5"/>
            <a:endCxn id="39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95" idx="6"/>
            <a:endCxn id="39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stCxn id="394" idx="4"/>
            <a:endCxn id="39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"/>
          <p:cNvCxnSpPr>
            <a:stCxn id="394" idx="6"/>
            <a:endCxn id="39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383" idx="6"/>
            <a:endCxn id="39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6" name=""/>
          <p:cNvCxnSpPr>
            <a:stCxn id="402" idx="4"/>
            <a:endCxn id="383" idx="0"/>
          </p:cNvCxnSpPr>
          <p:nvPr/>
        </p:nvCxnSpPr>
        <p:spPr>
          <a:xfrm>
            <a:off x="4458960" y="180288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40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5" name=""/>
          <p:cNvCxnSpPr>
            <a:endCxn id="41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41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14" idx="6"/>
            <a:endCxn id="41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413" idx="7"/>
            <a:endCxn id="41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1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413" idx="5"/>
            <a:endCxn id="41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5" name=""/>
          <p:cNvCxnSpPr>
            <a:stCxn id="423" idx="5"/>
            <a:endCxn id="42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6" name=""/>
          <p:cNvCxnSpPr>
            <a:stCxn id="424" idx="6"/>
            <a:endCxn id="42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7" name=""/>
          <p:cNvCxnSpPr>
            <a:stCxn id="423" idx="4"/>
            <a:endCxn id="42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8" name=""/>
          <p:cNvCxnSpPr>
            <a:stCxn id="423" idx="6"/>
            <a:endCxn id="42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12" idx="6"/>
            <a:endCxn id="42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3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5" name=""/>
          <p:cNvCxnSpPr>
            <a:stCxn id="431" idx="4"/>
            <a:endCxn id="412" idx="0"/>
          </p:cNvCxnSpPr>
          <p:nvPr/>
        </p:nvCxnSpPr>
        <p:spPr>
          <a:xfrm>
            <a:off x="4458960" y="180288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5" name=""/>
          <p:cNvCxnSpPr>
            <a:endCxn id="44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6" name=""/>
          <p:cNvCxnSpPr>
            <a:stCxn id="44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4" idx="6"/>
            <a:endCxn id="44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43" idx="7"/>
            <a:endCxn id="44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stCxn id="443" idx="5"/>
            <a:endCxn id="44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5" name=""/>
          <p:cNvCxnSpPr>
            <a:stCxn id="453" idx="5"/>
            <a:endCxn id="45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6" name=""/>
          <p:cNvCxnSpPr>
            <a:stCxn id="454" idx="6"/>
            <a:endCxn id="45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7" name=""/>
          <p:cNvCxnSpPr>
            <a:stCxn id="453" idx="4"/>
            <a:endCxn id="45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3" idx="6"/>
            <a:endCxn id="45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42" idx="6"/>
            <a:endCxn id="45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6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5" name=""/>
          <p:cNvCxnSpPr>
            <a:stCxn id="461" idx="2"/>
          </p:cNvCxnSpPr>
          <p:nvPr/>
        </p:nvCxnSpPr>
        <p:spPr>
          <a:xfrm flipH="1">
            <a:off x="179352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466" name=""/>
          <p:cNvCxnSpPr>
            <a:stCxn id="461" idx="4"/>
            <a:endCxn id="442" idx="0"/>
          </p:cNvCxnSpPr>
          <p:nvPr/>
        </p:nvCxnSpPr>
        <p:spPr>
          <a:xfrm>
            <a:off x="4458960" y="180288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467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6" name=""/>
          <p:cNvCxnSpPr>
            <a:endCxn id="474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3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5" idx="6"/>
            <a:endCxn id="473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4" idx="7"/>
            <a:endCxn id="47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74" idx="5"/>
            <a:endCxn id="473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8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6" name=""/>
          <p:cNvCxnSpPr>
            <a:stCxn id="484" idx="5"/>
            <a:endCxn id="48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7" name=""/>
          <p:cNvCxnSpPr>
            <a:stCxn id="485" idx="6"/>
            <a:endCxn id="48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4" idx="4"/>
            <a:endCxn id="48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9" name=""/>
          <p:cNvCxnSpPr>
            <a:stCxn id="484" idx="6"/>
            <a:endCxn id="48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90" name=""/>
          <p:cNvCxnSpPr>
            <a:stCxn id="473" idx="6"/>
            <a:endCxn id="48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already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96" name=""/>
          <p:cNvCxnSpPr>
            <a:stCxn id="492" idx="4"/>
            <a:endCxn id="473" idx="0"/>
          </p:cNvCxnSpPr>
          <p:nvPr/>
        </p:nvCxnSpPr>
        <p:spPr>
          <a:xfrm>
            <a:off x="4458960" y="180288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497" name=""/>
          <p:cNvCxnSpPr>
            <a:stCxn id="492" idx="2"/>
          </p:cNvCxnSpPr>
          <p:nvPr/>
        </p:nvCxnSpPr>
        <p:spPr>
          <a:xfrm flipH="1">
            <a:off x="179352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0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7" name=""/>
          <p:cNvCxnSpPr>
            <a:endCxn id="505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504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6" idx="6"/>
            <a:endCxn id="504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505" idx="7"/>
            <a:endCxn id="506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2" name=""/>
          <p:cNvCxnSpPr>
            <a:stCxn id="505" idx="5"/>
            <a:endCxn id="504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13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7" name=""/>
          <p:cNvCxnSpPr>
            <a:stCxn id="515" idx="5"/>
            <a:endCxn id="513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8" name=""/>
          <p:cNvCxnSpPr>
            <a:stCxn id="516" idx="6"/>
            <a:endCxn id="513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9" name=""/>
          <p:cNvCxnSpPr>
            <a:stCxn id="515" idx="4"/>
            <a:endCxn id="516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5" idx="6"/>
            <a:endCxn id="514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stCxn id="504" idx="6"/>
            <a:endCxn id="516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nished with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6" name=""/>
          <p:cNvCxnSpPr>
            <a:endCxn id="534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3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8" name=""/>
          <p:cNvCxnSpPr>
            <a:stCxn id="535" idx="6"/>
            <a:endCxn id="533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34" idx="7"/>
            <a:endCxn id="53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4" idx="5"/>
            <a:endCxn id="533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6" name=""/>
          <p:cNvCxnSpPr>
            <a:stCxn id="544" idx="5"/>
            <a:endCxn id="54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5" idx="6"/>
            <a:endCxn id="54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4" idx="4"/>
            <a:endCxn id="54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44" idx="6"/>
            <a:endCxn id="54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33" idx="6"/>
            <a:endCxn id="54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5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5" name=""/>
          <p:cNvCxnSpPr>
            <a:endCxn id="56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6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64" idx="6"/>
            <a:endCxn id="56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63" idx="7"/>
            <a:endCxn id="56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0" name=""/>
          <p:cNvCxnSpPr>
            <a:stCxn id="563" idx="5"/>
            <a:endCxn id="56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7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5" name=""/>
          <p:cNvCxnSpPr>
            <a:stCxn id="573" idx="5"/>
            <a:endCxn id="57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6" name=""/>
          <p:cNvCxnSpPr>
            <a:stCxn id="574" idx="6"/>
            <a:endCxn id="57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7" name=""/>
          <p:cNvCxnSpPr>
            <a:stCxn id="573" idx="4"/>
            <a:endCxn id="57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8" name=""/>
          <p:cNvCxnSpPr>
            <a:stCxn id="573" idx="6"/>
            <a:endCxn id="57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9" name=""/>
          <p:cNvCxnSpPr>
            <a:stCxn id="562" idx="6"/>
            <a:endCxn id="57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8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4" name=""/>
          <p:cNvCxnSpPr>
            <a:endCxn id="59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5" name=""/>
          <p:cNvCxnSpPr>
            <a:stCxn id="59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3" idx="6"/>
            <a:endCxn id="59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92" idx="7"/>
            <a:endCxn id="59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9" name=""/>
          <p:cNvCxnSpPr>
            <a:stCxn id="592" idx="5"/>
            <a:endCxn id="59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0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4" name=""/>
          <p:cNvCxnSpPr>
            <a:stCxn id="602" idx="5"/>
            <a:endCxn id="60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5" name=""/>
          <p:cNvCxnSpPr>
            <a:stCxn id="603" idx="6"/>
            <a:endCxn id="60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6" name=""/>
          <p:cNvCxnSpPr>
            <a:stCxn id="602" idx="4"/>
            <a:endCxn id="60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7" name=""/>
          <p:cNvCxnSpPr>
            <a:stCxn id="602" idx="6"/>
            <a:endCxn id="60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8" name=""/>
          <p:cNvCxnSpPr>
            <a:stCxn id="591" idx="6"/>
            <a:endCxn id="60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0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3" name=""/>
          <p:cNvCxnSpPr>
            <a:endCxn id="59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61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0" name=""/>
          <p:cNvCxnSpPr>
            <a:stCxn id="105" idx="4"/>
            <a:endCxn id="108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7" idx="0"/>
            <a:endCxn id="106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9" idx="6"/>
            <a:endCxn id="107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8" idx="7"/>
            <a:endCxn id="109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5" idx="6"/>
            <a:endCxn id="106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108" idx="5"/>
            <a:endCxn id="107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0" name=""/>
          <p:cNvCxnSpPr>
            <a:stCxn id="118" idx="5"/>
            <a:endCxn id="11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19" idx="6"/>
            <a:endCxn id="11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8" idx="4"/>
            <a:endCxn id="119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18" idx="6"/>
            <a:endCxn id="11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107" idx="6"/>
            <a:endCxn id="119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queue source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4" name=""/>
          <p:cNvCxnSpPr>
            <a:endCxn id="62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5" name=""/>
          <p:cNvCxnSpPr>
            <a:stCxn id="62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6" name=""/>
          <p:cNvCxnSpPr>
            <a:stCxn id="623" idx="6"/>
            <a:endCxn id="62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7" name=""/>
          <p:cNvCxnSpPr>
            <a:stCxn id="622" idx="7"/>
            <a:endCxn id="62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9" name=""/>
          <p:cNvCxnSpPr>
            <a:stCxn id="622" idx="5"/>
            <a:endCxn id="62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3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4" name=""/>
          <p:cNvCxnSpPr>
            <a:stCxn id="632" idx="5"/>
            <a:endCxn id="63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35" name=""/>
          <p:cNvCxnSpPr>
            <a:stCxn id="633" idx="6"/>
            <a:endCxn id="63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36" name=""/>
          <p:cNvCxnSpPr>
            <a:stCxn id="632" idx="4"/>
            <a:endCxn id="63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37" name=""/>
          <p:cNvCxnSpPr>
            <a:stCxn id="632" idx="6"/>
            <a:endCxn id="63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38" name=""/>
          <p:cNvCxnSpPr>
            <a:stCxn id="621" idx="6"/>
            <a:endCxn id="63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3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already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43" name=""/>
          <p:cNvCxnSpPr>
            <a:endCxn id="62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64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4" name=""/>
          <p:cNvCxnSpPr>
            <a:endCxn id="65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5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6" name=""/>
          <p:cNvCxnSpPr>
            <a:stCxn id="653" idx="6"/>
            <a:endCxn id="65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7" name=""/>
          <p:cNvCxnSpPr>
            <a:stCxn id="652" idx="7"/>
            <a:endCxn id="65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52" idx="5"/>
            <a:endCxn id="65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6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64" name=""/>
          <p:cNvCxnSpPr>
            <a:stCxn id="662" idx="5"/>
            <a:endCxn id="66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65" name=""/>
          <p:cNvCxnSpPr>
            <a:stCxn id="663" idx="6"/>
            <a:endCxn id="66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62" idx="4"/>
            <a:endCxn id="66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67" name=""/>
          <p:cNvCxnSpPr>
            <a:stCxn id="662" idx="6"/>
            <a:endCxn id="66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68" name=""/>
          <p:cNvCxnSpPr>
            <a:stCxn id="651" idx="6"/>
            <a:endCxn id="66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6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3" name=""/>
          <p:cNvCxnSpPr>
            <a:stCxn id="653" idx="3"/>
            <a:endCxn id="652" idx="7"/>
          </p:cNvCxnSpPr>
          <p:nvPr/>
        </p:nvCxnSpPr>
        <p:spPr>
          <a:xfrm flipH="1">
            <a:off x="1747080" y="316404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674" name=""/>
          <p:cNvCxnSpPr>
            <a:endCxn id="65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5" name=""/>
          <p:cNvCxnSpPr>
            <a:endCxn id="68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6" name=""/>
          <p:cNvCxnSpPr>
            <a:stCxn id="68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7" name=""/>
          <p:cNvCxnSpPr>
            <a:stCxn id="684" idx="6"/>
            <a:endCxn id="68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83" idx="7"/>
            <a:endCxn id="68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0" name=""/>
          <p:cNvCxnSpPr>
            <a:stCxn id="683" idx="5"/>
            <a:endCxn id="68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9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95" name=""/>
          <p:cNvCxnSpPr>
            <a:stCxn id="693" idx="5"/>
            <a:endCxn id="69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6" name=""/>
          <p:cNvCxnSpPr>
            <a:stCxn id="694" idx="6"/>
            <a:endCxn id="69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7" name=""/>
          <p:cNvCxnSpPr>
            <a:stCxn id="693" idx="4"/>
            <a:endCxn id="69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93" idx="6"/>
            <a:endCxn id="69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9" name=""/>
          <p:cNvCxnSpPr>
            <a:stCxn id="682" idx="6"/>
            <a:endCxn id="69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0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discovered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04" name=""/>
          <p:cNvCxnSpPr>
            <a:endCxn id="68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05" name=""/>
          <p:cNvCxnSpPr>
            <a:stCxn id="684" idx="3"/>
            <a:endCxn id="683" idx="7"/>
          </p:cNvCxnSpPr>
          <p:nvPr/>
        </p:nvCxnSpPr>
        <p:spPr>
          <a:xfrm flipH="1">
            <a:off x="1747080" y="316404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1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17" name=""/>
          <p:cNvCxnSpPr>
            <a:endCxn id="715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8" name=""/>
          <p:cNvCxnSpPr>
            <a:stCxn id="714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9" name=""/>
          <p:cNvCxnSpPr>
            <a:stCxn id="716" idx="6"/>
            <a:endCxn id="714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0" name=""/>
          <p:cNvCxnSpPr>
            <a:stCxn id="715" idx="7"/>
            <a:endCxn id="716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2" name=""/>
          <p:cNvCxnSpPr>
            <a:stCxn id="715" idx="5"/>
            <a:endCxn id="714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23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27" name=""/>
          <p:cNvCxnSpPr>
            <a:stCxn id="725" idx="5"/>
            <a:endCxn id="723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8" name=""/>
          <p:cNvCxnSpPr>
            <a:stCxn id="726" idx="6"/>
            <a:endCxn id="723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9" name=""/>
          <p:cNvCxnSpPr>
            <a:stCxn id="725" idx="4"/>
            <a:endCxn id="726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30" name=""/>
          <p:cNvCxnSpPr>
            <a:stCxn id="725" idx="6"/>
            <a:endCxn id="724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31" name=""/>
          <p:cNvCxnSpPr>
            <a:stCxn id="714" idx="6"/>
            <a:endCxn id="726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32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36" name=""/>
          <p:cNvCxnSpPr>
            <a:stCxn id="714" idx="3"/>
            <a:endCxn id="715" idx="5"/>
          </p:cNvCxnSpPr>
          <p:nvPr/>
        </p:nvCxnSpPr>
        <p:spPr>
          <a:xfrm flipH="1">
            <a:off x="1747080" y="3164040"/>
            <a:ext cx="2613960" cy="11178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37" name=""/>
          <p:cNvCxnSpPr>
            <a:endCxn id="715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38" name=""/>
          <p:cNvCxnSpPr>
            <a:stCxn id="716" idx="3"/>
            <a:endCxn id="715" idx="7"/>
          </p:cNvCxnSpPr>
          <p:nvPr/>
        </p:nvCxnSpPr>
        <p:spPr>
          <a:xfrm flipH="1">
            <a:off x="1747080" y="316404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4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50" name=""/>
          <p:cNvCxnSpPr>
            <a:endCxn id="748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1" name=""/>
          <p:cNvCxnSpPr>
            <a:stCxn id="747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2" name=""/>
          <p:cNvCxnSpPr>
            <a:stCxn id="749" idx="6"/>
            <a:endCxn id="747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3" name=""/>
          <p:cNvCxnSpPr>
            <a:stCxn id="748" idx="7"/>
            <a:endCxn id="749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5" name=""/>
          <p:cNvCxnSpPr>
            <a:stCxn id="748" idx="5"/>
            <a:endCxn id="747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5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60" name=""/>
          <p:cNvCxnSpPr>
            <a:stCxn id="758" idx="5"/>
            <a:endCxn id="75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1" name=""/>
          <p:cNvCxnSpPr>
            <a:stCxn id="759" idx="6"/>
            <a:endCxn id="75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2" name=""/>
          <p:cNvCxnSpPr>
            <a:stCxn id="758" idx="4"/>
            <a:endCxn id="759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3" name=""/>
          <p:cNvCxnSpPr>
            <a:stCxn id="758" idx="6"/>
            <a:endCxn id="75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4" name=""/>
          <p:cNvCxnSpPr>
            <a:stCxn id="747" idx="6"/>
            <a:endCxn id="759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 already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69" name=""/>
          <p:cNvCxnSpPr>
            <a:endCxn id="748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70" name=""/>
          <p:cNvCxnSpPr>
            <a:stCxn id="749" idx="3"/>
            <a:endCxn id="748" idx="7"/>
          </p:cNvCxnSpPr>
          <p:nvPr/>
        </p:nvCxnSpPr>
        <p:spPr>
          <a:xfrm flipH="1">
            <a:off x="1747080" y="316404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71" name=""/>
          <p:cNvCxnSpPr>
            <a:stCxn id="747" idx="3"/>
            <a:endCxn id="748" idx="5"/>
          </p:cNvCxnSpPr>
          <p:nvPr/>
        </p:nvCxnSpPr>
        <p:spPr>
          <a:xfrm flipH="1">
            <a:off x="1747080" y="3164040"/>
            <a:ext cx="2613960" cy="11178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772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7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83" name=""/>
          <p:cNvCxnSpPr>
            <a:endCxn id="781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4" name=""/>
          <p:cNvCxnSpPr>
            <a:stCxn id="780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5" name=""/>
          <p:cNvCxnSpPr>
            <a:stCxn id="782" idx="6"/>
            <a:endCxn id="780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6" name=""/>
          <p:cNvCxnSpPr>
            <a:stCxn id="781" idx="7"/>
            <a:endCxn id="782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7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8" name=""/>
          <p:cNvCxnSpPr>
            <a:stCxn id="781" idx="5"/>
            <a:endCxn id="780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89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93" name=""/>
          <p:cNvCxnSpPr>
            <a:stCxn id="791" idx="5"/>
            <a:endCxn id="789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4" name=""/>
          <p:cNvCxnSpPr>
            <a:stCxn id="792" idx="6"/>
            <a:endCxn id="789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91" idx="4"/>
            <a:endCxn id="792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6" name=""/>
          <p:cNvCxnSpPr>
            <a:stCxn id="791" idx="6"/>
            <a:endCxn id="790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80" idx="6"/>
            <a:endCxn id="792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0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12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3" name=""/>
          <p:cNvCxnSpPr>
            <a:stCxn id="810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4" name=""/>
          <p:cNvCxnSpPr>
            <a:stCxn id="811" idx="6"/>
            <a:endCxn id="810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5" name=""/>
          <p:cNvCxnSpPr>
            <a:endCxn id="811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6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7" name=""/>
          <p:cNvCxnSpPr>
            <a:endCxn id="810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18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22" name=""/>
          <p:cNvCxnSpPr>
            <a:stCxn id="820" idx="5"/>
            <a:endCxn id="818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821" idx="6"/>
            <a:endCxn id="818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4" name=""/>
          <p:cNvCxnSpPr>
            <a:stCxn id="820" idx="4"/>
            <a:endCxn id="821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5" name=""/>
          <p:cNvCxnSpPr>
            <a:stCxn id="820" idx="6"/>
            <a:endCxn id="819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6" name=""/>
          <p:cNvCxnSpPr>
            <a:stCxn id="810" idx="6"/>
            <a:endCxn id="821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2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3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42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3" name=""/>
          <p:cNvCxnSpPr>
            <a:stCxn id="840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4" name=""/>
          <p:cNvCxnSpPr>
            <a:stCxn id="841" idx="6"/>
            <a:endCxn id="840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5" name=""/>
          <p:cNvCxnSpPr>
            <a:endCxn id="841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6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endCxn id="840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48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52" name=""/>
          <p:cNvCxnSpPr>
            <a:stCxn id="850" idx="5"/>
            <a:endCxn id="848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3" name=""/>
          <p:cNvCxnSpPr>
            <a:stCxn id="851" idx="6"/>
            <a:endCxn id="848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4" name=""/>
          <p:cNvCxnSpPr>
            <a:stCxn id="850" idx="4"/>
            <a:endCxn id="851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5" name=""/>
          <p:cNvCxnSpPr>
            <a:stCxn id="850" idx="6"/>
            <a:endCxn id="849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6" name=""/>
          <p:cNvCxnSpPr>
            <a:stCxn id="840" idx="6"/>
            <a:endCxn id="851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5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61" name=""/>
          <p:cNvCxnSpPr>
            <a:stCxn id="840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62" name=""/>
          <p:cNvCxnSpPr>
            <a:stCxn id="840" idx="2"/>
            <a:endCxn id="841" idx="6"/>
          </p:cNvCxnSpPr>
          <p:nvPr/>
        </p:nvCxnSpPr>
        <p:spPr>
          <a:xfrm flipH="1">
            <a:off x="3077280" y="3058920"/>
            <a:ext cx="123588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63" name=""/>
          <p:cNvCxnSpPr>
            <a:stCxn id="840" idx="3"/>
          </p:cNvCxnSpPr>
          <p:nvPr/>
        </p:nvCxnSpPr>
        <p:spPr>
          <a:xfrm flipH="1">
            <a:off x="1747080" y="3164040"/>
            <a:ext cx="2613960" cy="11178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64" name=""/>
          <p:cNvCxnSpPr>
            <a:stCxn id="840" idx="6"/>
            <a:endCxn id="851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86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7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76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7" name=""/>
          <p:cNvCxnSpPr>
            <a:stCxn id="874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8" name=""/>
          <p:cNvCxnSpPr>
            <a:stCxn id="875" idx="6"/>
            <a:endCxn id="874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9" name=""/>
          <p:cNvCxnSpPr>
            <a:endCxn id="87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1" name=""/>
          <p:cNvCxnSpPr>
            <a:endCxn id="874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8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86" name=""/>
          <p:cNvCxnSpPr>
            <a:stCxn id="884" idx="5"/>
            <a:endCxn id="88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7" name=""/>
          <p:cNvCxnSpPr>
            <a:stCxn id="885" idx="6"/>
            <a:endCxn id="88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8" name=""/>
          <p:cNvCxnSpPr>
            <a:stCxn id="884" idx="4"/>
            <a:endCxn id="88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9" name=""/>
          <p:cNvCxnSpPr>
            <a:stCxn id="884" idx="6"/>
            <a:endCxn id="88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90" name=""/>
          <p:cNvCxnSpPr>
            <a:stCxn id="874" idx="6"/>
            <a:endCxn id="88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9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95" name=""/>
          <p:cNvCxnSpPr>
            <a:stCxn id="874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96" name=""/>
          <p:cNvCxnSpPr>
            <a:stCxn id="874" idx="2"/>
            <a:endCxn id="875" idx="6"/>
          </p:cNvCxnSpPr>
          <p:nvPr/>
        </p:nvCxnSpPr>
        <p:spPr>
          <a:xfrm flipH="1">
            <a:off x="3077280" y="3058920"/>
            <a:ext cx="123588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97" name=""/>
          <p:cNvCxnSpPr>
            <a:stCxn id="874" idx="3"/>
          </p:cNvCxnSpPr>
          <p:nvPr/>
        </p:nvCxnSpPr>
        <p:spPr>
          <a:xfrm flipH="1">
            <a:off x="1747080" y="3164040"/>
            <a:ext cx="2613960" cy="11178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98" name=""/>
          <p:cNvCxnSpPr>
            <a:stCxn id="874" idx="6"/>
            <a:endCxn id="88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899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0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11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2" name=""/>
          <p:cNvCxnSpPr>
            <a:stCxn id="909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3" name=""/>
          <p:cNvCxnSpPr>
            <a:stCxn id="910" idx="6"/>
            <a:endCxn id="909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4" name=""/>
          <p:cNvCxnSpPr>
            <a:endCxn id="910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5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6" name=""/>
          <p:cNvCxnSpPr>
            <a:endCxn id="909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1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21" name=""/>
          <p:cNvCxnSpPr>
            <a:stCxn id="919" idx="5"/>
            <a:endCxn id="91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2" name=""/>
          <p:cNvCxnSpPr>
            <a:stCxn id="920" idx="6"/>
            <a:endCxn id="91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3" name=""/>
          <p:cNvCxnSpPr>
            <a:stCxn id="919" idx="4"/>
            <a:endCxn id="920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4" name=""/>
          <p:cNvCxnSpPr>
            <a:stCxn id="919" idx="6"/>
            <a:endCxn id="918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5" name=""/>
          <p:cNvCxnSpPr>
            <a:stCxn id="909" idx="6"/>
            <a:endCxn id="920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26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6" name=""/>
          <p:cNvCxnSpPr>
            <a:stCxn id="131" idx="4"/>
            <a:endCxn id="134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3" idx="0"/>
            <a:endCxn id="132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5" idx="6"/>
            <a:endCxn id="133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4" idx="7"/>
            <a:endCxn id="13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1" idx="6"/>
            <a:endCxn id="132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4" idx="5"/>
            <a:endCxn id="133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6" name=""/>
          <p:cNvCxnSpPr>
            <a:stCxn id="144" idx="5"/>
            <a:endCxn id="14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45" idx="6"/>
            <a:endCxn id="14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44" idx="4"/>
            <a:endCxn id="14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4" idx="6"/>
            <a:endCxn id="14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33" idx="6"/>
            <a:endCxn id="14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3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41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2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3" name=""/>
          <p:cNvCxnSpPr>
            <a:stCxn id="940" idx="6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4" name=""/>
          <p:cNvCxnSpPr>
            <a:endCxn id="940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5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6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51" name=""/>
          <p:cNvCxnSpPr>
            <a:stCxn id="949" idx="5"/>
            <a:endCxn id="94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2" name=""/>
          <p:cNvCxnSpPr>
            <a:stCxn id="950" idx="6"/>
            <a:endCxn id="94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3" name=""/>
          <p:cNvCxnSpPr>
            <a:stCxn id="949" idx="4"/>
            <a:endCxn id="950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4" name=""/>
          <p:cNvCxnSpPr>
            <a:stCxn id="949" idx="6"/>
            <a:endCxn id="948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5" name=""/>
          <p:cNvCxnSpPr>
            <a:endCxn id="950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56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6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72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3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4" name=""/>
          <p:cNvCxnSpPr>
            <a:stCxn id="971" idx="6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5" name=""/>
          <p:cNvCxnSpPr>
            <a:endCxn id="971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6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7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78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82" name=""/>
          <p:cNvCxnSpPr>
            <a:stCxn id="980" idx="5"/>
            <a:endCxn id="978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3" name=""/>
          <p:cNvCxnSpPr>
            <a:stCxn id="981" idx="6"/>
            <a:endCxn id="978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4" name=""/>
          <p:cNvCxnSpPr>
            <a:stCxn id="980" idx="4"/>
            <a:endCxn id="981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5" name=""/>
          <p:cNvCxnSpPr>
            <a:stCxn id="980" idx="6"/>
            <a:endCxn id="979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6" name=""/>
          <p:cNvCxnSpPr>
            <a:endCxn id="981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8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91" name=""/>
          <p:cNvCxnSpPr>
            <a:endCxn id="971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992" name=""/>
          <p:cNvCxnSpPr>
            <a:endCxn id="971" idx="6"/>
          </p:cNvCxnSpPr>
          <p:nvPr/>
        </p:nvCxnSpPr>
        <p:spPr>
          <a:xfrm flipH="1">
            <a:off x="3077280" y="3058920"/>
            <a:ext cx="123588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993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0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04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5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6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7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9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1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14" name=""/>
          <p:cNvCxnSpPr>
            <a:stCxn id="1012" idx="5"/>
            <a:endCxn id="101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5" name=""/>
          <p:cNvCxnSpPr>
            <a:stCxn id="1013" idx="6"/>
            <a:endCxn id="101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6" name=""/>
          <p:cNvCxnSpPr>
            <a:stCxn id="1012" idx="4"/>
            <a:endCxn id="101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1012" idx="6"/>
            <a:endCxn id="101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8" name=""/>
          <p:cNvCxnSpPr>
            <a:endCxn id="101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1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33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35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6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7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8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0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45" name=""/>
          <p:cNvCxnSpPr>
            <a:stCxn id="1043" idx="5"/>
            <a:endCxn id="104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6" name=""/>
          <p:cNvCxnSpPr>
            <a:stCxn id="1044" idx="6"/>
            <a:endCxn id="104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7" name=""/>
          <p:cNvCxnSpPr>
            <a:stCxn id="1043" idx="4"/>
            <a:endCxn id="104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8" name=""/>
          <p:cNvCxnSpPr>
            <a:stCxn id="1043" idx="6"/>
            <a:endCxn id="104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9" name=""/>
          <p:cNvCxnSpPr>
            <a:endCxn id="104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5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64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66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67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68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69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1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7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76" name=""/>
          <p:cNvCxnSpPr>
            <a:stCxn id="1074" idx="5"/>
            <a:endCxn id="107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7" name=""/>
          <p:cNvCxnSpPr>
            <a:stCxn id="1075" idx="6"/>
            <a:endCxn id="107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8" name=""/>
          <p:cNvCxnSpPr>
            <a:stCxn id="1074" idx="4"/>
            <a:endCxn id="107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9" name=""/>
          <p:cNvCxnSpPr>
            <a:stCxn id="1074" idx="6"/>
            <a:endCxn id="107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80" name=""/>
          <p:cNvCxnSpPr>
            <a:endCxn id="107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8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88" name=""/>
          <p:cNvCxnSpPr>
            <a:stCxn id="1075" idx="2"/>
          </p:cNvCxnSpPr>
          <p:nvPr/>
        </p:nvCxnSpPr>
        <p:spPr>
          <a:xfrm flipH="1"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089" name=""/>
          <p:cNvCxnSpPr>
            <a:stCxn id="1075" idx="0"/>
            <a:endCxn id="1074" idx="4"/>
          </p:cNvCxnSpPr>
          <p:nvPr/>
        </p:nvCxnSpPr>
        <p:spPr>
          <a:xfrm flipV="1">
            <a:off x="6154200" y="179172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09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9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99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0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1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2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3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4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05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09" name=""/>
          <p:cNvCxnSpPr>
            <a:stCxn id="1107" idx="5"/>
            <a:endCxn id="1105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0" name=""/>
          <p:cNvCxnSpPr>
            <a:stCxn id="1108" idx="6"/>
            <a:endCxn id="1105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1" name=""/>
          <p:cNvCxnSpPr>
            <a:stCxn id="1107" idx="4"/>
            <a:endCxn id="1108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2" name=""/>
          <p:cNvCxnSpPr>
            <a:stCxn id="1107" idx="6"/>
            <a:endCxn id="1106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3" name=""/>
          <p:cNvCxnSpPr>
            <a:endCxn id="1108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14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21" name=""/>
          <p:cNvCxnSpPr>
            <a:stCxn id="1108" idx="2"/>
          </p:cNvCxnSpPr>
          <p:nvPr/>
        </p:nvCxnSpPr>
        <p:spPr>
          <a:xfrm flipH="1"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122" name=""/>
          <p:cNvCxnSpPr>
            <a:stCxn id="1108" idx="0"/>
            <a:endCxn id="1107" idx="4"/>
          </p:cNvCxnSpPr>
          <p:nvPr/>
        </p:nvCxnSpPr>
        <p:spPr>
          <a:xfrm flipV="1">
            <a:off x="6154200" y="179172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23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13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33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4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5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6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7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8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39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43" name=""/>
          <p:cNvCxnSpPr>
            <a:stCxn id="1141" idx="5"/>
            <a:endCxn id="1139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4" name=""/>
          <p:cNvCxnSpPr>
            <a:stCxn id="1142" idx="6"/>
            <a:endCxn id="1139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5" name=""/>
          <p:cNvCxnSpPr>
            <a:stCxn id="1141" idx="4"/>
            <a:endCxn id="1142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6" name=""/>
          <p:cNvCxnSpPr>
            <a:stCxn id="1141" idx="6"/>
            <a:endCxn id="1140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7" name=""/>
          <p:cNvCxnSpPr>
            <a:endCxn id="1142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48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55" name=""/>
          <p:cNvCxnSpPr>
            <a:stCxn id="1142" idx="2"/>
          </p:cNvCxnSpPr>
          <p:nvPr/>
        </p:nvCxnSpPr>
        <p:spPr>
          <a:xfrm flipH="1"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156" name=""/>
          <p:cNvCxnSpPr>
            <a:stCxn id="1142" idx="0"/>
            <a:endCxn id="1141" idx="4"/>
          </p:cNvCxnSpPr>
          <p:nvPr/>
        </p:nvCxnSpPr>
        <p:spPr>
          <a:xfrm flipV="1">
            <a:off x="6154200" y="179172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57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58" name=""/>
          <p:cNvCxnSpPr>
            <a:stCxn id="1142" idx="6"/>
            <a:endCxn id="1139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59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166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68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69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0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1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2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3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74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78" name=""/>
          <p:cNvCxnSpPr>
            <a:stCxn id="1176" idx="5"/>
            <a:endCxn id="1174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9" name=""/>
          <p:cNvCxnSpPr>
            <a:stCxn id="1177" idx="6"/>
            <a:endCxn id="1174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80" name=""/>
          <p:cNvCxnSpPr>
            <a:stCxn id="1176" idx="4"/>
            <a:endCxn id="1177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81" name=""/>
          <p:cNvCxnSpPr>
            <a:stCxn id="1176" idx="6"/>
            <a:endCxn id="1175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82" name=""/>
          <p:cNvCxnSpPr>
            <a:endCxn id="1177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8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90" name=""/>
          <p:cNvCxnSpPr>
            <a:stCxn id="1177" idx="2"/>
          </p:cNvCxnSpPr>
          <p:nvPr/>
        </p:nvCxnSpPr>
        <p:spPr>
          <a:xfrm flipH="1"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191" name=""/>
          <p:cNvCxnSpPr>
            <a:stCxn id="1177" idx="0"/>
            <a:endCxn id="1176" idx="4"/>
          </p:cNvCxnSpPr>
          <p:nvPr/>
        </p:nvCxnSpPr>
        <p:spPr>
          <a:xfrm flipV="1">
            <a:off x="6154200" y="179172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92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93" name=""/>
          <p:cNvCxnSpPr>
            <a:stCxn id="1177" idx="6"/>
            <a:endCxn id="1174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94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0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04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5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6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7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9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1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14" name=""/>
          <p:cNvCxnSpPr>
            <a:stCxn id="1212" idx="5"/>
            <a:endCxn id="121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5" name=""/>
          <p:cNvCxnSpPr>
            <a:stCxn id="1213" idx="6"/>
            <a:endCxn id="121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6" name=""/>
          <p:cNvCxnSpPr>
            <a:stCxn id="1212" idx="4"/>
            <a:endCxn id="121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7" name=""/>
          <p:cNvCxnSpPr>
            <a:stCxn id="1212" idx="6"/>
            <a:endCxn id="121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8" name=""/>
          <p:cNvCxnSpPr>
            <a:endCxn id="121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1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3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37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38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39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0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2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43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46" name=""/>
          <p:cNvCxnSpPr>
            <a:stCxn id="1245" idx="5"/>
            <a:endCxn id="1243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7" name=""/>
          <p:cNvCxnSpPr>
            <a:endCxn id="1243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245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9" name=""/>
          <p:cNvCxnSpPr>
            <a:stCxn id="1245" idx="6"/>
            <a:endCxn id="1244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0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5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5" name=""/>
          <p:cNvCxnSpPr>
            <a:stCxn id="160" idx="4"/>
            <a:endCxn id="16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162" idx="0"/>
            <a:endCxn id="161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64" idx="6"/>
            <a:endCxn id="16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63" idx="7"/>
            <a:endCxn id="16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60" idx="6"/>
            <a:endCxn id="161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3" idx="5"/>
            <a:endCxn id="16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5" name=""/>
          <p:cNvCxnSpPr>
            <a:stCxn id="173" idx="5"/>
            <a:endCxn id="17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74" idx="6"/>
            <a:endCxn id="17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73" idx="4"/>
            <a:endCxn id="17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8" name=""/>
          <p:cNvCxnSpPr>
            <a:stCxn id="173" idx="6"/>
            <a:endCxn id="17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62" idx="6"/>
            <a:endCxn id="17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6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70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1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2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3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5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7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79" name=""/>
          <p:cNvCxnSpPr>
            <a:stCxn id="1278" idx="5"/>
            <a:endCxn id="127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80" name=""/>
          <p:cNvCxnSpPr>
            <a:endCxn id="127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81" name=""/>
          <p:cNvCxnSpPr>
            <a:stCxn id="1278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82" name=""/>
          <p:cNvCxnSpPr>
            <a:stCxn id="1278" idx="6"/>
            <a:endCxn id="127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83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84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93" name=""/>
          <p:cNvCxnSpPr>
            <a:stCxn id="1278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294" name=""/>
          <p:cNvCxnSpPr>
            <a:stCxn id="1278" idx="5"/>
            <a:endCxn id="127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295" name=""/>
          <p:cNvCxnSpPr>
            <a:stCxn id="1278" idx="6"/>
            <a:endCxn id="127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29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04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 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06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07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08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09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1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1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15" name=""/>
          <p:cNvCxnSpPr>
            <a:stCxn id="1314" idx="5"/>
            <a:endCxn id="131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6" name=""/>
          <p:cNvCxnSpPr>
            <a:endCxn id="131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7" name=""/>
          <p:cNvCxnSpPr>
            <a:stCxn id="1314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8" name=""/>
          <p:cNvCxnSpPr>
            <a:stCxn id="1314" idx="6"/>
            <a:endCxn id="131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9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2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29" name=""/>
          <p:cNvCxnSpPr>
            <a:stCxn id="1314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330" name=""/>
          <p:cNvCxnSpPr>
            <a:stCxn id="1314" idx="5"/>
            <a:endCxn id="131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331" name=""/>
          <p:cNvCxnSpPr>
            <a:stCxn id="1314" idx="6"/>
            <a:endCxn id="131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332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4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 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43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4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5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6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7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8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49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52" name=""/>
          <p:cNvCxnSpPr>
            <a:stCxn id="1351" idx="5"/>
            <a:endCxn id="1349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53" name=""/>
          <p:cNvCxnSpPr>
            <a:endCxn id="1349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54" name=""/>
          <p:cNvCxnSpPr>
            <a:stCxn id="1351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55" name=""/>
          <p:cNvCxnSpPr>
            <a:stCxn id="1351" idx="6"/>
            <a:endCxn id="1350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56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5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7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 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77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8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9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0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2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83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85" name=""/>
          <p:cNvCxnSpPr>
            <a:endCxn id="1383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endCxn id="1383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7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endCxn id="1384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9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9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t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7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9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40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11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2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3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4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5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6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1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19" name=""/>
          <p:cNvCxnSpPr>
            <a:endCxn id="141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0" name=""/>
          <p:cNvCxnSpPr>
            <a:endCxn id="141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1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2" name=""/>
          <p:cNvCxnSpPr>
            <a:endCxn id="1418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3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24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34" name=""/>
          <p:cNvCxnSpPr>
            <a:endCxn id="141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435" name=""/>
          <p:cNvCxnSpPr>
            <a:endCxn id="141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43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44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47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48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49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0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2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5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54" name=""/>
          <p:cNvCxnSpPr>
            <a:stCxn id="1455" idx="5"/>
          </p:cNvCxnSpPr>
          <p:nvPr/>
        </p:nvCxnSpPr>
        <p:spPr>
          <a:xfrm>
            <a:off x="6253200" y="1752480"/>
            <a:ext cx="1489680" cy="1215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6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7" name=""/>
          <p:cNvCxnSpPr>
            <a:stCxn id="1455" idx="4"/>
          </p:cNvCxnSpPr>
          <p:nvPr/>
        </p:nvCxnSpPr>
        <p:spPr>
          <a:xfrm>
            <a:off x="6156000" y="1792080"/>
            <a:ext cx="1080" cy="1135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8" name=""/>
          <p:cNvCxnSpPr>
            <a:stCxn id="1455" idx="6"/>
            <a:endCxn id="145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9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6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nished 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47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81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2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3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4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5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6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8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88" name=""/>
          <p:cNvCxnSpPr/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9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0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1" name=""/>
          <p:cNvCxnSpPr>
            <a:endCxn id="148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2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9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7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13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15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6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7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8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0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2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22" name=""/>
          <p:cNvCxnSpPr/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3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4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5" name=""/>
          <p:cNvCxnSpPr>
            <a:endCxn id="152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6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2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37" name=""/>
          <p:cNvCxnSpPr>
            <a:endCxn id="152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53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4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50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1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2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3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5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6" name=""/>
          <p:cNvCxnSpPr/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7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8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9" name=""/>
          <p:cNvCxnSpPr/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60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6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9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8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84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5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6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7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9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0" name=""/>
          <p:cNvCxnSpPr/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1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2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3" name=""/>
          <p:cNvCxnSpPr/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4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95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1" name=""/>
          <p:cNvCxnSpPr>
            <a:stCxn id="186" idx="4"/>
            <a:endCxn id="189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2" name=""/>
          <p:cNvCxnSpPr>
            <a:stCxn id="188" idx="0"/>
            <a:endCxn id="187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stCxn id="190" idx="6"/>
            <a:endCxn id="188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4" name=""/>
          <p:cNvCxnSpPr>
            <a:stCxn id="189" idx="7"/>
            <a:endCxn id="190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86" idx="6"/>
            <a:endCxn id="187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6" name=""/>
          <p:cNvCxnSpPr>
            <a:stCxn id="189" idx="5"/>
            <a:endCxn id="188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1" name=""/>
          <p:cNvCxnSpPr>
            <a:stCxn id="199" idx="5"/>
            <a:endCxn id="19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200" idx="6"/>
            <a:endCxn id="19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99" idx="4"/>
            <a:endCxn id="200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99" idx="6"/>
            <a:endCxn id="198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88" idx="6"/>
            <a:endCxn id="200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86" idx="6"/>
            <a:endCxn id="187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16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20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1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2" name=""/>
          <p:cNvCxnSpPr>
            <a:stCxn id="1619" idx="6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3" name=""/>
          <p:cNvCxnSpPr>
            <a:endCxn id="1619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5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2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28" name=""/>
          <p:cNvCxnSpPr>
            <a:endCxn id="162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9" name=""/>
          <p:cNvCxnSpPr>
            <a:endCxn id="162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30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31" name=""/>
          <p:cNvCxnSpPr>
            <a:endCxn id="162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32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3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5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8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9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2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8" name=""/>
          <p:cNvCxnSpPr>
            <a:stCxn id="213" idx="4"/>
            <a:endCxn id="216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5" idx="0"/>
            <a:endCxn id="214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17" idx="6"/>
            <a:endCxn id="215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16" idx="7"/>
            <a:endCxn id="217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3" idx="6"/>
            <a:endCxn id="214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3" name=""/>
          <p:cNvCxnSpPr>
            <a:stCxn id="216" idx="5"/>
            <a:endCxn id="215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24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8" name=""/>
          <p:cNvCxnSpPr>
            <a:stCxn id="226" idx="5"/>
            <a:endCxn id="224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227" idx="6"/>
            <a:endCxn id="224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6" idx="4"/>
            <a:endCxn id="227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226" idx="6"/>
            <a:endCxn id="225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215" idx="6"/>
            <a:endCxn id="227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5" name=""/>
          <p:cNvCxnSpPr>
            <a:stCxn id="213" idx="6"/>
            <a:endCxn id="214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5" name=""/>
          <p:cNvCxnSpPr>
            <a:stCxn id="241" idx="4"/>
            <a:endCxn id="24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4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7" name=""/>
          <p:cNvCxnSpPr>
            <a:stCxn id="244" idx="6"/>
            <a:endCxn id="24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43" idx="7"/>
            <a:endCxn id="24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41" idx="6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3" idx="5"/>
            <a:endCxn id="24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5" name=""/>
          <p:cNvCxnSpPr>
            <a:stCxn id="253" idx="5"/>
            <a:endCxn id="25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6" name=""/>
          <p:cNvCxnSpPr>
            <a:stCxn id="254" idx="6"/>
            <a:endCxn id="25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7" name=""/>
          <p:cNvCxnSpPr>
            <a:stCxn id="253" idx="4"/>
            <a:endCxn id="25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stCxn id="253" idx="6"/>
            <a:endCxn id="25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42" idx="6"/>
            <a:endCxn id="25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60" name=""/>
          <p:cNvCxnSpPr>
            <a:stCxn id="241" idx="4"/>
            <a:endCxn id="24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4" name=""/>
          <p:cNvCxnSpPr>
            <a:stCxn id="241" idx="6"/>
            <a:endCxn id="262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6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 discovered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4" name=""/>
          <p:cNvCxnSpPr>
            <a:stCxn id="270" idx="4"/>
            <a:endCxn id="27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6" name=""/>
          <p:cNvCxnSpPr>
            <a:stCxn id="273" idx="6"/>
            <a:endCxn id="27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2" idx="7"/>
            <a:endCxn id="27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0" idx="6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72" idx="5"/>
            <a:endCxn id="27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4" name=""/>
          <p:cNvCxnSpPr>
            <a:stCxn id="282" idx="5"/>
            <a:endCxn id="28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5" name=""/>
          <p:cNvCxnSpPr>
            <a:stCxn id="283" idx="6"/>
            <a:endCxn id="28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6" name=""/>
          <p:cNvCxnSpPr>
            <a:stCxn id="282" idx="4"/>
            <a:endCxn id="28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7" name=""/>
          <p:cNvCxnSpPr>
            <a:stCxn id="282" idx="6"/>
            <a:endCxn id="28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8" name=""/>
          <p:cNvCxnSpPr>
            <a:stCxn id="271" idx="6"/>
            <a:endCxn id="28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8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93" name=""/>
          <p:cNvCxnSpPr>
            <a:stCxn id="270" idx="6"/>
            <a:endCxn id="290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294" name=""/>
          <p:cNvCxnSpPr>
            <a:stCxn id="270" idx="4"/>
            <a:endCxn id="27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9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nished with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4" name=""/>
          <p:cNvCxnSpPr>
            <a:stCxn id="300" idx="4"/>
            <a:endCxn id="30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30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303" idx="6"/>
            <a:endCxn id="30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302" idx="7"/>
            <a:endCxn id="30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300" idx="6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9" name=""/>
          <p:cNvCxnSpPr>
            <a:stCxn id="302" idx="5"/>
            <a:endCxn id="30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1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4" name=""/>
          <p:cNvCxnSpPr>
            <a:stCxn id="312" idx="5"/>
            <a:endCxn id="31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13" idx="6"/>
            <a:endCxn id="31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16" name=""/>
          <p:cNvCxnSpPr>
            <a:stCxn id="312" idx="4"/>
            <a:endCxn id="31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17" name=""/>
          <p:cNvCxnSpPr>
            <a:stCxn id="312" idx="6"/>
            <a:endCxn id="31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01" idx="6"/>
            <a:endCxn id="31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1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5:33:47Z</dcterms:created>
  <dc:creator>Kevin Wayne</dc:creator>
  <dc:description/>
  <dc:language>en-US</dc:language>
  <cp:lastModifiedBy>Kevin Wayne</cp:lastModifiedBy>
  <dcterms:modified xsi:type="dcterms:W3CDTF">2005-11-21T15:43:35Z</dcterms:modified>
  <cp:revision>3</cp:revision>
  <dc:subject/>
  <dc:title>Breadth First Search</dc:title>
</cp:coreProperties>
</file>