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4A0-6C5B-4FF3-8E05-5D617A98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DF9-F8DE-4C83-86B3-6B8598E0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560-F25C-497A-BB96-DB2E6A9A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E2F-31EF-4CBF-86F8-C10D4F2C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C0D-89D5-4D1B-B242-E39F2173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8CD-1F39-48D2-95EA-4E53A8E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9AE-39B5-48DF-AC06-0A0BD4A5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1E5-8105-4AAD-8A32-3FC1FAC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BF7-DD57-4534-A35B-EC92DAF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7B9-92B4-47F0-9595-9DADE34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E86-2C13-4EA9-8418-952E0DC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788-4627-4158-888F-0C18F69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210-D113-4D20-AF0C-1DB5B5298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F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when we generate code, we only know 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tatic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bject, not the actual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dpw</cp:lastModifiedBy>
  <dcterms:modified xsi:type="dcterms:W3CDTF">2006-04-27T19:02:10Z</dcterms:modified>
  <cp:revision>10</cp:revision>
  <dc:subject/>
  <dc:title>Objects and Classes</dc:title>
</cp:coreProperties>
</file>