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83E-D2C3-4AF9-9C4D-1158F9D0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0AF-C9D2-4425-BADF-D25CEA7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61E-80FB-446B-9CBE-FA2F5C0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40C-0FEE-457B-88C5-36A02D78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132-BA49-42F9-8947-9AA5AFDB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397-7E10-4A2D-A507-952DF50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7C2-D57D-4ACA-81C4-7795BBF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1AD-E702-408F-ADB3-51BA5A1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DF1-9E1E-493C-AAB0-6C720194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05D-98C7-4BEC-A872-42AF764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C0C-9DFF-4B64-9CAC-1A8F510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6EE-9AD7-42E9-A8B2-EB51D12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4A6-C250-4C14-AF4E-83F2A499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when we generate code, we only know 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bject, not the actual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6-04-27T19:02:10Z</dcterms:modified>
  <cp:revision>10</cp:revision>
  <dc:subject/>
  <dc:title>Objects and Classes</dc:title>
</cp:coreProperties>
</file>