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4A44-5257-450D-A6A5-3BD5F96C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960-2B46-4187-BD3D-ED2DBB6D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48A4-2D2E-4709-8E1D-CB70D73C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BB8C-8B60-4F7B-A161-2E52E134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42F6-64BB-47A6-8F5E-92C45F48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D90-62FC-4AE2-BFCB-2E1A5399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E4A2-7B28-4675-B869-A97EB59F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818-69B1-4899-A966-9284D7BD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9E9-1BA4-4B9C-A7CF-630D13AD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11DA-471B-46B5-B687-66CE9CC9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36D-8DCB-4893-9FCE-F937B3CF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606-0E0C-43E4-BC14-766454BD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6BDE-4838-40A2-BE25-513589560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s and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laid out somewhat lik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variable has a slot in th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implement field lookup we need to have a systematic way to find a given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 v.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y be a generic vehicle or it may be a car or a t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put “position” in the same place in the record that implements vehicles, cars and tru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extension on th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inherited fields first in the same order as in the parent (SI =&gt; only 1 par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out the newly declared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06960" y="1752480"/>
            <a:ext cx="423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B       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61722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5105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638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4038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4572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&amp; 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semantic analysis, the compiler kn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type (class) of the object calling th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methods in each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deter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sest method (up the class hierarchy) with the give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s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pass object as self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call to the know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4040" y="1584360"/>
            <a:ext cx="4168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B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bar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bar in class A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;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* calls foo in class B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called depends on object’s dynamic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semantic analysis,  may be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-time, we determine which code to jump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stores a pointer to its method table (v-table) as well as its object v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ompile-time, we generate cod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up v-table i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method from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 to method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5480" y="1584360"/>
            <a:ext cx="3873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bar (x:int)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o (x:int) =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 : A = new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b : A = new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 A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ong-and-tricky-compu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foo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ced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programming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 data types, exceptions, modules, objects, concurrency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 to use, but require special techniques to compile and opt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will be looking at how to compile objects and classes similar to those found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chapter 14.1-14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S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17280" y="1752480"/>
            <a:ext cx="568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A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B         { method g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C         { var b := 0 ; method f ()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980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161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36"/>
                  <a:pt x="160" y="272"/>
                  <a:pt x="80" y="432"/>
                </a:cubicBezTo>
                <a:cubicBezTo>
                  <a:pt x="0" y="592"/>
                  <a:pt x="40" y="776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44920" y="3886200"/>
            <a:ext cx="889200" cy="1523880"/>
          </a:xfrm>
          <a:custGeom>
            <a:avLst/>
            <a:gdLst/>
            <a:ahLst/>
            <a:rect l="l" t="t" r="r" b="b"/>
            <a:pathLst>
              <a:path w="560" h="960">
                <a:moveTo>
                  <a:pt x="560" y="0"/>
                </a:moveTo>
                <a:cubicBezTo>
                  <a:pt x="360" y="160"/>
                  <a:pt x="160" y="320"/>
                  <a:pt x="80" y="480"/>
                </a:cubicBezTo>
                <a:cubicBezTo>
                  <a:pt x="0" y="640"/>
                  <a:pt x="40" y="800"/>
                  <a:pt x="80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54100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_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7220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3809880"/>
            <a:ext cx="838080" cy="1600200"/>
          </a:xfrm>
          <a:custGeom>
            <a:avLst/>
            <a:gdLst/>
            <a:ahLst/>
            <a:rect l="l" t="t" r="r" b="b"/>
            <a:pathLst>
              <a:path w="528" h="1008">
                <a:moveTo>
                  <a:pt x="528" y="0"/>
                </a:moveTo>
                <a:cubicBezTo>
                  <a:pt x="356" y="84"/>
                  <a:pt x="184" y="168"/>
                  <a:pt x="96" y="336"/>
                </a:cubicBezTo>
                <a:cubicBezTo>
                  <a:pt x="8" y="504"/>
                  <a:pt x="4" y="756"/>
                  <a:pt x="0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48006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05920" y="53341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05920" y="5867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05720" y="4876920"/>
            <a:ext cx="1676160" cy="1257120"/>
          </a:xfrm>
          <a:custGeom>
            <a:avLst/>
            <a:gdLst/>
            <a:ahLst/>
            <a:rect l="l" t="t" r="r" b="b"/>
            <a:pathLst>
              <a:path w="1056" h="792">
                <a:moveTo>
                  <a:pt x="1056" y="144"/>
                </a:moveTo>
                <a:cubicBezTo>
                  <a:pt x="1008" y="72"/>
                  <a:pt x="960" y="0"/>
                  <a:pt x="912" y="96"/>
                </a:cubicBezTo>
                <a:cubicBezTo>
                  <a:pt x="864" y="192"/>
                  <a:pt x="920" y="648"/>
                  <a:pt x="768" y="720"/>
                </a:cubicBezTo>
                <a:cubicBezTo>
                  <a:pt x="616" y="792"/>
                  <a:pt x="308" y="660"/>
                  <a:pt x="0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Inheri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heritence is trickier to implement than single inheritence because creating objects of a subclass from their subclass by “extension on the right” does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 inherits from both A and B, we can’t put A’s variables at the front and put B’s variables at the front of the object in the same pla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do a global analysis to determine object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01560" y="3962520"/>
            <a:ext cx="370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object layout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graph color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de for each field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erence edge betw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that coexist in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(via inheritence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46483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51814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62485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51814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34320" y="5715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657600" y="54100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30600" y="4267080"/>
            <a:ext cx="546120" cy="1524240"/>
          </a:xfrm>
          <a:custGeom>
            <a:avLst/>
            <a:gdLst/>
            <a:ahLst/>
            <a:rect l="l" t="t" r="r" b="b"/>
            <a:pathLst>
              <a:path w="344" h="960">
                <a:moveTo>
                  <a:pt x="344" y="96"/>
                </a:moveTo>
                <a:cubicBezTo>
                  <a:pt x="228" y="48"/>
                  <a:pt x="112" y="0"/>
                  <a:pt x="56" y="144"/>
                </a:cubicBezTo>
                <a:cubicBezTo>
                  <a:pt x="0" y="288"/>
                  <a:pt x="4" y="624"/>
                  <a:pt x="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51320" y="587844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lass declarations to Fu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es are a collec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(variable)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decla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lass declaration gives a new name to a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ass may 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in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ug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and fields from the class it ext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“object” sits at the top of the class hierarchy; it has no fields and no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8660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866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866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866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814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14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0866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14680" y="4419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4954680"/>
            <a:ext cx="5331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14680" y="548496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60199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724280" y="3556080"/>
            <a:ext cx="533520" cy="863640"/>
          </a:xfrm>
          <a:custGeom>
            <a:avLst/>
            <a:gdLst/>
            <a:ahLst/>
            <a:rect l="l" t="t" r="r" b="b"/>
            <a:pathLst>
              <a:path w="336" h="544">
                <a:moveTo>
                  <a:pt x="336" y="160"/>
                </a:moveTo>
                <a:cubicBezTo>
                  <a:pt x="244" y="80"/>
                  <a:pt x="152" y="0"/>
                  <a:pt x="96" y="64"/>
                </a:cubicBezTo>
                <a:cubicBezTo>
                  <a:pt x="40" y="128"/>
                  <a:pt x="20" y="336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45820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45820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458200" y="5181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458200" y="6248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458200" y="5715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467480" y="3530520"/>
            <a:ext cx="1067040" cy="584280"/>
          </a:xfrm>
          <a:custGeom>
            <a:avLst/>
            <a:gdLst/>
            <a:ahLst/>
            <a:rect l="l" t="t" r="r" b="b"/>
            <a:pathLst>
              <a:path w="672" h="368">
                <a:moveTo>
                  <a:pt x="0" y="176"/>
                </a:moveTo>
                <a:cubicBezTo>
                  <a:pt x="40" y="88"/>
                  <a:pt x="80" y="0"/>
                  <a:pt x="192" y="32"/>
                </a:cubicBezTo>
                <a:cubicBezTo>
                  <a:pt x="304" y="64"/>
                  <a:pt x="488" y="216"/>
                  <a:pt x="672" y="3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0040" y="594360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5105160" y="56383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040280" y="4495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040280" y="6110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008920" y="4191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002800" y="4738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008920" y="5257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00280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02800" y="63388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Layout II (M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08040" y="1752480"/>
            <a:ext cx="423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A extends Object { var a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B extends Object { var b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 extends A         { var d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 extends A,B,C  { var e := 0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52680" y="35812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352680" y="41148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46483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76520" y="35812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676520" y="41148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65320" y="54100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38116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90800" y="540864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5320" y="3809880"/>
            <a:ext cx="1170000" cy="1600200"/>
          </a:xfrm>
          <a:custGeom>
            <a:avLst/>
            <a:gdLst/>
            <a:ahLst/>
            <a:rect l="l" t="t" r="r" b="b"/>
            <a:pathLst>
              <a:path w="736" h="1008">
                <a:moveTo>
                  <a:pt x="736" y="0"/>
                </a:moveTo>
                <a:cubicBezTo>
                  <a:pt x="432" y="156"/>
                  <a:pt x="128" y="312"/>
                  <a:pt x="64" y="480"/>
                </a:cubicBezTo>
                <a:cubicBezTo>
                  <a:pt x="0" y="648"/>
                  <a:pt x="176" y="828"/>
                  <a:pt x="352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895480" y="59436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356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22520" y="54864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16400" y="60339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99880" y="3581280"/>
            <a:ext cx="3716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etch a field using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, w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the first field of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t the class descript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M [c + fieldOffse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fieldOffset can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mputed using glob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coloring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analyses are the bane of modern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pplications use dynamically linked libraries, mobile code, get patches to fix bug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don’t have the whole program at compile-time, we can’t do global analys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(most of the tim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art custom lin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tricky when new code is linked dynamically to code that is already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, Java has single inheri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wn-casts and type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has casting mechanism “(C) x” to cast variable x to class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 time we look up x’s dynamic type and determine whether it is a subtype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type casts are currently pervasive and a source of both inefficiency an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Java and C# will be adding parametric polymorphism, a la ML, to make many of these unnecessary casts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OO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semantic analysis (type checking), the compiler maintains this information in the symbol table for each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languages provide new challenges for compiler wr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find field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make field and method access just as efficient as ordinary function call and variable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ongoing research in OO language implementation tackles these and other interes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bject Fun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3200400"/>
            <a:ext cx="640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 : 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2438280"/>
            <a:ext cx="1218960" cy="10670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040" y="20574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2520" y="2209680"/>
            <a:ext cx="248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perclas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ehicle inherit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181120" y="2666880"/>
            <a:ext cx="762120" cy="8384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40388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90720" y="4038480"/>
            <a:ext cx="1143000" cy="5335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510552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81280" y="4495320"/>
            <a:ext cx="609840" cy="6858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Object Fun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1600200"/>
            <a:ext cx="56833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(position := position +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assengers :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await(v:vehicle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v.position  &lt; position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position – v.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.move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34840" y="5699160"/>
            <a:ext cx="21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v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791320" y="5409720"/>
            <a:ext cx="38088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31560" y="615636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urrent object’s “position”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7200" y="5622840"/>
            <a:ext cx="189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all to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057400" y="5790960"/>
            <a:ext cx="457200" cy="75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295596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3581280"/>
            <a:ext cx="609840" cy="3812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120" y="3413160"/>
            <a:ext cx="163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14640" y="4114800"/>
            <a:ext cx="685800" cy="4572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t Another Object Fun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position :=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position := position +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move (x:int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&lt;= 55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:= position *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...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33720" y="6156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343040" y="5409720"/>
            <a:ext cx="685800" cy="7621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1600200"/>
            <a:ext cx="56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Vehicle extends Object { ...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ar extends Vehicle { 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Truck extends Vehicle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t := new 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c := new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v : Vehicle :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passengers :=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move(6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.move(7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await(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2743200"/>
            <a:ext cx="139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ew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6720" y="3048120"/>
            <a:ext cx="2210040" cy="3045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5120" y="3794040"/>
            <a:ext cx="253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266720" y="396216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6320" y="5318280"/>
            <a:ext cx="27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sed as a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3428640" y="5486040"/>
            <a:ext cx="1600200" cy="2286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800600"/>
            <a:ext cx="380880" cy="7632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4098960"/>
            <a:ext cx="15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car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n inher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4952880"/>
            <a:ext cx="457200" cy="15264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Objec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key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access object 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inherited fields and fields for the current o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access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current class does not define a particular method, where do we go to get the inherited method c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handle method over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cases, when we generate code, we only know th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static 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object, not the actual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dynamic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lass 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graph of inheritence relationships in a 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sing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I) language, the graph is a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multiple-inheri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I) language, the graph is a 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-inheritence languages are much trickier to implement than single-inheritence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4400" y="25909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1320" y="3565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840" y="44798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44798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581280" y="4038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724280" y="40381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3434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23:13:28Z</dcterms:created>
  <dc:creator>CS</dc:creator>
  <dc:description/>
  <dc:language>en-US</dc:language>
  <cp:lastModifiedBy>dpw</cp:lastModifiedBy>
  <dcterms:modified xsi:type="dcterms:W3CDTF">2006-04-27T19:02:10Z</dcterms:modified>
  <cp:revision>10</cp:revision>
  <dc:subject/>
  <dc:title>Objects and Classes</dc:title>
</cp:coreProperties>
</file>