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182-5A73-41E5-933A-1856B13F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3F7-1301-43EE-9541-7009D02B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663-229F-4569-BDAC-43E7903A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B660-5D6B-4D9D-B739-5A398180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0FD-08CF-49D7-AE49-EDA50F9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719-F102-4EF8-A9A5-097CD29E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1B-91C2-48AF-9EA6-B8BDCBC3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D47-A82D-4FA9-8C8A-8D312BB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691-497F-4858-A40F-94552EF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51D5-1CF9-4195-AA16-9C18AA5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BD3-A1AC-430E-A155-3982506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DF3F-8DCC-44AF-A1C5-1CB71BB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1A56-6053-4CA4-9661-C6D884D66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amp; Midterm Topi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free lists, one for each block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 and free become O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 run out of size 4 blocks, even though there are many size 6 blocks or size 2 block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are powers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ivide blocks to get the righ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free blocks merged into the next bigges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y 30% waste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ucial point: there is no magic bullet.  Memory management always has a cost.  We want to minimize costs and, these days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aximize 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s with explicit MM are much harder to program than languages with automatic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worrying abo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ngling poin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mory lea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huge software engineering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develop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ur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mpossible to use these languages in emerging applications involving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obi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n, languages with unsafe, explicit MM will all bu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:  Microsoft is pouring $$$ into developing safe language technology, including a new research project on dependable operating system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how do we decid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’t do it exa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ervatively approx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olution:  an object is garbage when it becomes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reachab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o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gisters, stack, global stat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path from the roots to an object, it cannot be used later in the computation so we can safely recycle it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3"/>
            <a:endCxn id="11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test reach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bbe0e3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3" idx="3"/>
            <a:endCxn id="146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 can’t detect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6" idx="3"/>
            <a:endCxn id="17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lace of a single assignm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.f =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0840" y="2895480"/>
            <a:ext cx="407196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 = x.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z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–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z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If c = 0 call putOnFreeList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x.f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p.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 = c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.count 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56320" y="2819520"/>
            <a:ext cx="47304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ch,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at hu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ce-wis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ataflow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some inc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decrements, but many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counting us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pecial cases but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s the primary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in a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795320" y="5562720"/>
            <a:ext cx="13716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95320" y="5334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238520" y="6172200"/>
            <a:ext cx="3891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64800" y="592776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246440" y="66294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42480" y="638496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7238520" y="6095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64800" y="58672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200400" y="4876560"/>
            <a:ext cx="2819520" cy="160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532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246440" y="641664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42480" y="617220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238520" y="58672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64800" y="56386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3200400" y="5409720"/>
            <a:ext cx="28195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246440" y="61117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42480" y="58672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238520" y="5638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64800" y="54100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200400" y="4572000"/>
            <a:ext cx="2819520" cy="14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246440" y="5883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42480" y="56386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246440" y="5654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30480" y="6019920"/>
            <a:ext cx="56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y’s algorithm for copy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rse data breadth first, copying objects from from-space to to-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532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3440" y="5775480"/>
            <a:ext cx="13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5320" y="5618160"/>
            <a:ext cx="1371600" cy="42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54100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5320" y="47242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5320" y="4495680"/>
            <a:ext cx="1371600" cy="2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30880" y="50292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75200" y="3429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238520" y="5409720"/>
            <a:ext cx="3891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42480" y="541008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238520" y="54100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64800" y="5181480"/>
            <a:ext cx="13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59280" y="5410080"/>
            <a:ext cx="31716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0" y="192"/>
                </a:moveTo>
                <a:cubicBezTo>
                  <a:pt x="92" y="160"/>
                  <a:pt x="184" y="128"/>
                  <a:pt x="192" y="96"/>
                </a:cubicBezTo>
                <a:cubicBezTo>
                  <a:pt x="200" y="64"/>
                  <a:pt x="124" y="32"/>
                  <a:pt x="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9280" y="4876920"/>
            <a:ext cx="711000" cy="1066680"/>
          </a:xfrm>
          <a:custGeom>
            <a:avLst/>
            <a:gdLst/>
            <a:ahLst/>
            <a:rect l="l" t="t" r="r" b="b"/>
            <a:pathLst>
              <a:path w="448" h="672">
                <a:moveTo>
                  <a:pt x="0" y="672"/>
                </a:moveTo>
                <a:cubicBezTo>
                  <a:pt x="208" y="584"/>
                  <a:pt x="416" y="496"/>
                  <a:pt x="432" y="384"/>
                </a:cubicBezTo>
                <a:cubicBezTo>
                  <a:pt x="448" y="272"/>
                  <a:pt x="272" y="1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59280" y="4572000"/>
            <a:ext cx="330120" cy="228600"/>
          </a:xfrm>
          <a:custGeom>
            <a:avLst/>
            <a:gdLst/>
            <a:ahLst/>
            <a:rect l="l" t="t" r="r" b="b"/>
            <a:pathLst>
              <a:path w="208" h="144">
                <a:moveTo>
                  <a:pt x="0" y="144"/>
                </a:moveTo>
                <a:cubicBezTo>
                  <a:pt x="88" y="132"/>
                  <a:pt x="176" y="120"/>
                  <a:pt x="192" y="96"/>
                </a:cubicBezTo>
                <a:cubicBezTo>
                  <a:pt x="208" y="72"/>
                  <a:pt x="152" y="36"/>
                  <a:pt x="9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67280" y="6095880"/>
            <a:ext cx="1371600" cy="53352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5867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4880" y="60199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92"/>
                  <a:pt x="32" y="248"/>
                  <a:pt x="16" y="192"/>
                </a:cubicBezTo>
                <a:cubicBezTo>
                  <a:pt x="0" y="136"/>
                  <a:pt x="152" y="68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867280" y="5638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84880" y="5791320"/>
            <a:ext cx="635040" cy="533160"/>
          </a:xfrm>
          <a:custGeom>
            <a:avLst/>
            <a:gdLst/>
            <a:ahLst/>
            <a:rect l="l" t="t" r="r" b="b"/>
            <a:pathLst>
              <a:path w="400" h="336">
                <a:moveTo>
                  <a:pt x="400" y="336"/>
                </a:moveTo>
                <a:cubicBezTo>
                  <a:pt x="216" y="268"/>
                  <a:pt x="32" y="200"/>
                  <a:pt x="16" y="144"/>
                </a:cubicBezTo>
                <a:cubicBezTo>
                  <a:pt x="0" y="88"/>
                  <a:pt x="152" y="44"/>
                  <a:pt x="304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5410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37160" y="5486400"/>
            <a:ext cx="482760" cy="533520"/>
          </a:xfrm>
          <a:custGeom>
            <a:avLst/>
            <a:gdLst/>
            <a:ahLst/>
            <a:rect l="l" t="t" r="r" b="b"/>
            <a:pathLst>
              <a:path w="304" h="192">
                <a:moveTo>
                  <a:pt x="304" y="192"/>
                </a:moveTo>
                <a:cubicBezTo>
                  <a:pt x="168" y="160"/>
                  <a:pt x="32" y="128"/>
                  <a:pt x="16" y="96"/>
                </a:cubicBezTo>
                <a:cubicBezTo>
                  <a:pt x="0" y="64"/>
                  <a:pt x="104" y="32"/>
                  <a:pt x="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22600" y="5867280"/>
            <a:ext cx="2177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one 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next =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71600" y="6019920"/>
            <a:ext cx="4495680" cy="774720"/>
          </a:xfrm>
          <a:custGeom>
            <a:avLst/>
            <a:gdLst/>
            <a:ahLst/>
            <a:rect l="l" t="t" r="r" b="b"/>
            <a:pathLst>
              <a:path w="2832" h="488">
                <a:moveTo>
                  <a:pt x="0" y="0"/>
                </a:moveTo>
                <a:cubicBezTo>
                  <a:pt x="460" y="188"/>
                  <a:pt x="920" y="376"/>
                  <a:pt x="1392" y="432"/>
                </a:cubicBezTo>
                <a:cubicBezTo>
                  <a:pt x="1864" y="488"/>
                  <a:pt x="2592" y="344"/>
                  <a:pt x="2832" y="33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ing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allocation: pointer increment by objec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’s Concurrent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pauses avoided by doing GC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only holds pointers to to-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field fetch, if pointer to from-space, copy object and fix poi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fetch code = 20% performance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 long pauses ==&gt; better respon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wap, copy roots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2819520"/>
            <a:ext cx="114300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41911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560" y="419112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2666880"/>
            <a:ext cx="129528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040" y="57261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8240" y="2666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5638320"/>
            <a:ext cx="11430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4419720"/>
            <a:ext cx="7617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95480"/>
            <a:ext cx="121896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7840" y="62485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s to preset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6172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895480" y="2590200"/>
            <a:ext cx="38124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70360" y="1828800"/>
            <a:ext cx="25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pag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calls to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05320" y="3123720"/>
            <a:ext cx="2971800" cy="3049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24080"/>
            <a:ext cx="2971800" cy="10670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97180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505320" y="3809520"/>
            <a:ext cx="2971800" cy="12193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62040" y="1736640"/>
            <a:ext cx="20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6360" y="4800600"/>
            <a:ext cx="16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LB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160" y="1066680"/>
            <a:ext cx="185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1828800"/>
            <a:ext cx="91440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f an object has been reachable for a long time, it is likely to remain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mpirical 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 many languages (especially functional languages), most objects died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l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save work by scanning the young objects frequently and the old objects infrequ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bjects to different generations G0, G1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contains young objects, most likely to be 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0 scanned more often than 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ase is two generations (new, ten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for GC of G0 include all objects in G1 in addition to stack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void scanning tenured obj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: old objects rarely point to new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ly, object is created and when it initialized it will point to older objects, not newer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ppens if old object modified well after it is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unctional languages that use mutation infrequently, pointers from old to new are very un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serts extra code on object field pointer write to catch modifications to ol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ed set is used to keep track of objects that point into younger generation.  Remembered set included in set of roots for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m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 from young generation to old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after an object survives a collection, it will be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big should the generation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l says each should be exponentially larger than the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we collect the old gene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everal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inor 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do a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jor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different GC algorithms are used for the new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? Because the have different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collection for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10% of the new data is usually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cost is proportional to the l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for the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get to this in the next cla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arb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lue is garbage if i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ill not be u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ny subsequent computation by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easy to determine which objects are garb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It’s undecidable. E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long-and-tricky-computation then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n’t u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determining which objects are garbage is tricky, people have come up with many differ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the programmers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allocation/de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ing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,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people ar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dum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y really don’t want to bother with such details if they can avoi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malloc/free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unused memory stored on a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arch free list for usable memory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ut block onto the head of the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icit 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lloc is not 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we might have to do a significant search to find a big enoug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program runs, the heap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rag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ing many small, unusable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029200"/>
            <a:ext cx="74678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029200"/>
            <a:ext cx="990720" cy="4572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334120"/>
            <a:ext cx="3124080" cy="1092240"/>
          </a:xfrm>
          <a:custGeom>
            <a:avLst/>
            <a:gdLst/>
            <a:ahLst/>
            <a:rect l="l" t="t" r="r" b="b"/>
            <a:pathLst>
              <a:path w="1968" h="688">
                <a:moveTo>
                  <a:pt x="0" y="0"/>
                </a:moveTo>
                <a:cubicBezTo>
                  <a:pt x="340" y="328"/>
                  <a:pt x="680" y="656"/>
                  <a:pt x="1008" y="672"/>
                </a:cubicBezTo>
                <a:cubicBezTo>
                  <a:pt x="1336" y="688"/>
                  <a:pt x="1652" y="392"/>
                  <a:pt x="1968" y="96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5257800"/>
            <a:ext cx="3200400" cy="1003320"/>
          </a:xfrm>
          <a:custGeom>
            <a:avLst/>
            <a:gdLst/>
            <a:ahLst/>
            <a:rect l="l" t="t" r="r" b="b"/>
            <a:pathLst>
              <a:path w="2016" h="632">
                <a:moveTo>
                  <a:pt x="0" y="0"/>
                </a:moveTo>
                <a:cubicBezTo>
                  <a:pt x="336" y="308"/>
                  <a:pt x="672" y="616"/>
                  <a:pt x="1008" y="624"/>
                </a:cubicBezTo>
                <a:cubicBezTo>
                  <a:pt x="1344" y="632"/>
                  <a:pt x="1680" y="340"/>
                  <a:pt x="2016" y="48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470480"/>
            <a:ext cx="4495680" cy="711000"/>
          </a:xfrm>
          <a:custGeom>
            <a:avLst/>
            <a:gdLst/>
            <a:ahLst/>
            <a:rect l="l" t="t" r="r" b="b"/>
            <a:pathLst>
              <a:path w="2832" h="448">
                <a:moveTo>
                  <a:pt x="2832" y="448"/>
                </a:moveTo>
                <a:cubicBezTo>
                  <a:pt x="2324" y="240"/>
                  <a:pt x="1816" y="32"/>
                  <a:pt x="1344" y="16"/>
                </a:cubicBezTo>
                <a:cubicBezTo>
                  <a:pt x="872" y="0"/>
                  <a:pt x="436" y="176"/>
                  <a:pt x="0" y="352"/>
                </a:cubicBezTo>
              </a:path>
            </a:pathLst>
          </a:custGeom>
          <a:noFill/>
          <a:ln w="255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4648320"/>
            <a:ext cx="228600" cy="3808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31400" y="4175280"/>
            <a:ext cx="16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4:54:28Z</dcterms:created>
  <dc:creator>CS</dc:creator>
  <dc:description/>
  <dc:language>en-US</dc:language>
  <cp:lastModifiedBy>dpw</cp:lastModifiedBy>
  <dcterms:modified xsi:type="dcterms:W3CDTF">2006-03-16T16:09:48Z</dcterms:modified>
  <cp:revision>22</cp:revision>
  <dc:subject/>
  <dc:title>Garbage collection</dc:title>
</cp:coreProperties>
</file>