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BA1-476F-46E1-96C7-23159D35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61E-066A-443E-8415-B17BC2F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2EA-3260-418C-BCEF-CDFD0D3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BC8-5955-4005-B8CF-F711AD3F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50C-1715-4213-8C70-346136C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89D-283B-4E0D-8A70-CDF79230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90C-FB89-4A31-A99E-49BAE06E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F5B-D969-4E9E-AAEF-334EFF2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BBC-4B6B-4272-BF2A-E983DD2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E28-7990-4435-A6F8-4B8B4E6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647-E265-4EBD-A1DE-7B25CAF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ED4-1255-4CB1-BB0F-862188A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BFA-AAA9-4CFE-9479-A43FBE1E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3"/>
            <a:endCxn id="146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6" idx="3"/>
            <a:endCxn id="17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6-03-16T16:09:48Z</dcterms:modified>
  <cp:revision>22</cp:revision>
  <dc:subject/>
  <dc:title>Garbage collection</dc:title>
</cp:coreProperties>
</file>