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5DE-9B96-4586-8117-F26F736B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DB0-2171-4350-91EA-81577C75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3AC-B778-4899-868C-5CB4859A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626-1890-48BF-B51B-39CE0A6E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26B-330C-46A8-95D0-DEA5EA8B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EB8-E908-4856-86B5-36EDAB9A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69C-F450-4A0E-AF67-BB60CBC6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657-5BCF-4718-AF85-552BC9E1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890-C794-4237-A412-417569C2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618-56C4-40FC-963A-3B30238D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FC8-4F95-4EBF-B2A3-EAFF3BE2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78C-CDE4-4A44-AAB2-71C012DA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4CB5-0167-49EC-98AB-BA6E50E4E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&amp; Midterm Top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ultiple free lists, one for each block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and free become 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run out of size 4 blocks, even though there are many size 6 blocks or size 2 bloc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are powers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ivide blocks to get the righ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free blocks merged into the next bigges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y 30% 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cial point: there is no magic bullet.  Memory management always has a cost.  We want to minimize costs and, these days,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aximize 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with explicit MM are much harder to program than languages with automatic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worrying abo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ngling poin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mory lea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 huge software engineering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sible to develop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cure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mpossible to use these languages in emerging applications involving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bil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languages with unsafe, explicit MM will all b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 Microsoft is pouring $$$ into developing safe language technology, including a new research project on dependable operating system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how do we decid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do it exa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ervatively approx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olution:  an object is garbage when it become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reach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o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gisters, stack, global stat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path from the roots to an object, it cannot be used later in the computation so we can safely recycle its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3"/>
            <a:endCxn id="11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3"/>
            <a:endCxn id="146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 can’t detect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6" idx="3"/>
            <a:endCxn id="179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lace of a single assignm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x.f =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70840" y="2895480"/>
            <a:ext cx="407196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 = x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z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f c = 0 call putOnFreeList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x.f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p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56320" y="2819520"/>
            <a:ext cx="47304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ch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at hu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ce-w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ataflow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some inc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ecrements, but many re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counting us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pecial cases but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s the primary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in a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95320" y="5562720"/>
            <a:ext cx="13716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5320" y="5334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238520" y="6172200"/>
            <a:ext cx="3891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64800" y="592776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238520" y="6095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64800" y="58672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200400" y="4876560"/>
            <a:ext cx="281952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246440" y="6416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242480" y="61722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7238520" y="58672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264800" y="56386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246440" y="61117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42480" y="58672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7238520" y="5638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64800" y="54100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246440" y="5883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42480" y="56386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246440" y="5654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6019920"/>
            <a:ext cx="4495680" cy="774720"/>
          </a:xfrm>
          <a:custGeom>
            <a:avLst/>
            <a:gdLst/>
            <a:ahLst/>
            <a:rect l="l" t="t" r="r" b="b"/>
            <a:pathLst>
              <a:path w="2832" h="488">
                <a:moveTo>
                  <a:pt x="0" y="0"/>
                </a:moveTo>
                <a:cubicBezTo>
                  <a:pt x="460" y="188"/>
                  <a:pt x="920" y="376"/>
                  <a:pt x="1392" y="432"/>
                </a:cubicBezTo>
                <a:cubicBezTo>
                  <a:pt x="1864" y="488"/>
                  <a:pt x="2592" y="344"/>
                  <a:pt x="2832" y="3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allocation: pointer increment by objec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’s Concurrent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pauses avoided by doing GC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only holds pointers to to-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field fetch, if pointer to from-space, copy object and fix po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fetch code = 20% performance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 long pauses ==&gt; better respons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wap, copy root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2819520"/>
            <a:ext cx="114300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41911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560" y="41911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2666880"/>
            <a:ext cx="129528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040" y="5726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8240" y="2666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95280" y="5638320"/>
            <a:ext cx="11430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4419720"/>
            <a:ext cx="76176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895480"/>
            <a:ext cx="121896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7840" y="62485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s to preset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6172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95480" y="2590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70360" y="1828800"/>
            <a:ext cx="25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ages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calls to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05320" y="3123720"/>
            <a:ext cx="29718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24080"/>
            <a:ext cx="2971800" cy="10670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886200"/>
            <a:ext cx="297180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05320" y="3809520"/>
            <a:ext cx="2971800" cy="12193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62040" y="173664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6360" y="480060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B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160" y="1066680"/>
            <a:ext cx="18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828800"/>
            <a:ext cx="91440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f an object has been reachable for a long time, it is likely to remain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 many languages (especially functional languages), most objects died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 save work by scanning the young objects frequently and the old objects infr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objects to different generations G0, G1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contains young objects, most likely to be 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scanned more often than G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 is two generations (new, ten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for GC of G0 include all objects in G1 in addition to stack,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void scanning tenured obj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: old objects rarely point to new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, object is created and when it initialized it will point to older objects, not newer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ppens if old object modified well after it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unctional languages that use mutation infrequently, pointers from old to new are very un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serts extra code on object field pointer write to catch modifications to ol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ed set is used to keep track of objects that point into younger generation.  Remembered set included in set of roots for sc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m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from young generation to old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fter an object survives a collection, it will be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should the generations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says each should be exponentially larger than the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collect the old gen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everal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nor col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do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ajor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different GC algorithms are used for the new and older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Because the have different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ing collection for 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10% of the new data is usuall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cost is proportional to the l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for the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get to this in the next cl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It’s undecidable.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long-and-tricky-computation the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n’t 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determining which objects are garbage is tricky, people have come up with many differen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programmers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allocation/de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,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: people are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people are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dum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y really don’t want to bother with such details if they can avoi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malloc/fre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unused memory stored on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arch free list for usable memory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t block onto the head of the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 is not 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we might have to do a significant search to find a big enoug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gram runs, the heap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ag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ing many small, unusable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4:54:28Z</dcterms:created>
  <dc:creator>CS</dc:creator>
  <dc:description/>
  <dc:language>en-US</dc:language>
  <cp:lastModifiedBy>dpw</cp:lastModifiedBy>
  <dcterms:modified xsi:type="dcterms:W3CDTF">2006-03-16T16:09:48Z</dcterms:modified>
  <cp:revision>22</cp:revision>
  <dc:subject/>
  <dc:title>Garbage collection</dc:title>
</cp:coreProperties>
</file>