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6EA-FCF1-4CA1-81FA-633EEC13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10F-11BA-4498-9BBB-FE975813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254-F9DC-4185-9CFA-1AF4E4B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6BA-C73F-42AB-B496-A2EEAB92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F9A-0E19-470E-9008-87A416E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870-FFCA-4FB1-B5BF-BA4CB479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9DE-271D-491E-884F-4B078AF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B0-5367-482B-B2D2-904ED40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24E-98BC-4BA4-ADE4-D965611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7E2-0958-4F96-8FD6-45EE084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C8B-CE75-4C49-ABCF-8DB3874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237-B332-4D00-83ED-DE23682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B9C-6F64-4EA9-BB4E-D6AF982A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,c,d are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6-04-18T18:20:54Z</dcterms:modified>
  <cp:revision>16</cp:revision>
  <dc:subject/>
  <dc:title>Register Allocation</dc:title>
</cp:coreProperties>
</file>