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D39-B861-4CCC-9EFB-377D17D3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9A3-7C5B-4502-A9F7-0EFD68BB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10E-5B31-4283-B730-C6B9F2E7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8C7-B009-400E-8EC4-D881356B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D228-E59C-4925-86F4-03DA1370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2ED-BCE3-4563-B99D-74E37CD1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A85-84D3-48C0-8E1D-69CE4819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7C0-35F5-4941-93E6-33A481A7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8104-10B2-413F-82AD-26B69E2B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575-0EAF-4501-98E7-47AC15F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53E-32E8-443F-A540-FF97187C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0C55-9F5A-41CB-B0BF-FB618D2D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C46E-0483-41DF-BD98-41DBA80A3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thanks to Andrew Myers for many of these sl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5257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25744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5200" y="26416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67320" y="270684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3240000"/>
            <a:ext cx="53352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41040" y="3228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2080" y="210816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173320"/>
            <a:ext cx="1981080" cy="1523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a coloring of the graph whenever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efficiently find the optimum coloring of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choose registers to avoid move instru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 when there aren’t enough colors (registers) to color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pe’s algorithm [1879] for finding a K-coloring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K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find a node wit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t most K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ges and cut it out of the graph.  (Remember this node on a stack for later s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 coloring is found for the simpler graph, we can always color the node we saved on th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2 (color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en the simplified subgraph has been colored, add back the node on the top of the stack and assign it a color not taken by one of the adjacent no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0" y="38862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2800" y="3886200"/>
            <a:ext cx="7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 to replace temporary variables with some fixed set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need to know which variables are live after each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imultaneously live variables cannot be allocated to the sam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2800" y="3886200"/>
            <a:ext cx="77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raph cannot be colored, it will eventually be simplified to graph in which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ery node has at least K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e graph is still K-colora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 K-coloring in all situations is 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have to approximate to make register allocators fas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2800" y="3886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62800" y="3886200"/>
            <a:ext cx="77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3320" y="571500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node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neighbou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nod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FG, we hav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[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temporaries live out of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ariables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interf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itially live (ie: function args)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ear in out[n] for any n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s defined and the other is in out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b - c    where x is dead &amp; b,c,d are live inter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ssign registers to vari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19720" y="58276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got luck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95480" y="41911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25780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2209320" y="4724280"/>
            <a:ext cx="76212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4724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00920" y="175248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3040" y="181764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43040" y="2351160"/>
            <a:ext cx="53316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16760" y="234000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67800" y="121932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   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1284120"/>
            <a:ext cx="1981440" cy="1611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62520" y="3048120"/>
            <a:ext cx="60948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276720" y="3581280"/>
            <a:ext cx="76176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495680" y="3581280"/>
            <a:ext cx="68580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191120"/>
            <a:ext cx="609480" cy="609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62800" y="3886200"/>
            <a:ext cx="77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4419720" y="4724280"/>
            <a:ext cx="761760" cy="609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37880" y="190512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graphs can’t be co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K col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05320" y="4495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02200" y="61722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lors left for 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o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graph =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nect variables that interfere with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s will be assigned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ing to the register assigned to th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lors can’t be next to one another i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ep 3 (spilling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once all nodes have K or more neighbors, pick a node for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p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on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heuristics that can be used to pick a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 an inner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ll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generate extra instructions to load variables from stack and st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structions use registers themselves.  What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pid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ways keep extra registers handy for shuffling data in and out: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 was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tter appro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write code introducing a new temporary; rerun liveness analysis and register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ing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dd t1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lected for spilling and assigned to stack loca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[ebp-2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new temporar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just this instruction and re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v t35, [ebp – 24]; add t1, t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3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very short live range and is much less likely to interf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run the algorithm; fewer variables will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bles are pre-assigned to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mu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eax; defines ea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call on x86/pen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(trashes) caller-save registers eax, ecx, 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 these registers as special temporaries; before beginning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d them to the graph with their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olored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simplify a graph by removing a precolored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lored nodes are the starting point of the color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implified down to colored nodes start adding back the other node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ing Mo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ion produces a lot of extra mov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t1, 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can assign t1 and t2 to the same register, we do not have to execute the 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if t1 and t2 are not connected in the interference graph, w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ales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a single vari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coalescing can increase the number of interference edges and make a graph uncol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1 (Briggs): avoid creation of high-degree (&gt;= K)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2 (George): a can be coalesced with b if every neighbour t of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interferes with b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low-degree (&lt;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146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617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6854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81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31240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2743200"/>
            <a:ext cx="6858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/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6019560" y="335268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5943240" y="2361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33526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238880" y="23623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91120" y="2971800"/>
            <a:ext cx="1218960" cy="30492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50880" y="26049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&amp; Coales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1 (simplify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implify as much as possible without removing nodes that are the source or destination of a move (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ove-related no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2 (coalesc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alesce move-related nodes provided low-degree nod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ep 3 (freeze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neither steps 1 or 2 apply, freeze a move instruction:  registers involved are marked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 move-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ry step 1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, fre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oale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403848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981080" y="5486400"/>
            <a:ext cx="19051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detect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4120" y="54864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sp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8" idx="0"/>
            <a:endCxn id="565" idx="3"/>
          </p:cNvCxnSpPr>
          <p:nvPr/>
        </p:nvCxnSpPr>
        <p:spPr>
          <a:xfrm flipV="1" rot="16200000">
            <a:off x="3885840" y="3085200"/>
            <a:ext cx="2400840" cy="2401200"/>
          </a:xfrm>
          <a:prstGeom prst="bentConnector2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6" idx="1"/>
            <a:endCxn id="565" idx="1"/>
          </p:cNvCxnSpPr>
          <p:nvPr/>
        </p:nvCxnSpPr>
        <p:spPr>
          <a:xfrm flipH="1" rot="10800000">
            <a:off x="1980000" y="3085560"/>
            <a:ext cx="2520" cy="1448280"/>
          </a:xfrm>
          <a:prstGeom prst="bentConnector3">
            <a:avLst>
              <a:gd name="adj1" fmla="val -26600000"/>
            </a:avLst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1" name=""/>
          <p:cNvCxnSpPr>
            <a:stCxn id="567" idx="3"/>
            <a:endCxn id="568" idx="1"/>
          </p:cNvCxnSpPr>
          <p:nvPr/>
        </p:nvCxnSpPr>
        <p:spPr>
          <a:xfrm>
            <a:off x="3886200" y="5981400"/>
            <a:ext cx="1448640" cy="108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6" idx="2"/>
            <a:endCxn id="567" idx="0"/>
          </p:cNvCxnSpPr>
          <p:nvPr/>
        </p:nvCxnSpPr>
        <p:spPr>
          <a:xfrm>
            <a:off x="2933280" y="502920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5" idx="2"/>
            <a:endCxn id="566" idx="0"/>
          </p:cNvCxnSpPr>
          <p:nvPr/>
        </p:nvCxnSpPr>
        <p:spPr>
          <a:xfrm>
            <a:off x="2933280" y="358128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574" name=""/>
          <p:cNvSpPr/>
          <p:nvPr/>
        </p:nvSpPr>
        <p:spPr>
          <a:xfrm>
            <a:off x="5181480" y="2590920"/>
            <a:ext cx="19051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/>
          <p:nvPr/>
        </p:nvCxnSpPr>
        <p:spPr>
          <a:xfrm>
            <a:off x="6248160" y="2133720"/>
            <a:ext cx="1080" cy="457920"/>
          </a:xfrm>
          <a:prstGeom prst="straightConnector1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allocation has three major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ivenes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raph col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ogram trans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ve coalescing and spil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chapter 11.1-11.3 in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eek:  liveness analysis + interference graph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week:  graph coloring + regist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erenc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590920"/>
            <a:ext cx="344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a +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b *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b *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5:37:48Z</dcterms:created>
  <dc:creator>CS</dc:creator>
  <dc:description/>
  <dc:language>en-US</dc:language>
  <cp:lastModifiedBy>dpw</cp:lastModifiedBy>
  <dcterms:modified xsi:type="dcterms:W3CDTF">2006-04-18T18:20:54Z</dcterms:modified>
  <cp:revision>16</cp:revision>
  <dc:subject/>
  <dc:title>Register Allocation</dc:title>
</cp:coreProperties>
</file>