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6CE-59D4-435E-9728-68D063A5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3CF-1179-480C-AB35-BD288F07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43F-A2FA-4C18-9416-EE91BE10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FC7-DADF-4C99-89B7-8A7E7468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31F-DB8F-4718-9056-556D9938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56C-60AD-41A3-AC79-58552053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321-EDBD-4E8D-987E-690BBD2F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F88-15FB-48B2-A9DC-2DF8830A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AA2-AA8F-482E-860F-9329777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670-7328-48F1-A9FC-797E96AE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65A-DA47-4D97-9DF2-0F9DEA6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FD3-6166-4C26-93D7-9061C95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028-E255-4650-992C-C43833F1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 most 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,c,d are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i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ek:  liveness analysis + interference graph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week:  graph coloring + regist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dpw</cp:lastModifiedBy>
  <dcterms:modified xsi:type="dcterms:W3CDTF">2006-04-18T18:20:54Z</dcterms:modified>
  <cp:revision>16</cp:revision>
  <dc:subject/>
  <dc:title>Register Allocation</dc:title>
</cp:coreProperties>
</file>