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39A-68CC-463E-B3AD-748B3D43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0A1-60C5-45CA-BF51-3A53262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363-5406-4D9F-91C5-97825C30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102-E3C1-49CC-A822-E7689D94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CDC0-9BE9-40EF-B3C8-6372E993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39AA-F5D7-4A5E-84FA-26F6D4B4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242C-277D-4B1A-A200-6E58F50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5E6B-2AD7-455B-A11E-DD05CF78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9ABB-B4D4-429C-84A9-C82C6FEE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311F-F86A-43C9-85E7-C2D587D7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29A3-92C3-4851-B34C-2030C77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69F-79A1-4F2A-8596-6BB55735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544-F7AB-4C5C-AC9E-9BDA825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795B-3DF5-4118-BE07-7E8749E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060-E36B-4CA4-A491-3523CCEF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A730-464A-4516-B70E-A7425D49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C454-7933-4075-B935-74BF18A0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478-4EF1-438E-94F7-861DD191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29B-2887-496D-B656-9D446166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852-2DFB-48CC-A803-716BF5E3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4C9-3EA2-4A49-82EB-38048CF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319-2A1F-4770-BEEB-D29CC252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CDD-03B2-4E9F-A792-D6162A8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671-7527-42B2-B96F-F219AA3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970E-2DC3-44CC-BDFF-C3CB492FC9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DCB5-5A4D-4F74-8F4E-9413E677B1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week:  Lexical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6-02-09T19:31:03Z</dcterms:modified>
  <cp:revision>38</cp:revision>
  <dc:subject/>
  <dc:title>Introduction to ML</dc:title>
</cp:coreProperties>
</file>