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97F-4A97-43AD-B055-C56133CF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B4C-47A9-491B-8BA7-05F64BE6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832-3CFA-42CE-9A49-EF4F3FC9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860-5FB7-4AAD-BF66-266A0F6C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1D68-AFF1-41C8-A6B5-9762CD13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BED0-4588-4FC7-8D35-B78D35DE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AAAD-3156-4686-98FB-EDB63369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4DA2-2E45-4572-A887-9377E418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F0F3-5597-4E4D-97FE-8B42B730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0163-9A2B-40BC-AD01-3562B51F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5CBC-5D42-4FE2-8D4B-6E49B287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862-8291-49A9-9E25-5F323452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2CB7-CF18-4E69-9B91-F0C982F5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0D1F-81D1-4C88-BB46-EC47F387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6FA3-E7E2-42B6-B404-052E8C57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CC39-FC16-4AD2-A817-53A88477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F7AD-1D3D-4443-A32C-CB843E5D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B07-B75A-462D-9A1F-705AD7E2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55F-788D-4425-99B0-95B6F5E0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F88-E28B-4DD2-9E4A-5918FA8F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0B50-96E1-497B-B695-8070C870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E77-8415-45AB-ADF0-FDBB29E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D18-1EF1-42CE-9286-D2010668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DBB-E8F8-458A-986F-7D744B0B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7A41-3B4A-473E-BF1D-6AF2090E0A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567F-92A6-44CC-B75B-768FF4FD42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ing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 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7.1-17.9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bool * bool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bool *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 :: 3 :: n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pattern matching on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8240" y="45720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48120" y="21337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5760" y="19051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wo arguments f an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59640" y="4572000"/>
            <a:ext cx="709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pplies the function f to every element in th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fun add1 x = x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add1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: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913040" y="2362320"/>
            <a:ext cx="270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668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330200" y="2057400"/>
            <a:ext cx="35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list x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y =&gt; y + 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34680" y="541008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657240" y="5409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data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week:  Lexical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1508040" y="251460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Num n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48360" y="4648320"/>
            <a:ext cx="26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 n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508040" y="1905120"/>
            <a:ext cx="378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Bool b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Value (_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Bool b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:: nil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295280" y="4572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312372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400000">
            <a:off x="2856960" y="422892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2320560" y="274320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232056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nt: top-level shap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. -&gt; ... -&gt;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map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2339640" y="2743200"/>
            <a:ext cx="358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(‘a -&gt; ‘b) -&gt; ‘a list -&gt; ‘b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empty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 :: tai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makes a longer 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(5 :: nil)   :  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46483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640" y="5105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9528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7200" y="541008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237840" y="3848040"/>
            <a:ext cx="152640" cy="1904760"/>
          </a:xfrm>
          <a:custGeom>
            <a:avLst/>
            <a:gdLst>
              <a:gd name="textAreaLeft" fmla="*/ 0 w 152640"/>
              <a:gd name="textAreaRight" fmla="*/ 55080 w 1526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 are created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(4 :: (5 :: nil))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:: 4 :: 5 :: nil        :   in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rue, 1) :: (false, 2) :: nil   :   (bool * in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:: nil) :: (2 :: nil) :: nil    :    (int list)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] : int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] : bool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09320" y="3428640"/>
            <a:ext cx="3962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1960" y="4401720"/>
            <a:ext cx="388620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1640" y="49528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d Li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4]::3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n:1.1-2.2 Error: operator and operand don't agree [literal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or domain: int list * int list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nd:         int list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 :: nil) :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dpw</cp:lastModifiedBy>
  <dcterms:modified xsi:type="dcterms:W3CDTF">2006-02-09T19:31:03Z</dcterms:modified>
  <cp:revision>38</cp:revision>
  <dc:subject/>
  <dc:title>Introduction to ML</dc:title>
</cp:coreProperties>
</file>