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678-3451-41A1-944F-D42B6002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F82-26A0-4803-B9FF-8044BF12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522-5174-4CC0-B67D-70ABFDE1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044-6281-4814-AEF2-246BA236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18FA-AFE1-4C71-9912-3A4053F4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DDB3-7508-4F2F-B39E-D860B1E6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4630-A4EB-4555-A380-CA77BFB3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D131-559B-442A-875F-64650DC8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45BB-0C3B-48F0-BFEA-D846FAD2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AC59-A25D-466B-9C5D-967C1E01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75D5-4D3E-4128-9C38-A18A02C9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936-98CC-4FB2-B20E-CE454881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5A8E-5CFB-467F-94F3-AAA02707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59C6-FF75-4B18-947D-43E5078F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36B9-7E49-418C-A7C0-9166FC2E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1B71-E8F0-46FE-A667-7FB985ED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B8DA-7EC6-4BDC-9950-626C4FB4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C6CE-5571-44C5-BC1D-0291F86F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3C5-CB41-4D90-86DC-7C016784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599-2947-4AAF-B052-E6867921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EBF-7143-4200-AE5A-FF41730F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6CE-3CB3-43C8-8D26-35B367CD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584-35EA-45BB-923E-CF231E0D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75B4-E59E-4158-8C1E-58F68B62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1BDD-2E2C-4CEA-8418-8A6CEB0D7D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A802-3CC7-4AA4-8EE0-9FE88EAC0C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dpw@cs.princeton.edu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princeton.edu/courses/archive/spring05/cos320/index.htm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 320:  Compiling Techniqu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28560" y="4924440"/>
            <a:ext cx="175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21200" y="54864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40080" y="2486160"/>
            <a:ext cx="16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fo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b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98400" y="4924440"/>
            <a:ext cx="9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274320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92800" y="5334120"/>
            <a:ext cx="27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virt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96840" y="27432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38160" y="533412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83560" y="2486160"/>
            <a:ext cx="24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newcommand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03000" y="492444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\sfd\sf\fa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14120" y="274320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84160" y="5334120"/>
            <a:ext cx="29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scrip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pla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cripts are compiled into 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language is compiled into machin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description language is compiled into a hardware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ers are co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 file to 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; par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intermediate form (I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hecking; analysis; optimization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 to machin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; data layout; register allocation; more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urs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33560" y="19051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Sourc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imperativ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1 IR (the initial abstract syntax generated by the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checking; high-level optim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 selection algorithms; register allocation via graph colo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9810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90800" y="22096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581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24840" y="38098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5181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59480" y="533412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52480" y="30481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464832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ML is a domain-specific language for building compil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mplex data struc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bstract syntax, compiler intermediate for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management like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projects with many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ype syst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ert Harper’s Online book “an introduction to ML” is a good place to 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l in Unix by typing sml at a prom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x% s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 ML of New Jersey, Version 110.0.7, September 28, 2000 [CM; autoload enabled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* quit SML by pressing ctrl-D; ctrl-Z some times... *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(* just so you know, comments can be (* nested *) *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o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Walker (Profess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2 Computer Science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pw@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: after each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n Jia, Jay Ligatti (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18a Computer Science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jia,jligatti@cs.princeton.ed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ice hour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s &amp; Wednesdays (we’ll send email to the email li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domain: int *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nd:             int *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+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2971800"/>
            <a:ext cx="1904760" cy="152280"/>
          </a:xfrm>
          <a:prstGeom prst="rightArrow">
            <a:avLst>
              <a:gd name="adj1" fmla="val 50000"/>
              <a:gd name="adj2" fmla="val 3127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i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princeton.edu/courses/archive/spring05/cos320/index.h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ubscri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320-request@lists.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post to this list, send your email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320@lists.cs.princeton.e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4800" y="5334120"/>
            <a:ext cx="168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add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Zer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985680" y="2362320"/>
            <a:ext cx="38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Zer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81680" y="2090880"/>
            <a:ext cx="428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one declaration cre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type (called </a:t>
            </a:r>
            <a:r>
              <a:rPr b="0" lang="en-US" sz="2400" spc="-1" strike="noStrike">
                <a:solidFill>
                  <a:srgbClr val="009900"/>
                </a:solidFill>
                <a:latin typeface="Tahoma"/>
              </a:rPr>
              <a:t>te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set of functio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terms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Zer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set of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atter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case stat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ike C’s “switch”)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what sort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 you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985680" y="2362320"/>
            <a:ext cx="38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Num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33600" y="2381400"/>
            <a:ext cx="293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by conven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320" y="365760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79160" y="5748480"/>
            <a:ext cx="39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, in this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iple of 3 term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3314520" y="2247480"/>
            <a:ext cx="75960" cy="2590920"/>
          </a:xfrm>
          <a:custGeom>
            <a:avLst/>
            <a:gdLst>
              <a:gd name="textAreaLeft" fmla="*/ 0 w 75960"/>
              <a:gd name="textAreaRight" fmla="*/ 27360 w 759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98240" y="3124080"/>
            <a:ext cx="495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your program, wri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d (Num 2, Num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an object tagged with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ing 2 sub-objects tag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the expression “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2438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63200" y="251460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00800" y="37339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1636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7339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583400" y="3809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5105520"/>
            <a:ext cx="1067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7660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48720" y="5105520"/>
            <a:ext cx="1066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58040" y="5181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4771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43434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708624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6294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225000" y="3276720"/>
            <a:ext cx="3661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Num 2, Num 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rue then 0 else 2 + 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86600" y="3581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86600" y="3638520"/>
            <a:ext cx="72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9400" y="4667400"/>
            <a:ext cx="8380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96280" y="4667400"/>
            <a:ext cx="961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4380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26200" y="58672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379920" y="5924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00840" y="5791320"/>
            <a:ext cx="685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54920" y="584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59088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85000" y="518148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162920" y="4114800"/>
            <a:ext cx="118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92480" y="45720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88520" y="46292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64080" y="3581280"/>
            <a:ext cx="708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8400" y="36576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2200" y="3581280"/>
            <a:ext cx="914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35480" y="365760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480060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68720" y="4857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079680" y="4114800"/>
            <a:ext cx="244440" cy="66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800240" y="4114800"/>
            <a:ext cx="777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10080" y="2305080"/>
            <a:ext cx="685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73520" y="2362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0840" y="2819520"/>
            <a:ext cx="60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2476080" y="3309840"/>
            <a:ext cx="403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Value (t:term) : boo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Num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Bool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2476080" y="3309840"/>
            <a:ext cx="403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Value (t:term) : boo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Num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Bool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419360" y="274320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92480" y="2286000"/>
            <a:ext cx="29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with typ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590920" y="52578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943240" y="37335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93200" y="399564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9040" y="3767040"/>
            <a:ext cx="13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rn Compiler Implementation in ML, Andrew App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manual for S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choice: Online 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ours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hardcopy boo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ML Programming, Jeffrey D. Ull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</a:t>
            </a: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2503800" y="3309840"/>
            <a:ext cx="260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Num 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Bool 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343040" y="266688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50840" y="2166840"/>
            <a:ext cx="28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typ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nfer th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arameter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1706040" y="2286000"/>
            <a:ext cx="220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4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1865160" y="2514600"/>
            <a:ext cx="226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num is not capitalized (and has no argu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1888200" y="2514600"/>
            <a:ext cx="322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1708560" y="2133720"/>
            <a:ext cx="671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val v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al t1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v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b =&gt; if b then (eval t2) else (eval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105520" y="380988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90640" y="2743200"/>
            <a:ext cx="265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rememb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1928520" y="1905120"/>
            <a:ext cx="6064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Num _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eval v1, eval v2)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um n1, Num n2) =&gt; Num (n1 + 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(_,_)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 your own compil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ximately a module/we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 penalty: 20%/day.  Don’t be lat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questions of me, TAs, friends on course mailing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n in your own 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lass Midterm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 during exam period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1897920" y="1905120"/>
            <a:ext cx="274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571640" y="3854520"/>
            <a:ext cx="2057400" cy="3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800600" y="36576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601920" y="4572000"/>
            <a:ext cx="722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97920" y="1905120"/>
            <a:ext cx="274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Add (t1,t2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ML expressions produce values that have a particular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 doesn’t have “statement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 can do type inference (and give you hard-to-decrypt error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ata types are super-c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w type name (ter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constructors (Bool, If, Num, 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patterns (Bool b, If (x,y,_), Num _, ..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has a “top-level loop” to execute commands and a compilation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CM.Make() to load and compile a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it sources.cm to add new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ignment 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your name and other information on the sheet circul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kim and bookmark the course web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to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urse e-mai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 assignment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out how to install, run &amp; use S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next Thursday February 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’ve never used a functional language like ML, this might be a difficult assignment.  Start earl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3504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ward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mpil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program that translates 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 into an equivalent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arg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a compile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36232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440" y="2486160"/>
            <a:ext cx="198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i &gt; 3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[i] =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8006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2000" y="4924440"/>
            <a:ext cx="207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 eax, e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eax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p eax,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cc eax, e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419112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4880" y="27432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32000" y="5257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960" y="414828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4495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dpw</cp:lastModifiedBy>
  <dcterms:modified xsi:type="dcterms:W3CDTF">2006-02-07T14:57:36Z</dcterms:modified>
  <cp:revision>40</cp:revision>
  <dc:subject/>
  <dc:title>Introduction to ML</dc:title>
</cp:coreProperties>
</file>