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1F6-FDDA-464D-8BCD-A49C2CE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20A-6E1F-4B44-9935-D090018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2D8-E1C6-4251-BEED-855A63C4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CA7-0863-415B-A8E8-374006B5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E843-F7B7-486C-8E74-C919EBB6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FE7-A4E1-4B8C-87FE-2DAF01D4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FEF0-E2A4-48D6-AF3B-A43B54B9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A1C5-E518-43CD-ADB2-2B71B13E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897-2FC7-40B1-BB9D-D34B67C1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B7BE-4207-418D-B011-7539610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655-4743-42D7-BDA4-BF23BEA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599-50CF-4310-B1D0-6537446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ACA7-DD28-47E8-A945-AC10040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5DA-8C1A-4FD2-A343-3672EA9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6D12-F94D-44E8-BFD2-0949AEB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2123-E76C-456F-B77D-C767C3BB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54E6-E087-45F7-81C4-29AC7536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B61-142C-4281-8986-0EA6ED1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DF1-9D5D-41D4-8AF2-DFA6E639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3B6-EF37-417C-8D25-EAABD25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DBD-097F-49BD-8675-F1B24C6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3D3-338E-45AA-A994-B108928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9AB-626D-4739-97FC-F60688A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535-F831-4E04-B7FE-FE602D1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0BF-7DB3-454B-A02D-88186516B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2C4-91FB-4710-A78D-20165D855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analysis; optimiz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data layout; register allocation; more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x data struc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ype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; ctrl-Z some times...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n Jia, Jay Ligatti (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8a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jia,jligatt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&amp; Wednesdays (we’ll send email to the email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4800" y="5334120"/>
            <a:ext cx="16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81680" y="2090880"/>
            <a:ext cx="428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one declaration cre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type (called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functio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terms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case stat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ike C’s “switch”)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what sort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985680" y="2362320"/>
            <a:ext cx="38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320" y="365760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79160" y="5748480"/>
            <a:ext cx="39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, in thi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iple of 3 ter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14520" y="2247480"/>
            <a:ext cx="75960" cy="2590920"/>
          </a:xfrm>
          <a:custGeom>
            <a:avLst/>
            <a:gdLst>
              <a:gd name="textAreaLeft" fmla="*/ 0 w 75960"/>
              <a:gd name="textAreaRight" fmla="*/ 27360 w 759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3124080"/>
            <a:ext cx="495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program, wri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an object tagged with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ing 2 sub-objects ta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3638520"/>
            <a:ext cx="7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4667400"/>
            <a:ext cx="838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9628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358128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19360" y="27432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2480" y="2286000"/>
            <a:ext cx="29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with typ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943240" y="37335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3200" y="399564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9040" y="376704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3040" y="26668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50840" y="2166840"/>
            <a:ext cx="28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typ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r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aramet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your own compil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imately a module/we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 penalty: 20%/day.  Don’t be la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questions of me, TAs, friends on course mai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in your own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lass Midte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during exam period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ML expressions produce values that have a particula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doesn’t have “statemen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can do type inference (and give you hard-to-decrypt error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ata types are super-c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type name (te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constructors (Bool, If, Num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patterns (Bool b, If (x,y,_), Num _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has a “top-level loop” to execute commands and a compilation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M.Make() to load and compile a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 sources.cm to add new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install,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February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’ve never used a functional language like ML, this might be a difficult assignment.  Start earl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7T14:57:36Z</dcterms:modified>
  <cp:revision>40</cp:revision>
  <dc:subject/>
  <dc:title>Introduction to ML</dc:title>
</cp:coreProperties>
</file>