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8E1-3E8B-46B5-BEC4-FB7D8EBB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6F4-6FBF-45FA-995B-2393045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A31-73F3-430B-AA60-1CC68C98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63C-0580-46DA-9559-ABD454F3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E01E-510F-440D-AABF-FFFBA494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4973-46F3-4B14-B9DD-DB2EF9B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F8D9-7F4E-47F1-B8D7-95A890C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6A5D-E756-4C9A-B71E-53B001D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C7AA-303F-4114-94E4-C2BA065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29C3-9979-4B2F-82C7-01E10D40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90BD-CFA3-4E0E-B50E-0AED3007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2AE-151B-47EB-A790-11BBD38B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C880-1F31-41A5-8FA0-4D115FD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8698-5C0C-4135-A554-A8EF48D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8216-E609-4178-8458-CC08911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3E43-0B42-437A-8CCA-2FC604DD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45DD-05CF-4BC4-9DDD-51F73E5D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926-20F8-4AC9-A518-73FF600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B95-6A6A-44CA-A298-6BB383A3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7AA-A01C-4F54-BEFE-755FACB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E8E-B819-4B43-BBF3-D3FE989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E66-D973-496E-BE43-9FA29BF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7A1-C8CC-4B5C-94F3-EA4F7DA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09A-17A1-46CB-A257-013D5AB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B3C-413C-4855-A5CB-1E59E5459E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AD0-5229-4BA6-92CB-624752A6F3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5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hecking; analysis; optimiz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data layout; register allocation; more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ourc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 IR (the initial abstract syntax generated by the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hecking; high-level optim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lex data struc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ype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Online book “an introduction to ML” is a good place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l in Unix by typing sml at a prom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x% s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ML of New Jersey, Version 110.0.7, September 28, 2000 [CM; autoload enabled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quit SML by pressing ctrl-D; ctrl-Z some times...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just so you know, comments can be (* nested *)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n Jia, Jay Ligatti (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8a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jia,jligatti@cs.princeton.e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s &amp; Wednesdays (we’ll send email to the email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9718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5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bscri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-request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ost to this list, send your email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4800" y="5334120"/>
            <a:ext cx="16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81680" y="2090880"/>
            <a:ext cx="428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one declaration cre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type (called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et of functio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terms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et of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case stat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ike C’s “switch”)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what sort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985680" y="2362320"/>
            <a:ext cx="38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33600" y="2381400"/>
            <a:ext cx="293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by conven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320" y="365760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79160" y="5748480"/>
            <a:ext cx="39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, in thi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iple of 3 term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3314520" y="2247480"/>
            <a:ext cx="75960" cy="2590920"/>
          </a:xfrm>
          <a:custGeom>
            <a:avLst/>
            <a:gdLst>
              <a:gd name="textAreaLeft" fmla="*/ 0 w 75960"/>
              <a:gd name="textAreaRight" fmla="*/ 27360 w 759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3124080"/>
            <a:ext cx="495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program, wri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an object tagged with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ing 2 sub-objects ta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3638520"/>
            <a:ext cx="7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4667400"/>
            <a:ext cx="838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9628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358128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476080" y="330984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(t:term) : boo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2476080" y="330984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(t:term) : boo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19360" y="27432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2480" y="2286000"/>
            <a:ext cx="29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with typ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943240" y="37335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3200" y="399564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9040" y="3767040"/>
            <a:ext cx="13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, Andrew 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manual for S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choice: Online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hardcopy boo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ML Programming, Jeffrey D. Ull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3040" y="26668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50840" y="2166840"/>
            <a:ext cx="28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typ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fer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aramet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706040" y="228600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your own compil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imately a module/we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 penalty: 20%/day.  Don’t be la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questions of me, TAs, friends on course mai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n in your own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lass Midte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 during exam period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ML expressions produce values that have a particula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 doesn’t have “statement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 can do type inference (and give you hard-to-decrypt error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ata types are super-c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type name (te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constructors (Bool, If, Num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patterns (Bool b, If (x,y,_), Num _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has a “top-level loop” to execute commands and a compilation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M.Make() to load and compile a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it sources.cm to add new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kim and bookmark the cours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urse e-mai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out how to install, run &amp; use 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next Thursday February 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’ve never used a functional language like ML, this might be a difficult assignment.  Start earl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6-02-07T14:57:36Z</dcterms:modified>
  <cp:revision>40</cp:revision>
  <dc:subject/>
  <dc:title>Introduction to ML</dc:title>
</cp:coreProperties>
</file>