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ED2-E062-409E-952B-1A14DB5C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0CD-55AC-4689-B84E-1704FEB6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F09-0FFC-4C2F-9F67-2FF3EA1C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0B0-E023-4815-A5AD-1065E7C6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43E-0B53-4CF0-84A0-227361C5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1FA-C240-4CCE-9931-056230A9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C31-21A6-42C0-B481-DB79036C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BF3-88A5-4632-9AE6-2D9CB528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E09-D5A1-4953-A74D-FCAD1C68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F22-A495-4809-9E7B-F6B665C8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C6F-EB92-42F2-AB20-C9BCBC36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B9D-ABCB-4EE9-8871-F78F769E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8F74-BFDA-4315-9A35-7497D65E6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-up Parser Table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by rule k is broken into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ck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stack according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H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out state on top of stack (ie: goto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33520" y="4286160"/>
          <a:ext cx="82296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by rule k is broken into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ck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stack according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H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out state on top of stack (ie: goto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4286160"/>
          <a:ext cx="82296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in the automaton represents a collection of LR(0)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from the grammar combined with “@” to indicate where the parser currently is in the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’ ::= @ S 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dicates that the parser is just beginning to parse this rule and it expects to be able to parse S then $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hole automaton state looks like th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49760" y="453564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548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606760" y="47642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92880" y="53341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181120" y="4992840"/>
            <a:ext cx="1311480" cy="18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71800" y="461160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0)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6400" y="6361200"/>
            <a:ext cx="86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1) states look very similar, it is just that the items contain some look-ahead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51055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07160" y="52182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LR(0) automat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start rule &amp; compute initial state with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of the items from the state and move “@” to the right one symbol (as if you have just parsed the symb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reates a new item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and a new state when you compute the closure of the new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edge between the two states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erminal T, if you moved “@” ove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n-terminal X, if you moved “@” over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until there are no further ways to move “@” across items and generate new states or new edges in the automa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ing Language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 (top-down)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ullable, first, follow sets then pars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ynchronizing tokens (Follow(X)) for error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ML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 parsing -- more powerful than LL(k) par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parser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tokens from input on to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stack symbols using grammar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or signal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-Burke error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technique (try every possible insertion/replacement/substitution in k-token wind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he magic:  how to construct the parser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very point in the parse, the LR parser table tells us what to do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, reduce, error or 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so, the LR parser keeps track of the parse “state” ==&gt; a state in a finite autom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257800" y="2438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48320" y="217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362320" y="25909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72880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16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57800" y="2438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4836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92520" y="51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3548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354840" y="55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16788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1740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39648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250320" y="1066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548320" y="217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27320" y="31896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ing numbers to st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362320" y="25909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2880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52680" y="3784680"/>
            <a:ext cx="38124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17880" y="38098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1200" y="89676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 contain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:= s @ 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$]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 contains rule k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:= s @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T] = 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ll terminals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rom i to j marked with T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T] =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rom i to j marked with X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X] = g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52280" y="3886200"/>
          <a:ext cx="8839080" cy="2469960"/>
        </p:xfrm>
        <a:graphic>
          <a:graphicData uri="http://schemas.openxmlformats.org/drawingml/2006/table">
            <a:tbl>
              <a:tblPr/>
              <a:tblGrid>
                <a:gridCol w="1951560"/>
                <a:gridCol w="3941280"/>
                <a:gridCol w="2946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1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5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0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1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2" name=""/>
          <p:cNvSpPr/>
          <p:nvPr/>
        </p:nvSpPr>
        <p:spPr>
          <a:xfrm>
            <a:off x="167832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905120" y="4648320"/>
            <a:ext cx="13716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 rot="16200000">
            <a:off x="2525040" y="3896640"/>
            <a:ext cx="131760" cy="1371600"/>
          </a:xfrm>
          <a:custGeom>
            <a:avLst/>
            <a:gdLst>
              <a:gd name="textAreaLeft" fmla="*/ 0 w 131760"/>
              <a:gd name="textAreaRight" fmla="*/ 47520 w 131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090880" y="4191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057400" y="4648320"/>
            <a:ext cx="121932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 rot="16200000">
            <a:off x="2600640" y="3972600"/>
            <a:ext cx="131760" cy="1219320"/>
          </a:xfrm>
          <a:custGeom>
            <a:avLst/>
            <a:gdLst>
              <a:gd name="textAreaLeft" fmla="*/ 0 w 131760"/>
              <a:gd name="textAreaRight" fmla="*/ 47520 w 1317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090880" y="4191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677960" y="51814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677600" y="51814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x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956200" y="363600"/>
            <a:ext cx="151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677600" y="5181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677600" y="518148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S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677960" y="5181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77960" y="51814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514600" y="4648320"/>
            <a:ext cx="76212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77240" y="51814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677240" y="518148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x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560" y="6324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77240" y="51814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677240" y="518148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S 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677960" y="5181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677960" y="51814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556160" y="51814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 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3" name=""/>
          <p:cNvGraphicFramePr/>
          <p:nvPr/>
        </p:nvGraphicFramePr>
        <p:xfrm>
          <a:off x="1523880" y="2819520"/>
          <a:ext cx="6324480" cy="1790640"/>
        </p:xfrm>
        <a:graphic>
          <a:graphicData uri="http://schemas.openxmlformats.org/drawingml/2006/table">
            <a:tbl>
              <a:tblPr/>
              <a:tblGrid>
                <a:gridCol w="1158840"/>
                <a:gridCol w="738000"/>
                <a:gridCol w="738360"/>
                <a:gridCol w="738000"/>
                <a:gridCol w="738360"/>
                <a:gridCol w="736560"/>
                <a:gridCol w="738000"/>
                <a:gridCol w="738360"/>
              </a:tblGrid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2209680" y="3200400"/>
          <a:ext cx="5333760" cy="1477800"/>
        </p:xfrm>
        <a:graphic>
          <a:graphicData uri="http://schemas.openxmlformats.org/drawingml/2006/table">
            <a:tbl>
              <a:tblPr/>
              <a:tblGrid>
                <a:gridCol w="977760"/>
                <a:gridCol w="622440"/>
                <a:gridCol w="622080"/>
                <a:gridCol w="622440"/>
                <a:gridCol w="622080"/>
                <a:gridCol w="622440"/>
                <a:gridCol w="622440"/>
                <a:gridCol w="62208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7" name=""/>
          <p:cNvGraphicFramePr/>
          <p:nvPr/>
        </p:nvGraphicFramePr>
        <p:xfrm>
          <a:off x="2209680" y="5181480"/>
          <a:ext cx="5333760" cy="1473120"/>
        </p:xfrm>
        <a:graphic>
          <a:graphicData uri="http://schemas.openxmlformats.org/drawingml/2006/table">
            <a:tbl>
              <a:tblPr/>
              <a:tblGrid>
                <a:gridCol w="976320"/>
                <a:gridCol w="3111480"/>
                <a:gridCol w="623880"/>
                <a:gridCol w="62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ook-ah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8" name=""/>
          <p:cNvSpPr/>
          <p:nvPr/>
        </p:nvSpPr>
        <p:spPr>
          <a:xfrm>
            <a:off x="4800600" y="48006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988160" y="473868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e next automat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e row contains both shift and reduce, we will have a conflict ==&gt; the grammar is not LR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wise if the same row contains reduce by two differen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1828800" y="4724280"/>
          <a:ext cx="5333760" cy="1473120"/>
        </p:xfrm>
        <a:graphic>
          <a:graphicData uri="http://schemas.openxmlformats.org/drawingml/2006/table">
            <a:tbl>
              <a:tblPr/>
              <a:tblGrid>
                <a:gridCol w="976320"/>
                <a:gridCol w="3111480"/>
                <a:gridCol w="623880"/>
                <a:gridCol w="62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ook-ah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hift, reduce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educe 2, reduce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067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R (simple LR) is a variant of LR(0) that reduces the number of conflicts in LR(0) tables by using a tiny bit of look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when to reduce, 1 symbol of look ahead is us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ut reduce by rule (X ::= RHS) in column T if T is in Follow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990720" y="4343400"/>
          <a:ext cx="6781680" cy="1477800"/>
        </p:xfrm>
        <a:graphic>
          <a:graphicData uri="http://schemas.openxmlformats.org/drawingml/2006/table">
            <a:tbl>
              <a:tblPr/>
              <a:tblGrid>
                <a:gridCol w="880920"/>
                <a:gridCol w="969840"/>
                <a:gridCol w="970200"/>
                <a:gridCol w="988920"/>
                <a:gridCol w="762120"/>
                <a:gridCol w="761760"/>
                <a:gridCol w="762120"/>
                <a:gridCol w="68580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6" name=""/>
          <p:cNvSpPr/>
          <p:nvPr/>
        </p:nvSpPr>
        <p:spPr>
          <a:xfrm>
            <a:off x="613080" y="6248520"/>
            <a:ext cx="66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s down the number of rk slots &amp; therefore cuts down confl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2209680" y="540972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828800" y="540972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1) &amp; LAL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automata are identical to LR(0) except for the “items” that make up th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0)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 s1 @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 s1 @ s2, 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:  sequenc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n stack; input stream i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2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losure with respect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1 @ Y s2, 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dding all item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s3,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s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(s2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tates are different if they contain the same rules but the rules have different look-ahea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many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LR(1) = LR(1) where states that are identical aside from look-ahead symbols have been 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-Yacc &amp; most parser generators use LA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  Appel 3.3 (and also all of the rest of chapter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2590920" y="30481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967560" y="274320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-ahead symbol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0" y="1219320"/>
            <a:ext cx="6324480" cy="5638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960" y="83808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mbiguous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248520" y="1219320"/>
            <a:ext cx="2895480" cy="5638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251400" y="83808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85800" y="2133720"/>
            <a:ext cx="5105520" cy="419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295280" y="2590920"/>
            <a:ext cx="39625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286000" y="3352680"/>
            <a:ext cx="243828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440800" y="39625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526040" y="3962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52280" y="1676520"/>
            <a:ext cx="6096240" cy="5181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200400" y="1905120"/>
            <a:ext cx="22860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12000" y="3976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520" y="3976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657600" y="3809880"/>
            <a:ext cx="6858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041000" y="1981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920" y="6324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 parsing is more powerful than LL parsing, given the same look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struct an LR parser, it is necessary to compute an LR parse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R parser table represents a finite automaton that walks over the parser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Yacc uses LALR, a compact variant of LR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0280" y="632448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PLU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019920"/>
            <a:ext cx="77724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50640" y="632448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PLUS 3 ( 1 exp 2 PLU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781680" y="624852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35040" y="5591160"/>
            <a:ext cx="132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us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6400800"/>
            <a:ext cx="381240" cy="228600"/>
          </a:xfrm>
          <a:prstGeom prst="ellipse">
            <a:avLst/>
          </a:prstGeom>
          <a:solidFill>
            <a:srgbClr val="cc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very point in the parse, the LR parser table tells us what to do next according to the automaton state at the top of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, reduce, error or 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33520" y="4286160"/>
          <a:ext cx="54864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22:31:46Z</dcterms:created>
  <dc:creator>dpw</dc:creator>
  <dc:description/>
  <dc:language>en-US</dc:language>
  <cp:lastModifiedBy>dpw</cp:lastModifiedBy>
  <dcterms:modified xsi:type="dcterms:W3CDTF">2006-02-28T20:01:40Z</dcterms:modified>
  <cp:revision>15</cp:revision>
  <dc:subject/>
  <dc:title>Parsing &amp; Error Recovery</dc:title>
</cp:coreProperties>
</file>