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A4F7-A40C-4821-8722-C6BF2C83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278-4DF3-43BB-A8A6-AD0D73F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79E-3BA3-4B57-B410-BDD870FE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891-EA33-4E2A-A85A-0CCC36B8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2E8-4C92-48C4-BEED-55D2EAF4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5A9-4C92-42CA-8EB6-CDA782C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052-D380-42F9-BD11-F446883D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ED2-4013-497E-B539-266416EA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6D8-D934-4B7C-BB83-1418B09A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F40-BBF3-4440-BF16-182C184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7B4-5A7C-41CA-9384-BBEA3E5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C31-090E-4FDC-AA0F-243BB6C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C069-75C6-4E7F-8144-1F4526FC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-up Parser T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by rule k is broken into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ck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stack according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H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out state on top of stack (ie: goto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 .......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X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3520" y="4286160"/>
          <a:ext cx="82296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in the automaton represents a collection of LR(0)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from the grammar combined with “@” to indicate where the parser currently is in th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’ ::= @ S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ndicates that the parser is just beginning to parse this rule and it expects to be able to parse S then $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le automaton state looks like th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49760" y="453564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606760" y="47642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2880" y="533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81120" y="4992840"/>
            <a:ext cx="1311480" cy="18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71800" y="46116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" y="6361200"/>
            <a:ext cx="86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 states look very similar, it is just that the items contain some look-ahead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states, we begin with a particular LR(0) item and construct its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sure adds more items to a set when the “@” appears to the left of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tate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 @ Y s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then the state also include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@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4724280"/>
            <a:ext cx="15238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67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46120" y="42102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51055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07160" y="52182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84200" y="47070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LR(0) automa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start rule &amp; compute initial state with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items from the state and move “@” to the right one symbol (as if you have just parsed the symb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reates a new item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and a new state when you compute the closure of the new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the edge between the two state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erminal T, if you moved “@” ove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n-terminal X, if you moved “@” over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until there are no further ways to move “@” across items and generate new states or new edges in the automa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ing Language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(top-down)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ullable, first, follow sets then pars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ynchronizing tokens (Follow(X)) for error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ML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parsing -- more powerful than LL(k) par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parser t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tokens from input on to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stack symbols using grammar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or sign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-Burke error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technique (try every possible insertion/replacement/substitution in k-token wind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he magic:  how to construct the parse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so, the LR parser keeps track of the parse “state” ==&gt; a state in a finite autom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4880" y="8208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311120" y="3316320"/>
            <a:ext cx="152424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16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6360" y="30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228600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5221440"/>
            <a:ext cx="152424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733920" y="563868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327672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43828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77120" y="403848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9907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77120" y="5410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819520" y="350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98108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4495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4197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2438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257440" y="31240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7238880" y="14475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23888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483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2520" y="51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5484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54840" y="55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16788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740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9648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250320" y="1066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71840" y="45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93840" y="312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160880" y="281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70640" y="2986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548320" y="2170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47160" y="1752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08640" y="3581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40680" y="4890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21520" y="5043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0840" y="411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7320" y="31896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ing numbers to st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362320" y="25909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28800" y="2627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52680" y="3784680"/>
            <a:ext cx="38124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17880" y="38098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1200" y="89676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 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$]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i contains rule k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X ::= s @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ll terminals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T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T] =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i to j marked with X ==&gt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able[i,X] = g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3886200"/>
          <a:ext cx="8839080" cy="2469960"/>
        </p:xfrm>
        <a:graphic>
          <a:graphicData uri="http://schemas.openxmlformats.org/drawingml/2006/table">
            <a:tbl>
              <a:tblPr/>
              <a:tblGrid>
                <a:gridCol w="1951560"/>
                <a:gridCol w="3941280"/>
                <a:gridCol w="294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terminals X,Y,Z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 =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286000" y="44830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0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1692360" y="1868400"/>
            <a:ext cx="1523880" cy="95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@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2974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838080"/>
            <a:ext cx="1523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76520" y="3773520"/>
            <a:ext cx="1523880" cy="41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@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114800" y="3795840"/>
            <a:ext cx="1523880" cy="41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114800" y="1828800"/>
            <a:ext cx="15238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@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@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990720"/>
            <a:ext cx="1523880" cy="95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@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@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858000" y="2590920"/>
            <a:ext cx="1523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@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@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 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58000" y="3733920"/>
            <a:ext cx="1523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 @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00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3623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0060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63868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800600" y="1218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638680" y="9907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5638320" y="1676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620120" y="457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620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6201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37340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35720" y="2971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3572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4876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5552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7360" y="60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31200" y="76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3062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475080" y="1676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417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51520" y="1538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29200" y="72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628040" y="54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89520" y="21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21560" y="3276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80240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21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729240" y="83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7432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109680" y="110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2286000" y="4495680"/>
          <a:ext cx="4572000" cy="222264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533520"/>
                <a:gridCol w="533160"/>
                <a:gridCol w="533520"/>
                <a:gridCol w="533520"/>
                <a:gridCol w="533160"/>
                <a:gridCol w="533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8" name=""/>
          <p:cNvSpPr/>
          <p:nvPr/>
        </p:nvSpPr>
        <p:spPr>
          <a:xfrm>
            <a:off x="3733920" y="2400480"/>
            <a:ext cx="380880" cy="419040"/>
          </a:xfrm>
          <a:custGeom>
            <a:avLst/>
            <a:gdLst/>
            <a:ahLst/>
            <a:rect l="l" t="t" r="r" b="b"/>
            <a:pathLst>
              <a:path w="240" h="264">
                <a:moveTo>
                  <a:pt x="240" y="64"/>
                </a:moveTo>
                <a:cubicBezTo>
                  <a:pt x="188" y="32"/>
                  <a:pt x="136" y="0"/>
                  <a:pt x="96" y="16"/>
                </a:cubicBezTo>
                <a:cubicBezTo>
                  <a:pt x="56" y="32"/>
                  <a:pt x="0" y="120"/>
                  <a:pt x="0" y="160"/>
                </a:cubicBezTo>
                <a:cubicBezTo>
                  <a:pt x="0" y="200"/>
                  <a:pt x="56" y="248"/>
                  <a:pt x="96" y="256"/>
                </a:cubicBezTo>
                <a:cubicBezTo>
                  <a:pt x="136" y="264"/>
                  <a:pt x="188" y="236"/>
                  <a:pt x="240" y="2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398760" y="2425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228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"/>
          <p:cNvSpPr/>
          <p:nvPr/>
        </p:nvSpPr>
        <p:spPr>
          <a:xfrm>
            <a:off x="1678320" y="518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905120" y="4648320"/>
            <a:ext cx="13716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 rot="16200000">
            <a:off x="2525040" y="3896640"/>
            <a:ext cx="131760" cy="1371600"/>
          </a:xfrm>
          <a:custGeom>
            <a:avLst/>
            <a:gdLst>
              <a:gd name="textAreaLeft" fmla="*/ 0 w 131760"/>
              <a:gd name="textAreaRight" fmla="*/ 47520 w 131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57400" y="4648320"/>
            <a:ext cx="12193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 rot="16200000">
            <a:off x="2600640" y="3972600"/>
            <a:ext cx="131760" cy="1219320"/>
          </a:xfrm>
          <a:custGeom>
            <a:avLst/>
            <a:gdLst>
              <a:gd name="textAreaLeft" fmla="*/ 0 w 131760"/>
              <a:gd name="textAreaRight" fmla="*/ 47520 w 1317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90880" y="41911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7960" y="51814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77600" y="51814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956200" y="363600"/>
            <a:ext cx="15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677600" y="51814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677600" y="51814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S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62320" y="4648320"/>
            <a:ext cx="91440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14600" y="4648320"/>
            <a:ext cx="76212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77240" y="51814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77240" y="518148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x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560" y="6324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77240" y="5181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677240" y="518148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, 8 S 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677960" y="5181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152280" y="304920"/>
          <a:ext cx="4572000" cy="3682800"/>
        </p:xfrm>
        <a:graphic>
          <a:graphicData uri="http://schemas.openxmlformats.org/drawingml/2006/table">
            <a:tbl>
              <a:tblPr/>
              <a:tblGrid>
                <a:gridCol w="838440"/>
                <a:gridCol w="533160"/>
                <a:gridCol w="533520"/>
                <a:gridCol w="533520"/>
                <a:gridCol w="533160"/>
                <a:gridCol w="533520"/>
                <a:gridCol w="533520"/>
                <a:gridCol w="533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1" name=""/>
          <p:cNvSpPr/>
          <p:nvPr/>
        </p:nvSpPr>
        <p:spPr>
          <a:xfrm>
            <a:off x="1828800" y="518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827720" y="46483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x  ,  x  )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743200" y="4648320"/>
            <a:ext cx="533520" cy="3808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 rot="16200000">
            <a:off x="2774160" y="4103640"/>
            <a:ext cx="90360" cy="914400"/>
          </a:xfrm>
          <a:custGeom>
            <a:avLst/>
            <a:gdLst>
              <a:gd name="textAreaLeft" fmla="*/ 0 w 90360"/>
              <a:gd name="textAreaRight" fmla="*/ 3276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623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7960" y="4702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724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677960" y="5181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( 3 L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651280" y="363600"/>
            <a:ext cx="212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  S’ ::= S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56160" y="5181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 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3" name=""/>
          <p:cNvGraphicFramePr/>
          <p:nvPr/>
        </p:nvGraphicFramePr>
        <p:xfrm>
          <a:off x="1523880" y="2819520"/>
          <a:ext cx="6324480" cy="1790640"/>
        </p:xfrm>
        <a:graphic>
          <a:graphicData uri="http://schemas.openxmlformats.org/drawingml/2006/table">
            <a:tbl>
              <a:tblPr/>
              <a:tblGrid>
                <a:gridCol w="1158840"/>
                <a:gridCol w="738000"/>
                <a:gridCol w="738360"/>
                <a:gridCol w="738000"/>
                <a:gridCol w="738360"/>
                <a:gridCol w="736560"/>
                <a:gridCol w="738000"/>
                <a:gridCol w="738360"/>
              </a:tblGrid>
              <a:tr h="43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209680" y="3200400"/>
          <a:ext cx="5333760" cy="1477800"/>
        </p:xfrm>
        <a:graphic>
          <a:graphicData uri="http://schemas.openxmlformats.org/drawingml/2006/table">
            <a:tbl>
              <a:tblPr/>
              <a:tblGrid>
                <a:gridCol w="977760"/>
                <a:gridCol w="622440"/>
                <a:gridCol w="622080"/>
                <a:gridCol w="622440"/>
                <a:gridCol w="622080"/>
                <a:gridCol w="622440"/>
                <a:gridCol w="622440"/>
                <a:gridCol w="6220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2209680" y="51814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8" name=""/>
          <p:cNvSpPr/>
          <p:nvPr/>
        </p:nvSpPr>
        <p:spPr>
          <a:xfrm>
            <a:off x="4800600" y="480060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988160" y="473868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e next automat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we are doing LR(0) parsing we are using some look ahead (there is a column for each non-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we only use the terminal to figure out which state to go to next, not to decide whether to shift or re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e row contains both shift and reduce, we will have a conflict ==&gt; the grammar is not LR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wise if the same row contains reduce by two differ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1828800" y="4724280"/>
          <a:ext cx="5333760" cy="1473120"/>
        </p:xfrm>
        <a:graphic>
          <a:graphicData uri="http://schemas.openxmlformats.org/drawingml/2006/table">
            <a:tbl>
              <a:tblPr/>
              <a:tblGrid>
                <a:gridCol w="976320"/>
                <a:gridCol w="3111480"/>
                <a:gridCol w="623880"/>
                <a:gridCol w="622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ook-a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hift, reduce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educe 2, reduce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067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R (simple LR) is a variant of LR(0) that reduces the number of conflicts in LR(0) tables by using a tiny bit of look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en to reduce, 1 symbol of look ahead is us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ut reduce by rule (X ::= RHS) in column T if T is in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990720" y="4343400"/>
          <a:ext cx="6781680" cy="1477800"/>
        </p:xfrm>
        <a:graphic>
          <a:graphicData uri="http://schemas.openxmlformats.org/drawingml/2006/table">
            <a:tbl>
              <a:tblPr/>
              <a:tblGrid>
                <a:gridCol w="880920"/>
                <a:gridCol w="969840"/>
                <a:gridCol w="970200"/>
                <a:gridCol w="988920"/>
                <a:gridCol w="762120"/>
                <a:gridCol w="761760"/>
                <a:gridCol w="762120"/>
                <a:gridCol w="68580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6" name=""/>
          <p:cNvSpPr/>
          <p:nvPr/>
        </p:nvSpPr>
        <p:spPr>
          <a:xfrm>
            <a:off x="613080" y="624852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s down the number of rk slots &amp; therefore cuts down confl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209680" y="54097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828800" y="54097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R(1) &amp; LAL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automata are identical to LR(0) except for the “items” that make up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0)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X ::= s1 @ s2,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 sequen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n stack; input stream i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2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closure with respect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X ::= s1 @ Y s2, 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all item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,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 ::= s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ule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(s2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ates are different if they contain the same rules but the rules have different look-ahea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many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LR(1) = LR(1) where states that are identical aside from look-ahead symbols have been 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-Yacc &amp; most parser generators use LAL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 Appel 3.3 (and also all of the rest of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2590920" y="304812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67560" y="27432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-ahead symbol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1219320"/>
            <a:ext cx="6324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960" y="83808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248520" y="1219320"/>
            <a:ext cx="2895480" cy="5638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251400" y="83808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2133720"/>
            <a:ext cx="5105520" cy="41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95280" y="2590920"/>
            <a:ext cx="39625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286000" y="3352680"/>
            <a:ext cx="243828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40800" y="39625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526040" y="3962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52280" y="1676520"/>
            <a:ext cx="6096240" cy="5181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200400" y="1905120"/>
            <a:ext cx="22860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200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520" y="3976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657600" y="3809880"/>
            <a:ext cx="6858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041000" y="1981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920" y="6324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 parsing is more powerful than LL parsing, given the same look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nstruct an LR parser, it is necessary to compute an LR parse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R parser table represents a finite automaton that walks over the parser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-Yacc uses LALR, a compact variant of LR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0280" y="632448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 the magic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onstruct an LR parser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7120" y="281952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exp PLUS ( exp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1160" y="2286000"/>
            <a:ext cx="47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 PLUS ( NUM  PLUS NUM ) PLUS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306520"/>
            <a:ext cx="3200400" cy="28440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6200000">
            <a:off x="6715800" y="619920"/>
            <a:ext cx="131760" cy="3200400"/>
          </a:xfrm>
          <a:custGeom>
            <a:avLst/>
            <a:gdLst>
              <a:gd name="textAreaLeft" fmla="*/ 0 w 131760"/>
              <a:gd name="textAreaRight" fmla="*/ 47520 w 1317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4000" y="18288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97440" y="23400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6720" y="28195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95720" y="51814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3120" y="5410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05200" y="426708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4572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00640" y="4724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97880" y="46846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23680" y="4129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62400" y="4419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3120" y="50292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15760" y="4989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34000" y="3429000"/>
            <a:ext cx="4572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086440" y="36572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7680" y="3541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10320" y="3886200"/>
            <a:ext cx="876240" cy="1752480"/>
          </a:xfrm>
          <a:custGeom>
            <a:avLst/>
            <a:gdLst/>
            <a:ahLst/>
            <a:rect l="l" t="t" r="r" b="b"/>
            <a:pathLst>
              <a:path w="552" h="1104">
                <a:moveTo>
                  <a:pt x="144" y="0"/>
                </a:moveTo>
                <a:cubicBezTo>
                  <a:pt x="260" y="56"/>
                  <a:pt x="376" y="112"/>
                  <a:pt x="432" y="240"/>
                </a:cubicBezTo>
                <a:cubicBezTo>
                  <a:pt x="488" y="368"/>
                  <a:pt x="552" y="624"/>
                  <a:pt x="480" y="768"/>
                </a:cubicBezTo>
                <a:cubicBezTo>
                  <a:pt x="408" y="912"/>
                  <a:pt x="80" y="1040"/>
                  <a:pt x="0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74600" y="41148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79040" y="3809880"/>
            <a:ext cx="18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019920"/>
            <a:ext cx="7772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0640" y="63244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 exp 2 PLUS 3 ( 1 exp 2 PLU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2000" y="63244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tate-annotated sta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8480" y="4836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781680" y="624852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835040" y="5591160"/>
            <a:ext cx="132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u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6400800"/>
            <a:ext cx="381240" cy="228600"/>
          </a:xfrm>
          <a:prstGeom prst="ellipse">
            <a:avLst/>
          </a:prstGeom>
          <a:solidFill>
            <a:srgbClr val="cc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rs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very point in the parse, the LR parser table tells us what to do next according to the automaton state at the top of th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, reduce, error or 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3520" y="4286160"/>
          <a:ext cx="5486400" cy="2190960"/>
        </p:xfrm>
        <a:graphic>
          <a:graphicData uri="http://schemas.openxmlformats.org/drawingml/2006/table">
            <a:tbl>
              <a:tblPr/>
              <a:tblGrid>
                <a:gridCol w="1817640"/>
                <a:gridCol w="366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 seen next ID, NUM, :=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 = shift &amp; goto stat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 = reduce by rul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= 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2:31:46Z</dcterms:created>
  <dc:creator>dpw</dc:creator>
  <dc:description/>
  <dc:language>en-US</dc:language>
  <cp:lastModifiedBy>dpw</cp:lastModifiedBy>
  <dcterms:modified xsi:type="dcterms:W3CDTF">2006-02-28T20:01:40Z</dcterms:modified>
  <cp:revision>15</cp:revision>
  <dc:subject/>
  <dc:title>Parsing &amp; Error Recovery</dc:title>
</cp:coreProperties>
</file>