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5AD-6FF0-4C7A-BD63-57A2798F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157-3615-4457-A28B-4C57C024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DE3B-6EA8-497F-9168-D4466AAB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A6FA-B129-46AD-A6A2-8B334668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0A5-93B9-484B-B465-71C968B5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0FF-4AD2-4E65-8762-D6B9A8B6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045C-2CA9-4C6F-BA04-14877C6D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587-4607-4341-8E84-8D5FFA47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1C4-2DC7-43D5-A43B-314B1132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BA0-EA48-4FD2-8D63-6CDF83CC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136-0788-410C-8C4C-5C900A58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0E4-9951-4F73-B57D-0C6222F1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5870-AFAD-4751-B9C9-BDAFA344C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om-up Parser Table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by rule k is broken into two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ck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stack according to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H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out state on top of stack (ie: goto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33520" y="4286160"/>
          <a:ext cx="8229600" cy="2190960"/>
        </p:xfrm>
        <a:graphic>
          <a:graphicData uri="http://schemas.openxmlformats.org/drawingml/2006/table">
            <a:tbl>
              <a:tblPr/>
              <a:tblGrid>
                <a:gridCol w="1817640"/>
                <a:gridCol w="366876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n-terminals X,Y,Z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gn =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by rule k is broken into two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ck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stack according to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H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out state on top of stack (ie: goto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3520" y="4286160"/>
          <a:ext cx="8229600" cy="2190960"/>
        </p:xfrm>
        <a:graphic>
          <a:graphicData uri="http://schemas.openxmlformats.org/drawingml/2006/table">
            <a:tbl>
              <a:tblPr/>
              <a:tblGrid>
                <a:gridCol w="1817640"/>
                <a:gridCol w="366876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n-terminals X,Y,Z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gn =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te in the automaton represents a collection of LR(0)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from the grammar combined with “@” to indicate where the parser currently is in the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’ ::= @ S 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dicates that the parser is just beginning to parse this rule and it expects to be able to parse S then $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hole automaton state looks like th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49760" y="453564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5484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606760" y="476424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92880" y="53341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181120" y="4992840"/>
            <a:ext cx="1311480" cy="18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71800" y="461160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0)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6400" y="6361200"/>
            <a:ext cx="86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1) states look very similar, it is just that the items contain some look-ahead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states, we begin with a particular LR(0) item and construct it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sure adds more items to a set when the “@” appears to the left of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te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 @ Y s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then the state also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@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472428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67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6120" y="421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84200" y="47070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states, we begin with a particular LR(0) item and construct its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sure adds more items to a set when the “@” appears to the left of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te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 @ Y s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then the state also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@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472428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67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6120" y="421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84200" y="47070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states, we begin with a particular LR(0) item and construct its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sure adds more items to a set when the “@” appears to the left of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te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 @ Y s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then the state also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@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472428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67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46120" y="421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510552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07160" y="521820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84200" y="47070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LR(0) automat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start rule &amp; compute initial state with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one of the items from the state and move “@” to the right one symbol (as if you have just parsed the symb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reates a new item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and a new state when you compute the closure of the new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the edge between the two states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erminal T, if you moved “@” over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n-terminal X, if you moved “@” over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until there are no further ways to move “@” across items and generate new states or new edges in the automa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ing Language Par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(k) (top-down)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ullable, first, follow sets then pars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ynchronizing tokens (Follow(X)) for error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 ML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(k) parsing -- more powerful than LL(k) par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parser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tokens from input on to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stack symbols using grammar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or signal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-Burke error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technique (try every possible insertion/replacement/substitution in k-token wind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he magic:  how to construct the parser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5257440" y="31240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570640" y="2986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very point in the parse, the LR parser table tells us what to do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, reduce, error or 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 so, the LR parser keeps track of the parse “state” ==&gt; a state in a finite automa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257800" y="2438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5257440" y="31240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570640" y="2986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548320" y="217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362320" y="25909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728800" y="26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916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257800" y="2438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257440" y="31240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4836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92520" y="519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35484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354840" y="557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16788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1740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39648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250320" y="1066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570640" y="2986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548320" y="217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27320" y="31896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ing numbers to st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362320" y="25909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728800" y="26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352680" y="3784680"/>
            <a:ext cx="38124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17880" y="38098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41200" y="89676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i contain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::= s @ 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$]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i contains rule k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::= s @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T] = 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all terminals 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rom i to j marked with T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T] =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rom i to j marked with X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X] = g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52280" y="3886200"/>
          <a:ext cx="8839080" cy="2469960"/>
        </p:xfrm>
        <a:graphic>
          <a:graphicData uri="http://schemas.openxmlformats.org/drawingml/2006/table">
            <a:tbl>
              <a:tblPr/>
              <a:tblGrid>
                <a:gridCol w="1951560"/>
                <a:gridCol w="3941280"/>
                <a:gridCol w="2946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terminals X,Y,Z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 =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1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5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5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0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1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2" name=""/>
          <p:cNvSpPr/>
          <p:nvPr/>
        </p:nvSpPr>
        <p:spPr>
          <a:xfrm>
            <a:off x="167832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905120" y="4648320"/>
            <a:ext cx="13716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V="1" rot="16200000">
            <a:off x="2525040" y="3896640"/>
            <a:ext cx="131760" cy="1371600"/>
          </a:xfrm>
          <a:custGeom>
            <a:avLst/>
            <a:gdLst>
              <a:gd name="textAreaLeft" fmla="*/ 0 w 131760"/>
              <a:gd name="textAreaRight" fmla="*/ 47520 w 1317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090880" y="41911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057400" y="4648320"/>
            <a:ext cx="121932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 rot="16200000">
            <a:off x="2600640" y="3972600"/>
            <a:ext cx="131760" cy="1219320"/>
          </a:xfrm>
          <a:custGeom>
            <a:avLst/>
            <a:gdLst>
              <a:gd name="textAreaLeft" fmla="*/ 0 w 131760"/>
              <a:gd name="textAreaRight" fmla="*/ 47520 w 1317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090880" y="41911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677960" y="51814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677600" y="518148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x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956200" y="363600"/>
            <a:ext cx="151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677600" y="51814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677600" y="518148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S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677960" y="51814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77960" y="51814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514600" y="4648320"/>
            <a:ext cx="76212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77240" y="518148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677240" y="518148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x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560" y="6324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677240" y="51814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677240" y="518148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S 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677960" y="51814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677960" y="51814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556160" y="518148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 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we are doing LR(0) parsing we are using some look ahead (there is a column for each non-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we only use the terminal to figure out which state to go to next, not to decide whether to shift or 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3" name=""/>
          <p:cNvGraphicFramePr/>
          <p:nvPr/>
        </p:nvGraphicFramePr>
        <p:xfrm>
          <a:off x="1523880" y="2819520"/>
          <a:ext cx="6324480" cy="1790640"/>
        </p:xfrm>
        <a:graphic>
          <a:graphicData uri="http://schemas.openxmlformats.org/drawingml/2006/table">
            <a:tbl>
              <a:tblPr/>
              <a:tblGrid>
                <a:gridCol w="1158840"/>
                <a:gridCol w="738000"/>
                <a:gridCol w="738360"/>
                <a:gridCol w="738000"/>
                <a:gridCol w="738360"/>
                <a:gridCol w="736560"/>
                <a:gridCol w="738000"/>
                <a:gridCol w="738360"/>
              </a:tblGrid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we are doing LR(0) parsing we are using some look ahead (there is a column for each non-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we only use the terminal to figure out which state to go to next, not to decide whether to shift or 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2209680" y="3200400"/>
          <a:ext cx="5333760" cy="1477800"/>
        </p:xfrm>
        <a:graphic>
          <a:graphicData uri="http://schemas.openxmlformats.org/drawingml/2006/table">
            <a:tbl>
              <a:tblPr/>
              <a:tblGrid>
                <a:gridCol w="977760"/>
                <a:gridCol w="622440"/>
                <a:gridCol w="622080"/>
                <a:gridCol w="622440"/>
                <a:gridCol w="622080"/>
                <a:gridCol w="622440"/>
                <a:gridCol w="622440"/>
                <a:gridCol w="62208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7" name=""/>
          <p:cNvGraphicFramePr/>
          <p:nvPr/>
        </p:nvGraphicFramePr>
        <p:xfrm>
          <a:off x="2209680" y="5181480"/>
          <a:ext cx="5333760" cy="1473120"/>
        </p:xfrm>
        <a:graphic>
          <a:graphicData uri="http://schemas.openxmlformats.org/drawingml/2006/table">
            <a:tbl>
              <a:tblPr/>
              <a:tblGrid>
                <a:gridCol w="976320"/>
                <a:gridCol w="3111480"/>
                <a:gridCol w="623880"/>
                <a:gridCol w="622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look-ah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8" name=""/>
          <p:cNvSpPr/>
          <p:nvPr/>
        </p:nvSpPr>
        <p:spPr>
          <a:xfrm>
            <a:off x="4800600" y="48006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988160" y="473868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e next automato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we are doing LR(0) parsing we are using some look ahead (there is a column for each non-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we only use the terminal to figure out which state to go to next, not to decide whether to shift or 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ame row contains both shift and reduce, we will have a conflict ==&gt; the grammar is not LR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wise if the same row contains reduce by two different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1828800" y="4724280"/>
          <a:ext cx="5333760" cy="1473120"/>
        </p:xfrm>
        <a:graphic>
          <a:graphicData uri="http://schemas.openxmlformats.org/drawingml/2006/table">
            <a:tbl>
              <a:tblPr/>
              <a:tblGrid>
                <a:gridCol w="976320"/>
                <a:gridCol w="3111480"/>
                <a:gridCol w="623880"/>
                <a:gridCol w="622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look-ah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shift, reduce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educe 2, reduce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067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R (simple LR) is a variant of LR(0) that reduces the number of conflicts in LR(0) tables by using a tiny bit of look 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when to reduce, 1 symbol of look ahead is us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ut reduce by rule (X ::= RHS) in column T if T is in Follow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990720" y="4343400"/>
          <a:ext cx="6781680" cy="1477800"/>
        </p:xfrm>
        <a:graphic>
          <a:graphicData uri="http://schemas.openxmlformats.org/drawingml/2006/table">
            <a:tbl>
              <a:tblPr/>
              <a:tblGrid>
                <a:gridCol w="880920"/>
                <a:gridCol w="969840"/>
                <a:gridCol w="970200"/>
                <a:gridCol w="988920"/>
                <a:gridCol w="762120"/>
                <a:gridCol w="761760"/>
                <a:gridCol w="762120"/>
                <a:gridCol w="68580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6" name=""/>
          <p:cNvSpPr/>
          <p:nvPr/>
        </p:nvSpPr>
        <p:spPr>
          <a:xfrm>
            <a:off x="613080" y="6248520"/>
            <a:ext cx="66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s down the number of rk slots &amp; therefore cuts down confli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2209680" y="540972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828800" y="540972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1) &amp; LAL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automata are identical to LR(0) except for the “items” that make up th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0) 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 s1 @ 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 s1 @ s2, 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:  sequenc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on stack; input stream i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2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closure with respect t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1 @ Y s2, 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dding all item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s3,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s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rst(s2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tates are different if they contain the same rules but the rules have different look-ahead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many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LR(1) = LR(1) where states that are identical aside from look-ahead symbols have been 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-Yacc &amp; most parser generators use LAL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:  Appel 3.3 (and also all of the rest of chapter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2590920" y="304812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967560" y="274320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-ahead symbol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0" y="1219320"/>
            <a:ext cx="6324480" cy="5638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960" y="83808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mbiguous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248520" y="1219320"/>
            <a:ext cx="2895480" cy="5638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251400" y="83808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85800" y="2133720"/>
            <a:ext cx="5105520" cy="4190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295280" y="2590920"/>
            <a:ext cx="3962520" cy="32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286000" y="3352680"/>
            <a:ext cx="243828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440800" y="39625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526040" y="3962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52280" y="1676520"/>
            <a:ext cx="6096240" cy="5181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200400" y="1905120"/>
            <a:ext cx="22860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12000" y="3976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520" y="3976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657600" y="3809880"/>
            <a:ext cx="6858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041000" y="1981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920" y="63244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exp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R parsing is more powerful than LL parsing, given the same look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struct an LR parser, it is necessary to compute an LR parser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R parser table represents a finite automaton that walks over the parser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-Yacc uses LALR, a compact variant of LR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50280" y="632448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exp 2 PLU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6019920"/>
            <a:ext cx="77724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50640" y="632448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exp 2 PLUS 3 ( 1 exp 2 PLU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781680" y="624852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835040" y="5591160"/>
            <a:ext cx="132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 us 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6400800"/>
            <a:ext cx="381240" cy="228600"/>
          </a:xfrm>
          <a:prstGeom prst="ellipse">
            <a:avLst/>
          </a:prstGeom>
          <a:solidFill>
            <a:srgbClr val="cc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very point in the parse, the LR parser table tells us what to do next according to the automaton state at the top of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, reduce, error or 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33520" y="4286160"/>
          <a:ext cx="5486400" cy="2190960"/>
        </p:xfrm>
        <a:graphic>
          <a:graphicData uri="http://schemas.openxmlformats.org/drawingml/2006/table">
            <a:tbl>
              <a:tblPr/>
              <a:tblGrid>
                <a:gridCol w="1817640"/>
                <a:gridCol w="3668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22:31:46Z</dcterms:created>
  <dc:creator>dpw</dc:creator>
  <dc:description/>
  <dc:language>en-US</dc:language>
  <cp:lastModifiedBy>dpw</cp:lastModifiedBy>
  <dcterms:modified xsi:type="dcterms:W3CDTF">2006-02-28T20:01:40Z</dcterms:modified>
  <cp:revision>15</cp:revision>
  <dc:subject/>
  <dc:title>Parsing &amp; Error Recovery</dc:title>
</cp:coreProperties>
</file>