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B48-867E-4876-92B8-5F8279FE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0C4-CD53-4B56-BB97-D4B6B3E9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EF2-779B-4A0F-90B1-7B2FD54A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F04-67CC-4658-8502-377CC315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2F5-4B3C-4776-AB73-4691E9CC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581-3681-4489-B7DA-B6D5792E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B9C-1242-49C4-AE08-640789BD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462-CAF5-45A8-A4BA-C3C0999D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54A-6CB2-487D-B33E-8FA3FD0C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085-5224-4450-9AF5-CBE416B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41A-DC78-4F11-A524-9D21E11C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E70-8703-4294-B3BF-0E443422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F923-307A-41E0-A33F-FA9A7F93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actions typically build the abstract syntax for the intern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semantic values during parsing, we must declare symbo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terminal NUM of int | PLUS | MUL |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nonterminal exp of int | fact of int | base of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semantic action must match type declared for LHS nonterminal in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9000" y="1295280"/>
            <a:ext cx="50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of int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of int | fact of int | base of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 +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1 * bas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47712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962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1480" y="3276720"/>
            <a:ext cx="16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1027080"/>
            <a:ext cx="140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5040" y="293220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ger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760" y="1752480"/>
            <a:ext cx="4809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fact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base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86760" y="2209680"/>
            <a:ext cx="17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4040" y="28195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y don’t we just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simpler gramm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3320" y="28195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gramma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mbiguou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8309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562360" y="3505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8080" y="1752480"/>
            <a:ext cx="259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it is so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at it would be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use.  Moreover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w which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ee we want. 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need a 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specify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8309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21840" y="537048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3762360"/>
            <a:ext cx="13302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0760" y="44197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21840" y="537048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0760" y="44197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N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701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18240" y="53704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44197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Lexing, CFGs, and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a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parser generation via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3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20760" y="53704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ppose we REDUCE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01480" y="4419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 rot="16200000">
            <a:off x="5576760" y="3366360"/>
            <a:ext cx="199800" cy="685800"/>
          </a:xfrm>
          <a:custGeom>
            <a:avLst/>
            <a:gdLst>
              <a:gd name="textAreaLeft" fmla="*/ 0 w 199800"/>
              <a:gd name="textAreaRight" fmla="*/ 72000 w 1998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18960" y="537048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w:  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 rot="16200000">
            <a:off x="5614560" y="332892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19320" y="5370480"/>
            <a:ext cx="585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+ E on stack, we see 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shift.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ince * ha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gher prece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n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&gt;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 to the right on the stack get process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20400" y="5370480"/>
            <a:ext cx="532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“-” to be a left-associative ope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: NUM – NUM – NUM == ((NUM – NUM) –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118960" y="5370480"/>
            <a:ext cx="36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81480" y="3762360"/>
            <a:ext cx="7970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5538240" y="3252600"/>
            <a:ext cx="123840" cy="838440"/>
          </a:xfrm>
          <a:custGeom>
            <a:avLst/>
            <a:gdLst>
              <a:gd name="textAreaLeft" fmla="*/ 0 w 123840"/>
              <a:gd name="textAreaRight" fmla="*/ 44640 w 1238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118960" y="537048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181480" y="3762360"/>
            <a:ext cx="7970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 rot="16200000">
            <a:off x="5538240" y="3252600"/>
            <a:ext cx="123840" cy="838440"/>
          </a:xfrm>
          <a:custGeom>
            <a:avLst/>
            <a:gdLst>
              <a:gd name="textAreaLeft" fmla="*/ 0 w 123840"/>
              <a:gd name="textAreaRight" fmla="*/ 44640 w 1238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310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2040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1390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1178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20400" y="537048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 REDUCE. 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reduce since – i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ft-associ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olutions to dealing with operator precedence and associa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let Yacc compl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default choice is to shift when it encounters a shift-reduc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:  programmer intentions unclear; harder to debug other parts of your grammar; generally ineleg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rewrite the grammar to eliminate 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licated and less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use Yacc precedence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left, %right %nonass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directives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L-Yacc assigns precedence to each terminal and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terminal based on order in which associativity is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rule is the precedence of the right-most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precedence of (E ::= E + E) == prec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-reduce conflict is resolved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gt; prec(rule) ==&gt;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lt; prec(rule) ==&gt;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= prec(rule) =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left ==&gt;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right ==&gt;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nonassoc ==&gt; report as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76000" y="63468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.....E %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72760" y="58053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48320" y="5834160"/>
            <a:ext cx="148248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 rot="16200000">
            <a:off x="5347800" y="498132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26080" y="5348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92880" y="5867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16560" y="63468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920" y="1752480"/>
            <a:ext cx="84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Sub of exp * exp | Mul of exp * exp | Div of exp *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43920" y="374796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 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185720" y="53704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18752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02760" y="34653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699160" y="3465360"/>
            <a:ext cx="33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*) &gt; prec(-) ==&gt; we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prec UMINU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prec UMINU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639400" y="275112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00240" y="3465360"/>
            <a:ext cx="354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ing precedence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s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UMINUS) &gt; prec(MUL) =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f E the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if a then if b then S else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1:  if a then (if b then S el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2: if a then (if b then S)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reports 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fault behavior: shift (what we w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olution is to rewrite 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::= if E then M els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::=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f E then M else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behavior of ML-Yac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by first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considered un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ssignment 3, your job is to write a grammar for Fun such that there are no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precedence directives tast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:  To enter ML-Yacc hell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parser to catch type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ing assignment 3, your job is to catc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ars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ots of programming errors that will slip by the par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3 +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ing these sorts of errors is the job of the type c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catching program structure errors was the job of the parser, not the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ing to do type checking in the parser is impossible (in gen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Hint: what does 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ntext-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mmar” imp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5040" y="62625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rot="10800000">
            <a:off x="5713920" y="6140520"/>
            <a:ext cx="762120" cy="48888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8560" y="46162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rot="16200000">
            <a:off x="5786640" y="4727520"/>
            <a:ext cx="387360" cy="685800"/>
          </a:xfrm>
          <a:custGeom>
            <a:avLst/>
            <a:gdLst>
              <a:gd name="textAreaLeft" fmla="*/ 360 w 387360"/>
              <a:gd name="textAreaRight" fmla="*/ 388080 w 387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9480" y="2525760"/>
            <a:ext cx="6760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:  declare values available in the rul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Yacc Definitions:  declare terminals and non-terminal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declarations to resolve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:  parser specified by CFG rul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semantic action that generate abstract syn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-Yacc declarations (preliminari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ype of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pos int *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erminal and nonterminal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term IF | THEN | ELSE | PLUS | MINU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nonterm prog | exp |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end-of-parse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start symbol (by default, non terminal in LHS of first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start 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L-Yacc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9000" y="1295280"/>
            <a:ext cx="448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| fact |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400" y="3505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5812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480" y="3276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78560" y="2703600"/>
            <a:ext cx="13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 not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3520" y="10270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an attribute-gramma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nterminal may have a semantic value associated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arser reduces with (X ::=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mantic action will be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emantic values from symbols i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rsing is completed success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returns semantic value associated with the star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 pars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6-02-23T19:28:11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