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848-1ECD-4385-81BA-73286D6F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005-C369-4A75-8635-8330D1D3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6B5-90A1-425D-9CBF-22B49B3E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86E-AA79-414C-9874-4CC1442E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40EA-7445-4385-BBAE-E428F330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8E43-AF82-472C-8748-E26CCA2E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05D-3352-47DE-848E-A6AE9139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EFB-69BA-48D8-8C80-36A5526C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88E-B19A-468A-A4A0-5D42C40A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56F-2A58-41CC-974D-1697032C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31E-ECAA-43EB-9D48-2F62698C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139-AD87-4D7C-ADEF-A3D3F4D1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942C-A393-4AC3-9824-3B57FFD13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actions typically build the abstract syntax for the intern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semantic values during parsing, we must declare symbo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terminal NUM of int | PLUS | MUL |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nonterminal exp of int | fact of int | base of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semantic action must match type declared for LHS nonterminal in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9000" y="1295280"/>
            <a:ext cx="504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term NUM of int | PLUS | MUL | LPAR | R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onterm exp of int | fact of int | base of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pos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tart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 +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1 * bas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47712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9625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1480" y="3276720"/>
            <a:ext cx="16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1027080"/>
            <a:ext cx="140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5040" y="293220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ger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a 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with Semantic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760" y="1752480"/>
            <a:ext cx="4809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fact, ex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base, exp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86760" y="2209680"/>
            <a:ext cx="171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ia sem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4040" y="281952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y don’t we just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simpler gramm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62720" y="3468600"/>
            <a:ext cx="914400" cy="49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3320" y="281952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is gramma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mbiguou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4400" y="57913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8309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791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647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89000" y="569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73520" y="57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55120" y="514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2194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010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60068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8192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5840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04320" y="514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62800" y="5450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392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05600" y="491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9624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4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2468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4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50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97880" y="578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64520" y="575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6600" y="5235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4097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525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48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50120" y="523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648320" y="5562720"/>
            <a:ext cx="13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9112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500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865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64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49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5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impler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7280" y="1752480"/>
            <a:ext cx="481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Mul of exp *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562360" y="3505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8080" y="1752480"/>
            <a:ext cx="259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it is so c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at it would be 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use.  Moreover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now which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ee we want. 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ust need a mech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o specify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4400" y="57913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58309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791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6476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89000" y="5692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73520" y="57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55120" y="51451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2194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0104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60068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81920" y="493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5840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04320" y="514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62800" y="54500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472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392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05600" y="491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9624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74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2468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94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5040" y="6324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97880" y="57834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4520" y="5754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06600" y="5235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4097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5464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525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5021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4832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50120" y="523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648320" y="5562720"/>
            <a:ext cx="13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552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9112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500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8652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448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496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760" y="441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21840" y="537048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do to get the right pa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3762360"/>
            <a:ext cx="13302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0760" y="44197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21840" y="537048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hould we do to get the right pa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0760" y="44197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N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701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18240" y="5370480"/>
            <a:ext cx="15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IFT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44197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*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Lexing, CFGs, and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ar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parser generation via ML-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: Chapter 3 of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00760" y="4419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ll how LR parsing wor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1480" y="441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327672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3762360"/>
            <a:ext cx="14065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00760" y="44197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120760" y="537048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ppose we REDUCE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3762360"/>
            <a:ext cx="14065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01480" y="441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34120" y="3762360"/>
            <a:ext cx="6444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01480" y="44197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 rot="16200000">
            <a:off x="5576760" y="3366360"/>
            <a:ext cx="199800" cy="685800"/>
          </a:xfrm>
          <a:custGeom>
            <a:avLst/>
            <a:gdLst>
              <a:gd name="textAreaLeft" fmla="*/ 0 w 199800"/>
              <a:gd name="textAreaRight" fmla="*/ 72000 w 1998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18960" y="5370480"/>
            <a:ext cx="32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w:  SHIFT SHIFT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45600" y="19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4120" y="3762360"/>
            <a:ext cx="64440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 rot="16200000">
            <a:off x="5614560" y="332892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120400" y="53704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64000" y="2554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45600" y="1944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16200" y="17524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126240" y="37339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+ NUM *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00760" y="44197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476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33200" y="35956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476040" y="3054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942320" y="3025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484400" y="25066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78788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169120" y="2735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33068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711920" y="2292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926480" y="24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027920" y="2506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025760" y="2833560"/>
            <a:ext cx="133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093160" y="2797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469280" y="1933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35960" y="2278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56468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42640" y="2986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49312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731000" y="3290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556320" y="1523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parse tre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119320" y="5370480"/>
            <a:ext cx="585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+ E on stack, we see 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shift. W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ince * ha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gher prece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n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=&gt;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 to the right on the stack get processed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7695720" y="3962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302960" y="4684680"/>
            <a:ext cx="156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esired p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0112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-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20400" y="5370480"/>
            <a:ext cx="532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“-” to be a left-associative ope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: NUM – NUM – NUM == ((NUM – NUM) –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495680" y="376236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 rot="16200000">
            <a:off x="5195880" y="290988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738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118960" y="5370480"/>
            <a:ext cx="36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181480" y="3762360"/>
            <a:ext cx="7970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01120" y="44197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-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 rot="16200000">
            <a:off x="5538240" y="3252600"/>
            <a:ext cx="123840" cy="838440"/>
          </a:xfrm>
          <a:custGeom>
            <a:avLst/>
            <a:gdLst>
              <a:gd name="textAreaLeft" fmla="*/ 0 w 123840"/>
              <a:gd name="textAreaRight" fmla="*/ 44640 w 1238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98672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118960" y="5370480"/>
            <a:ext cx="25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SHIFT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181480" y="3762360"/>
            <a:ext cx="7970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 rot="16200000">
            <a:off x="5538240" y="3252600"/>
            <a:ext cx="123840" cy="838440"/>
          </a:xfrm>
          <a:custGeom>
            <a:avLst/>
            <a:gdLst>
              <a:gd name="textAreaLeft" fmla="*/ 0 w 123840"/>
              <a:gd name="textAreaRight" fmla="*/ 44640 w 12384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310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20400" y="537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: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6200" y="1752480"/>
            <a:ext cx="292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:=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6240" y="373392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- NUM -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39520" y="44197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257800" y="3762360"/>
            <a:ext cx="72072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297080" y="368604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01840" y="4419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 rot="16200000">
            <a:off x="5576400" y="3290760"/>
            <a:ext cx="123840" cy="762120"/>
          </a:xfrm>
          <a:custGeom>
            <a:avLst/>
            <a:gdLst>
              <a:gd name="textAreaLeft" fmla="*/ 0 w 123840"/>
              <a:gd name="textAreaRight" fmla="*/ 44640 w 1238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139000" y="32767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117880" y="537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4696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555240" y="31240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079480" y="2492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64360" y="2554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45240" y="1944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0099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391520" y="2263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39116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772400" y="1730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4852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94800" y="1944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153280" y="2249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15200" y="2325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529760" y="1371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696080" y="1716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78672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5646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71516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9534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6857640" y="3580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27000" y="4343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ed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2920" y="35809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120400" y="5370480"/>
            <a:ext cx="44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shift-reduce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E - E on stack, we see -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we do? REDUCE.  W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reduce since – i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ft-associ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olutions to dealing with operator precedence and associa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let Yacc compla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default choice is to shift when it encounters a shift-reduc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:  programmer intentions unclear; harder to debug other parts of your grammar; generally ineleg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rewrite the grammar to eliminate 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licated and less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use Yacc precedence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left, %right %nonass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directives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L-Yacc assigns precedence to each terminal and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edence of terminal based on order in which associativity is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edence of rule is the precedence of the right-most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precedence of (E ::= E + E) == prec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-reduce conflict is resolved as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&gt; prec(rule) ==&gt;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&lt; prec(rule) ==&gt;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(terminal) = prec(rule) =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left ==&gt;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right ==&gt;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(terminal) = nonassoc ==&gt; report as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276000" y="63468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.....E %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72760" y="58053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48320" y="5834160"/>
            <a:ext cx="148248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 rot="16200000">
            <a:off x="5347800" y="498132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26080" y="53481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92880" y="5867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16560" y="63468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920" y="1752480"/>
            <a:ext cx="84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| Add of exp * exp | Sub of exp * exp | Mul of exp * exp | Div of exp *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740320" y="3206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098760" y="316692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MUL) &gt; prec(P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43920" y="374796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 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740320" y="32068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098760" y="316692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MUL) &gt; prec(PL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185720" y="537048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739960" y="32068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SUB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098400" y="316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PLUS) = prec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edence and associ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43920" y="37479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PL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39960" y="32068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SUB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114800" y="323532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 rot="16200000">
            <a:off x="4814280" y="2382840"/>
            <a:ext cx="123840" cy="152388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192920" y="2749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59360" y="3268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 terminal T n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3040" y="374796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RHS of rule on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ence dir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98400" y="316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(PLUS) = prec(S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187520" y="53704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07800" y="1066680"/>
            <a:ext cx="48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02760" y="34653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54864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9600" y="57592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or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07800" y="1066680"/>
            <a:ext cx="481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699160" y="3465360"/>
            <a:ext cx="334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pp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ec(*) &gt; prec(-) ==&gt; we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55880" y="914400"/>
            <a:ext cx="5104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%left U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%prec UMINUS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639760" y="27511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5880" y="914400"/>
            <a:ext cx="5104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exp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of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Add of exp * exp | Sub of exp * ex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Mul of exp * exp | Div of exp *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Uminus of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PLUS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left MUL D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%left U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N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 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MINUS ex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cc00"/>
                </a:solidFill>
                <a:latin typeface="Arial"/>
              </a:rPr>
              <a:t>%prec UMINUS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(Uminus 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d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INUS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MUL ex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ul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xp DIV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v (exp1, exp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639400" y="275112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...E MINU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635800" y="22096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..............MU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010280" y="2238480"/>
            <a:ext cx="1482840" cy="2761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 rot="16200000">
            <a:off x="7710480" y="1385640"/>
            <a:ext cx="123840" cy="1524240"/>
          </a:xfrm>
          <a:custGeom>
            <a:avLst/>
            <a:gdLst>
              <a:gd name="textAreaLeft" fmla="*/ 0 w 123840"/>
              <a:gd name="textAreaRight" fmla="*/ 44640 w 1238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8400" y="17524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257800" y="990720"/>
            <a:ext cx="0" cy="586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00240" y="3465360"/>
            <a:ext cx="354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ing precedence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s d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ec(UMINUS) &gt; prec(MUL) =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ngling els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::= if E then S els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if E then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 if a then if b then S else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1:  if a then (if b then S el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2: if a then (if b then S) els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r reports shift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fault behavior: shift (what we w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ngling else probl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if E then S else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if E the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olution is to rewrite gramm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::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::= if E then M else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::= if E the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if E then M else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behavior of ML-Yac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-Reduce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by first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considered un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ssignment 3, your job is to write a grammar for Fun such that there are no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use precedence directives tast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:  To enter ML-Yacc hell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parser to catch type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ing assignment 3, your job is to catc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arse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lots of programming errors that will slip by the par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3 +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ing these sorts of errors is the job of the type ch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catching program structure errors was the job of the parser, not the 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ing to do type checking in the parser is impossible (in gene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 Hint: what does “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ntext-f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ammar” imp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Parser from scr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boring as writing a lexer, but not exactly a weekend in the Bah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ars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general &amp; robust.  sometimes not quite as efficient as hand-written parsers.  Nevertheless, good for lazy compiler wri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4864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9600" y="575928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5257800"/>
            <a:ext cx="14479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5040" y="62625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rot="10800000">
            <a:off x="5713920" y="6140520"/>
            <a:ext cx="762120" cy="488880"/>
          </a:xfrm>
          <a:custGeom>
            <a:avLst/>
            <a:gdLst>
              <a:gd name="textAreaLeft" fmla="*/ -360 w 762120"/>
              <a:gd name="textAreaRight" fmla="*/ 762120 w 7621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78560" y="461628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rot="16200000">
            <a:off x="5786640" y="4727520"/>
            <a:ext cx="387360" cy="685800"/>
          </a:xfrm>
          <a:custGeom>
            <a:avLst/>
            <a:gdLst>
              <a:gd name="textAreaLeft" fmla="*/ 360 w 387360"/>
              <a:gd name="textAreaRight" fmla="*/ 388080 w 387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10" stAng="10800000" swAng="5400000"/>
                <a:lnTo>
                  <a:pt x="16245" y="3550"/>
                </a:lnTo>
                <a:lnTo>
                  <a:pt x="16245" y="0"/>
                </a:lnTo>
                <a:lnTo>
                  <a:pt x="21600" y="6079"/>
                </a:lnTo>
                <a:lnTo>
                  <a:pt x="16245" y="12158"/>
                </a:lnTo>
                <a:lnTo>
                  <a:pt x="16245" y="8608"/>
                </a:lnTo>
                <a:lnTo>
                  <a:pt x="12427" y="8608"/>
                </a:lnTo>
                <a:arcTo wR="7369" hR="3552" stAng="16200000" swAng="-5400000"/>
                <a:lnTo>
                  <a:pt x="5058" y="216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-Yacc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9480" y="2525760"/>
            <a:ext cx="6760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clarations:  declare values available in the rul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-Yacc Definitions:  declare terminals and non-terminal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declarations to resolve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:  parser specified by CFG rul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d semantic action that generate abstract synta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L-Yacc declarations (preliminari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ype of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pos int *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erminal and nonterminal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term IF | THEN | ELSE | PLUS | MINU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nonterm prog | exp |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end-of-parse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start symbol (by default, non terminal in LHS of first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start 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ML-Yacc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9000" y="1295280"/>
            <a:ext cx="448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term NUM | PLUS | MUL | LPAR | R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nonterm exp | fact |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pos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start 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eop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 : fact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fact PLUS ex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 : b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ase MUL fa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: N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LPAR exp RP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86400" y="350532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581280"/>
            <a:ext cx="1295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480" y="3276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78560" y="2703600"/>
            <a:ext cx="132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 not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3520" y="102708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1752480"/>
            <a:ext cx="1143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Yacc uses an attribute-gramma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nterminal may have a semantic value associated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arser reduces with (X ::=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mantic action will be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emantic values from symbols in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arsing is completed success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returns semantic value associated with the star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 pars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6-02-23T19:28:11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