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D1B1-9DB8-4AD4-B3FA-39854FEC2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33F5-1EF6-4D5E-B0C3-6C758DC69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A309-94ED-4DCB-ABC1-BAA8B50F5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2F23-47BF-4F6A-A322-591F98F1B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689E-2382-493A-959F-0A7FAB753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D031-2A65-45D9-9664-5F8A70387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E103-01D9-4FB8-A15D-C3E1715FB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7109-440C-4775-8DE8-F3AFDE615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F260-D147-49A7-8474-94F8254E5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588C-8990-4958-86E5-D4EA12451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CEAC-8D41-4FEA-82B0-AD1ECD24C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BD29-565E-4F95-8BD3-10989036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6C167-EC16-4EE2-8687-49CC056B93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 320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Wal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a predictive par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583640" y="16365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35440" y="160020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829480" y="16002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447920" y="3048120"/>
          <a:ext cx="6400440" cy="2697120"/>
        </p:xfrm>
        <a:graphic>
          <a:graphicData uri="http://schemas.openxmlformats.org/drawingml/2006/table">
            <a:tbl>
              <a:tblPr/>
              <a:tblGrid>
                <a:gridCol w="1600200"/>
                <a:gridCol w="1599840"/>
                <a:gridCol w="1600200"/>
                <a:gridCol w="1600200"/>
              </a:tblGrid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1531440" y="6284880"/>
            <a:ext cx="72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one round of induction, we realize we have reached a fixed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8120" y="586728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a predictive par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83640" y="16365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35440" y="160020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829480" y="16002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447920" y="3048120"/>
          <a:ext cx="6400440" cy="2697120"/>
        </p:xfrm>
        <a:graphic>
          <a:graphicData uri="http://schemas.openxmlformats.org/drawingml/2006/table">
            <a:tbl>
              <a:tblPr/>
              <a:tblGrid>
                <a:gridCol w="1600200"/>
                <a:gridCol w="1599840"/>
                <a:gridCol w="1600200"/>
                <a:gridCol w="1600200"/>
              </a:tblGrid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"/>
          <p:cNvSpPr/>
          <p:nvPr/>
        </p:nvSpPr>
        <p:spPr>
          <a:xfrm>
            <a:off x="3736440" y="628488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4816440" y="5867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a predictive par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83640" y="16365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35440" y="160020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829480" y="16002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447920" y="3048120"/>
          <a:ext cx="6400440" cy="2697120"/>
        </p:xfrm>
        <a:graphic>
          <a:graphicData uri="http://schemas.openxmlformats.org/drawingml/2006/table">
            <a:tbl>
              <a:tblPr/>
              <a:tblGrid>
                <a:gridCol w="1600200"/>
                <a:gridCol w="1599840"/>
                <a:gridCol w="1600200"/>
                <a:gridCol w="1600200"/>
              </a:tblGrid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"/>
          <p:cNvSpPr/>
          <p:nvPr/>
        </p:nvSpPr>
        <p:spPr>
          <a:xfrm>
            <a:off x="3737160" y="6284880"/>
            <a:ext cx="24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nd 1, no fixed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816440" y="5867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a predictive par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83640" y="16365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35440" y="160020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829480" y="16002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447920" y="3048120"/>
          <a:ext cx="6400440" cy="2697120"/>
        </p:xfrm>
        <a:graphic>
          <a:graphicData uri="http://schemas.openxmlformats.org/drawingml/2006/table">
            <a:tbl>
              <a:tblPr/>
              <a:tblGrid>
                <a:gridCol w="1600200"/>
                <a:gridCol w="1599840"/>
                <a:gridCol w="1600200"/>
                <a:gridCol w="1600200"/>
              </a:tblGrid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"/>
          <p:cNvSpPr/>
          <p:nvPr/>
        </p:nvSpPr>
        <p:spPr>
          <a:xfrm flipV="1">
            <a:off x="4816440" y="5867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197160" y="6284880"/>
            <a:ext cx="24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nd 2, no fixed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a predictive par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83640" y="16365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35440" y="160020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29480" y="16002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447920" y="3048120"/>
          <a:ext cx="6400440" cy="2697120"/>
        </p:xfrm>
        <a:graphic>
          <a:graphicData uri="http://schemas.openxmlformats.org/drawingml/2006/table">
            <a:tbl>
              <a:tblPr/>
              <a:tblGrid>
                <a:gridCol w="1600200"/>
                <a:gridCol w="1599840"/>
                <a:gridCol w="1600200"/>
                <a:gridCol w="1600200"/>
              </a:tblGrid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 flipV="1">
            <a:off x="4816440" y="58672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46440" y="6284880"/>
            <a:ext cx="44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nd 3, no more changes ==&gt; fixed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a predictive par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83640" y="16365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35440" y="160020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29480" y="16002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447920" y="3048120"/>
          <a:ext cx="6400440" cy="2697120"/>
        </p:xfrm>
        <a:graphic>
          <a:graphicData uri="http://schemas.openxmlformats.org/drawingml/2006/table">
            <a:tbl>
              <a:tblPr/>
              <a:tblGrid>
                <a:gridCol w="1600200"/>
                <a:gridCol w="1599840"/>
                <a:gridCol w="1600200"/>
                <a:gridCol w="1600200"/>
              </a:tblGrid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5397120" y="628488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6477120" y="586728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a predictive par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83640" y="16365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35440" y="160020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829480" y="16002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447920" y="3048120"/>
          <a:ext cx="6400800" cy="2697120"/>
        </p:xfrm>
        <a:graphic>
          <a:graphicData uri="http://schemas.openxmlformats.org/drawingml/2006/table">
            <a:tbl>
              <a:tblPr/>
              <a:tblGrid>
                <a:gridCol w="1600200"/>
                <a:gridCol w="1600200"/>
                <a:gridCol w="1600200"/>
                <a:gridCol w="1600200"/>
              </a:tblGrid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d,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 flipV="1">
            <a:off x="6461280" y="586728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73400" y="6284880"/>
            <a:ext cx="444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one round of induction, no fixed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a predictive par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83640" y="16365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35440" y="160020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829480" y="16002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447920" y="3048120"/>
          <a:ext cx="6400800" cy="2697120"/>
        </p:xfrm>
        <a:graphic>
          <a:graphicData uri="http://schemas.openxmlformats.org/drawingml/2006/table">
            <a:tbl>
              <a:tblPr/>
              <a:tblGrid>
                <a:gridCol w="1600200"/>
                <a:gridCol w="1600200"/>
                <a:gridCol w="1600200"/>
                <a:gridCol w="1600200"/>
              </a:tblGrid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d,a,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 flipV="1">
            <a:off x="6461280" y="586728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4480" y="5987880"/>
            <a:ext cx="839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two rounds, fixed poi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ut notice, computing Follow(X) before Follow (Y) would have required 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u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27880" y="7221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25760" y="730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43560" y="7300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495680" y="533520"/>
          <a:ext cx="4343400" cy="2468520"/>
        </p:xfrm>
        <a:graphic>
          <a:graphicData uri="http://schemas.openxmlformats.org/drawingml/2006/table">
            <a:tbl>
              <a:tblPr/>
              <a:tblGrid>
                <a:gridCol w="743040"/>
                <a:gridCol w="1200240"/>
                <a:gridCol w="1199880"/>
                <a:gridCol w="12002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214200" y="1126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352040" y="1522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d S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040" y="3352680"/>
            <a:ext cx="402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parsing table where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ls parser which clause to execute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X with next-token 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380880" y="4648320"/>
          <a:ext cx="8381880" cy="1904760"/>
        </p:xfrm>
        <a:graphic>
          <a:graphicData uri="http://schemas.openxmlformats.org/drawingml/2006/table">
            <a:tbl>
              <a:tblPr/>
              <a:tblGrid>
                <a:gridCol w="1397160"/>
                <a:gridCol w="1396800"/>
                <a:gridCol w="1396800"/>
                <a:gridCol w="1396800"/>
                <a:gridCol w="1397160"/>
                <a:gridCol w="1397160"/>
              </a:tblGrid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5108760" y="3276720"/>
            <a:ext cx="363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irst(s)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s is Nullable and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llow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267080" y="0"/>
            <a:ext cx="0" cy="3124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7880" y="7221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625760" y="730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743560" y="7300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4495680" y="533520"/>
          <a:ext cx="4343400" cy="2468520"/>
        </p:xfrm>
        <a:graphic>
          <a:graphicData uri="http://schemas.openxmlformats.org/drawingml/2006/table">
            <a:tbl>
              <a:tblPr/>
              <a:tblGrid>
                <a:gridCol w="743040"/>
                <a:gridCol w="1200240"/>
                <a:gridCol w="1199880"/>
                <a:gridCol w="12002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"/>
          <p:cNvSpPr/>
          <p:nvPr/>
        </p:nvSpPr>
        <p:spPr>
          <a:xfrm>
            <a:off x="214200" y="1126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352040" y="1522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d S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2040" y="3352680"/>
            <a:ext cx="402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parsing table where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ls parser which clause to execute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X with next-token 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380880" y="4648320"/>
          <a:ext cx="8381880" cy="1904760"/>
        </p:xfrm>
        <a:graphic>
          <a:graphicData uri="http://schemas.openxmlformats.org/drawingml/2006/table">
            <a:tbl>
              <a:tblPr/>
              <a:tblGrid>
                <a:gridCol w="1397160"/>
                <a:gridCol w="1396800"/>
                <a:gridCol w="1396800"/>
                <a:gridCol w="1396800"/>
                <a:gridCol w="1397160"/>
                <a:gridCol w="1397160"/>
              </a:tblGrid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"/>
          <p:cNvSpPr/>
          <p:nvPr/>
        </p:nvSpPr>
        <p:spPr>
          <a:xfrm>
            <a:off x="5108760" y="3276720"/>
            <a:ext cx="363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irst(s)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s is Nullable and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llow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267080" y="0"/>
            <a:ext cx="0" cy="3124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xt free grammars (Appel 3.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inals, non-terminals,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ivations &amp; parse tr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biguous gramm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ursive descent parsers (Appel 3.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se LL(k) gramm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y to write as ML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orithms for automatic construction from a CF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27880" y="7221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25760" y="730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743560" y="7300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4495680" y="533520"/>
          <a:ext cx="4343400" cy="2468520"/>
        </p:xfrm>
        <a:graphic>
          <a:graphicData uri="http://schemas.openxmlformats.org/drawingml/2006/table">
            <a:tbl>
              <a:tblPr/>
              <a:tblGrid>
                <a:gridCol w="743040"/>
                <a:gridCol w="1200240"/>
                <a:gridCol w="1199880"/>
                <a:gridCol w="12002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"/>
          <p:cNvSpPr/>
          <p:nvPr/>
        </p:nvSpPr>
        <p:spPr>
          <a:xfrm>
            <a:off x="214200" y="1126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352040" y="1522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d S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2040" y="3352680"/>
            <a:ext cx="402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parsing table where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ls parser which clause to execute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X with next-token 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380880" y="4648320"/>
          <a:ext cx="8381880" cy="1904760"/>
        </p:xfrm>
        <a:graphic>
          <a:graphicData uri="http://schemas.openxmlformats.org/drawingml/2006/table">
            <a:tbl>
              <a:tblPr/>
              <a:tblGrid>
                <a:gridCol w="1397160"/>
                <a:gridCol w="1396800"/>
                <a:gridCol w="1396800"/>
                <a:gridCol w="1396800"/>
                <a:gridCol w="1397160"/>
                <a:gridCol w="1397160"/>
              </a:tblGrid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5108760" y="3276720"/>
            <a:ext cx="363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irst(s)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s is Nullable and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llow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267080" y="0"/>
            <a:ext cx="0" cy="3124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27880" y="7221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25760" y="730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743560" y="7300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495680" y="533520"/>
          <a:ext cx="4343400" cy="2468520"/>
        </p:xfrm>
        <a:graphic>
          <a:graphicData uri="http://schemas.openxmlformats.org/drawingml/2006/table">
            <a:tbl>
              <a:tblPr/>
              <a:tblGrid>
                <a:gridCol w="743040"/>
                <a:gridCol w="1200240"/>
                <a:gridCol w="1199880"/>
                <a:gridCol w="12002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"/>
          <p:cNvSpPr/>
          <p:nvPr/>
        </p:nvSpPr>
        <p:spPr>
          <a:xfrm>
            <a:off x="214200" y="1126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352040" y="1522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d S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92040" y="3352680"/>
            <a:ext cx="402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parsing table where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ls parser which clause to execute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X with next-token 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380880" y="4648320"/>
          <a:ext cx="8381880" cy="1904760"/>
        </p:xfrm>
        <a:graphic>
          <a:graphicData uri="http://schemas.openxmlformats.org/drawingml/2006/table">
            <a:tbl>
              <a:tblPr/>
              <a:tblGrid>
                <a:gridCol w="1397160"/>
                <a:gridCol w="1396800"/>
                <a:gridCol w="1396800"/>
                <a:gridCol w="1396800"/>
                <a:gridCol w="1397160"/>
                <a:gridCol w="1397160"/>
              </a:tblGrid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"/>
          <p:cNvSpPr/>
          <p:nvPr/>
        </p:nvSpPr>
        <p:spPr>
          <a:xfrm>
            <a:off x="5108760" y="3276720"/>
            <a:ext cx="363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irst(s)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s is Nullable and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llow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267080" y="0"/>
            <a:ext cx="0" cy="3124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27880" y="7221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625760" y="730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743560" y="7300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495680" y="533520"/>
          <a:ext cx="4343400" cy="2468520"/>
        </p:xfrm>
        <a:graphic>
          <a:graphicData uri="http://schemas.openxmlformats.org/drawingml/2006/table">
            <a:tbl>
              <a:tblPr/>
              <a:tblGrid>
                <a:gridCol w="743040"/>
                <a:gridCol w="1200240"/>
                <a:gridCol w="1199880"/>
                <a:gridCol w="12002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"/>
          <p:cNvSpPr/>
          <p:nvPr/>
        </p:nvSpPr>
        <p:spPr>
          <a:xfrm>
            <a:off x="214200" y="1126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352040" y="1522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d S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2040" y="3352680"/>
            <a:ext cx="402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parsing table where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ls parser which clause to execute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X with next-token 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380880" y="4648320"/>
          <a:ext cx="8381880" cy="1904760"/>
        </p:xfrm>
        <a:graphic>
          <a:graphicData uri="http://schemas.openxmlformats.org/drawingml/2006/table">
            <a:tbl>
              <a:tblPr/>
              <a:tblGrid>
                <a:gridCol w="1397160"/>
                <a:gridCol w="1396800"/>
                <a:gridCol w="1396800"/>
                <a:gridCol w="1396800"/>
                <a:gridCol w="1397160"/>
                <a:gridCol w="1397160"/>
              </a:tblGrid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5108760" y="3276720"/>
            <a:ext cx="363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irst(s)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s is Nullable and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llow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67080" y="0"/>
            <a:ext cx="0" cy="3124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27880" y="7221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625760" y="730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743560" y="7300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4495680" y="533520"/>
          <a:ext cx="4343400" cy="2468520"/>
        </p:xfrm>
        <a:graphic>
          <a:graphicData uri="http://schemas.openxmlformats.org/drawingml/2006/table">
            <a:tbl>
              <a:tblPr/>
              <a:tblGrid>
                <a:gridCol w="743040"/>
                <a:gridCol w="1200240"/>
                <a:gridCol w="1199880"/>
                <a:gridCol w="12002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"/>
          <p:cNvSpPr/>
          <p:nvPr/>
        </p:nvSpPr>
        <p:spPr>
          <a:xfrm>
            <a:off x="214200" y="1126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352040" y="1522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d S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2040" y="3352680"/>
            <a:ext cx="402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parsing table where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ls parser which clause to execute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X with next-token 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380880" y="4648320"/>
          <a:ext cx="8381880" cy="1904760"/>
        </p:xfrm>
        <a:graphic>
          <a:graphicData uri="http://schemas.openxmlformats.org/drawingml/2006/table">
            <a:tbl>
              <a:tblPr/>
              <a:tblGrid>
                <a:gridCol w="1397160"/>
                <a:gridCol w="1396800"/>
                <a:gridCol w="1396800"/>
                <a:gridCol w="1396800"/>
                <a:gridCol w="1397160"/>
                <a:gridCol w="1397160"/>
              </a:tblGrid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::=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::= b Y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"/>
          <p:cNvSpPr/>
          <p:nvPr/>
        </p:nvSpPr>
        <p:spPr>
          <a:xfrm>
            <a:off x="5108760" y="3276720"/>
            <a:ext cx="363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irst(s)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s is Nullable and 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llow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(X ::= s) in row X, col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267080" y="0"/>
            <a:ext cx="0" cy="3124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27880" y="7221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625760" y="730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743560" y="7300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495680" y="533520"/>
          <a:ext cx="4343400" cy="2468520"/>
        </p:xfrm>
        <a:graphic>
          <a:graphicData uri="http://schemas.openxmlformats.org/drawingml/2006/table">
            <a:tbl>
              <a:tblPr/>
              <a:tblGrid>
                <a:gridCol w="743040"/>
                <a:gridCol w="1200240"/>
                <a:gridCol w="1199880"/>
                <a:gridCol w="12002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"/>
          <p:cNvSpPr/>
          <p:nvPr/>
        </p:nvSpPr>
        <p:spPr>
          <a:xfrm>
            <a:off x="214200" y="1126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352040" y="1522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d S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60080" y="3733920"/>
            <a:ext cx="233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are the blank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380880" y="4648320"/>
          <a:ext cx="8381880" cy="1904760"/>
        </p:xfrm>
        <a:graphic>
          <a:graphicData uri="http://schemas.openxmlformats.org/drawingml/2006/table">
            <a:tbl>
              <a:tblPr/>
              <a:tblGrid>
                <a:gridCol w="1397160"/>
                <a:gridCol w="1396800"/>
                <a:gridCol w="1396800"/>
                <a:gridCol w="1396800"/>
                <a:gridCol w="1397160"/>
                <a:gridCol w="1397160"/>
              </a:tblGrid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::=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::= b Y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4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267080" y="0"/>
            <a:ext cx="0" cy="3124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227880" y="7221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625760" y="730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743560" y="7300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4495680" y="533520"/>
          <a:ext cx="4343400" cy="2468520"/>
        </p:xfrm>
        <a:graphic>
          <a:graphicData uri="http://schemas.openxmlformats.org/drawingml/2006/table">
            <a:tbl>
              <a:tblPr/>
              <a:tblGrid>
                <a:gridCol w="743040"/>
                <a:gridCol w="1200240"/>
                <a:gridCol w="1199880"/>
                <a:gridCol w="12002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"/>
          <p:cNvSpPr/>
          <p:nvPr/>
        </p:nvSpPr>
        <p:spPr>
          <a:xfrm>
            <a:off x="214200" y="1126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352040" y="1522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d S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59360" y="3733920"/>
            <a:ext cx="41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are the blanks?  --&gt; syntax 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380880" y="4648320"/>
          <a:ext cx="8381880" cy="1904760"/>
        </p:xfrm>
        <a:graphic>
          <a:graphicData uri="http://schemas.openxmlformats.org/drawingml/2006/table">
            <a:tbl>
              <a:tblPr/>
              <a:tblGrid>
                <a:gridCol w="1397160"/>
                <a:gridCol w="1396800"/>
                <a:gridCol w="1396800"/>
                <a:gridCol w="1396800"/>
                <a:gridCol w="1397160"/>
                <a:gridCol w="1397160"/>
              </a:tblGrid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::=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::= b Y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4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267080" y="0"/>
            <a:ext cx="0" cy="3124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27880" y="7221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625760" y="730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743560" y="7300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4495680" y="533520"/>
          <a:ext cx="4343400" cy="2468520"/>
        </p:xfrm>
        <a:graphic>
          <a:graphicData uri="http://schemas.openxmlformats.org/drawingml/2006/table">
            <a:tbl>
              <a:tblPr/>
              <a:tblGrid>
                <a:gridCol w="743040"/>
                <a:gridCol w="1200240"/>
                <a:gridCol w="1199880"/>
                <a:gridCol w="12002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0" name=""/>
          <p:cNvSpPr/>
          <p:nvPr/>
        </p:nvSpPr>
        <p:spPr>
          <a:xfrm>
            <a:off x="214200" y="1126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352040" y="1522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d S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61160" y="37339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it possible to put 2 grammar rules in the same box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380880" y="4648320"/>
          <a:ext cx="8381880" cy="1904760"/>
        </p:xfrm>
        <a:graphic>
          <a:graphicData uri="http://schemas.openxmlformats.org/drawingml/2006/table">
            <a:tbl>
              <a:tblPr/>
              <a:tblGrid>
                <a:gridCol w="1397160"/>
                <a:gridCol w="1396800"/>
                <a:gridCol w="1396800"/>
                <a:gridCol w="1396800"/>
                <a:gridCol w="1397160"/>
                <a:gridCol w="1397160"/>
              </a:tblGrid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::=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::= b Y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267080" y="0"/>
            <a:ext cx="0" cy="3124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27880" y="722160"/>
            <a:ext cx="128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Z ::= d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25760" y="730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743560" y="7300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4495680" y="533520"/>
          <a:ext cx="4343400" cy="2468520"/>
        </p:xfrm>
        <a:graphic>
          <a:graphicData uri="http://schemas.openxmlformats.org/drawingml/2006/table">
            <a:tbl>
              <a:tblPr/>
              <a:tblGrid>
                <a:gridCol w="743040"/>
                <a:gridCol w="1200240"/>
                <a:gridCol w="1199880"/>
                <a:gridCol w="12002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 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e,d,a,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0" name=""/>
          <p:cNvSpPr/>
          <p:nvPr/>
        </p:nvSpPr>
        <p:spPr>
          <a:xfrm>
            <a:off x="214200" y="1126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352040" y="15228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d Se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1160" y="373392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it possible to put 2 grammar rules in the same box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380880" y="4648320"/>
          <a:ext cx="8382240" cy="2124000"/>
        </p:xfrm>
        <a:graphic>
          <a:graphicData uri="http://schemas.openxmlformats.org/drawingml/2006/table">
            <a:tbl>
              <a:tblPr/>
              <a:tblGrid>
                <a:gridCol w="1397160"/>
                <a:gridCol w="1396800"/>
                <a:gridCol w="1397160"/>
                <a:gridCol w="1397160"/>
                <a:gridCol w="1396800"/>
                <a:gridCol w="1397160"/>
              </a:tblGrid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::= XY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Z ::=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Z ::= d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: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::=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::= b Y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4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267080" y="0"/>
            <a:ext cx="0" cy="3124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dictive parsing t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predictive parsing table constructed this way contains no duplicate entries, the grammar is called LL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ft-to-right parse, Left-most derivation, 1 symbol looka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t, of the grammar is not LL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LL(k) parsing table, columns include every k-length sequence of termina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981080" y="5565600"/>
          <a:ext cx="5333760" cy="95580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</a:tblGrid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tri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iously, we saw that grammars with left-recursion were problematic, but could be transformed into LL(1) in some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xample non-LL(1) grammar we just sa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fix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399760" y="3886200"/>
            <a:ext cx="128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Z ::= d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025880" y="40384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143680" y="40384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54480" y="1065240"/>
            <a:ext cx="322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S ::= IF E THEN S ELSE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       | BEGIN S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       | PRINT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136840" y="1065240"/>
            <a:ext cx="240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L ::=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       | ; S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 E ::= NUM = N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7320" y="228600"/>
            <a:ext cx="704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on-terminal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, E,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terminal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, IF, THEN, ELSE, BEGIN, END, PRINT, ;,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74280" y="3809880"/>
            <a:ext cx="68907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 S () = case !tok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        =&gt;   eat IF; E (); eat THEN; S (); eat ELSE; S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BEGIN =&gt;   eat BEGIN; S (); L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PRINT =&gt;   eat PRINT; E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L () = case !tok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   =&gt;   eat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SEMI    =&gt;   eat SEMI; S (); L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E () = eat NUM; eat EQ; eat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92680" y="2209680"/>
            <a:ext cx="525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 tok = ref (getToken (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 advance () = tok := getToken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 eat t = if (! tok = t) then advance () else error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1200" y="2209680"/>
            <a:ext cx="339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type token = NUM | 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THEN | ELSE | BEGIN | E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PRINT | SEMI | E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33920" y="2057400"/>
            <a:ext cx="0" cy="13716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tri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iously, we saw that grammars with left-recursion were problematic, but could be transformed into LL(1) in some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xample non-LL(1) grammar we just sa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 here is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left-factor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399760" y="3886200"/>
            <a:ext cx="128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Z ::= d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025880" y="40384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3680" y="403848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7560" y="5562720"/>
            <a:ext cx="128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Z ::= d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473800" y="583560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91600" y="58356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038840" y="5835600"/>
            <a:ext cx="91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W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W :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of RD par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FGs are good at specifying programming language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sing general CFGs is expensive so we define parsers for simpler classes of CF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L(k), LR(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build a recursive descent parser for LL(k) grammars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ing nullable, first and follow 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ucting a parse table from the 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ing for duplicate entries, which indicates fail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ing an ML program from the parse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parser construction fails we 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write the grammar (left factoring, eliminating left recursion) and try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y to build a parser using some other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of RD par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FGs are good at specifying programming language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sing general CFGs is expensive so we define parsers for simpler classes of CF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L(k), LR(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build a recursive descent parser for LL(k) grammars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ing nullable, first and follow 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ucting a parse table from the 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ing for duplicate entries, which indicates fail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ing an ML program from the parse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parser construction fails we 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write the grammar (left factoring, eliminating left recursion) and try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y to build a parser using some other method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...such as using a bottom-up parsing tech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ttom-up (Shift-Reduce) Pars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par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ft-reduce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ka: bottom-up par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ka: LR(k) Left-to-right parse, Rightmost derivation, k-token looka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powerful than LL(k) par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LR varia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asis for parsers for most modern programming languag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ed in tools such as ML-Yac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ser keeps track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on in current input (what input to read nex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tack of terminal &amp; non-terminal symbols representing the “parse so far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next input symbol &amp; stack, parser table indic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hi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push next input on to top of 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reduce 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 of stack should match RHS of r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ace top of stack with LHS of r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pt (we shift EOF &amp; can reduce what remains on stack to start symb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pars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39880" y="1949400"/>
            <a:ext cx="11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042000" y="194940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6019920" y="1874880"/>
          <a:ext cx="2865240" cy="930240"/>
        </p:xfrm>
        <a:graphic>
          <a:graphicData uri="http://schemas.openxmlformats.org/drawingml/2006/table">
            <a:tbl>
              <a:tblPr/>
              <a:tblGrid>
                <a:gridCol w="715680"/>
                <a:gridCol w="716040"/>
                <a:gridCol w="717480"/>
                <a:gridCol w="716040"/>
              </a:tblGrid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8" name=""/>
          <p:cNvSpPr/>
          <p:nvPr/>
        </p:nvSpPr>
        <p:spPr>
          <a:xfrm>
            <a:off x="6023160" y="134136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Parsing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22543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838600" y="40813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id = num ; id = num )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895480" y="4143240"/>
            <a:ext cx="2778120" cy="27648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pars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739880" y="1949400"/>
            <a:ext cx="11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042000" y="194940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819520" y="4829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 rot="16200000">
            <a:off x="4243320" y="2643120"/>
            <a:ext cx="123840" cy="2819520"/>
          </a:xfrm>
          <a:custGeom>
            <a:avLst/>
            <a:gdLst>
              <a:gd name="textAreaLeft" fmla="*/ 0 w 123840"/>
              <a:gd name="textAreaRight" fmla="*/ 44640 w 12384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735720" y="36576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6019920" y="1874880"/>
          <a:ext cx="2865240" cy="930240"/>
        </p:xfrm>
        <a:graphic>
          <a:graphicData uri="http://schemas.openxmlformats.org/drawingml/2006/table">
            <a:tbl>
              <a:tblPr/>
              <a:tblGrid>
                <a:gridCol w="715680"/>
                <a:gridCol w="716040"/>
                <a:gridCol w="717480"/>
                <a:gridCol w="716040"/>
              </a:tblGrid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3" name=""/>
          <p:cNvSpPr/>
          <p:nvPr/>
        </p:nvSpPr>
        <p:spPr>
          <a:xfrm>
            <a:off x="6023160" y="134136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Parsing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876920" y="22543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838600" y="40813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id = num ; id = num )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048120" y="4143240"/>
            <a:ext cx="2625480" cy="27648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pars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739880" y="1949400"/>
            <a:ext cx="11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2000" y="194940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820960" y="48290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 rot="16200000">
            <a:off x="4319640" y="2719440"/>
            <a:ext cx="123840" cy="2666880"/>
          </a:xfrm>
          <a:custGeom>
            <a:avLst/>
            <a:gdLst>
              <a:gd name="textAreaLeft" fmla="*/ 0 w 123840"/>
              <a:gd name="textAreaRight" fmla="*/ 44640 w 123840"/>
              <a:gd name="textAreaTop" fmla="*/ 69480 h 2666880"/>
              <a:gd name="textAreaBottom" fmla="*/ 259740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735720" y="36576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019920" y="3914640"/>
            <a:ext cx="228600" cy="1295640"/>
          </a:xfrm>
          <a:custGeom>
            <a:avLst/>
            <a:gdLst>
              <a:gd name="textAreaLeft" fmla="*/ 0 w 228600"/>
              <a:gd name="textAreaRight" fmla="*/ 8244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6019920" y="1874880"/>
          <a:ext cx="2865240" cy="930240"/>
        </p:xfrm>
        <a:graphic>
          <a:graphicData uri="http://schemas.openxmlformats.org/drawingml/2006/table">
            <a:tbl>
              <a:tblPr/>
              <a:tblGrid>
                <a:gridCol w="715680"/>
                <a:gridCol w="716040"/>
                <a:gridCol w="717480"/>
                <a:gridCol w="716040"/>
              </a:tblGrid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0" name=""/>
          <p:cNvSpPr/>
          <p:nvPr/>
        </p:nvSpPr>
        <p:spPr>
          <a:xfrm>
            <a:off x="6023160" y="134136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Parsing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315200" y="2971800"/>
            <a:ext cx="304920" cy="914400"/>
          </a:xfrm>
          <a:prstGeom prst="downArrow">
            <a:avLst>
              <a:gd name="adj1" fmla="val 50000"/>
              <a:gd name="adj2" fmla="val 7497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876920" y="22543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081200" y="430380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H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838600" y="40813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id = num ; id = num )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276720" y="4143240"/>
            <a:ext cx="2396880" cy="27648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pars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739880" y="1949400"/>
            <a:ext cx="11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042000" y="194940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821320" y="48290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(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 rot="16200000">
            <a:off x="4433400" y="2833560"/>
            <a:ext cx="123840" cy="2438280"/>
          </a:xfrm>
          <a:custGeom>
            <a:avLst/>
            <a:gdLst>
              <a:gd name="textAreaLeft" fmla="*/ 0 w 123840"/>
              <a:gd name="textAreaRight" fmla="*/ 44640 w 12384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735720" y="36576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019920" y="3914640"/>
            <a:ext cx="228600" cy="1295640"/>
          </a:xfrm>
          <a:custGeom>
            <a:avLst/>
            <a:gdLst>
              <a:gd name="textAreaLeft" fmla="*/ 0 w 228600"/>
              <a:gd name="textAreaRight" fmla="*/ 8244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6019920" y="1874880"/>
          <a:ext cx="2865240" cy="930240"/>
        </p:xfrm>
        <a:graphic>
          <a:graphicData uri="http://schemas.openxmlformats.org/drawingml/2006/table">
            <a:tbl>
              <a:tblPr/>
              <a:tblGrid>
                <a:gridCol w="715680"/>
                <a:gridCol w="716040"/>
                <a:gridCol w="717480"/>
                <a:gridCol w="716040"/>
              </a:tblGrid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9" name=""/>
          <p:cNvSpPr/>
          <p:nvPr/>
        </p:nvSpPr>
        <p:spPr>
          <a:xfrm>
            <a:off x="6023160" y="134136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Parsing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315200" y="2971800"/>
            <a:ext cx="304920" cy="914400"/>
          </a:xfrm>
          <a:prstGeom prst="downArrow">
            <a:avLst>
              <a:gd name="adj1" fmla="val 50000"/>
              <a:gd name="adj2" fmla="val 7497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876920" y="22543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081200" y="430380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H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ructing RD Par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nstruct an RD parser, we need to know what rule to apply 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seen a non terminal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ee the next terminal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pply rule 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X ::= 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first symb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can be generated by string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duces to the empty string (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is null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first symbol in any string that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n foll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838600" y="40813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id = num ; id = num )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4143240"/>
            <a:ext cx="2168280" cy="27648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pars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739880" y="1949400"/>
            <a:ext cx="11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042000" y="194940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820240" y="4829040"/>
            <a:ext cx="75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( id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 rot="16200000">
            <a:off x="4548240" y="2948040"/>
            <a:ext cx="123840" cy="2209680"/>
          </a:xfrm>
          <a:custGeom>
            <a:avLst/>
            <a:gdLst>
              <a:gd name="textAreaLeft" fmla="*/ 0 w 123840"/>
              <a:gd name="textAreaRight" fmla="*/ 44640 w 12384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735720" y="36576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19920" y="3914640"/>
            <a:ext cx="228600" cy="1295640"/>
          </a:xfrm>
          <a:custGeom>
            <a:avLst/>
            <a:gdLst>
              <a:gd name="textAreaLeft" fmla="*/ 0 w 228600"/>
              <a:gd name="textAreaRight" fmla="*/ 8244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6019920" y="1874880"/>
          <a:ext cx="2865240" cy="930240"/>
        </p:xfrm>
        <a:graphic>
          <a:graphicData uri="http://schemas.openxmlformats.org/drawingml/2006/table">
            <a:tbl>
              <a:tblPr/>
              <a:tblGrid>
                <a:gridCol w="715680"/>
                <a:gridCol w="716040"/>
                <a:gridCol w="717480"/>
                <a:gridCol w="716040"/>
              </a:tblGrid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8" name=""/>
          <p:cNvSpPr/>
          <p:nvPr/>
        </p:nvSpPr>
        <p:spPr>
          <a:xfrm>
            <a:off x="6023160" y="134136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Parsing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315200" y="2971800"/>
            <a:ext cx="304920" cy="914400"/>
          </a:xfrm>
          <a:prstGeom prst="downArrow">
            <a:avLst>
              <a:gd name="adj1" fmla="val 50000"/>
              <a:gd name="adj2" fmla="val 7497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876920" y="22543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081200" y="430380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H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838600" y="40813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id = num ; id = num )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962520" y="4143240"/>
            <a:ext cx="1711080" cy="27648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pars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739880" y="1949400"/>
            <a:ext cx="11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042000" y="194940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820600" y="4829040"/>
            <a:ext cx="126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( id = n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V="1" rot="16200000">
            <a:off x="4776840" y="3176640"/>
            <a:ext cx="123840" cy="1752480"/>
          </a:xfrm>
          <a:custGeom>
            <a:avLst/>
            <a:gdLst>
              <a:gd name="textAreaLeft" fmla="*/ 0 w 123840"/>
              <a:gd name="textAreaRight" fmla="*/ 44640 w 1238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735720" y="36576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019920" y="3914640"/>
            <a:ext cx="228600" cy="1295640"/>
          </a:xfrm>
          <a:custGeom>
            <a:avLst/>
            <a:gdLst>
              <a:gd name="textAreaLeft" fmla="*/ 0 w 228600"/>
              <a:gd name="textAreaRight" fmla="*/ 8244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6019920" y="1874880"/>
          <a:ext cx="2865240" cy="930240"/>
        </p:xfrm>
        <a:graphic>
          <a:graphicData uri="http://schemas.openxmlformats.org/drawingml/2006/table">
            <a:tbl>
              <a:tblPr/>
              <a:tblGrid>
                <a:gridCol w="715680"/>
                <a:gridCol w="716040"/>
                <a:gridCol w="717480"/>
                <a:gridCol w="716040"/>
              </a:tblGrid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7" name=""/>
          <p:cNvSpPr/>
          <p:nvPr/>
        </p:nvSpPr>
        <p:spPr>
          <a:xfrm>
            <a:off x="6023160" y="134136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Parsing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315200" y="2971800"/>
            <a:ext cx="304920" cy="914400"/>
          </a:xfrm>
          <a:prstGeom prst="downArrow">
            <a:avLst>
              <a:gd name="adj1" fmla="val 50000"/>
              <a:gd name="adj2" fmla="val 7497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876920" y="22543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081200" y="430380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H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838600" y="40813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id = num ; id = num )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962520" y="4143240"/>
            <a:ext cx="1711080" cy="27648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pars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739880" y="1949400"/>
            <a:ext cx="11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042000" y="194940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820600" y="482904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( 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V="1" rot="16200000">
            <a:off x="4776840" y="3176640"/>
            <a:ext cx="123840" cy="1752480"/>
          </a:xfrm>
          <a:custGeom>
            <a:avLst/>
            <a:gdLst>
              <a:gd name="textAreaLeft" fmla="*/ 0 w 123840"/>
              <a:gd name="textAreaRight" fmla="*/ 44640 w 1238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735720" y="36576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019920" y="3914640"/>
            <a:ext cx="228600" cy="1295640"/>
          </a:xfrm>
          <a:custGeom>
            <a:avLst/>
            <a:gdLst>
              <a:gd name="textAreaLeft" fmla="*/ 0 w 228600"/>
              <a:gd name="textAreaRight" fmla="*/ 8244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6019920" y="1874880"/>
          <a:ext cx="2865240" cy="930240"/>
        </p:xfrm>
        <a:graphic>
          <a:graphicData uri="http://schemas.openxmlformats.org/drawingml/2006/table">
            <a:tbl>
              <a:tblPr/>
              <a:tblGrid>
                <a:gridCol w="715680"/>
                <a:gridCol w="716040"/>
                <a:gridCol w="717480"/>
                <a:gridCol w="716040"/>
              </a:tblGrid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6" name=""/>
          <p:cNvSpPr/>
          <p:nvPr/>
        </p:nvSpPr>
        <p:spPr>
          <a:xfrm>
            <a:off x="6023160" y="134136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Parsing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315200" y="2971800"/>
            <a:ext cx="304920" cy="914400"/>
          </a:xfrm>
          <a:prstGeom prst="downArrow">
            <a:avLst>
              <a:gd name="adj1" fmla="val 50000"/>
              <a:gd name="adj2" fmla="val 7497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876920" y="22543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080480" y="430380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E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 ::= id 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838600" y="40813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id = num ; id = num )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962520" y="4143240"/>
            <a:ext cx="1711080" cy="27648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pars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739880" y="1949400"/>
            <a:ext cx="11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042000" y="194940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820600" y="482904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( 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 rot="16200000">
            <a:off x="4776840" y="3176640"/>
            <a:ext cx="123840" cy="1752480"/>
          </a:xfrm>
          <a:custGeom>
            <a:avLst/>
            <a:gdLst>
              <a:gd name="textAreaLeft" fmla="*/ 0 w 123840"/>
              <a:gd name="textAreaRight" fmla="*/ 44640 w 1238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735720" y="36576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019920" y="3914640"/>
            <a:ext cx="228600" cy="1295640"/>
          </a:xfrm>
          <a:custGeom>
            <a:avLst/>
            <a:gdLst>
              <a:gd name="textAreaLeft" fmla="*/ 0 w 228600"/>
              <a:gd name="textAreaRight" fmla="*/ 8244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6019920" y="1874880"/>
          <a:ext cx="2865240" cy="930240"/>
        </p:xfrm>
        <a:graphic>
          <a:graphicData uri="http://schemas.openxmlformats.org/drawingml/2006/table">
            <a:tbl>
              <a:tblPr/>
              <a:tblGrid>
                <a:gridCol w="715680"/>
                <a:gridCol w="716040"/>
                <a:gridCol w="717480"/>
                <a:gridCol w="716040"/>
              </a:tblGrid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5" name=""/>
          <p:cNvSpPr/>
          <p:nvPr/>
        </p:nvSpPr>
        <p:spPr>
          <a:xfrm>
            <a:off x="6023160" y="134136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Parsing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315200" y="2971800"/>
            <a:ext cx="304920" cy="914400"/>
          </a:xfrm>
          <a:prstGeom prst="downArrow">
            <a:avLst>
              <a:gd name="adj1" fmla="val 50000"/>
              <a:gd name="adj2" fmla="val 7497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876920" y="22543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083000" y="4303800"/>
            <a:ext cx="11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E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838600" y="40813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id = num ; id = num )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114800" y="4143240"/>
            <a:ext cx="1558800" cy="27648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pars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739880" y="1949400"/>
            <a:ext cx="11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042000" y="194940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820240" y="482904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( L 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V="1" rot="16200000">
            <a:off x="4852440" y="3252600"/>
            <a:ext cx="123840" cy="1600200"/>
          </a:xfrm>
          <a:custGeom>
            <a:avLst/>
            <a:gdLst>
              <a:gd name="textAreaLeft" fmla="*/ 0 w 123840"/>
              <a:gd name="textAreaRight" fmla="*/ 44640 w 12384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735720" y="36576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019920" y="3914640"/>
            <a:ext cx="228600" cy="1295640"/>
          </a:xfrm>
          <a:custGeom>
            <a:avLst/>
            <a:gdLst>
              <a:gd name="textAreaLeft" fmla="*/ 0 w 228600"/>
              <a:gd name="textAreaRight" fmla="*/ 8244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6019920" y="1874880"/>
          <a:ext cx="2865240" cy="930240"/>
        </p:xfrm>
        <a:graphic>
          <a:graphicData uri="http://schemas.openxmlformats.org/drawingml/2006/table">
            <a:tbl>
              <a:tblPr/>
              <a:tblGrid>
                <a:gridCol w="715680"/>
                <a:gridCol w="716040"/>
                <a:gridCol w="717480"/>
                <a:gridCol w="716040"/>
              </a:tblGrid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4" name=""/>
          <p:cNvSpPr/>
          <p:nvPr/>
        </p:nvSpPr>
        <p:spPr>
          <a:xfrm>
            <a:off x="6023160" y="134136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Parsing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315200" y="2971800"/>
            <a:ext cx="304920" cy="914400"/>
          </a:xfrm>
          <a:prstGeom prst="downArrow">
            <a:avLst>
              <a:gd name="adj1" fmla="val 50000"/>
              <a:gd name="adj2" fmla="val 7497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876920" y="22543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081200" y="430380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H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838600" y="40813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id = num ; id = num )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29200" y="4143240"/>
            <a:ext cx="644400" cy="27648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pars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739880" y="1949400"/>
            <a:ext cx="11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042000" y="194940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820240" y="4829040"/>
            <a:ext cx="15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( L ; id = n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V="1" rot="16200000">
            <a:off x="5309640" y="3709800"/>
            <a:ext cx="123840" cy="685800"/>
          </a:xfrm>
          <a:custGeom>
            <a:avLst/>
            <a:gdLst>
              <a:gd name="textAreaLeft" fmla="*/ 0 w 123840"/>
              <a:gd name="textAreaRight" fmla="*/ 44640 w 12384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345200" y="36576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019920" y="3914640"/>
            <a:ext cx="228600" cy="1295640"/>
          </a:xfrm>
          <a:custGeom>
            <a:avLst/>
            <a:gdLst>
              <a:gd name="textAreaLeft" fmla="*/ 0 w 228600"/>
              <a:gd name="textAreaRight" fmla="*/ 8244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2" name=""/>
          <p:cNvGraphicFramePr/>
          <p:nvPr/>
        </p:nvGraphicFramePr>
        <p:xfrm>
          <a:off x="6019920" y="1874880"/>
          <a:ext cx="2865240" cy="930240"/>
        </p:xfrm>
        <a:graphic>
          <a:graphicData uri="http://schemas.openxmlformats.org/drawingml/2006/table">
            <a:tbl>
              <a:tblPr/>
              <a:tblGrid>
                <a:gridCol w="715680"/>
                <a:gridCol w="716040"/>
                <a:gridCol w="717480"/>
                <a:gridCol w="716040"/>
              </a:tblGrid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3" name=""/>
          <p:cNvSpPr/>
          <p:nvPr/>
        </p:nvSpPr>
        <p:spPr>
          <a:xfrm>
            <a:off x="6023160" y="134136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Parsing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315200" y="2971800"/>
            <a:ext cx="304920" cy="914400"/>
          </a:xfrm>
          <a:prstGeom prst="downArrow">
            <a:avLst>
              <a:gd name="adj1" fmla="val 50000"/>
              <a:gd name="adj2" fmla="val 7497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876920" y="22543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7081200" y="4303800"/>
            <a:ext cx="84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H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H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H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838600" y="40813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id = num ; id = num )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029200" y="4143240"/>
            <a:ext cx="644400" cy="27648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pars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739880" y="1949400"/>
            <a:ext cx="11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042000" y="194940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820240" y="482904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( L ; 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flipV="1" rot="16200000">
            <a:off x="5309640" y="3709800"/>
            <a:ext cx="123840" cy="685800"/>
          </a:xfrm>
          <a:custGeom>
            <a:avLst/>
            <a:gdLst>
              <a:gd name="textAreaLeft" fmla="*/ 0 w 123840"/>
              <a:gd name="textAreaRight" fmla="*/ 44640 w 12384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345200" y="36576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019920" y="3914640"/>
            <a:ext cx="228600" cy="1295640"/>
          </a:xfrm>
          <a:custGeom>
            <a:avLst/>
            <a:gdLst>
              <a:gd name="textAreaLeft" fmla="*/ 0 w 228600"/>
              <a:gd name="textAreaRight" fmla="*/ 8244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6019920" y="1874880"/>
          <a:ext cx="2865240" cy="930240"/>
        </p:xfrm>
        <a:graphic>
          <a:graphicData uri="http://schemas.openxmlformats.org/drawingml/2006/table">
            <a:tbl>
              <a:tblPr/>
              <a:tblGrid>
                <a:gridCol w="715680"/>
                <a:gridCol w="716040"/>
                <a:gridCol w="717480"/>
                <a:gridCol w="716040"/>
              </a:tblGrid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2" name=""/>
          <p:cNvSpPr/>
          <p:nvPr/>
        </p:nvSpPr>
        <p:spPr>
          <a:xfrm>
            <a:off x="6023160" y="134136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Parsing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315200" y="2971800"/>
            <a:ext cx="304920" cy="914400"/>
          </a:xfrm>
          <a:prstGeom prst="downArrow">
            <a:avLst>
              <a:gd name="adj1" fmla="val 50000"/>
              <a:gd name="adj2" fmla="val 7497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876920" y="22543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080480" y="4303800"/>
            <a:ext cx="160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E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 ::= id 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838600" y="40813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id = num ; id = num )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029200" y="4143240"/>
            <a:ext cx="644400" cy="27648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pars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739880" y="1949400"/>
            <a:ext cx="11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042000" y="194940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820600" y="4829040"/>
            <a:ext cx="5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( L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V="1" rot="16200000">
            <a:off x="5309640" y="3709800"/>
            <a:ext cx="123840" cy="685800"/>
          </a:xfrm>
          <a:custGeom>
            <a:avLst/>
            <a:gdLst>
              <a:gd name="textAreaLeft" fmla="*/ 0 w 123840"/>
              <a:gd name="textAreaRight" fmla="*/ 44640 w 12384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345200" y="36576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019920" y="3914640"/>
            <a:ext cx="228600" cy="1295640"/>
          </a:xfrm>
          <a:custGeom>
            <a:avLst/>
            <a:gdLst>
              <a:gd name="textAreaLeft" fmla="*/ 0 w 228600"/>
              <a:gd name="textAreaRight" fmla="*/ 8244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6019920" y="1874880"/>
          <a:ext cx="2865240" cy="930240"/>
        </p:xfrm>
        <a:graphic>
          <a:graphicData uri="http://schemas.openxmlformats.org/drawingml/2006/table">
            <a:tbl>
              <a:tblPr/>
              <a:tblGrid>
                <a:gridCol w="715680"/>
                <a:gridCol w="716040"/>
                <a:gridCol w="717480"/>
                <a:gridCol w="716040"/>
              </a:tblGrid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1" name=""/>
          <p:cNvSpPr/>
          <p:nvPr/>
        </p:nvSpPr>
        <p:spPr>
          <a:xfrm>
            <a:off x="6023160" y="134136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Parsing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315200" y="2971800"/>
            <a:ext cx="304920" cy="914400"/>
          </a:xfrm>
          <a:prstGeom prst="downArrow">
            <a:avLst>
              <a:gd name="adj1" fmla="val 50000"/>
              <a:gd name="adj2" fmla="val 7497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876920" y="22543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080120" y="4303800"/>
            <a:ext cx="119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E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 ::= L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838600" y="40813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id = num ; id = num )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181480" y="4143240"/>
            <a:ext cx="492120" cy="27648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pars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739880" y="1949400"/>
            <a:ext cx="11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042000" y="194940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820600" y="48290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( L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 rot="16200000">
            <a:off x="5309640" y="3709800"/>
            <a:ext cx="123840" cy="685800"/>
          </a:xfrm>
          <a:custGeom>
            <a:avLst/>
            <a:gdLst>
              <a:gd name="textAreaLeft" fmla="*/ 0 w 123840"/>
              <a:gd name="textAreaRight" fmla="*/ 44640 w 12384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345200" y="36576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019920" y="3914640"/>
            <a:ext cx="228600" cy="1295640"/>
          </a:xfrm>
          <a:custGeom>
            <a:avLst/>
            <a:gdLst>
              <a:gd name="textAreaLeft" fmla="*/ 0 w 228600"/>
              <a:gd name="textAreaRight" fmla="*/ 8244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9" name=""/>
          <p:cNvGraphicFramePr/>
          <p:nvPr/>
        </p:nvGraphicFramePr>
        <p:xfrm>
          <a:off x="6019920" y="1874880"/>
          <a:ext cx="2865240" cy="930240"/>
        </p:xfrm>
        <a:graphic>
          <a:graphicData uri="http://schemas.openxmlformats.org/drawingml/2006/table">
            <a:tbl>
              <a:tblPr/>
              <a:tblGrid>
                <a:gridCol w="715680"/>
                <a:gridCol w="716040"/>
                <a:gridCol w="717480"/>
                <a:gridCol w="716040"/>
              </a:tblGrid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0" name=""/>
          <p:cNvSpPr/>
          <p:nvPr/>
        </p:nvSpPr>
        <p:spPr>
          <a:xfrm>
            <a:off x="6023160" y="134136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Parsing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315200" y="2971800"/>
            <a:ext cx="304920" cy="914400"/>
          </a:xfrm>
          <a:prstGeom prst="downArrow">
            <a:avLst>
              <a:gd name="adj1" fmla="val 50000"/>
              <a:gd name="adj2" fmla="val 7497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876920" y="22543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7081200" y="4303800"/>
            <a:ext cx="84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H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838600" y="40813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id = num ; id = num )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181480" y="4143240"/>
            <a:ext cx="492120" cy="27648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pars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739880" y="1949400"/>
            <a:ext cx="11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042000" y="194940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820960" y="482904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V="1" rot="16200000">
            <a:off x="5309640" y="3709800"/>
            <a:ext cx="123840" cy="685800"/>
          </a:xfrm>
          <a:custGeom>
            <a:avLst/>
            <a:gdLst>
              <a:gd name="textAreaLeft" fmla="*/ 0 w 123840"/>
              <a:gd name="textAreaRight" fmla="*/ 44640 w 12384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345200" y="36576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ye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019920" y="3914640"/>
            <a:ext cx="228600" cy="1295640"/>
          </a:xfrm>
          <a:custGeom>
            <a:avLst/>
            <a:gdLst>
              <a:gd name="textAreaLeft" fmla="*/ 0 w 228600"/>
              <a:gd name="textAreaRight" fmla="*/ 8244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8" name=""/>
          <p:cNvGraphicFramePr/>
          <p:nvPr/>
        </p:nvGraphicFramePr>
        <p:xfrm>
          <a:off x="6019920" y="1874880"/>
          <a:ext cx="2865240" cy="930240"/>
        </p:xfrm>
        <a:graphic>
          <a:graphicData uri="http://schemas.openxmlformats.org/drawingml/2006/table">
            <a:tbl>
              <a:tblPr/>
              <a:tblGrid>
                <a:gridCol w="715680"/>
                <a:gridCol w="716040"/>
                <a:gridCol w="717480"/>
                <a:gridCol w="716040"/>
              </a:tblGrid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9" name=""/>
          <p:cNvSpPr/>
          <p:nvPr/>
        </p:nvSpPr>
        <p:spPr>
          <a:xfrm>
            <a:off x="6023160" y="134136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Parsing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315200" y="2971800"/>
            <a:ext cx="304920" cy="914400"/>
          </a:xfrm>
          <a:prstGeom prst="downArrow">
            <a:avLst>
              <a:gd name="adj1" fmla="val 50000"/>
              <a:gd name="adj2" fmla="val 7497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876920" y="22543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083000" y="4303800"/>
            <a:ext cx="114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E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ing Nullable 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terminal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X is Null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nly if the following constraints are satisfied (computed using iterative analys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 ca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X :=  )  then X is Nul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rative/inductive ca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X := ABC...) and A, B, C, ... are all Nullable then X is Nullable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838600" y="40813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id = num ; id = num )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pars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39880" y="1949400"/>
            <a:ext cx="11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042000" y="194940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820960" y="482904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019920" y="3914640"/>
            <a:ext cx="228600" cy="1295640"/>
          </a:xfrm>
          <a:custGeom>
            <a:avLst/>
            <a:gdLst>
              <a:gd name="textAreaLeft" fmla="*/ 0 w 228600"/>
              <a:gd name="textAreaRight" fmla="*/ 8244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4" name=""/>
          <p:cNvGraphicFramePr/>
          <p:nvPr/>
        </p:nvGraphicFramePr>
        <p:xfrm>
          <a:off x="6019920" y="1874880"/>
          <a:ext cx="2865240" cy="930240"/>
        </p:xfrm>
        <a:graphic>
          <a:graphicData uri="http://schemas.openxmlformats.org/drawingml/2006/table">
            <a:tbl>
              <a:tblPr/>
              <a:tblGrid>
                <a:gridCol w="715680"/>
                <a:gridCol w="716040"/>
                <a:gridCol w="717480"/>
                <a:gridCol w="716040"/>
              </a:tblGrid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5" name=""/>
          <p:cNvSpPr/>
          <p:nvPr/>
        </p:nvSpPr>
        <p:spPr>
          <a:xfrm>
            <a:off x="6023160" y="134136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Parsing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315200" y="2971800"/>
            <a:ext cx="304920" cy="914400"/>
          </a:xfrm>
          <a:prstGeom prst="downArrow">
            <a:avLst>
              <a:gd name="adj1" fmla="val 50000"/>
              <a:gd name="adj2" fmla="val 7497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876920" y="22543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079760" y="4303800"/>
            <a:ext cx="141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H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E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C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838600" y="40813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id = num ; id = num )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pars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739880" y="1949400"/>
            <a:ext cx="11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L ;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::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042000" y="1949400"/>
            <a:ext cx="16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820960" y="482904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9" name=""/>
          <p:cNvGraphicFramePr/>
          <p:nvPr/>
        </p:nvGraphicFramePr>
        <p:xfrm>
          <a:off x="6019920" y="1874880"/>
          <a:ext cx="2865240" cy="930240"/>
        </p:xfrm>
        <a:graphic>
          <a:graphicData uri="http://schemas.openxmlformats.org/drawingml/2006/table">
            <a:tbl>
              <a:tblPr/>
              <a:tblGrid>
                <a:gridCol w="715680"/>
                <a:gridCol w="716040"/>
                <a:gridCol w="717480"/>
                <a:gridCol w="716040"/>
              </a:tblGrid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0" name=""/>
          <p:cNvSpPr/>
          <p:nvPr/>
        </p:nvSpPr>
        <p:spPr>
          <a:xfrm>
            <a:off x="6023160" y="134136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Parsing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876920" y="22543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96520" y="5904000"/>
            <a:ext cx="458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uccessful parse!  Is this grammar LL(1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ser keeps track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on in current input (what input to read nex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tack of terminal &amp; non-terminal symbols representing the “parse so fa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next input symbol &amp; stack, parser table indic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hif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push next input on to top of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reduce 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p of stack should match RHS of r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lace top of stack with LHS of r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pt (we shift EOF &amp; can reduce what remains on stack to start symbo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Reinterpreting the entire stack on every iteration would be very s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(averageStackSize * inpu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optimized algorithm that only looks at top of stack (plus parsing table to figure out what to do. O(inpu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algorithm (detail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arser summarizes the current “parse state” using an inte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teger is actually a state in a finite automa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urrent parse state can be computed by running the automaton over the current parse 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Revised algorithm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Based on next input symbol &amp; the parse state (as opposed to the entire stack), parser table indic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hift 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sh next input on to top of stack and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move automaton into state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reduce R &amp; goto 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 of stack should match RHS of r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ace top of stack with LHS of r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move automaton into state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build parse tree corresponding to reduction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841120" y="4081320"/>
            <a:ext cx="179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???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???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par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822040" y="482904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????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880" y="5334120"/>
            <a:ext cx="916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 LL parsing, shift-reduce parsing does not always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What sort of grammar rules make shift-reduce parsing impossib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505320" y="4114800"/>
            <a:ext cx="1066680" cy="3049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12000" y="190512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????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840760" y="408132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???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z??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par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821320" y="4829040"/>
            <a:ext cx="73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??cd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505320" y="4114800"/>
            <a:ext cx="1066680" cy="3049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400" y="5334120"/>
            <a:ext cx="817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 LL parsing, shift-reduce parsing does not always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26880" y="5867280"/>
            <a:ext cx="790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hift-Reduce erro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can’t decide whether to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hift 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Reduce c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 a r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Reduce-Reduce erro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can’t decide whether to Reduce by R1 or 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612000" y="190512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????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err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828440" y="1905120"/>
            <a:ext cx="129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S +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S *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2841120" y="4081320"/>
            <a:ext cx="179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???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???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822040" y="482904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????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505320" y="4114800"/>
            <a:ext cx="1066680" cy="3049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276720" y="2133720"/>
            <a:ext cx="1447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714200" y="1979640"/>
            <a:ext cx="43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, this is an ambiguo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 – we are always going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some mechanism for resol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utstanding ambiguity before pa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2839680" y="4081320"/>
            <a:ext cx="17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id + id * 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err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828440" y="1905120"/>
            <a:ext cx="129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S +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S *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819520" y="4829040"/>
            <a:ext cx="87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 + S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581280" y="4114800"/>
            <a:ext cx="1219320" cy="3049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26880" y="5867280"/>
            <a:ext cx="790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reduce by rule (S ::= S + S)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hift the * 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276720" y="2133720"/>
            <a:ext cx="1447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4714200" y="1979640"/>
            <a:ext cx="43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, this is an ambiguo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 – we are always going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some mechanism for resol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utstanding ambiguity before pa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685120" y="6186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980400" y="6186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370200" y="61866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7238880" y="640080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7622280" y="649116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5409720" y="64008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5107680" y="649116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5634360" y="5348160"/>
            <a:ext cx="19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 tre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839680" y="4081320"/>
            <a:ext cx="17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id + id * 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err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828440" y="1905120"/>
            <a:ext cx="129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S +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S *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2820600" y="4829040"/>
            <a:ext cx="4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581280" y="4114800"/>
            <a:ext cx="1219320" cy="3049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26880" y="5867280"/>
            <a:ext cx="790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reduce by rule (S ::= S + 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3276720" y="2133720"/>
            <a:ext cx="1447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714200" y="1979640"/>
            <a:ext cx="43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, this is an ambiguo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 – we are always going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some mechanism for resol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utstanding ambiguity before pa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370920" y="5424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 flipH="1">
            <a:off x="5911920" y="588168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685120" y="6186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980400" y="6186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370200" y="61866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750000" y="58816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6521400" y="5881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174720" y="419112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238880" y="640080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622280" y="649116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 flipH="1">
            <a:off x="5409720" y="64008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5107680" y="649116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839680" y="4081320"/>
            <a:ext cx="17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id + id * 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err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828440" y="1905120"/>
            <a:ext cx="129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S +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S *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2820600" y="4829040"/>
            <a:ext cx="54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 *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733920" y="4114800"/>
            <a:ext cx="1066680" cy="3049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26880" y="5867280"/>
            <a:ext cx="790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reduce by rule (S ::= S + 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276720" y="2133720"/>
            <a:ext cx="1447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4714200" y="1979640"/>
            <a:ext cx="43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, this is an ambiguo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 – we are always going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some mechanism for resol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utstanding ambiguity before pa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370920" y="5424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911920" y="588168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685120" y="6186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6980400" y="6186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370200" y="61866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6750000" y="58816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521400" y="5881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6173640" y="419112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f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ing First 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First(X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computed iterativ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 ca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 is a terminal symbol then First (T) := {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wise First (T) := {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rative/inductive ca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X is a non-terminal and (X:= ABC...) 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(X) := First (X) U First (ABC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First(ABC...) = F1 U F2 U F3 U ...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1 = First (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2 = First (B), if A is Nul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3 = First (C), if A is Nullable &amp; B is Nul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839680" y="4081320"/>
            <a:ext cx="17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id + id * 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err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828440" y="1905120"/>
            <a:ext cx="129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S +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S *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2820960" y="4829040"/>
            <a:ext cx="7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 * id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962520" y="4114800"/>
            <a:ext cx="838080" cy="3049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326880" y="5867280"/>
            <a:ext cx="790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reduce by rule (S ::= S + 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276720" y="2133720"/>
            <a:ext cx="1447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714200" y="1979640"/>
            <a:ext cx="43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, this is an ambiguo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 – we are always going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some mechanism for resol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utstanding ambiguity before pa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6370920" y="5424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911920" y="588168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685120" y="6186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980400" y="6186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370200" y="61866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6750000" y="58816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6521400" y="5881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173640" y="419112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f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2839680" y="4081320"/>
            <a:ext cx="17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id + id * 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err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828440" y="1905120"/>
            <a:ext cx="129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S +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S *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2820600" y="482904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 * S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962520" y="4114800"/>
            <a:ext cx="838080" cy="3049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6880" y="5867280"/>
            <a:ext cx="790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reduce by rule (S ::= S + 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3276720" y="2133720"/>
            <a:ext cx="1447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714200" y="1979640"/>
            <a:ext cx="43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, this is an ambiguo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 – we are always going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some mechanism for resol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utstanding ambiguity before pa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6370920" y="5424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 flipH="1">
            <a:off x="5911920" y="588168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5685120" y="6186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980400" y="6186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370200" y="61866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750000" y="58816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6521400" y="5881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6174720" y="419112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7850520" y="541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7850880" y="617220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8001000" y="5867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2839680" y="4081320"/>
            <a:ext cx="17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id + id * 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err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828440" y="1905120"/>
            <a:ext cx="129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S +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S *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820960" y="482904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3962520" y="4114800"/>
            <a:ext cx="838080" cy="3049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326880" y="5867280"/>
            <a:ext cx="790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reduce by rule (S ::= S + 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276720" y="2133720"/>
            <a:ext cx="1447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714200" y="1979640"/>
            <a:ext cx="43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, this is an ambiguo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 – we are always going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some mechanism for resol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utstanding ambiguity before pa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6370920" y="5424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 flipH="1">
            <a:off x="5911920" y="588168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5685120" y="6186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980400" y="6186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6370200" y="61866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750000" y="58816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6521400" y="5881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6174720" y="419112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7850520" y="541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7850880" y="617220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8001000" y="5867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7148880" y="537048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H="1">
            <a:off x="6705720" y="502920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7543800" y="50292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7315200" y="5029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7164720" y="4572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2839680" y="4081320"/>
            <a:ext cx="17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id + id * 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native pa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1828440" y="1905120"/>
            <a:ext cx="129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S +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S *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2819520" y="482904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 + S 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581280" y="4114800"/>
            <a:ext cx="1219320" cy="3049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6880" y="5867280"/>
            <a:ext cx="790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 by rule (S ::= S + S)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hift the 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3276720" y="2133720"/>
            <a:ext cx="1447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4714200" y="1979640"/>
            <a:ext cx="43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, this is an ambiguo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 – we are always going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some mechanism for resol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utstanding ambiguity before pa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6370920" y="5424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7056000" y="54244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 flipH="1">
            <a:off x="6705720" y="640080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6980400" y="6186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812560" y="586728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6402960" y="649116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flipH="1">
            <a:off x="6095520" y="57150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2839680" y="4081320"/>
            <a:ext cx="17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id + id * 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err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1828440" y="1905120"/>
            <a:ext cx="129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S +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S *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2819520" y="482904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 + S *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3733920" y="4114800"/>
            <a:ext cx="1066680" cy="3049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326880" y="5867280"/>
            <a:ext cx="790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 by rule (S ::= S + S)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hift the 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3276720" y="2133720"/>
            <a:ext cx="1447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14200" y="1979640"/>
            <a:ext cx="43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, this is an ambiguo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 – we are always going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some mechanism for resol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utstanding ambiguity before pa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6370920" y="5424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7056000" y="54244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 flipH="1">
            <a:off x="6705720" y="640080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6980400" y="6186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6173640" y="419112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f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5812560" y="586728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6402960" y="649116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 flipH="1">
            <a:off x="6095520" y="57150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7666200" y="618660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839680" y="4081320"/>
            <a:ext cx="17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id + id * 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err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828440" y="1905120"/>
            <a:ext cx="129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S +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S *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2819880" y="482904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 + S * id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3962520" y="4114800"/>
            <a:ext cx="838080" cy="3049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326880" y="5867280"/>
            <a:ext cx="790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 by rule (S ::= S + S)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hift the 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3276720" y="2133720"/>
            <a:ext cx="1447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4714200" y="1979640"/>
            <a:ext cx="43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, this is an ambiguo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 – we are always going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some mechanism for resol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utstanding ambiguity before pa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6173640" y="419112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f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6370920" y="5424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7056000" y="54244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 flipH="1">
            <a:off x="6705720" y="640080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980400" y="6186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812560" y="586728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 flipH="1">
            <a:off x="6095520" y="57150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7666200" y="618660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6402960" y="649116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8612640" y="649116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2839680" y="4081320"/>
            <a:ext cx="17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id + id * 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err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1828440" y="1905120"/>
            <a:ext cx="129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S +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S *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2819520" y="482904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 + S * S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3962520" y="4114800"/>
            <a:ext cx="838080" cy="3049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326880" y="5867280"/>
            <a:ext cx="790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 by rule (S ::= S + S)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hift the 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3276720" y="2133720"/>
            <a:ext cx="1447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4714200" y="1979640"/>
            <a:ext cx="43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, this is an ambiguo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 – we are always going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some mechanism for resol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utstanding ambiguity before pa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6174720" y="419112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6370920" y="5424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7056000" y="54244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 flipH="1">
            <a:off x="6705720" y="640080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6980400" y="6186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5812560" y="586728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 flipH="1">
            <a:off x="6095520" y="57150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7666200" y="618660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6402960" y="649116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612640" y="649116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8275680" y="6186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8534520" y="6477120"/>
            <a:ext cx="1522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839680" y="4081320"/>
            <a:ext cx="17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id + id * 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err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1828440" y="1905120"/>
            <a:ext cx="129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S +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S *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2819520" y="4829040"/>
            <a:ext cx="87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 + S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3962520" y="4114800"/>
            <a:ext cx="838080" cy="3049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326880" y="5867280"/>
            <a:ext cx="790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 by rule (S ::= S + S)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hift the 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3276720" y="2133720"/>
            <a:ext cx="1447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4714200" y="1979640"/>
            <a:ext cx="43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, this is an ambiguo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 – we are always going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some mechanism for resol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utstanding ambiguity before pa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6174720" y="419112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6370920" y="5424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7056000" y="54244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 flipH="1">
            <a:off x="6705720" y="640080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980400" y="6186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5812560" y="586728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 flipH="1">
            <a:off x="6095520" y="57150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7666200" y="618660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6402960" y="649116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8612640" y="649116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8275680" y="6186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8534520" y="6477120"/>
            <a:ext cx="1522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 flipH="1">
            <a:off x="7206840" y="58816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8045280" y="58816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7816680" y="5881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7589880" y="5424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839680" y="4081320"/>
            <a:ext cx="17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id + id * 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err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1828440" y="1905120"/>
            <a:ext cx="129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S +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S *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2820600" y="4829040"/>
            <a:ext cx="4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3962520" y="4114800"/>
            <a:ext cx="838080" cy="3049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26880" y="5867280"/>
            <a:ext cx="790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 by rule (S ::= S + S)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hift the 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276720" y="2133720"/>
            <a:ext cx="1447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4714200" y="1979640"/>
            <a:ext cx="43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, this is an ambiguo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 – we are always going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some mechanism for resol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utstanding ambiguity before pa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 flipH="1">
            <a:off x="6597720" y="511956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6948720" y="4699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6370920" y="5424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589880" y="5424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056000" y="54244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 flipH="1">
            <a:off x="7206840" y="58816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6980400" y="6186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275680" y="6186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7666200" y="618660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8045280" y="58816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7816680" y="5881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7130880" y="51195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7359480" y="511956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6174720" y="419112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"/>
          <p:cNvSpPr/>
          <p:nvPr/>
        </p:nvSpPr>
        <p:spPr>
          <a:xfrm>
            <a:off x="5144760" y="358128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2153880" y="3595680"/>
            <a:ext cx="17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id + id * 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err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1828440" y="1905120"/>
            <a:ext cx="129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S +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S *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306720" y="3581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7429680" y="3581280"/>
            <a:ext cx="87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 + S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3276720" y="3629160"/>
            <a:ext cx="838080" cy="30456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3276720" y="2133720"/>
            <a:ext cx="1447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4714200" y="1979640"/>
            <a:ext cx="43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, this is an ambiguo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 – we are always going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some mechanism for resol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utstanding ambiguity before pa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6597720" y="511956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948720" y="4699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6370920" y="5424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589880" y="5424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056000" y="54244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 flipH="1">
            <a:off x="7206840" y="58816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6980400" y="6186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275680" y="6186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7666200" y="618660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045280" y="58816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7816680" y="5881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130880" y="51195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7359480" y="511956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762120" y="4343400"/>
            <a:ext cx="30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 by rule (S ::= S + S)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6193440" y="434340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 shift the *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1297080" y="55767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 flipH="1">
            <a:off x="837720" y="603396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611280" y="63388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1906920" y="63388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1296360" y="63388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1676520" y="603396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1447920" y="60339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2776680" y="5562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2777040" y="632448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2927520" y="6019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2075040" y="552276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 flipH="1">
            <a:off x="1631520" y="51814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2470320" y="518148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2241720" y="5181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2090880" y="4724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6326640" y="609588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477120" y="5791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 flipH="1">
            <a:off x="533160" y="66294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2133720" y="66294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8534520" y="64771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 flipH="1">
            <a:off x="6781320" y="64771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ing Follow 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Follow(X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computed iterativ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 ca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ly, we assume nothing in particular follow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low (X) := { } for all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uctive ca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Y := s1 X s2) for any strings s1, s2 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low (X) := First (s2) U Follow 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Y := s1 X s2) for any strings s1, s2 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low (X) := Follow(Y) U Follow (X),  if s2 is Nul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-reduce err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184320" y="190512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id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3580920" y="1905120"/>
            <a:ext cx="122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::= E ;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::=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2839320" y="408132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id ; i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2820240" y="482904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E ;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3276720" y="4114800"/>
            <a:ext cx="1295280" cy="3049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2133360" y="190512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E 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326880" y="5867280"/>
            <a:ext cx="790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reduce by rule (S ::= E ;)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hift the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5734800" y="4052880"/>
            <a:ext cx="169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id ; id ; i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6172200" y="4086360"/>
            <a:ext cx="1295280" cy="30456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 flipH="1" flipV="1">
            <a:off x="6400800" y="457200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6540120" y="567540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might be thi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ing shif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"/>
          <p:cNvSpPr/>
          <p:nvPr/>
        </p:nvSpPr>
        <p:spPr>
          <a:xfrm>
            <a:off x="534960" y="48290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State of parse so f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2839320" y="4081320"/>
            <a:ext cx="11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( 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duce-reduce err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183960" y="19494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::= S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153720" y="13716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Gramm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2120760" y="1949400"/>
            <a:ext cx="115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( E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::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992520" y="40672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nput from lex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2819880" y="482904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( E )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3429000" y="4114800"/>
            <a:ext cx="1219320" cy="304920"/>
          </a:xfrm>
          <a:prstGeom prst="rect">
            <a:avLst/>
          </a:prstGeom>
          <a:solidFill>
            <a:srgbClr val="99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326880" y="5867280"/>
            <a:ext cx="790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 by rule ( S ::= ( E ) )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 by rule ( E ::= ( E )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4177800" y="1949400"/>
            <a:ext cx="129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::= ( E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::= E +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::=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p-down Par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to understand and 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code it yourself using nullable, first, follow 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llent for quick &amp; dirty parsing jo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tom-up Par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complex: uses stack &amp;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power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nus: tools do the work for you ==&gt; ML-Ya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you need to understand how shift-reduce &amp; reduce-reduce errors can ar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a predictive par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83640" y="16365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35440" y="160020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29480" y="16002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447920" y="3048120"/>
          <a:ext cx="6400440" cy="2697120"/>
        </p:xfrm>
        <a:graphic>
          <a:graphicData uri="http://schemas.openxmlformats.org/drawingml/2006/table">
            <a:tbl>
              <a:tblPr/>
              <a:tblGrid>
                <a:gridCol w="1600200"/>
                <a:gridCol w="1599840"/>
                <a:gridCol w="1600200"/>
                <a:gridCol w="1600200"/>
              </a:tblGrid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a predictive par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83640" y="163656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X 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::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35440" y="160020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: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829480" y="16002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b Y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447920" y="3048120"/>
          <a:ext cx="6400440" cy="2697120"/>
        </p:xfrm>
        <a:graphic>
          <a:graphicData uri="http://schemas.openxmlformats.org/drawingml/2006/table">
            <a:tbl>
              <a:tblPr/>
              <a:tblGrid>
                <a:gridCol w="1600200"/>
                <a:gridCol w="1599840"/>
                <a:gridCol w="1600200"/>
                <a:gridCol w="1600200"/>
              </a:tblGrid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1968120" y="628488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3048120" y="586728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pw</cp:lastModifiedBy>
  <dcterms:modified xsi:type="dcterms:W3CDTF">2006-02-21T21:21:19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