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1AA-9142-489C-9EA2-4F740ECE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6F5-D3C0-401E-A2C4-741F3F5D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796-1E54-4E31-AE45-92E412B1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ED5-108A-47FE-A5EC-FF911155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F5C-2634-4CD2-A43F-E3774527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1B6-85B4-484C-A4BD-8E142B0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CA4-5B9B-43C6-86EC-E9D5451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CC0-7A9F-48FA-A019-20C1929B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96C-6584-4CE6-855D-C0D1A6FD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D7B-1FDF-4EEB-9402-43E45164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270-33DD-4BB8-80A0-4822976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74F-A210-4DCA-B5C6-3332001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3CD-0E03-41D3-ACCD-DA5A23C6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737160" y="6284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97160" y="6284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6440" y="628488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free grammars (Appel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, non-terminal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ons &amp; pars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ers (Appel 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LL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write as M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for automatic construction from a 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..such as using a bottom-up pars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(Shift-Reduce)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LR(k) Left-to-right parse, Rightmost derivation, k-token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LL(k)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R vari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parsers for most modern programming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in tools such as ML-Ya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ush next input on to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4143240"/>
            <a:ext cx="2778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 rot="16200000">
            <a:off x="4243320" y="2643120"/>
            <a:ext cx="123840" cy="2819520"/>
          </a:xfrm>
          <a:custGeom>
            <a:avLst/>
            <a:gdLst>
              <a:gd name="textAreaLeft" fmla="*/ 0 w 123840"/>
              <a:gd name="textAreaRight" fmla="*/ 44640 w 123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4143240"/>
            <a:ext cx="26254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20960" y="4829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 rot="16200000">
            <a:off x="4319640" y="2719440"/>
            <a:ext cx="123840" cy="2666880"/>
          </a:xfrm>
          <a:custGeom>
            <a:avLst/>
            <a:gdLst>
              <a:gd name="textAreaLeft" fmla="*/ 0 w 123840"/>
              <a:gd name="textAreaRight" fmla="*/ 44640 w 123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4143240"/>
            <a:ext cx="23968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21320" y="48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 rot="16200000">
            <a:off x="4433400" y="2833560"/>
            <a:ext cx="123840" cy="2438280"/>
          </a:xfrm>
          <a:custGeom>
            <a:avLst/>
            <a:gdLst>
              <a:gd name="textAreaLeft" fmla="*/ 0 w 123840"/>
              <a:gd name="textAreaRight" fmla="*/ 44640 w 1238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4143240"/>
            <a:ext cx="21682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0240" y="4829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6200000">
            <a:off x="4548240" y="2948040"/>
            <a:ext cx="123840" cy="2209680"/>
          </a:xfrm>
          <a:custGeom>
            <a:avLst/>
            <a:gdLst>
              <a:gd name="textAreaLeft" fmla="*/ 0 w 123840"/>
              <a:gd name="textAreaRight" fmla="*/ 44640 w 123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20600" y="4829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20600" y="4829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80480" y="43038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0600" y="48290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3000" y="4303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4143240"/>
            <a:ext cx="15588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20240" y="4829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 rot="16200000">
            <a:off x="4852440" y="3252600"/>
            <a:ext cx="123840" cy="1600200"/>
          </a:xfrm>
          <a:custGeom>
            <a:avLst/>
            <a:gdLst>
              <a:gd name="textAreaLeft" fmla="*/ 0 w 123840"/>
              <a:gd name="textAreaRight" fmla="*/ 44640 w 123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20240" y="4829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81200" y="430380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20240" y="4829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0480" y="4303800"/>
            <a:ext cx="16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0600" y="4829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80120" y="43038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20600" y="482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81200" y="4303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3000" y="43038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/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79760" y="4303800"/>
            <a:ext cx="14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2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ccessful parse!  Is this grammar LL(1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ush next input on to top of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interpreting the entire stack on every iteration would be very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averageStackSize * inpu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optimized algorithm that only looks at top of stack (plus parsing table to figure out what to do. O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 (detai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ser summarizes the current “parse state” using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ger is actually a state in a finite autom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parse state can be computed by running the automaton over the current pars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ised algorith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sed on next input symbol &amp; the parse state (as opposed to the entire stack)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next input on to top of stack and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 &amp; goto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ild parse tree corresponding to reduct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880" y="5334120"/>
            <a:ext cx="91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at sort of grammar rules make shift-reduce parsing im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0760" y="40813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21320" y="482904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cd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00" y="53341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-Reduce err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an’t decide whether to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-Reduce err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an’t decide whether to Reduce by R1 or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6400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6222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409720" y="6400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076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34360" y="53481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20600" y="4829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38880" y="6400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22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409720" y="6400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076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20600" y="4829040"/>
            <a:ext cx="5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: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First (T)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/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: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20960" y="48290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 id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20600" y="48290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 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5052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850880" y="6172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85052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50880" y="6172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48880" y="5370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6705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5029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3152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6472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4829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4829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339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19880" y="48290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i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19520" y="48290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534520" y="6477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534520" y="6477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20600" y="4829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597720" y="51195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948720" y="469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130880" y="511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59480" y="5119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5144760" y="35812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53880" y="35956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6720" y="3581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29680" y="358128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76720" y="3629160"/>
            <a:ext cx="8380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597720" y="51195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48720" y="469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130880" y="511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359480" y="5119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62120" y="43434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3440" y="43434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shift the 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97080" y="5576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837720" y="60339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1128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90692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96360" y="6338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60339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603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76680" y="5562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77040" y="6324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9275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75040" y="55227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631520" y="5181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70320" y="5181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41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908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26640" y="60958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77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33160" y="6629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133720" y="6629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534520" y="6477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781320" y="6477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{ } for all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432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id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80920" y="1905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839320" y="4081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20240" y="4829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 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76720" y="4114800"/>
            <a:ext cx="12952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3336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E ;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734800" y="4052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172200" y="4086360"/>
            <a:ext cx="12952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6400800" y="4572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40120" y="56754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ight be th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9320" y="40813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e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0760" y="19494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19880" y="48290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E )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42900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S ::= ( E ) 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E ::= ( 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77800" y="194940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nderstand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de it yourself using nullable, first, follow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for quick &amp; dirty parsing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: uses stack &amp;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: tools do the work for you ==&gt;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need to understand how shift-reduce &amp; reduce-reduce errors can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21T21:21:1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