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3BDE-7BE8-4205-B6B5-D8672FC98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F395-88AE-4802-9AA5-ABF161E6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8A60-C859-4779-BE4A-E95B6A53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F345-1A11-44D0-A6B7-22323DE2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8E00-EBBF-4FF4-9B27-280E3D32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DC8B-FCAF-4DA4-94C7-8CF200C6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6ECD-7D75-4BF1-BC19-A5D2BCC4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00BD-8737-42B1-8208-0890ED8B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B923-EC11-4EDA-87E8-1F3A5126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6A65-4001-4766-AF17-4418F153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E021-2CF4-4F74-8057-23FD9562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F35B-217E-46AC-966D-5B16D7E4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32C3-0E85-40B1-9128-C39B5269D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 32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531440" y="6284880"/>
            <a:ext cx="72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one round of induction, we realize we have reached a fixe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812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3736440" y="62848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816440" y="5867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3737160" y="628488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 1, no fixe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816440" y="5867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 flipV="1">
            <a:off x="4816440" y="5867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97160" y="628488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 2, no fixe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 flipV="1">
            <a:off x="4816440" y="5867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46440" y="6284880"/>
            <a:ext cx="44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 3, no more changes ==&gt; fixe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5397120" y="62848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47712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447920" y="3048120"/>
          <a:ext cx="640080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 flipV="1">
            <a:off x="646128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3400" y="6284880"/>
            <a:ext cx="44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one round of induction, no fixe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447920" y="3048120"/>
          <a:ext cx="640080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 flipV="1">
            <a:off x="646128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4480" y="5987880"/>
            <a:ext cx="839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wo rounds, fixed po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ut notice, computing Follow(X) before Follow (Y) would have required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u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xt free grammars (Appel 3.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als, non-terminals,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ivations &amp; parse 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iguous gramm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rsive descent parsers (Appel 3.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e LL(k) gramm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write as ML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s for automatic construction from a CF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0080" y="373392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blan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9360" y="3733920"/>
            <a:ext cx="41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blanks?  --&gt; syntax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1160" y="37339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t possible to put 2 grammar rules in the same bo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27880" y="72216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1160" y="37339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t possible to put 2 grammar rules in the same bo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380880" y="4648320"/>
          <a:ext cx="8382240" cy="212400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7160"/>
                <a:gridCol w="1397160"/>
                <a:gridCol w="1396800"/>
                <a:gridCol w="139716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Z ::= d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ve parsing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predictive parsing table constructed this way contains no duplicate entries, the grammar is called LL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-to-right parse, Left-most derivation, 1 symbol looka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t, of the grammar is not LL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LL(k) parsing table, columns include every k-length sequence of termin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981080" y="5565600"/>
          <a:ext cx="5333760" cy="9558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tr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ly, we saw that grammars with left-recursion were problematic, but could be transformed into LL(1) in som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ample non-LL(1) grammar we just s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fix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399760" y="388620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25880" y="40384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43680" y="40384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54480" y="106524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   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    | PRINT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36840" y="1065240"/>
            <a:ext cx="240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   | ;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7320" y="228600"/>
            <a:ext cx="70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n-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E,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, IF, THEN, ELSE, BEGIN, END, PRINT, ;,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74280" y="3809880"/>
            <a:ext cx="68907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S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        =&gt;   eat IF; E (); eat THEN; S (); eat ELSE; S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BEGIN =&gt;   eat BEGIN; S (); L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=&gt;   eat PRINT; E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   =&gt;   eat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SEMI    =&gt;   eat SEMI; S (); L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 () = eat NUM; eat EQ; eat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92680" y="2209680"/>
            <a:ext cx="525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 tok = ref (getToken 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advance () = tok := getToken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eat t = if (! tok = t) then advance () else error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1200" y="2209680"/>
            <a:ext cx="339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token = NUM |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THEN | ELSE | BEGIN |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| SEMI | 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2057400"/>
            <a:ext cx="0" cy="1371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tr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ly, we saw that grammars with left-recursion were problematic, but could be transformed into LL(1) in som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ample non-LL(1) grammar we just s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here is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left-facto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99760" y="388620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025880" y="40384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3680" y="40384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7560" y="556272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73800" y="58356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91600" y="58356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038840" y="5835600"/>
            <a:ext cx="91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RD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Gs are good at specifying programming languag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ing general CFGs is expensive so we define parsers for simpler classes of CF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L(k), LR(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build a recursive descent parser for LL(k) grammars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ing nullable, first and follow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ng a parse table from the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ing for duplicate entries, which indicates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n ML program from the pars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arser construction fails we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rite the grammar (left factoring, eliminating left recursion) and try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to build a parser using some other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RD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Gs are good at specifying programming languag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ing general CFGs is expensive so we define parsers for simpler classes of CF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L(k), LR(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build a recursive descent parser for LL(k) grammars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ing nullable, first and follow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ng a parse table from the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ing for duplicate entries, which indicates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n ML program from the pars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arser construction fails we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rite the grammar (left factoring, eliminating left recursion) and try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to build a parser using some other method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...such as using a bottom-up parsing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ttom-up (Shift-Reduce) Par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-reduce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a: bottom-up pa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a: LR(k) Left-to-right parse, Rightmost derivation, k-token look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powerful than LL(k) par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LR vari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sis for parsers for most modern programming langu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in tools such as ML-Yac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er keeps track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in current input (what input to read ne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ack of terminal &amp; non-terminal symbols representing the “parse so fa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next input symbol &amp; stack, parser table ind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hi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ush next input on to top of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duce 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of stack should match RHS of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top of stack with LHS of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 (we shift EOF &amp; can reduce what remains on stack to start symb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95480" y="4143240"/>
            <a:ext cx="277812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819520" y="4829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 rot="16200000">
            <a:off x="4243320" y="2643120"/>
            <a:ext cx="123840" cy="2819520"/>
          </a:xfrm>
          <a:custGeom>
            <a:avLst/>
            <a:gdLst>
              <a:gd name="textAreaLeft" fmla="*/ 0 w 123840"/>
              <a:gd name="textAreaRight" fmla="*/ 44640 w 12384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3572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48120" y="4143240"/>
            <a:ext cx="262548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20960" y="48290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 rot="16200000">
            <a:off x="4319640" y="2719440"/>
            <a:ext cx="123840" cy="2666880"/>
          </a:xfrm>
          <a:custGeom>
            <a:avLst/>
            <a:gdLst>
              <a:gd name="textAreaLeft" fmla="*/ 0 w 123840"/>
              <a:gd name="textAreaRight" fmla="*/ 44640 w 12384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3572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81200" y="43038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76720" y="4143240"/>
            <a:ext cx="239688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821320" y="48290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 rot="16200000">
            <a:off x="4433400" y="2833560"/>
            <a:ext cx="123840" cy="2438280"/>
          </a:xfrm>
          <a:custGeom>
            <a:avLst/>
            <a:gdLst>
              <a:gd name="textAreaLeft" fmla="*/ 0 w 123840"/>
              <a:gd name="textAreaRight" fmla="*/ 44640 w 12384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73572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81200" y="43038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RD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struct an RD parser, we need to know what rule to apply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a non terminal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ee the next terminal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pply rule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X ::= 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irst symb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can be generated by string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duces to the empty string (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s null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first symbol in any string that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n fol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4143240"/>
            <a:ext cx="216828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820240" y="482904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id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 rot="16200000">
            <a:off x="4548240" y="2948040"/>
            <a:ext cx="123840" cy="2209680"/>
          </a:xfrm>
          <a:custGeom>
            <a:avLst/>
            <a:gdLst>
              <a:gd name="textAreaLeft" fmla="*/ 0 w 123840"/>
              <a:gd name="textAreaRight" fmla="*/ 44640 w 12384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73572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081200" y="43038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62520" y="4143240"/>
            <a:ext cx="171108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820600" y="482904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id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 rot="16200000">
            <a:off x="4776840" y="3176640"/>
            <a:ext cx="123840" cy="1752480"/>
          </a:xfrm>
          <a:custGeom>
            <a:avLst/>
            <a:gdLst>
              <a:gd name="textAreaLeft" fmla="*/ 0 w 123840"/>
              <a:gd name="textAreaRight" fmla="*/ 44640 w 1238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73572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081200" y="43038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962520" y="4143240"/>
            <a:ext cx="171108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820600" y="482904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V="1" rot="16200000">
            <a:off x="4776840" y="3176640"/>
            <a:ext cx="123840" cy="1752480"/>
          </a:xfrm>
          <a:custGeom>
            <a:avLst/>
            <a:gdLst>
              <a:gd name="textAreaLeft" fmla="*/ 0 w 123840"/>
              <a:gd name="textAreaRight" fmla="*/ 44640 w 1238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73572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6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080480" y="43038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962520" y="4143240"/>
            <a:ext cx="171108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820600" y="482904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 rot="16200000">
            <a:off x="4776840" y="3176640"/>
            <a:ext cx="123840" cy="1752480"/>
          </a:xfrm>
          <a:custGeom>
            <a:avLst/>
            <a:gdLst>
              <a:gd name="textAreaLeft" fmla="*/ 0 w 123840"/>
              <a:gd name="textAreaRight" fmla="*/ 44640 w 1238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73572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5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083000" y="430380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114800" y="4143240"/>
            <a:ext cx="155880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820240" y="48290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L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 rot="16200000">
            <a:off x="4852440" y="3252600"/>
            <a:ext cx="123840" cy="1600200"/>
          </a:xfrm>
          <a:custGeom>
            <a:avLst/>
            <a:gdLst>
              <a:gd name="textAreaLeft" fmla="*/ 0 w 123840"/>
              <a:gd name="textAreaRight" fmla="*/ 44640 w 1238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73572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4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081200" y="43038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29200" y="4143240"/>
            <a:ext cx="64440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820240" y="482904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L ; id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 rot="16200000">
            <a:off x="5309640" y="3709800"/>
            <a:ext cx="123840" cy="685800"/>
          </a:xfrm>
          <a:custGeom>
            <a:avLst/>
            <a:gdLst>
              <a:gd name="textAreaLeft" fmla="*/ 0 w 123840"/>
              <a:gd name="textAreaRight" fmla="*/ 44640 w 1238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34520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081200" y="4303800"/>
            <a:ext cx="84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029200" y="4143240"/>
            <a:ext cx="64440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820240" y="482904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L ;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 rot="16200000">
            <a:off x="5309640" y="3709800"/>
            <a:ext cx="123840" cy="685800"/>
          </a:xfrm>
          <a:custGeom>
            <a:avLst/>
            <a:gdLst>
              <a:gd name="textAreaLeft" fmla="*/ 0 w 123840"/>
              <a:gd name="textAreaRight" fmla="*/ 44640 w 1238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34520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2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080480" y="4303800"/>
            <a:ext cx="160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029200" y="4143240"/>
            <a:ext cx="64440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820600" y="482904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 rot="16200000">
            <a:off x="5309640" y="3709800"/>
            <a:ext cx="123840" cy="685800"/>
          </a:xfrm>
          <a:custGeom>
            <a:avLst/>
            <a:gdLst>
              <a:gd name="textAreaLeft" fmla="*/ 0 w 123840"/>
              <a:gd name="textAreaRight" fmla="*/ 44640 w 1238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4520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1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080120" y="4303800"/>
            <a:ext cx="119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81480" y="4143240"/>
            <a:ext cx="49212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820600" y="4829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L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 rot="16200000">
            <a:off x="5309640" y="3709800"/>
            <a:ext cx="123840" cy="685800"/>
          </a:xfrm>
          <a:custGeom>
            <a:avLst/>
            <a:gdLst>
              <a:gd name="textAreaLeft" fmla="*/ 0 w 123840"/>
              <a:gd name="textAreaRight" fmla="*/ 44640 w 1238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34520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0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081200" y="4303800"/>
            <a:ext cx="8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181480" y="4143240"/>
            <a:ext cx="49212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820960" y="48290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 rot="16200000">
            <a:off x="5309640" y="3709800"/>
            <a:ext cx="123840" cy="685800"/>
          </a:xfrm>
          <a:custGeom>
            <a:avLst/>
            <a:gdLst>
              <a:gd name="textAreaLeft" fmla="*/ 0 w 123840"/>
              <a:gd name="textAreaRight" fmla="*/ 44640 w 1238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34520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9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83000" y="4303800"/>
            <a:ext cx="114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ing Nullable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terminal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X is Null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ly if the following constraints are satisfied (computed using iterative analy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X :=  )  then X is Nul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tive/inductiv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X := ABC...) and A, B, C, ... are all Nullable then X is Nullable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820960" y="48290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5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079760" y="4303800"/>
            <a:ext cx="14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C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820960" y="48290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0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96520" y="5904000"/>
            <a:ext cx="45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ccessful parse!  Is this grammar LL(1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r keeps track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 in current input (what input to read nex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ack of terminal &amp; non-terminal symbols representing the “parse so fa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next input symbol &amp; stack, parser table ind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hif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ush next input on to top of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duce 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 of stack should match RHS of r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lace top of stack with LHS of r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 (we shift EOF &amp; can reduce what remains on stack to start symb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interpreting the entire stack on every iteration would be very s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(averageStackSize * inpu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optimized algorithm that only looks at top of stack (plus parsing table to figure out what to do. O(inp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algorithm (detail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rser summarizes the current “parse state” using an 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teger is actually a state in a finite automa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urrent parse state can be computed by running the automaton over the current parse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evised algorith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Based on next input symbol &amp; the parse state (as opposed to the entire stack), parser table ind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hift 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 next input on to top of stack and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move automaton into stat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duce R &amp; goto 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of stack should match RHS of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top of stack with LHS of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move automaton into stat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build parse tree corresponding to reduction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841120" y="4081320"/>
            <a:ext cx="17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822040" y="48290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880" y="5334120"/>
            <a:ext cx="916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LL parsing, shift-reduce parsing does not always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What sort of grammar rules make shift-reduce parsing impos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505320" y="4114800"/>
            <a:ext cx="10666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12000" y="19051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840760" y="408132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??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821320" y="4829040"/>
            <a:ext cx="73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cd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505320" y="4114800"/>
            <a:ext cx="10666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400" y="5334120"/>
            <a:ext cx="817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LL parsing, shift-reduce parsing does not always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hift-Reduce err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an’t decide whether to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hift 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duce c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a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duce-Reduce err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an’t decide whether to Reduce by R1 or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12000" y="19051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828440" y="190512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+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*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841120" y="4081320"/>
            <a:ext cx="17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822040" y="48290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505320" y="4114800"/>
            <a:ext cx="10666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276720" y="21337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714200" y="1979640"/>
            <a:ext cx="43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, this is an ambigu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 – we are always go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ome mechanism for re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utstanding ambiguity before 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839680" y="40813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+ id *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828440" y="190512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+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*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819520" y="4829040"/>
            <a:ext cx="87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 + S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581280" y="4114800"/>
            <a:ext cx="121932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duce by rule (S ::= S + S)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hift the *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276720" y="21337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714200" y="1979640"/>
            <a:ext cx="43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, this is an ambigu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 – we are always go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ome mechanism for re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utstanding ambiguity before 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68512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98040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370200" y="6186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238880" y="640080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622280" y="64911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5409720" y="64008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107680" y="64911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634360" y="534816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tre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839680" y="40813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+ id *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828440" y="190512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+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*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820600" y="482904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581280" y="4114800"/>
            <a:ext cx="121932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duce by rule (S ::= S + 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276720" y="21337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714200" y="1979640"/>
            <a:ext cx="43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, this is an ambigu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 – we are always go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ome mechanism for re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utstanding ambiguity before 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370920" y="5424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5911920" y="58816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68512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98040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370200" y="6186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750000" y="58816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521400" y="5881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174720" y="41911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238880" y="640080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622280" y="64911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5409720" y="64008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107680" y="64911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839680" y="40813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+ id *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828440" y="190512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+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*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820600" y="4829040"/>
            <a:ext cx="54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 *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733920" y="4114800"/>
            <a:ext cx="10666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duce by rule (S ::= S + 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276720" y="21337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714200" y="1979640"/>
            <a:ext cx="43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, this is an ambigu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 – we are always go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ome mechanism for re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utstanding ambiguity before 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370920" y="5424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911920" y="58816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68512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98040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370200" y="6186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750000" y="58816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521400" y="5881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173640" y="41911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ing First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irst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omputed itera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 is a terminal symbol then First (T) := {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 First (T) := {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tive/inductiv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X is a non-terminal and (X:= ABC...)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(X) := First (X) U First (ABC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First(ABC...) = F1 U F2 U F3 U ...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1 = First 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2 = First (B), if A is Nul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3 = First (C), if A is Nullable &amp; B is Nul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839680" y="40813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+ id *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828440" y="190512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+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*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820960" y="482904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 * id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962520" y="4114800"/>
            <a:ext cx="8380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duce by rule (S ::= S + 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276720" y="21337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714200" y="1979640"/>
            <a:ext cx="43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, this is an ambigu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 – we are always go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ome mechanism for re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utstanding ambiguity before 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370920" y="5424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911920" y="58816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68512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98040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370200" y="6186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750000" y="58816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521400" y="5881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173640" y="41911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839680" y="40813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+ id *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828440" y="190512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+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*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820600" y="48290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 * S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62520" y="4114800"/>
            <a:ext cx="8380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duce by rule (S ::= S + 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276720" y="21337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714200" y="1979640"/>
            <a:ext cx="43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, this is an ambigu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 – we are always go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ome mechanism for re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utstanding ambiguity before 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370920" y="5424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5911920" y="58816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68512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98040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370200" y="6186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750000" y="58816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521400" y="5881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174720" y="41911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850520" y="54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850880" y="61722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8001000" y="5867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839680" y="40813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+ id *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828440" y="190512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+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*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820960" y="48290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962520" y="4114800"/>
            <a:ext cx="8380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duce by rule (S ::= S + 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276720" y="21337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714200" y="1979640"/>
            <a:ext cx="43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, this is an ambigu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 – we are always go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ome mechanism for re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utstanding ambiguity before 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370920" y="5424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H="1">
            <a:off x="5911920" y="58816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68512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98040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370200" y="6186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750000" y="58816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521400" y="5881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174720" y="41911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850520" y="54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850880" y="61722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8001000" y="5867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148880" y="537048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6705720" y="50292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543800" y="50292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731520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164720" y="4572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839680" y="40813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+ id *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 pa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828440" y="190512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+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*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819520" y="48290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 + S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581280" y="4114800"/>
            <a:ext cx="121932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by rule (S ::= S + S)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hift the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276720" y="21337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714200" y="1979640"/>
            <a:ext cx="43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, this is an ambigu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 – we are always go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ome mechanism for re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utstanding ambiguity before 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370920" y="5424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7056000" y="54244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6705720" y="640080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98040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812560" y="58672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402960" y="64911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6095520" y="57150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839680" y="40813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+ id *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828440" y="190512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+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*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2819520" y="482904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 + S *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733920" y="4114800"/>
            <a:ext cx="10666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by rule (S ::= S + S)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hift the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276720" y="21337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14200" y="1979640"/>
            <a:ext cx="43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, this is an ambigu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 – we are always go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ome mechanism for re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utstanding ambiguity before 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370920" y="5424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056000" y="54244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6705720" y="640080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98040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173640" y="41911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812560" y="58672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402960" y="64911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6095520" y="57150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7666200" y="61866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839680" y="40813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+ id *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828440" y="190512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+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*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819880" y="482904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 + S * id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962520" y="4114800"/>
            <a:ext cx="8380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by rule (S ::= S + S)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hift the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276720" y="21337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714200" y="1979640"/>
            <a:ext cx="43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, this is an ambigu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 – we are always go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ome mechanism for re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utstanding ambiguity before 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173640" y="41911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370920" y="5424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056000" y="54244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6705720" y="640080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98040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812560" y="58672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6095520" y="57150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7666200" y="61866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402960" y="64911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8612640" y="64911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839680" y="40813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+ id *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828440" y="190512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+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*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819520" y="482904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 + S * S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962520" y="4114800"/>
            <a:ext cx="8380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by rule (S ::= S + S)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hift the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276720" y="21337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714200" y="1979640"/>
            <a:ext cx="43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, this is an ambigu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 – we are always go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ome mechanism for re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utstanding ambiguity before 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174720" y="41911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370920" y="5424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7056000" y="54244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6705720" y="640080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98040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812560" y="58672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6095520" y="57150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666200" y="61866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402960" y="64911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612640" y="64911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827568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534520" y="647712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839680" y="40813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+ id *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828440" y="190512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+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*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819520" y="4829040"/>
            <a:ext cx="87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 + S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962520" y="4114800"/>
            <a:ext cx="8380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by rule (S ::= S + S)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hift the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276720" y="21337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714200" y="1979640"/>
            <a:ext cx="43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, this is an ambigu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 – we are always go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ome mechanism for re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utstanding ambiguity before 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174720" y="41911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370920" y="5424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7056000" y="54244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flipH="1">
            <a:off x="6705720" y="640080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98040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812560" y="58672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6095520" y="57150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7666200" y="61866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402960" y="64911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8612640" y="64911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827568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8534520" y="647712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7206840" y="58816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8045280" y="58816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7816680" y="5881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7589880" y="5424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839680" y="40813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+ id *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828440" y="190512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+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*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820600" y="482904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962520" y="4114800"/>
            <a:ext cx="8380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by rule (S ::= S + S)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hift the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276720" y="21337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714200" y="1979640"/>
            <a:ext cx="43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, this is an ambigu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 – we are always go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ome mechanism for re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utstanding ambiguity before 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6597720" y="511956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948720" y="4699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6370920" y="5424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589880" y="5424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056000" y="54244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7206840" y="58816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98040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27568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666200" y="61866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8045280" y="58816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816680" y="5881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130880" y="5119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359480" y="511956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174720" y="41911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5144760" y="358128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153880" y="359568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+ id *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828440" y="190512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+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*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06720" y="3581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429680" y="3581280"/>
            <a:ext cx="87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 + S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276720" y="3629160"/>
            <a:ext cx="83808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3276720" y="21337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714200" y="1979640"/>
            <a:ext cx="43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, this is an ambigu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 – we are always go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ome mechanism for re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utstanding ambiguity before 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6597720" y="511956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948720" y="4699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370920" y="5424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589880" y="5424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056000" y="54244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H="1">
            <a:off x="7206840" y="58816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98040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27568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7666200" y="61866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045280" y="58816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816680" y="5881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130880" y="5119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359480" y="511956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62120" y="4343400"/>
            <a:ext cx="30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by rule (S ::= S + S)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193440" y="434340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shift the *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1297080" y="55767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837720" y="603396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11280" y="6338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1906920" y="6338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296360" y="63388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676520" y="603396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447920" y="60339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776680" y="5562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2777040" y="63244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92752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075040" y="552276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1631520" y="51814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470320" y="51814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24172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09088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326640" y="60958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47712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533160" y="66294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133720" y="66294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8534520" y="6477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6781320" y="6477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ing Follow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ollow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omputed itera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ly, we assume nothing in particular follow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 (X) := { } for all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tiv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Y := s1 X s2) for any strings s1, s2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 (X) := First (s2) U Follow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Y := s1 X s2) for any strings s1, s2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 (X) := Follow(Y) U Follow (X),  if s2 is Nul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84320" y="190512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id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580920" y="190512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E ;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839320" y="408132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; 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820240" y="482904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 ;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276720" y="4114800"/>
            <a:ext cx="12952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133360" y="19051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E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duce by rule (S ::= E ;)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hift th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734800" y="405288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; id ; 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172200" y="4086360"/>
            <a:ext cx="129528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H="1" flipV="1">
            <a:off x="6400800" y="45720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540120" y="56754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might be thi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ing shif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839320" y="4081320"/>
            <a:ext cx="11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(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uce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2120760" y="1949400"/>
            <a:ext cx="11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819880" y="482904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( E )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429000" y="4114800"/>
            <a:ext cx="121932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by rule ( S ::= ( E ) )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by rule ( E ::= ( E )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4177800" y="194940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-down Pa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to understand and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code it yourself using nullable, first, follow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for quick &amp; dirty parsing j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tom-up Pa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complex: uses stack &amp;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ower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us: tools do the work for you ==&gt; ML-Y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you need to understand how shift-reduce &amp; reduce-reduce errors can a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968120" y="62848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04812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pw</cp:lastModifiedBy>
  <dcterms:modified xsi:type="dcterms:W3CDTF">2006-02-21T21:21:19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