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D282-C401-4810-910C-2039C0701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D0A9-A8CB-4350-B4AB-E247B0899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6D12-7656-46A2-854B-6B41E2872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5551-6DE7-418B-AAE3-2CFFFB478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8CB4-48F6-41FE-BCCB-CA236B18B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A8E8-7058-41C5-9B37-F4AC753EF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2075-6D93-4357-81FF-23BF986EA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D160-6DD5-4234-9AFB-4D847DF60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97BE-A568-40E1-91CF-FF774886E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58CC-903D-490E-ACD4-F9B9097F1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4D34-502D-4D09-A8E2-9E4CE33F9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FA9B-C6DF-4101-8A29-837A892A2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4ED15-E04B-419D-8764-7304976DEB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S 320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il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Wal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6840" y="228600"/>
            <a:ext cx="84582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-terminals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, E, E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rminals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, NUM, PRINT, +, :=, (, ),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990000" y="1447920"/>
            <a:ext cx="2567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 S ::= S;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 S ::= ID :=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 S ::= PRINT ( Elist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48480" y="1430280"/>
            <a:ext cx="2161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 E ::=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 E ::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  E ::= E +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.  E ::= ( S , Elist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298920" y="1415880"/>
            <a:ext cx="209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.  Elist ::=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.  Elist ::= Elist ,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048480" y="3809880"/>
            <a:ext cx="2932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 = 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 = NUM ; PRINT ( NUM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866920" y="4038480"/>
            <a:ext cx="167652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241400" y="3657600"/>
            <a:ext cx="128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e m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209680" y="4343400"/>
            <a:ext cx="838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221480" y="4495680"/>
            <a:ext cx="128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op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’t ma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90720" y="4171680"/>
            <a:ext cx="266760" cy="2286000"/>
          </a:xfrm>
          <a:custGeom>
            <a:avLst/>
            <a:gdLst>
              <a:gd name="textAreaLeft" fmla="*/ 170640 w 266760"/>
              <a:gd name="textAreaRight" fmla="*/ 266760 w 26676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73800" y="4800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4647960" y="4876920"/>
            <a:ext cx="152280" cy="22860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6840" y="228600"/>
            <a:ext cx="84582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-terminals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, E, E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rminals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, NUM, PRINT, +, :=, (, ),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90000" y="1447920"/>
            <a:ext cx="2567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 S ::= S;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 S ::= ID :=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 S ::= PRINT ( Elist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48480" y="1430280"/>
            <a:ext cx="2161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 E ::=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 E ::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  E ::= E +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.  E ::= ( S , Elist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298920" y="1415880"/>
            <a:ext cx="209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.  Elist ::=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.  Elist ::= Elist ,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048480" y="3809880"/>
            <a:ext cx="2932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 = NUM ; PRINT ( NUM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5866920" y="4038480"/>
            <a:ext cx="167652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241400" y="3657600"/>
            <a:ext cx="128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e m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6840" y="228600"/>
            <a:ext cx="84582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-terminals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, E, E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rminals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, NUM, PRINT, +, :=, (, ),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90000" y="1447920"/>
            <a:ext cx="2567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 S ::= S;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 S ::= ID :=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 S ::= PRINT ( Elist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948480" y="1430280"/>
            <a:ext cx="2161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 E ::=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 E ::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  E ::= E +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.  E ::= ( S , Elist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298920" y="1415880"/>
            <a:ext cx="209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.  Elist ::=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.  Elist ::= Elist ,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048480" y="3809880"/>
            <a:ext cx="2932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;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 = NUM ; PRINT ( NUM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5866920" y="4038480"/>
            <a:ext cx="167652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241400" y="3657600"/>
            <a:ext cx="128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e m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6840" y="228600"/>
            <a:ext cx="84582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-terminals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, E, E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rminals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, NUM, PRINT, +, :=, (, ),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90000" y="1447920"/>
            <a:ext cx="2567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 S ::= S;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 S ::= ID :=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 S ::= PRINT ( Elist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948480" y="1430280"/>
            <a:ext cx="2161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 E ::=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 E ::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  E ::= E +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.  E ::= ( S , Elist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298920" y="1415880"/>
            <a:ext cx="209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.  Elist ::=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.  Elist ::= Elist ,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048480" y="3809880"/>
            <a:ext cx="2932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;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 := E ;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 = NUM ; PRINT ( NUM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5866920" y="4038480"/>
            <a:ext cx="167652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241400" y="3657600"/>
            <a:ext cx="128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e m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6840" y="228600"/>
            <a:ext cx="84582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-terminals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, E, E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rminals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, NUM, PRINT, +, :=, (, ),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90000" y="1447920"/>
            <a:ext cx="2567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 S ::= S;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 S ::= ID :=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 S ::= PRINT ( Elist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48480" y="1430280"/>
            <a:ext cx="2161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 E ::=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 E ::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  E ::= E +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.  E ::= ( S , Elist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98920" y="1415880"/>
            <a:ext cx="209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.  Elist ::=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.  Elist ::= Elist ,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048480" y="3809880"/>
            <a:ext cx="2932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;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 = E ;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 = NUM ;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 = NUM ; PRINT ( Elis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 = NUM ; PRINT ( E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 = NUM ; PRINT ( NUM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5866920" y="4038480"/>
            <a:ext cx="167652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241400" y="3657600"/>
            <a:ext cx="128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e m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6840" y="228600"/>
            <a:ext cx="84582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-terminals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, E, E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rminals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, NUM, PRINT, +, :=, (, ),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90000" y="1447920"/>
            <a:ext cx="2567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 S ::= S;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 S ::= ID :=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 S ::= PRINT ( Elist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948480" y="1430280"/>
            <a:ext cx="2161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 E ::=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 E ::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  E ::= E +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.  E ::= ( S , Elist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98920" y="1415880"/>
            <a:ext cx="209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.  Elist ::=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.  Elist ::= Elist ,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7560" y="3505320"/>
            <a:ext cx="2932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;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 = E ;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 = NUM ;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 = NUM ; PRINT ( Elis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 = NUM ; PRINT ( E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 = NUM ; PRINT ( NUM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41400" y="4038480"/>
            <a:ext cx="1703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way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e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e st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115160" y="3505320"/>
            <a:ext cx="2932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;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; PRINT ( Elis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; PRINT ( E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; PRINT ( NUM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 = E ; PRINT ( NUM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 = NUM ; PRINT ( NUM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010280" y="3429000"/>
            <a:ext cx="228600" cy="2057400"/>
          </a:xfrm>
          <a:custGeom>
            <a:avLst/>
            <a:gdLst>
              <a:gd name="textAreaLeft" fmla="*/ 0 w 228600"/>
              <a:gd name="textAreaRight" fmla="*/ 82440 w 22860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523880" y="56386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36400" y="6172200"/>
            <a:ext cx="210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t-most deri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 flipV="1">
            <a:off x="5257440" y="5562360"/>
            <a:ext cx="2602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30960" y="6172200"/>
            <a:ext cx="224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most deri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se Tre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resenting derivations as tre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ful in compilers:  Parse trees correspond quite closely (but not exactly) with abstract syntax trees we’re trying to 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ce: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abstrac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yntax vs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concre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arse) synt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internal node is labeled with a non-term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leaf node is labeled with a term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use of a rule in a derivation explains how to generate children in the parse tree from the par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se Tre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05720" y="25909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465800" y="33526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101000" y="33526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703680" y="43578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303880" y="43434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465080" y="4343400"/>
            <a:ext cx="37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151960" y="51814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876080" y="595800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060040" y="51195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091720" y="4343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580240" y="434340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634160" y="434340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523200" y="43578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60720" y="33526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4768560" y="2895480"/>
            <a:ext cx="10666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5911560" y="2971800"/>
            <a:ext cx="759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140520" y="289548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4006800" y="365760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16280" y="37339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44880" y="358128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454720" y="47242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6978240" y="3733920"/>
            <a:ext cx="2286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359480" y="373392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435800" y="365760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588080" y="3657600"/>
            <a:ext cx="9907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8197920" y="47242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197920" y="5486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05280" y="2362320"/>
            <a:ext cx="2932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;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 = E ;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 = NUM ;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 = NUM ; PRINT ( Elis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 = NUM ; PRINT ( E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 = NUM ; PRINT ( NUM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se Tre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2 derivations, but 1 t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805720" y="25909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465800" y="33526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101000" y="33526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703680" y="43578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303880" y="43434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465080" y="4343400"/>
            <a:ext cx="37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151960" y="51814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876080" y="595800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060040" y="51195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091720" y="4343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8580240" y="434340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634160" y="434340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523200" y="43578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760720" y="33526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4768560" y="2895480"/>
            <a:ext cx="10666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5911560" y="2971800"/>
            <a:ext cx="759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140520" y="289548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006800" y="365760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616280" y="37339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44880" y="358128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454720" y="47242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6978240" y="3733920"/>
            <a:ext cx="2286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359480" y="373392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435800" y="365760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588080" y="3657600"/>
            <a:ext cx="9907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8197920" y="47242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8197920" y="5486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05280" y="2362320"/>
            <a:ext cx="2932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;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 = E ;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 = NUM ;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 = NUM ; PRINT ( Elis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 = NUM ; PRINT ( E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 = NUM ; PRINT ( NUM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05280" y="4572000"/>
            <a:ext cx="2932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;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; PRINT ( Elis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; PRINT ( E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; PRINT ( NUM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 = E ; PRINT ( NUM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 = NUM ; PRINT ( NUM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se Tre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se trees have mea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der of children, nesting of subtrees is signific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345040" y="33814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005120" y="41432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878200" y="39909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43000" y="4767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614600" y="4753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004400" y="4753080"/>
            <a:ext cx="37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: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443600" y="54388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304080" y="595800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88040" y="52862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519720" y="46767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008240" y="467676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062160" y="467676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224080" y="46911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PR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147760" y="414324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1307880" y="3686040"/>
            <a:ext cx="10666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2298600" y="376236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603520" y="368604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622440" y="444816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155600" y="452448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384200" y="4371840"/>
            <a:ext cx="3049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765440" y="513396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2831760" y="4371840"/>
            <a:ext cx="1522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137040" y="4371840"/>
            <a:ext cx="7596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213000" y="42958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365640" y="429588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625920" y="5057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625920" y="5653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828120" y="33051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850520" y="40528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488200" y="39625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088400" y="46767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460000" y="4662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849800" y="4662360"/>
            <a:ext cx="37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: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8289000" y="534816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806080" y="595800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989680" y="52862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021720" y="46767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510240" y="467676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564160" y="467676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726080" y="46911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PR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630840" y="40672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5790960" y="3610080"/>
            <a:ext cx="10666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6781680" y="3686040"/>
            <a:ext cx="15264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086600" y="3610080"/>
            <a:ext cx="762120" cy="42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7467120" y="4357800"/>
            <a:ext cx="3812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8001000" y="44337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29600" y="428148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8610480" y="50436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5333760" y="4371840"/>
            <a:ext cx="1522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4371840"/>
            <a:ext cx="76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15000" y="42958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867280" y="429588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127920" y="5057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127920" y="5653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ront E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Lexical Analys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sequence of tokens from characters (Chap 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Pars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abstract syntax tree from sequence of tokens (Chap 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Type Check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heck program for well-formedness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2057400"/>
            <a:ext cx="114300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x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2286000"/>
            <a:ext cx="1371600" cy="228600"/>
          </a:xfrm>
          <a:prstGeom prst="rightArrow">
            <a:avLst>
              <a:gd name="adj1" fmla="val 50000"/>
              <a:gd name="adj2" fmla="val 105556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724280" y="2057400"/>
            <a:ext cx="114300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76720" y="2286000"/>
            <a:ext cx="1371600" cy="228600"/>
          </a:xfrm>
          <a:prstGeom prst="rightArrow">
            <a:avLst>
              <a:gd name="adj1" fmla="val 50000"/>
              <a:gd name="adj2" fmla="val 105556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12000" y="167652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eam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ac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322800" y="1676520"/>
            <a:ext cx="113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eam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k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943600" y="2286000"/>
            <a:ext cx="1371600" cy="228600"/>
          </a:xfrm>
          <a:prstGeom prst="rightArrow">
            <a:avLst>
              <a:gd name="adj1" fmla="val 50000"/>
              <a:gd name="adj2" fmla="val 105556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990040" y="1676520"/>
            <a:ext cx="99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nt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391520" y="2057400"/>
            <a:ext cx="114300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mbiguous Gramma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grammar is ambiguous if the same sequence of tokens can give rise to two or more parse tre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mbiguous Gramma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36760" y="2057400"/>
            <a:ext cx="16254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-terminal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l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 ::=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 +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 *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971800" y="1295280"/>
            <a:ext cx="581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acters:  4 + 5 *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kens:        NUM(4)   PLUS   NUM(5)   MULT   NUM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380200" y="1981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040280" y="27432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675480" y="27432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742560" y="350532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UM(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469280" y="32004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07520" y="3429000"/>
            <a:ext cx="26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875560" y="32004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335200" y="274320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4343040" y="2286000"/>
            <a:ext cx="10666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486400" y="2362320"/>
            <a:ext cx="763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715000" y="228600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19112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6172200" y="30481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858000" y="3124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7620120" y="35812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5440" y="388620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UM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571360" y="390060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UM(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026040" y="35812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010280" y="30481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762120" y="579132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16720" y="6208560"/>
            <a:ext cx="323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I like using this notation w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I avoid repeating E ::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mbiguous Gramma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36760" y="2057400"/>
            <a:ext cx="16254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-terminal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l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 ::=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 +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 *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971800" y="1295280"/>
            <a:ext cx="581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acters:  4 + 5 *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kens:        NUM(4)   PLUS   NUM(5)   MULT   NUM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380200" y="1981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040280" y="27432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675480" y="27432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742560" y="350532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UM(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469280" y="32004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707520" y="3429000"/>
            <a:ext cx="26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875560" y="32004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335200" y="274320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4343040" y="2286000"/>
            <a:ext cx="10666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flipH="1">
            <a:off x="5486400" y="2362320"/>
            <a:ext cx="763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715000" y="228600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9112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flipH="1">
            <a:off x="6172200" y="30481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858000" y="3124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620120" y="35812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7165440" y="388620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UM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571360" y="390060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UM(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026040" y="35812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010280" y="30481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532480" y="44197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777360" y="51958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307040" y="51814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479640" y="595800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NUM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100840" y="56386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338000" y="586728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507120" y="56386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5488200" y="5181480"/>
            <a:ext cx="26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flipH="1">
            <a:off x="4495680" y="4724280"/>
            <a:ext cx="10670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H="1">
            <a:off x="5638680" y="4800600"/>
            <a:ext cx="763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867280" y="472428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927840" y="557676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3803760" y="548640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489560" y="5562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251320" y="6019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796640" y="632448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NUM(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202920" y="633888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NUM(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657600" y="6019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641840" y="548640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mbiguous Gramma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lem: compilers use parse trees to interpret the meaning of parsed expre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arse trees have different mean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g:  (4 + 5) * 6  is not 4 + (5 * 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nguages with ambiguous grammars are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DISASTR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  The meaning of programs isn’t well-defined!  You can’t tell what your program might do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ution: rewrite grammar to eliminate ambigu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ld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precede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ules into grammar to disambigu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ld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associativ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ules into grammar to disambigu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tricks as w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ilding Pars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ory classes, you might have learned about general mechanisms for parsing all CF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gorithms for parsing all CFGs are expens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ually, with computers getting faster and bigger year over year, researchers are beginning to dispute this clai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1/10/100 million-line applications, compilers must be fast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n for 20 thousand-line apps, speed is n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times 1/3 of compilation time is spent in pars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iler writers have developed specialized algorithms for parsing the kinds of CFGs that you need to build effective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L(k), LR(k) grammars can be pars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ursive Descent Par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763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ursive Descent Parsing (Appel Chap 3.2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ka: predictive parsing; top-down par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e, effic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coded by hand in ML quick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ses many, but not all CF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ses LL(1) gramm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t-to-right parse;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tmost-derivation;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ymbol lookah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ide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recursive function for each non termi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production becomes one clause in the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1554480" y="1065240"/>
            <a:ext cx="3228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 S ::= IF E THEN S ELSE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        | BEGIN S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        | PRINT 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136840" y="1065240"/>
            <a:ext cx="2407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 L ::=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       | ; S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  E ::= NUM = N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07320" y="228600"/>
            <a:ext cx="704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on-terminal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, E,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terminal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, IF, THEN, ELSE, BEGIN, END, PRINT, ;,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ru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1554480" y="1065240"/>
            <a:ext cx="3228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 S ::= IF E THEN S ELSE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        | BEGIN S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        | PRINT 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136840" y="1065240"/>
            <a:ext cx="2407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 L ::=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       | ; S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  E ::= NUM = N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607320" y="228600"/>
            <a:ext cx="704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on-terminal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, E,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terminal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, IF, THEN, ELSE, BEGIN, END, PRINT, ;,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ru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07680" y="2706840"/>
            <a:ext cx="606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type token = NUM | IF | THEN | ELSE | BEGIN | E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PRINT | SEMI | E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15640" y="2133720"/>
            <a:ext cx="31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tep 1: Represent the tok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76760" y="3697200"/>
            <a:ext cx="667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tep 2: build infrastructure for reading tokens from lexing 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92280" y="4343400"/>
            <a:ext cx="5250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 tok = ref (getToken (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 advance () = tok := getToken 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 eat t = if (! tok = t) then advance () else error 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666880" y="4152960"/>
            <a:ext cx="1524240" cy="266760"/>
          </a:xfrm>
          <a:custGeom>
            <a:avLst/>
            <a:gdLst/>
            <a:ahLst/>
            <a:rect l="l" t="t" r="r" b="b"/>
            <a:pathLst>
              <a:path w="960" h="168">
                <a:moveTo>
                  <a:pt x="960" y="168"/>
                </a:moveTo>
                <a:cubicBezTo>
                  <a:pt x="900" y="108"/>
                  <a:pt x="840" y="48"/>
                  <a:pt x="720" y="24"/>
                </a:cubicBezTo>
                <a:cubicBezTo>
                  <a:pt x="600" y="0"/>
                  <a:pt x="360" y="8"/>
                  <a:pt x="240" y="24"/>
                </a:cubicBezTo>
                <a:cubicBezTo>
                  <a:pt x="120" y="40"/>
                  <a:pt x="60" y="80"/>
                  <a:pt x="0" y="120"/>
                </a:cubicBezTo>
              </a:path>
            </a:pathLst>
          </a:custGeom>
          <a:noFill/>
          <a:ln w="2556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179600" y="4227480"/>
            <a:ext cx="27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function supplied by lex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1554480" y="1065240"/>
            <a:ext cx="3228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 S ::= IF E THEN S ELSE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        | BEGIN S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        | PRINT 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136840" y="1065240"/>
            <a:ext cx="2407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 L ::=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       | ; S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  E ::= NUM = N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07320" y="228600"/>
            <a:ext cx="704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on-terminal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, E,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terminal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, IF, THEN, ELSE, BEGIN, END, PRINT, ;,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ru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74280" y="3809880"/>
            <a:ext cx="68907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 S () = case !tok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        =&gt;   eat IF; E (); eat THEN; S (); eat ELSE; S 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BEGIN =&gt;   eat BEGIN; S (); L 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PRINT =&gt;   eat PRINT; E 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L () = case !tok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    =&gt;   eat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SEMI    =&gt;   eat SEMI; S (); L 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E () = eat NUM; eat EQ; eat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18880" y="3400560"/>
            <a:ext cx="758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tep 3: write parser =&gt; one function per non-terminal; one clause per r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892680" y="2209680"/>
            <a:ext cx="525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 tok = ref (getToken (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 advance () = tok := getToken 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 eat t = if (! tok = t) then advance () else error 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51200" y="2209680"/>
            <a:ext cx="3393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type token = NUM | 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THEN | ELSE | BEGIN | E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PRINT | SEMI | E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1211040" y="762120"/>
            <a:ext cx="2977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A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::= ID :=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        | PRINT ( L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793400" y="762120"/>
            <a:ext cx="2276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E ::=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       | N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 L ::=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.        | L ,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609840" y="228600"/>
            <a:ext cx="2977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on-terminal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, A, E,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ru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913320" y="2819520"/>
            <a:ext cx="69764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 S () = A (); eat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A () = case !tok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         =&gt;   eat ID; eat ASSIGN; E 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PRINT =&gt;   eat PRINT; eat LPAREN; L (); eat RPA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E () = case !tok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         =&gt;   eat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NUM    =&gt;   eat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L () = case !tok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         =&gt;   ?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NUM    =&gt;   ?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sing with CF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xt-free grammars are (often) given by BNF expressions (Backus-Naur For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el Chap 3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powerful than regular expre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ching par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it, we could do nested comments with ML-LEX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ill can’t describe PL structure effectively in ML-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FGs are good for describing the overall syntactic structure of progra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dictive parsing only works for grammars where the first terminal symbol in the input provides enough information to choose which production to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L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parsing L, if !tok = ID, the parser cannot determine which production to u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407600" y="5943600"/>
            <a:ext cx="544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 L ::= E                (E could be I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.        | L , E          (L could be E could be I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eliminate left-recu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write the grammar so it parses the same language but the rules are differe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68800" y="5335560"/>
            <a:ext cx="190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L ::=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| L ,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914400" y="3462480"/>
            <a:ext cx="2286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A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::= ID :=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PRINT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 ::=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N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562720" y="3429000"/>
            <a:ext cx="2286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A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::= ID :=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PRINT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 ::=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N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3505320" y="4452840"/>
            <a:ext cx="1218960" cy="533520"/>
          </a:xfrm>
          <a:custGeom>
            <a:avLst/>
            <a:gdLst>
              <a:gd name="textAreaLeft" fmla="*/ 190440 w 1218960"/>
              <a:gd name="textAreaRight" fmla="*/ 1066680 w 121896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eliminate left-recu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write the grammar so it parses the same language but the rules are differe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68800" y="5378400"/>
            <a:ext cx="190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L ::=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| L ,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5219280" y="5334120"/>
            <a:ext cx="198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L ::= E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M ::= , E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|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914400" y="3505320"/>
            <a:ext cx="2286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A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::= ID :=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PRINT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 ::=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N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562720" y="3429000"/>
            <a:ext cx="2286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A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::= ID :=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PRINT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 ::=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N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505320" y="4419720"/>
            <a:ext cx="1218960" cy="533160"/>
          </a:xfrm>
          <a:custGeom>
            <a:avLst/>
            <a:gdLst>
              <a:gd name="textAreaLeft" fmla="*/ 190440 w 1218960"/>
              <a:gd name="textAreaRight" fmla="*/ 1066680 w 121896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iminating single left-recu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iginal grammar for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formed gramma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1384200" y="2558880"/>
            <a:ext cx="161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 X rep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386360" y="4191120"/>
            <a:ext cx="242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base Xn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new ::= repeat Xn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244120" y="2703600"/>
            <a:ext cx="325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ings:  base repeat repeat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183640" y="4724280"/>
            <a:ext cx="325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ings:  base repeat repeat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843120" y="6095880"/>
            <a:ext cx="728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Think about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what if you have mutually left-recursive variables X,Y,Z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the most general pattern of left recursion?  How to eliminate i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ursive Descent Par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fortunately, can’t always eliminate left recurs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we know when we can parse grammars using recursive desc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re an algorithm for generating such parsers automaticall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tructing RD Pars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construct an RD parser, we need to know what rule to apply w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are trying to parse a non terminal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ee the next terminal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apply rule  X ::= s w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is the first symbol that can be generated by string s, 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 reduces to the empty string (is nullable) and a is the first symbol in any string that can follow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tructing RD Pars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construct an RD parser, we need to know what rule to apply w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are trying to parse a non terminal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ee the next terminal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apply rule 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X ::= 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first symb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at can be generated by string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duces to the empty string (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is nullab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first symbol in any string that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n follo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tructing Predictive Pars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2286000" y="1684440"/>
            <a:ext cx="119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Y ::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     | b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097520" y="1720800"/>
            <a:ext cx="136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 X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       |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854680" y="1684440"/>
            <a:ext cx="11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 Z ::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0" name=""/>
          <p:cNvGraphicFramePr/>
          <p:nvPr/>
        </p:nvGraphicFramePr>
        <p:xfrm>
          <a:off x="2895480" y="3809880"/>
          <a:ext cx="3733920" cy="2209680"/>
        </p:xfrm>
        <a:graphic>
          <a:graphicData uri="http://schemas.openxmlformats.org/drawingml/2006/table">
            <a:tbl>
              <a:tblPr/>
              <a:tblGrid>
                <a:gridCol w="1244520"/>
                <a:gridCol w="1244520"/>
                <a:gridCol w="1244880"/>
              </a:tblGrid>
              <a:tr h="736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6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6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1" name=""/>
          <p:cNvSpPr/>
          <p:nvPr/>
        </p:nvSpPr>
        <p:spPr>
          <a:xfrm>
            <a:off x="2822760" y="3016080"/>
            <a:ext cx="144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-term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4269960" y="2979720"/>
            <a:ext cx="99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704920" y="2979720"/>
            <a:ext cx="56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tructing Predictive Pars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286000" y="1684440"/>
            <a:ext cx="119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Y ::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     | b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097520" y="1720800"/>
            <a:ext cx="136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 X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       |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5854680" y="1684440"/>
            <a:ext cx="11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 Z ::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8" name=""/>
          <p:cNvGraphicFramePr/>
          <p:nvPr/>
        </p:nvGraphicFramePr>
        <p:xfrm>
          <a:off x="2895480" y="3809880"/>
          <a:ext cx="3733920" cy="2209680"/>
        </p:xfrm>
        <a:graphic>
          <a:graphicData uri="http://schemas.openxmlformats.org/drawingml/2006/table">
            <a:tbl>
              <a:tblPr/>
              <a:tblGrid>
                <a:gridCol w="1244520"/>
                <a:gridCol w="1244520"/>
                <a:gridCol w="1244880"/>
              </a:tblGrid>
              <a:tr h="736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6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6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9" name=""/>
          <p:cNvSpPr/>
          <p:nvPr/>
        </p:nvSpPr>
        <p:spPr>
          <a:xfrm>
            <a:off x="2822760" y="3016080"/>
            <a:ext cx="144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-term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269960" y="2979720"/>
            <a:ext cx="99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704920" y="2979720"/>
            <a:ext cx="56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tructing Predictive Pars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286000" y="1684440"/>
            <a:ext cx="119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Y ::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     | b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97520" y="1720800"/>
            <a:ext cx="136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 X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       |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854680" y="1684440"/>
            <a:ext cx="11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 Z ::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6" name=""/>
          <p:cNvGraphicFramePr/>
          <p:nvPr/>
        </p:nvGraphicFramePr>
        <p:xfrm>
          <a:off x="2895480" y="3809880"/>
          <a:ext cx="3733920" cy="2209680"/>
        </p:xfrm>
        <a:graphic>
          <a:graphicData uri="http://schemas.openxmlformats.org/drawingml/2006/table">
            <a:tbl>
              <a:tblPr/>
              <a:tblGrid>
                <a:gridCol w="1244520"/>
                <a:gridCol w="1244520"/>
                <a:gridCol w="1244880"/>
              </a:tblGrid>
              <a:tr h="736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6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6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7" name=""/>
          <p:cNvSpPr/>
          <p:nvPr/>
        </p:nvSpPr>
        <p:spPr>
          <a:xfrm>
            <a:off x="2822760" y="3016080"/>
            <a:ext cx="144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-term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269960" y="2979720"/>
            <a:ext cx="99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704920" y="2979720"/>
            <a:ext cx="56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xt-Free Gramma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xt-free grammars consist o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of symbo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terminal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at denotes token ty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non-terminal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at denotes a set of str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 symb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ft-hand side: non-termi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ght-hand side: terminals and/or non-termin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s explain how to rewrite non-terminals (beginning with start symbol) into termin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30880" y="4281480"/>
            <a:ext cx="384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mbol ::= symbol symbol ...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tructing Predictive Pars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286000" y="1684440"/>
            <a:ext cx="119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Y ::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     | b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4097520" y="1720800"/>
            <a:ext cx="136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 X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       |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5854680" y="1684440"/>
            <a:ext cx="11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 Z ::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4" name=""/>
          <p:cNvGraphicFramePr/>
          <p:nvPr/>
        </p:nvGraphicFramePr>
        <p:xfrm>
          <a:off x="2895480" y="3809880"/>
          <a:ext cx="3733920" cy="2209680"/>
        </p:xfrm>
        <a:graphic>
          <a:graphicData uri="http://schemas.openxmlformats.org/drawingml/2006/table">
            <a:tbl>
              <a:tblPr/>
              <a:tblGrid>
                <a:gridCol w="1244520"/>
                <a:gridCol w="1244520"/>
                <a:gridCol w="1244880"/>
              </a:tblGrid>
              <a:tr h="736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6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6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5" name=""/>
          <p:cNvSpPr/>
          <p:nvPr/>
        </p:nvSpPr>
        <p:spPr>
          <a:xfrm>
            <a:off x="2822760" y="3016080"/>
            <a:ext cx="144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-term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269960" y="2979720"/>
            <a:ext cx="99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5704920" y="2979720"/>
            <a:ext cx="56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tricting Predictive Pars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general, must compu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ach production X ::= s, must determine if s can derive the empty str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es,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ul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ach production X := s, must determine the set of all first terminals Q derivable from 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irst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ach non terminal X, determine all terminals symbols Q that immediately follow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llow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erative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compilers algorithms are iterative techniqu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erative analysis applies wh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 compute a set of objects with some property 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P is defined inductive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ie, there a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base cas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objects o1, o2 “obviously” have property 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inductive cas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if certain objects (o3, o4) have property P, this implies other objects (f o3; f o4) have property 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umber of objects in the set is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fini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we can represent infinite collections using some finite notation &amp; we can find effective termination cond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erative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l for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e set S with base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ed inductive rules over and over until you reach a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fixed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fixed poi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set that does not change when you apply an inductive rule (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Nullab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Fir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Follo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ets can be determined through it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program analyses &amp; optimizations use it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st-case complexity is b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-case complexity can be good:  iteration “usually” terminates in a couple of r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erative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038480" y="3886200"/>
            <a:ext cx="152640" cy="152280"/>
          </a:xfrm>
          <a:prstGeom prst="octagon">
            <a:avLst>
              <a:gd name="adj" fmla="val 2928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4800600" y="3581280"/>
            <a:ext cx="152280" cy="152640"/>
          </a:xfrm>
          <a:prstGeom prst="octagon">
            <a:avLst>
              <a:gd name="adj" fmla="val 2928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419720" y="3352680"/>
            <a:ext cx="152280" cy="152640"/>
          </a:xfrm>
          <a:prstGeom prst="octagon">
            <a:avLst>
              <a:gd name="adj" fmla="val 2928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4572000" y="4038480"/>
            <a:ext cx="152280" cy="152640"/>
          </a:xfrm>
          <a:prstGeom prst="octagon">
            <a:avLst>
              <a:gd name="adj" fmla="val 2928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1222200" y="3352680"/>
            <a:ext cx="1956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 C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viously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ve the proper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erative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4038480" y="3886200"/>
            <a:ext cx="152640" cy="152280"/>
          </a:xfrm>
          <a:prstGeom prst="octagon">
            <a:avLst>
              <a:gd name="adj" fmla="val 2928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800600" y="3581280"/>
            <a:ext cx="152280" cy="152640"/>
          </a:xfrm>
          <a:prstGeom prst="octagon">
            <a:avLst>
              <a:gd name="adj" fmla="val 2928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4419720" y="3352680"/>
            <a:ext cx="152280" cy="152640"/>
          </a:xfrm>
          <a:prstGeom prst="octagon">
            <a:avLst>
              <a:gd name="adj" fmla="val 2928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4572000" y="4038480"/>
            <a:ext cx="152280" cy="152640"/>
          </a:xfrm>
          <a:prstGeom prst="octagon">
            <a:avLst>
              <a:gd name="adj" fmla="val 2928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962520" y="4343400"/>
            <a:ext cx="152280" cy="152280"/>
          </a:xfrm>
          <a:prstGeom prst="octagon">
            <a:avLst>
              <a:gd name="adj" fmla="val 29287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5791320" y="2362320"/>
            <a:ext cx="152280" cy="152280"/>
          </a:xfrm>
          <a:prstGeom prst="octagon">
            <a:avLst>
              <a:gd name="adj" fmla="val 29287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5181480" y="4800600"/>
            <a:ext cx="152640" cy="152280"/>
          </a:xfrm>
          <a:prstGeom prst="octagon">
            <a:avLst>
              <a:gd name="adj" fmla="val 29287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1221840" y="3352680"/>
            <a:ext cx="2401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y 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rule) to th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have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perty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duce new th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have the proper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 flipH="1">
            <a:off x="4038480" y="4038480"/>
            <a:ext cx="76320" cy="30492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3811320" y="39625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 flipV="1">
            <a:off x="4952880" y="2514240"/>
            <a:ext cx="838440" cy="106668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4724280" y="4191120"/>
            <a:ext cx="457200" cy="60948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4878360" y="42670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5182920" y="274320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4495680" y="3505320"/>
            <a:ext cx="152640" cy="53316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4497120" y="35053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erative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4038480" y="3886200"/>
            <a:ext cx="152640" cy="152280"/>
          </a:xfrm>
          <a:prstGeom prst="octagon">
            <a:avLst>
              <a:gd name="adj" fmla="val 2928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800600" y="3581280"/>
            <a:ext cx="152280" cy="152640"/>
          </a:xfrm>
          <a:prstGeom prst="octagon">
            <a:avLst>
              <a:gd name="adj" fmla="val 2928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4419720" y="3352680"/>
            <a:ext cx="152280" cy="152640"/>
          </a:xfrm>
          <a:prstGeom prst="octagon">
            <a:avLst>
              <a:gd name="adj" fmla="val 2928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4572000" y="4038480"/>
            <a:ext cx="152280" cy="152640"/>
          </a:xfrm>
          <a:prstGeom prst="octagon">
            <a:avLst>
              <a:gd name="adj" fmla="val 2928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3962520" y="4343400"/>
            <a:ext cx="152280" cy="152280"/>
          </a:xfrm>
          <a:prstGeom prst="octagon">
            <a:avLst>
              <a:gd name="adj" fmla="val 2928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5791320" y="2362320"/>
            <a:ext cx="152280" cy="152280"/>
          </a:xfrm>
          <a:prstGeom prst="octagon">
            <a:avLst>
              <a:gd name="adj" fmla="val 2928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5181480" y="4800600"/>
            <a:ext cx="152640" cy="152280"/>
          </a:xfrm>
          <a:prstGeom prst="octagon">
            <a:avLst>
              <a:gd name="adj" fmla="val 2928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222200" y="3352680"/>
            <a:ext cx="1956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 C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 things you 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applying r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base c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ve the proper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erative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4038480" y="3886200"/>
            <a:ext cx="152640" cy="152280"/>
          </a:xfrm>
          <a:prstGeom prst="octagon">
            <a:avLst>
              <a:gd name="adj" fmla="val 2928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4800600" y="3581280"/>
            <a:ext cx="152280" cy="152640"/>
          </a:xfrm>
          <a:prstGeom prst="octagon">
            <a:avLst>
              <a:gd name="adj" fmla="val 2928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4419720" y="3352680"/>
            <a:ext cx="152280" cy="152640"/>
          </a:xfrm>
          <a:prstGeom prst="octagon">
            <a:avLst>
              <a:gd name="adj" fmla="val 2928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4572000" y="4038480"/>
            <a:ext cx="152280" cy="152640"/>
          </a:xfrm>
          <a:prstGeom prst="octagon">
            <a:avLst>
              <a:gd name="adj" fmla="val 2928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3962520" y="4343400"/>
            <a:ext cx="152280" cy="152280"/>
          </a:xfrm>
          <a:prstGeom prst="octagon">
            <a:avLst>
              <a:gd name="adj" fmla="val 2928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5791320" y="2362320"/>
            <a:ext cx="152280" cy="152280"/>
          </a:xfrm>
          <a:prstGeom prst="octagon">
            <a:avLst>
              <a:gd name="adj" fmla="val 2928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5181480" y="4800600"/>
            <a:ext cx="152640" cy="152280"/>
          </a:xfrm>
          <a:prstGeom prst="octagon">
            <a:avLst>
              <a:gd name="adj" fmla="val 2928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223280" y="3352680"/>
            <a:ext cx="19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y rules a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5181480" y="4800600"/>
            <a:ext cx="152640" cy="152280"/>
          </a:xfrm>
          <a:prstGeom prst="octagon">
            <a:avLst>
              <a:gd name="adj" fmla="val 2928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4724280" y="4191120"/>
            <a:ext cx="457200" cy="60948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2895480" y="5867280"/>
            <a:ext cx="152640" cy="152640"/>
          </a:xfrm>
          <a:prstGeom prst="octagon">
            <a:avLst>
              <a:gd name="adj" fmla="val 29287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 flipH="1">
            <a:off x="3047760" y="4495680"/>
            <a:ext cx="990360" cy="137160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 flipV="1">
            <a:off x="4952880" y="2514240"/>
            <a:ext cx="838440" cy="106668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4495680" y="3505320"/>
            <a:ext cx="152640" cy="53316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 flipH="1">
            <a:off x="4038480" y="4038480"/>
            <a:ext cx="76320" cy="30492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6858000" y="3124080"/>
            <a:ext cx="152280" cy="152640"/>
          </a:xfrm>
          <a:prstGeom prst="octagon">
            <a:avLst>
              <a:gd name="adj" fmla="val 29287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5486400" y="5638680"/>
            <a:ext cx="152280" cy="152640"/>
          </a:xfrm>
          <a:prstGeom prst="octagon">
            <a:avLst>
              <a:gd name="adj" fmla="val 29287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5943600" y="2514600"/>
            <a:ext cx="914400" cy="60948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5334120" y="4952880"/>
            <a:ext cx="228600" cy="68580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erative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4038480" y="3886200"/>
            <a:ext cx="152640" cy="152280"/>
          </a:xfrm>
          <a:prstGeom prst="octagon">
            <a:avLst>
              <a:gd name="adj" fmla="val 2928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4800600" y="3581280"/>
            <a:ext cx="152280" cy="152640"/>
          </a:xfrm>
          <a:prstGeom prst="octagon">
            <a:avLst>
              <a:gd name="adj" fmla="val 2928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4419720" y="3352680"/>
            <a:ext cx="152280" cy="152640"/>
          </a:xfrm>
          <a:prstGeom prst="octagon">
            <a:avLst>
              <a:gd name="adj" fmla="val 2928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572000" y="4038480"/>
            <a:ext cx="152280" cy="152640"/>
          </a:xfrm>
          <a:prstGeom prst="octagon">
            <a:avLst>
              <a:gd name="adj" fmla="val 2928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3962520" y="4343400"/>
            <a:ext cx="152280" cy="152280"/>
          </a:xfrm>
          <a:prstGeom prst="octagon">
            <a:avLst>
              <a:gd name="adj" fmla="val 2928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5791320" y="2362320"/>
            <a:ext cx="152280" cy="152280"/>
          </a:xfrm>
          <a:prstGeom prst="octagon">
            <a:avLst>
              <a:gd name="adj" fmla="val 2928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5181480" y="4800600"/>
            <a:ext cx="152640" cy="152280"/>
          </a:xfrm>
          <a:prstGeom prst="octagon">
            <a:avLst>
              <a:gd name="adj" fmla="val 2928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223280" y="3352680"/>
            <a:ext cx="19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y rules a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5181480" y="4800600"/>
            <a:ext cx="152640" cy="152280"/>
          </a:xfrm>
          <a:prstGeom prst="octagon">
            <a:avLst>
              <a:gd name="adj" fmla="val 2928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4724280" y="4191120"/>
            <a:ext cx="457200" cy="60948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2895480" y="5867280"/>
            <a:ext cx="152640" cy="152640"/>
          </a:xfrm>
          <a:prstGeom prst="octagon">
            <a:avLst>
              <a:gd name="adj" fmla="val 2928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3047760" y="4495680"/>
            <a:ext cx="990360" cy="137160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V="1">
            <a:off x="4952880" y="2514240"/>
            <a:ext cx="838440" cy="106668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4495680" y="3505320"/>
            <a:ext cx="152640" cy="53316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 flipH="1">
            <a:off x="4038480" y="4038480"/>
            <a:ext cx="76320" cy="30492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858000" y="3124080"/>
            <a:ext cx="152280" cy="152640"/>
          </a:xfrm>
          <a:prstGeom prst="octagon">
            <a:avLst>
              <a:gd name="adj" fmla="val 2928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5486400" y="5638680"/>
            <a:ext cx="152280" cy="152640"/>
          </a:xfrm>
          <a:prstGeom prst="octagon">
            <a:avLst>
              <a:gd name="adj" fmla="val 2928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943600" y="2514600"/>
            <a:ext cx="914400" cy="60948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5334120" y="4952880"/>
            <a:ext cx="228600" cy="68580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133720" y="4876920"/>
            <a:ext cx="152280" cy="152280"/>
          </a:xfrm>
          <a:prstGeom prst="octagon">
            <a:avLst>
              <a:gd name="adj" fmla="val 29287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 flipH="1" flipV="1">
            <a:off x="2285640" y="5029200"/>
            <a:ext cx="609480" cy="83808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 flipH="1">
            <a:off x="4952880" y="3276720"/>
            <a:ext cx="1905120" cy="38088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124080" y="5715000"/>
            <a:ext cx="2362320" cy="22860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erative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4038480" y="3886200"/>
            <a:ext cx="152640" cy="152280"/>
          </a:xfrm>
          <a:prstGeom prst="octagon">
            <a:avLst>
              <a:gd name="adj" fmla="val 2928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4800600" y="3581280"/>
            <a:ext cx="152280" cy="152640"/>
          </a:xfrm>
          <a:prstGeom prst="octagon">
            <a:avLst>
              <a:gd name="adj" fmla="val 2928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4419720" y="3352680"/>
            <a:ext cx="152280" cy="152640"/>
          </a:xfrm>
          <a:prstGeom prst="octagon">
            <a:avLst>
              <a:gd name="adj" fmla="val 2928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4572000" y="4038480"/>
            <a:ext cx="152280" cy="152640"/>
          </a:xfrm>
          <a:prstGeom prst="octagon">
            <a:avLst>
              <a:gd name="adj" fmla="val 2928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3962520" y="4343400"/>
            <a:ext cx="152280" cy="152280"/>
          </a:xfrm>
          <a:prstGeom prst="octagon">
            <a:avLst>
              <a:gd name="adj" fmla="val 2928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791320" y="2362320"/>
            <a:ext cx="152280" cy="152280"/>
          </a:xfrm>
          <a:prstGeom prst="octagon">
            <a:avLst>
              <a:gd name="adj" fmla="val 2928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5181480" y="4800600"/>
            <a:ext cx="152640" cy="152280"/>
          </a:xfrm>
          <a:prstGeom prst="octagon">
            <a:avLst>
              <a:gd name="adj" fmla="val 2928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1222200" y="3352680"/>
            <a:ext cx="196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ly, you r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fixed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5181480" y="4800600"/>
            <a:ext cx="152640" cy="152280"/>
          </a:xfrm>
          <a:prstGeom prst="octagon">
            <a:avLst>
              <a:gd name="adj" fmla="val 2928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4724280" y="4191120"/>
            <a:ext cx="457200" cy="60948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2895480" y="5867280"/>
            <a:ext cx="152640" cy="152640"/>
          </a:xfrm>
          <a:prstGeom prst="octagon">
            <a:avLst>
              <a:gd name="adj" fmla="val 2928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 flipH="1">
            <a:off x="3047760" y="4495680"/>
            <a:ext cx="990360" cy="137160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 flipV="1">
            <a:off x="4952880" y="2514240"/>
            <a:ext cx="838440" cy="106668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4495680" y="3505320"/>
            <a:ext cx="152640" cy="53316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 flipH="1">
            <a:off x="4038480" y="4038480"/>
            <a:ext cx="76320" cy="30492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6858000" y="3124080"/>
            <a:ext cx="152280" cy="152640"/>
          </a:xfrm>
          <a:prstGeom prst="octagon">
            <a:avLst>
              <a:gd name="adj" fmla="val 2928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5486400" y="5638680"/>
            <a:ext cx="152280" cy="152640"/>
          </a:xfrm>
          <a:prstGeom prst="octagon">
            <a:avLst>
              <a:gd name="adj" fmla="val 2928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5943600" y="2514600"/>
            <a:ext cx="914400" cy="60948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5334120" y="4952880"/>
            <a:ext cx="228600" cy="68580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2133720" y="4876920"/>
            <a:ext cx="152280" cy="152280"/>
          </a:xfrm>
          <a:prstGeom prst="octagon">
            <a:avLst>
              <a:gd name="adj" fmla="val 2928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 flipH="1" flipV="1">
            <a:off x="2285640" y="5029200"/>
            <a:ext cx="609480" cy="83808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4952880" y="3276720"/>
            <a:ext cx="1905120" cy="38088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 flipH="1">
            <a:off x="3124080" y="5715000"/>
            <a:ext cx="2362320" cy="22860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 flipV="1">
            <a:off x="2286000" y="4419360"/>
            <a:ext cx="1676520" cy="53316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xt-Free Gramma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-360" y="1447920"/>
            <a:ext cx="8991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tring is in the language of the CFG if and only if it is possible to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deri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string using the following non-deterministic procedu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gin with the start symb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any non-terminals exist, pick a non-terminal and rewrite it using a rule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&lt;== could be many choices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 when all you have left are terminals (and check you arrived at the string your were hoping t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Pars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process of checking that a string is in the CFG for your programming language.  It is usually coupled with creating an abstract syntax tre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erative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8200" y="1676520"/>
            <a:ext cx="504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axiom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 “obviously true”/taken for gra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rules of logic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ke basic axioms and prove n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ngs are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2359080" y="42051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Dave teaches cos 320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5178600" y="367200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Dave teaches cos 441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654360" y="5043600"/>
            <a:ext cx="26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Dave is a great teacher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534240" y="6400800"/>
            <a:ext cx="649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rule r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X is a great teacher /\ X teaches Y =&gt; Y is a great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611640" y="3352680"/>
            <a:ext cx="9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axiom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erative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538200" y="1676520"/>
            <a:ext cx="504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axiom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 “obviously true”/taken for gra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rules of logic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ke basic axioms and prove n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ngs are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2359080" y="42051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Dave teaches cos 320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5178600" y="367200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Dave teaches cos 441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654360" y="5043600"/>
            <a:ext cx="26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Dave is a great teacher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534240" y="6400800"/>
            <a:ext cx="649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rule r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X is a great teacher /\ X teaches Y =&gt; Y is a great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611640" y="3352680"/>
            <a:ext cx="9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axiom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 flipH="1">
            <a:off x="2209320" y="4495680"/>
            <a:ext cx="762120" cy="83844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 flipH="1">
            <a:off x="2362320" y="5257800"/>
            <a:ext cx="1295280" cy="15228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2576520" y="49132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460080" y="5486400"/>
            <a:ext cx="271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cos 320 is a great clas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7162920" y="4114800"/>
            <a:ext cx="304560" cy="137160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6324480" y="5334120"/>
            <a:ext cx="838440" cy="15228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7088040" y="510552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6251400" y="5486400"/>
            <a:ext cx="271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cos 441 is a great clas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erative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38200" y="1676520"/>
            <a:ext cx="504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axiom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 “obviously true”/taken for gra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rules of logic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ke basic axioms and prove n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ngs are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2359080" y="42051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Dave teaches cos 320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178600" y="367200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Dave teaches cos 441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3654360" y="5043600"/>
            <a:ext cx="26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Dave is a great teacher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34240" y="6400800"/>
            <a:ext cx="649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rule r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X is a great teacher /\ X teaches Y =&gt; Y is a great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611640" y="3352680"/>
            <a:ext cx="9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axiom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 flipH="1">
            <a:off x="2209320" y="4495680"/>
            <a:ext cx="762120" cy="83844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2362320" y="5257800"/>
            <a:ext cx="1295280" cy="15228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576520" y="49132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60080" y="5486400"/>
            <a:ext cx="271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cos 320 is a great clas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7162920" y="4114800"/>
            <a:ext cx="304560" cy="137160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6324480" y="5334120"/>
            <a:ext cx="838440" cy="15228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7088040" y="510552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6251400" y="5486400"/>
            <a:ext cx="271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cos 441 is a great clas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3569040" y="2932200"/>
            <a:ext cx="236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Fixed Point Reached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llable S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-terminal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X is Nullab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nly if the following constraints are satisfi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 cas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X :=  )  then X is Nul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uctive cas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X := ABC...) and A, B, C, ... are all Nullable then X is Nullable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ing Nullable S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X is Nullab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y iteratio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llable := { 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X :=  )  then Nullable := Nullable U {X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le Nullable different from last iteration d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ll X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(X := ABC...) and A, B, C, ... are all Nullable then Nullable := Nullable U {X}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First(X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specified like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 cas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 is a terminal symbol then First (T) = {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uctive cas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X is a non-terminal and (X:= ABC...) t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 (X) = First (ABC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First(ABC...) = F1 U F2 U F3 U ...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1 = First (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2 = First (B), if A is Nullable; emptyset otherw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3 = First (C), if A is Nullable &amp; B is Nullable; emp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ing First S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 First(X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 is a terminal symbol then First (T) = {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 is non-terminal then First(T) = { 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le First(X) changes (for any X) 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ll X and all rules (X:= ABC...) 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 (X) := First(X) U First (ABC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First(ABC...) := F1 U F2 U F3 U ...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1 := First (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2 := First (B), if A is Nullable; emptyset otherw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3 := First (C), if A is Nullable &amp; B is Nullable; emp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ing Follow S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Follow(X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computed iterativ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 cas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ly, we assume nothing in particular follows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when computing, Follow (X) is initially { }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uctive cas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Y := s1 X s2) for any strings s1, s2 t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llow (X) = First (s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Y := s1 X s2) for any strings s1, s2 t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llow (X) = Follow(Y),  if s2 is Nul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ilding a predictive par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1583640" y="1636560"/>
            <a:ext cx="128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X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3835440" y="160020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829480" y="160020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b Y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7" name=""/>
          <p:cNvGraphicFramePr/>
          <p:nvPr/>
        </p:nvGraphicFramePr>
        <p:xfrm>
          <a:off x="1447920" y="3048120"/>
          <a:ext cx="6400440" cy="2697120"/>
        </p:xfrm>
        <a:graphic>
          <a:graphicData uri="http://schemas.openxmlformats.org/drawingml/2006/table">
            <a:tbl>
              <a:tblPr/>
              <a:tblGrid>
                <a:gridCol w="1600200"/>
                <a:gridCol w="1599840"/>
                <a:gridCol w="1600200"/>
                <a:gridCol w="1600200"/>
              </a:tblGrid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llab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ilding a predictive par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1583640" y="1636560"/>
            <a:ext cx="128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X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835440" y="160020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5829480" y="160020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b Y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2" name=""/>
          <p:cNvGraphicFramePr/>
          <p:nvPr/>
        </p:nvGraphicFramePr>
        <p:xfrm>
          <a:off x="1447920" y="3048120"/>
          <a:ext cx="6400440" cy="2697120"/>
        </p:xfrm>
        <a:graphic>
          <a:graphicData uri="http://schemas.openxmlformats.org/drawingml/2006/table">
            <a:tbl>
              <a:tblPr/>
              <a:tblGrid>
                <a:gridCol w="1600200"/>
                <a:gridCol w="1599840"/>
                <a:gridCol w="1600200"/>
                <a:gridCol w="1600200"/>
              </a:tblGrid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llab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3" name=""/>
          <p:cNvSpPr/>
          <p:nvPr/>
        </p:nvSpPr>
        <p:spPr>
          <a:xfrm>
            <a:off x="1968120" y="628488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 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 flipV="1">
            <a:off x="3048120" y="5867280"/>
            <a:ext cx="5331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228600"/>
            <a:ext cx="84582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-terminals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, E, E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rminals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, NUM, PRINT, +, :=, (, ),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117080" y="1447920"/>
            <a:ext cx="2248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S;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ID :=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PRINT ( Elist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948840" y="1430280"/>
            <a:ext cx="1843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 ::=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 ::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 ::= E +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 ::= ( S , Elist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299280" y="1415880"/>
            <a:ext cx="177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ist ::=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ist ::= Elist ,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ilding a predictive par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1583640" y="1636560"/>
            <a:ext cx="128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X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835440" y="160020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5829480" y="160020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b Y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9" name=""/>
          <p:cNvGraphicFramePr/>
          <p:nvPr/>
        </p:nvGraphicFramePr>
        <p:xfrm>
          <a:off x="1447920" y="3048120"/>
          <a:ext cx="6400440" cy="2697120"/>
        </p:xfrm>
        <a:graphic>
          <a:graphicData uri="http://schemas.openxmlformats.org/drawingml/2006/table">
            <a:tbl>
              <a:tblPr/>
              <a:tblGrid>
                <a:gridCol w="1600200"/>
                <a:gridCol w="1599840"/>
                <a:gridCol w="1600200"/>
                <a:gridCol w="1600200"/>
              </a:tblGrid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llab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0" name=""/>
          <p:cNvSpPr/>
          <p:nvPr/>
        </p:nvSpPr>
        <p:spPr>
          <a:xfrm>
            <a:off x="1531440" y="6284880"/>
            <a:ext cx="720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one round of induction, we realize we have reached a fixed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 flipV="1">
            <a:off x="3048120" y="5867280"/>
            <a:ext cx="5331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ilding a predictive par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1583640" y="1636560"/>
            <a:ext cx="128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X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3835440" y="160020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5829480" y="160020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b Y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6" name=""/>
          <p:cNvGraphicFramePr/>
          <p:nvPr/>
        </p:nvGraphicFramePr>
        <p:xfrm>
          <a:off x="1447920" y="3048120"/>
          <a:ext cx="6400440" cy="2697120"/>
        </p:xfrm>
        <a:graphic>
          <a:graphicData uri="http://schemas.openxmlformats.org/drawingml/2006/table">
            <a:tbl>
              <a:tblPr/>
              <a:tblGrid>
                <a:gridCol w="1600200"/>
                <a:gridCol w="1599840"/>
                <a:gridCol w="1600200"/>
                <a:gridCol w="1600200"/>
              </a:tblGrid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llab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 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 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 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7" name=""/>
          <p:cNvSpPr/>
          <p:nvPr/>
        </p:nvSpPr>
        <p:spPr>
          <a:xfrm>
            <a:off x="3736440" y="628488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 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 flipV="1">
            <a:off x="4816440" y="58672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ilding a predictive par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1583640" y="1636560"/>
            <a:ext cx="128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X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835440" y="160020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5829480" y="160020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b Y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3" name=""/>
          <p:cNvGraphicFramePr/>
          <p:nvPr/>
        </p:nvGraphicFramePr>
        <p:xfrm>
          <a:off x="1447920" y="3048120"/>
          <a:ext cx="6400440" cy="2697120"/>
        </p:xfrm>
        <a:graphic>
          <a:graphicData uri="http://schemas.openxmlformats.org/drawingml/2006/table">
            <a:tbl>
              <a:tblPr/>
              <a:tblGrid>
                <a:gridCol w="1600200"/>
                <a:gridCol w="1599840"/>
                <a:gridCol w="1600200"/>
                <a:gridCol w="1600200"/>
              </a:tblGrid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llab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4" name=""/>
          <p:cNvSpPr/>
          <p:nvPr/>
        </p:nvSpPr>
        <p:spPr>
          <a:xfrm>
            <a:off x="3736440" y="6284880"/>
            <a:ext cx="9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nd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 flipV="1">
            <a:off x="4816440" y="58672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ilding a predictive par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1583640" y="1636560"/>
            <a:ext cx="128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X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835440" y="160020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5829480" y="160020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b Y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0" name=""/>
          <p:cNvGraphicFramePr/>
          <p:nvPr/>
        </p:nvGraphicFramePr>
        <p:xfrm>
          <a:off x="1447920" y="3048120"/>
          <a:ext cx="6400440" cy="2697120"/>
        </p:xfrm>
        <a:graphic>
          <a:graphicData uri="http://schemas.openxmlformats.org/drawingml/2006/table">
            <a:tbl>
              <a:tblPr/>
              <a:tblGrid>
                <a:gridCol w="1600200"/>
                <a:gridCol w="1599840"/>
                <a:gridCol w="1600200"/>
                <a:gridCol w="1600200"/>
              </a:tblGrid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llab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a,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1" name=""/>
          <p:cNvSpPr/>
          <p:nvPr/>
        </p:nvSpPr>
        <p:spPr>
          <a:xfrm flipV="1">
            <a:off x="4816440" y="58672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4345920" y="6324480"/>
            <a:ext cx="9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nd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ilding a predictive par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1583640" y="1636560"/>
            <a:ext cx="128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X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835440" y="160020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5829480" y="160020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b Y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7" name=""/>
          <p:cNvGraphicFramePr/>
          <p:nvPr/>
        </p:nvGraphicFramePr>
        <p:xfrm>
          <a:off x="1447920" y="3048120"/>
          <a:ext cx="6400440" cy="2697120"/>
        </p:xfrm>
        <a:graphic>
          <a:graphicData uri="http://schemas.openxmlformats.org/drawingml/2006/table">
            <a:tbl>
              <a:tblPr/>
              <a:tblGrid>
                <a:gridCol w="1600200"/>
                <a:gridCol w="1599840"/>
                <a:gridCol w="1600200"/>
                <a:gridCol w="1600200"/>
              </a:tblGrid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llab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a,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8" name=""/>
          <p:cNvSpPr/>
          <p:nvPr/>
        </p:nvSpPr>
        <p:spPr>
          <a:xfrm flipV="1">
            <a:off x="4816440" y="58672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1527840" y="6284880"/>
            <a:ext cx="657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three rounds of iteration, no more changes ==&gt; fixed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ilding a predictive par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1583640" y="1636560"/>
            <a:ext cx="128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X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835440" y="160020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5829480" y="160020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b Y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4" name=""/>
          <p:cNvGraphicFramePr/>
          <p:nvPr/>
        </p:nvGraphicFramePr>
        <p:xfrm>
          <a:off x="1447920" y="3048120"/>
          <a:ext cx="6400440" cy="2697120"/>
        </p:xfrm>
        <a:graphic>
          <a:graphicData uri="http://schemas.openxmlformats.org/drawingml/2006/table">
            <a:tbl>
              <a:tblPr/>
              <a:tblGrid>
                <a:gridCol w="1600200"/>
                <a:gridCol w="1599840"/>
                <a:gridCol w="1600200"/>
                <a:gridCol w="1600200"/>
              </a:tblGrid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llab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a,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 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 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 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5" name=""/>
          <p:cNvSpPr/>
          <p:nvPr/>
        </p:nvSpPr>
        <p:spPr>
          <a:xfrm>
            <a:off x="5397120" y="628488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 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 flipV="1">
            <a:off x="6477120" y="5867280"/>
            <a:ext cx="5331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ilding a predictive par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1583640" y="1636560"/>
            <a:ext cx="128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X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3835440" y="160020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5829480" y="160020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b Y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1" name=""/>
          <p:cNvGraphicFramePr/>
          <p:nvPr/>
        </p:nvGraphicFramePr>
        <p:xfrm>
          <a:off x="1447920" y="3048120"/>
          <a:ext cx="6400800" cy="2697120"/>
        </p:xfrm>
        <a:graphic>
          <a:graphicData uri="http://schemas.openxmlformats.org/drawingml/2006/table">
            <a:tbl>
              <a:tblPr/>
              <a:tblGrid>
                <a:gridCol w="1600200"/>
                <a:gridCol w="1600200"/>
                <a:gridCol w="1600200"/>
                <a:gridCol w="1600200"/>
              </a:tblGrid>
              <a:tr h="67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llab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a,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 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,d,a,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,e,d,a,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2" name=""/>
          <p:cNvSpPr/>
          <p:nvPr/>
        </p:nvSpPr>
        <p:spPr>
          <a:xfrm flipV="1">
            <a:off x="6461280" y="5867280"/>
            <a:ext cx="5331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3173400" y="6284880"/>
            <a:ext cx="444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one round of induction, no fixed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ilding a predictive par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1583640" y="1636560"/>
            <a:ext cx="128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X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3835440" y="160020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5829480" y="160020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b Y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8" name=""/>
          <p:cNvGraphicFramePr/>
          <p:nvPr/>
        </p:nvGraphicFramePr>
        <p:xfrm>
          <a:off x="1447920" y="3048120"/>
          <a:ext cx="6400800" cy="2697120"/>
        </p:xfrm>
        <a:graphic>
          <a:graphicData uri="http://schemas.openxmlformats.org/drawingml/2006/table">
            <a:tbl>
              <a:tblPr/>
              <a:tblGrid>
                <a:gridCol w="1600200"/>
                <a:gridCol w="1600200"/>
                <a:gridCol w="1600200"/>
                <a:gridCol w="1600200"/>
              </a:tblGrid>
              <a:tr h="67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llab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a,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 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,d,a,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,e,d,a,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9" name=""/>
          <p:cNvSpPr/>
          <p:nvPr/>
        </p:nvSpPr>
        <p:spPr>
          <a:xfrm flipV="1">
            <a:off x="6461280" y="5867280"/>
            <a:ext cx="5331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474480" y="5987880"/>
            <a:ext cx="839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two rounds of induction, fixed poi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ut notice, computing Follow(X) before Follow (Y) would have required 3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oun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"/>
          <p:cNvSpPr/>
          <p:nvPr/>
        </p:nvSpPr>
        <p:spPr>
          <a:xfrm>
            <a:off x="227880" y="722160"/>
            <a:ext cx="128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X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1625760" y="73008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2743560" y="73008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b Y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4" name=""/>
          <p:cNvGraphicFramePr/>
          <p:nvPr/>
        </p:nvGraphicFramePr>
        <p:xfrm>
          <a:off x="4495680" y="533520"/>
          <a:ext cx="4343400" cy="2468520"/>
        </p:xfrm>
        <a:graphic>
          <a:graphicData uri="http://schemas.openxmlformats.org/drawingml/2006/table">
            <a:tbl>
              <a:tblPr/>
              <a:tblGrid>
                <a:gridCol w="743040"/>
                <a:gridCol w="1200240"/>
                <a:gridCol w="1199880"/>
                <a:gridCol w="1200240"/>
              </a:tblGrid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ll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 }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,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,e,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5" name=""/>
          <p:cNvSpPr/>
          <p:nvPr/>
        </p:nvSpPr>
        <p:spPr>
          <a:xfrm>
            <a:off x="214200" y="11268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4352040" y="152280"/>
            <a:ext cx="18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d Se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392040" y="3352680"/>
            <a:ext cx="402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 parsing table where row X, col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lls parser which clause to execute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tion X with next-token 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8" name=""/>
          <p:cNvGraphicFramePr/>
          <p:nvPr/>
        </p:nvGraphicFramePr>
        <p:xfrm>
          <a:off x="380880" y="4648320"/>
          <a:ext cx="8381880" cy="1904760"/>
        </p:xfrm>
        <a:graphic>
          <a:graphicData uri="http://schemas.openxmlformats.org/drawingml/2006/table">
            <a:tbl>
              <a:tblPr/>
              <a:tblGrid>
                <a:gridCol w="1397160"/>
                <a:gridCol w="1396800"/>
                <a:gridCol w="1396800"/>
                <a:gridCol w="1396800"/>
                <a:gridCol w="1397160"/>
                <a:gridCol w="1397160"/>
              </a:tblGrid>
              <a:tr h="47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9" name=""/>
          <p:cNvSpPr/>
          <p:nvPr/>
        </p:nvSpPr>
        <p:spPr>
          <a:xfrm>
            <a:off x="5108760" y="3276720"/>
            <a:ext cx="3633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irst(s)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(X ::= s) in row X, col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s is Nullable and 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llow(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(X ::= s) in row X, col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0" y="312408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4267080" y="0"/>
            <a:ext cx="0" cy="312408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227880" y="722160"/>
            <a:ext cx="128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X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1625760" y="73008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2743560" y="73008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b Y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5" name=""/>
          <p:cNvGraphicFramePr/>
          <p:nvPr/>
        </p:nvGraphicFramePr>
        <p:xfrm>
          <a:off x="4495680" y="533520"/>
          <a:ext cx="4343400" cy="2468520"/>
        </p:xfrm>
        <a:graphic>
          <a:graphicData uri="http://schemas.openxmlformats.org/drawingml/2006/table">
            <a:tbl>
              <a:tblPr/>
              <a:tblGrid>
                <a:gridCol w="743040"/>
                <a:gridCol w="1200240"/>
                <a:gridCol w="1199880"/>
                <a:gridCol w="1200240"/>
              </a:tblGrid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ll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 }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,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,e,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6" name=""/>
          <p:cNvSpPr/>
          <p:nvPr/>
        </p:nvSpPr>
        <p:spPr>
          <a:xfrm>
            <a:off x="214200" y="11268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4352040" y="152280"/>
            <a:ext cx="18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d Se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392040" y="3352680"/>
            <a:ext cx="402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 parsing table where row X, col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lls parser which clause to execute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tion X with next-token 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9" name=""/>
          <p:cNvGraphicFramePr/>
          <p:nvPr/>
        </p:nvGraphicFramePr>
        <p:xfrm>
          <a:off x="380880" y="4648320"/>
          <a:ext cx="8381880" cy="1904760"/>
        </p:xfrm>
        <a:graphic>
          <a:graphicData uri="http://schemas.openxmlformats.org/drawingml/2006/table">
            <a:tbl>
              <a:tblPr/>
              <a:tblGrid>
                <a:gridCol w="1397160"/>
                <a:gridCol w="1396800"/>
                <a:gridCol w="1396800"/>
                <a:gridCol w="1396800"/>
                <a:gridCol w="1397160"/>
                <a:gridCol w="1397160"/>
              </a:tblGrid>
              <a:tr h="47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XY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XY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0" name=""/>
          <p:cNvSpPr/>
          <p:nvPr/>
        </p:nvSpPr>
        <p:spPr>
          <a:xfrm>
            <a:off x="5108760" y="3276720"/>
            <a:ext cx="3633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irst(s)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(X ::= s) in row X, col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s is Nullable and 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llow(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(X ::= s) in row X, col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0" y="312408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4267080" y="0"/>
            <a:ext cx="0" cy="312408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6840" y="228600"/>
            <a:ext cx="84582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-terminals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, E, E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rminals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, NUM, PRINT, +, :=, (, ),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990000" y="1447920"/>
            <a:ext cx="2567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 S ::= S;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 S ::= ID :=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 S ::= PRINT ( Elist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948480" y="1430280"/>
            <a:ext cx="2161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 E ::=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 E ::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  E ::= E +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.  E ::= ( S , Elist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98920" y="1415880"/>
            <a:ext cx="209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.  Elist ::=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.  Elist ::= Elist ,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048480" y="3809880"/>
            <a:ext cx="2932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 = NUM ; PRINT ( NUM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5866920" y="4038480"/>
            <a:ext cx="167652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41400" y="3657600"/>
            <a:ext cx="128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e m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"/>
          <p:cNvSpPr/>
          <p:nvPr/>
        </p:nvSpPr>
        <p:spPr>
          <a:xfrm>
            <a:off x="227880" y="722160"/>
            <a:ext cx="128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X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1625760" y="73008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2743560" y="73008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b Y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6" name=""/>
          <p:cNvGraphicFramePr/>
          <p:nvPr/>
        </p:nvGraphicFramePr>
        <p:xfrm>
          <a:off x="4495680" y="533520"/>
          <a:ext cx="4343400" cy="2468520"/>
        </p:xfrm>
        <a:graphic>
          <a:graphicData uri="http://schemas.openxmlformats.org/drawingml/2006/table">
            <a:tbl>
              <a:tblPr/>
              <a:tblGrid>
                <a:gridCol w="743040"/>
                <a:gridCol w="1200240"/>
                <a:gridCol w="1199880"/>
                <a:gridCol w="1200240"/>
              </a:tblGrid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ll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 }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,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,e,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7" name=""/>
          <p:cNvSpPr/>
          <p:nvPr/>
        </p:nvSpPr>
        <p:spPr>
          <a:xfrm>
            <a:off x="214200" y="11268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4352040" y="152280"/>
            <a:ext cx="18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d Se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92040" y="3352680"/>
            <a:ext cx="402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 parsing table where row X, col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lls parser which clause to execute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tion X with next-token 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0" name=""/>
          <p:cNvGraphicFramePr/>
          <p:nvPr/>
        </p:nvGraphicFramePr>
        <p:xfrm>
          <a:off x="380880" y="4648320"/>
          <a:ext cx="8381880" cy="1904760"/>
        </p:xfrm>
        <a:graphic>
          <a:graphicData uri="http://schemas.openxmlformats.org/drawingml/2006/table">
            <a:tbl>
              <a:tblPr/>
              <a:tblGrid>
                <a:gridCol w="1397160"/>
                <a:gridCol w="1396800"/>
                <a:gridCol w="1396800"/>
                <a:gridCol w="1396800"/>
                <a:gridCol w="1397160"/>
                <a:gridCol w="1397160"/>
              </a:tblGrid>
              <a:tr h="47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XY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XY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1" name=""/>
          <p:cNvSpPr/>
          <p:nvPr/>
        </p:nvSpPr>
        <p:spPr>
          <a:xfrm>
            <a:off x="5108760" y="3276720"/>
            <a:ext cx="3633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irst(s)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(X ::= s) in row X, col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s is Nullable and 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llow(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(X ::= s) in row X, col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0" y="312408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4267080" y="0"/>
            <a:ext cx="0" cy="312408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/>
          <p:nvPr/>
        </p:nvSpPr>
        <p:spPr>
          <a:xfrm>
            <a:off x="227880" y="722160"/>
            <a:ext cx="128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X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1625760" y="73008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2743560" y="73008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b Y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7" name=""/>
          <p:cNvGraphicFramePr/>
          <p:nvPr/>
        </p:nvGraphicFramePr>
        <p:xfrm>
          <a:off x="4495680" y="533520"/>
          <a:ext cx="4343400" cy="2468520"/>
        </p:xfrm>
        <a:graphic>
          <a:graphicData uri="http://schemas.openxmlformats.org/drawingml/2006/table">
            <a:tbl>
              <a:tblPr/>
              <a:tblGrid>
                <a:gridCol w="743040"/>
                <a:gridCol w="1200240"/>
                <a:gridCol w="1199880"/>
                <a:gridCol w="1200240"/>
              </a:tblGrid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ll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 }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,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,e,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8" name=""/>
          <p:cNvSpPr/>
          <p:nvPr/>
        </p:nvSpPr>
        <p:spPr>
          <a:xfrm>
            <a:off x="214200" y="11268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4352040" y="152280"/>
            <a:ext cx="18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d Se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392040" y="3352680"/>
            <a:ext cx="402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 parsing table where row X, col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lls parser which clause to execute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tion X with next-token 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1" name=""/>
          <p:cNvGraphicFramePr/>
          <p:nvPr/>
        </p:nvGraphicFramePr>
        <p:xfrm>
          <a:off x="380880" y="4648320"/>
          <a:ext cx="8381880" cy="1904760"/>
        </p:xfrm>
        <a:graphic>
          <a:graphicData uri="http://schemas.openxmlformats.org/drawingml/2006/table">
            <a:tbl>
              <a:tblPr/>
              <a:tblGrid>
                <a:gridCol w="1397160"/>
                <a:gridCol w="1396800"/>
                <a:gridCol w="1396800"/>
                <a:gridCol w="1396800"/>
                <a:gridCol w="1397160"/>
                <a:gridCol w="1397160"/>
              </a:tblGrid>
              <a:tr h="47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XY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XY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2" name=""/>
          <p:cNvSpPr/>
          <p:nvPr/>
        </p:nvSpPr>
        <p:spPr>
          <a:xfrm>
            <a:off x="5108760" y="3276720"/>
            <a:ext cx="3633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irst(s)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(X ::= s) in row X, col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s is Nullable and 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llow(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(X ::= s) in row X, col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0" y="312408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4267080" y="0"/>
            <a:ext cx="0" cy="312408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"/>
          <p:cNvSpPr/>
          <p:nvPr/>
        </p:nvSpPr>
        <p:spPr>
          <a:xfrm>
            <a:off x="227880" y="722160"/>
            <a:ext cx="128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X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1625760" y="73008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2743560" y="73008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b Y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8" name=""/>
          <p:cNvGraphicFramePr/>
          <p:nvPr/>
        </p:nvGraphicFramePr>
        <p:xfrm>
          <a:off x="4495680" y="533520"/>
          <a:ext cx="4343400" cy="2468520"/>
        </p:xfrm>
        <a:graphic>
          <a:graphicData uri="http://schemas.openxmlformats.org/drawingml/2006/table">
            <a:tbl>
              <a:tblPr/>
              <a:tblGrid>
                <a:gridCol w="743040"/>
                <a:gridCol w="1200240"/>
                <a:gridCol w="1199880"/>
                <a:gridCol w="1200240"/>
              </a:tblGrid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ll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 }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,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,e,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9" name=""/>
          <p:cNvSpPr/>
          <p:nvPr/>
        </p:nvSpPr>
        <p:spPr>
          <a:xfrm>
            <a:off x="214200" y="11268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4352040" y="152280"/>
            <a:ext cx="18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d Se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92040" y="3352680"/>
            <a:ext cx="402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 parsing table where row X, col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lls parser which clause to execute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tion X with next-token 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2" name=""/>
          <p:cNvGraphicFramePr/>
          <p:nvPr/>
        </p:nvGraphicFramePr>
        <p:xfrm>
          <a:off x="380880" y="4648320"/>
          <a:ext cx="8381880" cy="1904760"/>
        </p:xfrm>
        <a:graphic>
          <a:graphicData uri="http://schemas.openxmlformats.org/drawingml/2006/table">
            <a:tbl>
              <a:tblPr/>
              <a:tblGrid>
                <a:gridCol w="1397160"/>
                <a:gridCol w="1396800"/>
                <a:gridCol w="1396800"/>
                <a:gridCol w="1396800"/>
                <a:gridCol w="1397160"/>
                <a:gridCol w="1397160"/>
              </a:tblGrid>
              <a:tr h="47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XY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XY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3" name=""/>
          <p:cNvSpPr/>
          <p:nvPr/>
        </p:nvSpPr>
        <p:spPr>
          <a:xfrm>
            <a:off x="5108760" y="3276720"/>
            <a:ext cx="3633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irst(s)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(X ::= s) in row X, col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s is Nullable and 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llow(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(X ::= s) in row X, col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0" y="312408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4267080" y="0"/>
            <a:ext cx="0" cy="312408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"/>
          <p:cNvSpPr/>
          <p:nvPr/>
        </p:nvSpPr>
        <p:spPr>
          <a:xfrm>
            <a:off x="227880" y="722160"/>
            <a:ext cx="128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X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1625760" y="73008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2743560" y="73008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b Y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9" name=""/>
          <p:cNvGraphicFramePr/>
          <p:nvPr/>
        </p:nvGraphicFramePr>
        <p:xfrm>
          <a:off x="4495680" y="533520"/>
          <a:ext cx="4343400" cy="2468520"/>
        </p:xfrm>
        <a:graphic>
          <a:graphicData uri="http://schemas.openxmlformats.org/drawingml/2006/table">
            <a:tbl>
              <a:tblPr/>
              <a:tblGrid>
                <a:gridCol w="743040"/>
                <a:gridCol w="1200240"/>
                <a:gridCol w="1199880"/>
                <a:gridCol w="1200240"/>
              </a:tblGrid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ll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 }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,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,e,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0" name=""/>
          <p:cNvSpPr/>
          <p:nvPr/>
        </p:nvSpPr>
        <p:spPr>
          <a:xfrm>
            <a:off x="214200" y="11268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4352040" y="152280"/>
            <a:ext cx="18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d Se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392040" y="3352680"/>
            <a:ext cx="402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 parsing table where row X, col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lls parser which clause to execute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tion X with next-token 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3" name=""/>
          <p:cNvGraphicFramePr/>
          <p:nvPr/>
        </p:nvGraphicFramePr>
        <p:xfrm>
          <a:off x="380880" y="4648320"/>
          <a:ext cx="8381880" cy="1904760"/>
        </p:xfrm>
        <a:graphic>
          <a:graphicData uri="http://schemas.openxmlformats.org/drawingml/2006/table">
            <a:tbl>
              <a:tblPr/>
              <a:tblGrid>
                <a:gridCol w="1397160"/>
                <a:gridCol w="1396800"/>
                <a:gridCol w="1396800"/>
                <a:gridCol w="1396800"/>
                <a:gridCol w="1397160"/>
                <a:gridCol w="1397160"/>
              </a:tblGrid>
              <a:tr h="47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XY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XY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::=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::= b Y 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4" name=""/>
          <p:cNvSpPr/>
          <p:nvPr/>
        </p:nvSpPr>
        <p:spPr>
          <a:xfrm>
            <a:off x="5108760" y="3276720"/>
            <a:ext cx="3633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irst(s)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(X ::= s) in row X, col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s is Nullable and 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llow(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(X ::= s) in row X, col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0" y="312408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4267080" y="0"/>
            <a:ext cx="0" cy="312408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"/>
          <p:cNvSpPr/>
          <p:nvPr/>
        </p:nvSpPr>
        <p:spPr>
          <a:xfrm>
            <a:off x="227880" y="722160"/>
            <a:ext cx="128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X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1625760" y="73008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2743560" y="73008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b Y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0" name=""/>
          <p:cNvGraphicFramePr/>
          <p:nvPr/>
        </p:nvGraphicFramePr>
        <p:xfrm>
          <a:off x="4495680" y="533520"/>
          <a:ext cx="4343400" cy="2468520"/>
        </p:xfrm>
        <a:graphic>
          <a:graphicData uri="http://schemas.openxmlformats.org/drawingml/2006/table">
            <a:tbl>
              <a:tblPr/>
              <a:tblGrid>
                <a:gridCol w="743040"/>
                <a:gridCol w="1200240"/>
                <a:gridCol w="1199880"/>
                <a:gridCol w="1200240"/>
              </a:tblGrid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ll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 }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,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,e,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1" name=""/>
          <p:cNvSpPr/>
          <p:nvPr/>
        </p:nvSpPr>
        <p:spPr>
          <a:xfrm>
            <a:off x="214200" y="11268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4352040" y="152280"/>
            <a:ext cx="18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d Se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460080" y="3733920"/>
            <a:ext cx="233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are the blank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4" name=""/>
          <p:cNvGraphicFramePr/>
          <p:nvPr/>
        </p:nvGraphicFramePr>
        <p:xfrm>
          <a:off x="380880" y="4648320"/>
          <a:ext cx="8381880" cy="1904760"/>
        </p:xfrm>
        <a:graphic>
          <a:graphicData uri="http://schemas.openxmlformats.org/drawingml/2006/table">
            <a:tbl>
              <a:tblPr/>
              <a:tblGrid>
                <a:gridCol w="1397160"/>
                <a:gridCol w="1396800"/>
                <a:gridCol w="1396800"/>
                <a:gridCol w="1396800"/>
                <a:gridCol w="1397160"/>
                <a:gridCol w="1397160"/>
              </a:tblGrid>
              <a:tr h="47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XY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XY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::=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::= b Y 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5" name=""/>
          <p:cNvSpPr/>
          <p:nvPr/>
        </p:nvSpPr>
        <p:spPr>
          <a:xfrm>
            <a:off x="0" y="312408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4267080" y="0"/>
            <a:ext cx="0" cy="312408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"/>
          <p:cNvSpPr/>
          <p:nvPr/>
        </p:nvSpPr>
        <p:spPr>
          <a:xfrm>
            <a:off x="227880" y="722160"/>
            <a:ext cx="128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X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1625760" y="73008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2743560" y="73008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b Y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0" name=""/>
          <p:cNvGraphicFramePr/>
          <p:nvPr/>
        </p:nvGraphicFramePr>
        <p:xfrm>
          <a:off x="4495680" y="533520"/>
          <a:ext cx="4343400" cy="2468520"/>
        </p:xfrm>
        <a:graphic>
          <a:graphicData uri="http://schemas.openxmlformats.org/drawingml/2006/table">
            <a:tbl>
              <a:tblPr/>
              <a:tblGrid>
                <a:gridCol w="743040"/>
                <a:gridCol w="1200240"/>
                <a:gridCol w="1199880"/>
                <a:gridCol w="1200240"/>
              </a:tblGrid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ll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 }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,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,e,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1" name=""/>
          <p:cNvSpPr/>
          <p:nvPr/>
        </p:nvSpPr>
        <p:spPr>
          <a:xfrm>
            <a:off x="214200" y="11268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4352040" y="152280"/>
            <a:ext cx="18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d Se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459360" y="3733920"/>
            <a:ext cx="413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are the blanks?  --&gt; syntax err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4" name=""/>
          <p:cNvGraphicFramePr/>
          <p:nvPr/>
        </p:nvGraphicFramePr>
        <p:xfrm>
          <a:off x="380880" y="4648320"/>
          <a:ext cx="8381880" cy="1904760"/>
        </p:xfrm>
        <a:graphic>
          <a:graphicData uri="http://schemas.openxmlformats.org/drawingml/2006/table">
            <a:tbl>
              <a:tblPr/>
              <a:tblGrid>
                <a:gridCol w="1397160"/>
                <a:gridCol w="1396800"/>
                <a:gridCol w="1396800"/>
                <a:gridCol w="1396800"/>
                <a:gridCol w="1397160"/>
                <a:gridCol w="1397160"/>
              </a:tblGrid>
              <a:tr h="47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XY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XY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::=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::= b Y 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5" name=""/>
          <p:cNvSpPr/>
          <p:nvPr/>
        </p:nvSpPr>
        <p:spPr>
          <a:xfrm>
            <a:off x="0" y="312408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4267080" y="0"/>
            <a:ext cx="0" cy="312408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"/>
          <p:cNvSpPr/>
          <p:nvPr/>
        </p:nvSpPr>
        <p:spPr>
          <a:xfrm>
            <a:off x="227880" y="722160"/>
            <a:ext cx="128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X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1625760" y="73008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2743560" y="73008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b Y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0" name=""/>
          <p:cNvGraphicFramePr/>
          <p:nvPr/>
        </p:nvGraphicFramePr>
        <p:xfrm>
          <a:off x="4495680" y="533520"/>
          <a:ext cx="4343400" cy="2468520"/>
        </p:xfrm>
        <a:graphic>
          <a:graphicData uri="http://schemas.openxmlformats.org/drawingml/2006/table">
            <a:tbl>
              <a:tblPr/>
              <a:tblGrid>
                <a:gridCol w="743040"/>
                <a:gridCol w="1200240"/>
                <a:gridCol w="1199880"/>
                <a:gridCol w="1200240"/>
              </a:tblGrid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ll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 }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,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,e,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1" name=""/>
          <p:cNvSpPr/>
          <p:nvPr/>
        </p:nvSpPr>
        <p:spPr>
          <a:xfrm>
            <a:off x="214200" y="11268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4352040" y="152280"/>
            <a:ext cx="18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d Se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461160" y="37339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it possible to put 2 grammar rules in the same box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4" name=""/>
          <p:cNvGraphicFramePr/>
          <p:nvPr/>
        </p:nvGraphicFramePr>
        <p:xfrm>
          <a:off x="380880" y="4648320"/>
          <a:ext cx="8381880" cy="1904760"/>
        </p:xfrm>
        <a:graphic>
          <a:graphicData uri="http://schemas.openxmlformats.org/drawingml/2006/table">
            <a:tbl>
              <a:tblPr/>
              <a:tblGrid>
                <a:gridCol w="1397160"/>
                <a:gridCol w="1396800"/>
                <a:gridCol w="1396800"/>
                <a:gridCol w="1396800"/>
                <a:gridCol w="1397160"/>
                <a:gridCol w="1397160"/>
              </a:tblGrid>
              <a:tr h="47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XY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XY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::=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::= b Y 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5" name=""/>
          <p:cNvSpPr/>
          <p:nvPr/>
        </p:nvSpPr>
        <p:spPr>
          <a:xfrm>
            <a:off x="0" y="312408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4267080" y="0"/>
            <a:ext cx="0" cy="312408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"/>
          <p:cNvSpPr/>
          <p:nvPr/>
        </p:nvSpPr>
        <p:spPr>
          <a:xfrm>
            <a:off x="227880" y="722160"/>
            <a:ext cx="128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X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Z ::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Z ::= d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1625760" y="73008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2743560" y="73008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b Y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0" name=""/>
          <p:cNvGraphicFramePr/>
          <p:nvPr/>
        </p:nvGraphicFramePr>
        <p:xfrm>
          <a:off x="4495680" y="533520"/>
          <a:ext cx="4343400" cy="2468520"/>
        </p:xfrm>
        <a:graphic>
          <a:graphicData uri="http://schemas.openxmlformats.org/drawingml/2006/table">
            <a:tbl>
              <a:tblPr/>
              <a:tblGrid>
                <a:gridCol w="743040"/>
                <a:gridCol w="1200240"/>
                <a:gridCol w="1199880"/>
                <a:gridCol w="1200240"/>
              </a:tblGrid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ll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 }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,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,e,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1" name=""/>
          <p:cNvSpPr/>
          <p:nvPr/>
        </p:nvSpPr>
        <p:spPr>
          <a:xfrm>
            <a:off x="214200" y="11268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4352040" y="152280"/>
            <a:ext cx="18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d Se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461160" y="37339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it possible to put 2 grammar rules in the same box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4" name=""/>
          <p:cNvGraphicFramePr/>
          <p:nvPr/>
        </p:nvGraphicFramePr>
        <p:xfrm>
          <a:off x="380880" y="4648320"/>
          <a:ext cx="8382240" cy="2124000"/>
        </p:xfrm>
        <a:graphic>
          <a:graphicData uri="http://schemas.openxmlformats.org/drawingml/2006/table">
            <a:tbl>
              <a:tblPr/>
              <a:tblGrid>
                <a:gridCol w="1397160"/>
                <a:gridCol w="1396800"/>
                <a:gridCol w="1397160"/>
                <a:gridCol w="1397160"/>
                <a:gridCol w="1396800"/>
                <a:gridCol w="1397160"/>
              </a:tblGrid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XY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XY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Z ::= 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Z ::= d 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::=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::= b Y 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5" name=""/>
          <p:cNvSpPr/>
          <p:nvPr/>
        </p:nvSpPr>
        <p:spPr>
          <a:xfrm>
            <a:off x="0" y="312408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4267080" y="0"/>
            <a:ext cx="0" cy="312408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dictive parsing t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 predictive parsing table constructed this way contains no duplicate entries, the grammar is called LL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ft-to-right parse, Left-most derivation, 1 symbol lookah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t, of the grammar is not LL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LL(k) parsing table, columns include every k-length sequence of terminal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9" name=""/>
          <p:cNvGraphicFramePr/>
          <p:nvPr/>
        </p:nvGraphicFramePr>
        <p:xfrm>
          <a:off x="1981080" y="5565600"/>
          <a:ext cx="5333760" cy="95580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762120"/>
                <a:gridCol w="761760"/>
                <a:gridCol w="762120"/>
                <a:gridCol w="762120"/>
                <a:gridCol w="761760"/>
              </a:tblGrid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other tri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iously, we saw that grammars with left-recursion were problematic, but could be transformed into LL(1) in some c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xample non-LL(1) grammar we just sa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we fix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2399760" y="3886200"/>
            <a:ext cx="128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X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Z ::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Z ::= d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4025880" y="403848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5143680" y="403848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b Y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6840" y="228600"/>
            <a:ext cx="84582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-terminals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, E, E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rminals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, NUM, PRINT, +, :=, (, ),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990000" y="1447920"/>
            <a:ext cx="2567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 S ::= S;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 S ::= ID :=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 S ::= PRINT ( Elist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48480" y="1430280"/>
            <a:ext cx="2161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 E ::=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 E ::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  E ::= E +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.  E ::= ( S , Elist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298920" y="1415880"/>
            <a:ext cx="209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.  Elist ::=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.  Elist ::= Elist ,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048480" y="3809880"/>
            <a:ext cx="2932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 = NUM ; PRINT ( NUM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5866920" y="4038480"/>
            <a:ext cx="167652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241400" y="3657600"/>
            <a:ext cx="128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e m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other tri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iously, we saw that grammars with left-recursion were problematic, but could be transformed into LL(1) in some c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xample non-LL(1) grammar we just sa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tion here is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left-factor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2399760" y="3886200"/>
            <a:ext cx="128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X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Z ::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Z ::= d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4025880" y="403848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5143680" y="403848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b Y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2437560" y="5562720"/>
            <a:ext cx="128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X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Z ::= d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5473800" y="583560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6591600" y="583560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b Y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4038840" y="5835600"/>
            <a:ext cx="91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W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W ::=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FGs are good at specifying programming language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sing general CFGs is expensive so we define parsers for simple classes of CF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L(k), LR(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can build a recursive descent parser for LL(k) grammars b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uting nullable, first and follow s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tructing a parse table from the s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cking for duplicate entries, which indicates fail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ing an ML program from the parse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parser construction fails we c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write the grammar (left factoring, eliminating left recursion) and try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y to build a parser using some other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56840" y="228600"/>
            <a:ext cx="84582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-terminals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, E, E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rminals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, NUM, PRINT, +, :=, (, ),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990000" y="1447920"/>
            <a:ext cx="2567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 S ::= S;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 S ::= ID :=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 S ::= PRINT ( Elist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48480" y="1430280"/>
            <a:ext cx="2161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 E ::=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 E ::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  E ::= E +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.  E ::= ( S , Elist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298920" y="1415880"/>
            <a:ext cx="209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.  Elist ::=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.  Elist ::= Elist ,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8480" y="3809880"/>
            <a:ext cx="2932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 = 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 = NUM ; PRINT ( NUM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5866920" y="4038480"/>
            <a:ext cx="167652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241400" y="3657600"/>
            <a:ext cx="128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e m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pw</cp:lastModifiedBy>
  <dcterms:modified xsi:type="dcterms:W3CDTF">2006-02-16T19:49:29Z</dcterms:modified>
  <cp:revision>3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