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8F-679E-44B9-AF3F-AFF2BA1A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8FD-9C52-409A-B8FD-DAABBE03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A5D-EE5A-4141-A26E-764F9557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AB8-F25E-4394-A744-7F2C3F6E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DFB-7A67-4A9F-B772-A540880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056-0BF4-491A-8F63-02D2D0C1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A97-C24A-4C09-AF03-D881287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8CC-C316-455B-8362-66190CC2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752-51DE-429C-89CD-00F138EB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3E2-1D60-47F4-B961-93F329F3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AC8-259B-40B9-BBD1-518D4BC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939-43D0-44B8-964D-B995D87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5F2-6639-456C-922E-9FDB84FD2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09680" y="43434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21480" y="449568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90720" y="4171680"/>
            <a:ext cx="266760" cy="2286000"/>
          </a:xfrm>
          <a:custGeom>
            <a:avLst/>
            <a:gdLst>
              <a:gd name="textAreaLeft" fmla="*/ 170640 w 266760"/>
              <a:gd name="textAreaRight" fmla="*/ 266760 w 26676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800" y="480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647960" y="4876920"/>
            <a:ext cx="152280" cy="2286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: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560" y="3505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1400" y="4038480"/>
            <a:ext cx="170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wa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5160" y="350532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429000"/>
            <a:ext cx="228600" cy="2057400"/>
          </a:xfrm>
          <a:custGeom>
            <a:avLst/>
            <a:gdLst>
              <a:gd name="textAreaLeft" fmla="*/ 0 w 228600"/>
              <a:gd name="textAreaRight" fmla="*/ 8244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23880" y="5638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400" y="61722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257440" y="5562360"/>
            <a:ext cx="260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0960" y="617220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ing derivations as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compilers:  Parse trees correspond quite closely (but not exactly) with abstract syntax trees we’re trying to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ntax v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cre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arse)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internal node is labeled with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leaf node is labeled with a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 of a rule in a derivation explains how to generate children in the parse tree from th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2 derivations, but 1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0572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65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010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03680" y="435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38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65080" y="4343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51960" y="518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7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0040" y="5119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91720" y="4343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8024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4160" y="4343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52320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60720" y="3352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768560" y="28954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11560" y="297180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405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006800" y="3657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162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44880" y="3581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547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978240" y="37339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59480" y="3733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35800" y="3657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88080" y="36576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792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979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" y="236232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280" y="4572000"/>
            <a:ext cx="293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lis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e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e trees have mea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of children, nesting of subtrees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45040" y="33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5120" y="4143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78200" y="3990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3000" y="4767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46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400" y="475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3600" y="5438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04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8804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9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08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62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24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47760" y="41432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307880" y="368604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298600" y="376236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03520" y="36860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22440" y="44481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55600" y="4524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84200" y="437184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51339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831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7040" y="437184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13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65640" y="4295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25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25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2812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50520" y="4052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88200" y="3962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88400" y="467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460000" y="4662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849800" y="466236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9000" y="5348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06080" y="59580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89680" y="528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21720" y="467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024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4160" y="46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2608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30840" y="406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90960" y="361008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781680" y="368604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3610080"/>
            <a:ext cx="76212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467120" y="435780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01000" y="4433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29600" y="428148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610480" y="5043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333760" y="437184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437184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4295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2958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27920" y="50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27920" y="5653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xic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quence of tokens from characters (Chap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bstract syntax tree from sequence of tokens (Chap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ype Chec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heck program for well-formedness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000" y="167652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22800" y="16765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2286000"/>
            <a:ext cx="1371600" cy="228600"/>
          </a:xfrm>
          <a:prstGeom prst="rightArrow">
            <a:avLst>
              <a:gd name="adj1" fmla="val 50000"/>
              <a:gd name="adj2" fmla="val 10555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90040" y="1676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2057400"/>
            <a:ext cx="114300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mar is ambiguous if the same sequence of tokens can give rise to two or more parse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62120" y="5791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6720" y="620856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like using this notation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 avoid repeating E :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760" y="2057400"/>
            <a:ext cx="1625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E 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129528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s:  4 + 5 *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:        NUM(4)   PLUS   NUM(5)   MULT   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80200" y="198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402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54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42560" y="35053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46928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07520" y="34290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5560" y="3200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0" y="27432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34304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6400" y="2362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7220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654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71360" y="39006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2604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3248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77360" y="5195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7040" y="5181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79640" y="5958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0084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38000" y="5867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7120" y="5638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88200" y="5181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495680" y="472428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6386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4724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27840" y="5576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80376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956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513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96640" y="6324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2920" y="6338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NUM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5760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1840" y="5486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compilers use parse trees to interpret the meaning of parsed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arse trees have different mea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(4 + 5) * 6  is not 4 + (5 *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s with ambiguous grammar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STR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 The meaning of programs isn’t well-defined!  You can’t tell what your program might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rewrite grammar to eliminat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s into grammar to disambig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trick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ory classes, you might have learned about general mechanisms for parsing all CF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s for parsing all CFGs ar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, with computers getting faster and bigger year over year, researchers are beginning to dispute this cla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1/10/100 million-line applications, compilers must be fas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for 20 thousand-line apps, speed is 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1/3 of compilation time is spent i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writers have developed specialized algorithms for parsing the kinds of CFGs that you need to build effective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 grammars can be pa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ing (Appel Chap 3.2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predictive parsing; 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ded by hand in ML quic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s many, but not all CF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s LL(1) gramm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-to-right parse;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tmost-derivation;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 look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cursive function for each non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duction becomes one clause in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7680" y="2706840"/>
            <a:ext cx="60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 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5640" y="21337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: Represent the 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6760" y="3697200"/>
            <a:ext cx="66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: build infrastructure for reading tokens from lexing 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2280" y="4343400"/>
            <a:ext cx="525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66880" y="4152960"/>
            <a:ext cx="1524240" cy="266760"/>
          </a:xfrm>
          <a:custGeom>
            <a:avLst/>
            <a:gdLst/>
            <a:ahLst/>
            <a:rect l="l" t="t" r="r" b="b"/>
            <a:pathLst>
              <a:path w="960" h="168">
                <a:moveTo>
                  <a:pt x="960" y="168"/>
                </a:moveTo>
                <a:cubicBezTo>
                  <a:pt x="900" y="108"/>
                  <a:pt x="840" y="48"/>
                  <a:pt x="720" y="24"/>
                </a:cubicBezTo>
                <a:cubicBezTo>
                  <a:pt x="600" y="0"/>
                  <a:pt x="360" y="8"/>
                  <a:pt x="240" y="24"/>
                </a:cubicBezTo>
                <a:cubicBezTo>
                  <a:pt x="120" y="40"/>
                  <a:pt x="60" y="80"/>
                  <a:pt x="0" y="120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79600" y="4227480"/>
            <a:ext cx="27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unction supplied by 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8880" y="3400560"/>
            <a:ext cx="75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3: write parser =&gt; one function per non-terminal; one clause pe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11040" y="762120"/>
            <a:ext cx="297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3400" y="762120"/>
            <a:ext cx="227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9840" y="228600"/>
            <a:ext cx="297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A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13320" y="2819520"/>
            <a:ext cx="697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A (); eat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; eat ASSIGN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at LPAREN; L (); eat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ea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    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   =&gt;  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sing with CF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are (often) given by BNF expressions (Backus-Naur Fo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owerful than regular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par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, we could do nested comments with ML-LEX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can’t describe PL structure effectively in ML-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Gs are good for describing the overall syntactic structure of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ve parsing only works for grammars where the first terminal symbol in the input provides enough information to choose which production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arsing L, if !tok = ID, the parser cannot determine which production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07600" y="5943600"/>
            <a:ext cx="54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L ::= E                (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      | L , E          (L could be E could be 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8800" y="533556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34624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4452840"/>
            <a:ext cx="1218960" cy="5335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liminate left-recu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grammar so it parses the same language but the rules are diffe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800" y="5378400"/>
            <a:ext cx="19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L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19280" y="5334120"/>
            <a:ext cx="19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 ::=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 ::= , E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14400" y="35053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4290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A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4419720"/>
            <a:ext cx="1218960" cy="53316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minating single left-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grammar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ed gramm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84200" y="255888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X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86360" y="419112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ase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new ::= repeat X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44120" y="270360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83640" y="47242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s:  base repeat repea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43120" y="6095880"/>
            <a:ext cx="72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nk abou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what if you have mutually left-recursive variables X,Y,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most general pattern of left recursion?  How to eliminat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Descent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can’t always eliminate left recur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know when we can parse grammars using recursive desc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n algorithm for generating such parsers automatic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parse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pply rule  X ::= s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s the first symbol that can be generated by string 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reduces to the empty string (is nullable) and a is the first symbol in any string that can follow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parse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-free grammars consis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toke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non-termi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enotes a set of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-hand side: non-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 side: terminals and/or non-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explain how to rewrite non-terminals (beginning with start symbol) into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0880" y="428148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::= symbol symbol ...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1684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 ::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| 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97520" y="172080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X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      |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54680" y="168444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895480" y="3809880"/>
          <a:ext cx="3733920" cy="220968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822760" y="3016080"/>
            <a:ext cx="14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69960" y="297972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04920" y="29797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icting Predictive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must comp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:= s, must determine if s can derive the empty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es,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X := s, must determine the set of all first terminals Q derivable from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non terminal X, determine all terminals symbols Q that immediately follow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ilers algorithms are iterative techn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analysis appli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mpute a set of objects with some property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 is defined inductiv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e, there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s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jects o1, o2 “obviously”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ductive 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if certain objects (o3, o4) have property P, this implies other objects (f o3; f o4) have property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bjects in the se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represent infinite collections using some finite notation &amp; we can find effective terminati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set S with ba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inductive rules over and over until you reach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xed po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t that does not change when you apply an inductive rule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can be determined through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gram analyses &amp; optimizations use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-case complexity is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-case complexity can be good:  iteration “usually” terminates in a couple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22200" y="3352680"/>
            <a:ext cx="195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l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21840" y="3352680"/>
            <a:ext cx="24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ule) to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av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new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96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78360" y="4267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2920" y="274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7120" y="3505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22200" y="3352680"/>
            <a:ext cx="195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things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pplying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ase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2328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rul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223280" y="33526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rules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2285640" y="5029200"/>
            <a:ext cx="60948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952880" y="3276720"/>
            <a:ext cx="190512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124080" y="5715000"/>
            <a:ext cx="236232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038480" y="38862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35812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19720" y="3352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72000" y="40384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62520" y="4343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23623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22200" y="335268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 you r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4800600"/>
            <a:ext cx="15264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4191120"/>
            <a:ext cx="4572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5867280"/>
            <a:ext cx="15264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047760" y="4495680"/>
            <a:ext cx="9903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952880" y="2514240"/>
            <a:ext cx="838440" cy="10666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95680" y="3505320"/>
            <a:ext cx="1526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038480" y="4038480"/>
            <a:ext cx="7632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0" y="31240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5638680"/>
            <a:ext cx="152280" cy="15264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2514600"/>
            <a:ext cx="914400" cy="6094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4120" y="4952880"/>
            <a:ext cx="228600" cy="6858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4876920"/>
            <a:ext cx="152280" cy="152280"/>
          </a:xfrm>
          <a:prstGeom prst="octagon">
            <a:avLst>
              <a:gd name="adj" fmla="val 292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2285640" y="5029200"/>
            <a:ext cx="609480" cy="8380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52880" y="3276720"/>
            <a:ext cx="1905120" cy="3808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3124080" y="5715000"/>
            <a:ext cx="2362320" cy="228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86000" y="4419360"/>
            <a:ext cx="167652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-Free Gram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ing is in the language of the CFG if and only if it is possible to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r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tring using the following non-deterministic 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with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ny non-terminals exist, pick a non-terminal and rewrite it using a rul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&lt;== could be many choic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when all you have left are terminals (and check you arrived at the string your were hoping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cess of checking that a string is in the CFG for your programming language.  It is usually coupled with creating an abstract syntax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209320" y="4495680"/>
            <a:ext cx="762120" cy="838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362320" y="5257800"/>
            <a:ext cx="129528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576520" y="4913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008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320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162920" y="4114800"/>
            <a:ext cx="3045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24480" y="5334120"/>
            <a:ext cx="8384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8804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5140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441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167652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“obviously true”/taken for gra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 of log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basic axioms and prove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ar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59080" y="4205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32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78600" y="367200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teaches cos 44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654360" y="504360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ave is a great teach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4240" y="6400800"/>
            <a:ext cx="64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 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is a great teacher /\ X teaches Y =&gt; Y is a grea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640" y="335268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xi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209320" y="4495680"/>
            <a:ext cx="762120" cy="8384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362320" y="5257800"/>
            <a:ext cx="129528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76520" y="49132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008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320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162920" y="4114800"/>
            <a:ext cx="304560" cy="13716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24480" y="5334120"/>
            <a:ext cx="838440" cy="152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804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51400" y="54864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s 441 is a great clas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69040" y="29322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ixed Point Reach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iter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able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Nullable := Nullable U {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Nullable different from last iteration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:= ABC...) and A, B, C, ... are all Nullable then Nullable := Nullable U {X}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pecified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=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; emptyset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; emp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non-terminal then First(T) 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First(X) changes (for any X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X and all rules (X:= ABC...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:= First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: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: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:= First (B), if A is Nullable; emptyset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:= First (C), if A is Nullable &amp; B is Nullable; emp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computing, Follow (X) is initially { 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irst (s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= Follow(Y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3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1447920"/>
            <a:ext cx="224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48840" y="1430280"/>
            <a:ext cx="18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99280" y="14158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0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4" name=""/>
          <p:cNvSpPr/>
          <p:nvPr/>
        </p:nvSpPr>
        <p:spPr>
          <a:xfrm>
            <a:off x="3736440" y="62848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345920" y="63244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7840" y="6284880"/>
            <a:ext cx="65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ree rounds of iteration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 of induction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4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1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5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, E, 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, NUM, PRINT, +, :=, (, ),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0000" y="144792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S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S ::= ID 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S ::= PRINT (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48480" y="1430280"/>
            <a:ext cx="216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 E ::= ( S , Elist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98920" y="141588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 Elist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Elist ::= Elist 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480" y="3809880"/>
            <a:ext cx="2932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= NUM ; PRINT ( NUM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66920" y="4038480"/>
            <a:ext cx="16765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41400" y="365760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16T19:49:29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