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3E8A-B253-4094-B52A-93AD9AAB7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641F-A7B1-461A-BF7F-E726CF612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642C-E153-4082-B5C6-FADE3412A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1845-ABA7-43B8-BE3D-A5ED29859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6E9F-283E-4D75-AA9E-13A6A53A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6774-44F5-436C-B1DB-31A40A7AB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E049-D69D-492B-931C-57E77529B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7CBB-E03D-480B-8FF9-EC9C2ACB0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70CA-0F85-4126-9687-088A12164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1854-8D37-4527-A1A0-76EF82B6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2B23-E74F-44E9-8DCE-9398A506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A384-694B-42AB-8754-246E5065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D0092-DC2A-4055-B01B-D2BE6A09F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 320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4582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, E, E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, NUM, PRINT, +, :=, (, ),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90000" y="1447920"/>
            <a:ext cx="256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S ::= S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S ::= ID 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S ::= PRINT (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48480" y="1430280"/>
            <a:ext cx="216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E ::=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 E ::= ( S ,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298920" y="1415880"/>
            <a:ext cx="20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 Elist :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Elist ::= Elist 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8480" y="3809880"/>
            <a:ext cx="2932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NU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866920" y="4038480"/>
            <a:ext cx="16765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241400" y="365760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e 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209680" y="4343400"/>
            <a:ext cx="838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21480" y="4495680"/>
            <a:ext cx="128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op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’t m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90720" y="4171680"/>
            <a:ext cx="266760" cy="2286000"/>
          </a:xfrm>
          <a:custGeom>
            <a:avLst/>
            <a:gdLst>
              <a:gd name="textAreaLeft" fmla="*/ 170640 w 266760"/>
              <a:gd name="textAreaRight" fmla="*/ 266760 w 26676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3800" y="4800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4647960" y="4876920"/>
            <a:ext cx="152280" cy="2286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4582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, E, E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, NUM, PRINT, +, :=, (, ),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90000" y="1447920"/>
            <a:ext cx="256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S ::= S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S ::= ID 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S ::= PRINT (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48480" y="1430280"/>
            <a:ext cx="216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E ::=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 E ::= ( S ,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98920" y="1415880"/>
            <a:ext cx="20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 Elist :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Elist ::= Elist 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8480" y="3809880"/>
            <a:ext cx="2932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NU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5866920" y="4038480"/>
            <a:ext cx="16765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241400" y="365760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e 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4582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, E, E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, NUM, PRINT, +, :=, (, ),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90000" y="1447920"/>
            <a:ext cx="256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S ::= S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S ::= ID 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S ::= PRINT (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48480" y="1430280"/>
            <a:ext cx="216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E ::=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 E ::= ( S ,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298920" y="1415880"/>
            <a:ext cx="20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 Elist :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Elist ::= Elist 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48480" y="3809880"/>
            <a:ext cx="2932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NU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866920" y="4038480"/>
            <a:ext cx="16765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241400" y="365760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e 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4582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, E, E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, NUM, PRINT, +, :=, (, ),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90000" y="1447920"/>
            <a:ext cx="256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S ::= S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S ::= ID 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S ::= PRINT (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48480" y="1430280"/>
            <a:ext cx="216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E ::=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 E ::= ( S ,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298920" y="1415880"/>
            <a:ext cx="20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 Elist :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Elist ::= Elist 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8480" y="3809880"/>
            <a:ext cx="2932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:= E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NU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5866920" y="4038480"/>
            <a:ext cx="16765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241400" y="365760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e 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4582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, E, E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, NUM, PRINT, +, :=, (, ),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000" y="1447920"/>
            <a:ext cx="256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S ::= S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S ::= ID 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S ::= PRINT (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48480" y="1430280"/>
            <a:ext cx="216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E ::=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 E ::= ( S ,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98920" y="1415880"/>
            <a:ext cx="20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 Elist :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Elist ::= Elist 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48480" y="3809880"/>
            <a:ext cx="2932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E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Elis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NU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5866920" y="4038480"/>
            <a:ext cx="16765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241400" y="365760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e 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4582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, E, E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, NUM, PRINT, +, :=, (, ),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90000" y="1447920"/>
            <a:ext cx="256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S ::= S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S ::= ID 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S ::= PRINT (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48480" y="1430280"/>
            <a:ext cx="216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E ::=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 E ::= ( S ,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98920" y="1415880"/>
            <a:ext cx="20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 Elist :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Elist ::= Elist 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560" y="3505320"/>
            <a:ext cx="2932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E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Elis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NU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41400" y="4038480"/>
            <a:ext cx="170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way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e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115160" y="3505320"/>
            <a:ext cx="2932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; PRINT ( Elis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; PRINT ( 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; PRINT ( NU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E ; PRINT ( NU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NU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010280" y="3429000"/>
            <a:ext cx="228600" cy="2057400"/>
          </a:xfrm>
          <a:custGeom>
            <a:avLst/>
            <a:gdLst>
              <a:gd name="textAreaLeft" fmla="*/ 0 w 228600"/>
              <a:gd name="textAreaRight" fmla="*/ 82440 w 2286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523880" y="56386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6400" y="617220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-most der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5257440" y="5562360"/>
            <a:ext cx="260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30960" y="6172200"/>
            <a:ext cx="224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most der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se Tr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ing derivations as t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in compilers:  Parse trees correspond quite closely (but not exactly) with abstract syntax trees we’re trying to 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: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bstra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yntax vs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oncre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arse) syn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internal node is labeled with a non-term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leaf node is labeled with a term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use of a rule in a derivation explains how to generate children in the parse tree from the par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se Tr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05720" y="25909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465800" y="33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101000" y="33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703680" y="4357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03880" y="4343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65080" y="4343400"/>
            <a:ext cx="3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51960" y="51814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876080" y="59580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060040" y="5119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091720" y="4343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580240" y="43434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634160" y="43434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523200" y="43578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60720" y="33526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4768560" y="289548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5911560" y="2971800"/>
            <a:ext cx="75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40520" y="28954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006800" y="36576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16280" y="3733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44880" y="35812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454720" y="4724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6978240" y="373392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359480" y="373392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435800" y="365760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588080" y="365760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197920" y="4724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197920" y="5486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5280" y="2362320"/>
            <a:ext cx="2932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E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Elis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NU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se Tr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2 derivations, but 1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05720" y="25909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465800" y="33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101000" y="33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703680" y="4357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03880" y="4343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65080" y="4343400"/>
            <a:ext cx="3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151960" y="51814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876080" y="59580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060040" y="5119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091720" y="4343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580240" y="43434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634160" y="43434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523200" y="43578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760720" y="33526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4768560" y="289548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911560" y="2971800"/>
            <a:ext cx="75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140520" y="28954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006800" y="36576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616280" y="3733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44880" y="35812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454720" y="4724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6978240" y="373392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359480" y="373392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435800" y="365760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588080" y="365760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197920" y="4724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197920" y="5486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5280" y="2362320"/>
            <a:ext cx="2932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E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Elis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NU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05280" y="4572000"/>
            <a:ext cx="2932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; PRINT ( Elis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; PRINT ( 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; PRINT ( NU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E ; PRINT ( NU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NU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se Tr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se trees have mea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er of children, nesting of subtrees is signific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345040" y="3381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05120" y="41432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878200" y="39909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3000" y="4767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614600" y="4753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04400" y="4753080"/>
            <a:ext cx="3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: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443600" y="54388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304080" y="59580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88040" y="52862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519720" y="4676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008240" y="46767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62160" y="46767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24080" y="46911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R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147760" y="41432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1307880" y="368604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2298600" y="376236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603520" y="368604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622440" y="444816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155600" y="45244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384200" y="4371840"/>
            <a:ext cx="3049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65440" y="513396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2831760" y="437184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137040" y="4371840"/>
            <a:ext cx="759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213000" y="4295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365640" y="429588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625920" y="5057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625920" y="5653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828120" y="3305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850520" y="40528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488200" y="3962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088400" y="46767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460000" y="4662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849800" y="4662360"/>
            <a:ext cx="3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: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289000" y="53481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806080" y="59580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989680" y="52862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021720" y="4676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510240" y="46767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564160" y="46767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726080" y="46911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630840" y="4067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5790960" y="361008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6781680" y="3686040"/>
            <a:ext cx="1526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086600" y="3610080"/>
            <a:ext cx="762120" cy="42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7467120" y="4357800"/>
            <a:ext cx="3812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001000" y="4433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29600" y="428148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610480" y="50436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5333760" y="437184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4371840"/>
            <a:ext cx="76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15000" y="4295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867280" y="42958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127920" y="5057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127920" y="5653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ront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Lexical Analy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quence of tokens from characters (Chap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bstract syntax tree from sequence of tokens (Chap 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ype Check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heck program for well-formedness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2057400"/>
            <a:ext cx="114300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2286000"/>
            <a:ext cx="1371600" cy="228600"/>
          </a:xfrm>
          <a:prstGeom prst="rightArrow">
            <a:avLst>
              <a:gd name="adj1" fmla="val 50000"/>
              <a:gd name="adj2" fmla="val 10555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2057400"/>
            <a:ext cx="114300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2286000"/>
            <a:ext cx="1371600" cy="228600"/>
          </a:xfrm>
          <a:prstGeom prst="rightArrow">
            <a:avLst>
              <a:gd name="adj1" fmla="val 50000"/>
              <a:gd name="adj2" fmla="val 10555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2000" y="167652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am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322800" y="1676520"/>
            <a:ext cx="113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am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943600" y="2286000"/>
            <a:ext cx="1371600" cy="228600"/>
          </a:xfrm>
          <a:prstGeom prst="rightArrow">
            <a:avLst>
              <a:gd name="adj1" fmla="val 50000"/>
              <a:gd name="adj2" fmla="val 10555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90040" y="167652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391520" y="2057400"/>
            <a:ext cx="114300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biguous Gramm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rammar is ambiguous if the same sequence of tokens can give rise to two or more parse t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biguous Gramm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36760" y="2057400"/>
            <a:ext cx="16254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termina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 *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971800" y="1295280"/>
            <a:ext cx="581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s:  4 + 5 *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ens:        NUM(4)   PLUS   NUM(5)   MULT   NUM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380200" y="1981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040280" y="2743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75480" y="2743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742560" y="35053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UM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469280" y="3200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07520" y="34290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875560" y="3200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335200" y="27432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4343040" y="22860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486400" y="236232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715000" y="22860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19112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6172200" y="30481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85800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620120" y="3581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5440" y="38862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UM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571360" y="39006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UM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026040" y="3581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010280" y="30481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762120" y="57913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16720" y="6208560"/>
            <a:ext cx="32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 like using this notation 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 avoid repeating E ::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biguous Gramm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36760" y="2057400"/>
            <a:ext cx="16254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termina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 *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971800" y="1295280"/>
            <a:ext cx="581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s:  4 + 5 *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ens:        NUM(4)   PLUS   NUM(5)   MULT   NUM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380200" y="1981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040280" y="2743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675480" y="2743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742560" y="35053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UM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469280" y="3200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707520" y="34290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875560" y="3200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335200" y="27432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4343040" y="22860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5486400" y="236232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715000" y="22860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9112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6172200" y="30481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5800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620120" y="3581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165440" y="38862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UM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571360" y="39006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UM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026040" y="3581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10280" y="30481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532480" y="4419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777360" y="51958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307040" y="5181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479640" y="59580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NUM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100840" y="5638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338000" y="5867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507120" y="5638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488200" y="518148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4495680" y="4724280"/>
            <a:ext cx="10670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5638680" y="480060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867280" y="4724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927840" y="557676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3803760" y="548640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489560" y="5562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251320" y="6019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796640" y="632448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NUM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2920" y="633888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NUM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657600" y="6019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641840" y="548640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biguous Gramm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: compilers use parse trees to interpret the meaning of parsed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arse trees have different mean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:  (4 + 5) * 6  is not 4 + (5 * 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s with ambiguous grammars are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DISASTR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 The meaning of programs isn’t well-defined!  You can’t tell what your program might d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: rewrite grammar to eliminate ambig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d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reced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ules into grammar to disambigu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d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ssociativ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ules into grammar to disambigu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tricks as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Par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ory classes, you might have learned about general mechanisms for parsing all CF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orithms for parsing all CFGs are expen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ually, with computers getting faster and bigger year over year, researchers are beginning to dispute this clai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1/10/100 million-line applications, compilers must be fast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 for 20 thousand-line apps, speed is n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imes 1/3 of compilation time is spent in par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iler writers have developed specialized algorithms for parsing the kinds of CFGs that you need to build effective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L(k), LR(k) grammars can be par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ursive Descent Par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ursive Descent Parsing (Appel Chap 3.2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ka: predictive parsing; top-down par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, effi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coded by hand in ML quick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ses many, but not all CF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ses LL(1) gramm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t-to-right parse;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tmost-derivation;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ymbol looka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recursive function for each non 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roduction becomes one clause in th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554480" y="1065240"/>
            <a:ext cx="32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S ::= IF E THEN S ELSE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      | BEGIN S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       | PRINT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136840" y="1065240"/>
            <a:ext cx="240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L ::=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      | ; S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E ::= NUM =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07320" y="228600"/>
            <a:ext cx="704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n-terminal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, E,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erminal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, IF, THEN, ELSE, BEGIN, END, PRINT, ;,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1554480" y="1065240"/>
            <a:ext cx="32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S ::= IF E THEN S ELSE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      | BEGIN S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       | PRINT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136840" y="1065240"/>
            <a:ext cx="240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L ::=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      | ; S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E ::= NUM =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07320" y="228600"/>
            <a:ext cx="704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n-terminal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, E,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erminal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, IF, THEN, ELSE, BEGIN, END, PRINT, ;,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7680" y="2706840"/>
            <a:ext cx="606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type token = NUM | IF | THEN | ELSE | BEGIN | 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PRINT | SEMI | E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15640" y="2133720"/>
            <a:ext cx="31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tep 1: Represent the to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76760" y="3697200"/>
            <a:ext cx="667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tep 2: build infrastructure for reading tokens from lexing 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92280" y="4343400"/>
            <a:ext cx="5250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 tok = ref (getToken 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advance () = tok := getToken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eat t = if (! tok = t) then advance () else error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666880" y="4152960"/>
            <a:ext cx="1524240" cy="266760"/>
          </a:xfrm>
          <a:custGeom>
            <a:avLst/>
            <a:gdLst/>
            <a:ahLst/>
            <a:rect l="l" t="t" r="r" b="b"/>
            <a:pathLst>
              <a:path w="960" h="168">
                <a:moveTo>
                  <a:pt x="960" y="168"/>
                </a:moveTo>
                <a:cubicBezTo>
                  <a:pt x="900" y="108"/>
                  <a:pt x="840" y="48"/>
                  <a:pt x="720" y="24"/>
                </a:cubicBezTo>
                <a:cubicBezTo>
                  <a:pt x="600" y="0"/>
                  <a:pt x="360" y="8"/>
                  <a:pt x="240" y="24"/>
                </a:cubicBezTo>
                <a:cubicBezTo>
                  <a:pt x="120" y="40"/>
                  <a:pt x="60" y="80"/>
                  <a:pt x="0" y="120"/>
                </a:cubicBezTo>
              </a:path>
            </a:pathLst>
          </a:custGeom>
          <a:noFill/>
          <a:ln w="255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179600" y="4227480"/>
            <a:ext cx="27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function supplied by le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1554480" y="1065240"/>
            <a:ext cx="32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S ::= IF E THEN S ELSE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      | BEGIN S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       | PRINT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136840" y="1065240"/>
            <a:ext cx="240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L ::=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      | ; S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E ::= NUM =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07320" y="228600"/>
            <a:ext cx="704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n-terminal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, E,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erminal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, IF, THEN, ELSE, BEGIN, END, PRINT, ;,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74280" y="3809880"/>
            <a:ext cx="68907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S () = case !tok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        =&gt;   eat IF; E (); eat THEN; S (); eat ELSE; S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BEGIN =&gt;   eat BEGIN; S (); L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PRINT =&gt;   eat PRINT; E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L () = case !tok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   =&gt;   eat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SEMI    =&gt;   eat SEMI; S (); L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E () = eat NUM; eat EQ; eat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18880" y="3400560"/>
            <a:ext cx="758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tep 3: write parser =&gt; one function per non-terminal; one clause per 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92680" y="2209680"/>
            <a:ext cx="525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 tok = ref (getToken 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advance () = tok := getToken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eat t = if (! tok = t) then advance () else error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51200" y="2209680"/>
            <a:ext cx="339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type token = NUM |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THEN | ELSE | BEGIN | 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PRINT | SEMI | E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211040" y="762120"/>
            <a:ext cx="297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A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ID 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       | PRINT ( L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793400" y="762120"/>
            <a:ext cx="227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      |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L :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       | L 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09840" y="228600"/>
            <a:ext cx="297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n-terminal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, A, E,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13320" y="2819520"/>
            <a:ext cx="6976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S () = A (); eat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 () = case !tok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        =&gt;   eat ID; eat ASSIGN; E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PRINT =&gt;   eat PRINT; eat LPAREN; L (); eat RPA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E () = case !tok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        =&gt;   eat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NUM    =&gt;   eat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L () = case !tok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        =&gt;   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NUM    =&gt;   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sing with CF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xt-free grammars are (often) given by BNF expressions (Backus-Naur For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l Chap 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powerful than regular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ing par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, we could do nested comments with ML-LEX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can’t describe PL structure effectively in ML-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FGs are good for describing the overall syntactic structure of progr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tive parsing only works for grammars where the first terminal symbol in the input provides enough information to choose which production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L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parsing L, if !tok = ID, the parser cannot determine which production to 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407600" y="5943600"/>
            <a:ext cx="544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L ::= E                (E could be 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       | L , E          (L could be E could be 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eliminate left-recu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write the grammar so it parses the same language but the rules are differ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68800" y="5335560"/>
            <a:ext cx="190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L :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| L 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914400" y="3462480"/>
            <a:ext cx="228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A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ID 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PRINT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562720" y="3429000"/>
            <a:ext cx="228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A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ID 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PRINT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505320" y="4452840"/>
            <a:ext cx="1218960" cy="533520"/>
          </a:xfrm>
          <a:custGeom>
            <a:avLst/>
            <a:gdLst>
              <a:gd name="textAreaLeft" fmla="*/ 190440 w 1218960"/>
              <a:gd name="textAreaRight" fmla="*/ 1066680 w 12189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eliminate left-recu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write the grammar so it parses the same language but the rules are differ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68800" y="5378400"/>
            <a:ext cx="190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L :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| L 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219280" y="5334120"/>
            <a:ext cx="198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L ::= E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M ::= , E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|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914400" y="3505320"/>
            <a:ext cx="228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A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ID 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PRINT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562720" y="3429000"/>
            <a:ext cx="228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A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ID 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PRINT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505320" y="4419720"/>
            <a:ext cx="1218960" cy="533160"/>
          </a:xfrm>
          <a:custGeom>
            <a:avLst/>
            <a:gdLst>
              <a:gd name="textAreaLeft" fmla="*/ 190440 w 1218960"/>
              <a:gd name="textAreaRight" fmla="*/ 1066680 w 121896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iminating single left-recu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grammar for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ormed gramma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384200" y="2558880"/>
            <a:ext cx="161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 X rep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386360" y="4191120"/>
            <a:ext cx="242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ase X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new ::= repeat X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244120" y="2703600"/>
            <a:ext cx="325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ngs:  base repeat repeat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183640" y="4724280"/>
            <a:ext cx="325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ngs:  base repeat repeat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843120" y="6095880"/>
            <a:ext cx="728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Think about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what if you have mutually left-recursive variables X,Y,Z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the most general pattern of left recursion?  How to eliminate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ursive Descent Par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fortunately, can’t always eliminate left recur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know when we can parse grammars using recursive desc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re an algorithm for generating such parsers automatical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ucting RD Par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nstruct an RD parser, we need to know what rule to apply 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re trying to parse a non terminal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ee the next terminal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apply rule  X ::= s 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is the first symbol that can be generated by string s,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 reduces to the empty string (is nullable) and a is the first symbol in any string that can follow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ucting RD Par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nstruct an RD parser, we need to know what rule to apply 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re trying to parse a non terminal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ee the next terminal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pply rule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X ::= 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first symb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can be generated by string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duces to the empty string (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is null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first symbol in any string that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n foll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ucting Predictive Par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286000" y="1684440"/>
            <a:ext cx="119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Y ::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   | 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097520" y="1720800"/>
            <a:ext cx="136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X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      |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854680" y="168444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2895480" y="3809880"/>
          <a:ext cx="3733920" cy="2209680"/>
        </p:xfrm>
        <a:graphic>
          <a:graphicData uri="http://schemas.openxmlformats.org/drawingml/2006/table">
            <a:tbl>
              <a:tblPr/>
              <a:tblGrid>
                <a:gridCol w="1244520"/>
                <a:gridCol w="1244520"/>
                <a:gridCol w="1244880"/>
              </a:tblGrid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1" name=""/>
          <p:cNvSpPr/>
          <p:nvPr/>
        </p:nvSpPr>
        <p:spPr>
          <a:xfrm>
            <a:off x="2822760" y="3016080"/>
            <a:ext cx="144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ter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269960" y="2979720"/>
            <a:ext cx="99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704920" y="297972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ucting Predictive Par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286000" y="1684440"/>
            <a:ext cx="119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Y ::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   | 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097520" y="1720800"/>
            <a:ext cx="136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X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      |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854680" y="168444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2895480" y="3809880"/>
          <a:ext cx="3733920" cy="2209680"/>
        </p:xfrm>
        <a:graphic>
          <a:graphicData uri="http://schemas.openxmlformats.org/drawingml/2006/table">
            <a:tbl>
              <a:tblPr/>
              <a:tblGrid>
                <a:gridCol w="1244520"/>
                <a:gridCol w="1244520"/>
                <a:gridCol w="1244880"/>
              </a:tblGrid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9" name=""/>
          <p:cNvSpPr/>
          <p:nvPr/>
        </p:nvSpPr>
        <p:spPr>
          <a:xfrm>
            <a:off x="2822760" y="3016080"/>
            <a:ext cx="144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ter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269960" y="2979720"/>
            <a:ext cx="99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704920" y="297972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ucting Predictive Par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286000" y="1684440"/>
            <a:ext cx="119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Y ::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   | 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97520" y="1720800"/>
            <a:ext cx="136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X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      |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854680" y="168444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2895480" y="3809880"/>
          <a:ext cx="3733920" cy="2209680"/>
        </p:xfrm>
        <a:graphic>
          <a:graphicData uri="http://schemas.openxmlformats.org/drawingml/2006/table">
            <a:tbl>
              <a:tblPr/>
              <a:tblGrid>
                <a:gridCol w="1244520"/>
                <a:gridCol w="1244520"/>
                <a:gridCol w="1244880"/>
              </a:tblGrid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7" name=""/>
          <p:cNvSpPr/>
          <p:nvPr/>
        </p:nvSpPr>
        <p:spPr>
          <a:xfrm>
            <a:off x="2822760" y="3016080"/>
            <a:ext cx="144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ter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269960" y="2979720"/>
            <a:ext cx="99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704920" y="297972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xt-Free Gramm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xt-free grammars consist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symbo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termina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denotes token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non-termina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denotes a set of str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symb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ft-hand side: non-term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-hand side: terminals and/or non-termi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 explain how to rewrite non-terminals (beginning with start symbol) into termi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30880" y="4281480"/>
            <a:ext cx="38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bol ::= symbol symbol ...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ucting Predictive Par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286000" y="1684440"/>
            <a:ext cx="119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Y ::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   | 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097520" y="1720800"/>
            <a:ext cx="136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X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      |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854680" y="168444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2895480" y="3809880"/>
          <a:ext cx="3733920" cy="2209680"/>
        </p:xfrm>
        <a:graphic>
          <a:graphicData uri="http://schemas.openxmlformats.org/drawingml/2006/table">
            <a:tbl>
              <a:tblPr/>
              <a:tblGrid>
                <a:gridCol w="1244520"/>
                <a:gridCol w="1244520"/>
                <a:gridCol w="1244880"/>
              </a:tblGrid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5" name=""/>
          <p:cNvSpPr/>
          <p:nvPr/>
        </p:nvSpPr>
        <p:spPr>
          <a:xfrm>
            <a:off x="2822760" y="3016080"/>
            <a:ext cx="144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ter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269960" y="2979720"/>
            <a:ext cx="99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704920" y="297972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icting Predictive Par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general, must compu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production X ::= s, must determine if s can derive the empty str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es,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ul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production X := s, must determine the set of all first terminals Q derivable from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irst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non terminal X, determine all terminals symbols Q that immediately follow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llow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rative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compilers algorithms are iterative techniq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erative analysis applies wh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compute a set of objects with some property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 is defined inductive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ie, there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base ca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objects o1, o2 “obviously” have property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nductive ca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if certain objects (o3, o4) have property P, this implies other objects (f o3; f o4) have property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umber of objects in the set is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ini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we can represent infinite collections using some finite notation &amp; we can find effective termination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rative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for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set S with bas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inductive rules over and over until you reach a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fixed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ixed poi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et that does not change when you apply an inductive rule (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Null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Fir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Foll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ts can be determined through it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program analyses &amp; optimizations use it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st-case complexity is b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-case complexity can be good:  iteration “usually” terminates in a couple of r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rative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038480" y="3886200"/>
            <a:ext cx="152640" cy="15228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800600" y="3581280"/>
            <a:ext cx="152280" cy="15264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419720" y="3352680"/>
            <a:ext cx="152280" cy="15264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572000" y="4038480"/>
            <a:ext cx="152280" cy="15264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222200" y="3352680"/>
            <a:ext cx="195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viousl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the prope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rative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038480" y="3886200"/>
            <a:ext cx="152640" cy="15228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800600" y="3581280"/>
            <a:ext cx="152280" cy="15264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419720" y="3352680"/>
            <a:ext cx="152280" cy="15264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572000" y="4038480"/>
            <a:ext cx="152280" cy="15264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962520" y="4343400"/>
            <a:ext cx="152280" cy="152280"/>
          </a:xfrm>
          <a:prstGeom prst="octagon">
            <a:avLst>
              <a:gd name="adj" fmla="val 29287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791320" y="2362320"/>
            <a:ext cx="152280" cy="152280"/>
          </a:xfrm>
          <a:prstGeom prst="octagon">
            <a:avLst>
              <a:gd name="adj" fmla="val 29287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181480" y="4800600"/>
            <a:ext cx="152640" cy="152280"/>
          </a:xfrm>
          <a:prstGeom prst="octagon">
            <a:avLst>
              <a:gd name="adj" fmla="val 29287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221840" y="3352680"/>
            <a:ext cx="2401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y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ule) to th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have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erty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e new th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have the prope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4038480" y="4038480"/>
            <a:ext cx="76320" cy="30492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811320" y="39625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952880" y="2514240"/>
            <a:ext cx="838440" cy="10666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724280" y="4191120"/>
            <a:ext cx="457200" cy="6094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878360" y="42670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182920" y="27432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495680" y="3505320"/>
            <a:ext cx="152640" cy="53316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497120" y="35053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rative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038480" y="3886200"/>
            <a:ext cx="152640" cy="15228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00600" y="3581280"/>
            <a:ext cx="152280" cy="15264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419720" y="3352680"/>
            <a:ext cx="152280" cy="15264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572000" y="4038480"/>
            <a:ext cx="152280" cy="15264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962520" y="4343400"/>
            <a:ext cx="152280" cy="15228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791320" y="2362320"/>
            <a:ext cx="152280" cy="15228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181480" y="4800600"/>
            <a:ext cx="152640" cy="15228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222200" y="3352680"/>
            <a:ext cx="1956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things you 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applying 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ase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the prope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rative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038480" y="3886200"/>
            <a:ext cx="152640" cy="15228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800600" y="3581280"/>
            <a:ext cx="152280" cy="15264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419720" y="3352680"/>
            <a:ext cx="152280" cy="15264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572000" y="4038480"/>
            <a:ext cx="152280" cy="15264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962520" y="4343400"/>
            <a:ext cx="152280" cy="15228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791320" y="2362320"/>
            <a:ext cx="152280" cy="15228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181480" y="4800600"/>
            <a:ext cx="152640" cy="15228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223280" y="335268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y rules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181480" y="4800600"/>
            <a:ext cx="152640" cy="15228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724280" y="4191120"/>
            <a:ext cx="457200" cy="6094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895480" y="5867280"/>
            <a:ext cx="152640" cy="152640"/>
          </a:xfrm>
          <a:prstGeom prst="octagon">
            <a:avLst>
              <a:gd name="adj" fmla="val 29287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3047760" y="4495680"/>
            <a:ext cx="990360" cy="13716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4952880" y="2514240"/>
            <a:ext cx="838440" cy="10666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495680" y="3505320"/>
            <a:ext cx="152640" cy="53316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4038480" y="4038480"/>
            <a:ext cx="76320" cy="30492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858000" y="3124080"/>
            <a:ext cx="152280" cy="152640"/>
          </a:xfrm>
          <a:prstGeom prst="octagon">
            <a:avLst>
              <a:gd name="adj" fmla="val 29287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486400" y="5638680"/>
            <a:ext cx="152280" cy="152640"/>
          </a:xfrm>
          <a:prstGeom prst="octagon">
            <a:avLst>
              <a:gd name="adj" fmla="val 29287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943600" y="2514600"/>
            <a:ext cx="914400" cy="6094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334120" y="4952880"/>
            <a:ext cx="228600" cy="6858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rative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038480" y="3886200"/>
            <a:ext cx="152640" cy="15228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800600" y="3581280"/>
            <a:ext cx="152280" cy="15264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419720" y="3352680"/>
            <a:ext cx="152280" cy="15264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572000" y="4038480"/>
            <a:ext cx="152280" cy="15264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962520" y="4343400"/>
            <a:ext cx="152280" cy="15228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791320" y="2362320"/>
            <a:ext cx="152280" cy="15228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181480" y="4800600"/>
            <a:ext cx="152640" cy="15228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223280" y="335268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y rules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181480" y="4800600"/>
            <a:ext cx="152640" cy="15228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724280" y="4191120"/>
            <a:ext cx="457200" cy="6094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895480" y="5867280"/>
            <a:ext cx="152640" cy="15264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3047760" y="4495680"/>
            <a:ext cx="990360" cy="13716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4952880" y="2514240"/>
            <a:ext cx="838440" cy="10666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495680" y="3505320"/>
            <a:ext cx="152640" cy="53316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4038480" y="4038480"/>
            <a:ext cx="76320" cy="30492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858000" y="3124080"/>
            <a:ext cx="152280" cy="15264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486400" y="5638680"/>
            <a:ext cx="152280" cy="15264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943600" y="2514600"/>
            <a:ext cx="914400" cy="6094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334120" y="4952880"/>
            <a:ext cx="228600" cy="6858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133720" y="4876920"/>
            <a:ext cx="152280" cy="152280"/>
          </a:xfrm>
          <a:prstGeom prst="octagon">
            <a:avLst>
              <a:gd name="adj" fmla="val 29287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H="1" flipV="1">
            <a:off x="2285640" y="5029200"/>
            <a:ext cx="609480" cy="8380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4952880" y="3276720"/>
            <a:ext cx="1905120" cy="3808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124080" y="5715000"/>
            <a:ext cx="2362320" cy="2286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rative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038480" y="3886200"/>
            <a:ext cx="152640" cy="15228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800600" y="3581280"/>
            <a:ext cx="152280" cy="15264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419720" y="3352680"/>
            <a:ext cx="152280" cy="15264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572000" y="4038480"/>
            <a:ext cx="152280" cy="15264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962520" y="4343400"/>
            <a:ext cx="152280" cy="15228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91320" y="2362320"/>
            <a:ext cx="152280" cy="15228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181480" y="4800600"/>
            <a:ext cx="152640" cy="15228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222200" y="3352680"/>
            <a:ext cx="196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ly, you r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ixed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181480" y="4800600"/>
            <a:ext cx="152640" cy="15228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724280" y="4191120"/>
            <a:ext cx="457200" cy="6094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895480" y="5867280"/>
            <a:ext cx="152640" cy="15264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3047760" y="4495680"/>
            <a:ext cx="990360" cy="13716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4952880" y="2514240"/>
            <a:ext cx="838440" cy="10666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495680" y="3505320"/>
            <a:ext cx="152640" cy="53316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4038480" y="4038480"/>
            <a:ext cx="76320" cy="30492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858000" y="3124080"/>
            <a:ext cx="152280" cy="15264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486400" y="5638680"/>
            <a:ext cx="152280" cy="15264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943600" y="2514600"/>
            <a:ext cx="914400" cy="6094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334120" y="4952880"/>
            <a:ext cx="228600" cy="6858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133720" y="4876920"/>
            <a:ext cx="152280" cy="15228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H="1" flipV="1">
            <a:off x="2285640" y="5029200"/>
            <a:ext cx="609480" cy="8380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4952880" y="3276720"/>
            <a:ext cx="1905120" cy="3808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3124080" y="5715000"/>
            <a:ext cx="2362320" cy="2286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2286000" y="4419360"/>
            <a:ext cx="1676520" cy="53316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xt-Free Gramm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991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ring is in the language of the CFG if and only if it is possible to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er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string using the following non-deterministic proced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 with the start symb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any non-terminals exist, pick a non-terminal and rewrite it using a rule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&lt;== could be many choice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when all you have left are terminals (and check you arrived at the string your were hoping 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process of checking that a string is in the CFG for your programming language.  It is usually coupled with creating an abstract syntax tr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rative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8200" y="1676520"/>
            <a:ext cx="504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xiom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“obviously true”/taken for gra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ules of logi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e basic axioms and prove 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ngs are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359080" y="42051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ave teaches cos 320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178600" y="367200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ave teaches cos 441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654360" y="5043600"/>
            <a:ext cx="26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ave is a great teach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34240" y="6400800"/>
            <a:ext cx="649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ule r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X is a great teacher /\ X teaches Y =&gt; Y is a great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11640" y="335268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xio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rative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38200" y="1676520"/>
            <a:ext cx="504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xiom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“obviously true”/taken for gra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ules of logi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e basic axioms and prove 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ngs are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359080" y="42051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ave teaches cos 320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178600" y="367200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ave teaches cos 441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654360" y="5043600"/>
            <a:ext cx="26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ave is a great teach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34240" y="6400800"/>
            <a:ext cx="649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ule r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X is a great teacher /\ X teaches Y =&gt; Y is a great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11640" y="335268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xio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2209320" y="4495680"/>
            <a:ext cx="762120" cy="83844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2362320" y="5257800"/>
            <a:ext cx="1295280" cy="1522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576520" y="49132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60080" y="5486400"/>
            <a:ext cx="27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os 320 is a great clas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7162920" y="4114800"/>
            <a:ext cx="304560" cy="13716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324480" y="5334120"/>
            <a:ext cx="838440" cy="1522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088040" y="51055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251400" y="5486400"/>
            <a:ext cx="27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os 441 is a great clas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rative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38200" y="1676520"/>
            <a:ext cx="504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xiom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“obviously true”/taken for gra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ules of logi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e basic axioms and prove 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ngs are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359080" y="42051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ave teaches cos 320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178600" y="367200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ave teaches cos 441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654360" y="5043600"/>
            <a:ext cx="26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ave is a great teach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34240" y="6400800"/>
            <a:ext cx="649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ule r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X is a great teacher /\ X teaches Y =&gt; Y is a great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11640" y="335268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xio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2209320" y="4495680"/>
            <a:ext cx="762120" cy="83844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2362320" y="5257800"/>
            <a:ext cx="1295280" cy="1522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576520" y="49132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0080" y="5486400"/>
            <a:ext cx="27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os 320 is a great clas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7162920" y="4114800"/>
            <a:ext cx="304560" cy="13716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324480" y="5334120"/>
            <a:ext cx="838440" cy="1522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088040" y="51055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251400" y="5486400"/>
            <a:ext cx="27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os 441 is a great clas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569040" y="2932200"/>
            <a:ext cx="23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Fixed Point Reach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llable 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terminal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X is Null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ly if the following constraints are satisfi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c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X :=  )  then X is Nul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ctive c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X := ABC...) and A, B, C, ... are all Nullable then X is Nullable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ing Nullable 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X is Null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itera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llable := {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X :=  )  then Nullable := Nullable U {X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Nullable different from last iteration 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ll X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X := ABC...) and A, B, C, ... are all Nullable then Nullable := Nullable U {X}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First(X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specified like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c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 is a terminal symbol then First (T) = {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ctive c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X is a non-terminal and (X:= ABC...)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(X) = First (ABC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First(ABC...) = F1 U F2 U F3 U ...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1 = First 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2 = First (B), if A is Nullable; emptyset otherw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3 = First (C), if A is Nullable &amp; B is Nullable; emp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ing First 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First(X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 is a terminal symbol then First (T) = {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 is non-terminal then First(T) = {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First(X) changes (for any X)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ll X and all rules (X:= ABC...)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(X) := First(X) U First (ABC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First(ABC...) := F1 U F2 U F3 U ...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1 := First 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2 := First (B), if A is Nullable; emptyset otherw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3 := First (C), if A is Nullable &amp; B is Nullable; emp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ing Follow 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Follow(X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computed iterati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c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ly, we assume nothing in particular follow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hen computing, Follow (X) is initially { }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ctive c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Y := s1 X s2) for any strings s1, s2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 (X) = First (s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Y := s1 X s2) for any strings s1, s2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 (X) = Follow(Y),  if s2 is Nul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7" name=""/>
          <p:cNvGraphicFramePr/>
          <p:nvPr/>
        </p:nvGraphicFramePr>
        <p:xfrm>
          <a:off x="1447920" y="3048120"/>
          <a:ext cx="640044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599840"/>
                <a:gridCol w="1600200"/>
                <a:gridCol w="1600200"/>
              </a:tblGrid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2" name=""/>
          <p:cNvGraphicFramePr/>
          <p:nvPr/>
        </p:nvGraphicFramePr>
        <p:xfrm>
          <a:off x="1447920" y="3048120"/>
          <a:ext cx="640044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599840"/>
                <a:gridCol w="1600200"/>
                <a:gridCol w="1600200"/>
              </a:tblGrid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3" name=""/>
          <p:cNvSpPr/>
          <p:nvPr/>
        </p:nvSpPr>
        <p:spPr>
          <a:xfrm>
            <a:off x="1968120" y="62848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3048120" y="586728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4582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, E, E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, NUM, PRINT, +, :=, (, ),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17080" y="1447920"/>
            <a:ext cx="224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S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PRINT (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48840" y="1430280"/>
            <a:ext cx="1843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( S ,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299280" y="141588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ist :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ist ::= Elist 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1447920" y="3048120"/>
          <a:ext cx="640044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599840"/>
                <a:gridCol w="1600200"/>
                <a:gridCol w="1600200"/>
              </a:tblGrid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0" name=""/>
          <p:cNvSpPr/>
          <p:nvPr/>
        </p:nvSpPr>
        <p:spPr>
          <a:xfrm>
            <a:off x="1531440" y="6284880"/>
            <a:ext cx="72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one round of induction, we realize we have reached a fixed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3048120" y="586728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6" name=""/>
          <p:cNvGraphicFramePr/>
          <p:nvPr/>
        </p:nvGraphicFramePr>
        <p:xfrm>
          <a:off x="1447920" y="3048120"/>
          <a:ext cx="640044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599840"/>
                <a:gridCol w="1600200"/>
                <a:gridCol w="1600200"/>
              </a:tblGrid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7" name=""/>
          <p:cNvSpPr/>
          <p:nvPr/>
        </p:nvSpPr>
        <p:spPr>
          <a:xfrm>
            <a:off x="3736440" y="62848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4816440" y="5867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3" name=""/>
          <p:cNvGraphicFramePr/>
          <p:nvPr/>
        </p:nvGraphicFramePr>
        <p:xfrm>
          <a:off x="1447920" y="3048120"/>
          <a:ext cx="640044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599840"/>
                <a:gridCol w="1600200"/>
                <a:gridCol w="1600200"/>
              </a:tblGrid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4" name=""/>
          <p:cNvSpPr/>
          <p:nvPr/>
        </p:nvSpPr>
        <p:spPr>
          <a:xfrm>
            <a:off x="3736440" y="628488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n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4816440" y="5867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0" name=""/>
          <p:cNvGraphicFramePr/>
          <p:nvPr/>
        </p:nvGraphicFramePr>
        <p:xfrm>
          <a:off x="1447920" y="3048120"/>
          <a:ext cx="640044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599840"/>
                <a:gridCol w="1600200"/>
                <a:gridCol w="1600200"/>
              </a:tblGrid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1" name=""/>
          <p:cNvSpPr/>
          <p:nvPr/>
        </p:nvSpPr>
        <p:spPr>
          <a:xfrm flipV="1">
            <a:off x="4816440" y="5867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345920" y="632448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n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7" name=""/>
          <p:cNvGraphicFramePr/>
          <p:nvPr/>
        </p:nvGraphicFramePr>
        <p:xfrm>
          <a:off x="1447920" y="3048120"/>
          <a:ext cx="640044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599840"/>
                <a:gridCol w="1600200"/>
                <a:gridCol w="1600200"/>
              </a:tblGrid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8" name=""/>
          <p:cNvSpPr/>
          <p:nvPr/>
        </p:nvSpPr>
        <p:spPr>
          <a:xfrm flipV="1">
            <a:off x="4816440" y="5867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527840" y="6284880"/>
            <a:ext cx="657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three rounds of iteration, no more changes ==&gt; fixed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4" name=""/>
          <p:cNvGraphicFramePr/>
          <p:nvPr/>
        </p:nvGraphicFramePr>
        <p:xfrm>
          <a:off x="1447920" y="3048120"/>
          <a:ext cx="640044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599840"/>
                <a:gridCol w="1600200"/>
                <a:gridCol w="1600200"/>
              </a:tblGrid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5" name=""/>
          <p:cNvSpPr/>
          <p:nvPr/>
        </p:nvSpPr>
        <p:spPr>
          <a:xfrm>
            <a:off x="5397120" y="62848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6477120" y="586728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1" name=""/>
          <p:cNvGraphicFramePr/>
          <p:nvPr/>
        </p:nvGraphicFramePr>
        <p:xfrm>
          <a:off x="1447920" y="3048120"/>
          <a:ext cx="640080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  <a:gridCol w="1600200"/>
                <a:gridCol w="1600200"/>
              </a:tblGrid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2" name=""/>
          <p:cNvSpPr/>
          <p:nvPr/>
        </p:nvSpPr>
        <p:spPr>
          <a:xfrm flipV="1">
            <a:off x="6461280" y="586728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173400" y="6284880"/>
            <a:ext cx="444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one round of induction, no fixed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8" name=""/>
          <p:cNvGraphicFramePr/>
          <p:nvPr/>
        </p:nvGraphicFramePr>
        <p:xfrm>
          <a:off x="1447920" y="3048120"/>
          <a:ext cx="640080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  <a:gridCol w="1600200"/>
                <a:gridCol w="1600200"/>
              </a:tblGrid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9" name=""/>
          <p:cNvSpPr/>
          <p:nvPr/>
        </p:nvSpPr>
        <p:spPr>
          <a:xfrm flipV="1">
            <a:off x="6461280" y="586728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74480" y="5987880"/>
            <a:ext cx="839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two rounds of induction, fixed poi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ut notice, computing Follow(X) before Follow (Y) would have required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u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4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5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92040" y="3352680"/>
            <a:ext cx="402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parsing table where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ls parser which clause to execute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X with next-token 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8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9" name=""/>
          <p:cNvSpPr/>
          <p:nvPr/>
        </p:nvSpPr>
        <p:spPr>
          <a:xfrm>
            <a:off x="5108760" y="3276720"/>
            <a:ext cx="363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rst(s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 is Nullable and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llow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5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6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92040" y="3352680"/>
            <a:ext cx="402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parsing table where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ls parser which clause to execute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X with next-token 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0" name=""/>
          <p:cNvSpPr/>
          <p:nvPr/>
        </p:nvSpPr>
        <p:spPr>
          <a:xfrm>
            <a:off x="5108760" y="3276720"/>
            <a:ext cx="363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rst(s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 is Nullable and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llow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4582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, E, E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, NUM, PRINT, +, :=, (, ),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90000" y="1447920"/>
            <a:ext cx="256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S ::= S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S ::= ID 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S ::= PRINT (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48480" y="1430280"/>
            <a:ext cx="216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E ::=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 E ::= ( S ,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8920" y="1415880"/>
            <a:ext cx="20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 Elist :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Elist ::= Elist 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8480" y="3809880"/>
            <a:ext cx="2932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NU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866920" y="4038480"/>
            <a:ext cx="16765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41400" y="365760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e 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6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7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92040" y="3352680"/>
            <a:ext cx="402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parsing table where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ls parser which clause to execute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X with next-token 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0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1" name=""/>
          <p:cNvSpPr/>
          <p:nvPr/>
        </p:nvSpPr>
        <p:spPr>
          <a:xfrm>
            <a:off x="5108760" y="3276720"/>
            <a:ext cx="363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rst(s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 is Nullable and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llow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7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8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92040" y="3352680"/>
            <a:ext cx="402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parsing table where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ls parser which clause to execute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X with next-token 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1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2" name=""/>
          <p:cNvSpPr/>
          <p:nvPr/>
        </p:nvSpPr>
        <p:spPr>
          <a:xfrm>
            <a:off x="5108760" y="3276720"/>
            <a:ext cx="363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rst(s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 is Nullable and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llow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8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9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92040" y="3352680"/>
            <a:ext cx="402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parsing table where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ls parser which clause to execute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X with next-token 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3" name=""/>
          <p:cNvSpPr/>
          <p:nvPr/>
        </p:nvSpPr>
        <p:spPr>
          <a:xfrm>
            <a:off x="5108760" y="3276720"/>
            <a:ext cx="363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rst(s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 is Nullable and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llow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9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0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92040" y="3352680"/>
            <a:ext cx="402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parsing table where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ls parser which clause to execute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X with next-token 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3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b Y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4" name=""/>
          <p:cNvSpPr/>
          <p:nvPr/>
        </p:nvSpPr>
        <p:spPr>
          <a:xfrm>
            <a:off x="5108760" y="3276720"/>
            <a:ext cx="363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rst(s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 is Nullable and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llow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0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1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60080" y="3733920"/>
            <a:ext cx="233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the blank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4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b Y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5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0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1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59360" y="3733920"/>
            <a:ext cx="41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the blanks?  --&gt; syntax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4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b Y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5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0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1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461160" y="37339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it possible to put 2 grammar rules in the same box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4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b Y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5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227880" y="722160"/>
            <a:ext cx="128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Z ::= d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0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1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461160" y="37339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it possible to put 2 grammar rules in the same box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4" name=""/>
          <p:cNvGraphicFramePr/>
          <p:nvPr/>
        </p:nvGraphicFramePr>
        <p:xfrm>
          <a:off x="380880" y="4648320"/>
          <a:ext cx="8382240" cy="212400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7160"/>
                <a:gridCol w="1397160"/>
                <a:gridCol w="1396800"/>
                <a:gridCol w="1397160"/>
              </a:tblGrid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Z ::=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Z ::= d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b Y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5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ictive parsing 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predictive parsing table constructed this way contains no duplicate entries, the grammar is called LL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ft-to-right parse, Left-most derivation, 1 symbol looka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t, of the grammar is not LL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LL(k) parsing table, columns include every k-length sequence of termina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1981080" y="5565600"/>
          <a:ext cx="5333760" cy="95580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</a:tblGrid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tri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iously, we saw that grammars with left-recursion were problematic, but could be transformed into LL(1) in some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xample non-LL(1) grammar we just sa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fix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2399760" y="3886200"/>
            <a:ext cx="128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Z ::= d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025880" y="40384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5143680" y="40384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4582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, E, E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, NUM, PRINT, +, :=, (, ),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90000" y="1447920"/>
            <a:ext cx="256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S ::= S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S ::= ID 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S ::= PRINT (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48480" y="1430280"/>
            <a:ext cx="216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E ::=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 E ::= ( S ,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298920" y="1415880"/>
            <a:ext cx="20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 Elist :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Elist ::= Elist 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48480" y="3809880"/>
            <a:ext cx="2932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NU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5866920" y="4038480"/>
            <a:ext cx="16765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241400" y="365760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e 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tri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iously, we saw that grammars with left-recursion were problematic, but could be transformed into LL(1) in some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xample non-LL(1) grammar we just sa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 here is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left-factor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2399760" y="3886200"/>
            <a:ext cx="128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Z ::= d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025880" y="40384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143680" y="40384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2437560" y="5562720"/>
            <a:ext cx="128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Z ::= d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5473800" y="58356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591600" y="58356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4038840" y="5835600"/>
            <a:ext cx="91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W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W :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FGs are good at specifying programming language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sing general CFGs is expensive so we define parsers for simple classes of CF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L(k), LR(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build a recursive descent parser for LL(k) grammars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ing nullable, first and follow 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cting a parse table from the 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ing for duplicate entries, which indicates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ng an ML program from the parse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parser construction fails we 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write the grammar (left factoring, eliminating left recursion) and try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 to build a parser using some other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4582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, E, E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, NUM, PRINT, +, :=, (, ),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90000" y="1447920"/>
            <a:ext cx="256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S ::= S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S ::= ID 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S ::= PRINT (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48480" y="1430280"/>
            <a:ext cx="216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E ::=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 E ::= ( S ,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298920" y="1415880"/>
            <a:ext cx="20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 Elist :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Elist ::= Elist 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480" y="3809880"/>
            <a:ext cx="2932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NU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5866920" y="4038480"/>
            <a:ext cx="16765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241400" y="365760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e 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pw</cp:lastModifiedBy>
  <dcterms:modified xsi:type="dcterms:W3CDTF">2006-02-16T19:49:29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