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CBF-EDDB-41A3-B86F-CDB5C93F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6B9-1BE1-419A-8B5E-341CD041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9D8-A3DB-4109-886E-0B65868A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A7E-F753-4968-AA7E-E61EC557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54A-DD66-4CD4-9E86-01DE7EB6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61C-A604-4EC7-92E1-8C7CBC52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FCA-DE33-4188-BF59-D76C5EB6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C300-2BF5-4F96-BDF2-13018FC5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922-7E46-4E96-B96D-DC540092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AB1-00A8-4AD5-8B71-8ACA6DC2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A0E-05E2-4312-A0BD-AA8E418E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C83-71A8-483A-9AE5-52FEC5D3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E901-B75B-4134-A292-0D55B27CB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9600" y="53020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9600" y="53020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00240" y="37782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rot="16200000">
            <a:off x="5637600" y="4038480"/>
            <a:ext cx="761760" cy="685800"/>
          </a:xfrm>
          <a:custGeom>
            <a:avLst/>
            <a:gdLst>
              <a:gd name="textAreaLeft" fmla="*/ 360 w 761760"/>
              <a:gd name="textAreaRight" fmla="*/ 762480 w 761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61000" y="57913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rot="10800000">
            <a:off x="5791320" y="5714640"/>
            <a:ext cx="761760" cy="685800"/>
          </a:xfrm>
          <a:custGeom>
            <a:avLst/>
            <a:gdLst>
              <a:gd name="textAreaLeft" fmla="*/ 360 w 761760"/>
              <a:gd name="textAreaRight" fmla="*/ 762480 w 761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pecify the lex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other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use a language involv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gular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pecify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lexer gener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ompiler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want to defin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nguage of legal tok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r lexer can recogn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phab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collection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mb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SCII is an alphab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finite sequence of symbols taken from ou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pha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nguage of legal tok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set of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of ML keywords – set of all strings which are ML keywords (FIN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of ML tokens – set of all strings which map to ML tokens (INFIN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nguage can also be a more general set of str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 ML Language – set of all strings representing correct ML programs (INFINI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ar Expressions: 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lphabet, a is a RE denoting the set {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) denotes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s (M and N are 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ter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 | N) denotes strings in M or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) == {a, b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 N) denotes strings in M concatenated with strings in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) (a | c) == { aa, ac, ba, bc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le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*) denotes strings formed by any number of repetitions of strings in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 )* == {e, a, b, aa, ab, ba, bb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s begin with an optional minus sign, continue with a sequence of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 | e) (0 | 1 | 2 | 3 | 4 | 5 | 6 | 7 | 8 | 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s begin with an optional minus sign, continue with a sequence of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 | e) (0 | 1 | 2 | 3 | 4 | 5 | 6 | 7 | 8 | 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riting (0 | 1 | 2 | 3 | 4 | 5 | 6 | 7 | 8 | 9) and even worse (a | b | c | ...) gets tediou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 (R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abbrevia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-c]    ==  (a | b |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==  any character except \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n        == new lin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       == one or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?       == zero or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bbreviations can be defined in terms of the “standard” 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ngle RE is a completely unambiguous specification of a to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the association of an RE with a token a 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x an entire programming language, we need man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mbiguities ar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s or sequences of REs match the sam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many token sequence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Chapter 2 of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tokens:  [a-z] [a-z0-9]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keyword tokens:  if, then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token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oba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foobar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D(foo)  ID(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if)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resolve ambiguities using two con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regular expression that matches the longest string takes prece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o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regular expressions identifying tokens are written down in sequence.  If two regular expressions match the same (longest) string, the first regular expression in the sequence takes prece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 tokens:  [a-z] [a-z0-9]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keyword tokens:  if, th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token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oba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=&gt;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D(foobar)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or   ID(foo)  ID(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ngest match to disambig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=&gt;    ID(if)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or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word rules have higher priority than identifier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Lexer from scr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ing and error-p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exical Analyzer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and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-lex is a lexical analyzer generator for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 and flex are lexical analyzer generators for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Lex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ical specification consists of 3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7880" y="2617920"/>
            <a:ext cx="5507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eclarations (plain ML types, values, fun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-LEX Definitions (RE abbreviations, special stuf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(association of REs with tok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ach token will be represent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in 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Decla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Declar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can define various values that are available to the action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es must be defined in this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the value returned by each rul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 eof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by lexer when end of input stream is rea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LEX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LEX 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can define regular expression abbrevi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multiple lexers to work together.  Each is given a uniqu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42900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S = [0-9] 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 = [a-zA-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8880" y="583560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LEX1 LEX2 LEX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ule consists of a pattern and an 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in a regular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is a fragment of ordinary ML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st match &amp; rule priority used for disambig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may be prefixed with the list of lexers that are allowed to use this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7160" y="245268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exer_list&gt; regular_expression =&gt; (action.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actions can use any value defined in the User Declarations section, inclu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value returned by each rul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 eof : unit -&gt;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by lexer when end of input stream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ytext:  input substring matched by regular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ypos:  file position of the beginning of matched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():  doesn’t return token; recursively calls 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Lex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4520" y="1371600"/>
            <a:ext cx="7226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of int |  Id of string | IF | THEN | ELSE |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token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EOF   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itos s = case Int.fromString s of SOME x =&gt; x | NONE =&gt; raise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 [1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[a-zA-Z] ([a-zA-Z] | NUM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I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THE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EL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NUM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Num (itos yytex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ID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Id yy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xic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quence of tokens from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ntax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bstract syntax tree from sequence of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pe Che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eck program for well-formed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2000" y="16765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2800" y="1676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90040" y="1676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prefixed with a lexer name are matched only when that lexer is exec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lexer is call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I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new lexer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YBEGIN LEXERNA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Sometimes useful to process characters, but not return any token from the lexer.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inue 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73160" y="2093760"/>
            <a:ext cx="700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unit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()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[a-z]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“(*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*)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\n” | 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(Marginally) More Exciting Lex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371600"/>
            <a:ext cx="700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string                             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(print “End of file\n”;   “EOF”)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= [1-9] [0-9]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“I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“THE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{INT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  “INT(“   ^   yytext   ^   “)” 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“(*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*)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\n” | 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ML-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piling, of cou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non-deterministic finite au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non-deterministic finite autom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eterministic finite au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eterministic finite autom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a blazingly fast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table-drive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id mostly everything but possibly the last step in your favorite algorithms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deal with disambiguation &amp; rule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deal with multiple 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reshing your memory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 ==&gt; NDFA ==&gt; D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               =&gt; (Tok.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-z][a-z0-9]*  =&gt; (Tok.Id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reshing your memory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 ==&gt; NDFA ==&gt; D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               =&gt; (Tok.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-z][a-z0-9]*  =&gt; (Tok.Id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FA: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06560" y="4611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4648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51055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972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5160" y="5638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7080" y="51814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65320" y="41623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21680" y="40384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6560" y="56386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3760" y="48006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reshing your memory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 ==&gt; NDFA ==&gt; D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               =&gt; (Tok.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-z][a-z0-9]*  =&gt; (Tok.Id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FA:                            DFA: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6560" y="4611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4648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51055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972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5160" y="5638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7080" y="51814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65320" y="41623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21680" y="40384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6560" y="56386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63760" y="48006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46600" y="476424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11840" y="4800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40240" y="5562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87960" y="5029200"/>
            <a:ext cx="15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744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35680" y="5257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5240" y="46483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75200" y="5791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37480" y="533412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96080" y="431496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2440" y="41911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54640" y="5562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36600" y="57913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94520" y="4952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3440" y="5791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62940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858000" y="6171840"/>
            <a:ext cx="152280" cy="2286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640080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(could be Tok.Id; decision made by rule prior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38680" y="5181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60680" y="50292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4200" y="53341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36480" y="54864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F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2782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1616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45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2280" y="3048120"/>
            <a:ext cx="15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0176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6920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9520" y="3809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1440" y="33526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00400" y="23335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6760" y="2209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589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40920" y="3809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98480" y="2971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133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8680" y="3124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14300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12200" y="3352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FA  (states conveniently renamed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2782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1616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445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2280" y="3048120"/>
            <a:ext cx="15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920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79520" y="3809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440" y="33526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00400" y="23335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6760" y="2209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589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40920" y="3809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8480" y="2971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133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8680" y="3124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14300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12200" y="3352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A:                                      Transition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800600" y="2362320"/>
          <a:ext cx="4038480" cy="21193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4870440" y="1995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            S2            S3         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924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6924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8160" y="32148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68880" y="36720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68160" y="41292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2782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1616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445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2280" y="3048120"/>
            <a:ext cx="15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0176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964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920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79520" y="3809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1440" y="33526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00400" y="23335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6760" y="2209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589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40920" y="3809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8480" y="2971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133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8680" y="3124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14300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12200" y="3352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xical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reaks stream of ASCII characters (source) into tok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k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n atomic unit of program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a word as opposed to a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s and their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15440" y="4462560"/>
            <a:ext cx="1093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91720" y="4462560"/>
            <a:ext cx="279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racters Recogniz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, x, list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45, 3.14, -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9920" y="4462560"/>
            <a:ext cx="3138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k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foo),  ID(x)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(10.45), REAL(3.14)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(50), NUM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A:                                      Transition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800600" y="2362320"/>
          <a:ext cx="4038480" cy="21193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4870440" y="1995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            S2            S3         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6924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6924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8160" y="32148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68880" y="36720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68160" y="41292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2782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1616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45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2280" y="3048120"/>
            <a:ext cx="15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0176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6920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79520" y="3809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440" y="33526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00400" y="23335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56760" y="2209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589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40920" y="3809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98480" y="2971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7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133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8680" y="3124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14300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12200" y="3352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800600" y="6019920"/>
          <a:ext cx="4038480" cy="39528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4870440" y="56530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            S2            S3         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27160" y="502920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te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A:                                      Transition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800600" y="2362320"/>
          <a:ext cx="4038480" cy="21193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4870440" y="1995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            S2            S3         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6924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6924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68160" y="32148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8880" y="36720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8160" y="41292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2782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1616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445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2280" y="3048120"/>
            <a:ext cx="15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0176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964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920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9520" y="3809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33526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00400" y="23335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56760" y="2209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89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40920" y="3809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98480" y="2971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7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133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8680" y="3124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14300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12200" y="3352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800600" y="6019920"/>
          <a:ext cx="4038480" cy="39528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4870440" y="56530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            S2            S3         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27160" y="502920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te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80" y="4267080"/>
            <a:ext cx="4766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star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rom one state t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ransi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time you reach a potential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, remember it + position in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no more transitions apply, reve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ast final state seen +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associated rul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ling with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if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Tok.I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[a-z][a-z0-9]*   =&gt; (Tok.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“(*”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“*)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ling with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if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Tok.I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[a-z][a-z0-9]*   =&gt; (Tok.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“(*”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“*)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697120" y="489096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21320" y="4433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35400" y="4433760"/>
            <a:ext cx="137160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325520" y="4433760"/>
            <a:ext cx="137160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696760" y="5272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65960" y="528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5645160"/>
            <a:ext cx="181620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307" y="5"/>
                </a:moveTo>
                <a:cubicBezTo>
                  <a:pt x="263" y="28"/>
                  <a:pt x="0" y="92"/>
                  <a:pt x="41" y="145"/>
                </a:cubicBezTo>
                <a:cubicBezTo>
                  <a:pt x="82" y="198"/>
                  <a:pt x="378" y="318"/>
                  <a:pt x="556" y="321"/>
                </a:cubicBezTo>
                <a:cubicBezTo>
                  <a:pt x="734" y="324"/>
                  <a:pt x="1072" y="217"/>
                  <a:pt x="1108" y="164"/>
                </a:cubicBezTo>
                <a:cubicBezTo>
                  <a:pt x="1144" y="111"/>
                  <a:pt x="844" y="34"/>
                  <a:pt x="77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26960" y="61866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-z][a-z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95720" y="5653080"/>
            <a:ext cx="181620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307" y="5"/>
                </a:moveTo>
                <a:cubicBezTo>
                  <a:pt x="263" y="28"/>
                  <a:pt x="0" y="92"/>
                  <a:pt x="41" y="145"/>
                </a:cubicBezTo>
                <a:cubicBezTo>
                  <a:pt x="82" y="198"/>
                  <a:pt x="378" y="318"/>
                  <a:pt x="556" y="321"/>
                </a:cubicBezTo>
                <a:cubicBezTo>
                  <a:pt x="734" y="324"/>
                  <a:pt x="1072" y="217"/>
                  <a:pt x="1108" y="164"/>
                </a:cubicBezTo>
                <a:cubicBezTo>
                  <a:pt x="1144" y="111"/>
                  <a:pt x="844" y="34"/>
                  <a:pt x="77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03560" y="6186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x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stream of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stream of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lexers by hand is boring, so we use a lexer generator:  ml-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er generators work by converting REs through automata theory to efficient table-driven algorit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l:  don’t underestimate your theory class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application of cool theory developed in the 7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see more cool apps as the course prog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36520" y="1560600"/>
            <a:ext cx="306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36520" y="1560600"/>
            <a:ext cx="306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36520" y="1560600"/>
            <a:ext cx="306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  AS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360" y="1560600"/>
            <a:ext cx="7016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  ASSIGN  LPAREN  ID(y)  PLUS  REAL(4.0)  RPAREN  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2:16:47Z</dcterms:created>
  <dc:creator>dpw</dc:creator>
  <dc:description/>
  <dc:language>en-US</dc:language>
  <cp:lastModifiedBy>dpw</cp:lastModifiedBy>
  <dcterms:modified xsi:type="dcterms:W3CDTF">2006-02-14T21:20:52Z</dcterms:modified>
  <cp:revision>37</cp:revision>
  <dc:subject/>
  <dc:title>COS 320 Compilers</dc:title>
</cp:coreProperties>
</file>