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2C3-33E7-4F17-9DCE-6D823B2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162-CF8F-4B51-B011-C92F7CF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157-240A-40D4-B10B-2D4FCD25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2C2-9659-4609-93C5-D10CAD8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E66-356A-4872-A83F-9EFDF36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1F9-F59A-4687-A011-AFE64979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A25-138B-49B6-B22B-AEDAD175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343-F302-4638-B03B-BF7F4F8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C4D-395F-4C46-8200-55A13F2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FF8-117E-49F6-AD1E-8042DEC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7F5-C02B-4C74-8814-96F401B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6E2-1924-4466-B5E0-39B3404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ACE-D576-4368-AD00-B69D6CFC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can also be a more general set of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 (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RE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association of an RE with a token a 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x an entire programming language, we need man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mbiguities a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s or sequences of REs match the sam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many token sequenc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ngest match to disambig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 rules have higher priority than identifie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7880" y="2617920"/>
            <a:ext cx="550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 (plain ML types, values,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 (RE abbreviations, special stu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(association of REs with tok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ch token will be represen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doesn’t return token; recursively calls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lexer is call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lexer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YBEGIN LEXE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Sometimes useful to process characters, but not return any token from the lexer.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inue 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ML-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id mostly everything but possibly the last step in your favorite algorithm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disambiguation &amp; rul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multiple 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DFA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6600" y="476424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11840" y="4800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402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7960" y="502920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744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3568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5240" y="4648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75200" y="5791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37480" y="53341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96080" y="431496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2440" y="4191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46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36600" y="5791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4520" y="4952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3440" y="5791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6294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858000" y="6171840"/>
            <a:ext cx="15228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64008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(could be Tok.Id; decision made by rule pri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38680" y="5181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0680" y="50292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4200" y="5334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6480" y="54864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  (states conveniently renamed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80" y="4267080"/>
            <a:ext cx="476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one state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you reach a potenti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remember it + position in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 more transitions apply, rev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ast final state seen +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associated rul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7120" y="48909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21320" y="443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540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2552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96760" y="5272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65960" y="528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64516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26960" y="6186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-z][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95720" y="565308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03560" y="618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:  don’t underestimate your theory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application of cool theory developed in the 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see more cool apps as the cour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6-02-14T21:20:52Z</dcterms:modified>
  <cp:revision>37</cp:revision>
  <dc:subject/>
  <dc:title>COS 320 Compilers</dc:title>
</cp:coreProperties>
</file>