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832-7A4B-4E5C-AA0D-D5C39FF8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DAE3-FE5A-4FDA-9C40-0708FFB3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0CE-FD2B-4403-BAD4-75BF7DF5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02A-E1E5-40AF-BCEE-9509A99D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A7D6-9C39-4A75-BFA5-AA58909D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C854-5E5B-4A3E-8622-53A8C01B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624-9870-4903-A991-6E534AC8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083-A4FD-442E-B817-9DC02415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3FC-DBE3-4E19-9E46-7F26B81C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6443-37CD-4B5A-A84D-D258FEC9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0DA-7CCD-40AE-8F86-1CB3488C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0B4-EE70-40B8-8649-1AD38DDA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C96D-8E9E-48A7-A957-074E327D8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3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x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and easy. 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x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and easy. 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9600" y="53020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Lex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and easy. 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9600" y="53020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48006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00240" y="37782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rot="16200000">
            <a:off x="5637600" y="4038480"/>
            <a:ext cx="761760" cy="685800"/>
          </a:xfrm>
          <a:custGeom>
            <a:avLst/>
            <a:gdLst>
              <a:gd name="textAreaLeft" fmla="*/ 360 w 761760"/>
              <a:gd name="textAreaRight" fmla="*/ 762480 w 761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61000" y="57913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rot="10800000">
            <a:off x="5791320" y="5714640"/>
            <a:ext cx="761760" cy="685800"/>
          </a:xfrm>
          <a:custGeom>
            <a:avLst/>
            <a:gdLst>
              <a:gd name="textAreaLeft" fmla="*/ 360 w 761760"/>
              <a:gd name="textAreaRight" fmla="*/ 762480 w 761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specify the lex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other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use a language involving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gular expre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pecify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lexer genera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ompiler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want to define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anguage of legal toke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r lexer can recogn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phab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collection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mb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SCII is an alphab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finite sequence of symbols taken from ou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phab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anguage of legal tok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set of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of ML keywords – set of all strings which are ML keywords (FIN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of ML tokens – set of all strings which map to ML tokens (INFIN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nguage can also be a more general set of str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 ML Language – set of all strings representing correct ML programs (INFINI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ular Expressions: Co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mb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lphabet, a is a RE denoting the set {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psil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) denotes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s (M and N are 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ter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 | N) denotes strings in M or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| b) == {a, b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cate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 N) denotes strings in M concatenated with strings in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| b) (a | c) == { aa, ac, ba, bc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lee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*) denotes strings formed by any number of repetitions of strings in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| b )* == {e, a, b, aa, ab, ba, bb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s begin with an optional minus sign, continue with a sequence of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 | e) (0 | 1 | 2 | 3 | 4 | 5 | 6 | 7 | 8 | 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s begin with an optional minus sign, continue with a sequence of dig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 | e) (0 | 1 | 2 | 3 | 4 | 5 | 6 | 7 | 8 | 9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riting (0 | 1 | 2 | 3 | 4 | 5 | 6 | 7 | 8 | 9) and even worse (a | b | c | ...) gets tediou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Expressions (R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abbrevia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-c]    ==  (a | b |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==  any character except \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n        == new lin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       == one or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?       == zero or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bbreviations can be defined in terms of the “standard” 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ngle RE is a completely unambiguous specification of a to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the association of an RE with a token a “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x an entire programming language, we need man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mbiguities ari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s or sequences of REs match the sam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many token sequence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Chapter 2 of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r tokens:  [a-z] [a-z0-9]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keyword tokens:  if, then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tokeni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oba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ID(foobar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ID(foo)  ID(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==&gt;    ID(if)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or   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resolve ambiguities using two conven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ng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regular expression that matches the longest string takes prece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io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regular expressions identifying tokens are written down in sequence.  If two regular expressions match the same (longest) string, the first regular expression in the sequence takes prece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Token Ru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r tokens:  [a-z] [a-z0-9]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keyword tokens:  if, then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tokeni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obar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=&gt; 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ID(foobar)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or   ID(foo)  ID(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ongest match to disambig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=&gt;    ID(if)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or 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word rules have higher priority than identifier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Lexer from scr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ing and error-p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exical Analyzer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and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-lex is a lexical analyzer generator for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x and flex are lexical analyzer generators for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Lex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ical specification consists of 3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57880" y="2617920"/>
            <a:ext cx="5507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eclarations (plain ML types, values, fun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-LEX Definitions (RE abbreviations, special stuf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(association of REs with toke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ach token will be represent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in 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Decla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Declar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can define various values that are available to the action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alues must be defined in this s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lex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the value returned by each rul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 eof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by lexer when end of input stream is reac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LEX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-LEX Defin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can define regular expression abbrevi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multiple lexers to work together.  Each is given a uniqu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42900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S = [0-9] 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ER = [a-zA-Z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8880" y="583560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 LEX1 LEX2 LEX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ule consists of a pattern and an 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in a regular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is a fragment of ordinary ML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est match &amp; rule priority used for disambig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may be prefixed with the list of lexers that are allowed to use this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071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57160" y="2452680"/>
            <a:ext cx="51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exer_list&gt; regular_expression =&gt; (action.code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actions can use any value defined in the User Declarations section, inclu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lex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value returned by each rul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 eof : unit -&gt; lex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by lexer when end of input stream 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ytext:  input substring matched by regular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ypos:  file position of the beginning of matched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():  doesn’t return token; recursively calls 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2071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 Lex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4520" y="1371600"/>
            <a:ext cx="7226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of int |  Id of string | IF | THEN | ELSE |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lexresult = token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of () = EOF    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itos s = case Int.fromString s of SOME x =&gt; x | NONE =&gt; raise 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= [1-9][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[a-zA-Z] ([a-zA-Z] | NUM)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I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THE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EL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NUM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Num (itos yytex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ID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Id yytex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xic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quence of tokens from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yntax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bstract syntax tree from sequence of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pe Chec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heck program for well-formednes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2000" y="16765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22800" y="16765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90040" y="16765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2057400"/>
            <a:ext cx="1143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ultiple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prefixed with a lexer name are matched only when that lexer is exec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lexer is calle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I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new lexer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YBEGIN LEXERNA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Sometimes useful to process characters, but not return any token from the lexer.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tinue 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ultiple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73160" y="2093760"/>
            <a:ext cx="700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lexresult = unit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of () = () 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i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[a-z]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“(*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COMMENT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*)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INITIAL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\n” | 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(Marginally) More Exciting Lex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371600"/>
            <a:ext cx="700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lexresult = string                              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of () = (print “End of file\n”;   “EOF”)               (* mandatory 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= [1-9] [0-9]*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i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“I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“THE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{INT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  “INT(“   ^   yytext   ^   “)” 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 “(*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COMMENT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*)”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YYBEGIN INITIAL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 “\n” | 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(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ML-L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mpiling, of cour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non-deterministic finite auto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non-deterministic finite autom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eterministic finite auto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eterministic finite autom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a blazingly fast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table-drive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did mostly everything but possibly the last step in your favorite algorithms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deal with disambiguation &amp; rule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deal with multiple 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reshing your memory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 ==&gt; NDFA ==&gt; D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                  =&gt; (Tok.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-z][a-z0-9]*  =&gt; (Tok.Id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reshing your memory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 ==&gt; NDFA ==&gt; D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                  =&gt; (Tok.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-z][a-z0-9]*  =&gt; (Tok.Id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FA: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06560" y="46116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4648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51055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972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35160" y="5638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7080" y="51814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65320" y="41623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21680" y="40384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6560" y="56386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3760" y="48006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reshing your memory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 ==&gt; NDFA ==&gt; D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                  =&gt; (Tok.I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-z][a-z0-9]*  =&gt; (Tok.Id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FA:                            DFA: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06560" y="46116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46483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51055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972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35160" y="5638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7080" y="51814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65320" y="41623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21680" y="40384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6560" y="56386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63760" y="48006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46600" y="476424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11840" y="48006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40240" y="5562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87960" y="5029200"/>
            <a:ext cx="151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744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35680" y="5257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65240" y="46483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hj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75200" y="5791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37480" y="533412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796080" y="431496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2440" y="41911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54640" y="55627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36600" y="57913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94520" y="4952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3440" y="57913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629400" y="5257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858000" y="6171840"/>
            <a:ext cx="152280" cy="2286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640080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</a:rPr>
              <a:t>(could be Tok.Id; decision made by rule prior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38680" y="518112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60680" y="50292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eg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84200" y="53341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36480" y="54864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F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2782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1616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445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2280" y="3048120"/>
            <a:ext cx="15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0176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6920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hj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9520" y="3809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1440" y="33526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00400" y="23335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56760" y="2209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589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40920" y="3809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98480" y="2971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13372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8680" y="3124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eg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143000" y="3200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12200" y="3352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FA  (states conveniently renamed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2782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1616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445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2280" y="3048120"/>
            <a:ext cx="15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920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hj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79520" y="3809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1440" y="33526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00400" y="23335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6760" y="2209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589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40920" y="3809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8480" y="2971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13372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8680" y="3124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eg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143000" y="3200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12200" y="3352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A:                                      Transition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800600" y="2362320"/>
          <a:ext cx="4038480" cy="21193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4870440" y="19954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            S2            S3         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924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6924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8160" y="32148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68880" y="367200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68160" y="41292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2782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1616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445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2280" y="3048120"/>
            <a:ext cx="15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0176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964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920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hj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79520" y="3809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1440" y="33526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00400" y="23335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6760" y="2209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589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40920" y="3809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8480" y="2971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13372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8680" y="3124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eg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143000" y="3200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12200" y="3352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xical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reaks stream of ASCII characters (source) into tok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k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n atomic unit of program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a word as opposed to a sen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ens and their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15440" y="4462560"/>
            <a:ext cx="1093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y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91720" y="4462560"/>
            <a:ext cx="279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racters Recogniz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, x, list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45, 3.14, -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9920" y="4462560"/>
            <a:ext cx="3138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k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foo),  ID(x)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(10.45), REAL(3.14)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(50), NUM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A:                                      Transition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800600" y="2362320"/>
          <a:ext cx="4038480" cy="21193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4870440" y="19954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            S2            S3         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6924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6924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8160" y="32148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68880" y="367200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68160" y="41292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2782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1616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445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92280" y="3048120"/>
            <a:ext cx="15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0176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964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6920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hj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79520" y="3809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440" y="33526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00400" y="23335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56760" y="2209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589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140920" y="3809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98480" y="2971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7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13372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8680" y="3124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eg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143000" y="3200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12200" y="3352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800600" y="6019920"/>
          <a:ext cx="4038480" cy="39528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.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.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.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"/>
          <p:cNvSpPr/>
          <p:nvPr/>
        </p:nvSpPr>
        <p:spPr>
          <a:xfrm>
            <a:off x="4870440" y="56530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            S2            S3         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27160" y="502920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te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-driv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A:                                      Transition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800600" y="2362320"/>
          <a:ext cx="4038480" cy="21193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4870440" y="19954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            S2            S3         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6924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69240" y="281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268160" y="32148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8880" y="367200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8160" y="41292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0920" y="27828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16160" y="281952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445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2280" y="3048120"/>
            <a:ext cx="151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0176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964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9200" y="2666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hj-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9520" y="3809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440" y="3352680"/>
            <a:ext cx="2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00400" y="2333520"/>
            <a:ext cx="84132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88" y="304"/>
                </a:moveTo>
                <a:cubicBezTo>
                  <a:pt x="44" y="232"/>
                  <a:pt x="0" y="160"/>
                  <a:pt x="40" y="112"/>
                </a:cubicBezTo>
                <a:cubicBezTo>
                  <a:pt x="80" y="64"/>
                  <a:pt x="248" y="0"/>
                  <a:pt x="328" y="16"/>
                </a:cubicBezTo>
                <a:cubicBezTo>
                  <a:pt x="408" y="32"/>
                  <a:pt x="512" y="144"/>
                  <a:pt x="520" y="208"/>
                </a:cubicBezTo>
                <a:cubicBezTo>
                  <a:pt x="528" y="272"/>
                  <a:pt x="424" y="368"/>
                  <a:pt x="376" y="400"/>
                </a:cubicBezTo>
                <a:cubicBezTo>
                  <a:pt x="328" y="432"/>
                  <a:pt x="280" y="416"/>
                  <a:pt x="232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56760" y="2209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8960" y="35812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40920" y="3809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98480" y="2971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7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.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13372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8680" y="312408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eg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143000" y="32004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12200" y="3352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z0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800600" y="6019920"/>
          <a:ext cx="4038480" cy="39528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.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.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k.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4870440" y="56530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            S2            S3         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27160" y="502920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te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80" y="4267080"/>
            <a:ext cx="4766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star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from one state t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ransi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time you reach a potential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, remember it + position in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no more transitions apply, reve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ast final state seen +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associated rul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ling with Multiple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if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Tok.I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[a-z][a-z0-9]*   =&gt; (Tok.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“(*”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YYBEGIN COMMENT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“*)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YYBEGIN INITIAL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ling with Multiple Lex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if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Tok.I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[a-z][a-z0-9]*   =&gt; (Tok.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ITIAL&gt; “(*”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YYBEGIN COMMENT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“*)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YYBEGIN INITIAL; 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OMMENT&gt;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&gt; (continue 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697120" y="489096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21320" y="4433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35400" y="4433760"/>
            <a:ext cx="137160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325520" y="4433760"/>
            <a:ext cx="137160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696760" y="5272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765960" y="528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5645160"/>
            <a:ext cx="181620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307" y="5"/>
                </a:moveTo>
                <a:cubicBezTo>
                  <a:pt x="263" y="28"/>
                  <a:pt x="0" y="92"/>
                  <a:pt x="41" y="145"/>
                </a:cubicBezTo>
                <a:cubicBezTo>
                  <a:pt x="82" y="198"/>
                  <a:pt x="378" y="318"/>
                  <a:pt x="556" y="321"/>
                </a:cubicBezTo>
                <a:cubicBezTo>
                  <a:pt x="734" y="324"/>
                  <a:pt x="1072" y="217"/>
                  <a:pt x="1108" y="164"/>
                </a:cubicBezTo>
                <a:cubicBezTo>
                  <a:pt x="1144" y="111"/>
                  <a:pt x="844" y="34"/>
                  <a:pt x="77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26960" y="61866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-z][a-z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95720" y="5653080"/>
            <a:ext cx="181620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307" y="5"/>
                </a:moveTo>
                <a:cubicBezTo>
                  <a:pt x="263" y="28"/>
                  <a:pt x="0" y="92"/>
                  <a:pt x="41" y="145"/>
                </a:cubicBezTo>
                <a:cubicBezTo>
                  <a:pt x="82" y="198"/>
                  <a:pt x="378" y="318"/>
                  <a:pt x="556" y="321"/>
                </a:cubicBezTo>
                <a:cubicBezTo>
                  <a:pt x="734" y="324"/>
                  <a:pt x="1072" y="217"/>
                  <a:pt x="1108" y="164"/>
                </a:cubicBezTo>
                <a:cubicBezTo>
                  <a:pt x="1144" y="111"/>
                  <a:pt x="844" y="34"/>
                  <a:pt x="77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03560" y="6186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x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stream of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 stream of 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lexers by hand is boring, so we use a lexer generator:  ml-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er generators work by converting REs through automata theory to efficient table-driven algorith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l:  don’t underestimate your theory class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application of cool theory developed in the 70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see more cool apps as the course prog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36520" y="1560600"/>
            <a:ext cx="306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36520" y="1560600"/>
            <a:ext cx="306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1337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92880" y="23986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36520" y="1560600"/>
            <a:ext cx="306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x)  AS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21337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92880" y="23986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cal Analysi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360" y="1560600"/>
            <a:ext cx="7016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=     (    y    +    4.0    )  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(x)  ASSIGN  LPAREN  ID(y)  PLUS  REAL(4.0)  RPAREN  S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1337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92880" y="23986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x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, error-prone and too much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2:16:47Z</dcterms:created>
  <dc:creator>dpw</dc:creator>
  <dc:description/>
  <dc:language>en-US</dc:language>
  <cp:lastModifiedBy>dpw</cp:lastModifiedBy>
  <dcterms:modified xsi:type="dcterms:W3CDTF">2006-02-14T21:20:52Z</dcterms:modified>
  <cp:revision>37</cp:revision>
  <dc:subject/>
  <dc:title>COS 320 Compilers</dc:title>
</cp:coreProperties>
</file>