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A037-3B04-493B-9417-FEF7917D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064-3AF2-4F68-AB2E-5710FA0C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369-1F1E-4F38-8E46-09391D6C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5E32-2661-4F7C-82CF-D5F8CCFA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99D-49C6-4B2C-A7CD-6B378B62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D017-625B-4241-B873-FB3D2BF0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625-278F-418D-A558-2D1E2C86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8DC-A7C3-4CA1-97DC-1A9EACEA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15C-8263-45D3-AF4E-45AD283E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3FA-95DD-4125-9682-643A0530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813-D769-4A62-A2DA-9FECC420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FE2F-6CDC-40DA-B855-F5C0A277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1E6F-F943-4140-8AD4-067B64CD8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s and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laid out somewhat lik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variable has a slot in th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implement field lookup we need to have a systematic way to find a give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 v.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y be a generic vehicle or it may be a car or a t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put “position” in the same place in the record that implements vehicles, cars and tru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extension on th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inherited fields first in the same order as in the parent (SI =&gt; only 1 pa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newly declared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6172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&amp; 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semantic analysis, the compiler kn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type (class) of the object calling th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methods in ea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eter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sest method (up the class hierarchy) with the give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s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pass object as self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call to the know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4040" y="1584360"/>
            <a:ext cx="416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B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bar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bar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B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called depends on object’s dynamic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semantic analysis,  may b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-time, we determine which code to jump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stores a pointer to its method table (v-table) as well as its object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ompile-time, we generate cod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up v-table i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method from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 method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5480" y="1584360"/>
            <a:ext cx="3873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A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ong-and-tricky-comp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programming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 data types, exceptions, modules, objects, concurrency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 to use, but require special techniques to compile and opt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will be looking at how to compile objects and classes similar to those found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chapter 14.1-1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48006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05920" y="5334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05920" y="5867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05720" y="4876920"/>
            <a:ext cx="1676160" cy="1257120"/>
          </a:xfrm>
          <a:custGeom>
            <a:avLst/>
            <a:gdLst/>
            <a:ahLst/>
            <a:rect l="l" t="t" r="r" b="b"/>
            <a:pathLst>
              <a:path w="1056" h="792">
                <a:moveTo>
                  <a:pt x="1056" y="144"/>
                </a:moveTo>
                <a:cubicBezTo>
                  <a:pt x="1008" y="72"/>
                  <a:pt x="960" y="0"/>
                  <a:pt x="912" y="96"/>
                </a:cubicBezTo>
                <a:cubicBezTo>
                  <a:pt x="864" y="192"/>
                  <a:pt x="920" y="648"/>
                  <a:pt x="768" y="720"/>
                </a:cubicBezTo>
                <a:cubicBezTo>
                  <a:pt x="616" y="792"/>
                  <a:pt x="308" y="660"/>
                  <a:pt x="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Inheri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heritence is trickier to implement than single inheritence because creating objects of a subclass from their subclass by “extension on the right” does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 inherits from both A and B, we can’t put A’s variables at the front and put B’s variables at the front of the object in the same pla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do a global analysis to determine object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08040" y="1752480"/>
            <a:ext cx="4232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4114800"/>
            <a:ext cx="533520" cy="53352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4648320"/>
            <a:ext cx="533520" cy="5331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T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lass declarations to Tig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are a collec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(variable)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lass declaration gives a new name to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may 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in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and fields from the class it ext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“object” sits at the top of the class hierarchy; it has no fields and no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625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625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43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38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238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4320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4320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625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01560" y="3962520"/>
            <a:ext cx="37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object layout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graph color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for each field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erence edge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that coexist in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(due to inherit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657600" y="54100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30600" y="4267080"/>
            <a:ext cx="546120" cy="1524240"/>
          </a:xfrm>
          <a:custGeom>
            <a:avLst/>
            <a:gdLst/>
            <a:ahLst/>
            <a:rect l="l" t="t" r="r" b="b"/>
            <a:pathLst>
              <a:path w="344" h="960">
                <a:moveTo>
                  <a:pt x="344" y="96"/>
                </a:moveTo>
                <a:cubicBezTo>
                  <a:pt x="228" y="48"/>
                  <a:pt x="112" y="0"/>
                  <a:pt x="56" y="144"/>
                </a:cubicBezTo>
                <a:cubicBezTo>
                  <a:pt x="0" y="288"/>
                  <a:pt x="4" y="624"/>
                  <a:pt x="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51320" y="587844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866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866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0866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866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866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866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14680" y="4419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4954680"/>
            <a:ext cx="5331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14680" y="548496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60199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724280" y="3556080"/>
            <a:ext cx="533520" cy="863640"/>
          </a:xfrm>
          <a:custGeom>
            <a:avLst/>
            <a:gdLst/>
            <a:ahLst/>
            <a:rect l="l" t="t" r="r" b="b"/>
            <a:pathLst>
              <a:path w="336" h="544">
                <a:moveTo>
                  <a:pt x="336" y="160"/>
                </a:moveTo>
                <a:cubicBezTo>
                  <a:pt x="244" y="80"/>
                  <a:pt x="152" y="0"/>
                  <a:pt x="96" y="64"/>
                </a:cubicBezTo>
                <a:cubicBezTo>
                  <a:pt x="40" y="128"/>
                  <a:pt x="20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458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582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4582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4582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458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67480" y="3530520"/>
            <a:ext cx="1067040" cy="584280"/>
          </a:xfrm>
          <a:custGeom>
            <a:avLst/>
            <a:gdLst/>
            <a:ahLst/>
            <a:rect l="l" t="t" r="r" b="b"/>
            <a:pathLst>
              <a:path w="672" h="368">
                <a:moveTo>
                  <a:pt x="0" y="176"/>
                </a:moveTo>
                <a:cubicBezTo>
                  <a:pt x="40" y="88"/>
                  <a:pt x="80" y="0"/>
                  <a:pt x="192" y="32"/>
                </a:cubicBezTo>
                <a:cubicBezTo>
                  <a:pt x="304" y="64"/>
                  <a:pt x="488" y="216"/>
                  <a:pt x="672" y="3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80040" y="594360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5105160" y="56383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040280" y="4495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40280" y="611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08920" y="4191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02800" y="4738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008920" y="5257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00280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00280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799880" y="3581280"/>
            <a:ext cx="3716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etch a field using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, w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the first field of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t the class descript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M [c + fieldOffse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fieldOffset can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mputed using glob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coloring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nalyses are the bane of modern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pplications use dynamically linked libraries, mobile code, get patches to fix bug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don’t have the whole program at compile-time, we can’t do global analys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(most of the tim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art custom lin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tricky when new code is linked dynamically to code that is already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 Java has single inheri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-casts and typ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casting mechanism “(C) x” to cast variable x to clas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 time we look up x’s dynamic type and determine whether it is a subtype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ype casts are currently pervasive and a source of both inefficiency a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nd C# (?) now have parametric polymorphism, a la ML, to make many of these unnecessary casts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k another one up to programming language research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semantic analysis (type checking), the compiler maintains this information in the symbol table for each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languages provide new challenges for compiler 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find field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ake field and method access just as efficient as ordinary function call and variabl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ongoing research in OO language implementation tackles these and other interes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38480" y="1752480"/>
            <a:ext cx="19814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3276720"/>
            <a:ext cx="19814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4800600"/>
            <a:ext cx="19814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327360" y="1522440"/>
            <a:ext cx="20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exing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arsing (3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ype checking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1760" y="2971800"/>
            <a:ext cx="261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ctivation recor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s 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ntermediate reps (7,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mpiling objects (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251760" y="4648320"/>
            <a:ext cx="26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nstruction selection (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gister allocation (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arbage collection (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52880" y="3962520"/>
            <a:ext cx="0" cy="838080"/>
          </a:xfrm>
          <a:prstGeom prst="line">
            <a:avLst/>
          </a:prstGeom>
          <a:ln w="507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2438280"/>
            <a:ext cx="0" cy="838440"/>
          </a:xfrm>
          <a:prstGeom prst="line">
            <a:avLst/>
          </a:prstGeom>
          <a:ln w="507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219320" y="3276720"/>
            <a:ext cx="1981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48120" y="2757600"/>
            <a:ext cx="1371600" cy="519120"/>
          </a:xfrm>
          <a:custGeom>
            <a:avLst/>
            <a:gdLst/>
            <a:ahLst/>
            <a:rect l="l" t="t" r="r" b="b"/>
            <a:pathLst>
              <a:path w="864" h="327">
                <a:moveTo>
                  <a:pt x="864" y="327"/>
                </a:moveTo>
                <a:cubicBezTo>
                  <a:pt x="790" y="273"/>
                  <a:pt x="563" y="0"/>
                  <a:pt x="419" y="0"/>
                </a:cubicBezTo>
                <a:cubicBezTo>
                  <a:pt x="275" y="0"/>
                  <a:pt x="87" y="259"/>
                  <a:pt x="0" y="327"/>
                </a:cubicBezTo>
              </a:path>
            </a:pathLst>
          </a:custGeom>
          <a:noFill/>
          <a:ln w="507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10800000">
            <a:off x="2971800" y="3962520"/>
            <a:ext cx="1371600" cy="519120"/>
          </a:xfrm>
          <a:custGeom>
            <a:avLst/>
            <a:gdLst/>
            <a:ahLst/>
            <a:rect l="l" t="t" r="r" b="b"/>
            <a:pathLst>
              <a:path w="864" h="327">
                <a:moveTo>
                  <a:pt x="864" y="327"/>
                </a:moveTo>
                <a:cubicBezTo>
                  <a:pt x="790" y="273"/>
                  <a:pt x="563" y="0"/>
                  <a:pt x="419" y="0"/>
                </a:cubicBezTo>
                <a:cubicBezTo>
                  <a:pt x="275" y="0"/>
                  <a:pt x="87" y="259"/>
                  <a:pt x="0" y="327"/>
                </a:cubicBezTo>
              </a:path>
            </a:pathLst>
          </a:custGeom>
          <a:noFill/>
          <a:ln w="507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3080" y="4114800"/>
            <a:ext cx="252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ataflow analysis (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op analysis (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SA (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bject Tig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3200400"/>
            <a:ext cx="640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 : 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2438280"/>
            <a:ext cx="1218960" cy="10670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040" y="20574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2520" y="2209680"/>
            <a:ext cx="248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perclas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ehicle inherit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181120" y="2666880"/>
            <a:ext cx="762120" cy="8384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40388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90720" y="4038480"/>
            <a:ext cx="1143000" cy="5335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510552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81280" y="4495320"/>
            <a:ext cx="609840" cy="685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Object Tig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1600200"/>
            <a:ext cx="56833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assengers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await(v:Vehicle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v.position  &lt; position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position – v.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.move(1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34840" y="569916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791320" y="5409720"/>
            <a:ext cx="38088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31560" y="6156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urrent object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7200" y="5622840"/>
            <a:ext cx="18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all to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057400" y="5790960"/>
            <a:ext cx="45720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295596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3581280"/>
            <a:ext cx="60984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120" y="3413160"/>
            <a:ext cx="16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14640" y="4114800"/>
            <a:ext cx="68580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t Another Object Tig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position := position +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&lt;= 55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:= position *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33720" y="6156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 ...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t := new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v : Vehicle :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passengers :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move(6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7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wait(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274320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6720" y="3048120"/>
            <a:ext cx="2210040" cy="3045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5120" y="3794040"/>
            <a:ext cx="253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266720" y="396216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6320" y="5318280"/>
            <a:ext cx="27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428640" y="548604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800600"/>
            <a:ext cx="380880" cy="763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4098960"/>
            <a:ext cx="15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car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4952880"/>
            <a:ext cx="457200" cy="1526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Object T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ey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ccess object fie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inherited fields and fields for the current o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ccess method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urrent class does not define a particular method, where do we go to get the inherited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handle method overr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lass 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graph of inheritence relationships in a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ing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) language, the graph is 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ultip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I) language, the graph is a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-inheritence languages are much trickier to implement than single-inheritence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4400" y="25909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1320" y="3565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840" y="4479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44798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81280" y="4038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724280" y="40381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434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23:13:28Z</dcterms:created>
  <dc:creator>CS</dc:creator>
  <dc:description/>
  <dc:language>en-US</dc:language>
  <cp:lastModifiedBy>CS</cp:lastModifiedBy>
  <dcterms:modified xsi:type="dcterms:W3CDTF">2004-04-29T15:23:36Z</dcterms:modified>
  <cp:revision>12</cp:revision>
  <dc:subject/>
  <dc:title>Objects and Classes</dc:title>
</cp:coreProperties>
</file>