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B88-FFAA-4C63-A4B8-EB6E62CD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770-CD40-4E8E-B4B8-A253F78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9BE-D71B-4212-BDC1-45431684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EEA-1A9D-422E-BF8F-387CDB8A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DA0-0F18-4FFB-8CD4-5B9C64A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27B-A2F7-40E8-B52E-CE9BA8B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2BC-E5EA-4BFA-BAB0-B0A9415C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C31-1287-4281-BF2D-680382D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A73-67DD-4982-9C8B-6C81302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790-AEC0-4449-AA10-4CF5BA1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2F1-6684-4A55-BAF4-DD111E7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1C0-5EBE-4DD1-B500-22E4134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73A0-3C6C-42E3-B8A3-8219700B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08040" y="1752480"/>
            <a:ext cx="42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114800"/>
            <a:ext cx="53352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648320"/>
            <a:ext cx="53352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1560" y="3962520"/>
            <a:ext cx="37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due to inheri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nd C# (?) now have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 another one up to programming language researc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175248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327672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480060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27360" y="1522440"/>
            <a:ext cx="20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exing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sing 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ype checking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1760" y="297180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ctivation rec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s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termediate reps (7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iling objects (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51760" y="4648320"/>
            <a:ext cx="26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struction selection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gister allocation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arbage collection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52880" y="3962520"/>
            <a:ext cx="0" cy="83808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2438280"/>
            <a:ext cx="0" cy="83844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3276720"/>
            <a:ext cx="1981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75760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2971800" y="396252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3080" y="41148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aflow analysis (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p analysis (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SA (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4-04-29T15:23:36Z</dcterms:modified>
  <cp:revision>12</cp:revision>
  <dc:subject/>
  <dc:title>Objects and Classes</dc:title>
</cp:coreProperties>
</file>